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4F5712-F1EC-4EA1-8134-C28C19F563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0" y="6468120"/>
            <a:ext cx="685800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133360" y="0"/>
            <a:ext cx="7010280" cy="30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133360" y="3383280"/>
            <a:ext cx="7010280" cy="30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5E43D8-BE96-4B44-8E90-E885B836AE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0" y="6468120"/>
            <a:ext cx="685800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133360" y="0"/>
            <a:ext cx="3420720" cy="30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725440" y="0"/>
            <a:ext cx="3420720" cy="30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133360" y="3383280"/>
            <a:ext cx="3420720" cy="30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725440" y="3383280"/>
            <a:ext cx="3420720" cy="30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3A8A5E-500B-4F84-A86D-58B3B39490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0" y="6468120"/>
            <a:ext cx="685800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133360" y="0"/>
            <a:ext cx="2257200" cy="30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03960" y="0"/>
            <a:ext cx="2257200" cy="30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74200" y="0"/>
            <a:ext cx="2257200" cy="30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2133360" y="3383280"/>
            <a:ext cx="2257200" cy="30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503960" y="3383280"/>
            <a:ext cx="2257200" cy="30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874200" y="3383280"/>
            <a:ext cx="2257200" cy="30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33BE98-3735-4F35-9998-7B24A535B5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6000" y="6468120"/>
            <a:ext cx="685800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133360" y="0"/>
            <a:ext cx="7010280" cy="647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286000" y="6468120"/>
            <a:ext cx="685800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133360" y="0"/>
            <a:ext cx="701028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0" y="6468120"/>
            <a:ext cx="685800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133360" y="0"/>
            <a:ext cx="342072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725440" y="0"/>
            <a:ext cx="342072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0" y="6468120"/>
            <a:ext cx="685800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2286000" y="6477120"/>
            <a:ext cx="68580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0" y="6468120"/>
            <a:ext cx="685800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133360" y="0"/>
            <a:ext cx="3420720" cy="30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725440" y="0"/>
            <a:ext cx="342072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2133360" y="3383280"/>
            <a:ext cx="3420720" cy="30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286000" y="6468120"/>
            <a:ext cx="685800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2133360" y="0"/>
            <a:ext cx="7010280" cy="647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613335-2A1A-45B7-A8CA-503C04F51F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0" y="6468120"/>
            <a:ext cx="685800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133360" y="0"/>
            <a:ext cx="342072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25440" y="0"/>
            <a:ext cx="3420720" cy="30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725440" y="3383280"/>
            <a:ext cx="3420720" cy="30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0" y="6468120"/>
            <a:ext cx="685800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133360" y="0"/>
            <a:ext cx="3420720" cy="30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725440" y="0"/>
            <a:ext cx="3420720" cy="30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133360" y="3383280"/>
            <a:ext cx="7010280" cy="30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0" y="6468120"/>
            <a:ext cx="685800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133360" y="0"/>
            <a:ext cx="7010280" cy="30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2133360" y="3383280"/>
            <a:ext cx="7010280" cy="30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6000" y="6468120"/>
            <a:ext cx="685800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133360" y="0"/>
            <a:ext cx="3420720" cy="30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725440" y="0"/>
            <a:ext cx="3420720" cy="30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133360" y="3383280"/>
            <a:ext cx="3420720" cy="30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5725440" y="3383280"/>
            <a:ext cx="3420720" cy="30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0" y="6468120"/>
            <a:ext cx="685800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133360" y="0"/>
            <a:ext cx="2257200" cy="30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03960" y="0"/>
            <a:ext cx="2257200" cy="30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74200" y="0"/>
            <a:ext cx="2257200" cy="30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133360" y="3383280"/>
            <a:ext cx="2257200" cy="30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4503960" y="3383280"/>
            <a:ext cx="2257200" cy="30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874200" y="3383280"/>
            <a:ext cx="2257200" cy="30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0" y="6468120"/>
            <a:ext cx="685800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2133360" y="0"/>
            <a:ext cx="701028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FC431C-97FA-4D14-A32D-85931B39FF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0" y="6468120"/>
            <a:ext cx="685800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133360" y="0"/>
            <a:ext cx="342072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725440" y="0"/>
            <a:ext cx="342072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4FDA33-AD9A-416D-B22E-D38A03A073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0" y="6468120"/>
            <a:ext cx="685800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A03D84-DFB6-453B-A86E-206D8365FF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2286000" y="6477120"/>
            <a:ext cx="68580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A15BE3-1417-4320-BC4E-129C04ED02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0" y="6468120"/>
            <a:ext cx="685800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133360" y="0"/>
            <a:ext cx="3420720" cy="30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25440" y="0"/>
            <a:ext cx="342072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2133360" y="3383280"/>
            <a:ext cx="3420720" cy="30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CE90D6-C3EA-4162-98FE-B6CCBF64A2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6000" y="6468120"/>
            <a:ext cx="685800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133360" y="0"/>
            <a:ext cx="342072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725440" y="0"/>
            <a:ext cx="3420720" cy="30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725440" y="3383280"/>
            <a:ext cx="3420720" cy="30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B2D642-D472-48B5-824C-EF5EF93EAE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0" y="6468120"/>
            <a:ext cx="685800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133360" y="0"/>
            <a:ext cx="3420720" cy="30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725440" y="0"/>
            <a:ext cx="3420720" cy="30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133360" y="3383280"/>
            <a:ext cx="7010280" cy="30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D17A48-1C9B-4FA4-8951-ED1A1C48B2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0" y="6477120"/>
            <a:ext cx="6858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133360" y="0"/>
            <a:ext cx="701028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SzPct val="80000"/>
              <a:buFont typeface="Webding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562040" indent="-22860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98108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98108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98108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467120" y="6566040"/>
            <a:ext cx="175284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3EFDF-83E4-4F25-9B92-E823BCC42506}" type="slidenum"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/1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286000" y="6477120"/>
            <a:ext cx="6858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3344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75248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7524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7524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362320" y="6324480"/>
            <a:ext cx="67053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éminaire Systèmes Distribués et Connaissan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Winner" descr=""/>
          <p:cNvPicPr/>
          <p:nvPr/>
        </p:nvPicPr>
        <p:blipFill>
          <a:blip r:embed="rId2"/>
          <a:stretch/>
        </p:blipFill>
        <p:spPr>
          <a:xfrm>
            <a:off x="2448000" y="1557360"/>
            <a:ext cx="6543720" cy="309096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6958440" y="3733920"/>
            <a:ext cx="203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808080"/>
                </a:solidFill>
                <a:latin typeface="Arial"/>
              </a:rPr>
              <a:t>Fabien Gand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755800" y="6781680"/>
            <a:ext cx="5943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2286000" y="6477120"/>
            <a:ext cx="6858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génierie des connaissances : Entretie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2133360" y="-76320"/>
            <a:ext cx="701028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echniques de recueil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SzPct val="80000"/>
              <a:buFont typeface="Webding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énari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SzPct val="80000"/>
              <a:buFont typeface="Webding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ntretie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7" name=""/>
          <p:cNvGrpSpPr/>
          <p:nvPr/>
        </p:nvGrpSpPr>
        <p:grpSpPr>
          <a:xfrm>
            <a:off x="2362320" y="1523880"/>
            <a:ext cx="3730680" cy="4800600"/>
            <a:chOff x="2362320" y="1523880"/>
            <a:chExt cx="3730680" cy="4800600"/>
          </a:xfrm>
        </p:grpSpPr>
        <p:sp>
          <p:nvSpPr>
            <p:cNvPr id="318" name=""/>
            <p:cNvSpPr/>
            <p:nvPr/>
          </p:nvSpPr>
          <p:spPr>
            <a:xfrm>
              <a:off x="2362320" y="1523880"/>
              <a:ext cx="3730680" cy="4800600"/>
            </a:xfrm>
            <a:prstGeom prst="foldedCorner">
              <a:avLst>
                <a:gd name="adj" fmla="val 5273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19" name="" descr=""/>
            <p:cNvPicPr/>
            <p:nvPr/>
          </p:nvPicPr>
          <p:blipFill>
            <a:blip r:embed="rId2"/>
            <a:stretch/>
          </p:blipFill>
          <p:spPr>
            <a:xfrm>
              <a:off x="2420640" y="1588680"/>
              <a:ext cx="3509280" cy="4541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20" name=""/>
          <p:cNvGrpSpPr/>
          <p:nvPr/>
        </p:nvGrpSpPr>
        <p:grpSpPr>
          <a:xfrm>
            <a:off x="2652840" y="2173320"/>
            <a:ext cx="6567480" cy="3542760"/>
            <a:chOff x="2652840" y="2173320"/>
            <a:chExt cx="6567480" cy="3542760"/>
          </a:xfrm>
        </p:grpSpPr>
        <p:grpSp>
          <p:nvGrpSpPr>
            <p:cNvPr id="321" name=""/>
            <p:cNvGrpSpPr/>
            <p:nvPr/>
          </p:nvGrpSpPr>
          <p:grpSpPr>
            <a:xfrm>
              <a:off x="2652840" y="2173320"/>
              <a:ext cx="5862600" cy="3542760"/>
              <a:chOff x="2652840" y="2173320"/>
              <a:chExt cx="5862600" cy="3542760"/>
            </a:xfrm>
          </p:grpSpPr>
          <p:grpSp>
            <p:nvGrpSpPr>
              <p:cNvPr id="322" name=""/>
              <p:cNvGrpSpPr/>
              <p:nvPr/>
            </p:nvGrpSpPr>
            <p:grpSpPr>
              <a:xfrm>
                <a:off x="2652840" y="2327040"/>
                <a:ext cx="3263400" cy="3389040"/>
                <a:chOff x="2652840" y="2327040"/>
                <a:chExt cx="3263400" cy="3389040"/>
              </a:xfrm>
            </p:grpSpPr>
            <p:sp>
              <p:nvSpPr>
                <p:cNvPr id="323" name=""/>
                <p:cNvSpPr/>
                <p:nvPr/>
              </p:nvSpPr>
              <p:spPr>
                <a:xfrm>
                  <a:off x="5595840" y="2327040"/>
                  <a:ext cx="291240" cy="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2652840" y="2497320"/>
                  <a:ext cx="1573200" cy="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>
                  <a:off x="5042160" y="2497320"/>
                  <a:ext cx="815760" cy="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>
                  <a:off x="2652840" y="2691720"/>
                  <a:ext cx="407880" cy="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4182840" y="3648600"/>
                  <a:ext cx="1689840" cy="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>
                  <a:off x="2674800" y="3826800"/>
                  <a:ext cx="699120" cy="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>
                  <a:off x="3039120" y="4013280"/>
                  <a:ext cx="932040" cy="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3993120" y="5156280"/>
                  <a:ext cx="1923120" cy="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>
                  <a:off x="2689200" y="5334840"/>
                  <a:ext cx="3205080" cy="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>
                  <a:off x="2711160" y="5521320"/>
                  <a:ext cx="1631880" cy="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3753000" y="5716080"/>
                  <a:ext cx="932040" cy="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4" name=""/>
              <p:cNvSpPr/>
              <p:nvPr/>
            </p:nvSpPr>
            <p:spPr>
              <a:xfrm>
                <a:off x="6146280" y="2173320"/>
                <a:ext cx="2369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6600"/>
                    </a:solidFill>
                    <a:latin typeface="Times New Roman"/>
                  </a:rPr>
                  <a:t>Définition du rôl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5" name=""/>
            <p:cNvGrpSpPr/>
            <p:nvPr/>
          </p:nvGrpSpPr>
          <p:grpSpPr>
            <a:xfrm>
              <a:off x="2652840" y="4597560"/>
              <a:ext cx="3264840" cy="169560"/>
              <a:chOff x="2652840" y="4597560"/>
              <a:chExt cx="3264840" cy="169560"/>
            </a:xfrm>
          </p:grpSpPr>
          <p:sp>
            <p:nvSpPr>
              <p:cNvPr id="336" name=""/>
              <p:cNvSpPr/>
              <p:nvPr/>
            </p:nvSpPr>
            <p:spPr>
              <a:xfrm>
                <a:off x="3760560" y="4597560"/>
                <a:ext cx="2157120" cy="0"/>
              </a:xfrm>
              <a:prstGeom prst="line">
                <a:avLst/>
              </a:prstGeom>
              <a:ln w="1908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2652840" y="4767120"/>
                <a:ext cx="1341000" cy="0"/>
              </a:xfrm>
              <a:prstGeom prst="line">
                <a:avLst/>
              </a:prstGeom>
              <a:ln w="1908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8" name=""/>
            <p:cNvSpPr/>
            <p:nvPr/>
          </p:nvSpPr>
          <p:spPr>
            <a:xfrm>
              <a:off x="6149880" y="4313160"/>
              <a:ext cx="30704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9933"/>
                  </a:solidFill>
                  <a:latin typeface="Times New Roman"/>
                </a:rPr>
                <a:t>Position 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9933"/>
                  </a:solidFill>
                  <a:latin typeface="Times New Roman"/>
                </a:rPr>
                <a:t>Définition personnel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</a:t>
              </a:r>
              <a:r>
                <a:rPr b="0" lang="en-US" sz="2400" spc="-1" strike="noStrike">
                  <a:solidFill>
                    <a:srgbClr val="339933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339933"/>
                  </a:solidFill>
                  <a:latin typeface="Times New Roman"/>
                </a:rPr>
                <a:t>définition officiel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9" name=""/>
            <p:cNvGrpSpPr/>
            <p:nvPr/>
          </p:nvGrpSpPr>
          <p:grpSpPr>
            <a:xfrm>
              <a:off x="2652840" y="2820960"/>
              <a:ext cx="5406840" cy="825480"/>
              <a:chOff x="2652840" y="2820960"/>
              <a:chExt cx="5406840" cy="825480"/>
            </a:xfrm>
          </p:grpSpPr>
          <p:grpSp>
            <p:nvGrpSpPr>
              <p:cNvPr id="340" name=""/>
              <p:cNvGrpSpPr/>
              <p:nvPr/>
            </p:nvGrpSpPr>
            <p:grpSpPr>
              <a:xfrm>
                <a:off x="2652840" y="3080520"/>
                <a:ext cx="3263400" cy="194760"/>
                <a:chOff x="2652840" y="3080520"/>
                <a:chExt cx="3263400" cy="194760"/>
              </a:xfrm>
            </p:grpSpPr>
            <p:sp>
              <p:nvSpPr>
                <p:cNvPr id="341" name=""/>
                <p:cNvSpPr/>
                <p:nvPr/>
              </p:nvSpPr>
              <p:spPr>
                <a:xfrm>
                  <a:off x="3818520" y="3080520"/>
                  <a:ext cx="1631520" cy="0"/>
                </a:xfrm>
                <a:prstGeom prst="line">
                  <a:avLst/>
                </a:prstGeom>
                <a:ln w="1908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>
                  <a:off x="5799600" y="3080520"/>
                  <a:ext cx="116640" cy="0"/>
                </a:xfrm>
                <a:prstGeom prst="line">
                  <a:avLst/>
                </a:prstGeom>
                <a:ln w="1908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>
                  <a:off x="2652840" y="3275280"/>
                  <a:ext cx="1515240" cy="0"/>
                </a:xfrm>
                <a:prstGeom prst="line">
                  <a:avLst/>
                </a:prstGeom>
                <a:ln w="1908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4" name=""/>
              <p:cNvSpPr/>
              <p:nvPr/>
            </p:nvSpPr>
            <p:spPr>
              <a:xfrm>
                <a:off x="6149160" y="2820960"/>
                <a:ext cx="1910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3333cc"/>
                    </a:solidFill>
                    <a:latin typeface="Times New Roman"/>
                  </a:rPr>
                  <a:t>Réseau de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3333cc"/>
                    </a:solidFill>
                    <a:latin typeface="Times New Roman"/>
                  </a:rPr>
                  <a:t>connaissance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45" name=""/>
          <p:cNvSpPr/>
          <p:nvPr/>
        </p:nvSpPr>
        <p:spPr>
          <a:xfrm>
            <a:off x="0" y="76320"/>
            <a:ext cx="1905120" cy="678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000000"/>
                </a:solidFill>
                <a:uFillTx/>
                <a:latin typeface="Arial"/>
              </a:rPr>
              <a:t>PLA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ontex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Appro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XML/RD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Société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Protoco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Adaptation &amp; communauté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cc3300"/>
                </a:solidFill>
                <a:latin typeface="Arial"/>
              </a:rPr>
              <a:t>Recueil et analy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Modélis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0000"/>
                </a:solidFill>
                <a:latin typeface="Arial"/>
              </a:rPr>
              <a:t>Représentatio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é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880AB9-EFA5-4C08-A690-DAA32234ADE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2286000" y="6477120"/>
            <a:ext cx="6858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génierie des connaissances : Observ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2133360" y="-76680"/>
            <a:ext cx="70102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echniques de recueil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SzPct val="80000"/>
              <a:buFont typeface="Webding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énari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SzPct val="80000"/>
              <a:buFont typeface="Webding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ntretie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SzPct val="80000"/>
              <a:buFont typeface="Webding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bserv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Atos-Laet-bureau-3" descr=""/>
          <p:cNvPicPr/>
          <p:nvPr/>
        </p:nvPicPr>
        <p:blipFill>
          <a:blip r:embed="rId2"/>
          <a:stretch/>
        </p:blipFill>
        <p:spPr>
          <a:xfrm>
            <a:off x="2971800" y="2124000"/>
            <a:ext cx="5410080" cy="3890880"/>
          </a:xfrm>
          <a:prstGeom prst="rect">
            <a:avLst/>
          </a:prstGeom>
          <a:ln w="0">
            <a:noFill/>
          </a:ln>
        </p:spPr>
      </p:pic>
      <p:grpSp>
        <p:nvGrpSpPr>
          <p:cNvPr id="349" name=""/>
          <p:cNvGrpSpPr/>
          <p:nvPr/>
        </p:nvGrpSpPr>
        <p:grpSpPr>
          <a:xfrm>
            <a:off x="2971800" y="2124000"/>
            <a:ext cx="5410080" cy="3895560"/>
            <a:chOff x="2971800" y="2124000"/>
            <a:chExt cx="5410080" cy="3895560"/>
          </a:xfrm>
        </p:grpSpPr>
        <p:grpSp>
          <p:nvGrpSpPr>
            <p:cNvPr id="350" name=""/>
            <p:cNvGrpSpPr/>
            <p:nvPr/>
          </p:nvGrpSpPr>
          <p:grpSpPr>
            <a:xfrm>
              <a:off x="2971800" y="2124000"/>
              <a:ext cx="5410080" cy="3895560"/>
              <a:chOff x="2971800" y="2124000"/>
              <a:chExt cx="5410080" cy="3895560"/>
            </a:xfrm>
          </p:grpSpPr>
          <p:sp>
            <p:nvSpPr>
              <p:cNvPr id="351" name=""/>
              <p:cNvSpPr/>
              <p:nvPr/>
            </p:nvSpPr>
            <p:spPr>
              <a:xfrm>
                <a:off x="2971800" y="2124000"/>
                <a:ext cx="5410080" cy="14479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2971800" y="3190680"/>
                <a:ext cx="1371600" cy="10670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6629400" y="3190680"/>
                <a:ext cx="1219320" cy="12956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4343400" y="3495600"/>
                <a:ext cx="1752480" cy="3049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4343400" y="3800520"/>
                <a:ext cx="533520" cy="45720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5410080" y="3647880"/>
                <a:ext cx="685800" cy="45720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4876920" y="4105080"/>
                <a:ext cx="1752480" cy="763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7696080" y="3571920"/>
                <a:ext cx="685800" cy="45720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6629400" y="4333680"/>
                <a:ext cx="1752480" cy="45720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2971800" y="4790880"/>
                <a:ext cx="4191120" cy="68580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7543800" y="4790880"/>
                <a:ext cx="838080" cy="7621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2971800" y="5410080"/>
                <a:ext cx="5410080" cy="6094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6019920" y="4181400"/>
                <a:ext cx="838080" cy="7621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2971800" y="4410000"/>
                <a:ext cx="3048120" cy="7621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2971800" y="4181400"/>
                <a:ext cx="2362320" cy="7621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7162920" y="4791240"/>
              <a:ext cx="380880" cy="6094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6095880" y="3568680"/>
              <a:ext cx="533520" cy="5335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876920" y="3797280"/>
              <a:ext cx="533160" cy="3049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5334120" y="4178160"/>
              <a:ext cx="685800" cy="22860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7848720" y="4025880"/>
              <a:ext cx="533160" cy="3049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1" name=""/>
          <p:cNvSpPr/>
          <p:nvPr/>
        </p:nvSpPr>
        <p:spPr>
          <a:xfrm>
            <a:off x="0" y="76320"/>
            <a:ext cx="1905120" cy="678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000000"/>
                </a:solidFill>
                <a:uFillTx/>
                <a:latin typeface="Arial"/>
              </a:rPr>
              <a:t>PLA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ontex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Appro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XML/RD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Société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Protoco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Adaptation &amp; communauté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cc3300"/>
                </a:solidFill>
                <a:latin typeface="Arial"/>
              </a:rPr>
              <a:t>Recueil et analy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Modélis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0000"/>
                </a:solidFill>
                <a:latin typeface="Arial"/>
              </a:rPr>
              <a:t>Représentatio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é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054E7A-D158-4F47-95A3-1C6A3058E82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0" y="6477120"/>
            <a:ext cx="6858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génierie des connaissances : Documents (I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133360" y="-76320"/>
            <a:ext cx="701028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echniques de recueil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SzPct val="80000"/>
              <a:buFont typeface="Webding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énari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SzPct val="80000"/>
              <a:buFont typeface="Webding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ntretie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SzPct val="80000"/>
              <a:buFont typeface="Webding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bserv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SzPct val="80000"/>
              <a:buFont typeface="Webding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alyse de docum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2971800" y="2514600"/>
            <a:ext cx="5798880" cy="3581280"/>
            <a:chOff x="2971800" y="2514600"/>
            <a:chExt cx="5798880" cy="3581280"/>
          </a:xfrm>
        </p:grpSpPr>
        <p:pic>
          <p:nvPicPr>
            <p:cNvPr id="375" name="agenda-Atos-2" descr=""/>
            <p:cNvPicPr/>
            <p:nvPr/>
          </p:nvPicPr>
          <p:blipFill>
            <a:blip r:embed="rId2"/>
            <a:stretch/>
          </p:blipFill>
          <p:spPr>
            <a:xfrm>
              <a:off x="2971800" y="2514600"/>
              <a:ext cx="4229280" cy="358128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grpSp>
          <p:nvGrpSpPr>
            <p:cNvPr id="376" name=""/>
            <p:cNvGrpSpPr/>
            <p:nvPr/>
          </p:nvGrpSpPr>
          <p:grpSpPr>
            <a:xfrm>
              <a:off x="5053680" y="3121920"/>
              <a:ext cx="3673440" cy="1668960"/>
              <a:chOff x="5053680" y="3121920"/>
              <a:chExt cx="3673440" cy="1668960"/>
            </a:xfrm>
          </p:grpSpPr>
          <p:grpSp>
            <p:nvGrpSpPr>
              <p:cNvPr id="377" name=""/>
              <p:cNvGrpSpPr/>
              <p:nvPr/>
            </p:nvGrpSpPr>
            <p:grpSpPr>
              <a:xfrm>
                <a:off x="5053680" y="3121920"/>
                <a:ext cx="2407320" cy="1668960"/>
                <a:chOff x="5053680" y="3121920"/>
                <a:chExt cx="2407320" cy="1668960"/>
              </a:xfrm>
            </p:grpSpPr>
            <p:sp>
              <p:nvSpPr>
                <p:cNvPr id="378" name=""/>
                <p:cNvSpPr/>
                <p:nvPr/>
              </p:nvSpPr>
              <p:spPr>
                <a:xfrm flipV="1">
                  <a:off x="5053680" y="3501360"/>
                  <a:ext cx="2407320" cy="1289520"/>
                </a:xfrm>
                <a:prstGeom prst="line">
                  <a:avLst/>
                </a:prstGeom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 flipV="1">
                  <a:off x="6100200" y="3501000"/>
                  <a:ext cx="1360440" cy="151560"/>
                </a:xfrm>
                <a:prstGeom prst="line">
                  <a:avLst/>
                </a:prstGeom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>
                  <a:off x="6047640" y="3121920"/>
                  <a:ext cx="1413000" cy="379440"/>
                </a:xfrm>
                <a:prstGeom prst="line">
                  <a:avLst/>
                </a:prstGeom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81" name=""/>
              <p:cNvSpPr/>
              <p:nvPr/>
            </p:nvSpPr>
            <p:spPr>
              <a:xfrm>
                <a:off x="7459920" y="3199320"/>
                <a:ext cx="126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Insertio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2" name=""/>
            <p:cNvGrpSpPr/>
            <p:nvPr/>
          </p:nvGrpSpPr>
          <p:grpSpPr>
            <a:xfrm>
              <a:off x="3817800" y="3273480"/>
              <a:ext cx="4952880" cy="1896480"/>
              <a:chOff x="3817800" y="3273480"/>
              <a:chExt cx="4952880" cy="1896480"/>
            </a:xfrm>
          </p:grpSpPr>
          <p:grpSp>
            <p:nvGrpSpPr>
              <p:cNvPr id="383" name=""/>
              <p:cNvGrpSpPr/>
              <p:nvPr/>
            </p:nvGrpSpPr>
            <p:grpSpPr>
              <a:xfrm>
                <a:off x="3817800" y="3273480"/>
                <a:ext cx="3643560" cy="1896480"/>
                <a:chOff x="3817800" y="3273480"/>
                <a:chExt cx="3643560" cy="1896480"/>
              </a:xfrm>
            </p:grpSpPr>
            <p:sp>
              <p:nvSpPr>
                <p:cNvPr id="384" name=""/>
                <p:cNvSpPr/>
                <p:nvPr/>
              </p:nvSpPr>
              <p:spPr>
                <a:xfrm flipV="1">
                  <a:off x="4938840" y="4411440"/>
                  <a:ext cx="2522520" cy="758520"/>
                </a:xfrm>
                <a:prstGeom prst="line">
                  <a:avLst/>
                </a:prstGeom>
                <a:ln w="1908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>
                  <a:off x="6059880" y="3728520"/>
                  <a:ext cx="1401120" cy="682920"/>
                </a:xfrm>
                <a:prstGeom prst="line">
                  <a:avLst/>
                </a:prstGeom>
                <a:ln w="19080">
                  <a:solidFill>
                    <a:srgbClr val="ff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4882680" y="4335840"/>
                  <a:ext cx="2578320" cy="75960"/>
                </a:xfrm>
                <a:prstGeom prst="line">
                  <a:avLst/>
                </a:prstGeom>
                <a:ln w="1908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>
                  <a:off x="4154040" y="3273480"/>
                  <a:ext cx="3306960" cy="1138320"/>
                </a:xfrm>
                <a:prstGeom prst="line">
                  <a:avLst/>
                </a:prstGeom>
                <a:ln w="19080">
                  <a:solidFill>
                    <a:srgbClr val="ff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>
                  <a:off x="3817800" y="3804480"/>
                  <a:ext cx="3643560" cy="607320"/>
                </a:xfrm>
                <a:prstGeom prst="line">
                  <a:avLst/>
                </a:prstGeom>
                <a:ln w="19080">
                  <a:solidFill>
                    <a:srgbClr val="ff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 flipV="1">
                  <a:off x="3873600" y="4411440"/>
                  <a:ext cx="3587400" cy="758520"/>
                </a:xfrm>
                <a:prstGeom prst="line">
                  <a:avLst/>
                </a:prstGeom>
                <a:ln w="1908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90" name=""/>
              <p:cNvSpPr/>
              <p:nvPr/>
            </p:nvSpPr>
            <p:spPr>
              <a:xfrm>
                <a:off x="7463880" y="4136400"/>
                <a:ext cx="13068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Code de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couleur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91" name=""/>
          <p:cNvSpPr/>
          <p:nvPr/>
        </p:nvSpPr>
        <p:spPr>
          <a:xfrm>
            <a:off x="0" y="76320"/>
            <a:ext cx="1905120" cy="678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000000"/>
                </a:solidFill>
                <a:uFillTx/>
                <a:latin typeface="Arial"/>
              </a:rPr>
              <a:t>PLA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ontex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Appro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XML/RD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Société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Protoco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Adaptation &amp; communauté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cc3300"/>
                </a:solidFill>
                <a:latin typeface="Arial"/>
              </a:rPr>
              <a:t>Recueil et analy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Modélis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0000"/>
                </a:solidFill>
                <a:latin typeface="Arial"/>
              </a:rPr>
              <a:t>Représentatio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é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04563D-DC5E-4DA6-A40E-1EF503A546D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286000" y="6477120"/>
            <a:ext cx="6858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génierie des connaissances : Documents (II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2133360" y="-76320"/>
            <a:ext cx="701028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echniques de recueil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SzPct val="80000"/>
              <a:buFont typeface="Webding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énari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SzPct val="80000"/>
              <a:buFont typeface="Webding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ntretie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SzPct val="80000"/>
              <a:buFont typeface="Webding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bserv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SzPct val="80000"/>
              <a:buFont typeface="Webding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alyse de docum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4" name="" descr=""/>
          <p:cNvPicPr/>
          <p:nvPr/>
        </p:nvPicPr>
        <p:blipFill>
          <a:blip r:embed="rId2"/>
          <a:stretch/>
        </p:blipFill>
        <p:spPr>
          <a:xfrm>
            <a:off x="2971800" y="2438280"/>
            <a:ext cx="3327480" cy="3962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95" name=""/>
          <p:cNvSpPr/>
          <p:nvPr/>
        </p:nvSpPr>
        <p:spPr>
          <a:xfrm>
            <a:off x="0" y="76320"/>
            <a:ext cx="1905120" cy="678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000000"/>
                </a:solidFill>
                <a:uFillTx/>
                <a:latin typeface="Arial"/>
              </a:rPr>
              <a:t>PLA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ontex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Appro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XML/RD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Société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Protoco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Adaptation &amp; communauté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cc3300"/>
                </a:solidFill>
                <a:latin typeface="Arial"/>
              </a:rPr>
              <a:t>Recueil et analy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Modélis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0000"/>
                </a:solidFill>
                <a:latin typeface="Arial"/>
              </a:rPr>
              <a:t>Représentatio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é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6085B4-5E9B-4CFB-A0FB-AEE8244A352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2286000" y="6477120"/>
            <a:ext cx="6858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génierie des connaissances : Représ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2133360" y="0"/>
            <a:ext cx="701028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5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Représentation des connaissance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49"/>
              </a:spcBef>
              <a:buClr>
                <a:srgbClr val="000000"/>
              </a:buClr>
              <a:buSzPct val="80000"/>
              <a:buFont typeface="Webding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Ontologie pour la M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Identification des concepts &amp; rel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Approche crois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Formalisation en RD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49"/>
              </a:spcBef>
              <a:buClr>
                <a:srgbClr val="000000"/>
              </a:buClr>
              <a:buSzPct val="80000"/>
              <a:buFont typeface="Webding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Modèles organisation &amp; utilisateu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Modèles inform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Formalisation en R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49"/>
              </a:spcBef>
              <a:buClr>
                <a:srgbClr val="000000"/>
              </a:buClr>
              <a:buSzPct val="80000"/>
              <a:buFont typeface="Webding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Annotations des ressources de la mémoire en RDF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Aide à l'exploit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49"/>
              </a:spcBef>
              <a:buClr>
                <a:srgbClr val="000000"/>
              </a:buClr>
              <a:buSzPct val="80000"/>
              <a:buFont typeface="Webding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Inférences de recher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49"/>
              </a:spcBef>
              <a:buClr>
                <a:srgbClr val="000000"/>
              </a:buClr>
              <a:buSzPct val="80000"/>
              <a:buFont typeface="Webding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Inférences de proactivité &amp; d'adap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000" spc="-1" strike="noStrike">
                <a:solidFill>
                  <a:srgbClr val="cc3300"/>
                </a:solidFill>
                <a:latin typeface="Arial"/>
              </a:rPr>
              <a:t>Demo Time..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0" y="76320"/>
            <a:ext cx="1905120" cy="678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000000"/>
                </a:solidFill>
                <a:uFillTx/>
                <a:latin typeface="Arial"/>
              </a:rPr>
              <a:t>PLA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ontex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Appro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XML/RD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Société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Protoco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Adaptation &amp; communauté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Recueil et analy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cc3300"/>
                </a:solidFill>
                <a:latin typeface="Arial"/>
              </a:rPr>
              <a:t>Modélis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cc3300"/>
                </a:solidFill>
                <a:latin typeface="Arial"/>
              </a:rPr>
              <a:t>Représentatio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é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E28D4B-A97E-41FC-A797-BA31FE98E2E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286000" y="6477120"/>
            <a:ext cx="6858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: Motivations et Approche Envisagé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133360" y="0"/>
            <a:ext cx="701028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Constats sur la nature même du problème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80000"/>
              <a:buFont typeface="Webding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Mémoire distribuée et hétérogè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80000"/>
              <a:buFont typeface="Webding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Gestion distribuée et hétérogè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80000"/>
              <a:buFont typeface="Webding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Population utilisateur distribuée et hétérogè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CoMMA : Corporate Memory Management through Agen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80000"/>
              <a:buFont typeface="Webding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Environnement de gestion de la mémoire d'entrepris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80000"/>
              <a:buFont typeface="Webding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Analyse par scénario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Aide à l'insertion d'un nouvel employ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Support de la veille technolog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80000"/>
              <a:buFont typeface="Webding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Intégration de nouvelles technolog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0" y="76320"/>
            <a:ext cx="1905120" cy="678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000000"/>
                </a:solidFill>
                <a:uFillTx/>
                <a:latin typeface="Arial"/>
              </a:rPr>
              <a:t>PLA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cc3300"/>
                </a:solidFill>
                <a:latin typeface="Arial"/>
              </a:rPr>
              <a:t>Contex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Appro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XML/RD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Société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Protoco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Adaptation &amp; communauté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Recueil et analy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Modélis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0000"/>
                </a:solidFill>
                <a:latin typeface="Arial"/>
              </a:rPr>
              <a:t>Représentatio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é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AB6BDD-D60E-4D6E-B263-A4AE7CB5F73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6000" y="6477120"/>
            <a:ext cx="6858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: Motivations et Approche Envisagé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133360" y="0"/>
            <a:ext cx="7010280" cy="33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stats sur la nature même du problème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80000"/>
              <a:buFont typeface="Webding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émoire distribuée et hétérogè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80000"/>
              <a:buFont typeface="Webding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estion distribuée et hétérogè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80000"/>
              <a:buFont typeface="Webding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opulation utilisateur distribuée et hétérogè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oix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2438280" y="3124080"/>
            <a:ext cx="6629040" cy="609480"/>
            <a:chOff x="2438280" y="3124080"/>
            <a:chExt cx="6629040" cy="609480"/>
          </a:xfrm>
        </p:grpSpPr>
        <p:sp>
          <p:nvSpPr>
            <p:cNvPr id="87" name=""/>
            <p:cNvSpPr/>
            <p:nvPr/>
          </p:nvSpPr>
          <p:spPr>
            <a:xfrm>
              <a:off x="2438280" y="3124080"/>
              <a:ext cx="35053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Arial"/>
                </a:rPr>
                <a:t>Matérialisation M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116760" y="3124080"/>
              <a:ext cx="27223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Arial"/>
                </a:rPr>
                <a:t>Exploitation M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9" name=""/>
            <p:cNvGrpSpPr/>
            <p:nvPr/>
          </p:nvGrpSpPr>
          <p:grpSpPr>
            <a:xfrm>
              <a:off x="2590920" y="3124080"/>
              <a:ext cx="6476400" cy="533160"/>
              <a:chOff x="2590920" y="3124080"/>
              <a:chExt cx="6476400" cy="533160"/>
            </a:xfrm>
          </p:grpSpPr>
          <p:sp>
            <p:nvSpPr>
              <p:cNvPr id="90" name=""/>
              <p:cNvSpPr/>
              <p:nvPr/>
            </p:nvSpPr>
            <p:spPr>
              <a:xfrm>
                <a:off x="2590920" y="3124080"/>
                <a:ext cx="3238200" cy="533160"/>
              </a:xfrm>
              <a:prstGeom prst="rect">
                <a:avLst/>
              </a:prstGeom>
              <a:noFill/>
              <a:ln w="9360">
                <a:solidFill>
                  <a:srgbClr val="33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5829120" y="3124080"/>
                <a:ext cx="3238200" cy="533160"/>
              </a:xfrm>
              <a:prstGeom prst="rect">
                <a:avLst/>
              </a:prstGeom>
              <a:noFill/>
              <a:ln w="9360">
                <a:solidFill>
                  <a:srgbClr val="33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2" name=""/>
          <p:cNvGrpSpPr/>
          <p:nvPr/>
        </p:nvGrpSpPr>
        <p:grpSpPr>
          <a:xfrm>
            <a:off x="2590920" y="3657600"/>
            <a:ext cx="6476400" cy="2208600"/>
            <a:chOff x="2590920" y="3657600"/>
            <a:chExt cx="6476400" cy="2208600"/>
          </a:xfrm>
        </p:grpSpPr>
        <p:sp>
          <p:nvSpPr>
            <p:cNvPr id="93" name=""/>
            <p:cNvSpPr/>
            <p:nvPr/>
          </p:nvSpPr>
          <p:spPr>
            <a:xfrm>
              <a:off x="2590920" y="3657600"/>
              <a:ext cx="3238200" cy="2208600"/>
            </a:xfrm>
            <a:prstGeom prst="rect">
              <a:avLst/>
            </a:prstGeom>
            <a:noFill/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29120" y="3657600"/>
              <a:ext cx="3238200" cy="2208600"/>
            </a:xfrm>
            <a:prstGeom prst="rect">
              <a:avLst/>
            </a:prstGeom>
            <a:noFill/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" name=""/>
          <p:cNvSpPr/>
          <p:nvPr/>
        </p:nvSpPr>
        <p:spPr>
          <a:xfrm>
            <a:off x="2552760" y="3632040"/>
            <a:ext cx="3238560" cy="21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90440" indent="-1904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XML: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Standard, Structure, Etendre, Valider, Transfor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RDF:           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Annotation,   Schémas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791320" y="3632040"/>
            <a:ext cx="335268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176760" indent="-1767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Système multiagents: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Modularité, Distribué, Collabo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6760" indent="-1767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Apprentissage :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Adaptation, Emerg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2590920" y="5867280"/>
            <a:ext cx="6616440" cy="380880"/>
            <a:chOff x="2590920" y="5867280"/>
            <a:chExt cx="6616440" cy="380880"/>
          </a:xfrm>
        </p:grpSpPr>
        <p:sp>
          <p:nvSpPr>
            <p:cNvPr id="98" name=""/>
            <p:cNvSpPr/>
            <p:nvPr/>
          </p:nvSpPr>
          <p:spPr>
            <a:xfrm>
              <a:off x="2903400" y="5867280"/>
              <a:ext cx="29512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 algn="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3300"/>
                  </a:solidFill>
                  <a:latin typeface="Arial"/>
                </a:rPr>
                <a:t>Co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porate </a:t>
              </a:r>
              <a:r>
                <a:rPr b="1" lang="en-US" sz="1800" spc="-1" strike="noStrike">
                  <a:solidFill>
                    <a:srgbClr val="cc3300"/>
                  </a:solidFill>
                  <a:latin typeface="Arial"/>
                </a:rPr>
                <a:t>M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mo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781600" y="5867280"/>
              <a:ext cx="342576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3300"/>
                  </a:solidFill>
                  <a:latin typeface="Arial"/>
                </a:rPr>
                <a:t>M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nagement through </a:t>
              </a:r>
              <a:r>
                <a:rPr b="1" lang="en-US" sz="1800" spc="-1" strike="noStrike">
                  <a:solidFill>
                    <a:srgbClr val="cc3300"/>
                  </a:solidFill>
                  <a:latin typeface="Arial"/>
                </a:rPr>
                <a:t>A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gen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2590920" y="5867280"/>
              <a:ext cx="6476760" cy="380880"/>
              <a:chOff x="2590920" y="5867280"/>
              <a:chExt cx="6476760" cy="380880"/>
            </a:xfrm>
          </p:grpSpPr>
          <p:sp>
            <p:nvSpPr>
              <p:cNvPr id="101" name=""/>
              <p:cNvSpPr/>
              <p:nvPr/>
            </p:nvSpPr>
            <p:spPr>
              <a:xfrm>
                <a:off x="2590920" y="5867280"/>
                <a:ext cx="3238560" cy="380880"/>
              </a:xfrm>
              <a:prstGeom prst="rect">
                <a:avLst/>
              </a:prstGeom>
              <a:noFill/>
              <a:ln w="9360">
                <a:solidFill>
                  <a:srgbClr val="33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5829480" y="5867280"/>
                <a:ext cx="3238200" cy="380880"/>
              </a:xfrm>
              <a:prstGeom prst="rect">
                <a:avLst/>
              </a:prstGeom>
              <a:noFill/>
              <a:ln w="9360">
                <a:solidFill>
                  <a:srgbClr val="33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3" name=""/>
          <p:cNvSpPr/>
          <p:nvPr/>
        </p:nvSpPr>
        <p:spPr>
          <a:xfrm>
            <a:off x="0" y="76320"/>
            <a:ext cx="1905120" cy="678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000000"/>
                </a:solidFill>
                <a:uFillTx/>
                <a:latin typeface="Arial"/>
              </a:rPr>
              <a:t>PLA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ontex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cc3300"/>
                </a:solidFill>
                <a:latin typeface="Arial"/>
              </a:rPr>
              <a:t>Appro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XML/RD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Société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Protoco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Adaptation &amp; communauté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Recueil et analy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Modélis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0000"/>
                </a:solidFill>
                <a:latin typeface="Arial"/>
              </a:rPr>
              <a:t>Représentatio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é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0707C6-6569-4FC3-BC23-69248C8A720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0" y="6477120"/>
            <a:ext cx="6858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lution technique: XML &amp; RDF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133360" y="0"/>
            <a:ext cx="701028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fr-FR" sz="3000" spc="-1" strike="noStrike" u="sng">
                <a:solidFill>
                  <a:srgbClr val="000000"/>
                </a:solidFill>
                <a:uFillTx/>
                <a:latin typeface="Arial"/>
              </a:rPr>
              <a:t>x</a:t>
            </a: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tensible </a:t>
            </a:r>
            <a:r>
              <a:rPr b="0" lang="fr-FR" sz="3000" spc="-1" strike="noStrike" u="sng">
                <a:solidFill>
                  <a:srgbClr val="000000"/>
                </a:solidFill>
                <a:uFillTx/>
                <a:latin typeface="Arial"/>
              </a:rPr>
              <a:t>M</a:t>
            </a: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arkup </a:t>
            </a:r>
            <a:r>
              <a:rPr b="0" lang="fr-FR" sz="3000" spc="-1" strike="noStrike" u="sng">
                <a:solidFill>
                  <a:srgbClr val="000000"/>
                </a:solidFill>
                <a:uFillTx/>
                <a:latin typeface="Arial"/>
              </a:rPr>
              <a:t>L</a:t>
            </a: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anguag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SzPct val="80000"/>
              <a:buFont typeface="Webding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Structuration &amp; format tex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SzPct val="80000"/>
              <a:buFont typeface="Webding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Création et accès via réseaux internet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SzPct val="80000"/>
              <a:buFont typeface="Webding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Vers un standard dans l'industri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SzPct val="80000"/>
              <a:buFont typeface="Webding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Compréhension Humain &amp; Machi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SzPct val="80000"/>
              <a:buFont typeface="Webding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DTD: possibilité de définition formel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SzPct val="80000"/>
              <a:buFont typeface="Webding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Feuilles de style: manipulation formatage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 u="sng">
                <a:solidFill>
                  <a:srgbClr val="000000"/>
                </a:solidFill>
                <a:uFillTx/>
                <a:latin typeface="Arial"/>
              </a:rPr>
              <a:t>R</a:t>
            </a: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esource </a:t>
            </a:r>
            <a:r>
              <a:rPr b="0" lang="fr-FR" sz="3000" spc="-1" strike="noStrike" u="sng">
                <a:solidFill>
                  <a:srgbClr val="000000"/>
                </a:solidFill>
                <a:uFillTx/>
                <a:latin typeface="Arial"/>
              </a:rPr>
              <a:t>D</a:t>
            </a: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escription </a:t>
            </a:r>
            <a:r>
              <a:rPr b="0" lang="fr-FR" sz="3000" spc="-1" strike="noStrike" u="sng">
                <a:solidFill>
                  <a:srgbClr val="000000"/>
                </a:solidFill>
                <a:uFillTx/>
                <a:latin typeface="Arial"/>
              </a:rPr>
              <a:t>F</a:t>
            </a: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rame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SzPct val="80000"/>
              <a:buFont typeface="Webding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Annotations internes/extern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SzPct val="80000"/>
              <a:buFont typeface="Webding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RDFS: RDF Schema (ontologi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 u="sng">
                <a:solidFill>
                  <a:srgbClr val="cc3300"/>
                </a:solidFill>
                <a:uFillTx/>
                <a:latin typeface="Arial"/>
              </a:rPr>
              <a:t>Leitmotiv</a:t>
            </a:r>
            <a:r>
              <a:rPr b="0" lang="fr-FR" sz="2600" spc="-1" strike="noStrike">
                <a:solidFill>
                  <a:srgbClr val="cc3300"/>
                </a:solidFill>
                <a:latin typeface="Arial"/>
              </a:rPr>
              <a:t>: Si la mémoire devient un monde annoté, les agents peuvent utiliser la sémantique des annotations et par des inférences aider son exploitatio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0000"/>
              </a:lnSpc>
              <a:spcBef>
                <a:spcPts val="75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CORESE: GC &amp; RDF c.f. Dém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76320"/>
            <a:ext cx="1905120" cy="678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000000"/>
                </a:solidFill>
                <a:uFillTx/>
                <a:latin typeface="Arial"/>
              </a:rPr>
              <a:t>PLA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ontex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Appro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cc3300"/>
                </a:solidFill>
                <a:latin typeface="Arial"/>
              </a:rPr>
              <a:t>XML/RD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Société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Protoco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Adaptation &amp; communauté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Recueil et analy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Modélis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0000"/>
                </a:solidFill>
                <a:latin typeface="Arial"/>
              </a:rPr>
              <a:t>Représentatio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é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2581BE-6F97-4EA9-8003-653284AB0E8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0" y="6477120"/>
            <a:ext cx="6858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Solution technique: Systèmes Multi-Agen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133360" y="0"/>
            <a:ext cx="701028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Atouts des SM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80000"/>
              <a:buFont typeface="Webding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Composants logiciels faiblement couplé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80000"/>
              <a:buFont typeface="Webding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Echanges: messages niveau sémantiqu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Architecture/Configur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80000"/>
              <a:buFont typeface="Webding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 u="sng">
                <a:solidFill>
                  <a:srgbClr val="000000"/>
                </a:solidFill>
                <a:uFillTx/>
                <a:latin typeface="Arial"/>
              </a:rPr>
              <a:t>Architecture</a:t>
            </a: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: types agents &amp; relations (Fixée lors de la conception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80000"/>
              <a:buFont typeface="Webding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 u="sng">
                <a:solidFill>
                  <a:srgbClr val="000000"/>
                </a:solidFill>
                <a:uFillTx/>
                <a:latin typeface="Arial"/>
              </a:rPr>
              <a:t>Configuration</a:t>
            </a: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: topographie d'un SMA (Fixée lors du déploiement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 u="sng">
                <a:solidFill>
                  <a:srgbClr val="cc3300"/>
                </a:solidFill>
                <a:uFillTx/>
                <a:latin typeface="Arial"/>
              </a:rPr>
              <a:t>Leitmotiv</a:t>
            </a:r>
            <a:r>
              <a:rPr b="0" lang="fr-FR" sz="2600" spc="-1" strike="noStrike">
                <a:solidFill>
                  <a:srgbClr val="cc3300"/>
                </a:solidFill>
                <a:latin typeface="Arial"/>
              </a:rPr>
              <a:t>: Une architecture fonctionnelle pour plusieurs configurations possibles afin de s'adapter au panel d'environnements que l'on trouve au sein d'une entrepri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Choix de déploiement sont motivés par: structure organisationnelle, topographie intranet, zones d'intérêt..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76320"/>
            <a:ext cx="1905120" cy="678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000000"/>
                </a:solidFill>
                <a:uFillTx/>
                <a:latin typeface="Arial"/>
              </a:rPr>
              <a:t>PLA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ontex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Appro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XML/RD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cc3300"/>
                </a:solidFill>
                <a:latin typeface="Arial"/>
              </a:rPr>
              <a:t>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Société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Protoco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Adaptation &amp; communauté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Recueil et analy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Modélis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0000"/>
                </a:solidFill>
                <a:latin typeface="Arial"/>
              </a:rPr>
              <a:t>Représentatio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é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4B5B12-08A1-4E6F-92D7-E7FEE56A4A0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0" y="6477120"/>
            <a:ext cx="6858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lution technique: Sociétés d'agen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133720" y="-76320"/>
            <a:ext cx="784836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us-sociétés dédié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5861160" y="457200"/>
            <a:ext cx="3206520" cy="761760"/>
            <a:chOff x="5861160" y="457200"/>
            <a:chExt cx="3206520" cy="761760"/>
          </a:xfrm>
        </p:grpSpPr>
        <p:sp>
          <p:nvSpPr>
            <p:cNvPr id="113" name=""/>
            <p:cNvSpPr/>
            <p:nvPr/>
          </p:nvSpPr>
          <p:spPr>
            <a:xfrm>
              <a:off x="5861160" y="457200"/>
              <a:ext cx="3179520" cy="7254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4" name=""/>
            <p:cNvGrpSpPr/>
            <p:nvPr/>
          </p:nvGrpSpPr>
          <p:grpSpPr>
            <a:xfrm>
              <a:off x="6019920" y="609120"/>
              <a:ext cx="521640" cy="475200"/>
              <a:chOff x="6019920" y="609120"/>
              <a:chExt cx="521640" cy="475200"/>
            </a:xfrm>
          </p:grpSpPr>
          <p:grpSp>
            <p:nvGrpSpPr>
              <p:cNvPr id="115" name=""/>
              <p:cNvGrpSpPr/>
              <p:nvPr/>
            </p:nvGrpSpPr>
            <p:grpSpPr>
              <a:xfrm>
                <a:off x="6197400" y="609120"/>
                <a:ext cx="344160" cy="389880"/>
                <a:chOff x="6197400" y="609120"/>
                <a:chExt cx="344160" cy="389880"/>
              </a:xfrm>
            </p:grpSpPr>
            <p:sp>
              <p:nvSpPr>
                <p:cNvPr id="116" name=""/>
                <p:cNvSpPr/>
                <p:nvPr/>
              </p:nvSpPr>
              <p:spPr>
                <a:xfrm>
                  <a:off x="6197400" y="804240"/>
                  <a:ext cx="344160" cy="19476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 flipV="1">
                  <a:off x="6197400" y="608760"/>
                  <a:ext cx="344160" cy="19476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8" name=""/>
              <p:cNvGrpSpPr/>
              <p:nvPr/>
            </p:nvGrpSpPr>
            <p:grpSpPr>
              <a:xfrm>
                <a:off x="6134400" y="637560"/>
                <a:ext cx="344160" cy="389880"/>
                <a:chOff x="6134400" y="637560"/>
                <a:chExt cx="344160" cy="38988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6134400" y="832680"/>
                  <a:ext cx="344160" cy="19476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 flipV="1">
                  <a:off x="6134400" y="637200"/>
                  <a:ext cx="344160" cy="19476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1" name=""/>
              <p:cNvGrpSpPr/>
              <p:nvPr/>
            </p:nvGrpSpPr>
            <p:grpSpPr>
              <a:xfrm>
                <a:off x="6082560" y="665640"/>
                <a:ext cx="344160" cy="389880"/>
                <a:chOff x="6082560" y="665640"/>
                <a:chExt cx="344160" cy="389880"/>
              </a:xfrm>
            </p:grpSpPr>
            <p:sp>
              <p:nvSpPr>
                <p:cNvPr id="122" name=""/>
                <p:cNvSpPr/>
                <p:nvPr/>
              </p:nvSpPr>
              <p:spPr>
                <a:xfrm>
                  <a:off x="6082560" y="860760"/>
                  <a:ext cx="344160" cy="19476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 flipV="1">
                  <a:off x="6082560" y="665280"/>
                  <a:ext cx="344160" cy="19476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4" name=""/>
              <p:cNvGrpSpPr/>
              <p:nvPr/>
            </p:nvGrpSpPr>
            <p:grpSpPr>
              <a:xfrm>
                <a:off x="6019920" y="694440"/>
                <a:ext cx="344160" cy="389880"/>
                <a:chOff x="6019920" y="694440"/>
                <a:chExt cx="344160" cy="38988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6019920" y="889560"/>
                  <a:ext cx="344160" cy="19476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 flipV="1">
                  <a:off x="6019920" y="694080"/>
                  <a:ext cx="344160" cy="19476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27" name=""/>
            <p:cNvSpPr/>
            <p:nvPr/>
          </p:nvSpPr>
          <p:spPr>
            <a:xfrm>
              <a:off x="6375240" y="514080"/>
              <a:ext cx="2692440" cy="70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Sous-société dédiée aux        documen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2536920" y="457200"/>
            <a:ext cx="3178080" cy="760320"/>
            <a:chOff x="2536920" y="457200"/>
            <a:chExt cx="3178080" cy="760320"/>
          </a:xfrm>
        </p:grpSpPr>
        <p:sp>
          <p:nvSpPr>
            <p:cNvPr id="129" name=""/>
            <p:cNvSpPr/>
            <p:nvPr/>
          </p:nvSpPr>
          <p:spPr>
            <a:xfrm>
              <a:off x="2536920" y="457200"/>
              <a:ext cx="3178080" cy="7254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0" name=""/>
            <p:cNvGrpSpPr/>
            <p:nvPr/>
          </p:nvGrpSpPr>
          <p:grpSpPr>
            <a:xfrm>
              <a:off x="2624040" y="609120"/>
              <a:ext cx="520560" cy="475200"/>
              <a:chOff x="2624040" y="609120"/>
              <a:chExt cx="520560" cy="475200"/>
            </a:xfrm>
          </p:grpSpPr>
          <p:grpSp>
            <p:nvGrpSpPr>
              <p:cNvPr id="131" name=""/>
              <p:cNvGrpSpPr/>
              <p:nvPr/>
            </p:nvGrpSpPr>
            <p:grpSpPr>
              <a:xfrm>
                <a:off x="2801160" y="609120"/>
                <a:ext cx="343440" cy="389880"/>
                <a:chOff x="2801160" y="609120"/>
                <a:chExt cx="343440" cy="389880"/>
              </a:xfrm>
            </p:grpSpPr>
            <p:sp>
              <p:nvSpPr>
                <p:cNvPr id="132" name=""/>
                <p:cNvSpPr/>
                <p:nvPr/>
              </p:nvSpPr>
              <p:spPr>
                <a:xfrm>
                  <a:off x="2801160" y="804240"/>
                  <a:ext cx="343440" cy="19476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 flipV="1">
                  <a:off x="2801160" y="608760"/>
                  <a:ext cx="343440" cy="19476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4" name=""/>
              <p:cNvGrpSpPr/>
              <p:nvPr/>
            </p:nvGrpSpPr>
            <p:grpSpPr>
              <a:xfrm>
                <a:off x="2738520" y="637560"/>
                <a:ext cx="343440" cy="389880"/>
                <a:chOff x="2738520" y="637560"/>
                <a:chExt cx="343440" cy="38988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2738520" y="832680"/>
                  <a:ext cx="343440" cy="19476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 flipV="1">
                  <a:off x="2738520" y="637200"/>
                  <a:ext cx="343440" cy="19476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7" name=""/>
              <p:cNvGrpSpPr/>
              <p:nvPr/>
            </p:nvGrpSpPr>
            <p:grpSpPr>
              <a:xfrm>
                <a:off x="2686680" y="665640"/>
                <a:ext cx="343440" cy="389880"/>
                <a:chOff x="2686680" y="665640"/>
                <a:chExt cx="343440" cy="389880"/>
              </a:xfrm>
            </p:grpSpPr>
            <p:sp>
              <p:nvSpPr>
                <p:cNvPr id="138" name=""/>
                <p:cNvSpPr/>
                <p:nvPr/>
              </p:nvSpPr>
              <p:spPr>
                <a:xfrm>
                  <a:off x="2686680" y="860760"/>
                  <a:ext cx="343440" cy="19476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 flipV="1">
                  <a:off x="2686680" y="665280"/>
                  <a:ext cx="343440" cy="19476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0" name=""/>
              <p:cNvGrpSpPr/>
              <p:nvPr/>
            </p:nvGrpSpPr>
            <p:grpSpPr>
              <a:xfrm>
                <a:off x="2624040" y="694440"/>
                <a:ext cx="343440" cy="389880"/>
                <a:chOff x="2624040" y="694440"/>
                <a:chExt cx="343440" cy="3898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2624040" y="889560"/>
                  <a:ext cx="343440" cy="19476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V="1">
                  <a:off x="2624040" y="694080"/>
                  <a:ext cx="343440" cy="19476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43" name=""/>
            <p:cNvSpPr/>
            <p:nvPr/>
          </p:nvSpPr>
          <p:spPr>
            <a:xfrm>
              <a:off x="3127320" y="512640"/>
              <a:ext cx="2587680" cy="70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Sous société dédiée à l'ontologi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4419720" y="1549440"/>
            <a:ext cx="3472920" cy="760320"/>
            <a:chOff x="4419720" y="1549440"/>
            <a:chExt cx="3472920" cy="760320"/>
          </a:xfrm>
        </p:grpSpPr>
        <p:grpSp>
          <p:nvGrpSpPr>
            <p:cNvPr id="145" name=""/>
            <p:cNvGrpSpPr/>
            <p:nvPr/>
          </p:nvGrpSpPr>
          <p:grpSpPr>
            <a:xfrm>
              <a:off x="4419720" y="1549440"/>
              <a:ext cx="3178080" cy="725400"/>
              <a:chOff x="4419720" y="1549440"/>
              <a:chExt cx="3178080" cy="725400"/>
            </a:xfrm>
          </p:grpSpPr>
          <p:sp>
            <p:nvSpPr>
              <p:cNvPr id="146" name=""/>
              <p:cNvSpPr/>
              <p:nvPr/>
            </p:nvSpPr>
            <p:spPr>
              <a:xfrm>
                <a:off x="4419720" y="1549440"/>
                <a:ext cx="3178080" cy="72540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7" name=""/>
              <p:cNvGrpSpPr/>
              <p:nvPr/>
            </p:nvGrpSpPr>
            <p:grpSpPr>
              <a:xfrm>
                <a:off x="4636800" y="1659960"/>
                <a:ext cx="520560" cy="473400"/>
                <a:chOff x="4636800" y="1659960"/>
                <a:chExt cx="520560" cy="473400"/>
              </a:xfrm>
            </p:grpSpPr>
            <p:grpSp>
              <p:nvGrpSpPr>
                <p:cNvPr id="148" name=""/>
                <p:cNvGrpSpPr/>
                <p:nvPr/>
              </p:nvGrpSpPr>
              <p:grpSpPr>
                <a:xfrm>
                  <a:off x="4813920" y="1659960"/>
                  <a:ext cx="343440" cy="388440"/>
                  <a:chOff x="4813920" y="1659960"/>
                  <a:chExt cx="343440" cy="388440"/>
                </a:xfrm>
              </p:grpSpPr>
              <p:sp>
                <p:nvSpPr>
                  <p:cNvPr id="149" name=""/>
                  <p:cNvSpPr/>
                  <p:nvPr/>
                </p:nvSpPr>
                <p:spPr>
                  <a:xfrm>
                    <a:off x="4813920" y="1854360"/>
                    <a:ext cx="343440" cy="19404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0" name=""/>
                  <p:cNvSpPr/>
                  <p:nvPr/>
                </p:nvSpPr>
                <p:spPr>
                  <a:xfrm flipV="1">
                    <a:off x="4813920" y="1659600"/>
                    <a:ext cx="343440" cy="19404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51" name=""/>
                <p:cNvGrpSpPr/>
                <p:nvPr/>
              </p:nvGrpSpPr>
              <p:grpSpPr>
                <a:xfrm>
                  <a:off x="4751280" y="1688400"/>
                  <a:ext cx="343440" cy="388440"/>
                  <a:chOff x="4751280" y="1688400"/>
                  <a:chExt cx="343440" cy="388440"/>
                </a:xfrm>
              </p:grpSpPr>
              <p:sp>
                <p:nvSpPr>
                  <p:cNvPr id="152" name=""/>
                  <p:cNvSpPr/>
                  <p:nvPr/>
                </p:nvSpPr>
                <p:spPr>
                  <a:xfrm>
                    <a:off x="4751280" y="1882800"/>
                    <a:ext cx="343440" cy="19404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3" name=""/>
                  <p:cNvSpPr/>
                  <p:nvPr/>
                </p:nvSpPr>
                <p:spPr>
                  <a:xfrm flipV="1">
                    <a:off x="4751280" y="1688040"/>
                    <a:ext cx="343440" cy="19404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54" name=""/>
                <p:cNvGrpSpPr/>
                <p:nvPr/>
              </p:nvGrpSpPr>
              <p:grpSpPr>
                <a:xfrm>
                  <a:off x="4699440" y="1716480"/>
                  <a:ext cx="343440" cy="388440"/>
                  <a:chOff x="4699440" y="1716480"/>
                  <a:chExt cx="343440" cy="388440"/>
                </a:xfrm>
              </p:grpSpPr>
              <p:sp>
                <p:nvSpPr>
                  <p:cNvPr id="155" name=""/>
                  <p:cNvSpPr/>
                  <p:nvPr/>
                </p:nvSpPr>
                <p:spPr>
                  <a:xfrm>
                    <a:off x="4699440" y="1910880"/>
                    <a:ext cx="343440" cy="19404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6" name=""/>
                  <p:cNvSpPr/>
                  <p:nvPr/>
                </p:nvSpPr>
                <p:spPr>
                  <a:xfrm flipV="1">
                    <a:off x="4699440" y="1716120"/>
                    <a:ext cx="343440" cy="19404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57" name=""/>
                <p:cNvGrpSpPr/>
                <p:nvPr/>
              </p:nvGrpSpPr>
              <p:grpSpPr>
                <a:xfrm>
                  <a:off x="4636800" y="1744920"/>
                  <a:ext cx="343440" cy="388440"/>
                  <a:chOff x="4636800" y="1744920"/>
                  <a:chExt cx="343440" cy="388440"/>
                </a:xfrm>
              </p:grpSpPr>
              <p:sp>
                <p:nvSpPr>
                  <p:cNvPr id="158" name=""/>
                  <p:cNvSpPr/>
                  <p:nvPr/>
                </p:nvSpPr>
                <p:spPr>
                  <a:xfrm>
                    <a:off x="4636800" y="1939320"/>
                    <a:ext cx="343440" cy="19404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9" name=""/>
                  <p:cNvSpPr/>
                  <p:nvPr/>
                </p:nvSpPr>
                <p:spPr>
                  <a:xfrm flipV="1">
                    <a:off x="4636800" y="1744560"/>
                    <a:ext cx="343440" cy="19404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160" name=""/>
            <p:cNvSpPr/>
            <p:nvPr/>
          </p:nvSpPr>
          <p:spPr>
            <a:xfrm>
              <a:off x="5084640" y="1604880"/>
              <a:ext cx="2808000" cy="70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Sous-société dédiée à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la connex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4425840" y="2598840"/>
            <a:ext cx="3727440" cy="759960"/>
            <a:chOff x="4425840" y="2598840"/>
            <a:chExt cx="3727440" cy="759960"/>
          </a:xfrm>
        </p:grpSpPr>
        <p:grpSp>
          <p:nvGrpSpPr>
            <p:cNvPr id="162" name=""/>
            <p:cNvGrpSpPr/>
            <p:nvPr/>
          </p:nvGrpSpPr>
          <p:grpSpPr>
            <a:xfrm>
              <a:off x="4425840" y="2598840"/>
              <a:ext cx="3178440" cy="725400"/>
              <a:chOff x="4425840" y="2598840"/>
              <a:chExt cx="3178440" cy="725400"/>
            </a:xfrm>
          </p:grpSpPr>
          <p:sp>
            <p:nvSpPr>
              <p:cNvPr id="163" name=""/>
              <p:cNvSpPr/>
              <p:nvPr/>
            </p:nvSpPr>
            <p:spPr>
              <a:xfrm>
                <a:off x="4425840" y="2598840"/>
                <a:ext cx="3178440" cy="72540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4" name=""/>
              <p:cNvGrpSpPr/>
              <p:nvPr/>
            </p:nvGrpSpPr>
            <p:grpSpPr>
              <a:xfrm>
                <a:off x="4643280" y="2710800"/>
                <a:ext cx="520560" cy="473400"/>
                <a:chOff x="4643280" y="2710800"/>
                <a:chExt cx="520560" cy="473400"/>
              </a:xfrm>
            </p:grpSpPr>
            <p:grpSp>
              <p:nvGrpSpPr>
                <p:cNvPr id="165" name=""/>
                <p:cNvGrpSpPr/>
                <p:nvPr/>
              </p:nvGrpSpPr>
              <p:grpSpPr>
                <a:xfrm>
                  <a:off x="4820400" y="2710800"/>
                  <a:ext cx="343440" cy="388440"/>
                  <a:chOff x="4820400" y="2710800"/>
                  <a:chExt cx="343440" cy="388440"/>
                </a:xfrm>
              </p:grpSpPr>
              <p:sp>
                <p:nvSpPr>
                  <p:cNvPr id="166" name=""/>
                  <p:cNvSpPr/>
                  <p:nvPr/>
                </p:nvSpPr>
                <p:spPr>
                  <a:xfrm>
                    <a:off x="4820400" y="2905200"/>
                    <a:ext cx="343440" cy="19404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7" name=""/>
                  <p:cNvSpPr/>
                  <p:nvPr/>
                </p:nvSpPr>
                <p:spPr>
                  <a:xfrm flipV="1">
                    <a:off x="4820400" y="2710440"/>
                    <a:ext cx="343440" cy="19404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68" name=""/>
                <p:cNvGrpSpPr/>
                <p:nvPr/>
              </p:nvGrpSpPr>
              <p:grpSpPr>
                <a:xfrm>
                  <a:off x="4757760" y="2739240"/>
                  <a:ext cx="343440" cy="388440"/>
                  <a:chOff x="4757760" y="2739240"/>
                  <a:chExt cx="343440" cy="388440"/>
                </a:xfrm>
              </p:grpSpPr>
              <p:sp>
                <p:nvSpPr>
                  <p:cNvPr id="169" name=""/>
                  <p:cNvSpPr/>
                  <p:nvPr/>
                </p:nvSpPr>
                <p:spPr>
                  <a:xfrm>
                    <a:off x="4757760" y="2933640"/>
                    <a:ext cx="343440" cy="19404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0" name=""/>
                  <p:cNvSpPr/>
                  <p:nvPr/>
                </p:nvSpPr>
                <p:spPr>
                  <a:xfrm flipV="1">
                    <a:off x="4757760" y="2738880"/>
                    <a:ext cx="343440" cy="19404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1" name=""/>
                <p:cNvGrpSpPr/>
                <p:nvPr/>
              </p:nvGrpSpPr>
              <p:grpSpPr>
                <a:xfrm>
                  <a:off x="4705920" y="2767320"/>
                  <a:ext cx="343440" cy="388440"/>
                  <a:chOff x="4705920" y="2767320"/>
                  <a:chExt cx="343440" cy="388440"/>
                </a:xfrm>
              </p:grpSpPr>
              <p:sp>
                <p:nvSpPr>
                  <p:cNvPr id="172" name=""/>
                  <p:cNvSpPr/>
                  <p:nvPr/>
                </p:nvSpPr>
                <p:spPr>
                  <a:xfrm>
                    <a:off x="4705920" y="2961720"/>
                    <a:ext cx="343440" cy="19404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3" name=""/>
                  <p:cNvSpPr/>
                  <p:nvPr/>
                </p:nvSpPr>
                <p:spPr>
                  <a:xfrm flipV="1">
                    <a:off x="4705920" y="2766960"/>
                    <a:ext cx="343440" cy="19404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4" name=""/>
                <p:cNvGrpSpPr/>
                <p:nvPr/>
              </p:nvGrpSpPr>
              <p:grpSpPr>
                <a:xfrm>
                  <a:off x="4643280" y="2795760"/>
                  <a:ext cx="343440" cy="388440"/>
                  <a:chOff x="4643280" y="2795760"/>
                  <a:chExt cx="343440" cy="388440"/>
                </a:xfrm>
              </p:grpSpPr>
              <p:sp>
                <p:nvSpPr>
                  <p:cNvPr id="175" name=""/>
                  <p:cNvSpPr/>
                  <p:nvPr/>
                </p:nvSpPr>
                <p:spPr>
                  <a:xfrm>
                    <a:off x="4643280" y="2990160"/>
                    <a:ext cx="343440" cy="19404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6" name=""/>
                  <p:cNvSpPr/>
                  <p:nvPr/>
                </p:nvSpPr>
                <p:spPr>
                  <a:xfrm flipV="1">
                    <a:off x="4643280" y="2795400"/>
                    <a:ext cx="343440" cy="19404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177" name=""/>
            <p:cNvSpPr/>
            <p:nvPr/>
          </p:nvSpPr>
          <p:spPr>
            <a:xfrm>
              <a:off x="5164200" y="2654280"/>
              <a:ext cx="2989080" cy="70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Sous-société dédié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ux utilisateu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4648320" y="1035000"/>
            <a:ext cx="2957040" cy="1658880"/>
            <a:chOff x="4648320" y="1035000"/>
            <a:chExt cx="2957040" cy="1658880"/>
          </a:xfrm>
        </p:grpSpPr>
        <p:sp>
          <p:nvSpPr>
            <p:cNvPr id="179" name=""/>
            <p:cNvSpPr/>
            <p:nvPr/>
          </p:nvSpPr>
          <p:spPr>
            <a:xfrm>
              <a:off x="4648320" y="1035000"/>
              <a:ext cx="738000" cy="614160"/>
            </a:xfrm>
            <a:prstGeom prst="line">
              <a:avLst/>
            </a:prstGeom>
            <a:ln w="28440">
              <a:solidFill>
                <a:srgbClr val="cc3300"/>
              </a:solidFill>
              <a:prstDash val="dash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6865560" y="1035000"/>
              <a:ext cx="739800" cy="614160"/>
            </a:xfrm>
            <a:prstGeom prst="line">
              <a:avLst/>
            </a:prstGeom>
            <a:ln w="28440">
              <a:solidFill>
                <a:srgbClr val="cc3300"/>
              </a:solidFill>
              <a:prstDash val="dash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781680" y="2133360"/>
              <a:ext cx="0" cy="560520"/>
            </a:xfrm>
            <a:prstGeom prst="line">
              <a:avLst/>
            </a:prstGeom>
            <a:ln w="28440">
              <a:solidFill>
                <a:srgbClr val="cc3300"/>
              </a:solidFill>
              <a:prstDash val="dash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2589120" y="4838400"/>
            <a:ext cx="2820960" cy="1562400"/>
            <a:chOff x="2589120" y="4838400"/>
            <a:chExt cx="2820960" cy="1562400"/>
          </a:xfrm>
        </p:grpSpPr>
        <p:sp>
          <p:nvSpPr>
            <p:cNvPr id="183" name=""/>
            <p:cNvSpPr/>
            <p:nvPr/>
          </p:nvSpPr>
          <p:spPr>
            <a:xfrm>
              <a:off x="2589120" y="5302080"/>
              <a:ext cx="2820960" cy="9939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4" name=""/>
            <p:cNvGrpSpPr/>
            <p:nvPr/>
          </p:nvGrpSpPr>
          <p:grpSpPr>
            <a:xfrm>
              <a:off x="4067280" y="5398560"/>
              <a:ext cx="177840" cy="260280"/>
              <a:chOff x="4067280" y="5398560"/>
              <a:chExt cx="177840" cy="260280"/>
            </a:xfrm>
          </p:grpSpPr>
          <p:sp>
            <p:nvSpPr>
              <p:cNvPr id="185" name=""/>
              <p:cNvSpPr/>
              <p:nvPr/>
            </p:nvSpPr>
            <p:spPr>
              <a:xfrm>
                <a:off x="4067280" y="5528880"/>
                <a:ext cx="177840" cy="129960"/>
              </a:xfrm>
              <a:prstGeom prst="triangle">
                <a:avLst>
                  <a:gd name="adj" fmla="val 50000"/>
                </a:avLst>
              </a:prstGeom>
              <a:solidFill>
                <a:srgbClr val="cc3300"/>
              </a:solidFill>
              <a:ln w="936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 flipV="1">
                <a:off x="4067280" y="5398200"/>
                <a:ext cx="177840" cy="129960"/>
              </a:xfrm>
              <a:prstGeom prst="triangle">
                <a:avLst>
                  <a:gd name="adj" fmla="val 50000"/>
                </a:avLst>
              </a:prstGeom>
              <a:solidFill>
                <a:srgbClr val="cc3300"/>
              </a:solidFill>
              <a:ln w="936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4560840" y="5398560"/>
              <a:ext cx="179280" cy="260280"/>
              <a:chOff x="4560840" y="5398560"/>
              <a:chExt cx="179280" cy="260280"/>
            </a:xfrm>
          </p:grpSpPr>
          <p:sp>
            <p:nvSpPr>
              <p:cNvPr id="188" name=""/>
              <p:cNvSpPr/>
              <p:nvPr/>
            </p:nvSpPr>
            <p:spPr>
              <a:xfrm>
                <a:off x="4560840" y="5528880"/>
                <a:ext cx="179280" cy="129960"/>
              </a:xfrm>
              <a:prstGeom prst="triangle">
                <a:avLst>
                  <a:gd name="adj" fmla="val 50000"/>
                </a:avLst>
              </a:prstGeom>
              <a:solidFill>
                <a:srgbClr val="cc3300"/>
              </a:solidFill>
              <a:ln w="936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 flipV="1">
                <a:off x="4560840" y="5398200"/>
                <a:ext cx="179280" cy="129960"/>
              </a:xfrm>
              <a:prstGeom prst="triangle">
                <a:avLst>
                  <a:gd name="adj" fmla="val 50000"/>
                </a:avLst>
              </a:prstGeom>
              <a:solidFill>
                <a:srgbClr val="cc3300"/>
              </a:solidFill>
              <a:ln w="936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0" name=""/>
            <p:cNvGrpSpPr/>
            <p:nvPr/>
          </p:nvGrpSpPr>
          <p:grpSpPr>
            <a:xfrm>
              <a:off x="4349880" y="5973480"/>
              <a:ext cx="177840" cy="260640"/>
              <a:chOff x="4349880" y="5973480"/>
              <a:chExt cx="177840" cy="260640"/>
            </a:xfrm>
          </p:grpSpPr>
          <p:sp>
            <p:nvSpPr>
              <p:cNvPr id="191" name=""/>
              <p:cNvSpPr/>
              <p:nvPr/>
            </p:nvSpPr>
            <p:spPr>
              <a:xfrm>
                <a:off x="4349880" y="6103800"/>
                <a:ext cx="177840" cy="13032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 flipV="1">
                <a:off x="4349880" y="5973480"/>
                <a:ext cx="177840" cy="13032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4632480" y="5973480"/>
              <a:ext cx="177480" cy="260640"/>
              <a:chOff x="4632480" y="5973480"/>
              <a:chExt cx="177480" cy="260640"/>
            </a:xfrm>
          </p:grpSpPr>
          <p:sp>
            <p:nvSpPr>
              <p:cNvPr id="194" name=""/>
              <p:cNvSpPr/>
              <p:nvPr/>
            </p:nvSpPr>
            <p:spPr>
              <a:xfrm>
                <a:off x="4632480" y="6103800"/>
                <a:ext cx="177480" cy="13032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 flipV="1">
                <a:off x="4632480" y="5973480"/>
                <a:ext cx="177480" cy="13032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6" name=""/>
            <p:cNvGrpSpPr/>
            <p:nvPr/>
          </p:nvGrpSpPr>
          <p:grpSpPr>
            <a:xfrm>
              <a:off x="4915080" y="5973480"/>
              <a:ext cx="179280" cy="260640"/>
              <a:chOff x="4915080" y="5973480"/>
              <a:chExt cx="179280" cy="260640"/>
            </a:xfrm>
          </p:grpSpPr>
          <p:sp>
            <p:nvSpPr>
              <p:cNvPr id="197" name=""/>
              <p:cNvSpPr/>
              <p:nvPr/>
            </p:nvSpPr>
            <p:spPr>
              <a:xfrm>
                <a:off x="4915080" y="6103800"/>
                <a:ext cx="179280" cy="13032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 flipV="1">
                <a:off x="4915080" y="5973480"/>
                <a:ext cx="179280" cy="13032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9" name=""/>
            <p:cNvGrpSpPr/>
            <p:nvPr/>
          </p:nvGrpSpPr>
          <p:grpSpPr>
            <a:xfrm>
              <a:off x="3784680" y="5973480"/>
              <a:ext cx="177840" cy="260640"/>
              <a:chOff x="3784680" y="5973480"/>
              <a:chExt cx="177840" cy="260640"/>
            </a:xfrm>
          </p:grpSpPr>
          <p:sp>
            <p:nvSpPr>
              <p:cNvPr id="200" name=""/>
              <p:cNvSpPr/>
              <p:nvPr/>
            </p:nvSpPr>
            <p:spPr>
              <a:xfrm>
                <a:off x="3784680" y="6103800"/>
                <a:ext cx="177840" cy="13032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 flipV="1">
                <a:off x="3784680" y="5973480"/>
                <a:ext cx="177840" cy="13032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2" name=""/>
            <p:cNvGrpSpPr/>
            <p:nvPr/>
          </p:nvGrpSpPr>
          <p:grpSpPr>
            <a:xfrm>
              <a:off x="4067280" y="5973480"/>
              <a:ext cx="177840" cy="260640"/>
              <a:chOff x="4067280" y="5973480"/>
              <a:chExt cx="177840" cy="260640"/>
            </a:xfrm>
          </p:grpSpPr>
          <p:sp>
            <p:nvSpPr>
              <p:cNvPr id="203" name=""/>
              <p:cNvSpPr/>
              <p:nvPr/>
            </p:nvSpPr>
            <p:spPr>
              <a:xfrm>
                <a:off x="4067280" y="6103800"/>
                <a:ext cx="177840" cy="13032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 flipV="1">
                <a:off x="4067280" y="5973480"/>
                <a:ext cx="177840" cy="13032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5" name=""/>
            <p:cNvSpPr/>
            <p:nvPr/>
          </p:nvSpPr>
          <p:spPr>
            <a:xfrm flipH="1">
              <a:off x="3925440" y="5684760"/>
              <a:ext cx="187560" cy="264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189320" y="5684760"/>
              <a:ext cx="797040" cy="26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589120" y="5327640"/>
              <a:ext cx="1219320" cy="41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edi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589120" y="5684760"/>
              <a:ext cx="1371600" cy="71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esource dedica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665440" y="4843440"/>
              <a:ext cx="1281240" cy="41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3300"/>
                  </a:solidFill>
                  <a:latin typeface="Times New Roman"/>
                </a:rPr>
                <a:t>Hiérarchi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589120" y="5756040"/>
              <a:ext cx="282096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935520" y="4838760"/>
              <a:ext cx="210960" cy="531720"/>
            </a:xfrm>
            <a:prstGeom prst="downArrow">
              <a:avLst>
                <a:gd name="adj1" fmla="val 50000"/>
                <a:gd name="adj2" fmla="val 63012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H="1" flipV="1">
              <a:off x="4145760" y="4838040"/>
              <a:ext cx="212760" cy="531720"/>
            </a:xfrm>
            <a:prstGeom prst="downArrow">
              <a:avLst>
                <a:gd name="adj1" fmla="val 50000"/>
                <a:gd name="adj2" fmla="val 6247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3" name=""/>
          <p:cNvSpPr/>
          <p:nvPr/>
        </p:nvSpPr>
        <p:spPr>
          <a:xfrm>
            <a:off x="2133720" y="342900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ôles et relations (avantages et inconvénients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4772160" y="4397040"/>
            <a:ext cx="2543040" cy="1469880"/>
            <a:chOff x="4772160" y="4397040"/>
            <a:chExt cx="2543040" cy="1469880"/>
          </a:xfrm>
        </p:grpSpPr>
        <p:sp>
          <p:nvSpPr>
            <p:cNvPr id="215" name=""/>
            <p:cNvSpPr/>
            <p:nvPr/>
          </p:nvSpPr>
          <p:spPr>
            <a:xfrm>
              <a:off x="4772160" y="4876560"/>
              <a:ext cx="2543040" cy="9903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6" name=""/>
            <p:cNvGrpSpPr/>
            <p:nvPr/>
          </p:nvGrpSpPr>
          <p:grpSpPr>
            <a:xfrm>
              <a:off x="5699160" y="4981320"/>
              <a:ext cx="216000" cy="282240"/>
              <a:chOff x="5699160" y="4981320"/>
              <a:chExt cx="216000" cy="282240"/>
            </a:xfrm>
          </p:grpSpPr>
          <p:sp>
            <p:nvSpPr>
              <p:cNvPr id="217" name=""/>
              <p:cNvSpPr/>
              <p:nvPr/>
            </p:nvSpPr>
            <p:spPr>
              <a:xfrm>
                <a:off x="5699160" y="5122440"/>
                <a:ext cx="216000" cy="14112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flipV="1">
                <a:off x="5699160" y="4981320"/>
                <a:ext cx="216000" cy="14112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9" name=""/>
            <p:cNvGrpSpPr/>
            <p:nvPr/>
          </p:nvGrpSpPr>
          <p:grpSpPr>
            <a:xfrm>
              <a:off x="5077080" y="4952880"/>
              <a:ext cx="215640" cy="283680"/>
              <a:chOff x="5077080" y="4952880"/>
              <a:chExt cx="215640" cy="283680"/>
            </a:xfrm>
          </p:grpSpPr>
          <p:sp>
            <p:nvSpPr>
              <p:cNvPr id="220" name=""/>
              <p:cNvSpPr/>
              <p:nvPr/>
            </p:nvSpPr>
            <p:spPr>
              <a:xfrm>
                <a:off x="5077080" y="5094720"/>
                <a:ext cx="215640" cy="1418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flipV="1">
                <a:off x="5077080" y="4952880"/>
                <a:ext cx="215640" cy="1418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2" name=""/>
            <p:cNvGrpSpPr/>
            <p:nvPr/>
          </p:nvGrpSpPr>
          <p:grpSpPr>
            <a:xfrm>
              <a:off x="6720120" y="5025960"/>
              <a:ext cx="214200" cy="283680"/>
              <a:chOff x="6720120" y="5025960"/>
              <a:chExt cx="214200" cy="283680"/>
            </a:xfrm>
          </p:grpSpPr>
          <p:sp>
            <p:nvSpPr>
              <p:cNvPr id="223" name=""/>
              <p:cNvSpPr/>
              <p:nvPr/>
            </p:nvSpPr>
            <p:spPr>
              <a:xfrm>
                <a:off x="6720120" y="5167800"/>
                <a:ext cx="214200" cy="1418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V="1">
                <a:off x="6720120" y="5025960"/>
                <a:ext cx="214200" cy="1418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5" name=""/>
            <p:cNvGrpSpPr/>
            <p:nvPr/>
          </p:nvGrpSpPr>
          <p:grpSpPr>
            <a:xfrm>
              <a:off x="5445360" y="5516280"/>
              <a:ext cx="214200" cy="282240"/>
              <a:chOff x="5445360" y="5516280"/>
              <a:chExt cx="214200" cy="282240"/>
            </a:xfrm>
          </p:grpSpPr>
          <p:sp>
            <p:nvSpPr>
              <p:cNvPr id="226" name=""/>
              <p:cNvSpPr/>
              <p:nvPr/>
            </p:nvSpPr>
            <p:spPr>
              <a:xfrm>
                <a:off x="5445360" y="5657400"/>
                <a:ext cx="214200" cy="14112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flipV="1">
                <a:off x="5445360" y="5516280"/>
                <a:ext cx="214200" cy="14112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8" name=""/>
            <p:cNvGrpSpPr/>
            <p:nvPr/>
          </p:nvGrpSpPr>
          <p:grpSpPr>
            <a:xfrm>
              <a:off x="6720120" y="5516280"/>
              <a:ext cx="214200" cy="282240"/>
              <a:chOff x="6720120" y="5516280"/>
              <a:chExt cx="214200" cy="282240"/>
            </a:xfrm>
          </p:grpSpPr>
          <p:sp>
            <p:nvSpPr>
              <p:cNvPr id="229" name=""/>
              <p:cNvSpPr/>
              <p:nvPr/>
            </p:nvSpPr>
            <p:spPr>
              <a:xfrm>
                <a:off x="6720120" y="5657400"/>
                <a:ext cx="214200" cy="14112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flipV="1">
                <a:off x="6720120" y="5516280"/>
                <a:ext cx="214200" cy="14112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1" name=""/>
            <p:cNvGrpSpPr/>
            <p:nvPr/>
          </p:nvGrpSpPr>
          <p:grpSpPr>
            <a:xfrm>
              <a:off x="4934160" y="5403600"/>
              <a:ext cx="215640" cy="283680"/>
              <a:chOff x="4934160" y="5403600"/>
              <a:chExt cx="215640" cy="283680"/>
            </a:xfrm>
          </p:grpSpPr>
          <p:sp>
            <p:nvSpPr>
              <p:cNvPr id="232" name=""/>
              <p:cNvSpPr/>
              <p:nvPr/>
            </p:nvSpPr>
            <p:spPr>
              <a:xfrm>
                <a:off x="4934160" y="5545440"/>
                <a:ext cx="215640" cy="1418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flipV="1">
                <a:off x="4934160" y="5403600"/>
                <a:ext cx="215640" cy="1418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6040440" y="5460840"/>
              <a:ext cx="214560" cy="282240"/>
              <a:chOff x="6040440" y="5460840"/>
              <a:chExt cx="214560" cy="282240"/>
            </a:xfrm>
          </p:grpSpPr>
          <p:sp>
            <p:nvSpPr>
              <p:cNvPr id="235" name=""/>
              <p:cNvSpPr/>
              <p:nvPr/>
            </p:nvSpPr>
            <p:spPr>
              <a:xfrm>
                <a:off x="6040440" y="5601960"/>
                <a:ext cx="214560" cy="14112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flipV="1">
                <a:off x="6040440" y="5460840"/>
                <a:ext cx="214560" cy="14112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7" name=""/>
            <p:cNvSpPr/>
            <p:nvPr/>
          </p:nvSpPr>
          <p:spPr>
            <a:xfrm>
              <a:off x="5077080" y="4419360"/>
              <a:ext cx="1955520" cy="105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3300"/>
                  </a:solidFill>
                  <a:latin typeface="Times New Roman"/>
                </a:rPr>
                <a:t>Egal à Eg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553440" y="4397400"/>
              <a:ext cx="255600" cy="593640"/>
            </a:xfrm>
            <a:prstGeom prst="downArrow">
              <a:avLst>
                <a:gd name="adj1" fmla="val 50000"/>
                <a:gd name="adj2" fmla="val 58063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 flipH="1" flipV="1">
              <a:off x="6809040" y="4396680"/>
              <a:ext cx="255600" cy="593640"/>
            </a:xfrm>
            <a:prstGeom prst="downArrow">
              <a:avLst>
                <a:gd name="adj1" fmla="val 50000"/>
                <a:gd name="adj2" fmla="val 58063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229360" y="5105160"/>
              <a:ext cx="377640" cy="3132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865840" y="5195520"/>
              <a:ext cx="992160" cy="4968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flipH="1" flipV="1">
              <a:off x="5841720" y="5101920"/>
              <a:ext cx="939960" cy="568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flipH="1" flipV="1">
              <a:off x="5183280" y="5301720"/>
              <a:ext cx="176400" cy="1630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flipV="1">
              <a:off x="5572080" y="5643360"/>
              <a:ext cx="363600" cy="108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783400" y="5302080"/>
              <a:ext cx="152280" cy="26964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077080" y="5562360"/>
              <a:ext cx="317520" cy="10296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6524640" y="3886200"/>
            <a:ext cx="2543040" cy="1447920"/>
            <a:chOff x="6524640" y="3886200"/>
            <a:chExt cx="2543040" cy="1447920"/>
          </a:xfrm>
        </p:grpSpPr>
        <p:sp>
          <p:nvSpPr>
            <p:cNvPr id="248" name=""/>
            <p:cNvSpPr/>
            <p:nvPr/>
          </p:nvSpPr>
          <p:spPr>
            <a:xfrm>
              <a:off x="6524640" y="4343400"/>
              <a:ext cx="2543040" cy="9907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9" name=""/>
            <p:cNvGrpSpPr/>
            <p:nvPr/>
          </p:nvGrpSpPr>
          <p:grpSpPr>
            <a:xfrm>
              <a:off x="7451640" y="4448160"/>
              <a:ext cx="216000" cy="282240"/>
              <a:chOff x="7451640" y="4448160"/>
              <a:chExt cx="216000" cy="282240"/>
            </a:xfrm>
          </p:grpSpPr>
          <p:sp>
            <p:nvSpPr>
              <p:cNvPr id="250" name=""/>
              <p:cNvSpPr/>
              <p:nvPr/>
            </p:nvSpPr>
            <p:spPr>
              <a:xfrm>
                <a:off x="7451640" y="4589280"/>
                <a:ext cx="216000" cy="14112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flipV="1">
                <a:off x="7451640" y="4448160"/>
                <a:ext cx="216000" cy="14112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2" name=""/>
            <p:cNvGrpSpPr/>
            <p:nvPr/>
          </p:nvGrpSpPr>
          <p:grpSpPr>
            <a:xfrm>
              <a:off x="6829560" y="4419720"/>
              <a:ext cx="215640" cy="283680"/>
              <a:chOff x="6829560" y="4419720"/>
              <a:chExt cx="215640" cy="283680"/>
            </a:xfrm>
          </p:grpSpPr>
          <p:sp>
            <p:nvSpPr>
              <p:cNvPr id="253" name=""/>
              <p:cNvSpPr/>
              <p:nvPr/>
            </p:nvSpPr>
            <p:spPr>
              <a:xfrm>
                <a:off x="6829560" y="4561560"/>
                <a:ext cx="215640" cy="1418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flipV="1">
                <a:off x="6829560" y="4419720"/>
                <a:ext cx="215640" cy="1418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5" name=""/>
            <p:cNvGrpSpPr/>
            <p:nvPr/>
          </p:nvGrpSpPr>
          <p:grpSpPr>
            <a:xfrm>
              <a:off x="8472600" y="4492800"/>
              <a:ext cx="214200" cy="283680"/>
              <a:chOff x="8472600" y="4492800"/>
              <a:chExt cx="214200" cy="283680"/>
            </a:xfrm>
          </p:grpSpPr>
          <p:sp>
            <p:nvSpPr>
              <p:cNvPr id="256" name=""/>
              <p:cNvSpPr/>
              <p:nvPr/>
            </p:nvSpPr>
            <p:spPr>
              <a:xfrm>
                <a:off x="8472600" y="4634640"/>
                <a:ext cx="214200" cy="1418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flipV="1">
                <a:off x="8472600" y="4492800"/>
                <a:ext cx="214200" cy="1418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8" name=""/>
            <p:cNvGrpSpPr/>
            <p:nvPr/>
          </p:nvGrpSpPr>
          <p:grpSpPr>
            <a:xfrm>
              <a:off x="7197840" y="4983120"/>
              <a:ext cx="214200" cy="282240"/>
              <a:chOff x="7197840" y="4983120"/>
              <a:chExt cx="214200" cy="282240"/>
            </a:xfrm>
          </p:grpSpPr>
          <p:sp>
            <p:nvSpPr>
              <p:cNvPr id="259" name=""/>
              <p:cNvSpPr/>
              <p:nvPr/>
            </p:nvSpPr>
            <p:spPr>
              <a:xfrm>
                <a:off x="7197840" y="5124240"/>
                <a:ext cx="214200" cy="14112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flipV="1">
                <a:off x="7197840" y="4983120"/>
                <a:ext cx="214200" cy="14112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1" name=""/>
            <p:cNvGrpSpPr/>
            <p:nvPr/>
          </p:nvGrpSpPr>
          <p:grpSpPr>
            <a:xfrm>
              <a:off x="8472600" y="4983120"/>
              <a:ext cx="214200" cy="282240"/>
              <a:chOff x="8472600" y="4983120"/>
              <a:chExt cx="214200" cy="282240"/>
            </a:xfrm>
          </p:grpSpPr>
          <p:sp>
            <p:nvSpPr>
              <p:cNvPr id="262" name=""/>
              <p:cNvSpPr/>
              <p:nvPr/>
            </p:nvSpPr>
            <p:spPr>
              <a:xfrm>
                <a:off x="8472600" y="5124240"/>
                <a:ext cx="214200" cy="14112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flipV="1">
                <a:off x="8472600" y="4983120"/>
                <a:ext cx="214200" cy="14112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4" name=""/>
            <p:cNvGrpSpPr/>
            <p:nvPr/>
          </p:nvGrpSpPr>
          <p:grpSpPr>
            <a:xfrm>
              <a:off x="6686640" y="4870080"/>
              <a:ext cx="216000" cy="284760"/>
              <a:chOff x="6686640" y="4870080"/>
              <a:chExt cx="216000" cy="284760"/>
            </a:xfrm>
          </p:grpSpPr>
          <p:sp>
            <p:nvSpPr>
              <p:cNvPr id="265" name=""/>
              <p:cNvSpPr/>
              <p:nvPr/>
            </p:nvSpPr>
            <p:spPr>
              <a:xfrm>
                <a:off x="6686640" y="5012640"/>
                <a:ext cx="216000" cy="14220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flipV="1">
                <a:off x="6686640" y="4869720"/>
                <a:ext cx="216000" cy="14220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7" name=""/>
            <p:cNvGrpSpPr/>
            <p:nvPr/>
          </p:nvGrpSpPr>
          <p:grpSpPr>
            <a:xfrm>
              <a:off x="7792920" y="4927680"/>
              <a:ext cx="214560" cy="282240"/>
              <a:chOff x="7792920" y="4927680"/>
              <a:chExt cx="214560" cy="282240"/>
            </a:xfrm>
          </p:grpSpPr>
          <p:sp>
            <p:nvSpPr>
              <p:cNvPr id="268" name=""/>
              <p:cNvSpPr/>
              <p:nvPr/>
            </p:nvSpPr>
            <p:spPr>
              <a:xfrm>
                <a:off x="7792920" y="5068800"/>
                <a:ext cx="214560" cy="14112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flipV="1">
                <a:off x="7792920" y="4927680"/>
                <a:ext cx="214560" cy="14112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0" name=""/>
            <p:cNvSpPr/>
            <p:nvPr/>
          </p:nvSpPr>
          <p:spPr>
            <a:xfrm>
              <a:off x="6829560" y="3886200"/>
              <a:ext cx="1955520" cy="105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3300"/>
                  </a:solidFill>
                  <a:latin typeface="Times New Roman"/>
                </a:rPr>
                <a:t>Répl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8305920" y="3902040"/>
              <a:ext cx="255600" cy="555840"/>
            </a:xfrm>
            <a:prstGeom prst="downArrow">
              <a:avLst>
                <a:gd name="adj1" fmla="val 50000"/>
                <a:gd name="adj2" fmla="val 5436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H="1" flipV="1">
              <a:off x="8561520" y="3902040"/>
              <a:ext cx="255600" cy="555840"/>
            </a:xfrm>
            <a:prstGeom prst="downArrow">
              <a:avLst>
                <a:gd name="adj1" fmla="val 50000"/>
                <a:gd name="adj2" fmla="val 5436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3200" y="990720"/>
            <a:ext cx="3429000" cy="1465560"/>
            <a:chOff x="2743200" y="990720"/>
            <a:chExt cx="3429000" cy="1465560"/>
          </a:xfrm>
        </p:grpSpPr>
        <p:sp>
          <p:nvSpPr>
            <p:cNvPr id="274" name=""/>
            <p:cNvSpPr/>
            <p:nvPr/>
          </p:nvSpPr>
          <p:spPr>
            <a:xfrm flipV="1">
              <a:off x="3479760" y="990720"/>
              <a:ext cx="2692440" cy="761760"/>
            </a:xfrm>
            <a:prstGeom prst="line">
              <a:avLst/>
            </a:prstGeom>
            <a:ln w="28440">
              <a:solidFill>
                <a:srgbClr val="00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H="1" flipV="1">
              <a:off x="2743200" y="990720"/>
              <a:ext cx="736560" cy="761760"/>
            </a:xfrm>
            <a:prstGeom prst="line">
              <a:avLst/>
            </a:prstGeom>
            <a:ln w="28440">
              <a:solidFill>
                <a:srgbClr val="00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6" name=""/>
            <p:cNvGrpSpPr/>
            <p:nvPr/>
          </p:nvGrpSpPr>
          <p:grpSpPr>
            <a:xfrm>
              <a:off x="3124080" y="1523880"/>
              <a:ext cx="606600" cy="611640"/>
              <a:chOff x="3124080" y="1523880"/>
              <a:chExt cx="606600" cy="611640"/>
            </a:xfrm>
          </p:grpSpPr>
          <p:sp>
            <p:nvSpPr>
              <p:cNvPr id="277" name=""/>
              <p:cNvSpPr/>
              <p:nvPr/>
            </p:nvSpPr>
            <p:spPr>
              <a:xfrm>
                <a:off x="3425760" y="1523880"/>
                <a:ext cx="304920" cy="456840"/>
              </a:xfrm>
              <a:prstGeom prst="can">
                <a:avLst>
                  <a:gd name="adj" fmla="val 25000"/>
                </a:avLst>
              </a:prstGeom>
              <a:solidFill>
                <a:srgbClr val="cc3300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3124080" y="1612440"/>
                <a:ext cx="533520" cy="523080"/>
                <a:chOff x="3124080" y="1612440"/>
                <a:chExt cx="533520" cy="523080"/>
              </a:xfrm>
            </p:grpSpPr>
            <p:grpSp>
              <p:nvGrpSpPr>
                <p:cNvPr id="279" name=""/>
                <p:cNvGrpSpPr/>
                <p:nvPr/>
              </p:nvGrpSpPr>
              <p:grpSpPr>
                <a:xfrm>
                  <a:off x="3429000" y="1891800"/>
                  <a:ext cx="228600" cy="243720"/>
                  <a:chOff x="3429000" y="1891800"/>
                  <a:chExt cx="228600" cy="243720"/>
                </a:xfrm>
              </p:grpSpPr>
              <p:sp>
                <p:nvSpPr>
                  <p:cNvPr id="280" name=""/>
                  <p:cNvSpPr/>
                  <p:nvPr/>
                </p:nvSpPr>
                <p:spPr>
                  <a:xfrm>
                    <a:off x="3429000" y="1891800"/>
                    <a:ext cx="228600" cy="243720"/>
                  </a:xfrm>
                  <a:custGeom>
                    <a:avLst/>
                    <a:gdLst>
                      <a:gd name="textAreaLeft" fmla="*/ 60840 w 228600"/>
                      <a:gd name="textAreaRight" fmla="*/ 167760 w 228600"/>
                      <a:gd name="textAreaTop" fmla="*/ 64800 h 243720"/>
                      <a:gd name="textAreaBottom" fmla="*/ 178920 h 2437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10800"/>
                        </a:moveTo>
                        <a:lnTo>
                          <a:pt x="3791" y="12162"/>
                        </a:lnTo>
                        <a:lnTo>
                          <a:pt x="786" y="14846"/>
                        </a:lnTo>
                        <a:lnTo>
                          <a:pt x="4812" y="14689"/>
                        </a:lnTo>
                        <a:lnTo>
                          <a:pt x="3163" y="18437"/>
                        </a:lnTo>
                        <a:lnTo>
                          <a:pt x="6807" y="16719"/>
                        </a:lnTo>
                        <a:lnTo>
                          <a:pt x="6580" y="20741"/>
                        </a:lnTo>
                        <a:lnTo>
                          <a:pt x="9316" y="17784"/>
                        </a:lnTo>
                        <a:lnTo>
                          <a:pt x="10800" y="21600"/>
                        </a:lnTo>
                        <a:lnTo>
                          <a:pt x="12162" y="17809"/>
                        </a:lnTo>
                        <a:lnTo>
                          <a:pt x="14846" y="20814"/>
                        </a:lnTo>
                        <a:lnTo>
                          <a:pt x="14689" y="16788"/>
                        </a:lnTo>
                        <a:lnTo>
                          <a:pt x="18437" y="18437"/>
                        </a:lnTo>
                        <a:lnTo>
                          <a:pt x="16719" y="14793"/>
                        </a:lnTo>
                        <a:lnTo>
                          <a:pt x="20741" y="15020"/>
                        </a:lnTo>
                        <a:lnTo>
                          <a:pt x="17784" y="12284"/>
                        </a:lnTo>
                        <a:lnTo>
                          <a:pt x="21600" y="10800"/>
                        </a:lnTo>
                        <a:lnTo>
                          <a:pt x="17809" y="9438"/>
                        </a:lnTo>
                        <a:lnTo>
                          <a:pt x="20814" y="6754"/>
                        </a:lnTo>
                        <a:lnTo>
                          <a:pt x="16788" y="6911"/>
                        </a:lnTo>
                        <a:lnTo>
                          <a:pt x="18437" y="3163"/>
                        </a:lnTo>
                        <a:lnTo>
                          <a:pt x="14793" y="4881"/>
                        </a:lnTo>
                        <a:lnTo>
                          <a:pt x="15020" y="859"/>
                        </a:lnTo>
                        <a:lnTo>
                          <a:pt x="12284" y="3816"/>
                        </a:lnTo>
                        <a:lnTo>
                          <a:pt x="10800" y="0"/>
                        </a:lnTo>
                        <a:lnTo>
                          <a:pt x="9438" y="3791"/>
                        </a:lnTo>
                        <a:lnTo>
                          <a:pt x="6754" y="786"/>
                        </a:lnTo>
                        <a:lnTo>
                          <a:pt x="6911" y="4812"/>
                        </a:lnTo>
                        <a:lnTo>
                          <a:pt x="3163" y="3163"/>
                        </a:lnTo>
                        <a:lnTo>
                          <a:pt x="4881" y="6807"/>
                        </a:lnTo>
                        <a:lnTo>
                          <a:pt x="859" y="6580"/>
                        </a:lnTo>
                        <a:lnTo>
                          <a:pt x="3816" y="9316"/>
                        </a:lnTo>
                        <a:lnTo>
                          <a:pt x="0" y="10800"/>
                        </a:lnTo>
                        <a:close/>
                      </a:path>
                    </a:pathLst>
                  </a:custGeom>
                  <a:solidFill>
                    <a:srgbClr val="003366"/>
                  </a:solidFill>
                  <a:ln w="9360">
                    <a:solidFill>
                      <a:srgbClr val="000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1" name=""/>
                  <p:cNvSpPr/>
                  <p:nvPr/>
                </p:nvSpPr>
                <p:spPr>
                  <a:xfrm>
                    <a:off x="3520440" y="1990800"/>
                    <a:ext cx="45720" cy="457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4040" bIns="-14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82" name=""/>
                <p:cNvGrpSpPr/>
                <p:nvPr/>
              </p:nvGrpSpPr>
              <p:grpSpPr>
                <a:xfrm>
                  <a:off x="3124080" y="1612440"/>
                  <a:ext cx="398880" cy="411480"/>
                  <a:chOff x="3124080" y="1612440"/>
                  <a:chExt cx="398880" cy="411480"/>
                </a:xfrm>
              </p:grpSpPr>
              <p:sp>
                <p:nvSpPr>
                  <p:cNvPr id="283" name=""/>
                  <p:cNvSpPr/>
                  <p:nvPr/>
                </p:nvSpPr>
                <p:spPr>
                  <a:xfrm>
                    <a:off x="3124080" y="1612440"/>
                    <a:ext cx="398880" cy="411480"/>
                  </a:xfrm>
                  <a:custGeom>
                    <a:avLst/>
                    <a:gdLst>
                      <a:gd name="textAreaLeft" fmla="*/ 91080 w 398880"/>
                      <a:gd name="textAreaRight" fmla="*/ 307800 w 398880"/>
                      <a:gd name="textAreaTop" fmla="*/ 93960 h 411480"/>
                      <a:gd name="textAreaBottom" fmla="*/ 317520 h 4114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10800"/>
                        </a:moveTo>
                        <a:lnTo>
                          <a:pt x="2562" y="11812"/>
                        </a:lnTo>
                        <a:lnTo>
                          <a:pt x="368" y="13595"/>
                        </a:lnTo>
                        <a:lnTo>
                          <a:pt x="3104" y="13909"/>
                        </a:lnTo>
                        <a:lnTo>
                          <a:pt x="1447" y="16200"/>
                        </a:lnTo>
                        <a:lnTo>
                          <a:pt x="4171" y="15795"/>
                        </a:lnTo>
                        <a:lnTo>
                          <a:pt x="3163" y="18437"/>
                        </a:lnTo>
                        <a:lnTo>
                          <a:pt x="5690" y="17340"/>
                        </a:lnTo>
                        <a:lnTo>
                          <a:pt x="5400" y="20153"/>
                        </a:lnTo>
                        <a:lnTo>
                          <a:pt x="7557" y="18440"/>
                        </a:lnTo>
                        <a:lnTo>
                          <a:pt x="8005" y="21232"/>
                        </a:lnTo>
                        <a:lnTo>
                          <a:pt x="9645" y="19019"/>
                        </a:lnTo>
                        <a:lnTo>
                          <a:pt x="10800" y="21600"/>
                        </a:lnTo>
                        <a:lnTo>
                          <a:pt x="11812" y="19038"/>
                        </a:lnTo>
                        <a:lnTo>
                          <a:pt x="13595" y="21232"/>
                        </a:lnTo>
                        <a:lnTo>
                          <a:pt x="13909" y="18496"/>
                        </a:lnTo>
                        <a:lnTo>
                          <a:pt x="16200" y="20153"/>
                        </a:lnTo>
                        <a:lnTo>
                          <a:pt x="15795" y="17429"/>
                        </a:lnTo>
                        <a:lnTo>
                          <a:pt x="18437" y="18437"/>
                        </a:lnTo>
                        <a:lnTo>
                          <a:pt x="17340" y="15910"/>
                        </a:lnTo>
                        <a:lnTo>
                          <a:pt x="20153" y="16200"/>
                        </a:lnTo>
                        <a:lnTo>
                          <a:pt x="18440" y="14043"/>
                        </a:lnTo>
                        <a:lnTo>
                          <a:pt x="21232" y="13595"/>
                        </a:lnTo>
                        <a:lnTo>
                          <a:pt x="19019" y="11955"/>
                        </a:lnTo>
                        <a:lnTo>
                          <a:pt x="21600" y="10800"/>
                        </a:lnTo>
                        <a:lnTo>
                          <a:pt x="19038" y="9788"/>
                        </a:lnTo>
                        <a:lnTo>
                          <a:pt x="21232" y="8005"/>
                        </a:lnTo>
                        <a:lnTo>
                          <a:pt x="18496" y="7691"/>
                        </a:lnTo>
                        <a:lnTo>
                          <a:pt x="20153" y="5400"/>
                        </a:lnTo>
                        <a:lnTo>
                          <a:pt x="17429" y="5805"/>
                        </a:lnTo>
                        <a:lnTo>
                          <a:pt x="18437" y="3163"/>
                        </a:lnTo>
                        <a:lnTo>
                          <a:pt x="15910" y="4260"/>
                        </a:lnTo>
                        <a:lnTo>
                          <a:pt x="16200" y="1447"/>
                        </a:lnTo>
                        <a:lnTo>
                          <a:pt x="14043" y="3160"/>
                        </a:lnTo>
                        <a:lnTo>
                          <a:pt x="13595" y="368"/>
                        </a:lnTo>
                        <a:lnTo>
                          <a:pt x="11955" y="2581"/>
                        </a:lnTo>
                        <a:lnTo>
                          <a:pt x="10800" y="0"/>
                        </a:lnTo>
                        <a:lnTo>
                          <a:pt x="9788" y="2562"/>
                        </a:lnTo>
                        <a:lnTo>
                          <a:pt x="8005" y="368"/>
                        </a:lnTo>
                        <a:lnTo>
                          <a:pt x="7691" y="3104"/>
                        </a:lnTo>
                        <a:lnTo>
                          <a:pt x="5400" y="1447"/>
                        </a:lnTo>
                        <a:lnTo>
                          <a:pt x="5805" y="4171"/>
                        </a:lnTo>
                        <a:lnTo>
                          <a:pt x="3163" y="3163"/>
                        </a:lnTo>
                        <a:lnTo>
                          <a:pt x="4260" y="5690"/>
                        </a:lnTo>
                        <a:lnTo>
                          <a:pt x="1447" y="5400"/>
                        </a:lnTo>
                        <a:lnTo>
                          <a:pt x="3160" y="7557"/>
                        </a:lnTo>
                        <a:lnTo>
                          <a:pt x="368" y="8005"/>
                        </a:lnTo>
                        <a:lnTo>
                          <a:pt x="2581" y="9645"/>
                        </a:lnTo>
                        <a:lnTo>
                          <a:pt x="0" y="10800"/>
                        </a:lnTo>
                        <a:close/>
                      </a:path>
                    </a:pathLst>
                  </a:custGeom>
                  <a:solidFill>
                    <a:srgbClr val="003366"/>
                  </a:solidFill>
                  <a:ln w="9360">
                    <a:solidFill>
                      <a:srgbClr val="000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4" name=""/>
                  <p:cNvSpPr/>
                  <p:nvPr/>
                </p:nvSpPr>
                <p:spPr>
                  <a:xfrm>
                    <a:off x="3292920" y="1787760"/>
                    <a:ext cx="60840" cy="608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40" bIns="-3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85" name=""/>
            <p:cNvSpPr/>
            <p:nvPr/>
          </p:nvSpPr>
          <p:spPr>
            <a:xfrm>
              <a:off x="2821320" y="2057400"/>
              <a:ext cx="1255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3300"/>
                  </a:solidFill>
                  <a:latin typeface="Arial"/>
                </a:rPr>
                <a:t>CORES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6" name=""/>
          <p:cNvSpPr/>
          <p:nvPr/>
        </p:nvSpPr>
        <p:spPr>
          <a:xfrm>
            <a:off x="0" y="76320"/>
            <a:ext cx="1905120" cy="678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000000"/>
                </a:solidFill>
                <a:uFillTx/>
                <a:latin typeface="Arial"/>
              </a:rPr>
              <a:t>PLA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ontex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Appro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XML/RD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cc3300"/>
                </a:solidFill>
                <a:latin typeface="Arial"/>
              </a:rPr>
              <a:t>Société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Protoco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Adaptation &amp; communauté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Recueil et analy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Modélis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0000"/>
                </a:solidFill>
                <a:latin typeface="Arial"/>
              </a:rPr>
              <a:t>Représentatio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é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D6A26B-8B1C-4E67-AB34-80FA13ED455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2286000" y="6477120"/>
            <a:ext cx="6858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lution technique: Interactions entre agen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2133360" y="-360"/>
            <a:ext cx="70102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tocoles &amp; Interactions (Université de Parme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2"/>
          <a:srcRect l="-553" t="-974" r="-553" b="-974"/>
          <a:stretch/>
        </p:blipFill>
        <p:spPr>
          <a:xfrm>
            <a:off x="2286000" y="1295280"/>
            <a:ext cx="6858000" cy="457200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/>
          <p:nvPr/>
        </p:nvSpPr>
        <p:spPr>
          <a:xfrm>
            <a:off x="0" y="76320"/>
            <a:ext cx="1905120" cy="678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000000"/>
                </a:solidFill>
                <a:uFillTx/>
                <a:latin typeface="Arial"/>
              </a:rPr>
              <a:t>PLA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ontex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Appro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XML/RD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Société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cc3300"/>
                </a:solidFill>
                <a:latin typeface="Arial"/>
              </a:rPr>
              <a:t>Protoco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Adaptation &amp; communauté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Recueil et analy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Modélis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0000"/>
                </a:solidFill>
                <a:latin typeface="Arial"/>
              </a:rPr>
              <a:t>Représentatio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é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4EEBB6-03B9-4DAF-B164-05EE7A10FFA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2286000" y="6477120"/>
            <a:ext cx="6858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lution technique: Apprentissage &amp; Communauté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2133360" y="0"/>
            <a:ext cx="701028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Profils utilisateurs &amp; Profils group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Techniques d'apprentissag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SzPct val="80000"/>
              <a:buFont typeface="Webding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Apprentissage au vo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SzPct val="80000"/>
              <a:buFont typeface="Webding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Apprentissage différé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SzPct val="80000"/>
              <a:buFont typeface="Webding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Raisonnement à partir de c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Communautés d'intérê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SzPct val="80000"/>
              <a:buFont typeface="Webding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Groupes d'intérêts publics (push new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SzPct val="80000"/>
              <a:buFont typeface="Webding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Groupes émergents ('bouche à oreille'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 u="sng">
                <a:solidFill>
                  <a:srgbClr val="cc3300"/>
                </a:solidFill>
                <a:uFillTx/>
                <a:latin typeface="Arial"/>
              </a:rPr>
              <a:t>Leitmotiv</a:t>
            </a:r>
            <a:r>
              <a:rPr b="0" lang="fr-FR" sz="2600" spc="-1" strike="noStrike">
                <a:solidFill>
                  <a:srgbClr val="cc3300"/>
                </a:solidFill>
                <a:latin typeface="Arial"/>
              </a:rPr>
              <a:t>: Représenter, apprendre et comparer les profils d'utilisation actuels afin d'améliorer la qualité de l'utilisation futur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WEKA, XSLT..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000" spc="-1" strike="noStrike" u="sng">
                <a:solidFill>
                  <a:srgbClr val="cc3300"/>
                </a:solidFill>
                <a:uFillTx/>
                <a:latin typeface="Arial"/>
              </a:rPr>
              <a:t>Modélisation des connaissan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0" y="76320"/>
            <a:ext cx="1905120" cy="678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000000"/>
                </a:solidFill>
                <a:uFillTx/>
                <a:latin typeface="Arial"/>
              </a:rPr>
              <a:t>PLA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ontex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Appro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XML/RD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Société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Protoco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cc3300"/>
                </a:solidFill>
                <a:latin typeface="Arial"/>
              </a:rPr>
              <a:t>Adaptation &amp; communauté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Recueil et analy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Modélis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0000"/>
                </a:solidFill>
                <a:latin typeface="Arial"/>
              </a:rPr>
              <a:t>Représentatio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é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8AE62D-DF13-4489-B3BA-06EF49F8359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2286000" y="6477120"/>
            <a:ext cx="6858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génierie des connaissances : Scénario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2133360" y="-76680"/>
            <a:ext cx="70102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echniques de recueil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SzPct val="80000"/>
              <a:buFont typeface="Webding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énari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2362320" y="990720"/>
            <a:ext cx="6629400" cy="5181480"/>
            <a:chOff x="2362320" y="990720"/>
            <a:chExt cx="6629400" cy="5181480"/>
          </a:xfrm>
        </p:grpSpPr>
        <p:sp>
          <p:nvSpPr>
            <p:cNvPr id="297" name=""/>
            <p:cNvSpPr/>
            <p:nvPr/>
          </p:nvSpPr>
          <p:spPr>
            <a:xfrm>
              <a:off x="2362320" y="990720"/>
              <a:ext cx="6629400" cy="518148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98" name="" descr=""/>
            <p:cNvPicPr/>
            <p:nvPr/>
          </p:nvPicPr>
          <p:blipFill>
            <a:blip r:embed="rId2"/>
            <a:stretch/>
          </p:blipFill>
          <p:spPr>
            <a:xfrm>
              <a:off x="2371680" y="1011240"/>
              <a:ext cx="6620040" cy="4094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99" name=""/>
          <p:cNvGrpSpPr/>
          <p:nvPr/>
        </p:nvGrpSpPr>
        <p:grpSpPr>
          <a:xfrm>
            <a:off x="2743200" y="1019160"/>
            <a:ext cx="6238800" cy="4774680"/>
            <a:chOff x="2743200" y="1019160"/>
            <a:chExt cx="6238800" cy="4774680"/>
          </a:xfrm>
        </p:grpSpPr>
        <p:sp>
          <p:nvSpPr>
            <p:cNvPr id="300" name=""/>
            <p:cNvSpPr/>
            <p:nvPr/>
          </p:nvSpPr>
          <p:spPr>
            <a:xfrm>
              <a:off x="2743200" y="1019160"/>
              <a:ext cx="2133720" cy="190440"/>
            </a:xfrm>
            <a:prstGeom prst="rect">
              <a:avLst/>
            </a:prstGeom>
            <a:noFill/>
            <a:ln w="1908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743200" y="1809720"/>
              <a:ext cx="1447920" cy="228600"/>
            </a:xfrm>
            <a:prstGeom prst="rect">
              <a:avLst/>
            </a:prstGeom>
            <a:noFill/>
            <a:ln w="1908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286080" y="4191120"/>
              <a:ext cx="1133640" cy="228600"/>
            </a:xfrm>
            <a:prstGeom prst="rect">
              <a:avLst/>
            </a:prstGeom>
            <a:noFill/>
            <a:ln w="1908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743200" y="5334120"/>
              <a:ext cx="304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cc3300"/>
                  </a:solidFill>
                  <a:latin typeface="Times New Roman"/>
                </a:rPr>
                <a:t>Document très riche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4" name=""/>
            <p:cNvGrpSpPr/>
            <p:nvPr/>
          </p:nvGrpSpPr>
          <p:grpSpPr>
            <a:xfrm>
              <a:off x="3124080" y="1352520"/>
              <a:ext cx="5857920" cy="3390840"/>
              <a:chOff x="3124080" y="1352520"/>
              <a:chExt cx="5857920" cy="3390840"/>
            </a:xfrm>
          </p:grpSpPr>
          <p:sp>
            <p:nvSpPr>
              <p:cNvPr id="305" name=""/>
              <p:cNvSpPr/>
              <p:nvPr/>
            </p:nvSpPr>
            <p:spPr>
              <a:xfrm>
                <a:off x="7629120" y="1352520"/>
                <a:ext cx="1295640" cy="0"/>
              </a:xfrm>
              <a:prstGeom prst="line">
                <a:avLst/>
              </a:prstGeom>
              <a:ln w="1908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3124080" y="3180960"/>
                <a:ext cx="2743200" cy="0"/>
              </a:xfrm>
              <a:prstGeom prst="line">
                <a:avLst/>
              </a:prstGeom>
              <a:ln w="1908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800760" y="4381200"/>
                <a:ext cx="990360" cy="0"/>
              </a:xfrm>
              <a:prstGeom prst="line">
                <a:avLst/>
              </a:prstGeom>
              <a:ln w="1908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7696080" y="3762000"/>
                <a:ext cx="761760" cy="0"/>
              </a:xfrm>
              <a:prstGeom prst="line">
                <a:avLst/>
              </a:prstGeom>
              <a:ln w="1908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6476760" y="3762000"/>
                <a:ext cx="914400" cy="0"/>
              </a:xfrm>
              <a:prstGeom prst="line">
                <a:avLst/>
              </a:prstGeom>
              <a:ln w="1908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4724280" y="4743360"/>
                <a:ext cx="1371600" cy="0"/>
              </a:xfrm>
              <a:prstGeom prst="line">
                <a:avLst/>
              </a:prstGeom>
              <a:ln w="1908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391160" y="3524040"/>
                <a:ext cx="1447920" cy="0"/>
              </a:xfrm>
              <a:prstGeom prst="line">
                <a:avLst/>
              </a:prstGeom>
              <a:ln w="1908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7762680" y="4562280"/>
                <a:ext cx="1219320" cy="0"/>
              </a:xfrm>
              <a:prstGeom prst="line">
                <a:avLst/>
              </a:prstGeom>
              <a:ln w="1908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3" name=""/>
            <p:cNvSpPr/>
            <p:nvPr/>
          </p:nvSpPr>
          <p:spPr>
            <a:xfrm>
              <a:off x="3733920" y="4905360"/>
              <a:ext cx="761760" cy="228600"/>
            </a:xfrm>
            <a:prstGeom prst="rect">
              <a:avLst/>
            </a:prstGeom>
            <a:noFill/>
            <a:ln w="1908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4" name=""/>
          <p:cNvSpPr/>
          <p:nvPr/>
        </p:nvSpPr>
        <p:spPr>
          <a:xfrm>
            <a:off x="0" y="76320"/>
            <a:ext cx="1905120" cy="678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000000"/>
                </a:solidFill>
                <a:uFillTx/>
                <a:latin typeface="Arial"/>
              </a:rPr>
              <a:t>PLA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ontex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Appro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XML/RD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Société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Protoco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Adaptation &amp; communauté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cc3300"/>
                </a:solidFill>
                <a:latin typeface="Arial"/>
              </a:rPr>
              <a:t>Recueil et analy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Modélis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0000"/>
                </a:solidFill>
                <a:latin typeface="Arial"/>
              </a:rPr>
              <a:t>Représentatio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é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E9496A-34C1-4290-9578-1F4F9D30E84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4T19:07:16Z</dcterms:created>
  <dc:creator>fgandon</dc:creator>
  <dc:description/>
  <dc:language>en-US</dc:language>
  <cp:lastModifiedBy>fgandon</cp:lastModifiedBy>
  <dcterms:modified xsi:type="dcterms:W3CDTF">2000-11-27T07:58:36Z</dcterms:modified>
  <cp:revision>46</cp:revision>
  <dc:subject/>
  <dc:title>Séminaire Systèmes Distribués et Connaissances</dc:title>
</cp:coreProperties>
</file>