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6.wmf" ContentType="image/x-wmf"/>
  <Override PartName="/ppt/media/image5.wmf" ContentType="image/x-wmf"/>
  <Override PartName="/ppt/media/image56.wmf" ContentType="image/x-wmf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29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62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25.png" ContentType="image/png"/>
  <Override PartName="/ppt/media/image11.png" ContentType="image/png"/>
  <Override PartName="/ppt/media/image6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12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34.wmf" ContentType="image/x-wmf"/>
  <Override PartName="/ppt/media/image35.png" ContentType="image/png"/>
  <Override PartName="/ppt/media/image36.png" ContentType="image/png"/>
  <Override PartName="/ppt/media/image38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D56-A601-4DAB-BF26-4747D868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FFC-3F6A-45B9-A383-535D9063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317-BE75-48EC-B8A4-9554037C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CC2-A04A-43C7-96CF-67A19E33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EA9-D584-4D90-9191-A1EEBCF7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9D1-68F9-4016-BA8A-7749C37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F8C-143B-4C4F-8D87-35360202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291-633F-4747-8CE9-1460097C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211-18A6-4769-8338-77D92CC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54-B4E5-4E60-A54A-1793CC9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11-CBE8-4445-8352-E387DEE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22F-4CE4-44FF-B4DB-E0E6F54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ner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-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42884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809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&lt;date/time&gt;</a:t>
            </a: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 </a:t>
            </a:r>
            <a:fld id="{14A02D6A-2FD8-4ADE-8ED1-08982A5BAB4F}" type="datetime11"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05:45:1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36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-12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092-B2E5-4274-8AC4-6B387C02DDE3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rner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61718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001000" cy="8384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sophia" descr=""/>
          <p:cNvPicPr/>
          <p:nvPr/>
        </p:nvPicPr>
        <p:blipFill>
          <a:blip r:embed="rId3"/>
          <a:stretch/>
        </p:blipFill>
        <p:spPr>
          <a:xfrm>
            <a:off x="7924680" y="25092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23840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6192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  <a:tab algn="l" pos="7924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png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5.png"/><Relationship Id="rId13" Type="http://schemas.openxmlformats.org/officeDocument/2006/relationships/image" Target="../media/image46.wmf"/><Relationship Id="rId14" Type="http://schemas.openxmlformats.org/officeDocument/2006/relationships/image" Target="../media/image47.png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5.png"/><Relationship Id="rId31" Type="http://schemas.openxmlformats.org/officeDocument/2006/relationships/image" Target="../media/image17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5.png"/><Relationship Id="rId37" Type="http://schemas.openxmlformats.org/officeDocument/2006/relationships/image" Target="../media/image19.png"/><Relationship Id="rId38" Type="http://schemas.openxmlformats.org/officeDocument/2006/relationships/image" Target="../media/image20.png"/><Relationship Id="rId39" Type="http://schemas.openxmlformats.org/officeDocument/2006/relationships/image" Target="../media/image22.png"/><Relationship Id="rId40" Type="http://schemas.openxmlformats.org/officeDocument/2006/relationships/image" Target="../media/image26.png"/><Relationship Id="rId41" Type="http://schemas.openxmlformats.org/officeDocument/2006/relationships/image" Target="../media/image27.png"/><Relationship Id="rId42" Type="http://schemas.openxmlformats.org/officeDocument/2006/relationships/image" Target="../media/image21.png"/><Relationship Id="rId43" Type="http://schemas.openxmlformats.org/officeDocument/2006/relationships/image" Target="../media/image28.png"/><Relationship Id="rId44" Type="http://schemas.openxmlformats.org/officeDocument/2006/relationships/image" Target="../media/image29.png"/><Relationship Id="rId45" Type="http://schemas.openxmlformats.org/officeDocument/2006/relationships/image" Target="../media/image30.png"/><Relationship Id="rId4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5.png"/><Relationship Id="rId31" Type="http://schemas.openxmlformats.org/officeDocument/2006/relationships/image" Target="../media/image17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5.png"/><Relationship Id="rId37" Type="http://schemas.openxmlformats.org/officeDocument/2006/relationships/image" Target="../media/image19.png"/><Relationship Id="rId38" Type="http://schemas.openxmlformats.org/officeDocument/2006/relationships/image" Target="../media/image20.png"/><Relationship Id="rId39" Type="http://schemas.openxmlformats.org/officeDocument/2006/relationships/image" Target="../media/image22.png"/><Relationship Id="rId40" Type="http://schemas.openxmlformats.org/officeDocument/2006/relationships/image" Target="../media/image26.png"/><Relationship Id="rId41" Type="http://schemas.openxmlformats.org/officeDocument/2006/relationships/image" Target="../media/image27.png"/><Relationship Id="rId42" Type="http://schemas.openxmlformats.org/officeDocument/2006/relationships/image" Target="../media/image21.png"/><Relationship Id="rId43" Type="http://schemas.openxmlformats.org/officeDocument/2006/relationships/image" Target="../media/image28.png"/><Relationship Id="rId44" Type="http://schemas.openxmlformats.org/officeDocument/2006/relationships/image" Target="../media/image29.png"/><Relationship Id="rId45" Type="http://schemas.openxmlformats.org/officeDocument/2006/relationships/image" Target="../media/image30.png"/><Relationship Id="rId4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66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5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5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5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5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2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1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31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5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2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1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5.png"/><Relationship Id="rId31" Type="http://schemas.openxmlformats.org/officeDocument/2006/relationships/image" Target="../media/image17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5.png"/><Relationship Id="rId37" Type="http://schemas.openxmlformats.org/officeDocument/2006/relationships/image" Target="../media/image19.png"/><Relationship Id="rId38" Type="http://schemas.openxmlformats.org/officeDocument/2006/relationships/image" Target="../media/image20.png"/><Relationship Id="rId39" Type="http://schemas.openxmlformats.org/officeDocument/2006/relationships/image" Target="../media/image22.png"/><Relationship Id="rId40" Type="http://schemas.openxmlformats.org/officeDocument/2006/relationships/image" Target="../media/image26.png"/><Relationship Id="rId41" Type="http://schemas.openxmlformats.org/officeDocument/2006/relationships/image" Target="../media/image27.png"/><Relationship Id="rId42" Type="http://schemas.openxmlformats.org/officeDocument/2006/relationships/image" Target="../media/image21.png"/><Relationship Id="rId43" Type="http://schemas.openxmlformats.org/officeDocument/2006/relationships/image" Target="../media/image28.png"/><Relationship Id="rId44" Type="http://schemas.openxmlformats.org/officeDocument/2006/relationships/image" Target="../media/image29.png"/><Relationship Id="rId45" Type="http://schemas.openxmlformats.org/officeDocument/2006/relationships/image" Target="../media/image30.png"/><Relationship Id="rId4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5.png"/><Relationship Id="rId31" Type="http://schemas.openxmlformats.org/officeDocument/2006/relationships/image" Target="../media/image17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5.png"/><Relationship Id="rId37" Type="http://schemas.openxmlformats.org/officeDocument/2006/relationships/image" Target="../media/image19.png"/><Relationship Id="rId38" Type="http://schemas.openxmlformats.org/officeDocument/2006/relationships/image" Target="../media/image20.png"/><Relationship Id="rId39" Type="http://schemas.openxmlformats.org/officeDocument/2006/relationships/image" Target="../media/image22.png"/><Relationship Id="rId40" Type="http://schemas.openxmlformats.org/officeDocument/2006/relationships/image" Target="../media/image26.png"/><Relationship Id="rId41" Type="http://schemas.openxmlformats.org/officeDocument/2006/relationships/image" Target="../media/image27.png"/><Relationship Id="rId42" Type="http://schemas.openxmlformats.org/officeDocument/2006/relationships/image" Target="../media/image21.png"/><Relationship Id="rId43" Type="http://schemas.openxmlformats.org/officeDocument/2006/relationships/image" Target="../media/image28.png"/><Relationship Id="rId44" Type="http://schemas.openxmlformats.org/officeDocument/2006/relationships/image" Target="../media/image29.png"/><Relationship Id="rId45" Type="http://schemas.openxmlformats.org/officeDocument/2006/relationships/image" Target="../media/image30.png"/><Relationship Id="rId4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inner" descr=""/>
          <p:cNvPicPr/>
          <p:nvPr/>
        </p:nvPicPr>
        <p:blipFill>
          <a:blip r:embed="rId1"/>
          <a:stretch/>
        </p:blipFill>
        <p:spPr>
          <a:xfrm>
            <a:off x="1981080" y="3463920"/>
            <a:ext cx="5029200" cy="161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 - INRIA - ACACIA Team - KMSS 2002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800" spc="-1" strike="noStrike">
                <a:solidFill>
                  <a:srgbClr val="000066"/>
                </a:solidFill>
                <a:latin typeface="Arial"/>
              </a:rPr>
              <a:t>CoMMA in a Nutshell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9560" y="3124080"/>
            <a:ext cx="6945120" cy="2362320"/>
          </a:xfrm>
          <a:prstGeom prst="ellipse">
            <a:avLst/>
          </a:prstGeom>
          <a:noFill/>
          <a:ln w="52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1811160" cy="601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898800" y="4952880"/>
            <a:ext cx="1390320" cy="1371240"/>
            <a:chOff x="3898800" y="4952880"/>
            <a:chExt cx="1390320" cy="1371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98800" y="495288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898800" y="495288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074000" y="3657600"/>
            <a:ext cx="161280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80880" y="4616280"/>
            <a:ext cx="1524240" cy="946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447920" y="2832120"/>
            <a:ext cx="1752120" cy="990360"/>
            <a:chOff x="1447920" y="2832120"/>
            <a:chExt cx="1752120" cy="99036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1447920" y="2832120"/>
              <a:ext cx="17521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447920" y="2832120"/>
              <a:ext cx="175212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248520" y="4952880"/>
            <a:ext cx="175248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8120" y="3124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utshell" descr=""/>
          <p:cNvPicPr/>
          <p:nvPr/>
        </p:nvPicPr>
        <p:blipFill>
          <a:blip r:embed="rId10"/>
          <a:stretch/>
        </p:blipFill>
        <p:spPr>
          <a:xfrm>
            <a:off x="1828800" y="1447920"/>
            <a:ext cx="3808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llustration of the cyc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04920" y="1422360"/>
            <a:ext cx="2514600" cy="4998600"/>
            <a:chOff x="304920" y="1422360"/>
            <a:chExt cx="2514600" cy="4998600"/>
          </a:xfrm>
        </p:grpSpPr>
        <p:sp>
          <p:nvSpPr>
            <p:cNvPr id="699" name=""/>
            <p:cNvSpPr/>
            <p:nvPr/>
          </p:nvSpPr>
          <p:spPr>
            <a:xfrm>
              <a:off x="304920" y="1422360"/>
              <a:ext cx="2514600" cy="4495680"/>
            </a:xfrm>
            <a:prstGeom prst="rect">
              <a:avLst/>
            </a:pr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" y="6146640"/>
              <a:ext cx="190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- Re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330120" y="1815840"/>
              <a:ext cx="2438280" cy="519840"/>
              <a:chOff x="330120" y="1815840"/>
              <a:chExt cx="2438280" cy="519840"/>
            </a:xfrm>
          </p:grpSpPr>
          <p:sp>
            <p:nvSpPr>
              <p:cNvPr id="702" name=""/>
              <p:cNvSpPr/>
              <p:nvPr/>
            </p:nvSpPr>
            <p:spPr>
              <a:xfrm>
                <a:off x="2158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87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4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0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15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44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731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7017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930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3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091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204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490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777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06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234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1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39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682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968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25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854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082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8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7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0159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2445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473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01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30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7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36560" y="1714320"/>
              <a:ext cx="1511280" cy="45684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457200" y="2412720"/>
              <a:ext cx="1980720" cy="685080"/>
              <a:chOff x="457200" y="2412720"/>
              <a:chExt cx="1980720" cy="685080"/>
            </a:xfrm>
          </p:grpSpPr>
          <p:sp>
            <p:nvSpPr>
              <p:cNvPr id="736" name=""/>
              <p:cNvSpPr/>
              <p:nvPr/>
            </p:nvSpPr>
            <p:spPr>
              <a:xfrm>
                <a:off x="457200" y="2412720"/>
                <a:ext cx="1980720" cy="68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4800" y="255924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65080" y="255924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621800" y="255924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22680" y="260820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13560" y="260820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8084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13040" y="260820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4668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3840" y="260820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3840" y="2755080"/>
                <a:ext cx="173880" cy="97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3840" y="290232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8" name="" descr=""/>
            <p:cNvPicPr/>
            <p:nvPr/>
          </p:nvPicPr>
          <p:blipFill>
            <a:blip r:embed="rId1"/>
            <a:stretch/>
          </p:blipFill>
          <p:spPr>
            <a:xfrm>
              <a:off x="914400" y="4782960"/>
              <a:ext cx="1752480" cy="1058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49" name="" descr=""/>
            <p:cNvPicPr/>
            <p:nvPr/>
          </p:nvPicPr>
          <p:blipFill>
            <a:blip r:embed="rId2"/>
            <a:stretch/>
          </p:blipFill>
          <p:spPr>
            <a:xfrm>
              <a:off x="609480" y="3325680"/>
              <a:ext cx="2057400" cy="1220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50" name=""/>
            <p:cNvSpPr/>
            <p:nvPr/>
          </p:nvSpPr>
          <p:spPr>
            <a:xfrm>
              <a:off x="457200" y="5968800"/>
              <a:ext cx="2133720" cy="22824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33520" y="4089240"/>
              <a:ext cx="1218960" cy="794520"/>
              <a:chOff x="533520" y="4089240"/>
              <a:chExt cx="1218960" cy="794520"/>
            </a:xfrm>
          </p:grpSpPr>
          <p:sp>
            <p:nvSpPr>
              <p:cNvPr id="752" name=""/>
              <p:cNvSpPr/>
              <p:nvPr/>
            </p:nvSpPr>
            <p:spPr>
              <a:xfrm>
                <a:off x="939600" y="408924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3504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9376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9036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47560" y="472500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352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888840" y="424800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8580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114264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93760" y="424800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44756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Ontology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: explicit partial account of concepts used in the corporate memory management scenarios and their relation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781360" y="1397160"/>
            <a:ext cx="3124080" cy="5054400"/>
            <a:chOff x="2781360" y="1397160"/>
            <a:chExt cx="3124080" cy="5054400"/>
          </a:xfrm>
        </p:grpSpPr>
        <p:sp>
          <p:nvSpPr>
            <p:cNvPr id="765" name=""/>
            <p:cNvSpPr/>
            <p:nvPr/>
          </p:nvSpPr>
          <p:spPr>
            <a:xfrm>
              <a:off x="2819520" y="1422360"/>
              <a:ext cx="2971800" cy="4496040"/>
            </a:xfrm>
            <a:prstGeom prst="rect">
              <a:avLst/>
            </a:pr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81360" y="1397160"/>
              <a:ext cx="312408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38560" y="615168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- 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19520" y="596916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715000" y="1422360"/>
            <a:ext cx="2973240" cy="5130360"/>
            <a:chOff x="5715000" y="1422360"/>
            <a:chExt cx="2973240" cy="5130360"/>
          </a:xfrm>
        </p:grpSpPr>
        <p:sp>
          <p:nvSpPr>
            <p:cNvPr id="770" name=""/>
            <p:cNvSpPr/>
            <p:nvPr/>
          </p:nvSpPr>
          <p:spPr>
            <a:xfrm>
              <a:off x="5791320" y="1422360"/>
              <a:ext cx="2895480" cy="4495680"/>
            </a:xfrm>
            <a:prstGeom prst="rect">
              <a:avLst/>
            </a:pr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67280" y="1422360"/>
              <a:ext cx="281952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15000" y="6222600"/>
              <a:ext cx="2973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 - Situation &amp; Anno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67280" y="5968800"/>
              <a:ext cx="2667240" cy="228240"/>
            </a:xfrm>
            <a:custGeom>
              <a:avLst/>
              <a:gdLst>
                <a:gd name="textAreaLeft" fmla="*/ 416520 w 2667240"/>
                <a:gd name="textAreaRight" fmla="*/ 2403000 w 266724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C2A-9800-4D04-8483-B7D9DDCEC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esting aspects of XML &amp; RDF(S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240" y="34308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XML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ring structure to the memory to improve search and manipulation of documents using an emerging standard in indust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If the corporate memory becomes an annotated world, software can use the semantics of these annotations an through inferences help the users exploit the corporate memo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086600" y="3733920"/>
            <a:ext cx="1981080" cy="1981080"/>
            <a:chOff x="7086600" y="3733920"/>
            <a:chExt cx="1981080" cy="1981080"/>
          </a:xfrm>
        </p:grpSpPr>
        <p:sp>
          <p:nvSpPr>
            <p:cNvPr id="777" name=""/>
            <p:cNvSpPr/>
            <p:nvPr/>
          </p:nvSpPr>
          <p:spPr>
            <a:xfrm>
              <a:off x="7086600" y="373392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6904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7232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7232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904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27720" y="385740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32800" y="38574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632800" y="5238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27720" y="523872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69040" y="4595760"/>
              <a:ext cx="333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08840" y="52830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12080" y="3906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653320" y="4595760"/>
              <a:ext cx="3380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577000">
              <a:off x="7651800" y="4316040"/>
              <a:ext cx="823680" cy="8614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861480"/>
                <a:gd name="textAreaBottom" fmla="*/ 86184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86600" y="4422600"/>
              <a:ext cx="1981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0760" y="3048120"/>
            <a:ext cx="9093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rporate semantic web: (annotated info worl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ption the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Profiles (annotate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ation model (annotate grou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notations in RDF describing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cument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manipulation at semantic lev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nnotated persons &amp; organizational entities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context awar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B2A-5B00-424B-9CA7-AD5A8EFE64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482760" y="5773680"/>
            <a:ext cx="7791120" cy="322200"/>
            <a:chOff x="482760" y="5773680"/>
            <a:chExt cx="7791120" cy="322200"/>
          </a:xfrm>
        </p:grpSpPr>
        <p:sp>
          <p:nvSpPr>
            <p:cNvPr id="794" name=""/>
            <p:cNvSpPr/>
            <p:nvPr/>
          </p:nvSpPr>
          <p:spPr>
            <a:xfrm>
              <a:off x="482760" y="5773680"/>
              <a:ext cx="779112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98720" y="5773680"/>
              <a:ext cx="301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Use &amp; Us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82760" y="3335400"/>
            <a:ext cx="3862080" cy="2592360"/>
            <a:chOff x="482760" y="3335400"/>
            <a:chExt cx="3862080" cy="2592360"/>
          </a:xfrm>
        </p:grpSpPr>
        <p:grpSp>
          <p:nvGrpSpPr>
            <p:cNvPr id="797" name=""/>
            <p:cNvGrpSpPr/>
            <p:nvPr/>
          </p:nvGrpSpPr>
          <p:grpSpPr>
            <a:xfrm>
              <a:off x="482760" y="3335400"/>
              <a:ext cx="3862080" cy="2278080"/>
              <a:chOff x="482760" y="3335400"/>
              <a:chExt cx="3862080" cy="2278080"/>
            </a:xfrm>
          </p:grpSpPr>
          <p:sp>
            <p:nvSpPr>
              <p:cNvPr id="798" name=""/>
              <p:cNvSpPr/>
              <p:nvPr/>
            </p:nvSpPr>
            <p:spPr>
              <a:xfrm>
                <a:off x="482760" y="3335400"/>
                <a:ext cx="3862080" cy="20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920520" y="5374080"/>
                <a:ext cx="30175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1) Scenarios and Data coll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rot="16200000">
              <a:off x="267840" y="5442120"/>
              <a:ext cx="768240" cy="20268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2680"/>
                <a:gd name="textAreaBottom" fmla="*/ 15192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Building the O'CoMMA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100160" y="3429000"/>
            <a:ext cx="3249000" cy="1228680"/>
            <a:chOff x="1100160" y="3429000"/>
            <a:chExt cx="3249000" cy="1228680"/>
          </a:xfrm>
        </p:grpSpPr>
        <p:sp>
          <p:nvSpPr>
            <p:cNvPr id="803" name=""/>
            <p:cNvSpPr/>
            <p:nvPr/>
          </p:nvSpPr>
          <p:spPr>
            <a:xfrm>
              <a:off x="1303200" y="4181400"/>
              <a:ext cx="1270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00160" y="4300560"/>
              <a:ext cx="339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71600" y="4479840"/>
              <a:ext cx="2973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5400000">
              <a:off x="3699000" y="3747240"/>
              <a:ext cx="96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7" name="" descr=""/>
            <p:cNvPicPr/>
            <p:nvPr/>
          </p:nvPicPr>
          <p:blipFill>
            <a:blip r:embed="rId1"/>
            <a:stretch/>
          </p:blipFill>
          <p:spPr>
            <a:xfrm>
              <a:off x="1396800" y="3438360"/>
              <a:ext cx="990720" cy="598680"/>
            </a:xfrm>
            <a:prstGeom prst="rect">
              <a:avLst/>
            </a:prstGeom>
            <a:ln w="12600">
              <a:solidFill>
                <a:srgbClr val="b2b2b2"/>
              </a:solidFill>
              <a:miter/>
            </a:ln>
          </p:spPr>
        </p:pic>
        <p:grpSp>
          <p:nvGrpSpPr>
            <p:cNvPr id="808" name=""/>
            <p:cNvGrpSpPr/>
            <p:nvPr/>
          </p:nvGrpSpPr>
          <p:grpSpPr>
            <a:xfrm>
              <a:off x="1820880" y="3772080"/>
              <a:ext cx="718920" cy="494640"/>
              <a:chOff x="1820880" y="3772080"/>
              <a:chExt cx="718920" cy="494640"/>
            </a:xfrm>
          </p:grpSpPr>
          <p:sp>
            <p:nvSpPr>
              <p:cNvPr id="809" name=""/>
              <p:cNvSpPr/>
              <p:nvPr/>
            </p:nvSpPr>
            <p:spPr>
              <a:xfrm>
                <a:off x="1820880" y="3779640"/>
                <a:ext cx="160200" cy="50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30320" y="3772080"/>
                <a:ext cx="593640" cy="73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820880" y="3830040"/>
                <a:ext cx="91800" cy="436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3863880"/>
                <a:ext cx="618840" cy="397440"/>
              </a:xfrm>
              <a:prstGeom prst="rect">
                <a:avLst/>
              </a:prstGeom>
              <a:ln w="12600">
                <a:solidFill>
                  <a:srgbClr val="b2b2b2"/>
                </a:solidFill>
                <a:miter/>
              </a:ln>
            </p:spPr>
          </p:pic>
        </p:grpSp>
        <p:grpSp>
          <p:nvGrpSpPr>
            <p:cNvPr id="813" name=""/>
            <p:cNvGrpSpPr/>
            <p:nvPr/>
          </p:nvGrpSpPr>
          <p:grpSpPr>
            <a:xfrm>
              <a:off x="2538360" y="3440160"/>
              <a:ext cx="744480" cy="984240"/>
              <a:chOff x="2538360" y="3440160"/>
              <a:chExt cx="744480" cy="984240"/>
            </a:xfrm>
          </p:grpSpPr>
          <p:sp>
            <p:nvSpPr>
              <p:cNvPr id="814" name=""/>
              <p:cNvSpPr/>
              <p:nvPr/>
            </p:nvSpPr>
            <p:spPr>
              <a:xfrm>
                <a:off x="2538360" y="4184640"/>
                <a:ext cx="7444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terview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2614680" y="3440160"/>
                <a:ext cx="591840" cy="785520"/>
                <a:chOff x="2614680" y="3440160"/>
                <a:chExt cx="591840" cy="7855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2614680" y="3440160"/>
                  <a:ext cx="591840" cy="785520"/>
                </a:xfrm>
                <a:prstGeom prst="foldedCorner">
                  <a:avLst>
                    <a:gd name="adj" fmla="val 5273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33760" y="3476520"/>
                  <a:ext cx="5443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8" name=""/>
                <p:cNvGrpSpPr/>
                <p:nvPr/>
              </p:nvGrpSpPr>
              <p:grpSpPr>
                <a:xfrm>
                  <a:off x="2654280" y="3943080"/>
                  <a:ext cx="517320" cy="27000"/>
                  <a:chOff x="2654280" y="3943080"/>
                  <a:chExt cx="517320" cy="2700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2829600" y="3943080"/>
                    <a:ext cx="3420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654280" y="3970080"/>
                    <a:ext cx="2124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2654280" y="3695760"/>
                  <a:ext cx="517320" cy="31680"/>
                  <a:chOff x="2654280" y="3695760"/>
                  <a:chExt cx="517320" cy="3168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2838960" y="369576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153240" y="3695760"/>
                    <a:ext cx="1836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654280" y="3727440"/>
                    <a:ext cx="24012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2654280" y="3571920"/>
                  <a:ext cx="517320" cy="554040"/>
                  <a:chOff x="2654280" y="3571920"/>
                  <a:chExt cx="517320" cy="5540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3120840" y="3571920"/>
                    <a:ext cx="460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654280" y="3599640"/>
                    <a:ext cx="249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033000" y="3599640"/>
                    <a:ext cx="1292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654280" y="3631320"/>
                    <a:ext cx="644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896920" y="3787920"/>
                    <a:ext cx="2678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657520" y="3817080"/>
                    <a:ext cx="1108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715480" y="384768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866680" y="4034520"/>
                    <a:ext cx="3049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660040" y="4063680"/>
                    <a:ext cx="5083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663280" y="409428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828520" y="412596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37" name=""/>
            <p:cNvGrpSpPr/>
            <p:nvPr/>
          </p:nvGrpSpPr>
          <p:grpSpPr>
            <a:xfrm>
              <a:off x="3235320" y="3429000"/>
              <a:ext cx="828720" cy="987480"/>
              <a:chOff x="3235320" y="3429000"/>
              <a:chExt cx="828720" cy="987480"/>
            </a:xfrm>
          </p:grpSpPr>
          <p:sp>
            <p:nvSpPr>
              <p:cNvPr id="838" name=""/>
              <p:cNvSpPr/>
              <p:nvPr/>
            </p:nvSpPr>
            <p:spPr>
              <a:xfrm>
                <a:off x="3235320" y="4176720"/>
                <a:ext cx="8287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ocu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55840" y="3429000"/>
                <a:ext cx="773280" cy="8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40" name=""/>
          <p:cNvGrpSpPr/>
          <p:nvPr/>
        </p:nvGrpSpPr>
        <p:grpSpPr>
          <a:xfrm>
            <a:off x="1303200" y="4495680"/>
            <a:ext cx="3022200" cy="847800"/>
            <a:chOff x="1303200" y="4495680"/>
            <a:chExt cx="3022200" cy="847800"/>
          </a:xfrm>
        </p:grpSpPr>
        <p:sp>
          <p:nvSpPr>
            <p:cNvPr id="841" name=""/>
            <p:cNvSpPr/>
            <p:nvPr/>
          </p:nvSpPr>
          <p:spPr>
            <a:xfrm>
              <a:off x="1303200" y="5062680"/>
              <a:ext cx="11527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1303200" y="4730400"/>
              <a:ext cx="1152720" cy="357480"/>
              <a:chOff x="1303200" y="4730400"/>
              <a:chExt cx="1152720" cy="357480"/>
            </a:xfrm>
          </p:grpSpPr>
          <p:sp>
            <p:nvSpPr>
              <p:cNvPr id="843" name=""/>
              <p:cNvSpPr/>
              <p:nvPr/>
            </p:nvSpPr>
            <p:spPr>
              <a:xfrm>
                <a:off x="1438560" y="47307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03200" y="48376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74280" y="48376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1370880" y="476640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506600" y="476640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30320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70880" y="487332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47276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7616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1540440" y="487332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41960" y="487332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30320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47276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67616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70520" y="4980600"/>
                <a:ext cx="1695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40440" y="49806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40440" y="4980600"/>
                <a:ext cx="2034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"/>
              <p:cNvGrpSpPr/>
              <p:nvPr/>
            </p:nvGrpSpPr>
            <p:grpSpPr>
              <a:xfrm>
                <a:off x="2049120" y="4730760"/>
                <a:ext cx="271080" cy="35640"/>
                <a:chOff x="2049120" y="4730760"/>
                <a:chExt cx="271080" cy="356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2049120" y="473076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250720" y="473076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18600" y="474840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142000" y="473076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1879560" y="4873320"/>
                <a:ext cx="271080" cy="35640"/>
                <a:chOff x="1879560" y="4873320"/>
                <a:chExt cx="271080" cy="356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187956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08116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949040" y="48909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972440" y="48733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2184840" y="4873320"/>
                <a:ext cx="271080" cy="35640"/>
                <a:chOff x="2184840" y="4873320"/>
                <a:chExt cx="271080" cy="35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218484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8644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254320" y="48909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277720" y="48733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879560" y="5016600"/>
                <a:ext cx="271080" cy="35640"/>
                <a:chOff x="1879560" y="5016600"/>
                <a:chExt cx="271080" cy="356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187956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08116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949040" y="503424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972440" y="501660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184840" y="5016600"/>
                <a:ext cx="271080" cy="35640"/>
                <a:chOff x="2184840" y="5016600"/>
                <a:chExt cx="271080" cy="3564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218484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38644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254320" y="503424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277720" y="501660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2184840" y="4766400"/>
                <a:ext cx="1353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2014560" y="4766400"/>
                <a:ext cx="1695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2014560" y="4909320"/>
                <a:ext cx="30492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320200" y="49093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879560" y="473076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6160 h 321480"/>
                  <a:gd name="textAreaBottom" fmla="*/ 23328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1710000" y="473004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5800 h 321480"/>
                  <a:gd name="textAreaBottom" fmla="*/ 23292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 rot="5400000">
              <a:off x="3770640" y="4788720"/>
              <a:ext cx="8478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590560" y="4648320"/>
              <a:ext cx="677880" cy="647280"/>
              <a:chOff x="2590560" y="4648320"/>
              <a:chExt cx="677880" cy="64728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2930400" y="4648320"/>
                <a:ext cx="295200" cy="331560"/>
                <a:chOff x="2930400" y="4648320"/>
                <a:chExt cx="295200" cy="33156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2930400" y="4648320"/>
                  <a:ext cx="295200" cy="331560"/>
                  <a:chOff x="2930400" y="4648320"/>
                  <a:chExt cx="295200" cy="33156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2930400" y="4648320"/>
                    <a:ext cx="2952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0" h="2249">
                        <a:moveTo>
                          <a:pt x="22" y="2249"/>
                        </a:moveTo>
                        <a:lnTo>
                          <a:pt x="18" y="2247"/>
                        </a:lnTo>
                        <a:lnTo>
                          <a:pt x="15" y="2245"/>
                        </a:lnTo>
                        <a:lnTo>
                          <a:pt x="13" y="2243"/>
                        </a:lnTo>
                        <a:lnTo>
                          <a:pt x="10" y="2242"/>
                        </a:lnTo>
                        <a:lnTo>
                          <a:pt x="15" y="2195"/>
                        </a:lnTo>
                        <a:lnTo>
                          <a:pt x="27" y="2150"/>
                        </a:lnTo>
                        <a:lnTo>
                          <a:pt x="39" y="2105"/>
                        </a:lnTo>
                        <a:lnTo>
                          <a:pt x="44" y="2062"/>
                        </a:lnTo>
                        <a:lnTo>
                          <a:pt x="61" y="2002"/>
                        </a:lnTo>
                        <a:lnTo>
                          <a:pt x="79" y="1941"/>
                        </a:lnTo>
                        <a:lnTo>
                          <a:pt x="96" y="1879"/>
                        </a:lnTo>
                        <a:lnTo>
                          <a:pt x="111" y="1819"/>
                        </a:lnTo>
                        <a:lnTo>
                          <a:pt x="127" y="1757"/>
                        </a:lnTo>
                        <a:lnTo>
                          <a:pt x="140" y="1697"/>
                        </a:lnTo>
                        <a:lnTo>
                          <a:pt x="152" y="1635"/>
                        </a:lnTo>
                        <a:lnTo>
                          <a:pt x="161" y="1574"/>
                        </a:lnTo>
                        <a:lnTo>
                          <a:pt x="170" y="1524"/>
                        </a:lnTo>
                        <a:lnTo>
                          <a:pt x="173" y="1485"/>
                        </a:lnTo>
                        <a:lnTo>
                          <a:pt x="172" y="1445"/>
                        </a:lnTo>
                        <a:lnTo>
                          <a:pt x="164" y="1399"/>
                        </a:lnTo>
                        <a:lnTo>
                          <a:pt x="155" y="1373"/>
                        </a:lnTo>
                        <a:lnTo>
                          <a:pt x="146" y="1342"/>
                        </a:lnTo>
                        <a:lnTo>
                          <a:pt x="134" y="1302"/>
                        </a:lnTo>
                        <a:lnTo>
                          <a:pt x="118" y="1252"/>
                        </a:lnTo>
                        <a:lnTo>
                          <a:pt x="98" y="1189"/>
                        </a:lnTo>
                        <a:lnTo>
                          <a:pt x="72" y="1109"/>
                        </a:lnTo>
                        <a:lnTo>
                          <a:pt x="40" y="1009"/>
                        </a:lnTo>
                        <a:lnTo>
                          <a:pt x="0" y="885"/>
                        </a:lnTo>
                        <a:lnTo>
                          <a:pt x="0" y="881"/>
                        </a:lnTo>
                        <a:lnTo>
                          <a:pt x="0" y="877"/>
                        </a:lnTo>
                        <a:lnTo>
                          <a:pt x="0" y="873"/>
                        </a:lnTo>
                        <a:lnTo>
                          <a:pt x="0" y="871"/>
                        </a:lnTo>
                        <a:lnTo>
                          <a:pt x="10" y="856"/>
                        </a:lnTo>
                        <a:lnTo>
                          <a:pt x="19" y="837"/>
                        </a:lnTo>
                        <a:lnTo>
                          <a:pt x="27" y="814"/>
                        </a:lnTo>
                        <a:lnTo>
                          <a:pt x="34" y="791"/>
                        </a:lnTo>
                        <a:lnTo>
                          <a:pt x="39" y="767"/>
                        </a:lnTo>
                        <a:lnTo>
                          <a:pt x="43" y="745"/>
                        </a:lnTo>
                        <a:lnTo>
                          <a:pt x="47" y="725"/>
                        </a:lnTo>
                        <a:lnTo>
                          <a:pt x="50" y="709"/>
                        </a:lnTo>
                        <a:lnTo>
                          <a:pt x="72" y="632"/>
                        </a:lnTo>
                        <a:lnTo>
                          <a:pt x="94" y="553"/>
                        </a:lnTo>
                        <a:lnTo>
                          <a:pt x="117" y="475"/>
                        </a:lnTo>
                        <a:lnTo>
                          <a:pt x="138" y="398"/>
                        </a:lnTo>
                        <a:lnTo>
                          <a:pt x="157" y="320"/>
                        </a:lnTo>
                        <a:lnTo>
                          <a:pt x="174" y="241"/>
                        </a:lnTo>
                        <a:lnTo>
                          <a:pt x="188" y="164"/>
                        </a:lnTo>
                        <a:lnTo>
                          <a:pt x="197" y="85"/>
                        </a:lnTo>
                        <a:lnTo>
                          <a:pt x="199" y="79"/>
                        </a:lnTo>
                        <a:lnTo>
                          <a:pt x="202" y="75"/>
                        </a:lnTo>
                        <a:lnTo>
                          <a:pt x="205" y="70"/>
                        </a:lnTo>
                        <a:lnTo>
                          <a:pt x="207" y="66"/>
                        </a:lnTo>
                        <a:lnTo>
                          <a:pt x="260" y="56"/>
                        </a:lnTo>
                        <a:lnTo>
                          <a:pt x="311" y="48"/>
                        </a:lnTo>
                        <a:lnTo>
                          <a:pt x="364" y="41"/>
                        </a:lnTo>
                        <a:lnTo>
                          <a:pt x="416" y="35"/>
                        </a:lnTo>
                        <a:lnTo>
                          <a:pt x="469" y="31"/>
                        </a:lnTo>
                        <a:lnTo>
                          <a:pt x="521" y="27"/>
                        </a:lnTo>
                        <a:lnTo>
                          <a:pt x="574" y="24"/>
                        </a:lnTo>
                        <a:lnTo>
                          <a:pt x="628" y="23"/>
                        </a:lnTo>
                        <a:lnTo>
                          <a:pt x="680" y="20"/>
                        </a:lnTo>
                        <a:lnTo>
                          <a:pt x="734" y="19"/>
                        </a:lnTo>
                        <a:lnTo>
                          <a:pt x="787" y="18"/>
                        </a:lnTo>
                        <a:lnTo>
                          <a:pt x="841" y="15"/>
                        </a:lnTo>
                        <a:lnTo>
                          <a:pt x="893" y="12"/>
                        </a:lnTo>
                        <a:lnTo>
                          <a:pt x="947" y="10"/>
                        </a:lnTo>
                        <a:lnTo>
                          <a:pt x="1000" y="6"/>
                        </a:lnTo>
                        <a:lnTo>
                          <a:pt x="1053" y="0"/>
                        </a:lnTo>
                        <a:lnTo>
                          <a:pt x="1097" y="0"/>
                        </a:lnTo>
                        <a:lnTo>
                          <a:pt x="1140" y="2"/>
                        </a:lnTo>
                        <a:lnTo>
                          <a:pt x="1185" y="4"/>
                        </a:lnTo>
                        <a:lnTo>
                          <a:pt x="1228" y="7"/>
                        </a:lnTo>
                        <a:lnTo>
                          <a:pt x="1273" y="11"/>
                        </a:lnTo>
                        <a:lnTo>
                          <a:pt x="1316" y="15"/>
                        </a:lnTo>
                        <a:lnTo>
                          <a:pt x="1361" y="20"/>
                        </a:lnTo>
                        <a:lnTo>
                          <a:pt x="1406" y="25"/>
                        </a:lnTo>
                        <a:lnTo>
                          <a:pt x="1449" y="31"/>
                        </a:lnTo>
                        <a:lnTo>
                          <a:pt x="1494" y="37"/>
                        </a:lnTo>
                        <a:lnTo>
                          <a:pt x="1538" y="44"/>
                        </a:lnTo>
                        <a:lnTo>
                          <a:pt x="1583" y="52"/>
                        </a:lnTo>
                        <a:lnTo>
                          <a:pt x="1628" y="60"/>
                        </a:lnTo>
                        <a:lnTo>
                          <a:pt x="1672" y="68"/>
                        </a:lnTo>
                        <a:lnTo>
                          <a:pt x="1717" y="75"/>
                        </a:lnTo>
                        <a:lnTo>
                          <a:pt x="1762" y="83"/>
                        </a:lnTo>
                        <a:lnTo>
                          <a:pt x="1772" y="85"/>
                        </a:lnTo>
                        <a:lnTo>
                          <a:pt x="1785" y="86"/>
                        </a:lnTo>
                        <a:lnTo>
                          <a:pt x="1800" y="87"/>
                        </a:lnTo>
                        <a:lnTo>
                          <a:pt x="1817" y="90"/>
                        </a:lnTo>
                        <a:lnTo>
                          <a:pt x="1833" y="91"/>
                        </a:lnTo>
                        <a:lnTo>
                          <a:pt x="1851" y="94"/>
                        </a:lnTo>
                        <a:lnTo>
                          <a:pt x="1868" y="98"/>
                        </a:lnTo>
                        <a:lnTo>
                          <a:pt x="1886" y="102"/>
                        </a:lnTo>
                        <a:lnTo>
                          <a:pt x="1903" y="106"/>
                        </a:lnTo>
                        <a:lnTo>
                          <a:pt x="1921" y="111"/>
                        </a:lnTo>
                        <a:lnTo>
                          <a:pt x="1936" y="116"/>
                        </a:lnTo>
                        <a:lnTo>
                          <a:pt x="1951" y="123"/>
                        </a:lnTo>
                        <a:lnTo>
                          <a:pt x="1964" y="129"/>
                        </a:lnTo>
                        <a:lnTo>
                          <a:pt x="1974" y="137"/>
                        </a:lnTo>
                        <a:lnTo>
                          <a:pt x="1984" y="146"/>
                        </a:lnTo>
                        <a:lnTo>
                          <a:pt x="1990" y="156"/>
                        </a:lnTo>
                        <a:lnTo>
                          <a:pt x="1986" y="170"/>
                        </a:lnTo>
                        <a:lnTo>
                          <a:pt x="1981" y="186"/>
                        </a:lnTo>
                        <a:lnTo>
                          <a:pt x="1974" y="200"/>
                        </a:lnTo>
                        <a:lnTo>
                          <a:pt x="1967" y="215"/>
                        </a:lnTo>
                        <a:lnTo>
                          <a:pt x="1959" y="231"/>
                        </a:lnTo>
                        <a:lnTo>
                          <a:pt x="1951" y="245"/>
                        </a:lnTo>
                        <a:lnTo>
                          <a:pt x="1942" y="260"/>
                        </a:lnTo>
                        <a:lnTo>
                          <a:pt x="1934" y="274"/>
                        </a:lnTo>
                        <a:lnTo>
                          <a:pt x="1901" y="346"/>
                        </a:lnTo>
                        <a:lnTo>
                          <a:pt x="1868" y="420"/>
                        </a:lnTo>
                        <a:lnTo>
                          <a:pt x="1835" y="494"/>
                        </a:lnTo>
                        <a:lnTo>
                          <a:pt x="1806" y="567"/>
                        </a:lnTo>
                        <a:lnTo>
                          <a:pt x="1779" y="642"/>
                        </a:lnTo>
                        <a:lnTo>
                          <a:pt x="1758" y="720"/>
                        </a:lnTo>
                        <a:lnTo>
                          <a:pt x="1742" y="799"/>
                        </a:lnTo>
                        <a:lnTo>
                          <a:pt x="1734" y="880"/>
                        </a:lnTo>
                        <a:lnTo>
                          <a:pt x="1735" y="909"/>
                        </a:lnTo>
                        <a:lnTo>
                          <a:pt x="1737" y="937"/>
                        </a:lnTo>
                        <a:lnTo>
                          <a:pt x="1738" y="966"/>
                        </a:lnTo>
                        <a:lnTo>
                          <a:pt x="1739" y="994"/>
                        </a:lnTo>
                        <a:lnTo>
                          <a:pt x="1733" y="1018"/>
                        </a:lnTo>
                        <a:lnTo>
                          <a:pt x="1734" y="1054"/>
                        </a:lnTo>
                        <a:lnTo>
                          <a:pt x="1741" y="1097"/>
                        </a:lnTo>
                        <a:lnTo>
                          <a:pt x="1752" y="1146"/>
                        </a:lnTo>
                        <a:lnTo>
                          <a:pt x="1767" y="1197"/>
                        </a:lnTo>
                        <a:lnTo>
                          <a:pt x="1781" y="1246"/>
                        </a:lnTo>
                        <a:lnTo>
                          <a:pt x="1796" y="1289"/>
                        </a:lnTo>
                        <a:lnTo>
                          <a:pt x="1808" y="1323"/>
                        </a:lnTo>
                        <a:lnTo>
                          <a:pt x="1818" y="1339"/>
                        </a:lnTo>
                        <a:lnTo>
                          <a:pt x="1831" y="1360"/>
                        </a:lnTo>
                        <a:lnTo>
                          <a:pt x="1846" y="1384"/>
                        </a:lnTo>
                        <a:lnTo>
                          <a:pt x="1859" y="1410"/>
                        </a:lnTo>
                        <a:lnTo>
                          <a:pt x="1871" y="1436"/>
                        </a:lnTo>
                        <a:lnTo>
                          <a:pt x="1877" y="1464"/>
                        </a:lnTo>
                        <a:lnTo>
                          <a:pt x="1878" y="1489"/>
                        </a:lnTo>
                        <a:lnTo>
                          <a:pt x="1872" y="1512"/>
                        </a:lnTo>
                        <a:lnTo>
                          <a:pt x="1875" y="1547"/>
                        </a:lnTo>
                        <a:lnTo>
                          <a:pt x="1877" y="1581"/>
                        </a:lnTo>
                        <a:lnTo>
                          <a:pt x="1881" y="1614"/>
                        </a:lnTo>
                        <a:lnTo>
                          <a:pt x="1884" y="1648"/>
                        </a:lnTo>
                        <a:lnTo>
                          <a:pt x="1882" y="1707"/>
                        </a:lnTo>
                        <a:lnTo>
                          <a:pt x="1878" y="1766"/>
                        </a:lnTo>
                        <a:lnTo>
                          <a:pt x="1873" y="1827"/>
                        </a:lnTo>
                        <a:lnTo>
                          <a:pt x="1867" y="1887"/>
                        </a:lnTo>
                        <a:lnTo>
                          <a:pt x="1857" y="1949"/>
                        </a:lnTo>
                        <a:lnTo>
                          <a:pt x="1848" y="2009"/>
                        </a:lnTo>
                        <a:lnTo>
                          <a:pt x="1838" y="2070"/>
                        </a:lnTo>
                        <a:lnTo>
                          <a:pt x="1827" y="2130"/>
                        </a:lnTo>
                        <a:lnTo>
                          <a:pt x="1810" y="2195"/>
                        </a:lnTo>
                        <a:lnTo>
                          <a:pt x="1801" y="2229"/>
                        </a:lnTo>
                        <a:lnTo>
                          <a:pt x="1797" y="2242"/>
                        </a:lnTo>
                        <a:lnTo>
                          <a:pt x="1793" y="2246"/>
                        </a:lnTo>
                        <a:lnTo>
                          <a:pt x="1785" y="2247"/>
                        </a:lnTo>
                        <a:lnTo>
                          <a:pt x="1777" y="2247"/>
                        </a:lnTo>
                        <a:lnTo>
                          <a:pt x="1769" y="2249"/>
                        </a:lnTo>
                        <a:lnTo>
                          <a:pt x="1762" y="2249"/>
                        </a:lnTo>
                        <a:lnTo>
                          <a:pt x="1733" y="2245"/>
                        </a:lnTo>
                        <a:lnTo>
                          <a:pt x="1704" y="2240"/>
                        </a:lnTo>
                        <a:lnTo>
                          <a:pt x="1675" y="2236"/>
                        </a:lnTo>
                        <a:lnTo>
                          <a:pt x="1646" y="2232"/>
                        </a:lnTo>
                        <a:lnTo>
                          <a:pt x="1617" y="2228"/>
                        </a:lnTo>
                        <a:lnTo>
                          <a:pt x="1588" y="2224"/>
                        </a:lnTo>
                        <a:lnTo>
                          <a:pt x="1559" y="2220"/>
                        </a:lnTo>
                        <a:lnTo>
                          <a:pt x="1530" y="2216"/>
                        </a:lnTo>
                        <a:lnTo>
                          <a:pt x="1501" y="2213"/>
                        </a:lnTo>
                        <a:lnTo>
                          <a:pt x="1474" y="2209"/>
                        </a:lnTo>
                        <a:lnTo>
                          <a:pt x="1445" y="2205"/>
                        </a:lnTo>
                        <a:lnTo>
                          <a:pt x="1416" y="2203"/>
                        </a:lnTo>
                        <a:lnTo>
                          <a:pt x="1387" y="2199"/>
                        </a:lnTo>
                        <a:lnTo>
                          <a:pt x="1358" y="2195"/>
                        </a:lnTo>
                        <a:lnTo>
                          <a:pt x="1329" y="2192"/>
                        </a:lnTo>
                        <a:lnTo>
                          <a:pt x="1300" y="2188"/>
                        </a:lnTo>
                        <a:lnTo>
                          <a:pt x="1271" y="2186"/>
                        </a:lnTo>
                        <a:lnTo>
                          <a:pt x="1243" y="2182"/>
                        </a:lnTo>
                        <a:lnTo>
                          <a:pt x="1215" y="2179"/>
                        </a:lnTo>
                        <a:lnTo>
                          <a:pt x="1186" y="2175"/>
                        </a:lnTo>
                        <a:lnTo>
                          <a:pt x="1157" y="2172"/>
                        </a:lnTo>
                        <a:lnTo>
                          <a:pt x="1128" y="2169"/>
                        </a:lnTo>
                        <a:lnTo>
                          <a:pt x="1099" y="2166"/>
                        </a:lnTo>
                        <a:lnTo>
                          <a:pt x="1072" y="2162"/>
                        </a:lnTo>
                        <a:lnTo>
                          <a:pt x="1043" y="2158"/>
                        </a:lnTo>
                        <a:lnTo>
                          <a:pt x="1014" y="2155"/>
                        </a:lnTo>
                        <a:lnTo>
                          <a:pt x="986" y="2151"/>
                        </a:lnTo>
                        <a:lnTo>
                          <a:pt x="957" y="2147"/>
                        </a:lnTo>
                        <a:lnTo>
                          <a:pt x="930" y="2144"/>
                        </a:lnTo>
                        <a:lnTo>
                          <a:pt x="901" y="2140"/>
                        </a:lnTo>
                        <a:lnTo>
                          <a:pt x="872" y="2136"/>
                        </a:lnTo>
                        <a:lnTo>
                          <a:pt x="844" y="2132"/>
                        </a:lnTo>
                        <a:lnTo>
                          <a:pt x="793" y="2134"/>
                        </a:lnTo>
                        <a:lnTo>
                          <a:pt x="741" y="2140"/>
                        </a:lnTo>
                        <a:lnTo>
                          <a:pt x="689" y="2145"/>
                        </a:lnTo>
                        <a:lnTo>
                          <a:pt x="637" y="2153"/>
                        </a:lnTo>
                        <a:lnTo>
                          <a:pt x="586" y="2162"/>
                        </a:lnTo>
                        <a:lnTo>
                          <a:pt x="533" y="2172"/>
                        </a:lnTo>
                        <a:lnTo>
                          <a:pt x="482" y="2183"/>
                        </a:lnTo>
                        <a:lnTo>
                          <a:pt x="429" y="2194"/>
                        </a:lnTo>
                        <a:lnTo>
                          <a:pt x="378" y="2204"/>
                        </a:lnTo>
                        <a:lnTo>
                          <a:pt x="327" y="2213"/>
                        </a:lnTo>
                        <a:lnTo>
                          <a:pt x="276" y="2224"/>
                        </a:lnTo>
                        <a:lnTo>
                          <a:pt x="224" y="2232"/>
                        </a:lnTo>
                        <a:lnTo>
                          <a:pt x="173" y="2238"/>
                        </a:lnTo>
                        <a:lnTo>
                          <a:pt x="122" y="2243"/>
                        </a:lnTo>
                        <a:lnTo>
                          <a:pt x="72" y="2247"/>
                        </a:lnTo>
                        <a:lnTo>
                          <a:pt x="22" y="22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940840" y="4654800"/>
                    <a:ext cx="270360" cy="31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0" h="2126">
                        <a:moveTo>
                          <a:pt x="44" y="2126"/>
                        </a:moveTo>
                        <a:lnTo>
                          <a:pt x="45" y="2098"/>
                        </a:lnTo>
                        <a:lnTo>
                          <a:pt x="49" y="2069"/>
                        </a:lnTo>
                        <a:lnTo>
                          <a:pt x="53" y="2043"/>
                        </a:lnTo>
                        <a:lnTo>
                          <a:pt x="59" y="2015"/>
                        </a:lnTo>
                        <a:lnTo>
                          <a:pt x="66" y="1989"/>
                        </a:lnTo>
                        <a:lnTo>
                          <a:pt x="74" y="1963"/>
                        </a:lnTo>
                        <a:lnTo>
                          <a:pt x="80" y="1937"/>
                        </a:lnTo>
                        <a:lnTo>
                          <a:pt x="86" y="1909"/>
                        </a:lnTo>
                        <a:lnTo>
                          <a:pt x="88" y="1904"/>
                        </a:lnTo>
                        <a:lnTo>
                          <a:pt x="90" y="1898"/>
                        </a:lnTo>
                        <a:lnTo>
                          <a:pt x="92" y="1893"/>
                        </a:lnTo>
                        <a:lnTo>
                          <a:pt x="95" y="1888"/>
                        </a:lnTo>
                        <a:lnTo>
                          <a:pt x="105" y="1831"/>
                        </a:lnTo>
                        <a:lnTo>
                          <a:pt x="116" y="1773"/>
                        </a:lnTo>
                        <a:lnTo>
                          <a:pt x="126" y="1717"/>
                        </a:lnTo>
                        <a:lnTo>
                          <a:pt x="137" y="1659"/>
                        </a:lnTo>
                        <a:lnTo>
                          <a:pt x="146" y="1601"/>
                        </a:lnTo>
                        <a:lnTo>
                          <a:pt x="153" y="1545"/>
                        </a:lnTo>
                        <a:lnTo>
                          <a:pt x="158" y="1488"/>
                        </a:lnTo>
                        <a:lnTo>
                          <a:pt x="159" y="1433"/>
                        </a:lnTo>
                        <a:lnTo>
                          <a:pt x="133" y="1397"/>
                        </a:lnTo>
                        <a:lnTo>
                          <a:pt x="115" y="1357"/>
                        </a:lnTo>
                        <a:lnTo>
                          <a:pt x="101" y="1311"/>
                        </a:lnTo>
                        <a:lnTo>
                          <a:pt x="94" y="1263"/>
                        </a:lnTo>
                        <a:lnTo>
                          <a:pt x="87" y="1215"/>
                        </a:lnTo>
                        <a:lnTo>
                          <a:pt x="80" y="1166"/>
                        </a:lnTo>
                        <a:lnTo>
                          <a:pt x="70" y="1120"/>
                        </a:lnTo>
                        <a:lnTo>
                          <a:pt x="55" y="1078"/>
                        </a:lnTo>
                        <a:lnTo>
                          <a:pt x="50" y="1040"/>
                        </a:lnTo>
                        <a:lnTo>
                          <a:pt x="42" y="1002"/>
                        </a:lnTo>
                        <a:lnTo>
                          <a:pt x="34" y="964"/>
                        </a:lnTo>
                        <a:lnTo>
                          <a:pt x="27" y="927"/>
                        </a:lnTo>
                        <a:lnTo>
                          <a:pt x="17" y="890"/>
                        </a:lnTo>
                        <a:lnTo>
                          <a:pt x="9" y="853"/>
                        </a:lnTo>
                        <a:lnTo>
                          <a:pt x="4" y="816"/>
                        </a:lnTo>
                        <a:lnTo>
                          <a:pt x="0" y="780"/>
                        </a:lnTo>
                        <a:lnTo>
                          <a:pt x="3" y="769"/>
                        </a:lnTo>
                        <a:lnTo>
                          <a:pt x="6" y="756"/>
                        </a:lnTo>
                        <a:lnTo>
                          <a:pt x="9" y="737"/>
                        </a:lnTo>
                        <a:lnTo>
                          <a:pt x="15" y="711"/>
                        </a:lnTo>
                        <a:lnTo>
                          <a:pt x="21" y="678"/>
                        </a:lnTo>
                        <a:lnTo>
                          <a:pt x="30" y="635"/>
                        </a:lnTo>
                        <a:lnTo>
                          <a:pt x="44" y="581"/>
                        </a:lnTo>
                        <a:lnTo>
                          <a:pt x="59" y="514"/>
                        </a:lnTo>
                        <a:lnTo>
                          <a:pt x="76" y="456"/>
                        </a:lnTo>
                        <a:lnTo>
                          <a:pt x="94" y="400"/>
                        </a:lnTo>
                        <a:lnTo>
                          <a:pt x="112" y="343"/>
                        </a:lnTo>
                        <a:lnTo>
                          <a:pt x="132" y="286"/>
                        </a:lnTo>
                        <a:lnTo>
                          <a:pt x="151" y="231"/>
                        </a:lnTo>
                        <a:lnTo>
                          <a:pt x="174" y="176"/>
                        </a:lnTo>
                        <a:lnTo>
                          <a:pt x="196" y="122"/>
                        </a:lnTo>
                        <a:lnTo>
                          <a:pt x="220" y="68"/>
                        </a:lnTo>
                        <a:lnTo>
                          <a:pt x="272" y="60"/>
                        </a:lnTo>
                        <a:lnTo>
                          <a:pt x="323" y="52"/>
                        </a:lnTo>
                        <a:lnTo>
                          <a:pt x="375" y="46"/>
                        </a:lnTo>
                        <a:lnTo>
                          <a:pt x="427" y="39"/>
                        </a:lnTo>
                        <a:lnTo>
                          <a:pt x="479" y="34"/>
                        </a:lnTo>
                        <a:lnTo>
                          <a:pt x="530" y="29"/>
                        </a:lnTo>
                        <a:lnTo>
                          <a:pt x="582" y="25"/>
                        </a:lnTo>
                        <a:lnTo>
                          <a:pt x="634" y="20"/>
                        </a:lnTo>
                        <a:lnTo>
                          <a:pt x="686" y="17"/>
                        </a:lnTo>
                        <a:lnTo>
                          <a:pt x="737" y="13"/>
                        </a:lnTo>
                        <a:lnTo>
                          <a:pt x="790" y="10"/>
                        </a:lnTo>
                        <a:lnTo>
                          <a:pt x="842" y="8"/>
                        </a:lnTo>
                        <a:lnTo>
                          <a:pt x="895" y="5"/>
                        </a:lnTo>
                        <a:lnTo>
                          <a:pt x="948" y="4"/>
                        </a:lnTo>
                        <a:lnTo>
                          <a:pt x="1000" y="1"/>
                        </a:lnTo>
                        <a:lnTo>
                          <a:pt x="1054" y="0"/>
                        </a:lnTo>
                        <a:lnTo>
                          <a:pt x="1066" y="1"/>
                        </a:lnTo>
                        <a:lnTo>
                          <a:pt x="1076" y="3"/>
                        </a:lnTo>
                        <a:lnTo>
                          <a:pt x="1088" y="4"/>
                        </a:lnTo>
                        <a:lnTo>
                          <a:pt x="1099" y="5"/>
                        </a:lnTo>
                        <a:lnTo>
                          <a:pt x="1109" y="6"/>
                        </a:lnTo>
                        <a:lnTo>
                          <a:pt x="1121" y="8"/>
                        </a:lnTo>
                        <a:lnTo>
                          <a:pt x="1134" y="10"/>
                        </a:lnTo>
                        <a:lnTo>
                          <a:pt x="1149" y="12"/>
                        </a:lnTo>
                        <a:lnTo>
                          <a:pt x="1163" y="14"/>
                        </a:lnTo>
                        <a:lnTo>
                          <a:pt x="1180" y="16"/>
                        </a:lnTo>
                        <a:lnTo>
                          <a:pt x="1200" y="18"/>
                        </a:lnTo>
                        <a:lnTo>
                          <a:pt x="1222" y="21"/>
                        </a:lnTo>
                        <a:lnTo>
                          <a:pt x="1247" y="25"/>
                        </a:lnTo>
                        <a:lnTo>
                          <a:pt x="1275" y="27"/>
                        </a:lnTo>
                        <a:lnTo>
                          <a:pt x="1306" y="31"/>
                        </a:lnTo>
                        <a:lnTo>
                          <a:pt x="1340" y="35"/>
                        </a:lnTo>
                        <a:lnTo>
                          <a:pt x="1422" y="51"/>
                        </a:lnTo>
                        <a:lnTo>
                          <a:pt x="1494" y="64"/>
                        </a:lnTo>
                        <a:lnTo>
                          <a:pt x="1557" y="77"/>
                        </a:lnTo>
                        <a:lnTo>
                          <a:pt x="1610" y="87"/>
                        </a:lnTo>
                        <a:lnTo>
                          <a:pt x="1656" y="96"/>
                        </a:lnTo>
                        <a:lnTo>
                          <a:pt x="1694" y="104"/>
                        </a:lnTo>
                        <a:lnTo>
                          <a:pt x="1725" y="109"/>
                        </a:lnTo>
                        <a:lnTo>
                          <a:pt x="1750" y="114"/>
                        </a:lnTo>
                        <a:lnTo>
                          <a:pt x="1770" y="118"/>
                        </a:lnTo>
                        <a:lnTo>
                          <a:pt x="1786" y="121"/>
                        </a:lnTo>
                        <a:lnTo>
                          <a:pt x="1796" y="123"/>
                        </a:lnTo>
                        <a:lnTo>
                          <a:pt x="1805" y="126"/>
                        </a:lnTo>
                        <a:lnTo>
                          <a:pt x="1811" y="127"/>
                        </a:lnTo>
                        <a:lnTo>
                          <a:pt x="1815" y="129"/>
                        </a:lnTo>
                        <a:lnTo>
                          <a:pt x="1817" y="129"/>
                        </a:lnTo>
                        <a:lnTo>
                          <a:pt x="1820" y="130"/>
                        </a:lnTo>
                        <a:lnTo>
                          <a:pt x="1820" y="133"/>
                        </a:lnTo>
                        <a:lnTo>
                          <a:pt x="1820" y="135"/>
                        </a:lnTo>
                        <a:lnTo>
                          <a:pt x="1820" y="138"/>
                        </a:lnTo>
                        <a:lnTo>
                          <a:pt x="1820" y="142"/>
                        </a:lnTo>
                        <a:lnTo>
                          <a:pt x="1802" y="180"/>
                        </a:lnTo>
                        <a:lnTo>
                          <a:pt x="1783" y="218"/>
                        </a:lnTo>
                        <a:lnTo>
                          <a:pt x="1766" y="258"/>
                        </a:lnTo>
                        <a:lnTo>
                          <a:pt x="1749" y="298"/>
                        </a:lnTo>
                        <a:lnTo>
                          <a:pt x="1733" y="338"/>
                        </a:lnTo>
                        <a:lnTo>
                          <a:pt x="1717" y="380"/>
                        </a:lnTo>
                        <a:lnTo>
                          <a:pt x="1703" y="421"/>
                        </a:lnTo>
                        <a:lnTo>
                          <a:pt x="1689" y="461"/>
                        </a:lnTo>
                        <a:lnTo>
                          <a:pt x="1675" y="503"/>
                        </a:lnTo>
                        <a:lnTo>
                          <a:pt x="1662" y="546"/>
                        </a:lnTo>
                        <a:lnTo>
                          <a:pt x="1649" y="588"/>
                        </a:lnTo>
                        <a:lnTo>
                          <a:pt x="1636" y="630"/>
                        </a:lnTo>
                        <a:lnTo>
                          <a:pt x="1624" y="672"/>
                        </a:lnTo>
                        <a:lnTo>
                          <a:pt x="1612" y="714"/>
                        </a:lnTo>
                        <a:lnTo>
                          <a:pt x="1602" y="756"/>
                        </a:lnTo>
                        <a:lnTo>
                          <a:pt x="1590" y="798"/>
                        </a:lnTo>
                        <a:lnTo>
                          <a:pt x="1603" y="874"/>
                        </a:lnTo>
                        <a:lnTo>
                          <a:pt x="1615" y="949"/>
                        </a:lnTo>
                        <a:lnTo>
                          <a:pt x="1628" y="1025"/>
                        </a:lnTo>
                        <a:lnTo>
                          <a:pt x="1644" y="1102"/>
                        </a:lnTo>
                        <a:lnTo>
                          <a:pt x="1660" y="1178"/>
                        </a:lnTo>
                        <a:lnTo>
                          <a:pt x="1679" y="1253"/>
                        </a:lnTo>
                        <a:lnTo>
                          <a:pt x="1703" y="1329"/>
                        </a:lnTo>
                        <a:lnTo>
                          <a:pt x="1732" y="1404"/>
                        </a:lnTo>
                        <a:lnTo>
                          <a:pt x="1738" y="1453"/>
                        </a:lnTo>
                        <a:lnTo>
                          <a:pt x="1742" y="1487"/>
                        </a:lnTo>
                        <a:lnTo>
                          <a:pt x="1745" y="1520"/>
                        </a:lnTo>
                        <a:lnTo>
                          <a:pt x="1749" y="1568"/>
                        </a:lnTo>
                        <a:lnTo>
                          <a:pt x="1749" y="1620"/>
                        </a:lnTo>
                        <a:lnTo>
                          <a:pt x="1749" y="1689"/>
                        </a:lnTo>
                        <a:lnTo>
                          <a:pt x="1748" y="1772"/>
                        </a:lnTo>
                        <a:lnTo>
                          <a:pt x="1742" y="1860"/>
                        </a:lnTo>
                        <a:lnTo>
                          <a:pt x="1733" y="1947"/>
                        </a:lnTo>
                        <a:lnTo>
                          <a:pt x="1717" y="2025"/>
                        </a:lnTo>
                        <a:lnTo>
                          <a:pt x="1695" y="2085"/>
                        </a:lnTo>
                        <a:lnTo>
                          <a:pt x="1665" y="2123"/>
                        </a:lnTo>
                        <a:lnTo>
                          <a:pt x="1640" y="2123"/>
                        </a:lnTo>
                        <a:lnTo>
                          <a:pt x="1616" y="2122"/>
                        </a:lnTo>
                        <a:lnTo>
                          <a:pt x="1591" y="2122"/>
                        </a:lnTo>
                        <a:lnTo>
                          <a:pt x="1568" y="2122"/>
                        </a:lnTo>
                        <a:lnTo>
                          <a:pt x="1543" y="2121"/>
                        </a:lnTo>
                        <a:lnTo>
                          <a:pt x="1519" y="2121"/>
                        </a:lnTo>
                        <a:lnTo>
                          <a:pt x="1494" y="2121"/>
                        </a:lnTo>
                        <a:lnTo>
                          <a:pt x="1470" y="2121"/>
                        </a:lnTo>
                        <a:lnTo>
                          <a:pt x="1440" y="2118"/>
                        </a:lnTo>
                        <a:lnTo>
                          <a:pt x="1410" y="2114"/>
                        </a:lnTo>
                        <a:lnTo>
                          <a:pt x="1380" y="2110"/>
                        </a:lnTo>
                        <a:lnTo>
                          <a:pt x="1350" y="2106"/>
                        </a:lnTo>
                        <a:lnTo>
                          <a:pt x="1319" y="2102"/>
                        </a:lnTo>
                        <a:lnTo>
                          <a:pt x="1289" y="2098"/>
                        </a:lnTo>
                        <a:lnTo>
                          <a:pt x="1258" y="2094"/>
                        </a:lnTo>
                        <a:lnTo>
                          <a:pt x="1227" y="2090"/>
                        </a:lnTo>
                        <a:lnTo>
                          <a:pt x="1196" y="2086"/>
                        </a:lnTo>
                        <a:lnTo>
                          <a:pt x="1166" y="2084"/>
                        </a:lnTo>
                        <a:lnTo>
                          <a:pt x="1135" y="2080"/>
                        </a:lnTo>
                        <a:lnTo>
                          <a:pt x="1105" y="2077"/>
                        </a:lnTo>
                        <a:lnTo>
                          <a:pt x="1076" y="2075"/>
                        </a:lnTo>
                        <a:lnTo>
                          <a:pt x="1047" y="2073"/>
                        </a:lnTo>
                        <a:lnTo>
                          <a:pt x="1018" y="2072"/>
                        </a:lnTo>
                        <a:lnTo>
                          <a:pt x="990" y="2072"/>
                        </a:lnTo>
                        <a:lnTo>
                          <a:pt x="973" y="2071"/>
                        </a:lnTo>
                        <a:lnTo>
                          <a:pt x="957" y="2068"/>
                        </a:lnTo>
                        <a:lnTo>
                          <a:pt x="940" y="2067"/>
                        </a:lnTo>
                        <a:lnTo>
                          <a:pt x="924" y="2065"/>
                        </a:lnTo>
                        <a:lnTo>
                          <a:pt x="907" y="2063"/>
                        </a:lnTo>
                        <a:lnTo>
                          <a:pt x="891" y="2061"/>
                        </a:lnTo>
                        <a:lnTo>
                          <a:pt x="874" y="2059"/>
                        </a:lnTo>
                        <a:lnTo>
                          <a:pt x="858" y="2057"/>
                        </a:lnTo>
                        <a:lnTo>
                          <a:pt x="842" y="2056"/>
                        </a:lnTo>
                        <a:lnTo>
                          <a:pt x="825" y="2054"/>
                        </a:lnTo>
                        <a:lnTo>
                          <a:pt x="810" y="2052"/>
                        </a:lnTo>
                        <a:lnTo>
                          <a:pt x="793" y="2050"/>
                        </a:lnTo>
                        <a:lnTo>
                          <a:pt x="777" y="2048"/>
                        </a:lnTo>
                        <a:lnTo>
                          <a:pt x="760" y="2047"/>
                        </a:lnTo>
                        <a:lnTo>
                          <a:pt x="744" y="2044"/>
                        </a:lnTo>
                        <a:lnTo>
                          <a:pt x="727" y="2043"/>
                        </a:lnTo>
                        <a:lnTo>
                          <a:pt x="683" y="2048"/>
                        </a:lnTo>
                        <a:lnTo>
                          <a:pt x="640" y="2054"/>
                        </a:lnTo>
                        <a:lnTo>
                          <a:pt x="597" y="2060"/>
                        </a:lnTo>
                        <a:lnTo>
                          <a:pt x="553" y="2067"/>
                        </a:lnTo>
                        <a:lnTo>
                          <a:pt x="511" y="2073"/>
                        </a:lnTo>
                        <a:lnTo>
                          <a:pt x="468" y="2080"/>
                        </a:lnTo>
                        <a:lnTo>
                          <a:pt x="426" y="2086"/>
                        </a:lnTo>
                        <a:lnTo>
                          <a:pt x="384" y="2092"/>
                        </a:lnTo>
                        <a:lnTo>
                          <a:pt x="341" y="2098"/>
                        </a:lnTo>
                        <a:lnTo>
                          <a:pt x="299" y="2105"/>
                        </a:lnTo>
                        <a:lnTo>
                          <a:pt x="256" y="2110"/>
                        </a:lnTo>
                        <a:lnTo>
                          <a:pt x="213" y="2114"/>
                        </a:lnTo>
                        <a:lnTo>
                          <a:pt x="171" y="2118"/>
                        </a:lnTo>
                        <a:lnTo>
                          <a:pt x="129" y="2122"/>
                        </a:lnTo>
                        <a:lnTo>
                          <a:pt x="86" y="2125"/>
                        </a:lnTo>
                        <a:lnTo>
                          <a:pt x="44" y="2126"/>
                        </a:lnTo>
                        <a:close/>
                      </a:path>
                    </a:pathLst>
                  </a:custGeom>
                  <a:solidFill>
                    <a:srgbClr val="ede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065760" y="4888080"/>
                    <a:ext cx="12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449">
                        <a:moveTo>
                          <a:pt x="528" y="449"/>
                        </a:moveTo>
                        <a:lnTo>
                          <a:pt x="520" y="445"/>
                        </a:lnTo>
                        <a:lnTo>
                          <a:pt x="514" y="440"/>
                        </a:lnTo>
                        <a:lnTo>
                          <a:pt x="506" y="436"/>
                        </a:lnTo>
                        <a:lnTo>
                          <a:pt x="499" y="432"/>
                        </a:lnTo>
                        <a:lnTo>
                          <a:pt x="482" y="435"/>
                        </a:lnTo>
                        <a:lnTo>
                          <a:pt x="469" y="437"/>
                        </a:lnTo>
                        <a:lnTo>
                          <a:pt x="459" y="439"/>
                        </a:lnTo>
                        <a:lnTo>
                          <a:pt x="452" y="439"/>
                        </a:lnTo>
                        <a:lnTo>
                          <a:pt x="446" y="437"/>
                        </a:lnTo>
                        <a:lnTo>
                          <a:pt x="440" y="432"/>
                        </a:lnTo>
                        <a:lnTo>
                          <a:pt x="434" y="426"/>
                        </a:lnTo>
                        <a:lnTo>
                          <a:pt x="426" y="414"/>
                        </a:lnTo>
                        <a:lnTo>
                          <a:pt x="406" y="416"/>
                        </a:lnTo>
                        <a:lnTo>
                          <a:pt x="392" y="419"/>
                        </a:lnTo>
                        <a:lnTo>
                          <a:pt x="381" y="422"/>
                        </a:lnTo>
                        <a:lnTo>
                          <a:pt x="373" y="422"/>
                        </a:lnTo>
                        <a:lnTo>
                          <a:pt x="368" y="420"/>
                        </a:lnTo>
                        <a:lnTo>
                          <a:pt x="363" y="415"/>
                        </a:lnTo>
                        <a:lnTo>
                          <a:pt x="359" y="406"/>
                        </a:lnTo>
                        <a:lnTo>
                          <a:pt x="355" y="391"/>
                        </a:lnTo>
                        <a:lnTo>
                          <a:pt x="347" y="393"/>
                        </a:lnTo>
                        <a:lnTo>
                          <a:pt x="340" y="394"/>
                        </a:lnTo>
                        <a:lnTo>
                          <a:pt x="335" y="395"/>
                        </a:lnTo>
                        <a:lnTo>
                          <a:pt x="331" y="395"/>
                        </a:lnTo>
                        <a:lnTo>
                          <a:pt x="326" y="397"/>
                        </a:lnTo>
                        <a:lnTo>
                          <a:pt x="322" y="397"/>
                        </a:lnTo>
                        <a:lnTo>
                          <a:pt x="317" y="397"/>
                        </a:lnTo>
                        <a:lnTo>
                          <a:pt x="310" y="397"/>
                        </a:lnTo>
                        <a:lnTo>
                          <a:pt x="300" y="381"/>
                        </a:lnTo>
                        <a:lnTo>
                          <a:pt x="297" y="364"/>
                        </a:lnTo>
                        <a:lnTo>
                          <a:pt x="300" y="348"/>
                        </a:lnTo>
                        <a:lnTo>
                          <a:pt x="304" y="332"/>
                        </a:lnTo>
                        <a:lnTo>
                          <a:pt x="288" y="337"/>
                        </a:lnTo>
                        <a:lnTo>
                          <a:pt x="271" y="343"/>
                        </a:lnTo>
                        <a:lnTo>
                          <a:pt x="255" y="349"/>
                        </a:lnTo>
                        <a:lnTo>
                          <a:pt x="239" y="356"/>
                        </a:lnTo>
                        <a:lnTo>
                          <a:pt x="223" y="362"/>
                        </a:lnTo>
                        <a:lnTo>
                          <a:pt x="208" y="369"/>
                        </a:lnTo>
                        <a:lnTo>
                          <a:pt x="192" y="376"/>
                        </a:lnTo>
                        <a:lnTo>
                          <a:pt x="176" y="383"/>
                        </a:lnTo>
                        <a:lnTo>
                          <a:pt x="160" y="390"/>
                        </a:lnTo>
                        <a:lnTo>
                          <a:pt x="146" y="398"/>
                        </a:lnTo>
                        <a:lnTo>
                          <a:pt x="130" y="406"/>
                        </a:lnTo>
                        <a:lnTo>
                          <a:pt x="116" y="414"/>
                        </a:lnTo>
                        <a:lnTo>
                          <a:pt x="100" y="420"/>
                        </a:lnTo>
                        <a:lnTo>
                          <a:pt x="86" y="428"/>
                        </a:lnTo>
                        <a:lnTo>
                          <a:pt x="70" y="436"/>
                        </a:lnTo>
                        <a:lnTo>
                          <a:pt x="55" y="444"/>
                        </a:lnTo>
                        <a:lnTo>
                          <a:pt x="50" y="444"/>
                        </a:lnTo>
                        <a:lnTo>
                          <a:pt x="46" y="443"/>
                        </a:lnTo>
                        <a:lnTo>
                          <a:pt x="40" y="440"/>
                        </a:lnTo>
                        <a:lnTo>
                          <a:pt x="29" y="433"/>
                        </a:lnTo>
                        <a:lnTo>
                          <a:pt x="32" y="415"/>
                        </a:lnTo>
                        <a:lnTo>
                          <a:pt x="40" y="394"/>
                        </a:lnTo>
                        <a:lnTo>
                          <a:pt x="51" y="373"/>
                        </a:lnTo>
                        <a:lnTo>
                          <a:pt x="65" y="351"/>
                        </a:lnTo>
                        <a:lnTo>
                          <a:pt x="80" y="330"/>
                        </a:lnTo>
                        <a:lnTo>
                          <a:pt x="96" y="309"/>
                        </a:lnTo>
                        <a:lnTo>
                          <a:pt x="110" y="289"/>
                        </a:lnTo>
                        <a:lnTo>
                          <a:pt x="124" y="273"/>
                        </a:lnTo>
                        <a:lnTo>
                          <a:pt x="105" y="273"/>
                        </a:lnTo>
                        <a:lnTo>
                          <a:pt x="91" y="274"/>
                        </a:lnTo>
                        <a:lnTo>
                          <a:pt x="79" y="274"/>
                        </a:lnTo>
                        <a:lnTo>
                          <a:pt x="70" y="274"/>
                        </a:lnTo>
                        <a:lnTo>
                          <a:pt x="59" y="276"/>
                        </a:lnTo>
                        <a:lnTo>
                          <a:pt x="49" y="277"/>
                        </a:lnTo>
                        <a:lnTo>
                          <a:pt x="36" y="278"/>
                        </a:lnTo>
                        <a:lnTo>
                          <a:pt x="19" y="281"/>
                        </a:lnTo>
                        <a:lnTo>
                          <a:pt x="8" y="272"/>
                        </a:lnTo>
                        <a:lnTo>
                          <a:pt x="3" y="265"/>
                        </a:lnTo>
                        <a:lnTo>
                          <a:pt x="1" y="260"/>
                        </a:lnTo>
                        <a:lnTo>
                          <a:pt x="0" y="253"/>
                        </a:lnTo>
                        <a:lnTo>
                          <a:pt x="19" y="241"/>
                        </a:lnTo>
                        <a:lnTo>
                          <a:pt x="36" y="230"/>
                        </a:lnTo>
                        <a:lnTo>
                          <a:pt x="51" y="219"/>
                        </a:lnTo>
                        <a:lnTo>
                          <a:pt x="68" y="209"/>
                        </a:lnTo>
                        <a:lnTo>
                          <a:pt x="84" y="199"/>
                        </a:lnTo>
                        <a:lnTo>
                          <a:pt x="100" y="190"/>
                        </a:lnTo>
                        <a:lnTo>
                          <a:pt x="116" y="182"/>
                        </a:lnTo>
                        <a:lnTo>
                          <a:pt x="132" y="174"/>
                        </a:lnTo>
                        <a:lnTo>
                          <a:pt x="147" y="168"/>
                        </a:lnTo>
                        <a:lnTo>
                          <a:pt x="163" y="161"/>
                        </a:lnTo>
                        <a:lnTo>
                          <a:pt x="180" y="156"/>
                        </a:lnTo>
                        <a:lnTo>
                          <a:pt x="199" y="149"/>
                        </a:lnTo>
                        <a:lnTo>
                          <a:pt x="217" y="144"/>
                        </a:lnTo>
                        <a:lnTo>
                          <a:pt x="238" y="140"/>
                        </a:lnTo>
                        <a:lnTo>
                          <a:pt x="259" y="135"/>
                        </a:lnTo>
                        <a:lnTo>
                          <a:pt x="281" y="131"/>
                        </a:lnTo>
                        <a:lnTo>
                          <a:pt x="287" y="126"/>
                        </a:lnTo>
                        <a:lnTo>
                          <a:pt x="293" y="122"/>
                        </a:lnTo>
                        <a:lnTo>
                          <a:pt x="300" y="118"/>
                        </a:lnTo>
                        <a:lnTo>
                          <a:pt x="305" y="115"/>
                        </a:lnTo>
                        <a:lnTo>
                          <a:pt x="312" y="111"/>
                        </a:lnTo>
                        <a:lnTo>
                          <a:pt x="319" y="109"/>
                        </a:lnTo>
                        <a:lnTo>
                          <a:pt x="327" y="106"/>
                        </a:lnTo>
                        <a:lnTo>
                          <a:pt x="335" y="102"/>
                        </a:lnTo>
                        <a:lnTo>
                          <a:pt x="338" y="82"/>
                        </a:lnTo>
                        <a:lnTo>
                          <a:pt x="340" y="69"/>
                        </a:lnTo>
                        <a:lnTo>
                          <a:pt x="344" y="61"/>
                        </a:lnTo>
                        <a:lnTo>
                          <a:pt x="351" y="56"/>
                        </a:lnTo>
                        <a:lnTo>
                          <a:pt x="360" y="55"/>
                        </a:lnTo>
                        <a:lnTo>
                          <a:pt x="372" y="53"/>
                        </a:lnTo>
                        <a:lnTo>
                          <a:pt x="389" y="52"/>
                        </a:lnTo>
                        <a:lnTo>
                          <a:pt x="410" y="47"/>
                        </a:lnTo>
                        <a:lnTo>
                          <a:pt x="414" y="35"/>
                        </a:lnTo>
                        <a:lnTo>
                          <a:pt x="418" y="26"/>
                        </a:lnTo>
                        <a:lnTo>
                          <a:pt x="423" y="19"/>
                        </a:lnTo>
                        <a:lnTo>
                          <a:pt x="431" y="11"/>
                        </a:lnTo>
                        <a:lnTo>
                          <a:pt x="439" y="17"/>
                        </a:lnTo>
                        <a:lnTo>
                          <a:pt x="447" y="23"/>
                        </a:lnTo>
                        <a:lnTo>
                          <a:pt x="455" y="28"/>
                        </a:lnTo>
                        <a:lnTo>
                          <a:pt x="464" y="35"/>
                        </a:lnTo>
                        <a:lnTo>
                          <a:pt x="470" y="31"/>
                        </a:lnTo>
                        <a:lnTo>
                          <a:pt x="477" y="25"/>
                        </a:lnTo>
                        <a:lnTo>
                          <a:pt x="484" y="19"/>
                        </a:lnTo>
                        <a:lnTo>
                          <a:pt x="490" y="13"/>
                        </a:lnTo>
                        <a:lnTo>
                          <a:pt x="498" y="7"/>
                        </a:lnTo>
                        <a:lnTo>
                          <a:pt x="505" y="3"/>
                        </a:lnTo>
                        <a:lnTo>
                          <a:pt x="513" y="1"/>
                        </a:lnTo>
                        <a:lnTo>
                          <a:pt x="520" y="0"/>
                        </a:lnTo>
                        <a:lnTo>
                          <a:pt x="527" y="10"/>
                        </a:lnTo>
                        <a:lnTo>
                          <a:pt x="535" y="21"/>
                        </a:lnTo>
                        <a:lnTo>
                          <a:pt x="543" y="32"/>
                        </a:lnTo>
                        <a:lnTo>
                          <a:pt x="549" y="43"/>
                        </a:lnTo>
                        <a:lnTo>
                          <a:pt x="557" y="39"/>
                        </a:lnTo>
                        <a:lnTo>
                          <a:pt x="564" y="35"/>
                        </a:lnTo>
                        <a:lnTo>
                          <a:pt x="572" y="32"/>
                        </a:lnTo>
                        <a:lnTo>
                          <a:pt x="585" y="30"/>
                        </a:lnTo>
                        <a:lnTo>
                          <a:pt x="589" y="40"/>
                        </a:lnTo>
                        <a:lnTo>
                          <a:pt x="591" y="52"/>
                        </a:lnTo>
                        <a:lnTo>
                          <a:pt x="597" y="65"/>
                        </a:lnTo>
                        <a:lnTo>
                          <a:pt x="607" y="78"/>
                        </a:lnTo>
                        <a:lnTo>
                          <a:pt x="615" y="76"/>
                        </a:lnTo>
                        <a:lnTo>
                          <a:pt x="622" y="73"/>
                        </a:lnTo>
                        <a:lnTo>
                          <a:pt x="629" y="72"/>
                        </a:lnTo>
                        <a:lnTo>
                          <a:pt x="644" y="71"/>
                        </a:lnTo>
                        <a:lnTo>
                          <a:pt x="648" y="78"/>
                        </a:lnTo>
                        <a:lnTo>
                          <a:pt x="650" y="90"/>
                        </a:lnTo>
                        <a:lnTo>
                          <a:pt x="653" y="105"/>
                        </a:lnTo>
                        <a:lnTo>
                          <a:pt x="654" y="119"/>
                        </a:lnTo>
                        <a:lnTo>
                          <a:pt x="665" y="123"/>
                        </a:lnTo>
                        <a:lnTo>
                          <a:pt x="678" y="128"/>
                        </a:lnTo>
                        <a:lnTo>
                          <a:pt x="694" y="134"/>
                        </a:lnTo>
                        <a:lnTo>
                          <a:pt x="712" y="139"/>
                        </a:lnTo>
                        <a:lnTo>
                          <a:pt x="731" y="145"/>
                        </a:lnTo>
                        <a:lnTo>
                          <a:pt x="750" y="153"/>
                        </a:lnTo>
                        <a:lnTo>
                          <a:pt x="771" y="161"/>
                        </a:lnTo>
                        <a:lnTo>
                          <a:pt x="791" y="170"/>
                        </a:lnTo>
                        <a:lnTo>
                          <a:pt x="811" y="180"/>
                        </a:lnTo>
                        <a:lnTo>
                          <a:pt x="828" y="189"/>
                        </a:lnTo>
                        <a:lnTo>
                          <a:pt x="844" y="199"/>
                        </a:lnTo>
                        <a:lnTo>
                          <a:pt x="857" y="211"/>
                        </a:lnTo>
                        <a:lnTo>
                          <a:pt x="866" y="223"/>
                        </a:lnTo>
                        <a:lnTo>
                          <a:pt x="873" y="235"/>
                        </a:lnTo>
                        <a:lnTo>
                          <a:pt x="875" y="248"/>
                        </a:lnTo>
                        <a:lnTo>
                          <a:pt x="873" y="261"/>
                        </a:lnTo>
                        <a:lnTo>
                          <a:pt x="865" y="262"/>
                        </a:lnTo>
                        <a:lnTo>
                          <a:pt x="855" y="264"/>
                        </a:lnTo>
                        <a:lnTo>
                          <a:pt x="848" y="265"/>
                        </a:lnTo>
                        <a:lnTo>
                          <a:pt x="838" y="268"/>
                        </a:lnTo>
                        <a:lnTo>
                          <a:pt x="829" y="269"/>
                        </a:lnTo>
                        <a:lnTo>
                          <a:pt x="820" y="270"/>
                        </a:lnTo>
                        <a:lnTo>
                          <a:pt x="812" y="273"/>
                        </a:lnTo>
                        <a:lnTo>
                          <a:pt x="803" y="274"/>
                        </a:lnTo>
                        <a:lnTo>
                          <a:pt x="815" y="309"/>
                        </a:lnTo>
                        <a:lnTo>
                          <a:pt x="823" y="341"/>
                        </a:lnTo>
                        <a:lnTo>
                          <a:pt x="828" y="377"/>
                        </a:lnTo>
                        <a:lnTo>
                          <a:pt x="830" y="419"/>
                        </a:lnTo>
                        <a:lnTo>
                          <a:pt x="816" y="426"/>
                        </a:lnTo>
                        <a:lnTo>
                          <a:pt x="798" y="423"/>
                        </a:lnTo>
                        <a:lnTo>
                          <a:pt x="777" y="415"/>
                        </a:lnTo>
                        <a:lnTo>
                          <a:pt x="754" y="403"/>
                        </a:lnTo>
                        <a:lnTo>
                          <a:pt x="731" y="389"/>
                        </a:lnTo>
                        <a:lnTo>
                          <a:pt x="707" y="377"/>
                        </a:lnTo>
                        <a:lnTo>
                          <a:pt x="687" y="368"/>
                        </a:lnTo>
                        <a:lnTo>
                          <a:pt x="670" y="364"/>
                        </a:lnTo>
                        <a:lnTo>
                          <a:pt x="665" y="368"/>
                        </a:lnTo>
                        <a:lnTo>
                          <a:pt x="660" y="372"/>
                        </a:lnTo>
                        <a:lnTo>
                          <a:pt x="654" y="373"/>
                        </a:lnTo>
                        <a:lnTo>
                          <a:pt x="649" y="374"/>
                        </a:lnTo>
                        <a:lnTo>
                          <a:pt x="643" y="376"/>
                        </a:lnTo>
                        <a:lnTo>
                          <a:pt x="637" y="377"/>
                        </a:lnTo>
                        <a:lnTo>
                          <a:pt x="632" y="377"/>
                        </a:lnTo>
                        <a:lnTo>
                          <a:pt x="627" y="378"/>
                        </a:lnTo>
                        <a:lnTo>
                          <a:pt x="622" y="395"/>
                        </a:lnTo>
                        <a:lnTo>
                          <a:pt x="618" y="406"/>
                        </a:lnTo>
                        <a:lnTo>
                          <a:pt x="612" y="414"/>
                        </a:lnTo>
                        <a:lnTo>
                          <a:pt x="607" y="418"/>
                        </a:lnTo>
                        <a:lnTo>
                          <a:pt x="599" y="420"/>
                        </a:lnTo>
                        <a:lnTo>
                          <a:pt x="590" y="420"/>
                        </a:lnTo>
                        <a:lnTo>
                          <a:pt x="577" y="422"/>
                        </a:lnTo>
                        <a:lnTo>
                          <a:pt x="561" y="422"/>
                        </a:lnTo>
                        <a:lnTo>
                          <a:pt x="556" y="428"/>
                        </a:lnTo>
                        <a:lnTo>
                          <a:pt x="549" y="435"/>
                        </a:lnTo>
                        <a:lnTo>
                          <a:pt x="544" y="443"/>
                        </a:lnTo>
                        <a:lnTo>
                          <a:pt x="537" y="449"/>
                        </a:lnTo>
                        <a:lnTo>
                          <a:pt x="535" y="449"/>
                        </a:lnTo>
                        <a:lnTo>
                          <a:pt x="532" y="449"/>
                        </a:lnTo>
                        <a:lnTo>
                          <a:pt x="531" y="449"/>
                        </a:lnTo>
                        <a:lnTo>
                          <a:pt x="528" y="4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983680" y="4910400"/>
                    <a:ext cx="74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49">
                        <a:moveTo>
                          <a:pt x="8" y="49"/>
                        </a:moveTo>
                        <a:lnTo>
                          <a:pt x="7" y="47"/>
                        </a:lnTo>
                        <a:lnTo>
                          <a:pt x="4" y="46"/>
                        </a:lnTo>
                        <a:lnTo>
                          <a:pt x="3" y="45"/>
                        </a:lnTo>
                        <a:lnTo>
                          <a:pt x="0" y="43"/>
                        </a:lnTo>
                        <a:lnTo>
                          <a:pt x="0" y="41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1" y="33"/>
                        </a:lnTo>
                        <a:lnTo>
                          <a:pt x="30" y="26"/>
                        </a:lnTo>
                        <a:lnTo>
                          <a:pt x="60" y="20"/>
                        </a:lnTo>
                        <a:lnTo>
                          <a:pt x="91" y="15"/>
                        </a:lnTo>
                        <a:lnTo>
                          <a:pt x="122" y="11"/>
                        </a:lnTo>
                        <a:lnTo>
                          <a:pt x="154" y="7"/>
                        </a:lnTo>
                        <a:lnTo>
                          <a:pt x="185" y="4"/>
                        </a:lnTo>
                        <a:lnTo>
                          <a:pt x="217" y="3"/>
                        </a:lnTo>
                        <a:lnTo>
                          <a:pt x="250" y="1"/>
                        </a:lnTo>
                        <a:lnTo>
                          <a:pt x="281" y="0"/>
                        </a:lnTo>
                        <a:lnTo>
                          <a:pt x="314" y="0"/>
                        </a:lnTo>
                        <a:lnTo>
                          <a:pt x="346" y="0"/>
                        </a:lnTo>
                        <a:lnTo>
                          <a:pt x="377" y="0"/>
                        </a:lnTo>
                        <a:lnTo>
                          <a:pt x="410" y="0"/>
                        </a:lnTo>
                        <a:lnTo>
                          <a:pt x="440" y="1"/>
                        </a:lnTo>
                        <a:lnTo>
                          <a:pt x="472" y="1"/>
                        </a:lnTo>
                        <a:lnTo>
                          <a:pt x="502" y="3"/>
                        </a:lnTo>
                        <a:lnTo>
                          <a:pt x="503" y="8"/>
                        </a:lnTo>
                        <a:lnTo>
                          <a:pt x="502" y="12"/>
                        </a:lnTo>
                        <a:lnTo>
                          <a:pt x="501" y="15"/>
                        </a:lnTo>
                        <a:lnTo>
                          <a:pt x="498" y="17"/>
                        </a:lnTo>
                        <a:lnTo>
                          <a:pt x="466" y="18"/>
                        </a:lnTo>
                        <a:lnTo>
                          <a:pt x="435" y="20"/>
                        </a:lnTo>
                        <a:lnTo>
                          <a:pt x="405" y="21"/>
                        </a:lnTo>
                        <a:lnTo>
                          <a:pt x="373" y="22"/>
                        </a:lnTo>
                        <a:lnTo>
                          <a:pt x="343" y="24"/>
                        </a:lnTo>
                        <a:lnTo>
                          <a:pt x="311" y="25"/>
                        </a:lnTo>
                        <a:lnTo>
                          <a:pt x="281" y="26"/>
                        </a:lnTo>
                        <a:lnTo>
                          <a:pt x="251" y="29"/>
                        </a:lnTo>
                        <a:lnTo>
                          <a:pt x="219" y="30"/>
                        </a:lnTo>
                        <a:lnTo>
                          <a:pt x="189" y="32"/>
                        </a:lnTo>
                        <a:lnTo>
                          <a:pt x="159" y="34"/>
                        </a:lnTo>
                        <a:lnTo>
                          <a:pt x="129" y="37"/>
                        </a:lnTo>
                        <a:lnTo>
                          <a:pt x="99" y="39"/>
                        </a:lnTo>
                        <a:lnTo>
                          <a:pt x="68" y="42"/>
                        </a:lnTo>
                        <a:lnTo>
                          <a:pt x="38" y="45"/>
                        </a:lnTo>
                        <a:lnTo>
                          <a:pt x="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108960" y="4892400"/>
                    <a:ext cx="6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398">
                        <a:moveTo>
                          <a:pt x="234" y="398"/>
                        </a:moveTo>
                        <a:lnTo>
                          <a:pt x="221" y="386"/>
                        </a:lnTo>
                        <a:lnTo>
                          <a:pt x="210" y="381"/>
                        </a:lnTo>
                        <a:lnTo>
                          <a:pt x="203" y="380"/>
                        </a:lnTo>
                        <a:lnTo>
                          <a:pt x="197" y="381"/>
                        </a:lnTo>
                        <a:lnTo>
                          <a:pt x="191" y="385"/>
                        </a:lnTo>
                        <a:lnTo>
                          <a:pt x="183" y="389"/>
                        </a:lnTo>
                        <a:lnTo>
                          <a:pt x="175" y="393"/>
                        </a:lnTo>
                        <a:lnTo>
                          <a:pt x="163" y="396"/>
                        </a:lnTo>
                        <a:lnTo>
                          <a:pt x="151" y="378"/>
                        </a:lnTo>
                        <a:lnTo>
                          <a:pt x="142" y="368"/>
                        </a:lnTo>
                        <a:lnTo>
                          <a:pt x="136" y="361"/>
                        </a:lnTo>
                        <a:lnTo>
                          <a:pt x="130" y="360"/>
                        </a:lnTo>
                        <a:lnTo>
                          <a:pt x="124" y="363"/>
                        </a:lnTo>
                        <a:lnTo>
                          <a:pt x="114" y="367"/>
                        </a:lnTo>
                        <a:lnTo>
                          <a:pt x="103" y="372"/>
                        </a:lnTo>
                        <a:lnTo>
                          <a:pt x="86" y="377"/>
                        </a:lnTo>
                        <a:lnTo>
                          <a:pt x="83" y="356"/>
                        </a:lnTo>
                        <a:lnTo>
                          <a:pt x="79" y="343"/>
                        </a:lnTo>
                        <a:lnTo>
                          <a:pt x="74" y="336"/>
                        </a:lnTo>
                        <a:lnTo>
                          <a:pt x="68" y="336"/>
                        </a:lnTo>
                        <a:lnTo>
                          <a:pt x="61" y="339"/>
                        </a:lnTo>
                        <a:lnTo>
                          <a:pt x="51" y="343"/>
                        </a:lnTo>
                        <a:lnTo>
                          <a:pt x="41" y="348"/>
                        </a:lnTo>
                        <a:lnTo>
                          <a:pt x="28" y="351"/>
                        </a:lnTo>
                        <a:lnTo>
                          <a:pt x="30" y="335"/>
                        </a:lnTo>
                        <a:lnTo>
                          <a:pt x="33" y="319"/>
                        </a:lnTo>
                        <a:lnTo>
                          <a:pt x="37" y="303"/>
                        </a:lnTo>
                        <a:lnTo>
                          <a:pt x="40" y="288"/>
                        </a:lnTo>
                        <a:lnTo>
                          <a:pt x="34" y="284"/>
                        </a:lnTo>
                        <a:lnTo>
                          <a:pt x="30" y="282"/>
                        </a:lnTo>
                        <a:lnTo>
                          <a:pt x="24" y="281"/>
                        </a:lnTo>
                        <a:lnTo>
                          <a:pt x="19" y="281"/>
                        </a:lnTo>
                        <a:lnTo>
                          <a:pt x="13" y="281"/>
                        </a:lnTo>
                        <a:lnTo>
                          <a:pt x="8" y="281"/>
                        </a:lnTo>
                        <a:lnTo>
                          <a:pt x="4" y="282"/>
                        </a:lnTo>
                        <a:lnTo>
                          <a:pt x="0" y="282"/>
                        </a:lnTo>
                        <a:lnTo>
                          <a:pt x="4" y="268"/>
                        </a:lnTo>
                        <a:lnTo>
                          <a:pt x="11" y="255"/>
                        </a:lnTo>
                        <a:lnTo>
                          <a:pt x="17" y="242"/>
                        </a:lnTo>
                        <a:lnTo>
                          <a:pt x="24" y="231"/>
                        </a:lnTo>
                        <a:lnTo>
                          <a:pt x="26" y="221"/>
                        </a:lnTo>
                        <a:lnTo>
                          <a:pt x="24" y="211"/>
                        </a:lnTo>
                        <a:lnTo>
                          <a:pt x="16" y="204"/>
                        </a:lnTo>
                        <a:lnTo>
                          <a:pt x="0" y="196"/>
                        </a:lnTo>
                        <a:lnTo>
                          <a:pt x="4" y="181"/>
                        </a:lnTo>
                        <a:lnTo>
                          <a:pt x="12" y="171"/>
                        </a:lnTo>
                        <a:lnTo>
                          <a:pt x="21" y="163"/>
                        </a:lnTo>
                        <a:lnTo>
                          <a:pt x="30" y="152"/>
                        </a:lnTo>
                        <a:lnTo>
                          <a:pt x="26" y="131"/>
                        </a:lnTo>
                        <a:lnTo>
                          <a:pt x="24" y="119"/>
                        </a:lnTo>
                        <a:lnTo>
                          <a:pt x="23" y="112"/>
                        </a:lnTo>
                        <a:lnTo>
                          <a:pt x="23" y="102"/>
                        </a:lnTo>
                        <a:lnTo>
                          <a:pt x="33" y="93"/>
                        </a:lnTo>
                        <a:lnTo>
                          <a:pt x="42" y="89"/>
                        </a:lnTo>
                        <a:lnTo>
                          <a:pt x="50" y="87"/>
                        </a:lnTo>
                        <a:lnTo>
                          <a:pt x="57" y="85"/>
                        </a:lnTo>
                        <a:lnTo>
                          <a:pt x="62" y="83"/>
                        </a:lnTo>
                        <a:lnTo>
                          <a:pt x="66" y="76"/>
                        </a:lnTo>
                        <a:lnTo>
                          <a:pt x="68" y="64"/>
                        </a:lnTo>
                        <a:lnTo>
                          <a:pt x="71" y="46"/>
                        </a:lnTo>
                        <a:lnTo>
                          <a:pt x="75" y="44"/>
                        </a:lnTo>
                        <a:lnTo>
                          <a:pt x="79" y="43"/>
                        </a:lnTo>
                        <a:lnTo>
                          <a:pt x="83" y="42"/>
                        </a:lnTo>
                        <a:lnTo>
                          <a:pt x="88" y="41"/>
                        </a:lnTo>
                        <a:lnTo>
                          <a:pt x="95" y="41"/>
                        </a:lnTo>
                        <a:lnTo>
                          <a:pt x="104" y="39"/>
                        </a:lnTo>
                        <a:lnTo>
                          <a:pt x="117" y="39"/>
                        </a:lnTo>
                        <a:lnTo>
                          <a:pt x="134" y="38"/>
                        </a:lnTo>
                        <a:lnTo>
                          <a:pt x="137" y="31"/>
                        </a:lnTo>
                        <a:lnTo>
                          <a:pt x="138" y="23"/>
                        </a:lnTo>
                        <a:lnTo>
                          <a:pt x="141" y="17"/>
                        </a:lnTo>
                        <a:lnTo>
                          <a:pt x="143" y="10"/>
                        </a:lnTo>
                        <a:lnTo>
                          <a:pt x="153" y="12"/>
                        </a:lnTo>
                        <a:lnTo>
                          <a:pt x="162" y="13"/>
                        </a:lnTo>
                        <a:lnTo>
                          <a:pt x="170" y="16"/>
                        </a:lnTo>
                        <a:lnTo>
                          <a:pt x="178" y="17"/>
                        </a:lnTo>
                        <a:lnTo>
                          <a:pt x="187" y="17"/>
                        </a:lnTo>
                        <a:lnTo>
                          <a:pt x="196" y="14"/>
                        </a:lnTo>
                        <a:lnTo>
                          <a:pt x="206" y="9"/>
                        </a:lnTo>
                        <a:lnTo>
                          <a:pt x="218" y="0"/>
                        </a:lnTo>
                        <a:lnTo>
                          <a:pt x="221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8" y="13"/>
                        </a:lnTo>
                        <a:lnTo>
                          <a:pt x="245" y="22"/>
                        </a:lnTo>
                        <a:lnTo>
                          <a:pt x="250" y="26"/>
                        </a:lnTo>
                        <a:lnTo>
                          <a:pt x="255" y="27"/>
                        </a:lnTo>
                        <a:lnTo>
                          <a:pt x="262" y="27"/>
                        </a:lnTo>
                        <a:lnTo>
                          <a:pt x="268" y="26"/>
                        </a:lnTo>
                        <a:lnTo>
                          <a:pt x="276" y="26"/>
                        </a:lnTo>
                        <a:lnTo>
                          <a:pt x="287" y="27"/>
                        </a:lnTo>
                        <a:lnTo>
                          <a:pt x="291" y="38"/>
                        </a:lnTo>
                        <a:lnTo>
                          <a:pt x="293" y="46"/>
                        </a:lnTo>
                        <a:lnTo>
                          <a:pt x="297" y="52"/>
                        </a:lnTo>
                        <a:lnTo>
                          <a:pt x="302" y="58"/>
                        </a:lnTo>
                        <a:lnTo>
                          <a:pt x="309" y="62"/>
                        </a:lnTo>
                        <a:lnTo>
                          <a:pt x="317" y="64"/>
                        </a:lnTo>
                        <a:lnTo>
                          <a:pt x="329" y="67"/>
                        </a:lnTo>
                        <a:lnTo>
                          <a:pt x="343" y="67"/>
                        </a:lnTo>
                        <a:lnTo>
                          <a:pt x="344" y="77"/>
                        </a:lnTo>
                        <a:lnTo>
                          <a:pt x="346" y="89"/>
                        </a:lnTo>
                        <a:lnTo>
                          <a:pt x="348" y="100"/>
                        </a:lnTo>
                        <a:lnTo>
                          <a:pt x="350" y="112"/>
                        </a:lnTo>
                        <a:lnTo>
                          <a:pt x="355" y="113"/>
                        </a:lnTo>
                        <a:lnTo>
                          <a:pt x="359" y="114"/>
                        </a:lnTo>
                        <a:lnTo>
                          <a:pt x="367" y="114"/>
                        </a:lnTo>
                        <a:lnTo>
                          <a:pt x="379" y="114"/>
                        </a:lnTo>
                        <a:lnTo>
                          <a:pt x="380" y="123"/>
                        </a:lnTo>
                        <a:lnTo>
                          <a:pt x="379" y="131"/>
                        </a:lnTo>
                        <a:lnTo>
                          <a:pt x="377" y="143"/>
                        </a:lnTo>
                        <a:lnTo>
                          <a:pt x="373" y="164"/>
                        </a:lnTo>
                        <a:lnTo>
                          <a:pt x="394" y="173"/>
                        </a:lnTo>
                        <a:lnTo>
                          <a:pt x="405" y="179"/>
                        </a:lnTo>
                        <a:lnTo>
                          <a:pt x="409" y="181"/>
                        </a:lnTo>
                        <a:lnTo>
                          <a:pt x="411" y="185"/>
                        </a:lnTo>
                        <a:lnTo>
                          <a:pt x="398" y="198"/>
                        </a:lnTo>
                        <a:lnTo>
                          <a:pt x="390" y="208"/>
                        </a:lnTo>
                        <a:lnTo>
                          <a:pt x="390" y="218"/>
                        </a:lnTo>
                        <a:lnTo>
                          <a:pt x="404" y="238"/>
                        </a:lnTo>
                        <a:lnTo>
                          <a:pt x="404" y="243"/>
                        </a:lnTo>
                        <a:lnTo>
                          <a:pt x="404" y="248"/>
                        </a:lnTo>
                        <a:lnTo>
                          <a:pt x="404" y="254"/>
                        </a:lnTo>
                        <a:lnTo>
                          <a:pt x="404" y="259"/>
                        </a:lnTo>
                        <a:lnTo>
                          <a:pt x="397" y="264"/>
                        </a:lnTo>
                        <a:lnTo>
                          <a:pt x="390" y="268"/>
                        </a:lnTo>
                        <a:lnTo>
                          <a:pt x="385" y="271"/>
                        </a:lnTo>
                        <a:lnTo>
                          <a:pt x="380" y="273"/>
                        </a:lnTo>
                        <a:lnTo>
                          <a:pt x="373" y="275"/>
                        </a:lnTo>
                        <a:lnTo>
                          <a:pt x="368" y="276"/>
                        </a:lnTo>
                        <a:lnTo>
                          <a:pt x="361" y="279"/>
                        </a:lnTo>
                        <a:lnTo>
                          <a:pt x="355" y="280"/>
                        </a:lnTo>
                        <a:lnTo>
                          <a:pt x="356" y="290"/>
                        </a:lnTo>
                        <a:lnTo>
                          <a:pt x="358" y="300"/>
                        </a:lnTo>
                        <a:lnTo>
                          <a:pt x="360" y="310"/>
                        </a:lnTo>
                        <a:lnTo>
                          <a:pt x="361" y="321"/>
                        </a:lnTo>
                        <a:lnTo>
                          <a:pt x="355" y="322"/>
                        </a:lnTo>
                        <a:lnTo>
                          <a:pt x="350" y="323"/>
                        </a:lnTo>
                        <a:lnTo>
                          <a:pt x="343" y="326"/>
                        </a:lnTo>
                        <a:lnTo>
                          <a:pt x="338" y="327"/>
                        </a:lnTo>
                        <a:lnTo>
                          <a:pt x="331" y="330"/>
                        </a:lnTo>
                        <a:lnTo>
                          <a:pt x="326" y="331"/>
                        </a:lnTo>
                        <a:lnTo>
                          <a:pt x="319" y="334"/>
                        </a:lnTo>
                        <a:lnTo>
                          <a:pt x="313" y="335"/>
                        </a:lnTo>
                        <a:lnTo>
                          <a:pt x="313" y="344"/>
                        </a:lnTo>
                        <a:lnTo>
                          <a:pt x="313" y="352"/>
                        </a:lnTo>
                        <a:lnTo>
                          <a:pt x="312" y="361"/>
                        </a:lnTo>
                        <a:lnTo>
                          <a:pt x="312" y="371"/>
                        </a:lnTo>
                        <a:lnTo>
                          <a:pt x="298" y="371"/>
                        </a:lnTo>
                        <a:lnTo>
                          <a:pt x="288" y="369"/>
                        </a:lnTo>
                        <a:lnTo>
                          <a:pt x="279" y="368"/>
                        </a:lnTo>
                        <a:lnTo>
                          <a:pt x="272" y="368"/>
                        </a:lnTo>
                        <a:lnTo>
                          <a:pt x="267" y="368"/>
                        </a:lnTo>
                        <a:lnTo>
                          <a:pt x="262" y="372"/>
                        </a:lnTo>
                        <a:lnTo>
                          <a:pt x="256" y="378"/>
                        </a:lnTo>
                        <a:lnTo>
                          <a:pt x="250" y="389"/>
                        </a:lnTo>
                        <a:lnTo>
                          <a:pt x="242" y="396"/>
                        </a:lnTo>
                        <a:lnTo>
                          <a:pt x="238" y="398"/>
                        </a:lnTo>
                        <a:lnTo>
                          <a:pt x="235" y="398"/>
                        </a:lnTo>
                        <a:lnTo>
                          <a:pt x="234" y="398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073320" y="49104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49">
                        <a:moveTo>
                          <a:pt x="18" y="249"/>
                        </a:moveTo>
                        <a:lnTo>
                          <a:pt x="24" y="230"/>
                        </a:lnTo>
                        <a:lnTo>
                          <a:pt x="32" y="212"/>
                        </a:lnTo>
                        <a:lnTo>
                          <a:pt x="43" y="192"/>
                        </a:lnTo>
                        <a:lnTo>
                          <a:pt x="57" y="174"/>
                        </a:lnTo>
                        <a:lnTo>
                          <a:pt x="71" y="157"/>
                        </a:lnTo>
                        <a:lnTo>
                          <a:pt x="85" y="141"/>
                        </a:lnTo>
                        <a:lnTo>
                          <a:pt x="100" y="126"/>
                        </a:lnTo>
                        <a:lnTo>
                          <a:pt x="114" y="113"/>
                        </a:lnTo>
                        <a:lnTo>
                          <a:pt x="113" y="110"/>
                        </a:lnTo>
                        <a:lnTo>
                          <a:pt x="113" y="107"/>
                        </a:lnTo>
                        <a:lnTo>
                          <a:pt x="112" y="104"/>
                        </a:lnTo>
                        <a:lnTo>
                          <a:pt x="112" y="101"/>
                        </a:lnTo>
                        <a:lnTo>
                          <a:pt x="105" y="100"/>
                        </a:lnTo>
                        <a:lnTo>
                          <a:pt x="99" y="99"/>
                        </a:lnTo>
                        <a:lnTo>
                          <a:pt x="92" y="97"/>
                        </a:lnTo>
                        <a:lnTo>
                          <a:pt x="83" y="96"/>
                        </a:lnTo>
                        <a:lnTo>
                          <a:pt x="71" y="95"/>
                        </a:lnTo>
                        <a:lnTo>
                          <a:pt x="54" y="95"/>
                        </a:lnTo>
                        <a:lnTo>
                          <a:pt x="30" y="93"/>
                        </a:lnTo>
                        <a:lnTo>
                          <a:pt x="0" y="92"/>
                        </a:lnTo>
                        <a:lnTo>
                          <a:pt x="0" y="89"/>
                        </a:lnTo>
                        <a:lnTo>
                          <a:pt x="0" y="87"/>
                        </a:lnTo>
                        <a:lnTo>
                          <a:pt x="0" y="86"/>
                        </a:lnTo>
                        <a:lnTo>
                          <a:pt x="1" y="83"/>
                        </a:lnTo>
                        <a:lnTo>
                          <a:pt x="15" y="75"/>
                        </a:lnTo>
                        <a:lnTo>
                          <a:pt x="28" y="67"/>
                        </a:lnTo>
                        <a:lnTo>
                          <a:pt x="42" y="61"/>
                        </a:lnTo>
                        <a:lnTo>
                          <a:pt x="55" y="53"/>
                        </a:lnTo>
                        <a:lnTo>
                          <a:pt x="70" y="45"/>
                        </a:lnTo>
                        <a:lnTo>
                          <a:pt x="84" y="38"/>
                        </a:lnTo>
                        <a:lnTo>
                          <a:pt x="99" y="30"/>
                        </a:lnTo>
                        <a:lnTo>
                          <a:pt x="113" y="24"/>
                        </a:lnTo>
                        <a:lnTo>
                          <a:pt x="129" y="18"/>
                        </a:lnTo>
                        <a:lnTo>
                          <a:pt x="143" y="13"/>
                        </a:lnTo>
                        <a:lnTo>
                          <a:pt x="159" y="8"/>
                        </a:lnTo>
                        <a:lnTo>
                          <a:pt x="175" y="5"/>
                        </a:lnTo>
                        <a:lnTo>
                          <a:pt x="191" y="1"/>
                        </a:lnTo>
                        <a:lnTo>
                          <a:pt x="206" y="0"/>
                        </a:lnTo>
                        <a:lnTo>
                          <a:pt x="223" y="0"/>
                        </a:lnTo>
                        <a:lnTo>
                          <a:pt x="239" y="0"/>
                        </a:lnTo>
                        <a:lnTo>
                          <a:pt x="243" y="9"/>
                        </a:lnTo>
                        <a:lnTo>
                          <a:pt x="246" y="15"/>
                        </a:lnTo>
                        <a:lnTo>
                          <a:pt x="246" y="18"/>
                        </a:lnTo>
                        <a:lnTo>
                          <a:pt x="244" y="22"/>
                        </a:lnTo>
                        <a:lnTo>
                          <a:pt x="233" y="26"/>
                        </a:lnTo>
                        <a:lnTo>
                          <a:pt x="219" y="29"/>
                        </a:lnTo>
                        <a:lnTo>
                          <a:pt x="208" y="33"/>
                        </a:lnTo>
                        <a:lnTo>
                          <a:pt x="195" y="36"/>
                        </a:lnTo>
                        <a:lnTo>
                          <a:pt x="181" y="39"/>
                        </a:lnTo>
                        <a:lnTo>
                          <a:pt x="170" y="43"/>
                        </a:lnTo>
                        <a:lnTo>
                          <a:pt x="156" y="46"/>
                        </a:lnTo>
                        <a:lnTo>
                          <a:pt x="145" y="50"/>
                        </a:lnTo>
                        <a:lnTo>
                          <a:pt x="151" y="50"/>
                        </a:lnTo>
                        <a:lnTo>
                          <a:pt x="158" y="50"/>
                        </a:lnTo>
                        <a:lnTo>
                          <a:pt x="166" y="50"/>
                        </a:lnTo>
                        <a:lnTo>
                          <a:pt x="175" y="49"/>
                        </a:lnTo>
                        <a:lnTo>
                          <a:pt x="185" y="47"/>
                        </a:lnTo>
                        <a:lnTo>
                          <a:pt x="197" y="47"/>
                        </a:lnTo>
                        <a:lnTo>
                          <a:pt x="210" y="46"/>
                        </a:lnTo>
                        <a:lnTo>
                          <a:pt x="225" y="46"/>
                        </a:lnTo>
                        <a:lnTo>
                          <a:pt x="216" y="53"/>
                        </a:lnTo>
                        <a:lnTo>
                          <a:pt x="205" y="57"/>
                        </a:lnTo>
                        <a:lnTo>
                          <a:pt x="195" y="61"/>
                        </a:lnTo>
                        <a:lnTo>
                          <a:pt x="184" y="62"/>
                        </a:lnTo>
                        <a:lnTo>
                          <a:pt x="173" y="63"/>
                        </a:lnTo>
                        <a:lnTo>
                          <a:pt x="163" y="66"/>
                        </a:lnTo>
                        <a:lnTo>
                          <a:pt x="156" y="68"/>
                        </a:lnTo>
                        <a:lnTo>
                          <a:pt x="151" y="74"/>
                        </a:lnTo>
                        <a:lnTo>
                          <a:pt x="154" y="75"/>
                        </a:lnTo>
                        <a:lnTo>
                          <a:pt x="158" y="75"/>
                        </a:lnTo>
                        <a:lnTo>
                          <a:pt x="162" y="75"/>
                        </a:lnTo>
                        <a:lnTo>
                          <a:pt x="167" y="74"/>
                        </a:lnTo>
                        <a:lnTo>
                          <a:pt x="175" y="74"/>
                        </a:lnTo>
                        <a:lnTo>
                          <a:pt x="184" y="72"/>
                        </a:lnTo>
                        <a:lnTo>
                          <a:pt x="198" y="71"/>
                        </a:lnTo>
                        <a:lnTo>
                          <a:pt x="216" y="71"/>
                        </a:lnTo>
                        <a:lnTo>
                          <a:pt x="217" y="75"/>
                        </a:lnTo>
                        <a:lnTo>
                          <a:pt x="218" y="79"/>
                        </a:lnTo>
                        <a:lnTo>
                          <a:pt x="219" y="83"/>
                        </a:lnTo>
                        <a:lnTo>
                          <a:pt x="221" y="87"/>
                        </a:lnTo>
                        <a:lnTo>
                          <a:pt x="212" y="88"/>
                        </a:lnTo>
                        <a:lnTo>
                          <a:pt x="201" y="91"/>
                        </a:lnTo>
                        <a:lnTo>
                          <a:pt x="191" y="93"/>
                        </a:lnTo>
                        <a:lnTo>
                          <a:pt x="180" y="95"/>
                        </a:lnTo>
                        <a:lnTo>
                          <a:pt x="171" y="99"/>
                        </a:lnTo>
                        <a:lnTo>
                          <a:pt x="162" y="103"/>
                        </a:lnTo>
                        <a:lnTo>
                          <a:pt x="154" y="107"/>
                        </a:lnTo>
                        <a:lnTo>
                          <a:pt x="147" y="112"/>
                        </a:lnTo>
                        <a:lnTo>
                          <a:pt x="150" y="113"/>
                        </a:lnTo>
                        <a:lnTo>
                          <a:pt x="154" y="113"/>
                        </a:lnTo>
                        <a:lnTo>
                          <a:pt x="159" y="113"/>
                        </a:lnTo>
                        <a:lnTo>
                          <a:pt x="166" y="112"/>
                        </a:lnTo>
                        <a:lnTo>
                          <a:pt x="177" y="110"/>
                        </a:lnTo>
                        <a:lnTo>
                          <a:pt x="192" y="108"/>
                        </a:lnTo>
                        <a:lnTo>
                          <a:pt x="214" y="104"/>
                        </a:lnTo>
                        <a:lnTo>
                          <a:pt x="242" y="99"/>
                        </a:lnTo>
                        <a:lnTo>
                          <a:pt x="240" y="101"/>
                        </a:lnTo>
                        <a:lnTo>
                          <a:pt x="240" y="105"/>
                        </a:lnTo>
                        <a:lnTo>
                          <a:pt x="239" y="109"/>
                        </a:lnTo>
                        <a:lnTo>
                          <a:pt x="238" y="113"/>
                        </a:lnTo>
                        <a:lnTo>
                          <a:pt x="227" y="117"/>
                        </a:lnTo>
                        <a:lnTo>
                          <a:pt x="217" y="122"/>
                        </a:lnTo>
                        <a:lnTo>
                          <a:pt x="205" y="126"/>
                        </a:lnTo>
                        <a:lnTo>
                          <a:pt x="195" y="130"/>
                        </a:lnTo>
                        <a:lnTo>
                          <a:pt x="184" y="135"/>
                        </a:lnTo>
                        <a:lnTo>
                          <a:pt x="173" y="139"/>
                        </a:lnTo>
                        <a:lnTo>
                          <a:pt x="162" y="143"/>
                        </a:lnTo>
                        <a:lnTo>
                          <a:pt x="151" y="147"/>
                        </a:lnTo>
                        <a:lnTo>
                          <a:pt x="159" y="147"/>
                        </a:lnTo>
                        <a:lnTo>
                          <a:pt x="167" y="146"/>
                        </a:lnTo>
                        <a:lnTo>
                          <a:pt x="176" y="146"/>
                        </a:lnTo>
                        <a:lnTo>
                          <a:pt x="185" y="145"/>
                        </a:lnTo>
                        <a:lnTo>
                          <a:pt x="193" y="143"/>
                        </a:lnTo>
                        <a:lnTo>
                          <a:pt x="202" y="142"/>
                        </a:lnTo>
                        <a:lnTo>
                          <a:pt x="213" y="141"/>
                        </a:lnTo>
                        <a:lnTo>
                          <a:pt x="222" y="139"/>
                        </a:lnTo>
                        <a:lnTo>
                          <a:pt x="217" y="150"/>
                        </a:lnTo>
                        <a:lnTo>
                          <a:pt x="209" y="158"/>
                        </a:lnTo>
                        <a:lnTo>
                          <a:pt x="201" y="166"/>
                        </a:lnTo>
                        <a:lnTo>
                          <a:pt x="191" y="170"/>
                        </a:lnTo>
                        <a:lnTo>
                          <a:pt x="180" y="175"/>
                        </a:lnTo>
                        <a:lnTo>
                          <a:pt x="170" y="179"/>
                        </a:lnTo>
                        <a:lnTo>
                          <a:pt x="158" y="181"/>
                        </a:lnTo>
                        <a:lnTo>
                          <a:pt x="147" y="185"/>
                        </a:lnTo>
                        <a:lnTo>
                          <a:pt x="131" y="193"/>
                        </a:lnTo>
                        <a:lnTo>
                          <a:pt x="114" y="201"/>
                        </a:lnTo>
                        <a:lnTo>
                          <a:pt x="99" y="209"/>
                        </a:lnTo>
                        <a:lnTo>
                          <a:pt x="83" y="217"/>
                        </a:lnTo>
                        <a:lnTo>
                          <a:pt x="66" y="225"/>
                        </a:lnTo>
                        <a:lnTo>
                          <a:pt x="50" y="233"/>
                        </a:lnTo>
                        <a:lnTo>
                          <a:pt x="34" y="241"/>
                        </a:lnTo>
                        <a:lnTo>
                          <a:pt x="18" y="24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170520" y="4923360"/>
                    <a:ext cx="15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52">
                        <a:moveTo>
                          <a:pt x="97" y="152"/>
                        </a:moveTo>
                        <a:lnTo>
                          <a:pt x="89" y="146"/>
                        </a:lnTo>
                        <a:lnTo>
                          <a:pt x="83" y="141"/>
                        </a:lnTo>
                        <a:lnTo>
                          <a:pt x="79" y="139"/>
                        </a:lnTo>
                        <a:lnTo>
                          <a:pt x="75" y="136"/>
                        </a:lnTo>
                        <a:lnTo>
                          <a:pt x="71" y="133"/>
                        </a:lnTo>
                        <a:lnTo>
                          <a:pt x="66" y="131"/>
                        </a:lnTo>
                        <a:lnTo>
                          <a:pt x="62" y="128"/>
                        </a:lnTo>
                        <a:lnTo>
                          <a:pt x="55" y="124"/>
                        </a:lnTo>
                        <a:lnTo>
                          <a:pt x="53" y="112"/>
                        </a:lnTo>
                        <a:lnTo>
                          <a:pt x="49" y="103"/>
                        </a:lnTo>
                        <a:lnTo>
                          <a:pt x="42" y="95"/>
                        </a:lnTo>
                        <a:lnTo>
                          <a:pt x="37" y="89"/>
                        </a:lnTo>
                        <a:lnTo>
                          <a:pt x="29" y="82"/>
                        </a:lnTo>
                        <a:lnTo>
                          <a:pt x="22" y="77"/>
                        </a:lnTo>
                        <a:lnTo>
                          <a:pt x="14" y="73"/>
                        </a:lnTo>
                        <a:lnTo>
                          <a:pt x="7" y="69"/>
                        </a:lnTo>
                        <a:lnTo>
                          <a:pt x="7" y="64"/>
                        </a:lnTo>
                        <a:lnTo>
                          <a:pt x="8" y="60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21" y="53"/>
                        </a:lnTo>
                        <a:lnTo>
                          <a:pt x="30" y="56"/>
                        </a:lnTo>
                        <a:lnTo>
                          <a:pt x="36" y="58"/>
                        </a:lnTo>
                        <a:lnTo>
                          <a:pt x="41" y="60"/>
                        </a:lnTo>
                        <a:lnTo>
                          <a:pt x="36" y="49"/>
                        </a:lnTo>
                        <a:lnTo>
                          <a:pt x="25" y="39"/>
                        </a:lnTo>
                        <a:lnTo>
                          <a:pt x="13" y="29"/>
                        </a:lnTo>
                        <a:lnTo>
                          <a:pt x="7" y="24"/>
                        </a:lnTo>
                        <a:lnTo>
                          <a:pt x="5" y="18"/>
                        </a:lnTo>
                        <a:lnTo>
                          <a:pt x="3" y="12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26" y="6"/>
                        </a:lnTo>
                        <a:lnTo>
                          <a:pt x="49" y="15"/>
                        </a:lnTo>
                        <a:lnTo>
                          <a:pt x="67" y="29"/>
                        </a:lnTo>
                        <a:lnTo>
                          <a:pt x="83" y="48"/>
                        </a:lnTo>
                        <a:lnTo>
                          <a:pt x="95" y="70"/>
                        </a:lnTo>
                        <a:lnTo>
                          <a:pt x="103" y="95"/>
                        </a:lnTo>
                        <a:lnTo>
                          <a:pt x="106" y="121"/>
                        </a:lnTo>
                        <a:lnTo>
                          <a:pt x="106" y="152"/>
                        </a:lnTo>
                        <a:lnTo>
                          <a:pt x="104" y="152"/>
                        </a:lnTo>
                        <a:lnTo>
                          <a:pt x="101" y="152"/>
                        </a:lnTo>
                        <a:lnTo>
                          <a:pt x="100" y="152"/>
                        </a:lnTo>
                        <a:lnTo>
                          <a:pt x="97" y="15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117600" y="4902480"/>
                    <a:ext cx="42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141" y="275"/>
                        </a:moveTo>
                        <a:lnTo>
                          <a:pt x="116" y="270"/>
                        </a:lnTo>
                        <a:lnTo>
                          <a:pt x="93" y="264"/>
                        </a:lnTo>
                        <a:lnTo>
                          <a:pt x="74" y="258"/>
                        </a:lnTo>
                        <a:lnTo>
                          <a:pt x="56" y="249"/>
                        </a:lnTo>
                        <a:lnTo>
                          <a:pt x="41" y="238"/>
                        </a:lnTo>
                        <a:lnTo>
                          <a:pt x="26" y="225"/>
                        </a:lnTo>
                        <a:lnTo>
                          <a:pt x="14" y="208"/>
                        </a:lnTo>
                        <a:lnTo>
                          <a:pt x="3" y="188"/>
                        </a:lnTo>
                        <a:lnTo>
                          <a:pt x="0" y="151"/>
                        </a:lnTo>
                        <a:lnTo>
                          <a:pt x="3" y="117"/>
                        </a:lnTo>
                        <a:lnTo>
                          <a:pt x="12" y="88"/>
                        </a:lnTo>
                        <a:lnTo>
                          <a:pt x="26" y="62"/>
                        </a:lnTo>
                        <a:lnTo>
                          <a:pt x="46" y="41"/>
                        </a:lnTo>
                        <a:lnTo>
                          <a:pt x="67" y="24"/>
                        </a:lnTo>
                        <a:lnTo>
                          <a:pt x="92" y="11"/>
                        </a:lnTo>
                        <a:lnTo>
                          <a:pt x="118" y="3"/>
                        </a:lnTo>
                        <a:lnTo>
                          <a:pt x="146" y="0"/>
                        </a:lnTo>
                        <a:lnTo>
                          <a:pt x="173" y="1"/>
                        </a:lnTo>
                        <a:lnTo>
                          <a:pt x="200" y="8"/>
                        </a:lnTo>
                        <a:lnTo>
                          <a:pt x="225" y="20"/>
                        </a:lnTo>
                        <a:lnTo>
                          <a:pt x="247" y="38"/>
                        </a:lnTo>
                        <a:lnTo>
                          <a:pt x="267" y="61"/>
                        </a:lnTo>
                        <a:lnTo>
                          <a:pt x="281" y="90"/>
                        </a:lnTo>
                        <a:lnTo>
                          <a:pt x="292" y="125"/>
                        </a:lnTo>
                        <a:lnTo>
                          <a:pt x="288" y="155"/>
                        </a:lnTo>
                        <a:lnTo>
                          <a:pt x="279" y="183"/>
                        </a:lnTo>
                        <a:lnTo>
                          <a:pt x="264" y="208"/>
                        </a:lnTo>
                        <a:lnTo>
                          <a:pt x="247" y="230"/>
                        </a:lnTo>
                        <a:lnTo>
                          <a:pt x="225" y="249"/>
                        </a:lnTo>
                        <a:lnTo>
                          <a:pt x="200" y="263"/>
                        </a:lnTo>
                        <a:lnTo>
                          <a:pt x="172" y="272"/>
                        </a:lnTo>
                        <a:lnTo>
                          <a:pt x="141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978640" y="4871880"/>
                    <a:ext cx="871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227">
                        <a:moveTo>
                          <a:pt x="26" y="227"/>
                        </a:moveTo>
                        <a:lnTo>
                          <a:pt x="8" y="213"/>
                        </a:lnTo>
                        <a:lnTo>
                          <a:pt x="0" y="192"/>
                        </a:lnTo>
                        <a:lnTo>
                          <a:pt x="2" y="166"/>
                        </a:lnTo>
                        <a:lnTo>
                          <a:pt x="12" y="138"/>
                        </a:lnTo>
                        <a:lnTo>
                          <a:pt x="25" y="109"/>
                        </a:lnTo>
                        <a:lnTo>
                          <a:pt x="41" y="84"/>
                        </a:lnTo>
                        <a:lnTo>
                          <a:pt x="55" y="62"/>
                        </a:lnTo>
                        <a:lnTo>
                          <a:pt x="67" y="46"/>
                        </a:lnTo>
                        <a:lnTo>
                          <a:pt x="79" y="36"/>
                        </a:lnTo>
                        <a:lnTo>
                          <a:pt x="93" y="22"/>
                        </a:lnTo>
                        <a:lnTo>
                          <a:pt x="109" y="12"/>
                        </a:lnTo>
                        <a:lnTo>
                          <a:pt x="125" y="4"/>
                        </a:lnTo>
                        <a:lnTo>
                          <a:pt x="140" y="0"/>
                        </a:lnTo>
                        <a:lnTo>
                          <a:pt x="154" y="3"/>
                        </a:lnTo>
                        <a:lnTo>
                          <a:pt x="164" y="15"/>
                        </a:lnTo>
                        <a:lnTo>
                          <a:pt x="169" y="37"/>
                        </a:lnTo>
                        <a:lnTo>
                          <a:pt x="167" y="39"/>
                        </a:lnTo>
                        <a:lnTo>
                          <a:pt x="164" y="42"/>
                        </a:lnTo>
                        <a:lnTo>
                          <a:pt x="160" y="42"/>
                        </a:lnTo>
                        <a:lnTo>
                          <a:pt x="154" y="43"/>
                        </a:lnTo>
                        <a:lnTo>
                          <a:pt x="152" y="38"/>
                        </a:lnTo>
                        <a:lnTo>
                          <a:pt x="152" y="32"/>
                        </a:lnTo>
                        <a:lnTo>
                          <a:pt x="151" y="26"/>
                        </a:lnTo>
                        <a:lnTo>
                          <a:pt x="151" y="21"/>
                        </a:lnTo>
                        <a:lnTo>
                          <a:pt x="121" y="26"/>
                        </a:lnTo>
                        <a:lnTo>
                          <a:pt x="96" y="41"/>
                        </a:lnTo>
                        <a:lnTo>
                          <a:pt x="73" y="62"/>
                        </a:lnTo>
                        <a:lnTo>
                          <a:pt x="55" y="88"/>
                        </a:lnTo>
                        <a:lnTo>
                          <a:pt x="42" y="118"/>
                        </a:lnTo>
                        <a:lnTo>
                          <a:pt x="33" y="150"/>
                        </a:lnTo>
                        <a:lnTo>
                          <a:pt x="27" y="181"/>
                        </a:lnTo>
                        <a:lnTo>
                          <a:pt x="26" y="210"/>
                        </a:lnTo>
                        <a:lnTo>
                          <a:pt x="45" y="206"/>
                        </a:lnTo>
                        <a:lnTo>
                          <a:pt x="62" y="196"/>
                        </a:lnTo>
                        <a:lnTo>
                          <a:pt x="79" y="181"/>
                        </a:lnTo>
                        <a:lnTo>
                          <a:pt x="94" y="164"/>
                        </a:lnTo>
                        <a:lnTo>
                          <a:pt x="113" y="147"/>
                        </a:lnTo>
                        <a:lnTo>
                          <a:pt x="131" y="134"/>
                        </a:lnTo>
                        <a:lnTo>
                          <a:pt x="151" y="125"/>
                        </a:lnTo>
                        <a:lnTo>
                          <a:pt x="175" y="124"/>
                        </a:lnTo>
                        <a:lnTo>
                          <a:pt x="175" y="133"/>
                        </a:lnTo>
                        <a:lnTo>
                          <a:pt x="175" y="142"/>
                        </a:lnTo>
                        <a:lnTo>
                          <a:pt x="175" y="153"/>
                        </a:lnTo>
                        <a:lnTo>
                          <a:pt x="175" y="162"/>
                        </a:lnTo>
                        <a:lnTo>
                          <a:pt x="185" y="158"/>
                        </a:lnTo>
                        <a:lnTo>
                          <a:pt x="190" y="155"/>
                        </a:lnTo>
                        <a:lnTo>
                          <a:pt x="196" y="154"/>
                        </a:lnTo>
                        <a:lnTo>
                          <a:pt x="201" y="154"/>
                        </a:lnTo>
                        <a:lnTo>
                          <a:pt x="203" y="159"/>
                        </a:lnTo>
                        <a:lnTo>
                          <a:pt x="206" y="163"/>
                        </a:lnTo>
                        <a:lnTo>
                          <a:pt x="209" y="168"/>
                        </a:lnTo>
                        <a:lnTo>
                          <a:pt x="213" y="174"/>
                        </a:lnTo>
                        <a:lnTo>
                          <a:pt x="228" y="149"/>
                        </a:lnTo>
                        <a:lnTo>
                          <a:pt x="244" y="126"/>
                        </a:lnTo>
                        <a:lnTo>
                          <a:pt x="261" y="104"/>
                        </a:lnTo>
                        <a:lnTo>
                          <a:pt x="278" y="84"/>
                        </a:lnTo>
                        <a:lnTo>
                          <a:pt x="298" y="67"/>
                        </a:lnTo>
                        <a:lnTo>
                          <a:pt x="320" y="54"/>
                        </a:lnTo>
                        <a:lnTo>
                          <a:pt x="345" y="45"/>
                        </a:lnTo>
                        <a:lnTo>
                          <a:pt x="376" y="39"/>
                        </a:lnTo>
                        <a:lnTo>
                          <a:pt x="383" y="57"/>
                        </a:lnTo>
                        <a:lnTo>
                          <a:pt x="383" y="75"/>
                        </a:lnTo>
                        <a:lnTo>
                          <a:pt x="378" y="92"/>
                        </a:lnTo>
                        <a:lnTo>
                          <a:pt x="368" y="110"/>
                        </a:lnTo>
                        <a:lnTo>
                          <a:pt x="356" y="129"/>
                        </a:lnTo>
                        <a:lnTo>
                          <a:pt x="345" y="149"/>
                        </a:lnTo>
                        <a:lnTo>
                          <a:pt x="336" y="168"/>
                        </a:lnTo>
                        <a:lnTo>
                          <a:pt x="331" y="188"/>
                        </a:lnTo>
                        <a:lnTo>
                          <a:pt x="340" y="185"/>
                        </a:lnTo>
                        <a:lnTo>
                          <a:pt x="349" y="180"/>
                        </a:lnTo>
                        <a:lnTo>
                          <a:pt x="359" y="175"/>
                        </a:lnTo>
                        <a:lnTo>
                          <a:pt x="368" y="171"/>
                        </a:lnTo>
                        <a:lnTo>
                          <a:pt x="376" y="170"/>
                        </a:lnTo>
                        <a:lnTo>
                          <a:pt x="383" y="172"/>
                        </a:lnTo>
                        <a:lnTo>
                          <a:pt x="389" y="179"/>
                        </a:lnTo>
                        <a:lnTo>
                          <a:pt x="393" y="191"/>
                        </a:lnTo>
                        <a:lnTo>
                          <a:pt x="403" y="187"/>
                        </a:lnTo>
                        <a:lnTo>
                          <a:pt x="414" y="184"/>
                        </a:lnTo>
                        <a:lnTo>
                          <a:pt x="422" y="181"/>
                        </a:lnTo>
                        <a:lnTo>
                          <a:pt x="431" y="180"/>
                        </a:lnTo>
                        <a:lnTo>
                          <a:pt x="440" y="179"/>
                        </a:lnTo>
                        <a:lnTo>
                          <a:pt x="450" y="179"/>
                        </a:lnTo>
                        <a:lnTo>
                          <a:pt x="462" y="179"/>
                        </a:lnTo>
                        <a:lnTo>
                          <a:pt x="477" y="180"/>
                        </a:lnTo>
                        <a:lnTo>
                          <a:pt x="478" y="183"/>
                        </a:lnTo>
                        <a:lnTo>
                          <a:pt x="479" y="184"/>
                        </a:lnTo>
                        <a:lnTo>
                          <a:pt x="482" y="187"/>
                        </a:lnTo>
                        <a:lnTo>
                          <a:pt x="483" y="189"/>
                        </a:lnTo>
                        <a:lnTo>
                          <a:pt x="494" y="188"/>
                        </a:lnTo>
                        <a:lnTo>
                          <a:pt x="506" y="187"/>
                        </a:lnTo>
                        <a:lnTo>
                          <a:pt x="521" y="185"/>
                        </a:lnTo>
                        <a:lnTo>
                          <a:pt x="537" y="184"/>
                        </a:lnTo>
                        <a:lnTo>
                          <a:pt x="552" y="183"/>
                        </a:lnTo>
                        <a:lnTo>
                          <a:pt x="567" y="184"/>
                        </a:lnTo>
                        <a:lnTo>
                          <a:pt x="579" y="187"/>
                        </a:lnTo>
                        <a:lnTo>
                          <a:pt x="590" y="191"/>
                        </a:lnTo>
                        <a:lnTo>
                          <a:pt x="585" y="197"/>
                        </a:lnTo>
                        <a:lnTo>
                          <a:pt x="571" y="201"/>
                        </a:lnTo>
                        <a:lnTo>
                          <a:pt x="552" y="205"/>
                        </a:lnTo>
                        <a:lnTo>
                          <a:pt x="529" y="208"/>
                        </a:lnTo>
                        <a:lnTo>
                          <a:pt x="507" y="209"/>
                        </a:lnTo>
                        <a:lnTo>
                          <a:pt x="487" y="209"/>
                        </a:lnTo>
                        <a:lnTo>
                          <a:pt x="473" y="209"/>
                        </a:lnTo>
                        <a:lnTo>
                          <a:pt x="466" y="209"/>
                        </a:lnTo>
                        <a:lnTo>
                          <a:pt x="465" y="205"/>
                        </a:lnTo>
                        <a:lnTo>
                          <a:pt x="465" y="201"/>
                        </a:lnTo>
                        <a:lnTo>
                          <a:pt x="464" y="199"/>
                        </a:lnTo>
                        <a:lnTo>
                          <a:pt x="462" y="195"/>
                        </a:lnTo>
                        <a:lnTo>
                          <a:pt x="449" y="196"/>
                        </a:lnTo>
                        <a:lnTo>
                          <a:pt x="436" y="199"/>
                        </a:lnTo>
                        <a:lnTo>
                          <a:pt x="423" y="203"/>
                        </a:lnTo>
                        <a:lnTo>
                          <a:pt x="411" y="208"/>
                        </a:lnTo>
                        <a:lnTo>
                          <a:pt x="401" y="212"/>
                        </a:lnTo>
                        <a:lnTo>
                          <a:pt x="389" y="216"/>
                        </a:lnTo>
                        <a:lnTo>
                          <a:pt x="380" y="218"/>
                        </a:lnTo>
                        <a:lnTo>
                          <a:pt x="370" y="218"/>
                        </a:lnTo>
                        <a:lnTo>
                          <a:pt x="370" y="212"/>
                        </a:lnTo>
                        <a:lnTo>
                          <a:pt x="370" y="204"/>
                        </a:lnTo>
                        <a:lnTo>
                          <a:pt x="370" y="197"/>
                        </a:lnTo>
                        <a:lnTo>
                          <a:pt x="372" y="191"/>
                        </a:lnTo>
                        <a:lnTo>
                          <a:pt x="361" y="195"/>
                        </a:lnTo>
                        <a:lnTo>
                          <a:pt x="352" y="199"/>
                        </a:lnTo>
                        <a:lnTo>
                          <a:pt x="343" y="201"/>
                        </a:lnTo>
                        <a:lnTo>
                          <a:pt x="335" y="204"/>
                        </a:lnTo>
                        <a:lnTo>
                          <a:pt x="326" y="206"/>
                        </a:lnTo>
                        <a:lnTo>
                          <a:pt x="318" y="208"/>
                        </a:lnTo>
                        <a:lnTo>
                          <a:pt x="309" y="209"/>
                        </a:lnTo>
                        <a:lnTo>
                          <a:pt x="301" y="210"/>
                        </a:lnTo>
                        <a:lnTo>
                          <a:pt x="301" y="209"/>
                        </a:lnTo>
                        <a:lnTo>
                          <a:pt x="299" y="208"/>
                        </a:lnTo>
                        <a:lnTo>
                          <a:pt x="299" y="206"/>
                        </a:lnTo>
                        <a:lnTo>
                          <a:pt x="298" y="205"/>
                        </a:lnTo>
                        <a:lnTo>
                          <a:pt x="306" y="193"/>
                        </a:lnTo>
                        <a:lnTo>
                          <a:pt x="315" y="176"/>
                        </a:lnTo>
                        <a:lnTo>
                          <a:pt x="327" y="155"/>
                        </a:lnTo>
                        <a:lnTo>
                          <a:pt x="339" y="133"/>
                        </a:lnTo>
                        <a:lnTo>
                          <a:pt x="351" y="110"/>
                        </a:lnTo>
                        <a:lnTo>
                          <a:pt x="360" y="89"/>
                        </a:lnTo>
                        <a:lnTo>
                          <a:pt x="365" y="71"/>
                        </a:lnTo>
                        <a:lnTo>
                          <a:pt x="366" y="57"/>
                        </a:lnTo>
                        <a:lnTo>
                          <a:pt x="337" y="66"/>
                        </a:lnTo>
                        <a:lnTo>
                          <a:pt x="313" y="78"/>
                        </a:lnTo>
                        <a:lnTo>
                          <a:pt x="292" y="93"/>
                        </a:lnTo>
                        <a:lnTo>
                          <a:pt x="273" y="112"/>
                        </a:lnTo>
                        <a:lnTo>
                          <a:pt x="256" y="133"/>
                        </a:lnTo>
                        <a:lnTo>
                          <a:pt x="242" y="156"/>
                        </a:lnTo>
                        <a:lnTo>
                          <a:pt x="227" y="181"/>
                        </a:lnTo>
                        <a:lnTo>
                          <a:pt x="214" y="209"/>
                        </a:lnTo>
                        <a:lnTo>
                          <a:pt x="209" y="212"/>
                        </a:lnTo>
                        <a:lnTo>
                          <a:pt x="203" y="213"/>
                        </a:lnTo>
                        <a:lnTo>
                          <a:pt x="197" y="216"/>
                        </a:lnTo>
                        <a:lnTo>
                          <a:pt x="192" y="218"/>
                        </a:lnTo>
                        <a:lnTo>
                          <a:pt x="193" y="208"/>
                        </a:lnTo>
                        <a:lnTo>
                          <a:pt x="193" y="197"/>
                        </a:lnTo>
                        <a:lnTo>
                          <a:pt x="194" y="187"/>
                        </a:lnTo>
                        <a:lnTo>
                          <a:pt x="194" y="176"/>
                        </a:lnTo>
                        <a:lnTo>
                          <a:pt x="186" y="176"/>
                        </a:lnTo>
                        <a:lnTo>
                          <a:pt x="180" y="179"/>
                        </a:lnTo>
                        <a:lnTo>
                          <a:pt x="175" y="181"/>
                        </a:lnTo>
                        <a:lnTo>
                          <a:pt x="169" y="184"/>
                        </a:lnTo>
                        <a:lnTo>
                          <a:pt x="164" y="187"/>
                        </a:lnTo>
                        <a:lnTo>
                          <a:pt x="159" y="191"/>
                        </a:lnTo>
                        <a:lnTo>
                          <a:pt x="154" y="193"/>
                        </a:lnTo>
                        <a:lnTo>
                          <a:pt x="148" y="195"/>
                        </a:lnTo>
                        <a:lnTo>
                          <a:pt x="148" y="183"/>
                        </a:lnTo>
                        <a:lnTo>
                          <a:pt x="150" y="174"/>
                        </a:lnTo>
                        <a:lnTo>
                          <a:pt x="152" y="162"/>
                        </a:lnTo>
                        <a:lnTo>
                          <a:pt x="159" y="141"/>
                        </a:lnTo>
                        <a:lnTo>
                          <a:pt x="140" y="146"/>
                        </a:lnTo>
                        <a:lnTo>
                          <a:pt x="123" y="156"/>
                        </a:lnTo>
                        <a:lnTo>
                          <a:pt x="106" y="171"/>
                        </a:lnTo>
                        <a:lnTo>
                          <a:pt x="90" y="187"/>
                        </a:lnTo>
                        <a:lnTo>
                          <a:pt x="76" y="201"/>
                        </a:lnTo>
                        <a:lnTo>
                          <a:pt x="60" y="214"/>
                        </a:lnTo>
                        <a:lnTo>
                          <a:pt x="43" y="224"/>
                        </a:lnTo>
                        <a:lnTo>
                          <a:pt x="26" y="2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120120" y="4905360"/>
                    <a:ext cx="37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34">
                        <a:moveTo>
                          <a:pt x="103" y="234"/>
                        </a:moveTo>
                        <a:lnTo>
                          <a:pt x="67" y="217"/>
                        </a:lnTo>
                        <a:lnTo>
                          <a:pt x="38" y="200"/>
                        </a:lnTo>
                        <a:lnTo>
                          <a:pt x="18" y="181"/>
                        </a:lnTo>
                        <a:lnTo>
                          <a:pt x="5" y="160"/>
                        </a:lnTo>
                        <a:lnTo>
                          <a:pt x="0" y="137"/>
                        </a:lnTo>
                        <a:lnTo>
                          <a:pt x="3" y="109"/>
                        </a:lnTo>
                        <a:lnTo>
                          <a:pt x="15" y="79"/>
                        </a:lnTo>
                        <a:lnTo>
                          <a:pt x="33" y="43"/>
                        </a:lnTo>
                        <a:lnTo>
                          <a:pt x="50" y="29"/>
                        </a:lnTo>
                        <a:lnTo>
                          <a:pt x="67" y="17"/>
                        </a:lnTo>
                        <a:lnTo>
                          <a:pt x="85" y="9"/>
                        </a:lnTo>
                        <a:lnTo>
                          <a:pt x="104" y="2"/>
                        </a:lnTo>
                        <a:lnTo>
                          <a:pt x="122" y="0"/>
                        </a:lnTo>
                        <a:lnTo>
                          <a:pt x="139" y="0"/>
                        </a:lnTo>
                        <a:lnTo>
                          <a:pt x="158" y="2"/>
                        </a:lnTo>
                        <a:lnTo>
                          <a:pt x="175" y="8"/>
                        </a:lnTo>
                        <a:lnTo>
                          <a:pt x="191" y="16"/>
                        </a:lnTo>
                        <a:lnTo>
                          <a:pt x="205" y="26"/>
                        </a:lnTo>
                        <a:lnTo>
                          <a:pt x="218" y="39"/>
                        </a:lnTo>
                        <a:lnTo>
                          <a:pt x="230" y="54"/>
                        </a:lnTo>
                        <a:lnTo>
                          <a:pt x="239" y="72"/>
                        </a:lnTo>
                        <a:lnTo>
                          <a:pt x="246" y="92"/>
                        </a:lnTo>
                        <a:lnTo>
                          <a:pt x="251" y="114"/>
                        </a:lnTo>
                        <a:lnTo>
                          <a:pt x="252" y="138"/>
                        </a:lnTo>
                        <a:lnTo>
                          <a:pt x="243" y="164"/>
                        </a:lnTo>
                        <a:lnTo>
                          <a:pt x="230" y="184"/>
                        </a:lnTo>
                        <a:lnTo>
                          <a:pt x="214" y="201"/>
                        </a:lnTo>
                        <a:lnTo>
                          <a:pt x="196" y="214"/>
                        </a:lnTo>
                        <a:lnTo>
                          <a:pt x="175" y="223"/>
                        </a:lnTo>
                        <a:lnTo>
                          <a:pt x="151" y="230"/>
                        </a:lnTo>
                        <a:lnTo>
                          <a:pt x="128" y="233"/>
                        </a:lnTo>
                        <a:lnTo>
                          <a:pt x="103" y="234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167640" y="493524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5">
                        <a:moveTo>
                          <a:pt x="39" y="25"/>
                        </a:moveTo>
                        <a:lnTo>
                          <a:pt x="35" y="23"/>
                        </a:lnTo>
                        <a:lnTo>
                          <a:pt x="31" y="20"/>
                        </a:lnTo>
                        <a:lnTo>
                          <a:pt x="25" y="17"/>
                        </a:lnTo>
                        <a:lnTo>
                          <a:pt x="18" y="15"/>
                        </a:lnTo>
                        <a:lnTo>
                          <a:pt x="11" y="11"/>
                        </a:lnTo>
                        <a:lnTo>
                          <a:pt x="6" y="8"/>
                        </a:lnTo>
                        <a:lnTo>
                          <a:pt x="2" y="6"/>
                        </a:lnTo>
                        <a:lnTo>
                          <a:pt x="0" y="4"/>
                        </a:lnTo>
                        <a:lnTo>
                          <a:pt x="5" y="2"/>
                        </a:lnTo>
                        <a:lnTo>
                          <a:pt x="10" y="0"/>
                        </a:lnTo>
                        <a:lnTo>
                          <a:pt x="15" y="2"/>
                        </a:lnTo>
                        <a:lnTo>
                          <a:pt x="22" y="4"/>
                        </a:lnTo>
                        <a:lnTo>
                          <a:pt x="29" y="8"/>
                        </a:lnTo>
                        <a:lnTo>
                          <a:pt x="35" y="12"/>
                        </a:lnTo>
                        <a:lnTo>
                          <a:pt x="43" y="17"/>
                        </a:lnTo>
                        <a:lnTo>
                          <a:pt x="51" y="23"/>
                        </a:lnTo>
                        <a:lnTo>
                          <a:pt x="50" y="24"/>
                        </a:lnTo>
                        <a:lnTo>
                          <a:pt x="47" y="25"/>
                        </a:lnTo>
                        <a:lnTo>
                          <a:pt x="44" y="25"/>
                        </a:lnTo>
                        <a:lnTo>
                          <a:pt x="39" y="2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168000" y="4911480"/>
                    <a:ext cx="22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89">
                        <a:moveTo>
                          <a:pt x="71" y="89"/>
                        </a:moveTo>
                        <a:lnTo>
                          <a:pt x="61" y="82"/>
                        </a:lnTo>
                        <a:lnTo>
                          <a:pt x="55" y="77"/>
                        </a:lnTo>
                        <a:lnTo>
                          <a:pt x="48" y="75"/>
                        </a:lnTo>
                        <a:lnTo>
                          <a:pt x="38" y="71"/>
                        </a:lnTo>
                        <a:lnTo>
                          <a:pt x="38" y="61"/>
                        </a:lnTo>
                        <a:lnTo>
                          <a:pt x="39" y="54"/>
                        </a:lnTo>
                        <a:lnTo>
                          <a:pt x="39" y="46"/>
                        </a:lnTo>
                        <a:lnTo>
                          <a:pt x="40" y="38"/>
                        </a:lnTo>
                        <a:lnTo>
                          <a:pt x="34" y="35"/>
                        </a:lnTo>
                        <a:lnTo>
                          <a:pt x="28" y="32"/>
                        </a:lnTo>
                        <a:lnTo>
                          <a:pt x="22" y="31"/>
                        </a:lnTo>
                        <a:lnTo>
                          <a:pt x="17" y="30"/>
                        </a:lnTo>
                        <a:lnTo>
                          <a:pt x="11" y="29"/>
                        </a:lnTo>
                        <a:lnTo>
                          <a:pt x="7" y="27"/>
                        </a:lnTo>
                        <a:lnTo>
                          <a:pt x="4" y="26"/>
                        </a:lnTo>
                        <a:lnTo>
                          <a:pt x="0" y="26"/>
                        </a:lnTo>
                        <a:lnTo>
                          <a:pt x="0" y="19"/>
                        </a:lnTo>
                        <a:lnTo>
                          <a:pt x="0" y="13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18" y="2"/>
                        </a:lnTo>
                        <a:lnTo>
                          <a:pt x="38" y="6"/>
                        </a:lnTo>
                        <a:lnTo>
                          <a:pt x="57" y="13"/>
                        </a:lnTo>
                        <a:lnTo>
                          <a:pt x="77" y="19"/>
                        </a:lnTo>
                        <a:lnTo>
                          <a:pt x="97" y="29"/>
                        </a:lnTo>
                        <a:lnTo>
                          <a:pt x="115" y="40"/>
                        </a:lnTo>
                        <a:lnTo>
                          <a:pt x="135" y="52"/>
                        </a:lnTo>
                        <a:lnTo>
                          <a:pt x="152" y="67"/>
                        </a:lnTo>
                        <a:lnTo>
                          <a:pt x="151" y="68"/>
                        </a:lnTo>
                        <a:lnTo>
                          <a:pt x="149" y="71"/>
                        </a:lnTo>
                        <a:lnTo>
                          <a:pt x="145" y="72"/>
                        </a:lnTo>
                        <a:lnTo>
                          <a:pt x="140" y="73"/>
                        </a:lnTo>
                        <a:lnTo>
                          <a:pt x="130" y="76"/>
                        </a:lnTo>
                        <a:lnTo>
                          <a:pt x="117" y="79"/>
                        </a:lnTo>
                        <a:lnTo>
                          <a:pt x="97" y="84"/>
                        </a:lnTo>
                        <a:lnTo>
                          <a:pt x="71" y="8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7" name=""/>
                <p:cNvSpPr txBox="1"/>
                <p:nvPr/>
              </p:nvSpPr>
              <p:spPr>
                <a:xfrm>
                  <a:off x="2988000" y="4752720"/>
                  <a:ext cx="147960" cy="18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06868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MIME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>
                <a:off x="2590560" y="4916520"/>
                <a:ext cx="67788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perti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16120" y="4648320"/>
                <a:ext cx="252360" cy="25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0" name=""/>
            <p:cNvGrpSpPr/>
            <p:nvPr/>
          </p:nvGrpSpPr>
          <p:grpSpPr>
            <a:xfrm>
              <a:off x="3235320" y="4648320"/>
              <a:ext cx="812880" cy="639720"/>
              <a:chOff x="3235320" y="4648320"/>
              <a:chExt cx="812880" cy="639720"/>
            </a:xfrm>
          </p:grpSpPr>
          <p:sp>
            <p:nvSpPr>
              <p:cNvPr id="911" name=""/>
              <p:cNvSpPr/>
              <p:nvPr/>
            </p:nvSpPr>
            <p:spPr>
              <a:xfrm>
                <a:off x="3235320" y="4908960"/>
                <a:ext cx="81288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(Meta-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ctionar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73280" y="46483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13" name=""/>
          <p:cNvGrpSpPr/>
          <p:nvPr/>
        </p:nvGrpSpPr>
        <p:grpSpPr>
          <a:xfrm>
            <a:off x="558720" y="3975120"/>
            <a:ext cx="685800" cy="1001520"/>
            <a:chOff x="558720" y="3975120"/>
            <a:chExt cx="685800" cy="1001520"/>
          </a:xfrm>
        </p:grpSpPr>
        <p:grpSp>
          <p:nvGrpSpPr>
            <p:cNvPr id="914" name=""/>
            <p:cNvGrpSpPr/>
            <p:nvPr/>
          </p:nvGrpSpPr>
          <p:grpSpPr>
            <a:xfrm>
              <a:off x="569880" y="3975120"/>
              <a:ext cx="565200" cy="809640"/>
              <a:chOff x="569880" y="3975120"/>
              <a:chExt cx="565200" cy="809640"/>
            </a:xfrm>
          </p:grpSpPr>
          <p:sp>
            <p:nvSpPr>
              <p:cNvPr id="915" name=""/>
              <p:cNvSpPr/>
              <p:nvPr/>
            </p:nvSpPr>
            <p:spPr>
              <a:xfrm>
                <a:off x="612360" y="403056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3720" y="401796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94360" y="400464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5360" y="399240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9880" y="3975120"/>
                <a:ext cx="528840" cy="7545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558720" y="474804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cenari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1" name="" descr=""/>
            <p:cNvPicPr/>
            <p:nvPr/>
          </p:nvPicPr>
          <p:blipFill>
            <a:blip r:embed="rId7"/>
            <a:stretch/>
          </p:blipFill>
          <p:spPr>
            <a:xfrm>
              <a:off x="587160" y="4000680"/>
              <a:ext cx="4572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"/>
          <p:cNvGrpSpPr/>
          <p:nvPr/>
        </p:nvGrpSpPr>
        <p:grpSpPr>
          <a:xfrm>
            <a:off x="482760" y="914400"/>
            <a:ext cx="3862080" cy="2590920"/>
            <a:chOff x="482760" y="914400"/>
            <a:chExt cx="3862080" cy="2590920"/>
          </a:xfrm>
        </p:grpSpPr>
        <p:grpSp>
          <p:nvGrpSpPr>
            <p:cNvPr id="923" name=""/>
            <p:cNvGrpSpPr/>
            <p:nvPr/>
          </p:nvGrpSpPr>
          <p:grpSpPr>
            <a:xfrm>
              <a:off x="482760" y="914400"/>
              <a:ext cx="3862080" cy="2276640"/>
              <a:chOff x="482760" y="914400"/>
              <a:chExt cx="3862080" cy="2276640"/>
            </a:xfrm>
          </p:grpSpPr>
          <p:sp>
            <p:nvSpPr>
              <p:cNvPr id="924" name=""/>
              <p:cNvSpPr/>
              <p:nvPr/>
            </p:nvSpPr>
            <p:spPr>
              <a:xfrm>
                <a:off x="482760" y="914400"/>
                <a:ext cx="3862080" cy="20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39640" y="2952720"/>
                <a:ext cx="365724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2) From semi-informal to semi-form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520560" y="990720"/>
              <a:ext cx="3809880" cy="1877760"/>
              <a:chOff x="520560" y="990720"/>
              <a:chExt cx="3809880" cy="1877760"/>
            </a:xfrm>
          </p:grpSpPr>
          <p:pic>
            <p:nvPicPr>
              <p:cNvPr id="92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360" y="990720"/>
                <a:ext cx="371448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840" y="1295280"/>
                <a:ext cx="3619080" cy="12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0560" y="1685880"/>
                <a:ext cx="3809880" cy="118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0" name=""/>
            <p:cNvGrpSpPr/>
            <p:nvPr/>
          </p:nvGrpSpPr>
          <p:grpSpPr>
            <a:xfrm>
              <a:off x="550800" y="2800440"/>
              <a:ext cx="167760" cy="704880"/>
              <a:chOff x="550800" y="2800440"/>
              <a:chExt cx="167760" cy="704880"/>
            </a:xfrm>
          </p:grpSpPr>
          <p:sp>
            <p:nvSpPr>
              <p:cNvPr id="931" name=""/>
              <p:cNvSpPr/>
              <p:nvPr/>
            </p:nvSpPr>
            <p:spPr>
              <a:xfrm>
                <a:off x="550800" y="2800440"/>
                <a:ext cx="167760" cy="571320"/>
              </a:xfrm>
              <a:prstGeom prst="upArrow">
                <a:avLst>
                  <a:gd name="adj1" fmla="val 50000"/>
                  <a:gd name="adj2" fmla="val 85139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3920" y="3398760"/>
                <a:ext cx="101160" cy="106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4140360" y="852480"/>
            <a:ext cx="4165200" cy="2338560"/>
            <a:chOff x="4140360" y="852480"/>
            <a:chExt cx="4165200" cy="2338560"/>
          </a:xfrm>
        </p:grpSpPr>
        <p:grpSp>
          <p:nvGrpSpPr>
            <p:cNvPr id="934" name=""/>
            <p:cNvGrpSpPr/>
            <p:nvPr/>
          </p:nvGrpSpPr>
          <p:grpSpPr>
            <a:xfrm>
              <a:off x="4140360" y="852480"/>
              <a:ext cx="4165200" cy="2338560"/>
              <a:chOff x="4140360" y="852480"/>
              <a:chExt cx="4165200" cy="233856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4411800" y="914400"/>
                <a:ext cx="3862440" cy="2276640"/>
                <a:chOff x="4411800" y="914400"/>
                <a:chExt cx="3862440" cy="227664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4411800" y="914400"/>
                  <a:ext cx="3862440" cy="20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955040" y="2952720"/>
                  <a:ext cx="30175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 RDF(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4140360" y="1057320"/>
                <a:ext cx="687600" cy="179280"/>
                <a:chOff x="4140360" y="1057320"/>
                <a:chExt cx="687600" cy="179280"/>
              </a:xfrm>
            </p:grpSpPr>
            <p:sp>
              <p:nvSpPr>
                <p:cNvPr id="939" name=""/>
                <p:cNvSpPr/>
                <p:nvPr/>
              </p:nvSpPr>
              <p:spPr>
                <a:xfrm rot="5400000">
                  <a:off x="4466880" y="875520"/>
                  <a:ext cx="179280" cy="542880"/>
                </a:xfrm>
                <a:prstGeom prst="upArrow">
                  <a:avLst>
                    <a:gd name="adj1" fmla="val 50000"/>
                    <a:gd name="adj2" fmla="val 75703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140360" y="1093680"/>
                  <a:ext cx="101880" cy="1065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5893560" y="852480"/>
                <a:ext cx="24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onceptual Vocabul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4356000" y="1752480"/>
              <a:ext cx="3885840" cy="587160"/>
              <a:chOff x="4356000" y="1752480"/>
              <a:chExt cx="3885840" cy="587160"/>
            </a:xfrm>
          </p:grpSpPr>
          <p:sp>
            <p:nvSpPr>
              <p:cNvPr id="943" name=""/>
              <p:cNvSpPr/>
              <p:nvPr/>
            </p:nvSpPr>
            <p:spPr>
              <a:xfrm>
                <a:off x="4356000" y="175248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Relations - signature &amp; sub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s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utho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7327800" y="1905120"/>
                <a:ext cx="914040" cy="152280"/>
                <a:chOff x="7327800" y="1905120"/>
                <a:chExt cx="914040" cy="15228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7400520" y="1981080"/>
                  <a:ext cx="74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327800" y="193032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649640" y="1905120"/>
                  <a:ext cx="249480" cy="15228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992720" y="193032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9" name=""/>
            <p:cNvGrpSpPr/>
            <p:nvPr/>
          </p:nvGrpSpPr>
          <p:grpSpPr>
            <a:xfrm>
              <a:off x="4356000" y="2308320"/>
              <a:ext cx="3873600" cy="587160"/>
              <a:chOff x="4356000" y="2308320"/>
              <a:chExt cx="3873600" cy="587160"/>
            </a:xfrm>
          </p:grpSpPr>
          <p:sp>
            <p:nvSpPr>
              <p:cNvPr id="950" name=""/>
              <p:cNvSpPr/>
              <p:nvPr/>
            </p:nvSpPr>
            <p:spPr>
              <a:xfrm>
                <a:off x="4356000" y="230832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Terms &amp; natural language defini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'bike', 'cycle', bicycle' - 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cyc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924680" y="2438280"/>
                <a:ext cx="304920" cy="152640"/>
              </a:xfrm>
              <a:prstGeom prst="foldedCorner">
                <a:avLst>
                  <a:gd name="adj" fmla="val 41666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4356000" y="1219320"/>
              <a:ext cx="3886200" cy="535320"/>
              <a:chOff x="4356000" y="1219320"/>
              <a:chExt cx="3886200" cy="535320"/>
            </a:xfrm>
          </p:grpSpPr>
          <p:sp>
            <p:nvSpPr>
              <p:cNvPr id="953" name=""/>
              <p:cNvSpPr/>
              <p:nvPr/>
            </p:nvSpPr>
            <p:spPr>
              <a:xfrm>
                <a:off x="4356000" y="1222200"/>
                <a:ext cx="37022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Concepts - subsu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por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7251840" y="1219320"/>
                <a:ext cx="990360" cy="533160"/>
                <a:chOff x="7251840" y="1219320"/>
                <a:chExt cx="990360" cy="53316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632720" y="12193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25184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63272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01360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01360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3272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25184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7327440" y="129528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747200" y="1295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785000" y="129528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140680" y="15238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7734240" y="1523880"/>
                  <a:ext cx="4320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53360" y="15238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8" name=""/>
          <p:cNvGrpSpPr/>
          <p:nvPr/>
        </p:nvGrpSpPr>
        <p:grpSpPr>
          <a:xfrm>
            <a:off x="4411800" y="2743200"/>
            <a:ext cx="3862080" cy="2870280"/>
            <a:chOff x="4411800" y="2743200"/>
            <a:chExt cx="3862080" cy="2870280"/>
          </a:xfrm>
        </p:grpSpPr>
        <p:grpSp>
          <p:nvGrpSpPr>
            <p:cNvPr id="969" name=""/>
            <p:cNvGrpSpPr/>
            <p:nvPr/>
          </p:nvGrpSpPr>
          <p:grpSpPr>
            <a:xfrm>
              <a:off x="4411800" y="2743200"/>
              <a:ext cx="3862080" cy="2870280"/>
              <a:chOff x="4411800" y="2743200"/>
              <a:chExt cx="3862080" cy="287028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4411800" y="3335400"/>
                <a:ext cx="3862080" cy="2278080"/>
                <a:chOff x="4411800" y="3335400"/>
                <a:chExt cx="3862080" cy="22780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411800" y="3335400"/>
                  <a:ext cx="3862080" cy="207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987800" y="5374080"/>
                  <a:ext cx="30175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4) Navigation and Use</a:t>
                  </a: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8075520" y="2743200"/>
                <a:ext cx="167760" cy="750240"/>
                <a:chOff x="8075520" y="2743200"/>
                <a:chExt cx="167760" cy="750240"/>
              </a:xfrm>
            </p:grpSpPr>
            <p:sp>
              <p:nvSpPr>
                <p:cNvPr id="974" name=""/>
                <p:cNvSpPr/>
                <p:nvPr/>
              </p:nvSpPr>
              <p:spPr>
                <a:xfrm rot="10800000">
                  <a:off x="8075520" y="2922120"/>
                  <a:ext cx="167760" cy="571320"/>
                </a:xfrm>
                <a:prstGeom prst="upArrow">
                  <a:avLst>
                    <a:gd name="adj1" fmla="val 50000"/>
                    <a:gd name="adj2" fmla="val 85139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108640" y="2743200"/>
                  <a:ext cx="100800" cy="1076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6" name=""/>
            <p:cNvGraphicFramePr/>
            <p:nvPr/>
          </p:nvGraphicFramePr>
          <p:xfrm>
            <a:off x="4479840" y="3443400"/>
            <a:ext cx="1970280" cy="1179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79840" y="3443400"/>
                      <a:ext cx="1970280" cy="11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78" name="" descr=""/>
            <p:cNvPicPr/>
            <p:nvPr/>
          </p:nvPicPr>
          <p:blipFill>
            <a:blip r:embed="rId13"/>
            <a:stretch/>
          </p:blipFill>
          <p:spPr>
            <a:xfrm>
              <a:off x="6350040" y="3429000"/>
              <a:ext cx="1739880" cy="165744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979" name="" descr=""/>
            <p:cNvPicPr/>
            <p:nvPr/>
          </p:nvPicPr>
          <p:blipFill>
            <a:blip r:embed="rId14"/>
            <a:stretch/>
          </p:blipFill>
          <p:spPr>
            <a:xfrm>
              <a:off x="5511960" y="4800600"/>
              <a:ext cx="2495520" cy="43020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980" name="" descr=""/>
            <p:cNvPicPr/>
            <p:nvPr/>
          </p:nvPicPr>
          <p:blipFill>
            <a:blip r:embed="rId15"/>
            <a:stretch/>
          </p:blipFill>
          <p:spPr>
            <a:xfrm>
              <a:off x="4444920" y="4267080"/>
              <a:ext cx="1952640" cy="108612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981" name=""/>
          <p:cNvGrpSpPr/>
          <p:nvPr/>
        </p:nvGrpSpPr>
        <p:grpSpPr>
          <a:xfrm>
            <a:off x="3983760" y="2727000"/>
            <a:ext cx="4271040" cy="3200760"/>
            <a:chOff x="3983760" y="2727000"/>
            <a:chExt cx="4271040" cy="3200760"/>
          </a:xfrm>
        </p:grpSpPr>
        <p:sp>
          <p:nvSpPr>
            <p:cNvPr id="982" name=""/>
            <p:cNvSpPr/>
            <p:nvPr/>
          </p:nvSpPr>
          <p:spPr>
            <a:xfrm flipV="1" rot="5400000">
              <a:off x="7769160" y="5442120"/>
              <a:ext cx="768240" cy="20304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2847600">
              <a:off x="4088520" y="2859480"/>
              <a:ext cx="601920" cy="5493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707" y="10800"/>
                  </a:moveTo>
                  <a:arcTo wR="-6093" hR="-6093" stAng="-10800000" swAng="-19318940"/>
                  <a:lnTo>
                    <a:pt x="19308" y="17452"/>
                  </a:lnTo>
                  <a:arcTo wR="10800" hR="10800" stAng="2281060" swAng="19318940"/>
                  <a:lnTo>
                    <a:pt x="24300" y="10800"/>
                  </a:lnTo>
                  <a:lnTo>
                    <a:pt x="19247" y="15854"/>
                  </a:lnTo>
                  <a:lnTo>
                    <a:pt x="14193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867-7A9A-4883-9E49-E60F5726C6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Scenarios : Summary tab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-12600" y="45684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Define some guidelines (influences ex: KADS)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519120" y="1109520"/>
          <a:ext cx="7634160" cy="536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09520"/>
                    <a:ext cx="763416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5480" y="1670040"/>
            <a:ext cx="1219320" cy="4572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43480" y="1546200"/>
            <a:ext cx="1112760" cy="774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C04-A47A-4DEF-A826-33F88F0BCE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Scenario Report : From industrial partn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2240" y="603000"/>
            <a:ext cx="88362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cenario Report : Rich story-telling docu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80880" y="1371600"/>
            <a:ext cx="6629400" cy="5181480"/>
            <a:chOff x="380880" y="1371600"/>
            <a:chExt cx="6629400" cy="5181480"/>
          </a:xfrm>
        </p:grpSpPr>
        <p:sp>
          <p:nvSpPr>
            <p:cNvPr id="993" name=""/>
            <p:cNvSpPr/>
            <p:nvPr/>
          </p:nvSpPr>
          <p:spPr>
            <a:xfrm>
              <a:off x="380880" y="1371600"/>
              <a:ext cx="6629400" cy="5181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1"/>
            <a:stretch/>
          </p:blipFill>
          <p:spPr>
            <a:xfrm>
              <a:off x="390240" y="1392120"/>
              <a:ext cx="6620040" cy="40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5" name=""/>
          <p:cNvGrpSpPr/>
          <p:nvPr/>
        </p:nvGrpSpPr>
        <p:grpSpPr>
          <a:xfrm>
            <a:off x="762120" y="938160"/>
            <a:ext cx="7236360" cy="825480"/>
            <a:chOff x="762120" y="938160"/>
            <a:chExt cx="7236360" cy="825480"/>
          </a:xfrm>
        </p:grpSpPr>
        <p:sp>
          <p:nvSpPr>
            <p:cNvPr id="996" name=""/>
            <p:cNvSpPr/>
            <p:nvPr/>
          </p:nvSpPr>
          <p:spPr>
            <a:xfrm>
              <a:off x="762120" y="1412640"/>
              <a:ext cx="2133720" cy="190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28800" y="93816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762120" y="2000160"/>
            <a:ext cx="7543440" cy="825480"/>
            <a:chOff x="762120" y="2000160"/>
            <a:chExt cx="7543440" cy="825480"/>
          </a:xfrm>
        </p:grpSpPr>
        <p:sp>
          <p:nvSpPr>
            <p:cNvPr id="999" name=""/>
            <p:cNvSpPr/>
            <p:nvPr/>
          </p:nvSpPr>
          <p:spPr>
            <a:xfrm>
              <a:off x="762120" y="2190600"/>
              <a:ext cx="15087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273800" y="2000160"/>
              <a:ext cx="103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1305000" y="4191120"/>
            <a:ext cx="6835680" cy="825480"/>
            <a:chOff x="1305000" y="4191120"/>
            <a:chExt cx="6835680" cy="825480"/>
          </a:xfrm>
        </p:grpSpPr>
        <p:sp>
          <p:nvSpPr>
            <p:cNvPr id="1002" name=""/>
            <p:cNvSpPr/>
            <p:nvPr/>
          </p:nvSpPr>
          <p:spPr>
            <a:xfrm>
              <a:off x="1305000" y="4572000"/>
              <a:ext cx="113364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10640" y="4191120"/>
              <a:ext cx="113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495288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ery rich documen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143000" y="1733400"/>
            <a:ext cx="5857920" cy="3391200"/>
            <a:chOff x="1143000" y="1733400"/>
            <a:chExt cx="5857920" cy="3391200"/>
          </a:xfrm>
        </p:grpSpPr>
        <p:sp>
          <p:nvSpPr>
            <p:cNvPr id="1006" name=""/>
            <p:cNvSpPr/>
            <p:nvPr/>
          </p:nvSpPr>
          <p:spPr>
            <a:xfrm>
              <a:off x="5648040" y="1733400"/>
              <a:ext cx="1295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43000" y="356220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19680" y="476244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15000" y="414324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95680" y="414324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43200" y="512460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10080" y="39052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81600" y="494352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1752480" y="5141880"/>
            <a:ext cx="6677640" cy="459720"/>
            <a:chOff x="1752480" y="5141880"/>
            <a:chExt cx="6677640" cy="459720"/>
          </a:xfrm>
        </p:grpSpPr>
        <p:sp>
          <p:nvSpPr>
            <p:cNvPr id="1015" name=""/>
            <p:cNvSpPr/>
            <p:nvPr/>
          </p:nvSpPr>
          <p:spPr>
            <a:xfrm>
              <a:off x="1752480" y="5286240"/>
              <a:ext cx="7617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63120" y="514188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79B-E17E-41CD-9C4B-58E40A2364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Semi-structured Interview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0" y="60120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mi-structured (individual / group) guide for end-users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1371600" y="1600200"/>
            <a:ext cx="3730680" cy="4800600"/>
            <a:chOff x="1371600" y="1600200"/>
            <a:chExt cx="3730680" cy="4800600"/>
          </a:xfrm>
        </p:grpSpPr>
        <p:sp>
          <p:nvSpPr>
            <p:cNvPr id="1020" name=""/>
            <p:cNvSpPr/>
            <p:nvPr/>
          </p:nvSpPr>
          <p:spPr>
            <a:xfrm>
              <a:off x="1371600" y="16002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1" name="" descr=""/>
            <p:cNvPicPr/>
            <p:nvPr/>
          </p:nvPicPr>
          <p:blipFill>
            <a:blip r:embed="rId1"/>
            <a:stretch/>
          </p:blipFill>
          <p:spPr>
            <a:xfrm>
              <a:off x="1429920" y="16650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"/>
          <p:cNvGrpSpPr/>
          <p:nvPr/>
        </p:nvGrpSpPr>
        <p:grpSpPr>
          <a:xfrm>
            <a:off x="1662120" y="2243160"/>
            <a:ext cx="7547400" cy="3549600"/>
            <a:chOff x="1662120" y="2243160"/>
            <a:chExt cx="7547400" cy="3549600"/>
          </a:xfrm>
        </p:grpSpPr>
        <p:grpSp>
          <p:nvGrpSpPr>
            <p:cNvPr id="1023" name=""/>
            <p:cNvGrpSpPr/>
            <p:nvPr/>
          </p:nvGrpSpPr>
          <p:grpSpPr>
            <a:xfrm>
              <a:off x="1662120" y="2403720"/>
              <a:ext cx="3263040" cy="3389040"/>
              <a:chOff x="1662120" y="2403720"/>
              <a:chExt cx="3263040" cy="3389040"/>
            </a:xfrm>
          </p:grpSpPr>
          <p:sp>
            <p:nvSpPr>
              <p:cNvPr id="1024" name=""/>
              <p:cNvSpPr/>
              <p:nvPr/>
            </p:nvSpPr>
            <p:spPr>
              <a:xfrm>
                <a:off x="4604760" y="24037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62120" y="25740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51080" y="25740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662120" y="27684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191760" y="37252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84080" y="39034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048040" y="40899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02400" y="52329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98480" y="5411520"/>
                <a:ext cx="3204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20440" y="55980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761920" y="57927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5127120" y="2243160"/>
              <a:ext cx="40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3300"/>
                  </a:solidFill>
                  <a:uFillTx/>
                  <a:latin typeface="Arial"/>
                </a:rPr>
                <a:t>Definition of role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 (</a:t>
              </a: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 baseline="30000">
                  <a:solidFill>
                    <a:srgbClr val="cc3300"/>
                  </a:solidFill>
                  <a:latin typeface="Arial"/>
                </a:rPr>
                <a:t>nt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 tas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662120" y="4389480"/>
            <a:ext cx="6567480" cy="1191240"/>
            <a:chOff x="1662120" y="4389480"/>
            <a:chExt cx="6567480" cy="1191240"/>
          </a:xfrm>
        </p:grpSpPr>
        <p:grpSp>
          <p:nvGrpSpPr>
            <p:cNvPr id="1037" name=""/>
            <p:cNvGrpSpPr/>
            <p:nvPr/>
          </p:nvGrpSpPr>
          <p:grpSpPr>
            <a:xfrm>
              <a:off x="1662120" y="4673520"/>
              <a:ext cx="3265200" cy="169920"/>
              <a:chOff x="1662120" y="4673520"/>
              <a:chExt cx="3265200" cy="169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2769840" y="46735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662120" y="48434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159520" y="43894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9933"/>
                  </a:solidFill>
                  <a:uFillTx/>
                  <a:latin typeface="Arial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Arial"/>
                </a:rPr>
                <a:t>Person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339933"/>
                  </a:solidFill>
                  <a:latin typeface="Arial"/>
                </a:rPr>
                <a:t>Offici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7D7-3323-4315-851D-CBB393148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Example of Observat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042" name="Atos-Laet-bureau-3" descr=""/>
          <p:cNvPicPr/>
          <p:nvPr/>
        </p:nvPicPr>
        <p:blipFill>
          <a:blip r:embed="rId1"/>
          <a:stretch/>
        </p:blipFill>
        <p:spPr>
          <a:xfrm>
            <a:off x="1033560" y="1076400"/>
            <a:ext cx="4713120" cy="3409920"/>
          </a:xfrm>
          <a:prstGeom prst="rect">
            <a:avLst/>
          </a:prstGeom>
          <a:ln w="0">
            <a:noFill/>
          </a:ln>
        </p:spPr>
      </p:pic>
      <p:grpSp>
        <p:nvGrpSpPr>
          <p:cNvPr id="1043" name=""/>
          <p:cNvGrpSpPr/>
          <p:nvPr/>
        </p:nvGrpSpPr>
        <p:grpSpPr>
          <a:xfrm>
            <a:off x="1033560" y="1076400"/>
            <a:ext cx="4724280" cy="3414600"/>
            <a:chOff x="1033560" y="1076400"/>
            <a:chExt cx="4724280" cy="3414600"/>
          </a:xfrm>
        </p:grpSpPr>
        <p:sp>
          <p:nvSpPr>
            <p:cNvPr id="1044" name=""/>
            <p:cNvSpPr/>
            <p:nvPr/>
          </p:nvSpPr>
          <p:spPr>
            <a:xfrm>
              <a:off x="1033560" y="1076400"/>
              <a:ext cx="4713120" cy="12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33560" y="2011320"/>
              <a:ext cx="1195200" cy="93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776760" y="1905120"/>
              <a:ext cx="1981080" cy="124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28760" y="2284560"/>
              <a:ext cx="1525680" cy="26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28760" y="2546640"/>
              <a:ext cx="463680" cy="399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57560" y="2311560"/>
              <a:ext cx="695160" cy="52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92440" y="2819520"/>
              <a:ext cx="1527120" cy="66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19560" y="3013200"/>
              <a:ext cx="1527120" cy="102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33560" y="3414960"/>
              <a:ext cx="3651120" cy="60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33560" y="3956040"/>
              <a:ext cx="4713120" cy="534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89280" y="2880000"/>
              <a:ext cx="73044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33560" y="3079800"/>
              <a:ext cx="2655720" cy="66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33560" y="2880000"/>
              <a:ext cx="205740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090960" y="2870280"/>
            <a:ext cx="4409640" cy="3126960"/>
            <a:chOff x="3090960" y="2870280"/>
            <a:chExt cx="4409640" cy="3126960"/>
          </a:xfrm>
        </p:grpSpPr>
        <p:sp>
          <p:nvSpPr>
            <p:cNvPr id="1058" name=""/>
            <p:cNvSpPr/>
            <p:nvPr/>
          </p:nvSpPr>
          <p:spPr>
            <a:xfrm>
              <a:off x="3090960" y="2870280"/>
              <a:ext cx="59724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9" name="" descr=""/>
            <p:cNvPicPr/>
            <p:nvPr/>
          </p:nvPicPr>
          <p:blipFill>
            <a:blip r:embed="rId2"/>
            <a:stretch/>
          </p:blipFill>
          <p:spPr>
            <a:xfrm>
              <a:off x="5082480" y="427176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1060" name=""/>
          <p:cNvGrpSpPr/>
          <p:nvPr/>
        </p:nvGrpSpPr>
        <p:grpSpPr>
          <a:xfrm>
            <a:off x="2693880" y="1066680"/>
            <a:ext cx="5001840" cy="1736640"/>
            <a:chOff x="2693880" y="1066680"/>
            <a:chExt cx="5001840" cy="1736640"/>
          </a:xfrm>
        </p:grpSpPr>
        <p:sp>
          <p:nvSpPr>
            <p:cNvPr id="1061" name=""/>
            <p:cNvSpPr/>
            <p:nvPr/>
          </p:nvSpPr>
          <p:spPr>
            <a:xfrm>
              <a:off x="2693880" y="253620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2" name="" descr=""/>
            <p:cNvPicPr/>
            <p:nvPr/>
          </p:nvPicPr>
          <p:blipFill>
            <a:blip r:embed="rId3"/>
            <a:stretch/>
          </p:blipFill>
          <p:spPr>
            <a:xfrm>
              <a:off x="4552560" y="1066680"/>
              <a:ext cx="3143160" cy="14403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CC3-1359-4352-8026-61369A34CD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New Employee Route Card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864320" cy="57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5" name=""/>
          <p:cNvSpPr/>
          <p:nvPr/>
        </p:nvSpPr>
        <p:spPr>
          <a:xfrm>
            <a:off x="5054760" y="507960"/>
            <a:ext cx="3403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ere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o to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w to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 what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952880" y="5181480"/>
            <a:ext cx="3962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105000"/>
              <a:buFont typeface="Webdings" charset="2"/>
              <a:buChar char="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ulti-ling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105000"/>
              <a:buFont typeface="Webdings" charset="2"/>
              <a:buChar char="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LP and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14D-643F-4469-A9B9-7A292EA9CA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Quick reminder of the step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240" y="380520"/>
            <a:ext cx="9131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tate of the art &amp; Reuse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nterprise Ontology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OVE Ontology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yc Ontology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ME Ontology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GKAT &amp; WebKB top ontolog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Other sources e.g.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ing Language” Herbert H. Clark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ME, Dublin Core,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3040" indent="-1864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ta-dictionary,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erminological study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erm to notio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ntinuum Informal </a:t>
            </a:r>
            <a:r>
              <a:rPr b="1" lang="en-US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Formal: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nformal (textual) </a:t>
            </a:r>
            <a:r>
              <a:rPr b="0" lang="en-US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Lexicons (semi-informal) </a:t>
            </a:r>
            <a:r>
              <a:rPr b="0" lang="en-US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Structured tables (semi-formal) </a:t>
            </a:r>
            <a:r>
              <a:rPr b="0" lang="en-US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RDF(S) (formal)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tructuring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Bottom-Up // Top-Down // Middle-Ou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BB2-6BD7-4016-A63B-8EC5914195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'CoM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0400" y="368280"/>
            <a:ext cx="909324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Cont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470 concepts (taxonomy depth = 13 subsumption links)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79 relations (taxonomy depth = 2 subsumption links)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715 terms in English and 699 in French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547 definitions in French and 550 in English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1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1066680" y="2867040"/>
            <a:ext cx="8153280" cy="3352680"/>
            <a:chOff x="1066680" y="2867040"/>
            <a:chExt cx="8153280" cy="3352680"/>
          </a:xfrm>
        </p:grpSpPr>
        <p:sp>
          <p:nvSpPr>
            <p:cNvPr id="1072" name=""/>
            <p:cNvSpPr/>
            <p:nvPr/>
          </p:nvSpPr>
          <p:spPr>
            <a:xfrm>
              <a:off x="5569560" y="2867040"/>
              <a:ext cx="267768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10" y="36092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op : abs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129360" y="3855960"/>
              <a:ext cx="267732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69" y="29048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ddle : 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75280" y="4840200"/>
              <a:ext cx="234468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134" y="14050"/>
                  </a:moveTo>
                  <a:lnTo>
                    <a:pt x="-736" y="3337"/>
                  </a:lnTo>
                </a:path>
                <a:path w="21600" h="21600">
                  <a:moveTo>
                    <a:pt x="-736" y="0"/>
                  </a:moveTo>
                  <a:lnTo>
                    <a:pt x="-736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xtension: S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1066680" y="2867040"/>
              <a:ext cx="5754960" cy="3352680"/>
              <a:chOff x="1066680" y="2867040"/>
              <a:chExt cx="5754960" cy="3352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2012400" y="4924440"/>
                <a:ext cx="3836520" cy="228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011760" y="3857760"/>
                <a:ext cx="1838160" cy="228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011760" y="2867040"/>
                <a:ext cx="1838160" cy="9907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2012400" y="3933720"/>
                <a:ext cx="3836520" cy="990720"/>
              </a:xfrm>
              <a:custGeom>
                <a:avLst/>
                <a:gdLst>
                  <a:gd name="textAreaLeft" fmla="*/ 843480 w 3836520"/>
                  <a:gd name="textAreaRight" fmla="*/ 2993040 w 3836520"/>
                  <a:gd name="textAreaTop" fmla="*/ 217800 h 990720"/>
                  <a:gd name="textAreaBottom" fmla="*/ 7729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1066680" y="5013000"/>
                <a:ext cx="5754960" cy="914400"/>
              </a:xfrm>
              <a:custGeom>
                <a:avLst/>
                <a:gdLst>
                  <a:gd name="textAreaLeft" fmla="*/ 970200 w 5754960"/>
                  <a:gd name="textAreaRight" fmla="*/ 4784760 w 5754960"/>
                  <a:gd name="textAreaTop" fmla="*/ 154080 h 914400"/>
                  <a:gd name="textAreaBottom" fmla="*/ 7603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066680" y="5915160"/>
                <a:ext cx="575496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1173240" y="3933720"/>
            <a:ext cx="5428080" cy="2316600"/>
            <a:chOff x="1173240" y="3933720"/>
            <a:chExt cx="5428080" cy="2316600"/>
          </a:xfrm>
        </p:grpSpPr>
        <p:sp>
          <p:nvSpPr>
            <p:cNvPr id="1083" name=""/>
            <p:cNvSpPr/>
            <p:nvPr/>
          </p:nvSpPr>
          <p:spPr>
            <a:xfrm>
              <a:off x="2474640" y="59151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07360" y="59151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75880" y="59151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474640" y="3933720"/>
              <a:ext cx="101916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 flipV="1">
              <a:off x="4277520" y="3933720"/>
              <a:ext cx="109764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807360" y="3933720"/>
              <a:ext cx="7848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73240" y="585144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19640" y="585144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300920" y="585144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99080" y="5851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8D5-3C78-4403-9B0B-F96A3DCBA4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roduction: issues and motiva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40" y="406080"/>
            <a:ext cx="9093240" cy="63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and information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Needs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improve reaction time &amp; address turno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Persistent memor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ore and/or index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Nervous syst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capture and diffuse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O.M.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 explicit and persistent representation and/or indexing of knowledge in an organization, in order to facilitate its access and reuse by members of the organization, for their individual and collective tasks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urrent trend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reuse internet and web technologies to build intranets and intra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advantag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andardised technology, browser unique access means, distributed architectur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drawback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human-understandable but only machine readable; problem of retrieval, automation,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porat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or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gemen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ough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ts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sist new employee integr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pport technology monitoring activi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D40-2694-486F-90B8-13F00D0BAE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Browsing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251320" cy="543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82C-D6F2-464C-94DB-3B872131C2A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ther example: hyperbolic interface of OntoBroker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533520" y="452520"/>
          <a:ext cx="6476760" cy="61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647676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8" name="Hyperbolic2" descr=""/>
          <p:cNvPicPr/>
          <p:nvPr/>
        </p:nvPicPr>
        <p:blipFill>
          <a:blip r:embed="rId3"/>
          <a:stretch/>
        </p:blipFill>
        <p:spPr>
          <a:xfrm>
            <a:off x="685800" y="528480"/>
            <a:ext cx="6164280" cy="59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FA7-B77F-4CC3-A927-B54C92C99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ther example: Protégé 2000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241200" y="609480"/>
            <a:ext cx="8521920" cy="59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BDA-745D-4305-B86A-AC2052B63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1103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1105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1108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14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117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2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23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112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125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6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1127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4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42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1143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5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155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5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8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6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1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6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164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1165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1167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76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1177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8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1179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4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1186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8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9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5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1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207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1208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0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1211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14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5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1216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1217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21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2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1223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5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1226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1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1232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1236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4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1248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1252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1255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1260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1264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675-9DAE-4B9A-B8F4-6094FFF78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ing Us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2240" y="380880"/>
            <a:ext cx="90932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User Interface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notating documen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Querying the memor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esent the resul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ide complexity (ontology, agents,...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828800" cy="1555920"/>
          </a:xfrm>
          <a:prstGeom prst="rect">
            <a:avLst/>
          </a:prstGeom>
          <a:ln w="0">
            <a:noFill/>
          </a:ln>
        </p:spPr>
      </p:pic>
      <p:grpSp>
        <p:nvGrpSpPr>
          <p:cNvPr id="1272" name=""/>
          <p:cNvGrpSpPr/>
          <p:nvPr/>
        </p:nvGrpSpPr>
        <p:grpSpPr>
          <a:xfrm>
            <a:off x="6431040" y="2118960"/>
            <a:ext cx="2482920" cy="2376720"/>
            <a:chOff x="6431040" y="2118960"/>
            <a:chExt cx="2482920" cy="2376720"/>
          </a:xfrm>
        </p:grpSpPr>
        <p:grpSp>
          <p:nvGrpSpPr>
            <p:cNvPr id="1273" name=""/>
            <p:cNvGrpSpPr/>
            <p:nvPr/>
          </p:nvGrpSpPr>
          <p:grpSpPr>
            <a:xfrm>
              <a:off x="6431040" y="3035160"/>
              <a:ext cx="730080" cy="1400040"/>
              <a:chOff x="6431040" y="3035160"/>
              <a:chExt cx="730080" cy="1400040"/>
            </a:xfrm>
          </p:grpSpPr>
          <p:sp>
            <p:nvSpPr>
              <p:cNvPr id="1274" name=""/>
              <p:cNvSpPr/>
              <p:nvPr/>
            </p:nvSpPr>
            <p:spPr>
              <a:xfrm>
                <a:off x="6559560" y="3346200"/>
                <a:ext cx="241200" cy="582840"/>
              </a:xfrm>
              <a:custGeom>
                <a:avLst/>
                <a:gdLst/>
                <a:ahLst/>
                <a:rect l="l" t="t" r="r" b="b"/>
                <a:pathLst>
                  <a:path w="303" h="734">
                    <a:moveTo>
                      <a:pt x="104" y="71"/>
                    </a:moveTo>
                    <a:lnTo>
                      <a:pt x="159" y="19"/>
                    </a:lnTo>
                    <a:lnTo>
                      <a:pt x="225" y="0"/>
                    </a:lnTo>
                    <a:lnTo>
                      <a:pt x="272" y="3"/>
                    </a:lnTo>
                    <a:lnTo>
                      <a:pt x="280" y="48"/>
                    </a:lnTo>
                    <a:lnTo>
                      <a:pt x="277" y="105"/>
                    </a:lnTo>
                    <a:lnTo>
                      <a:pt x="225" y="173"/>
                    </a:lnTo>
                    <a:lnTo>
                      <a:pt x="193" y="275"/>
                    </a:lnTo>
                    <a:lnTo>
                      <a:pt x="190" y="377"/>
                    </a:lnTo>
                    <a:lnTo>
                      <a:pt x="214" y="472"/>
                    </a:lnTo>
                    <a:lnTo>
                      <a:pt x="246" y="559"/>
                    </a:lnTo>
                    <a:lnTo>
                      <a:pt x="303" y="632"/>
                    </a:lnTo>
                    <a:lnTo>
                      <a:pt x="303" y="656"/>
                    </a:lnTo>
                    <a:lnTo>
                      <a:pt x="295" y="708"/>
                    </a:lnTo>
                    <a:lnTo>
                      <a:pt x="253" y="732"/>
                    </a:lnTo>
                    <a:lnTo>
                      <a:pt x="206" y="734"/>
                    </a:lnTo>
                    <a:lnTo>
                      <a:pt x="127" y="716"/>
                    </a:lnTo>
                    <a:lnTo>
                      <a:pt x="67" y="656"/>
                    </a:lnTo>
                    <a:lnTo>
                      <a:pt x="34" y="551"/>
                    </a:lnTo>
                    <a:lnTo>
                      <a:pt x="11" y="482"/>
                    </a:lnTo>
                    <a:lnTo>
                      <a:pt x="0" y="393"/>
                    </a:lnTo>
                    <a:lnTo>
                      <a:pt x="8" y="275"/>
                    </a:lnTo>
                    <a:lnTo>
                      <a:pt x="34" y="176"/>
                    </a:lnTo>
                    <a:lnTo>
                      <a:pt x="67" y="110"/>
                    </a:lnTo>
                    <a:lnTo>
                      <a:pt x="10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726240" y="3343320"/>
                <a:ext cx="380880" cy="399960"/>
              </a:xfrm>
              <a:custGeom>
                <a:avLst/>
                <a:gdLst/>
                <a:ahLst/>
                <a:rect l="l" t="t" r="r" b="b"/>
                <a:pathLst>
                  <a:path w="480" h="503">
                    <a:moveTo>
                      <a:pt x="0" y="36"/>
                    </a:moveTo>
                    <a:lnTo>
                      <a:pt x="16" y="0"/>
                    </a:lnTo>
                    <a:lnTo>
                      <a:pt x="47" y="0"/>
                    </a:lnTo>
                    <a:lnTo>
                      <a:pt x="86" y="39"/>
                    </a:lnTo>
                    <a:lnTo>
                      <a:pt x="112" y="133"/>
                    </a:lnTo>
                    <a:lnTo>
                      <a:pt x="133" y="243"/>
                    </a:lnTo>
                    <a:lnTo>
                      <a:pt x="149" y="358"/>
                    </a:lnTo>
                    <a:lnTo>
                      <a:pt x="199" y="445"/>
                    </a:lnTo>
                    <a:lnTo>
                      <a:pt x="199" y="447"/>
                    </a:lnTo>
                    <a:lnTo>
                      <a:pt x="199" y="463"/>
                    </a:lnTo>
                    <a:lnTo>
                      <a:pt x="267" y="453"/>
                    </a:lnTo>
                    <a:lnTo>
                      <a:pt x="338" y="408"/>
                    </a:lnTo>
                    <a:lnTo>
                      <a:pt x="370" y="366"/>
                    </a:lnTo>
                    <a:lnTo>
                      <a:pt x="425" y="251"/>
                    </a:lnTo>
                    <a:lnTo>
                      <a:pt x="425" y="209"/>
                    </a:lnTo>
                    <a:lnTo>
                      <a:pt x="404" y="170"/>
                    </a:lnTo>
                    <a:lnTo>
                      <a:pt x="380" y="115"/>
                    </a:lnTo>
                    <a:lnTo>
                      <a:pt x="372" y="94"/>
                    </a:lnTo>
                    <a:lnTo>
                      <a:pt x="401" y="83"/>
                    </a:lnTo>
                    <a:lnTo>
                      <a:pt x="435" y="86"/>
                    </a:lnTo>
                    <a:lnTo>
                      <a:pt x="456" y="107"/>
                    </a:lnTo>
                    <a:lnTo>
                      <a:pt x="480" y="154"/>
                    </a:lnTo>
                    <a:lnTo>
                      <a:pt x="467" y="241"/>
                    </a:lnTo>
                    <a:lnTo>
                      <a:pt x="456" y="288"/>
                    </a:lnTo>
                    <a:lnTo>
                      <a:pt x="404" y="385"/>
                    </a:lnTo>
                    <a:lnTo>
                      <a:pt x="357" y="455"/>
                    </a:lnTo>
                    <a:lnTo>
                      <a:pt x="269" y="487"/>
                    </a:lnTo>
                    <a:lnTo>
                      <a:pt x="199" y="503"/>
                    </a:lnTo>
                    <a:lnTo>
                      <a:pt x="144" y="476"/>
                    </a:lnTo>
                    <a:lnTo>
                      <a:pt x="118" y="385"/>
                    </a:lnTo>
                    <a:lnTo>
                      <a:pt x="89" y="272"/>
                    </a:lnTo>
                    <a:lnTo>
                      <a:pt x="65" y="188"/>
                    </a:lnTo>
                    <a:lnTo>
                      <a:pt x="34" y="141"/>
                    </a:lnTo>
                    <a:lnTo>
                      <a:pt x="2" y="9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6811920" y="3344760"/>
                <a:ext cx="349200" cy="347760"/>
                <a:chOff x="6811920" y="3344760"/>
                <a:chExt cx="349200" cy="34776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6811920" y="3344760"/>
                  <a:ext cx="349200" cy="347760"/>
                </a:xfrm>
                <a:custGeom>
                  <a:avLst/>
                  <a:gdLst/>
                  <a:ahLst/>
                  <a:rect l="l" t="t" r="r" b="b"/>
                  <a:pathLst>
                    <a:path w="441" h="437">
                      <a:moveTo>
                        <a:pt x="5" y="154"/>
                      </a:moveTo>
                      <a:lnTo>
                        <a:pt x="5" y="107"/>
                      </a:lnTo>
                      <a:lnTo>
                        <a:pt x="24" y="68"/>
                      </a:lnTo>
                      <a:lnTo>
                        <a:pt x="55" y="36"/>
                      </a:lnTo>
                      <a:lnTo>
                        <a:pt x="102" y="13"/>
                      </a:lnTo>
                      <a:lnTo>
                        <a:pt x="134" y="0"/>
                      </a:lnTo>
                      <a:lnTo>
                        <a:pt x="186" y="5"/>
                      </a:lnTo>
                      <a:lnTo>
                        <a:pt x="433" y="243"/>
                      </a:lnTo>
                      <a:lnTo>
                        <a:pt x="441" y="290"/>
                      </a:lnTo>
                      <a:lnTo>
                        <a:pt x="433" y="330"/>
                      </a:lnTo>
                      <a:lnTo>
                        <a:pt x="402" y="382"/>
                      </a:lnTo>
                      <a:lnTo>
                        <a:pt x="347" y="421"/>
                      </a:lnTo>
                      <a:lnTo>
                        <a:pt x="289" y="437"/>
                      </a:lnTo>
                      <a:lnTo>
                        <a:pt x="250" y="437"/>
                      </a:lnTo>
                      <a:lnTo>
                        <a:pt x="5" y="178"/>
                      </a:lnTo>
                      <a:lnTo>
                        <a:pt x="0" y="131"/>
                      </a:lnTo>
                      <a:lnTo>
                        <a:pt x="0" y="138"/>
                      </a:lnTo>
                      <a:lnTo>
                        <a:pt x="5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811920" y="3344760"/>
                  <a:ext cx="349200" cy="347760"/>
                </a:xfrm>
                <a:custGeom>
                  <a:avLst/>
                  <a:gdLst/>
                  <a:ahLst/>
                  <a:rect l="l" t="t" r="r" b="b"/>
                  <a:pathLst>
                    <a:path w="441" h="437">
                      <a:moveTo>
                        <a:pt x="5" y="154"/>
                      </a:moveTo>
                      <a:lnTo>
                        <a:pt x="5" y="107"/>
                      </a:lnTo>
                      <a:lnTo>
                        <a:pt x="24" y="68"/>
                      </a:lnTo>
                      <a:lnTo>
                        <a:pt x="55" y="36"/>
                      </a:lnTo>
                      <a:lnTo>
                        <a:pt x="102" y="13"/>
                      </a:lnTo>
                      <a:lnTo>
                        <a:pt x="134" y="0"/>
                      </a:lnTo>
                      <a:lnTo>
                        <a:pt x="186" y="5"/>
                      </a:lnTo>
                      <a:lnTo>
                        <a:pt x="433" y="243"/>
                      </a:lnTo>
                      <a:lnTo>
                        <a:pt x="441" y="290"/>
                      </a:lnTo>
                      <a:lnTo>
                        <a:pt x="433" y="330"/>
                      </a:lnTo>
                      <a:lnTo>
                        <a:pt x="402" y="382"/>
                      </a:lnTo>
                      <a:lnTo>
                        <a:pt x="347" y="421"/>
                      </a:lnTo>
                      <a:lnTo>
                        <a:pt x="289" y="437"/>
                      </a:lnTo>
                      <a:lnTo>
                        <a:pt x="250" y="437"/>
                      </a:lnTo>
                      <a:lnTo>
                        <a:pt x="5" y="178"/>
                      </a:lnTo>
                      <a:lnTo>
                        <a:pt x="0" y="131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816600" y="3354120"/>
                  <a:ext cx="139680" cy="123840"/>
                </a:xfrm>
                <a:custGeom>
                  <a:avLst/>
                  <a:gdLst/>
                  <a:ahLst/>
                  <a:rect l="l" t="t" r="r" b="b"/>
                  <a:pathLst>
                    <a:path w="176" h="157">
                      <a:moveTo>
                        <a:pt x="0" y="149"/>
                      </a:moveTo>
                      <a:lnTo>
                        <a:pt x="48" y="157"/>
                      </a:lnTo>
                      <a:lnTo>
                        <a:pt x="87" y="143"/>
                      </a:lnTo>
                      <a:lnTo>
                        <a:pt x="113" y="128"/>
                      </a:lnTo>
                      <a:lnTo>
                        <a:pt x="145" y="104"/>
                      </a:lnTo>
                      <a:lnTo>
                        <a:pt x="166" y="78"/>
                      </a:lnTo>
                      <a:lnTo>
                        <a:pt x="176" y="34"/>
                      </a:lnTo>
                      <a:lnTo>
                        <a:pt x="176" y="7"/>
                      </a:lnTo>
                      <a:lnTo>
                        <a:pt x="174" y="0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6431040" y="3336840"/>
                <a:ext cx="550800" cy="409680"/>
              </a:xfrm>
              <a:custGeom>
                <a:avLst/>
                <a:gdLst/>
                <a:ahLst/>
                <a:rect l="l" t="t" r="r" b="b"/>
                <a:pathLst>
                  <a:path w="693" h="515">
                    <a:moveTo>
                      <a:pt x="245" y="21"/>
                    </a:moveTo>
                    <a:lnTo>
                      <a:pt x="305" y="0"/>
                    </a:lnTo>
                    <a:lnTo>
                      <a:pt x="337" y="23"/>
                    </a:lnTo>
                    <a:lnTo>
                      <a:pt x="337" y="78"/>
                    </a:lnTo>
                    <a:lnTo>
                      <a:pt x="284" y="138"/>
                    </a:lnTo>
                    <a:lnTo>
                      <a:pt x="194" y="170"/>
                    </a:lnTo>
                    <a:lnTo>
                      <a:pt x="124" y="227"/>
                    </a:lnTo>
                    <a:lnTo>
                      <a:pt x="79" y="295"/>
                    </a:lnTo>
                    <a:lnTo>
                      <a:pt x="55" y="350"/>
                    </a:lnTo>
                    <a:lnTo>
                      <a:pt x="55" y="397"/>
                    </a:lnTo>
                    <a:lnTo>
                      <a:pt x="84" y="447"/>
                    </a:lnTo>
                    <a:lnTo>
                      <a:pt x="155" y="470"/>
                    </a:lnTo>
                    <a:lnTo>
                      <a:pt x="213" y="476"/>
                    </a:lnTo>
                    <a:lnTo>
                      <a:pt x="300" y="470"/>
                    </a:lnTo>
                    <a:lnTo>
                      <a:pt x="410" y="439"/>
                    </a:lnTo>
                    <a:lnTo>
                      <a:pt x="480" y="374"/>
                    </a:lnTo>
                    <a:lnTo>
                      <a:pt x="525" y="321"/>
                    </a:lnTo>
                    <a:lnTo>
                      <a:pt x="512" y="272"/>
                    </a:lnTo>
                    <a:lnTo>
                      <a:pt x="517" y="240"/>
                    </a:lnTo>
                    <a:lnTo>
                      <a:pt x="564" y="259"/>
                    </a:lnTo>
                    <a:lnTo>
                      <a:pt x="614" y="259"/>
                    </a:lnTo>
                    <a:lnTo>
                      <a:pt x="651" y="227"/>
                    </a:lnTo>
                    <a:lnTo>
                      <a:pt x="675" y="204"/>
                    </a:lnTo>
                    <a:lnTo>
                      <a:pt x="691" y="209"/>
                    </a:lnTo>
                    <a:lnTo>
                      <a:pt x="693" y="225"/>
                    </a:lnTo>
                    <a:lnTo>
                      <a:pt x="678" y="272"/>
                    </a:lnTo>
                    <a:lnTo>
                      <a:pt x="678" y="314"/>
                    </a:lnTo>
                    <a:lnTo>
                      <a:pt x="658" y="345"/>
                    </a:lnTo>
                    <a:lnTo>
                      <a:pt x="614" y="368"/>
                    </a:lnTo>
                    <a:lnTo>
                      <a:pt x="575" y="368"/>
                    </a:lnTo>
                    <a:lnTo>
                      <a:pt x="533" y="374"/>
                    </a:lnTo>
                    <a:lnTo>
                      <a:pt x="449" y="444"/>
                    </a:lnTo>
                    <a:lnTo>
                      <a:pt x="386" y="483"/>
                    </a:lnTo>
                    <a:lnTo>
                      <a:pt x="289" y="510"/>
                    </a:lnTo>
                    <a:lnTo>
                      <a:pt x="186" y="515"/>
                    </a:lnTo>
                    <a:lnTo>
                      <a:pt x="110" y="499"/>
                    </a:lnTo>
                    <a:lnTo>
                      <a:pt x="53" y="478"/>
                    </a:lnTo>
                    <a:lnTo>
                      <a:pt x="14" y="436"/>
                    </a:lnTo>
                    <a:lnTo>
                      <a:pt x="0" y="389"/>
                    </a:lnTo>
                    <a:lnTo>
                      <a:pt x="0" y="319"/>
                    </a:lnTo>
                    <a:lnTo>
                      <a:pt x="24" y="272"/>
                    </a:lnTo>
                    <a:lnTo>
                      <a:pt x="53" y="225"/>
                    </a:lnTo>
                    <a:lnTo>
                      <a:pt x="92" y="172"/>
                    </a:lnTo>
                    <a:lnTo>
                      <a:pt x="150" y="131"/>
                    </a:lnTo>
                    <a:lnTo>
                      <a:pt x="186" y="86"/>
                    </a:lnTo>
                    <a:lnTo>
                      <a:pt x="213" y="47"/>
                    </a:lnTo>
                    <a:lnTo>
                      <a:pt x="24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730920" y="3849480"/>
                <a:ext cx="247680" cy="585720"/>
              </a:xfrm>
              <a:custGeom>
                <a:avLst/>
                <a:gdLst/>
                <a:ahLst/>
                <a:rect l="l" t="t" r="r" b="b"/>
                <a:pathLst>
                  <a:path w="313" h="737">
                    <a:moveTo>
                      <a:pt x="24" y="0"/>
                    </a:moveTo>
                    <a:lnTo>
                      <a:pt x="79" y="32"/>
                    </a:lnTo>
                    <a:lnTo>
                      <a:pt x="134" y="123"/>
                    </a:lnTo>
                    <a:lnTo>
                      <a:pt x="171" y="186"/>
                    </a:lnTo>
                    <a:lnTo>
                      <a:pt x="197" y="260"/>
                    </a:lnTo>
                    <a:lnTo>
                      <a:pt x="226" y="330"/>
                    </a:lnTo>
                    <a:lnTo>
                      <a:pt x="249" y="414"/>
                    </a:lnTo>
                    <a:lnTo>
                      <a:pt x="249" y="472"/>
                    </a:lnTo>
                    <a:lnTo>
                      <a:pt x="213" y="520"/>
                    </a:lnTo>
                    <a:lnTo>
                      <a:pt x="189" y="567"/>
                    </a:lnTo>
                    <a:lnTo>
                      <a:pt x="147" y="604"/>
                    </a:lnTo>
                    <a:lnTo>
                      <a:pt x="131" y="638"/>
                    </a:lnTo>
                    <a:lnTo>
                      <a:pt x="150" y="659"/>
                    </a:lnTo>
                    <a:lnTo>
                      <a:pt x="179" y="661"/>
                    </a:lnTo>
                    <a:lnTo>
                      <a:pt x="244" y="669"/>
                    </a:lnTo>
                    <a:lnTo>
                      <a:pt x="289" y="690"/>
                    </a:lnTo>
                    <a:lnTo>
                      <a:pt x="313" y="708"/>
                    </a:lnTo>
                    <a:lnTo>
                      <a:pt x="298" y="732"/>
                    </a:lnTo>
                    <a:lnTo>
                      <a:pt x="257" y="737"/>
                    </a:lnTo>
                    <a:lnTo>
                      <a:pt x="205" y="716"/>
                    </a:lnTo>
                    <a:lnTo>
                      <a:pt x="173" y="698"/>
                    </a:lnTo>
                    <a:lnTo>
                      <a:pt x="108" y="682"/>
                    </a:lnTo>
                    <a:lnTo>
                      <a:pt x="92" y="677"/>
                    </a:lnTo>
                    <a:lnTo>
                      <a:pt x="84" y="653"/>
                    </a:lnTo>
                    <a:lnTo>
                      <a:pt x="95" y="619"/>
                    </a:lnTo>
                    <a:lnTo>
                      <a:pt x="147" y="559"/>
                    </a:lnTo>
                    <a:lnTo>
                      <a:pt x="173" y="520"/>
                    </a:lnTo>
                    <a:lnTo>
                      <a:pt x="205" y="446"/>
                    </a:lnTo>
                    <a:lnTo>
                      <a:pt x="213" y="409"/>
                    </a:lnTo>
                    <a:lnTo>
                      <a:pt x="181" y="315"/>
                    </a:lnTo>
                    <a:lnTo>
                      <a:pt x="124" y="218"/>
                    </a:lnTo>
                    <a:lnTo>
                      <a:pt x="68" y="155"/>
                    </a:lnTo>
                    <a:lnTo>
                      <a:pt x="40" y="108"/>
                    </a:lnTo>
                    <a:lnTo>
                      <a:pt x="8" y="79"/>
                    </a:lnTo>
                    <a:lnTo>
                      <a:pt x="0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472080" y="3848040"/>
                <a:ext cx="223920" cy="544320"/>
              </a:xfrm>
              <a:custGeom>
                <a:avLst/>
                <a:gdLst/>
                <a:ahLst/>
                <a:rect l="l" t="t" r="r" b="b"/>
                <a:pathLst>
                  <a:path w="283" h="687">
                    <a:moveTo>
                      <a:pt x="157" y="65"/>
                    </a:moveTo>
                    <a:lnTo>
                      <a:pt x="215" y="8"/>
                    </a:lnTo>
                    <a:lnTo>
                      <a:pt x="278" y="0"/>
                    </a:lnTo>
                    <a:lnTo>
                      <a:pt x="283" y="50"/>
                    </a:lnTo>
                    <a:lnTo>
                      <a:pt x="246" y="86"/>
                    </a:lnTo>
                    <a:lnTo>
                      <a:pt x="192" y="113"/>
                    </a:lnTo>
                    <a:lnTo>
                      <a:pt x="149" y="160"/>
                    </a:lnTo>
                    <a:lnTo>
                      <a:pt x="141" y="223"/>
                    </a:lnTo>
                    <a:lnTo>
                      <a:pt x="149" y="314"/>
                    </a:lnTo>
                    <a:lnTo>
                      <a:pt x="172" y="474"/>
                    </a:lnTo>
                    <a:lnTo>
                      <a:pt x="199" y="574"/>
                    </a:lnTo>
                    <a:lnTo>
                      <a:pt x="228" y="645"/>
                    </a:lnTo>
                    <a:lnTo>
                      <a:pt x="223" y="679"/>
                    </a:lnTo>
                    <a:lnTo>
                      <a:pt x="192" y="684"/>
                    </a:lnTo>
                    <a:lnTo>
                      <a:pt x="136" y="669"/>
                    </a:lnTo>
                    <a:lnTo>
                      <a:pt x="73" y="669"/>
                    </a:lnTo>
                    <a:lnTo>
                      <a:pt x="39" y="687"/>
                    </a:lnTo>
                    <a:lnTo>
                      <a:pt x="8" y="679"/>
                    </a:lnTo>
                    <a:lnTo>
                      <a:pt x="0" y="640"/>
                    </a:lnTo>
                    <a:lnTo>
                      <a:pt x="31" y="632"/>
                    </a:lnTo>
                    <a:lnTo>
                      <a:pt x="94" y="632"/>
                    </a:lnTo>
                    <a:lnTo>
                      <a:pt x="189" y="653"/>
                    </a:lnTo>
                    <a:lnTo>
                      <a:pt x="192" y="645"/>
                    </a:lnTo>
                    <a:lnTo>
                      <a:pt x="184" y="614"/>
                    </a:lnTo>
                    <a:lnTo>
                      <a:pt x="149" y="495"/>
                    </a:lnTo>
                    <a:lnTo>
                      <a:pt x="133" y="401"/>
                    </a:lnTo>
                    <a:lnTo>
                      <a:pt x="110" y="285"/>
                    </a:lnTo>
                    <a:lnTo>
                      <a:pt x="110" y="204"/>
                    </a:lnTo>
                    <a:lnTo>
                      <a:pt x="112" y="141"/>
                    </a:lnTo>
                    <a:lnTo>
                      <a:pt x="125" y="97"/>
                    </a:lnTo>
                    <a:lnTo>
                      <a:pt x="15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692760" y="3035160"/>
                <a:ext cx="265320" cy="291960"/>
              </a:xfrm>
              <a:custGeom>
                <a:avLst/>
                <a:gdLst/>
                <a:ahLst/>
                <a:rect l="l" t="t" r="r" b="b"/>
                <a:pathLst>
                  <a:path w="332" h="370">
                    <a:moveTo>
                      <a:pt x="0" y="331"/>
                    </a:moveTo>
                    <a:lnTo>
                      <a:pt x="0" y="248"/>
                    </a:lnTo>
                    <a:lnTo>
                      <a:pt x="16" y="157"/>
                    </a:lnTo>
                    <a:lnTo>
                      <a:pt x="55" y="84"/>
                    </a:lnTo>
                    <a:lnTo>
                      <a:pt x="105" y="39"/>
                    </a:lnTo>
                    <a:lnTo>
                      <a:pt x="160" y="5"/>
                    </a:lnTo>
                    <a:lnTo>
                      <a:pt x="207" y="0"/>
                    </a:lnTo>
                    <a:lnTo>
                      <a:pt x="259" y="13"/>
                    </a:lnTo>
                    <a:lnTo>
                      <a:pt x="283" y="44"/>
                    </a:lnTo>
                    <a:lnTo>
                      <a:pt x="298" y="84"/>
                    </a:lnTo>
                    <a:lnTo>
                      <a:pt x="293" y="125"/>
                    </a:lnTo>
                    <a:lnTo>
                      <a:pt x="285" y="173"/>
                    </a:lnTo>
                    <a:lnTo>
                      <a:pt x="259" y="212"/>
                    </a:lnTo>
                    <a:lnTo>
                      <a:pt x="332" y="303"/>
                    </a:lnTo>
                    <a:lnTo>
                      <a:pt x="322" y="328"/>
                    </a:lnTo>
                    <a:lnTo>
                      <a:pt x="238" y="256"/>
                    </a:lnTo>
                    <a:lnTo>
                      <a:pt x="191" y="312"/>
                    </a:lnTo>
                    <a:lnTo>
                      <a:pt x="141" y="351"/>
                    </a:lnTo>
                    <a:lnTo>
                      <a:pt x="89" y="370"/>
                    </a:lnTo>
                    <a:lnTo>
                      <a:pt x="47" y="370"/>
                    </a:lnTo>
                    <a:lnTo>
                      <a:pt x="16" y="354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8185320" y="3035160"/>
              <a:ext cx="728640" cy="1460520"/>
              <a:chOff x="8185320" y="3035160"/>
              <a:chExt cx="728640" cy="1460520"/>
            </a:xfrm>
          </p:grpSpPr>
          <p:sp>
            <p:nvSpPr>
              <p:cNvPr id="1285" name=""/>
              <p:cNvSpPr/>
              <p:nvPr/>
            </p:nvSpPr>
            <p:spPr>
              <a:xfrm>
                <a:off x="8548560" y="3362040"/>
                <a:ext cx="239760" cy="608040"/>
              </a:xfrm>
              <a:custGeom>
                <a:avLst/>
                <a:gdLst/>
                <a:ahLst/>
                <a:rect l="l" t="t" r="r" b="b"/>
                <a:pathLst>
                  <a:path w="302" h="765">
                    <a:moveTo>
                      <a:pt x="199" y="74"/>
                    </a:moveTo>
                    <a:lnTo>
                      <a:pt x="144" y="19"/>
                    </a:lnTo>
                    <a:lnTo>
                      <a:pt x="78" y="0"/>
                    </a:lnTo>
                    <a:lnTo>
                      <a:pt x="31" y="3"/>
                    </a:lnTo>
                    <a:lnTo>
                      <a:pt x="23" y="49"/>
                    </a:lnTo>
                    <a:lnTo>
                      <a:pt x="26" y="109"/>
                    </a:lnTo>
                    <a:lnTo>
                      <a:pt x="78" y="180"/>
                    </a:lnTo>
                    <a:lnTo>
                      <a:pt x="110" y="287"/>
                    </a:lnTo>
                    <a:lnTo>
                      <a:pt x="112" y="393"/>
                    </a:lnTo>
                    <a:lnTo>
                      <a:pt x="89" y="491"/>
                    </a:lnTo>
                    <a:lnTo>
                      <a:pt x="57" y="582"/>
                    </a:lnTo>
                    <a:lnTo>
                      <a:pt x="0" y="659"/>
                    </a:lnTo>
                    <a:lnTo>
                      <a:pt x="0" y="683"/>
                    </a:lnTo>
                    <a:lnTo>
                      <a:pt x="8" y="738"/>
                    </a:lnTo>
                    <a:lnTo>
                      <a:pt x="50" y="762"/>
                    </a:lnTo>
                    <a:lnTo>
                      <a:pt x="97" y="765"/>
                    </a:lnTo>
                    <a:lnTo>
                      <a:pt x="175" y="746"/>
                    </a:lnTo>
                    <a:lnTo>
                      <a:pt x="235" y="683"/>
                    </a:lnTo>
                    <a:lnTo>
                      <a:pt x="268" y="574"/>
                    </a:lnTo>
                    <a:lnTo>
                      <a:pt x="291" y="502"/>
                    </a:lnTo>
                    <a:lnTo>
                      <a:pt x="302" y="409"/>
                    </a:lnTo>
                    <a:lnTo>
                      <a:pt x="294" y="287"/>
                    </a:lnTo>
                    <a:lnTo>
                      <a:pt x="268" y="183"/>
                    </a:lnTo>
                    <a:lnTo>
                      <a:pt x="235" y="115"/>
                    </a:lnTo>
                    <a:lnTo>
                      <a:pt x="19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240760" y="3355920"/>
                <a:ext cx="380880" cy="419040"/>
              </a:xfrm>
              <a:custGeom>
                <a:avLst/>
                <a:gdLst/>
                <a:ahLst/>
                <a:rect l="l" t="t" r="r" b="b"/>
                <a:pathLst>
                  <a:path w="480" h="527">
                    <a:moveTo>
                      <a:pt x="480" y="38"/>
                    </a:moveTo>
                    <a:lnTo>
                      <a:pt x="464" y="0"/>
                    </a:lnTo>
                    <a:lnTo>
                      <a:pt x="433" y="0"/>
                    </a:lnTo>
                    <a:lnTo>
                      <a:pt x="393" y="41"/>
                    </a:lnTo>
                    <a:lnTo>
                      <a:pt x="367" y="140"/>
                    </a:lnTo>
                    <a:lnTo>
                      <a:pt x="346" y="255"/>
                    </a:lnTo>
                    <a:lnTo>
                      <a:pt x="331" y="375"/>
                    </a:lnTo>
                    <a:lnTo>
                      <a:pt x="281" y="466"/>
                    </a:lnTo>
                    <a:lnTo>
                      <a:pt x="281" y="468"/>
                    </a:lnTo>
                    <a:lnTo>
                      <a:pt x="281" y="485"/>
                    </a:lnTo>
                    <a:lnTo>
                      <a:pt x="213" y="474"/>
                    </a:lnTo>
                    <a:lnTo>
                      <a:pt x="141" y="427"/>
                    </a:lnTo>
                    <a:lnTo>
                      <a:pt x="110" y="384"/>
                    </a:lnTo>
                    <a:lnTo>
                      <a:pt x="55" y="263"/>
                    </a:lnTo>
                    <a:lnTo>
                      <a:pt x="55" y="219"/>
                    </a:lnTo>
                    <a:lnTo>
                      <a:pt x="76" y="178"/>
                    </a:lnTo>
                    <a:lnTo>
                      <a:pt x="99" y="121"/>
                    </a:lnTo>
                    <a:lnTo>
                      <a:pt x="107" y="99"/>
                    </a:lnTo>
                    <a:lnTo>
                      <a:pt x="78" y="88"/>
                    </a:lnTo>
                    <a:lnTo>
                      <a:pt x="44" y="90"/>
                    </a:lnTo>
                    <a:lnTo>
                      <a:pt x="23" y="112"/>
                    </a:lnTo>
                    <a:lnTo>
                      <a:pt x="0" y="162"/>
                    </a:lnTo>
                    <a:lnTo>
                      <a:pt x="13" y="252"/>
                    </a:lnTo>
                    <a:lnTo>
                      <a:pt x="23" y="301"/>
                    </a:lnTo>
                    <a:lnTo>
                      <a:pt x="76" y="403"/>
                    </a:lnTo>
                    <a:lnTo>
                      <a:pt x="123" y="477"/>
                    </a:lnTo>
                    <a:lnTo>
                      <a:pt x="210" y="510"/>
                    </a:lnTo>
                    <a:lnTo>
                      <a:pt x="281" y="527"/>
                    </a:lnTo>
                    <a:lnTo>
                      <a:pt x="336" y="499"/>
                    </a:lnTo>
                    <a:lnTo>
                      <a:pt x="362" y="403"/>
                    </a:lnTo>
                    <a:lnTo>
                      <a:pt x="391" y="285"/>
                    </a:lnTo>
                    <a:lnTo>
                      <a:pt x="414" y="197"/>
                    </a:lnTo>
                    <a:lnTo>
                      <a:pt x="446" y="148"/>
                    </a:lnTo>
                    <a:lnTo>
                      <a:pt x="477" y="99"/>
                    </a:lnTo>
                    <a:lnTo>
                      <a:pt x="48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7" name=""/>
              <p:cNvGrpSpPr/>
              <p:nvPr/>
            </p:nvGrpSpPr>
            <p:grpSpPr>
              <a:xfrm>
                <a:off x="8185320" y="3357360"/>
                <a:ext cx="349200" cy="363600"/>
                <a:chOff x="8185320" y="3357360"/>
                <a:chExt cx="349200" cy="3636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8185320" y="3357360"/>
                  <a:ext cx="349200" cy="3636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34" y="162"/>
                      </a:moveTo>
                      <a:lnTo>
                        <a:pt x="434" y="113"/>
                      </a:lnTo>
                      <a:lnTo>
                        <a:pt x="416" y="72"/>
                      </a:lnTo>
                      <a:lnTo>
                        <a:pt x="385" y="39"/>
                      </a:lnTo>
                      <a:lnTo>
                        <a:pt x="338" y="14"/>
                      </a:lnTo>
                      <a:lnTo>
                        <a:pt x="306" y="0"/>
                      </a:lnTo>
                      <a:lnTo>
                        <a:pt x="254" y="6"/>
                      </a:lnTo>
                      <a:lnTo>
                        <a:pt x="7" y="255"/>
                      </a:lnTo>
                      <a:lnTo>
                        <a:pt x="0" y="305"/>
                      </a:lnTo>
                      <a:lnTo>
                        <a:pt x="7" y="346"/>
                      </a:lnTo>
                      <a:lnTo>
                        <a:pt x="39" y="401"/>
                      </a:lnTo>
                      <a:lnTo>
                        <a:pt x="94" y="442"/>
                      </a:lnTo>
                      <a:lnTo>
                        <a:pt x="151" y="458"/>
                      </a:lnTo>
                      <a:lnTo>
                        <a:pt x="190" y="458"/>
                      </a:lnTo>
                      <a:lnTo>
                        <a:pt x="434" y="187"/>
                      </a:lnTo>
                      <a:lnTo>
                        <a:pt x="440" y="137"/>
                      </a:lnTo>
                      <a:lnTo>
                        <a:pt x="440" y="146"/>
                      </a:lnTo>
                      <a:lnTo>
                        <a:pt x="434" y="16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185320" y="3357360"/>
                  <a:ext cx="349200" cy="3636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34" y="162"/>
                      </a:moveTo>
                      <a:lnTo>
                        <a:pt x="434" y="113"/>
                      </a:lnTo>
                      <a:lnTo>
                        <a:pt x="416" y="72"/>
                      </a:lnTo>
                      <a:lnTo>
                        <a:pt x="385" y="39"/>
                      </a:lnTo>
                      <a:lnTo>
                        <a:pt x="338" y="14"/>
                      </a:lnTo>
                      <a:lnTo>
                        <a:pt x="306" y="0"/>
                      </a:lnTo>
                      <a:lnTo>
                        <a:pt x="254" y="6"/>
                      </a:lnTo>
                      <a:lnTo>
                        <a:pt x="7" y="255"/>
                      </a:lnTo>
                      <a:lnTo>
                        <a:pt x="0" y="305"/>
                      </a:lnTo>
                      <a:lnTo>
                        <a:pt x="7" y="346"/>
                      </a:lnTo>
                      <a:lnTo>
                        <a:pt x="39" y="401"/>
                      </a:lnTo>
                      <a:lnTo>
                        <a:pt x="94" y="442"/>
                      </a:lnTo>
                      <a:lnTo>
                        <a:pt x="151" y="458"/>
                      </a:lnTo>
                      <a:lnTo>
                        <a:pt x="190" y="458"/>
                      </a:lnTo>
                      <a:lnTo>
                        <a:pt x="434" y="187"/>
                      </a:lnTo>
                      <a:lnTo>
                        <a:pt x="440" y="137"/>
                      </a:lnTo>
                      <a:lnTo>
                        <a:pt x="440" y="146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393040" y="3368520"/>
                  <a:ext cx="138240" cy="128520"/>
                </a:xfrm>
                <a:custGeom>
                  <a:avLst/>
                  <a:gdLst/>
                  <a:ahLst/>
                  <a:rect l="l" t="t" r="r" b="b"/>
                  <a:pathLst>
                    <a:path w="175" h="162">
                      <a:moveTo>
                        <a:pt x="175" y="154"/>
                      </a:moveTo>
                      <a:lnTo>
                        <a:pt x="128" y="162"/>
                      </a:lnTo>
                      <a:lnTo>
                        <a:pt x="89" y="148"/>
                      </a:lnTo>
                      <a:lnTo>
                        <a:pt x="62" y="132"/>
                      </a:lnTo>
                      <a:lnTo>
                        <a:pt x="31" y="108"/>
                      </a:lnTo>
                      <a:lnTo>
                        <a:pt x="10" y="81"/>
                      </a:lnTo>
                      <a:lnTo>
                        <a:pt x="0" y="35"/>
                      </a:lnTo>
                      <a:lnTo>
                        <a:pt x="0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8364600" y="3348000"/>
                <a:ext cx="549360" cy="430200"/>
              </a:xfrm>
              <a:custGeom>
                <a:avLst/>
                <a:gdLst/>
                <a:ahLst/>
                <a:rect l="l" t="t" r="r" b="b"/>
                <a:pathLst>
                  <a:path w="693" h="541">
                    <a:moveTo>
                      <a:pt x="448" y="22"/>
                    </a:moveTo>
                    <a:lnTo>
                      <a:pt x="388" y="0"/>
                    </a:lnTo>
                    <a:lnTo>
                      <a:pt x="356" y="25"/>
                    </a:lnTo>
                    <a:lnTo>
                      <a:pt x="356" y="83"/>
                    </a:lnTo>
                    <a:lnTo>
                      <a:pt x="409" y="146"/>
                    </a:lnTo>
                    <a:lnTo>
                      <a:pt x="499" y="179"/>
                    </a:lnTo>
                    <a:lnTo>
                      <a:pt x="569" y="239"/>
                    </a:lnTo>
                    <a:lnTo>
                      <a:pt x="614" y="310"/>
                    </a:lnTo>
                    <a:lnTo>
                      <a:pt x="638" y="368"/>
                    </a:lnTo>
                    <a:lnTo>
                      <a:pt x="638" y="417"/>
                    </a:lnTo>
                    <a:lnTo>
                      <a:pt x="609" y="469"/>
                    </a:lnTo>
                    <a:lnTo>
                      <a:pt x="538" y="494"/>
                    </a:lnTo>
                    <a:lnTo>
                      <a:pt x="480" y="499"/>
                    </a:lnTo>
                    <a:lnTo>
                      <a:pt x="393" y="494"/>
                    </a:lnTo>
                    <a:lnTo>
                      <a:pt x="283" y="461"/>
                    </a:lnTo>
                    <a:lnTo>
                      <a:pt x="213" y="392"/>
                    </a:lnTo>
                    <a:lnTo>
                      <a:pt x="168" y="338"/>
                    </a:lnTo>
                    <a:lnTo>
                      <a:pt x="181" y="285"/>
                    </a:lnTo>
                    <a:lnTo>
                      <a:pt x="176" y="253"/>
                    </a:lnTo>
                    <a:lnTo>
                      <a:pt x="129" y="272"/>
                    </a:lnTo>
                    <a:lnTo>
                      <a:pt x="79" y="272"/>
                    </a:lnTo>
                    <a:lnTo>
                      <a:pt x="42" y="239"/>
                    </a:lnTo>
                    <a:lnTo>
                      <a:pt x="18" y="214"/>
                    </a:lnTo>
                    <a:lnTo>
                      <a:pt x="2" y="220"/>
                    </a:lnTo>
                    <a:lnTo>
                      <a:pt x="0" y="236"/>
                    </a:lnTo>
                    <a:lnTo>
                      <a:pt x="15" y="285"/>
                    </a:lnTo>
                    <a:lnTo>
                      <a:pt x="15" y="329"/>
                    </a:lnTo>
                    <a:lnTo>
                      <a:pt x="35" y="362"/>
                    </a:lnTo>
                    <a:lnTo>
                      <a:pt x="79" y="387"/>
                    </a:lnTo>
                    <a:lnTo>
                      <a:pt x="118" y="387"/>
                    </a:lnTo>
                    <a:lnTo>
                      <a:pt x="160" y="392"/>
                    </a:lnTo>
                    <a:lnTo>
                      <a:pt x="244" y="466"/>
                    </a:lnTo>
                    <a:lnTo>
                      <a:pt x="307" y="507"/>
                    </a:lnTo>
                    <a:lnTo>
                      <a:pt x="404" y="536"/>
                    </a:lnTo>
                    <a:lnTo>
                      <a:pt x="507" y="541"/>
                    </a:lnTo>
                    <a:lnTo>
                      <a:pt x="583" y="525"/>
                    </a:lnTo>
                    <a:lnTo>
                      <a:pt x="640" y="502"/>
                    </a:lnTo>
                    <a:lnTo>
                      <a:pt x="679" y="458"/>
                    </a:lnTo>
                    <a:lnTo>
                      <a:pt x="693" y="409"/>
                    </a:lnTo>
                    <a:lnTo>
                      <a:pt x="693" y="335"/>
                    </a:lnTo>
                    <a:lnTo>
                      <a:pt x="669" y="285"/>
                    </a:lnTo>
                    <a:lnTo>
                      <a:pt x="640" y="236"/>
                    </a:lnTo>
                    <a:lnTo>
                      <a:pt x="601" y="181"/>
                    </a:lnTo>
                    <a:lnTo>
                      <a:pt x="543" y="137"/>
                    </a:lnTo>
                    <a:lnTo>
                      <a:pt x="507" y="91"/>
                    </a:lnTo>
                    <a:lnTo>
                      <a:pt x="480" y="50"/>
                    </a:lnTo>
                    <a:lnTo>
                      <a:pt x="44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369280" y="3886200"/>
                <a:ext cx="247680" cy="609480"/>
              </a:xfrm>
              <a:custGeom>
                <a:avLst/>
                <a:gdLst/>
                <a:ahLst/>
                <a:rect l="l" t="t" r="r" b="b"/>
                <a:pathLst>
                  <a:path w="312" h="768">
                    <a:moveTo>
                      <a:pt x="288" y="0"/>
                    </a:moveTo>
                    <a:lnTo>
                      <a:pt x="233" y="33"/>
                    </a:lnTo>
                    <a:lnTo>
                      <a:pt x="179" y="128"/>
                    </a:lnTo>
                    <a:lnTo>
                      <a:pt x="142" y="194"/>
                    </a:lnTo>
                    <a:lnTo>
                      <a:pt x="116" y="270"/>
                    </a:lnTo>
                    <a:lnTo>
                      <a:pt x="87" y="344"/>
                    </a:lnTo>
                    <a:lnTo>
                      <a:pt x="64" y="431"/>
                    </a:lnTo>
                    <a:lnTo>
                      <a:pt x="64" y="492"/>
                    </a:lnTo>
                    <a:lnTo>
                      <a:pt x="100" y="541"/>
                    </a:lnTo>
                    <a:lnTo>
                      <a:pt x="124" y="590"/>
                    </a:lnTo>
                    <a:lnTo>
                      <a:pt x="165" y="629"/>
                    </a:lnTo>
                    <a:lnTo>
                      <a:pt x="181" y="664"/>
                    </a:lnTo>
                    <a:lnTo>
                      <a:pt x="163" y="686"/>
                    </a:lnTo>
                    <a:lnTo>
                      <a:pt x="134" y="689"/>
                    </a:lnTo>
                    <a:lnTo>
                      <a:pt x="69" y="697"/>
                    </a:lnTo>
                    <a:lnTo>
                      <a:pt x="24" y="719"/>
                    </a:lnTo>
                    <a:lnTo>
                      <a:pt x="0" y="738"/>
                    </a:lnTo>
                    <a:lnTo>
                      <a:pt x="15" y="762"/>
                    </a:lnTo>
                    <a:lnTo>
                      <a:pt x="56" y="768"/>
                    </a:lnTo>
                    <a:lnTo>
                      <a:pt x="108" y="746"/>
                    </a:lnTo>
                    <a:lnTo>
                      <a:pt x="139" y="727"/>
                    </a:lnTo>
                    <a:lnTo>
                      <a:pt x="205" y="711"/>
                    </a:lnTo>
                    <a:lnTo>
                      <a:pt x="220" y="705"/>
                    </a:lnTo>
                    <a:lnTo>
                      <a:pt x="228" y="681"/>
                    </a:lnTo>
                    <a:lnTo>
                      <a:pt x="218" y="645"/>
                    </a:lnTo>
                    <a:lnTo>
                      <a:pt x="165" y="582"/>
                    </a:lnTo>
                    <a:lnTo>
                      <a:pt x="139" y="541"/>
                    </a:lnTo>
                    <a:lnTo>
                      <a:pt x="108" y="465"/>
                    </a:lnTo>
                    <a:lnTo>
                      <a:pt x="100" y="426"/>
                    </a:lnTo>
                    <a:lnTo>
                      <a:pt x="131" y="327"/>
                    </a:lnTo>
                    <a:lnTo>
                      <a:pt x="189" y="226"/>
                    </a:lnTo>
                    <a:lnTo>
                      <a:pt x="244" y="161"/>
                    </a:lnTo>
                    <a:lnTo>
                      <a:pt x="273" y="112"/>
                    </a:lnTo>
                    <a:lnTo>
                      <a:pt x="304" y="82"/>
                    </a:lnTo>
                    <a:lnTo>
                      <a:pt x="312" y="3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650440" y="3881160"/>
                <a:ext cx="223560" cy="570240"/>
              </a:xfrm>
              <a:custGeom>
                <a:avLst/>
                <a:gdLst/>
                <a:ahLst/>
                <a:rect l="l" t="t" r="r" b="b"/>
                <a:pathLst>
                  <a:path w="284" h="717">
                    <a:moveTo>
                      <a:pt x="126" y="69"/>
                    </a:moveTo>
                    <a:lnTo>
                      <a:pt x="68" y="9"/>
                    </a:lnTo>
                    <a:lnTo>
                      <a:pt x="5" y="0"/>
                    </a:lnTo>
                    <a:lnTo>
                      <a:pt x="0" y="52"/>
                    </a:lnTo>
                    <a:lnTo>
                      <a:pt x="36" y="91"/>
                    </a:lnTo>
                    <a:lnTo>
                      <a:pt x="91" y="118"/>
                    </a:lnTo>
                    <a:lnTo>
                      <a:pt x="134" y="167"/>
                    </a:lnTo>
                    <a:lnTo>
                      <a:pt x="142" y="232"/>
                    </a:lnTo>
                    <a:lnTo>
                      <a:pt x="134" y="328"/>
                    </a:lnTo>
                    <a:lnTo>
                      <a:pt x="110" y="495"/>
                    </a:lnTo>
                    <a:lnTo>
                      <a:pt x="83" y="599"/>
                    </a:lnTo>
                    <a:lnTo>
                      <a:pt x="55" y="673"/>
                    </a:lnTo>
                    <a:lnTo>
                      <a:pt x="60" y="708"/>
                    </a:lnTo>
                    <a:lnTo>
                      <a:pt x="91" y="714"/>
                    </a:lnTo>
                    <a:lnTo>
                      <a:pt x="147" y="697"/>
                    </a:lnTo>
                    <a:lnTo>
                      <a:pt x="210" y="697"/>
                    </a:lnTo>
                    <a:lnTo>
                      <a:pt x="244" y="717"/>
                    </a:lnTo>
                    <a:lnTo>
                      <a:pt x="276" y="708"/>
                    </a:lnTo>
                    <a:lnTo>
                      <a:pt x="284" y="667"/>
                    </a:lnTo>
                    <a:lnTo>
                      <a:pt x="252" y="659"/>
                    </a:lnTo>
                    <a:lnTo>
                      <a:pt x="189" y="659"/>
                    </a:lnTo>
                    <a:lnTo>
                      <a:pt x="94" y="681"/>
                    </a:lnTo>
                    <a:lnTo>
                      <a:pt x="91" y="673"/>
                    </a:lnTo>
                    <a:lnTo>
                      <a:pt x="99" y="640"/>
                    </a:lnTo>
                    <a:lnTo>
                      <a:pt x="134" y="517"/>
                    </a:lnTo>
                    <a:lnTo>
                      <a:pt x="150" y="418"/>
                    </a:lnTo>
                    <a:lnTo>
                      <a:pt x="173" y="298"/>
                    </a:lnTo>
                    <a:lnTo>
                      <a:pt x="173" y="213"/>
                    </a:lnTo>
                    <a:lnTo>
                      <a:pt x="171" y="148"/>
                    </a:lnTo>
                    <a:lnTo>
                      <a:pt x="158" y="101"/>
                    </a:lnTo>
                    <a:lnTo>
                      <a:pt x="126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389800" y="3035160"/>
                <a:ext cx="265320" cy="304920"/>
              </a:xfrm>
              <a:custGeom>
                <a:avLst/>
                <a:gdLst/>
                <a:ahLst/>
                <a:rect l="l" t="t" r="r" b="b"/>
                <a:pathLst>
                  <a:path w="333" h="386">
                    <a:moveTo>
                      <a:pt x="333" y="345"/>
                    </a:moveTo>
                    <a:lnTo>
                      <a:pt x="333" y="259"/>
                    </a:lnTo>
                    <a:lnTo>
                      <a:pt x="317" y="164"/>
                    </a:lnTo>
                    <a:lnTo>
                      <a:pt x="278" y="87"/>
                    </a:lnTo>
                    <a:lnTo>
                      <a:pt x="228" y="41"/>
                    </a:lnTo>
                    <a:lnTo>
                      <a:pt x="173" y="5"/>
                    </a:lnTo>
                    <a:lnTo>
                      <a:pt x="126" y="0"/>
                    </a:lnTo>
                    <a:lnTo>
                      <a:pt x="73" y="14"/>
                    </a:lnTo>
                    <a:lnTo>
                      <a:pt x="50" y="46"/>
                    </a:lnTo>
                    <a:lnTo>
                      <a:pt x="34" y="87"/>
                    </a:lnTo>
                    <a:lnTo>
                      <a:pt x="39" y="131"/>
                    </a:lnTo>
                    <a:lnTo>
                      <a:pt x="47" y="180"/>
                    </a:lnTo>
                    <a:lnTo>
                      <a:pt x="73" y="221"/>
                    </a:lnTo>
                    <a:lnTo>
                      <a:pt x="0" y="318"/>
                    </a:lnTo>
                    <a:lnTo>
                      <a:pt x="10" y="342"/>
                    </a:lnTo>
                    <a:lnTo>
                      <a:pt x="94" y="267"/>
                    </a:lnTo>
                    <a:lnTo>
                      <a:pt x="141" y="326"/>
                    </a:lnTo>
                    <a:lnTo>
                      <a:pt x="191" y="367"/>
                    </a:lnTo>
                    <a:lnTo>
                      <a:pt x="244" y="386"/>
                    </a:lnTo>
                    <a:lnTo>
                      <a:pt x="286" y="386"/>
                    </a:lnTo>
                    <a:lnTo>
                      <a:pt x="317" y="369"/>
                    </a:lnTo>
                    <a:lnTo>
                      <a:pt x="333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6967800" y="2118960"/>
              <a:ext cx="1436760" cy="19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02" y="17585"/>
                  </a:moveTo>
                  <a:arcTo wR="10800" hR="10800" stAng="2335415" swAng="629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02" y="17585"/>
                  </a:moveTo>
                  <a:arcTo wR="10800" hR="10800" stAng="2335415" swAng="6297924"/>
                </a:path>
              </a:pathLst>
            </a:custGeom>
            <a:noFill/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0" y="4648320"/>
            <a:ext cx="90932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achine learning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leitmotiv: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Represent, learn and compare current use profiles to improve future 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earning during a login se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Ranking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6402240" y="5391000"/>
            <a:ext cx="2436840" cy="1237680"/>
            <a:chOff x="6402240" y="5391000"/>
            <a:chExt cx="2436840" cy="1237680"/>
          </a:xfrm>
        </p:grpSpPr>
        <p:grpSp>
          <p:nvGrpSpPr>
            <p:cNvPr id="1298" name=""/>
            <p:cNvGrpSpPr/>
            <p:nvPr/>
          </p:nvGrpSpPr>
          <p:grpSpPr>
            <a:xfrm>
              <a:off x="6402240" y="5816520"/>
              <a:ext cx="2436840" cy="812160"/>
              <a:chOff x="6402240" y="5816520"/>
              <a:chExt cx="2436840" cy="8121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411600" y="5830560"/>
                <a:ext cx="2414520" cy="785520"/>
              </a:xfrm>
              <a:custGeom>
                <a:avLst/>
                <a:gdLst/>
                <a:ahLst/>
                <a:rect l="l" t="t" r="r" b="b"/>
                <a:pathLst>
                  <a:path w="3041" h="1112">
                    <a:moveTo>
                      <a:pt x="0" y="542"/>
                    </a:moveTo>
                    <a:lnTo>
                      <a:pt x="4" y="393"/>
                    </a:lnTo>
                    <a:lnTo>
                      <a:pt x="4" y="387"/>
                    </a:lnTo>
                    <a:lnTo>
                      <a:pt x="19" y="279"/>
                    </a:lnTo>
                    <a:lnTo>
                      <a:pt x="51" y="204"/>
                    </a:lnTo>
                    <a:lnTo>
                      <a:pt x="90" y="178"/>
                    </a:lnTo>
                    <a:lnTo>
                      <a:pt x="176" y="167"/>
                    </a:lnTo>
                    <a:lnTo>
                      <a:pt x="432" y="152"/>
                    </a:lnTo>
                    <a:lnTo>
                      <a:pt x="840" y="135"/>
                    </a:lnTo>
                    <a:lnTo>
                      <a:pt x="1130" y="126"/>
                    </a:lnTo>
                    <a:lnTo>
                      <a:pt x="1519" y="90"/>
                    </a:lnTo>
                    <a:lnTo>
                      <a:pt x="1895" y="56"/>
                    </a:lnTo>
                    <a:lnTo>
                      <a:pt x="2297" y="10"/>
                    </a:lnTo>
                    <a:lnTo>
                      <a:pt x="2510" y="0"/>
                    </a:lnTo>
                    <a:lnTo>
                      <a:pt x="2553" y="8"/>
                    </a:lnTo>
                    <a:lnTo>
                      <a:pt x="2725" y="64"/>
                    </a:lnTo>
                    <a:lnTo>
                      <a:pt x="2933" y="142"/>
                    </a:lnTo>
                    <a:lnTo>
                      <a:pt x="3026" y="197"/>
                    </a:lnTo>
                    <a:lnTo>
                      <a:pt x="3041" y="223"/>
                    </a:lnTo>
                    <a:lnTo>
                      <a:pt x="3039" y="281"/>
                    </a:lnTo>
                    <a:lnTo>
                      <a:pt x="3017" y="376"/>
                    </a:lnTo>
                    <a:lnTo>
                      <a:pt x="3011" y="456"/>
                    </a:lnTo>
                    <a:lnTo>
                      <a:pt x="3013" y="606"/>
                    </a:lnTo>
                    <a:lnTo>
                      <a:pt x="3013" y="613"/>
                    </a:lnTo>
                    <a:lnTo>
                      <a:pt x="3028" y="776"/>
                    </a:lnTo>
                    <a:lnTo>
                      <a:pt x="3017" y="800"/>
                    </a:lnTo>
                    <a:lnTo>
                      <a:pt x="3000" y="815"/>
                    </a:lnTo>
                    <a:lnTo>
                      <a:pt x="2905" y="823"/>
                    </a:lnTo>
                    <a:lnTo>
                      <a:pt x="2596" y="879"/>
                    </a:lnTo>
                    <a:lnTo>
                      <a:pt x="2364" y="935"/>
                    </a:lnTo>
                    <a:lnTo>
                      <a:pt x="2357" y="937"/>
                    </a:lnTo>
                    <a:lnTo>
                      <a:pt x="2123" y="991"/>
                    </a:lnTo>
                    <a:lnTo>
                      <a:pt x="1895" y="1013"/>
                    </a:lnTo>
                    <a:lnTo>
                      <a:pt x="1395" y="1043"/>
                    </a:lnTo>
                    <a:lnTo>
                      <a:pt x="973" y="1069"/>
                    </a:lnTo>
                    <a:lnTo>
                      <a:pt x="965" y="1075"/>
                    </a:lnTo>
                    <a:lnTo>
                      <a:pt x="795" y="1077"/>
                    </a:lnTo>
                    <a:lnTo>
                      <a:pt x="389" y="1112"/>
                    </a:lnTo>
                    <a:lnTo>
                      <a:pt x="352" y="1103"/>
                    </a:lnTo>
                    <a:lnTo>
                      <a:pt x="294" y="1060"/>
                    </a:lnTo>
                    <a:lnTo>
                      <a:pt x="256" y="1019"/>
                    </a:lnTo>
                    <a:lnTo>
                      <a:pt x="241" y="967"/>
                    </a:lnTo>
                    <a:lnTo>
                      <a:pt x="230" y="907"/>
                    </a:lnTo>
                    <a:lnTo>
                      <a:pt x="198" y="864"/>
                    </a:lnTo>
                    <a:lnTo>
                      <a:pt x="82" y="675"/>
                    </a:lnTo>
                    <a:lnTo>
                      <a:pt x="17" y="585"/>
                    </a:lnTo>
                    <a:lnTo>
                      <a:pt x="0" y="54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6402240" y="5816520"/>
                <a:ext cx="2436840" cy="812160"/>
                <a:chOff x="6402240" y="5816520"/>
                <a:chExt cx="2436840" cy="8121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6402240" y="5816520"/>
                  <a:ext cx="2436840" cy="679680"/>
                </a:xfrm>
                <a:custGeom>
                  <a:avLst/>
                  <a:gdLst/>
                  <a:ahLst/>
                  <a:rect l="l" t="t" r="r" b="b"/>
                  <a:pathLst>
                    <a:path w="3071" h="962">
                      <a:moveTo>
                        <a:pt x="1133" y="136"/>
                      </a:moveTo>
                      <a:lnTo>
                        <a:pt x="935" y="140"/>
                      </a:lnTo>
                      <a:lnTo>
                        <a:pt x="709" y="146"/>
                      </a:lnTo>
                      <a:lnTo>
                        <a:pt x="430" y="159"/>
                      </a:lnTo>
                      <a:lnTo>
                        <a:pt x="232" y="168"/>
                      </a:lnTo>
                      <a:lnTo>
                        <a:pt x="226" y="170"/>
                      </a:lnTo>
                      <a:lnTo>
                        <a:pt x="129" y="179"/>
                      </a:lnTo>
                      <a:lnTo>
                        <a:pt x="71" y="190"/>
                      </a:lnTo>
                      <a:lnTo>
                        <a:pt x="47" y="211"/>
                      </a:lnTo>
                      <a:lnTo>
                        <a:pt x="28" y="256"/>
                      </a:lnTo>
                      <a:lnTo>
                        <a:pt x="6" y="372"/>
                      </a:lnTo>
                      <a:lnTo>
                        <a:pt x="0" y="495"/>
                      </a:lnTo>
                      <a:lnTo>
                        <a:pt x="2" y="557"/>
                      </a:lnTo>
                      <a:lnTo>
                        <a:pt x="9" y="587"/>
                      </a:lnTo>
                      <a:lnTo>
                        <a:pt x="24" y="618"/>
                      </a:lnTo>
                      <a:lnTo>
                        <a:pt x="24" y="624"/>
                      </a:lnTo>
                      <a:lnTo>
                        <a:pt x="84" y="712"/>
                      </a:lnTo>
                      <a:lnTo>
                        <a:pt x="157" y="828"/>
                      </a:lnTo>
                      <a:lnTo>
                        <a:pt x="198" y="886"/>
                      </a:lnTo>
                      <a:lnTo>
                        <a:pt x="217" y="940"/>
                      </a:lnTo>
                      <a:lnTo>
                        <a:pt x="241" y="962"/>
                      </a:lnTo>
                      <a:lnTo>
                        <a:pt x="251" y="949"/>
                      </a:lnTo>
                      <a:lnTo>
                        <a:pt x="247" y="908"/>
                      </a:lnTo>
                      <a:lnTo>
                        <a:pt x="208" y="856"/>
                      </a:lnTo>
                      <a:lnTo>
                        <a:pt x="155" y="753"/>
                      </a:lnTo>
                      <a:lnTo>
                        <a:pt x="105" y="684"/>
                      </a:lnTo>
                      <a:lnTo>
                        <a:pt x="56" y="622"/>
                      </a:lnTo>
                      <a:lnTo>
                        <a:pt x="30" y="575"/>
                      </a:lnTo>
                      <a:lnTo>
                        <a:pt x="37" y="519"/>
                      </a:lnTo>
                      <a:lnTo>
                        <a:pt x="37" y="439"/>
                      </a:lnTo>
                      <a:lnTo>
                        <a:pt x="43" y="379"/>
                      </a:lnTo>
                      <a:lnTo>
                        <a:pt x="49" y="316"/>
                      </a:lnTo>
                      <a:lnTo>
                        <a:pt x="58" y="276"/>
                      </a:lnTo>
                      <a:lnTo>
                        <a:pt x="71" y="265"/>
                      </a:lnTo>
                      <a:lnTo>
                        <a:pt x="92" y="271"/>
                      </a:lnTo>
                      <a:lnTo>
                        <a:pt x="178" y="411"/>
                      </a:lnTo>
                      <a:lnTo>
                        <a:pt x="249" y="540"/>
                      </a:lnTo>
                      <a:lnTo>
                        <a:pt x="269" y="553"/>
                      </a:lnTo>
                      <a:lnTo>
                        <a:pt x="271" y="529"/>
                      </a:lnTo>
                      <a:lnTo>
                        <a:pt x="204" y="405"/>
                      </a:lnTo>
                      <a:lnTo>
                        <a:pt x="157" y="301"/>
                      </a:lnTo>
                      <a:lnTo>
                        <a:pt x="118" y="233"/>
                      </a:lnTo>
                      <a:lnTo>
                        <a:pt x="120" y="215"/>
                      </a:lnTo>
                      <a:lnTo>
                        <a:pt x="159" y="205"/>
                      </a:lnTo>
                      <a:lnTo>
                        <a:pt x="260" y="198"/>
                      </a:lnTo>
                      <a:lnTo>
                        <a:pt x="430" y="187"/>
                      </a:lnTo>
                      <a:lnTo>
                        <a:pt x="595" y="181"/>
                      </a:lnTo>
                      <a:lnTo>
                        <a:pt x="1072" y="164"/>
                      </a:lnTo>
                      <a:lnTo>
                        <a:pt x="1595" y="123"/>
                      </a:lnTo>
                      <a:lnTo>
                        <a:pt x="1827" y="101"/>
                      </a:lnTo>
                      <a:lnTo>
                        <a:pt x="2102" y="67"/>
                      </a:lnTo>
                      <a:lnTo>
                        <a:pt x="2433" y="37"/>
                      </a:lnTo>
                      <a:lnTo>
                        <a:pt x="2521" y="41"/>
                      </a:lnTo>
                      <a:lnTo>
                        <a:pt x="2568" y="48"/>
                      </a:lnTo>
                      <a:lnTo>
                        <a:pt x="2617" y="71"/>
                      </a:lnTo>
                      <a:lnTo>
                        <a:pt x="2802" y="127"/>
                      </a:lnTo>
                      <a:lnTo>
                        <a:pt x="2966" y="190"/>
                      </a:lnTo>
                      <a:lnTo>
                        <a:pt x="3019" y="224"/>
                      </a:lnTo>
                      <a:lnTo>
                        <a:pt x="3032" y="248"/>
                      </a:lnTo>
                      <a:lnTo>
                        <a:pt x="3032" y="284"/>
                      </a:lnTo>
                      <a:lnTo>
                        <a:pt x="3015" y="392"/>
                      </a:lnTo>
                      <a:lnTo>
                        <a:pt x="3011" y="504"/>
                      </a:lnTo>
                      <a:lnTo>
                        <a:pt x="3013" y="656"/>
                      </a:lnTo>
                      <a:lnTo>
                        <a:pt x="3015" y="747"/>
                      </a:lnTo>
                      <a:lnTo>
                        <a:pt x="3028" y="772"/>
                      </a:lnTo>
                      <a:lnTo>
                        <a:pt x="3043" y="772"/>
                      </a:lnTo>
                      <a:lnTo>
                        <a:pt x="3056" y="751"/>
                      </a:lnTo>
                      <a:lnTo>
                        <a:pt x="3054" y="682"/>
                      </a:lnTo>
                      <a:lnTo>
                        <a:pt x="3045" y="531"/>
                      </a:lnTo>
                      <a:lnTo>
                        <a:pt x="3045" y="525"/>
                      </a:lnTo>
                      <a:lnTo>
                        <a:pt x="3045" y="426"/>
                      </a:lnTo>
                      <a:lnTo>
                        <a:pt x="3058" y="327"/>
                      </a:lnTo>
                      <a:lnTo>
                        <a:pt x="3071" y="254"/>
                      </a:lnTo>
                      <a:lnTo>
                        <a:pt x="3069" y="226"/>
                      </a:lnTo>
                      <a:lnTo>
                        <a:pt x="3043" y="202"/>
                      </a:lnTo>
                      <a:lnTo>
                        <a:pt x="3021" y="185"/>
                      </a:lnTo>
                      <a:lnTo>
                        <a:pt x="2955" y="155"/>
                      </a:lnTo>
                      <a:lnTo>
                        <a:pt x="2856" y="114"/>
                      </a:lnTo>
                      <a:lnTo>
                        <a:pt x="2734" y="71"/>
                      </a:lnTo>
                      <a:lnTo>
                        <a:pt x="2617" y="32"/>
                      </a:lnTo>
                      <a:lnTo>
                        <a:pt x="2559" y="11"/>
                      </a:lnTo>
                      <a:lnTo>
                        <a:pt x="2529" y="2"/>
                      </a:lnTo>
                      <a:lnTo>
                        <a:pt x="2491" y="0"/>
                      </a:lnTo>
                      <a:lnTo>
                        <a:pt x="2413" y="9"/>
                      </a:lnTo>
                      <a:lnTo>
                        <a:pt x="2226" y="22"/>
                      </a:lnTo>
                      <a:lnTo>
                        <a:pt x="2220" y="24"/>
                      </a:lnTo>
                      <a:lnTo>
                        <a:pt x="1915" y="60"/>
                      </a:lnTo>
                      <a:lnTo>
                        <a:pt x="1618" y="88"/>
                      </a:lnTo>
                      <a:lnTo>
                        <a:pt x="1249" y="121"/>
                      </a:lnTo>
                      <a:lnTo>
                        <a:pt x="1133" y="13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590880" y="6012720"/>
                  <a:ext cx="2240280" cy="615960"/>
                </a:xfrm>
                <a:custGeom>
                  <a:avLst/>
                  <a:gdLst/>
                  <a:ahLst/>
                  <a:rect l="l" t="t" r="r" b="b"/>
                  <a:pathLst>
                    <a:path w="2821" h="873">
                      <a:moveTo>
                        <a:pt x="2813" y="451"/>
                      </a:moveTo>
                      <a:lnTo>
                        <a:pt x="2821" y="497"/>
                      </a:lnTo>
                      <a:lnTo>
                        <a:pt x="2821" y="540"/>
                      </a:lnTo>
                      <a:lnTo>
                        <a:pt x="2813" y="561"/>
                      </a:lnTo>
                      <a:lnTo>
                        <a:pt x="2787" y="574"/>
                      </a:lnTo>
                      <a:lnTo>
                        <a:pt x="2780" y="576"/>
                      </a:lnTo>
                      <a:lnTo>
                        <a:pt x="2774" y="576"/>
                      </a:lnTo>
                      <a:lnTo>
                        <a:pt x="2707" y="585"/>
                      </a:lnTo>
                      <a:lnTo>
                        <a:pt x="2546" y="604"/>
                      </a:lnTo>
                      <a:lnTo>
                        <a:pt x="2540" y="606"/>
                      </a:lnTo>
                      <a:lnTo>
                        <a:pt x="2533" y="606"/>
                      </a:lnTo>
                      <a:lnTo>
                        <a:pt x="2387" y="636"/>
                      </a:lnTo>
                      <a:lnTo>
                        <a:pt x="2254" y="669"/>
                      </a:lnTo>
                      <a:lnTo>
                        <a:pt x="2129" y="705"/>
                      </a:lnTo>
                      <a:lnTo>
                        <a:pt x="2017" y="731"/>
                      </a:lnTo>
                      <a:lnTo>
                        <a:pt x="1934" y="748"/>
                      </a:lnTo>
                      <a:lnTo>
                        <a:pt x="1815" y="759"/>
                      </a:lnTo>
                      <a:lnTo>
                        <a:pt x="1659" y="770"/>
                      </a:lnTo>
                      <a:lnTo>
                        <a:pt x="1465" y="778"/>
                      </a:lnTo>
                      <a:lnTo>
                        <a:pt x="1169" y="798"/>
                      </a:lnTo>
                      <a:lnTo>
                        <a:pt x="984" y="811"/>
                      </a:lnTo>
                      <a:lnTo>
                        <a:pt x="971" y="815"/>
                      </a:lnTo>
                      <a:lnTo>
                        <a:pt x="756" y="828"/>
                      </a:lnTo>
                      <a:lnTo>
                        <a:pt x="485" y="841"/>
                      </a:lnTo>
                      <a:lnTo>
                        <a:pt x="270" y="862"/>
                      </a:lnTo>
                      <a:lnTo>
                        <a:pt x="264" y="866"/>
                      </a:lnTo>
                      <a:lnTo>
                        <a:pt x="165" y="873"/>
                      </a:lnTo>
                      <a:lnTo>
                        <a:pt x="159" y="873"/>
                      </a:lnTo>
                      <a:lnTo>
                        <a:pt x="122" y="860"/>
                      </a:lnTo>
                      <a:lnTo>
                        <a:pt x="116" y="862"/>
                      </a:lnTo>
                      <a:lnTo>
                        <a:pt x="68" y="830"/>
                      </a:lnTo>
                      <a:lnTo>
                        <a:pt x="34" y="798"/>
                      </a:lnTo>
                      <a:lnTo>
                        <a:pt x="17" y="761"/>
                      </a:lnTo>
                      <a:lnTo>
                        <a:pt x="8" y="729"/>
                      </a:lnTo>
                      <a:lnTo>
                        <a:pt x="4" y="666"/>
                      </a:lnTo>
                      <a:lnTo>
                        <a:pt x="0" y="615"/>
                      </a:lnTo>
                      <a:lnTo>
                        <a:pt x="4" y="550"/>
                      </a:lnTo>
                      <a:lnTo>
                        <a:pt x="25" y="376"/>
                      </a:lnTo>
                      <a:lnTo>
                        <a:pt x="36" y="301"/>
                      </a:lnTo>
                      <a:lnTo>
                        <a:pt x="8" y="243"/>
                      </a:lnTo>
                      <a:lnTo>
                        <a:pt x="6" y="217"/>
                      </a:lnTo>
                      <a:lnTo>
                        <a:pt x="21" y="228"/>
                      </a:lnTo>
                      <a:lnTo>
                        <a:pt x="49" y="251"/>
                      </a:lnTo>
                      <a:lnTo>
                        <a:pt x="75" y="262"/>
                      </a:lnTo>
                      <a:lnTo>
                        <a:pt x="107" y="271"/>
                      </a:lnTo>
                      <a:lnTo>
                        <a:pt x="202" y="266"/>
                      </a:lnTo>
                      <a:lnTo>
                        <a:pt x="354" y="260"/>
                      </a:lnTo>
                      <a:lnTo>
                        <a:pt x="554" y="247"/>
                      </a:lnTo>
                      <a:lnTo>
                        <a:pt x="1044" y="210"/>
                      </a:lnTo>
                      <a:lnTo>
                        <a:pt x="1282" y="185"/>
                      </a:lnTo>
                      <a:lnTo>
                        <a:pt x="1626" y="137"/>
                      </a:lnTo>
                      <a:lnTo>
                        <a:pt x="1841" y="105"/>
                      </a:lnTo>
                      <a:lnTo>
                        <a:pt x="2192" y="41"/>
                      </a:lnTo>
                      <a:lnTo>
                        <a:pt x="2385" y="4"/>
                      </a:lnTo>
                      <a:lnTo>
                        <a:pt x="2415" y="0"/>
                      </a:lnTo>
                      <a:lnTo>
                        <a:pt x="2417" y="6"/>
                      </a:lnTo>
                      <a:lnTo>
                        <a:pt x="2398" y="25"/>
                      </a:lnTo>
                      <a:lnTo>
                        <a:pt x="2318" y="45"/>
                      </a:lnTo>
                      <a:lnTo>
                        <a:pt x="2159" y="73"/>
                      </a:lnTo>
                      <a:lnTo>
                        <a:pt x="1940" y="114"/>
                      </a:lnTo>
                      <a:lnTo>
                        <a:pt x="1710" y="150"/>
                      </a:lnTo>
                      <a:lnTo>
                        <a:pt x="1497" y="185"/>
                      </a:lnTo>
                      <a:lnTo>
                        <a:pt x="1491" y="185"/>
                      </a:lnTo>
                      <a:lnTo>
                        <a:pt x="1143" y="226"/>
                      </a:lnTo>
                      <a:lnTo>
                        <a:pt x="872" y="251"/>
                      </a:lnTo>
                      <a:lnTo>
                        <a:pt x="866" y="253"/>
                      </a:lnTo>
                      <a:lnTo>
                        <a:pt x="586" y="271"/>
                      </a:lnTo>
                      <a:lnTo>
                        <a:pt x="358" y="284"/>
                      </a:lnTo>
                      <a:lnTo>
                        <a:pt x="350" y="286"/>
                      </a:lnTo>
                      <a:lnTo>
                        <a:pt x="120" y="297"/>
                      </a:lnTo>
                      <a:lnTo>
                        <a:pt x="79" y="307"/>
                      </a:lnTo>
                      <a:lnTo>
                        <a:pt x="64" y="331"/>
                      </a:lnTo>
                      <a:lnTo>
                        <a:pt x="51" y="410"/>
                      </a:lnTo>
                      <a:lnTo>
                        <a:pt x="40" y="518"/>
                      </a:lnTo>
                      <a:lnTo>
                        <a:pt x="25" y="606"/>
                      </a:lnTo>
                      <a:lnTo>
                        <a:pt x="32" y="682"/>
                      </a:lnTo>
                      <a:lnTo>
                        <a:pt x="32" y="688"/>
                      </a:lnTo>
                      <a:lnTo>
                        <a:pt x="43" y="748"/>
                      </a:lnTo>
                      <a:lnTo>
                        <a:pt x="64" y="776"/>
                      </a:lnTo>
                      <a:lnTo>
                        <a:pt x="90" y="804"/>
                      </a:lnTo>
                      <a:lnTo>
                        <a:pt x="124" y="821"/>
                      </a:lnTo>
                      <a:lnTo>
                        <a:pt x="163" y="830"/>
                      </a:lnTo>
                      <a:lnTo>
                        <a:pt x="300" y="834"/>
                      </a:lnTo>
                      <a:lnTo>
                        <a:pt x="412" y="819"/>
                      </a:lnTo>
                      <a:lnTo>
                        <a:pt x="515" y="813"/>
                      </a:lnTo>
                      <a:lnTo>
                        <a:pt x="674" y="798"/>
                      </a:lnTo>
                      <a:lnTo>
                        <a:pt x="846" y="787"/>
                      </a:lnTo>
                      <a:lnTo>
                        <a:pt x="977" y="774"/>
                      </a:lnTo>
                      <a:lnTo>
                        <a:pt x="1190" y="765"/>
                      </a:lnTo>
                      <a:lnTo>
                        <a:pt x="1377" y="752"/>
                      </a:lnTo>
                      <a:lnTo>
                        <a:pt x="1618" y="742"/>
                      </a:lnTo>
                      <a:lnTo>
                        <a:pt x="1809" y="731"/>
                      </a:lnTo>
                      <a:lnTo>
                        <a:pt x="1951" y="712"/>
                      </a:lnTo>
                      <a:lnTo>
                        <a:pt x="2099" y="677"/>
                      </a:lnTo>
                      <a:lnTo>
                        <a:pt x="2359" y="611"/>
                      </a:lnTo>
                      <a:lnTo>
                        <a:pt x="2471" y="587"/>
                      </a:lnTo>
                      <a:lnTo>
                        <a:pt x="2632" y="563"/>
                      </a:lnTo>
                      <a:lnTo>
                        <a:pt x="2770" y="535"/>
                      </a:lnTo>
                      <a:lnTo>
                        <a:pt x="2776" y="516"/>
                      </a:lnTo>
                      <a:lnTo>
                        <a:pt x="2780" y="466"/>
                      </a:lnTo>
                      <a:lnTo>
                        <a:pt x="2795" y="438"/>
                      </a:lnTo>
                      <a:lnTo>
                        <a:pt x="2813" y="45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3" name=""/>
            <p:cNvSpPr/>
            <p:nvPr/>
          </p:nvSpPr>
          <p:spPr>
            <a:xfrm>
              <a:off x="7865640" y="5391000"/>
              <a:ext cx="252720" cy="1990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231" y="130"/>
                  </a:moveTo>
                  <a:lnTo>
                    <a:pt x="219" y="100"/>
                  </a:lnTo>
                  <a:lnTo>
                    <a:pt x="209" y="75"/>
                  </a:lnTo>
                  <a:lnTo>
                    <a:pt x="193" y="53"/>
                  </a:lnTo>
                  <a:lnTo>
                    <a:pt x="174" y="29"/>
                  </a:lnTo>
                  <a:lnTo>
                    <a:pt x="155" y="14"/>
                  </a:lnTo>
                  <a:lnTo>
                    <a:pt x="135" y="6"/>
                  </a:lnTo>
                  <a:lnTo>
                    <a:pt x="113" y="0"/>
                  </a:lnTo>
                  <a:lnTo>
                    <a:pt x="86" y="3"/>
                  </a:lnTo>
                  <a:lnTo>
                    <a:pt x="61" y="11"/>
                  </a:lnTo>
                  <a:lnTo>
                    <a:pt x="41" y="27"/>
                  </a:lnTo>
                  <a:lnTo>
                    <a:pt x="22" y="52"/>
                  </a:lnTo>
                  <a:lnTo>
                    <a:pt x="10" y="81"/>
                  </a:lnTo>
                  <a:lnTo>
                    <a:pt x="2" y="119"/>
                  </a:lnTo>
                  <a:lnTo>
                    <a:pt x="0" y="158"/>
                  </a:lnTo>
                  <a:lnTo>
                    <a:pt x="6" y="195"/>
                  </a:lnTo>
                  <a:lnTo>
                    <a:pt x="16" y="226"/>
                  </a:lnTo>
                  <a:lnTo>
                    <a:pt x="31" y="246"/>
                  </a:lnTo>
                  <a:lnTo>
                    <a:pt x="55" y="265"/>
                  </a:lnTo>
                  <a:lnTo>
                    <a:pt x="77" y="275"/>
                  </a:lnTo>
                  <a:lnTo>
                    <a:pt x="106" y="282"/>
                  </a:lnTo>
                  <a:lnTo>
                    <a:pt x="134" y="282"/>
                  </a:lnTo>
                  <a:lnTo>
                    <a:pt x="160" y="275"/>
                  </a:lnTo>
                  <a:lnTo>
                    <a:pt x="183" y="262"/>
                  </a:lnTo>
                  <a:lnTo>
                    <a:pt x="199" y="248"/>
                  </a:lnTo>
                  <a:lnTo>
                    <a:pt x="215" y="226"/>
                  </a:lnTo>
                  <a:lnTo>
                    <a:pt x="225" y="201"/>
                  </a:lnTo>
                  <a:lnTo>
                    <a:pt x="231" y="181"/>
                  </a:lnTo>
                  <a:lnTo>
                    <a:pt x="231" y="172"/>
                  </a:lnTo>
                  <a:lnTo>
                    <a:pt x="251" y="171"/>
                  </a:lnTo>
                  <a:lnTo>
                    <a:pt x="257" y="171"/>
                  </a:lnTo>
                  <a:lnTo>
                    <a:pt x="261" y="172"/>
                  </a:lnTo>
                  <a:lnTo>
                    <a:pt x="266" y="172"/>
                  </a:lnTo>
                  <a:lnTo>
                    <a:pt x="271" y="175"/>
                  </a:lnTo>
                  <a:lnTo>
                    <a:pt x="276" y="175"/>
                  </a:lnTo>
                  <a:lnTo>
                    <a:pt x="280" y="179"/>
                  </a:lnTo>
                  <a:lnTo>
                    <a:pt x="286" y="181"/>
                  </a:lnTo>
                  <a:lnTo>
                    <a:pt x="292" y="182"/>
                  </a:lnTo>
                  <a:lnTo>
                    <a:pt x="296" y="184"/>
                  </a:lnTo>
                  <a:lnTo>
                    <a:pt x="302" y="184"/>
                  </a:lnTo>
                  <a:lnTo>
                    <a:pt x="308" y="182"/>
                  </a:lnTo>
                  <a:lnTo>
                    <a:pt x="313" y="181"/>
                  </a:lnTo>
                  <a:lnTo>
                    <a:pt x="316" y="175"/>
                  </a:lnTo>
                  <a:lnTo>
                    <a:pt x="318" y="171"/>
                  </a:lnTo>
                  <a:lnTo>
                    <a:pt x="318" y="166"/>
                  </a:lnTo>
                  <a:lnTo>
                    <a:pt x="318" y="161"/>
                  </a:lnTo>
                  <a:lnTo>
                    <a:pt x="315" y="156"/>
                  </a:lnTo>
                  <a:lnTo>
                    <a:pt x="313" y="152"/>
                  </a:lnTo>
                  <a:lnTo>
                    <a:pt x="308" y="152"/>
                  </a:lnTo>
                  <a:lnTo>
                    <a:pt x="305" y="146"/>
                  </a:lnTo>
                  <a:lnTo>
                    <a:pt x="300" y="146"/>
                  </a:lnTo>
                  <a:lnTo>
                    <a:pt x="295" y="145"/>
                  </a:lnTo>
                  <a:lnTo>
                    <a:pt x="289" y="143"/>
                  </a:lnTo>
                  <a:lnTo>
                    <a:pt x="284" y="142"/>
                  </a:lnTo>
                  <a:lnTo>
                    <a:pt x="279" y="142"/>
                  </a:lnTo>
                  <a:lnTo>
                    <a:pt x="274" y="140"/>
                  </a:lnTo>
                  <a:lnTo>
                    <a:pt x="241" y="136"/>
                  </a:lnTo>
                  <a:lnTo>
                    <a:pt x="2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013600" y="5590080"/>
              <a:ext cx="147600" cy="69120"/>
            </a:xfrm>
            <a:custGeom>
              <a:avLst/>
              <a:gdLst/>
              <a:ahLst/>
              <a:rect l="l" t="t" r="r" b="b"/>
              <a:pathLst>
                <a:path w="187" h="97">
                  <a:moveTo>
                    <a:pt x="0" y="18"/>
                  </a:moveTo>
                  <a:lnTo>
                    <a:pt x="18" y="5"/>
                  </a:lnTo>
                  <a:lnTo>
                    <a:pt x="51" y="0"/>
                  </a:lnTo>
                  <a:lnTo>
                    <a:pt x="80" y="3"/>
                  </a:lnTo>
                  <a:lnTo>
                    <a:pt x="119" y="16"/>
                  </a:lnTo>
                  <a:lnTo>
                    <a:pt x="137" y="25"/>
                  </a:lnTo>
                  <a:lnTo>
                    <a:pt x="142" y="25"/>
                  </a:lnTo>
                  <a:lnTo>
                    <a:pt x="163" y="29"/>
                  </a:lnTo>
                  <a:lnTo>
                    <a:pt x="187" y="35"/>
                  </a:lnTo>
                  <a:lnTo>
                    <a:pt x="187" y="47"/>
                  </a:lnTo>
                  <a:lnTo>
                    <a:pt x="138" y="76"/>
                  </a:lnTo>
                  <a:lnTo>
                    <a:pt x="103" y="97"/>
                  </a:lnTo>
                  <a:lnTo>
                    <a:pt x="77" y="92"/>
                  </a:lnTo>
                  <a:lnTo>
                    <a:pt x="44" y="68"/>
                  </a:lnTo>
                  <a:lnTo>
                    <a:pt x="21" y="54"/>
                  </a:lnTo>
                  <a:lnTo>
                    <a:pt x="0" y="3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7929360" y="5583240"/>
              <a:ext cx="398520" cy="360000"/>
              <a:chOff x="7929360" y="5583240"/>
              <a:chExt cx="398520" cy="360000"/>
            </a:xfrm>
          </p:grpSpPr>
          <p:sp>
            <p:nvSpPr>
              <p:cNvPr id="1306" name=""/>
              <p:cNvSpPr/>
              <p:nvPr/>
            </p:nvSpPr>
            <p:spPr>
              <a:xfrm>
                <a:off x="7929360" y="5583240"/>
                <a:ext cx="398520" cy="360000"/>
              </a:xfrm>
              <a:custGeom>
                <a:avLst/>
                <a:gdLst/>
                <a:ahLst/>
                <a:rect l="l" t="t" r="r" b="b"/>
                <a:pathLst>
                  <a:path w="503" h="511">
                    <a:moveTo>
                      <a:pt x="39" y="62"/>
                    </a:moveTo>
                    <a:lnTo>
                      <a:pt x="107" y="62"/>
                    </a:lnTo>
                    <a:lnTo>
                      <a:pt x="170" y="59"/>
                    </a:lnTo>
                    <a:lnTo>
                      <a:pt x="264" y="37"/>
                    </a:lnTo>
                    <a:lnTo>
                      <a:pt x="336" y="13"/>
                    </a:lnTo>
                    <a:lnTo>
                      <a:pt x="374" y="1"/>
                    </a:lnTo>
                    <a:lnTo>
                      <a:pt x="396" y="0"/>
                    </a:lnTo>
                    <a:lnTo>
                      <a:pt x="410" y="8"/>
                    </a:lnTo>
                    <a:lnTo>
                      <a:pt x="422" y="48"/>
                    </a:lnTo>
                    <a:lnTo>
                      <a:pt x="441" y="153"/>
                    </a:lnTo>
                    <a:lnTo>
                      <a:pt x="444" y="158"/>
                    </a:lnTo>
                    <a:lnTo>
                      <a:pt x="468" y="271"/>
                    </a:lnTo>
                    <a:lnTo>
                      <a:pt x="496" y="395"/>
                    </a:lnTo>
                    <a:lnTo>
                      <a:pt x="503" y="437"/>
                    </a:lnTo>
                    <a:lnTo>
                      <a:pt x="502" y="453"/>
                    </a:lnTo>
                    <a:lnTo>
                      <a:pt x="486" y="469"/>
                    </a:lnTo>
                    <a:lnTo>
                      <a:pt x="480" y="469"/>
                    </a:lnTo>
                    <a:lnTo>
                      <a:pt x="451" y="474"/>
                    </a:lnTo>
                    <a:lnTo>
                      <a:pt x="331" y="474"/>
                    </a:lnTo>
                    <a:lnTo>
                      <a:pt x="326" y="477"/>
                    </a:lnTo>
                    <a:lnTo>
                      <a:pt x="222" y="490"/>
                    </a:lnTo>
                    <a:lnTo>
                      <a:pt x="144" y="504"/>
                    </a:lnTo>
                    <a:lnTo>
                      <a:pt x="87" y="510"/>
                    </a:lnTo>
                    <a:lnTo>
                      <a:pt x="83" y="511"/>
                    </a:lnTo>
                    <a:lnTo>
                      <a:pt x="54" y="507"/>
                    </a:lnTo>
                    <a:lnTo>
                      <a:pt x="44" y="494"/>
                    </a:lnTo>
                    <a:lnTo>
                      <a:pt x="38" y="450"/>
                    </a:lnTo>
                    <a:lnTo>
                      <a:pt x="32" y="356"/>
                    </a:lnTo>
                    <a:lnTo>
                      <a:pt x="19" y="236"/>
                    </a:lnTo>
                    <a:lnTo>
                      <a:pt x="0" y="90"/>
                    </a:lnTo>
                    <a:lnTo>
                      <a:pt x="0" y="71"/>
                    </a:lnTo>
                    <a:lnTo>
                      <a:pt x="15" y="61"/>
                    </a:lnTo>
                    <a:lnTo>
                      <a:pt x="3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948440" y="5601240"/>
                <a:ext cx="355680" cy="322200"/>
              </a:xfrm>
              <a:custGeom>
                <a:avLst/>
                <a:gdLst/>
                <a:ahLst/>
                <a:rect l="l" t="t" r="r" b="b"/>
                <a:pathLst>
                  <a:path w="448" h="457">
                    <a:moveTo>
                      <a:pt x="0" y="58"/>
                    </a:moveTo>
                    <a:lnTo>
                      <a:pt x="71" y="55"/>
                    </a:lnTo>
                    <a:lnTo>
                      <a:pt x="148" y="55"/>
                    </a:lnTo>
                    <a:lnTo>
                      <a:pt x="210" y="45"/>
                    </a:lnTo>
                    <a:lnTo>
                      <a:pt x="277" y="25"/>
                    </a:lnTo>
                    <a:lnTo>
                      <a:pt x="346" y="0"/>
                    </a:lnTo>
                    <a:lnTo>
                      <a:pt x="358" y="0"/>
                    </a:lnTo>
                    <a:lnTo>
                      <a:pt x="374" y="10"/>
                    </a:lnTo>
                    <a:lnTo>
                      <a:pt x="391" y="115"/>
                    </a:lnTo>
                    <a:lnTo>
                      <a:pt x="409" y="197"/>
                    </a:lnTo>
                    <a:lnTo>
                      <a:pt x="427" y="276"/>
                    </a:lnTo>
                    <a:lnTo>
                      <a:pt x="448" y="386"/>
                    </a:lnTo>
                    <a:lnTo>
                      <a:pt x="448" y="409"/>
                    </a:lnTo>
                    <a:lnTo>
                      <a:pt x="438" y="419"/>
                    </a:lnTo>
                    <a:lnTo>
                      <a:pt x="401" y="425"/>
                    </a:lnTo>
                    <a:lnTo>
                      <a:pt x="294" y="425"/>
                    </a:lnTo>
                    <a:lnTo>
                      <a:pt x="290" y="426"/>
                    </a:lnTo>
                    <a:lnTo>
                      <a:pt x="219" y="435"/>
                    </a:lnTo>
                    <a:lnTo>
                      <a:pt x="213" y="439"/>
                    </a:lnTo>
                    <a:lnTo>
                      <a:pt x="127" y="450"/>
                    </a:lnTo>
                    <a:lnTo>
                      <a:pt x="61" y="457"/>
                    </a:lnTo>
                    <a:lnTo>
                      <a:pt x="45" y="452"/>
                    </a:lnTo>
                    <a:lnTo>
                      <a:pt x="40" y="450"/>
                    </a:lnTo>
                    <a:lnTo>
                      <a:pt x="33" y="418"/>
                    </a:lnTo>
                    <a:lnTo>
                      <a:pt x="26" y="271"/>
                    </a:lnTo>
                    <a:lnTo>
                      <a:pt x="20" y="183"/>
                    </a:lnTo>
                    <a:lnTo>
                      <a:pt x="3" y="97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8157960" y="5574960"/>
              <a:ext cx="160200" cy="74520"/>
            </a:xfrm>
            <a:custGeom>
              <a:avLst/>
              <a:gdLst/>
              <a:ahLst/>
              <a:rect l="l" t="t" r="r" b="b"/>
              <a:pathLst>
                <a:path w="201" h="107">
                  <a:moveTo>
                    <a:pt x="71" y="3"/>
                  </a:moveTo>
                  <a:lnTo>
                    <a:pt x="65" y="6"/>
                  </a:lnTo>
                  <a:lnTo>
                    <a:pt x="58" y="6"/>
                  </a:lnTo>
                  <a:lnTo>
                    <a:pt x="53" y="6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9" y="12"/>
                  </a:lnTo>
                  <a:lnTo>
                    <a:pt x="33" y="16"/>
                  </a:lnTo>
                  <a:lnTo>
                    <a:pt x="29" y="22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4" y="80"/>
                  </a:lnTo>
                  <a:lnTo>
                    <a:pt x="7" y="87"/>
                  </a:lnTo>
                  <a:lnTo>
                    <a:pt x="11" y="91"/>
                  </a:lnTo>
                  <a:lnTo>
                    <a:pt x="17" y="93"/>
                  </a:lnTo>
                  <a:lnTo>
                    <a:pt x="23" y="93"/>
                  </a:lnTo>
                  <a:lnTo>
                    <a:pt x="27" y="93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3" y="84"/>
                  </a:lnTo>
                  <a:lnTo>
                    <a:pt x="49" y="80"/>
                  </a:lnTo>
                  <a:lnTo>
                    <a:pt x="52" y="74"/>
                  </a:lnTo>
                  <a:lnTo>
                    <a:pt x="52" y="70"/>
                  </a:lnTo>
                  <a:lnTo>
                    <a:pt x="53" y="65"/>
                  </a:lnTo>
                  <a:lnTo>
                    <a:pt x="53" y="60"/>
                  </a:lnTo>
                  <a:lnTo>
                    <a:pt x="52" y="55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2" y="41"/>
                  </a:lnTo>
                  <a:lnTo>
                    <a:pt x="56" y="36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71" y="35"/>
                  </a:lnTo>
                  <a:lnTo>
                    <a:pt x="76" y="36"/>
                  </a:lnTo>
                  <a:lnTo>
                    <a:pt x="81" y="39"/>
                  </a:lnTo>
                  <a:lnTo>
                    <a:pt x="84" y="44"/>
                  </a:lnTo>
                  <a:lnTo>
                    <a:pt x="84" y="49"/>
                  </a:lnTo>
                  <a:lnTo>
                    <a:pt x="84" y="54"/>
                  </a:lnTo>
                  <a:lnTo>
                    <a:pt x="81" y="58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79" y="74"/>
                  </a:lnTo>
                  <a:lnTo>
                    <a:pt x="78" y="81"/>
                  </a:lnTo>
                  <a:lnTo>
                    <a:pt x="76" y="87"/>
                  </a:lnTo>
                  <a:lnTo>
                    <a:pt x="75" y="94"/>
                  </a:lnTo>
                  <a:lnTo>
                    <a:pt x="78" y="99"/>
                  </a:lnTo>
                  <a:lnTo>
                    <a:pt x="81" y="103"/>
                  </a:lnTo>
                  <a:lnTo>
                    <a:pt x="85" y="106"/>
                  </a:lnTo>
                  <a:lnTo>
                    <a:pt x="91" y="107"/>
                  </a:lnTo>
                  <a:lnTo>
                    <a:pt x="95" y="107"/>
                  </a:lnTo>
                  <a:lnTo>
                    <a:pt x="100" y="107"/>
                  </a:lnTo>
                  <a:lnTo>
                    <a:pt x="105" y="107"/>
                  </a:lnTo>
                  <a:lnTo>
                    <a:pt x="110" y="103"/>
                  </a:lnTo>
                  <a:lnTo>
                    <a:pt x="113" y="99"/>
                  </a:lnTo>
                  <a:lnTo>
                    <a:pt x="118" y="96"/>
                  </a:lnTo>
                  <a:lnTo>
                    <a:pt x="121" y="89"/>
                  </a:lnTo>
                  <a:lnTo>
                    <a:pt x="123" y="84"/>
                  </a:lnTo>
                  <a:lnTo>
                    <a:pt x="123" y="80"/>
                  </a:lnTo>
                  <a:lnTo>
                    <a:pt x="123" y="74"/>
                  </a:lnTo>
                  <a:lnTo>
                    <a:pt x="123" y="70"/>
                  </a:lnTo>
                  <a:lnTo>
                    <a:pt x="120" y="65"/>
                  </a:lnTo>
                  <a:lnTo>
                    <a:pt x="118" y="60"/>
                  </a:lnTo>
                  <a:lnTo>
                    <a:pt x="116" y="55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1" y="41"/>
                  </a:lnTo>
                  <a:lnTo>
                    <a:pt x="110" y="36"/>
                  </a:lnTo>
                  <a:lnTo>
                    <a:pt x="110" y="31"/>
                  </a:lnTo>
                  <a:lnTo>
                    <a:pt x="114" y="29"/>
                  </a:lnTo>
                  <a:lnTo>
                    <a:pt x="120" y="29"/>
                  </a:lnTo>
                  <a:lnTo>
                    <a:pt x="126" y="29"/>
                  </a:lnTo>
                  <a:lnTo>
                    <a:pt x="133" y="31"/>
                  </a:lnTo>
                  <a:lnTo>
                    <a:pt x="137" y="32"/>
                  </a:lnTo>
                  <a:lnTo>
                    <a:pt x="142" y="36"/>
                  </a:lnTo>
                  <a:lnTo>
                    <a:pt x="145" y="41"/>
                  </a:lnTo>
                  <a:lnTo>
                    <a:pt x="149" y="45"/>
                  </a:lnTo>
                  <a:lnTo>
                    <a:pt x="153" y="52"/>
                  </a:lnTo>
                  <a:lnTo>
                    <a:pt x="159" y="58"/>
                  </a:lnTo>
                  <a:lnTo>
                    <a:pt x="166" y="61"/>
                  </a:lnTo>
                  <a:lnTo>
                    <a:pt x="171" y="64"/>
                  </a:lnTo>
                  <a:lnTo>
                    <a:pt x="176" y="67"/>
                  </a:lnTo>
                  <a:lnTo>
                    <a:pt x="181" y="67"/>
                  </a:lnTo>
                  <a:lnTo>
                    <a:pt x="185" y="67"/>
                  </a:lnTo>
                  <a:lnTo>
                    <a:pt x="191" y="65"/>
                  </a:lnTo>
                  <a:lnTo>
                    <a:pt x="195" y="60"/>
                  </a:lnTo>
                  <a:lnTo>
                    <a:pt x="200" y="57"/>
                  </a:lnTo>
                  <a:lnTo>
                    <a:pt x="201" y="52"/>
                  </a:lnTo>
                  <a:lnTo>
                    <a:pt x="201" y="47"/>
                  </a:lnTo>
                  <a:lnTo>
                    <a:pt x="200" y="41"/>
                  </a:lnTo>
                  <a:lnTo>
                    <a:pt x="197" y="36"/>
                  </a:lnTo>
                  <a:lnTo>
                    <a:pt x="194" y="31"/>
                  </a:lnTo>
                  <a:lnTo>
                    <a:pt x="191" y="26"/>
                  </a:lnTo>
                  <a:lnTo>
                    <a:pt x="185" y="23"/>
                  </a:lnTo>
                  <a:lnTo>
                    <a:pt x="181" y="18"/>
                  </a:lnTo>
                  <a:lnTo>
                    <a:pt x="176" y="16"/>
                  </a:lnTo>
                  <a:lnTo>
                    <a:pt x="169" y="12"/>
                  </a:lnTo>
                  <a:lnTo>
                    <a:pt x="165" y="9"/>
                  </a:lnTo>
                  <a:lnTo>
                    <a:pt x="158" y="7"/>
                  </a:lnTo>
                  <a:lnTo>
                    <a:pt x="152" y="3"/>
                  </a:lnTo>
                  <a:lnTo>
                    <a:pt x="147" y="2"/>
                  </a:lnTo>
                  <a:lnTo>
                    <a:pt x="142" y="2"/>
                  </a:lnTo>
                  <a:lnTo>
                    <a:pt x="137" y="2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56160" y="5644080"/>
              <a:ext cx="399960" cy="336240"/>
            </a:xfrm>
            <a:custGeom>
              <a:avLst/>
              <a:gdLst/>
              <a:ahLst/>
              <a:rect l="l" t="t" r="r" b="b"/>
              <a:pathLst>
                <a:path w="505" h="475">
                  <a:moveTo>
                    <a:pt x="177" y="23"/>
                  </a:moveTo>
                  <a:lnTo>
                    <a:pt x="204" y="7"/>
                  </a:lnTo>
                  <a:lnTo>
                    <a:pt x="242" y="0"/>
                  </a:lnTo>
                  <a:lnTo>
                    <a:pt x="275" y="11"/>
                  </a:lnTo>
                  <a:lnTo>
                    <a:pt x="297" y="30"/>
                  </a:lnTo>
                  <a:lnTo>
                    <a:pt x="323" y="68"/>
                  </a:lnTo>
                  <a:lnTo>
                    <a:pt x="351" y="87"/>
                  </a:lnTo>
                  <a:lnTo>
                    <a:pt x="385" y="107"/>
                  </a:lnTo>
                  <a:lnTo>
                    <a:pt x="440" y="124"/>
                  </a:lnTo>
                  <a:lnTo>
                    <a:pt x="492" y="150"/>
                  </a:lnTo>
                  <a:lnTo>
                    <a:pt x="502" y="168"/>
                  </a:lnTo>
                  <a:lnTo>
                    <a:pt x="505" y="195"/>
                  </a:lnTo>
                  <a:lnTo>
                    <a:pt x="488" y="200"/>
                  </a:lnTo>
                  <a:lnTo>
                    <a:pt x="453" y="197"/>
                  </a:lnTo>
                  <a:lnTo>
                    <a:pt x="370" y="169"/>
                  </a:lnTo>
                  <a:lnTo>
                    <a:pt x="379" y="217"/>
                  </a:lnTo>
                  <a:lnTo>
                    <a:pt x="385" y="282"/>
                  </a:lnTo>
                  <a:lnTo>
                    <a:pt x="385" y="287"/>
                  </a:lnTo>
                  <a:lnTo>
                    <a:pt x="382" y="356"/>
                  </a:lnTo>
                  <a:lnTo>
                    <a:pt x="366" y="411"/>
                  </a:lnTo>
                  <a:lnTo>
                    <a:pt x="347" y="445"/>
                  </a:lnTo>
                  <a:lnTo>
                    <a:pt x="309" y="468"/>
                  </a:lnTo>
                  <a:lnTo>
                    <a:pt x="255" y="472"/>
                  </a:lnTo>
                  <a:lnTo>
                    <a:pt x="251" y="475"/>
                  </a:lnTo>
                  <a:lnTo>
                    <a:pt x="203" y="459"/>
                  </a:lnTo>
                  <a:lnTo>
                    <a:pt x="197" y="461"/>
                  </a:lnTo>
                  <a:lnTo>
                    <a:pt x="171" y="416"/>
                  </a:lnTo>
                  <a:lnTo>
                    <a:pt x="145" y="355"/>
                  </a:lnTo>
                  <a:lnTo>
                    <a:pt x="132" y="278"/>
                  </a:lnTo>
                  <a:lnTo>
                    <a:pt x="93" y="258"/>
                  </a:lnTo>
                  <a:lnTo>
                    <a:pt x="54" y="239"/>
                  </a:lnTo>
                  <a:lnTo>
                    <a:pt x="23" y="216"/>
                  </a:lnTo>
                  <a:lnTo>
                    <a:pt x="4" y="188"/>
                  </a:lnTo>
                  <a:lnTo>
                    <a:pt x="0" y="172"/>
                  </a:lnTo>
                  <a:lnTo>
                    <a:pt x="1" y="150"/>
                  </a:lnTo>
                  <a:lnTo>
                    <a:pt x="20" y="129"/>
                  </a:lnTo>
                  <a:lnTo>
                    <a:pt x="48" y="104"/>
                  </a:lnTo>
                  <a:lnTo>
                    <a:pt x="43" y="108"/>
                  </a:lnTo>
                  <a:lnTo>
                    <a:pt x="48" y="104"/>
                  </a:lnTo>
                  <a:lnTo>
                    <a:pt x="83" y="78"/>
                  </a:lnTo>
                  <a:lnTo>
                    <a:pt x="129" y="42"/>
                  </a:lnTo>
                  <a:lnTo>
                    <a:pt x="17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7314840" y="5628240"/>
              <a:ext cx="384120" cy="348840"/>
              <a:chOff x="7314840" y="5628240"/>
              <a:chExt cx="384120" cy="348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7314840" y="5628240"/>
                <a:ext cx="384120" cy="348840"/>
              </a:xfrm>
              <a:custGeom>
                <a:avLst/>
                <a:gdLst/>
                <a:ahLst/>
                <a:rect l="l" t="t" r="r" b="b"/>
                <a:pathLst>
                  <a:path w="484" h="493">
                    <a:moveTo>
                      <a:pt x="41" y="44"/>
                    </a:moveTo>
                    <a:lnTo>
                      <a:pt x="108" y="47"/>
                    </a:lnTo>
                    <a:lnTo>
                      <a:pt x="172" y="47"/>
                    </a:lnTo>
                    <a:lnTo>
                      <a:pt x="266" y="30"/>
                    </a:lnTo>
                    <a:lnTo>
                      <a:pt x="339" y="9"/>
                    </a:lnTo>
                    <a:lnTo>
                      <a:pt x="378" y="0"/>
                    </a:lnTo>
                    <a:lnTo>
                      <a:pt x="399" y="0"/>
                    </a:lnTo>
                    <a:lnTo>
                      <a:pt x="413" y="8"/>
                    </a:lnTo>
                    <a:lnTo>
                      <a:pt x="423" y="50"/>
                    </a:lnTo>
                    <a:lnTo>
                      <a:pt x="437" y="154"/>
                    </a:lnTo>
                    <a:lnTo>
                      <a:pt x="439" y="160"/>
                    </a:lnTo>
                    <a:lnTo>
                      <a:pt x="457" y="274"/>
                    </a:lnTo>
                    <a:lnTo>
                      <a:pt x="479" y="400"/>
                    </a:lnTo>
                    <a:lnTo>
                      <a:pt x="484" y="442"/>
                    </a:lnTo>
                    <a:lnTo>
                      <a:pt x="482" y="458"/>
                    </a:lnTo>
                    <a:lnTo>
                      <a:pt x="465" y="473"/>
                    </a:lnTo>
                    <a:lnTo>
                      <a:pt x="459" y="473"/>
                    </a:lnTo>
                    <a:lnTo>
                      <a:pt x="430" y="476"/>
                    </a:lnTo>
                    <a:lnTo>
                      <a:pt x="310" y="471"/>
                    </a:lnTo>
                    <a:lnTo>
                      <a:pt x="305" y="473"/>
                    </a:lnTo>
                    <a:lnTo>
                      <a:pt x="201" y="480"/>
                    </a:lnTo>
                    <a:lnTo>
                      <a:pt x="122" y="490"/>
                    </a:lnTo>
                    <a:lnTo>
                      <a:pt x="65" y="493"/>
                    </a:lnTo>
                    <a:lnTo>
                      <a:pt x="61" y="493"/>
                    </a:lnTo>
                    <a:lnTo>
                      <a:pt x="32" y="488"/>
                    </a:lnTo>
                    <a:lnTo>
                      <a:pt x="23" y="475"/>
                    </a:lnTo>
                    <a:lnTo>
                      <a:pt x="19" y="430"/>
                    </a:lnTo>
                    <a:lnTo>
                      <a:pt x="17" y="336"/>
                    </a:lnTo>
                    <a:lnTo>
                      <a:pt x="10" y="216"/>
                    </a:lnTo>
                    <a:lnTo>
                      <a:pt x="0" y="69"/>
                    </a:lnTo>
                    <a:lnTo>
                      <a:pt x="1" y="50"/>
                    </a:lnTo>
                    <a:lnTo>
                      <a:pt x="17" y="41"/>
                    </a:lnTo>
                    <a:lnTo>
                      <a:pt x="4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335720" y="5646240"/>
                <a:ext cx="341280" cy="312120"/>
              </a:xfrm>
              <a:custGeom>
                <a:avLst/>
                <a:gdLst/>
                <a:ahLst/>
                <a:rect l="l" t="t" r="r" b="b"/>
                <a:pathLst>
                  <a:path w="429" h="442">
                    <a:moveTo>
                      <a:pt x="0" y="40"/>
                    </a:moveTo>
                    <a:lnTo>
                      <a:pt x="70" y="41"/>
                    </a:lnTo>
                    <a:lnTo>
                      <a:pt x="148" y="44"/>
                    </a:lnTo>
                    <a:lnTo>
                      <a:pt x="209" y="38"/>
                    </a:lnTo>
                    <a:lnTo>
                      <a:pt x="278" y="22"/>
                    </a:lnTo>
                    <a:lnTo>
                      <a:pt x="348" y="0"/>
                    </a:lnTo>
                    <a:lnTo>
                      <a:pt x="359" y="1"/>
                    </a:lnTo>
                    <a:lnTo>
                      <a:pt x="375" y="11"/>
                    </a:lnTo>
                    <a:lnTo>
                      <a:pt x="386" y="118"/>
                    </a:lnTo>
                    <a:lnTo>
                      <a:pt x="400" y="200"/>
                    </a:lnTo>
                    <a:lnTo>
                      <a:pt x="413" y="281"/>
                    </a:lnTo>
                    <a:lnTo>
                      <a:pt x="429" y="392"/>
                    </a:lnTo>
                    <a:lnTo>
                      <a:pt x="428" y="414"/>
                    </a:lnTo>
                    <a:lnTo>
                      <a:pt x="417" y="424"/>
                    </a:lnTo>
                    <a:lnTo>
                      <a:pt x="380" y="427"/>
                    </a:lnTo>
                    <a:lnTo>
                      <a:pt x="274" y="422"/>
                    </a:lnTo>
                    <a:lnTo>
                      <a:pt x="269" y="423"/>
                    </a:lnTo>
                    <a:lnTo>
                      <a:pt x="198" y="428"/>
                    </a:lnTo>
                    <a:lnTo>
                      <a:pt x="192" y="432"/>
                    </a:lnTo>
                    <a:lnTo>
                      <a:pt x="105" y="439"/>
                    </a:lnTo>
                    <a:lnTo>
                      <a:pt x="39" y="442"/>
                    </a:lnTo>
                    <a:lnTo>
                      <a:pt x="23" y="436"/>
                    </a:lnTo>
                    <a:lnTo>
                      <a:pt x="18" y="435"/>
                    </a:lnTo>
                    <a:lnTo>
                      <a:pt x="13" y="401"/>
                    </a:lnTo>
                    <a:lnTo>
                      <a:pt x="13" y="254"/>
                    </a:lnTo>
                    <a:lnTo>
                      <a:pt x="12" y="166"/>
                    </a:lnTo>
                    <a:lnTo>
                      <a:pt x="1" y="7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7310160" y="5758560"/>
              <a:ext cx="84240" cy="131400"/>
            </a:xfrm>
            <a:custGeom>
              <a:avLst/>
              <a:gdLst/>
              <a:ahLst/>
              <a:rect l="l" t="t" r="r" b="b"/>
              <a:pathLst>
                <a:path w="107" h="188">
                  <a:moveTo>
                    <a:pt x="8" y="60"/>
                  </a:moveTo>
                  <a:lnTo>
                    <a:pt x="14" y="60"/>
                  </a:lnTo>
                  <a:lnTo>
                    <a:pt x="20" y="55"/>
                  </a:lnTo>
                  <a:lnTo>
                    <a:pt x="24" y="49"/>
                  </a:lnTo>
                  <a:lnTo>
                    <a:pt x="24" y="43"/>
                  </a:lnTo>
                  <a:lnTo>
                    <a:pt x="24" y="39"/>
                  </a:lnTo>
                  <a:lnTo>
                    <a:pt x="23" y="34"/>
                  </a:lnTo>
                  <a:lnTo>
                    <a:pt x="23" y="29"/>
                  </a:lnTo>
                  <a:lnTo>
                    <a:pt x="24" y="24"/>
                  </a:lnTo>
                  <a:lnTo>
                    <a:pt x="29" y="20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3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81" y="5"/>
                  </a:lnTo>
                  <a:lnTo>
                    <a:pt x="85" y="7"/>
                  </a:lnTo>
                  <a:lnTo>
                    <a:pt x="88" y="11"/>
                  </a:lnTo>
                  <a:lnTo>
                    <a:pt x="94" y="18"/>
                  </a:lnTo>
                  <a:lnTo>
                    <a:pt x="94" y="23"/>
                  </a:lnTo>
                  <a:lnTo>
                    <a:pt x="94" y="27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1" y="42"/>
                  </a:lnTo>
                  <a:lnTo>
                    <a:pt x="75" y="46"/>
                  </a:lnTo>
                  <a:lnTo>
                    <a:pt x="71" y="49"/>
                  </a:lnTo>
                  <a:lnTo>
                    <a:pt x="66" y="50"/>
                  </a:lnTo>
                  <a:lnTo>
                    <a:pt x="62" y="53"/>
                  </a:lnTo>
                  <a:lnTo>
                    <a:pt x="56" y="56"/>
                  </a:lnTo>
                  <a:lnTo>
                    <a:pt x="56" y="62"/>
                  </a:lnTo>
                  <a:lnTo>
                    <a:pt x="55" y="66"/>
                  </a:lnTo>
                  <a:lnTo>
                    <a:pt x="55" y="71"/>
                  </a:lnTo>
                  <a:lnTo>
                    <a:pt x="55" y="76"/>
                  </a:lnTo>
                  <a:lnTo>
                    <a:pt x="59" y="79"/>
                  </a:lnTo>
                  <a:lnTo>
                    <a:pt x="65" y="81"/>
                  </a:lnTo>
                  <a:lnTo>
                    <a:pt x="69" y="84"/>
                  </a:lnTo>
                  <a:lnTo>
                    <a:pt x="75" y="85"/>
                  </a:lnTo>
                  <a:lnTo>
                    <a:pt x="84" y="91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100" y="104"/>
                  </a:lnTo>
                  <a:lnTo>
                    <a:pt x="104" y="107"/>
                  </a:lnTo>
                  <a:lnTo>
                    <a:pt x="104" y="111"/>
                  </a:lnTo>
                  <a:lnTo>
                    <a:pt x="107" y="118"/>
                  </a:lnTo>
                  <a:lnTo>
                    <a:pt x="107" y="123"/>
                  </a:lnTo>
                  <a:lnTo>
                    <a:pt x="107" y="129"/>
                  </a:lnTo>
                  <a:lnTo>
                    <a:pt x="104" y="134"/>
                  </a:lnTo>
                  <a:lnTo>
                    <a:pt x="104" y="139"/>
                  </a:lnTo>
                  <a:lnTo>
                    <a:pt x="100" y="142"/>
                  </a:lnTo>
                  <a:lnTo>
                    <a:pt x="95" y="143"/>
                  </a:lnTo>
                  <a:lnTo>
                    <a:pt x="88" y="143"/>
                  </a:lnTo>
                  <a:lnTo>
                    <a:pt x="82" y="146"/>
                  </a:lnTo>
                  <a:lnTo>
                    <a:pt x="78" y="147"/>
                  </a:lnTo>
                  <a:lnTo>
                    <a:pt x="71" y="147"/>
                  </a:lnTo>
                  <a:lnTo>
                    <a:pt x="66" y="143"/>
                  </a:lnTo>
                  <a:lnTo>
                    <a:pt x="59" y="140"/>
                  </a:lnTo>
                  <a:lnTo>
                    <a:pt x="55" y="136"/>
                  </a:lnTo>
                  <a:lnTo>
                    <a:pt x="52" y="131"/>
                  </a:lnTo>
                  <a:lnTo>
                    <a:pt x="46" y="133"/>
                  </a:lnTo>
                  <a:lnTo>
                    <a:pt x="43" y="137"/>
                  </a:lnTo>
                  <a:lnTo>
                    <a:pt x="43" y="142"/>
                  </a:lnTo>
                  <a:lnTo>
                    <a:pt x="43" y="147"/>
                  </a:lnTo>
                  <a:lnTo>
                    <a:pt x="46" y="152"/>
                  </a:lnTo>
                  <a:lnTo>
                    <a:pt x="50" y="159"/>
                  </a:lnTo>
                  <a:lnTo>
                    <a:pt x="53" y="163"/>
                  </a:lnTo>
                  <a:lnTo>
                    <a:pt x="53" y="169"/>
                  </a:lnTo>
                  <a:lnTo>
                    <a:pt x="52" y="175"/>
                  </a:lnTo>
                  <a:lnTo>
                    <a:pt x="46" y="181"/>
                  </a:lnTo>
                  <a:lnTo>
                    <a:pt x="42" y="182"/>
                  </a:lnTo>
                  <a:lnTo>
                    <a:pt x="37" y="185"/>
                  </a:lnTo>
                  <a:lnTo>
                    <a:pt x="30" y="188"/>
                  </a:lnTo>
                  <a:lnTo>
                    <a:pt x="26" y="185"/>
                  </a:lnTo>
                  <a:lnTo>
                    <a:pt x="20" y="181"/>
                  </a:lnTo>
                  <a:lnTo>
                    <a:pt x="16" y="176"/>
                  </a:lnTo>
                  <a:lnTo>
                    <a:pt x="11" y="169"/>
                  </a:lnTo>
                  <a:lnTo>
                    <a:pt x="7" y="165"/>
                  </a:lnTo>
                  <a:lnTo>
                    <a:pt x="5" y="159"/>
                  </a:lnTo>
                  <a:lnTo>
                    <a:pt x="5" y="153"/>
                  </a:lnTo>
                  <a:lnTo>
                    <a:pt x="3" y="147"/>
                  </a:lnTo>
                  <a:lnTo>
                    <a:pt x="5" y="142"/>
                  </a:lnTo>
                  <a:lnTo>
                    <a:pt x="5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8" y="117"/>
                  </a:lnTo>
                  <a:lnTo>
                    <a:pt x="8" y="111"/>
                  </a:lnTo>
                  <a:lnTo>
                    <a:pt x="8" y="107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0" y="76"/>
                  </a:lnTo>
                  <a:lnTo>
                    <a:pt x="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96000" y="5725800"/>
              <a:ext cx="87120" cy="10764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84" y="23"/>
                  </a:moveTo>
                  <a:lnTo>
                    <a:pt x="78" y="21"/>
                  </a:lnTo>
                  <a:lnTo>
                    <a:pt x="71" y="16"/>
                  </a:lnTo>
                  <a:lnTo>
                    <a:pt x="65" y="13"/>
                  </a:lnTo>
                  <a:lnTo>
                    <a:pt x="56" y="8"/>
                  </a:lnTo>
                  <a:lnTo>
                    <a:pt x="50" y="7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8" y="1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9" y="40"/>
                  </a:lnTo>
                  <a:lnTo>
                    <a:pt x="36" y="42"/>
                  </a:lnTo>
                  <a:lnTo>
                    <a:pt x="42" y="43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43" y="58"/>
                  </a:lnTo>
                  <a:lnTo>
                    <a:pt x="39" y="62"/>
                  </a:lnTo>
                  <a:lnTo>
                    <a:pt x="37" y="66"/>
                  </a:lnTo>
                  <a:lnTo>
                    <a:pt x="32" y="69"/>
                  </a:lnTo>
                  <a:lnTo>
                    <a:pt x="29" y="74"/>
                  </a:lnTo>
                  <a:lnTo>
                    <a:pt x="27" y="79"/>
                  </a:lnTo>
                  <a:lnTo>
                    <a:pt x="24" y="84"/>
                  </a:lnTo>
                  <a:lnTo>
                    <a:pt x="20" y="88"/>
                  </a:lnTo>
                  <a:lnTo>
                    <a:pt x="16" y="94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6" y="110"/>
                  </a:lnTo>
                  <a:lnTo>
                    <a:pt x="20" y="114"/>
                  </a:lnTo>
                  <a:lnTo>
                    <a:pt x="26" y="117"/>
                  </a:lnTo>
                  <a:lnTo>
                    <a:pt x="30" y="116"/>
                  </a:lnTo>
                  <a:lnTo>
                    <a:pt x="36" y="113"/>
                  </a:lnTo>
                  <a:lnTo>
                    <a:pt x="40" y="107"/>
                  </a:lnTo>
                  <a:lnTo>
                    <a:pt x="45" y="103"/>
                  </a:lnTo>
                  <a:lnTo>
                    <a:pt x="52" y="101"/>
                  </a:lnTo>
                  <a:lnTo>
                    <a:pt x="56" y="107"/>
                  </a:lnTo>
                  <a:lnTo>
                    <a:pt x="58" y="111"/>
                  </a:lnTo>
                  <a:lnTo>
                    <a:pt x="58" y="116"/>
                  </a:lnTo>
                  <a:lnTo>
                    <a:pt x="56" y="123"/>
                  </a:lnTo>
                  <a:lnTo>
                    <a:pt x="56" y="127"/>
                  </a:lnTo>
                  <a:lnTo>
                    <a:pt x="55" y="134"/>
                  </a:lnTo>
                  <a:lnTo>
                    <a:pt x="55" y="139"/>
                  </a:lnTo>
                  <a:lnTo>
                    <a:pt x="56" y="143"/>
                  </a:lnTo>
                  <a:lnTo>
                    <a:pt x="59" y="150"/>
                  </a:lnTo>
                  <a:lnTo>
                    <a:pt x="65" y="153"/>
                  </a:lnTo>
                  <a:lnTo>
                    <a:pt x="71" y="153"/>
                  </a:lnTo>
                  <a:lnTo>
                    <a:pt x="78" y="152"/>
                  </a:lnTo>
                  <a:lnTo>
                    <a:pt x="84" y="149"/>
                  </a:lnTo>
                  <a:lnTo>
                    <a:pt x="87" y="143"/>
                  </a:lnTo>
                  <a:lnTo>
                    <a:pt x="90" y="139"/>
                  </a:lnTo>
                  <a:lnTo>
                    <a:pt x="94" y="133"/>
                  </a:lnTo>
                  <a:lnTo>
                    <a:pt x="97" y="127"/>
                  </a:lnTo>
                  <a:lnTo>
                    <a:pt x="97" y="123"/>
                  </a:lnTo>
                  <a:lnTo>
                    <a:pt x="98" y="116"/>
                  </a:lnTo>
                  <a:lnTo>
                    <a:pt x="100" y="111"/>
                  </a:lnTo>
                  <a:lnTo>
                    <a:pt x="101" y="107"/>
                  </a:lnTo>
                  <a:lnTo>
                    <a:pt x="103" y="101"/>
                  </a:lnTo>
                  <a:lnTo>
                    <a:pt x="108" y="97"/>
                  </a:lnTo>
                  <a:lnTo>
                    <a:pt x="110" y="91"/>
                  </a:lnTo>
                  <a:lnTo>
                    <a:pt x="111" y="85"/>
                  </a:lnTo>
                  <a:lnTo>
                    <a:pt x="111" y="81"/>
                  </a:lnTo>
                  <a:lnTo>
                    <a:pt x="111" y="76"/>
                  </a:lnTo>
                  <a:lnTo>
                    <a:pt x="110" y="71"/>
                  </a:lnTo>
                  <a:lnTo>
                    <a:pt x="107" y="66"/>
                  </a:lnTo>
                  <a:lnTo>
                    <a:pt x="107" y="62"/>
                  </a:lnTo>
                  <a:lnTo>
                    <a:pt x="103" y="56"/>
                  </a:lnTo>
                  <a:lnTo>
                    <a:pt x="103" y="52"/>
                  </a:lnTo>
                  <a:lnTo>
                    <a:pt x="103" y="45"/>
                  </a:lnTo>
                  <a:lnTo>
                    <a:pt x="103" y="40"/>
                  </a:lnTo>
                  <a:lnTo>
                    <a:pt x="98" y="37"/>
                  </a:lnTo>
                  <a:lnTo>
                    <a:pt x="97" y="33"/>
                  </a:lnTo>
                  <a:lnTo>
                    <a:pt x="94" y="27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27800" y="5438880"/>
              <a:ext cx="231480" cy="192240"/>
            </a:xfrm>
            <a:custGeom>
              <a:avLst/>
              <a:gdLst/>
              <a:ahLst/>
              <a:rect l="l" t="t" r="r" b="b"/>
              <a:pathLst>
                <a:path w="291" h="271">
                  <a:moveTo>
                    <a:pt x="208" y="113"/>
                  </a:moveTo>
                  <a:lnTo>
                    <a:pt x="190" y="74"/>
                  </a:lnTo>
                  <a:lnTo>
                    <a:pt x="168" y="43"/>
                  </a:lnTo>
                  <a:lnTo>
                    <a:pt x="142" y="19"/>
                  </a:lnTo>
                  <a:lnTo>
                    <a:pt x="119" y="4"/>
                  </a:lnTo>
                  <a:lnTo>
                    <a:pt x="97" y="0"/>
                  </a:lnTo>
                  <a:lnTo>
                    <a:pt x="68" y="0"/>
                  </a:lnTo>
                  <a:lnTo>
                    <a:pt x="44" y="11"/>
                  </a:lnTo>
                  <a:lnTo>
                    <a:pt x="16" y="36"/>
                  </a:lnTo>
                  <a:lnTo>
                    <a:pt x="3" y="61"/>
                  </a:lnTo>
                  <a:lnTo>
                    <a:pt x="0" y="91"/>
                  </a:lnTo>
                  <a:lnTo>
                    <a:pt x="0" y="133"/>
                  </a:lnTo>
                  <a:lnTo>
                    <a:pt x="9" y="169"/>
                  </a:lnTo>
                  <a:lnTo>
                    <a:pt x="16" y="200"/>
                  </a:lnTo>
                  <a:lnTo>
                    <a:pt x="31" y="222"/>
                  </a:lnTo>
                  <a:lnTo>
                    <a:pt x="48" y="242"/>
                  </a:lnTo>
                  <a:lnTo>
                    <a:pt x="77" y="261"/>
                  </a:lnTo>
                  <a:lnTo>
                    <a:pt x="102" y="269"/>
                  </a:lnTo>
                  <a:lnTo>
                    <a:pt x="129" y="271"/>
                  </a:lnTo>
                  <a:lnTo>
                    <a:pt x="155" y="264"/>
                  </a:lnTo>
                  <a:lnTo>
                    <a:pt x="176" y="258"/>
                  </a:lnTo>
                  <a:lnTo>
                    <a:pt x="195" y="235"/>
                  </a:lnTo>
                  <a:lnTo>
                    <a:pt x="203" y="204"/>
                  </a:lnTo>
                  <a:lnTo>
                    <a:pt x="208" y="171"/>
                  </a:lnTo>
                  <a:lnTo>
                    <a:pt x="215" y="153"/>
                  </a:lnTo>
                  <a:lnTo>
                    <a:pt x="238" y="148"/>
                  </a:lnTo>
                  <a:lnTo>
                    <a:pt x="273" y="149"/>
                  </a:lnTo>
                  <a:lnTo>
                    <a:pt x="291" y="142"/>
                  </a:lnTo>
                  <a:lnTo>
                    <a:pt x="291" y="127"/>
                  </a:lnTo>
                  <a:lnTo>
                    <a:pt x="281" y="111"/>
                  </a:lnTo>
                  <a:lnTo>
                    <a:pt x="264" y="106"/>
                  </a:lnTo>
                  <a:lnTo>
                    <a:pt x="238" y="106"/>
                  </a:lnTo>
                  <a:lnTo>
                    <a:pt x="20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86360" y="5505120"/>
              <a:ext cx="274680" cy="190800"/>
            </a:xfrm>
            <a:custGeom>
              <a:avLst/>
              <a:gdLst/>
              <a:ahLst/>
              <a:rect l="l" t="t" r="r" b="b"/>
              <a:pathLst>
                <a:path w="346" h="271">
                  <a:moveTo>
                    <a:pt x="246" y="165"/>
                  </a:moveTo>
                  <a:lnTo>
                    <a:pt x="236" y="110"/>
                  </a:lnTo>
                  <a:lnTo>
                    <a:pt x="220" y="72"/>
                  </a:lnTo>
                  <a:lnTo>
                    <a:pt x="191" y="33"/>
                  </a:lnTo>
                  <a:lnTo>
                    <a:pt x="165" y="11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54" y="10"/>
                  </a:lnTo>
                  <a:lnTo>
                    <a:pt x="26" y="34"/>
                  </a:lnTo>
                  <a:lnTo>
                    <a:pt x="10" y="59"/>
                  </a:lnTo>
                  <a:lnTo>
                    <a:pt x="1" y="92"/>
                  </a:lnTo>
                  <a:lnTo>
                    <a:pt x="0" y="126"/>
                  </a:lnTo>
                  <a:lnTo>
                    <a:pt x="3" y="162"/>
                  </a:lnTo>
                  <a:lnTo>
                    <a:pt x="10" y="192"/>
                  </a:lnTo>
                  <a:lnTo>
                    <a:pt x="33" y="220"/>
                  </a:lnTo>
                  <a:lnTo>
                    <a:pt x="54" y="239"/>
                  </a:lnTo>
                  <a:lnTo>
                    <a:pt x="81" y="259"/>
                  </a:lnTo>
                  <a:lnTo>
                    <a:pt x="103" y="268"/>
                  </a:lnTo>
                  <a:lnTo>
                    <a:pt x="138" y="271"/>
                  </a:lnTo>
                  <a:lnTo>
                    <a:pt x="165" y="263"/>
                  </a:lnTo>
                  <a:lnTo>
                    <a:pt x="190" y="252"/>
                  </a:lnTo>
                  <a:lnTo>
                    <a:pt x="212" y="236"/>
                  </a:lnTo>
                  <a:lnTo>
                    <a:pt x="229" y="216"/>
                  </a:lnTo>
                  <a:lnTo>
                    <a:pt x="251" y="205"/>
                  </a:lnTo>
                  <a:lnTo>
                    <a:pt x="284" y="208"/>
                  </a:lnTo>
                  <a:lnTo>
                    <a:pt x="287" y="213"/>
                  </a:lnTo>
                  <a:lnTo>
                    <a:pt x="313" y="224"/>
                  </a:lnTo>
                  <a:lnTo>
                    <a:pt x="333" y="221"/>
                  </a:lnTo>
                  <a:lnTo>
                    <a:pt x="346" y="201"/>
                  </a:lnTo>
                  <a:lnTo>
                    <a:pt x="341" y="189"/>
                  </a:lnTo>
                  <a:lnTo>
                    <a:pt x="325" y="179"/>
                  </a:lnTo>
                  <a:lnTo>
                    <a:pt x="291" y="175"/>
                  </a:lnTo>
                  <a:lnTo>
                    <a:pt x="262" y="171"/>
                  </a:lnTo>
                  <a:lnTo>
                    <a:pt x="24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22920" y="5751360"/>
              <a:ext cx="223560" cy="302040"/>
            </a:xfrm>
            <a:custGeom>
              <a:avLst/>
              <a:gdLst/>
              <a:ahLst/>
              <a:rect l="l" t="t" r="r" b="b"/>
              <a:pathLst>
                <a:path w="284" h="429">
                  <a:moveTo>
                    <a:pt x="90" y="100"/>
                  </a:moveTo>
                  <a:lnTo>
                    <a:pt x="152" y="42"/>
                  </a:lnTo>
                  <a:lnTo>
                    <a:pt x="213" y="13"/>
                  </a:lnTo>
                  <a:lnTo>
                    <a:pt x="260" y="0"/>
                  </a:lnTo>
                  <a:lnTo>
                    <a:pt x="277" y="7"/>
                  </a:lnTo>
                  <a:lnTo>
                    <a:pt x="284" y="33"/>
                  </a:lnTo>
                  <a:lnTo>
                    <a:pt x="265" y="75"/>
                  </a:lnTo>
                  <a:lnTo>
                    <a:pt x="236" y="98"/>
                  </a:lnTo>
                  <a:lnTo>
                    <a:pt x="180" y="111"/>
                  </a:lnTo>
                  <a:lnTo>
                    <a:pt x="112" y="142"/>
                  </a:lnTo>
                  <a:lnTo>
                    <a:pt x="61" y="181"/>
                  </a:lnTo>
                  <a:lnTo>
                    <a:pt x="39" y="219"/>
                  </a:lnTo>
                  <a:lnTo>
                    <a:pt x="39" y="240"/>
                  </a:lnTo>
                  <a:lnTo>
                    <a:pt x="47" y="261"/>
                  </a:lnTo>
                  <a:lnTo>
                    <a:pt x="64" y="280"/>
                  </a:lnTo>
                  <a:lnTo>
                    <a:pt x="93" y="297"/>
                  </a:lnTo>
                  <a:lnTo>
                    <a:pt x="125" y="303"/>
                  </a:lnTo>
                  <a:lnTo>
                    <a:pt x="145" y="297"/>
                  </a:lnTo>
                  <a:lnTo>
                    <a:pt x="171" y="290"/>
                  </a:lnTo>
                  <a:lnTo>
                    <a:pt x="200" y="284"/>
                  </a:lnTo>
                  <a:lnTo>
                    <a:pt x="222" y="287"/>
                  </a:lnTo>
                  <a:lnTo>
                    <a:pt x="226" y="298"/>
                  </a:lnTo>
                  <a:lnTo>
                    <a:pt x="223" y="303"/>
                  </a:lnTo>
                  <a:lnTo>
                    <a:pt x="225" y="307"/>
                  </a:lnTo>
                  <a:lnTo>
                    <a:pt x="225" y="313"/>
                  </a:lnTo>
                  <a:lnTo>
                    <a:pt x="219" y="317"/>
                  </a:lnTo>
                  <a:lnTo>
                    <a:pt x="215" y="319"/>
                  </a:lnTo>
                  <a:lnTo>
                    <a:pt x="209" y="322"/>
                  </a:lnTo>
                  <a:lnTo>
                    <a:pt x="202" y="323"/>
                  </a:lnTo>
                  <a:lnTo>
                    <a:pt x="197" y="322"/>
                  </a:lnTo>
                  <a:lnTo>
                    <a:pt x="193" y="320"/>
                  </a:lnTo>
                  <a:lnTo>
                    <a:pt x="187" y="320"/>
                  </a:lnTo>
                  <a:lnTo>
                    <a:pt x="183" y="319"/>
                  </a:lnTo>
                  <a:lnTo>
                    <a:pt x="178" y="319"/>
                  </a:lnTo>
                  <a:lnTo>
                    <a:pt x="171" y="317"/>
                  </a:lnTo>
                  <a:lnTo>
                    <a:pt x="165" y="317"/>
                  </a:lnTo>
                  <a:lnTo>
                    <a:pt x="160" y="317"/>
                  </a:lnTo>
                  <a:lnTo>
                    <a:pt x="155" y="319"/>
                  </a:lnTo>
                  <a:lnTo>
                    <a:pt x="151" y="323"/>
                  </a:lnTo>
                  <a:lnTo>
                    <a:pt x="152" y="329"/>
                  </a:lnTo>
                  <a:lnTo>
                    <a:pt x="158" y="330"/>
                  </a:lnTo>
                  <a:lnTo>
                    <a:pt x="165" y="333"/>
                  </a:lnTo>
                  <a:lnTo>
                    <a:pt x="170" y="333"/>
                  </a:lnTo>
                  <a:lnTo>
                    <a:pt x="176" y="335"/>
                  </a:lnTo>
                  <a:lnTo>
                    <a:pt x="181" y="335"/>
                  </a:lnTo>
                  <a:lnTo>
                    <a:pt x="187" y="336"/>
                  </a:lnTo>
                  <a:lnTo>
                    <a:pt x="194" y="336"/>
                  </a:lnTo>
                  <a:lnTo>
                    <a:pt x="200" y="339"/>
                  </a:lnTo>
                  <a:lnTo>
                    <a:pt x="207" y="340"/>
                  </a:lnTo>
                  <a:lnTo>
                    <a:pt x="212" y="342"/>
                  </a:lnTo>
                  <a:lnTo>
                    <a:pt x="216" y="343"/>
                  </a:lnTo>
                  <a:lnTo>
                    <a:pt x="219" y="348"/>
                  </a:lnTo>
                  <a:lnTo>
                    <a:pt x="222" y="352"/>
                  </a:lnTo>
                  <a:lnTo>
                    <a:pt x="223" y="358"/>
                  </a:lnTo>
                  <a:lnTo>
                    <a:pt x="218" y="362"/>
                  </a:lnTo>
                  <a:lnTo>
                    <a:pt x="215" y="368"/>
                  </a:lnTo>
                  <a:lnTo>
                    <a:pt x="207" y="371"/>
                  </a:lnTo>
                  <a:lnTo>
                    <a:pt x="200" y="374"/>
                  </a:lnTo>
                  <a:lnTo>
                    <a:pt x="194" y="374"/>
                  </a:lnTo>
                  <a:lnTo>
                    <a:pt x="189" y="374"/>
                  </a:lnTo>
                  <a:lnTo>
                    <a:pt x="181" y="372"/>
                  </a:lnTo>
                  <a:lnTo>
                    <a:pt x="173" y="369"/>
                  </a:lnTo>
                  <a:lnTo>
                    <a:pt x="167" y="365"/>
                  </a:lnTo>
                  <a:lnTo>
                    <a:pt x="161" y="364"/>
                  </a:lnTo>
                  <a:lnTo>
                    <a:pt x="157" y="364"/>
                  </a:lnTo>
                  <a:lnTo>
                    <a:pt x="149" y="362"/>
                  </a:lnTo>
                  <a:lnTo>
                    <a:pt x="144" y="364"/>
                  </a:lnTo>
                  <a:lnTo>
                    <a:pt x="144" y="371"/>
                  </a:lnTo>
                  <a:lnTo>
                    <a:pt x="149" y="371"/>
                  </a:lnTo>
                  <a:lnTo>
                    <a:pt x="154" y="374"/>
                  </a:lnTo>
                  <a:lnTo>
                    <a:pt x="157" y="378"/>
                  </a:lnTo>
                  <a:lnTo>
                    <a:pt x="161" y="378"/>
                  </a:lnTo>
                  <a:lnTo>
                    <a:pt x="165" y="383"/>
                  </a:lnTo>
                  <a:lnTo>
                    <a:pt x="170" y="383"/>
                  </a:lnTo>
                  <a:lnTo>
                    <a:pt x="174" y="386"/>
                  </a:lnTo>
                  <a:lnTo>
                    <a:pt x="180" y="389"/>
                  </a:lnTo>
                  <a:lnTo>
                    <a:pt x="186" y="395"/>
                  </a:lnTo>
                  <a:lnTo>
                    <a:pt x="190" y="400"/>
                  </a:lnTo>
                  <a:lnTo>
                    <a:pt x="193" y="406"/>
                  </a:lnTo>
                  <a:lnTo>
                    <a:pt x="194" y="412"/>
                  </a:lnTo>
                  <a:lnTo>
                    <a:pt x="197" y="416"/>
                  </a:lnTo>
                  <a:lnTo>
                    <a:pt x="193" y="422"/>
                  </a:lnTo>
                  <a:lnTo>
                    <a:pt x="187" y="426"/>
                  </a:lnTo>
                  <a:lnTo>
                    <a:pt x="183" y="428"/>
                  </a:lnTo>
                  <a:lnTo>
                    <a:pt x="178" y="428"/>
                  </a:lnTo>
                  <a:lnTo>
                    <a:pt x="173" y="429"/>
                  </a:lnTo>
                  <a:lnTo>
                    <a:pt x="168" y="429"/>
                  </a:lnTo>
                  <a:lnTo>
                    <a:pt x="161" y="428"/>
                  </a:lnTo>
                  <a:lnTo>
                    <a:pt x="155" y="426"/>
                  </a:lnTo>
                  <a:lnTo>
                    <a:pt x="151" y="425"/>
                  </a:lnTo>
                  <a:lnTo>
                    <a:pt x="144" y="422"/>
                  </a:lnTo>
                  <a:lnTo>
                    <a:pt x="139" y="422"/>
                  </a:lnTo>
                  <a:lnTo>
                    <a:pt x="132" y="419"/>
                  </a:lnTo>
                  <a:lnTo>
                    <a:pt x="129" y="415"/>
                  </a:lnTo>
                  <a:lnTo>
                    <a:pt x="125" y="413"/>
                  </a:lnTo>
                  <a:lnTo>
                    <a:pt x="119" y="408"/>
                  </a:lnTo>
                  <a:lnTo>
                    <a:pt x="115" y="403"/>
                  </a:lnTo>
                  <a:lnTo>
                    <a:pt x="110" y="397"/>
                  </a:lnTo>
                  <a:lnTo>
                    <a:pt x="106" y="393"/>
                  </a:lnTo>
                  <a:lnTo>
                    <a:pt x="103" y="389"/>
                  </a:lnTo>
                  <a:lnTo>
                    <a:pt x="103" y="384"/>
                  </a:lnTo>
                  <a:lnTo>
                    <a:pt x="100" y="378"/>
                  </a:lnTo>
                  <a:lnTo>
                    <a:pt x="100" y="374"/>
                  </a:lnTo>
                  <a:lnTo>
                    <a:pt x="97" y="369"/>
                  </a:lnTo>
                  <a:lnTo>
                    <a:pt x="74" y="333"/>
                  </a:lnTo>
                  <a:lnTo>
                    <a:pt x="31" y="298"/>
                  </a:lnTo>
                  <a:lnTo>
                    <a:pt x="12" y="265"/>
                  </a:lnTo>
                  <a:lnTo>
                    <a:pt x="6" y="243"/>
                  </a:lnTo>
                  <a:lnTo>
                    <a:pt x="0" y="217"/>
                  </a:lnTo>
                  <a:lnTo>
                    <a:pt x="12" y="188"/>
                  </a:lnTo>
                  <a:lnTo>
                    <a:pt x="44" y="155"/>
                  </a:lnTo>
                  <a:lnTo>
                    <a:pt x="74" y="117"/>
                  </a:lnTo>
                  <a:lnTo>
                    <a:pt x="9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64200" y="5745600"/>
              <a:ext cx="195120" cy="274320"/>
            </a:xfrm>
            <a:custGeom>
              <a:avLst/>
              <a:gdLst/>
              <a:ahLst/>
              <a:rect l="l" t="t" r="r" b="b"/>
              <a:pathLst>
                <a:path w="246" h="389">
                  <a:moveTo>
                    <a:pt x="7" y="0"/>
                  </a:moveTo>
                  <a:lnTo>
                    <a:pt x="46" y="7"/>
                  </a:lnTo>
                  <a:lnTo>
                    <a:pt x="95" y="29"/>
                  </a:lnTo>
                  <a:lnTo>
                    <a:pt x="132" y="60"/>
                  </a:lnTo>
                  <a:lnTo>
                    <a:pt x="181" y="103"/>
                  </a:lnTo>
                  <a:lnTo>
                    <a:pt x="213" y="142"/>
                  </a:lnTo>
                  <a:lnTo>
                    <a:pt x="230" y="174"/>
                  </a:lnTo>
                  <a:lnTo>
                    <a:pt x="242" y="20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3" y="274"/>
                  </a:lnTo>
                  <a:lnTo>
                    <a:pt x="230" y="302"/>
                  </a:lnTo>
                  <a:lnTo>
                    <a:pt x="204" y="320"/>
                  </a:lnTo>
                  <a:lnTo>
                    <a:pt x="178" y="341"/>
                  </a:lnTo>
                  <a:lnTo>
                    <a:pt x="177" y="345"/>
                  </a:lnTo>
                  <a:lnTo>
                    <a:pt x="156" y="364"/>
                  </a:lnTo>
                  <a:lnTo>
                    <a:pt x="132" y="381"/>
                  </a:lnTo>
                  <a:lnTo>
                    <a:pt x="127" y="383"/>
                  </a:lnTo>
                  <a:lnTo>
                    <a:pt x="123" y="386"/>
                  </a:lnTo>
                  <a:lnTo>
                    <a:pt x="117" y="386"/>
                  </a:lnTo>
                  <a:lnTo>
                    <a:pt x="113" y="387"/>
                  </a:lnTo>
                  <a:lnTo>
                    <a:pt x="108" y="387"/>
                  </a:lnTo>
                  <a:lnTo>
                    <a:pt x="103" y="389"/>
                  </a:lnTo>
                  <a:lnTo>
                    <a:pt x="98" y="389"/>
                  </a:lnTo>
                  <a:lnTo>
                    <a:pt x="91" y="387"/>
                  </a:lnTo>
                  <a:lnTo>
                    <a:pt x="87" y="387"/>
                  </a:lnTo>
                  <a:lnTo>
                    <a:pt x="79" y="384"/>
                  </a:lnTo>
                  <a:lnTo>
                    <a:pt x="72" y="381"/>
                  </a:lnTo>
                  <a:lnTo>
                    <a:pt x="66" y="378"/>
                  </a:lnTo>
                  <a:lnTo>
                    <a:pt x="59" y="377"/>
                  </a:lnTo>
                  <a:lnTo>
                    <a:pt x="56" y="371"/>
                  </a:lnTo>
                  <a:lnTo>
                    <a:pt x="55" y="367"/>
                  </a:lnTo>
                  <a:lnTo>
                    <a:pt x="55" y="361"/>
                  </a:lnTo>
                  <a:lnTo>
                    <a:pt x="55" y="357"/>
                  </a:lnTo>
                  <a:lnTo>
                    <a:pt x="59" y="352"/>
                  </a:lnTo>
                  <a:lnTo>
                    <a:pt x="65" y="348"/>
                  </a:lnTo>
                  <a:lnTo>
                    <a:pt x="69" y="345"/>
                  </a:lnTo>
                  <a:lnTo>
                    <a:pt x="74" y="344"/>
                  </a:lnTo>
                  <a:lnTo>
                    <a:pt x="79" y="344"/>
                  </a:lnTo>
                  <a:lnTo>
                    <a:pt x="84" y="342"/>
                  </a:lnTo>
                  <a:lnTo>
                    <a:pt x="88" y="342"/>
                  </a:lnTo>
                  <a:lnTo>
                    <a:pt x="94" y="342"/>
                  </a:lnTo>
                  <a:lnTo>
                    <a:pt x="100" y="341"/>
                  </a:lnTo>
                  <a:lnTo>
                    <a:pt x="104" y="338"/>
                  </a:lnTo>
                  <a:lnTo>
                    <a:pt x="111" y="336"/>
                  </a:lnTo>
                  <a:lnTo>
                    <a:pt x="114" y="331"/>
                  </a:lnTo>
                  <a:lnTo>
                    <a:pt x="119" y="328"/>
                  </a:lnTo>
                  <a:lnTo>
                    <a:pt x="120" y="323"/>
                  </a:lnTo>
                  <a:lnTo>
                    <a:pt x="114" y="320"/>
                  </a:lnTo>
                  <a:lnTo>
                    <a:pt x="108" y="316"/>
                  </a:lnTo>
                  <a:lnTo>
                    <a:pt x="101" y="315"/>
                  </a:lnTo>
                  <a:lnTo>
                    <a:pt x="97" y="315"/>
                  </a:lnTo>
                  <a:lnTo>
                    <a:pt x="88" y="315"/>
                  </a:lnTo>
                  <a:lnTo>
                    <a:pt x="84" y="315"/>
                  </a:lnTo>
                  <a:lnTo>
                    <a:pt x="79" y="313"/>
                  </a:lnTo>
                  <a:lnTo>
                    <a:pt x="74" y="313"/>
                  </a:lnTo>
                  <a:lnTo>
                    <a:pt x="69" y="309"/>
                  </a:lnTo>
                  <a:lnTo>
                    <a:pt x="62" y="303"/>
                  </a:lnTo>
                  <a:lnTo>
                    <a:pt x="58" y="299"/>
                  </a:lnTo>
                  <a:lnTo>
                    <a:pt x="56" y="294"/>
                  </a:lnTo>
                  <a:lnTo>
                    <a:pt x="55" y="289"/>
                  </a:lnTo>
                  <a:lnTo>
                    <a:pt x="55" y="284"/>
                  </a:lnTo>
                  <a:lnTo>
                    <a:pt x="56" y="280"/>
                  </a:lnTo>
                  <a:lnTo>
                    <a:pt x="62" y="277"/>
                  </a:lnTo>
                  <a:lnTo>
                    <a:pt x="68" y="274"/>
                  </a:lnTo>
                  <a:lnTo>
                    <a:pt x="72" y="273"/>
                  </a:lnTo>
                  <a:lnTo>
                    <a:pt x="77" y="273"/>
                  </a:lnTo>
                  <a:lnTo>
                    <a:pt x="84" y="274"/>
                  </a:lnTo>
                  <a:lnTo>
                    <a:pt x="88" y="274"/>
                  </a:lnTo>
                  <a:lnTo>
                    <a:pt x="94" y="274"/>
                  </a:lnTo>
                  <a:lnTo>
                    <a:pt x="98" y="277"/>
                  </a:lnTo>
                  <a:lnTo>
                    <a:pt x="103" y="277"/>
                  </a:lnTo>
                  <a:lnTo>
                    <a:pt x="108" y="278"/>
                  </a:lnTo>
                  <a:lnTo>
                    <a:pt x="113" y="278"/>
                  </a:lnTo>
                  <a:lnTo>
                    <a:pt x="117" y="278"/>
                  </a:lnTo>
                  <a:lnTo>
                    <a:pt x="120" y="273"/>
                  </a:lnTo>
                  <a:lnTo>
                    <a:pt x="119" y="268"/>
                  </a:lnTo>
                  <a:lnTo>
                    <a:pt x="114" y="264"/>
                  </a:lnTo>
                  <a:lnTo>
                    <a:pt x="111" y="257"/>
                  </a:lnTo>
                  <a:lnTo>
                    <a:pt x="103" y="252"/>
                  </a:lnTo>
                  <a:lnTo>
                    <a:pt x="98" y="249"/>
                  </a:lnTo>
                  <a:lnTo>
                    <a:pt x="90" y="241"/>
                  </a:lnTo>
                  <a:lnTo>
                    <a:pt x="85" y="236"/>
                  </a:lnTo>
                  <a:lnTo>
                    <a:pt x="84" y="231"/>
                  </a:lnTo>
                  <a:lnTo>
                    <a:pt x="84" y="226"/>
                  </a:lnTo>
                  <a:lnTo>
                    <a:pt x="85" y="220"/>
                  </a:lnTo>
                  <a:lnTo>
                    <a:pt x="87" y="215"/>
                  </a:lnTo>
                  <a:lnTo>
                    <a:pt x="91" y="212"/>
                  </a:lnTo>
                  <a:lnTo>
                    <a:pt x="97" y="210"/>
                  </a:lnTo>
                  <a:lnTo>
                    <a:pt x="101" y="209"/>
                  </a:lnTo>
                  <a:lnTo>
                    <a:pt x="106" y="207"/>
                  </a:lnTo>
                  <a:lnTo>
                    <a:pt x="111" y="207"/>
                  </a:lnTo>
                  <a:lnTo>
                    <a:pt x="117" y="210"/>
                  </a:lnTo>
                  <a:lnTo>
                    <a:pt x="123" y="212"/>
                  </a:lnTo>
                  <a:lnTo>
                    <a:pt x="126" y="216"/>
                  </a:lnTo>
                  <a:lnTo>
                    <a:pt x="130" y="220"/>
                  </a:lnTo>
                  <a:lnTo>
                    <a:pt x="137" y="223"/>
                  </a:lnTo>
                  <a:lnTo>
                    <a:pt x="142" y="226"/>
                  </a:lnTo>
                  <a:lnTo>
                    <a:pt x="145" y="231"/>
                  </a:lnTo>
                  <a:lnTo>
                    <a:pt x="148" y="236"/>
                  </a:lnTo>
                  <a:lnTo>
                    <a:pt x="152" y="241"/>
                  </a:lnTo>
                  <a:lnTo>
                    <a:pt x="155" y="245"/>
                  </a:lnTo>
                  <a:lnTo>
                    <a:pt x="159" y="249"/>
                  </a:lnTo>
                  <a:lnTo>
                    <a:pt x="162" y="254"/>
                  </a:lnTo>
                  <a:lnTo>
                    <a:pt x="168" y="255"/>
                  </a:lnTo>
                  <a:lnTo>
                    <a:pt x="169" y="260"/>
                  </a:lnTo>
                  <a:lnTo>
                    <a:pt x="174" y="260"/>
                  </a:lnTo>
                  <a:lnTo>
                    <a:pt x="178" y="264"/>
                  </a:lnTo>
                  <a:lnTo>
                    <a:pt x="184" y="267"/>
                  </a:lnTo>
                  <a:lnTo>
                    <a:pt x="188" y="267"/>
                  </a:lnTo>
                  <a:lnTo>
                    <a:pt x="204" y="258"/>
                  </a:lnTo>
                  <a:lnTo>
                    <a:pt x="210" y="244"/>
                  </a:lnTo>
                  <a:lnTo>
                    <a:pt x="211" y="223"/>
                  </a:lnTo>
                  <a:lnTo>
                    <a:pt x="198" y="196"/>
                  </a:lnTo>
                  <a:lnTo>
                    <a:pt x="174" y="165"/>
                  </a:lnTo>
                  <a:lnTo>
                    <a:pt x="130" y="135"/>
                  </a:lnTo>
                  <a:lnTo>
                    <a:pt x="59" y="109"/>
                  </a:lnTo>
                  <a:lnTo>
                    <a:pt x="30" y="89"/>
                  </a:lnTo>
                  <a:lnTo>
                    <a:pt x="11" y="68"/>
                  </a:lnTo>
                  <a:lnTo>
                    <a:pt x="4" y="39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713280" y="5704560"/>
              <a:ext cx="374760" cy="337680"/>
              <a:chOff x="6713280" y="5704560"/>
              <a:chExt cx="374760" cy="337680"/>
            </a:xfrm>
          </p:grpSpPr>
          <p:sp>
            <p:nvSpPr>
              <p:cNvPr id="1320" name=""/>
              <p:cNvSpPr/>
              <p:nvPr/>
            </p:nvSpPr>
            <p:spPr>
              <a:xfrm>
                <a:off x="6713280" y="5704560"/>
                <a:ext cx="374760" cy="337680"/>
              </a:xfrm>
              <a:custGeom>
                <a:avLst/>
                <a:gdLst/>
                <a:ahLst/>
                <a:rect l="l" t="t" r="r" b="b"/>
                <a:pathLst>
                  <a:path w="472" h="480">
                    <a:moveTo>
                      <a:pt x="94" y="2"/>
                    </a:moveTo>
                    <a:lnTo>
                      <a:pt x="181" y="7"/>
                    </a:lnTo>
                    <a:lnTo>
                      <a:pt x="275" y="9"/>
                    </a:lnTo>
                    <a:lnTo>
                      <a:pt x="382" y="0"/>
                    </a:lnTo>
                    <a:lnTo>
                      <a:pt x="448" y="2"/>
                    </a:lnTo>
                    <a:lnTo>
                      <a:pt x="456" y="9"/>
                    </a:lnTo>
                    <a:lnTo>
                      <a:pt x="461" y="25"/>
                    </a:lnTo>
                    <a:lnTo>
                      <a:pt x="458" y="128"/>
                    </a:lnTo>
                    <a:lnTo>
                      <a:pt x="458" y="235"/>
                    </a:lnTo>
                    <a:lnTo>
                      <a:pt x="465" y="326"/>
                    </a:lnTo>
                    <a:lnTo>
                      <a:pt x="472" y="423"/>
                    </a:lnTo>
                    <a:lnTo>
                      <a:pt x="472" y="450"/>
                    </a:lnTo>
                    <a:lnTo>
                      <a:pt x="459" y="467"/>
                    </a:lnTo>
                    <a:lnTo>
                      <a:pt x="429" y="469"/>
                    </a:lnTo>
                    <a:lnTo>
                      <a:pt x="300" y="467"/>
                    </a:lnTo>
                    <a:lnTo>
                      <a:pt x="295" y="469"/>
                    </a:lnTo>
                    <a:lnTo>
                      <a:pt x="290" y="469"/>
                    </a:lnTo>
                    <a:lnTo>
                      <a:pt x="168" y="473"/>
                    </a:lnTo>
                    <a:lnTo>
                      <a:pt x="162" y="475"/>
                    </a:lnTo>
                    <a:lnTo>
                      <a:pt x="53" y="480"/>
                    </a:lnTo>
                    <a:lnTo>
                      <a:pt x="8" y="469"/>
                    </a:lnTo>
                    <a:lnTo>
                      <a:pt x="0" y="441"/>
                    </a:lnTo>
                    <a:lnTo>
                      <a:pt x="8" y="378"/>
                    </a:lnTo>
                    <a:lnTo>
                      <a:pt x="21" y="265"/>
                    </a:lnTo>
                    <a:lnTo>
                      <a:pt x="24" y="134"/>
                    </a:lnTo>
                    <a:lnTo>
                      <a:pt x="24" y="129"/>
                    </a:lnTo>
                    <a:lnTo>
                      <a:pt x="29" y="47"/>
                    </a:lnTo>
                    <a:lnTo>
                      <a:pt x="34" y="9"/>
                    </a:lnTo>
                    <a:lnTo>
                      <a:pt x="53" y="0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9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729120" y="5720040"/>
                <a:ext cx="338040" cy="303480"/>
              </a:xfrm>
              <a:custGeom>
                <a:avLst/>
                <a:gdLst/>
                <a:ahLst/>
                <a:rect l="l" t="t" r="r" b="b"/>
                <a:pathLst>
                  <a:path w="425" h="430">
                    <a:moveTo>
                      <a:pt x="40" y="2"/>
                    </a:moveTo>
                    <a:lnTo>
                      <a:pt x="135" y="5"/>
                    </a:lnTo>
                    <a:lnTo>
                      <a:pt x="225" y="6"/>
                    </a:lnTo>
                    <a:lnTo>
                      <a:pt x="321" y="2"/>
                    </a:lnTo>
                    <a:lnTo>
                      <a:pt x="396" y="0"/>
                    </a:lnTo>
                    <a:lnTo>
                      <a:pt x="409" y="3"/>
                    </a:lnTo>
                    <a:lnTo>
                      <a:pt x="412" y="21"/>
                    </a:lnTo>
                    <a:lnTo>
                      <a:pt x="409" y="121"/>
                    </a:lnTo>
                    <a:lnTo>
                      <a:pt x="411" y="221"/>
                    </a:lnTo>
                    <a:lnTo>
                      <a:pt x="419" y="309"/>
                    </a:lnTo>
                    <a:lnTo>
                      <a:pt x="425" y="399"/>
                    </a:lnTo>
                    <a:lnTo>
                      <a:pt x="422" y="412"/>
                    </a:lnTo>
                    <a:lnTo>
                      <a:pt x="399" y="416"/>
                    </a:lnTo>
                    <a:lnTo>
                      <a:pt x="292" y="416"/>
                    </a:lnTo>
                    <a:lnTo>
                      <a:pt x="187" y="419"/>
                    </a:lnTo>
                    <a:lnTo>
                      <a:pt x="89" y="428"/>
                    </a:lnTo>
                    <a:lnTo>
                      <a:pt x="25" y="430"/>
                    </a:lnTo>
                    <a:lnTo>
                      <a:pt x="6" y="427"/>
                    </a:lnTo>
                    <a:lnTo>
                      <a:pt x="0" y="415"/>
                    </a:lnTo>
                    <a:lnTo>
                      <a:pt x="16" y="309"/>
                    </a:lnTo>
                    <a:lnTo>
                      <a:pt x="25" y="218"/>
                    </a:lnTo>
                    <a:lnTo>
                      <a:pt x="31" y="125"/>
                    </a:lnTo>
                    <a:lnTo>
                      <a:pt x="32" y="35"/>
                    </a:lnTo>
                    <a:lnTo>
                      <a:pt x="37" y="8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695640" y="5942160"/>
              <a:ext cx="113040" cy="110160"/>
            </a:xfrm>
            <a:custGeom>
              <a:avLst/>
              <a:gdLst/>
              <a:ahLst/>
              <a:rect l="l" t="t" r="r" b="b"/>
              <a:pathLst>
                <a:path w="142" h="155">
                  <a:moveTo>
                    <a:pt x="16" y="30"/>
                  </a:moveTo>
                  <a:lnTo>
                    <a:pt x="22" y="33"/>
                  </a:lnTo>
                  <a:lnTo>
                    <a:pt x="32" y="32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8" y="26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4" y="14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77" y="4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3"/>
                  </a:lnTo>
                  <a:lnTo>
                    <a:pt x="122" y="4"/>
                  </a:lnTo>
                  <a:lnTo>
                    <a:pt x="128" y="6"/>
                  </a:lnTo>
                  <a:lnTo>
                    <a:pt x="132" y="9"/>
                  </a:lnTo>
                  <a:lnTo>
                    <a:pt x="138" y="16"/>
                  </a:lnTo>
                  <a:lnTo>
                    <a:pt x="138" y="20"/>
                  </a:lnTo>
                  <a:lnTo>
                    <a:pt x="142" y="26"/>
                  </a:lnTo>
                  <a:lnTo>
                    <a:pt x="142" y="32"/>
                  </a:lnTo>
                  <a:lnTo>
                    <a:pt x="142" y="36"/>
                  </a:lnTo>
                  <a:lnTo>
                    <a:pt x="138" y="42"/>
                  </a:lnTo>
                  <a:lnTo>
                    <a:pt x="134" y="45"/>
                  </a:lnTo>
                  <a:lnTo>
                    <a:pt x="129" y="48"/>
                  </a:lnTo>
                  <a:lnTo>
                    <a:pt x="124" y="48"/>
                  </a:lnTo>
                  <a:lnTo>
                    <a:pt x="119" y="48"/>
                  </a:lnTo>
                  <a:lnTo>
                    <a:pt x="115" y="46"/>
                  </a:lnTo>
                  <a:lnTo>
                    <a:pt x="109" y="43"/>
                  </a:lnTo>
                  <a:lnTo>
                    <a:pt x="103" y="42"/>
                  </a:lnTo>
                  <a:lnTo>
                    <a:pt x="99" y="40"/>
                  </a:lnTo>
                  <a:lnTo>
                    <a:pt x="92" y="38"/>
                  </a:lnTo>
                  <a:lnTo>
                    <a:pt x="87" y="38"/>
                  </a:lnTo>
                  <a:lnTo>
                    <a:pt x="80" y="36"/>
                  </a:lnTo>
                  <a:lnTo>
                    <a:pt x="76" y="35"/>
                  </a:lnTo>
                  <a:lnTo>
                    <a:pt x="70" y="36"/>
                  </a:lnTo>
                  <a:lnTo>
                    <a:pt x="64" y="38"/>
                  </a:lnTo>
                  <a:lnTo>
                    <a:pt x="61" y="43"/>
                  </a:lnTo>
                  <a:lnTo>
                    <a:pt x="60" y="48"/>
                  </a:lnTo>
                  <a:lnTo>
                    <a:pt x="64" y="52"/>
                  </a:lnTo>
                  <a:lnTo>
                    <a:pt x="70" y="56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4" y="62"/>
                  </a:lnTo>
                  <a:lnTo>
                    <a:pt x="92" y="62"/>
                  </a:lnTo>
                  <a:lnTo>
                    <a:pt x="96" y="62"/>
                  </a:lnTo>
                  <a:lnTo>
                    <a:pt x="103" y="62"/>
                  </a:lnTo>
                  <a:lnTo>
                    <a:pt x="108" y="62"/>
                  </a:lnTo>
                  <a:lnTo>
                    <a:pt x="113" y="64"/>
                  </a:lnTo>
                  <a:lnTo>
                    <a:pt x="118" y="68"/>
                  </a:lnTo>
                  <a:lnTo>
                    <a:pt x="122" y="71"/>
                  </a:lnTo>
                  <a:lnTo>
                    <a:pt x="128" y="74"/>
                  </a:lnTo>
                  <a:lnTo>
                    <a:pt x="129" y="78"/>
                  </a:lnTo>
                  <a:lnTo>
                    <a:pt x="132" y="84"/>
                  </a:lnTo>
                  <a:lnTo>
                    <a:pt x="132" y="88"/>
                  </a:lnTo>
                  <a:lnTo>
                    <a:pt x="129" y="94"/>
                  </a:lnTo>
                  <a:lnTo>
                    <a:pt x="128" y="100"/>
                  </a:lnTo>
                  <a:lnTo>
                    <a:pt x="122" y="103"/>
                  </a:lnTo>
                  <a:lnTo>
                    <a:pt x="116" y="104"/>
                  </a:lnTo>
                  <a:lnTo>
                    <a:pt x="111" y="104"/>
                  </a:lnTo>
                  <a:lnTo>
                    <a:pt x="106" y="104"/>
                  </a:lnTo>
                  <a:lnTo>
                    <a:pt x="100" y="104"/>
                  </a:lnTo>
                  <a:lnTo>
                    <a:pt x="95" y="103"/>
                  </a:lnTo>
                  <a:lnTo>
                    <a:pt x="89" y="100"/>
                  </a:lnTo>
                  <a:lnTo>
                    <a:pt x="84" y="100"/>
                  </a:lnTo>
                  <a:lnTo>
                    <a:pt x="77" y="97"/>
                  </a:lnTo>
                  <a:lnTo>
                    <a:pt x="73" y="97"/>
                  </a:lnTo>
                  <a:lnTo>
                    <a:pt x="67" y="94"/>
                  </a:lnTo>
                  <a:lnTo>
                    <a:pt x="60" y="93"/>
                  </a:lnTo>
                  <a:lnTo>
                    <a:pt x="55" y="91"/>
                  </a:lnTo>
                  <a:lnTo>
                    <a:pt x="48" y="91"/>
                  </a:lnTo>
                  <a:lnTo>
                    <a:pt x="44" y="91"/>
                  </a:lnTo>
                  <a:lnTo>
                    <a:pt x="45" y="97"/>
                  </a:lnTo>
                  <a:lnTo>
                    <a:pt x="50" y="101"/>
                  </a:lnTo>
                  <a:lnTo>
                    <a:pt x="55" y="103"/>
                  </a:lnTo>
                  <a:lnTo>
                    <a:pt x="60" y="106"/>
                  </a:lnTo>
                  <a:lnTo>
                    <a:pt x="64" y="107"/>
                  </a:lnTo>
                  <a:lnTo>
                    <a:pt x="70" y="109"/>
                  </a:lnTo>
                  <a:lnTo>
                    <a:pt x="74" y="112"/>
                  </a:lnTo>
                  <a:lnTo>
                    <a:pt x="79" y="115"/>
                  </a:lnTo>
                  <a:lnTo>
                    <a:pt x="84" y="118"/>
                  </a:lnTo>
                  <a:lnTo>
                    <a:pt x="87" y="122"/>
                  </a:lnTo>
                  <a:lnTo>
                    <a:pt x="92" y="124"/>
                  </a:lnTo>
                  <a:lnTo>
                    <a:pt x="99" y="135"/>
                  </a:lnTo>
                  <a:lnTo>
                    <a:pt x="100" y="144"/>
                  </a:lnTo>
                  <a:lnTo>
                    <a:pt x="96" y="148"/>
                  </a:lnTo>
                  <a:lnTo>
                    <a:pt x="95" y="154"/>
                  </a:lnTo>
                  <a:lnTo>
                    <a:pt x="90" y="154"/>
                  </a:lnTo>
                  <a:lnTo>
                    <a:pt x="86" y="154"/>
                  </a:lnTo>
                  <a:lnTo>
                    <a:pt x="80" y="155"/>
                  </a:lnTo>
                  <a:lnTo>
                    <a:pt x="76" y="155"/>
                  </a:lnTo>
                  <a:lnTo>
                    <a:pt x="71" y="155"/>
                  </a:lnTo>
                  <a:lnTo>
                    <a:pt x="64" y="154"/>
                  </a:lnTo>
                  <a:lnTo>
                    <a:pt x="58" y="154"/>
                  </a:lnTo>
                  <a:lnTo>
                    <a:pt x="53" y="151"/>
                  </a:lnTo>
                  <a:lnTo>
                    <a:pt x="48" y="150"/>
                  </a:lnTo>
                  <a:lnTo>
                    <a:pt x="42" y="147"/>
                  </a:lnTo>
                  <a:lnTo>
                    <a:pt x="37" y="144"/>
                  </a:lnTo>
                  <a:lnTo>
                    <a:pt x="32" y="141"/>
                  </a:lnTo>
                  <a:lnTo>
                    <a:pt x="28" y="137"/>
                  </a:lnTo>
                  <a:lnTo>
                    <a:pt x="25" y="132"/>
                  </a:lnTo>
                  <a:lnTo>
                    <a:pt x="22" y="128"/>
                  </a:lnTo>
                  <a:lnTo>
                    <a:pt x="18" y="122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9" y="107"/>
                  </a:lnTo>
                  <a:lnTo>
                    <a:pt x="9" y="103"/>
                  </a:lnTo>
                  <a:lnTo>
                    <a:pt x="6" y="98"/>
                  </a:lnTo>
                  <a:lnTo>
                    <a:pt x="6" y="93"/>
                  </a:lnTo>
                  <a:lnTo>
                    <a:pt x="5" y="88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3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49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11720" y="5894280"/>
              <a:ext cx="104760" cy="12852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132" y="60"/>
                  </a:moveTo>
                  <a:lnTo>
                    <a:pt x="101" y="42"/>
                  </a:lnTo>
                  <a:lnTo>
                    <a:pt x="98" y="38"/>
                  </a:lnTo>
                  <a:lnTo>
                    <a:pt x="94" y="34"/>
                  </a:lnTo>
                  <a:lnTo>
                    <a:pt x="91" y="29"/>
                  </a:lnTo>
                  <a:lnTo>
                    <a:pt x="87" y="25"/>
                  </a:lnTo>
                  <a:lnTo>
                    <a:pt x="85" y="19"/>
                  </a:lnTo>
                  <a:lnTo>
                    <a:pt x="79" y="15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6" y="5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40" y="5"/>
                  </a:lnTo>
                  <a:lnTo>
                    <a:pt x="36" y="9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30" y="23"/>
                  </a:lnTo>
                  <a:lnTo>
                    <a:pt x="33" y="28"/>
                  </a:lnTo>
                  <a:lnTo>
                    <a:pt x="34" y="32"/>
                  </a:lnTo>
                  <a:lnTo>
                    <a:pt x="37" y="38"/>
                  </a:lnTo>
                  <a:lnTo>
                    <a:pt x="43" y="39"/>
                  </a:lnTo>
                  <a:lnTo>
                    <a:pt x="49" y="42"/>
                  </a:lnTo>
                  <a:lnTo>
                    <a:pt x="53" y="45"/>
                  </a:lnTo>
                  <a:lnTo>
                    <a:pt x="58" y="51"/>
                  </a:lnTo>
                  <a:lnTo>
                    <a:pt x="63" y="55"/>
                  </a:lnTo>
                  <a:lnTo>
                    <a:pt x="66" y="60"/>
                  </a:lnTo>
                  <a:lnTo>
                    <a:pt x="66" y="65"/>
                  </a:lnTo>
                  <a:lnTo>
                    <a:pt x="62" y="67"/>
                  </a:lnTo>
                  <a:lnTo>
                    <a:pt x="56" y="68"/>
                  </a:lnTo>
                  <a:lnTo>
                    <a:pt x="50" y="67"/>
                  </a:lnTo>
                  <a:lnTo>
                    <a:pt x="45" y="65"/>
                  </a:lnTo>
                  <a:lnTo>
                    <a:pt x="40" y="63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26" y="63"/>
                  </a:lnTo>
                  <a:lnTo>
                    <a:pt x="21" y="63"/>
                  </a:lnTo>
                  <a:lnTo>
                    <a:pt x="14" y="65"/>
                  </a:lnTo>
                  <a:lnTo>
                    <a:pt x="8" y="67"/>
                  </a:lnTo>
                  <a:lnTo>
                    <a:pt x="3" y="70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5" y="96"/>
                  </a:lnTo>
                  <a:lnTo>
                    <a:pt x="10" y="97"/>
                  </a:lnTo>
                  <a:lnTo>
                    <a:pt x="14" y="99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29" y="103"/>
                  </a:lnTo>
                  <a:lnTo>
                    <a:pt x="34" y="106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9" y="109"/>
                  </a:lnTo>
                  <a:lnTo>
                    <a:pt x="53" y="110"/>
                  </a:lnTo>
                  <a:lnTo>
                    <a:pt x="58" y="112"/>
                  </a:lnTo>
                  <a:lnTo>
                    <a:pt x="63" y="113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59" y="126"/>
                  </a:lnTo>
                  <a:lnTo>
                    <a:pt x="53" y="128"/>
                  </a:lnTo>
                  <a:lnTo>
                    <a:pt x="46" y="131"/>
                  </a:lnTo>
                  <a:lnTo>
                    <a:pt x="42" y="131"/>
                  </a:lnTo>
                  <a:lnTo>
                    <a:pt x="37" y="132"/>
                  </a:lnTo>
                  <a:lnTo>
                    <a:pt x="30" y="132"/>
                  </a:lnTo>
                  <a:lnTo>
                    <a:pt x="24" y="134"/>
                  </a:lnTo>
                  <a:lnTo>
                    <a:pt x="20" y="139"/>
                  </a:lnTo>
                  <a:lnTo>
                    <a:pt x="14" y="141"/>
                  </a:lnTo>
                  <a:lnTo>
                    <a:pt x="11" y="145"/>
                  </a:lnTo>
                  <a:lnTo>
                    <a:pt x="7" y="151"/>
                  </a:lnTo>
                  <a:lnTo>
                    <a:pt x="5" y="155"/>
                  </a:lnTo>
                  <a:lnTo>
                    <a:pt x="5" y="160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3"/>
                  </a:lnTo>
                  <a:lnTo>
                    <a:pt x="21" y="176"/>
                  </a:lnTo>
                  <a:lnTo>
                    <a:pt x="26" y="180"/>
                  </a:lnTo>
                  <a:lnTo>
                    <a:pt x="30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6" y="182"/>
                  </a:lnTo>
                  <a:lnTo>
                    <a:pt x="50" y="177"/>
                  </a:lnTo>
                  <a:lnTo>
                    <a:pt x="55" y="177"/>
                  </a:lnTo>
                  <a:lnTo>
                    <a:pt x="59" y="176"/>
                  </a:lnTo>
                  <a:lnTo>
                    <a:pt x="66" y="173"/>
                  </a:lnTo>
                  <a:lnTo>
                    <a:pt x="72" y="170"/>
                  </a:lnTo>
                  <a:lnTo>
                    <a:pt x="78" y="168"/>
                  </a:lnTo>
                  <a:lnTo>
                    <a:pt x="82" y="165"/>
                  </a:lnTo>
                  <a:lnTo>
                    <a:pt x="87" y="161"/>
                  </a:lnTo>
                  <a:lnTo>
                    <a:pt x="91" y="157"/>
                  </a:lnTo>
                  <a:lnTo>
                    <a:pt x="95" y="154"/>
                  </a:lnTo>
                  <a:lnTo>
                    <a:pt x="98" y="148"/>
                  </a:lnTo>
                  <a:lnTo>
                    <a:pt x="104" y="145"/>
                  </a:lnTo>
                  <a:lnTo>
                    <a:pt x="108" y="141"/>
                  </a:lnTo>
                  <a:lnTo>
                    <a:pt x="113" y="139"/>
                  </a:lnTo>
                  <a:lnTo>
                    <a:pt x="116" y="134"/>
                  </a:lnTo>
                  <a:lnTo>
                    <a:pt x="117" y="129"/>
                  </a:lnTo>
                  <a:lnTo>
                    <a:pt x="129" y="103"/>
                  </a:lnTo>
                  <a:lnTo>
                    <a:pt x="129" y="74"/>
                  </a:lnTo>
                  <a:lnTo>
                    <a:pt x="13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875360" y="5619960"/>
              <a:ext cx="168120" cy="244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12" y="64"/>
                  </a:moveTo>
                  <a:lnTo>
                    <a:pt x="26" y="23"/>
                  </a:lnTo>
                  <a:lnTo>
                    <a:pt x="48" y="4"/>
                  </a:lnTo>
                  <a:lnTo>
                    <a:pt x="71" y="0"/>
                  </a:lnTo>
                  <a:lnTo>
                    <a:pt x="89" y="4"/>
                  </a:lnTo>
                  <a:lnTo>
                    <a:pt x="99" y="23"/>
                  </a:lnTo>
                  <a:lnTo>
                    <a:pt x="95" y="56"/>
                  </a:lnTo>
                  <a:lnTo>
                    <a:pt x="84" y="85"/>
                  </a:lnTo>
                  <a:lnTo>
                    <a:pt x="70" y="114"/>
                  </a:lnTo>
                  <a:lnTo>
                    <a:pt x="53" y="143"/>
                  </a:lnTo>
                  <a:lnTo>
                    <a:pt x="48" y="174"/>
                  </a:lnTo>
                  <a:lnTo>
                    <a:pt x="47" y="201"/>
                  </a:lnTo>
                  <a:lnTo>
                    <a:pt x="53" y="229"/>
                  </a:lnTo>
                  <a:lnTo>
                    <a:pt x="66" y="243"/>
                  </a:lnTo>
                  <a:lnTo>
                    <a:pt x="86" y="248"/>
                  </a:lnTo>
                  <a:lnTo>
                    <a:pt x="90" y="251"/>
                  </a:lnTo>
                  <a:lnTo>
                    <a:pt x="95" y="249"/>
                  </a:lnTo>
                  <a:lnTo>
                    <a:pt x="100" y="245"/>
                  </a:lnTo>
                  <a:lnTo>
                    <a:pt x="105" y="242"/>
                  </a:lnTo>
                  <a:lnTo>
                    <a:pt x="106" y="236"/>
                  </a:lnTo>
                  <a:lnTo>
                    <a:pt x="106" y="230"/>
                  </a:lnTo>
                  <a:lnTo>
                    <a:pt x="106" y="226"/>
                  </a:lnTo>
                  <a:lnTo>
                    <a:pt x="108" y="220"/>
                  </a:lnTo>
                  <a:lnTo>
                    <a:pt x="108" y="216"/>
                  </a:lnTo>
                  <a:lnTo>
                    <a:pt x="108" y="210"/>
                  </a:lnTo>
                  <a:lnTo>
                    <a:pt x="106" y="204"/>
                  </a:lnTo>
                  <a:lnTo>
                    <a:pt x="106" y="198"/>
                  </a:lnTo>
                  <a:lnTo>
                    <a:pt x="108" y="193"/>
                  </a:lnTo>
                  <a:lnTo>
                    <a:pt x="109" y="188"/>
                  </a:lnTo>
                  <a:lnTo>
                    <a:pt x="115" y="184"/>
                  </a:lnTo>
                  <a:lnTo>
                    <a:pt x="118" y="178"/>
                  </a:lnTo>
                  <a:lnTo>
                    <a:pt x="121" y="174"/>
                  </a:lnTo>
                  <a:lnTo>
                    <a:pt x="125" y="171"/>
                  </a:lnTo>
                  <a:lnTo>
                    <a:pt x="129" y="165"/>
                  </a:lnTo>
                  <a:lnTo>
                    <a:pt x="134" y="161"/>
                  </a:lnTo>
                  <a:lnTo>
                    <a:pt x="138" y="158"/>
                  </a:lnTo>
                  <a:lnTo>
                    <a:pt x="144" y="156"/>
                  </a:lnTo>
                  <a:lnTo>
                    <a:pt x="150" y="155"/>
                  </a:lnTo>
                  <a:lnTo>
                    <a:pt x="154" y="155"/>
                  </a:lnTo>
                  <a:lnTo>
                    <a:pt x="160" y="158"/>
                  </a:lnTo>
                  <a:lnTo>
                    <a:pt x="161" y="162"/>
                  </a:lnTo>
                  <a:lnTo>
                    <a:pt x="163" y="167"/>
                  </a:lnTo>
                  <a:lnTo>
                    <a:pt x="161" y="172"/>
                  </a:lnTo>
                  <a:lnTo>
                    <a:pt x="160" y="178"/>
                  </a:lnTo>
                  <a:lnTo>
                    <a:pt x="158" y="184"/>
                  </a:lnTo>
                  <a:lnTo>
                    <a:pt x="157" y="188"/>
                  </a:lnTo>
                  <a:lnTo>
                    <a:pt x="154" y="193"/>
                  </a:lnTo>
                  <a:lnTo>
                    <a:pt x="150" y="197"/>
                  </a:lnTo>
                  <a:lnTo>
                    <a:pt x="145" y="201"/>
                  </a:lnTo>
                  <a:lnTo>
                    <a:pt x="142" y="206"/>
                  </a:lnTo>
                  <a:lnTo>
                    <a:pt x="140" y="210"/>
                  </a:lnTo>
                  <a:lnTo>
                    <a:pt x="137" y="216"/>
                  </a:lnTo>
                  <a:lnTo>
                    <a:pt x="137" y="220"/>
                  </a:lnTo>
                  <a:lnTo>
                    <a:pt x="137" y="226"/>
                  </a:lnTo>
                  <a:lnTo>
                    <a:pt x="142" y="229"/>
                  </a:lnTo>
                  <a:lnTo>
                    <a:pt x="147" y="227"/>
                  </a:lnTo>
                  <a:lnTo>
                    <a:pt x="153" y="223"/>
                  </a:lnTo>
                  <a:lnTo>
                    <a:pt x="160" y="219"/>
                  </a:lnTo>
                  <a:lnTo>
                    <a:pt x="163" y="214"/>
                  </a:lnTo>
                  <a:lnTo>
                    <a:pt x="167" y="210"/>
                  </a:lnTo>
                  <a:lnTo>
                    <a:pt x="173" y="207"/>
                  </a:lnTo>
                  <a:lnTo>
                    <a:pt x="179" y="204"/>
                  </a:lnTo>
                  <a:lnTo>
                    <a:pt x="186" y="204"/>
                  </a:lnTo>
                  <a:lnTo>
                    <a:pt x="190" y="204"/>
                  </a:lnTo>
                  <a:lnTo>
                    <a:pt x="196" y="206"/>
                  </a:lnTo>
                  <a:lnTo>
                    <a:pt x="202" y="206"/>
                  </a:lnTo>
                  <a:lnTo>
                    <a:pt x="205" y="210"/>
                  </a:lnTo>
                  <a:lnTo>
                    <a:pt x="208" y="216"/>
                  </a:lnTo>
                  <a:lnTo>
                    <a:pt x="211" y="222"/>
                  </a:lnTo>
                  <a:lnTo>
                    <a:pt x="211" y="227"/>
                  </a:lnTo>
                  <a:lnTo>
                    <a:pt x="211" y="232"/>
                  </a:lnTo>
                  <a:lnTo>
                    <a:pt x="211" y="238"/>
                  </a:lnTo>
                  <a:lnTo>
                    <a:pt x="211" y="243"/>
                  </a:lnTo>
                  <a:lnTo>
                    <a:pt x="206" y="248"/>
                  </a:lnTo>
                  <a:lnTo>
                    <a:pt x="205" y="252"/>
                  </a:lnTo>
                  <a:lnTo>
                    <a:pt x="199" y="258"/>
                  </a:lnTo>
                  <a:lnTo>
                    <a:pt x="195" y="262"/>
                  </a:lnTo>
                  <a:lnTo>
                    <a:pt x="189" y="265"/>
                  </a:lnTo>
                  <a:lnTo>
                    <a:pt x="182" y="267"/>
                  </a:lnTo>
                  <a:lnTo>
                    <a:pt x="176" y="269"/>
                  </a:lnTo>
                  <a:lnTo>
                    <a:pt x="170" y="271"/>
                  </a:lnTo>
                  <a:lnTo>
                    <a:pt x="164" y="271"/>
                  </a:lnTo>
                  <a:lnTo>
                    <a:pt x="157" y="271"/>
                  </a:lnTo>
                  <a:lnTo>
                    <a:pt x="151" y="271"/>
                  </a:lnTo>
                  <a:lnTo>
                    <a:pt x="147" y="271"/>
                  </a:lnTo>
                  <a:lnTo>
                    <a:pt x="142" y="272"/>
                  </a:lnTo>
                  <a:lnTo>
                    <a:pt x="138" y="277"/>
                  </a:lnTo>
                  <a:lnTo>
                    <a:pt x="138" y="281"/>
                  </a:lnTo>
                  <a:lnTo>
                    <a:pt x="138" y="287"/>
                  </a:lnTo>
                  <a:lnTo>
                    <a:pt x="140" y="293"/>
                  </a:lnTo>
                  <a:lnTo>
                    <a:pt x="147" y="297"/>
                  </a:lnTo>
                  <a:lnTo>
                    <a:pt x="151" y="301"/>
                  </a:lnTo>
                  <a:lnTo>
                    <a:pt x="157" y="303"/>
                  </a:lnTo>
                  <a:lnTo>
                    <a:pt x="163" y="306"/>
                  </a:lnTo>
                  <a:lnTo>
                    <a:pt x="167" y="309"/>
                  </a:lnTo>
                  <a:lnTo>
                    <a:pt x="171" y="314"/>
                  </a:lnTo>
                  <a:lnTo>
                    <a:pt x="174" y="320"/>
                  </a:lnTo>
                  <a:lnTo>
                    <a:pt x="176" y="326"/>
                  </a:lnTo>
                  <a:lnTo>
                    <a:pt x="176" y="330"/>
                  </a:lnTo>
                  <a:lnTo>
                    <a:pt x="176" y="335"/>
                  </a:lnTo>
                  <a:lnTo>
                    <a:pt x="174" y="340"/>
                  </a:lnTo>
                  <a:lnTo>
                    <a:pt x="170" y="343"/>
                  </a:lnTo>
                  <a:lnTo>
                    <a:pt x="163" y="346"/>
                  </a:lnTo>
                  <a:lnTo>
                    <a:pt x="158" y="346"/>
                  </a:lnTo>
                  <a:lnTo>
                    <a:pt x="153" y="346"/>
                  </a:lnTo>
                  <a:lnTo>
                    <a:pt x="148" y="346"/>
                  </a:lnTo>
                  <a:lnTo>
                    <a:pt x="144" y="346"/>
                  </a:lnTo>
                  <a:lnTo>
                    <a:pt x="135" y="345"/>
                  </a:lnTo>
                  <a:lnTo>
                    <a:pt x="131" y="345"/>
                  </a:lnTo>
                  <a:lnTo>
                    <a:pt x="125" y="342"/>
                  </a:lnTo>
                  <a:lnTo>
                    <a:pt x="119" y="336"/>
                  </a:lnTo>
                  <a:lnTo>
                    <a:pt x="118" y="332"/>
                  </a:lnTo>
                  <a:lnTo>
                    <a:pt x="115" y="327"/>
                  </a:lnTo>
                  <a:lnTo>
                    <a:pt x="108" y="322"/>
                  </a:lnTo>
                  <a:lnTo>
                    <a:pt x="108" y="317"/>
                  </a:lnTo>
                  <a:lnTo>
                    <a:pt x="105" y="313"/>
                  </a:lnTo>
                  <a:lnTo>
                    <a:pt x="102" y="307"/>
                  </a:lnTo>
                  <a:lnTo>
                    <a:pt x="100" y="303"/>
                  </a:lnTo>
                  <a:lnTo>
                    <a:pt x="95" y="300"/>
                  </a:lnTo>
                  <a:lnTo>
                    <a:pt x="92" y="294"/>
                  </a:lnTo>
                  <a:lnTo>
                    <a:pt x="70" y="287"/>
                  </a:lnTo>
                  <a:lnTo>
                    <a:pt x="38" y="264"/>
                  </a:lnTo>
                  <a:lnTo>
                    <a:pt x="18" y="238"/>
                  </a:lnTo>
                  <a:lnTo>
                    <a:pt x="5" y="206"/>
                  </a:lnTo>
                  <a:lnTo>
                    <a:pt x="0" y="169"/>
                  </a:lnTo>
                  <a:lnTo>
                    <a:pt x="0" y="123"/>
                  </a:lnTo>
                  <a:lnTo>
                    <a:pt x="6" y="87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51280" y="5706360"/>
              <a:ext cx="93960" cy="19476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0" y="57"/>
                  </a:moveTo>
                  <a:lnTo>
                    <a:pt x="25" y="40"/>
                  </a:lnTo>
                  <a:lnTo>
                    <a:pt x="42" y="25"/>
                  </a:lnTo>
                  <a:lnTo>
                    <a:pt x="50" y="11"/>
                  </a:lnTo>
                  <a:lnTo>
                    <a:pt x="57" y="0"/>
                  </a:lnTo>
                  <a:lnTo>
                    <a:pt x="117" y="6"/>
                  </a:lnTo>
                  <a:lnTo>
                    <a:pt x="109" y="277"/>
                  </a:lnTo>
                  <a:lnTo>
                    <a:pt x="33" y="271"/>
                  </a:lnTo>
                  <a:lnTo>
                    <a:pt x="41" y="93"/>
                  </a:lnTo>
                  <a:lnTo>
                    <a:pt x="20" y="105"/>
                  </a:lnTo>
                  <a:lnTo>
                    <a:pt x="7" y="11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13360" y="5755680"/>
              <a:ext cx="179280" cy="197640"/>
            </a:xfrm>
            <a:custGeom>
              <a:avLst/>
              <a:gdLst/>
              <a:ahLst/>
              <a:rect l="l" t="t" r="r" b="b"/>
              <a:pathLst>
                <a:path w="225" h="281">
                  <a:moveTo>
                    <a:pt x="2" y="71"/>
                  </a:moveTo>
                  <a:lnTo>
                    <a:pt x="76" y="81"/>
                  </a:lnTo>
                  <a:lnTo>
                    <a:pt x="77" y="68"/>
                  </a:lnTo>
                  <a:lnTo>
                    <a:pt x="87" y="54"/>
                  </a:lnTo>
                  <a:lnTo>
                    <a:pt x="96" y="49"/>
                  </a:lnTo>
                  <a:lnTo>
                    <a:pt x="110" y="45"/>
                  </a:lnTo>
                  <a:lnTo>
                    <a:pt x="125" y="48"/>
                  </a:lnTo>
                  <a:lnTo>
                    <a:pt x="132" y="58"/>
                  </a:lnTo>
                  <a:lnTo>
                    <a:pt x="135" y="73"/>
                  </a:lnTo>
                  <a:lnTo>
                    <a:pt x="132" y="84"/>
                  </a:lnTo>
                  <a:lnTo>
                    <a:pt x="128" y="94"/>
                  </a:lnTo>
                  <a:lnTo>
                    <a:pt x="116" y="106"/>
                  </a:lnTo>
                  <a:lnTo>
                    <a:pt x="103" y="107"/>
                  </a:lnTo>
                  <a:lnTo>
                    <a:pt x="92" y="107"/>
                  </a:lnTo>
                  <a:lnTo>
                    <a:pt x="86" y="160"/>
                  </a:lnTo>
                  <a:lnTo>
                    <a:pt x="103" y="154"/>
                  </a:lnTo>
                  <a:lnTo>
                    <a:pt x="129" y="157"/>
                  </a:lnTo>
                  <a:lnTo>
                    <a:pt x="142" y="168"/>
                  </a:lnTo>
                  <a:lnTo>
                    <a:pt x="150" y="183"/>
                  </a:lnTo>
                  <a:lnTo>
                    <a:pt x="151" y="200"/>
                  </a:lnTo>
                  <a:lnTo>
                    <a:pt x="147" y="216"/>
                  </a:lnTo>
                  <a:lnTo>
                    <a:pt x="135" y="228"/>
                  </a:lnTo>
                  <a:lnTo>
                    <a:pt x="122" y="235"/>
                  </a:lnTo>
                  <a:lnTo>
                    <a:pt x="103" y="232"/>
                  </a:lnTo>
                  <a:lnTo>
                    <a:pt x="87" y="228"/>
                  </a:lnTo>
                  <a:lnTo>
                    <a:pt x="79" y="215"/>
                  </a:lnTo>
                  <a:lnTo>
                    <a:pt x="74" y="203"/>
                  </a:lnTo>
                  <a:lnTo>
                    <a:pt x="73" y="196"/>
                  </a:lnTo>
                  <a:lnTo>
                    <a:pt x="0" y="206"/>
                  </a:lnTo>
                  <a:lnTo>
                    <a:pt x="13" y="236"/>
                  </a:lnTo>
                  <a:lnTo>
                    <a:pt x="29" y="254"/>
                  </a:lnTo>
                  <a:lnTo>
                    <a:pt x="50" y="270"/>
                  </a:lnTo>
                  <a:lnTo>
                    <a:pt x="71" y="277"/>
                  </a:lnTo>
                  <a:lnTo>
                    <a:pt x="105" y="281"/>
                  </a:lnTo>
                  <a:lnTo>
                    <a:pt x="132" y="280"/>
                  </a:lnTo>
                  <a:lnTo>
                    <a:pt x="161" y="274"/>
                  </a:lnTo>
                  <a:lnTo>
                    <a:pt x="183" y="265"/>
                  </a:lnTo>
                  <a:lnTo>
                    <a:pt x="202" y="252"/>
                  </a:lnTo>
                  <a:lnTo>
                    <a:pt x="216" y="229"/>
                  </a:lnTo>
                  <a:lnTo>
                    <a:pt x="225" y="207"/>
                  </a:lnTo>
                  <a:lnTo>
                    <a:pt x="222" y="181"/>
                  </a:lnTo>
                  <a:lnTo>
                    <a:pt x="219" y="165"/>
                  </a:lnTo>
                  <a:lnTo>
                    <a:pt x="212" y="152"/>
                  </a:lnTo>
                  <a:lnTo>
                    <a:pt x="203" y="141"/>
                  </a:lnTo>
                  <a:lnTo>
                    <a:pt x="189" y="132"/>
                  </a:lnTo>
                  <a:lnTo>
                    <a:pt x="167" y="128"/>
                  </a:lnTo>
                  <a:lnTo>
                    <a:pt x="184" y="118"/>
                  </a:lnTo>
                  <a:lnTo>
                    <a:pt x="196" y="103"/>
                  </a:lnTo>
                  <a:lnTo>
                    <a:pt x="205" y="87"/>
                  </a:lnTo>
                  <a:lnTo>
                    <a:pt x="206" y="67"/>
                  </a:lnTo>
                  <a:lnTo>
                    <a:pt x="203" y="44"/>
                  </a:lnTo>
                  <a:lnTo>
                    <a:pt x="192" y="28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2" y="3"/>
                  </a:lnTo>
                  <a:lnTo>
                    <a:pt x="113" y="0"/>
                  </a:lnTo>
                  <a:lnTo>
                    <a:pt x="77" y="2"/>
                  </a:lnTo>
                  <a:lnTo>
                    <a:pt x="48" y="10"/>
                  </a:lnTo>
                  <a:lnTo>
                    <a:pt x="31" y="23"/>
                  </a:lnTo>
                  <a:lnTo>
                    <a:pt x="19" y="39"/>
                  </a:lnTo>
                  <a:lnTo>
                    <a:pt x="10" y="55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43480" y="5676480"/>
              <a:ext cx="182520" cy="195120"/>
            </a:xfrm>
            <a:custGeom>
              <a:avLst/>
              <a:gdLst/>
              <a:ahLst/>
              <a:rect l="l" t="t" r="r" b="b"/>
              <a:pathLst>
                <a:path w="229" h="277">
                  <a:moveTo>
                    <a:pt x="5" y="86"/>
                  </a:moveTo>
                  <a:lnTo>
                    <a:pt x="82" y="90"/>
                  </a:lnTo>
                  <a:lnTo>
                    <a:pt x="85" y="71"/>
                  </a:lnTo>
                  <a:lnTo>
                    <a:pt x="92" y="61"/>
                  </a:lnTo>
                  <a:lnTo>
                    <a:pt x="107" y="51"/>
                  </a:lnTo>
                  <a:lnTo>
                    <a:pt x="124" y="51"/>
                  </a:lnTo>
                  <a:lnTo>
                    <a:pt x="139" y="57"/>
                  </a:lnTo>
                  <a:lnTo>
                    <a:pt x="150" y="65"/>
                  </a:lnTo>
                  <a:lnTo>
                    <a:pt x="152" y="80"/>
                  </a:lnTo>
                  <a:lnTo>
                    <a:pt x="152" y="93"/>
                  </a:lnTo>
                  <a:lnTo>
                    <a:pt x="143" y="104"/>
                  </a:lnTo>
                  <a:lnTo>
                    <a:pt x="130" y="115"/>
                  </a:lnTo>
                  <a:lnTo>
                    <a:pt x="114" y="129"/>
                  </a:lnTo>
                  <a:lnTo>
                    <a:pt x="92" y="148"/>
                  </a:lnTo>
                  <a:lnTo>
                    <a:pt x="60" y="171"/>
                  </a:lnTo>
                  <a:lnTo>
                    <a:pt x="40" y="194"/>
                  </a:lnTo>
                  <a:lnTo>
                    <a:pt x="23" y="210"/>
                  </a:lnTo>
                  <a:lnTo>
                    <a:pt x="14" y="233"/>
                  </a:lnTo>
                  <a:lnTo>
                    <a:pt x="7" y="252"/>
                  </a:lnTo>
                  <a:lnTo>
                    <a:pt x="0" y="277"/>
                  </a:lnTo>
                  <a:lnTo>
                    <a:pt x="227" y="277"/>
                  </a:lnTo>
                  <a:lnTo>
                    <a:pt x="229" y="215"/>
                  </a:lnTo>
                  <a:lnTo>
                    <a:pt x="107" y="216"/>
                  </a:lnTo>
                  <a:lnTo>
                    <a:pt x="118" y="204"/>
                  </a:lnTo>
                  <a:lnTo>
                    <a:pt x="145" y="186"/>
                  </a:lnTo>
                  <a:lnTo>
                    <a:pt x="168" y="170"/>
                  </a:lnTo>
                  <a:lnTo>
                    <a:pt x="192" y="152"/>
                  </a:lnTo>
                  <a:lnTo>
                    <a:pt x="208" y="133"/>
                  </a:lnTo>
                  <a:lnTo>
                    <a:pt x="217" y="115"/>
                  </a:lnTo>
                  <a:lnTo>
                    <a:pt x="224" y="97"/>
                  </a:lnTo>
                  <a:lnTo>
                    <a:pt x="226" y="80"/>
                  </a:lnTo>
                  <a:lnTo>
                    <a:pt x="226" y="65"/>
                  </a:lnTo>
                  <a:lnTo>
                    <a:pt x="221" y="48"/>
                  </a:lnTo>
                  <a:lnTo>
                    <a:pt x="210" y="33"/>
                  </a:lnTo>
                  <a:lnTo>
                    <a:pt x="197" y="22"/>
                  </a:lnTo>
                  <a:lnTo>
                    <a:pt x="176" y="12"/>
                  </a:lnTo>
                  <a:lnTo>
                    <a:pt x="150" y="4"/>
                  </a:lnTo>
                  <a:lnTo>
                    <a:pt x="118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7" y="13"/>
                  </a:lnTo>
                  <a:lnTo>
                    <a:pt x="33" y="26"/>
                  </a:lnTo>
                  <a:lnTo>
                    <a:pt x="21" y="41"/>
                  </a:lnTo>
                  <a:lnTo>
                    <a:pt x="13" y="61"/>
                  </a:lnTo>
                  <a:lnTo>
                    <a:pt x="11" y="74"/>
                  </a:lnTo>
                  <a:lnTo>
                    <a:pt x="5" y="8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0" y="2743200"/>
            <a:ext cx="9093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Push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mprove information flow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oactive diffusion of anno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mmunities of inte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C01-CF41-430B-B868-B2392B1521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query on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228600" y="5731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57B-B765-4A76-811D-BC5E9C165A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resenting and documenting results with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1295280" y="719280"/>
            <a:ext cx="5999400" cy="537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908-8E5B-41EC-8F6F-32B88905ED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6A4-B1BA-45AB-8E4B-67284CD970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98F-8467-4F68-A322-2C8395E718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-303120" y="-22860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479-98F0-4F3F-BE27-0B918615E0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ositioning and point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" y="31752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ynamically integrating heterogeneous sources of inform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nifold [Kirk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1995] ; InfoSleuth [Nodin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9] ; InfoMaster [Genesereth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7] ; Carnot [Collet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1] ; RETSINA [Decker and Sycara, 1997] ; SIMS [Arens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6] ; OBSERVER [Mena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6]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igital libraries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RE [Odubiyi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7] UMDL [Weinstein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1999]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llaborative gathering, filtering and profiling: CASMIR [Berney and Ferneley, 1999]; Ricochet [Bothorel and Thomas, 1999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bile access to memory and domain model for classification: KnowWeb [Dzbor </a:t>
            </a:r>
            <a:r>
              <a:rPr b="0" i="1" lang="en-GB" sz="26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axonomy, profiling and push: RICA [Aguirre </a:t>
            </a:r>
            <a:r>
              <a:rPr b="0" i="1" lang="en-GB" sz="26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and corporate memory: FRODO [Van Elst and Abecker, 2001]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8E1-7EC1-4308-908A-11D96BC75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-68400" y="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621-EB57-4C9A-876C-77235D92D0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Profiles for ontology browsing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5898960" cy="53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484-ACE0-4C8B-996B-1D942A1DB8C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Shopping metaphor : Using a 'notion cart' for query building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7273800" cy="354672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848880" y="5378400"/>
            <a:ext cx="57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[CORESE specified by A. Giboin and implemented by J. Guillaum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BCD-E9EA-4EE5-992A-9D5657C6B97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plex interfac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7240680" cy="543096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11400" y="6313320"/>
            <a:ext cx="46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[CORESE specified by implemented by Phuc Nguye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59A-9A26-4A09-A44C-EDD023C496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AS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52280" y="1193760"/>
            <a:ext cx="7772400" cy="4419720"/>
            <a:chOff x="152280" y="1193760"/>
            <a:chExt cx="7772400" cy="4419720"/>
          </a:xfrm>
        </p:grpSpPr>
        <p:grpSp>
          <p:nvGrpSpPr>
            <p:cNvPr id="1351" name=""/>
            <p:cNvGrpSpPr/>
            <p:nvPr/>
          </p:nvGrpSpPr>
          <p:grpSpPr>
            <a:xfrm>
              <a:off x="152280" y="1193760"/>
              <a:ext cx="7772400" cy="4380120"/>
              <a:chOff x="152280" y="1193760"/>
              <a:chExt cx="7772400" cy="4380120"/>
            </a:xfrm>
          </p:grpSpPr>
          <p:sp>
            <p:nvSpPr>
              <p:cNvPr id="1352" name=""/>
              <p:cNvSpPr/>
              <p:nvPr/>
            </p:nvSpPr>
            <p:spPr>
              <a:xfrm>
                <a:off x="152280" y="11937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3268440" y="1273320"/>
                <a:ext cx="1657080" cy="4181400"/>
                <a:chOff x="3268440" y="1273320"/>
                <a:chExt cx="1657080" cy="4181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268440" y="14320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3427200" y="12733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958680" y="2627280"/>
                <a:ext cx="6532560" cy="995400"/>
                <a:chOff x="958680" y="2627280"/>
                <a:chExt cx="6532560" cy="99540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958680" y="27129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772240" y="26272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4829040" y="27990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981000" y="32893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374840" y="28497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62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47680" y="29401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363" name=""/>
                <p:cNvGrpSpPr/>
                <p:nvPr/>
              </p:nvGrpSpPr>
              <p:grpSpPr>
                <a:xfrm>
                  <a:off x="4925880" y="2946600"/>
                  <a:ext cx="908280" cy="636120"/>
                  <a:chOff x="4925880" y="2946600"/>
                  <a:chExt cx="908280" cy="6361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925880" y="33066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65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2000" y="29466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366" name=""/>
                <p:cNvSpPr/>
                <p:nvPr/>
              </p:nvSpPr>
              <p:spPr>
                <a:xfrm>
                  <a:off x="3268800" y="27147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67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7440" y="29908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68" name=""/>
                <p:cNvSpPr/>
                <p:nvPr/>
              </p:nvSpPr>
              <p:spPr>
                <a:xfrm>
                  <a:off x="2006640" y="33451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834160" y="33418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307200" y="29019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71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80040" y="29926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372" name=""/>
                <p:cNvGrpSpPr/>
                <p:nvPr/>
              </p:nvGrpSpPr>
              <p:grpSpPr>
                <a:xfrm>
                  <a:off x="2795760" y="2759040"/>
                  <a:ext cx="907920" cy="635040"/>
                  <a:chOff x="2795760" y="2759040"/>
                  <a:chExt cx="907920" cy="635040"/>
                </a:xfrm>
              </p:grpSpPr>
              <p:pic>
                <p:nvPicPr>
                  <p:cNvPr id="1373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71880" y="27590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374" name=""/>
                  <p:cNvSpPr/>
                  <p:nvPr/>
                </p:nvSpPr>
                <p:spPr>
                  <a:xfrm>
                    <a:off x="2795760" y="31176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5" name=""/>
            <p:cNvGrpSpPr/>
            <p:nvPr/>
          </p:nvGrpSpPr>
          <p:grpSpPr>
            <a:xfrm>
              <a:off x="309240" y="3662280"/>
              <a:ext cx="1101240" cy="1552680"/>
              <a:chOff x="309240" y="3662280"/>
              <a:chExt cx="1101240" cy="1552680"/>
            </a:xfrm>
          </p:grpSpPr>
          <p:sp>
            <p:nvSpPr>
              <p:cNvPr id="1376" name=""/>
              <p:cNvSpPr/>
              <p:nvPr/>
            </p:nvSpPr>
            <p:spPr>
              <a:xfrm>
                <a:off x="309240" y="46180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7" name=""/>
              <p:cNvGrpSpPr/>
              <p:nvPr/>
            </p:nvGrpSpPr>
            <p:grpSpPr>
              <a:xfrm>
                <a:off x="980640" y="3662280"/>
                <a:ext cx="429840" cy="1181160"/>
                <a:chOff x="980640" y="3662280"/>
                <a:chExt cx="429840" cy="1181160"/>
              </a:xfrm>
            </p:grpSpPr>
            <p:grpSp>
              <p:nvGrpSpPr>
                <p:cNvPr id="1378" name=""/>
                <p:cNvGrpSpPr/>
                <p:nvPr/>
              </p:nvGrpSpPr>
              <p:grpSpPr>
                <a:xfrm>
                  <a:off x="980640" y="3662280"/>
                  <a:ext cx="210960" cy="97920"/>
                  <a:chOff x="980640" y="3662280"/>
                  <a:chExt cx="210960" cy="97920"/>
                </a:xfrm>
              </p:grpSpPr>
              <p:sp>
                <p:nvSpPr>
                  <p:cNvPr id="1379" name=""/>
                  <p:cNvSpPr/>
                  <p:nvPr/>
                </p:nvSpPr>
                <p:spPr>
                  <a:xfrm>
                    <a:off x="980640" y="37360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1032480" y="36727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1105200" y="36622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145520" y="36997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3" name=""/>
                <p:cNvGrpSpPr/>
                <p:nvPr/>
              </p:nvGrpSpPr>
              <p:grpSpPr>
                <a:xfrm>
                  <a:off x="1055160" y="3732120"/>
                  <a:ext cx="355320" cy="1111320"/>
                  <a:chOff x="1055160" y="3732120"/>
                  <a:chExt cx="355320" cy="111132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1119240" y="39150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1247040" y="37321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1055160" y="41310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1171800" y="41191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1132200" y="43797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1242720" y="43797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90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9880" y="37234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91" name=""/>
            <p:cNvGrpSpPr/>
            <p:nvPr/>
          </p:nvGrpSpPr>
          <p:grpSpPr>
            <a:xfrm>
              <a:off x="231480" y="1273320"/>
              <a:ext cx="1774800" cy="1433520"/>
              <a:chOff x="231480" y="1273320"/>
              <a:chExt cx="1774800" cy="1433520"/>
            </a:xfrm>
          </p:grpSpPr>
          <p:sp>
            <p:nvSpPr>
              <p:cNvPr id="1392" name=""/>
              <p:cNvSpPr/>
              <p:nvPr/>
            </p:nvSpPr>
            <p:spPr>
              <a:xfrm>
                <a:off x="231480" y="23479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783720" y="1273320"/>
                <a:ext cx="789120" cy="1231920"/>
                <a:chOff x="783720" y="1273320"/>
                <a:chExt cx="789120" cy="1231920"/>
              </a:xfrm>
            </p:grpSpPr>
            <p:grpSp>
              <p:nvGrpSpPr>
                <p:cNvPr id="1394" name=""/>
                <p:cNvGrpSpPr/>
                <p:nvPr/>
              </p:nvGrpSpPr>
              <p:grpSpPr>
                <a:xfrm>
                  <a:off x="1059120" y="1721160"/>
                  <a:ext cx="477360" cy="784080"/>
                  <a:chOff x="1059120" y="1721160"/>
                  <a:chExt cx="477360" cy="784080"/>
                </a:xfrm>
              </p:grpSpPr>
              <p:sp>
                <p:nvSpPr>
                  <p:cNvPr id="1395" name=""/>
                  <p:cNvSpPr/>
                  <p:nvPr/>
                </p:nvSpPr>
                <p:spPr>
                  <a:xfrm>
                    <a:off x="1268280" y="19818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1311480" y="22284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1143720" y="22147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1059120" y="19825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1379160" y="17211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1224360" y="17647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1069920" y="1273320"/>
                  <a:ext cx="236520" cy="239040"/>
                  <a:chOff x="1069920" y="1273320"/>
                  <a:chExt cx="236520" cy="23904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1069920" y="12733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3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96920" y="12949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783720" y="1396800"/>
                  <a:ext cx="255240" cy="278640"/>
                  <a:chOff x="783720" y="1396800"/>
                  <a:chExt cx="255240" cy="2786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783720" y="13968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6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000" y="14155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07" name=""/>
                <p:cNvGrpSpPr/>
                <p:nvPr/>
              </p:nvGrpSpPr>
              <p:grpSpPr>
                <a:xfrm>
                  <a:off x="941400" y="1715760"/>
                  <a:ext cx="204120" cy="245160"/>
                  <a:chOff x="941400" y="1715760"/>
                  <a:chExt cx="204120" cy="245160"/>
                </a:xfrm>
              </p:grpSpPr>
              <p:sp>
                <p:nvSpPr>
                  <p:cNvPr id="1408" name=""/>
                  <p:cNvSpPr/>
                  <p:nvPr/>
                </p:nvSpPr>
                <p:spPr>
                  <a:xfrm>
                    <a:off x="941400" y="17157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9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61920" y="17323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10" name=""/>
                <p:cNvGrpSpPr/>
                <p:nvPr/>
              </p:nvGrpSpPr>
              <p:grpSpPr>
                <a:xfrm>
                  <a:off x="1335960" y="1436760"/>
                  <a:ext cx="236880" cy="278640"/>
                  <a:chOff x="1335960" y="1436760"/>
                  <a:chExt cx="236880" cy="27864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335960" y="14367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12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41360" y="14702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413" name=""/>
            <p:cNvGrpSpPr/>
            <p:nvPr/>
          </p:nvGrpSpPr>
          <p:grpSpPr>
            <a:xfrm>
              <a:off x="6503760" y="4419720"/>
              <a:ext cx="1106280" cy="1193760"/>
              <a:chOff x="6503760" y="4419720"/>
              <a:chExt cx="1106280" cy="11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03760" y="53658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5" name=""/>
              <p:cNvGrpSpPr/>
              <p:nvPr/>
            </p:nvGrpSpPr>
            <p:grpSpPr>
              <a:xfrm>
                <a:off x="6662160" y="4498920"/>
                <a:ext cx="430200" cy="903600"/>
                <a:chOff x="6662160" y="4498920"/>
                <a:chExt cx="430200" cy="903600"/>
              </a:xfrm>
            </p:grpSpPr>
            <p:sp>
              <p:nvSpPr>
                <p:cNvPr id="1416" name=""/>
                <p:cNvSpPr/>
                <p:nvPr/>
              </p:nvSpPr>
              <p:spPr>
                <a:xfrm flipH="1">
                  <a:off x="6786720" y="45493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6897960" y="44989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6808320" y="47610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>
                  <a:off x="6707160" y="47692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>
                  <a:off x="6661800" y="50277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6841800" y="50270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7095600" y="4419720"/>
                <a:ext cx="473400" cy="396720"/>
                <a:chOff x="7095600" y="4419720"/>
                <a:chExt cx="473400" cy="39672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7095600" y="44197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24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11880" y="44899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25" name=""/>
            <p:cNvGrpSpPr/>
            <p:nvPr/>
          </p:nvGrpSpPr>
          <p:grpSpPr>
            <a:xfrm>
              <a:off x="1572840" y="1684440"/>
              <a:ext cx="1617840" cy="903240"/>
              <a:chOff x="1572840" y="1684440"/>
              <a:chExt cx="1617840" cy="903240"/>
            </a:xfrm>
          </p:grpSpPr>
          <p:pic>
            <p:nvPicPr>
              <p:cNvPr id="142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2840" y="21607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7" name=""/>
              <p:cNvGrpSpPr/>
              <p:nvPr/>
            </p:nvGrpSpPr>
            <p:grpSpPr>
              <a:xfrm>
                <a:off x="1848960" y="1684440"/>
                <a:ext cx="1025640" cy="903240"/>
                <a:chOff x="1848960" y="1684440"/>
                <a:chExt cx="1025640" cy="9032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1848960" y="19504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1848960" y="16844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866600" y="19533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3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43160" y="21859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925640" y="1715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3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53800" y="21495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4" name=""/>
            <p:cNvGrpSpPr/>
            <p:nvPr/>
          </p:nvGrpSpPr>
          <p:grpSpPr>
            <a:xfrm>
              <a:off x="4846320" y="4459320"/>
              <a:ext cx="1697040" cy="995400"/>
              <a:chOff x="4846320" y="4459320"/>
              <a:chExt cx="1697040" cy="995400"/>
            </a:xfrm>
          </p:grpSpPr>
          <p:pic>
            <p:nvPicPr>
              <p:cNvPr id="143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46320" y="49370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306840" y="49370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7" name=""/>
              <p:cNvGrpSpPr/>
              <p:nvPr/>
            </p:nvGrpSpPr>
            <p:grpSpPr>
              <a:xfrm>
                <a:off x="5122440" y="4459320"/>
                <a:ext cx="1104840" cy="995400"/>
                <a:chOff x="5122440" y="4459320"/>
                <a:chExt cx="1104840" cy="995400"/>
              </a:xfrm>
            </p:grpSpPr>
            <p:grpSp>
              <p:nvGrpSpPr>
                <p:cNvPr id="1438" name=""/>
                <p:cNvGrpSpPr/>
                <p:nvPr/>
              </p:nvGrpSpPr>
              <p:grpSpPr>
                <a:xfrm>
                  <a:off x="5122440" y="4459320"/>
                  <a:ext cx="1026000" cy="902880"/>
                  <a:chOff x="5122440" y="4459320"/>
                  <a:chExt cx="1026000" cy="90288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5122440" y="47253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5122440" y="4459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140080" y="47278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17000" y="4960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4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99120" y="4489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5161680" y="4498920"/>
                  <a:ext cx="1026000" cy="903240"/>
                  <a:chOff x="5161680" y="4498920"/>
                  <a:chExt cx="1026000" cy="90324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5161680" y="47649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5161680" y="44989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5179320" y="47678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56240" y="50004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4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38360" y="45295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201280" y="4551480"/>
                  <a:ext cx="1026000" cy="903240"/>
                  <a:chOff x="5201280" y="4551480"/>
                  <a:chExt cx="1026000" cy="9032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201280" y="48175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5201280" y="45514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5218920" y="48204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95840" y="50529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5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277960" y="45820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456" name=""/>
            <p:cNvGrpSpPr/>
            <p:nvPr/>
          </p:nvGrpSpPr>
          <p:grpSpPr>
            <a:xfrm>
              <a:off x="1612800" y="3781440"/>
              <a:ext cx="2167920" cy="677520"/>
              <a:chOff x="1612800" y="3781440"/>
              <a:chExt cx="2167920" cy="677520"/>
            </a:xfrm>
          </p:grpSpPr>
          <p:pic>
            <p:nvPicPr>
              <p:cNvPr id="145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12800" y="40608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914200" y="40608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59" name=""/>
              <p:cNvGrpSpPr/>
              <p:nvPr/>
            </p:nvGrpSpPr>
            <p:grpSpPr>
              <a:xfrm>
                <a:off x="1809360" y="3781440"/>
                <a:ext cx="1007640" cy="677520"/>
                <a:chOff x="1809360" y="3781440"/>
                <a:chExt cx="1007640" cy="67752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1967040" y="38210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61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124720" y="40546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2" name=""/>
                <p:cNvSpPr/>
                <p:nvPr/>
              </p:nvSpPr>
              <p:spPr>
                <a:xfrm>
                  <a:off x="1809360" y="37814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63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466800" y="40212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4" name=""/>
            <p:cNvGrpSpPr/>
            <p:nvPr/>
          </p:nvGrpSpPr>
          <p:grpSpPr>
            <a:xfrm>
              <a:off x="1400040" y="4532400"/>
              <a:ext cx="1631880" cy="882360"/>
              <a:chOff x="1400040" y="4532400"/>
              <a:chExt cx="1631880" cy="882360"/>
            </a:xfrm>
          </p:grpSpPr>
          <p:grpSp>
            <p:nvGrpSpPr>
              <p:cNvPr id="1465" name=""/>
              <p:cNvGrpSpPr/>
              <p:nvPr/>
            </p:nvGrpSpPr>
            <p:grpSpPr>
              <a:xfrm>
                <a:off x="1400040" y="4816440"/>
                <a:ext cx="1631880" cy="598320"/>
                <a:chOff x="1400040" y="4816440"/>
                <a:chExt cx="1631880" cy="59832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1478880" y="48560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67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518120" y="50601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1400040" y="48164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1701720" y="50158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7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203200" y="45324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"/>
            <p:cNvGrpSpPr/>
            <p:nvPr/>
          </p:nvGrpSpPr>
          <p:grpSpPr>
            <a:xfrm>
              <a:off x="2914560" y="4897440"/>
              <a:ext cx="1065240" cy="357120"/>
              <a:chOff x="2914560" y="4897440"/>
              <a:chExt cx="1065240" cy="357120"/>
            </a:xfrm>
          </p:grpSpPr>
          <p:pic>
            <p:nvPicPr>
              <p:cNvPr id="147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914560" y="49770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3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24120" y="48974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4" name=""/>
            <p:cNvGrpSpPr/>
            <p:nvPr/>
          </p:nvGrpSpPr>
          <p:grpSpPr>
            <a:xfrm>
              <a:off x="6582960" y="3686400"/>
              <a:ext cx="631800" cy="772920"/>
              <a:chOff x="6582960" y="3686400"/>
              <a:chExt cx="631800" cy="772920"/>
            </a:xfrm>
          </p:grpSpPr>
          <p:pic>
            <p:nvPicPr>
              <p:cNvPr id="147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779880" y="42195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76" name=""/>
              <p:cNvGrpSpPr/>
              <p:nvPr/>
            </p:nvGrpSpPr>
            <p:grpSpPr>
              <a:xfrm>
                <a:off x="6582960" y="3686400"/>
                <a:ext cx="631800" cy="490320"/>
                <a:chOff x="6582960" y="3686400"/>
                <a:chExt cx="631800" cy="49032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6622200" y="37386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582960" y="36864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79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6819840" y="39196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0" name=""/>
            <p:cNvGrpSpPr/>
            <p:nvPr/>
          </p:nvGrpSpPr>
          <p:grpSpPr>
            <a:xfrm>
              <a:off x="3347640" y="1614600"/>
              <a:ext cx="1301760" cy="3565440"/>
              <a:chOff x="3347640" y="1614600"/>
              <a:chExt cx="1301760" cy="3565440"/>
            </a:xfrm>
          </p:grpSpPr>
          <p:pic>
            <p:nvPicPr>
              <p:cNvPr id="1481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255920" y="22287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2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216320" y="21495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3347640" y="16146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4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504960" y="43848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1485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3427200" y="21099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097160" y="43038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019400" y="37418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3844800" y="16542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295520" y="22687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333680" y="48625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821040" y="22687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333680" y="17114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3" name=""/>
            <p:cNvSpPr txBox="1"/>
            <p:nvPr/>
          </p:nvSpPr>
          <p:spPr>
            <a:xfrm>
              <a:off x="1493640" y="45388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494" name=""/>
            <p:cNvSpPr txBox="1"/>
            <p:nvPr/>
          </p:nvSpPr>
          <p:spPr>
            <a:xfrm>
              <a:off x="2163600" y="13924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495" name=""/>
            <p:cNvSpPr txBox="1"/>
            <p:nvPr/>
          </p:nvSpPr>
          <p:spPr>
            <a:xfrm>
              <a:off x="6346440" y="46576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1533240" y="3503520"/>
              <a:ext cx="1971720" cy="1273320"/>
              <a:chOff x="1533240" y="3503520"/>
              <a:chExt cx="1971720" cy="127332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35000" y="35035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1533240" y="35035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77680" y="35830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1098360" y="2508480"/>
              <a:ext cx="947160" cy="396720"/>
              <a:chOff x="1098360" y="2508480"/>
              <a:chExt cx="947160" cy="396720"/>
            </a:xfrm>
          </p:grpSpPr>
          <p:sp>
            <p:nvSpPr>
              <p:cNvPr id="1501" name=""/>
              <p:cNvSpPr/>
              <p:nvPr/>
            </p:nvSpPr>
            <p:spPr>
              <a:xfrm>
                <a:off x="1098360" y="26132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1413720" y="25084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4647960" y="1955520"/>
              <a:ext cx="2247840" cy="2503800"/>
              <a:chOff x="4647960" y="1955520"/>
              <a:chExt cx="2247840" cy="2503800"/>
            </a:xfrm>
          </p:grpSpPr>
          <p:sp>
            <p:nvSpPr>
              <p:cNvPr id="1504" name=""/>
              <p:cNvSpPr/>
              <p:nvPr/>
            </p:nvSpPr>
            <p:spPr>
              <a:xfrm flipH="1" flipV="1">
                <a:off x="4647960" y="19555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64160" y="32641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5754240" y="35830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346440" y="35830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4452840" y="3463920"/>
              <a:ext cx="2129760" cy="1035000"/>
              <a:chOff x="4452840" y="3463920"/>
              <a:chExt cx="2129760" cy="1035000"/>
            </a:xfrm>
          </p:grpSpPr>
          <p:sp>
            <p:nvSpPr>
              <p:cNvPr id="1509" name=""/>
              <p:cNvSpPr/>
              <p:nvPr/>
            </p:nvSpPr>
            <p:spPr>
              <a:xfrm flipH="1">
                <a:off x="4452840" y="34639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5281200" y="35240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636880" y="35830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76320" y="1066680"/>
            <a:ext cx="8001000" cy="4724640"/>
            <a:chOff x="76320" y="1066680"/>
            <a:chExt cx="8001000" cy="4724640"/>
          </a:xfrm>
        </p:grpSpPr>
        <p:sp>
          <p:nvSpPr>
            <p:cNvPr id="1513" name=""/>
            <p:cNvSpPr/>
            <p:nvPr/>
          </p:nvSpPr>
          <p:spPr>
            <a:xfrm>
              <a:off x="76320" y="10666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320" y="37339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2640" y="25909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17C-E0F5-47C1-957B-2E7F5F9383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Principal interest of MAS in CoM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itmotiv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ne functional architecture leading to several possible configurations in order to adapt to the broad range of environments that can be found in a compan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Architecture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Agent kinds and their relationship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sign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onfiguration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Exact topography of a given MA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ployment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e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architecture </a:t>
            </a:r>
            <a:r>
              <a:rPr b="0" lang="en-US" sz="26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veral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configuration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Adapt to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context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gent paradigm adequacy: 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collaboration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Global capitaliz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autonomy &amp; individuality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ocal adap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ntegration of different technologies  </a:t>
            </a:r>
            <a:r>
              <a:rPr b="0" lang="en-US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 interesting for a domain that requires 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multidisciplinary solutio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592-6814-4AA1-90D3-FD47157A0D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ulti-agents information system for the CM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76320" y="380520"/>
            <a:ext cx="899136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MMA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is an heterogeneous multi-agents information syste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rom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acroscopic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icroscopic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unctional analysis for high level functions: socie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our aspects in our scenarios: ontology and model availability, annotation management, user management and yellow pages services.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990720" y="3809880"/>
            <a:ext cx="8076960" cy="2457360"/>
            <a:chOff x="990720" y="3809880"/>
            <a:chExt cx="8076960" cy="2457360"/>
          </a:xfrm>
        </p:grpSpPr>
        <p:grpSp>
          <p:nvGrpSpPr>
            <p:cNvPr id="1521" name=""/>
            <p:cNvGrpSpPr/>
            <p:nvPr/>
          </p:nvGrpSpPr>
          <p:grpSpPr>
            <a:xfrm>
              <a:off x="2895480" y="5505120"/>
              <a:ext cx="4419720" cy="762120"/>
              <a:chOff x="2895480" y="5505120"/>
              <a:chExt cx="4419720" cy="762120"/>
            </a:xfrm>
          </p:grpSpPr>
          <p:sp>
            <p:nvSpPr>
              <p:cNvPr id="1522" name=""/>
              <p:cNvSpPr/>
              <p:nvPr/>
            </p:nvSpPr>
            <p:spPr>
              <a:xfrm>
                <a:off x="2895480" y="5505120"/>
                <a:ext cx="419112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581280" y="5562360"/>
                <a:ext cx="37339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s'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4" name=""/>
              <p:cNvGrpSpPr/>
              <p:nvPr/>
            </p:nvGrpSpPr>
            <p:grpSpPr>
              <a:xfrm>
                <a:off x="3174840" y="5530320"/>
                <a:ext cx="444600" cy="609480"/>
                <a:chOff x="3174840" y="5530320"/>
                <a:chExt cx="444600" cy="60948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3174840" y="5530320"/>
                  <a:ext cx="444600" cy="6094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6" name=""/>
                <p:cNvGrpSpPr/>
                <p:nvPr/>
              </p:nvGrpSpPr>
              <p:grpSpPr>
                <a:xfrm>
                  <a:off x="3225240" y="5555880"/>
                  <a:ext cx="353880" cy="550800"/>
                  <a:chOff x="3225240" y="5555880"/>
                  <a:chExt cx="353880" cy="550800"/>
                </a:xfrm>
              </p:grpSpPr>
              <p:sp>
                <p:nvSpPr>
                  <p:cNvPr id="1527" name=""/>
                  <p:cNvSpPr/>
                  <p:nvPr/>
                </p:nvSpPr>
                <p:spPr>
                  <a:xfrm flipH="1">
                    <a:off x="3327840" y="5586480"/>
                    <a:ext cx="138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522">
                        <a:moveTo>
                          <a:pt x="245" y="120"/>
                        </a:moveTo>
                        <a:lnTo>
                          <a:pt x="204" y="67"/>
                        </a:lnTo>
                        <a:lnTo>
                          <a:pt x="146" y="26"/>
                        </a:lnTo>
                        <a:lnTo>
                          <a:pt x="94" y="0"/>
                        </a:lnTo>
                        <a:lnTo>
                          <a:pt x="53" y="7"/>
                        </a:lnTo>
                        <a:lnTo>
                          <a:pt x="23" y="37"/>
                        </a:lnTo>
                        <a:lnTo>
                          <a:pt x="0" y="127"/>
                        </a:lnTo>
                        <a:lnTo>
                          <a:pt x="9" y="231"/>
                        </a:lnTo>
                        <a:lnTo>
                          <a:pt x="34" y="331"/>
                        </a:lnTo>
                        <a:lnTo>
                          <a:pt x="60" y="409"/>
                        </a:lnTo>
                        <a:lnTo>
                          <a:pt x="112" y="489"/>
                        </a:lnTo>
                        <a:lnTo>
                          <a:pt x="156" y="522"/>
                        </a:lnTo>
                        <a:lnTo>
                          <a:pt x="217" y="522"/>
                        </a:lnTo>
                        <a:lnTo>
                          <a:pt x="279" y="499"/>
                        </a:lnTo>
                        <a:lnTo>
                          <a:pt x="310" y="441"/>
                        </a:lnTo>
                        <a:lnTo>
                          <a:pt x="326" y="368"/>
                        </a:lnTo>
                        <a:lnTo>
                          <a:pt x="320" y="278"/>
                        </a:lnTo>
                        <a:lnTo>
                          <a:pt x="463" y="288"/>
                        </a:lnTo>
                        <a:lnTo>
                          <a:pt x="471" y="248"/>
                        </a:lnTo>
                        <a:lnTo>
                          <a:pt x="307" y="231"/>
                        </a:lnTo>
                        <a:lnTo>
                          <a:pt x="265" y="138"/>
                        </a:lnTo>
                        <a:lnTo>
                          <a:pt x="245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H="1">
                    <a:off x="3419280" y="5555880"/>
                    <a:ext cx="159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837">
                        <a:moveTo>
                          <a:pt x="317" y="19"/>
                        </a:moveTo>
                        <a:lnTo>
                          <a:pt x="385" y="0"/>
                        </a:lnTo>
                        <a:lnTo>
                          <a:pt x="439" y="3"/>
                        </a:lnTo>
                        <a:lnTo>
                          <a:pt x="480" y="33"/>
                        </a:lnTo>
                        <a:lnTo>
                          <a:pt x="508" y="80"/>
                        </a:lnTo>
                        <a:lnTo>
                          <a:pt x="498" y="130"/>
                        </a:lnTo>
                        <a:lnTo>
                          <a:pt x="460" y="130"/>
                        </a:lnTo>
                        <a:lnTo>
                          <a:pt x="470" y="89"/>
                        </a:lnTo>
                        <a:lnTo>
                          <a:pt x="439" y="53"/>
                        </a:lnTo>
                        <a:lnTo>
                          <a:pt x="409" y="40"/>
                        </a:lnTo>
                        <a:lnTo>
                          <a:pt x="358" y="53"/>
                        </a:lnTo>
                        <a:lnTo>
                          <a:pt x="378" y="94"/>
                        </a:lnTo>
                        <a:lnTo>
                          <a:pt x="385" y="130"/>
                        </a:lnTo>
                        <a:lnTo>
                          <a:pt x="378" y="160"/>
                        </a:lnTo>
                        <a:lnTo>
                          <a:pt x="327" y="174"/>
                        </a:lnTo>
                        <a:lnTo>
                          <a:pt x="272" y="164"/>
                        </a:lnTo>
                        <a:lnTo>
                          <a:pt x="262" y="140"/>
                        </a:lnTo>
                        <a:lnTo>
                          <a:pt x="204" y="204"/>
                        </a:lnTo>
                        <a:lnTo>
                          <a:pt x="170" y="274"/>
                        </a:lnTo>
                        <a:lnTo>
                          <a:pt x="123" y="364"/>
                        </a:lnTo>
                        <a:lnTo>
                          <a:pt x="92" y="445"/>
                        </a:lnTo>
                        <a:lnTo>
                          <a:pt x="78" y="522"/>
                        </a:lnTo>
                        <a:lnTo>
                          <a:pt x="89" y="562"/>
                        </a:lnTo>
                        <a:lnTo>
                          <a:pt x="143" y="613"/>
                        </a:lnTo>
                        <a:lnTo>
                          <a:pt x="256" y="656"/>
                        </a:lnTo>
                        <a:lnTo>
                          <a:pt x="317" y="675"/>
                        </a:lnTo>
                        <a:lnTo>
                          <a:pt x="378" y="686"/>
                        </a:lnTo>
                        <a:lnTo>
                          <a:pt x="470" y="723"/>
                        </a:lnTo>
                        <a:lnTo>
                          <a:pt x="538" y="746"/>
                        </a:lnTo>
                        <a:lnTo>
                          <a:pt x="542" y="793"/>
                        </a:lnTo>
                        <a:lnTo>
                          <a:pt x="508" y="827"/>
                        </a:lnTo>
                        <a:lnTo>
                          <a:pt x="467" y="837"/>
                        </a:lnTo>
                        <a:lnTo>
                          <a:pt x="405" y="806"/>
                        </a:lnTo>
                        <a:lnTo>
                          <a:pt x="262" y="733"/>
                        </a:lnTo>
                        <a:lnTo>
                          <a:pt x="143" y="683"/>
                        </a:lnTo>
                        <a:lnTo>
                          <a:pt x="61" y="626"/>
                        </a:lnTo>
                        <a:lnTo>
                          <a:pt x="6" y="575"/>
                        </a:lnTo>
                        <a:lnTo>
                          <a:pt x="0" y="515"/>
                        </a:lnTo>
                        <a:lnTo>
                          <a:pt x="30" y="434"/>
                        </a:lnTo>
                        <a:lnTo>
                          <a:pt x="92" y="314"/>
                        </a:lnTo>
                        <a:lnTo>
                          <a:pt x="150" y="214"/>
                        </a:lnTo>
                        <a:lnTo>
                          <a:pt x="222" y="110"/>
                        </a:lnTo>
                        <a:lnTo>
                          <a:pt x="276" y="49"/>
                        </a:lnTo>
                        <a:lnTo>
                          <a:pt x="344" y="19"/>
                        </a:lnTo>
                        <a:lnTo>
                          <a:pt x="31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>
                    <a:off x="3345480" y="5715720"/>
                    <a:ext cx="828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6">
                        <a:moveTo>
                          <a:pt x="18" y="61"/>
                        </a:moveTo>
                        <a:lnTo>
                          <a:pt x="28" y="20"/>
                        </a:lnTo>
                        <a:lnTo>
                          <a:pt x="72" y="0"/>
                        </a:lnTo>
                        <a:lnTo>
                          <a:pt x="113" y="0"/>
                        </a:lnTo>
                        <a:lnTo>
                          <a:pt x="164" y="30"/>
                        </a:lnTo>
                        <a:lnTo>
                          <a:pt x="213" y="101"/>
                        </a:lnTo>
                        <a:lnTo>
                          <a:pt x="247" y="174"/>
                        </a:lnTo>
                        <a:lnTo>
                          <a:pt x="263" y="274"/>
                        </a:lnTo>
                        <a:lnTo>
                          <a:pt x="278" y="391"/>
                        </a:lnTo>
                        <a:lnTo>
                          <a:pt x="284" y="504"/>
                        </a:lnTo>
                        <a:lnTo>
                          <a:pt x="284" y="652"/>
                        </a:lnTo>
                        <a:lnTo>
                          <a:pt x="263" y="742"/>
                        </a:lnTo>
                        <a:lnTo>
                          <a:pt x="226" y="775"/>
                        </a:lnTo>
                        <a:lnTo>
                          <a:pt x="161" y="786"/>
                        </a:lnTo>
                        <a:lnTo>
                          <a:pt x="93" y="783"/>
                        </a:lnTo>
                        <a:lnTo>
                          <a:pt x="58" y="742"/>
                        </a:lnTo>
                        <a:lnTo>
                          <a:pt x="38" y="672"/>
                        </a:lnTo>
                        <a:lnTo>
                          <a:pt x="21" y="602"/>
                        </a:lnTo>
                        <a:lnTo>
                          <a:pt x="8" y="475"/>
                        </a:lnTo>
                        <a:lnTo>
                          <a:pt x="0" y="331"/>
                        </a:lnTo>
                        <a:lnTo>
                          <a:pt x="0" y="164"/>
                        </a:lnTo>
                        <a:lnTo>
                          <a:pt x="18" y="91"/>
                        </a:lnTo>
                        <a:lnTo>
                          <a:pt x="18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H="1">
                    <a:off x="3261960" y="5720760"/>
                    <a:ext cx="1278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603">
                        <a:moveTo>
                          <a:pt x="24" y="0"/>
                        </a:moveTo>
                        <a:lnTo>
                          <a:pt x="113" y="10"/>
                        </a:lnTo>
                        <a:lnTo>
                          <a:pt x="204" y="26"/>
                        </a:lnTo>
                        <a:lnTo>
                          <a:pt x="300" y="80"/>
                        </a:lnTo>
                        <a:lnTo>
                          <a:pt x="368" y="120"/>
                        </a:lnTo>
                        <a:lnTo>
                          <a:pt x="413" y="178"/>
                        </a:lnTo>
                        <a:lnTo>
                          <a:pt x="433" y="211"/>
                        </a:lnTo>
                        <a:lnTo>
                          <a:pt x="392" y="308"/>
                        </a:lnTo>
                        <a:lnTo>
                          <a:pt x="327" y="368"/>
                        </a:lnTo>
                        <a:lnTo>
                          <a:pt x="249" y="411"/>
                        </a:lnTo>
                        <a:lnTo>
                          <a:pt x="207" y="438"/>
                        </a:lnTo>
                        <a:lnTo>
                          <a:pt x="136" y="452"/>
                        </a:lnTo>
                        <a:lnTo>
                          <a:pt x="133" y="478"/>
                        </a:lnTo>
                        <a:lnTo>
                          <a:pt x="188" y="502"/>
                        </a:lnTo>
                        <a:lnTo>
                          <a:pt x="266" y="523"/>
                        </a:lnTo>
                        <a:lnTo>
                          <a:pt x="340" y="563"/>
                        </a:lnTo>
                        <a:lnTo>
                          <a:pt x="310" y="593"/>
                        </a:lnTo>
                        <a:lnTo>
                          <a:pt x="280" y="603"/>
                        </a:lnTo>
                        <a:lnTo>
                          <a:pt x="235" y="559"/>
                        </a:lnTo>
                        <a:lnTo>
                          <a:pt x="167" y="532"/>
                        </a:lnTo>
                        <a:lnTo>
                          <a:pt x="113" y="512"/>
                        </a:lnTo>
                        <a:lnTo>
                          <a:pt x="113" y="472"/>
                        </a:lnTo>
                        <a:lnTo>
                          <a:pt x="123" y="429"/>
                        </a:lnTo>
                        <a:lnTo>
                          <a:pt x="157" y="411"/>
                        </a:lnTo>
                        <a:lnTo>
                          <a:pt x="266" y="368"/>
                        </a:lnTo>
                        <a:lnTo>
                          <a:pt x="327" y="301"/>
                        </a:lnTo>
                        <a:lnTo>
                          <a:pt x="371" y="231"/>
                        </a:lnTo>
                        <a:lnTo>
                          <a:pt x="361" y="197"/>
                        </a:lnTo>
                        <a:lnTo>
                          <a:pt x="327" y="157"/>
                        </a:lnTo>
                        <a:lnTo>
                          <a:pt x="246" y="100"/>
                        </a:lnTo>
                        <a:lnTo>
                          <a:pt x="147" y="80"/>
                        </a:lnTo>
                        <a:lnTo>
                          <a:pt x="82" y="77"/>
                        </a:lnTo>
                        <a:lnTo>
                          <a:pt x="24" y="77"/>
                        </a:lnTo>
                        <a:lnTo>
                          <a:pt x="0" y="4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3225240" y="5878080"/>
                    <a:ext cx="1548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976">
                        <a:moveTo>
                          <a:pt x="61" y="0"/>
                        </a:moveTo>
                        <a:lnTo>
                          <a:pt x="14" y="0"/>
                        </a:lnTo>
                        <a:lnTo>
                          <a:pt x="0" y="70"/>
                        </a:lnTo>
                        <a:lnTo>
                          <a:pt x="34" y="112"/>
                        </a:lnTo>
                        <a:lnTo>
                          <a:pt x="144" y="208"/>
                        </a:lnTo>
                        <a:lnTo>
                          <a:pt x="239" y="332"/>
                        </a:lnTo>
                        <a:lnTo>
                          <a:pt x="301" y="460"/>
                        </a:lnTo>
                        <a:lnTo>
                          <a:pt x="311" y="543"/>
                        </a:lnTo>
                        <a:lnTo>
                          <a:pt x="307" y="604"/>
                        </a:lnTo>
                        <a:lnTo>
                          <a:pt x="281" y="741"/>
                        </a:lnTo>
                        <a:lnTo>
                          <a:pt x="246" y="852"/>
                        </a:lnTo>
                        <a:lnTo>
                          <a:pt x="216" y="916"/>
                        </a:lnTo>
                        <a:lnTo>
                          <a:pt x="208" y="956"/>
                        </a:lnTo>
                        <a:lnTo>
                          <a:pt x="239" y="956"/>
                        </a:lnTo>
                        <a:lnTo>
                          <a:pt x="287" y="943"/>
                        </a:lnTo>
                        <a:lnTo>
                          <a:pt x="301" y="946"/>
                        </a:lnTo>
                        <a:lnTo>
                          <a:pt x="400" y="952"/>
                        </a:lnTo>
                        <a:lnTo>
                          <a:pt x="475" y="976"/>
                        </a:lnTo>
                        <a:lnTo>
                          <a:pt x="502" y="962"/>
                        </a:lnTo>
                        <a:lnTo>
                          <a:pt x="527" y="912"/>
                        </a:lnTo>
                        <a:lnTo>
                          <a:pt x="502" y="885"/>
                        </a:lnTo>
                        <a:lnTo>
                          <a:pt x="390" y="882"/>
                        </a:lnTo>
                        <a:lnTo>
                          <a:pt x="311" y="892"/>
                        </a:lnTo>
                        <a:lnTo>
                          <a:pt x="270" y="912"/>
                        </a:lnTo>
                        <a:lnTo>
                          <a:pt x="276" y="865"/>
                        </a:lnTo>
                        <a:lnTo>
                          <a:pt x="318" y="794"/>
                        </a:lnTo>
                        <a:lnTo>
                          <a:pt x="352" y="684"/>
                        </a:lnTo>
                        <a:lnTo>
                          <a:pt x="380" y="590"/>
                        </a:lnTo>
                        <a:lnTo>
                          <a:pt x="359" y="483"/>
                        </a:lnTo>
                        <a:lnTo>
                          <a:pt x="328" y="369"/>
                        </a:lnTo>
                        <a:lnTo>
                          <a:pt x="266" y="238"/>
                        </a:lnTo>
                        <a:lnTo>
                          <a:pt x="178" y="118"/>
                        </a:lnTo>
                        <a:lnTo>
                          <a:pt x="102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H="1">
                    <a:off x="3372840" y="5877720"/>
                    <a:ext cx="10404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994">
                        <a:moveTo>
                          <a:pt x="246" y="0"/>
                        </a:moveTo>
                        <a:lnTo>
                          <a:pt x="201" y="94"/>
                        </a:lnTo>
                        <a:lnTo>
                          <a:pt x="170" y="231"/>
                        </a:lnTo>
                        <a:lnTo>
                          <a:pt x="133" y="382"/>
                        </a:lnTo>
                        <a:lnTo>
                          <a:pt x="99" y="536"/>
                        </a:lnTo>
                        <a:lnTo>
                          <a:pt x="99" y="592"/>
                        </a:lnTo>
                        <a:lnTo>
                          <a:pt x="133" y="693"/>
                        </a:lnTo>
                        <a:lnTo>
                          <a:pt x="181" y="747"/>
                        </a:lnTo>
                        <a:lnTo>
                          <a:pt x="225" y="814"/>
                        </a:lnTo>
                        <a:lnTo>
                          <a:pt x="256" y="863"/>
                        </a:lnTo>
                        <a:lnTo>
                          <a:pt x="243" y="887"/>
                        </a:lnTo>
                        <a:lnTo>
                          <a:pt x="164" y="897"/>
                        </a:lnTo>
                        <a:lnTo>
                          <a:pt x="37" y="917"/>
                        </a:lnTo>
                        <a:lnTo>
                          <a:pt x="0" y="948"/>
                        </a:lnTo>
                        <a:lnTo>
                          <a:pt x="31" y="974"/>
                        </a:lnTo>
                        <a:lnTo>
                          <a:pt x="102" y="994"/>
                        </a:lnTo>
                        <a:lnTo>
                          <a:pt x="185" y="954"/>
                        </a:lnTo>
                        <a:lnTo>
                          <a:pt x="246" y="927"/>
                        </a:lnTo>
                        <a:lnTo>
                          <a:pt x="324" y="917"/>
                        </a:lnTo>
                        <a:lnTo>
                          <a:pt x="355" y="907"/>
                        </a:lnTo>
                        <a:lnTo>
                          <a:pt x="345" y="874"/>
                        </a:lnTo>
                        <a:lnTo>
                          <a:pt x="256" y="787"/>
                        </a:lnTo>
                        <a:lnTo>
                          <a:pt x="204" y="696"/>
                        </a:lnTo>
                        <a:lnTo>
                          <a:pt x="160" y="636"/>
                        </a:lnTo>
                        <a:lnTo>
                          <a:pt x="154" y="576"/>
                        </a:lnTo>
                        <a:lnTo>
                          <a:pt x="175" y="476"/>
                        </a:lnTo>
                        <a:lnTo>
                          <a:pt x="222" y="372"/>
                        </a:lnTo>
                        <a:lnTo>
                          <a:pt x="274" y="195"/>
                        </a:lnTo>
                        <a:lnTo>
                          <a:pt x="318" y="91"/>
                        </a:lnTo>
                        <a:lnTo>
                          <a:pt x="314" y="30"/>
                        </a:lnTo>
                        <a:lnTo>
                          <a:pt x="274" y="0"/>
                        </a:lnTo>
                        <a:lnTo>
                          <a:pt x="2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5181480" y="3809880"/>
              <a:ext cx="3886200" cy="711000"/>
              <a:chOff x="5181480" y="3809880"/>
              <a:chExt cx="3886200" cy="711000"/>
            </a:xfrm>
          </p:grpSpPr>
          <p:sp>
            <p:nvSpPr>
              <p:cNvPr id="1534" name=""/>
              <p:cNvSpPr/>
              <p:nvPr/>
            </p:nvSpPr>
            <p:spPr>
              <a:xfrm>
                <a:off x="5181480" y="380988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715000" y="3885840"/>
                <a:ext cx="32004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notations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4120" y="3962160"/>
                <a:ext cx="380880" cy="2883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1537" name=""/>
            <p:cNvGrpSpPr/>
            <p:nvPr/>
          </p:nvGrpSpPr>
          <p:grpSpPr>
            <a:xfrm>
              <a:off x="990720" y="3809880"/>
              <a:ext cx="3886200" cy="780480"/>
              <a:chOff x="990720" y="3809880"/>
              <a:chExt cx="3886200" cy="780480"/>
            </a:xfrm>
          </p:grpSpPr>
          <p:sp>
            <p:nvSpPr>
              <p:cNvPr id="1538" name=""/>
              <p:cNvSpPr/>
              <p:nvPr/>
            </p:nvSpPr>
            <p:spPr>
              <a:xfrm>
                <a:off x="990720" y="380988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447920" y="3885840"/>
                <a:ext cx="3352680" cy="70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tology and Model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0" name="onto_0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3640" y="3962160"/>
                <a:ext cx="314280" cy="317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1541" name=""/>
            <p:cNvGrpSpPr/>
            <p:nvPr/>
          </p:nvGrpSpPr>
          <p:grpSpPr>
            <a:xfrm>
              <a:off x="2895480" y="4362120"/>
              <a:ext cx="4343400" cy="1371600"/>
              <a:chOff x="2895480" y="4362120"/>
              <a:chExt cx="4343400" cy="1371600"/>
            </a:xfrm>
          </p:grpSpPr>
          <p:sp>
            <p:nvSpPr>
              <p:cNvPr id="1542" name=""/>
              <p:cNvSpPr/>
              <p:nvPr/>
            </p:nvSpPr>
            <p:spPr>
              <a:xfrm>
                <a:off x="2895480" y="4641480"/>
                <a:ext cx="4191120" cy="7113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05320" y="4793760"/>
                <a:ext cx="3657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connection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495680" y="4362120"/>
                <a:ext cx="2133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781680" y="50479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6781680" y="4362120"/>
                <a:ext cx="4572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4793760"/>
                <a:ext cx="474480" cy="37944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E10-1E3D-493F-B722-186F50C02A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550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553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4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555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1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562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4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65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566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8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69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570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5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76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577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8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79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80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81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582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583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6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87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88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89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90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91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92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593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594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595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59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597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59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600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60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603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4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605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6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607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608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609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610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442-73CA-4591-8250-086CE98887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 card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aphicFrame>
        <p:nvGraphicFramePr>
          <p:cNvPr id="1612" name=""/>
          <p:cNvGraphicFramePr/>
          <p:nvPr/>
        </p:nvGraphicFramePr>
        <p:xfrm>
          <a:off x="-63360" y="343080"/>
          <a:ext cx="9144000" cy="296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3360" y="343080"/>
                    <a:ext cx="914400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4" name=""/>
          <p:cNvGrpSpPr/>
          <p:nvPr/>
        </p:nvGrpSpPr>
        <p:grpSpPr>
          <a:xfrm>
            <a:off x="174600" y="3047760"/>
            <a:ext cx="7826400" cy="3580920"/>
            <a:chOff x="174600" y="3047760"/>
            <a:chExt cx="7826400" cy="3580920"/>
          </a:xfrm>
        </p:grpSpPr>
        <p:grpSp>
          <p:nvGrpSpPr>
            <p:cNvPr id="1615" name=""/>
            <p:cNvGrpSpPr/>
            <p:nvPr/>
          </p:nvGrpSpPr>
          <p:grpSpPr>
            <a:xfrm>
              <a:off x="174600" y="4172400"/>
              <a:ext cx="7826400" cy="1119240"/>
              <a:chOff x="174600" y="4172400"/>
              <a:chExt cx="7826400" cy="1119240"/>
            </a:xfrm>
          </p:grpSpPr>
          <p:sp>
            <p:nvSpPr>
              <p:cNvPr id="1616" name=""/>
              <p:cNvSpPr/>
              <p:nvPr/>
            </p:nvSpPr>
            <p:spPr>
              <a:xfrm>
                <a:off x="174600" y="4193640"/>
                <a:ext cx="1635120" cy="28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MLocal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809720" y="4336560"/>
                <a:ext cx="240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92560" y="4193640"/>
                <a:ext cx="746280" cy="28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254720" y="4172400"/>
                <a:ext cx="746280" cy="28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57920" y="4336560"/>
                <a:ext cx="229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92560" y="5005800"/>
                <a:ext cx="830160" cy="28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55720" y="5148720"/>
                <a:ext cx="33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855720" y="4479840"/>
                <a:ext cx="0" cy="66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855360" y="3047760"/>
              <a:ext cx="7145280" cy="3580920"/>
              <a:chOff x="855360" y="3047760"/>
              <a:chExt cx="7145280" cy="3580920"/>
            </a:xfrm>
          </p:grpSpPr>
          <p:sp>
            <p:nvSpPr>
              <p:cNvPr id="1625" name=""/>
              <p:cNvSpPr/>
              <p:nvPr/>
            </p:nvSpPr>
            <p:spPr>
              <a:xfrm>
                <a:off x="1895040" y="4289040"/>
                <a:ext cx="93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642760" y="4242240"/>
                <a:ext cx="18756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542600" y="4026960"/>
                <a:ext cx="14461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1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1310760" y="5050440"/>
                <a:ext cx="936720" cy="46800"/>
                <a:chOff x="1310760" y="5050440"/>
                <a:chExt cx="936720" cy="4680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1310760" y="509724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058840" y="5050440"/>
                  <a:ext cx="18828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960120" y="4835520"/>
                <a:ext cx="14446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5054400" y="4249800"/>
                <a:ext cx="936360" cy="46440"/>
                <a:chOff x="5054400" y="4249800"/>
                <a:chExt cx="936360" cy="4644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5054400" y="4296240"/>
                  <a:ext cx="936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802480" y="4249800"/>
                  <a:ext cx="18792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5" name=""/>
              <p:cNvSpPr/>
              <p:nvPr/>
            </p:nvSpPr>
            <p:spPr>
              <a:xfrm>
                <a:off x="4701960" y="4056120"/>
                <a:ext cx="14461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919480" y="4385160"/>
                <a:ext cx="1995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6233400" y="4388400"/>
                <a:ext cx="934920" cy="46440"/>
                <a:chOff x="6233400" y="4388400"/>
                <a:chExt cx="934920" cy="46440"/>
              </a:xfrm>
            </p:grpSpPr>
            <p:sp>
              <p:nvSpPr>
                <p:cNvPr id="1638" name=""/>
                <p:cNvSpPr/>
                <p:nvPr/>
              </p:nvSpPr>
              <p:spPr>
                <a:xfrm flipH="1">
                  <a:off x="6233400" y="43884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>
                  <a:off x="6233760" y="4399200"/>
                  <a:ext cx="18792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0" name=""/>
              <p:cNvSpPr/>
              <p:nvPr/>
            </p:nvSpPr>
            <p:spPr>
              <a:xfrm>
                <a:off x="2563560" y="5174640"/>
                <a:ext cx="18525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1" name=""/>
              <p:cNvGrpSpPr/>
              <p:nvPr/>
            </p:nvGrpSpPr>
            <p:grpSpPr>
              <a:xfrm>
                <a:off x="3104640" y="5195880"/>
                <a:ext cx="936720" cy="47880"/>
                <a:chOff x="3104640" y="5195880"/>
                <a:chExt cx="936720" cy="47880"/>
              </a:xfrm>
            </p:grpSpPr>
            <p:sp>
              <p:nvSpPr>
                <p:cNvPr id="1642" name=""/>
                <p:cNvSpPr/>
                <p:nvPr/>
              </p:nvSpPr>
              <p:spPr>
                <a:xfrm flipH="1">
                  <a:off x="3104640" y="51958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 flipV="1">
                  <a:off x="3105000" y="5207040"/>
                  <a:ext cx="18828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4" name=""/>
              <p:cNvSpPr/>
              <p:nvPr/>
            </p:nvSpPr>
            <p:spPr>
              <a:xfrm flipH="1" flipV="1">
                <a:off x="2385360" y="3715560"/>
                <a:ext cx="19080" cy="33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flipV="1">
                <a:off x="2385720" y="3715560"/>
                <a:ext cx="2977920" cy="38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2150640" y="3047400"/>
                <a:ext cx="4064040" cy="667800"/>
              </a:xfrm>
              <a:prstGeom prst="foldedCorner">
                <a:avLst>
                  <a:gd name="adj" fmla="val 1417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234880" y="3155400"/>
                <a:ext cx="423396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Annotation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577600" y="3949920"/>
                <a:ext cx="1871640" cy="51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1620360" y="5721120"/>
                <a:ext cx="6380280" cy="906840"/>
              </a:xfrm>
              <a:prstGeom prst="foldedCorner">
                <a:avLst>
                  <a:gd name="adj" fmla="val 1365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790280" y="5770440"/>
                <a:ext cx="6210360" cy="81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propose bid = distance to current archive / refuse / not understood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6980040" y="4624200"/>
                <a:ext cx="0" cy="104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flipV="1">
                <a:off x="4106520" y="5434560"/>
                <a:ext cx="2959200" cy="28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815920" y="4381200"/>
                <a:ext cx="1839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4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3085560" y="4384800"/>
                <a:ext cx="936720" cy="47880"/>
                <a:chOff x="3085560" y="4384800"/>
                <a:chExt cx="936720" cy="47880"/>
              </a:xfrm>
            </p:grpSpPr>
            <p:sp>
              <p:nvSpPr>
                <p:cNvPr id="1655" name=""/>
                <p:cNvSpPr/>
                <p:nvPr/>
              </p:nvSpPr>
              <p:spPr>
                <a:xfrm flipH="1">
                  <a:off x="3085560" y="438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3085920" y="4395960"/>
                  <a:ext cx="18828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"/>
              <p:cNvSpPr/>
              <p:nvPr/>
            </p:nvSpPr>
            <p:spPr>
              <a:xfrm flipH="1" flipV="1">
                <a:off x="4257000" y="4624200"/>
                <a:ext cx="2722680" cy="10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8" name=""/>
              <p:cNvGrpSpPr/>
              <p:nvPr/>
            </p:nvGrpSpPr>
            <p:grpSpPr>
              <a:xfrm>
                <a:off x="3039840" y="4242240"/>
                <a:ext cx="934920" cy="46440"/>
                <a:chOff x="3039840" y="4242240"/>
                <a:chExt cx="934920" cy="4644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3039840" y="428868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786480" y="4242240"/>
                  <a:ext cx="18792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1" name=""/>
              <p:cNvSpPr/>
              <p:nvPr/>
            </p:nvSpPr>
            <p:spPr>
              <a:xfrm>
                <a:off x="1980720" y="4763160"/>
                <a:ext cx="280692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2916000" y="5052960"/>
                <a:ext cx="934920" cy="47880"/>
                <a:chOff x="2916000" y="5052960"/>
                <a:chExt cx="934920" cy="478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2916000" y="510084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3662640" y="5052960"/>
                  <a:ext cx="187920" cy="3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5657400" y="3961440"/>
                <a:ext cx="193680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6" name=""/>
              <p:cNvGrpSpPr/>
              <p:nvPr/>
            </p:nvGrpSpPr>
            <p:grpSpPr>
              <a:xfrm>
                <a:off x="6233760" y="4252320"/>
                <a:ext cx="934920" cy="47880"/>
                <a:chOff x="6233760" y="4252320"/>
                <a:chExt cx="934920" cy="4788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6233760" y="43002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980400" y="4252320"/>
                  <a:ext cx="187920" cy="3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9" name=""/>
              <p:cNvSpPr/>
              <p:nvPr/>
            </p:nvSpPr>
            <p:spPr>
              <a:xfrm>
                <a:off x="874440" y="5174640"/>
                <a:ext cx="1701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1318680" y="5196960"/>
                <a:ext cx="936720" cy="46440"/>
                <a:chOff x="1318680" y="5196960"/>
                <a:chExt cx="936720" cy="4644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>
                  <a:off x="1318680" y="519696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flipV="1">
                  <a:off x="1319040" y="5207760"/>
                  <a:ext cx="18828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>
                <a:off x="4708080" y="4388760"/>
                <a:ext cx="1701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4" name=""/>
              <p:cNvGrpSpPr/>
              <p:nvPr/>
            </p:nvGrpSpPr>
            <p:grpSpPr>
              <a:xfrm>
                <a:off x="5081040" y="4387320"/>
                <a:ext cx="936720" cy="47880"/>
                <a:chOff x="5081040" y="4387320"/>
                <a:chExt cx="936720" cy="47880"/>
              </a:xfrm>
            </p:grpSpPr>
            <p:sp>
              <p:nvSpPr>
                <p:cNvPr id="1675" name=""/>
                <p:cNvSpPr/>
                <p:nvPr/>
              </p:nvSpPr>
              <p:spPr>
                <a:xfrm flipH="1">
                  <a:off x="5081040" y="438732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flipV="1">
                  <a:off x="5081400" y="4398480"/>
                  <a:ext cx="18828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1507680" y="4385160"/>
                <a:ext cx="1701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8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1914120" y="4384800"/>
                <a:ext cx="936720" cy="47880"/>
                <a:chOff x="1914120" y="4384800"/>
                <a:chExt cx="936720" cy="47880"/>
              </a:xfrm>
            </p:grpSpPr>
            <p:sp>
              <p:nvSpPr>
                <p:cNvPr id="1679" name=""/>
                <p:cNvSpPr/>
                <p:nvPr/>
              </p:nvSpPr>
              <p:spPr>
                <a:xfrm flipH="1">
                  <a:off x="1914120" y="438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 flipV="1">
                  <a:off x="1914480" y="4395960"/>
                  <a:ext cx="18828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855360" y="357300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759-23AB-4CB1-B461-C025B2531B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 allocation: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contract-net</a:t>
            </a: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 based on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pseudo-semantic distance bids</a:t>
            </a:r>
            <a:endParaRPr b="0" lang="en-US" sz="16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24444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CD1-850A-45B0-98C6-E3D5FC0A501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How ?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372960"/>
            <a:ext cx="90932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 CoMMA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rporate memories ar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information landscap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takeholders are an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popul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ploitation of CM involves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task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oices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1360" y="3632040"/>
            <a:ext cx="8279640" cy="609840"/>
            <a:chOff x="711360" y="3632040"/>
            <a:chExt cx="8279640" cy="609840"/>
          </a:xfrm>
        </p:grpSpPr>
        <p:grpSp>
          <p:nvGrpSpPr>
            <p:cNvPr id="109" name=""/>
            <p:cNvGrpSpPr/>
            <p:nvPr/>
          </p:nvGrpSpPr>
          <p:grpSpPr>
            <a:xfrm>
              <a:off x="711360" y="3632040"/>
              <a:ext cx="8279640" cy="533520"/>
              <a:chOff x="711360" y="3632040"/>
              <a:chExt cx="8279640" cy="533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11360" y="3632040"/>
                <a:ext cx="41407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52080" y="3632040"/>
                <a:ext cx="41389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883800" y="3632040"/>
              <a:ext cx="379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Materializ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0040" y="3632040"/>
              <a:ext cx="3435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Exploit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1360" y="4165560"/>
            <a:ext cx="8280000" cy="2056680"/>
            <a:chOff x="711360" y="4165560"/>
            <a:chExt cx="8280000" cy="2056680"/>
          </a:xfrm>
        </p:grpSpPr>
        <p:sp>
          <p:nvSpPr>
            <p:cNvPr id="115" name=""/>
            <p:cNvSpPr/>
            <p:nvPr/>
          </p:nvSpPr>
          <p:spPr>
            <a:xfrm>
              <a:off x="71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140360"/>
            <a:ext cx="4114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ML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tandard, Structure, Extensible, Validate,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DF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notation,   Schema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127400"/>
            <a:ext cx="41148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Agent System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ularity, Distributed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chine Learning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daptation, Em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1360" y="6222960"/>
            <a:ext cx="8368920" cy="380880"/>
            <a:chOff x="711360" y="6222960"/>
            <a:chExt cx="8368920" cy="380880"/>
          </a:xfrm>
        </p:grpSpPr>
        <p:grpSp>
          <p:nvGrpSpPr>
            <p:cNvPr id="120" name=""/>
            <p:cNvGrpSpPr/>
            <p:nvPr/>
          </p:nvGrpSpPr>
          <p:grpSpPr>
            <a:xfrm>
              <a:off x="711360" y="6222960"/>
              <a:ext cx="8282160" cy="380880"/>
              <a:chOff x="711360" y="6222960"/>
              <a:chExt cx="828216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711360" y="6222960"/>
                <a:ext cx="41414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2800" y="6222960"/>
                <a:ext cx="414072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6080" y="6222960"/>
              <a:ext cx="369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orporate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91600" y="6222960"/>
              <a:ext cx="428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nagement through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271-5B79-4FF0-A3ED-A1D503B9A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2240" y="355680"/>
            <a:ext cx="90932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What you </a:t>
            </a:r>
            <a:r>
              <a:rPr b="1" lang="en-GB" sz="3000" spc="-1" strike="noStrike">
                <a:solidFill>
                  <a:srgbClr val="cc3300"/>
                </a:solidFill>
                <a:latin typeface="Arial"/>
              </a:rPr>
              <a:t>did not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hear me sa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ontology, DAI, </a:t>
            </a:r>
            <a:r>
              <a:rPr b="0" i="1" lang="en-GB" sz="2600" spc="-1" strike="noStrike">
                <a:solidFill>
                  <a:srgbClr val="000066"/>
                </a:solidFill>
                <a:latin typeface="Arial"/>
              </a:rPr>
              <a:t>etc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are a silver bullets for KM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an information system is the solution to KM problems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an ontology is easy to build, use, etc.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What you </a:t>
            </a:r>
            <a:r>
              <a:rPr b="1" lang="en-GB" sz="30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hear me sa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Knowledge-based system are not the old expert systems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Ontology is a new concept of knowledge representation that can be used in the supporting infrastructure of a complete solution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"Distributed A.I. offers paradigms that can be used to build software architectures adapted to KM distributed"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cc3300"/>
                </a:solidFill>
                <a:latin typeface="Arial"/>
              </a:rPr>
              <a:t>Just an example of the fact that the use of formal knowledge and (distributed) artificial intelligence can go a long way in K.M. suppor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149-8AB6-4842-97AA-1D5826516A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That's all folk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aphicFrame>
        <p:nvGraphicFramePr>
          <p:cNvPr id="1687" name=""/>
          <p:cNvGraphicFramePr/>
          <p:nvPr/>
        </p:nvGraphicFramePr>
        <p:xfrm>
          <a:off x="609480" y="685800"/>
          <a:ext cx="723924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239240" cy="5791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E3F-49A4-4585-B945-70796B2966FC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27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29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32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41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7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4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" name=""/>
          <p:cNvGrpSpPr/>
          <p:nvPr/>
        </p:nvGrpSpPr>
        <p:grpSpPr>
          <a:xfrm>
            <a:off x="919080" y="3763800"/>
            <a:ext cx="1101240" cy="1552680"/>
            <a:chOff x="919080" y="3763800"/>
            <a:chExt cx="1101240" cy="1552680"/>
          </a:xfrm>
        </p:grpSpPr>
        <p:sp>
          <p:nvSpPr>
            <p:cNvPr id="151" name=""/>
            <p:cNvSpPr/>
            <p:nvPr/>
          </p:nvSpPr>
          <p:spPr>
            <a:xfrm>
              <a:off x="91908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590480" y="3763800"/>
              <a:ext cx="429840" cy="1181160"/>
              <a:chOff x="1590480" y="3763800"/>
              <a:chExt cx="429840" cy="11811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590480" y="3763800"/>
                <a:ext cx="210960" cy="97920"/>
                <a:chOff x="1590480" y="3763800"/>
                <a:chExt cx="210960" cy="979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9048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4232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1504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75536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665000" y="3833640"/>
                <a:ext cx="355320" cy="1111320"/>
                <a:chOff x="1665000" y="3833640"/>
                <a:chExt cx="355320" cy="1111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72908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85688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66500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8164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4204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5256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972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6" name=""/>
          <p:cNvGrpSpPr/>
          <p:nvPr/>
        </p:nvGrpSpPr>
        <p:grpSpPr>
          <a:xfrm>
            <a:off x="2222640" y="3882960"/>
            <a:ext cx="2167920" cy="677520"/>
            <a:chOff x="2222640" y="3882960"/>
            <a:chExt cx="2167920" cy="677520"/>
          </a:xfrm>
        </p:grpSpPr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22226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35240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2419200" y="3882960"/>
              <a:ext cx="1007640" cy="677520"/>
              <a:chOff x="2419200" y="3882960"/>
              <a:chExt cx="1007640" cy="677520"/>
            </a:xfrm>
          </p:grpSpPr>
          <p:sp>
            <p:nvSpPr>
              <p:cNvPr id="170" name=""/>
              <p:cNvSpPr/>
              <p:nvPr/>
            </p:nvSpPr>
            <p:spPr>
              <a:xfrm>
                <a:off x="257688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1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560" y="4156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2419200" y="3882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3" name="onto_01" descr=""/>
            <p:cNvPicPr/>
            <p:nvPr/>
          </p:nvPicPr>
          <p:blipFill>
            <a:blip r:embed="rId10"/>
            <a:stretch/>
          </p:blipFill>
          <p:spPr>
            <a:xfrm>
              <a:off x="4076640" y="4122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009880" y="4633920"/>
            <a:ext cx="1631880" cy="882360"/>
            <a:chOff x="2009880" y="4633920"/>
            <a:chExt cx="1631880" cy="882360"/>
          </a:xfrm>
        </p:grpSpPr>
        <p:grpSp>
          <p:nvGrpSpPr>
            <p:cNvPr id="175" name=""/>
            <p:cNvGrpSpPr/>
            <p:nvPr/>
          </p:nvGrpSpPr>
          <p:grpSpPr>
            <a:xfrm>
              <a:off x="2009880" y="4917960"/>
              <a:ext cx="1631880" cy="598320"/>
              <a:chOff x="2009880" y="4917960"/>
              <a:chExt cx="1631880" cy="598320"/>
            </a:xfrm>
          </p:grpSpPr>
          <p:sp>
            <p:nvSpPr>
              <p:cNvPr id="176" name=""/>
              <p:cNvSpPr/>
              <p:nvPr/>
            </p:nvSpPr>
            <p:spPr>
              <a:xfrm>
                <a:off x="208872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7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796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200988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1156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12"/>
            <a:stretch/>
          </p:blipFill>
          <p:spPr>
            <a:xfrm>
              <a:off x="281304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3524400" y="4998960"/>
            <a:ext cx="1065240" cy="357120"/>
            <a:chOff x="3524400" y="4998960"/>
            <a:chExt cx="1065240" cy="357120"/>
          </a:xfrm>
        </p:grpSpPr>
        <p:pic>
          <p:nvPicPr>
            <p:cNvPr id="182" name="" descr=""/>
            <p:cNvPicPr/>
            <p:nvPr/>
          </p:nvPicPr>
          <p:blipFill>
            <a:blip r:embed="rId13"/>
            <a:stretch/>
          </p:blipFill>
          <p:spPr>
            <a:xfrm>
              <a:off x="352440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onto_02" descr=""/>
            <p:cNvPicPr/>
            <p:nvPr/>
          </p:nvPicPr>
          <p:blipFill>
            <a:blip r:embed="rId14"/>
            <a:stretch/>
          </p:blipFill>
          <p:spPr>
            <a:xfrm>
              <a:off x="423396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 txBox="1"/>
          <p:nvPr/>
        </p:nvSpPr>
        <p:spPr>
          <a:xfrm>
            <a:off x="210348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43080" y="3605040"/>
            <a:ext cx="1971720" cy="1273320"/>
            <a:chOff x="2143080" y="3605040"/>
            <a:chExt cx="1971720" cy="1273320"/>
          </a:xfrm>
        </p:grpSpPr>
        <p:sp>
          <p:nvSpPr>
            <p:cNvPr id="186" name=""/>
            <p:cNvSpPr/>
            <p:nvPr/>
          </p:nvSpPr>
          <p:spPr>
            <a:xfrm>
              <a:off x="344484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4308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8752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78C-4907-4822-B0C2-B402D2C88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91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96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1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02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05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6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0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1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12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841320" y="1374840"/>
            <a:ext cx="1774800" cy="1433520"/>
            <a:chOff x="841320" y="1374840"/>
            <a:chExt cx="1774800" cy="1433520"/>
          </a:xfrm>
        </p:grpSpPr>
        <p:sp>
          <p:nvSpPr>
            <p:cNvPr id="215" name=""/>
            <p:cNvSpPr/>
            <p:nvPr/>
          </p:nvSpPr>
          <p:spPr>
            <a:xfrm>
              <a:off x="84132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393560" y="1374840"/>
              <a:ext cx="789120" cy="1231920"/>
              <a:chOff x="1393560" y="1374840"/>
              <a:chExt cx="789120" cy="12319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668960" y="1822680"/>
                <a:ext cx="477360" cy="784080"/>
                <a:chOff x="1668960" y="1822680"/>
                <a:chExt cx="477360" cy="784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87812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92132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75356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6896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98900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83420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679760" y="1374840"/>
                <a:ext cx="236520" cy="239040"/>
                <a:chOff x="1679760" y="1374840"/>
                <a:chExt cx="236520" cy="239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67976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6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676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27" name=""/>
              <p:cNvGrpSpPr/>
              <p:nvPr/>
            </p:nvGrpSpPr>
            <p:grpSpPr>
              <a:xfrm>
                <a:off x="1393560" y="1498320"/>
                <a:ext cx="255240" cy="278640"/>
                <a:chOff x="1393560" y="1498320"/>
                <a:chExt cx="255240" cy="278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39356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9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0184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0" name=""/>
              <p:cNvGrpSpPr/>
              <p:nvPr/>
            </p:nvGrpSpPr>
            <p:grpSpPr>
              <a:xfrm>
                <a:off x="1551240" y="1817280"/>
                <a:ext cx="204120" cy="245160"/>
                <a:chOff x="1551240" y="1817280"/>
                <a:chExt cx="204120" cy="245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55124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2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7176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3" name=""/>
              <p:cNvGrpSpPr/>
              <p:nvPr/>
            </p:nvGrpSpPr>
            <p:grpSpPr>
              <a:xfrm>
                <a:off x="1945800" y="1538280"/>
                <a:ext cx="236880" cy="278640"/>
                <a:chOff x="1945800" y="1538280"/>
                <a:chExt cx="236880" cy="2786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80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5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5120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6" name=""/>
          <p:cNvGrpSpPr/>
          <p:nvPr/>
        </p:nvGrpSpPr>
        <p:grpSpPr>
          <a:xfrm>
            <a:off x="2182680" y="1785960"/>
            <a:ext cx="1617840" cy="903240"/>
            <a:chOff x="2182680" y="1785960"/>
            <a:chExt cx="1617840" cy="903240"/>
          </a:xfrm>
        </p:grpSpPr>
        <p:pic>
          <p:nvPicPr>
            <p:cNvPr id="237" name="" descr=""/>
            <p:cNvPicPr/>
            <p:nvPr/>
          </p:nvPicPr>
          <p:blipFill>
            <a:blip r:embed="rId10"/>
            <a:stretch/>
          </p:blipFill>
          <p:spPr>
            <a:xfrm>
              <a:off x="2182680" y="2262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2458800" y="1785960"/>
              <a:ext cx="1025640" cy="903240"/>
              <a:chOff x="2458800" y="1785960"/>
              <a:chExt cx="1025640" cy="903240"/>
            </a:xfrm>
          </p:grpSpPr>
          <p:sp>
            <p:nvSpPr>
              <p:cNvPr id="239" name=""/>
              <p:cNvSpPr/>
              <p:nvPr/>
            </p:nvSpPr>
            <p:spPr>
              <a:xfrm>
                <a:off x="2458800" y="2052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58800" y="1785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76440" y="2054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5300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3548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4" name="" descr=""/>
            <p:cNvPicPr/>
            <p:nvPr/>
          </p:nvPicPr>
          <p:blipFill>
            <a:blip r:embed="rId13"/>
            <a:stretch/>
          </p:blipFill>
          <p:spPr>
            <a:xfrm>
              <a:off x="3563640" y="2251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3933720" y="1697040"/>
            <a:ext cx="1376280" cy="3565440"/>
            <a:chOff x="3933720" y="1697040"/>
            <a:chExt cx="1376280" cy="3565440"/>
          </a:xfrm>
        </p:grpSpPr>
        <p:pic>
          <p:nvPicPr>
            <p:cNvPr id="246" name="doc_01" descr=""/>
            <p:cNvPicPr/>
            <p:nvPr/>
          </p:nvPicPr>
          <p:blipFill>
            <a:blip r:embed="rId14"/>
            <a:stretch/>
          </p:blipFill>
          <p:spPr>
            <a:xfrm>
              <a:off x="489420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doc_01" descr=""/>
            <p:cNvPicPr/>
            <p:nvPr/>
          </p:nvPicPr>
          <p:blipFill>
            <a:blip r:embed="rId15"/>
            <a:stretch/>
          </p:blipFill>
          <p:spPr>
            <a:xfrm>
              <a:off x="485208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memory_01" descr=""/>
            <p:cNvPicPr/>
            <p:nvPr/>
          </p:nvPicPr>
          <p:blipFill>
            <a:blip r:embed="rId16"/>
            <a:stretch/>
          </p:blipFill>
          <p:spPr>
            <a:xfrm>
              <a:off x="3933720" y="169704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doc_03" descr=""/>
            <p:cNvPicPr/>
            <p:nvPr/>
          </p:nvPicPr>
          <p:blipFill>
            <a:blip r:embed="rId17"/>
            <a:stretch/>
          </p:blipFill>
          <p:spPr>
            <a:xfrm>
              <a:off x="4100040" y="446724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50" name="doc_04" descr=""/>
            <p:cNvPicPr/>
            <p:nvPr/>
          </p:nvPicPr>
          <p:blipFill>
            <a:blip r:embed="rId18"/>
            <a:stretch/>
          </p:blipFill>
          <p:spPr>
            <a:xfrm>
              <a:off x="4017600" y="219240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oc_05gif" descr=""/>
            <p:cNvPicPr/>
            <p:nvPr/>
          </p:nvPicPr>
          <p:blipFill>
            <a:blip r:embed="rId19"/>
            <a:stretch/>
          </p:blipFill>
          <p:spPr>
            <a:xfrm>
              <a:off x="472608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0"/>
            <a:stretch/>
          </p:blipFill>
          <p:spPr>
            <a:xfrm>
              <a:off x="464400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1"/>
            <a:stretch/>
          </p:blipFill>
          <p:spPr>
            <a:xfrm>
              <a:off x="445932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doc_01" descr=""/>
            <p:cNvPicPr/>
            <p:nvPr/>
          </p:nvPicPr>
          <p:blipFill>
            <a:blip r:embed="rId22"/>
            <a:stretch/>
          </p:blipFill>
          <p:spPr>
            <a:xfrm>
              <a:off x="493596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3"/>
            <a:stretch/>
          </p:blipFill>
          <p:spPr>
            <a:xfrm>
              <a:off x="497628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4"/>
            <a:stretch/>
          </p:blipFill>
          <p:spPr>
            <a:xfrm>
              <a:off x="4434120" y="235116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5"/>
            <a:stretch/>
          </p:blipFill>
          <p:spPr>
            <a:xfrm>
              <a:off x="497628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 txBox="1"/>
          <p:nvPr/>
        </p:nvSpPr>
        <p:spPr>
          <a:xfrm>
            <a:off x="277344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08200" y="2610000"/>
            <a:ext cx="947160" cy="396720"/>
            <a:chOff x="1708200" y="2610000"/>
            <a:chExt cx="947160" cy="396720"/>
          </a:xfrm>
        </p:grpSpPr>
        <p:sp>
          <p:nvSpPr>
            <p:cNvPr id="260" name=""/>
            <p:cNvSpPr/>
            <p:nvPr/>
          </p:nvSpPr>
          <p:spPr>
            <a:xfrm>
              <a:off x="170820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02356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2" name="onto_01" descr=""/>
          <p:cNvPicPr/>
          <p:nvPr/>
        </p:nvPicPr>
        <p:blipFill>
          <a:blip r:embed="rId26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63" name="onto_02" descr=""/>
          <p:cNvPicPr/>
          <p:nvPr/>
        </p:nvPicPr>
        <p:blipFill>
          <a:blip r:embed="rId27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EDD-001C-4E91-9718-A69C87C9F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266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268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271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6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7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9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80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1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5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86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87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9" name=""/>
          <p:cNvGrpSpPr/>
          <p:nvPr/>
        </p:nvGrpSpPr>
        <p:grpSpPr>
          <a:xfrm>
            <a:off x="7113600" y="4521240"/>
            <a:ext cx="1106280" cy="1193760"/>
            <a:chOff x="7113600" y="4521240"/>
            <a:chExt cx="1106280" cy="1193760"/>
          </a:xfrm>
        </p:grpSpPr>
        <p:sp>
          <p:nvSpPr>
            <p:cNvPr id="290" name=""/>
            <p:cNvSpPr/>
            <p:nvPr/>
          </p:nvSpPr>
          <p:spPr>
            <a:xfrm>
              <a:off x="711360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7272000" y="4600440"/>
              <a:ext cx="430200" cy="903600"/>
              <a:chOff x="7272000" y="4600440"/>
              <a:chExt cx="430200" cy="903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739656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50780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41816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1700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7164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45164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705440" y="4521240"/>
              <a:ext cx="473400" cy="396720"/>
              <a:chOff x="7705440" y="4521240"/>
              <a:chExt cx="473400" cy="396720"/>
            </a:xfrm>
          </p:grpSpPr>
          <p:sp>
            <p:nvSpPr>
              <p:cNvPr id="299" name=""/>
              <p:cNvSpPr/>
              <p:nvPr/>
            </p:nvSpPr>
            <p:spPr>
              <a:xfrm>
                <a:off x="770544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0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82172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1" name=""/>
          <p:cNvGrpSpPr/>
          <p:nvPr/>
        </p:nvGrpSpPr>
        <p:grpSpPr>
          <a:xfrm>
            <a:off x="5456160" y="4560840"/>
            <a:ext cx="1697040" cy="995400"/>
            <a:chOff x="5456160" y="4560840"/>
            <a:chExt cx="1697040" cy="995400"/>
          </a:xfrm>
        </p:grpSpPr>
        <p:pic>
          <p:nvPicPr>
            <p:cNvPr id="302" name="" descr=""/>
            <p:cNvPicPr/>
            <p:nvPr/>
          </p:nvPicPr>
          <p:blipFill>
            <a:blip r:embed="rId7"/>
            <a:stretch/>
          </p:blipFill>
          <p:spPr>
            <a:xfrm>
              <a:off x="545616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"/>
            <a:stretch/>
          </p:blipFill>
          <p:spPr>
            <a:xfrm>
              <a:off x="691668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5732280" y="4560840"/>
              <a:ext cx="1104840" cy="995400"/>
              <a:chOff x="5732280" y="4560840"/>
              <a:chExt cx="1104840" cy="9954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5732280" y="4560840"/>
                <a:ext cx="1026000" cy="902880"/>
                <a:chOff x="5732280" y="4560840"/>
                <a:chExt cx="1026000" cy="902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73228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73228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74992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684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0896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1" name=""/>
              <p:cNvGrpSpPr/>
              <p:nvPr/>
            </p:nvGrpSpPr>
            <p:grpSpPr>
              <a:xfrm>
                <a:off x="5771520" y="4600440"/>
                <a:ext cx="1026000" cy="903240"/>
                <a:chOff x="5771520" y="4600440"/>
                <a:chExt cx="1026000" cy="9032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7152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7152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8916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6608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820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7" name=""/>
              <p:cNvGrpSpPr/>
              <p:nvPr/>
            </p:nvGrpSpPr>
            <p:grpSpPr>
              <a:xfrm>
                <a:off x="5811120" y="4653000"/>
                <a:ext cx="1026000" cy="903240"/>
                <a:chOff x="5811120" y="4653000"/>
                <a:chExt cx="1026000" cy="903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81112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1112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82876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0568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88780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23" name="onto_01" descr=""/>
          <p:cNvPicPr/>
          <p:nvPr/>
        </p:nvPicPr>
        <p:blipFill>
          <a:blip r:embed="rId15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324" name="onto_02" descr=""/>
          <p:cNvPicPr/>
          <p:nvPr/>
        </p:nvPicPr>
        <p:blipFill>
          <a:blip r:embed="rId16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7192800" y="3787920"/>
            <a:ext cx="631800" cy="772920"/>
            <a:chOff x="7192800" y="3787920"/>
            <a:chExt cx="631800" cy="772920"/>
          </a:xfrm>
        </p:grpSpPr>
        <p:pic>
          <p:nvPicPr>
            <p:cNvPr id="326" name="" descr=""/>
            <p:cNvPicPr/>
            <p:nvPr/>
          </p:nvPicPr>
          <p:blipFill>
            <a:blip r:embed="rId17"/>
            <a:stretch/>
          </p:blipFill>
          <p:spPr>
            <a:xfrm>
              <a:off x="738972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" name=""/>
            <p:cNvGrpSpPr/>
            <p:nvPr/>
          </p:nvGrpSpPr>
          <p:grpSpPr>
            <a:xfrm>
              <a:off x="7192800" y="3787920"/>
              <a:ext cx="631800" cy="490320"/>
              <a:chOff x="7192800" y="3787920"/>
              <a:chExt cx="631800" cy="490320"/>
            </a:xfrm>
          </p:grpSpPr>
          <p:sp>
            <p:nvSpPr>
              <p:cNvPr id="328" name=""/>
              <p:cNvSpPr/>
              <p:nvPr/>
            </p:nvSpPr>
            <p:spPr>
              <a:xfrm>
                <a:off x="723204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9280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42968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1" name="doc_01" descr=""/>
          <p:cNvPicPr/>
          <p:nvPr/>
        </p:nvPicPr>
        <p:blipFill>
          <a:blip r:embed="rId19"/>
          <a:stretch/>
        </p:blipFill>
        <p:spPr>
          <a:xfrm>
            <a:off x="4894200" y="231156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2" name="doc_01" descr=""/>
          <p:cNvPicPr/>
          <p:nvPr/>
        </p:nvPicPr>
        <p:blipFill>
          <a:blip r:embed="rId20"/>
          <a:stretch/>
        </p:blipFill>
        <p:spPr>
          <a:xfrm>
            <a:off x="4851360" y="223200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3" name="memory_01" descr=""/>
          <p:cNvPicPr/>
          <p:nvPr/>
        </p:nvPicPr>
        <p:blipFill>
          <a:blip r:embed="rId21"/>
          <a:stretch/>
        </p:blipFill>
        <p:spPr>
          <a:xfrm>
            <a:off x="3933720" y="169704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34" name="doc_03" descr=""/>
          <p:cNvPicPr/>
          <p:nvPr/>
        </p:nvPicPr>
        <p:blipFill>
          <a:blip r:embed="rId22"/>
          <a:stretch/>
        </p:blipFill>
        <p:spPr>
          <a:xfrm>
            <a:off x="4100400" y="4467240"/>
            <a:ext cx="41760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35" name="doc_04" descr=""/>
          <p:cNvPicPr/>
          <p:nvPr/>
        </p:nvPicPr>
        <p:blipFill>
          <a:blip r:embed="rId23"/>
          <a:stretch/>
        </p:blipFill>
        <p:spPr>
          <a:xfrm>
            <a:off x="4017960" y="2192400"/>
            <a:ext cx="291960" cy="277920"/>
          </a:xfrm>
          <a:prstGeom prst="rect">
            <a:avLst/>
          </a:prstGeom>
          <a:ln w="0">
            <a:noFill/>
          </a:ln>
        </p:spPr>
      </p:pic>
      <p:pic>
        <p:nvPicPr>
          <p:cNvPr id="336" name="doc_05gif" descr=""/>
          <p:cNvPicPr/>
          <p:nvPr/>
        </p:nvPicPr>
        <p:blipFill>
          <a:blip r:embed="rId24"/>
          <a:stretch/>
        </p:blipFill>
        <p:spPr>
          <a:xfrm>
            <a:off x="4726080" y="438624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5"/>
          <a:stretch/>
        </p:blipFill>
        <p:spPr>
          <a:xfrm>
            <a:off x="4643280" y="3824280"/>
            <a:ext cx="435240" cy="415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6"/>
          <a:stretch/>
        </p:blipFill>
        <p:spPr>
          <a:xfrm>
            <a:off x="4459320" y="173664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39" name="doc_01" descr=""/>
          <p:cNvPicPr/>
          <p:nvPr/>
        </p:nvPicPr>
        <p:blipFill>
          <a:blip r:embed="rId27"/>
          <a:stretch/>
        </p:blipFill>
        <p:spPr>
          <a:xfrm>
            <a:off x="4935600" y="2351160"/>
            <a:ext cx="226800" cy="279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8"/>
          <a:stretch/>
        </p:blipFill>
        <p:spPr>
          <a:xfrm>
            <a:off x="4976640" y="4944960"/>
            <a:ext cx="333720" cy="317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9"/>
          <a:stretch/>
        </p:blipFill>
        <p:spPr>
          <a:xfrm>
            <a:off x="4433760" y="2351160"/>
            <a:ext cx="352440" cy="334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0"/>
          <a:stretch/>
        </p:blipFill>
        <p:spPr>
          <a:xfrm>
            <a:off x="4976640" y="1793880"/>
            <a:ext cx="333720" cy="318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695628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257800" y="2057040"/>
            <a:ext cx="2247840" cy="2503800"/>
            <a:chOff x="5257800" y="2057040"/>
            <a:chExt cx="2247840" cy="2503800"/>
          </a:xfrm>
        </p:grpSpPr>
        <p:sp>
          <p:nvSpPr>
            <p:cNvPr id="345" name=""/>
            <p:cNvSpPr/>
            <p:nvPr/>
          </p:nvSpPr>
          <p:spPr>
            <a:xfrm flipH="1" flipV="1">
              <a:off x="525780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7400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36408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5628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062680" y="3565440"/>
            <a:ext cx="2129760" cy="1035000"/>
            <a:chOff x="5062680" y="3565440"/>
            <a:chExt cx="2129760" cy="1035000"/>
          </a:xfrm>
        </p:grpSpPr>
        <p:sp>
          <p:nvSpPr>
            <p:cNvPr id="350" name=""/>
            <p:cNvSpPr/>
            <p:nvPr/>
          </p:nvSpPr>
          <p:spPr>
            <a:xfrm flipH="1">
              <a:off x="5062680" y="3565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89104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3684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3CE-EF4E-4195-A599-42F521A30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355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357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360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6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69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75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37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77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379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4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395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6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407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9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0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2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3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5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16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417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7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8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429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0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431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6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438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0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7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59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460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463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4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6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468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469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0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3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475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478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9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480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3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484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88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500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504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507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512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516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F23-9981-4C8A-99D5-E54C26C2D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523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528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34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537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43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54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45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6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547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2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563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8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1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84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585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587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594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96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597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8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599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4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606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5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1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27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628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631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34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636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637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1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643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646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7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1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652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656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668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672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675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680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98400" y="1143000"/>
            <a:ext cx="8013600" cy="4647960"/>
            <a:chOff x="698400" y="1143000"/>
            <a:chExt cx="8013600" cy="4647960"/>
          </a:xfrm>
        </p:grpSpPr>
        <p:sp>
          <p:nvSpPr>
            <p:cNvPr id="684" name=""/>
            <p:cNvSpPr/>
            <p:nvPr/>
          </p:nvSpPr>
          <p:spPr>
            <a:xfrm>
              <a:off x="711000" y="11430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00" y="556236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1000" y="388620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87920" y="129528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8400" y="457200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82600" y="556236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35440" y="12952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39800" y="38862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82600" y="487656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82600" y="48765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35440" y="12952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87920" y="129528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39800" y="388620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1F2-82FC-498F-A06E-4890FF33D9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18:56:05Z</dcterms:created>
  <dc:creator>Fabien GANDON</dc:creator>
  <dc:description/>
  <dc:language>en-US</dc:language>
  <cp:lastModifiedBy>Fabien GANDON</cp:lastModifiedBy>
  <dcterms:modified xsi:type="dcterms:W3CDTF">2002-09-06T07:43:32Z</dcterms:modified>
  <cp:revision>52</cp:revision>
  <dc:subject/>
  <dc:title>Trying the title of the slides</dc:title>
</cp:coreProperties>
</file>