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53213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A70E-2A95-49A2-AF94-5C0612769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6124320"/>
            <a:ext cx="83343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774AA-D442-46B0-810A-7607F738A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124320"/>
            <a:ext cx="83343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59E9C-D23D-4B2D-87FA-749135BF3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6124320"/>
            <a:ext cx="83343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00105-B9C4-4861-B776-C1B0E4C42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6124320"/>
            <a:ext cx="83343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6124320"/>
            <a:ext cx="83343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6124320"/>
            <a:ext cx="83343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6124320"/>
            <a:ext cx="83343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6124320"/>
            <a:ext cx="83343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6124320"/>
            <a:ext cx="83343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6124320"/>
            <a:ext cx="83343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21729-1D70-4FEB-8809-515911399F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6124320"/>
            <a:ext cx="83343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6124320"/>
            <a:ext cx="83343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6124320"/>
            <a:ext cx="83343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6124320"/>
            <a:ext cx="83343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6124320"/>
            <a:ext cx="83343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124320"/>
            <a:ext cx="83343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26E8-13B7-4CCE-B1E4-E2913E55F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124320"/>
            <a:ext cx="83343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5175-2C5E-4981-AD6B-287697C8B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6124320"/>
            <a:ext cx="83343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FF87-5C97-46F9-BF99-C2BCEAE79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520" y="6124320"/>
            <a:ext cx="833436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75192-21D9-4F5A-AEED-D13A15193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6124320"/>
            <a:ext cx="83343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C95F-1F8F-4D95-92F4-4FA708627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6124320"/>
            <a:ext cx="83343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C79C-92A9-4871-8865-BC2B13897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6124320"/>
            <a:ext cx="83343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B156-51F1-4AC8-B609-051D7D230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546400" y="659916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808080"/>
                </a:solidFill>
                <a:latin typeface="Times New Roman"/>
              </a:rPr>
              <a:t>e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8160" y="38160"/>
            <a:ext cx="8029800" cy="6303600"/>
            <a:chOff x="38160" y="38160"/>
            <a:chExt cx="8029800" cy="6303600"/>
          </a:xfrm>
        </p:grpSpPr>
        <p:sp>
          <p:nvSpPr>
            <p:cNvPr id="2" name=""/>
            <p:cNvSpPr/>
            <p:nvPr/>
          </p:nvSpPr>
          <p:spPr>
            <a:xfrm>
              <a:off x="38160" y="38160"/>
              <a:ext cx="7992000" cy="6295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160" y="38160"/>
              <a:ext cx="8029800" cy="630360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8160" y="38160"/>
              <a:ext cx="8029800" cy="630360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8058240" cy="635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Empty" descr=""/>
          <p:cNvPicPr/>
          <p:nvPr/>
        </p:nvPicPr>
        <p:blipFill>
          <a:blip r:embed="rId5"/>
          <a:stretch/>
        </p:blipFill>
        <p:spPr>
          <a:xfrm>
            <a:off x="7686720" y="6310440"/>
            <a:ext cx="1457280" cy="5666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85E2-EFE8-4703-A9D4-040E1E133B91}" type="slidenum">
              <a:rPr b="1" lang="en-US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Times New Roman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90600" y="1828800"/>
            <a:ext cx="8381880" cy="4884840"/>
            <a:chOff x="390600" y="1828800"/>
            <a:chExt cx="8381880" cy="4884840"/>
          </a:xfrm>
        </p:grpSpPr>
        <p:sp>
          <p:nvSpPr>
            <p:cNvPr id="46" name=""/>
            <p:cNvSpPr/>
            <p:nvPr/>
          </p:nvSpPr>
          <p:spPr>
            <a:xfrm>
              <a:off x="390600" y="1828800"/>
              <a:ext cx="8342640" cy="4878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0600" y="1828800"/>
              <a:ext cx="8381880" cy="488484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0" y="0"/>
                  </a:lnTo>
                  <a:lnTo>
                    <a:pt x="0" y="72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0600" y="1828800"/>
              <a:ext cx="8381880" cy="4884840"/>
            </a:xfrm>
            <a:custGeom>
              <a:avLst/>
              <a:gdLst/>
              <a:ahLst/>
              <a:rect l="l" t="t" r="r" b="b"/>
              <a:pathLst>
                <a:path w="193" h="721">
                  <a:moveTo>
                    <a:pt x="192" y="0"/>
                  </a:moveTo>
                  <a:lnTo>
                    <a:pt x="192" y="720"/>
                  </a:lnTo>
                  <a:lnTo>
                    <a:pt x="0" y="720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124320"/>
            <a:ext cx="83343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0600" y="200160"/>
            <a:ext cx="8353440" cy="1438200"/>
          </a:xfrm>
          <a:prstGeom prst="rect">
            <a:avLst/>
          </a:prstGeom>
          <a:gradFill rotWithShape="0">
            <a:gsLst>
              <a:gs pos="0">
                <a:srgbClr val="e1e1e1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Winner" descr=""/>
          <p:cNvPicPr/>
          <p:nvPr/>
        </p:nvPicPr>
        <p:blipFill>
          <a:blip r:embed="rId5"/>
          <a:stretch/>
        </p:blipFill>
        <p:spPr>
          <a:xfrm>
            <a:off x="2714760" y="257040"/>
            <a:ext cx="3333600" cy="1295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6124320"/>
            <a:ext cx="83343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by the CoMMA consortium - Fabien GA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19120" y="1924200"/>
            <a:ext cx="8124840" cy="42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orporate</a:t>
            </a:r>
            <a:endParaRPr b="0" i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emory</a:t>
            </a:r>
            <a:endParaRPr b="0" i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anagement</a:t>
            </a:r>
            <a:endParaRPr b="0" i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through</a:t>
            </a:r>
            <a:endParaRPr b="0" i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gents</a:t>
            </a:r>
            <a:endParaRPr b="0" i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333440" y="2476440"/>
            <a:ext cx="996840" cy="146160"/>
            <a:chOff x="1333440" y="2476440"/>
            <a:chExt cx="996840" cy="146160"/>
          </a:xfrm>
        </p:grpSpPr>
        <p:sp>
          <p:nvSpPr>
            <p:cNvPr id="92" name=""/>
            <p:cNvSpPr/>
            <p:nvPr/>
          </p:nvSpPr>
          <p:spPr>
            <a:xfrm>
              <a:off x="1333440" y="2565360"/>
              <a:ext cx="9144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65400" y="2476440"/>
              <a:ext cx="164880" cy="14616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930320" y="3352680"/>
            <a:ext cx="1390680" cy="145800"/>
            <a:chOff x="1930320" y="3352680"/>
            <a:chExt cx="1390680" cy="145800"/>
          </a:xfrm>
        </p:grpSpPr>
        <p:sp>
          <p:nvSpPr>
            <p:cNvPr id="95" name=""/>
            <p:cNvSpPr/>
            <p:nvPr/>
          </p:nvSpPr>
          <p:spPr>
            <a:xfrm>
              <a:off x="1930320" y="3441600"/>
              <a:ext cx="130824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56120" y="3352680"/>
              <a:ext cx="164880" cy="1458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82760" y="4241880"/>
            <a:ext cx="1390320" cy="145800"/>
            <a:chOff x="482760" y="4241880"/>
            <a:chExt cx="1390320" cy="145800"/>
          </a:xfrm>
        </p:grpSpPr>
        <p:sp>
          <p:nvSpPr>
            <p:cNvPr id="98" name=""/>
            <p:cNvSpPr/>
            <p:nvPr/>
          </p:nvSpPr>
          <p:spPr>
            <a:xfrm>
              <a:off x="482760" y="4330440"/>
              <a:ext cx="13078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8200" y="4241880"/>
              <a:ext cx="164880" cy="1458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374920" y="6058080"/>
            <a:ext cx="1047600" cy="145800"/>
            <a:chOff x="2374920" y="6058080"/>
            <a:chExt cx="1047600" cy="145800"/>
          </a:xfrm>
        </p:grpSpPr>
        <p:sp>
          <p:nvSpPr>
            <p:cNvPr id="101" name=""/>
            <p:cNvSpPr/>
            <p:nvPr/>
          </p:nvSpPr>
          <p:spPr>
            <a:xfrm>
              <a:off x="2374920" y="6134040"/>
              <a:ext cx="965160" cy="126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57640" y="6058080"/>
              <a:ext cx="164880" cy="1458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492360" y="6566040"/>
            <a:ext cx="996840" cy="145800"/>
            <a:chOff x="3492360" y="6566040"/>
            <a:chExt cx="996840" cy="145800"/>
          </a:xfrm>
        </p:grpSpPr>
        <p:sp>
          <p:nvSpPr>
            <p:cNvPr id="104" name=""/>
            <p:cNvSpPr/>
            <p:nvPr/>
          </p:nvSpPr>
          <p:spPr>
            <a:xfrm>
              <a:off x="3492360" y="6654960"/>
              <a:ext cx="9144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24320" y="6566040"/>
              <a:ext cx="164880" cy="14580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ological Approach: Data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0"/>
            <a:ext cx="8058240" cy="28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-structured individual &amp; group 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Discussion (Unstructu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back &amp; Clarification (More structu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ees’ Self-synthesis (General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(e.g. NE Route Car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5765760"/>
            <a:ext cx="80582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y Building : Top-Down &amp; Bottom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Atos-Laet-bureau-3" descr=""/>
          <p:cNvPicPr/>
          <p:nvPr/>
        </p:nvPicPr>
        <p:blipFill>
          <a:blip r:embed="rId1"/>
          <a:stretch/>
        </p:blipFill>
        <p:spPr>
          <a:xfrm>
            <a:off x="3019320" y="2452680"/>
            <a:ext cx="4610160" cy="331488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3019320" y="2449440"/>
            <a:ext cx="4610160" cy="3322800"/>
            <a:chOff x="3019320" y="2449440"/>
            <a:chExt cx="4610160" cy="3322800"/>
          </a:xfrm>
        </p:grpSpPr>
        <p:grpSp>
          <p:nvGrpSpPr>
            <p:cNvPr id="260" name=""/>
            <p:cNvGrpSpPr/>
            <p:nvPr/>
          </p:nvGrpSpPr>
          <p:grpSpPr>
            <a:xfrm>
              <a:off x="3019320" y="2449440"/>
              <a:ext cx="4610160" cy="3322800"/>
              <a:chOff x="3019320" y="2449440"/>
              <a:chExt cx="4610160" cy="3322800"/>
            </a:xfrm>
          </p:grpSpPr>
          <p:sp>
            <p:nvSpPr>
              <p:cNvPr id="261" name=""/>
              <p:cNvSpPr/>
              <p:nvPr/>
            </p:nvSpPr>
            <p:spPr>
              <a:xfrm>
                <a:off x="3019320" y="2449440"/>
                <a:ext cx="4610160" cy="12351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019320" y="3360600"/>
                <a:ext cx="1244880" cy="908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135840" y="3360600"/>
                <a:ext cx="1039680" cy="1103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87880" y="3619440"/>
                <a:ext cx="1493640" cy="260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187880" y="3816360"/>
                <a:ext cx="455400" cy="4525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097600" y="3749760"/>
                <a:ext cx="583920" cy="3888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643280" y="4138560"/>
                <a:ext cx="1492560" cy="651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45200" y="3646440"/>
                <a:ext cx="584280" cy="4269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135840" y="4334040"/>
                <a:ext cx="1493640" cy="3888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019320" y="4722840"/>
                <a:ext cx="3571920" cy="5875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915240" y="4722840"/>
                <a:ext cx="714240" cy="6508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019320" y="5253120"/>
                <a:ext cx="4610160" cy="519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16720" y="4203720"/>
                <a:ext cx="714240" cy="6494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019320" y="4398840"/>
                <a:ext cx="2597400" cy="6508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019320" y="4203720"/>
                <a:ext cx="2013120" cy="6494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4635360" y="3870360"/>
              <a:ext cx="457200" cy="268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670720" y="3681360"/>
              <a:ext cx="460080" cy="4539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69040" y="4065480"/>
              <a:ext cx="451080" cy="2685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22720" y="4202280"/>
              <a:ext cx="590760" cy="1965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88000" y="4722840"/>
              <a:ext cx="324000" cy="528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0" y="2857680"/>
            <a:ext cx="287640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58240" y="25560"/>
            <a:ext cx="106020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ML 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mbolic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Data Col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ing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s 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9D9AC-E8D9-46CF-A2E2-EEE5E9DCDF65}" type="slidenum">
              <a:t>10</a:t>
            </a:fld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095640" y="3409920"/>
            <a:ext cx="490536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ological Approach: Designing the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-25560" y="12240"/>
            <a:ext cx="8058240" cy="20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Agent Rol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-25560" y="2489040"/>
            <a:ext cx="7562880" cy="22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ed to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Ins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L (adap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571840" y="617400"/>
            <a:ext cx="5476680" cy="2270160"/>
            <a:chOff x="2571840" y="617400"/>
            <a:chExt cx="5476680" cy="2270160"/>
          </a:xfrm>
        </p:grpSpPr>
        <p:sp>
          <p:nvSpPr>
            <p:cNvPr id="288" name=""/>
            <p:cNvSpPr/>
            <p:nvPr/>
          </p:nvSpPr>
          <p:spPr>
            <a:xfrm>
              <a:off x="2571840" y="637920"/>
              <a:ext cx="2619360" cy="687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2646360" y="739800"/>
              <a:ext cx="442440" cy="474120"/>
              <a:chOff x="2646360" y="739800"/>
              <a:chExt cx="442440" cy="47412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2796840" y="739800"/>
                <a:ext cx="291960" cy="388800"/>
                <a:chOff x="2796840" y="739800"/>
                <a:chExt cx="291960" cy="3888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796840" y="93420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2796840" y="73980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2743560" y="768240"/>
                <a:ext cx="291960" cy="388800"/>
                <a:chOff x="2743560" y="768240"/>
                <a:chExt cx="291960" cy="3888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2743560" y="96264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V="1">
                  <a:off x="2743560" y="76824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699640" y="796320"/>
                <a:ext cx="291960" cy="388800"/>
                <a:chOff x="2699640" y="796320"/>
                <a:chExt cx="291960" cy="3888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699640" y="99072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V="1">
                  <a:off x="2699640" y="79632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2646360" y="825120"/>
                <a:ext cx="291960" cy="388800"/>
                <a:chOff x="2646360" y="825120"/>
                <a:chExt cx="291960" cy="38880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2646360" y="101952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2646360" y="82512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3049560" y="617400"/>
              <a:ext cx="220500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tology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19400" y="1425600"/>
              <a:ext cx="2835360" cy="68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4094280" y="1527120"/>
              <a:ext cx="442440" cy="474120"/>
              <a:chOff x="4094280" y="1527120"/>
              <a:chExt cx="442440" cy="47412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4244760" y="1527120"/>
                <a:ext cx="291960" cy="388800"/>
                <a:chOff x="4244760" y="1527120"/>
                <a:chExt cx="291960" cy="38880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4244760" y="172152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4244760" y="152712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4191480" y="1555560"/>
                <a:ext cx="291960" cy="388800"/>
                <a:chOff x="4191480" y="1555560"/>
                <a:chExt cx="291960" cy="3888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4191480" y="174996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4191480" y="155556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147560" y="1583640"/>
                <a:ext cx="291960" cy="388800"/>
                <a:chOff x="4147560" y="1583640"/>
                <a:chExt cx="291960" cy="3888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147560" y="177804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4147560" y="158364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4094280" y="1612440"/>
                <a:ext cx="291960" cy="388800"/>
                <a:chOff x="4094280" y="1612440"/>
                <a:chExt cx="291960" cy="3888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4094280" y="180684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4094280" y="161244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7" name=""/>
            <p:cNvSpPr/>
            <p:nvPr/>
          </p:nvSpPr>
          <p:spPr>
            <a:xfrm>
              <a:off x="4497480" y="1404720"/>
              <a:ext cx="25858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nection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32360" y="2199960"/>
              <a:ext cx="2835000" cy="687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4106880" y="2301840"/>
              <a:ext cx="442440" cy="474120"/>
              <a:chOff x="4106880" y="2301840"/>
              <a:chExt cx="442440" cy="47412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4257360" y="2301840"/>
                <a:ext cx="291960" cy="388800"/>
                <a:chOff x="4257360" y="2301840"/>
                <a:chExt cx="291960" cy="38880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4257360" y="249624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V="1">
                  <a:off x="4257360" y="230184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4204080" y="2330280"/>
                <a:ext cx="291960" cy="388800"/>
                <a:chOff x="4204080" y="2330280"/>
                <a:chExt cx="291960" cy="38880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4204080" y="252468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4204080" y="233028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4160160" y="2358360"/>
                <a:ext cx="291960" cy="388800"/>
                <a:chOff x="4160160" y="2358360"/>
                <a:chExt cx="291960" cy="3888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4160160" y="255276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V="1">
                  <a:off x="4160160" y="235836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4106880" y="2387160"/>
                <a:ext cx="291960" cy="388800"/>
                <a:chOff x="4106880" y="2387160"/>
                <a:chExt cx="291960" cy="3888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106880" y="258156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V="1">
                  <a:off x="4106880" y="238716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2" name=""/>
            <p:cNvSpPr/>
            <p:nvPr/>
          </p:nvSpPr>
          <p:spPr>
            <a:xfrm>
              <a:off x="4510080" y="2179440"/>
              <a:ext cx="26240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76880" y="637920"/>
              <a:ext cx="2682720" cy="687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5351400" y="739800"/>
              <a:ext cx="442440" cy="474120"/>
              <a:chOff x="5351400" y="739800"/>
              <a:chExt cx="442440" cy="47412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501880" y="739800"/>
                <a:ext cx="291960" cy="388800"/>
                <a:chOff x="5501880" y="739800"/>
                <a:chExt cx="291960" cy="3888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5501880" y="93420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5501880" y="73980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5448600" y="768240"/>
                <a:ext cx="291960" cy="388800"/>
                <a:chOff x="5448600" y="768240"/>
                <a:chExt cx="291960" cy="38880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5448600" y="96264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V="1">
                  <a:off x="5448600" y="76824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5404680" y="796320"/>
                <a:ext cx="291960" cy="388800"/>
                <a:chOff x="5404680" y="796320"/>
                <a:chExt cx="291960" cy="38880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5404680" y="99072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>
                  <a:off x="5404680" y="79632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5351400" y="825120"/>
                <a:ext cx="291960" cy="388800"/>
                <a:chOff x="5351400" y="825120"/>
                <a:chExt cx="291960" cy="38880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5351400" y="101952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5351400" y="825120"/>
                  <a:ext cx="29196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7" name=""/>
            <p:cNvSpPr/>
            <p:nvPr/>
          </p:nvSpPr>
          <p:spPr>
            <a:xfrm>
              <a:off x="5742000" y="617400"/>
              <a:ext cx="23065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cument dedi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-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37080" y="1144440"/>
              <a:ext cx="458640" cy="385920"/>
            </a:xfrm>
            <a:prstGeom prst="line">
              <a:avLst/>
            </a:prstGeom>
            <a:ln w="1908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652800" y="1220760"/>
              <a:ext cx="701640" cy="309600"/>
            </a:xfrm>
            <a:prstGeom prst="line">
              <a:avLst/>
            </a:prstGeom>
            <a:ln w="1908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67240" y="2014560"/>
              <a:ext cx="0" cy="560160"/>
            </a:xfrm>
            <a:prstGeom prst="line">
              <a:avLst/>
            </a:prstGeom>
            <a:ln w="1908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8058240" y="25560"/>
            <a:ext cx="106020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ML 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mbolic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Designing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s 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95C87-A0F8-453A-AF68-F93B2B206DB7}" type="slidenum">
              <a:t>11</a:t>
            </a:fld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ological Approach: Prototypes and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0"/>
            <a:ext cx="8058240" cy="635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t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DE framework for developing 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iant with FIPA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ersions to include new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tation-bas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SE: COnceptual REsource Search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P parser + NOTIO Conceptual Graphs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ests for the integration in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F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on in 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in RD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KA package  under consi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058240" y="25560"/>
            <a:ext cx="106020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ML 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mbolic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ing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rototypes 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082E1-A8F3-4350-83AE-703D9F3CDF1A}" type="slidenum">
              <a:t>12</a:t>
            </a:fld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ological Approach: Summary and Methodology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27080" y="619200"/>
            <a:ext cx="2454120" cy="2701080"/>
            <a:chOff x="127080" y="619200"/>
            <a:chExt cx="2454120" cy="2701080"/>
          </a:xfrm>
        </p:grpSpPr>
        <p:sp>
          <p:nvSpPr>
            <p:cNvPr id="357" name=""/>
            <p:cNvSpPr/>
            <p:nvPr/>
          </p:nvSpPr>
          <p:spPr>
            <a:xfrm>
              <a:off x="142920" y="659520"/>
              <a:ext cx="243828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7080" y="61920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vie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3280" y="1191960"/>
              <a:ext cx="17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2560" y="1724040"/>
              <a:ext cx="20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stionnai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1840" y="2256480"/>
              <a:ext cx="19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rainstor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3280" y="2788560"/>
              <a:ext cx="157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1619280" y="191448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24000" y="659520"/>
              <a:ext cx="0" cy="266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 rot="10800000">
            <a:off x="2289240" y="3041280"/>
            <a:ext cx="822240" cy="762120"/>
          </a:xfrm>
          <a:custGeom>
            <a:avLst/>
            <a:gdLst>
              <a:gd name="textAreaLeft" fmla="*/ 0 w 822240"/>
              <a:gd name="textAreaRight" fmla="*/ 822600 w 8222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6245471"/>
                <a:lnTo>
                  <a:pt x="10943" y="21599"/>
                </a:lnTo>
                <a:arcTo wR="10800" hR="10800" stAng="5354529" swAng="16245471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573280" y="660240"/>
            <a:ext cx="465120" cy="2660400"/>
            <a:chOff x="2573280" y="660240"/>
            <a:chExt cx="465120" cy="2660400"/>
          </a:xfrm>
        </p:grpSpPr>
        <p:sp>
          <p:nvSpPr>
            <p:cNvPr id="367" name=""/>
            <p:cNvSpPr/>
            <p:nvPr/>
          </p:nvSpPr>
          <p:spPr>
            <a:xfrm>
              <a:off x="2657520" y="660240"/>
              <a:ext cx="380880" cy="266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6200000">
              <a:off x="2178360" y="187272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933640" y="196920"/>
            <a:ext cx="4318560" cy="3126600"/>
            <a:chOff x="2933640" y="196920"/>
            <a:chExt cx="4318560" cy="3126600"/>
          </a:xfrm>
        </p:grpSpPr>
        <p:sp>
          <p:nvSpPr>
            <p:cNvPr id="370" name=""/>
            <p:cNvSpPr/>
            <p:nvPr/>
          </p:nvSpPr>
          <p:spPr>
            <a:xfrm>
              <a:off x="3137040" y="653760"/>
              <a:ext cx="411480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37040" y="194940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enar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38120" y="2406600"/>
              <a:ext cx="13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54200" y="240660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d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35960" y="653760"/>
              <a:ext cx="187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35600" y="2863800"/>
              <a:ext cx="170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chite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46000" y="286380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78920" y="1949400"/>
              <a:ext cx="16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not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98880" y="57780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eren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138840" y="1492200"/>
              <a:ext cx="144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 C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35600" y="1110960"/>
              <a:ext cx="180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nctiona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56200" y="149220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f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803920" y="10350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ar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37040" y="196920"/>
              <a:ext cx="41148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ign Asp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933640" y="2000160"/>
              <a:ext cx="304920" cy="380520"/>
            </a:xfrm>
            <a:prstGeom prst="leftRightArrow">
              <a:avLst>
                <a:gd name="adj1" fmla="val 56667"/>
                <a:gd name="adj2" fmla="val 24741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432320" y="882360"/>
            <a:ext cx="1676160" cy="2209680"/>
            <a:chOff x="4432320" y="882360"/>
            <a:chExt cx="1676160" cy="2209680"/>
          </a:xfrm>
        </p:grpSpPr>
        <p:sp>
          <p:nvSpPr>
            <p:cNvPr id="386" name=""/>
            <p:cNvSpPr/>
            <p:nvPr/>
          </p:nvSpPr>
          <p:spPr>
            <a:xfrm>
              <a:off x="5194080" y="2253960"/>
              <a:ext cx="914400" cy="4568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94080" y="2253960"/>
              <a:ext cx="152640" cy="83808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4813200" y="2253960"/>
              <a:ext cx="380880" cy="83808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4432320" y="2253960"/>
              <a:ext cx="761760" cy="4568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4507920" y="2253960"/>
              <a:ext cx="68580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4507920" y="1796400"/>
              <a:ext cx="685800" cy="4568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4889520" y="1415520"/>
              <a:ext cx="304560" cy="83772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4965120" y="958320"/>
              <a:ext cx="228600" cy="129492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194080" y="882360"/>
              <a:ext cx="609840" cy="13712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5194080" y="1339200"/>
              <a:ext cx="838440" cy="9140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194080" y="1796400"/>
              <a:ext cx="914400" cy="4568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194080" y="2253960"/>
              <a:ext cx="45720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65480" y="1949400"/>
              <a:ext cx="457200" cy="609120"/>
            </a:xfrm>
            <a:prstGeom prst="ellipse">
              <a:avLst/>
            </a:prstGeom>
            <a:solidFill>
              <a:srgbClr val="cc3300"/>
            </a:solidFill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1054080" y="3244680"/>
            <a:ext cx="6197760" cy="1155240"/>
            <a:chOff x="1054080" y="3244680"/>
            <a:chExt cx="6197760" cy="1155240"/>
          </a:xfrm>
        </p:grpSpPr>
        <p:grpSp>
          <p:nvGrpSpPr>
            <p:cNvPr id="400" name=""/>
            <p:cNvGrpSpPr/>
            <p:nvPr/>
          </p:nvGrpSpPr>
          <p:grpSpPr>
            <a:xfrm>
              <a:off x="1054080" y="3244680"/>
              <a:ext cx="6197760" cy="1155240"/>
              <a:chOff x="1054080" y="3244680"/>
              <a:chExt cx="6197760" cy="1155240"/>
            </a:xfrm>
          </p:grpSpPr>
          <p:sp>
            <p:nvSpPr>
              <p:cNvPr id="401" name=""/>
              <p:cNvSpPr/>
              <p:nvPr/>
            </p:nvSpPr>
            <p:spPr>
              <a:xfrm>
                <a:off x="3137040" y="3940200"/>
                <a:ext cx="411480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ototyp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054080" y="3930480"/>
                <a:ext cx="198108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echnolog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5400000">
                <a:off x="4812840" y="3435120"/>
                <a:ext cx="762120" cy="381240"/>
              </a:xfrm>
              <a:prstGeom prst="leftRightArrow">
                <a:avLst>
                  <a:gd name="adj1" fmla="val 56667"/>
                  <a:gd name="adj2" fmla="val 49458"/>
                </a:avLst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933640" y="3994200"/>
              <a:ext cx="304920" cy="380880"/>
            </a:xfrm>
            <a:prstGeom prst="leftRightArrow">
              <a:avLst>
                <a:gd name="adj1" fmla="val 56667"/>
                <a:gd name="adj2" fmla="val 24741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0" y="4826160"/>
            <a:ext cx="805824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far after the first project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lements were not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lements remain to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7149960" y="666360"/>
            <a:ext cx="650520" cy="3746520"/>
            <a:chOff x="7149960" y="666360"/>
            <a:chExt cx="650520" cy="3746520"/>
          </a:xfrm>
        </p:grpSpPr>
        <p:sp>
          <p:nvSpPr>
            <p:cNvPr id="407" name=""/>
            <p:cNvSpPr/>
            <p:nvPr/>
          </p:nvSpPr>
          <p:spPr>
            <a:xfrm rot="16200000">
              <a:off x="5697360" y="2309760"/>
              <a:ext cx="37465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ial - Check - Vali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49960" y="2012760"/>
              <a:ext cx="304920" cy="381240"/>
            </a:xfrm>
            <a:prstGeom prst="leftRightArrow">
              <a:avLst>
                <a:gd name="adj1" fmla="val 56667"/>
                <a:gd name="adj2" fmla="val 24741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149960" y="4006800"/>
              <a:ext cx="304920" cy="380880"/>
            </a:xfrm>
            <a:prstGeom prst="leftRightArrow">
              <a:avLst>
                <a:gd name="adj1" fmla="val 56667"/>
                <a:gd name="adj2" fmla="val 24741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0440" y="673200"/>
            <a:ext cx="7581960" cy="3390840"/>
            <a:chOff x="190440" y="673200"/>
            <a:chExt cx="7581960" cy="3390840"/>
          </a:xfrm>
        </p:grpSpPr>
        <p:sp>
          <p:nvSpPr>
            <p:cNvPr id="411" name=""/>
            <p:cNvSpPr/>
            <p:nvPr/>
          </p:nvSpPr>
          <p:spPr>
            <a:xfrm>
              <a:off x="203040" y="1803240"/>
              <a:ext cx="1892520" cy="381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0440" y="2298600"/>
              <a:ext cx="1892520" cy="381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67280" y="673200"/>
              <a:ext cx="130824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45120" y="1092240"/>
              <a:ext cx="115596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59600" y="1549440"/>
              <a:ext cx="102852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64240" y="2057400"/>
              <a:ext cx="148572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172200" y="2463840"/>
              <a:ext cx="1054080" cy="380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410080" y="2895480"/>
              <a:ext cx="1765440" cy="381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454880" y="1041480"/>
              <a:ext cx="317520" cy="1092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29680" y="3390840"/>
              <a:ext cx="317160" cy="67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8058240" y="25560"/>
            <a:ext cx="106020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ML 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mbolic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ing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s 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6BF9-761A-4ACA-835B-330C4719352D}" type="slidenum">
              <a:t>13</a:t>
            </a:fld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0" y="0"/>
            <a:ext cx="8058240" cy="635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urrent &amp; Furthe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ing first version of RDF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izing first version of ont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a first enterpris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izing’ search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ing interesting learning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ing first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the first versions of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 of the first trial with end-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058240" y="25560"/>
            <a:ext cx="106020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ML 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mbolic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ing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s 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EC01-FD42-4434-8C62-3D3859DD2272}" type="slidenum">
              <a:t>14</a:t>
            </a:fld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5959080"/>
            <a:ext cx="83343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 consortium - Fabien.Gandon@sophia.inria.f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ttp://www-sop.inria.fr/acacia/personnel/Fabien.Gando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039680" y="2990880"/>
            <a:ext cx="7248600" cy="22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50000">
                      <a:srgbClr val="ffff00"/>
                    </a:gs>
                    <a:gs pos="100000">
                      <a:srgbClr val="cc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¡Gracias!</a:t>
            </a:r>
            <a:endParaRPr b="0" i="1" lang="en-US" sz="24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50000">
                    <a:srgbClr val="ffff00"/>
                  </a:gs>
                  <a:gs pos="100000">
                    <a:srgbClr val="cc3300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to the CoMMA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0"/>
            <a:ext cx="8058240" cy="635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 European project - Februar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Provide a corporate memory managemen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porate Mem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n explicit, disembodied and persistent representation of knowledge and information in an organization, in order to facilitate their access and reuse by members of the organization, for their ta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 Frame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supporting structure around which one can build a system insuring coherent integration and exploitation of the disperse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ic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s: New Employee &amp; Technology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several emerging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58240" y="25560"/>
            <a:ext cx="106020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ML 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mbolic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ing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s 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36610-2F7A-43C8-B8B4-52850E0EB232}" type="slidenum">
              <a:t>2</a:t>
            </a:fld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of the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600"/>
            <a:ext cx="8058240" cy="635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choices and their moti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Agents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Engineering &amp; XML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ic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and Technical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ical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ing th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s &amp;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and Methodology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58240" y="25560"/>
            <a:ext cx="106020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ML 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mbolic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ing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s 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66482-6450-489B-978A-736B71E4CC91}" type="slidenum">
              <a:t>3</a:t>
            </a:fld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choices and their motivations: Multi-Agent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-12600"/>
            <a:ext cx="8058240" cy="63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t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xible distribution through loosely-coupled softwar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mantic-level message passing, natural in a K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 /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: Agent kinds and their relationships Fixed at desig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iguration: Exact topography of a given MAS  Fixed at deploymen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functional architectu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veral possible configurations : adapt t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porat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ployment choices driven b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layout, intranet topography, interest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58240" y="25560"/>
            <a:ext cx="106020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ulti-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ML 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mbolic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ing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s 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8FDC-2363-4949-99A3-E7CA21F6FF21}" type="slidenum">
              <a:t>4</a:t>
            </a:fld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choices and their motivations: KE&amp; XML Gala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-76320"/>
            <a:ext cx="8058240" cy="635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2760" indent="-27972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acquisi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2760" indent="-27972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and Model: describe enterprises &amp;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2760" indent="-27972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ce and heuristic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cc3300"/>
                </a:solidFill>
                <a:latin typeface="Arial"/>
              </a:rPr>
              <a:t>If OM is an annotated world </a:t>
            </a:r>
            <a:r>
              <a:rPr b="1" i="1" lang="en-US" sz="2300" spc="-1" strike="noStrike">
                <a:solidFill>
                  <a:srgbClr val="cc3300"/>
                </a:solidFill>
                <a:latin typeface="Wingdings"/>
                <a:ea typeface="Wingdings"/>
              </a:rPr>
              <a:t></a:t>
            </a:r>
            <a:r>
              <a:rPr b="1" i="1" lang="en-US" sz="2300" spc="-1" strike="noStrike">
                <a:solidFill>
                  <a:srgbClr val="cc3300"/>
                </a:solidFill>
                <a:latin typeface="Arial"/>
              </a:rPr>
              <a:t> Agents use semantic of annotations </a:t>
            </a:r>
            <a:r>
              <a:rPr b="1" i="1" lang="en-US" sz="2300" spc="-1" strike="noStrike">
                <a:solidFill>
                  <a:srgbClr val="cc3300"/>
                </a:solidFill>
                <a:latin typeface="Wingdings"/>
                <a:ea typeface="Wingdings"/>
              </a:rPr>
              <a:t></a:t>
            </a:r>
            <a:r>
              <a:rPr b="1" i="1" lang="en-US" sz="2300" spc="-1" strike="noStrike">
                <a:solidFill>
                  <a:srgbClr val="cc3300"/>
                </a:solidFill>
                <a:latin typeface="Arial"/>
              </a:rPr>
              <a:t> Inferences to help exploit the O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: Extensible Markup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2760" indent="-27972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data and documents in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2760" indent="-27972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&amp; access via internet-based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2760" indent="-27972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: human &amp; machine understan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2760" indent="-27972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D: one can formally define document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2760" indent="-27972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yle sheets: document manipulation beyond sty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F: Resource Description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2760" indent="-27972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on internal/external to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2760" indent="-27972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FS: RDF Schema (to formalize ont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58240" y="25560"/>
            <a:ext cx="106020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XML 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mbolic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ing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s 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63CD-B073-4CC2-8887-D598D1E0CC4B}" type="slidenum">
              <a:t>5</a:t>
            </a:fld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choices and their motivations: Symbolic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-63720"/>
            <a:ext cx="8058240" cy="63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bility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profiles (explicit, implicit, derived, addi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profiles (explicit, implicit, derived, addi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bility to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 temporal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n interface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n organizational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fly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zy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ve filtering (Communities of inter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explicit C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ent implicit C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058240" y="25560"/>
            <a:ext cx="106020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ML 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ymbolic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ing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s 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FA317-1C4D-4DE1-85CF-DF75DF91F226}" type="slidenum">
              <a:t>6</a:t>
            </a:fld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choices and their motivations: To Summar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0"/>
            <a:ext cx="8058240" cy="30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orate memories are heterogeneous and distributed information landsc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holders are a heterogeneous and distributed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itation of CM involves heterogeneous and distribut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1520" y="3162240"/>
            <a:ext cx="7867440" cy="685800"/>
            <a:chOff x="101520" y="3162240"/>
            <a:chExt cx="7867440" cy="685800"/>
          </a:xfrm>
        </p:grpSpPr>
        <p:sp>
          <p:nvSpPr>
            <p:cNvPr id="124" name=""/>
            <p:cNvSpPr/>
            <p:nvPr/>
          </p:nvSpPr>
          <p:spPr>
            <a:xfrm>
              <a:off x="381960" y="3238560"/>
              <a:ext cx="3090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 u="sng">
                  <a:solidFill>
                    <a:srgbClr val="000000"/>
                  </a:solidFill>
                  <a:uFillTx/>
                  <a:latin typeface="Arial"/>
                </a:rPr>
                <a:t>CM Materializa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7200" y="3238560"/>
              <a:ext cx="30909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 u="sng">
                  <a:solidFill>
                    <a:srgbClr val="000000"/>
                  </a:solidFill>
                  <a:uFillTx/>
                  <a:latin typeface="Arial"/>
                </a:rPr>
                <a:t>CM Exploita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01520" y="3162240"/>
              <a:ext cx="7867440" cy="685800"/>
              <a:chOff x="101520" y="3162240"/>
              <a:chExt cx="7867440" cy="685800"/>
            </a:xfrm>
          </p:grpSpPr>
          <p:sp>
            <p:nvSpPr>
              <p:cNvPr id="127" name=""/>
              <p:cNvSpPr/>
              <p:nvPr/>
            </p:nvSpPr>
            <p:spPr>
              <a:xfrm>
                <a:off x="101520" y="3162240"/>
                <a:ext cx="3933720" cy="68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240" y="3162240"/>
                <a:ext cx="3933720" cy="68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101520" y="3848040"/>
            <a:ext cx="7867440" cy="1967760"/>
            <a:chOff x="101520" y="3848040"/>
            <a:chExt cx="7867440" cy="1967760"/>
          </a:xfrm>
        </p:grpSpPr>
        <p:sp>
          <p:nvSpPr>
            <p:cNvPr id="130" name=""/>
            <p:cNvSpPr/>
            <p:nvPr/>
          </p:nvSpPr>
          <p:spPr>
            <a:xfrm>
              <a:off x="101520" y="3848040"/>
              <a:ext cx="3933720" cy="196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35240" y="3848040"/>
              <a:ext cx="3933720" cy="1967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01520" y="3848040"/>
            <a:ext cx="386388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ndard, Structure, Extend, Validation,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6480" indent="-186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DF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notation, Schemat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3835440"/>
            <a:ext cx="386424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Agent Syste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ularity, Distributed,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6480" indent="-186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Learn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aptability, Em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01520" y="5816520"/>
            <a:ext cx="8086680" cy="609840"/>
            <a:chOff x="101520" y="5816520"/>
            <a:chExt cx="8086680" cy="609840"/>
          </a:xfrm>
        </p:grpSpPr>
        <p:sp>
          <p:nvSpPr>
            <p:cNvPr id="135" name=""/>
            <p:cNvSpPr/>
            <p:nvPr/>
          </p:nvSpPr>
          <p:spPr>
            <a:xfrm>
              <a:off x="1108080" y="5816520"/>
              <a:ext cx="2951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rporate </a:t>
              </a: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M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mor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00680" y="5816520"/>
              <a:ext cx="4187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M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nagement through </a:t>
              </a:r>
              <a:r>
                <a:rPr b="1" lang="en-US" sz="2200" spc="-1" strike="noStrike">
                  <a:solidFill>
                    <a:srgbClr val="cc3300"/>
                  </a:solidFill>
                  <a:latin typeface="Arial"/>
                </a:rPr>
                <a:t>A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gent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01520" y="5816520"/>
              <a:ext cx="7867440" cy="457200"/>
              <a:chOff x="101520" y="5816520"/>
              <a:chExt cx="7867440" cy="457200"/>
            </a:xfrm>
          </p:grpSpPr>
          <p:sp>
            <p:nvSpPr>
              <p:cNvPr id="138" name=""/>
              <p:cNvSpPr/>
              <p:nvPr/>
            </p:nvSpPr>
            <p:spPr>
              <a:xfrm>
                <a:off x="101520" y="5816520"/>
                <a:ext cx="393372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035240" y="5816520"/>
                <a:ext cx="393372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" name=""/>
          <p:cNvSpPr/>
          <p:nvPr/>
        </p:nvSpPr>
        <p:spPr>
          <a:xfrm>
            <a:off x="8058240" y="25560"/>
            <a:ext cx="106020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ML 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mbolic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ing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s 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826F-D50E-492C-84D5-8589AE7FEEF9}" type="slidenum">
              <a:t>7</a:t>
            </a:fld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133200" y="2324160"/>
            <a:ext cx="7842240" cy="1393920"/>
            <a:chOff x="133200" y="2324160"/>
            <a:chExt cx="7842240" cy="1393920"/>
          </a:xfrm>
        </p:grpSpPr>
        <p:sp>
          <p:nvSpPr>
            <p:cNvPr id="142" name=""/>
            <p:cNvSpPr/>
            <p:nvPr/>
          </p:nvSpPr>
          <p:spPr>
            <a:xfrm>
              <a:off x="133200" y="2513160"/>
              <a:ext cx="7656840" cy="12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77080" y="2324160"/>
              <a:ext cx="1998360" cy="3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Multi-Agent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584360" y="2604600"/>
              <a:ext cx="264960" cy="516600"/>
              <a:chOff x="1584360" y="2604600"/>
              <a:chExt cx="264960" cy="516600"/>
            </a:xfrm>
          </p:grpSpPr>
          <p:sp>
            <p:nvSpPr>
              <p:cNvPr id="145" name=""/>
              <p:cNvSpPr/>
              <p:nvPr/>
            </p:nvSpPr>
            <p:spPr>
              <a:xfrm>
                <a:off x="1584360" y="2863080"/>
                <a:ext cx="264960" cy="258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1584360" y="2604240"/>
                <a:ext cx="264960" cy="258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7262640" y="3025440"/>
              <a:ext cx="265320" cy="519480"/>
              <a:chOff x="7262640" y="3025440"/>
              <a:chExt cx="265320" cy="519480"/>
            </a:xfrm>
          </p:grpSpPr>
          <p:sp>
            <p:nvSpPr>
              <p:cNvPr id="148" name=""/>
              <p:cNvSpPr/>
              <p:nvPr/>
            </p:nvSpPr>
            <p:spPr>
              <a:xfrm>
                <a:off x="7262640" y="3285360"/>
                <a:ext cx="265320" cy="259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7262640" y="3025080"/>
                <a:ext cx="265320" cy="259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470640" y="2855880"/>
              <a:ext cx="263520" cy="515520"/>
              <a:chOff x="6470640" y="2855880"/>
              <a:chExt cx="263520" cy="515520"/>
            </a:xfrm>
          </p:grpSpPr>
          <p:sp>
            <p:nvSpPr>
              <p:cNvPr id="151" name=""/>
              <p:cNvSpPr/>
              <p:nvPr/>
            </p:nvSpPr>
            <p:spPr>
              <a:xfrm>
                <a:off x="6470640" y="3113640"/>
                <a:ext cx="263520" cy="25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6470640" y="2855880"/>
                <a:ext cx="263520" cy="25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4226040" y="2682360"/>
              <a:ext cx="264960" cy="516600"/>
              <a:chOff x="4226040" y="2682360"/>
              <a:chExt cx="264960" cy="516600"/>
            </a:xfrm>
          </p:grpSpPr>
          <p:sp>
            <p:nvSpPr>
              <p:cNvPr id="154" name=""/>
              <p:cNvSpPr/>
              <p:nvPr/>
            </p:nvSpPr>
            <p:spPr>
              <a:xfrm>
                <a:off x="4226040" y="2940840"/>
                <a:ext cx="264960" cy="258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4226040" y="2682000"/>
                <a:ext cx="264960" cy="258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565440" y="3025440"/>
              <a:ext cx="263520" cy="519480"/>
              <a:chOff x="3565440" y="3025440"/>
              <a:chExt cx="263520" cy="519480"/>
            </a:xfrm>
          </p:grpSpPr>
          <p:sp>
            <p:nvSpPr>
              <p:cNvPr id="157" name=""/>
              <p:cNvSpPr/>
              <p:nvPr/>
            </p:nvSpPr>
            <p:spPr>
              <a:xfrm>
                <a:off x="3565440" y="3285360"/>
                <a:ext cx="263520" cy="259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3565440" y="3025080"/>
                <a:ext cx="263520" cy="259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choices and their motivations: Architecture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635880" y="3772080"/>
            <a:ext cx="1247760" cy="2025360"/>
            <a:chOff x="6635880" y="3772080"/>
            <a:chExt cx="1247760" cy="2025360"/>
          </a:xfrm>
        </p:grpSpPr>
        <p:grpSp>
          <p:nvGrpSpPr>
            <p:cNvPr id="161" name=""/>
            <p:cNvGrpSpPr/>
            <p:nvPr/>
          </p:nvGrpSpPr>
          <p:grpSpPr>
            <a:xfrm>
              <a:off x="7292880" y="3772080"/>
              <a:ext cx="133200" cy="129600"/>
              <a:chOff x="7292880" y="3772080"/>
              <a:chExt cx="133200" cy="129600"/>
            </a:xfrm>
          </p:grpSpPr>
          <p:sp>
            <p:nvSpPr>
              <p:cNvPr id="162" name=""/>
              <p:cNvSpPr/>
              <p:nvPr/>
            </p:nvSpPr>
            <p:spPr>
              <a:xfrm rot="16200000">
                <a:off x="7286760" y="3778200"/>
                <a:ext cx="104760" cy="92520"/>
              </a:xfrm>
              <a:custGeom>
                <a:avLst/>
                <a:gdLst/>
                <a:ahLst/>
                <a:rect l="l" t="t" r="r" b="b"/>
                <a:pathLst>
                  <a:path w="175" h="204">
                    <a:moveTo>
                      <a:pt x="21" y="9"/>
                    </a:moveTo>
                    <a:lnTo>
                      <a:pt x="68" y="0"/>
                    </a:lnTo>
                    <a:lnTo>
                      <a:pt x="113" y="3"/>
                    </a:lnTo>
                    <a:lnTo>
                      <a:pt x="155" y="23"/>
                    </a:lnTo>
                    <a:lnTo>
                      <a:pt x="175" y="60"/>
                    </a:lnTo>
                    <a:lnTo>
                      <a:pt x="175" y="90"/>
                    </a:lnTo>
                    <a:lnTo>
                      <a:pt x="155" y="130"/>
                    </a:lnTo>
                    <a:lnTo>
                      <a:pt x="120" y="153"/>
                    </a:lnTo>
                    <a:lnTo>
                      <a:pt x="68" y="153"/>
                    </a:lnTo>
                    <a:lnTo>
                      <a:pt x="37" y="173"/>
                    </a:lnTo>
                    <a:lnTo>
                      <a:pt x="27" y="204"/>
                    </a:lnTo>
                    <a:lnTo>
                      <a:pt x="0" y="194"/>
                    </a:lnTo>
                    <a:lnTo>
                      <a:pt x="10" y="153"/>
                    </a:lnTo>
                    <a:lnTo>
                      <a:pt x="47" y="130"/>
                    </a:lnTo>
                    <a:lnTo>
                      <a:pt x="109" y="124"/>
                    </a:lnTo>
                    <a:lnTo>
                      <a:pt x="134" y="100"/>
                    </a:lnTo>
                    <a:lnTo>
                      <a:pt x="140" y="63"/>
                    </a:lnTo>
                    <a:lnTo>
                      <a:pt x="113" y="30"/>
                    </a:lnTo>
                    <a:lnTo>
                      <a:pt x="72" y="30"/>
                    </a:lnTo>
                    <a:lnTo>
                      <a:pt x="27" y="40"/>
                    </a:lnTo>
                    <a:lnTo>
                      <a:pt x="10" y="30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6200000">
                <a:off x="7396560" y="3872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54" y="3"/>
                    </a:moveTo>
                    <a:lnTo>
                      <a:pt x="26" y="0"/>
                    </a:lnTo>
                    <a:lnTo>
                      <a:pt x="8" y="21"/>
                    </a:lnTo>
                    <a:lnTo>
                      <a:pt x="0" y="52"/>
                    </a:lnTo>
                    <a:lnTo>
                      <a:pt x="26" y="56"/>
                    </a:lnTo>
                    <a:lnTo>
                      <a:pt x="49" y="41"/>
                    </a:lnTo>
                    <a:lnTo>
                      <a:pt x="54" y="3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183440" y="3772080"/>
              <a:ext cx="606240" cy="1548720"/>
              <a:chOff x="7183440" y="3772080"/>
              <a:chExt cx="606240" cy="1548720"/>
            </a:xfrm>
          </p:grpSpPr>
          <p:sp>
            <p:nvSpPr>
              <p:cNvPr id="165" name=""/>
              <p:cNvSpPr/>
              <p:nvPr/>
            </p:nvSpPr>
            <p:spPr>
              <a:xfrm flipH="1">
                <a:off x="7358400" y="3858480"/>
                <a:ext cx="237240" cy="33804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7516080" y="3772080"/>
                <a:ext cx="273600" cy="54252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7389360" y="4221360"/>
                <a:ext cx="141840" cy="50868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7247160" y="4235760"/>
                <a:ext cx="218880" cy="39060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7183080" y="4678560"/>
                <a:ext cx="265320" cy="63180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436520" y="4677120"/>
                <a:ext cx="178560" cy="6436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6635880" y="5281560"/>
              <a:ext cx="124776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Employ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8160" y="82440"/>
            <a:ext cx="1333440" cy="2339640"/>
            <a:chOff x="38160" y="82440"/>
            <a:chExt cx="1333440" cy="2339640"/>
          </a:xfrm>
        </p:grpSpPr>
        <p:sp>
          <p:nvSpPr>
            <p:cNvPr id="173" name=""/>
            <p:cNvSpPr/>
            <p:nvPr/>
          </p:nvSpPr>
          <p:spPr>
            <a:xfrm>
              <a:off x="38160" y="82440"/>
              <a:ext cx="133344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Docu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Auth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74760" y="1181160"/>
              <a:ext cx="622080" cy="1240920"/>
              <a:chOff x="374760" y="1181160"/>
              <a:chExt cx="622080" cy="1240920"/>
            </a:xfrm>
          </p:grpSpPr>
          <p:sp>
            <p:nvSpPr>
              <p:cNvPr id="175" name=""/>
              <p:cNvSpPr/>
              <p:nvPr/>
            </p:nvSpPr>
            <p:spPr>
              <a:xfrm>
                <a:off x="647640" y="1593720"/>
                <a:ext cx="145080" cy="438480"/>
              </a:xfrm>
              <a:custGeom>
                <a:avLst/>
                <a:gdLst/>
                <a:ahLst/>
                <a:rect l="l" t="t" r="r" b="b"/>
                <a:pathLst>
                  <a:path w="771" h="1535">
                    <a:moveTo>
                      <a:pt x="182" y="123"/>
                    </a:moveTo>
                    <a:lnTo>
                      <a:pt x="265" y="33"/>
                    </a:lnTo>
                    <a:lnTo>
                      <a:pt x="423" y="0"/>
                    </a:lnTo>
                    <a:lnTo>
                      <a:pt x="558" y="33"/>
                    </a:lnTo>
                    <a:lnTo>
                      <a:pt x="633" y="83"/>
                    </a:lnTo>
                    <a:lnTo>
                      <a:pt x="693" y="183"/>
                    </a:lnTo>
                    <a:lnTo>
                      <a:pt x="746" y="361"/>
                    </a:lnTo>
                    <a:lnTo>
                      <a:pt x="771" y="554"/>
                    </a:lnTo>
                    <a:lnTo>
                      <a:pt x="771" y="899"/>
                    </a:lnTo>
                    <a:lnTo>
                      <a:pt x="693" y="1200"/>
                    </a:lnTo>
                    <a:lnTo>
                      <a:pt x="581" y="1370"/>
                    </a:lnTo>
                    <a:lnTo>
                      <a:pt x="468" y="1468"/>
                    </a:lnTo>
                    <a:lnTo>
                      <a:pt x="340" y="1535"/>
                    </a:lnTo>
                    <a:lnTo>
                      <a:pt x="160" y="1528"/>
                    </a:lnTo>
                    <a:lnTo>
                      <a:pt x="17" y="1425"/>
                    </a:lnTo>
                    <a:lnTo>
                      <a:pt x="0" y="1302"/>
                    </a:lnTo>
                    <a:lnTo>
                      <a:pt x="70" y="1119"/>
                    </a:lnTo>
                    <a:lnTo>
                      <a:pt x="130" y="914"/>
                    </a:lnTo>
                    <a:lnTo>
                      <a:pt x="152" y="649"/>
                    </a:lnTo>
                    <a:lnTo>
                      <a:pt x="115" y="423"/>
                    </a:lnTo>
                    <a:lnTo>
                      <a:pt x="115" y="258"/>
                    </a:lnTo>
                    <a:lnTo>
                      <a:pt x="182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03440" y="1983960"/>
                <a:ext cx="165600" cy="432000"/>
              </a:xfrm>
              <a:custGeom>
                <a:avLst/>
                <a:gdLst/>
                <a:ahLst/>
                <a:rect l="l" t="t" r="r" b="b"/>
                <a:pathLst>
                  <a:path w="881" h="1512">
                    <a:moveTo>
                      <a:pt x="293" y="63"/>
                    </a:moveTo>
                    <a:lnTo>
                      <a:pt x="187" y="0"/>
                    </a:lnTo>
                    <a:lnTo>
                      <a:pt x="52" y="0"/>
                    </a:lnTo>
                    <a:lnTo>
                      <a:pt x="0" y="83"/>
                    </a:lnTo>
                    <a:lnTo>
                      <a:pt x="22" y="205"/>
                    </a:lnTo>
                    <a:lnTo>
                      <a:pt x="142" y="325"/>
                    </a:lnTo>
                    <a:lnTo>
                      <a:pt x="390" y="436"/>
                    </a:lnTo>
                    <a:lnTo>
                      <a:pt x="676" y="671"/>
                    </a:lnTo>
                    <a:lnTo>
                      <a:pt x="721" y="774"/>
                    </a:lnTo>
                    <a:lnTo>
                      <a:pt x="698" y="821"/>
                    </a:lnTo>
                    <a:lnTo>
                      <a:pt x="480" y="977"/>
                    </a:lnTo>
                    <a:lnTo>
                      <a:pt x="225" y="1162"/>
                    </a:lnTo>
                    <a:lnTo>
                      <a:pt x="165" y="1242"/>
                    </a:lnTo>
                    <a:lnTo>
                      <a:pt x="165" y="1325"/>
                    </a:lnTo>
                    <a:lnTo>
                      <a:pt x="360" y="1412"/>
                    </a:lnTo>
                    <a:lnTo>
                      <a:pt x="661" y="1512"/>
                    </a:lnTo>
                    <a:lnTo>
                      <a:pt x="766" y="1512"/>
                    </a:lnTo>
                    <a:lnTo>
                      <a:pt x="881" y="1445"/>
                    </a:lnTo>
                    <a:lnTo>
                      <a:pt x="881" y="1392"/>
                    </a:lnTo>
                    <a:lnTo>
                      <a:pt x="796" y="1365"/>
                    </a:lnTo>
                    <a:lnTo>
                      <a:pt x="413" y="1325"/>
                    </a:lnTo>
                    <a:lnTo>
                      <a:pt x="270" y="1290"/>
                    </a:lnTo>
                    <a:lnTo>
                      <a:pt x="255" y="1229"/>
                    </a:lnTo>
                    <a:lnTo>
                      <a:pt x="503" y="1059"/>
                    </a:lnTo>
                    <a:lnTo>
                      <a:pt x="773" y="896"/>
                    </a:lnTo>
                    <a:lnTo>
                      <a:pt x="833" y="836"/>
                    </a:lnTo>
                    <a:lnTo>
                      <a:pt x="856" y="754"/>
                    </a:lnTo>
                    <a:lnTo>
                      <a:pt x="833" y="638"/>
                    </a:lnTo>
                    <a:lnTo>
                      <a:pt x="751" y="551"/>
                    </a:lnTo>
                    <a:lnTo>
                      <a:pt x="480" y="253"/>
                    </a:lnTo>
                    <a:lnTo>
                      <a:pt x="29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85280" y="1962360"/>
                <a:ext cx="206280" cy="459720"/>
              </a:xfrm>
              <a:custGeom>
                <a:avLst/>
                <a:gdLst/>
                <a:ahLst/>
                <a:rect l="l" t="t" r="r" b="b"/>
                <a:pathLst>
                  <a:path w="1097" h="1610">
                    <a:moveTo>
                      <a:pt x="596" y="218"/>
                    </a:moveTo>
                    <a:lnTo>
                      <a:pt x="771" y="80"/>
                    </a:lnTo>
                    <a:lnTo>
                      <a:pt x="937" y="0"/>
                    </a:lnTo>
                    <a:lnTo>
                      <a:pt x="1042" y="12"/>
                    </a:lnTo>
                    <a:lnTo>
                      <a:pt x="1097" y="80"/>
                    </a:lnTo>
                    <a:lnTo>
                      <a:pt x="1097" y="155"/>
                    </a:lnTo>
                    <a:lnTo>
                      <a:pt x="1064" y="238"/>
                    </a:lnTo>
                    <a:lnTo>
                      <a:pt x="952" y="285"/>
                    </a:lnTo>
                    <a:lnTo>
                      <a:pt x="724" y="400"/>
                    </a:lnTo>
                    <a:lnTo>
                      <a:pt x="589" y="543"/>
                    </a:lnTo>
                    <a:lnTo>
                      <a:pt x="499" y="713"/>
                    </a:lnTo>
                    <a:lnTo>
                      <a:pt x="476" y="814"/>
                    </a:lnTo>
                    <a:lnTo>
                      <a:pt x="596" y="936"/>
                    </a:lnTo>
                    <a:lnTo>
                      <a:pt x="724" y="1114"/>
                    </a:lnTo>
                    <a:lnTo>
                      <a:pt x="817" y="1277"/>
                    </a:lnTo>
                    <a:lnTo>
                      <a:pt x="839" y="1380"/>
                    </a:lnTo>
                    <a:lnTo>
                      <a:pt x="839" y="1440"/>
                    </a:lnTo>
                    <a:lnTo>
                      <a:pt x="779" y="1480"/>
                    </a:lnTo>
                    <a:lnTo>
                      <a:pt x="589" y="1487"/>
                    </a:lnTo>
                    <a:lnTo>
                      <a:pt x="301" y="1547"/>
                    </a:lnTo>
                    <a:lnTo>
                      <a:pt x="248" y="1602"/>
                    </a:lnTo>
                    <a:lnTo>
                      <a:pt x="203" y="1610"/>
                    </a:lnTo>
                    <a:lnTo>
                      <a:pt x="0" y="1547"/>
                    </a:lnTo>
                    <a:lnTo>
                      <a:pt x="0" y="1487"/>
                    </a:lnTo>
                    <a:lnTo>
                      <a:pt x="90" y="1440"/>
                    </a:lnTo>
                    <a:lnTo>
                      <a:pt x="453" y="1380"/>
                    </a:lnTo>
                    <a:lnTo>
                      <a:pt x="641" y="1400"/>
                    </a:lnTo>
                    <a:lnTo>
                      <a:pt x="734" y="1400"/>
                    </a:lnTo>
                    <a:lnTo>
                      <a:pt x="756" y="1365"/>
                    </a:lnTo>
                    <a:lnTo>
                      <a:pt x="679" y="1214"/>
                    </a:lnTo>
                    <a:lnTo>
                      <a:pt x="521" y="1019"/>
                    </a:lnTo>
                    <a:lnTo>
                      <a:pt x="408" y="876"/>
                    </a:lnTo>
                    <a:lnTo>
                      <a:pt x="363" y="794"/>
                    </a:lnTo>
                    <a:lnTo>
                      <a:pt x="363" y="671"/>
                    </a:lnTo>
                    <a:lnTo>
                      <a:pt x="438" y="468"/>
                    </a:lnTo>
                    <a:lnTo>
                      <a:pt x="506" y="340"/>
                    </a:lnTo>
                    <a:lnTo>
                      <a:pt x="596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74760" y="1594800"/>
                <a:ext cx="278640" cy="343440"/>
              </a:xfrm>
              <a:custGeom>
                <a:avLst/>
                <a:gdLst/>
                <a:ahLst/>
                <a:rect l="l" t="t" r="r" b="b"/>
                <a:pathLst>
                  <a:path w="1482" h="1202">
                    <a:moveTo>
                      <a:pt x="889" y="1202"/>
                    </a:moveTo>
                    <a:lnTo>
                      <a:pt x="981" y="1192"/>
                    </a:lnTo>
                    <a:lnTo>
                      <a:pt x="1009" y="1124"/>
                    </a:lnTo>
                    <a:lnTo>
                      <a:pt x="1034" y="881"/>
                    </a:lnTo>
                    <a:lnTo>
                      <a:pt x="1172" y="596"/>
                    </a:lnTo>
                    <a:lnTo>
                      <a:pt x="1314" y="465"/>
                    </a:lnTo>
                    <a:lnTo>
                      <a:pt x="1482" y="330"/>
                    </a:lnTo>
                    <a:lnTo>
                      <a:pt x="1467" y="235"/>
                    </a:lnTo>
                    <a:lnTo>
                      <a:pt x="1367" y="185"/>
                    </a:lnTo>
                    <a:lnTo>
                      <a:pt x="1242" y="235"/>
                    </a:lnTo>
                    <a:lnTo>
                      <a:pt x="1104" y="373"/>
                    </a:lnTo>
                    <a:lnTo>
                      <a:pt x="976" y="673"/>
                    </a:lnTo>
                    <a:lnTo>
                      <a:pt x="921" y="906"/>
                    </a:lnTo>
                    <a:lnTo>
                      <a:pt x="884" y="1029"/>
                    </a:lnTo>
                    <a:lnTo>
                      <a:pt x="779" y="984"/>
                    </a:lnTo>
                    <a:lnTo>
                      <a:pt x="661" y="783"/>
                    </a:lnTo>
                    <a:lnTo>
                      <a:pt x="563" y="505"/>
                    </a:lnTo>
                    <a:lnTo>
                      <a:pt x="581" y="380"/>
                    </a:lnTo>
                    <a:lnTo>
                      <a:pt x="636" y="248"/>
                    </a:lnTo>
                    <a:lnTo>
                      <a:pt x="658" y="150"/>
                    </a:lnTo>
                    <a:lnTo>
                      <a:pt x="418" y="145"/>
                    </a:lnTo>
                    <a:lnTo>
                      <a:pt x="178" y="105"/>
                    </a:lnTo>
                    <a:lnTo>
                      <a:pt x="65" y="0"/>
                    </a:lnTo>
                    <a:lnTo>
                      <a:pt x="0" y="50"/>
                    </a:lnTo>
                    <a:lnTo>
                      <a:pt x="88" y="230"/>
                    </a:lnTo>
                    <a:lnTo>
                      <a:pt x="280" y="250"/>
                    </a:lnTo>
                    <a:lnTo>
                      <a:pt x="488" y="270"/>
                    </a:lnTo>
                    <a:lnTo>
                      <a:pt x="493" y="428"/>
                    </a:lnTo>
                    <a:lnTo>
                      <a:pt x="513" y="611"/>
                    </a:lnTo>
                    <a:lnTo>
                      <a:pt x="583" y="816"/>
                    </a:lnTo>
                    <a:lnTo>
                      <a:pt x="671" y="1019"/>
                    </a:lnTo>
                    <a:lnTo>
                      <a:pt x="804" y="1154"/>
                    </a:lnTo>
                    <a:lnTo>
                      <a:pt x="889" y="1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91640" y="1181160"/>
                <a:ext cx="205200" cy="464040"/>
              </a:xfrm>
              <a:custGeom>
                <a:avLst/>
                <a:gdLst/>
                <a:ahLst/>
                <a:rect l="l" t="t" r="r" b="b"/>
                <a:pathLst>
                  <a:path w="1091" h="1625">
                    <a:moveTo>
                      <a:pt x="0" y="1610"/>
                    </a:moveTo>
                    <a:lnTo>
                      <a:pt x="0" y="1503"/>
                    </a:lnTo>
                    <a:lnTo>
                      <a:pt x="67" y="1420"/>
                    </a:lnTo>
                    <a:lnTo>
                      <a:pt x="363" y="1325"/>
                    </a:lnTo>
                    <a:lnTo>
                      <a:pt x="728" y="1245"/>
                    </a:lnTo>
                    <a:lnTo>
                      <a:pt x="939" y="1197"/>
                    </a:lnTo>
                    <a:lnTo>
                      <a:pt x="964" y="1155"/>
                    </a:lnTo>
                    <a:lnTo>
                      <a:pt x="864" y="1034"/>
                    </a:lnTo>
                    <a:lnTo>
                      <a:pt x="666" y="857"/>
                    </a:lnTo>
                    <a:lnTo>
                      <a:pt x="463" y="706"/>
                    </a:lnTo>
                    <a:lnTo>
                      <a:pt x="303" y="626"/>
                    </a:lnTo>
                    <a:lnTo>
                      <a:pt x="213" y="544"/>
                    </a:lnTo>
                    <a:lnTo>
                      <a:pt x="205" y="483"/>
                    </a:lnTo>
                    <a:lnTo>
                      <a:pt x="258" y="428"/>
                    </a:lnTo>
                    <a:lnTo>
                      <a:pt x="385" y="401"/>
                    </a:lnTo>
                    <a:lnTo>
                      <a:pt x="546" y="298"/>
                    </a:lnTo>
                    <a:lnTo>
                      <a:pt x="568" y="198"/>
                    </a:lnTo>
                    <a:lnTo>
                      <a:pt x="568" y="55"/>
                    </a:lnTo>
                    <a:lnTo>
                      <a:pt x="553" y="0"/>
                    </a:lnTo>
                    <a:lnTo>
                      <a:pt x="613" y="13"/>
                    </a:lnTo>
                    <a:lnTo>
                      <a:pt x="698" y="135"/>
                    </a:lnTo>
                    <a:lnTo>
                      <a:pt x="728" y="266"/>
                    </a:lnTo>
                    <a:lnTo>
                      <a:pt x="636" y="361"/>
                    </a:lnTo>
                    <a:lnTo>
                      <a:pt x="553" y="388"/>
                    </a:lnTo>
                    <a:lnTo>
                      <a:pt x="393" y="463"/>
                    </a:lnTo>
                    <a:lnTo>
                      <a:pt x="363" y="504"/>
                    </a:lnTo>
                    <a:lnTo>
                      <a:pt x="385" y="544"/>
                    </a:lnTo>
                    <a:lnTo>
                      <a:pt x="531" y="654"/>
                    </a:lnTo>
                    <a:lnTo>
                      <a:pt x="683" y="714"/>
                    </a:lnTo>
                    <a:lnTo>
                      <a:pt x="886" y="869"/>
                    </a:lnTo>
                    <a:lnTo>
                      <a:pt x="1024" y="1054"/>
                    </a:lnTo>
                    <a:lnTo>
                      <a:pt x="1091" y="1197"/>
                    </a:lnTo>
                    <a:lnTo>
                      <a:pt x="1069" y="1245"/>
                    </a:lnTo>
                    <a:lnTo>
                      <a:pt x="1024" y="1277"/>
                    </a:lnTo>
                    <a:lnTo>
                      <a:pt x="849" y="1340"/>
                    </a:lnTo>
                    <a:lnTo>
                      <a:pt x="501" y="1443"/>
                    </a:lnTo>
                    <a:lnTo>
                      <a:pt x="280" y="1530"/>
                    </a:lnTo>
                    <a:lnTo>
                      <a:pt x="138" y="1605"/>
                    </a:lnTo>
                    <a:lnTo>
                      <a:pt x="45" y="1625"/>
                    </a:lnTo>
                    <a:lnTo>
                      <a:pt x="0" y="16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90040" y="1250280"/>
                <a:ext cx="159840" cy="330480"/>
              </a:xfrm>
              <a:custGeom>
                <a:avLst/>
                <a:gdLst/>
                <a:ahLst/>
                <a:rect l="l" t="t" r="r" b="b"/>
                <a:pathLst>
                  <a:path w="851" h="1157">
                    <a:moveTo>
                      <a:pt x="173" y="939"/>
                    </a:moveTo>
                    <a:lnTo>
                      <a:pt x="271" y="1042"/>
                    </a:lnTo>
                    <a:lnTo>
                      <a:pt x="431" y="1137"/>
                    </a:lnTo>
                    <a:lnTo>
                      <a:pt x="566" y="1157"/>
                    </a:lnTo>
                    <a:lnTo>
                      <a:pt x="669" y="1137"/>
                    </a:lnTo>
                    <a:lnTo>
                      <a:pt x="791" y="1057"/>
                    </a:lnTo>
                    <a:lnTo>
                      <a:pt x="836" y="892"/>
                    </a:lnTo>
                    <a:lnTo>
                      <a:pt x="851" y="769"/>
                    </a:lnTo>
                    <a:lnTo>
                      <a:pt x="814" y="654"/>
                    </a:lnTo>
                    <a:lnTo>
                      <a:pt x="744" y="511"/>
                    </a:lnTo>
                    <a:lnTo>
                      <a:pt x="679" y="388"/>
                    </a:lnTo>
                    <a:lnTo>
                      <a:pt x="669" y="361"/>
                    </a:lnTo>
                    <a:lnTo>
                      <a:pt x="699" y="218"/>
                    </a:lnTo>
                    <a:lnTo>
                      <a:pt x="791" y="75"/>
                    </a:lnTo>
                    <a:lnTo>
                      <a:pt x="806" y="33"/>
                    </a:lnTo>
                    <a:lnTo>
                      <a:pt x="759" y="0"/>
                    </a:lnTo>
                    <a:lnTo>
                      <a:pt x="699" y="0"/>
                    </a:lnTo>
                    <a:lnTo>
                      <a:pt x="634" y="185"/>
                    </a:lnTo>
                    <a:lnTo>
                      <a:pt x="604" y="306"/>
                    </a:lnTo>
                    <a:lnTo>
                      <a:pt x="521" y="225"/>
                    </a:lnTo>
                    <a:lnTo>
                      <a:pt x="451" y="163"/>
                    </a:lnTo>
                    <a:lnTo>
                      <a:pt x="308" y="115"/>
                    </a:lnTo>
                    <a:lnTo>
                      <a:pt x="203" y="115"/>
                    </a:lnTo>
                    <a:lnTo>
                      <a:pt x="45" y="185"/>
                    </a:lnTo>
                    <a:lnTo>
                      <a:pt x="0" y="381"/>
                    </a:lnTo>
                    <a:lnTo>
                      <a:pt x="38" y="634"/>
                    </a:lnTo>
                    <a:lnTo>
                      <a:pt x="105" y="872"/>
                    </a:lnTo>
                    <a:lnTo>
                      <a:pt x="173" y="9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612720" y="723960"/>
              <a:ext cx="263520" cy="344520"/>
            </a:xfrm>
            <a:prstGeom prst="foldedCorner">
              <a:avLst>
                <a:gd name="adj" fmla="val 47916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9080" y="787320"/>
              <a:ext cx="263520" cy="344520"/>
            </a:xfrm>
            <a:prstGeom prst="foldedCorner">
              <a:avLst>
                <a:gd name="adj" fmla="val 47916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4840" y="1209600"/>
              <a:ext cx="263520" cy="344520"/>
            </a:xfrm>
            <a:prstGeom prst="foldedCorner">
              <a:avLst>
                <a:gd name="adj" fmla="val 47916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39680" y="3811680"/>
            <a:ext cx="1335240" cy="2006640"/>
            <a:chOff x="139680" y="3811680"/>
            <a:chExt cx="1335240" cy="2006640"/>
          </a:xfrm>
        </p:grpSpPr>
        <p:sp>
          <p:nvSpPr>
            <p:cNvPr id="185" name=""/>
            <p:cNvSpPr/>
            <p:nvPr/>
          </p:nvSpPr>
          <p:spPr>
            <a:xfrm>
              <a:off x="1211400" y="4249800"/>
              <a:ext cx="263520" cy="515880"/>
            </a:xfrm>
            <a:prstGeom prst="foldedCorner">
              <a:avLst>
                <a:gd name="adj" fmla="val 47916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204840" y="3811680"/>
              <a:ext cx="352440" cy="272520"/>
              <a:chOff x="204840" y="3811680"/>
              <a:chExt cx="352440" cy="27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331560" y="3917520"/>
                <a:ext cx="118080" cy="166680"/>
              </a:xfrm>
              <a:custGeom>
                <a:avLst/>
                <a:gdLst/>
                <a:ahLst/>
                <a:rect l="l" t="t" r="r" b="b"/>
                <a:pathLst>
                  <a:path w="320" h="569">
                    <a:moveTo>
                      <a:pt x="103" y="515"/>
                    </a:moveTo>
                    <a:lnTo>
                      <a:pt x="108" y="423"/>
                    </a:lnTo>
                    <a:lnTo>
                      <a:pt x="86" y="352"/>
                    </a:lnTo>
                    <a:lnTo>
                      <a:pt x="47" y="292"/>
                    </a:lnTo>
                    <a:lnTo>
                      <a:pt x="0" y="200"/>
                    </a:lnTo>
                    <a:lnTo>
                      <a:pt x="4" y="140"/>
                    </a:lnTo>
                    <a:lnTo>
                      <a:pt x="37" y="65"/>
                    </a:lnTo>
                    <a:lnTo>
                      <a:pt x="97" y="15"/>
                    </a:lnTo>
                    <a:lnTo>
                      <a:pt x="151" y="0"/>
                    </a:lnTo>
                    <a:lnTo>
                      <a:pt x="206" y="11"/>
                    </a:lnTo>
                    <a:lnTo>
                      <a:pt x="243" y="33"/>
                    </a:lnTo>
                    <a:lnTo>
                      <a:pt x="292" y="76"/>
                    </a:lnTo>
                    <a:lnTo>
                      <a:pt x="320" y="140"/>
                    </a:lnTo>
                    <a:lnTo>
                      <a:pt x="310" y="206"/>
                    </a:lnTo>
                    <a:lnTo>
                      <a:pt x="271" y="264"/>
                    </a:lnTo>
                    <a:lnTo>
                      <a:pt x="217" y="357"/>
                    </a:lnTo>
                    <a:lnTo>
                      <a:pt x="206" y="423"/>
                    </a:lnTo>
                    <a:lnTo>
                      <a:pt x="211" y="477"/>
                    </a:lnTo>
                    <a:lnTo>
                      <a:pt x="185" y="530"/>
                    </a:lnTo>
                    <a:lnTo>
                      <a:pt x="157" y="569"/>
                    </a:lnTo>
                    <a:lnTo>
                      <a:pt x="103" y="515"/>
                    </a:lnTo>
                    <a:close/>
                  </a:path>
                </a:pathLst>
              </a:custGeom>
              <a:solidFill>
                <a:srgbClr val="cc3300"/>
              </a:solidFill>
              <a:ln w="10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04840" y="3909240"/>
                <a:ext cx="87120" cy="32040"/>
              </a:xfrm>
              <a:custGeom>
                <a:avLst/>
                <a:gdLst/>
                <a:ahLst/>
                <a:rect l="l" t="t" r="r" b="b"/>
                <a:pathLst>
                  <a:path w="235" h="110">
                    <a:moveTo>
                      <a:pt x="235" y="110"/>
                    </a:moveTo>
                    <a:lnTo>
                      <a:pt x="39" y="76"/>
                    </a:lnTo>
                    <a:lnTo>
                      <a:pt x="0" y="37"/>
                    </a:lnTo>
                    <a:lnTo>
                      <a:pt x="15" y="5"/>
                    </a:lnTo>
                    <a:lnTo>
                      <a:pt x="61" y="0"/>
                    </a:lnTo>
                    <a:lnTo>
                      <a:pt x="235" y="11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91960" y="3824640"/>
                <a:ext cx="37440" cy="53280"/>
              </a:xfrm>
              <a:custGeom>
                <a:avLst/>
                <a:gdLst/>
                <a:ahLst/>
                <a:rect l="l" t="t" r="r" b="b"/>
                <a:pathLst>
                  <a:path w="103" h="180">
                    <a:moveTo>
                      <a:pt x="103" y="180"/>
                    </a:moveTo>
                    <a:lnTo>
                      <a:pt x="0" y="67"/>
                    </a:lnTo>
                    <a:lnTo>
                      <a:pt x="10" y="17"/>
                    </a:lnTo>
                    <a:lnTo>
                      <a:pt x="60" y="0"/>
                    </a:lnTo>
                    <a:lnTo>
                      <a:pt x="88" y="34"/>
                    </a:lnTo>
                    <a:lnTo>
                      <a:pt x="103" y="18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3280" y="3811680"/>
                <a:ext cx="32760" cy="63000"/>
              </a:xfrm>
              <a:custGeom>
                <a:avLst/>
                <a:gdLst/>
                <a:ahLst/>
                <a:rect l="l" t="t" r="r" b="b"/>
                <a:pathLst>
                  <a:path w="89" h="217">
                    <a:moveTo>
                      <a:pt x="13" y="217"/>
                    </a:moveTo>
                    <a:lnTo>
                      <a:pt x="0" y="56"/>
                    </a:lnTo>
                    <a:lnTo>
                      <a:pt x="48" y="0"/>
                    </a:lnTo>
                    <a:lnTo>
                      <a:pt x="89" y="23"/>
                    </a:lnTo>
                    <a:lnTo>
                      <a:pt x="82" y="66"/>
                    </a:lnTo>
                    <a:lnTo>
                      <a:pt x="13" y="217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79520" y="3860280"/>
                <a:ext cx="77760" cy="38880"/>
              </a:xfrm>
              <a:custGeom>
                <a:avLst/>
                <a:gdLst/>
                <a:ahLst/>
                <a:rect l="l" t="t" r="r" b="b"/>
                <a:pathLst>
                  <a:path w="210" h="135">
                    <a:moveTo>
                      <a:pt x="0" y="135"/>
                    </a:moveTo>
                    <a:lnTo>
                      <a:pt x="157" y="0"/>
                    </a:lnTo>
                    <a:lnTo>
                      <a:pt x="210" y="26"/>
                    </a:lnTo>
                    <a:lnTo>
                      <a:pt x="206" y="71"/>
                    </a:lnTo>
                    <a:lnTo>
                      <a:pt x="178" y="92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336600" y="3811680"/>
              <a:ext cx="530280" cy="1466280"/>
              <a:chOff x="336600" y="3811680"/>
              <a:chExt cx="530280" cy="1466280"/>
            </a:xfrm>
          </p:grpSpPr>
          <p:sp>
            <p:nvSpPr>
              <p:cNvPr id="193" name=""/>
              <p:cNvSpPr/>
              <p:nvPr/>
            </p:nvSpPr>
            <p:spPr>
              <a:xfrm>
                <a:off x="432360" y="4053600"/>
                <a:ext cx="266400" cy="255240"/>
              </a:xfrm>
              <a:custGeom>
                <a:avLst/>
                <a:gdLst/>
                <a:ahLst/>
                <a:rect l="l" t="t" r="r" b="b"/>
                <a:pathLst>
                  <a:path w="879" h="869">
                    <a:moveTo>
                      <a:pt x="573" y="251"/>
                    </a:moveTo>
                    <a:lnTo>
                      <a:pt x="466" y="88"/>
                    </a:lnTo>
                    <a:lnTo>
                      <a:pt x="356" y="0"/>
                    </a:lnTo>
                    <a:lnTo>
                      <a:pt x="228" y="0"/>
                    </a:lnTo>
                    <a:lnTo>
                      <a:pt x="86" y="56"/>
                    </a:lnTo>
                    <a:lnTo>
                      <a:pt x="21" y="152"/>
                    </a:lnTo>
                    <a:lnTo>
                      <a:pt x="0" y="283"/>
                    </a:lnTo>
                    <a:lnTo>
                      <a:pt x="21" y="457"/>
                    </a:lnTo>
                    <a:lnTo>
                      <a:pt x="107" y="652"/>
                    </a:lnTo>
                    <a:lnTo>
                      <a:pt x="260" y="783"/>
                    </a:lnTo>
                    <a:lnTo>
                      <a:pt x="378" y="848"/>
                    </a:lnTo>
                    <a:lnTo>
                      <a:pt x="498" y="869"/>
                    </a:lnTo>
                    <a:lnTo>
                      <a:pt x="595" y="837"/>
                    </a:lnTo>
                    <a:lnTo>
                      <a:pt x="649" y="783"/>
                    </a:lnTo>
                    <a:lnTo>
                      <a:pt x="683" y="652"/>
                    </a:lnTo>
                    <a:lnTo>
                      <a:pt x="672" y="500"/>
                    </a:lnTo>
                    <a:lnTo>
                      <a:pt x="638" y="371"/>
                    </a:lnTo>
                    <a:lnTo>
                      <a:pt x="855" y="251"/>
                    </a:lnTo>
                    <a:lnTo>
                      <a:pt x="879" y="198"/>
                    </a:lnTo>
                    <a:lnTo>
                      <a:pt x="855" y="174"/>
                    </a:lnTo>
                    <a:lnTo>
                      <a:pt x="616" y="316"/>
                    </a:lnTo>
                    <a:lnTo>
                      <a:pt x="573" y="2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23160" y="3811680"/>
                <a:ext cx="237240" cy="570240"/>
              </a:xfrm>
              <a:custGeom>
                <a:avLst/>
                <a:gdLst/>
                <a:ahLst/>
                <a:rect l="l" t="t" r="r" b="b"/>
                <a:pathLst>
                  <a:path w="782" h="1942">
                    <a:moveTo>
                      <a:pt x="217" y="1639"/>
                    </a:moveTo>
                    <a:lnTo>
                      <a:pt x="76" y="1747"/>
                    </a:lnTo>
                    <a:lnTo>
                      <a:pt x="33" y="1781"/>
                    </a:lnTo>
                    <a:lnTo>
                      <a:pt x="0" y="1856"/>
                    </a:lnTo>
                    <a:lnTo>
                      <a:pt x="43" y="1931"/>
                    </a:lnTo>
                    <a:lnTo>
                      <a:pt x="86" y="1942"/>
                    </a:lnTo>
                    <a:lnTo>
                      <a:pt x="217" y="1899"/>
                    </a:lnTo>
                    <a:lnTo>
                      <a:pt x="413" y="1747"/>
                    </a:lnTo>
                    <a:lnTo>
                      <a:pt x="587" y="1564"/>
                    </a:lnTo>
                    <a:lnTo>
                      <a:pt x="772" y="1356"/>
                    </a:lnTo>
                    <a:lnTo>
                      <a:pt x="782" y="1270"/>
                    </a:lnTo>
                    <a:lnTo>
                      <a:pt x="782" y="1032"/>
                    </a:lnTo>
                    <a:lnTo>
                      <a:pt x="729" y="663"/>
                    </a:lnTo>
                    <a:lnTo>
                      <a:pt x="761" y="447"/>
                    </a:lnTo>
                    <a:lnTo>
                      <a:pt x="782" y="359"/>
                    </a:lnTo>
                    <a:lnTo>
                      <a:pt x="750" y="316"/>
                    </a:lnTo>
                    <a:lnTo>
                      <a:pt x="673" y="273"/>
                    </a:lnTo>
                    <a:lnTo>
                      <a:pt x="619" y="241"/>
                    </a:lnTo>
                    <a:lnTo>
                      <a:pt x="651" y="45"/>
                    </a:lnTo>
                    <a:lnTo>
                      <a:pt x="630" y="0"/>
                    </a:lnTo>
                    <a:lnTo>
                      <a:pt x="587" y="13"/>
                    </a:lnTo>
                    <a:lnTo>
                      <a:pt x="565" y="262"/>
                    </a:lnTo>
                    <a:lnTo>
                      <a:pt x="544" y="326"/>
                    </a:lnTo>
                    <a:lnTo>
                      <a:pt x="533" y="369"/>
                    </a:lnTo>
                    <a:lnTo>
                      <a:pt x="445" y="337"/>
                    </a:lnTo>
                    <a:lnTo>
                      <a:pt x="381" y="337"/>
                    </a:lnTo>
                    <a:lnTo>
                      <a:pt x="381" y="380"/>
                    </a:lnTo>
                    <a:lnTo>
                      <a:pt x="424" y="414"/>
                    </a:lnTo>
                    <a:lnTo>
                      <a:pt x="501" y="414"/>
                    </a:lnTo>
                    <a:lnTo>
                      <a:pt x="555" y="457"/>
                    </a:lnTo>
                    <a:lnTo>
                      <a:pt x="598" y="532"/>
                    </a:lnTo>
                    <a:lnTo>
                      <a:pt x="641" y="652"/>
                    </a:lnTo>
                    <a:lnTo>
                      <a:pt x="673" y="891"/>
                    </a:lnTo>
                    <a:lnTo>
                      <a:pt x="673" y="1107"/>
                    </a:lnTo>
                    <a:lnTo>
                      <a:pt x="651" y="1281"/>
                    </a:lnTo>
                    <a:lnTo>
                      <a:pt x="608" y="1356"/>
                    </a:lnTo>
                    <a:lnTo>
                      <a:pt x="456" y="1466"/>
                    </a:lnTo>
                    <a:lnTo>
                      <a:pt x="293" y="1564"/>
                    </a:lnTo>
                    <a:lnTo>
                      <a:pt x="217" y="16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6600" y="4338000"/>
                <a:ext cx="214200" cy="343800"/>
              </a:xfrm>
              <a:custGeom>
                <a:avLst/>
                <a:gdLst/>
                <a:ahLst/>
                <a:rect l="l" t="t" r="r" b="b"/>
                <a:pathLst>
                  <a:path w="707" h="1171">
                    <a:moveTo>
                      <a:pt x="707" y="32"/>
                    </a:moveTo>
                    <a:lnTo>
                      <a:pt x="630" y="0"/>
                    </a:lnTo>
                    <a:lnTo>
                      <a:pt x="466" y="10"/>
                    </a:lnTo>
                    <a:lnTo>
                      <a:pt x="324" y="120"/>
                    </a:lnTo>
                    <a:lnTo>
                      <a:pt x="118" y="347"/>
                    </a:lnTo>
                    <a:lnTo>
                      <a:pt x="11" y="532"/>
                    </a:lnTo>
                    <a:lnTo>
                      <a:pt x="0" y="596"/>
                    </a:lnTo>
                    <a:lnTo>
                      <a:pt x="54" y="716"/>
                    </a:lnTo>
                    <a:lnTo>
                      <a:pt x="172" y="770"/>
                    </a:lnTo>
                    <a:lnTo>
                      <a:pt x="324" y="834"/>
                    </a:lnTo>
                    <a:lnTo>
                      <a:pt x="445" y="867"/>
                    </a:lnTo>
                    <a:lnTo>
                      <a:pt x="498" y="922"/>
                    </a:lnTo>
                    <a:lnTo>
                      <a:pt x="466" y="997"/>
                    </a:lnTo>
                    <a:lnTo>
                      <a:pt x="380" y="1085"/>
                    </a:lnTo>
                    <a:lnTo>
                      <a:pt x="271" y="1096"/>
                    </a:lnTo>
                    <a:lnTo>
                      <a:pt x="196" y="1062"/>
                    </a:lnTo>
                    <a:lnTo>
                      <a:pt x="150" y="1096"/>
                    </a:lnTo>
                    <a:lnTo>
                      <a:pt x="161" y="1139"/>
                    </a:lnTo>
                    <a:lnTo>
                      <a:pt x="249" y="1171"/>
                    </a:lnTo>
                    <a:lnTo>
                      <a:pt x="380" y="1171"/>
                    </a:lnTo>
                    <a:lnTo>
                      <a:pt x="498" y="1139"/>
                    </a:lnTo>
                    <a:lnTo>
                      <a:pt x="565" y="1096"/>
                    </a:lnTo>
                    <a:lnTo>
                      <a:pt x="608" y="1019"/>
                    </a:lnTo>
                    <a:lnTo>
                      <a:pt x="630" y="933"/>
                    </a:lnTo>
                    <a:lnTo>
                      <a:pt x="576" y="856"/>
                    </a:lnTo>
                    <a:lnTo>
                      <a:pt x="445" y="802"/>
                    </a:lnTo>
                    <a:lnTo>
                      <a:pt x="292" y="759"/>
                    </a:lnTo>
                    <a:lnTo>
                      <a:pt x="161" y="684"/>
                    </a:lnTo>
                    <a:lnTo>
                      <a:pt x="129" y="618"/>
                    </a:lnTo>
                    <a:lnTo>
                      <a:pt x="150" y="500"/>
                    </a:lnTo>
                    <a:lnTo>
                      <a:pt x="249" y="347"/>
                    </a:lnTo>
                    <a:lnTo>
                      <a:pt x="370" y="259"/>
                    </a:lnTo>
                    <a:lnTo>
                      <a:pt x="554" y="195"/>
                    </a:lnTo>
                    <a:lnTo>
                      <a:pt x="707" y="163"/>
                    </a:lnTo>
                    <a:lnTo>
                      <a:pt x="707" y="75"/>
                    </a:lnTo>
                    <a:lnTo>
                      <a:pt x="707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11200" y="4322160"/>
                <a:ext cx="200520" cy="423360"/>
              </a:xfrm>
              <a:custGeom>
                <a:avLst/>
                <a:gdLst/>
                <a:ahLst/>
                <a:rect l="l" t="t" r="r" b="b"/>
                <a:pathLst>
                  <a:path w="662" h="1442">
                    <a:moveTo>
                      <a:pt x="576" y="455"/>
                    </a:moveTo>
                    <a:lnTo>
                      <a:pt x="509" y="185"/>
                    </a:lnTo>
                    <a:lnTo>
                      <a:pt x="434" y="54"/>
                    </a:lnTo>
                    <a:lnTo>
                      <a:pt x="270" y="0"/>
                    </a:lnTo>
                    <a:lnTo>
                      <a:pt x="107" y="22"/>
                    </a:lnTo>
                    <a:lnTo>
                      <a:pt x="32" y="163"/>
                    </a:lnTo>
                    <a:lnTo>
                      <a:pt x="43" y="337"/>
                    </a:lnTo>
                    <a:lnTo>
                      <a:pt x="86" y="618"/>
                    </a:lnTo>
                    <a:lnTo>
                      <a:pt x="86" y="867"/>
                    </a:lnTo>
                    <a:lnTo>
                      <a:pt x="32" y="1084"/>
                    </a:lnTo>
                    <a:lnTo>
                      <a:pt x="0" y="1204"/>
                    </a:lnTo>
                    <a:lnTo>
                      <a:pt x="21" y="1311"/>
                    </a:lnTo>
                    <a:lnTo>
                      <a:pt x="96" y="1367"/>
                    </a:lnTo>
                    <a:lnTo>
                      <a:pt x="195" y="1420"/>
                    </a:lnTo>
                    <a:lnTo>
                      <a:pt x="292" y="1442"/>
                    </a:lnTo>
                    <a:lnTo>
                      <a:pt x="412" y="1442"/>
                    </a:lnTo>
                    <a:lnTo>
                      <a:pt x="554" y="1332"/>
                    </a:lnTo>
                    <a:lnTo>
                      <a:pt x="662" y="1105"/>
                    </a:lnTo>
                    <a:lnTo>
                      <a:pt x="651" y="899"/>
                    </a:lnTo>
                    <a:lnTo>
                      <a:pt x="586" y="661"/>
                    </a:lnTo>
                    <a:lnTo>
                      <a:pt x="576" y="4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1080" y="4666320"/>
                <a:ext cx="152280" cy="611640"/>
              </a:xfrm>
              <a:custGeom>
                <a:avLst/>
                <a:gdLst/>
                <a:ahLst/>
                <a:rect l="l" t="t" r="r" b="b"/>
                <a:pathLst>
                  <a:path w="503" h="2083">
                    <a:moveTo>
                      <a:pt x="479" y="32"/>
                    </a:moveTo>
                    <a:lnTo>
                      <a:pt x="350" y="0"/>
                    </a:lnTo>
                    <a:lnTo>
                      <a:pt x="273" y="32"/>
                    </a:lnTo>
                    <a:lnTo>
                      <a:pt x="241" y="139"/>
                    </a:lnTo>
                    <a:lnTo>
                      <a:pt x="273" y="735"/>
                    </a:lnTo>
                    <a:lnTo>
                      <a:pt x="273" y="877"/>
                    </a:lnTo>
                    <a:lnTo>
                      <a:pt x="230" y="1139"/>
                    </a:lnTo>
                    <a:lnTo>
                      <a:pt x="219" y="1441"/>
                    </a:lnTo>
                    <a:lnTo>
                      <a:pt x="241" y="1594"/>
                    </a:lnTo>
                    <a:lnTo>
                      <a:pt x="219" y="1679"/>
                    </a:lnTo>
                    <a:lnTo>
                      <a:pt x="67" y="1810"/>
                    </a:lnTo>
                    <a:lnTo>
                      <a:pt x="0" y="1973"/>
                    </a:lnTo>
                    <a:lnTo>
                      <a:pt x="13" y="2027"/>
                    </a:lnTo>
                    <a:lnTo>
                      <a:pt x="131" y="2083"/>
                    </a:lnTo>
                    <a:lnTo>
                      <a:pt x="163" y="2059"/>
                    </a:lnTo>
                    <a:lnTo>
                      <a:pt x="176" y="1963"/>
                    </a:lnTo>
                    <a:lnTo>
                      <a:pt x="209" y="1821"/>
                    </a:lnTo>
                    <a:lnTo>
                      <a:pt x="262" y="1757"/>
                    </a:lnTo>
                    <a:lnTo>
                      <a:pt x="327" y="1714"/>
                    </a:lnTo>
                    <a:lnTo>
                      <a:pt x="383" y="1658"/>
                    </a:lnTo>
                    <a:lnTo>
                      <a:pt x="393" y="1615"/>
                    </a:lnTo>
                    <a:lnTo>
                      <a:pt x="361" y="1561"/>
                    </a:lnTo>
                    <a:lnTo>
                      <a:pt x="327" y="1529"/>
                    </a:lnTo>
                    <a:lnTo>
                      <a:pt x="305" y="1398"/>
                    </a:lnTo>
                    <a:lnTo>
                      <a:pt x="327" y="1126"/>
                    </a:lnTo>
                    <a:lnTo>
                      <a:pt x="404" y="813"/>
                    </a:lnTo>
                    <a:lnTo>
                      <a:pt x="479" y="562"/>
                    </a:lnTo>
                    <a:lnTo>
                      <a:pt x="503" y="259"/>
                    </a:lnTo>
                    <a:lnTo>
                      <a:pt x="4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16680" y="4666320"/>
                <a:ext cx="250200" cy="515880"/>
              </a:xfrm>
              <a:custGeom>
                <a:avLst/>
                <a:gdLst/>
                <a:ahLst/>
                <a:rect l="l" t="t" r="r" b="b"/>
                <a:pathLst>
                  <a:path w="825" h="1757">
                    <a:moveTo>
                      <a:pt x="271" y="259"/>
                    </a:moveTo>
                    <a:lnTo>
                      <a:pt x="249" y="85"/>
                    </a:lnTo>
                    <a:lnTo>
                      <a:pt x="152" y="0"/>
                    </a:lnTo>
                    <a:lnTo>
                      <a:pt x="11" y="10"/>
                    </a:lnTo>
                    <a:lnTo>
                      <a:pt x="0" y="85"/>
                    </a:lnTo>
                    <a:lnTo>
                      <a:pt x="11" y="248"/>
                    </a:lnTo>
                    <a:lnTo>
                      <a:pt x="86" y="497"/>
                    </a:lnTo>
                    <a:lnTo>
                      <a:pt x="142" y="682"/>
                    </a:lnTo>
                    <a:lnTo>
                      <a:pt x="206" y="931"/>
                    </a:lnTo>
                    <a:lnTo>
                      <a:pt x="228" y="1147"/>
                    </a:lnTo>
                    <a:lnTo>
                      <a:pt x="228" y="1321"/>
                    </a:lnTo>
                    <a:lnTo>
                      <a:pt x="195" y="1452"/>
                    </a:lnTo>
                    <a:lnTo>
                      <a:pt x="163" y="1495"/>
                    </a:lnTo>
                    <a:lnTo>
                      <a:pt x="163" y="1538"/>
                    </a:lnTo>
                    <a:lnTo>
                      <a:pt x="206" y="1604"/>
                    </a:lnTo>
                    <a:lnTo>
                      <a:pt x="281" y="1626"/>
                    </a:lnTo>
                    <a:lnTo>
                      <a:pt x="402" y="1626"/>
                    </a:lnTo>
                    <a:lnTo>
                      <a:pt x="619" y="1679"/>
                    </a:lnTo>
                    <a:lnTo>
                      <a:pt x="683" y="1757"/>
                    </a:lnTo>
                    <a:lnTo>
                      <a:pt x="782" y="1712"/>
                    </a:lnTo>
                    <a:lnTo>
                      <a:pt x="825" y="1604"/>
                    </a:lnTo>
                    <a:lnTo>
                      <a:pt x="782" y="1561"/>
                    </a:lnTo>
                    <a:lnTo>
                      <a:pt x="597" y="1538"/>
                    </a:lnTo>
                    <a:lnTo>
                      <a:pt x="391" y="1538"/>
                    </a:lnTo>
                    <a:lnTo>
                      <a:pt x="303" y="1527"/>
                    </a:lnTo>
                    <a:lnTo>
                      <a:pt x="281" y="1463"/>
                    </a:lnTo>
                    <a:lnTo>
                      <a:pt x="303" y="1343"/>
                    </a:lnTo>
                    <a:lnTo>
                      <a:pt x="316" y="1137"/>
                    </a:lnTo>
                    <a:lnTo>
                      <a:pt x="292" y="909"/>
                    </a:lnTo>
                    <a:lnTo>
                      <a:pt x="260" y="607"/>
                    </a:lnTo>
                    <a:lnTo>
                      <a:pt x="271" y="345"/>
                    </a:lnTo>
                    <a:lnTo>
                      <a:pt x="271" y="2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139680" y="5208480"/>
              <a:ext cx="11685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Ontology Auth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79400" y="4419720"/>
              <a:ext cx="397080" cy="23976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498680" y="3814920"/>
            <a:ext cx="3519360" cy="1457280"/>
            <a:chOff x="1498680" y="3814920"/>
            <a:chExt cx="3519360" cy="1457280"/>
          </a:xfrm>
        </p:grpSpPr>
        <p:sp>
          <p:nvSpPr>
            <p:cNvPr id="202" name=""/>
            <p:cNvSpPr/>
            <p:nvPr/>
          </p:nvSpPr>
          <p:spPr>
            <a:xfrm>
              <a:off x="1598760" y="3814920"/>
              <a:ext cx="3419280" cy="14572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62200" y="4108320"/>
              <a:ext cx="299232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Knowledge models 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Enterprise Mod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User Model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03440" y="4618080"/>
              <a:ext cx="15591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RDF ont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98680" y="4425840"/>
              <a:ext cx="398520" cy="2397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727280" y="2696760"/>
            <a:ext cx="1517400" cy="1383120"/>
            <a:chOff x="1727280" y="2696760"/>
            <a:chExt cx="1517400" cy="1383120"/>
          </a:xfrm>
        </p:grpSpPr>
        <p:sp>
          <p:nvSpPr>
            <p:cNvPr id="207" name=""/>
            <p:cNvSpPr/>
            <p:nvPr/>
          </p:nvSpPr>
          <p:spPr>
            <a:xfrm>
              <a:off x="1727280" y="3011400"/>
              <a:ext cx="15174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oup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ests 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2172960" y="2696760"/>
              <a:ext cx="263160" cy="519480"/>
              <a:chOff x="2172960" y="2696760"/>
              <a:chExt cx="263160" cy="519480"/>
            </a:xfrm>
          </p:grpSpPr>
          <p:sp>
            <p:nvSpPr>
              <p:cNvPr id="209" name=""/>
              <p:cNvSpPr/>
              <p:nvPr/>
            </p:nvSpPr>
            <p:spPr>
              <a:xfrm>
                <a:off x="2172960" y="2956680"/>
                <a:ext cx="263160" cy="259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2172960" y="2696400"/>
                <a:ext cx="263160" cy="259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flipV="1">
              <a:off x="2773080" y="3560760"/>
              <a:ext cx="0" cy="51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43000" y="851040"/>
            <a:ext cx="2627280" cy="3210840"/>
            <a:chOff x="243000" y="851040"/>
            <a:chExt cx="2627280" cy="3210840"/>
          </a:xfrm>
        </p:grpSpPr>
        <p:sp>
          <p:nvSpPr>
            <p:cNvPr id="213" name=""/>
            <p:cNvSpPr/>
            <p:nvPr/>
          </p:nvSpPr>
          <p:spPr>
            <a:xfrm>
              <a:off x="1417680" y="1398600"/>
              <a:ext cx="1452600" cy="10335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17680" y="851040"/>
              <a:ext cx="1452600" cy="515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DF anno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38280" y="2651040"/>
              <a:ext cx="263520" cy="515520"/>
              <a:chOff x="638280" y="2651040"/>
              <a:chExt cx="263520" cy="515520"/>
            </a:xfrm>
          </p:grpSpPr>
          <p:sp>
            <p:nvSpPr>
              <p:cNvPr id="216" name=""/>
              <p:cNvSpPr/>
              <p:nvPr/>
            </p:nvSpPr>
            <p:spPr>
              <a:xfrm>
                <a:off x="638280" y="2908800"/>
                <a:ext cx="263520" cy="25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638280" y="2651040"/>
                <a:ext cx="263520" cy="25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1001880" y="1413000"/>
              <a:ext cx="395280" cy="23652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3000" y="3198960"/>
              <a:ext cx="1179360" cy="33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 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5800" y="2324160"/>
              <a:ext cx="108000" cy="46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817560" y="1866960"/>
              <a:ext cx="528480" cy="861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793440" y="3607920"/>
              <a:ext cx="1716120" cy="45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17680" y="1397160"/>
              <a:ext cx="1452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038400" y="1994040"/>
            <a:ext cx="4092480" cy="3262320"/>
            <a:chOff x="3038400" y="1994040"/>
            <a:chExt cx="4092480" cy="3262320"/>
          </a:xfrm>
        </p:grpSpPr>
        <p:sp>
          <p:nvSpPr>
            <p:cNvPr id="225" name=""/>
            <p:cNvSpPr/>
            <p:nvPr/>
          </p:nvSpPr>
          <p:spPr>
            <a:xfrm>
              <a:off x="5545080" y="4567320"/>
              <a:ext cx="1135080" cy="6890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4995720" y="2778120"/>
              <a:ext cx="262080" cy="515520"/>
              <a:chOff x="4995720" y="2778120"/>
              <a:chExt cx="262080" cy="5155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95720" y="3035880"/>
                <a:ext cx="262080" cy="25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4995720" y="2778120"/>
                <a:ext cx="262080" cy="25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4719600" y="3309840"/>
              <a:ext cx="1198440" cy="33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 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038400" y="3623760"/>
              <a:ext cx="208764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45080" y="4122720"/>
              <a:ext cx="1135080" cy="406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notatio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37160" y="4533840"/>
              <a:ext cx="1322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45080" y="3592440"/>
              <a:ext cx="265320" cy="51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34160" y="4468680"/>
              <a:ext cx="396720" cy="2365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94480" y="1994040"/>
              <a:ext cx="0" cy="68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905200" y="723960"/>
            <a:ext cx="5019480" cy="2085840"/>
            <a:chOff x="2905200" y="723960"/>
            <a:chExt cx="5019480" cy="2085840"/>
          </a:xfrm>
        </p:grpSpPr>
        <p:sp>
          <p:nvSpPr>
            <p:cNvPr id="237" name=""/>
            <p:cNvSpPr/>
            <p:nvPr/>
          </p:nvSpPr>
          <p:spPr>
            <a:xfrm>
              <a:off x="4226040" y="723960"/>
              <a:ext cx="3698640" cy="14572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05080" y="1252440"/>
              <a:ext cx="924120" cy="515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dex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905200" y="1380960"/>
              <a:ext cx="395280" cy="2397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33800" y="1393920"/>
              <a:ext cx="398520" cy="2397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49800" y="817560"/>
              <a:ext cx="18493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rporate 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54520" y="1239840"/>
              <a:ext cx="263520" cy="5176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45080" y="1528920"/>
              <a:ext cx="265320" cy="5158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38880" y="1413000"/>
              <a:ext cx="264960" cy="5173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30880" y="1239840"/>
              <a:ext cx="265320" cy="5176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99000" y="1601640"/>
              <a:ext cx="0" cy="120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25560" y="2728800"/>
            <a:ext cx="4884840" cy="357480"/>
            <a:chOff x="925560" y="2728800"/>
            <a:chExt cx="4884840" cy="357480"/>
          </a:xfrm>
        </p:grpSpPr>
        <p:sp>
          <p:nvSpPr>
            <p:cNvPr id="248" name=""/>
            <p:cNvSpPr/>
            <p:nvPr/>
          </p:nvSpPr>
          <p:spPr>
            <a:xfrm>
              <a:off x="5283360" y="2855880"/>
              <a:ext cx="52704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25560" y="2732040"/>
              <a:ext cx="528840" cy="27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48000" y="2728800"/>
              <a:ext cx="528480" cy="28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8058240" y="25560"/>
            <a:ext cx="106020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ML 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mbolic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ing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s 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C7F4A-19EA-487A-A3F6-09BA1678C2E9}" type="slidenum">
              <a:t>8</a:t>
            </a:fld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ological Approach: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0"/>
            <a:ext cx="8058240" cy="635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n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1: Improve new employee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2: Support technology monitor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f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ance point in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og catalyst &amp; Very rich story-telling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ocus on specific aspects of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of CoMMA as a component of a K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rete set of interaction sequences with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end-users’ ne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hing to check up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ion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33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s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58240" y="25560"/>
            <a:ext cx="106020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ML 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mbolic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cen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ing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s 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9B1C-5C2B-495F-8323-C8327582E564}" type="slidenum">
              <a:t>9</a:t>
            </a:fld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17:34:09Z</dcterms:created>
  <dc:creator>fgandon</dc:creator>
  <dc:description/>
  <dc:language>en-US</dc:language>
  <cp:lastModifiedBy>fgandon</cp:lastModifiedBy>
  <cp:lastPrinted>2000-09-28T06:57:43Z</cp:lastPrinted>
  <dcterms:modified xsi:type="dcterms:W3CDTF">2000-10-19T17:06:38Z</dcterms:modified>
  <cp:revision>99</cp:revision>
  <dc:subject/>
  <dc:title>CoMMA :Corporate Memory Management through Agents</dc:title>
</cp:coreProperties>
</file>