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wmf" ContentType="image/x-wmf"/>
  <Override PartName="/ppt/media/image35.wmf" ContentType="image/x-wmf"/>
  <Override PartName="/ppt/media/image25.png" ContentType="image/png"/>
  <Override PartName="/ppt/media/image30.png" ContentType="image/png"/>
  <Override PartName="/ppt/media/image37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50.png" ContentType="image/png"/>
  <Override PartName="/ppt/media/image13.png" ContentType="image/png"/>
  <Override PartName="/ppt/media/image45.wmf" ContentType="image/x-wmf"/>
  <Override PartName="/ppt/media/image10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9.wmf" ContentType="image/x-wmf"/>
  <Override PartName="/ppt/media/image14.png" ContentType="image/png"/>
  <Override PartName="/ppt/media/image40.png" ContentType="image/png"/>
  <Override PartName="/ppt/media/image38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0BD-13D1-4A2B-ACA2-C6C83D86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2A0-FDC3-4855-BA0C-30404EE8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CF5-BBCC-4FFB-87C9-0A9B293E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8E0-0BAE-4C42-B8AD-EC5DB20B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2C1-E02D-48F8-A730-480C5700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80B-8B11-4893-8622-C1590616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C49-96DA-49E3-A8B4-38DDFFE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6B0-008D-4DFA-867D-C7953231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1C2-34E1-4DF2-9315-847FD4EC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679-8978-48F1-8E34-F76D8B6B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A7D-A553-4E83-95F8-D0E1A841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DE5-0F44-4C4F-AF41-4B2CCF3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orner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-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42884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809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&lt;date/time&gt;</a:t>
            </a: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 </a:t>
            </a:r>
            <a:fld id="{C1A95E76-69B7-4D57-AE18-28D6EDE12376}" type="datetime11"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01:45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36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00720" y="-12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17BB-10BE-4334-983E-B602498A753C}" type="slidenum">
              <a:rPr b="1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rner" descr=""/>
          <p:cNvPicPr/>
          <p:nvPr/>
        </p:nvPicPr>
        <p:blipFill>
          <a:blip r:embed="rId2"/>
          <a:stretch/>
        </p:blipFill>
        <p:spPr>
          <a:xfrm>
            <a:off x="7112160" y="0"/>
            <a:ext cx="203184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61718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990720"/>
            <a:ext cx="8382240" cy="17524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_sophia" descr=""/>
          <p:cNvPicPr/>
          <p:nvPr/>
        </p:nvPicPr>
        <p:blipFill>
          <a:blip r:embed="rId3"/>
          <a:stretch/>
        </p:blipFill>
        <p:spPr>
          <a:xfrm>
            <a:off x="7924680" y="250920"/>
            <a:ext cx="1219320" cy="33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23840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61928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  <a:tab algn="l" pos="7924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14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4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1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0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30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4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1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0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Winner" descr=""/>
          <p:cNvPicPr/>
          <p:nvPr/>
        </p:nvPicPr>
        <p:blipFill>
          <a:blip r:embed="rId1"/>
          <a:stretch/>
        </p:blipFill>
        <p:spPr>
          <a:xfrm>
            <a:off x="1981080" y="3921120"/>
            <a:ext cx="5029200" cy="161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Fabien Gandon, Rose Dieng-Kuntz - INRIA - ACACIA Team - CIA 2002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Distributed Artificial Intelligence for Distributed Corporate Knowledge Management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3581280"/>
            <a:ext cx="6945480" cy="2362320"/>
          </a:xfrm>
          <a:prstGeom prst="ellipse">
            <a:avLst/>
          </a:prstGeom>
          <a:noFill/>
          <a:ln w="52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1811160" cy="6015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975120" y="5410080"/>
            <a:ext cx="1390320" cy="1371240"/>
            <a:chOff x="3975120" y="5410080"/>
            <a:chExt cx="1390320" cy="1371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975120" y="5410080"/>
              <a:ext cx="1390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3975120" y="5410080"/>
              <a:ext cx="1390320" cy="137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162920" y="4114800"/>
            <a:ext cx="161280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57200" y="5073480"/>
            <a:ext cx="1523880" cy="946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523880" y="3289320"/>
            <a:ext cx="1752480" cy="990360"/>
            <a:chOff x="1523880" y="3289320"/>
            <a:chExt cx="1752480" cy="990360"/>
          </a:xfrm>
        </p:grpSpPr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1523880" y="3289320"/>
              <a:ext cx="17524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1523880" y="3289320"/>
              <a:ext cx="1752480" cy="99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6324480" y="5410080"/>
            <a:ext cx="175284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3581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abien.Gandon@sophia.inria.f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525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527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530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5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36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8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539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0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4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45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546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547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8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549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63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4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565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6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577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9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0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2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3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5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86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587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589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596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7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98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599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0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601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6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608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17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3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629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630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2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633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4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36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638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639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0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3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645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648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9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650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3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654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658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670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674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677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682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98400" y="1143000"/>
            <a:ext cx="8013600" cy="4647960"/>
            <a:chOff x="698400" y="1143000"/>
            <a:chExt cx="8013600" cy="4647960"/>
          </a:xfrm>
        </p:grpSpPr>
        <p:sp>
          <p:nvSpPr>
            <p:cNvPr id="686" name=""/>
            <p:cNvSpPr/>
            <p:nvPr/>
          </p:nvSpPr>
          <p:spPr>
            <a:xfrm>
              <a:off x="711000" y="1143000"/>
              <a:ext cx="312444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1000" y="5562360"/>
              <a:ext cx="8001000" cy="22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000" y="3886200"/>
              <a:ext cx="18288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87920" y="1295280"/>
              <a:ext cx="3124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8400" y="4572000"/>
              <a:ext cx="13842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82600" y="5562360"/>
              <a:ext cx="3505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5440" y="1295280"/>
              <a:ext cx="1752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39800" y="388620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82600" y="487656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82600" y="487656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35440" y="1295280"/>
              <a:ext cx="0" cy="259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7920" y="1295280"/>
              <a:ext cx="0" cy="426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39800" y="388620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6FC-3FA4-45F6-BD20-452C9E1A33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llustration of the cycl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04920" y="1422360"/>
            <a:ext cx="2514600" cy="4998600"/>
            <a:chOff x="304920" y="1422360"/>
            <a:chExt cx="2514600" cy="4998600"/>
          </a:xfrm>
        </p:grpSpPr>
        <p:sp>
          <p:nvSpPr>
            <p:cNvPr id="701" name=""/>
            <p:cNvSpPr/>
            <p:nvPr/>
          </p:nvSpPr>
          <p:spPr>
            <a:xfrm>
              <a:off x="304920" y="1422360"/>
              <a:ext cx="2514600" cy="4495680"/>
            </a:xfrm>
            <a:prstGeom prst="rect">
              <a:avLst/>
            </a:pr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7200" y="6146640"/>
              <a:ext cx="190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 - Re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330120" y="1815840"/>
              <a:ext cx="2438280" cy="519840"/>
              <a:chOff x="330120" y="1815840"/>
              <a:chExt cx="2438280" cy="519840"/>
            </a:xfrm>
          </p:grpSpPr>
          <p:sp>
            <p:nvSpPr>
              <p:cNvPr id="704" name=""/>
              <p:cNvSpPr/>
              <p:nvPr/>
            </p:nvSpPr>
            <p:spPr>
              <a:xfrm>
                <a:off x="21589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875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46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824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301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0159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445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731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7017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303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32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0918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204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5490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7776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0062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348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10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396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682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3968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254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8540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0826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87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73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159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2445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4731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017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303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873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736560" y="1714320"/>
              <a:ext cx="1511280" cy="456840"/>
            </a:xfrm>
            <a:custGeom>
              <a:avLst/>
              <a:gdLst/>
              <a:ahLst/>
              <a:rect l="l" t="t" r="r" b="b"/>
              <a:pathLst>
                <a:path w="2166" h="1311">
                  <a:moveTo>
                    <a:pt x="0" y="0"/>
                  </a:moveTo>
                  <a:lnTo>
                    <a:pt x="0" y="1311"/>
                  </a:lnTo>
                  <a:lnTo>
                    <a:pt x="2166" y="1311"/>
                  </a:lnTo>
                  <a:lnTo>
                    <a:pt x="2166" y="342"/>
                  </a:lnTo>
                  <a:lnTo>
                    <a:pt x="1938" y="570"/>
                  </a:lnTo>
                  <a:lnTo>
                    <a:pt x="1938" y="342"/>
                  </a:lnTo>
                  <a:lnTo>
                    <a:pt x="1710" y="570"/>
                  </a:lnTo>
                  <a:lnTo>
                    <a:pt x="1710" y="342"/>
                  </a:lnTo>
                  <a:lnTo>
                    <a:pt x="1482" y="570"/>
                  </a:lnTo>
                  <a:lnTo>
                    <a:pt x="1482" y="342"/>
                  </a:lnTo>
                  <a:lnTo>
                    <a:pt x="1254" y="570"/>
                  </a:lnTo>
                  <a:lnTo>
                    <a:pt x="1254" y="342"/>
                  </a:lnTo>
                  <a:lnTo>
                    <a:pt x="1026" y="570"/>
                  </a:lnTo>
                  <a:lnTo>
                    <a:pt x="1026" y="342"/>
                  </a:lnTo>
                  <a:lnTo>
                    <a:pt x="798" y="570"/>
                  </a:lnTo>
                  <a:lnTo>
                    <a:pt x="798" y="342"/>
                  </a:lnTo>
                  <a:lnTo>
                    <a:pt x="570" y="570"/>
                  </a:lnTo>
                  <a:lnTo>
                    <a:pt x="570" y="342"/>
                  </a:lnTo>
                  <a:lnTo>
                    <a:pt x="342" y="570"/>
                  </a:lnTo>
                  <a:lnTo>
                    <a:pt x="3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457200" y="2412720"/>
              <a:ext cx="1980720" cy="685080"/>
              <a:chOff x="457200" y="2412720"/>
              <a:chExt cx="1980720" cy="685080"/>
            </a:xfrm>
          </p:grpSpPr>
          <p:sp>
            <p:nvSpPr>
              <p:cNvPr id="738" name=""/>
              <p:cNvSpPr/>
              <p:nvPr/>
            </p:nvSpPr>
            <p:spPr>
              <a:xfrm>
                <a:off x="457200" y="2412720"/>
                <a:ext cx="1980720" cy="68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800" y="2559240"/>
                <a:ext cx="29088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65080" y="2559240"/>
                <a:ext cx="6991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21800" y="2559240"/>
                <a:ext cx="7585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22680" y="2608200"/>
                <a:ext cx="2332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213560" y="2608200"/>
                <a:ext cx="2908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80840" y="260820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13040" y="2608200"/>
                <a:ext cx="1760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146680" y="260820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3840" y="260820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3840" y="2755080"/>
                <a:ext cx="173880" cy="97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3840" y="290232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>
              <a:off x="914400" y="4782960"/>
              <a:ext cx="1752480" cy="1058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609480" y="3325680"/>
              <a:ext cx="2057400" cy="1220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52" name=""/>
            <p:cNvSpPr/>
            <p:nvPr/>
          </p:nvSpPr>
          <p:spPr>
            <a:xfrm>
              <a:off x="457200" y="5968800"/>
              <a:ext cx="2133720" cy="228240"/>
            </a:xfrm>
            <a:custGeom>
              <a:avLst/>
              <a:gdLst>
                <a:gd name="textAreaLeft" fmla="*/ 333360 w 2133720"/>
                <a:gd name="textAreaRight" fmla="*/ 1846800 w 2133720"/>
                <a:gd name="textAreaTop" fmla="*/ 44280 h 228240"/>
                <a:gd name="textAreaBottom" fmla="*/ 18396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6843" y="4200"/>
                  </a:lnTo>
                  <a:lnTo>
                    <a:pt x="16843" y="0"/>
                  </a:lnTo>
                  <a:lnTo>
                    <a:pt x="21600" y="10800"/>
                  </a:lnTo>
                  <a:lnTo>
                    <a:pt x="16843" y="21600"/>
                  </a:lnTo>
                  <a:lnTo>
                    <a:pt x="16843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533520" y="4089240"/>
              <a:ext cx="1218960" cy="794520"/>
              <a:chOff x="533520" y="4089240"/>
              <a:chExt cx="1218960" cy="794520"/>
            </a:xfrm>
          </p:grpSpPr>
          <p:sp>
            <p:nvSpPr>
              <p:cNvPr id="754" name=""/>
              <p:cNvSpPr/>
              <p:nvPr/>
            </p:nvSpPr>
            <p:spPr>
              <a:xfrm>
                <a:off x="939600" y="408924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35040" y="44071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93760" y="44071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90360" y="47250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47560" y="4725000"/>
                <a:ext cx="30492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3520" y="47250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88840" y="4248000"/>
                <a:ext cx="10152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80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14264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193760" y="4248000"/>
                <a:ext cx="10116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44756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Ontology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: explicit partial account of concepts used in the corporate memory management scenarios and their relation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781360" y="1397160"/>
            <a:ext cx="3124080" cy="5054400"/>
            <a:chOff x="2781360" y="1397160"/>
            <a:chExt cx="3124080" cy="5054400"/>
          </a:xfrm>
        </p:grpSpPr>
        <p:sp>
          <p:nvSpPr>
            <p:cNvPr id="767" name=""/>
            <p:cNvSpPr/>
            <p:nvPr/>
          </p:nvSpPr>
          <p:spPr>
            <a:xfrm>
              <a:off x="2819520" y="1422360"/>
              <a:ext cx="2971800" cy="4496040"/>
            </a:xfrm>
            <a:prstGeom prst="rect">
              <a:avLst/>
            </a:pr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81360" y="1397160"/>
              <a:ext cx="3124080" cy="45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 (X) 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or is a sub-part of an organization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 (X)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living being pertaining to the human ra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 (Organizational Entity: X, Organizational Entity / Person Y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organizational entity X includes Y as one of its me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 (Person: X, Organizational Entity: Y) :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The person X watches and directs the organizational entity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38560" y="6151680"/>
              <a:ext cx="217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- 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19520" y="5969160"/>
              <a:ext cx="2895480" cy="228600"/>
            </a:xfrm>
            <a:custGeom>
              <a:avLst/>
              <a:gdLst>
                <a:gd name="textAreaLeft" fmla="*/ 452160 w 2895480"/>
                <a:gd name="textAreaRight" fmla="*/ 2608560 w 289548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715000" y="1422360"/>
            <a:ext cx="2973240" cy="5130360"/>
            <a:chOff x="5715000" y="1422360"/>
            <a:chExt cx="2973240" cy="5130360"/>
          </a:xfrm>
        </p:grpSpPr>
        <p:sp>
          <p:nvSpPr>
            <p:cNvPr id="772" name=""/>
            <p:cNvSpPr/>
            <p:nvPr/>
          </p:nvSpPr>
          <p:spPr>
            <a:xfrm>
              <a:off x="5791320" y="1422360"/>
              <a:ext cx="2895480" cy="4495680"/>
            </a:xfrm>
            <a:prstGeom prst="rect">
              <a:avLst/>
            </a:pr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67280" y="1422360"/>
              <a:ext cx="2819520" cy="44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715000" y="6222600"/>
              <a:ext cx="2973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 - Situation &amp; Anno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67280" y="5968800"/>
              <a:ext cx="2667240" cy="228240"/>
            </a:xfrm>
            <a:custGeom>
              <a:avLst/>
              <a:gdLst>
                <a:gd name="textAreaLeft" fmla="*/ 416520 w 2667240"/>
                <a:gd name="textAreaRight" fmla="*/ 2403000 w 2667240"/>
                <a:gd name="textAreaTop" fmla="*/ 44280 h 228240"/>
                <a:gd name="textAreaBottom" fmla="*/ 18396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162-F53A-4A39-8195-A5533ADE43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esting aspects of XML &amp; RDF(S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240" y="34308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XML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ring structure to the memory to improve search and manipulation of documents using an emerging standard in industry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DF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If the corporate memory becomes an annotated world, software can use the semantics of these annotations an through inferences help the users exploit the corporate memory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86600" y="3733920"/>
            <a:ext cx="1981080" cy="1981080"/>
            <a:chOff x="7086600" y="3733920"/>
            <a:chExt cx="1981080" cy="1981080"/>
          </a:xfrm>
        </p:grpSpPr>
        <p:sp>
          <p:nvSpPr>
            <p:cNvPr id="779" name=""/>
            <p:cNvSpPr/>
            <p:nvPr/>
          </p:nvSpPr>
          <p:spPr>
            <a:xfrm>
              <a:off x="7086600" y="3733920"/>
              <a:ext cx="1981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69040" y="382104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572320" y="382104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572320" y="520056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69040" y="520056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27720" y="3857400"/>
              <a:ext cx="336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632800" y="385740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32800" y="523872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27720" y="5238720"/>
              <a:ext cx="3366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69040" y="4595760"/>
              <a:ext cx="33336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840" y="528300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12080" y="390672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653320" y="4595760"/>
              <a:ext cx="33804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577000">
              <a:off x="7651800" y="4316040"/>
              <a:ext cx="823680" cy="86148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861480"/>
                <a:gd name="textAreaBottom" fmla="*/ 861840 h 86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86600" y="4422600"/>
              <a:ext cx="1981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50760" y="3048120"/>
            <a:ext cx="9093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rporate semantic web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(annotated info worl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tology in RDFS     (O'CoM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scription the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tuation in RD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Profiles (annotate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ganization model (annotate grou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notations in RDF describing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D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cument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manipulation at semantic lev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nnotated persons &amp; organizational entities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context aware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7B7-6332-4E83-9BAA-279E88B6F6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152280" y="380880"/>
            <a:ext cx="8169480" cy="2209680"/>
            <a:chOff x="152280" y="380880"/>
            <a:chExt cx="8169480" cy="2209680"/>
          </a:xfrm>
        </p:grpSpPr>
        <p:sp>
          <p:nvSpPr>
            <p:cNvPr id="796" name=""/>
            <p:cNvSpPr/>
            <p:nvPr/>
          </p:nvSpPr>
          <p:spPr>
            <a:xfrm>
              <a:off x="168120" y="457200"/>
              <a:ext cx="8153640" cy="21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48360" y="474480"/>
              <a:ext cx="57895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Class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Proper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Property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Member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280" y="38088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in RD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52280" y="2463840"/>
            <a:ext cx="8169480" cy="1523880"/>
            <a:chOff x="152280" y="2463840"/>
            <a:chExt cx="8169480" cy="1523880"/>
          </a:xfrm>
        </p:grpSpPr>
        <p:sp>
          <p:nvSpPr>
            <p:cNvPr id="800" name=""/>
            <p:cNvSpPr/>
            <p:nvPr/>
          </p:nvSpPr>
          <p:spPr>
            <a:xfrm>
              <a:off x="168120" y="2539800"/>
              <a:ext cx="815364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8200" y="2616120"/>
              <a:ext cx="91296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16040" y="3454200"/>
              <a:ext cx="1295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3454200"/>
              <a:ext cx="13716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5654520" y="3378240"/>
              <a:ext cx="1523880" cy="533160"/>
              <a:chOff x="5654520" y="3378240"/>
              <a:chExt cx="1523880" cy="533160"/>
            </a:xfrm>
          </p:grpSpPr>
          <p:sp>
            <p:nvSpPr>
              <p:cNvPr id="805" name=""/>
              <p:cNvSpPr/>
              <p:nvPr/>
            </p:nvSpPr>
            <p:spPr>
              <a:xfrm>
                <a:off x="5654520" y="337824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780160" y="339084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 flipH="1">
              <a:off x="2301480" y="3073320"/>
              <a:ext cx="76212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063960" y="3073320"/>
              <a:ext cx="76176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759040" y="33015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759040" y="330192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511160" y="3682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31040" y="3301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178400" y="3682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92760" y="26161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632640" y="2616120"/>
              <a:ext cx="1523880" cy="533160"/>
              <a:chOff x="6632640" y="2616120"/>
              <a:chExt cx="1523880" cy="533160"/>
            </a:xfrm>
          </p:grpSpPr>
          <p:sp>
            <p:nvSpPr>
              <p:cNvPr id="816" name=""/>
              <p:cNvSpPr/>
              <p:nvPr/>
            </p:nvSpPr>
            <p:spPr>
              <a:xfrm>
                <a:off x="6632640" y="261612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50080" y="2628720"/>
                <a:ext cx="103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>
              <a:off x="6644880" y="3149640"/>
              <a:ext cx="6094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67280" y="34290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017320" y="303516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2280" y="246384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52280" y="3911760"/>
            <a:ext cx="8169480" cy="1215000"/>
            <a:chOff x="152280" y="3911760"/>
            <a:chExt cx="8169480" cy="1215000"/>
          </a:xfrm>
        </p:grpSpPr>
        <p:sp>
          <p:nvSpPr>
            <p:cNvPr id="823" name=""/>
            <p:cNvSpPr/>
            <p:nvPr/>
          </p:nvSpPr>
          <p:spPr>
            <a:xfrm>
              <a:off x="168120" y="3971880"/>
              <a:ext cx="815364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58400" y="4060800"/>
              <a:ext cx="71301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-sop.inria.fr/acacia/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.inria.fr/~fab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Employe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Group 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2280" y="3911760"/>
              <a:ext cx="192096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DF(S) - Aspects used by the agents managing the annotations 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68120" y="5029200"/>
            <a:ext cx="8180280" cy="1523520"/>
            <a:chOff x="168120" y="5029200"/>
            <a:chExt cx="8180280" cy="1523520"/>
          </a:xfrm>
        </p:grpSpPr>
        <p:sp>
          <p:nvSpPr>
            <p:cNvPr id="828" name=""/>
            <p:cNvSpPr/>
            <p:nvPr/>
          </p:nvSpPr>
          <p:spPr>
            <a:xfrm>
              <a:off x="168120" y="5105160"/>
              <a:ext cx="8153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5800" y="5981400"/>
              <a:ext cx="22860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Aca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97120" y="5943240"/>
              <a:ext cx="1523880" cy="533160"/>
              <a:chOff x="3597120" y="5943240"/>
              <a:chExt cx="1523880" cy="533160"/>
            </a:xfrm>
          </p:grpSpPr>
          <p:sp>
            <p:nvSpPr>
              <p:cNvPr id="831" name=""/>
              <p:cNvSpPr/>
              <p:nvPr/>
            </p:nvSpPr>
            <p:spPr>
              <a:xfrm>
                <a:off x="3597120" y="594324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22760" y="595584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 flipH="1">
              <a:off x="2971440" y="62118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89760" y="59432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117760" y="6211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32640" y="594324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07160" y="5981400"/>
              <a:ext cx="2438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Fa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8120" y="502920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riplet and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92800" y="5486040"/>
              <a:ext cx="4755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urier New"/>
                </a:rPr>
                <a:t>(Acacia, Employee, Fab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77D-083D-4B11-B01D-A8C3C23659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171000" y="5091120"/>
            <a:ext cx="3110400" cy="855360"/>
            <a:chOff x="171000" y="5091120"/>
            <a:chExt cx="3110400" cy="855360"/>
          </a:xfrm>
        </p:grpSpPr>
        <p:sp>
          <p:nvSpPr>
            <p:cNvPr id="841" name=""/>
            <p:cNvSpPr/>
            <p:nvPr/>
          </p:nvSpPr>
          <p:spPr>
            <a:xfrm>
              <a:off x="1461960" y="5135400"/>
              <a:ext cx="18194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19800" y="5095800"/>
              <a:ext cx="101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171000" y="5170320"/>
              <a:ext cx="430200" cy="758880"/>
              <a:chOff x="171000" y="5170320"/>
              <a:chExt cx="430200" cy="758880"/>
            </a:xfrm>
          </p:grpSpPr>
          <p:sp>
            <p:nvSpPr>
              <p:cNvPr id="844" name=""/>
              <p:cNvSpPr/>
              <p:nvPr/>
            </p:nvSpPr>
            <p:spPr>
              <a:xfrm flipH="1">
                <a:off x="295560" y="5212440"/>
                <a:ext cx="168120" cy="16560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406800" y="5170320"/>
                <a:ext cx="194040" cy="26568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17160" y="5390280"/>
                <a:ext cx="100800" cy="24912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216000" y="5397480"/>
                <a:ext cx="155160" cy="19152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70640" y="5614560"/>
                <a:ext cx="188280" cy="3096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50640" y="5613840"/>
                <a:ext cx="126360" cy="31536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04800" y="5091120"/>
              <a:ext cx="473040" cy="396720"/>
              <a:chOff x="604800" y="5091120"/>
              <a:chExt cx="473040" cy="396720"/>
            </a:xfrm>
          </p:grpSpPr>
          <p:sp>
            <p:nvSpPr>
              <p:cNvPr id="851" name=""/>
              <p:cNvSpPr/>
              <p:nvPr/>
            </p:nvSpPr>
            <p:spPr>
              <a:xfrm>
                <a:off x="604800" y="5091120"/>
                <a:ext cx="47304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2" name="inter" descr=""/>
              <p:cNvPicPr/>
              <p:nvPr/>
            </p:nvPicPr>
            <p:blipFill>
              <a:blip r:embed="rId1"/>
              <a:stretch/>
            </p:blipFill>
            <p:spPr>
              <a:xfrm>
                <a:off x="720720" y="51613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3" name=""/>
            <p:cNvSpPr/>
            <p:nvPr/>
          </p:nvSpPr>
          <p:spPr>
            <a:xfrm>
              <a:off x="393480" y="5562360"/>
              <a:ext cx="609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0680" y="5715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88920" y="4102200"/>
            <a:ext cx="3193920" cy="917640"/>
            <a:chOff x="88920" y="4102200"/>
            <a:chExt cx="3193920" cy="917640"/>
          </a:xfrm>
        </p:grpSpPr>
        <p:sp>
          <p:nvSpPr>
            <p:cNvPr id="856" name=""/>
            <p:cNvSpPr/>
            <p:nvPr/>
          </p:nvSpPr>
          <p:spPr>
            <a:xfrm>
              <a:off x="1465200" y="4185000"/>
              <a:ext cx="18176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84240" y="4194360"/>
              <a:ext cx="91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3480" y="4419720"/>
              <a:ext cx="1143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88920" y="4102200"/>
              <a:ext cx="380520" cy="876600"/>
              <a:chOff x="88920" y="4102200"/>
              <a:chExt cx="380520" cy="8766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88920" y="4102200"/>
                <a:ext cx="187200" cy="73080"/>
                <a:chOff x="88920" y="4102200"/>
                <a:chExt cx="187200" cy="7308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88920" y="415728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35000" y="41097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99440" y="410220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35080" y="413028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155160" y="4154040"/>
                <a:ext cx="314280" cy="824760"/>
                <a:chOff x="155160" y="4154040"/>
                <a:chExt cx="314280" cy="8247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212040" y="428976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25080" y="415404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55160" y="444996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58480" y="4440960"/>
                  <a:ext cx="119160" cy="23796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3560" y="4634640"/>
                  <a:ext cx="90360" cy="34416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21120" y="463464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72" name="ampou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414756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3" name=""/>
            <p:cNvSpPr/>
            <p:nvPr/>
          </p:nvSpPr>
          <p:spPr>
            <a:xfrm>
              <a:off x="1181160" y="4750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3080" y="2841480"/>
            <a:ext cx="3205080" cy="968400"/>
            <a:chOff x="73080" y="2841480"/>
            <a:chExt cx="3205080" cy="968400"/>
          </a:xfrm>
        </p:grpSpPr>
        <p:sp>
          <p:nvSpPr>
            <p:cNvPr id="875" name=""/>
            <p:cNvSpPr/>
            <p:nvPr/>
          </p:nvSpPr>
          <p:spPr>
            <a:xfrm>
              <a:off x="1460520" y="2867040"/>
              <a:ext cx="1817640" cy="877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37120" y="2841480"/>
              <a:ext cx="177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190440" y="3179520"/>
              <a:ext cx="430200" cy="630360"/>
              <a:chOff x="190440" y="3179520"/>
              <a:chExt cx="430200" cy="630360"/>
            </a:xfrm>
          </p:grpSpPr>
          <p:sp>
            <p:nvSpPr>
              <p:cNvPr id="878" name=""/>
              <p:cNvSpPr/>
              <p:nvPr/>
            </p:nvSpPr>
            <p:spPr>
              <a:xfrm>
                <a:off x="379080" y="3389040"/>
                <a:ext cx="100080" cy="222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7960" y="3587400"/>
                <a:ext cx="114480" cy="21924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6760" y="3576240"/>
                <a:ext cx="142560" cy="23364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0440" y="3389400"/>
                <a:ext cx="192960" cy="1742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78800" y="3179520"/>
                <a:ext cx="141840" cy="23580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39120" y="3214800"/>
                <a:ext cx="110520" cy="16776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469800" y="2895480"/>
              <a:ext cx="237960" cy="239760"/>
              <a:chOff x="469800" y="2895480"/>
              <a:chExt cx="237960" cy="239760"/>
            </a:xfrm>
          </p:grpSpPr>
          <p:sp>
            <p:nvSpPr>
              <p:cNvPr id="885" name=""/>
              <p:cNvSpPr/>
              <p:nvPr/>
            </p:nvSpPr>
            <p:spPr>
              <a:xfrm>
                <a:off x="469800" y="2895480"/>
                <a:ext cx="23796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6" name="doc_0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6800" y="2917080"/>
                <a:ext cx="198360" cy="1998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887" name=""/>
            <p:cNvGrpSpPr/>
            <p:nvPr/>
          </p:nvGrpSpPr>
          <p:grpSpPr>
            <a:xfrm>
              <a:off x="137880" y="2855880"/>
              <a:ext cx="255600" cy="279360"/>
              <a:chOff x="137880" y="2855880"/>
              <a:chExt cx="255600" cy="279360"/>
            </a:xfrm>
          </p:grpSpPr>
          <p:sp>
            <p:nvSpPr>
              <p:cNvPr id="888" name=""/>
              <p:cNvSpPr/>
              <p:nvPr/>
            </p:nvSpPr>
            <p:spPr>
              <a:xfrm>
                <a:off x="137880" y="2855880"/>
                <a:ext cx="25560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9" name="doc_0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6160" y="2874600"/>
                <a:ext cx="236880" cy="2394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890" name=""/>
            <p:cNvGrpSpPr/>
            <p:nvPr/>
          </p:nvGrpSpPr>
          <p:grpSpPr>
            <a:xfrm>
              <a:off x="73080" y="3174840"/>
              <a:ext cx="204480" cy="244440"/>
              <a:chOff x="73080" y="3174840"/>
              <a:chExt cx="204480" cy="244440"/>
            </a:xfrm>
          </p:grpSpPr>
          <p:sp>
            <p:nvSpPr>
              <p:cNvPr id="891" name=""/>
              <p:cNvSpPr/>
              <p:nvPr/>
            </p:nvSpPr>
            <p:spPr>
              <a:xfrm>
                <a:off x="73080" y="3174840"/>
                <a:ext cx="20448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2" name="doc_01" descr=""/>
              <p:cNvPicPr/>
              <p:nvPr/>
            </p:nvPicPr>
            <p:blipFill>
              <a:blip r:embed="rId5"/>
              <a:stretch/>
            </p:blipFill>
            <p:spPr>
              <a:xfrm>
                <a:off x="93600" y="3191400"/>
                <a:ext cx="167040" cy="2152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sp>
          <p:nvSpPr>
            <p:cNvPr id="893" name=""/>
            <p:cNvSpPr/>
            <p:nvPr/>
          </p:nvSpPr>
          <p:spPr>
            <a:xfrm>
              <a:off x="457200" y="3389040"/>
              <a:ext cx="6094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01440" y="3530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88920" y="1828800"/>
            <a:ext cx="3189240" cy="950760"/>
            <a:chOff x="88920" y="1828800"/>
            <a:chExt cx="3189240" cy="950760"/>
          </a:xfrm>
        </p:grpSpPr>
        <p:sp>
          <p:nvSpPr>
            <p:cNvPr id="896" name=""/>
            <p:cNvSpPr/>
            <p:nvPr/>
          </p:nvSpPr>
          <p:spPr>
            <a:xfrm>
              <a:off x="1460520" y="1919160"/>
              <a:ext cx="1817640" cy="860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22160" y="1915920"/>
              <a:ext cx="119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3480" y="2146320"/>
              <a:ext cx="1143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88920" y="1828800"/>
              <a:ext cx="380520" cy="875520"/>
              <a:chOff x="88920" y="1828800"/>
              <a:chExt cx="380520" cy="87552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88920" y="1828800"/>
                <a:ext cx="187200" cy="73080"/>
                <a:chOff x="88920" y="1828800"/>
                <a:chExt cx="187200" cy="7308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88920" y="188388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35000" y="18363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440" y="182880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35080" y="185688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155160" y="1880280"/>
                <a:ext cx="314280" cy="824040"/>
                <a:chOff x="155160" y="1880280"/>
                <a:chExt cx="314280" cy="8240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212040" y="201600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25080" y="188028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55160" y="217620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58480" y="2167200"/>
                  <a:ext cx="119160" cy="2376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23560" y="2360520"/>
                  <a:ext cx="90360" cy="34380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21120" y="236052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12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23840" y="187416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3" name=""/>
            <p:cNvSpPr/>
            <p:nvPr/>
          </p:nvSpPr>
          <p:spPr>
            <a:xfrm>
              <a:off x="1181160" y="2476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perationalise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25720" indent="-22572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CORESE: COnceptual REsources Search Eng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526680" indent="-15012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RDF(S) for schema, annotations, rules</a:t>
            </a:r>
            <a:r>
              <a:rPr b="0" lang="en-GB" sz="2600" spc="-1" strike="noStrike" baseline="30000">
                <a:solidFill>
                  <a:srgbClr val="000066"/>
                </a:solidFill>
                <a:latin typeface="Arial"/>
              </a:rPr>
              <a:t>(+)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, queries</a:t>
            </a:r>
            <a:r>
              <a:rPr b="0" lang="en-GB" sz="2600" spc="-1" strike="noStrike" baseline="30000">
                <a:solidFill>
                  <a:srgbClr val="000066"/>
                </a:solidFill>
                <a:latin typeface="Arial"/>
              </a:rPr>
              <a:t>(+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26680" indent="-15012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Light weight component &amp; API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367080" y="1849320"/>
            <a:ext cx="3167280" cy="4262760"/>
            <a:chOff x="3367080" y="1849320"/>
            <a:chExt cx="3167280" cy="4262760"/>
          </a:xfrm>
        </p:grpSpPr>
        <p:sp>
          <p:nvSpPr>
            <p:cNvPr id="917" name=""/>
            <p:cNvSpPr/>
            <p:nvPr/>
          </p:nvSpPr>
          <p:spPr>
            <a:xfrm>
              <a:off x="3367080" y="1849320"/>
              <a:ext cx="3090600" cy="419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6760" y="57132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539080" y="1841400"/>
            <a:ext cx="2273400" cy="4841280"/>
            <a:chOff x="2539080" y="1841400"/>
            <a:chExt cx="2273400" cy="4841280"/>
          </a:xfrm>
        </p:grpSpPr>
        <p:grpSp>
          <p:nvGrpSpPr>
            <p:cNvPr id="920" name=""/>
            <p:cNvGrpSpPr/>
            <p:nvPr/>
          </p:nvGrpSpPr>
          <p:grpSpPr>
            <a:xfrm>
              <a:off x="2539080" y="1841400"/>
              <a:ext cx="1572120" cy="4841280"/>
              <a:chOff x="2539080" y="1841400"/>
              <a:chExt cx="1572120" cy="4841280"/>
            </a:xfrm>
          </p:grpSpPr>
          <p:sp>
            <p:nvSpPr>
              <p:cNvPr id="921" name=""/>
              <p:cNvSpPr/>
              <p:nvPr/>
            </p:nvSpPr>
            <p:spPr>
              <a:xfrm>
                <a:off x="3367080" y="1841400"/>
                <a:ext cx="0" cy="448164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539080" y="6222960"/>
                <a:ext cx="157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Trans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2820960" y="1860480"/>
              <a:ext cx="1991520" cy="4116240"/>
              <a:chOff x="2820960" y="1860480"/>
              <a:chExt cx="1991520" cy="4116240"/>
            </a:xfrm>
          </p:grpSpPr>
          <p:sp>
            <p:nvSpPr>
              <p:cNvPr id="924" name=""/>
              <p:cNvSpPr/>
              <p:nvPr/>
            </p:nvSpPr>
            <p:spPr>
              <a:xfrm>
                <a:off x="3528720" y="1933560"/>
                <a:ext cx="12502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95960" y="1860480"/>
                <a:ext cx="124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542760" y="2863800"/>
                <a:ext cx="12124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575880" y="2792160"/>
                <a:ext cx="108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of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531600" y="4179600"/>
                <a:ext cx="1214280" cy="8463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17560" y="4190760"/>
                <a:ext cx="1294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 Ru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20960" y="2149200"/>
                <a:ext cx="861480" cy="430200"/>
              </a:xfrm>
              <a:custGeom>
                <a:avLst/>
                <a:gdLst>
                  <a:gd name="textAreaLeft" fmla="*/ 134640 w 861480"/>
                  <a:gd name="textAreaRight" fmla="*/ 753840 w 86148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820960" y="2965320"/>
                <a:ext cx="861480" cy="426960"/>
              </a:xfrm>
              <a:custGeom>
                <a:avLst/>
                <a:gdLst>
                  <a:gd name="textAreaLeft" fmla="*/ 134640 w 861480"/>
                  <a:gd name="textAreaRight" fmla="*/ 753840 w 861480"/>
                  <a:gd name="textAreaTop" fmla="*/ 106560 h 426960"/>
                  <a:gd name="textAreaBottom" fmla="*/ 320400 h 4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25280" y="4362480"/>
                <a:ext cx="853560" cy="430200"/>
              </a:xfrm>
              <a:custGeom>
                <a:avLst/>
                <a:gdLst>
                  <a:gd name="textAreaLeft" fmla="*/ 133200 w 853560"/>
                  <a:gd name="textAreaRight" fmla="*/ 747000 w 85356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30160" y="5130720"/>
                <a:ext cx="121392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600360" y="5030640"/>
                <a:ext cx="101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3840" y="5298840"/>
                <a:ext cx="853560" cy="430200"/>
              </a:xfrm>
              <a:custGeom>
                <a:avLst/>
                <a:gdLst>
                  <a:gd name="textAreaLeft" fmla="*/ 133200 w 853560"/>
                  <a:gd name="textAreaRight" fmla="*/ 747000 w 85356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6" name=""/>
          <p:cNvGrpSpPr/>
          <p:nvPr/>
        </p:nvGrpSpPr>
        <p:grpSpPr>
          <a:xfrm>
            <a:off x="3325680" y="3543120"/>
            <a:ext cx="1649160" cy="758520"/>
            <a:chOff x="3325680" y="3543120"/>
            <a:chExt cx="1649160" cy="758520"/>
          </a:xfrm>
        </p:grpSpPr>
        <p:sp>
          <p:nvSpPr>
            <p:cNvPr id="937" name=""/>
            <p:cNvSpPr/>
            <p:nvPr/>
          </p:nvSpPr>
          <p:spPr>
            <a:xfrm flipH="1">
              <a:off x="3366720" y="3828960"/>
              <a:ext cx="16081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25680" y="375732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3300"/>
                  </a:solidFill>
                  <a:latin typeface="Times New Roman"/>
                </a:rPr>
                <a:t>Infe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6200000">
              <a:off x="4281480" y="3789000"/>
              <a:ext cx="758520" cy="266760"/>
            </a:xfrm>
            <a:prstGeom prst="rightArrow">
              <a:avLst>
                <a:gd name="adj1" fmla="val 50000"/>
                <a:gd name="adj2" fmla="val 71086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158720" y="1841400"/>
            <a:ext cx="2122920" cy="4841280"/>
            <a:chOff x="4158720" y="1841400"/>
            <a:chExt cx="2122920" cy="4841280"/>
          </a:xfrm>
        </p:grpSpPr>
        <p:sp>
          <p:nvSpPr>
            <p:cNvPr id="941" name=""/>
            <p:cNvSpPr/>
            <p:nvPr/>
          </p:nvSpPr>
          <p:spPr>
            <a:xfrm>
              <a:off x="5064120" y="2868480"/>
              <a:ext cx="1217520" cy="84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65640" y="2852640"/>
              <a:ext cx="108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 C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65480" y="1841400"/>
              <a:ext cx="0" cy="44830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58720" y="62229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5400000">
              <a:off x="4722480" y="2068200"/>
              <a:ext cx="716040" cy="954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39" stAng="10800000" swAng="5400000"/>
                  <a:lnTo>
                    <a:pt x="14846" y="3721"/>
                  </a:lnTo>
                  <a:lnTo>
                    <a:pt x="14846" y="0"/>
                  </a:lnTo>
                  <a:lnTo>
                    <a:pt x="21600" y="6079"/>
                  </a:lnTo>
                  <a:lnTo>
                    <a:pt x="14846" y="12158"/>
                  </a:lnTo>
                  <a:lnTo>
                    <a:pt x="14846" y="8437"/>
                  </a:lnTo>
                  <a:lnTo>
                    <a:pt x="12427" y="8437"/>
                  </a:lnTo>
                  <a:arcTo wR="7711" hR="3723" stAng="16200000" swAng="-5400000"/>
                  <a:lnTo>
                    <a:pt x="4716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03680" y="3033720"/>
              <a:ext cx="706320" cy="460080"/>
            </a:xfrm>
            <a:prstGeom prst="rightArrow">
              <a:avLst>
                <a:gd name="adj1" fmla="val 50000"/>
                <a:gd name="adj2" fmla="val 38380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 rot="16200000">
              <a:off x="4183560" y="4089240"/>
              <a:ext cx="1792440" cy="955440"/>
            </a:xfrm>
            <a:custGeom>
              <a:avLst/>
              <a:gdLst>
                <a:gd name="textAreaLeft" fmla="*/ 0 w 1792440"/>
                <a:gd name="textAreaRight" fmla="*/ 1792800 w 1792440"/>
                <a:gd name="textAreaTop" fmla="*/ 360 h 955440"/>
                <a:gd name="textAreaBottom" fmla="*/ 9561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783" stAng="10800000" swAng="5400000"/>
                  <a:lnTo>
                    <a:pt x="18347" y="4377"/>
                  </a:lnTo>
                  <a:lnTo>
                    <a:pt x="18347" y="0"/>
                  </a:lnTo>
                  <a:lnTo>
                    <a:pt x="21600" y="6079"/>
                  </a:lnTo>
                  <a:lnTo>
                    <a:pt x="18347" y="12158"/>
                  </a:lnTo>
                  <a:lnTo>
                    <a:pt x="18347" y="7781"/>
                  </a:lnTo>
                  <a:lnTo>
                    <a:pt x="12427" y="7781"/>
                  </a:lnTo>
                  <a:arcTo wR="9023" hR="4379" stAng="16200000" swAng="-5400000"/>
                  <a:lnTo>
                    <a:pt x="3404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632920" y="1841400"/>
            <a:ext cx="3496320" cy="4841280"/>
            <a:chOff x="5632920" y="1841400"/>
            <a:chExt cx="3496320" cy="4841280"/>
          </a:xfrm>
        </p:grpSpPr>
        <p:grpSp>
          <p:nvGrpSpPr>
            <p:cNvPr id="949" name=""/>
            <p:cNvGrpSpPr/>
            <p:nvPr/>
          </p:nvGrpSpPr>
          <p:grpSpPr>
            <a:xfrm>
              <a:off x="6589080" y="2863800"/>
              <a:ext cx="2540160" cy="847800"/>
              <a:chOff x="6589080" y="2863800"/>
              <a:chExt cx="2540160" cy="847800"/>
            </a:xfrm>
          </p:grpSpPr>
          <p:sp>
            <p:nvSpPr>
              <p:cNvPr id="950" name=""/>
              <p:cNvSpPr/>
              <p:nvPr/>
            </p:nvSpPr>
            <p:spPr>
              <a:xfrm>
                <a:off x="6618240" y="2863800"/>
                <a:ext cx="144612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589080" y="2886120"/>
                <a:ext cx="141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esult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"/>
              <p:cNvGrpSpPr/>
              <p:nvPr/>
            </p:nvGrpSpPr>
            <p:grpSpPr>
              <a:xfrm>
                <a:off x="8699040" y="2895480"/>
                <a:ext cx="430200" cy="758880"/>
                <a:chOff x="8699040" y="2895480"/>
                <a:chExt cx="430200" cy="758880"/>
              </a:xfrm>
            </p:grpSpPr>
            <p:sp>
              <p:nvSpPr>
                <p:cNvPr id="953" name=""/>
                <p:cNvSpPr/>
                <p:nvPr/>
              </p:nvSpPr>
              <p:spPr>
                <a:xfrm flipH="1">
                  <a:off x="8823600" y="2937600"/>
                  <a:ext cx="168120" cy="16560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8934840" y="2895480"/>
                  <a:ext cx="194040" cy="26568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8845200" y="3115440"/>
                  <a:ext cx="100800" cy="2491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8744040" y="3122640"/>
                  <a:ext cx="155160" cy="19152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8698680" y="3339720"/>
                  <a:ext cx="188280" cy="30960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8878680" y="3339000"/>
                  <a:ext cx="126360" cy="3153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"/>
              <p:cNvSpPr/>
              <p:nvPr/>
            </p:nvSpPr>
            <p:spPr>
              <a:xfrm>
                <a:off x="8242200" y="3352680"/>
                <a:ext cx="60948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165880" y="3352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64160" y="1841400"/>
              <a:ext cx="0" cy="44816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32920" y="622296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22880" y="3093840"/>
              <a:ext cx="696960" cy="426960"/>
            </a:xfrm>
            <a:custGeom>
              <a:avLst/>
              <a:gdLst>
                <a:gd name="textAreaLeft" fmla="*/ 108720 w 696960"/>
                <a:gd name="textAreaRight" fmla="*/ 586080 w 696960"/>
                <a:gd name="textAreaTop" fmla="*/ 118800 h 426960"/>
                <a:gd name="textAreaBottom" fmla="*/ 308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022"/>
                  </a:moveTo>
                  <a:lnTo>
                    <a:pt x="13826" y="6022"/>
                  </a:lnTo>
                  <a:lnTo>
                    <a:pt x="13826" y="0"/>
                  </a:lnTo>
                  <a:lnTo>
                    <a:pt x="21600" y="10800"/>
                  </a:lnTo>
                  <a:lnTo>
                    <a:pt x="13826" y="21600"/>
                  </a:lnTo>
                  <a:lnTo>
                    <a:pt x="13826" y="15578"/>
                  </a:lnTo>
                  <a:lnTo>
                    <a:pt x="3375" y="15578"/>
                  </a:lnTo>
                  <a:close/>
                </a:path>
                <a:path w="21600" h="21600">
                  <a:moveTo>
                    <a:pt x="0" y="6022"/>
                  </a:moveTo>
                  <a:lnTo>
                    <a:pt x="675" y="6022"/>
                  </a:lnTo>
                  <a:lnTo>
                    <a:pt x="675" y="15578"/>
                  </a:lnTo>
                  <a:lnTo>
                    <a:pt x="0" y="15578"/>
                  </a:lnTo>
                  <a:close/>
                </a:path>
                <a:path w="21600" h="21600">
                  <a:moveTo>
                    <a:pt x="1350" y="6022"/>
                  </a:moveTo>
                  <a:lnTo>
                    <a:pt x="2700" y="6022"/>
                  </a:lnTo>
                  <a:lnTo>
                    <a:pt x="2700" y="15578"/>
                  </a:lnTo>
                  <a:lnTo>
                    <a:pt x="1350" y="15578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3505320" y="3886200"/>
            <a:ext cx="3047760" cy="283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urier New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le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0D1-13FB-489F-A7EC-6789E82723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MAS Architectur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967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969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972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978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8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981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983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987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98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989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0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991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993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05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6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1007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18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019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1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2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4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5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7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28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1029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1031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9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40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1041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2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1043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8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9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1050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2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5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9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5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71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1072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4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1075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6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78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9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1080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1081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82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5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6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1087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1090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1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1092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95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1096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1100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8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1112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1116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1119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1124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711360" y="1143000"/>
            <a:ext cx="797544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85800" y="3809880"/>
            <a:ext cx="8026560" cy="1981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2666880"/>
            <a:ext cx="7772400" cy="11430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966-74D5-41C4-B83F-A1322B9BE1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Principal interest of MAS in CoM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2240" y="380520"/>
            <a:ext cx="90932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Leitmotiv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ne functional architecture leading to several possible configurations in order to adapt to the broad range of environments that can be found in a compan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Architecture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: Agent kinds and their relationship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Fixed at design ti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onfiguration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: Exact topography of a given MA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Fixed at deployment ti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ne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architecture </a:t>
            </a:r>
            <a:r>
              <a:rPr b="0" lang="en-US" sz="26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everal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configuration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Adapt to 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context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5680" indent="-26568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gent paradigm adequacy: 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collaboration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Global capitaliz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autonomy &amp; individuality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Local adap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MMA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is an heterogeneous multi-agents information system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8D0-F4D6-46F9-84B1-A514F119734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13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13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13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14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4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15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5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15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6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16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16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16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17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17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17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18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18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18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18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18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18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349-4E8D-4206-8B4A-08B405A2FF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197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200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202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8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209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1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12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213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5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16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217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2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23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224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5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6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7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8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229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230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3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4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5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6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7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8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9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240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241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242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243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244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246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247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249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250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1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252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3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4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5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6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7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258" name=""/>
          <p:cNvGrpSpPr/>
          <p:nvPr/>
        </p:nvGrpSpPr>
        <p:grpSpPr>
          <a:xfrm>
            <a:off x="0" y="444600"/>
            <a:ext cx="8381880" cy="6413400"/>
            <a:chOff x="0" y="444600"/>
            <a:chExt cx="8381880" cy="6413400"/>
          </a:xfrm>
        </p:grpSpPr>
        <p:sp>
          <p:nvSpPr>
            <p:cNvPr id="1259" name=""/>
            <p:cNvSpPr/>
            <p:nvPr/>
          </p:nvSpPr>
          <p:spPr>
            <a:xfrm>
              <a:off x="0" y="2590920"/>
              <a:ext cx="4267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191120" y="457200"/>
              <a:ext cx="2361960" cy="6400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91120" y="457200"/>
              <a:ext cx="4190760" cy="2209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320" y="444600"/>
              <a:ext cx="405108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A60-C6A6-41B7-A390-10F20FAA71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ntology and Model Societ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188640" indent="-1886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Societies of replication and serving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439920" indent="-1256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ist: to store and provide ontology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380880" y="1371600"/>
          <a:ext cx="85345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345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7" name=""/>
          <p:cNvGrpSpPr/>
          <p:nvPr/>
        </p:nvGrpSpPr>
        <p:grpSpPr>
          <a:xfrm>
            <a:off x="12600" y="3657600"/>
            <a:ext cx="9207720" cy="2921040"/>
            <a:chOff x="12600" y="3657600"/>
            <a:chExt cx="9207720" cy="2921040"/>
          </a:xfrm>
        </p:grpSpPr>
        <p:graphicFrame>
          <p:nvGraphicFramePr>
            <p:cNvPr id="1268" name=""/>
            <p:cNvGraphicFramePr/>
            <p:nvPr/>
          </p:nvGraphicFramePr>
          <p:xfrm>
            <a:off x="380880" y="4368960"/>
            <a:ext cx="8839440" cy="2209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2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368960"/>
                      <a:ext cx="883944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0" name=""/>
            <p:cNvSpPr/>
            <p:nvPr/>
          </p:nvSpPr>
          <p:spPr>
            <a:xfrm>
              <a:off x="12600" y="36576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 lvl="1" marL="493200" indent="-14076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Corporate model archivist: to store and provide structural model of the (human) organis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12600" y="2629080"/>
            <a:ext cx="9093240" cy="4228920"/>
            <a:chOff x="12600" y="2629080"/>
            <a:chExt cx="9093240" cy="4228920"/>
          </a:xfrm>
        </p:grpSpPr>
        <p:sp>
          <p:nvSpPr>
            <p:cNvPr id="1272" name=""/>
            <p:cNvSpPr/>
            <p:nvPr/>
          </p:nvSpPr>
          <p:spPr>
            <a:xfrm>
              <a:off x="2743200" y="2629080"/>
              <a:ext cx="3657600" cy="2286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66880" y="5359320"/>
              <a:ext cx="3886200" cy="1526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600" y="632448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cc3300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cc3300"/>
                  </a:solidFill>
                  <a:latin typeface="Arial"/>
                </a:rPr>
                <a:t>One agent + CORES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0F5-0401-46C4-AAE2-A9BF22B19A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ositioning and pointer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" y="266400"/>
            <a:ext cx="909324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Dynamically integrating heterogeneous sources of information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OBSERVER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Mena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6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foSleuth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Nodine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9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Carno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Collet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1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InfoMaster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Genesereth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SIMS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Arens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6] ;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RETSINA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Decker and Sycara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Manifold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Kirk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1995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Digital libraries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IRE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Odubiyi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UMDL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Weinstein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9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Collaborative gathering, filtering and profiling: CASMIR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Berney and Ferneley, 1999]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; Ricoche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Bothorel and Thomas, 1999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obile access to memory and domain model for classification:   KnowWeb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Dzbor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2000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axonomy, profiling and push: RICA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Aguirre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2000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and corporate memory: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FRODO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Van Elst and Abecker, 2001]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6394320"/>
            <a:ext cx="169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Arial"/>
              </a:rPr>
              <a:t>+ Co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218-31EF-4613-837B-31077E0AE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277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280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282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88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289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92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293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5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96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297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2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03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304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5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6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7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8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309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310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3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4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5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6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7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8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9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320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321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322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323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324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326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327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329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330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332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3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4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5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6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7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338" name=""/>
          <p:cNvGrpSpPr/>
          <p:nvPr/>
        </p:nvGrpSpPr>
        <p:grpSpPr>
          <a:xfrm>
            <a:off x="0" y="457200"/>
            <a:ext cx="8381880" cy="6400800"/>
            <a:chOff x="0" y="457200"/>
            <a:chExt cx="8381880" cy="6400800"/>
          </a:xfrm>
        </p:grpSpPr>
        <p:sp>
          <p:nvSpPr>
            <p:cNvPr id="1339" name=""/>
            <p:cNvSpPr/>
            <p:nvPr/>
          </p:nvSpPr>
          <p:spPr>
            <a:xfrm>
              <a:off x="0" y="4724280"/>
              <a:ext cx="640080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0" y="457200"/>
              <a:ext cx="838188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81080" y="2590920"/>
              <a:ext cx="434340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1F5-A06F-4B21-8E32-171E35BCCB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connection societ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Connection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-dedicated sub-society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Yellow pages service managemen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ederable to allow us to configure the MA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operating matchmakers (DF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457200" y="2463840"/>
            <a:ext cx="8763120" cy="3708360"/>
            <a:chOff x="457200" y="2463840"/>
            <a:chExt cx="8763120" cy="3708360"/>
          </a:xfrm>
        </p:grpSpPr>
        <p:graphicFrame>
          <p:nvGraphicFramePr>
            <p:cNvPr id="1345" name=""/>
            <p:cNvGraphicFramePr/>
            <p:nvPr/>
          </p:nvGraphicFramePr>
          <p:xfrm>
            <a:off x="457200" y="2463840"/>
            <a:ext cx="8763120" cy="32511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463840"/>
                      <a:ext cx="8763120" cy="32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7" name=""/>
            <p:cNvGrpSpPr/>
            <p:nvPr/>
          </p:nvGrpSpPr>
          <p:grpSpPr>
            <a:xfrm>
              <a:off x="6858000" y="5486400"/>
              <a:ext cx="2108160" cy="685800"/>
              <a:chOff x="6858000" y="5486400"/>
              <a:chExt cx="2108160" cy="685800"/>
            </a:xfrm>
          </p:grpSpPr>
          <p:sp>
            <p:nvSpPr>
              <p:cNvPr id="1348" name=""/>
              <p:cNvSpPr/>
              <p:nvPr/>
            </p:nvSpPr>
            <p:spPr>
              <a:xfrm>
                <a:off x="6858000" y="5486400"/>
                <a:ext cx="2108160" cy="68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49" name="JADE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1080" y="5562720"/>
                <a:ext cx="110808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0" name="fipa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1760" y="5562720"/>
                <a:ext cx="838080" cy="577800"/>
              </a:xfrm>
              <a:prstGeom prst="rect">
                <a:avLst/>
              </a:prstGeom>
              <a:ln w="25560">
                <a:solidFill>
                  <a:srgbClr val="000000"/>
                </a:solidFill>
                <a:miter/>
              </a:ln>
            </p:spPr>
          </p:pic>
        </p:grpSp>
      </p:grpSp>
      <p:sp>
        <p:nvSpPr>
          <p:cNvPr id="1351" name=""/>
          <p:cNvSpPr/>
          <p:nvPr/>
        </p:nvSpPr>
        <p:spPr>
          <a:xfrm>
            <a:off x="457200" y="6400800"/>
            <a:ext cx="864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(Plus the AMS for white pag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FBA-A5BC-49C9-94E1-D4EF260917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35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35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35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36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6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37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7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37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8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38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38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39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39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39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40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40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40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40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40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40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40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415" name=""/>
          <p:cNvGrpSpPr/>
          <p:nvPr/>
        </p:nvGrpSpPr>
        <p:grpSpPr>
          <a:xfrm>
            <a:off x="0" y="457200"/>
            <a:ext cx="8381880" cy="6350040"/>
            <a:chOff x="0" y="457200"/>
            <a:chExt cx="8381880" cy="6350040"/>
          </a:xfrm>
        </p:grpSpPr>
        <p:sp>
          <p:nvSpPr>
            <p:cNvPr id="1416" name=""/>
            <p:cNvSpPr/>
            <p:nvPr/>
          </p:nvSpPr>
          <p:spPr>
            <a:xfrm>
              <a:off x="0" y="457200"/>
              <a:ext cx="83818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94040" y="4724280"/>
              <a:ext cx="4343400" cy="20829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C58-6827-4B4F-995A-49C05E92F4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Dedicated sub-societies (user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4800" y="457200"/>
            <a:ext cx="9015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ree main roles in user-dedicated sub-society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UI management: direct interactions with user (IC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ser Profile management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ymbolic learning techniques (UP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chiving and ensuring secured login (UP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380880" y="3048120"/>
          <a:ext cx="9144000" cy="27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91440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>
            <a:off x="2743200" y="3454560"/>
            <a:ext cx="5029200" cy="4316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892-E260-4128-B464-97306F4A512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Dedicated sub-societies (user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-380880" y="457200"/>
            <a:ext cx="9677160" cy="3249720"/>
            <a:chOff x="-380880" y="457200"/>
            <a:chExt cx="9677160" cy="3249720"/>
          </a:xfrm>
        </p:grpSpPr>
        <p:graphicFrame>
          <p:nvGraphicFramePr>
            <p:cNvPr id="1425" name=""/>
            <p:cNvGraphicFramePr/>
            <p:nvPr/>
          </p:nvGraphicFramePr>
          <p:xfrm>
            <a:off x="152280" y="914400"/>
            <a:ext cx="9144000" cy="2792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914400"/>
                      <a:ext cx="9144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7" name=""/>
            <p:cNvSpPr/>
            <p:nvPr/>
          </p:nvSpPr>
          <p:spPr>
            <a:xfrm>
              <a:off x="-380880" y="4572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User profile manager: machine learn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-380880" y="3657600"/>
            <a:ext cx="9677160" cy="2975040"/>
            <a:chOff x="-380880" y="3657600"/>
            <a:chExt cx="9677160" cy="2975040"/>
          </a:xfrm>
        </p:grpSpPr>
        <p:sp>
          <p:nvSpPr>
            <p:cNvPr id="1429" name=""/>
            <p:cNvSpPr/>
            <p:nvPr/>
          </p:nvSpPr>
          <p:spPr>
            <a:xfrm>
              <a:off x="-380880" y="36576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User profile archivist: profile storage and log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0" name=""/>
            <p:cNvGraphicFramePr/>
            <p:nvPr/>
          </p:nvGraphicFramePr>
          <p:xfrm>
            <a:off x="152280" y="4232160"/>
            <a:ext cx="9144000" cy="2400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4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232160"/>
                      <a:ext cx="914400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98C-82E2-422C-9D51-ABE453C4A1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43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43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43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44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4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45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5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45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6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46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46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46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47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47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47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48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48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48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48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48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48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48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495" name=""/>
          <p:cNvGrpSpPr/>
          <p:nvPr/>
        </p:nvGrpSpPr>
        <p:grpSpPr>
          <a:xfrm>
            <a:off x="0" y="380880"/>
            <a:ext cx="8394840" cy="6477120"/>
            <a:chOff x="0" y="380880"/>
            <a:chExt cx="8394840" cy="6477120"/>
          </a:xfrm>
        </p:grpSpPr>
        <p:sp>
          <p:nvSpPr>
            <p:cNvPr id="1496" name=""/>
            <p:cNvSpPr/>
            <p:nvPr/>
          </p:nvSpPr>
          <p:spPr>
            <a:xfrm>
              <a:off x="0" y="380880"/>
              <a:ext cx="4267080" cy="6477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86000" y="2514600"/>
              <a:ext cx="426708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267080" y="444600"/>
              <a:ext cx="412776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2B2-FD57-4CF0-A610-4107E6414A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-dedicated sub-societies (AM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9600" y="457200"/>
            <a:ext cx="8952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annotation-dedicated sub-socie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stributed local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rchive annotations on documents of the O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arch &amp; retrieve references match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Hierarchy: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to federate two aspects of the soci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iator role (manage social aspec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ervising distributed query solv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aging allocation of new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ification of new annotations to trigger push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762120" y="3971880"/>
          <a:ext cx="838188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71880"/>
                    <a:ext cx="83818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B2B-D49E-4663-9AF9-8A99781FE3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-dedicated sub-societies (AA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9600" y="457200"/>
            <a:ext cx="8952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7278a8"/>
                </a:solidFill>
                <a:latin typeface="Arial"/>
              </a:rPr>
              <a:t>The annotation-dedicated sub-socie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Distributed local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Archive annotations on documents of the O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Search &amp; retrieve references match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7278a8"/>
                </a:solidFill>
                <a:latin typeface="Arial"/>
              </a:rPr>
              <a:t>Hierarchy:</a:t>
            </a:r>
            <a:r>
              <a:rPr b="0" lang="en-US" sz="3000" spc="-1" strike="noStrike">
                <a:solidFill>
                  <a:srgbClr val="7278a8"/>
                </a:solidFill>
                <a:latin typeface="Arial"/>
              </a:rPr>
              <a:t> to federate two aspects of the soci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838080" y="3809880"/>
          <a:ext cx="8263080" cy="26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82630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"/>
          <p:cNvSpPr/>
          <p:nvPr/>
        </p:nvSpPr>
        <p:spPr>
          <a:xfrm>
            <a:off x="0" y="2514600"/>
            <a:ext cx="895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lvl="1" marL="446400" indent="-127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rchivist role (manage local aspec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01640" indent="-127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ached to &amp; exploits local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1640" indent="-127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swers to query &amp; proposes archiv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111-A77B-41D2-962E-FB479B261E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action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510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513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4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515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1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522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4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525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526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8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1529" name=""/>
          <p:cNvSpPr/>
          <p:nvPr/>
        </p:nvSpPr>
        <p:spPr>
          <a:xfrm>
            <a:off x="2057400" y="2641680"/>
            <a:ext cx="4191120" cy="194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666880" y="2793960"/>
            <a:ext cx="3657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onnec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1" name="" descr=""/>
          <p:cNvPicPr/>
          <p:nvPr/>
        </p:nvPicPr>
        <p:blipFill>
          <a:blip r:embed="rId3"/>
          <a:stretch/>
        </p:blipFill>
        <p:spPr>
          <a:xfrm>
            <a:off x="2209680" y="2793960"/>
            <a:ext cx="474840" cy="3794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1532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533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4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5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6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7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538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539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2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3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4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5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6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7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8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549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550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551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552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553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555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556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558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559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0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561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2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3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4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5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6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567" name=""/>
          <p:cNvGrpSpPr/>
          <p:nvPr/>
        </p:nvGrpSpPr>
        <p:grpSpPr>
          <a:xfrm>
            <a:off x="1676520" y="1447920"/>
            <a:ext cx="5790600" cy="4343400"/>
            <a:chOff x="1676520" y="1447920"/>
            <a:chExt cx="5790600" cy="4343400"/>
          </a:xfrm>
        </p:grpSpPr>
        <p:sp>
          <p:nvSpPr>
            <p:cNvPr id="1568" name=""/>
            <p:cNvSpPr/>
            <p:nvPr/>
          </p:nvSpPr>
          <p:spPr>
            <a:xfrm flipH="1" flipV="1">
              <a:off x="5943600" y="1447920"/>
              <a:ext cx="38088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6324120" y="1447920"/>
              <a:ext cx="38124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476760" y="1447920"/>
              <a:ext cx="99036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867280" y="2209680"/>
              <a:ext cx="457200" cy="8384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676520" y="3657600"/>
              <a:ext cx="1523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3657600" y="3504960"/>
              <a:ext cx="38088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95680" y="3505320"/>
              <a:ext cx="53352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657600" y="3809880"/>
              <a:ext cx="533520" cy="3049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4648320" y="3962160"/>
              <a:ext cx="533160" cy="2286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5486400" y="3657240"/>
              <a:ext cx="38088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95680" y="4419720"/>
              <a:ext cx="609840" cy="1066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43400" y="4419720"/>
              <a:ext cx="0" cy="11430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24080" y="5791320"/>
              <a:ext cx="838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1676520" y="1980720"/>
              <a:ext cx="0" cy="1676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76320" y="380880"/>
            <a:ext cx="8394120" cy="6477120"/>
            <a:chOff x="76320" y="380880"/>
            <a:chExt cx="8394120" cy="6477120"/>
          </a:xfrm>
        </p:grpSpPr>
        <p:sp>
          <p:nvSpPr>
            <p:cNvPr id="1583" name=""/>
            <p:cNvSpPr/>
            <p:nvPr/>
          </p:nvSpPr>
          <p:spPr>
            <a:xfrm>
              <a:off x="76320" y="380880"/>
              <a:ext cx="4266720" cy="6477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61960" y="2514600"/>
              <a:ext cx="426672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343040" y="444600"/>
              <a:ext cx="412740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58F-3198-488C-BE5F-F157A88349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actions AA-AM in allocating an annotat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0" y="342720"/>
            <a:ext cx="8686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66"/>
                </a:solidFill>
                <a:uFillTx/>
                <a:latin typeface="Arial"/>
              </a:rPr>
              <a:t>C-Net : Annotation alloc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ediator &amp; Archivists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scuss best place to archiv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tract-net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(CfP, Proposal, Accept/Reject)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939960" y="1498680"/>
            <a:ext cx="8001000" cy="4647960"/>
            <a:chOff x="939960" y="1498680"/>
            <a:chExt cx="8001000" cy="4647960"/>
          </a:xfrm>
        </p:grpSpPr>
        <p:grpSp>
          <p:nvGrpSpPr>
            <p:cNvPr id="1589" name=""/>
            <p:cNvGrpSpPr/>
            <p:nvPr/>
          </p:nvGrpSpPr>
          <p:grpSpPr>
            <a:xfrm>
              <a:off x="939960" y="1498680"/>
              <a:ext cx="8001000" cy="4647960"/>
              <a:chOff x="939960" y="1498680"/>
              <a:chExt cx="8001000" cy="4647960"/>
            </a:xfrm>
          </p:grpSpPr>
          <p:sp>
            <p:nvSpPr>
              <p:cNvPr id="1590" name=""/>
              <p:cNvSpPr/>
              <p:nvPr/>
            </p:nvSpPr>
            <p:spPr>
              <a:xfrm>
                <a:off x="939960" y="1498680"/>
                <a:ext cx="8001000" cy="464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1" name=""/>
              <p:cNvGrpSpPr/>
              <p:nvPr/>
            </p:nvGrpSpPr>
            <p:grpSpPr>
              <a:xfrm>
                <a:off x="1044720" y="2947680"/>
                <a:ext cx="7826400" cy="1404360"/>
                <a:chOff x="1044720" y="2947680"/>
                <a:chExt cx="7826400" cy="140436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1044720" y="2974320"/>
                  <a:ext cx="163512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AMLocal</a:t>
                  </a: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2679840" y="3153600"/>
                  <a:ext cx="240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5062680" y="2974320"/>
                  <a:ext cx="74628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124840" y="2947680"/>
                  <a:ext cx="74628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828040" y="3153600"/>
                  <a:ext cx="229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5062680" y="3993480"/>
                  <a:ext cx="83016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1725840" y="4172760"/>
                  <a:ext cx="333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1725840" y="3332880"/>
                  <a:ext cx="0" cy="83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0" name=""/>
            <p:cNvGrpSpPr/>
            <p:nvPr/>
          </p:nvGrpSpPr>
          <p:grpSpPr>
            <a:xfrm>
              <a:off x="1725480" y="1536840"/>
              <a:ext cx="7145280" cy="4494240"/>
              <a:chOff x="1725480" y="1536840"/>
              <a:chExt cx="7145280" cy="4494240"/>
            </a:xfrm>
          </p:grpSpPr>
          <p:sp>
            <p:nvSpPr>
              <p:cNvPr id="1601" name=""/>
              <p:cNvSpPr/>
              <p:nvPr/>
            </p:nvSpPr>
            <p:spPr>
              <a:xfrm>
                <a:off x="2765160" y="3094200"/>
                <a:ext cx="93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512880" y="3035520"/>
                <a:ext cx="18756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412720" y="2765520"/>
                <a:ext cx="1446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1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2180880" y="4049640"/>
                <a:ext cx="936720" cy="59040"/>
                <a:chOff x="2180880" y="4049640"/>
                <a:chExt cx="936720" cy="5904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2180880" y="410868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928960" y="4049640"/>
                  <a:ext cx="188280" cy="4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7" name=""/>
              <p:cNvSpPr/>
              <p:nvPr/>
            </p:nvSpPr>
            <p:spPr>
              <a:xfrm>
                <a:off x="1830240" y="3780000"/>
                <a:ext cx="14446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2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5924520" y="3044880"/>
                <a:ext cx="936360" cy="58680"/>
                <a:chOff x="5924520" y="3044880"/>
                <a:chExt cx="936360" cy="5868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5924520" y="3103560"/>
                  <a:ext cx="936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6672600" y="3044880"/>
                  <a:ext cx="18792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1" name=""/>
              <p:cNvSpPr/>
              <p:nvPr/>
            </p:nvSpPr>
            <p:spPr>
              <a:xfrm>
                <a:off x="5572080" y="2801880"/>
                <a:ext cx="1446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2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789600" y="3214800"/>
                <a:ext cx="1995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3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3" name=""/>
              <p:cNvGrpSpPr/>
              <p:nvPr/>
            </p:nvGrpSpPr>
            <p:grpSpPr>
              <a:xfrm>
                <a:off x="7103520" y="3219120"/>
                <a:ext cx="934920" cy="58680"/>
                <a:chOff x="7103520" y="3219120"/>
                <a:chExt cx="934920" cy="58680"/>
              </a:xfrm>
            </p:grpSpPr>
            <p:sp>
              <p:nvSpPr>
                <p:cNvPr id="1614" name=""/>
                <p:cNvSpPr/>
                <p:nvPr/>
              </p:nvSpPr>
              <p:spPr>
                <a:xfrm flipH="1">
                  <a:off x="7103520" y="321912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 flipV="1">
                  <a:off x="7103880" y="3232800"/>
                  <a:ext cx="18792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6" name=""/>
              <p:cNvSpPr/>
              <p:nvPr/>
            </p:nvSpPr>
            <p:spPr>
              <a:xfrm>
                <a:off x="3433680" y="4205520"/>
                <a:ext cx="185256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3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3974760" y="4232160"/>
                <a:ext cx="936720" cy="60120"/>
                <a:chOff x="3974760" y="4232160"/>
                <a:chExt cx="936720" cy="60120"/>
              </a:xfrm>
            </p:grpSpPr>
            <p:sp>
              <p:nvSpPr>
                <p:cNvPr id="1618" name=""/>
                <p:cNvSpPr/>
                <p:nvPr/>
              </p:nvSpPr>
              <p:spPr>
                <a:xfrm flipH="1">
                  <a:off x="3974760" y="423216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 flipV="1">
                  <a:off x="3975120" y="4246200"/>
                  <a:ext cx="18828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H="1" flipV="1">
                <a:off x="3255480" y="2374560"/>
                <a:ext cx="19080" cy="42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3255840" y="2374920"/>
                <a:ext cx="2977920" cy="47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3020760" y="1536480"/>
                <a:ext cx="4064040" cy="838080"/>
              </a:xfrm>
              <a:prstGeom prst="foldedCorner">
                <a:avLst>
                  <a:gd name="adj" fmla="val 1417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105000" y="1671840"/>
                <a:ext cx="4233960" cy="9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Annotation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47720" y="2668680"/>
                <a:ext cx="187164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2490480" y="4892400"/>
                <a:ext cx="6380280" cy="1138320"/>
              </a:xfrm>
              <a:prstGeom prst="foldedCorner">
                <a:avLst>
                  <a:gd name="adj" fmla="val 1365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660400" y="4953240"/>
                <a:ext cx="6210360" cy="10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propose bid = distance to current archive / refuse / not understood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7850160" y="3514680"/>
                <a:ext cx="0" cy="13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flipV="1">
                <a:off x="4976640" y="4532040"/>
                <a:ext cx="295920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86040" y="3210120"/>
                <a:ext cx="183996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4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0" name=""/>
              <p:cNvGrpSpPr/>
              <p:nvPr/>
            </p:nvGrpSpPr>
            <p:grpSpPr>
              <a:xfrm>
                <a:off x="3955680" y="3214800"/>
                <a:ext cx="936720" cy="60480"/>
                <a:chOff x="3955680" y="3214800"/>
                <a:chExt cx="936720" cy="60480"/>
              </a:xfrm>
            </p:grpSpPr>
            <p:sp>
              <p:nvSpPr>
                <p:cNvPr id="1631" name=""/>
                <p:cNvSpPr/>
                <p:nvPr/>
              </p:nvSpPr>
              <p:spPr>
                <a:xfrm flipH="1">
                  <a:off x="3955680" y="32148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 flipV="1">
                  <a:off x="3956040" y="3228840"/>
                  <a:ext cx="18828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 flipH="1" flipV="1">
                <a:off x="5127120" y="3514680"/>
                <a:ext cx="2722680" cy="137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3909960" y="3035520"/>
                <a:ext cx="934920" cy="58680"/>
                <a:chOff x="3909960" y="3035520"/>
                <a:chExt cx="934920" cy="586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909960" y="309420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656600" y="3035520"/>
                  <a:ext cx="18792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7" name=""/>
              <p:cNvSpPr/>
              <p:nvPr/>
            </p:nvSpPr>
            <p:spPr>
              <a:xfrm>
                <a:off x="2850840" y="3689280"/>
                <a:ext cx="280692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6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8" name=""/>
              <p:cNvGrpSpPr/>
              <p:nvPr/>
            </p:nvGrpSpPr>
            <p:grpSpPr>
              <a:xfrm>
                <a:off x="3786120" y="4052880"/>
                <a:ext cx="934920" cy="60480"/>
                <a:chOff x="3786120" y="4052880"/>
                <a:chExt cx="934920" cy="6048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3786120" y="411336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532760" y="4052880"/>
                  <a:ext cx="18792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1" name=""/>
              <p:cNvSpPr/>
              <p:nvPr/>
            </p:nvSpPr>
            <p:spPr>
              <a:xfrm>
                <a:off x="6527520" y="2683080"/>
                <a:ext cx="193680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6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7103880" y="3048120"/>
                <a:ext cx="934920" cy="60480"/>
                <a:chOff x="7103880" y="3048120"/>
                <a:chExt cx="934920" cy="6048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7103880" y="310860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7850520" y="3048120"/>
                  <a:ext cx="18792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5" name=""/>
              <p:cNvSpPr/>
              <p:nvPr/>
            </p:nvSpPr>
            <p:spPr>
              <a:xfrm>
                <a:off x="1744560" y="4205520"/>
                <a:ext cx="1701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7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2188800" y="4233600"/>
                <a:ext cx="936720" cy="58680"/>
                <a:chOff x="2188800" y="4233600"/>
                <a:chExt cx="936720" cy="58680"/>
              </a:xfrm>
            </p:grpSpPr>
            <p:sp>
              <p:nvSpPr>
                <p:cNvPr id="1647" name=""/>
                <p:cNvSpPr/>
                <p:nvPr/>
              </p:nvSpPr>
              <p:spPr>
                <a:xfrm flipH="1">
                  <a:off x="2188800" y="42336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 flipV="1">
                  <a:off x="2189160" y="4247280"/>
                  <a:ext cx="18828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5578200" y="3219480"/>
                <a:ext cx="1701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7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5951160" y="3217680"/>
                <a:ext cx="936720" cy="60120"/>
                <a:chOff x="5951160" y="3217680"/>
                <a:chExt cx="936720" cy="60120"/>
              </a:xfrm>
            </p:grpSpPr>
            <p:sp>
              <p:nvSpPr>
                <p:cNvPr id="1651" name=""/>
                <p:cNvSpPr/>
                <p:nvPr/>
              </p:nvSpPr>
              <p:spPr>
                <a:xfrm flipH="1">
                  <a:off x="5951160" y="321768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 flipV="1">
                  <a:off x="5951520" y="3231720"/>
                  <a:ext cx="18828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2377800" y="3214800"/>
                <a:ext cx="1701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8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4" name=""/>
              <p:cNvGrpSpPr/>
              <p:nvPr/>
            </p:nvGrpSpPr>
            <p:grpSpPr>
              <a:xfrm>
                <a:off x="2784240" y="3214800"/>
                <a:ext cx="936720" cy="60480"/>
                <a:chOff x="2784240" y="3214800"/>
                <a:chExt cx="936720" cy="60480"/>
              </a:xfrm>
            </p:grpSpPr>
            <p:sp>
              <p:nvSpPr>
                <p:cNvPr id="1655" name=""/>
                <p:cNvSpPr/>
                <p:nvPr/>
              </p:nvSpPr>
              <p:spPr>
                <a:xfrm flipH="1">
                  <a:off x="2784240" y="32148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 flipV="1">
                  <a:off x="2784600" y="3228840"/>
                  <a:ext cx="18828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"/>
              <p:cNvSpPr/>
              <p:nvPr/>
            </p:nvSpPr>
            <p:spPr>
              <a:xfrm>
                <a:off x="1725480" y="2195640"/>
                <a:ext cx="0" cy="71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lvl="1" marL="690480" indent="-21420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roposals are based on pseudo semantic distance over ontology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276720" y="3733920"/>
            <a:ext cx="5835600" cy="2590200"/>
            <a:chOff x="3276720" y="3733920"/>
            <a:chExt cx="5835600" cy="2590200"/>
          </a:xfrm>
        </p:grpSpPr>
        <p:sp>
          <p:nvSpPr>
            <p:cNvPr id="1660" name=""/>
            <p:cNvSpPr/>
            <p:nvPr/>
          </p:nvSpPr>
          <p:spPr>
            <a:xfrm>
              <a:off x="3276720" y="3809880"/>
              <a:ext cx="5790960" cy="251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74400" y="396216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42320" y="480060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36160" y="48006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427640" y="563868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359520" y="563868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6" name=""/>
            <p:cNvCxnSpPr>
              <a:stCxn id="1661" idx="2"/>
              <a:endCxn id="1662" idx="0"/>
            </p:cNvCxnSpPr>
            <p:nvPr/>
          </p:nvCxnSpPr>
          <p:spPr>
            <a:xfrm flipH="1">
              <a:off x="4619160" y="4432320"/>
              <a:ext cx="7876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7" name=""/>
            <p:cNvCxnSpPr>
              <a:stCxn id="1661" idx="2"/>
              <a:endCxn id="1663" idx="0"/>
            </p:cNvCxnSpPr>
            <p:nvPr/>
          </p:nvCxnSpPr>
          <p:spPr>
            <a:xfrm>
              <a:off x="5406840" y="4432320"/>
              <a:ext cx="7624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8" name=""/>
            <p:cNvCxnSpPr>
              <a:stCxn id="1662" idx="2"/>
              <a:endCxn id="1665" idx="0"/>
            </p:cNvCxnSpPr>
            <p:nvPr/>
          </p:nvCxnSpPr>
          <p:spPr>
            <a:xfrm flipH="1">
              <a:off x="3813840" y="5270400"/>
              <a:ext cx="80532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9" name=""/>
            <p:cNvCxnSpPr>
              <a:stCxn id="1662" idx="2"/>
              <a:endCxn id="1664" idx="0"/>
            </p:cNvCxnSpPr>
            <p:nvPr/>
          </p:nvCxnSpPr>
          <p:spPr>
            <a:xfrm>
              <a:off x="4619520" y="5270400"/>
              <a:ext cx="30528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0" name=""/>
            <p:cNvSpPr/>
            <p:nvPr/>
          </p:nvSpPr>
          <p:spPr>
            <a:xfrm>
              <a:off x="4191480" y="38606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976720" y="4365360"/>
              <a:ext cx="31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bicycle)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631840" y="563868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4" name=""/>
            <p:cNvCxnSpPr>
              <a:stCxn id="1663" idx="2"/>
              <a:endCxn id="1673" idx="0"/>
            </p:cNvCxnSpPr>
            <p:nvPr/>
          </p:nvCxnSpPr>
          <p:spPr>
            <a:xfrm>
              <a:off x="6168960" y="5270400"/>
              <a:ext cx="36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675" name=""/>
          <p:cNvGrpSpPr/>
          <p:nvPr/>
        </p:nvGrpSpPr>
        <p:grpSpPr>
          <a:xfrm>
            <a:off x="3270960" y="3733920"/>
            <a:ext cx="5841360" cy="2590560"/>
            <a:chOff x="3270960" y="3733920"/>
            <a:chExt cx="5841360" cy="2590560"/>
          </a:xfrm>
        </p:grpSpPr>
        <p:sp>
          <p:nvSpPr>
            <p:cNvPr id="1676" name=""/>
            <p:cNvSpPr/>
            <p:nvPr/>
          </p:nvSpPr>
          <p:spPr>
            <a:xfrm>
              <a:off x="3276720" y="3809880"/>
              <a:ext cx="579096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1840" y="41022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539760" y="494028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833600" y="494028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625080" y="577836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56960" y="577836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2" name=""/>
            <p:cNvCxnSpPr>
              <a:stCxn id="1677" idx="2"/>
              <a:endCxn id="1678" idx="0"/>
            </p:cNvCxnSpPr>
            <p:nvPr/>
          </p:nvCxnSpPr>
          <p:spPr>
            <a:xfrm flipH="1">
              <a:off x="6816240" y="4571640"/>
              <a:ext cx="788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77" idx="2"/>
              <a:endCxn id="1679" idx="0"/>
            </p:cNvCxnSpPr>
            <p:nvPr/>
          </p:nvCxnSpPr>
          <p:spPr>
            <a:xfrm>
              <a:off x="7604280" y="4571640"/>
              <a:ext cx="7624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>
              <a:stCxn id="1678" idx="2"/>
              <a:endCxn id="1681" idx="0"/>
            </p:cNvCxnSpPr>
            <p:nvPr/>
          </p:nvCxnSpPr>
          <p:spPr>
            <a:xfrm flipH="1">
              <a:off x="6011280" y="5409720"/>
              <a:ext cx="805320" cy="36900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85" name=""/>
            <p:cNvCxnSpPr>
              <a:stCxn id="1678" idx="2"/>
              <a:endCxn id="1680" idx="0"/>
            </p:cNvCxnSpPr>
            <p:nvPr/>
          </p:nvCxnSpPr>
          <p:spPr>
            <a:xfrm>
              <a:off x="6816240" y="5409720"/>
              <a:ext cx="30564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6" name=""/>
            <p:cNvSpPr/>
            <p:nvPr/>
          </p:nvSpPr>
          <p:spPr>
            <a:xfrm>
              <a:off x="5904720" y="48322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270960" y="5257800"/>
              <a:ext cx="30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wagon)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829280" y="577836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0" name=""/>
            <p:cNvCxnSpPr>
              <a:stCxn id="1679" idx="2"/>
              <a:endCxn id="1689" idx="0"/>
            </p:cNvCxnSpPr>
            <p:nvPr/>
          </p:nvCxnSpPr>
          <p:spPr>
            <a:xfrm>
              <a:off x="8365680" y="5409720"/>
              <a:ext cx="396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F8F-0097-4307-9D08-5BC66CCAC7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roduction: issues and motivation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240" y="406080"/>
            <a:ext cx="9093240" cy="63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and information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Needs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improve reaction time &amp; address turno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Persistent memor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ore and/or index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Nervous system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capture and diffuse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O.M.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 explicit and persistent representation and/or indexing of knowledge in an organization, in order to facilitate its access and reuse by members of the organization, for their individual and collective tasks.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urrent trend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reuse internet and web technologies to build intranets and intra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advantag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andardised technology, browser unique access means, distributed architecture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drawback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human-understandable but only machine readable; problem of retrieval, automation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porate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mory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agement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ough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ts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ssist new employee integr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upport technology monitoring activiti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B33-EB6A-4D00-859D-BFEAA982B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actions AA-AM in solving a reques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6320" y="330120"/>
            <a:ext cx="9067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66"/>
                </a:solidFill>
                <a:uFillTx/>
                <a:latin typeface="Arial"/>
              </a:rPr>
              <a:t>Fragmentation et distribu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Co-operatively solve a query (multi-stage Query-Ref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838080" y="1130400"/>
            <a:ext cx="8382240" cy="4647960"/>
            <a:chOff x="838080" y="1130400"/>
            <a:chExt cx="8382240" cy="4647960"/>
          </a:xfrm>
        </p:grpSpPr>
        <p:grpSp>
          <p:nvGrpSpPr>
            <p:cNvPr id="1694" name=""/>
            <p:cNvGrpSpPr/>
            <p:nvPr/>
          </p:nvGrpSpPr>
          <p:grpSpPr>
            <a:xfrm>
              <a:off x="838080" y="1130400"/>
              <a:ext cx="8229600" cy="4647960"/>
              <a:chOff x="838080" y="1130400"/>
              <a:chExt cx="8229600" cy="4647960"/>
            </a:xfrm>
          </p:grpSpPr>
          <p:sp>
            <p:nvSpPr>
              <p:cNvPr id="1695" name=""/>
              <p:cNvSpPr/>
              <p:nvPr/>
            </p:nvSpPr>
            <p:spPr>
              <a:xfrm>
                <a:off x="838080" y="1130400"/>
                <a:ext cx="8229600" cy="464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022640" y="1973160"/>
                <a:ext cx="1128960" cy="34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LocalAM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864560" y="1973160"/>
                <a:ext cx="495360" cy="34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864560" y="4152960"/>
                <a:ext cx="495360" cy="34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248000" y="4152960"/>
                <a:ext cx="552600" cy="34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4530600" y="2316240"/>
                <a:ext cx="0" cy="18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8089920" y="2316240"/>
                <a:ext cx="0" cy="18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5151600" y="2144880"/>
                <a:ext cx="271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914400" y="1206360"/>
              <a:ext cx="8305920" cy="4496040"/>
              <a:chOff x="914400" y="1206360"/>
              <a:chExt cx="8305920" cy="4496040"/>
            </a:xfrm>
          </p:grpSpPr>
          <p:sp>
            <p:nvSpPr>
              <p:cNvPr id="1704" name=""/>
              <p:cNvSpPr/>
              <p:nvPr/>
            </p:nvSpPr>
            <p:spPr>
              <a:xfrm>
                <a:off x="6157800" y="2087640"/>
                <a:ext cx="62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665760" y="2030400"/>
                <a:ext cx="12564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829480" y="1801800"/>
                <a:ext cx="16380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 flipV="1">
                <a:off x="1139400" y="1398600"/>
                <a:ext cx="197820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914400" y="1206000"/>
                <a:ext cx="2938320" cy="803520"/>
              </a:xfrm>
              <a:prstGeom prst="foldedCorner">
                <a:avLst>
                  <a:gd name="adj" fmla="val 900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971640" y="1284480"/>
                <a:ext cx="327636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pattern / OBSIQ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flipV="1">
                <a:off x="3287520" y="2030400"/>
                <a:ext cx="129852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flipV="1">
                <a:off x="3852360" y="1398600"/>
                <a:ext cx="2243160" cy="44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 flipV="1">
                <a:off x="3852720" y="1398240"/>
                <a:ext cx="2167200" cy="82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29480" y="2201760"/>
                <a:ext cx="113004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4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6168600" y="2201400"/>
                <a:ext cx="622440" cy="57240"/>
                <a:chOff x="6168600" y="2201400"/>
                <a:chExt cx="622440" cy="57240"/>
              </a:xfrm>
            </p:grpSpPr>
            <p:sp>
              <p:nvSpPr>
                <p:cNvPr id="1715" name=""/>
                <p:cNvSpPr/>
                <p:nvPr/>
              </p:nvSpPr>
              <p:spPr>
                <a:xfrm flipH="1">
                  <a:off x="6168600" y="2201400"/>
                  <a:ext cx="62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 flipV="1">
                  <a:off x="6168960" y="2214720"/>
                  <a:ext cx="124920" cy="43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7" name=""/>
              <p:cNvSpPr/>
              <p:nvPr/>
            </p:nvSpPr>
            <p:spPr>
              <a:xfrm>
                <a:off x="4530600" y="1284480"/>
                <a:ext cx="0" cy="68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4586400" y="2432520"/>
                <a:ext cx="56880" cy="642600"/>
                <a:chOff x="4586400" y="2432520"/>
                <a:chExt cx="56880" cy="642600"/>
              </a:xfrm>
            </p:grpSpPr>
            <p:sp>
              <p:nvSpPr>
                <p:cNvPr id="1719" name=""/>
                <p:cNvSpPr/>
                <p:nvPr/>
              </p:nvSpPr>
              <p:spPr>
                <a:xfrm flipV="1">
                  <a:off x="4586400" y="244440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4599360" y="243252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2892600" y="2639880"/>
                <a:ext cx="16380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2a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4417920" y="2432160"/>
                <a:ext cx="55800" cy="630000"/>
                <a:chOff x="4417920" y="2432160"/>
                <a:chExt cx="55800" cy="63000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4473720" y="2432160"/>
                  <a:ext cx="0" cy="630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417920" y="2935440"/>
                  <a:ext cx="42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5" name=""/>
              <p:cNvSpPr/>
              <p:nvPr/>
            </p:nvSpPr>
            <p:spPr>
              <a:xfrm>
                <a:off x="4419720" y="2546280"/>
                <a:ext cx="124272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a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6" name=""/>
              <p:cNvGrpSpPr/>
              <p:nvPr/>
            </p:nvGrpSpPr>
            <p:grpSpPr>
              <a:xfrm>
                <a:off x="8147160" y="2375280"/>
                <a:ext cx="55440" cy="642600"/>
                <a:chOff x="8147160" y="2375280"/>
                <a:chExt cx="55440" cy="642600"/>
              </a:xfrm>
            </p:grpSpPr>
            <p:sp>
              <p:nvSpPr>
                <p:cNvPr id="1727" name=""/>
                <p:cNvSpPr/>
                <p:nvPr/>
              </p:nvSpPr>
              <p:spPr>
                <a:xfrm flipV="1">
                  <a:off x="8147160" y="238716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>
                  <a:off x="8159760" y="2375280"/>
                  <a:ext cx="4284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9" name=""/>
              <p:cNvSpPr/>
              <p:nvPr/>
            </p:nvSpPr>
            <p:spPr>
              <a:xfrm>
                <a:off x="6451560" y="2639880"/>
                <a:ext cx="163836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2b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7977240" y="2374920"/>
                <a:ext cx="57240" cy="630360"/>
                <a:chOff x="7977240" y="2374920"/>
                <a:chExt cx="57240" cy="630360"/>
              </a:xfrm>
            </p:grpSpPr>
            <p:sp>
              <p:nvSpPr>
                <p:cNvPr id="1731" name=""/>
                <p:cNvSpPr/>
                <p:nvPr/>
              </p:nvSpPr>
              <p:spPr>
                <a:xfrm>
                  <a:off x="8034480" y="2374920"/>
                  <a:ext cx="0" cy="63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7977240" y="287856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3" name=""/>
              <p:cNvSpPr/>
              <p:nvPr/>
            </p:nvSpPr>
            <p:spPr>
              <a:xfrm>
                <a:off x="8034480" y="2546280"/>
                <a:ext cx="118584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b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flipV="1">
                <a:off x="5151600" y="2259000"/>
                <a:ext cx="2712960" cy="206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4586400" y="3235680"/>
                <a:ext cx="56880" cy="642600"/>
                <a:chOff x="4586400" y="3235680"/>
                <a:chExt cx="56880" cy="642600"/>
              </a:xfrm>
            </p:grpSpPr>
            <p:sp>
              <p:nvSpPr>
                <p:cNvPr id="1736" name=""/>
                <p:cNvSpPr/>
                <p:nvPr/>
              </p:nvSpPr>
              <p:spPr>
                <a:xfrm flipV="1">
                  <a:off x="4586400" y="324756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 flipV="1">
                  <a:off x="4599360" y="323568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8" name=""/>
              <p:cNvSpPr/>
              <p:nvPr/>
            </p:nvSpPr>
            <p:spPr>
              <a:xfrm>
                <a:off x="2665440" y="3292560"/>
                <a:ext cx="18651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417920" y="3235320"/>
                <a:ext cx="55800" cy="630360"/>
                <a:chOff x="4417920" y="3235320"/>
                <a:chExt cx="55800" cy="63036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4473720" y="3235320"/>
                  <a:ext cx="0" cy="63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417920" y="3738960"/>
                  <a:ext cx="4284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2" name=""/>
              <p:cNvSpPr/>
              <p:nvPr/>
            </p:nvSpPr>
            <p:spPr>
              <a:xfrm>
                <a:off x="4530600" y="3349800"/>
                <a:ext cx="14130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105520" y="3568680"/>
                <a:ext cx="1863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563520" y="3406680"/>
                <a:ext cx="622440" cy="4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7073640" y="3865680"/>
                <a:ext cx="11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846840" y="3178080"/>
                <a:ext cx="1413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6676920" y="334980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76200" y="3349800"/>
                <a:ext cx="62244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 flipV="1">
                <a:off x="3287880" y="2030040"/>
                <a:ext cx="1185840" cy="6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 flipV="1">
                <a:off x="3852360" y="1398240"/>
                <a:ext cx="4294440" cy="12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 flipV="1">
                <a:off x="3886200" y="1383840"/>
                <a:ext cx="4114800" cy="129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 flipV="1">
                <a:off x="5095440" y="5129280"/>
                <a:ext cx="197820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4869000" y="4898880"/>
                <a:ext cx="2938320" cy="803520"/>
              </a:xfrm>
              <a:prstGeom prst="foldedCorner">
                <a:avLst>
                  <a:gd name="adj" fmla="val 900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5880" y="4977000"/>
                <a:ext cx="32767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pattern /resul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016760" y="3751200"/>
                <a:ext cx="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7016760" y="3751200"/>
                <a:ext cx="22536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473720" y="3808440"/>
                <a:ext cx="1187280" cy="10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586400" y="3751200"/>
                <a:ext cx="107460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9" name=""/>
          <p:cNvSpPr/>
          <p:nvPr/>
        </p:nvSpPr>
        <p:spPr>
          <a:xfrm>
            <a:off x="76320" y="5867280"/>
            <a:ext cx="9067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Query decomposition using URIs as cut/join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Allocation of sub-query based on overlap descri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primitives usage stat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523-0DD1-4832-BFB6-E7421971C3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requesting memo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839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724-DB2F-4BA8-9E6E-973A0F37CB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FIPA ACL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content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B41-C1C3-4232-8025-0EADEF1463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CoMMA ACL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pattern "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F15-E690-4274-8E79-A25AA2BF73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O'COMMA RDF(S) 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/rdf:RDF&gt;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359-4A59-46DE-8844-4E62C19EF6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ole of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Ontology as a cornerstone of DAI for KM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odelling and representation consensu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cation between humans (ontology as a component of the memory, annotations and model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cation between agents (c.f. messag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mal structures (annotations, schemata, etc.) for in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ical consensus to build consensus above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putational consensus, e.g.: meas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-operation consensus, e.g.: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Vice-versa: DAI as a cornerstone for ontologie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Complementary domain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D.A.I.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Ontolog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D.A.I.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Semantic We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Semantic We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0A2-C457-4967-B7DB-1D1F7DAF9D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909324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wo trials and one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open-da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sults &amp; feedback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rgonomics probl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pecialization probl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onolithic solution evaluation proble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 large-scale evaluation (groups of 4/6 users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oof of concept: usability and usefulness recogniz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tegration of results from different domain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velopers appreciation of ontology-agent approac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dustrial interest in the development of the prototyp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On going improvements in the team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seudo distance &amp; decomposition algorith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Web mining wrappers: semi-automatic anno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mapping: connect 2 corporate semantic 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reuse and integration and NLP tool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72" name="Winner" descr=""/>
          <p:cNvPicPr/>
          <p:nvPr/>
        </p:nvPicPr>
        <p:blipFill>
          <a:blip r:embed="rId1"/>
          <a:stretch/>
        </p:blipFill>
        <p:spPr>
          <a:xfrm>
            <a:off x="4495680" y="417600"/>
            <a:ext cx="4648320" cy="1563480"/>
          </a:xfrm>
          <a:prstGeom prst="rect">
            <a:avLst/>
          </a:prstGeom>
          <a:ln w="0">
            <a:noFill/>
          </a:ln>
        </p:spPr>
      </p:pic>
      <p:sp>
        <p:nvSpPr>
          <p:cNvPr id="1773" name=""/>
          <p:cNvSpPr/>
          <p:nvPr/>
        </p:nvSpPr>
        <p:spPr>
          <a:xfrm rot="19264200">
            <a:off x="5595480" y="1005840"/>
            <a:ext cx="166716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503-0F6A-488B-A36E-F3F4C2EC54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annotation submis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E3A-6D20-4128-B2A7-20B11F09DB8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 allocation: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contract-net</a:t>
            </a: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 based on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pseudo-semantic distance bids</a:t>
            </a:r>
            <a:endParaRPr b="0" lang="en-US" sz="16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1"/>
          <a:stretch/>
        </p:blipFill>
        <p:spPr>
          <a:xfrm>
            <a:off x="244440" y="45720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B98-C22F-43F1-BD08-65FAD304189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query on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9" name="" descr=""/>
          <p:cNvPicPr/>
          <p:nvPr/>
        </p:nvPicPr>
        <p:blipFill>
          <a:blip r:embed="rId1"/>
          <a:stretch/>
        </p:blipFill>
        <p:spPr>
          <a:xfrm>
            <a:off x="228600" y="801720"/>
            <a:ext cx="793584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24D-42B6-4643-89E8-7CCF3182920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How ?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" y="372960"/>
            <a:ext cx="909324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62800" indent="-2628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In CoMMA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rporate memories are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information landscap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takeholders are an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popul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ploitation of CM involves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task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hoices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11360" y="3632040"/>
            <a:ext cx="8279640" cy="609840"/>
            <a:chOff x="711360" y="3632040"/>
            <a:chExt cx="8279640" cy="609840"/>
          </a:xfrm>
        </p:grpSpPr>
        <p:grpSp>
          <p:nvGrpSpPr>
            <p:cNvPr id="109" name=""/>
            <p:cNvGrpSpPr/>
            <p:nvPr/>
          </p:nvGrpSpPr>
          <p:grpSpPr>
            <a:xfrm>
              <a:off x="711360" y="3632040"/>
              <a:ext cx="8279640" cy="533520"/>
              <a:chOff x="711360" y="3632040"/>
              <a:chExt cx="8279640" cy="533520"/>
            </a:xfrm>
          </p:grpSpPr>
          <p:sp>
            <p:nvSpPr>
              <p:cNvPr id="110" name=""/>
              <p:cNvSpPr/>
              <p:nvPr/>
            </p:nvSpPr>
            <p:spPr>
              <a:xfrm>
                <a:off x="711360" y="3632040"/>
                <a:ext cx="4140720" cy="533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52080" y="3632040"/>
                <a:ext cx="4138920" cy="533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883800" y="3632040"/>
              <a:ext cx="3794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85840" indent="-28584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Materialization C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0040" y="3632040"/>
              <a:ext cx="3435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85840" indent="-28584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Exploitation C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11360" y="4165560"/>
            <a:ext cx="8280000" cy="2056680"/>
            <a:chOff x="711360" y="4165560"/>
            <a:chExt cx="8280000" cy="2056680"/>
          </a:xfrm>
        </p:grpSpPr>
        <p:sp>
          <p:nvSpPr>
            <p:cNvPr id="115" name=""/>
            <p:cNvSpPr/>
            <p:nvPr/>
          </p:nvSpPr>
          <p:spPr>
            <a:xfrm>
              <a:off x="711360" y="4165560"/>
              <a:ext cx="4140000" cy="205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1360" y="4165560"/>
              <a:ext cx="4140000" cy="205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4140360"/>
            <a:ext cx="4114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ML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tandard, Structure, Extensible, Validate,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DF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notation,   Schema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4127400"/>
            <a:ext cx="41148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Agent System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odularity, Distributed,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chine Learning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daptation, Em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1360" y="6222960"/>
            <a:ext cx="8368920" cy="380880"/>
            <a:chOff x="711360" y="6222960"/>
            <a:chExt cx="8368920" cy="380880"/>
          </a:xfrm>
        </p:grpSpPr>
        <p:grpSp>
          <p:nvGrpSpPr>
            <p:cNvPr id="120" name=""/>
            <p:cNvGrpSpPr/>
            <p:nvPr/>
          </p:nvGrpSpPr>
          <p:grpSpPr>
            <a:xfrm>
              <a:off x="711360" y="6222960"/>
              <a:ext cx="8282160" cy="380880"/>
              <a:chOff x="711360" y="6222960"/>
              <a:chExt cx="828216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711360" y="6222960"/>
                <a:ext cx="414144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2800" y="6222960"/>
                <a:ext cx="414072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216080" y="6222960"/>
              <a:ext cx="369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orporate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91600" y="6222960"/>
              <a:ext cx="428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nagement through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335-1A46-433F-BFD2-AF3AC863C6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Query solving: multi-stage query-ref based on URI cut/joi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1" name="" descr=""/>
          <p:cNvPicPr/>
          <p:nvPr/>
        </p:nvPicPr>
        <p:blipFill>
          <a:blip r:embed="rId1"/>
          <a:stretch/>
        </p:blipFill>
        <p:spPr>
          <a:xfrm>
            <a:off x="152280" y="446040"/>
            <a:ext cx="768060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9A6-CE31-47A6-B90E-DB1449A00C7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resenting and documenting results with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3" name="" descr=""/>
          <p:cNvPicPr/>
          <p:nvPr/>
        </p:nvPicPr>
        <p:blipFill>
          <a:blip r:embed="rId1"/>
          <a:stretch/>
        </p:blipFill>
        <p:spPr>
          <a:xfrm>
            <a:off x="1447920" y="628560"/>
            <a:ext cx="5999040" cy="537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240-1187-41BA-B48D-6555BD25A61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 txBox="1"/>
          <p:nvPr/>
        </p:nvSpPr>
        <p:spPr>
          <a:xfrm>
            <a:off x="2209680" y="2895480"/>
            <a:ext cx="4878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505682"/>
                  </a:solidFill>
                  <a:miter/>
                </a:ln>
                <a:solidFill>
                  <a:srgbClr val="7278a8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ank you !</a:t>
            </a:r>
            <a:endParaRPr b="0" i="1" lang="en-US" sz="2400" spc="1" strike="noStrike">
              <a:ln w="9360">
                <a:solidFill>
                  <a:srgbClr val="505682"/>
                </a:solidFill>
                <a:miter/>
              </a:ln>
              <a:solidFill>
                <a:srgbClr val="7278a8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ADE-DDD0-4855-8D55-7D361ACC8C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ther aspect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" y="393480"/>
            <a:ext cx="909324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This is not a presentation of..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overall design rationale of CoMMA (see IFIP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top-down organisational function analysis and implementation of the MAS (see AT2AI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ontology design (see ISMICK 2001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machine learning (see PKDD 2001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semantic search engine based on conceptual graph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(see WWW 2002 - RDF workshop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seudo-semantic distance and distributed query-solving protocols (see AAMAS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This is an overview a the CoMMA solution as it was in the last trial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corporate semantic web (distributed knowledge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multi-agent architecture (distributed AI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A42-AC25-48DD-A8B2-AF11E66F88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29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31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34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40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2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43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4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49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150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919080" y="3763800"/>
            <a:ext cx="1101240" cy="1552680"/>
            <a:chOff x="919080" y="3763800"/>
            <a:chExt cx="1101240" cy="1552680"/>
          </a:xfrm>
        </p:grpSpPr>
        <p:sp>
          <p:nvSpPr>
            <p:cNvPr id="153" name=""/>
            <p:cNvSpPr/>
            <p:nvPr/>
          </p:nvSpPr>
          <p:spPr>
            <a:xfrm>
              <a:off x="91908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590480" y="3763800"/>
              <a:ext cx="429840" cy="1181160"/>
              <a:chOff x="1590480" y="3763800"/>
              <a:chExt cx="429840" cy="11811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90480" y="3763800"/>
                <a:ext cx="210960" cy="97920"/>
                <a:chOff x="1590480" y="3763800"/>
                <a:chExt cx="210960" cy="97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59048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64232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71504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75536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665000" y="3833640"/>
                <a:ext cx="355320" cy="1111320"/>
                <a:chOff x="1665000" y="3833640"/>
                <a:chExt cx="355320" cy="11113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72908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5688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6500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8164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4204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85256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7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2972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8" name=""/>
          <p:cNvGrpSpPr/>
          <p:nvPr/>
        </p:nvGrpSpPr>
        <p:grpSpPr>
          <a:xfrm>
            <a:off x="2222640" y="3882960"/>
            <a:ext cx="2167920" cy="677520"/>
            <a:chOff x="2222640" y="3882960"/>
            <a:chExt cx="2167920" cy="677520"/>
          </a:xfrm>
        </p:grpSpPr>
        <p:pic>
          <p:nvPicPr>
            <p:cNvPr id="169" name="" descr=""/>
            <p:cNvPicPr/>
            <p:nvPr/>
          </p:nvPicPr>
          <p:blipFill>
            <a:blip r:embed="rId7"/>
            <a:stretch/>
          </p:blipFill>
          <p:spPr>
            <a:xfrm>
              <a:off x="22226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35240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"/>
            <p:cNvGrpSpPr/>
            <p:nvPr/>
          </p:nvGrpSpPr>
          <p:grpSpPr>
            <a:xfrm>
              <a:off x="2419200" y="3882960"/>
              <a:ext cx="1007640" cy="677520"/>
              <a:chOff x="2419200" y="3882960"/>
              <a:chExt cx="1007640" cy="677520"/>
            </a:xfrm>
          </p:grpSpPr>
          <p:sp>
            <p:nvSpPr>
              <p:cNvPr id="172" name=""/>
              <p:cNvSpPr/>
              <p:nvPr/>
            </p:nvSpPr>
            <p:spPr>
              <a:xfrm>
                <a:off x="257688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" name="onto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560" y="4156200"/>
                <a:ext cx="3153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2419200" y="3882960"/>
                <a:ext cx="10076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onto_01" descr=""/>
            <p:cNvPicPr/>
            <p:nvPr/>
          </p:nvPicPr>
          <p:blipFill>
            <a:blip r:embed="rId10"/>
            <a:stretch/>
          </p:blipFill>
          <p:spPr>
            <a:xfrm>
              <a:off x="4076640" y="4122720"/>
              <a:ext cx="3139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2009880" y="4633920"/>
            <a:ext cx="1631880" cy="882360"/>
            <a:chOff x="2009880" y="4633920"/>
            <a:chExt cx="1631880" cy="882360"/>
          </a:xfrm>
        </p:grpSpPr>
        <p:grpSp>
          <p:nvGrpSpPr>
            <p:cNvPr id="177" name=""/>
            <p:cNvGrpSpPr/>
            <p:nvPr/>
          </p:nvGrpSpPr>
          <p:grpSpPr>
            <a:xfrm>
              <a:off x="2009880" y="4917960"/>
              <a:ext cx="1631880" cy="598320"/>
              <a:chOff x="2009880" y="4917960"/>
              <a:chExt cx="1631880" cy="598320"/>
            </a:xfrm>
          </p:grpSpPr>
          <p:sp>
            <p:nvSpPr>
              <p:cNvPr id="178" name=""/>
              <p:cNvSpPr/>
              <p:nvPr/>
            </p:nvSpPr>
            <p:spPr>
              <a:xfrm>
                <a:off x="208872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onto_0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2796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200988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1156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2" name="" descr=""/>
            <p:cNvPicPr/>
            <p:nvPr/>
          </p:nvPicPr>
          <p:blipFill>
            <a:blip r:embed="rId12"/>
            <a:stretch/>
          </p:blipFill>
          <p:spPr>
            <a:xfrm>
              <a:off x="281304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3524400" y="4998960"/>
            <a:ext cx="1065240" cy="357120"/>
            <a:chOff x="3524400" y="4998960"/>
            <a:chExt cx="1065240" cy="357120"/>
          </a:xfrm>
        </p:grpSpPr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352440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onto_02" descr=""/>
            <p:cNvPicPr/>
            <p:nvPr/>
          </p:nvPicPr>
          <p:blipFill>
            <a:blip r:embed="rId14"/>
            <a:stretch/>
          </p:blipFill>
          <p:spPr>
            <a:xfrm>
              <a:off x="423396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 txBox="1"/>
          <p:nvPr/>
        </p:nvSpPr>
        <p:spPr>
          <a:xfrm>
            <a:off x="210348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143080" y="3605040"/>
            <a:ext cx="1971720" cy="1273320"/>
            <a:chOff x="2143080" y="3605040"/>
            <a:chExt cx="1971720" cy="1273320"/>
          </a:xfrm>
        </p:grpSpPr>
        <p:sp>
          <p:nvSpPr>
            <p:cNvPr id="188" name=""/>
            <p:cNvSpPr/>
            <p:nvPr/>
          </p:nvSpPr>
          <p:spPr>
            <a:xfrm>
              <a:off x="344484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4308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8752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7D9-5C22-4EC8-A082-683C55919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93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95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98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3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04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6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07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2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13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1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15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841320" y="1374840"/>
            <a:ext cx="1774800" cy="1433520"/>
            <a:chOff x="841320" y="1374840"/>
            <a:chExt cx="1774800" cy="1433520"/>
          </a:xfrm>
        </p:grpSpPr>
        <p:sp>
          <p:nvSpPr>
            <p:cNvPr id="217" name=""/>
            <p:cNvSpPr/>
            <p:nvPr/>
          </p:nvSpPr>
          <p:spPr>
            <a:xfrm>
              <a:off x="84132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393560" y="1374840"/>
              <a:ext cx="789120" cy="1231920"/>
              <a:chOff x="1393560" y="1374840"/>
              <a:chExt cx="789120" cy="12319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1668960" y="1822680"/>
                <a:ext cx="477360" cy="784080"/>
                <a:chOff x="1668960" y="1822680"/>
                <a:chExt cx="477360" cy="7840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87812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92132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75356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66896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98900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3420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79760" y="1374840"/>
                <a:ext cx="236520" cy="239040"/>
                <a:chOff x="1679760" y="1374840"/>
                <a:chExt cx="236520" cy="2390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976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8" name="doc_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0676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229" name=""/>
              <p:cNvGrpSpPr/>
              <p:nvPr/>
            </p:nvGrpSpPr>
            <p:grpSpPr>
              <a:xfrm>
                <a:off x="1393560" y="1498320"/>
                <a:ext cx="255240" cy="278640"/>
                <a:chOff x="1393560" y="1498320"/>
                <a:chExt cx="255240" cy="2786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39356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1" name="doc_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0184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2" name=""/>
              <p:cNvGrpSpPr/>
              <p:nvPr/>
            </p:nvGrpSpPr>
            <p:grpSpPr>
              <a:xfrm>
                <a:off x="1551240" y="1817280"/>
                <a:ext cx="204120" cy="245160"/>
                <a:chOff x="1551240" y="1817280"/>
                <a:chExt cx="204120" cy="2451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55124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doc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7176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5" name=""/>
              <p:cNvGrpSpPr/>
              <p:nvPr/>
            </p:nvGrpSpPr>
            <p:grpSpPr>
              <a:xfrm>
                <a:off x="1945800" y="1538280"/>
                <a:ext cx="236880" cy="278640"/>
                <a:chOff x="1945800" y="1538280"/>
                <a:chExt cx="236880" cy="2786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94580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7" name="doc_05gif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5120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38" name=""/>
          <p:cNvGrpSpPr/>
          <p:nvPr/>
        </p:nvGrpSpPr>
        <p:grpSpPr>
          <a:xfrm>
            <a:off x="2182680" y="1785960"/>
            <a:ext cx="1617840" cy="903240"/>
            <a:chOff x="2182680" y="1785960"/>
            <a:chExt cx="1617840" cy="903240"/>
          </a:xfrm>
        </p:grpSpPr>
        <p:pic>
          <p:nvPicPr>
            <p:cNvPr id="239" name="" descr=""/>
            <p:cNvPicPr/>
            <p:nvPr/>
          </p:nvPicPr>
          <p:blipFill>
            <a:blip r:embed="rId10"/>
            <a:stretch/>
          </p:blipFill>
          <p:spPr>
            <a:xfrm>
              <a:off x="2182680" y="2262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"/>
            <p:cNvGrpSpPr/>
            <p:nvPr/>
          </p:nvGrpSpPr>
          <p:grpSpPr>
            <a:xfrm>
              <a:off x="2458800" y="1785960"/>
              <a:ext cx="1025640" cy="903240"/>
              <a:chOff x="2458800" y="1785960"/>
              <a:chExt cx="1025640" cy="903240"/>
            </a:xfrm>
          </p:grpSpPr>
          <p:sp>
            <p:nvSpPr>
              <p:cNvPr id="241" name=""/>
              <p:cNvSpPr/>
              <p:nvPr/>
            </p:nvSpPr>
            <p:spPr>
              <a:xfrm>
                <a:off x="2458800" y="205200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8800" y="178596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76440" y="205488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5300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3548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6" name="" descr=""/>
            <p:cNvPicPr/>
            <p:nvPr/>
          </p:nvPicPr>
          <p:blipFill>
            <a:blip r:embed="rId13"/>
            <a:stretch/>
          </p:blipFill>
          <p:spPr>
            <a:xfrm>
              <a:off x="3563640" y="225108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3933720" y="1697040"/>
            <a:ext cx="1376280" cy="3565440"/>
            <a:chOff x="3933720" y="1697040"/>
            <a:chExt cx="1376280" cy="3565440"/>
          </a:xfrm>
        </p:grpSpPr>
        <p:pic>
          <p:nvPicPr>
            <p:cNvPr id="248" name="doc_01" descr=""/>
            <p:cNvPicPr/>
            <p:nvPr/>
          </p:nvPicPr>
          <p:blipFill>
            <a:blip r:embed="rId14"/>
            <a:stretch/>
          </p:blipFill>
          <p:spPr>
            <a:xfrm>
              <a:off x="489420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doc_01" descr=""/>
            <p:cNvPicPr/>
            <p:nvPr/>
          </p:nvPicPr>
          <p:blipFill>
            <a:blip r:embed="rId15"/>
            <a:stretch/>
          </p:blipFill>
          <p:spPr>
            <a:xfrm>
              <a:off x="485208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memory_01" descr=""/>
            <p:cNvPicPr/>
            <p:nvPr/>
          </p:nvPicPr>
          <p:blipFill>
            <a:blip r:embed="rId16"/>
            <a:stretch/>
          </p:blipFill>
          <p:spPr>
            <a:xfrm>
              <a:off x="3933720" y="1697040"/>
              <a:ext cx="35100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doc_03" descr=""/>
            <p:cNvPicPr/>
            <p:nvPr/>
          </p:nvPicPr>
          <p:blipFill>
            <a:blip r:embed="rId17"/>
            <a:stretch/>
          </p:blipFill>
          <p:spPr>
            <a:xfrm>
              <a:off x="4100040" y="4467240"/>
              <a:ext cx="41796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52" name="doc_04" descr=""/>
            <p:cNvPicPr/>
            <p:nvPr/>
          </p:nvPicPr>
          <p:blipFill>
            <a:blip r:embed="rId18"/>
            <a:stretch/>
          </p:blipFill>
          <p:spPr>
            <a:xfrm>
              <a:off x="4017600" y="2192400"/>
              <a:ext cx="2919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doc_05gif" descr=""/>
            <p:cNvPicPr/>
            <p:nvPr/>
          </p:nvPicPr>
          <p:blipFill>
            <a:blip r:embed="rId19"/>
            <a:stretch/>
          </p:blipFill>
          <p:spPr>
            <a:xfrm>
              <a:off x="472608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0"/>
            <a:stretch/>
          </p:blipFill>
          <p:spPr>
            <a:xfrm>
              <a:off x="464400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1"/>
            <a:stretch/>
          </p:blipFill>
          <p:spPr>
            <a:xfrm>
              <a:off x="445932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doc_01" descr=""/>
            <p:cNvPicPr/>
            <p:nvPr/>
          </p:nvPicPr>
          <p:blipFill>
            <a:blip r:embed="rId22"/>
            <a:stretch/>
          </p:blipFill>
          <p:spPr>
            <a:xfrm>
              <a:off x="493596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3"/>
            <a:stretch/>
          </p:blipFill>
          <p:spPr>
            <a:xfrm>
              <a:off x="497628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4"/>
            <a:stretch/>
          </p:blipFill>
          <p:spPr>
            <a:xfrm>
              <a:off x="4434120" y="2351160"/>
              <a:ext cx="3524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5"/>
            <a:stretch/>
          </p:blipFill>
          <p:spPr>
            <a:xfrm>
              <a:off x="497628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 txBox="1"/>
          <p:nvPr/>
        </p:nvSpPr>
        <p:spPr>
          <a:xfrm>
            <a:off x="277344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08200" y="2610000"/>
            <a:ext cx="947160" cy="396720"/>
            <a:chOff x="1708200" y="2610000"/>
            <a:chExt cx="947160" cy="396720"/>
          </a:xfrm>
        </p:grpSpPr>
        <p:sp>
          <p:nvSpPr>
            <p:cNvPr id="262" name=""/>
            <p:cNvSpPr/>
            <p:nvPr/>
          </p:nvSpPr>
          <p:spPr>
            <a:xfrm>
              <a:off x="170820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02356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onto_01" descr=""/>
          <p:cNvPicPr/>
          <p:nvPr/>
        </p:nvPicPr>
        <p:blipFill>
          <a:blip r:embed="rId26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265" name="onto_02" descr=""/>
          <p:cNvPicPr/>
          <p:nvPr/>
        </p:nvPicPr>
        <p:blipFill>
          <a:blip r:embed="rId27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7B0-D5C1-4E48-9253-775D7DF95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268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270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273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8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79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1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82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3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7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88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89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90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" name=""/>
          <p:cNvGrpSpPr/>
          <p:nvPr/>
        </p:nvGrpSpPr>
        <p:grpSpPr>
          <a:xfrm>
            <a:off x="7113600" y="4521240"/>
            <a:ext cx="1106280" cy="1193760"/>
            <a:chOff x="7113600" y="4521240"/>
            <a:chExt cx="1106280" cy="1193760"/>
          </a:xfrm>
        </p:grpSpPr>
        <p:sp>
          <p:nvSpPr>
            <p:cNvPr id="292" name=""/>
            <p:cNvSpPr/>
            <p:nvPr/>
          </p:nvSpPr>
          <p:spPr>
            <a:xfrm>
              <a:off x="711360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272000" y="4600440"/>
              <a:ext cx="430200" cy="903600"/>
              <a:chOff x="7272000" y="4600440"/>
              <a:chExt cx="430200" cy="90360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739656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50780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41816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1700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7164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45164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705440" y="4521240"/>
              <a:ext cx="473400" cy="396720"/>
              <a:chOff x="7705440" y="4521240"/>
              <a:chExt cx="473400" cy="396720"/>
            </a:xfrm>
          </p:grpSpPr>
          <p:sp>
            <p:nvSpPr>
              <p:cNvPr id="301" name=""/>
              <p:cNvSpPr/>
              <p:nvPr/>
            </p:nvSpPr>
            <p:spPr>
              <a:xfrm>
                <a:off x="770544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2" name="inter" descr=""/>
              <p:cNvPicPr/>
              <p:nvPr/>
            </p:nvPicPr>
            <p:blipFill>
              <a:blip r:embed="rId6"/>
              <a:stretch/>
            </p:blipFill>
            <p:spPr>
              <a:xfrm>
                <a:off x="782172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3" name=""/>
          <p:cNvGrpSpPr/>
          <p:nvPr/>
        </p:nvGrpSpPr>
        <p:grpSpPr>
          <a:xfrm>
            <a:off x="5456160" y="4560840"/>
            <a:ext cx="1697040" cy="995400"/>
            <a:chOff x="5456160" y="4560840"/>
            <a:chExt cx="1697040" cy="995400"/>
          </a:xfrm>
        </p:grpSpPr>
        <p:pic>
          <p:nvPicPr>
            <p:cNvPr id="304" name="" descr=""/>
            <p:cNvPicPr/>
            <p:nvPr/>
          </p:nvPicPr>
          <p:blipFill>
            <a:blip r:embed="rId7"/>
            <a:stretch/>
          </p:blipFill>
          <p:spPr>
            <a:xfrm>
              <a:off x="545616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"/>
            <a:stretch/>
          </p:blipFill>
          <p:spPr>
            <a:xfrm>
              <a:off x="691668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5732280" y="4560840"/>
              <a:ext cx="1104840" cy="995400"/>
              <a:chOff x="5732280" y="4560840"/>
              <a:chExt cx="1104840" cy="9954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732280" y="4560840"/>
                <a:ext cx="1026000" cy="902880"/>
                <a:chOff x="5732280" y="4560840"/>
                <a:chExt cx="1026000" cy="9028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73228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73228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4992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2684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0896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3" name=""/>
              <p:cNvGrpSpPr/>
              <p:nvPr/>
            </p:nvGrpSpPr>
            <p:grpSpPr>
              <a:xfrm>
                <a:off x="5771520" y="4600440"/>
                <a:ext cx="1026000" cy="903240"/>
                <a:chOff x="5771520" y="4600440"/>
                <a:chExt cx="1026000" cy="9032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77152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7152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78916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6608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4820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9" name=""/>
              <p:cNvGrpSpPr/>
              <p:nvPr/>
            </p:nvGrpSpPr>
            <p:grpSpPr>
              <a:xfrm>
                <a:off x="5811120" y="4653000"/>
                <a:ext cx="1026000" cy="903240"/>
                <a:chOff x="5811120" y="4653000"/>
                <a:chExt cx="1026000" cy="9032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81112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81112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82876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20568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88780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25" name="onto_01" descr=""/>
          <p:cNvPicPr/>
          <p:nvPr/>
        </p:nvPicPr>
        <p:blipFill>
          <a:blip r:embed="rId15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326" name="onto_02" descr=""/>
          <p:cNvPicPr/>
          <p:nvPr/>
        </p:nvPicPr>
        <p:blipFill>
          <a:blip r:embed="rId16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7192800" y="3787920"/>
            <a:ext cx="631800" cy="772920"/>
            <a:chOff x="7192800" y="3787920"/>
            <a:chExt cx="631800" cy="772920"/>
          </a:xfrm>
        </p:grpSpPr>
        <p:pic>
          <p:nvPicPr>
            <p:cNvPr id="328" name="" descr=""/>
            <p:cNvPicPr/>
            <p:nvPr/>
          </p:nvPicPr>
          <p:blipFill>
            <a:blip r:embed="rId17"/>
            <a:stretch/>
          </p:blipFill>
          <p:spPr>
            <a:xfrm>
              <a:off x="738972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"/>
            <p:cNvGrpSpPr/>
            <p:nvPr/>
          </p:nvGrpSpPr>
          <p:grpSpPr>
            <a:xfrm>
              <a:off x="7192800" y="3787920"/>
              <a:ext cx="631800" cy="490320"/>
              <a:chOff x="7192800" y="3787920"/>
              <a:chExt cx="631800" cy="490320"/>
            </a:xfrm>
          </p:grpSpPr>
          <p:sp>
            <p:nvSpPr>
              <p:cNvPr id="330" name=""/>
              <p:cNvSpPr/>
              <p:nvPr/>
            </p:nvSpPr>
            <p:spPr>
              <a:xfrm>
                <a:off x="723204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19280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42968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3" name="doc_01" descr=""/>
          <p:cNvPicPr/>
          <p:nvPr/>
        </p:nvPicPr>
        <p:blipFill>
          <a:blip r:embed="rId19"/>
          <a:stretch/>
        </p:blipFill>
        <p:spPr>
          <a:xfrm>
            <a:off x="4894200" y="231156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34" name="doc_01" descr=""/>
          <p:cNvPicPr/>
          <p:nvPr/>
        </p:nvPicPr>
        <p:blipFill>
          <a:blip r:embed="rId20"/>
          <a:stretch/>
        </p:blipFill>
        <p:spPr>
          <a:xfrm>
            <a:off x="4851360" y="223200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35" name="memory_01" descr=""/>
          <p:cNvPicPr/>
          <p:nvPr/>
        </p:nvPicPr>
        <p:blipFill>
          <a:blip r:embed="rId21"/>
          <a:stretch/>
        </p:blipFill>
        <p:spPr>
          <a:xfrm>
            <a:off x="3933720" y="1697040"/>
            <a:ext cx="351000" cy="336600"/>
          </a:xfrm>
          <a:prstGeom prst="rect">
            <a:avLst/>
          </a:prstGeom>
          <a:ln w="0">
            <a:noFill/>
          </a:ln>
        </p:spPr>
      </p:pic>
      <p:pic>
        <p:nvPicPr>
          <p:cNvPr id="336" name="doc_03" descr=""/>
          <p:cNvPicPr/>
          <p:nvPr/>
        </p:nvPicPr>
        <p:blipFill>
          <a:blip r:embed="rId22"/>
          <a:stretch/>
        </p:blipFill>
        <p:spPr>
          <a:xfrm>
            <a:off x="4100400" y="4467240"/>
            <a:ext cx="417600" cy="396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337" name="doc_04" descr=""/>
          <p:cNvPicPr/>
          <p:nvPr/>
        </p:nvPicPr>
        <p:blipFill>
          <a:blip r:embed="rId23"/>
          <a:stretch/>
        </p:blipFill>
        <p:spPr>
          <a:xfrm>
            <a:off x="4017960" y="2192400"/>
            <a:ext cx="291960" cy="277920"/>
          </a:xfrm>
          <a:prstGeom prst="rect">
            <a:avLst/>
          </a:prstGeom>
          <a:ln w="0">
            <a:noFill/>
          </a:ln>
        </p:spPr>
      </p:pic>
      <p:pic>
        <p:nvPicPr>
          <p:cNvPr id="338" name="doc_05gif" descr=""/>
          <p:cNvPicPr/>
          <p:nvPr/>
        </p:nvPicPr>
        <p:blipFill>
          <a:blip r:embed="rId24"/>
          <a:stretch/>
        </p:blipFill>
        <p:spPr>
          <a:xfrm>
            <a:off x="4726080" y="4386240"/>
            <a:ext cx="322200" cy="291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5"/>
          <a:stretch/>
        </p:blipFill>
        <p:spPr>
          <a:xfrm>
            <a:off x="4643280" y="3824280"/>
            <a:ext cx="435240" cy="415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6"/>
          <a:stretch/>
        </p:blipFill>
        <p:spPr>
          <a:xfrm>
            <a:off x="4459320" y="1736640"/>
            <a:ext cx="350640" cy="336600"/>
          </a:xfrm>
          <a:prstGeom prst="rect">
            <a:avLst/>
          </a:prstGeom>
          <a:ln w="0">
            <a:noFill/>
          </a:ln>
        </p:spPr>
      </p:pic>
      <p:pic>
        <p:nvPicPr>
          <p:cNvPr id="341" name="doc_01" descr=""/>
          <p:cNvPicPr/>
          <p:nvPr/>
        </p:nvPicPr>
        <p:blipFill>
          <a:blip r:embed="rId27"/>
          <a:stretch/>
        </p:blipFill>
        <p:spPr>
          <a:xfrm>
            <a:off x="4935600" y="2351160"/>
            <a:ext cx="226800" cy="279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8"/>
          <a:stretch/>
        </p:blipFill>
        <p:spPr>
          <a:xfrm>
            <a:off x="4976640" y="4944960"/>
            <a:ext cx="33372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9"/>
          <a:stretch/>
        </p:blipFill>
        <p:spPr>
          <a:xfrm>
            <a:off x="4433760" y="2351160"/>
            <a:ext cx="352440" cy="334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0"/>
          <a:stretch/>
        </p:blipFill>
        <p:spPr>
          <a:xfrm>
            <a:off x="4976640" y="1793880"/>
            <a:ext cx="333720" cy="3189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695628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257800" y="2057040"/>
            <a:ext cx="2247840" cy="2503800"/>
            <a:chOff x="5257800" y="2057040"/>
            <a:chExt cx="2247840" cy="2503800"/>
          </a:xfrm>
        </p:grpSpPr>
        <p:sp>
          <p:nvSpPr>
            <p:cNvPr id="347" name=""/>
            <p:cNvSpPr/>
            <p:nvPr/>
          </p:nvSpPr>
          <p:spPr>
            <a:xfrm flipH="1" flipV="1">
              <a:off x="525780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7400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36408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628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062680" y="3565440"/>
            <a:ext cx="2129760" cy="1035000"/>
            <a:chOff x="5062680" y="3565440"/>
            <a:chExt cx="2129760" cy="1035000"/>
          </a:xfrm>
        </p:grpSpPr>
        <p:sp>
          <p:nvSpPr>
            <p:cNvPr id="352" name=""/>
            <p:cNvSpPr/>
            <p:nvPr/>
          </p:nvSpPr>
          <p:spPr>
            <a:xfrm flipH="1">
              <a:off x="5062680" y="356544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89104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6720" y="368460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1AB-CCF4-413A-B57A-C971CFFE54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Functionalities studied in CoMMA: Annotate, Pull and Push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357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362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68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371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77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37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79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381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5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6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397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8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409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1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2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5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7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18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419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428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9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30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431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2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433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8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440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9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5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61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462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4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465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66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8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470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471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2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5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477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480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1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482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5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486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490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502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506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509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514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11360" y="1295280"/>
            <a:ext cx="8001000" cy="4496040"/>
            <a:chOff x="711360" y="1295280"/>
            <a:chExt cx="8001000" cy="4496040"/>
          </a:xfrm>
        </p:grpSpPr>
        <p:sp>
          <p:nvSpPr>
            <p:cNvPr id="518" name=""/>
            <p:cNvSpPr/>
            <p:nvPr/>
          </p:nvSpPr>
          <p:spPr>
            <a:xfrm>
              <a:off x="711360" y="2819520"/>
              <a:ext cx="3174840" cy="2971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86400" y="1295280"/>
              <a:ext cx="3225960" cy="243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9880" y="1295280"/>
              <a:ext cx="16765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2120" y="1295280"/>
              <a:ext cx="3047760" cy="15242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86400" y="3733920"/>
              <a:ext cx="3048120" cy="198108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B4A-C69F-4713-B6B3-A76E86791D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18:56:05Z</dcterms:created>
  <dc:creator>Fabien GANDON</dc:creator>
  <dc:description/>
  <dc:language>en-US</dc:language>
  <cp:lastModifiedBy>Fabien GANDON</cp:lastModifiedBy>
  <dcterms:modified xsi:type="dcterms:W3CDTF">2002-09-20T08:12:40Z</dcterms:modified>
  <cp:revision>66</cp:revision>
  <dc:subject/>
  <dc:title>Trying the title of the slides</dc:title>
</cp:coreProperties>
</file>