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F43-D30A-4547-9B3A-2F436070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D5F-568C-4607-B1EF-FE77D11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A37-85B7-4BA8-9489-5BE09431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CD3-5AE4-4252-8C58-B70352BD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E39-D7DC-4207-B323-619D0A02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88F-3AC5-4B6E-AA7D-5A770451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F16-7991-44DF-ADA4-FF207AAA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E82-0155-4CB0-ACC3-F9F5862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B8C-E48E-4F50-BF5D-FA9D8FCB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0BF-AFE8-4056-A335-CD8C324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BDD-FF03-4D44-9E33-61B7531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BB7-6A41-4B79-B7BD-393E41C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47C-D7EF-4DE9-A2F8-A69AEEF7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A.I. &amp; S.M. for KM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nergy of complementary domains and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28720" y="3827160"/>
            <a:ext cx="7415280" cy="60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mantic web addicte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ease, raise your hands 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03680" y="-1424520"/>
            <a:ext cx="9133560" cy="9915840"/>
            <a:chOff x="103680" y="-1424520"/>
            <a:chExt cx="9133560" cy="9915840"/>
          </a:xfrm>
        </p:grpSpPr>
        <p:sp>
          <p:nvSpPr>
            <p:cNvPr id="52" name=""/>
            <p:cNvSpPr/>
            <p:nvPr/>
          </p:nvSpPr>
          <p:spPr>
            <a:xfrm>
              <a:off x="2195640" y="3532320"/>
              <a:ext cx="504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668840" y="855720"/>
              <a:ext cx="0" cy="525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3680" y="3532320"/>
              <a:ext cx="45648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668840" y="3532320"/>
              <a:ext cx="45684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668840" y="-1424520"/>
              <a:ext cx="4568400" cy="49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3680" y="-1227240"/>
              <a:ext cx="4564800" cy="475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8160" y="3178080"/>
              <a:ext cx="105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A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82160" y="3159000"/>
              <a:ext cx="99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66520" y="6040440"/>
              <a:ext cx="240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69800" y="90360"/>
              <a:ext cx="125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.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62160" y="3578040"/>
            <a:ext cx="2483640" cy="1814040"/>
            <a:chOff x="1262160" y="3578040"/>
            <a:chExt cx="2483640" cy="1814040"/>
          </a:xfrm>
        </p:grpSpPr>
        <p:sp>
          <p:nvSpPr>
            <p:cNvPr id="63" name=""/>
            <p:cNvSpPr/>
            <p:nvPr/>
          </p:nvSpPr>
          <p:spPr>
            <a:xfrm rot="20457000">
              <a:off x="2103480" y="37760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2160" y="3860640"/>
              <a:ext cx="21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ech acts, ACL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 primi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08080" y="847440"/>
            <a:ext cx="2601000" cy="1917360"/>
            <a:chOff x="2008080" y="847440"/>
            <a:chExt cx="2601000" cy="1917360"/>
          </a:xfrm>
        </p:grpSpPr>
        <p:sp>
          <p:nvSpPr>
            <p:cNvPr id="66" name=""/>
            <p:cNvSpPr/>
            <p:nvPr/>
          </p:nvSpPr>
          <p:spPr>
            <a:xfrm rot="3880200">
              <a:off x="2932920" y="109728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08080" y="1413000"/>
              <a:ext cx="22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l paradig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ted platfo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ramew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93320" y="4493160"/>
            <a:ext cx="4513680" cy="1942560"/>
            <a:chOff x="4693320" y="4493160"/>
            <a:chExt cx="4513680" cy="1942560"/>
          </a:xfrm>
        </p:grpSpPr>
        <p:sp>
          <p:nvSpPr>
            <p:cNvPr id="69" name=""/>
            <p:cNvSpPr/>
            <p:nvPr/>
          </p:nvSpPr>
          <p:spPr>
            <a:xfrm rot="14542200">
              <a:off x="4932360" y="47552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10480" y="5092560"/>
              <a:ext cx="419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frameworks and langu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ine libraries and standard ontolo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64000" y="1341360"/>
            <a:ext cx="5230800" cy="2016360"/>
            <a:chOff x="3564000" y="1341360"/>
            <a:chExt cx="5230800" cy="2016360"/>
          </a:xfrm>
        </p:grpSpPr>
        <p:sp>
          <p:nvSpPr>
            <p:cNvPr id="72" name=""/>
            <p:cNvSpPr/>
            <p:nvPr/>
          </p:nvSpPr>
          <p:spPr>
            <a:xfrm flipH="1">
              <a:off x="3564000" y="335772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00680" y="1341360"/>
              <a:ext cx="299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meworks and langu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semantic-level messa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067280" y="155700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59280" y="4076640"/>
            <a:ext cx="4552920" cy="642600"/>
            <a:chOff x="4859280" y="4076640"/>
            <a:chExt cx="4552920" cy="642600"/>
          </a:xfrm>
        </p:grpSpPr>
        <p:sp>
          <p:nvSpPr>
            <p:cNvPr id="76" name=""/>
            <p:cNvSpPr/>
            <p:nvPr/>
          </p:nvSpPr>
          <p:spPr>
            <a:xfrm>
              <a:off x="4859280" y="4076640"/>
              <a:ext cx="1441440" cy="21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2560" y="4076640"/>
              <a:ext cx="31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raweb = good 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and test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859280" y="1599120"/>
            <a:ext cx="4281840" cy="3125160"/>
            <a:chOff x="4859280" y="1599120"/>
            <a:chExt cx="4281840" cy="3125160"/>
          </a:xfrm>
        </p:grpSpPr>
        <p:sp>
          <p:nvSpPr>
            <p:cNvPr id="79" name=""/>
            <p:cNvSpPr/>
            <p:nvPr/>
          </p:nvSpPr>
          <p:spPr>
            <a:xfrm>
              <a:off x="4859280" y="3789360"/>
              <a:ext cx="0" cy="9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486000">
              <a:off x="5711040" y="181836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35000" y="2421000"/>
              <a:ext cx="270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 typologies, K life-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hods and tools K A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156360" y="2708280"/>
              <a:ext cx="28728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59280" y="2707920"/>
              <a:ext cx="158436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03680" y="-1424520"/>
            <a:ext cx="9133560" cy="9915840"/>
            <a:chOff x="103680" y="-1424520"/>
            <a:chExt cx="9133560" cy="9915840"/>
          </a:xfrm>
        </p:grpSpPr>
        <p:sp>
          <p:nvSpPr>
            <p:cNvPr id="85" name=""/>
            <p:cNvSpPr/>
            <p:nvPr/>
          </p:nvSpPr>
          <p:spPr>
            <a:xfrm>
              <a:off x="2195640" y="3532320"/>
              <a:ext cx="504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668840" y="855720"/>
              <a:ext cx="0" cy="525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680" y="3532320"/>
              <a:ext cx="45648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68840" y="3532320"/>
              <a:ext cx="45684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668840" y="-1424520"/>
              <a:ext cx="4568400" cy="49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3680" y="-1227240"/>
              <a:ext cx="4564800" cy="475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8160" y="3178080"/>
              <a:ext cx="105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A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82160" y="3159000"/>
              <a:ext cx="99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66520" y="6040440"/>
              <a:ext cx="240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69800" y="90360"/>
              <a:ext cx="125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.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62880" y="3578040"/>
            <a:ext cx="2614680" cy="1814040"/>
            <a:chOff x="1262880" y="3578040"/>
            <a:chExt cx="2614680" cy="1814040"/>
          </a:xfrm>
        </p:grpSpPr>
        <p:sp>
          <p:nvSpPr>
            <p:cNvPr id="96" name=""/>
            <p:cNvSpPr/>
            <p:nvPr/>
          </p:nvSpPr>
          <p:spPr>
            <a:xfrm rot="20457000">
              <a:off x="2103480" y="37760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2880" y="3860640"/>
              <a:ext cx="261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ted archi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SCW) for emergenc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tenance and use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tological consens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79000" y="847440"/>
            <a:ext cx="2530080" cy="2005560"/>
            <a:chOff x="2079000" y="847440"/>
            <a:chExt cx="2530080" cy="2005560"/>
          </a:xfrm>
        </p:grpSpPr>
        <p:sp>
          <p:nvSpPr>
            <p:cNvPr id="99" name=""/>
            <p:cNvSpPr/>
            <p:nvPr/>
          </p:nvSpPr>
          <p:spPr>
            <a:xfrm rot="3880200">
              <a:off x="2932920" y="109728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9000" y="1387440"/>
              <a:ext cx="2134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 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; Studies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a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ledge and it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99000" y="1599120"/>
            <a:ext cx="3414240" cy="1856160"/>
            <a:chOff x="5499000" y="1599120"/>
            <a:chExt cx="3414240" cy="1856160"/>
          </a:xfrm>
        </p:grpSpPr>
        <p:sp>
          <p:nvSpPr>
            <p:cNvPr id="102" name=""/>
            <p:cNvSpPr/>
            <p:nvPr/>
          </p:nvSpPr>
          <p:spPr>
            <a:xfrm rot="9486000">
              <a:off x="5711040" y="181836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8120" y="2492280"/>
              <a:ext cx="28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for intra and 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prise exchan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693320" y="4493160"/>
            <a:ext cx="4411080" cy="1942560"/>
            <a:chOff x="4693320" y="4493160"/>
            <a:chExt cx="4411080" cy="1942560"/>
          </a:xfrm>
        </p:grpSpPr>
        <p:sp>
          <p:nvSpPr>
            <p:cNvPr id="105" name=""/>
            <p:cNvSpPr/>
            <p:nvPr/>
          </p:nvSpPr>
          <p:spPr>
            <a:xfrm rot="14542200">
              <a:off x="4932360" y="47552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79520" y="5229360"/>
              <a:ext cx="412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ing primitives, ontolog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gineering methods for SW schem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859280" y="3789360"/>
            <a:ext cx="3803400" cy="1354680"/>
            <a:chOff x="4859280" y="3789360"/>
            <a:chExt cx="3803400" cy="1354680"/>
          </a:xfrm>
        </p:grpSpPr>
        <p:sp>
          <p:nvSpPr>
            <p:cNvPr id="108" name=""/>
            <p:cNvSpPr/>
            <p:nvPr/>
          </p:nvSpPr>
          <p:spPr>
            <a:xfrm>
              <a:off x="6278400" y="3952800"/>
              <a:ext cx="238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tology-based 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ledge reuse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ontolo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59280" y="3789360"/>
              <a:ext cx="0" cy="9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859280" y="4292640"/>
              <a:ext cx="1441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64000" y="1341360"/>
            <a:ext cx="4850640" cy="2016360"/>
            <a:chOff x="3564000" y="1341360"/>
            <a:chExt cx="4850640" cy="2016360"/>
          </a:xfrm>
        </p:grpSpPr>
        <p:sp>
          <p:nvSpPr>
            <p:cNvPr id="112" name=""/>
            <p:cNvSpPr/>
            <p:nvPr/>
          </p:nvSpPr>
          <p:spPr>
            <a:xfrm flipH="1">
              <a:off x="3564000" y="335772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99960" y="1341360"/>
              <a:ext cx="261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ted archi.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tenance and use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ertional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067280" y="155700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s and interests of participant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r, machine learning and dynamic construction of knowledge, web-services and DAMLS, e-mail and SW for KM, information retrieval, constraints, standard upper ontologies, corporate memories, linguist, semantic intraweb, peer two peer for KM, ontology for processes and interaction protocol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 in the semantic we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.R. languages existed before but none of them made it to the real world ; some part also matured (ont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world 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Web) for K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 is also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ort for semantic representation on th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 in the agent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programming and design paradigm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conceptual g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description of our reality (problems and envisioned solutions) and the description used in the modeling and implementation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gents &amp; SW interesting in K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A.I. offers a paradigm and architectur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 and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distributed knowledg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organizations c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ct, and integ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think there exists such a thing as an ont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ateg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up in a lot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not enough, the machine does not underst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ar /&gt; any more than “car” ; need for ontologies and 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both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Web and for the intraw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he human brain representation is completely different of the ones (D)AI is using, if 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ic systems can simu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nferences we want using ontologies then why not us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problem: the heart of SW and symbolic D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ry to previous attempts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ontology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and its problematic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e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effort in trying to bui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top 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UMO), and domain ontologies that can be reused and extended by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mposed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ke them available and show benefits to everyone  ; otherwise it will not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the content of ontologies and S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content or statistic con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low-quality ontologies on the Web but they will disappear with time / hope they won’t harm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guistic / semiotic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o often mixed-up with the conceptual structures and representation themselves ; need for separation and development of this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of pragmatic use of terms / signs and interpretation not reall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mantic are larg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estim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ols and methods are too much empha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go through a perio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os 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reach a stabl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iod: going to double web before going where everything is in the mark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 initiatives also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, constra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how it should be d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more than a simple syntactic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arge, standard ontologie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small but viral” Tim Burners-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0 rule for dissem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demand for the rest come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right domain to build and demonstrate ontologies (e.g., services, processes, interaction protoc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end toward a maximum of expressiveness and overlap with other existing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ontologies and standard domain ontologies are vital to foster this convergence and make the compatibility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models are important because they give room for further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? The semantic web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? But too much anarchy would be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ontology (essential) + hierarchies of extensions and management of overlaps between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automatic mapping for releva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killer-application for the S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answer to my query? Improving search mechanis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reduce number of answ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at if there really are  1,000,000,000,000,000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improvements? Not ambig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s good as the expressivity of the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weighting / fuzzy ? No, just sub-type of Ont.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nograph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let say… “Multimed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ook at trust, quality and 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mal knowledge to evaluate some quality (e.g., coherence) and security (e.g. access poli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filtering and ran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of K.M. (e.g., peer review, trust authorities and (acquaintance)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KM and 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rganizations with intranet = interesting speci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web application are a good domain of application (information systems and work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of burden, separation of concerns in the company (worker vs. K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: get KM outside the organization ; helps link with open web and link with other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shared common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ontology ex: SUMO then extension with domain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cal work in the agent field can bring works on speech acts and interaction protocols (FIPA, KQML) to SW and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of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ex to be shown to a us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ason to show it to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are a very importan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are not usable for every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lligent interfaces using semiot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cus, and interfaces should focus with 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gmatic aspects of language i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going to give us this semantic that the SW wants to make avail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it manually (e.g. building an ont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it from (semi-)automati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gmatic aspect of the interpretation of the content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22:20:16Z</dcterms:created>
  <dc:creator>Fabien Gandon</dc:creator>
  <dc:description/>
  <dc:language>en-US</dc:language>
  <cp:lastModifiedBy>Fabien Gandon</cp:lastModifiedBy>
  <dcterms:modified xsi:type="dcterms:W3CDTF">2003-03-27T02:29:00Z</dcterms:modified>
  <cp:revision>35</cp:revision>
  <dc:subject/>
  <dc:title>Wrap-up</dc:title>
</cp:coreProperties>
</file>