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478A-0269-41FB-8C21-1739AEBC5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44440"/>
            <a:ext cx="91440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6F38-7234-44C7-9674-78590C4D4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4444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4444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9AE7-1AD7-4259-9A4E-EAEBBD8A1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54936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54936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4444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4444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4444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AAF1-9C19-42D5-BE48-5798EA64D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86B0-4915-4048-AA0B-E85B051450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50A9-95A8-483E-B777-93059A11F3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995AC-AEA1-409F-AC5F-E16F5E12E0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D96F-4924-48DE-9118-CB20F04796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0088-B416-481F-B4B9-68FC4890B2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360" y="-12960"/>
            <a:ext cx="9144000" cy="19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46CF-43CB-468E-A04B-D949D4BE51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4444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C965F-CA9A-4A17-A545-ECCB755B15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56EE-CF4F-4C09-B1B1-D134900B2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4444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33090-10CA-4E67-99B3-5EA4C3D45E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44440"/>
            <a:ext cx="91440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25489-6C6C-4DA5-B6AD-F572D7B8D4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44440"/>
            <a:ext cx="91440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DFC8-BEEE-4795-8B1A-C5C7DCD248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4444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4444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9116-DC92-4754-A65C-474076010C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54936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54936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4444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4444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4444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8B69-C3FE-4D28-87A6-0DA6A6412D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F9D9-FB51-46C1-B6E0-33AABBCA8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95F4-C44B-4F09-A1AE-54ABB69F0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C3C2-4A52-4C7D-BA37-E9CE63788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360" y="-12960"/>
            <a:ext cx="9144000" cy="19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7D23-B63E-4730-9D08-CAF07EBD8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4444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4669-5C17-4CE3-9F91-BEB204B45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4444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DD2D-F3F2-45BC-8BC1-595FEE6AF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44440"/>
            <a:ext cx="91440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E7B5-E165-4CD7-B99E-560FC652E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360" y="-12960"/>
            <a:ext cx="91440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686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96240" y="-27000"/>
            <a:ext cx="2133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fld id="{E9664FE8-5DA6-4C0F-A5F2-569AAFE0EF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7074000" y="6630840"/>
            <a:ext cx="21333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fld id="{D8119E75-3049-4CA9-AB61-C2DA82E10A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4400" algn="ctr"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8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0" y="-27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Intelligence Artificielle Distribuée et Ontologies pour la Gestion des Connaissanc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6840" y="1123920"/>
            <a:ext cx="90471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Arial"/>
              </a:rPr>
              <a:t>Fabien Ga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st-doc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Université de Carnegie Mell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octorat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I.N.R.I.A. Sophia Antipolis, équipe ACA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onitorat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Département informatique, Université de Nice-Sophia Antipol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.E.A. “Traitement de l’image et systèmes de vision”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i="1" lang="fr-FR" sz="2000" spc="-1" strike="noStrike" baseline="30000">
                <a:solidFill>
                  <a:srgbClr val="000000"/>
                </a:solidFill>
                <a:latin typeface="Arial"/>
              </a:rPr>
              <a:t>i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Université de Rou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génieur - département “Génie Mathématiques”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major)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I.N.S.A., Rou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0840" y="1557360"/>
            <a:ext cx="0" cy="3600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1254240"/>
            <a:ext cx="64818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360" y="442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Notion d’intraweb sémant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blème: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matérialiser et structure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la mémoire d’une organis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moire organisationnelle annotée: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 intraweb sémantiqu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en RDF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ocuments, personnes, groupes, 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5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Ontologi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en RDFS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vocabulaire conceptuel d’anno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recommandation W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21280" y="1773360"/>
            <a:ext cx="1063440" cy="4316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82920" y="178920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Au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476160" y="1986120"/>
            <a:ext cx="6289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184720" y="1986120"/>
            <a:ext cx="7063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94280" y="1787400"/>
            <a:ext cx="2665440" cy="550800"/>
          </a:xfrm>
          <a:prstGeom prst="rect">
            <a:avLst/>
          </a:prstGeom>
          <a:solidFill>
            <a:srgbClr val="eaeaea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  <a:ea typeface="Arial"/>
              </a:rPr>
              <a:t>Person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http://www.inria.fr/~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dieng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57280" y="2446200"/>
            <a:ext cx="1063800" cy="36036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42760" y="24354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Ti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573200" y="2630520"/>
            <a:ext cx="78408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421080" y="2630520"/>
            <a:ext cx="7063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30640" y="2484360"/>
            <a:ext cx="4429080" cy="337320"/>
          </a:xfrm>
          <a:prstGeom prst="rect">
            <a:avLst/>
          </a:prstGeom>
          <a:noFill/>
          <a:ln w="324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Annual activity report of ACACIA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560600" y="2285640"/>
            <a:ext cx="0" cy="3589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10240" y="4554360"/>
            <a:ext cx="1523880" cy="4572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3440" y="456732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Au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257560" y="4338720"/>
            <a:ext cx="766800" cy="215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24360" y="4338720"/>
            <a:ext cx="757080" cy="215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714760" y="4401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714760" y="440208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466880" y="478296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86760" y="44020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134120" y="47829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62440" y="3787920"/>
            <a:ext cx="0" cy="1252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600600" y="4325760"/>
            <a:ext cx="609480" cy="2286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96000" y="445284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ort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95280" y="4110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om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90080" y="3573360"/>
            <a:ext cx="22305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Types de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5640" y="3584520"/>
            <a:ext cx="21726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3300"/>
                </a:solidFill>
                <a:latin typeface="Arial"/>
              </a:rPr>
              <a:t>Types de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1787400"/>
            <a:ext cx="3081240" cy="550800"/>
          </a:xfrm>
          <a:prstGeom prst="rect">
            <a:avLst/>
          </a:prstGeom>
          <a:solidFill>
            <a:srgbClr val="eaeaea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  <a:ea typeface="Arial"/>
              </a:rPr>
              <a:t>Document:</a:t>
            </a:r>
            <a:br>
              <a:rPr sz="18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http://www-sop.inria.fr/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aar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0" y="3949560"/>
            <a:ext cx="1524240" cy="41436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08040" y="39528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ré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63920" y="3968640"/>
            <a:ext cx="912600" cy="368280"/>
          </a:xfrm>
          <a:prstGeom prst="rect">
            <a:avLst/>
          </a:prstGeom>
          <a:solidFill>
            <a:srgbClr val="eaeaea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  <a:ea typeface="Arial"/>
              </a:rPr>
              <a:t>Ent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9600" y="4554360"/>
            <a:ext cx="1387440" cy="368280"/>
          </a:xfrm>
          <a:prstGeom prst="rect">
            <a:avLst/>
          </a:prstGeom>
          <a:solidFill>
            <a:srgbClr val="eaeaea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  <a:ea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95640" y="4554360"/>
            <a:ext cx="1371600" cy="368280"/>
          </a:xfrm>
          <a:prstGeom prst="rect">
            <a:avLst/>
          </a:prstGeom>
          <a:solidFill>
            <a:srgbClr val="eaeaea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  <a:ea typeface="Arial"/>
              </a:rPr>
              <a:t>Pers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C131-9390-4049-9360-5DD3F2A566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360" y="25200"/>
            <a:ext cx="91440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Conception d’ont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blème: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concevoir une ontologi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pour un Web sémantiq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thode:</a:t>
            </a:r>
            <a:br>
              <a:rPr sz="2200"/>
            </a:br>
            <a:br>
              <a:rPr sz="22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’CoMM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470 types de conce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79 types de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700 termes et 550 définitions en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nglais et en Franç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976200" y="19191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76200" y="23986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976200" y="14493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14920" y="14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40480" y="217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976200" y="28796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1266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63960" y="1739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2994120"/>
            <a:ext cx="624852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3960" y="2701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9240" y="3063960"/>
            <a:ext cx="1905120" cy="3110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chéma R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76640" y="3057480"/>
            <a:ext cx="2654280" cy="3110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priété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gébr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75280" y="3056040"/>
            <a:ext cx="1239840" cy="3110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67640" y="1255680"/>
            <a:ext cx="0" cy="782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143680" y="1257480"/>
            <a:ext cx="1584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757920" y="2327400"/>
            <a:ext cx="9720" cy="66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96160" y="2025720"/>
            <a:ext cx="1523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2038320"/>
            <a:ext cx="13716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uvertur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3960" y="2220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95680" y="2519280"/>
            <a:ext cx="2519280" cy="3114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ableaux structu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95680" y="1066680"/>
            <a:ext cx="2519280" cy="3114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cé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95680" y="1565280"/>
            <a:ext cx="2519280" cy="3110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cu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95680" y="2038320"/>
            <a:ext cx="2519280" cy="3110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x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907880" y="3825720"/>
            <a:ext cx="3882960" cy="2197440"/>
            <a:chOff x="4907880" y="3825720"/>
            <a:chExt cx="3882960" cy="2197440"/>
          </a:xfrm>
        </p:grpSpPr>
        <p:sp>
          <p:nvSpPr>
            <p:cNvPr id="142" name=""/>
            <p:cNvSpPr/>
            <p:nvPr/>
          </p:nvSpPr>
          <p:spPr>
            <a:xfrm>
              <a:off x="5683320" y="5160960"/>
              <a:ext cx="2477880" cy="139680"/>
            </a:xfrm>
            <a:prstGeom prst="rect">
              <a:avLst/>
            </a:prstGeom>
            <a:solidFill>
              <a:srgbClr val="8e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29520" y="4503600"/>
              <a:ext cx="1187280" cy="141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29520" y="3911400"/>
              <a:ext cx="1187280" cy="59220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683320" y="4551120"/>
              <a:ext cx="2477880" cy="609840"/>
            </a:xfrm>
            <a:custGeom>
              <a:avLst/>
              <a:gdLst>
                <a:gd name="textAreaLeft" fmla="*/ 544680 w 2477880"/>
                <a:gd name="textAreaRight" fmla="*/ 1933200 w 2477880"/>
                <a:gd name="textAreaTop" fmla="*/ 133920 h 609840"/>
                <a:gd name="textAreaBottom" fmla="*/ 4759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d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072040" y="5214240"/>
              <a:ext cx="3718080" cy="563400"/>
            </a:xfrm>
            <a:custGeom>
              <a:avLst/>
              <a:gdLst>
                <a:gd name="textAreaLeft" fmla="*/ 626760 w 3718080"/>
                <a:gd name="textAreaRight" fmla="*/ 3091320 w 3718080"/>
                <a:gd name="textAreaTop" fmla="*/ 95040 h 563400"/>
                <a:gd name="textAreaBottom" fmla="*/ 468360 h 56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94" y="21600"/>
                  </a:lnTo>
                  <a:lnTo>
                    <a:pt x="3406" y="2160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72040" y="5770440"/>
              <a:ext cx="3718080" cy="187200"/>
            </a:xfrm>
            <a:prstGeom prst="rect">
              <a:avLst/>
            </a:prstGeom>
            <a:solidFill>
              <a:srgbClr val="d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81760" y="5761080"/>
              <a:ext cx="0" cy="1825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3680" y="5761080"/>
              <a:ext cx="0" cy="1825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7920" y="5761080"/>
              <a:ext cx="0" cy="1825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981760" y="4579560"/>
              <a:ext cx="658800" cy="1181160"/>
            </a:xfrm>
            <a:prstGeom prst="line">
              <a:avLst/>
            </a:prstGeom>
            <a:ln w="28440">
              <a:solidFill>
                <a:srgbClr val="ff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218000" y="4579560"/>
              <a:ext cx="709560" cy="1181160"/>
            </a:xfrm>
            <a:prstGeom prst="line">
              <a:avLst/>
            </a:prstGeom>
            <a:ln w="28440">
              <a:solidFill>
                <a:srgbClr val="ff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943680" y="4565160"/>
              <a:ext cx="0" cy="1165320"/>
            </a:xfrm>
            <a:prstGeom prst="line">
              <a:avLst/>
            </a:prstGeom>
            <a:ln w="28440">
              <a:solidFill>
                <a:srgbClr val="ff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94280" y="574344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cc"/>
                  </a:solidFill>
                  <a:latin typeface="Arial"/>
                </a:rPr>
                <a:t>Organ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3080" y="573876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cc"/>
                  </a:solidFill>
                  <a:latin typeface="Arial"/>
                </a:rPr>
                <a:t>Docu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25040" y="574668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cc"/>
                  </a:solidFill>
                  <a:latin typeface="Arial"/>
                </a:rPr>
                <a:t>Perso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98840" y="573876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cc"/>
                  </a:solidFill>
                  <a:latin typeface="Arial"/>
                </a:rPr>
                <a:t>Doma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05440" y="4551120"/>
              <a:ext cx="2946240" cy="1219320"/>
            </a:xfrm>
            <a:custGeom>
              <a:avLst/>
              <a:gdLst/>
              <a:ahLst/>
              <a:rect l="l" t="t" r="r" b="b"/>
              <a:pathLst>
                <a:path w="2736" h="1248">
                  <a:moveTo>
                    <a:pt x="0" y="1248"/>
                  </a:moveTo>
                  <a:lnTo>
                    <a:pt x="1200" y="0"/>
                  </a:lnTo>
                  <a:lnTo>
                    <a:pt x="2064" y="0"/>
                  </a:lnTo>
                  <a:lnTo>
                    <a:pt x="2736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88480" y="4403520"/>
              <a:ext cx="2139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Arial"/>
                </a:rPr>
                <a:t>Typique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Arial"/>
                </a:rPr>
                <a:t>d’une mémoire</a:t>
              </a:r>
              <a:br>
                <a:rPr sz="1800"/>
              </a:br>
              <a:r>
                <a:rPr b="1" i="1" lang="fr-FR" sz="1800" spc="-1" strike="noStrike">
                  <a:solidFill>
                    <a:srgbClr val="000000"/>
                  </a:solidFill>
                  <a:latin typeface="Arial"/>
                </a:rPr>
                <a:t>organisationnelle</a:t>
              </a:r>
              <a:r>
                <a:rPr b="1" i="1" lang="fr-FR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 rot="18756600">
              <a:off x="6233400" y="4040640"/>
              <a:ext cx="647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33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asbtrait</a:t>
              </a:r>
              <a:endPara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 rot="18940200">
              <a:off x="5535360" y="4717440"/>
              <a:ext cx="792000" cy="11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33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commun</a:t>
              </a:r>
              <a:endPara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8940200">
              <a:off x="4859280" y="5343120"/>
              <a:ext cx="792360" cy="18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33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spécifique</a:t>
              </a:r>
              <a:endPara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D671-6ACC-42E3-AB35-8420740D66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360" y="442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Agents logiciels et connaissances distribué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9325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blème: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gére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les connaissances distribuées dans l’organisation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5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Analyse fonctionnelle descendant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: groupes, rôles, protoc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ociété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5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Société d’annotation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Hiérarchie avec 2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rôl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archivist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média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incipales interactions: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archivag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requêtes distribué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550"/>
              </a:spcBef>
              <a:buClr>
                <a:srgbClr val="99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Statistiqu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du contenu archivé /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types de concepts et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distances sémantiques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nnotation–archive pour archivage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ouvelles annotations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yp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Typ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= Min(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a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yp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LCST)+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a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yp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LCST)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1390680"/>
            <a:ext cx="2808360" cy="51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97160" y="1395360"/>
            <a:ext cx="25588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ociété ontologie &amp; modèle orga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1398600"/>
            <a:ext cx="2808360" cy="517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7120" y="1403280"/>
            <a:ext cx="2559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ociété gérant les anno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1974960"/>
            <a:ext cx="2808360" cy="51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2084400"/>
            <a:ext cx="22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ociété appar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4320" y="1969920"/>
            <a:ext cx="2808360" cy="517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01840" y="1974960"/>
            <a:ext cx="2338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ociété gérant les utilis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16360" y="1793880"/>
            <a:ext cx="360360" cy="50472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1793880"/>
            <a:ext cx="0" cy="50472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716000" y="228744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0920" y="1461960"/>
            <a:ext cx="223920" cy="2257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60640" y="150192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76480" y="155088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85840" y="159084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07280" y="146844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6640" y="150804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32840" y="1557360"/>
            <a:ext cx="22356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42200" y="159696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35720" y="2066760"/>
            <a:ext cx="223920" cy="2257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45440" y="210672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61280" y="2155680"/>
            <a:ext cx="223920" cy="2257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70640" y="219564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81160" y="206064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90880" y="2100240"/>
            <a:ext cx="22356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6720" y="2149560"/>
            <a:ext cx="22356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16080" y="218916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48360" y="4149720"/>
            <a:ext cx="1200240" cy="29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2" idx="2"/>
            <a:endCxn id="194" idx="0"/>
          </p:cNvCxnSpPr>
          <p:nvPr/>
        </p:nvCxnSpPr>
        <p:spPr>
          <a:xfrm flipH="1">
            <a:off x="6500520" y="4458960"/>
            <a:ext cx="1048320" cy="143640"/>
          </a:xfrm>
          <a:prstGeom prst="straightConnector1">
            <a:avLst/>
          </a:prstGeom>
          <a:ln w="28440">
            <a:solidFill>
              <a:srgbClr val="990000"/>
            </a:solidFill>
            <a:miter/>
          </a:ln>
        </p:spPr>
      </p:cxnSp>
      <p:cxnSp>
        <p:nvCxnSpPr>
          <p:cNvPr id="195" name=""/>
          <p:cNvCxnSpPr>
            <a:stCxn id="192" idx="2"/>
            <a:endCxn id="196" idx="0"/>
          </p:cNvCxnSpPr>
          <p:nvPr/>
        </p:nvCxnSpPr>
        <p:spPr>
          <a:xfrm>
            <a:off x="7548480" y="4458960"/>
            <a:ext cx="907200" cy="143640"/>
          </a:xfrm>
          <a:prstGeom prst="straightConnector1">
            <a:avLst/>
          </a:prstGeom>
          <a:ln w="28440">
            <a:solidFill>
              <a:srgbClr val="990000"/>
            </a:solidFill>
            <a:miter/>
          </a:ln>
        </p:spPr>
      </p:cxnSp>
      <p:cxnSp>
        <p:nvCxnSpPr>
          <p:cNvPr id="197" name=""/>
          <p:cNvCxnSpPr>
            <a:stCxn id="194" idx="2"/>
            <a:endCxn id="198" idx="0"/>
          </p:cNvCxnSpPr>
          <p:nvPr/>
        </p:nvCxnSpPr>
        <p:spPr>
          <a:xfrm flipH="1">
            <a:off x="5698440" y="4911840"/>
            <a:ext cx="802440" cy="141840"/>
          </a:xfrm>
          <a:prstGeom prst="straightConnector1">
            <a:avLst/>
          </a:prstGeom>
          <a:ln w="28440">
            <a:solidFill>
              <a:srgbClr val="990000"/>
            </a:solidFill>
            <a:miter/>
          </a:ln>
        </p:spPr>
      </p:cxnSp>
      <p:cxnSp>
        <p:nvCxnSpPr>
          <p:cNvPr id="199" name=""/>
          <p:cNvCxnSpPr>
            <a:stCxn id="194" idx="2"/>
            <a:endCxn id="200" idx="0"/>
          </p:cNvCxnSpPr>
          <p:nvPr/>
        </p:nvCxnSpPr>
        <p:spPr>
          <a:xfrm>
            <a:off x="6500520" y="4911840"/>
            <a:ext cx="532440" cy="141840"/>
          </a:xfrm>
          <a:prstGeom prst="straightConnector1">
            <a:avLst/>
          </a:prstGeom>
          <a:ln w="28440">
            <a:solidFill>
              <a:srgbClr val="99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8029440" y="5052960"/>
            <a:ext cx="850680" cy="29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ook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6" idx="2"/>
            <a:endCxn id="201" idx="0"/>
          </p:cNvCxnSpPr>
          <p:nvPr/>
        </p:nvCxnSpPr>
        <p:spPr>
          <a:xfrm>
            <a:off x="8454600" y="4911840"/>
            <a:ext cx="1080" cy="141840"/>
          </a:xfrm>
          <a:prstGeom prst="straightConnector1">
            <a:avLst/>
          </a:prstGeom>
          <a:ln w="28440">
            <a:solidFill>
              <a:srgbClr val="99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6148440" y="4602240"/>
            <a:ext cx="704880" cy="29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96360" y="5052960"/>
            <a:ext cx="672120" cy="29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36560" y="5052960"/>
            <a:ext cx="925200" cy="29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163000" y="4602240"/>
            <a:ext cx="583920" cy="29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3429-A4A1-4632-A858-FF4392B2AF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360" y="25200"/>
            <a:ext cx="91440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Accès mobiles aux Services Web Sémant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476280"/>
            <a:ext cx="47163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blème de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faible couplag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ystème ouv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éseau sans fil &amp; PDA</a:t>
            </a:r>
            <a:br>
              <a:rPr sz="22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terminal, connectivité, disponibilit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gents de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services spécifiques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x. restaurant, me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5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Services Web sémantiques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x. localisation, agenda,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météorolog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rchitecture Web sémant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gents de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services généraux</a:t>
            </a:r>
            <a:br>
              <a:rPr sz="2200"/>
            </a:b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© Carnegie Mellon University - Sadehl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67640" y="1600200"/>
            <a:ext cx="21398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990000"/>
                </a:solidFill>
                <a:latin typeface="Arial"/>
              </a:rPr>
              <a:t>Communication toolk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990000"/>
                </a:solidFill>
                <a:latin typeface="Arial"/>
              </a:rPr>
              <a:t>(http, e-mail, IM, </a:t>
            </a:r>
            <a:r>
              <a:rPr b="1" i="1" lang="en-GB" sz="1200" spc="-1" strike="noStrike">
                <a:solidFill>
                  <a:srgbClr val="990000"/>
                </a:solidFill>
                <a:latin typeface="Arial"/>
              </a:rPr>
              <a:t>etc.</a:t>
            </a:r>
            <a:r>
              <a:rPr b="1" lang="en-GB" sz="12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18040" y="3181320"/>
            <a:ext cx="347760" cy="547560"/>
          </a:xfrm>
          <a:custGeom>
            <a:avLst/>
            <a:gdLst/>
            <a:ahLst/>
            <a:rect l="l" t="t" r="r" b="b"/>
            <a:pathLst>
              <a:path w="619" h="972">
                <a:moveTo>
                  <a:pt x="574" y="972"/>
                </a:moveTo>
                <a:lnTo>
                  <a:pt x="619" y="958"/>
                </a:lnTo>
                <a:lnTo>
                  <a:pt x="332" y="0"/>
                </a:lnTo>
                <a:lnTo>
                  <a:pt x="201" y="7"/>
                </a:lnTo>
                <a:lnTo>
                  <a:pt x="0" y="944"/>
                </a:lnTo>
                <a:lnTo>
                  <a:pt x="46" y="955"/>
                </a:lnTo>
                <a:lnTo>
                  <a:pt x="240" y="52"/>
                </a:lnTo>
                <a:lnTo>
                  <a:pt x="298" y="49"/>
                </a:lnTo>
                <a:lnTo>
                  <a:pt x="574" y="972"/>
                </a:lnTo>
                <a:close/>
              </a:path>
            </a:pathLst>
          </a:custGeom>
          <a:solidFill>
            <a:srgbClr val="666633"/>
          </a:solidFill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08400" y="3114720"/>
            <a:ext cx="111240" cy="11268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99" y="199"/>
                </a:moveTo>
                <a:lnTo>
                  <a:pt x="119" y="197"/>
                </a:lnTo>
                <a:lnTo>
                  <a:pt x="138" y="191"/>
                </a:lnTo>
                <a:lnTo>
                  <a:pt x="155" y="182"/>
                </a:lnTo>
                <a:lnTo>
                  <a:pt x="170" y="169"/>
                </a:lnTo>
                <a:lnTo>
                  <a:pt x="182" y="155"/>
                </a:lnTo>
                <a:lnTo>
                  <a:pt x="191" y="138"/>
                </a:lnTo>
                <a:lnTo>
                  <a:pt x="197" y="120"/>
                </a:lnTo>
                <a:lnTo>
                  <a:pt x="199" y="99"/>
                </a:lnTo>
                <a:lnTo>
                  <a:pt x="197" y="79"/>
                </a:lnTo>
                <a:lnTo>
                  <a:pt x="191" y="61"/>
                </a:lnTo>
                <a:lnTo>
                  <a:pt x="182" y="44"/>
                </a:lnTo>
                <a:lnTo>
                  <a:pt x="170" y="29"/>
                </a:lnTo>
                <a:lnTo>
                  <a:pt x="155" y="17"/>
                </a:lnTo>
                <a:lnTo>
                  <a:pt x="138" y="8"/>
                </a:lnTo>
                <a:lnTo>
                  <a:pt x="119" y="2"/>
                </a:lnTo>
                <a:lnTo>
                  <a:pt x="99" y="0"/>
                </a:lnTo>
                <a:lnTo>
                  <a:pt x="79" y="2"/>
                </a:lnTo>
                <a:lnTo>
                  <a:pt x="59" y="8"/>
                </a:lnTo>
                <a:lnTo>
                  <a:pt x="43" y="17"/>
                </a:lnTo>
                <a:lnTo>
                  <a:pt x="28" y="29"/>
                </a:lnTo>
                <a:lnTo>
                  <a:pt x="17" y="44"/>
                </a:lnTo>
                <a:lnTo>
                  <a:pt x="8" y="61"/>
                </a:lnTo>
                <a:lnTo>
                  <a:pt x="2" y="79"/>
                </a:lnTo>
                <a:lnTo>
                  <a:pt x="0" y="99"/>
                </a:lnTo>
                <a:lnTo>
                  <a:pt x="2" y="120"/>
                </a:lnTo>
                <a:lnTo>
                  <a:pt x="8" y="138"/>
                </a:lnTo>
                <a:lnTo>
                  <a:pt x="17" y="155"/>
                </a:lnTo>
                <a:lnTo>
                  <a:pt x="28" y="169"/>
                </a:lnTo>
                <a:lnTo>
                  <a:pt x="43" y="182"/>
                </a:lnTo>
                <a:lnTo>
                  <a:pt x="59" y="191"/>
                </a:lnTo>
                <a:lnTo>
                  <a:pt x="79" y="197"/>
                </a:lnTo>
                <a:lnTo>
                  <a:pt x="99" y="19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29280" y="3135240"/>
            <a:ext cx="71280" cy="71640"/>
          </a:xfrm>
          <a:custGeom>
            <a:avLst/>
            <a:gdLst/>
            <a:ahLst/>
            <a:rect l="l" t="t" r="r" b="b"/>
            <a:pathLst>
              <a:path w="127" h="126">
                <a:moveTo>
                  <a:pt x="64" y="126"/>
                </a:moveTo>
                <a:lnTo>
                  <a:pt x="71" y="126"/>
                </a:lnTo>
                <a:lnTo>
                  <a:pt x="76" y="125"/>
                </a:lnTo>
                <a:lnTo>
                  <a:pt x="82" y="124"/>
                </a:lnTo>
                <a:lnTo>
                  <a:pt x="88" y="122"/>
                </a:lnTo>
                <a:lnTo>
                  <a:pt x="94" y="119"/>
                </a:lnTo>
                <a:lnTo>
                  <a:pt x="98" y="116"/>
                </a:lnTo>
                <a:lnTo>
                  <a:pt x="104" y="113"/>
                </a:lnTo>
                <a:lnTo>
                  <a:pt x="109" y="108"/>
                </a:lnTo>
                <a:lnTo>
                  <a:pt x="117" y="99"/>
                </a:lnTo>
                <a:lnTo>
                  <a:pt x="122" y="87"/>
                </a:lnTo>
                <a:lnTo>
                  <a:pt x="126" y="76"/>
                </a:lnTo>
                <a:lnTo>
                  <a:pt x="127" y="63"/>
                </a:lnTo>
                <a:lnTo>
                  <a:pt x="126" y="51"/>
                </a:lnTo>
                <a:lnTo>
                  <a:pt x="122" y="39"/>
                </a:lnTo>
                <a:lnTo>
                  <a:pt x="117" y="28"/>
                </a:lnTo>
                <a:lnTo>
                  <a:pt x="109" y="19"/>
                </a:lnTo>
                <a:lnTo>
                  <a:pt x="104" y="15"/>
                </a:lnTo>
                <a:lnTo>
                  <a:pt x="98" y="11"/>
                </a:lnTo>
                <a:lnTo>
                  <a:pt x="94" y="8"/>
                </a:lnTo>
                <a:lnTo>
                  <a:pt x="88" y="4"/>
                </a:lnTo>
                <a:lnTo>
                  <a:pt x="82" y="2"/>
                </a:lnTo>
                <a:lnTo>
                  <a:pt x="76" y="1"/>
                </a:lnTo>
                <a:lnTo>
                  <a:pt x="71" y="0"/>
                </a:lnTo>
                <a:lnTo>
                  <a:pt x="64" y="0"/>
                </a:lnTo>
                <a:lnTo>
                  <a:pt x="51" y="1"/>
                </a:lnTo>
                <a:lnTo>
                  <a:pt x="39" y="4"/>
                </a:lnTo>
                <a:lnTo>
                  <a:pt x="28" y="10"/>
                </a:lnTo>
                <a:lnTo>
                  <a:pt x="19" y="18"/>
                </a:lnTo>
                <a:lnTo>
                  <a:pt x="11" y="27"/>
                </a:lnTo>
                <a:lnTo>
                  <a:pt x="5" y="39"/>
                </a:lnTo>
                <a:lnTo>
                  <a:pt x="1" y="50"/>
                </a:lnTo>
                <a:lnTo>
                  <a:pt x="0" y="63"/>
                </a:lnTo>
                <a:lnTo>
                  <a:pt x="1" y="76"/>
                </a:lnTo>
                <a:lnTo>
                  <a:pt x="5" y="87"/>
                </a:lnTo>
                <a:lnTo>
                  <a:pt x="11" y="99"/>
                </a:lnTo>
                <a:lnTo>
                  <a:pt x="19" y="108"/>
                </a:lnTo>
                <a:lnTo>
                  <a:pt x="23" y="113"/>
                </a:lnTo>
                <a:lnTo>
                  <a:pt x="28" y="116"/>
                </a:lnTo>
                <a:lnTo>
                  <a:pt x="34" y="119"/>
                </a:lnTo>
                <a:lnTo>
                  <a:pt x="39" y="122"/>
                </a:lnTo>
                <a:lnTo>
                  <a:pt x="45" y="124"/>
                </a:lnTo>
                <a:lnTo>
                  <a:pt x="51" y="125"/>
                </a:lnTo>
                <a:lnTo>
                  <a:pt x="57" y="126"/>
                </a:lnTo>
                <a:lnTo>
                  <a:pt x="64" y="126"/>
                </a:lnTo>
                <a:close/>
              </a:path>
            </a:pathLst>
          </a:custGeom>
          <a:solidFill>
            <a:srgbClr val="666633"/>
          </a:solidFill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37200" y="3143160"/>
            <a:ext cx="55440" cy="54000"/>
          </a:xfrm>
          <a:custGeom>
            <a:avLst/>
            <a:gdLst/>
            <a:ahLst/>
            <a:rect l="l" t="t" r="r" b="b"/>
            <a:pathLst>
              <a:path w="97" h="96">
                <a:moveTo>
                  <a:pt x="0" y="48"/>
                </a:moveTo>
                <a:lnTo>
                  <a:pt x="1" y="39"/>
                </a:lnTo>
                <a:lnTo>
                  <a:pt x="4" y="30"/>
                </a:lnTo>
                <a:lnTo>
                  <a:pt x="8" y="22"/>
                </a:lnTo>
                <a:lnTo>
                  <a:pt x="14" y="15"/>
                </a:lnTo>
                <a:lnTo>
                  <a:pt x="18" y="11"/>
                </a:lnTo>
                <a:lnTo>
                  <a:pt x="22" y="9"/>
                </a:lnTo>
                <a:lnTo>
                  <a:pt x="26" y="5"/>
                </a:lnTo>
                <a:lnTo>
                  <a:pt x="30" y="3"/>
                </a:lnTo>
                <a:lnTo>
                  <a:pt x="35" y="2"/>
                </a:lnTo>
                <a:lnTo>
                  <a:pt x="39" y="1"/>
                </a:lnTo>
                <a:lnTo>
                  <a:pt x="44" y="0"/>
                </a:lnTo>
                <a:lnTo>
                  <a:pt x="49" y="0"/>
                </a:lnTo>
                <a:lnTo>
                  <a:pt x="53" y="0"/>
                </a:lnTo>
                <a:lnTo>
                  <a:pt x="58" y="1"/>
                </a:lnTo>
                <a:lnTo>
                  <a:pt x="62" y="2"/>
                </a:lnTo>
                <a:lnTo>
                  <a:pt x="67" y="3"/>
                </a:lnTo>
                <a:lnTo>
                  <a:pt x="72" y="5"/>
                </a:lnTo>
                <a:lnTo>
                  <a:pt x="75" y="9"/>
                </a:lnTo>
                <a:lnTo>
                  <a:pt x="80" y="11"/>
                </a:lnTo>
                <a:lnTo>
                  <a:pt x="83" y="15"/>
                </a:lnTo>
                <a:lnTo>
                  <a:pt x="89" y="22"/>
                </a:lnTo>
                <a:lnTo>
                  <a:pt x="94" y="30"/>
                </a:lnTo>
                <a:lnTo>
                  <a:pt x="96" y="39"/>
                </a:lnTo>
                <a:lnTo>
                  <a:pt x="97" y="48"/>
                </a:lnTo>
                <a:lnTo>
                  <a:pt x="96" y="58"/>
                </a:lnTo>
                <a:lnTo>
                  <a:pt x="94" y="68"/>
                </a:lnTo>
                <a:lnTo>
                  <a:pt x="89" y="76"/>
                </a:lnTo>
                <a:lnTo>
                  <a:pt x="83" y="83"/>
                </a:lnTo>
                <a:lnTo>
                  <a:pt x="75" y="88"/>
                </a:lnTo>
                <a:lnTo>
                  <a:pt x="67" y="93"/>
                </a:lnTo>
                <a:lnTo>
                  <a:pt x="58" y="95"/>
                </a:lnTo>
                <a:lnTo>
                  <a:pt x="49" y="96"/>
                </a:lnTo>
                <a:lnTo>
                  <a:pt x="44" y="96"/>
                </a:lnTo>
                <a:lnTo>
                  <a:pt x="39" y="95"/>
                </a:lnTo>
                <a:lnTo>
                  <a:pt x="35" y="94"/>
                </a:lnTo>
                <a:lnTo>
                  <a:pt x="30" y="93"/>
                </a:lnTo>
                <a:lnTo>
                  <a:pt x="26" y="91"/>
                </a:lnTo>
                <a:lnTo>
                  <a:pt x="22" y="88"/>
                </a:lnTo>
                <a:lnTo>
                  <a:pt x="18" y="86"/>
                </a:lnTo>
                <a:lnTo>
                  <a:pt x="14" y="83"/>
                </a:lnTo>
                <a:lnTo>
                  <a:pt x="8" y="76"/>
                </a:lnTo>
                <a:lnTo>
                  <a:pt x="4" y="66"/>
                </a:lnTo>
                <a:lnTo>
                  <a:pt x="1" y="58"/>
                </a:lnTo>
                <a:lnTo>
                  <a:pt x="0" y="48"/>
                </a:lnTo>
                <a:close/>
              </a:path>
            </a:pathLst>
          </a:custGeom>
          <a:solidFill>
            <a:srgbClr val="666633"/>
          </a:solidFill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" bIns="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43240" y="3448080"/>
            <a:ext cx="281160" cy="190440"/>
          </a:xfrm>
          <a:custGeom>
            <a:avLst/>
            <a:gdLst/>
            <a:ahLst/>
            <a:rect l="l" t="t" r="r" b="b"/>
            <a:pathLst>
              <a:path w="500" h="339">
                <a:moveTo>
                  <a:pt x="500" y="293"/>
                </a:moveTo>
                <a:lnTo>
                  <a:pt x="278" y="142"/>
                </a:lnTo>
                <a:lnTo>
                  <a:pt x="412" y="37"/>
                </a:lnTo>
                <a:lnTo>
                  <a:pt x="383" y="0"/>
                </a:lnTo>
                <a:lnTo>
                  <a:pt x="238" y="114"/>
                </a:lnTo>
                <a:lnTo>
                  <a:pt x="98" y="19"/>
                </a:lnTo>
                <a:lnTo>
                  <a:pt x="72" y="58"/>
                </a:lnTo>
                <a:lnTo>
                  <a:pt x="198" y="145"/>
                </a:lnTo>
                <a:lnTo>
                  <a:pt x="0" y="302"/>
                </a:lnTo>
                <a:lnTo>
                  <a:pt x="29" y="339"/>
                </a:lnTo>
                <a:lnTo>
                  <a:pt x="240" y="173"/>
                </a:lnTo>
                <a:lnTo>
                  <a:pt x="485" y="338"/>
                </a:lnTo>
                <a:lnTo>
                  <a:pt x="500" y="293"/>
                </a:lnTo>
                <a:close/>
              </a:path>
            </a:pathLst>
          </a:custGeom>
          <a:solidFill>
            <a:srgbClr val="666633"/>
          </a:solidFill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51240" y="3157560"/>
            <a:ext cx="27000" cy="27000"/>
          </a:xfrm>
          <a:custGeom>
            <a:avLst/>
            <a:gdLst/>
            <a:ahLst/>
            <a:rect l="l" t="t" r="r" b="b"/>
            <a:pathLst>
              <a:path w="46" h="46">
                <a:moveTo>
                  <a:pt x="23" y="46"/>
                </a:moveTo>
                <a:lnTo>
                  <a:pt x="32" y="44"/>
                </a:lnTo>
                <a:lnTo>
                  <a:pt x="39" y="39"/>
                </a:lnTo>
                <a:lnTo>
                  <a:pt x="43" y="32"/>
                </a:lnTo>
                <a:lnTo>
                  <a:pt x="46" y="23"/>
                </a:lnTo>
                <a:lnTo>
                  <a:pt x="43" y="14"/>
                </a:lnTo>
                <a:lnTo>
                  <a:pt x="39" y="7"/>
                </a:lnTo>
                <a:lnTo>
                  <a:pt x="32" y="2"/>
                </a:lnTo>
                <a:lnTo>
                  <a:pt x="23" y="0"/>
                </a:lnTo>
                <a:lnTo>
                  <a:pt x="13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  <a:lnTo>
                  <a:pt x="2" y="32"/>
                </a:lnTo>
                <a:lnTo>
                  <a:pt x="6" y="39"/>
                </a:lnTo>
                <a:lnTo>
                  <a:pt x="13" y="44"/>
                </a:lnTo>
                <a:lnTo>
                  <a:pt x="23" y="46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87880" y="3232080"/>
            <a:ext cx="185760" cy="228600"/>
          </a:xfrm>
          <a:custGeom>
            <a:avLst/>
            <a:gdLst/>
            <a:ahLst/>
            <a:rect l="l" t="t" r="r" b="b"/>
            <a:pathLst>
              <a:path w="332" h="408">
                <a:moveTo>
                  <a:pt x="195" y="276"/>
                </a:moveTo>
                <a:lnTo>
                  <a:pt x="237" y="245"/>
                </a:lnTo>
                <a:lnTo>
                  <a:pt x="201" y="212"/>
                </a:lnTo>
                <a:lnTo>
                  <a:pt x="154" y="248"/>
                </a:lnTo>
                <a:lnTo>
                  <a:pt x="70" y="189"/>
                </a:lnTo>
                <a:lnTo>
                  <a:pt x="150" y="119"/>
                </a:lnTo>
                <a:lnTo>
                  <a:pt x="233" y="189"/>
                </a:lnTo>
                <a:lnTo>
                  <a:pt x="201" y="212"/>
                </a:lnTo>
                <a:lnTo>
                  <a:pt x="237" y="245"/>
                </a:lnTo>
                <a:lnTo>
                  <a:pt x="271" y="219"/>
                </a:lnTo>
                <a:lnTo>
                  <a:pt x="255" y="185"/>
                </a:lnTo>
                <a:lnTo>
                  <a:pt x="253" y="174"/>
                </a:lnTo>
                <a:lnTo>
                  <a:pt x="266" y="155"/>
                </a:lnTo>
                <a:lnTo>
                  <a:pt x="187" y="88"/>
                </a:lnTo>
                <a:lnTo>
                  <a:pt x="246" y="36"/>
                </a:lnTo>
                <a:lnTo>
                  <a:pt x="215" y="0"/>
                </a:lnTo>
                <a:lnTo>
                  <a:pt x="150" y="57"/>
                </a:lnTo>
                <a:lnTo>
                  <a:pt x="88" y="4"/>
                </a:lnTo>
                <a:lnTo>
                  <a:pt x="59" y="39"/>
                </a:lnTo>
                <a:lnTo>
                  <a:pt x="115" y="88"/>
                </a:lnTo>
                <a:lnTo>
                  <a:pt x="40" y="155"/>
                </a:lnTo>
                <a:lnTo>
                  <a:pt x="56" y="181"/>
                </a:lnTo>
                <a:lnTo>
                  <a:pt x="50" y="186"/>
                </a:lnTo>
                <a:lnTo>
                  <a:pt x="42" y="227"/>
                </a:lnTo>
                <a:lnTo>
                  <a:pt x="113" y="277"/>
                </a:lnTo>
                <a:lnTo>
                  <a:pt x="0" y="362"/>
                </a:lnTo>
                <a:lnTo>
                  <a:pt x="15" y="407"/>
                </a:lnTo>
                <a:lnTo>
                  <a:pt x="155" y="306"/>
                </a:lnTo>
                <a:lnTo>
                  <a:pt x="306" y="408"/>
                </a:lnTo>
                <a:lnTo>
                  <a:pt x="332" y="370"/>
                </a:lnTo>
                <a:lnTo>
                  <a:pt x="195" y="276"/>
                </a:lnTo>
                <a:close/>
              </a:path>
            </a:pathLst>
          </a:custGeom>
          <a:solidFill>
            <a:srgbClr val="666633"/>
          </a:solidFill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65560" y="3065400"/>
            <a:ext cx="203400" cy="20340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13360" y="3013200"/>
            <a:ext cx="306360" cy="30636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2240" y="2962440"/>
            <a:ext cx="408240" cy="40788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11480" y="2913120"/>
            <a:ext cx="509760" cy="50796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60720" y="2860560"/>
            <a:ext cx="611280" cy="61272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40240" y="3651120"/>
            <a:ext cx="152280" cy="0"/>
          </a:xfrm>
          <a:prstGeom prst="line">
            <a:avLst/>
          </a:prstGeom>
          <a:ln w="19080">
            <a:solidFill>
              <a:srgbClr val="0099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35280" y="3216240"/>
            <a:ext cx="408240" cy="662040"/>
            <a:chOff x="3635280" y="3216240"/>
            <a:chExt cx="408240" cy="66204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3635280" y="3216240"/>
              <a:ext cx="40824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3692880" y="3389040"/>
              <a:ext cx="280440" cy="34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"/>
          <p:cNvSpPr/>
          <p:nvPr/>
        </p:nvSpPr>
        <p:spPr>
          <a:xfrm>
            <a:off x="3820320" y="3063960"/>
            <a:ext cx="3783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4" y="6146"/>
                </a:moveTo>
                <a:arcTo wR="10800" hR="10800" stAng="-9268402" swAng="13392916"/>
                <a:lnTo>
                  <a:pt x="10800" y="10800"/>
                </a:lnTo>
                <a:close/>
              </a:path>
              <a:path fill="none" w="21600" h="21600">
                <a:moveTo>
                  <a:pt x="1054" y="6146"/>
                </a:moveTo>
                <a:arcTo wR="10800" hR="10800" stAng="-9268402" swAng="13392916"/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78280" y="3112920"/>
            <a:ext cx="266400" cy="26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5914"/>
                </a:moveTo>
                <a:arcTo wR="10800" hR="10800" stAng="-9186155" swAng="13310669"/>
                <a:lnTo>
                  <a:pt x="10800" y="10800"/>
                </a:lnTo>
                <a:close/>
              </a:path>
              <a:path fill="none" w="21600" h="21600">
                <a:moveTo>
                  <a:pt x="1168" y="5914"/>
                </a:moveTo>
                <a:arcTo wR="10800" hR="10800" stAng="-9186155" swAng="13310669"/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33000" y="3164040"/>
            <a:ext cx="160920" cy="15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5914"/>
                </a:moveTo>
                <a:arcTo wR="10800" hR="10800" stAng="-9186155" swAng="12438581"/>
                <a:lnTo>
                  <a:pt x="10800" y="10800"/>
                </a:lnTo>
                <a:close/>
              </a:path>
              <a:path fill="none" w="21600" h="21600">
                <a:moveTo>
                  <a:pt x="1168" y="5914"/>
                </a:moveTo>
                <a:arcTo wR="10800" hR="10800" stAng="-9186155" swAng="12438581"/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61280" y="3011400"/>
            <a:ext cx="484920" cy="47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4" y="6146"/>
                </a:moveTo>
                <a:arcTo wR="10800" hR="10800" stAng="-9268402" swAng="13392916"/>
                <a:lnTo>
                  <a:pt x="10800" y="10800"/>
                </a:lnTo>
                <a:close/>
              </a:path>
              <a:path fill="none" w="21600" h="21600">
                <a:moveTo>
                  <a:pt x="1054" y="6146"/>
                </a:moveTo>
                <a:arcTo wR="10800" hR="10800" stAng="-9268402" swAng="13392916"/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8080" y="3216240"/>
            <a:ext cx="55080" cy="5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5914"/>
                </a:moveTo>
                <a:arcTo wR="10800" hR="10800" stAng="-9186155" swAng="12438581"/>
                <a:lnTo>
                  <a:pt x="10800" y="10800"/>
                </a:lnTo>
                <a:close/>
              </a:path>
              <a:path fill="none" w="21600" h="21600">
                <a:moveTo>
                  <a:pt x="1168" y="5914"/>
                </a:moveTo>
                <a:arcTo wR="10800" hR="10800" stAng="-9186155" swAng="12438581"/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86400" y="835200"/>
            <a:ext cx="0" cy="410508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86400" y="4838760"/>
            <a:ext cx="0" cy="203040"/>
          </a:xfrm>
          <a:prstGeom prst="line">
            <a:avLst/>
          </a:prstGeom>
          <a:ln w="1908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6400" y="763560"/>
            <a:ext cx="0" cy="203400"/>
          </a:xfrm>
          <a:prstGeom prst="line">
            <a:avLst/>
          </a:prstGeom>
          <a:ln w="1908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3963960" y="4098960"/>
            <a:ext cx="1085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51440" y="3048120"/>
            <a:ext cx="1808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mantic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43800" y="3416400"/>
            <a:ext cx="22795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S. Web Ont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35720" y="3730680"/>
            <a:ext cx="144360" cy="19188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03760" y="3149640"/>
            <a:ext cx="306360" cy="356760"/>
            <a:chOff x="4703760" y="3149640"/>
            <a:chExt cx="306360" cy="356760"/>
          </a:xfrm>
        </p:grpSpPr>
        <p:sp>
          <p:nvSpPr>
            <p:cNvPr id="235" name=""/>
            <p:cNvSpPr/>
            <p:nvPr/>
          </p:nvSpPr>
          <p:spPr>
            <a:xfrm>
              <a:off x="4847760" y="3149640"/>
              <a:ext cx="72360" cy="58680"/>
            </a:xfrm>
            <a:custGeom>
              <a:avLst/>
              <a:gdLst/>
              <a:ahLst/>
              <a:rect l="l" t="t" r="r" b="b"/>
              <a:pathLst>
                <a:path w="299" h="303">
                  <a:moveTo>
                    <a:pt x="286" y="87"/>
                  </a:moveTo>
                  <a:lnTo>
                    <a:pt x="288" y="94"/>
                  </a:lnTo>
                  <a:lnTo>
                    <a:pt x="292" y="100"/>
                  </a:lnTo>
                  <a:lnTo>
                    <a:pt x="293" y="106"/>
                  </a:lnTo>
                  <a:lnTo>
                    <a:pt x="293" y="114"/>
                  </a:lnTo>
                  <a:lnTo>
                    <a:pt x="296" y="122"/>
                  </a:lnTo>
                  <a:lnTo>
                    <a:pt x="297" y="131"/>
                  </a:lnTo>
                  <a:lnTo>
                    <a:pt x="299" y="140"/>
                  </a:lnTo>
                  <a:lnTo>
                    <a:pt x="299" y="149"/>
                  </a:lnTo>
                  <a:lnTo>
                    <a:pt x="297" y="153"/>
                  </a:lnTo>
                  <a:lnTo>
                    <a:pt x="297" y="158"/>
                  </a:lnTo>
                  <a:lnTo>
                    <a:pt x="297" y="163"/>
                  </a:lnTo>
                  <a:lnTo>
                    <a:pt x="297" y="167"/>
                  </a:lnTo>
                  <a:lnTo>
                    <a:pt x="297" y="175"/>
                  </a:lnTo>
                  <a:lnTo>
                    <a:pt x="295" y="182"/>
                  </a:lnTo>
                  <a:lnTo>
                    <a:pt x="293" y="190"/>
                  </a:lnTo>
                  <a:lnTo>
                    <a:pt x="290" y="198"/>
                  </a:lnTo>
                  <a:lnTo>
                    <a:pt x="293" y="200"/>
                  </a:lnTo>
                  <a:lnTo>
                    <a:pt x="288" y="207"/>
                  </a:lnTo>
                  <a:lnTo>
                    <a:pt x="284" y="216"/>
                  </a:lnTo>
                  <a:lnTo>
                    <a:pt x="280" y="224"/>
                  </a:lnTo>
                  <a:lnTo>
                    <a:pt x="275" y="232"/>
                  </a:lnTo>
                  <a:lnTo>
                    <a:pt x="266" y="245"/>
                  </a:lnTo>
                  <a:lnTo>
                    <a:pt x="256" y="256"/>
                  </a:lnTo>
                  <a:lnTo>
                    <a:pt x="243" y="268"/>
                  </a:lnTo>
                  <a:lnTo>
                    <a:pt x="230" y="277"/>
                  </a:lnTo>
                  <a:lnTo>
                    <a:pt x="215" y="286"/>
                  </a:lnTo>
                  <a:lnTo>
                    <a:pt x="199" y="293"/>
                  </a:lnTo>
                  <a:lnTo>
                    <a:pt x="183" y="299"/>
                  </a:lnTo>
                  <a:lnTo>
                    <a:pt x="165" y="303"/>
                  </a:lnTo>
                  <a:lnTo>
                    <a:pt x="142" y="303"/>
                  </a:lnTo>
                  <a:lnTo>
                    <a:pt x="120" y="300"/>
                  </a:lnTo>
                  <a:lnTo>
                    <a:pt x="98" y="293"/>
                  </a:lnTo>
                  <a:lnTo>
                    <a:pt x="77" y="284"/>
                  </a:lnTo>
                  <a:lnTo>
                    <a:pt x="58" y="273"/>
                  </a:lnTo>
                  <a:lnTo>
                    <a:pt x="42" y="259"/>
                  </a:lnTo>
                  <a:lnTo>
                    <a:pt x="28" y="245"/>
                  </a:lnTo>
                  <a:lnTo>
                    <a:pt x="18" y="229"/>
                  </a:lnTo>
                  <a:lnTo>
                    <a:pt x="4" y="191"/>
                  </a:lnTo>
                  <a:lnTo>
                    <a:pt x="0" y="150"/>
                  </a:lnTo>
                  <a:lnTo>
                    <a:pt x="5" y="108"/>
                  </a:lnTo>
                  <a:lnTo>
                    <a:pt x="20" y="73"/>
                  </a:lnTo>
                  <a:lnTo>
                    <a:pt x="30" y="59"/>
                  </a:lnTo>
                  <a:lnTo>
                    <a:pt x="40" y="47"/>
                  </a:lnTo>
                  <a:lnTo>
                    <a:pt x="53" y="35"/>
                  </a:lnTo>
                  <a:lnTo>
                    <a:pt x="67" y="25"/>
                  </a:lnTo>
                  <a:lnTo>
                    <a:pt x="82" y="17"/>
                  </a:lnTo>
                  <a:lnTo>
                    <a:pt x="98" y="10"/>
                  </a:lnTo>
                  <a:lnTo>
                    <a:pt x="116" y="4"/>
                  </a:lnTo>
                  <a:lnTo>
                    <a:pt x="135" y="0"/>
                  </a:lnTo>
                  <a:lnTo>
                    <a:pt x="159" y="0"/>
                  </a:lnTo>
                  <a:lnTo>
                    <a:pt x="183" y="5"/>
                  </a:lnTo>
                  <a:lnTo>
                    <a:pt x="205" y="12"/>
                  </a:lnTo>
                  <a:lnTo>
                    <a:pt x="226" y="22"/>
                  </a:lnTo>
                  <a:lnTo>
                    <a:pt x="244" y="35"/>
                  </a:lnTo>
                  <a:lnTo>
                    <a:pt x="260" y="51"/>
                  </a:lnTo>
                  <a:lnTo>
                    <a:pt x="274" y="69"/>
                  </a:lnTo>
                  <a:lnTo>
                    <a:pt x="28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03760" y="3152160"/>
              <a:ext cx="137160" cy="4320"/>
            </a:xfrm>
            <a:custGeom>
              <a:avLst/>
              <a:gdLst/>
              <a:ahLst/>
              <a:rect l="l" t="t" r="r" b="b"/>
              <a:pathLst>
                <a:path w="565" h="20">
                  <a:moveTo>
                    <a:pt x="564" y="3"/>
                  </a:moveTo>
                  <a:lnTo>
                    <a:pt x="56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0"/>
                  </a:lnTo>
                  <a:lnTo>
                    <a:pt x="5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61720" y="3160800"/>
              <a:ext cx="248400" cy="345600"/>
            </a:xfrm>
            <a:custGeom>
              <a:avLst/>
              <a:gdLst/>
              <a:ahLst/>
              <a:rect l="l" t="t" r="r" b="b"/>
              <a:pathLst>
                <a:path w="1021" h="1778">
                  <a:moveTo>
                    <a:pt x="136" y="1"/>
                  </a:moveTo>
                  <a:lnTo>
                    <a:pt x="134" y="39"/>
                  </a:lnTo>
                  <a:lnTo>
                    <a:pt x="134" y="124"/>
                  </a:lnTo>
                  <a:lnTo>
                    <a:pt x="136" y="218"/>
                  </a:lnTo>
                  <a:lnTo>
                    <a:pt x="136" y="285"/>
                  </a:lnTo>
                  <a:lnTo>
                    <a:pt x="156" y="286"/>
                  </a:lnTo>
                  <a:lnTo>
                    <a:pt x="176" y="287"/>
                  </a:lnTo>
                  <a:lnTo>
                    <a:pt x="196" y="289"/>
                  </a:lnTo>
                  <a:lnTo>
                    <a:pt x="215" y="289"/>
                  </a:lnTo>
                  <a:lnTo>
                    <a:pt x="235" y="290"/>
                  </a:lnTo>
                  <a:lnTo>
                    <a:pt x="254" y="290"/>
                  </a:lnTo>
                  <a:lnTo>
                    <a:pt x="273" y="290"/>
                  </a:lnTo>
                  <a:lnTo>
                    <a:pt x="291" y="289"/>
                  </a:lnTo>
                  <a:lnTo>
                    <a:pt x="310" y="289"/>
                  </a:lnTo>
                  <a:lnTo>
                    <a:pt x="328" y="289"/>
                  </a:lnTo>
                  <a:lnTo>
                    <a:pt x="347" y="289"/>
                  </a:lnTo>
                  <a:lnTo>
                    <a:pt x="366" y="287"/>
                  </a:lnTo>
                  <a:lnTo>
                    <a:pt x="385" y="287"/>
                  </a:lnTo>
                  <a:lnTo>
                    <a:pt x="403" y="287"/>
                  </a:lnTo>
                  <a:lnTo>
                    <a:pt x="422" y="289"/>
                  </a:lnTo>
                  <a:lnTo>
                    <a:pt x="441" y="289"/>
                  </a:lnTo>
                  <a:lnTo>
                    <a:pt x="445" y="312"/>
                  </a:lnTo>
                  <a:lnTo>
                    <a:pt x="447" y="335"/>
                  </a:lnTo>
                  <a:lnTo>
                    <a:pt x="450" y="357"/>
                  </a:lnTo>
                  <a:lnTo>
                    <a:pt x="456" y="378"/>
                  </a:lnTo>
                  <a:lnTo>
                    <a:pt x="463" y="368"/>
                  </a:lnTo>
                  <a:lnTo>
                    <a:pt x="469" y="359"/>
                  </a:lnTo>
                  <a:lnTo>
                    <a:pt x="473" y="349"/>
                  </a:lnTo>
                  <a:lnTo>
                    <a:pt x="477" y="338"/>
                  </a:lnTo>
                  <a:lnTo>
                    <a:pt x="483" y="358"/>
                  </a:lnTo>
                  <a:lnTo>
                    <a:pt x="488" y="377"/>
                  </a:lnTo>
                  <a:lnTo>
                    <a:pt x="492" y="396"/>
                  </a:lnTo>
                  <a:lnTo>
                    <a:pt x="496" y="416"/>
                  </a:lnTo>
                  <a:lnTo>
                    <a:pt x="500" y="436"/>
                  </a:lnTo>
                  <a:lnTo>
                    <a:pt x="505" y="455"/>
                  </a:lnTo>
                  <a:lnTo>
                    <a:pt x="510" y="475"/>
                  </a:lnTo>
                  <a:lnTo>
                    <a:pt x="514" y="495"/>
                  </a:lnTo>
                  <a:lnTo>
                    <a:pt x="516" y="490"/>
                  </a:lnTo>
                  <a:lnTo>
                    <a:pt x="520" y="477"/>
                  </a:lnTo>
                  <a:lnTo>
                    <a:pt x="525" y="460"/>
                  </a:lnTo>
                  <a:lnTo>
                    <a:pt x="530" y="438"/>
                  </a:lnTo>
                  <a:lnTo>
                    <a:pt x="535" y="414"/>
                  </a:lnTo>
                  <a:lnTo>
                    <a:pt x="541" y="389"/>
                  </a:lnTo>
                  <a:lnTo>
                    <a:pt x="545" y="365"/>
                  </a:lnTo>
                  <a:lnTo>
                    <a:pt x="549" y="344"/>
                  </a:lnTo>
                  <a:lnTo>
                    <a:pt x="551" y="345"/>
                  </a:lnTo>
                  <a:lnTo>
                    <a:pt x="553" y="348"/>
                  </a:lnTo>
                  <a:lnTo>
                    <a:pt x="555" y="351"/>
                  </a:lnTo>
                  <a:lnTo>
                    <a:pt x="555" y="356"/>
                  </a:lnTo>
                  <a:lnTo>
                    <a:pt x="568" y="378"/>
                  </a:lnTo>
                  <a:lnTo>
                    <a:pt x="577" y="361"/>
                  </a:lnTo>
                  <a:lnTo>
                    <a:pt x="586" y="334"/>
                  </a:lnTo>
                  <a:lnTo>
                    <a:pt x="593" y="306"/>
                  </a:lnTo>
                  <a:lnTo>
                    <a:pt x="594" y="289"/>
                  </a:lnTo>
                  <a:lnTo>
                    <a:pt x="619" y="291"/>
                  </a:lnTo>
                  <a:lnTo>
                    <a:pt x="643" y="297"/>
                  </a:lnTo>
                  <a:lnTo>
                    <a:pt x="667" y="305"/>
                  </a:lnTo>
                  <a:lnTo>
                    <a:pt x="689" y="315"/>
                  </a:lnTo>
                  <a:lnTo>
                    <a:pt x="709" y="328"/>
                  </a:lnTo>
                  <a:lnTo>
                    <a:pt x="728" y="342"/>
                  </a:lnTo>
                  <a:lnTo>
                    <a:pt x="744" y="357"/>
                  </a:lnTo>
                  <a:lnTo>
                    <a:pt x="759" y="374"/>
                  </a:lnTo>
                  <a:lnTo>
                    <a:pt x="775" y="407"/>
                  </a:lnTo>
                  <a:lnTo>
                    <a:pt x="791" y="438"/>
                  </a:lnTo>
                  <a:lnTo>
                    <a:pt x="807" y="470"/>
                  </a:lnTo>
                  <a:lnTo>
                    <a:pt x="824" y="504"/>
                  </a:lnTo>
                  <a:lnTo>
                    <a:pt x="840" y="536"/>
                  </a:lnTo>
                  <a:lnTo>
                    <a:pt x="856" y="569"/>
                  </a:lnTo>
                  <a:lnTo>
                    <a:pt x="873" y="602"/>
                  </a:lnTo>
                  <a:lnTo>
                    <a:pt x="889" y="636"/>
                  </a:lnTo>
                  <a:lnTo>
                    <a:pt x="907" y="668"/>
                  </a:lnTo>
                  <a:lnTo>
                    <a:pt x="923" y="702"/>
                  </a:lnTo>
                  <a:lnTo>
                    <a:pt x="939" y="734"/>
                  </a:lnTo>
                  <a:lnTo>
                    <a:pt x="956" y="768"/>
                  </a:lnTo>
                  <a:lnTo>
                    <a:pt x="973" y="800"/>
                  </a:lnTo>
                  <a:lnTo>
                    <a:pt x="989" y="833"/>
                  </a:lnTo>
                  <a:lnTo>
                    <a:pt x="1005" y="865"/>
                  </a:lnTo>
                  <a:lnTo>
                    <a:pt x="1021" y="898"/>
                  </a:lnTo>
                  <a:lnTo>
                    <a:pt x="1008" y="905"/>
                  </a:lnTo>
                  <a:lnTo>
                    <a:pt x="994" y="913"/>
                  </a:lnTo>
                  <a:lnTo>
                    <a:pt x="979" y="920"/>
                  </a:lnTo>
                  <a:lnTo>
                    <a:pt x="966" y="928"/>
                  </a:lnTo>
                  <a:lnTo>
                    <a:pt x="951" y="936"/>
                  </a:lnTo>
                  <a:lnTo>
                    <a:pt x="936" y="943"/>
                  </a:lnTo>
                  <a:lnTo>
                    <a:pt x="922" y="951"/>
                  </a:lnTo>
                  <a:lnTo>
                    <a:pt x="909" y="958"/>
                  </a:lnTo>
                  <a:lnTo>
                    <a:pt x="896" y="934"/>
                  </a:lnTo>
                  <a:lnTo>
                    <a:pt x="884" y="909"/>
                  </a:lnTo>
                  <a:lnTo>
                    <a:pt x="871" y="884"/>
                  </a:lnTo>
                  <a:lnTo>
                    <a:pt x="858" y="860"/>
                  </a:lnTo>
                  <a:lnTo>
                    <a:pt x="844" y="835"/>
                  </a:lnTo>
                  <a:lnTo>
                    <a:pt x="832" y="810"/>
                  </a:lnTo>
                  <a:lnTo>
                    <a:pt x="819" y="785"/>
                  </a:lnTo>
                  <a:lnTo>
                    <a:pt x="806" y="760"/>
                  </a:lnTo>
                  <a:lnTo>
                    <a:pt x="792" y="736"/>
                  </a:lnTo>
                  <a:lnTo>
                    <a:pt x="780" y="711"/>
                  </a:lnTo>
                  <a:lnTo>
                    <a:pt x="766" y="686"/>
                  </a:lnTo>
                  <a:lnTo>
                    <a:pt x="753" y="661"/>
                  </a:lnTo>
                  <a:lnTo>
                    <a:pt x="739" y="636"/>
                  </a:lnTo>
                  <a:lnTo>
                    <a:pt x="725" y="612"/>
                  </a:lnTo>
                  <a:lnTo>
                    <a:pt x="713" y="586"/>
                  </a:lnTo>
                  <a:lnTo>
                    <a:pt x="699" y="562"/>
                  </a:lnTo>
                  <a:lnTo>
                    <a:pt x="692" y="752"/>
                  </a:lnTo>
                  <a:lnTo>
                    <a:pt x="689" y="1170"/>
                  </a:lnTo>
                  <a:lnTo>
                    <a:pt x="687" y="1588"/>
                  </a:lnTo>
                  <a:lnTo>
                    <a:pt x="687" y="1778"/>
                  </a:lnTo>
                  <a:lnTo>
                    <a:pt x="549" y="1778"/>
                  </a:lnTo>
                  <a:lnTo>
                    <a:pt x="545" y="1727"/>
                  </a:lnTo>
                  <a:lnTo>
                    <a:pt x="541" y="1633"/>
                  </a:lnTo>
                  <a:lnTo>
                    <a:pt x="534" y="1512"/>
                  </a:lnTo>
                  <a:lnTo>
                    <a:pt x="527" y="1376"/>
                  </a:lnTo>
                  <a:lnTo>
                    <a:pt x="521" y="1243"/>
                  </a:lnTo>
                  <a:lnTo>
                    <a:pt x="515" y="1126"/>
                  </a:lnTo>
                  <a:lnTo>
                    <a:pt x="512" y="1041"/>
                  </a:lnTo>
                  <a:lnTo>
                    <a:pt x="511" y="1004"/>
                  </a:lnTo>
                  <a:lnTo>
                    <a:pt x="507" y="1004"/>
                  </a:lnTo>
                  <a:lnTo>
                    <a:pt x="503" y="1074"/>
                  </a:lnTo>
                  <a:lnTo>
                    <a:pt x="497" y="1177"/>
                  </a:lnTo>
                  <a:lnTo>
                    <a:pt x="491" y="1301"/>
                  </a:lnTo>
                  <a:lnTo>
                    <a:pt x="485" y="1433"/>
                  </a:lnTo>
                  <a:lnTo>
                    <a:pt x="480" y="1560"/>
                  </a:lnTo>
                  <a:lnTo>
                    <a:pt x="475" y="1669"/>
                  </a:lnTo>
                  <a:lnTo>
                    <a:pt x="473" y="1746"/>
                  </a:lnTo>
                  <a:lnTo>
                    <a:pt x="471" y="1778"/>
                  </a:lnTo>
                  <a:lnTo>
                    <a:pt x="326" y="1778"/>
                  </a:lnTo>
                  <a:lnTo>
                    <a:pt x="327" y="1571"/>
                  </a:lnTo>
                  <a:lnTo>
                    <a:pt x="331" y="1113"/>
                  </a:lnTo>
                  <a:lnTo>
                    <a:pt x="332" y="652"/>
                  </a:lnTo>
                  <a:lnTo>
                    <a:pt x="329" y="434"/>
                  </a:lnTo>
                  <a:lnTo>
                    <a:pt x="316" y="433"/>
                  </a:lnTo>
                  <a:lnTo>
                    <a:pt x="301" y="433"/>
                  </a:lnTo>
                  <a:lnTo>
                    <a:pt x="287" y="432"/>
                  </a:lnTo>
                  <a:lnTo>
                    <a:pt x="272" y="432"/>
                  </a:lnTo>
                  <a:lnTo>
                    <a:pt x="257" y="432"/>
                  </a:lnTo>
                  <a:lnTo>
                    <a:pt x="242" y="432"/>
                  </a:lnTo>
                  <a:lnTo>
                    <a:pt x="227" y="432"/>
                  </a:lnTo>
                  <a:lnTo>
                    <a:pt x="212" y="432"/>
                  </a:lnTo>
                  <a:lnTo>
                    <a:pt x="197" y="432"/>
                  </a:lnTo>
                  <a:lnTo>
                    <a:pt x="181" y="432"/>
                  </a:lnTo>
                  <a:lnTo>
                    <a:pt x="166" y="432"/>
                  </a:lnTo>
                  <a:lnTo>
                    <a:pt x="151" y="432"/>
                  </a:lnTo>
                  <a:lnTo>
                    <a:pt x="136" y="432"/>
                  </a:lnTo>
                  <a:lnTo>
                    <a:pt x="121" y="432"/>
                  </a:lnTo>
                  <a:lnTo>
                    <a:pt x="105" y="431"/>
                  </a:lnTo>
                  <a:lnTo>
                    <a:pt x="92" y="431"/>
                  </a:lnTo>
                  <a:lnTo>
                    <a:pt x="75" y="427"/>
                  </a:lnTo>
                  <a:lnTo>
                    <a:pt x="60" y="423"/>
                  </a:lnTo>
                  <a:lnTo>
                    <a:pt x="47" y="418"/>
                  </a:lnTo>
                  <a:lnTo>
                    <a:pt x="35" y="410"/>
                  </a:lnTo>
                  <a:lnTo>
                    <a:pt x="25" y="402"/>
                  </a:lnTo>
                  <a:lnTo>
                    <a:pt x="17" y="390"/>
                  </a:lnTo>
                  <a:lnTo>
                    <a:pt x="10" y="379"/>
                  </a:lnTo>
                  <a:lnTo>
                    <a:pt x="4" y="364"/>
                  </a:lnTo>
                  <a:lnTo>
                    <a:pt x="2" y="300"/>
                  </a:lnTo>
                  <a:lnTo>
                    <a:pt x="0" y="180"/>
                  </a:lnTo>
                  <a:lnTo>
                    <a:pt x="2" y="60"/>
                  </a:lnTo>
                  <a:lnTo>
                    <a:pt x="4" y="0"/>
                  </a:lnTo>
                  <a:lnTo>
                    <a:pt x="13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73680" y="3218760"/>
              <a:ext cx="27000" cy="6840"/>
            </a:xfrm>
            <a:custGeom>
              <a:avLst/>
              <a:gdLst/>
              <a:ahLst/>
              <a:rect l="l" t="t" r="r" b="b"/>
              <a:pathLst>
                <a:path w="109" h="39">
                  <a:moveTo>
                    <a:pt x="53" y="19"/>
                  </a:moveTo>
                  <a:lnTo>
                    <a:pt x="60" y="17"/>
                  </a:lnTo>
                  <a:lnTo>
                    <a:pt x="67" y="14"/>
                  </a:lnTo>
                  <a:lnTo>
                    <a:pt x="74" y="12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5" y="5"/>
                  </a:lnTo>
                  <a:lnTo>
                    <a:pt x="102" y="3"/>
                  </a:lnTo>
                  <a:lnTo>
                    <a:pt x="109" y="0"/>
                  </a:lnTo>
                  <a:lnTo>
                    <a:pt x="109" y="39"/>
                  </a:lnTo>
                  <a:lnTo>
                    <a:pt x="99" y="36"/>
                  </a:lnTo>
                  <a:lnTo>
                    <a:pt x="90" y="33"/>
                  </a:lnTo>
                  <a:lnTo>
                    <a:pt x="81" y="29"/>
                  </a:lnTo>
                  <a:lnTo>
                    <a:pt x="72" y="25"/>
                  </a:lnTo>
                  <a:lnTo>
                    <a:pt x="61" y="22"/>
                  </a:lnTo>
                  <a:lnTo>
                    <a:pt x="52" y="21"/>
                  </a:lnTo>
                  <a:lnTo>
                    <a:pt x="43" y="22"/>
                  </a:lnTo>
                  <a:lnTo>
                    <a:pt x="34" y="26"/>
                  </a:lnTo>
                  <a:lnTo>
                    <a:pt x="2" y="39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2" y="0"/>
                  </a:lnTo>
                  <a:lnTo>
                    <a:pt x="5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15200" y="3460680"/>
            <a:ext cx="239760" cy="203400"/>
            <a:chOff x="6415200" y="3460680"/>
            <a:chExt cx="239760" cy="203400"/>
          </a:xfrm>
        </p:grpSpPr>
        <p:sp>
          <p:nvSpPr>
            <p:cNvPr id="240" name=""/>
            <p:cNvSpPr/>
            <p:nvPr/>
          </p:nvSpPr>
          <p:spPr>
            <a:xfrm>
              <a:off x="6505200" y="3460680"/>
              <a:ext cx="59760" cy="40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05200" y="3541680"/>
              <a:ext cx="59760" cy="4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"/>
            <p:cNvCxnSpPr>
              <a:stCxn id="240" idx="2"/>
              <a:endCxn id="241" idx="0"/>
            </p:cNvCxnSpPr>
            <p:nvPr/>
          </p:nvCxnSpPr>
          <p:spPr>
            <a:xfrm>
              <a:off x="6535080" y="3501360"/>
              <a:ext cx="1080" cy="4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3" name=""/>
            <p:cNvSpPr/>
            <p:nvPr/>
          </p:nvSpPr>
          <p:spPr>
            <a:xfrm>
              <a:off x="6595200" y="3541680"/>
              <a:ext cx="59760" cy="40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95200" y="3623040"/>
              <a:ext cx="59760" cy="40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" name=""/>
            <p:cNvCxnSpPr>
              <a:stCxn id="243" idx="2"/>
              <a:endCxn id="244" idx="0"/>
            </p:cNvCxnSpPr>
            <p:nvPr/>
          </p:nvCxnSpPr>
          <p:spPr>
            <a:xfrm>
              <a:off x="6625080" y="3582720"/>
              <a:ext cx="1080" cy="4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" name=""/>
            <p:cNvCxnSpPr>
              <a:stCxn id="243" idx="0"/>
              <a:endCxn id="240" idx="2"/>
            </p:cNvCxnSpPr>
            <p:nvPr/>
          </p:nvCxnSpPr>
          <p:spPr>
            <a:xfrm flipH="1" flipV="1">
              <a:off x="6534720" y="3501360"/>
              <a:ext cx="90360" cy="4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7" name=""/>
            <p:cNvSpPr/>
            <p:nvPr/>
          </p:nvSpPr>
          <p:spPr>
            <a:xfrm>
              <a:off x="6415200" y="3623400"/>
              <a:ext cx="59760" cy="40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"/>
            <p:cNvCxnSpPr>
              <a:stCxn id="241" idx="2"/>
              <a:endCxn id="247" idx="0"/>
            </p:cNvCxnSpPr>
            <p:nvPr/>
          </p:nvCxnSpPr>
          <p:spPr>
            <a:xfrm flipH="1">
              <a:off x="6444720" y="3582360"/>
              <a:ext cx="90360" cy="4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9" name=""/>
            <p:cNvSpPr/>
            <p:nvPr/>
          </p:nvSpPr>
          <p:spPr>
            <a:xfrm>
              <a:off x="6505200" y="3623400"/>
              <a:ext cx="59760" cy="40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" name=""/>
            <p:cNvCxnSpPr>
              <a:stCxn id="249" idx="0"/>
              <a:endCxn id="241" idx="2"/>
            </p:cNvCxnSpPr>
            <p:nvPr/>
          </p:nvCxnSpPr>
          <p:spPr>
            <a:xfrm flipV="1">
              <a:off x="6535080" y="3582000"/>
              <a:ext cx="1080" cy="4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1" name=""/>
            <p:cNvSpPr/>
            <p:nvPr/>
          </p:nvSpPr>
          <p:spPr>
            <a:xfrm>
              <a:off x="6415200" y="3541680"/>
              <a:ext cx="59760" cy="4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2" name=""/>
            <p:cNvCxnSpPr>
              <a:stCxn id="240" idx="2"/>
              <a:endCxn id="251" idx="0"/>
            </p:cNvCxnSpPr>
            <p:nvPr/>
          </p:nvCxnSpPr>
          <p:spPr>
            <a:xfrm flipH="1">
              <a:off x="6444720" y="3501360"/>
              <a:ext cx="90720" cy="4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53" name=""/>
          <p:cNvSpPr/>
          <p:nvPr/>
        </p:nvSpPr>
        <p:spPr>
          <a:xfrm>
            <a:off x="6435720" y="3984480"/>
            <a:ext cx="144360" cy="19368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30840" y="3706920"/>
            <a:ext cx="22831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S. Web Anno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49920" y="3951360"/>
            <a:ext cx="22640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Other Web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83160" y="3251160"/>
            <a:ext cx="10008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437160" y="3179880"/>
            <a:ext cx="215640" cy="203040"/>
            <a:chOff x="6437160" y="3179880"/>
            <a:chExt cx="215640" cy="203040"/>
          </a:xfrm>
        </p:grpSpPr>
        <p:grpSp>
          <p:nvGrpSpPr>
            <p:cNvPr id="258" name=""/>
            <p:cNvGrpSpPr/>
            <p:nvPr/>
          </p:nvGrpSpPr>
          <p:grpSpPr>
            <a:xfrm>
              <a:off x="6437160" y="3179880"/>
              <a:ext cx="163440" cy="169200"/>
              <a:chOff x="6437160" y="3179880"/>
              <a:chExt cx="163440" cy="169200"/>
            </a:xfrm>
          </p:grpSpPr>
          <p:sp>
            <p:nvSpPr>
              <p:cNvPr id="259" name=""/>
              <p:cNvSpPr/>
              <p:nvPr/>
            </p:nvSpPr>
            <p:spPr>
              <a:xfrm flipH="1">
                <a:off x="6467760" y="3236040"/>
                <a:ext cx="39960" cy="31680"/>
              </a:xfrm>
              <a:custGeom>
                <a:avLst/>
                <a:gdLst/>
                <a:ahLst/>
                <a:rect l="l" t="t" r="r" b="b"/>
                <a:pathLst>
                  <a:path w="696" h="496">
                    <a:moveTo>
                      <a:pt x="0" y="358"/>
                    </a:moveTo>
                    <a:lnTo>
                      <a:pt x="2" y="362"/>
                    </a:lnTo>
                    <a:lnTo>
                      <a:pt x="9" y="374"/>
                    </a:lnTo>
                    <a:lnTo>
                      <a:pt x="18" y="391"/>
                    </a:lnTo>
                    <a:lnTo>
                      <a:pt x="29" y="413"/>
                    </a:lnTo>
                    <a:lnTo>
                      <a:pt x="39" y="436"/>
                    </a:lnTo>
                    <a:lnTo>
                      <a:pt x="48" y="458"/>
                    </a:lnTo>
                    <a:lnTo>
                      <a:pt x="54" y="479"/>
                    </a:lnTo>
                    <a:lnTo>
                      <a:pt x="56" y="496"/>
                    </a:lnTo>
                    <a:lnTo>
                      <a:pt x="696" y="148"/>
                    </a:lnTo>
                    <a:lnTo>
                      <a:pt x="601" y="0"/>
                    </a:lnTo>
                    <a:lnTo>
                      <a:pt x="0" y="3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6527880" y="3274560"/>
                <a:ext cx="24480" cy="13680"/>
              </a:xfrm>
              <a:custGeom>
                <a:avLst/>
                <a:gdLst/>
                <a:ahLst/>
                <a:rect l="l" t="t" r="r" b="b"/>
                <a:pathLst>
                  <a:path w="426" h="214">
                    <a:moveTo>
                      <a:pt x="0" y="182"/>
                    </a:moveTo>
                    <a:lnTo>
                      <a:pt x="327" y="0"/>
                    </a:lnTo>
                    <a:lnTo>
                      <a:pt x="328" y="3"/>
                    </a:lnTo>
                    <a:lnTo>
                      <a:pt x="334" y="14"/>
                    </a:lnTo>
                    <a:lnTo>
                      <a:pt x="341" y="28"/>
                    </a:lnTo>
                    <a:lnTo>
                      <a:pt x="349" y="44"/>
                    </a:lnTo>
                    <a:lnTo>
                      <a:pt x="358" y="61"/>
                    </a:lnTo>
                    <a:lnTo>
                      <a:pt x="367" y="76"/>
                    </a:lnTo>
                    <a:lnTo>
                      <a:pt x="376" y="87"/>
                    </a:lnTo>
                    <a:lnTo>
                      <a:pt x="384" y="93"/>
                    </a:lnTo>
                    <a:lnTo>
                      <a:pt x="391" y="97"/>
                    </a:lnTo>
                    <a:lnTo>
                      <a:pt x="398" y="102"/>
                    </a:lnTo>
                    <a:lnTo>
                      <a:pt x="405" y="108"/>
                    </a:lnTo>
                    <a:lnTo>
                      <a:pt x="412" y="114"/>
                    </a:lnTo>
                    <a:lnTo>
                      <a:pt x="418" y="119"/>
                    </a:lnTo>
                    <a:lnTo>
                      <a:pt x="422" y="123"/>
                    </a:lnTo>
                    <a:lnTo>
                      <a:pt x="425" y="127"/>
                    </a:lnTo>
                    <a:lnTo>
                      <a:pt x="426" y="128"/>
                    </a:lnTo>
                    <a:lnTo>
                      <a:pt x="290" y="214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532560" y="3273480"/>
                <a:ext cx="21240" cy="14040"/>
              </a:xfrm>
              <a:custGeom>
                <a:avLst/>
                <a:gdLst/>
                <a:ahLst/>
                <a:rect l="l" t="t" r="r" b="b"/>
                <a:pathLst>
                  <a:path w="370" h="224">
                    <a:moveTo>
                      <a:pt x="24" y="224"/>
                    </a:moveTo>
                    <a:lnTo>
                      <a:pt x="370" y="23"/>
                    </a:lnTo>
                    <a:lnTo>
                      <a:pt x="356" y="0"/>
                    </a:lnTo>
                    <a:lnTo>
                      <a:pt x="0" y="205"/>
                    </a:lnTo>
                    <a:lnTo>
                      <a:pt x="24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6526440" y="328248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170" h="110">
                    <a:moveTo>
                      <a:pt x="14" y="110"/>
                    </a:moveTo>
                    <a:lnTo>
                      <a:pt x="170" y="24"/>
                    </a:lnTo>
                    <a:lnTo>
                      <a:pt x="156" y="0"/>
                    </a:lnTo>
                    <a:lnTo>
                      <a:pt x="0" y="86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6452280" y="3196440"/>
                <a:ext cx="132840" cy="147240"/>
              </a:xfrm>
              <a:custGeom>
                <a:avLst/>
                <a:gdLst/>
                <a:ahLst/>
                <a:rect l="l" t="t" r="r" b="b"/>
                <a:pathLst>
                  <a:path w="2303" h="2305">
                    <a:moveTo>
                      <a:pt x="1151" y="228"/>
                    </a:moveTo>
                    <a:lnTo>
                      <a:pt x="1104" y="229"/>
                    </a:lnTo>
                    <a:lnTo>
                      <a:pt x="1057" y="233"/>
                    </a:lnTo>
                    <a:lnTo>
                      <a:pt x="1011" y="239"/>
                    </a:lnTo>
                    <a:lnTo>
                      <a:pt x="965" y="247"/>
                    </a:lnTo>
                    <a:lnTo>
                      <a:pt x="920" y="257"/>
                    </a:lnTo>
                    <a:lnTo>
                      <a:pt x="876" y="270"/>
                    </a:lnTo>
                    <a:lnTo>
                      <a:pt x="834" y="285"/>
                    </a:lnTo>
                    <a:lnTo>
                      <a:pt x="792" y="301"/>
                    </a:lnTo>
                    <a:lnTo>
                      <a:pt x="751" y="319"/>
                    </a:lnTo>
                    <a:lnTo>
                      <a:pt x="710" y="340"/>
                    </a:lnTo>
                    <a:lnTo>
                      <a:pt x="672" y="362"/>
                    </a:lnTo>
                    <a:lnTo>
                      <a:pt x="634" y="386"/>
                    </a:lnTo>
                    <a:lnTo>
                      <a:pt x="599" y="411"/>
                    </a:lnTo>
                    <a:lnTo>
                      <a:pt x="563" y="439"/>
                    </a:lnTo>
                    <a:lnTo>
                      <a:pt x="529" y="468"/>
                    </a:lnTo>
                    <a:lnTo>
                      <a:pt x="497" y="499"/>
                    </a:lnTo>
                    <a:lnTo>
                      <a:pt x="467" y="531"/>
                    </a:lnTo>
                    <a:lnTo>
                      <a:pt x="438" y="565"/>
                    </a:lnTo>
                    <a:lnTo>
                      <a:pt x="411" y="599"/>
                    </a:lnTo>
                    <a:lnTo>
                      <a:pt x="384" y="636"/>
                    </a:lnTo>
                    <a:lnTo>
                      <a:pt x="360" y="673"/>
                    </a:lnTo>
                    <a:lnTo>
                      <a:pt x="338" y="712"/>
                    </a:lnTo>
                    <a:lnTo>
                      <a:pt x="317" y="751"/>
                    </a:lnTo>
                    <a:lnTo>
                      <a:pt x="299" y="793"/>
                    </a:lnTo>
                    <a:lnTo>
                      <a:pt x="283" y="834"/>
                    </a:lnTo>
                    <a:lnTo>
                      <a:pt x="268" y="877"/>
                    </a:lnTo>
                    <a:lnTo>
                      <a:pt x="255" y="922"/>
                    </a:lnTo>
                    <a:lnTo>
                      <a:pt x="245" y="966"/>
                    </a:lnTo>
                    <a:lnTo>
                      <a:pt x="237" y="1012"/>
                    </a:lnTo>
                    <a:lnTo>
                      <a:pt x="231" y="1058"/>
                    </a:lnTo>
                    <a:lnTo>
                      <a:pt x="228" y="1105"/>
                    </a:lnTo>
                    <a:lnTo>
                      <a:pt x="227" y="1152"/>
                    </a:lnTo>
                    <a:lnTo>
                      <a:pt x="228" y="1199"/>
                    </a:lnTo>
                    <a:lnTo>
                      <a:pt x="231" y="1247"/>
                    </a:lnTo>
                    <a:lnTo>
                      <a:pt x="237" y="1293"/>
                    </a:lnTo>
                    <a:lnTo>
                      <a:pt x="245" y="1339"/>
                    </a:lnTo>
                    <a:lnTo>
                      <a:pt x="255" y="1384"/>
                    </a:lnTo>
                    <a:lnTo>
                      <a:pt x="268" y="1428"/>
                    </a:lnTo>
                    <a:lnTo>
                      <a:pt x="283" y="1470"/>
                    </a:lnTo>
                    <a:lnTo>
                      <a:pt x="299" y="1513"/>
                    </a:lnTo>
                    <a:lnTo>
                      <a:pt x="317" y="1554"/>
                    </a:lnTo>
                    <a:lnTo>
                      <a:pt x="338" y="1593"/>
                    </a:lnTo>
                    <a:lnTo>
                      <a:pt x="360" y="1633"/>
                    </a:lnTo>
                    <a:lnTo>
                      <a:pt x="384" y="1671"/>
                    </a:lnTo>
                    <a:lnTo>
                      <a:pt x="411" y="1706"/>
                    </a:lnTo>
                    <a:lnTo>
                      <a:pt x="438" y="1741"/>
                    </a:lnTo>
                    <a:lnTo>
                      <a:pt x="467" y="1775"/>
                    </a:lnTo>
                    <a:lnTo>
                      <a:pt x="497" y="1807"/>
                    </a:lnTo>
                    <a:lnTo>
                      <a:pt x="529" y="1838"/>
                    </a:lnTo>
                    <a:lnTo>
                      <a:pt x="563" y="1866"/>
                    </a:lnTo>
                    <a:lnTo>
                      <a:pt x="599" y="1894"/>
                    </a:lnTo>
                    <a:lnTo>
                      <a:pt x="634" y="1921"/>
                    </a:lnTo>
                    <a:lnTo>
                      <a:pt x="672" y="1945"/>
                    </a:lnTo>
                    <a:lnTo>
                      <a:pt x="710" y="1967"/>
                    </a:lnTo>
                    <a:lnTo>
                      <a:pt x="751" y="1987"/>
                    </a:lnTo>
                    <a:lnTo>
                      <a:pt x="792" y="2006"/>
                    </a:lnTo>
                    <a:lnTo>
                      <a:pt x="834" y="2022"/>
                    </a:lnTo>
                    <a:lnTo>
                      <a:pt x="876" y="2037"/>
                    </a:lnTo>
                    <a:lnTo>
                      <a:pt x="920" y="2050"/>
                    </a:lnTo>
                    <a:lnTo>
                      <a:pt x="965" y="2060"/>
                    </a:lnTo>
                    <a:lnTo>
                      <a:pt x="1011" y="2068"/>
                    </a:lnTo>
                    <a:lnTo>
                      <a:pt x="1057" y="2074"/>
                    </a:lnTo>
                    <a:lnTo>
                      <a:pt x="1104" y="2077"/>
                    </a:lnTo>
                    <a:lnTo>
                      <a:pt x="1151" y="2078"/>
                    </a:lnTo>
                    <a:lnTo>
                      <a:pt x="1199" y="2077"/>
                    </a:lnTo>
                    <a:lnTo>
                      <a:pt x="1246" y="2074"/>
                    </a:lnTo>
                    <a:lnTo>
                      <a:pt x="1292" y="2068"/>
                    </a:lnTo>
                    <a:lnTo>
                      <a:pt x="1338" y="2060"/>
                    </a:lnTo>
                    <a:lnTo>
                      <a:pt x="1383" y="2050"/>
                    </a:lnTo>
                    <a:lnTo>
                      <a:pt x="1427" y="2037"/>
                    </a:lnTo>
                    <a:lnTo>
                      <a:pt x="1469" y="2022"/>
                    </a:lnTo>
                    <a:lnTo>
                      <a:pt x="1511" y="2006"/>
                    </a:lnTo>
                    <a:lnTo>
                      <a:pt x="1552" y="1987"/>
                    </a:lnTo>
                    <a:lnTo>
                      <a:pt x="1593" y="1967"/>
                    </a:lnTo>
                    <a:lnTo>
                      <a:pt x="1631" y="1945"/>
                    </a:lnTo>
                    <a:lnTo>
                      <a:pt x="1669" y="1921"/>
                    </a:lnTo>
                    <a:lnTo>
                      <a:pt x="1704" y="1894"/>
                    </a:lnTo>
                    <a:lnTo>
                      <a:pt x="1740" y="1866"/>
                    </a:lnTo>
                    <a:lnTo>
                      <a:pt x="1773" y="1838"/>
                    </a:lnTo>
                    <a:lnTo>
                      <a:pt x="1806" y="1807"/>
                    </a:lnTo>
                    <a:lnTo>
                      <a:pt x="1836" y="1775"/>
                    </a:lnTo>
                    <a:lnTo>
                      <a:pt x="1864" y="1741"/>
                    </a:lnTo>
                    <a:lnTo>
                      <a:pt x="1892" y="1706"/>
                    </a:lnTo>
                    <a:lnTo>
                      <a:pt x="1919" y="1671"/>
                    </a:lnTo>
                    <a:lnTo>
                      <a:pt x="1943" y="1633"/>
                    </a:lnTo>
                    <a:lnTo>
                      <a:pt x="1965" y="1593"/>
                    </a:lnTo>
                    <a:lnTo>
                      <a:pt x="1985" y="1554"/>
                    </a:lnTo>
                    <a:lnTo>
                      <a:pt x="2004" y="1513"/>
                    </a:lnTo>
                    <a:lnTo>
                      <a:pt x="2020" y="1470"/>
                    </a:lnTo>
                    <a:lnTo>
                      <a:pt x="2035" y="1428"/>
                    </a:lnTo>
                    <a:lnTo>
                      <a:pt x="2048" y="1384"/>
                    </a:lnTo>
                    <a:lnTo>
                      <a:pt x="2058" y="1339"/>
                    </a:lnTo>
                    <a:lnTo>
                      <a:pt x="2066" y="1293"/>
                    </a:lnTo>
                    <a:lnTo>
                      <a:pt x="2072" y="1247"/>
                    </a:lnTo>
                    <a:lnTo>
                      <a:pt x="2075" y="1199"/>
                    </a:lnTo>
                    <a:lnTo>
                      <a:pt x="2076" y="1152"/>
                    </a:lnTo>
                    <a:lnTo>
                      <a:pt x="2075" y="1105"/>
                    </a:lnTo>
                    <a:lnTo>
                      <a:pt x="2072" y="1058"/>
                    </a:lnTo>
                    <a:lnTo>
                      <a:pt x="2066" y="1012"/>
                    </a:lnTo>
                    <a:lnTo>
                      <a:pt x="2058" y="966"/>
                    </a:lnTo>
                    <a:lnTo>
                      <a:pt x="2048" y="922"/>
                    </a:lnTo>
                    <a:lnTo>
                      <a:pt x="2035" y="877"/>
                    </a:lnTo>
                    <a:lnTo>
                      <a:pt x="2020" y="834"/>
                    </a:lnTo>
                    <a:lnTo>
                      <a:pt x="2004" y="793"/>
                    </a:lnTo>
                    <a:lnTo>
                      <a:pt x="1985" y="751"/>
                    </a:lnTo>
                    <a:lnTo>
                      <a:pt x="1965" y="712"/>
                    </a:lnTo>
                    <a:lnTo>
                      <a:pt x="1943" y="673"/>
                    </a:lnTo>
                    <a:lnTo>
                      <a:pt x="1919" y="636"/>
                    </a:lnTo>
                    <a:lnTo>
                      <a:pt x="1892" y="599"/>
                    </a:lnTo>
                    <a:lnTo>
                      <a:pt x="1864" y="565"/>
                    </a:lnTo>
                    <a:lnTo>
                      <a:pt x="1836" y="531"/>
                    </a:lnTo>
                    <a:lnTo>
                      <a:pt x="1806" y="499"/>
                    </a:lnTo>
                    <a:lnTo>
                      <a:pt x="1773" y="468"/>
                    </a:lnTo>
                    <a:lnTo>
                      <a:pt x="1740" y="439"/>
                    </a:lnTo>
                    <a:lnTo>
                      <a:pt x="1704" y="411"/>
                    </a:lnTo>
                    <a:lnTo>
                      <a:pt x="1669" y="386"/>
                    </a:lnTo>
                    <a:lnTo>
                      <a:pt x="1631" y="362"/>
                    </a:lnTo>
                    <a:lnTo>
                      <a:pt x="1593" y="340"/>
                    </a:lnTo>
                    <a:lnTo>
                      <a:pt x="1552" y="319"/>
                    </a:lnTo>
                    <a:lnTo>
                      <a:pt x="1511" y="301"/>
                    </a:lnTo>
                    <a:lnTo>
                      <a:pt x="1469" y="285"/>
                    </a:lnTo>
                    <a:lnTo>
                      <a:pt x="1427" y="270"/>
                    </a:lnTo>
                    <a:lnTo>
                      <a:pt x="1383" y="257"/>
                    </a:lnTo>
                    <a:lnTo>
                      <a:pt x="1338" y="247"/>
                    </a:lnTo>
                    <a:lnTo>
                      <a:pt x="1292" y="239"/>
                    </a:lnTo>
                    <a:lnTo>
                      <a:pt x="1246" y="233"/>
                    </a:lnTo>
                    <a:lnTo>
                      <a:pt x="1199" y="229"/>
                    </a:lnTo>
                    <a:lnTo>
                      <a:pt x="1151" y="228"/>
                    </a:lnTo>
                    <a:lnTo>
                      <a:pt x="1151" y="0"/>
                    </a:lnTo>
                    <a:lnTo>
                      <a:pt x="1210" y="1"/>
                    </a:lnTo>
                    <a:lnTo>
                      <a:pt x="1269" y="6"/>
                    </a:lnTo>
                    <a:lnTo>
                      <a:pt x="1327" y="14"/>
                    </a:lnTo>
                    <a:lnTo>
                      <a:pt x="1383" y="23"/>
                    </a:lnTo>
                    <a:lnTo>
                      <a:pt x="1439" y="37"/>
                    </a:lnTo>
                    <a:lnTo>
                      <a:pt x="1494" y="52"/>
                    </a:lnTo>
                    <a:lnTo>
                      <a:pt x="1548" y="70"/>
                    </a:lnTo>
                    <a:lnTo>
                      <a:pt x="1600" y="91"/>
                    </a:lnTo>
                    <a:lnTo>
                      <a:pt x="1650" y="114"/>
                    </a:lnTo>
                    <a:lnTo>
                      <a:pt x="1701" y="140"/>
                    </a:lnTo>
                    <a:lnTo>
                      <a:pt x="1748" y="167"/>
                    </a:lnTo>
                    <a:lnTo>
                      <a:pt x="1795" y="197"/>
                    </a:lnTo>
                    <a:lnTo>
                      <a:pt x="1840" y="229"/>
                    </a:lnTo>
                    <a:lnTo>
                      <a:pt x="1884" y="263"/>
                    </a:lnTo>
                    <a:lnTo>
                      <a:pt x="1926" y="300"/>
                    </a:lnTo>
                    <a:lnTo>
                      <a:pt x="1966" y="338"/>
                    </a:lnTo>
                    <a:lnTo>
                      <a:pt x="2004" y="378"/>
                    </a:lnTo>
                    <a:lnTo>
                      <a:pt x="2041" y="420"/>
                    </a:lnTo>
                    <a:lnTo>
                      <a:pt x="2074" y="463"/>
                    </a:lnTo>
                    <a:lnTo>
                      <a:pt x="2106" y="508"/>
                    </a:lnTo>
                    <a:lnTo>
                      <a:pt x="2136" y="555"/>
                    </a:lnTo>
                    <a:lnTo>
                      <a:pt x="2164" y="603"/>
                    </a:lnTo>
                    <a:lnTo>
                      <a:pt x="2189" y="653"/>
                    </a:lnTo>
                    <a:lnTo>
                      <a:pt x="2212" y="704"/>
                    </a:lnTo>
                    <a:lnTo>
                      <a:pt x="2233" y="756"/>
                    </a:lnTo>
                    <a:lnTo>
                      <a:pt x="2251" y="810"/>
                    </a:lnTo>
                    <a:lnTo>
                      <a:pt x="2266" y="864"/>
                    </a:lnTo>
                    <a:lnTo>
                      <a:pt x="2280" y="921"/>
                    </a:lnTo>
                    <a:lnTo>
                      <a:pt x="2289" y="977"/>
                    </a:lnTo>
                    <a:lnTo>
                      <a:pt x="2298" y="1035"/>
                    </a:lnTo>
                    <a:lnTo>
                      <a:pt x="2302" y="1093"/>
                    </a:lnTo>
                    <a:lnTo>
                      <a:pt x="2303" y="1152"/>
                    </a:lnTo>
                    <a:lnTo>
                      <a:pt x="2302" y="1212"/>
                    </a:lnTo>
                    <a:lnTo>
                      <a:pt x="2298" y="1270"/>
                    </a:lnTo>
                    <a:lnTo>
                      <a:pt x="2289" y="1327"/>
                    </a:lnTo>
                    <a:lnTo>
                      <a:pt x="2280" y="1385"/>
                    </a:lnTo>
                    <a:lnTo>
                      <a:pt x="2266" y="1440"/>
                    </a:lnTo>
                    <a:lnTo>
                      <a:pt x="2251" y="1495"/>
                    </a:lnTo>
                    <a:lnTo>
                      <a:pt x="2233" y="1548"/>
                    </a:lnTo>
                    <a:lnTo>
                      <a:pt x="2212" y="1601"/>
                    </a:lnTo>
                    <a:lnTo>
                      <a:pt x="2189" y="1652"/>
                    </a:lnTo>
                    <a:lnTo>
                      <a:pt x="2164" y="1702"/>
                    </a:lnTo>
                    <a:lnTo>
                      <a:pt x="2136" y="1750"/>
                    </a:lnTo>
                    <a:lnTo>
                      <a:pt x="2106" y="1797"/>
                    </a:lnTo>
                    <a:lnTo>
                      <a:pt x="2074" y="1842"/>
                    </a:lnTo>
                    <a:lnTo>
                      <a:pt x="2041" y="1886"/>
                    </a:lnTo>
                    <a:lnTo>
                      <a:pt x="2004" y="1927"/>
                    </a:lnTo>
                    <a:lnTo>
                      <a:pt x="1966" y="1968"/>
                    </a:lnTo>
                    <a:lnTo>
                      <a:pt x="1926" y="2006"/>
                    </a:lnTo>
                    <a:lnTo>
                      <a:pt x="1884" y="2042"/>
                    </a:lnTo>
                    <a:lnTo>
                      <a:pt x="1840" y="2076"/>
                    </a:lnTo>
                    <a:lnTo>
                      <a:pt x="1795" y="2108"/>
                    </a:lnTo>
                    <a:lnTo>
                      <a:pt x="1748" y="2138"/>
                    </a:lnTo>
                    <a:lnTo>
                      <a:pt x="1701" y="2166"/>
                    </a:lnTo>
                    <a:lnTo>
                      <a:pt x="1650" y="2191"/>
                    </a:lnTo>
                    <a:lnTo>
                      <a:pt x="1600" y="2214"/>
                    </a:lnTo>
                    <a:lnTo>
                      <a:pt x="1548" y="2235"/>
                    </a:lnTo>
                    <a:lnTo>
                      <a:pt x="1494" y="2254"/>
                    </a:lnTo>
                    <a:lnTo>
                      <a:pt x="1439" y="2268"/>
                    </a:lnTo>
                    <a:lnTo>
                      <a:pt x="1383" y="2282"/>
                    </a:lnTo>
                    <a:lnTo>
                      <a:pt x="1327" y="2292"/>
                    </a:lnTo>
                    <a:lnTo>
                      <a:pt x="1269" y="2300"/>
                    </a:lnTo>
                    <a:lnTo>
                      <a:pt x="1210" y="2304"/>
                    </a:lnTo>
                    <a:lnTo>
                      <a:pt x="1151" y="2305"/>
                    </a:lnTo>
                    <a:lnTo>
                      <a:pt x="1093" y="2304"/>
                    </a:lnTo>
                    <a:lnTo>
                      <a:pt x="1034" y="2300"/>
                    </a:lnTo>
                    <a:lnTo>
                      <a:pt x="976" y="2292"/>
                    </a:lnTo>
                    <a:lnTo>
                      <a:pt x="920" y="2282"/>
                    </a:lnTo>
                    <a:lnTo>
                      <a:pt x="863" y="2268"/>
                    </a:lnTo>
                    <a:lnTo>
                      <a:pt x="809" y="2254"/>
                    </a:lnTo>
                    <a:lnTo>
                      <a:pt x="755" y="2235"/>
                    </a:lnTo>
                    <a:lnTo>
                      <a:pt x="703" y="2214"/>
                    </a:lnTo>
                    <a:lnTo>
                      <a:pt x="653" y="2191"/>
                    </a:lnTo>
                    <a:lnTo>
                      <a:pt x="602" y="2166"/>
                    </a:lnTo>
                    <a:lnTo>
                      <a:pt x="555" y="2138"/>
                    </a:lnTo>
                    <a:lnTo>
                      <a:pt x="508" y="2108"/>
                    </a:lnTo>
                    <a:lnTo>
                      <a:pt x="463" y="2076"/>
                    </a:lnTo>
                    <a:lnTo>
                      <a:pt x="419" y="2042"/>
                    </a:lnTo>
                    <a:lnTo>
                      <a:pt x="377" y="2006"/>
                    </a:lnTo>
                    <a:lnTo>
                      <a:pt x="337" y="1968"/>
                    </a:lnTo>
                    <a:lnTo>
                      <a:pt x="299" y="1927"/>
                    </a:lnTo>
                    <a:lnTo>
                      <a:pt x="262" y="1886"/>
                    </a:lnTo>
                    <a:lnTo>
                      <a:pt x="229" y="1842"/>
                    </a:lnTo>
                    <a:lnTo>
                      <a:pt x="197" y="1797"/>
                    </a:lnTo>
                    <a:lnTo>
                      <a:pt x="167" y="1750"/>
                    </a:lnTo>
                    <a:lnTo>
                      <a:pt x="139" y="1702"/>
                    </a:lnTo>
                    <a:lnTo>
                      <a:pt x="114" y="1652"/>
                    </a:lnTo>
                    <a:lnTo>
                      <a:pt x="91" y="1601"/>
                    </a:lnTo>
                    <a:lnTo>
                      <a:pt x="70" y="1548"/>
                    </a:lnTo>
                    <a:lnTo>
                      <a:pt x="51" y="1495"/>
                    </a:lnTo>
                    <a:lnTo>
                      <a:pt x="36" y="1440"/>
                    </a:lnTo>
                    <a:lnTo>
                      <a:pt x="23" y="1385"/>
                    </a:lnTo>
                    <a:lnTo>
                      <a:pt x="13" y="1327"/>
                    </a:lnTo>
                    <a:lnTo>
                      <a:pt x="5" y="1270"/>
                    </a:lnTo>
                    <a:lnTo>
                      <a:pt x="1" y="1212"/>
                    </a:lnTo>
                    <a:lnTo>
                      <a:pt x="0" y="1152"/>
                    </a:lnTo>
                    <a:lnTo>
                      <a:pt x="1" y="1093"/>
                    </a:lnTo>
                    <a:lnTo>
                      <a:pt x="5" y="1035"/>
                    </a:lnTo>
                    <a:lnTo>
                      <a:pt x="13" y="977"/>
                    </a:lnTo>
                    <a:lnTo>
                      <a:pt x="23" y="921"/>
                    </a:lnTo>
                    <a:lnTo>
                      <a:pt x="36" y="864"/>
                    </a:lnTo>
                    <a:lnTo>
                      <a:pt x="51" y="810"/>
                    </a:lnTo>
                    <a:lnTo>
                      <a:pt x="70" y="756"/>
                    </a:lnTo>
                    <a:lnTo>
                      <a:pt x="91" y="704"/>
                    </a:lnTo>
                    <a:lnTo>
                      <a:pt x="114" y="653"/>
                    </a:lnTo>
                    <a:lnTo>
                      <a:pt x="139" y="603"/>
                    </a:lnTo>
                    <a:lnTo>
                      <a:pt x="167" y="555"/>
                    </a:lnTo>
                    <a:lnTo>
                      <a:pt x="197" y="508"/>
                    </a:lnTo>
                    <a:lnTo>
                      <a:pt x="229" y="463"/>
                    </a:lnTo>
                    <a:lnTo>
                      <a:pt x="262" y="420"/>
                    </a:lnTo>
                    <a:lnTo>
                      <a:pt x="299" y="378"/>
                    </a:lnTo>
                    <a:lnTo>
                      <a:pt x="337" y="338"/>
                    </a:lnTo>
                    <a:lnTo>
                      <a:pt x="377" y="300"/>
                    </a:lnTo>
                    <a:lnTo>
                      <a:pt x="419" y="263"/>
                    </a:lnTo>
                    <a:lnTo>
                      <a:pt x="463" y="229"/>
                    </a:lnTo>
                    <a:lnTo>
                      <a:pt x="508" y="197"/>
                    </a:lnTo>
                    <a:lnTo>
                      <a:pt x="555" y="167"/>
                    </a:lnTo>
                    <a:lnTo>
                      <a:pt x="602" y="140"/>
                    </a:lnTo>
                    <a:lnTo>
                      <a:pt x="653" y="114"/>
                    </a:lnTo>
                    <a:lnTo>
                      <a:pt x="703" y="91"/>
                    </a:lnTo>
                    <a:lnTo>
                      <a:pt x="755" y="70"/>
                    </a:lnTo>
                    <a:lnTo>
                      <a:pt x="809" y="52"/>
                    </a:lnTo>
                    <a:lnTo>
                      <a:pt x="863" y="37"/>
                    </a:lnTo>
                    <a:lnTo>
                      <a:pt x="920" y="23"/>
                    </a:lnTo>
                    <a:lnTo>
                      <a:pt x="976" y="14"/>
                    </a:lnTo>
                    <a:lnTo>
                      <a:pt x="1034" y="6"/>
                    </a:lnTo>
                    <a:lnTo>
                      <a:pt x="1093" y="1"/>
                    </a:lnTo>
                    <a:lnTo>
                      <a:pt x="1151" y="0"/>
                    </a:lnTo>
                    <a:lnTo>
                      <a:pt x="1151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486840" y="3281040"/>
                <a:ext cx="29160" cy="44640"/>
              </a:xfrm>
              <a:custGeom>
                <a:avLst/>
                <a:gdLst/>
                <a:ahLst/>
                <a:rect l="l" t="t" r="r" b="b"/>
                <a:pathLst>
                  <a:path w="511" h="702">
                    <a:moveTo>
                      <a:pt x="0" y="82"/>
                    </a:moveTo>
                    <a:lnTo>
                      <a:pt x="345" y="702"/>
                    </a:lnTo>
                    <a:lnTo>
                      <a:pt x="511" y="598"/>
                    </a:lnTo>
                    <a:lnTo>
                      <a:pt x="145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6522480" y="3215160"/>
                <a:ext cx="28080" cy="44640"/>
              </a:xfrm>
              <a:custGeom>
                <a:avLst/>
                <a:gdLst/>
                <a:ahLst/>
                <a:rect l="l" t="t" r="r" b="b"/>
                <a:pathLst>
                  <a:path w="492" h="705">
                    <a:moveTo>
                      <a:pt x="144" y="0"/>
                    </a:moveTo>
                    <a:lnTo>
                      <a:pt x="492" y="610"/>
                    </a:lnTo>
                    <a:lnTo>
                      <a:pt x="487" y="612"/>
                    </a:lnTo>
                    <a:lnTo>
                      <a:pt x="475" y="617"/>
                    </a:lnTo>
                    <a:lnTo>
                      <a:pt x="456" y="625"/>
                    </a:lnTo>
                    <a:lnTo>
                      <a:pt x="434" y="635"/>
                    </a:lnTo>
                    <a:lnTo>
                      <a:pt x="411" y="647"/>
                    </a:lnTo>
                    <a:lnTo>
                      <a:pt x="391" y="660"/>
                    </a:lnTo>
                    <a:lnTo>
                      <a:pt x="373" y="674"/>
                    </a:lnTo>
                    <a:lnTo>
                      <a:pt x="363" y="688"/>
                    </a:lnTo>
                    <a:lnTo>
                      <a:pt x="354" y="704"/>
                    </a:lnTo>
                    <a:lnTo>
                      <a:pt x="351" y="705"/>
                    </a:lnTo>
                    <a:lnTo>
                      <a:pt x="351" y="700"/>
                    </a:lnTo>
                    <a:lnTo>
                      <a:pt x="353" y="696"/>
                    </a:lnTo>
                    <a:lnTo>
                      <a:pt x="0" y="81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6496200" y="3220920"/>
                <a:ext cx="76320" cy="108360"/>
              </a:xfrm>
              <a:custGeom>
                <a:avLst/>
                <a:gdLst/>
                <a:ahLst/>
                <a:rect l="l" t="t" r="r" b="b"/>
                <a:pathLst>
                  <a:path w="1330" h="1698">
                    <a:moveTo>
                      <a:pt x="982" y="1008"/>
                    </a:moveTo>
                    <a:lnTo>
                      <a:pt x="958" y="1021"/>
                    </a:lnTo>
                    <a:lnTo>
                      <a:pt x="1293" y="1607"/>
                    </a:lnTo>
                    <a:lnTo>
                      <a:pt x="1272" y="1616"/>
                    </a:lnTo>
                    <a:lnTo>
                      <a:pt x="1250" y="1624"/>
                    </a:lnTo>
                    <a:lnTo>
                      <a:pt x="1229" y="1632"/>
                    </a:lnTo>
                    <a:lnTo>
                      <a:pt x="1208" y="1639"/>
                    </a:lnTo>
                    <a:lnTo>
                      <a:pt x="1186" y="1646"/>
                    </a:lnTo>
                    <a:lnTo>
                      <a:pt x="1163" y="1652"/>
                    </a:lnTo>
                    <a:lnTo>
                      <a:pt x="1141" y="1657"/>
                    </a:lnTo>
                    <a:lnTo>
                      <a:pt x="1118" y="1662"/>
                    </a:lnTo>
                    <a:lnTo>
                      <a:pt x="1095" y="1667"/>
                    </a:lnTo>
                    <a:lnTo>
                      <a:pt x="1072" y="1671"/>
                    </a:lnTo>
                    <a:lnTo>
                      <a:pt x="1049" y="1674"/>
                    </a:lnTo>
                    <a:lnTo>
                      <a:pt x="1026" y="1677"/>
                    </a:lnTo>
                    <a:lnTo>
                      <a:pt x="1001" y="1679"/>
                    </a:lnTo>
                    <a:lnTo>
                      <a:pt x="978" y="1680"/>
                    </a:lnTo>
                    <a:lnTo>
                      <a:pt x="954" y="1682"/>
                    </a:lnTo>
                    <a:lnTo>
                      <a:pt x="930" y="1682"/>
                    </a:lnTo>
                    <a:lnTo>
                      <a:pt x="883" y="1680"/>
                    </a:lnTo>
                    <a:lnTo>
                      <a:pt x="837" y="1677"/>
                    </a:lnTo>
                    <a:lnTo>
                      <a:pt x="791" y="1671"/>
                    </a:lnTo>
                    <a:lnTo>
                      <a:pt x="746" y="1663"/>
                    </a:lnTo>
                    <a:lnTo>
                      <a:pt x="702" y="1653"/>
                    </a:lnTo>
                    <a:lnTo>
                      <a:pt x="658" y="1640"/>
                    </a:lnTo>
                    <a:lnTo>
                      <a:pt x="615" y="1626"/>
                    </a:lnTo>
                    <a:lnTo>
                      <a:pt x="574" y="1610"/>
                    </a:lnTo>
                    <a:lnTo>
                      <a:pt x="534" y="1592"/>
                    </a:lnTo>
                    <a:lnTo>
                      <a:pt x="495" y="1571"/>
                    </a:lnTo>
                    <a:lnTo>
                      <a:pt x="456" y="1549"/>
                    </a:lnTo>
                    <a:lnTo>
                      <a:pt x="418" y="1526"/>
                    </a:lnTo>
                    <a:lnTo>
                      <a:pt x="383" y="1500"/>
                    </a:lnTo>
                    <a:lnTo>
                      <a:pt x="348" y="1473"/>
                    </a:lnTo>
                    <a:lnTo>
                      <a:pt x="315" y="1444"/>
                    </a:lnTo>
                    <a:lnTo>
                      <a:pt x="284" y="1414"/>
                    </a:lnTo>
                    <a:lnTo>
                      <a:pt x="253" y="1382"/>
                    </a:lnTo>
                    <a:lnTo>
                      <a:pt x="224" y="1349"/>
                    </a:lnTo>
                    <a:lnTo>
                      <a:pt x="197" y="1314"/>
                    </a:lnTo>
                    <a:lnTo>
                      <a:pt x="172" y="1278"/>
                    </a:lnTo>
                    <a:lnTo>
                      <a:pt x="148" y="1242"/>
                    </a:lnTo>
                    <a:lnTo>
                      <a:pt x="126" y="1204"/>
                    </a:lnTo>
                    <a:lnTo>
                      <a:pt x="105" y="1163"/>
                    </a:lnTo>
                    <a:lnTo>
                      <a:pt x="87" y="1123"/>
                    </a:lnTo>
                    <a:lnTo>
                      <a:pt x="71" y="1081"/>
                    </a:lnTo>
                    <a:lnTo>
                      <a:pt x="57" y="1039"/>
                    </a:lnTo>
                    <a:lnTo>
                      <a:pt x="44" y="996"/>
                    </a:lnTo>
                    <a:lnTo>
                      <a:pt x="34" y="951"/>
                    </a:lnTo>
                    <a:lnTo>
                      <a:pt x="26" y="906"/>
                    </a:lnTo>
                    <a:lnTo>
                      <a:pt x="20" y="860"/>
                    </a:lnTo>
                    <a:lnTo>
                      <a:pt x="16" y="814"/>
                    </a:lnTo>
                    <a:lnTo>
                      <a:pt x="15" y="767"/>
                    </a:lnTo>
                    <a:lnTo>
                      <a:pt x="16" y="710"/>
                    </a:lnTo>
                    <a:lnTo>
                      <a:pt x="22" y="655"/>
                    </a:lnTo>
                    <a:lnTo>
                      <a:pt x="30" y="601"/>
                    </a:lnTo>
                    <a:lnTo>
                      <a:pt x="42" y="548"/>
                    </a:lnTo>
                    <a:lnTo>
                      <a:pt x="57" y="496"/>
                    </a:lnTo>
                    <a:lnTo>
                      <a:pt x="74" y="445"/>
                    </a:lnTo>
                    <a:lnTo>
                      <a:pt x="95" y="396"/>
                    </a:lnTo>
                    <a:lnTo>
                      <a:pt x="118" y="348"/>
                    </a:lnTo>
                    <a:lnTo>
                      <a:pt x="143" y="301"/>
                    </a:lnTo>
                    <a:lnTo>
                      <a:pt x="172" y="257"/>
                    </a:lnTo>
                    <a:lnTo>
                      <a:pt x="202" y="214"/>
                    </a:lnTo>
                    <a:lnTo>
                      <a:pt x="235" y="174"/>
                    </a:lnTo>
                    <a:lnTo>
                      <a:pt x="271" y="134"/>
                    </a:lnTo>
                    <a:lnTo>
                      <a:pt x="308" y="98"/>
                    </a:lnTo>
                    <a:lnTo>
                      <a:pt x="348" y="63"/>
                    </a:lnTo>
                    <a:lnTo>
                      <a:pt x="390" y="31"/>
                    </a:lnTo>
                    <a:lnTo>
                      <a:pt x="727" y="615"/>
                    </a:lnTo>
                    <a:lnTo>
                      <a:pt x="751" y="601"/>
                    </a:lnTo>
                    <a:lnTo>
                      <a:pt x="406" y="0"/>
                    </a:lnTo>
                    <a:lnTo>
                      <a:pt x="389" y="12"/>
                    </a:lnTo>
                    <a:lnTo>
                      <a:pt x="371" y="25"/>
                    </a:lnTo>
                    <a:lnTo>
                      <a:pt x="354" y="38"/>
                    </a:lnTo>
                    <a:lnTo>
                      <a:pt x="337" y="52"/>
                    </a:lnTo>
                    <a:lnTo>
                      <a:pt x="321" y="65"/>
                    </a:lnTo>
                    <a:lnTo>
                      <a:pt x="304" y="80"/>
                    </a:lnTo>
                    <a:lnTo>
                      <a:pt x="288" y="95"/>
                    </a:lnTo>
                    <a:lnTo>
                      <a:pt x="272" y="110"/>
                    </a:lnTo>
                    <a:lnTo>
                      <a:pt x="240" y="144"/>
                    </a:lnTo>
                    <a:lnTo>
                      <a:pt x="210" y="179"/>
                    </a:lnTo>
                    <a:lnTo>
                      <a:pt x="182" y="215"/>
                    </a:lnTo>
                    <a:lnTo>
                      <a:pt x="156" y="253"/>
                    </a:lnTo>
                    <a:lnTo>
                      <a:pt x="132" y="291"/>
                    </a:lnTo>
                    <a:lnTo>
                      <a:pt x="110" y="330"/>
                    </a:lnTo>
                    <a:lnTo>
                      <a:pt x="89" y="371"/>
                    </a:lnTo>
                    <a:lnTo>
                      <a:pt x="71" y="412"/>
                    </a:lnTo>
                    <a:lnTo>
                      <a:pt x="54" y="455"/>
                    </a:lnTo>
                    <a:lnTo>
                      <a:pt x="41" y="497"/>
                    </a:lnTo>
                    <a:lnTo>
                      <a:pt x="28" y="541"/>
                    </a:lnTo>
                    <a:lnTo>
                      <a:pt x="19" y="585"/>
                    </a:lnTo>
                    <a:lnTo>
                      <a:pt x="11" y="630"/>
                    </a:lnTo>
                    <a:lnTo>
                      <a:pt x="5" y="675"/>
                    </a:lnTo>
                    <a:lnTo>
                      <a:pt x="2" y="721"/>
                    </a:lnTo>
                    <a:lnTo>
                      <a:pt x="0" y="767"/>
                    </a:lnTo>
                    <a:lnTo>
                      <a:pt x="2" y="813"/>
                    </a:lnTo>
                    <a:lnTo>
                      <a:pt x="5" y="859"/>
                    </a:lnTo>
                    <a:lnTo>
                      <a:pt x="11" y="905"/>
                    </a:lnTo>
                    <a:lnTo>
                      <a:pt x="19" y="950"/>
                    </a:lnTo>
                    <a:lnTo>
                      <a:pt x="28" y="995"/>
                    </a:lnTo>
                    <a:lnTo>
                      <a:pt x="41" y="1039"/>
                    </a:lnTo>
                    <a:lnTo>
                      <a:pt x="54" y="1081"/>
                    </a:lnTo>
                    <a:lnTo>
                      <a:pt x="71" y="1124"/>
                    </a:lnTo>
                    <a:lnTo>
                      <a:pt x="89" y="1165"/>
                    </a:lnTo>
                    <a:lnTo>
                      <a:pt x="110" y="1206"/>
                    </a:lnTo>
                    <a:lnTo>
                      <a:pt x="132" y="1245"/>
                    </a:lnTo>
                    <a:lnTo>
                      <a:pt x="156" y="1283"/>
                    </a:lnTo>
                    <a:lnTo>
                      <a:pt x="182" y="1321"/>
                    </a:lnTo>
                    <a:lnTo>
                      <a:pt x="210" y="1357"/>
                    </a:lnTo>
                    <a:lnTo>
                      <a:pt x="240" y="1392"/>
                    </a:lnTo>
                    <a:lnTo>
                      <a:pt x="272" y="1426"/>
                    </a:lnTo>
                    <a:lnTo>
                      <a:pt x="306" y="1458"/>
                    </a:lnTo>
                    <a:lnTo>
                      <a:pt x="341" y="1488"/>
                    </a:lnTo>
                    <a:lnTo>
                      <a:pt x="377" y="1516"/>
                    </a:lnTo>
                    <a:lnTo>
                      <a:pt x="415" y="1542"/>
                    </a:lnTo>
                    <a:lnTo>
                      <a:pt x="453" y="1566"/>
                    </a:lnTo>
                    <a:lnTo>
                      <a:pt x="492" y="1588"/>
                    </a:lnTo>
                    <a:lnTo>
                      <a:pt x="533" y="1609"/>
                    </a:lnTo>
                    <a:lnTo>
                      <a:pt x="574" y="1627"/>
                    </a:lnTo>
                    <a:lnTo>
                      <a:pt x="617" y="1644"/>
                    </a:lnTo>
                    <a:lnTo>
                      <a:pt x="659" y="1657"/>
                    </a:lnTo>
                    <a:lnTo>
                      <a:pt x="703" y="1670"/>
                    </a:lnTo>
                    <a:lnTo>
                      <a:pt x="748" y="1679"/>
                    </a:lnTo>
                    <a:lnTo>
                      <a:pt x="793" y="1687"/>
                    </a:lnTo>
                    <a:lnTo>
                      <a:pt x="838" y="1693"/>
                    </a:lnTo>
                    <a:lnTo>
                      <a:pt x="884" y="1697"/>
                    </a:lnTo>
                    <a:lnTo>
                      <a:pt x="930" y="1698"/>
                    </a:lnTo>
                    <a:lnTo>
                      <a:pt x="956" y="1698"/>
                    </a:lnTo>
                    <a:lnTo>
                      <a:pt x="983" y="1697"/>
                    </a:lnTo>
                    <a:lnTo>
                      <a:pt x="1009" y="1694"/>
                    </a:lnTo>
                    <a:lnTo>
                      <a:pt x="1036" y="1692"/>
                    </a:lnTo>
                    <a:lnTo>
                      <a:pt x="1061" y="1688"/>
                    </a:lnTo>
                    <a:lnTo>
                      <a:pt x="1088" y="1684"/>
                    </a:lnTo>
                    <a:lnTo>
                      <a:pt x="1113" y="1679"/>
                    </a:lnTo>
                    <a:lnTo>
                      <a:pt x="1138" y="1675"/>
                    </a:lnTo>
                    <a:lnTo>
                      <a:pt x="1163" y="1668"/>
                    </a:lnTo>
                    <a:lnTo>
                      <a:pt x="1188" y="1661"/>
                    </a:lnTo>
                    <a:lnTo>
                      <a:pt x="1212" y="1654"/>
                    </a:lnTo>
                    <a:lnTo>
                      <a:pt x="1236" y="1646"/>
                    </a:lnTo>
                    <a:lnTo>
                      <a:pt x="1260" y="1637"/>
                    </a:lnTo>
                    <a:lnTo>
                      <a:pt x="1284" y="1627"/>
                    </a:lnTo>
                    <a:lnTo>
                      <a:pt x="1307" y="1617"/>
                    </a:lnTo>
                    <a:lnTo>
                      <a:pt x="1330" y="1607"/>
                    </a:lnTo>
                    <a:lnTo>
                      <a:pt x="982" y="10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6437880" y="3180600"/>
                <a:ext cx="162000" cy="168480"/>
              </a:xfrm>
              <a:custGeom>
                <a:avLst/>
                <a:gdLst/>
                <a:ahLst/>
                <a:rect l="l" t="t" r="r" b="b"/>
                <a:pathLst>
                  <a:path w="2814" h="2640">
                    <a:moveTo>
                      <a:pt x="2026" y="2640"/>
                    </a:moveTo>
                    <a:lnTo>
                      <a:pt x="2169" y="2578"/>
                    </a:lnTo>
                    <a:lnTo>
                      <a:pt x="2130" y="2441"/>
                    </a:lnTo>
                    <a:lnTo>
                      <a:pt x="2245" y="2360"/>
                    </a:lnTo>
                    <a:lnTo>
                      <a:pt x="2359" y="2420"/>
                    </a:lnTo>
                    <a:lnTo>
                      <a:pt x="2450" y="2329"/>
                    </a:lnTo>
                    <a:lnTo>
                      <a:pt x="2394" y="2214"/>
                    </a:lnTo>
                    <a:lnTo>
                      <a:pt x="2477" y="2107"/>
                    </a:lnTo>
                    <a:lnTo>
                      <a:pt x="2606" y="2136"/>
                    </a:lnTo>
                    <a:lnTo>
                      <a:pt x="2669" y="2026"/>
                    </a:lnTo>
                    <a:lnTo>
                      <a:pt x="2562" y="1949"/>
                    </a:lnTo>
                    <a:lnTo>
                      <a:pt x="2616" y="1819"/>
                    </a:lnTo>
                    <a:lnTo>
                      <a:pt x="2749" y="1825"/>
                    </a:lnTo>
                    <a:lnTo>
                      <a:pt x="2791" y="1693"/>
                    </a:lnTo>
                    <a:lnTo>
                      <a:pt x="2667" y="1633"/>
                    </a:lnTo>
                    <a:lnTo>
                      <a:pt x="2689" y="1484"/>
                    </a:lnTo>
                    <a:lnTo>
                      <a:pt x="2814" y="1444"/>
                    </a:lnTo>
                    <a:lnTo>
                      <a:pt x="2813" y="1323"/>
                    </a:lnTo>
                    <a:lnTo>
                      <a:pt x="2681" y="1296"/>
                    </a:lnTo>
                    <a:lnTo>
                      <a:pt x="2668" y="1158"/>
                    </a:lnTo>
                    <a:lnTo>
                      <a:pt x="2786" y="1079"/>
                    </a:lnTo>
                    <a:lnTo>
                      <a:pt x="2745" y="960"/>
                    </a:lnTo>
                    <a:lnTo>
                      <a:pt x="2613" y="966"/>
                    </a:lnTo>
                    <a:lnTo>
                      <a:pt x="2556" y="830"/>
                    </a:lnTo>
                    <a:lnTo>
                      <a:pt x="2647" y="738"/>
                    </a:lnTo>
                    <a:lnTo>
                      <a:pt x="2585" y="637"/>
                    </a:lnTo>
                    <a:lnTo>
                      <a:pt x="2454" y="663"/>
                    </a:lnTo>
                    <a:lnTo>
                      <a:pt x="2371" y="551"/>
                    </a:lnTo>
                    <a:lnTo>
                      <a:pt x="2427" y="436"/>
                    </a:lnTo>
                    <a:lnTo>
                      <a:pt x="2339" y="354"/>
                    </a:lnTo>
                    <a:lnTo>
                      <a:pt x="2223" y="415"/>
                    </a:lnTo>
                    <a:lnTo>
                      <a:pt x="2100" y="328"/>
                    </a:lnTo>
                    <a:lnTo>
                      <a:pt x="2135" y="208"/>
                    </a:lnTo>
                    <a:lnTo>
                      <a:pt x="2040" y="154"/>
                    </a:lnTo>
                    <a:lnTo>
                      <a:pt x="1939" y="237"/>
                    </a:lnTo>
                    <a:lnTo>
                      <a:pt x="1808" y="195"/>
                    </a:lnTo>
                    <a:lnTo>
                      <a:pt x="1802" y="59"/>
                    </a:lnTo>
                    <a:lnTo>
                      <a:pt x="1694" y="32"/>
                    </a:lnTo>
                    <a:lnTo>
                      <a:pt x="1619" y="147"/>
                    </a:lnTo>
                    <a:lnTo>
                      <a:pt x="1470" y="127"/>
                    </a:lnTo>
                    <a:lnTo>
                      <a:pt x="1444" y="0"/>
                    </a:lnTo>
                    <a:lnTo>
                      <a:pt x="1319" y="5"/>
                    </a:lnTo>
                    <a:lnTo>
                      <a:pt x="1277" y="132"/>
                    </a:lnTo>
                    <a:lnTo>
                      <a:pt x="1150" y="150"/>
                    </a:lnTo>
                    <a:lnTo>
                      <a:pt x="1077" y="31"/>
                    </a:lnTo>
                    <a:lnTo>
                      <a:pt x="959" y="63"/>
                    </a:lnTo>
                    <a:lnTo>
                      <a:pt x="952" y="206"/>
                    </a:lnTo>
                    <a:lnTo>
                      <a:pt x="848" y="247"/>
                    </a:lnTo>
                    <a:lnTo>
                      <a:pt x="749" y="160"/>
                    </a:lnTo>
                    <a:lnTo>
                      <a:pt x="643" y="215"/>
                    </a:lnTo>
                    <a:lnTo>
                      <a:pt x="678" y="351"/>
                    </a:lnTo>
                    <a:lnTo>
                      <a:pt x="572" y="427"/>
                    </a:lnTo>
                    <a:lnTo>
                      <a:pt x="445" y="379"/>
                    </a:lnTo>
                    <a:lnTo>
                      <a:pt x="355" y="451"/>
                    </a:lnTo>
                    <a:lnTo>
                      <a:pt x="428" y="565"/>
                    </a:lnTo>
                    <a:lnTo>
                      <a:pt x="347" y="672"/>
                    </a:lnTo>
                    <a:lnTo>
                      <a:pt x="210" y="648"/>
                    </a:lnTo>
                    <a:lnTo>
                      <a:pt x="157" y="747"/>
                    </a:lnTo>
                    <a:lnTo>
                      <a:pt x="259" y="843"/>
                    </a:lnTo>
                    <a:lnTo>
                      <a:pt x="188" y="979"/>
                    </a:lnTo>
                    <a:lnTo>
                      <a:pt x="63" y="984"/>
                    </a:lnTo>
                    <a:lnTo>
                      <a:pt x="23" y="1096"/>
                    </a:lnTo>
                    <a:lnTo>
                      <a:pt x="147" y="1172"/>
                    </a:lnTo>
                    <a:lnTo>
                      <a:pt x="129" y="1308"/>
                    </a:lnTo>
                    <a:lnTo>
                      <a:pt x="0" y="1351"/>
                    </a:lnTo>
                    <a:lnTo>
                      <a:pt x="3" y="1443"/>
                    </a:lnTo>
                    <a:lnTo>
                      <a:pt x="12" y="1496"/>
                    </a:lnTo>
                    <a:lnTo>
                      <a:pt x="281" y="1502"/>
                    </a:lnTo>
                    <a:lnTo>
                      <a:pt x="283" y="1495"/>
                    </a:lnTo>
                    <a:lnTo>
                      <a:pt x="288" y="1474"/>
                    </a:lnTo>
                    <a:lnTo>
                      <a:pt x="295" y="1441"/>
                    </a:lnTo>
                    <a:lnTo>
                      <a:pt x="306" y="1399"/>
                    </a:lnTo>
                    <a:lnTo>
                      <a:pt x="317" y="1349"/>
                    </a:lnTo>
                    <a:lnTo>
                      <a:pt x="331" y="1292"/>
                    </a:lnTo>
                    <a:lnTo>
                      <a:pt x="346" y="1232"/>
                    </a:lnTo>
                    <a:lnTo>
                      <a:pt x="362" y="1169"/>
                    </a:lnTo>
                    <a:lnTo>
                      <a:pt x="378" y="1105"/>
                    </a:lnTo>
                    <a:lnTo>
                      <a:pt x="394" y="1043"/>
                    </a:lnTo>
                    <a:lnTo>
                      <a:pt x="410" y="983"/>
                    </a:lnTo>
                    <a:lnTo>
                      <a:pt x="425" y="929"/>
                    </a:lnTo>
                    <a:lnTo>
                      <a:pt x="440" y="882"/>
                    </a:lnTo>
                    <a:lnTo>
                      <a:pt x="453" y="843"/>
                    </a:lnTo>
                    <a:lnTo>
                      <a:pt x="463" y="814"/>
                    </a:lnTo>
                    <a:lnTo>
                      <a:pt x="473" y="798"/>
                    </a:lnTo>
                    <a:lnTo>
                      <a:pt x="486" y="785"/>
                    </a:lnTo>
                    <a:lnTo>
                      <a:pt x="512" y="767"/>
                    </a:lnTo>
                    <a:lnTo>
                      <a:pt x="546" y="744"/>
                    </a:lnTo>
                    <a:lnTo>
                      <a:pt x="589" y="717"/>
                    </a:lnTo>
                    <a:lnTo>
                      <a:pt x="638" y="687"/>
                    </a:lnTo>
                    <a:lnTo>
                      <a:pt x="693" y="655"/>
                    </a:lnTo>
                    <a:lnTo>
                      <a:pt x="749" y="622"/>
                    </a:lnTo>
                    <a:lnTo>
                      <a:pt x="808" y="588"/>
                    </a:lnTo>
                    <a:lnTo>
                      <a:pt x="865" y="555"/>
                    </a:lnTo>
                    <a:lnTo>
                      <a:pt x="921" y="524"/>
                    </a:lnTo>
                    <a:lnTo>
                      <a:pt x="973" y="495"/>
                    </a:lnTo>
                    <a:lnTo>
                      <a:pt x="1019" y="470"/>
                    </a:lnTo>
                    <a:lnTo>
                      <a:pt x="1058" y="448"/>
                    </a:lnTo>
                    <a:lnTo>
                      <a:pt x="1088" y="430"/>
                    </a:lnTo>
                    <a:lnTo>
                      <a:pt x="1106" y="420"/>
                    </a:lnTo>
                    <a:lnTo>
                      <a:pt x="1113" y="417"/>
                    </a:lnTo>
                    <a:lnTo>
                      <a:pt x="1755" y="408"/>
                    </a:lnTo>
                    <a:lnTo>
                      <a:pt x="2246" y="844"/>
                    </a:lnTo>
                    <a:lnTo>
                      <a:pt x="2419" y="1236"/>
                    </a:lnTo>
                    <a:lnTo>
                      <a:pt x="2218" y="2054"/>
                    </a:lnTo>
                    <a:lnTo>
                      <a:pt x="1880" y="2329"/>
                    </a:lnTo>
                    <a:lnTo>
                      <a:pt x="1727" y="2428"/>
                    </a:lnTo>
                    <a:lnTo>
                      <a:pt x="2026" y="26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452280" y="3196440"/>
                <a:ext cx="132840" cy="147240"/>
              </a:xfrm>
              <a:custGeom>
                <a:avLst/>
                <a:gdLst/>
                <a:ahLst/>
                <a:rect l="l" t="t" r="r" b="b"/>
                <a:pathLst>
                  <a:path w="2303" h="2303">
                    <a:moveTo>
                      <a:pt x="2287" y="1151"/>
                    </a:moveTo>
                    <a:lnTo>
                      <a:pt x="2286" y="1092"/>
                    </a:lnTo>
                    <a:lnTo>
                      <a:pt x="2281" y="1035"/>
                    </a:lnTo>
                    <a:lnTo>
                      <a:pt x="2275" y="978"/>
                    </a:lnTo>
                    <a:lnTo>
                      <a:pt x="2264" y="922"/>
                    </a:lnTo>
                    <a:lnTo>
                      <a:pt x="2251" y="868"/>
                    </a:lnTo>
                    <a:lnTo>
                      <a:pt x="2237" y="814"/>
                    </a:lnTo>
                    <a:lnTo>
                      <a:pt x="2218" y="761"/>
                    </a:lnTo>
                    <a:lnTo>
                      <a:pt x="2197" y="710"/>
                    </a:lnTo>
                    <a:lnTo>
                      <a:pt x="2175" y="659"/>
                    </a:lnTo>
                    <a:lnTo>
                      <a:pt x="2150" y="610"/>
                    </a:lnTo>
                    <a:lnTo>
                      <a:pt x="2122" y="563"/>
                    </a:lnTo>
                    <a:lnTo>
                      <a:pt x="2093" y="516"/>
                    </a:lnTo>
                    <a:lnTo>
                      <a:pt x="2061" y="473"/>
                    </a:lnTo>
                    <a:lnTo>
                      <a:pt x="2028" y="429"/>
                    </a:lnTo>
                    <a:lnTo>
                      <a:pt x="1992" y="389"/>
                    </a:lnTo>
                    <a:lnTo>
                      <a:pt x="1954" y="348"/>
                    </a:lnTo>
                    <a:lnTo>
                      <a:pt x="1915" y="311"/>
                    </a:lnTo>
                    <a:lnTo>
                      <a:pt x="1874" y="276"/>
                    </a:lnTo>
                    <a:lnTo>
                      <a:pt x="1831" y="242"/>
                    </a:lnTo>
                    <a:lnTo>
                      <a:pt x="1786" y="210"/>
                    </a:lnTo>
                    <a:lnTo>
                      <a:pt x="1740" y="181"/>
                    </a:lnTo>
                    <a:lnTo>
                      <a:pt x="1693" y="154"/>
                    </a:lnTo>
                    <a:lnTo>
                      <a:pt x="1643" y="128"/>
                    </a:lnTo>
                    <a:lnTo>
                      <a:pt x="1594" y="105"/>
                    </a:lnTo>
                    <a:lnTo>
                      <a:pt x="1542" y="86"/>
                    </a:lnTo>
                    <a:lnTo>
                      <a:pt x="1489" y="67"/>
                    </a:lnTo>
                    <a:lnTo>
                      <a:pt x="1435" y="52"/>
                    </a:lnTo>
                    <a:lnTo>
                      <a:pt x="1381" y="40"/>
                    </a:lnTo>
                    <a:lnTo>
                      <a:pt x="1324" y="29"/>
                    </a:lnTo>
                    <a:lnTo>
                      <a:pt x="1268" y="22"/>
                    </a:lnTo>
                    <a:lnTo>
                      <a:pt x="1210" y="18"/>
                    </a:lnTo>
                    <a:lnTo>
                      <a:pt x="1151" y="16"/>
                    </a:lnTo>
                    <a:lnTo>
                      <a:pt x="1093" y="18"/>
                    </a:lnTo>
                    <a:lnTo>
                      <a:pt x="1035" y="22"/>
                    </a:lnTo>
                    <a:lnTo>
                      <a:pt x="979" y="29"/>
                    </a:lnTo>
                    <a:lnTo>
                      <a:pt x="922" y="40"/>
                    </a:lnTo>
                    <a:lnTo>
                      <a:pt x="868" y="52"/>
                    </a:lnTo>
                    <a:lnTo>
                      <a:pt x="814" y="67"/>
                    </a:lnTo>
                    <a:lnTo>
                      <a:pt x="761" y="86"/>
                    </a:lnTo>
                    <a:lnTo>
                      <a:pt x="709" y="105"/>
                    </a:lnTo>
                    <a:lnTo>
                      <a:pt x="660" y="128"/>
                    </a:lnTo>
                    <a:lnTo>
                      <a:pt x="610" y="154"/>
                    </a:lnTo>
                    <a:lnTo>
                      <a:pt x="563" y="181"/>
                    </a:lnTo>
                    <a:lnTo>
                      <a:pt x="517" y="210"/>
                    </a:lnTo>
                    <a:lnTo>
                      <a:pt x="472" y="242"/>
                    </a:lnTo>
                    <a:lnTo>
                      <a:pt x="429" y="276"/>
                    </a:lnTo>
                    <a:lnTo>
                      <a:pt x="388" y="311"/>
                    </a:lnTo>
                    <a:lnTo>
                      <a:pt x="349" y="348"/>
                    </a:lnTo>
                    <a:lnTo>
                      <a:pt x="311" y="389"/>
                    </a:lnTo>
                    <a:lnTo>
                      <a:pt x="275" y="429"/>
                    </a:lnTo>
                    <a:lnTo>
                      <a:pt x="241" y="473"/>
                    </a:lnTo>
                    <a:lnTo>
                      <a:pt x="210" y="516"/>
                    </a:lnTo>
                    <a:lnTo>
                      <a:pt x="180" y="563"/>
                    </a:lnTo>
                    <a:lnTo>
                      <a:pt x="153" y="610"/>
                    </a:lnTo>
                    <a:lnTo>
                      <a:pt x="127" y="659"/>
                    </a:lnTo>
                    <a:lnTo>
                      <a:pt x="106" y="710"/>
                    </a:lnTo>
                    <a:lnTo>
                      <a:pt x="85" y="761"/>
                    </a:lnTo>
                    <a:lnTo>
                      <a:pt x="66" y="814"/>
                    </a:lnTo>
                    <a:lnTo>
                      <a:pt x="51" y="868"/>
                    </a:lnTo>
                    <a:lnTo>
                      <a:pt x="39" y="922"/>
                    </a:lnTo>
                    <a:lnTo>
                      <a:pt x="28" y="978"/>
                    </a:lnTo>
                    <a:lnTo>
                      <a:pt x="21" y="1035"/>
                    </a:lnTo>
                    <a:lnTo>
                      <a:pt x="17" y="1092"/>
                    </a:lnTo>
                    <a:lnTo>
                      <a:pt x="16" y="1151"/>
                    </a:lnTo>
                    <a:lnTo>
                      <a:pt x="17" y="1210"/>
                    </a:lnTo>
                    <a:lnTo>
                      <a:pt x="21" y="1268"/>
                    </a:lnTo>
                    <a:lnTo>
                      <a:pt x="28" y="1324"/>
                    </a:lnTo>
                    <a:lnTo>
                      <a:pt x="39" y="1380"/>
                    </a:lnTo>
                    <a:lnTo>
                      <a:pt x="51" y="1436"/>
                    </a:lnTo>
                    <a:lnTo>
                      <a:pt x="66" y="1489"/>
                    </a:lnTo>
                    <a:lnTo>
                      <a:pt x="85" y="1542"/>
                    </a:lnTo>
                    <a:lnTo>
                      <a:pt x="106" y="1594"/>
                    </a:lnTo>
                    <a:lnTo>
                      <a:pt x="127" y="1644"/>
                    </a:lnTo>
                    <a:lnTo>
                      <a:pt x="153" y="1693"/>
                    </a:lnTo>
                    <a:lnTo>
                      <a:pt x="180" y="1741"/>
                    </a:lnTo>
                    <a:lnTo>
                      <a:pt x="210" y="1787"/>
                    </a:lnTo>
                    <a:lnTo>
                      <a:pt x="241" y="1831"/>
                    </a:lnTo>
                    <a:lnTo>
                      <a:pt x="275" y="1875"/>
                    </a:lnTo>
                    <a:lnTo>
                      <a:pt x="311" y="1916"/>
                    </a:lnTo>
                    <a:lnTo>
                      <a:pt x="349" y="1955"/>
                    </a:lnTo>
                    <a:lnTo>
                      <a:pt x="388" y="1993"/>
                    </a:lnTo>
                    <a:lnTo>
                      <a:pt x="429" y="2029"/>
                    </a:lnTo>
                    <a:lnTo>
                      <a:pt x="472" y="2062"/>
                    </a:lnTo>
                    <a:lnTo>
                      <a:pt x="517" y="2094"/>
                    </a:lnTo>
                    <a:lnTo>
                      <a:pt x="563" y="2123"/>
                    </a:lnTo>
                    <a:lnTo>
                      <a:pt x="610" y="2151"/>
                    </a:lnTo>
                    <a:lnTo>
                      <a:pt x="660" y="2176"/>
                    </a:lnTo>
                    <a:lnTo>
                      <a:pt x="709" y="2198"/>
                    </a:lnTo>
                    <a:lnTo>
                      <a:pt x="761" y="2219"/>
                    </a:lnTo>
                    <a:lnTo>
                      <a:pt x="814" y="2238"/>
                    </a:lnTo>
                    <a:lnTo>
                      <a:pt x="868" y="2253"/>
                    </a:lnTo>
                    <a:lnTo>
                      <a:pt x="922" y="2265"/>
                    </a:lnTo>
                    <a:lnTo>
                      <a:pt x="979" y="2276"/>
                    </a:lnTo>
                    <a:lnTo>
                      <a:pt x="1035" y="2282"/>
                    </a:lnTo>
                    <a:lnTo>
                      <a:pt x="1093" y="2287"/>
                    </a:lnTo>
                    <a:lnTo>
                      <a:pt x="1151" y="2288"/>
                    </a:lnTo>
                    <a:lnTo>
                      <a:pt x="1210" y="2287"/>
                    </a:lnTo>
                    <a:lnTo>
                      <a:pt x="1268" y="2282"/>
                    </a:lnTo>
                    <a:lnTo>
                      <a:pt x="1324" y="2276"/>
                    </a:lnTo>
                    <a:lnTo>
                      <a:pt x="1381" y="2265"/>
                    </a:lnTo>
                    <a:lnTo>
                      <a:pt x="1435" y="2253"/>
                    </a:lnTo>
                    <a:lnTo>
                      <a:pt x="1489" y="2238"/>
                    </a:lnTo>
                    <a:lnTo>
                      <a:pt x="1542" y="2219"/>
                    </a:lnTo>
                    <a:lnTo>
                      <a:pt x="1594" y="2198"/>
                    </a:lnTo>
                    <a:lnTo>
                      <a:pt x="1643" y="2176"/>
                    </a:lnTo>
                    <a:lnTo>
                      <a:pt x="1693" y="2151"/>
                    </a:lnTo>
                    <a:lnTo>
                      <a:pt x="1740" y="2123"/>
                    </a:lnTo>
                    <a:lnTo>
                      <a:pt x="1786" y="2094"/>
                    </a:lnTo>
                    <a:lnTo>
                      <a:pt x="1831" y="2062"/>
                    </a:lnTo>
                    <a:lnTo>
                      <a:pt x="1874" y="2029"/>
                    </a:lnTo>
                    <a:lnTo>
                      <a:pt x="1915" y="1993"/>
                    </a:lnTo>
                    <a:lnTo>
                      <a:pt x="1954" y="1955"/>
                    </a:lnTo>
                    <a:lnTo>
                      <a:pt x="1992" y="1916"/>
                    </a:lnTo>
                    <a:lnTo>
                      <a:pt x="2028" y="1875"/>
                    </a:lnTo>
                    <a:lnTo>
                      <a:pt x="2061" y="1831"/>
                    </a:lnTo>
                    <a:lnTo>
                      <a:pt x="2093" y="1787"/>
                    </a:lnTo>
                    <a:lnTo>
                      <a:pt x="2122" y="1741"/>
                    </a:lnTo>
                    <a:lnTo>
                      <a:pt x="2150" y="1693"/>
                    </a:lnTo>
                    <a:lnTo>
                      <a:pt x="2175" y="1644"/>
                    </a:lnTo>
                    <a:lnTo>
                      <a:pt x="2197" y="1594"/>
                    </a:lnTo>
                    <a:lnTo>
                      <a:pt x="2218" y="1542"/>
                    </a:lnTo>
                    <a:lnTo>
                      <a:pt x="2237" y="1489"/>
                    </a:lnTo>
                    <a:lnTo>
                      <a:pt x="2251" y="1436"/>
                    </a:lnTo>
                    <a:lnTo>
                      <a:pt x="2264" y="1380"/>
                    </a:lnTo>
                    <a:lnTo>
                      <a:pt x="2275" y="1324"/>
                    </a:lnTo>
                    <a:lnTo>
                      <a:pt x="2281" y="1268"/>
                    </a:lnTo>
                    <a:lnTo>
                      <a:pt x="2286" y="1210"/>
                    </a:lnTo>
                    <a:lnTo>
                      <a:pt x="2287" y="1151"/>
                    </a:lnTo>
                    <a:lnTo>
                      <a:pt x="2303" y="1151"/>
                    </a:lnTo>
                    <a:lnTo>
                      <a:pt x="2302" y="1210"/>
                    </a:lnTo>
                    <a:lnTo>
                      <a:pt x="2298" y="1269"/>
                    </a:lnTo>
                    <a:lnTo>
                      <a:pt x="2289" y="1326"/>
                    </a:lnTo>
                    <a:lnTo>
                      <a:pt x="2280" y="1383"/>
                    </a:lnTo>
                    <a:lnTo>
                      <a:pt x="2266" y="1439"/>
                    </a:lnTo>
                    <a:lnTo>
                      <a:pt x="2251" y="1493"/>
                    </a:lnTo>
                    <a:lnTo>
                      <a:pt x="2233" y="1547"/>
                    </a:lnTo>
                    <a:lnTo>
                      <a:pt x="2212" y="1599"/>
                    </a:lnTo>
                    <a:lnTo>
                      <a:pt x="2189" y="1650"/>
                    </a:lnTo>
                    <a:lnTo>
                      <a:pt x="2164" y="1701"/>
                    </a:lnTo>
                    <a:lnTo>
                      <a:pt x="2136" y="1748"/>
                    </a:lnTo>
                    <a:lnTo>
                      <a:pt x="2106" y="1795"/>
                    </a:lnTo>
                    <a:lnTo>
                      <a:pt x="2074" y="1840"/>
                    </a:lnTo>
                    <a:lnTo>
                      <a:pt x="2040" y="1884"/>
                    </a:lnTo>
                    <a:lnTo>
                      <a:pt x="2004" y="1925"/>
                    </a:lnTo>
                    <a:lnTo>
                      <a:pt x="1966" y="1966"/>
                    </a:lnTo>
                    <a:lnTo>
                      <a:pt x="1926" y="2004"/>
                    </a:lnTo>
                    <a:lnTo>
                      <a:pt x="1884" y="2041"/>
                    </a:lnTo>
                    <a:lnTo>
                      <a:pt x="1840" y="2074"/>
                    </a:lnTo>
                    <a:lnTo>
                      <a:pt x="1795" y="2106"/>
                    </a:lnTo>
                    <a:lnTo>
                      <a:pt x="1748" y="2136"/>
                    </a:lnTo>
                    <a:lnTo>
                      <a:pt x="1700" y="2164"/>
                    </a:lnTo>
                    <a:lnTo>
                      <a:pt x="1650" y="2189"/>
                    </a:lnTo>
                    <a:lnTo>
                      <a:pt x="1600" y="2212"/>
                    </a:lnTo>
                    <a:lnTo>
                      <a:pt x="1547" y="2233"/>
                    </a:lnTo>
                    <a:lnTo>
                      <a:pt x="1494" y="2251"/>
                    </a:lnTo>
                    <a:lnTo>
                      <a:pt x="1438" y="2266"/>
                    </a:lnTo>
                    <a:lnTo>
                      <a:pt x="1383" y="2280"/>
                    </a:lnTo>
                    <a:lnTo>
                      <a:pt x="1327" y="2289"/>
                    </a:lnTo>
                    <a:lnTo>
                      <a:pt x="1269" y="2297"/>
                    </a:lnTo>
                    <a:lnTo>
                      <a:pt x="1210" y="2302"/>
                    </a:lnTo>
                    <a:lnTo>
                      <a:pt x="1151" y="2303"/>
                    </a:lnTo>
                    <a:lnTo>
                      <a:pt x="1123" y="2303"/>
                    </a:lnTo>
                    <a:lnTo>
                      <a:pt x="1094" y="2302"/>
                    </a:lnTo>
                    <a:lnTo>
                      <a:pt x="1065" y="2300"/>
                    </a:lnTo>
                    <a:lnTo>
                      <a:pt x="1037" y="2297"/>
                    </a:lnTo>
                    <a:lnTo>
                      <a:pt x="1009" y="2294"/>
                    </a:lnTo>
                    <a:lnTo>
                      <a:pt x="981" y="2291"/>
                    </a:lnTo>
                    <a:lnTo>
                      <a:pt x="953" y="2286"/>
                    </a:lnTo>
                    <a:lnTo>
                      <a:pt x="925" y="2281"/>
                    </a:lnTo>
                    <a:lnTo>
                      <a:pt x="898" y="2276"/>
                    </a:lnTo>
                    <a:lnTo>
                      <a:pt x="870" y="2269"/>
                    </a:lnTo>
                    <a:lnTo>
                      <a:pt x="843" y="2262"/>
                    </a:lnTo>
                    <a:lnTo>
                      <a:pt x="816" y="2254"/>
                    </a:lnTo>
                    <a:lnTo>
                      <a:pt x="790" y="2246"/>
                    </a:lnTo>
                    <a:lnTo>
                      <a:pt x="763" y="2236"/>
                    </a:lnTo>
                    <a:lnTo>
                      <a:pt x="737" y="2226"/>
                    </a:lnTo>
                    <a:lnTo>
                      <a:pt x="710" y="2216"/>
                    </a:lnTo>
                    <a:lnTo>
                      <a:pt x="685" y="2205"/>
                    </a:lnTo>
                    <a:lnTo>
                      <a:pt x="660" y="2194"/>
                    </a:lnTo>
                    <a:lnTo>
                      <a:pt x="634" y="2181"/>
                    </a:lnTo>
                    <a:lnTo>
                      <a:pt x="609" y="2168"/>
                    </a:lnTo>
                    <a:lnTo>
                      <a:pt x="585" y="2155"/>
                    </a:lnTo>
                    <a:lnTo>
                      <a:pt x="561" y="2141"/>
                    </a:lnTo>
                    <a:lnTo>
                      <a:pt x="536" y="2126"/>
                    </a:lnTo>
                    <a:lnTo>
                      <a:pt x="513" y="2111"/>
                    </a:lnTo>
                    <a:lnTo>
                      <a:pt x="489" y="2095"/>
                    </a:lnTo>
                    <a:lnTo>
                      <a:pt x="467" y="2077"/>
                    </a:lnTo>
                    <a:lnTo>
                      <a:pt x="444" y="2060"/>
                    </a:lnTo>
                    <a:lnTo>
                      <a:pt x="422" y="2043"/>
                    </a:lnTo>
                    <a:lnTo>
                      <a:pt x="400" y="2024"/>
                    </a:lnTo>
                    <a:lnTo>
                      <a:pt x="379" y="2005"/>
                    </a:lnTo>
                    <a:lnTo>
                      <a:pt x="358" y="1985"/>
                    </a:lnTo>
                    <a:lnTo>
                      <a:pt x="337" y="1966"/>
                    </a:lnTo>
                    <a:lnTo>
                      <a:pt x="298" y="1924"/>
                    </a:lnTo>
                    <a:lnTo>
                      <a:pt x="260" y="1880"/>
                    </a:lnTo>
                    <a:lnTo>
                      <a:pt x="225" y="1835"/>
                    </a:lnTo>
                    <a:lnTo>
                      <a:pt x="192" y="1789"/>
                    </a:lnTo>
                    <a:lnTo>
                      <a:pt x="162" y="1742"/>
                    </a:lnTo>
                    <a:lnTo>
                      <a:pt x="134" y="1694"/>
                    </a:lnTo>
                    <a:lnTo>
                      <a:pt x="109" y="1643"/>
                    </a:lnTo>
                    <a:lnTo>
                      <a:pt x="87" y="1592"/>
                    </a:lnTo>
                    <a:lnTo>
                      <a:pt x="66" y="1539"/>
                    </a:lnTo>
                    <a:lnTo>
                      <a:pt x="49" y="1486"/>
                    </a:lnTo>
                    <a:lnTo>
                      <a:pt x="34" y="1432"/>
                    </a:lnTo>
                    <a:lnTo>
                      <a:pt x="21" y="1378"/>
                    </a:lnTo>
                    <a:lnTo>
                      <a:pt x="12" y="1322"/>
                    </a:lnTo>
                    <a:lnTo>
                      <a:pt x="5" y="1265"/>
                    </a:lnTo>
                    <a:lnTo>
                      <a:pt x="1" y="1209"/>
                    </a:lnTo>
                    <a:lnTo>
                      <a:pt x="0" y="1151"/>
                    </a:lnTo>
                    <a:lnTo>
                      <a:pt x="1" y="1094"/>
                    </a:lnTo>
                    <a:lnTo>
                      <a:pt x="5" y="1037"/>
                    </a:lnTo>
                    <a:lnTo>
                      <a:pt x="12" y="981"/>
                    </a:lnTo>
                    <a:lnTo>
                      <a:pt x="21" y="925"/>
                    </a:lnTo>
                    <a:lnTo>
                      <a:pt x="34" y="870"/>
                    </a:lnTo>
                    <a:lnTo>
                      <a:pt x="49" y="817"/>
                    </a:lnTo>
                    <a:lnTo>
                      <a:pt x="66" y="763"/>
                    </a:lnTo>
                    <a:lnTo>
                      <a:pt x="87" y="711"/>
                    </a:lnTo>
                    <a:lnTo>
                      <a:pt x="109" y="660"/>
                    </a:lnTo>
                    <a:lnTo>
                      <a:pt x="134" y="610"/>
                    </a:lnTo>
                    <a:lnTo>
                      <a:pt x="162" y="561"/>
                    </a:lnTo>
                    <a:lnTo>
                      <a:pt x="192" y="514"/>
                    </a:lnTo>
                    <a:lnTo>
                      <a:pt x="225" y="468"/>
                    </a:lnTo>
                    <a:lnTo>
                      <a:pt x="260" y="423"/>
                    </a:lnTo>
                    <a:lnTo>
                      <a:pt x="298" y="379"/>
                    </a:lnTo>
                    <a:lnTo>
                      <a:pt x="337" y="338"/>
                    </a:lnTo>
                    <a:lnTo>
                      <a:pt x="358" y="318"/>
                    </a:lnTo>
                    <a:lnTo>
                      <a:pt x="379" y="299"/>
                    </a:lnTo>
                    <a:lnTo>
                      <a:pt x="400" y="279"/>
                    </a:lnTo>
                    <a:lnTo>
                      <a:pt x="422" y="261"/>
                    </a:lnTo>
                    <a:lnTo>
                      <a:pt x="444" y="243"/>
                    </a:lnTo>
                    <a:lnTo>
                      <a:pt x="467" y="226"/>
                    </a:lnTo>
                    <a:lnTo>
                      <a:pt x="489" y="209"/>
                    </a:lnTo>
                    <a:lnTo>
                      <a:pt x="513" y="193"/>
                    </a:lnTo>
                    <a:lnTo>
                      <a:pt x="536" y="178"/>
                    </a:lnTo>
                    <a:lnTo>
                      <a:pt x="561" y="163"/>
                    </a:lnTo>
                    <a:lnTo>
                      <a:pt x="585" y="149"/>
                    </a:lnTo>
                    <a:lnTo>
                      <a:pt x="609" y="135"/>
                    </a:lnTo>
                    <a:lnTo>
                      <a:pt x="634" y="122"/>
                    </a:lnTo>
                    <a:lnTo>
                      <a:pt x="660" y="110"/>
                    </a:lnTo>
                    <a:lnTo>
                      <a:pt x="685" y="98"/>
                    </a:lnTo>
                    <a:lnTo>
                      <a:pt x="710" y="88"/>
                    </a:lnTo>
                    <a:lnTo>
                      <a:pt x="737" y="78"/>
                    </a:lnTo>
                    <a:lnTo>
                      <a:pt x="763" y="67"/>
                    </a:lnTo>
                    <a:lnTo>
                      <a:pt x="790" y="58"/>
                    </a:lnTo>
                    <a:lnTo>
                      <a:pt x="816" y="50"/>
                    </a:lnTo>
                    <a:lnTo>
                      <a:pt x="843" y="42"/>
                    </a:lnTo>
                    <a:lnTo>
                      <a:pt x="870" y="35"/>
                    </a:lnTo>
                    <a:lnTo>
                      <a:pt x="898" y="28"/>
                    </a:lnTo>
                    <a:lnTo>
                      <a:pt x="925" y="22"/>
                    </a:lnTo>
                    <a:lnTo>
                      <a:pt x="953" y="18"/>
                    </a:lnTo>
                    <a:lnTo>
                      <a:pt x="981" y="13"/>
                    </a:lnTo>
                    <a:lnTo>
                      <a:pt x="1009" y="10"/>
                    </a:lnTo>
                    <a:lnTo>
                      <a:pt x="1037" y="6"/>
                    </a:lnTo>
                    <a:lnTo>
                      <a:pt x="1065" y="4"/>
                    </a:lnTo>
                    <a:lnTo>
                      <a:pt x="1094" y="2"/>
                    </a:lnTo>
                    <a:lnTo>
                      <a:pt x="1123" y="0"/>
                    </a:lnTo>
                    <a:lnTo>
                      <a:pt x="1151" y="0"/>
                    </a:lnTo>
                    <a:lnTo>
                      <a:pt x="1180" y="0"/>
                    </a:lnTo>
                    <a:lnTo>
                      <a:pt x="1209" y="2"/>
                    </a:lnTo>
                    <a:lnTo>
                      <a:pt x="1238" y="4"/>
                    </a:lnTo>
                    <a:lnTo>
                      <a:pt x="1265" y="6"/>
                    </a:lnTo>
                    <a:lnTo>
                      <a:pt x="1294" y="10"/>
                    </a:lnTo>
                    <a:lnTo>
                      <a:pt x="1322" y="13"/>
                    </a:lnTo>
                    <a:lnTo>
                      <a:pt x="1350" y="18"/>
                    </a:lnTo>
                    <a:lnTo>
                      <a:pt x="1378" y="22"/>
                    </a:lnTo>
                    <a:lnTo>
                      <a:pt x="1405" y="28"/>
                    </a:lnTo>
                    <a:lnTo>
                      <a:pt x="1433" y="35"/>
                    </a:lnTo>
                    <a:lnTo>
                      <a:pt x="1460" y="42"/>
                    </a:lnTo>
                    <a:lnTo>
                      <a:pt x="1487" y="50"/>
                    </a:lnTo>
                    <a:lnTo>
                      <a:pt x="1513" y="58"/>
                    </a:lnTo>
                    <a:lnTo>
                      <a:pt x="1540" y="67"/>
                    </a:lnTo>
                    <a:lnTo>
                      <a:pt x="1566" y="78"/>
                    </a:lnTo>
                    <a:lnTo>
                      <a:pt x="1593" y="88"/>
                    </a:lnTo>
                    <a:lnTo>
                      <a:pt x="1618" y="98"/>
                    </a:lnTo>
                    <a:lnTo>
                      <a:pt x="1643" y="110"/>
                    </a:lnTo>
                    <a:lnTo>
                      <a:pt x="1669" y="122"/>
                    </a:lnTo>
                    <a:lnTo>
                      <a:pt x="1694" y="135"/>
                    </a:lnTo>
                    <a:lnTo>
                      <a:pt x="1718" y="149"/>
                    </a:lnTo>
                    <a:lnTo>
                      <a:pt x="1742" y="163"/>
                    </a:lnTo>
                    <a:lnTo>
                      <a:pt x="1767" y="178"/>
                    </a:lnTo>
                    <a:lnTo>
                      <a:pt x="1790" y="193"/>
                    </a:lnTo>
                    <a:lnTo>
                      <a:pt x="1814" y="209"/>
                    </a:lnTo>
                    <a:lnTo>
                      <a:pt x="1836" y="226"/>
                    </a:lnTo>
                    <a:lnTo>
                      <a:pt x="1859" y="243"/>
                    </a:lnTo>
                    <a:lnTo>
                      <a:pt x="1881" y="261"/>
                    </a:lnTo>
                    <a:lnTo>
                      <a:pt x="1902" y="279"/>
                    </a:lnTo>
                    <a:lnTo>
                      <a:pt x="1924" y="299"/>
                    </a:lnTo>
                    <a:lnTo>
                      <a:pt x="1945" y="318"/>
                    </a:lnTo>
                    <a:lnTo>
                      <a:pt x="1966" y="338"/>
                    </a:lnTo>
                    <a:lnTo>
                      <a:pt x="2005" y="379"/>
                    </a:lnTo>
                    <a:lnTo>
                      <a:pt x="2043" y="423"/>
                    </a:lnTo>
                    <a:lnTo>
                      <a:pt x="2078" y="468"/>
                    </a:lnTo>
                    <a:lnTo>
                      <a:pt x="2111" y="514"/>
                    </a:lnTo>
                    <a:lnTo>
                      <a:pt x="2141" y="561"/>
                    </a:lnTo>
                    <a:lnTo>
                      <a:pt x="2169" y="610"/>
                    </a:lnTo>
                    <a:lnTo>
                      <a:pt x="2194" y="660"/>
                    </a:lnTo>
                    <a:lnTo>
                      <a:pt x="2216" y="711"/>
                    </a:lnTo>
                    <a:lnTo>
                      <a:pt x="2237" y="763"/>
                    </a:lnTo>
                    <a:lnTo>
                      <a:pt x="2254" y="817"/>
                    </a:lnTo>
                    <a:lnTo>
                      <a:pt x="2269" y="870"/>
                    </a:lnTo>
                    <a:lnTo>
                      <a:pt x="2281" y="925"/>
                    </a:lnTo>
                    <a:lnTo>
                      <a:pt x="2291" y="981"/>
                    </a:lnTo>
                    <a:lnTo>
                      <a:pt x="2298" y="1037"/>
                    </a:lnTo>
                    <a:lnTo>
                      <a:pt x="2302" y="1094"/>
                    </a:lnTo>
                    <a:lnTo>
                      <a:pt x="2303" y="1151"/>
                    </a:lnTo>
                    <a:lnTo>
                      <a:pt x="2287" y="1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6473880" y="3210480"/>
                <a:ext cx="68760" cy="48960"/>
              </a:xfrm>
              <a:custGeom>
                <a:avLst/>
                <a:gdLst/>
                <a:ahLst/>
                <a:rect l="l" t="t" r="r" b="b"/>
                <a:pathLst>
                  <a:path w="1196" h="767">
                    <a:moveTo>
                      <a:pt x="348" y="694"/>
                    </a:moveTo>
                    <a:lnTo>
                      <a:pt x="372" y="681"/>
                    </a:lnTo>
                    <a:lnTo>
                      <a:pt x="34" y="96"/>
                    </a:lnTo>
                    <a:lnTo>
                      <a:pt x="56" y="87"/>
                    </a:lnTo>
                    <a:lnTo>
                      <a:pt x="78" y="78"/>
                    </a:lnTo>
                    <a:lnTo>
                      <a:pt x="101" y="70"/>
                    </a:lnTo>
                    <a:lnTo>
                      <a:pt x="124" y="62"/>
                    </a:lnTo>
                    <a:lnTo>
                      <a:pt x="146" y="55"/>
                    </a:lnTo>
                    <a:lnTo>
                      <a:pt x="170" y="48"/>
                    </a:lnTo>
                    <a:lnTo>
                      <a:pt x="193" y="41"/>
                    </a:lnTo>
                    <a:lnTo>
                      <a:pt x="218" y="37"/>
                    </a:lnTo>
                    <a:lnTo>
                      <a:pt x="241" y="31"/>
                    </a:lnTo>
                    <a:lnTo>
                      <a:pt x="265" y="27"/>
                    </a:lnTo>
                    <a:lnTo>
                      <a:pt x="289" y="23"/>
                    </a:lnTo>
                    <a:lnTo>
                      <a:pt x="313" y="20"/>
                    </a:lnTo>
                    <a:lnTo>
                      <a:pt x="339" y="18"/>
                    </a:lnTo>
                    <a:lnTo>
                      <a:pt x="363" y="16"/>
                    </a:lnTo>
                    <a:lnTo>
                      <a:pt x="388" y="15"/>
                    </a:lnTo>
                    <a:lnTo>
                      <a:pt x="413" y="15"/>
                    </a:lnTo>
                    <a:lnTo>
                      <a:pt x="442" y="15"/>
                    </a:lnTo>
                    <a:lnTo>
                      <a:pt x="472" y="17"/>
                    </a:lnTo>
                    <a:lnTo>
                      <a:pt x="501" y="19"/>
                    </a:lnTo>
                    <a:lnTo>
                      <a:pt x="529" y="22"/>
                    </a:lnTo>
                    <a:lnTo>
                      <a:pt x="557" y="26"/>
                    </a:lnTo>
                    <a:lnTo>
                      <a:pt x="585" y="31"/>
                    </a:lnTo>
                    <a:lnTo>
                      <a:pt x="613" y="37"/>
                    </a:lnTo>
                    <a:lnTo>
                      <a:pt x="640" y="43"/>
                    </a:lnTo>
                    <a:lnTo>
                      <a:pt x="667" y="50"/>
                    </a:lnTo>
                    <a:lnTo>
                      <a:pt x="695" y="58"/>
                    </a:lnTo>
                    <a:lnTo>
                      <a:pt x="721" y="68"/>
                    </a:lnTo>
                    <a:lnTo>
                      <a:pt x="746" y="77"/>
                    </a:lnTo>
                    <a:lnTo>
                      <a:pt x="772" y="88"/>
                    </a:lnTo>
                    <a:lnTo>
                      <a:pt x="797" y="99"/>
                    </a:lnTo>
                    <a:lnTo>
                      <a:pt x="822" y="111"/>
                    </a:lnTo>
                    <a:lnTo>
                      <a:pt x="847" y="124"/>
                    </a:lnTo>
                    <a:lnTo>
                      <a:pt x="871" y="137"/>
                    </a:lnTo>
                    <a:lnTo>
                      <a:pt x="894" y="152"/>
                    </a:lnTo>
                    <a:lnTo>
                      <a:pt x="917" y="166"/>
                    </a:lnTo>
                    <a:lnTo>
                      <a:pt x="940" y="182"/>
                    </a:lnTo>
                    <a:lnTo>
                      <a:pt x="962" y="198"/>
                    </a:lnTo>
                    <a:lnTo>
                      <a:pt x="984" y="214"/>
                    </a:lnTo>
                    <a:lnTo>
                      <a:pt x="1004" y="232"/>
                    </a:lnTo>
                    <a:lnTo>
                      <a:pt x="1025" y="250"/>
                    </a:lnTo>
                    <a:lnTo>
                      <a:pt x="1045" y="268"/>
                    </a:lnTo>
                    <a:lnTo>
                      <a:pt x="1064" y="288"/>
                    </a:lnTo>
                    <a:lnTo>
                      <a:pt x="1083" y="307"/>
                    </a:lnTo>
                    <a:lnTo>
                      <a:pt x="1101" y="328"/>
                    </a:lnTo>
                    <a:lnTo>
                      <a:pt x="1118" y="349"/>
                    </a:lnTo>
                    <a:lnTo>
                      <a:pt x="1136" y="369"/>
                    </a:lnTo>
                    <a:lnTo>
                      <a:pt x="1152" y="393"/>
                    </a:lnTo>
                    <a:lnTo>
                      <a:pt x="1168" y="414"/>
                    </a:lnTo>
                    <a:lnTo>
                      <a:pt x="599" y="750"/>
                    </a:lnTo>
                    <a:lnTo>
                      <a:pt x="609" y="767"/>
                    </a:lnTo>
                    <a:lnTo>
                      <a:pt x="616" y="763"/>
                    </a:lnTo>
                    <a:lnTo>
                      <a:pt x="633" y="753"/>
                    </a:lnTo>
                    <a:lnTo>
                      <a:pt x="662" y="736"/>
                    </a:lnTo>
                    <a:lnTo>
                      <a:pt x="699" y="715"/>
                    </a:lnTo>
                    <a:lnTo>
                      <a:pt x="743" y="690"/>
                    </a:lnTo>
                    <a:lnTo>
                      <a:pt x="791" y="662"/>
                    </a:lnTo>
                    <a:lnTo>
                      <a:pt x="843" y="632"/>
                    </a:lnTo>
                    <a:lnTo>
                      <a:pt x="896" y="601"/>
                    </a:lnTo>
                    <a:lnTo>
                      <a:pt x="949" y="570"/>
                    </a:lnTo>
                    <a:lnTo>
                      <a:pt x="1001" y="540"/>
                    </a:lnTo>
                    <a:lnTo>
                      <a:pt x="1049" y="512"/>
                    </a:lnTo>
                    <a:lnTo>
                      <a:pt x="1093" y="487"/>
                    </a:lnTo>
                    <a:lnTo>
                      <a:pt x="1130" y="466"/>
                    </a:lnTo>
                    <a:lnTo>
                      <a:pt x="1159" y="449"/>
                    </a:lnTo>
                    <a:lnTo>
                      <a:pt x="1176" y="439"/>
                    </a:lnTo>
                    <a:lnTo>
                      <a:pt x="1183" y="435"/>
                    </a:lnTo>
                    <a:lnTo>
                      <a:pt x="1196" y="427"/>
                    </a:lnTo>
                    <a:lnTo>
                      <a:pt x="1182" y="406"/>
                    </a:lnTo>
                    <a:lnTo>
                      <a:pt x="1168" y="387"/>
                    </a:lnTo>
                    <a:lnTo>
                      <a:pt x="1153" y="366"/>
                    </a:lnTo>
                    <a:lnTo>
                      <a:pt x="1138" y="346"/>
                    </a:lnTo>
                    <a:lnTo>
                      <a:pt x="1122" y="328"/>
                    </a:lnTo>
                    <a:lnTo>
                      <a:pt x="1106" y="308"/>
                    </a:lnTo>
                    <a:lnTo>
                      <a:pt x="1088" y="290"/>
                    </a:lnTo>
                    <a:lnTo>
                      <a:pt x="1071" y="272"/>
                    </a:lnTo>
                    <a:lnTo>
                      <a:pt x="1038" y="239"/>
                    </a:lnTo>
                    <a:lnTo>
                      <a:pt x="1002" y="209"/>
                    </a:lnTo>
                    <a:lnTo>
                      <a:pt x="966" y="182"/>
                    </a:lnTo>
                    <a:lnTo>
                      <a:pt x="928" y="155"/>
                    </a:lnTo>
                    <a:lnTo>
                      <a:pt x="890" y="131"/>
                    </a:lnTo>
                    <a:lnTo>
                      <a:pt x="851" y="109"/>
                    </a:lnTo>
                    <a:lnTo>
                      <a:pt x="811" y="88"/>
                    </a:lnTo>
                    <a:lnTo>
                      <a:pt x="769" y="70"/>
                    </a:lnTo>
                    <a:lnTo>
                      <a:pt x="727" y="54"/>
                    </a:lnTo>
                    <a:lnTo>
                      <a:pt x="684" y="40"/>
                    </a:lnTo>
                    <a:lnTo>
                      <a:pt x="640" y="27"/>
                    </a:lnTo>
                    <a:lnTo>
                      <a:pt x="595" y="17"/>
                    </a:lnTo>
                    <a:lnTo>
                      <a:pt x="551" y="10"/>
                    </a:lnTo>
                    <a:lnTo>
                      <a:pt x="506" y="4"/>
                    </a:lnTo>
                    <a:lnTo>
                      <a:pt x="460" y="1"/>
                    </a:lnTo>
                    <a:lnTo>
                      <a:pt x="413" y="0"/>
                    </a:lnTo>
                    <a:lnTo>
                      <a:pt x="386" y="0"/>
                    </a:lnTo>
                    <a:lnTo>
                      <a:pt x="359" y="1"/>
                    </a:lnTo>
                    <a:lnTo>
                      <a:pt x="333" y="3"/>
                    </a:lnTo>
                    <a:lnTo>
                      <a:pt x="305" y="5"/>
                    </a:lnTo>
                    <a:lnTo>
                      <a:pt x="279" y="9"/>
                    </a:lnTo>
                    <a:lnTo>
                      <a:pt x="252" y="14"/>
                    </a:lnTo>
                    <a:lnTo>
                      <a:pt x="227" y="18"/>
                    </a:lnTo>
                    <a:lnTo>
                      <a:pt x="200" y="24"/>
                    </a:lnTo>
                    <a:lnTo>
                      <a:pt x="174" y="31"/>
                    </a:lnTo>
                    <a:lnTo>
                      <a:pt x="149" y="38"/>
                    </a:lnTo>
                    <a:lnTo>
                      <a:pt x="123" y="46"/>
                    </a:lnTo>
                    <a:lnTo>
                      <a:pt x="98" y="54"/>
                    </a:lnTo>
                    <a:lnTo>
                      <a:pt x="74" y="63"/>
                    </a:lnTo>
                    <a:lnTo>
                      <a:pt x="48" y="73"/>
                    </a:lnTo>
                    <a:lnTo>
                      <a:pt x="24" y="84"/>
                    </a:lnTo>
                    <a:lnTo>
                      <a:pt x="0" y="95"/>
                    </a:lnTo>
                    <a:lnTo>
                      <a:pt x="348" y="6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6465600" y="324612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666" h="373">
                    <a:moveTo>
                      <a:pt x="666" y="373"/>
                    </a:moveTo>
                    <a:lnTo>
                      <a:pt x="665" y="325"/>
                    </a:lnTo>
                    <a:lnTo>
                      <a:pt x="661" y="276"/>
                    </a:lnTo>
                    <a:lnTo>
                      <a:pt x="654" y="228"/>
                    </a:lnTo>
                    <a:lnTo>
                      <a:pt x="646" y="181"/>
                    </a:lnTo>
                    <a:lnTo>
                      <a:pt x="635" y="135"/>
                    </a:lnTo>
                    <a:lnTo>
                      <a:pt x="622" y="89"/>
                    </a:lnTo>
                    <a:lnTo>
                      <a:pt x="606" y="44"/>
                    </a:lnTo>
                    <a:lnTo>
                      <a:pt x="588" y="0"/>
                    </a:lnTo>
                    <a:lnTo>
                      <a:pt x="0" y="326"/>
                    </a:lnTo>
                    <a:lnTo>
                      <a:pt x="0" y="355"/>
                    </a:lnTo>
                    <a:lnTo>
                      <a:pt x="585" y="28"/>
                    </a:lnTo>
                    <a:lnTo>
                      <a:pt x="600" y="68"/>
                    </a:lnTo>
                    <a:lnTo>
                      <a:pt x="613" y="109"/>
                    </a:lnTo>
                    <a:lnTo>
                      <a:pt x="625" y="152"/>
                    </a:lnTo>
                    <a:lnTo>
                      <a:pt x="634" y="195"/>
                    </a:lnTo>
                    <a:lnTo>
                      <a:pt x="641" y="240"/>
                    </a:lnTo>
                    <a:lnTo>
                      <a:pt x="645" y="283"/>
                    </a:lnTo>
                    <a:lnTo>
                      <a:pt x="649" y="328"/>
                    </a:lnTo>
                    <a:lnTo>
                      <a:pt x="650" y="373"/>
                    </a:lnTo>
                    <a:lnTo>
                      <a:pt x="666" y="3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6464880" y="3269880"/>
                <a:ext cx="43560" cy="48960"/>
              </a:xfrm>
              <a:custGeom>
                <a:avLst/>
                <a:gdLst/>
                <a:ahLst/>
                <a:rect l="l" t="t" r="r" b="b"/>
                <a:pathLst>
                  <a:path w="754" h="770">
                    <a:moveTo>
                      <a:pt x="738" y="0"/>
                    </a:moveTo>
                    <a:lnTo>
                      <a:pt x="737" y="57"/>
                    </a:lnTo>
                    <a:lnTo>
                      <a:pt x="731" y="113"/>
                    </a:lnTo>
                    <a:lnTo>
                      <a:pt x="723" y="167"/>
                    </a:lnTo>
                    <a:lnTo>
                      <a:pt x="711" y="221"/>
                    </a:lnTo>
                    <a:lnTo>
                      <a:pt x="696" y="274"/>
                    </a:lnTo>
                    <a:lnTo>
                      <a:pt x="679" y="325"/>
                    </a:lnTo>
                    <a:lnTo>
                      <a:pt x="658" y="375"/>
                    </a:lnTo>
                    <a:lnTo>
                      <a:pt x="635" y="423"/>
                    </a:lnTo>
                    <a:lnTo>
                      <a:pt x="609" y="470"/>
                    </a:lnTo>
                    <a:lnTo>
                      <a:pt x="580" y="515"/>
                    </a:lnTo>
                    <a:lnTo>
                      <a:pt x="549" y="558"/>
                    </a:lnTo>
                    <a:lnTo>
                      <a:pt x="516" y="599"/>
                    </a:lnTo>
                    <a:lnTo>
                      <a:pt x="480" y="638"/>
                    </a:lnTo>
                    <a:lnTo>
                      <a:pt x="442" y="675"/>
                    </a:lnTo>
                    <a:lnTo>
                      <a:pt x="402" y="710"/>
                    </a:lnTo>
                    <a:lnTo>
                      <a:pt x="359" y="742"/>
                    </a:lnTo>
                    <a:lnTo>
                      <a:pt x="23" y="160"/>
                    </a:lnTo>
                    <a:lnTo>
                      <a:pt x="0" y="172"/>
                    </a:lnTo>
                    <a:lnTo>
                      <a:pt x="346" y="770"/>
                    </a:lnTo>
                    <a:lnTo>
                      <a:pt x="391" y="737"/>
                    </a:lnTo>
                    <a:lnTo>
                      <a:pt x="434" y="702"/>
                    </a:lnTo>
                    <a:lnTo>
                      <a:pt x="475" y="664"/>
                    </a:lnTo>
                    <a:lnTo>
                      <a:pt x="513" y="625"/>
                    </a:lnTo>
                    <a:lnTo>
                      <a:pt x="549" y="582"/>
                    </a:lnTo>
                    <a:lnTo>
                      <a:pt x="584" y="537"/>
                    </a:lnTo>
                    <a:lnTo>
                      <a:pt x="613" y="491"/>
                    </a:lnTo>
                    <a:lnTo>
                      <a:pt x="642" y="443"/>
                    </a:lnTo>
                    <a:lnTo>
                      <a:pt x="668" y="392"/>
                    </a:lnTo>
                    <a:lnTo>
                      <a:pt x="690" y="340"/>
                    </a:lnTo>
                    <a:lnTo>
                      <a:pt x="709" y="287"/>
                    </a:lnTo>
                    <a:lnTo>
                      <a:pt x="725" y="232"/>
                    </a:lnTo>
                    <a:lnTo>
                      <a:pt x="738" y="175"/>
                    </a:lnTo>
                    <a:lnTo>
                      <a:pt x="747" y="119"/>
                    </a:lnTo>
                    <a:lnTo>
                      <a:pt x="752" y="60"/>
                    </a:lnTo>
                    <a:lnTo>
                      <a:pt x="754" y="0"/>
                    </a:lnTo>
                    <a:lnTo>
                      <a:pt x="7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545880" y="3319200"/>
                <a:ext cx="7200" cy="2160"/>
              </a:xfrm>
              <a:custGeom>
                <a:avLst/>
                <a:gdLst/>
                <a:ahLst/>
                <a:rect l="l" t="t" r="r" b="b"/>
                <a:pathLst>
                  <a:path w="130" h="37">
                    <a:moveTo>
                      <a:pt x="0" y="3"/>
                    </a:moveTo>
                    <a:lnTo>
                      <a:pt x="86" y="0"/>
                    </a:lnTo>
                    <a:lnTo>
                      <a:pt x="130" y="37"/>
                    </a:lnTo>
                    <a:lnTo>
                      <a:pt x="60" y="3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6522840" y="3342960"/>
                <a:ext cx="9720" cy="4320"/>
              </a:xfrm>
              <a:custGeom>
                <a:avLst/>
                <a:gdLst/>
                <a:ahLst/>
                <a:rect l="l" t="t" r="r" b="b"/>
                <a:pathLst>
                  <a:path w="174" h="73">
                    <a:moveTo>
                      <a:pt x="123" y="72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174" y="73"/>
                    </a:lnTo>
                    <a:lnTo>
                      <a:pt x="123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6532560" y="3334320"/>
                <a:ext cx="29520" cy="13320"/>
              </a:xfrm>
              <a:custGeom>
                <a:avLst/>
                <a:gdLst/>
                <a:ahLst/>
                <a:rect l="l" t="t" r="r" b="b"/>
                <a:pathLst>
                  <a:path w="518" h="212">
                    <a:moveTo>
                      <a:pt x="518" y="205"/>
                    </a:moveTo>
                    <a:lnTo>
                      <a:pt x="393" y="127"/>
                    </a:lnTo>
                    <a:lnTo>
                      <a:pt x="245" y="125"/>
                    </a:lnTo>
                    <a:lnTo>
                      <a:pt x="250" y="134"/>
                    </a:lnTo>
                    <a:lnTo>
                      <a:pt x="0" y="0"/>
                    </a:lnTo>
                    <a:lnTo>
                      <a:pt x="80" y="54"/>
                    </a:lnTo>
                    <a:lnTo>
                      <a:pt x="73" y="57"/>
                    </a:lnTo>
                    <a:lnTo>
                      <a:pt x="39" y="175"/>
                    </a:lnTo>
                    <a:lnTo>
                      <a:pt x="94" y="212"/>
                    </a:lnTo>
                    <a:lnTo>
                      <a:pt x="205" y="135"/>
                    </a:lnTo>
                    <a:lnTo>
                      <a:pt x="202" y="128"/>
                    </a:lnTo>
                    <a:lnTo>
                      <a:pt x="376" y="194"/>
                    </a:lnTo>
                    <a:lnTo>
                      <a:pt x="388" y="212"/>
                    </a:lnTo>
                    <a:lnTo>
                      <a:pt x="518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542640" y="3344760"/>
                <a:ext cx="10080" cy="2880"/>
              </a:xfrm>
              <a:custGeom>
                <a:avLst/>
                <a:gdLst/>
                <a:ahLst/>
                <a:rect l="l" t="t" r="r" b="b"/>
                <a:pathLst>
                  <a:path w="180" h="49">
                    <a:moveTo>
                      <a:pt x="0" y="46"/>
                    </a:moveTo>
                    <a:lnTo>
                      <a:pt x="60" y="0"/>
                    </a:lnTo>
                    <a:lnTo>
                      <a:pt x="180" y="4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566760" y="333072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0"/>
                    </a:moveTo>
                    <a:lnTo>
                      <a:pt x="176" y="0"/>
                    </a:lnTo>
                    <a:lnTo>
                      <a:pt x="176" y="10"/>
                    </a:lnTo>
                    <a:lnTo>
                      <a:pt x="169" y="10"/>
                    </a:lnTo>
                    <a:lnTo>
                      <a:pt x="60" y="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562800" y="33310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0" y="0"/>
                    </a:moveTo>
                    <a:lnTo>
                      <a:pt x="3" y="2"/>
                    </a:lnTo>
                    <a:lnTo>
                      <a:pt x="10" y="8"/>
                    </a:lnTo>
                    <a:lnTo>
                      <a:pt x="19" y="16"/>
                    </a:lnTo>
                    <a:lnTo>
                      <a:pt x="29" y="25"/>
                    </a:lnTo>
                    <a:lnTo>
                      <a:pt x="41" y="35"/>
                    </a:lnTo>
                    <a:lnTo>
                      <a:pt x="51" y="43"/>
                    </a:lnTo>
                    <a:lnTo>
                      <a:pt x="60" y="48"/>
                    </a:lnTo>
                    <a:lnTo>
                      <a:pt x="65" y="51"/>
                    </a:lnTo>
                    <a:lnTo>
                      <a:pt x="44" y="24"/>
                    </a:lnTo>
                    <a:lnTo>
                      <a:pt x="34" y="0"/>
                    </a:lnTo>
                    <a:lnTo>
                      <a:pt x="19" y="1"/>
                    </a:lnTo>
                    <a:lnTo>
                      <a:pt x="27" y="9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6437160" y="3179880"/>
                <a:ext cx="163440" cy="168840"/>
              </a:xfrm>
              <a:custGeom>
                <a:avLst/>
                <a:gdLst/>
                <a:ahLst/>
                <a:rect l="l" t="t" r="r" b="b"/>
                <a:pathLst>
                  <a:path w="2840" h="2643">
                    <a:moveTo>
                      <a:pt x="32" y="1448"/>
                    </a:moveTo>
                    <a:lnTo>
                      <a:pt x="32" y="1373"/>
                    </a:lnTo>
                    <a:lnTo>
                      <a:pt x="155" y="1342"/>
                    </a:lnTo>
                    <a:lnTo>
                      <a:pt x="157" y="1317"/>
                    </a:lnTo>
                    <a:lnTo>
                      <a:pt x="163" y="1259"/>
                    </a:lnTo>
                    <a:lnTo>
                      <a:pt x="170" y="1199"/>
                    </a:lnTo>
                    <a:lnTo>
                      <a:pt x="176" y="1169"/>
                    </a:lnTo>
                    <a:lnTo>
                      <a:pt x="55" y="1104"/>
                    </a:lnTo>
                    <a:lnTo>
                      <a:pt x="78" y="1011"/>
                    </a:lnTo>
                    <a:lnTo>
                      <a:pt x="215" y="1011"/>
                    </a:lnTo>
                    <a:lnTo>
                      <a:pt x="217" y="1005"/>
                    </a:lnTo>
                    <a:lnTo>
                      <a:pt x="224" y="987"/>
                    </a:lnTo>
                    <a:lnTo>
                      <a:pt x="234" y="961"/>
                    </a:lnTo>
                    <a:lnTo>
                      <a:pt x="246" y="932"/>
                    </a:lnTo>
                    <a:lnTo>
                      <a:pt x="259" y="902"/>
                    </a:lnTo>
                    <a:lnTo>
                      <a:pt x="270" y="876"/>
                    </a:lnTo>
                    <a:lnTo>
                      <a:pt x="278" y="857"/>
                    </a:lnTo>
                    <a:lnTo>
                      <a:pt x="284" y="848"/>
                    </a:lnTo>
                    <a:lnTo>
                      <a:pt x="185" y="751"/>
                    </a:lnTo>
                    <a:lnTo>
                      <a:pt x="186" y="748"/>
                    </a:lnTo>
                    <a:lnTo>
                      <a:pt x="191" y="740"/>
                    </a:lnTo>
                    <a:lnTo>
                      <a:pt x="198" y="728"/>
                    </a:lnTo>
                    <a:lnTo>
                      <a:pt x="206" y="714"/>
                    </a:lnTo>
                    <a:lnTo>
                      <a:pt x="213" y="702"/>
                    </a:lnTo>
                    <a:lnTo>
                      <a:pt x="220" y="690"/>
                    </a:lnTo>
                    <a:lnTo>
                      <a:pt x="225" y="682"/>
                    </a:lnTo>
                    <a:lnTo>
                      <a:pt x="229" y="679"/>
                    </a:lnTo>
                    <a:lnTo>
                      <a:pt x="236" y="680"/>
                    </a:lnTo>
                    <a:lnTo>
                      <a:pt x="252" y="682"/>
                    </a:lnTo>
                    <a:lnTo>
                      <a:pt x="274" y="687"/>
                    </a:lnTo>
                    <a:lnTo>
                      <a:pt x="298" y="691"/>
                    </a:lnTo>
                    <a:lnTo>
                      <a:pt x="322" y="696"/>
                    </a:lnTo>
                    <a:lnTo>
                      <a:pt x="343" y="700"/>
                    </a:lnTo>
                    <a:lnTo>
                      <a:pt x="358" y="703"/>
                    </a:lnTo>
                    <a:lnTo>
                      <a:pt x="363" y="704"/>
                    </a:lnTo>
                    <a:lnTo>
                      <a:pt x="368" y="698"/>
                    </a:lnTo>
                    <a:lnTo>
                      <a:pt x="378" y="685"/>
                    </a:lnTo>
                    <a:lnTo>
                      <a:pt x="393" y="666"/>
                    </a:lnTo>
                    <a:lnTo>
                      <a:pt x="412" y="643"/>
                    </a:lnTo>
                    <a:lnTo>
                      <a:pt x="429" y="621"/>
                    </a:lnTo>
                    <a:lnTo>
                      <a:pt x="445" y="601"/>
                    </a:lnTo>
                    <a:lnTo>
                      <a:pt x="457" y="586"/>
                    </a:lnTo>
                    <a:lnTo>
                      <a:pt x="463" y="581"/>
                    </a:lnTo>
                    <a:lnTo>
                      <a:pt x="392" y="467"/>
                    </a:lnTo>
                    <a:lnTo>
                      <a:pt x="456" y="404"/>
                    </a:lnTo>
                    <a:lnTo>
                      <a:pt x="588" y="456"/>
                    </a:lnTo>
                    <a:lnTo>
                      <a:pt x="711" y="367"/>
                    </a:lnTo>
                    <a:lnTo>
                      <a:pt x="680" y="230"/>
                    </a:lnTo>
                    <a:lnTo>
                      <a:pt x="751" y="191"/>
                    </a:lnTo>
                    <a:lnTo>
                      <a:pt x="858" y="282"/>
                    </a:lnTo>
                    <a:lnTo>
                      <a:pt x="986" y="226"/>
                    </a:lnTo>
                    <a:lnTo>
                      <a:pt x="991" y="88"/>
                    </a:lnTo>
                    <a:lnTo>
                      <a:pt x="1081" y="60"/>
                    </a:lnTo>
                    <a:lnTo>
                      <a:pt x="1148" y="181"/>
                    </a:lnTo>
                    <a:lnTo>
                      <a:pt x="1154" y="180"/>
                    </a:lnTo>
                    <a:lnTo>
                      <a:pt x="1171" y="177"/>
                    </a:lnTo>
                    <a:lnTo>
                      <a:pt x="1194" y="173"/>
                    </a:lnTo>
                    <a:lnTo>
                      <a:pt x="1222" y="169"/>
                    </a:lnTo>
                    <a:lnTo>
                      <a:pt x="1249" y="165"/>
                    </a:lnTo>
                    <a:lnTo>
                      <a:pt x="1275" y="161"/>
                    </a:lnTo>
                    <a:lnTo>
                      <a:pt x="1294" y="159"/>
                    </a:lnTo>
                    <a:lnTo>
                      <a:pt x="1305" y="159"/>
                    </a:lnTo>
                    <a:lnTo>
                      <a:pt x="1347" y="28"/>
                    </a:lnTo>
                    <a:lnTo>
                      <a:pt x="1435" y="26"/>
                    </a:lnTo>
                    <a:lnTo>
                      <a:pt x="1472" y="154"/>
                    </a:lnTo>
                    <a:lnTo>
                      <a:pt x="1478" y="154"/>
                    </a:lnTo>
                    <a:lnTo>
                      <a:pt x="1496" y="157"/>
                    </a:lnTo>
                    <a:lnTo>
                      <a:pt x="1520" y="159"/>
                    </a:lnTo>
                    <a:lnTo>
                      <a:pt x="1549" y="161"/>
                    </a:lnTo>
                    <a:lnTo>
                      <a:pt x="1578" y="165"/>
                    </a:lnTo>
                    <a:lnTo>
                      <a:pt x="1604" y="168"/>
                    </a:lnTo>
                    <a:lnTo>
                      <a:pt x="1624" y="172"/>
                    </a:lnTo>
                    <a:lnTo>
                      <a:pt x="1634" y="174"/>
                    </a:lnTo>
                    <a:lnTo>
                      <a:pt x="1715" y="59"/>
                    </a:lnTo>
                    <a:lnTo>
                      <a:pt x="1798" y="79"/>
                    </a:lnTo>
                    <a:lnTo>
                      <a:pt x="1803" y="213"/>
                    </a:lnTo>
                    <a:lnTo>
                      <a:pt x="1809" y="215"/>
                    </a:lnTo>
                    <a:lnTo>
                      <a:pt x="1826" y="221"/>
                    </a:lnTo>
                    <a:lnTo>
                      <a:pt x="1849" y="230"/>
                    </a:lnTo>
                    <a:lnTo>
                      <a:pt x="1877" y="241"/>
                    </a:lnTo>
                    <a:lnTo>
                      <a:pt x="1904" y="251"/>
                    </a:lnTo>
                    <a:lnTo>
                      <a:pt x="1928" y="260"/>
                    </a:lnTo>
                    <a:lnTo>
                      <a:pt x="1946" y="268"/>
                    </a:lnTo>
                    <a:lnTo>
                      <a:pt x="1954" y="273"/>
                    </a:lnTo>
                    <a:lnTo>
                      <a:pt x="2058" y="182"/>
                    </a:lnTo>
                    <a:lnTo>
                      <a:pt x="2132" y="222"/>
                    </a:lnTo>
                    <a:lnTo>
                      <a:pt x="2092" y="349"/>
                    </a:lnTo>
                    <a:lnTo>
                      <a:pt x="2098" y="353"/>
                    </a:lnTo>
                    <a:lnTo>
                      <a:pt x="2113" y="363"/>
                    </a:lnTo>
                    <a:lnTo>
                      <a:pt x="2135" y="378"/>
                    </a:lnTo>
                    <a:lnTo>
                      <a:pt x="2160" y="395"/>
                    </a:lnTo>
                    <a:lnTo>
                      <a:pt x="2186" y="414"/>
                    </a:lnTo>
                    <a:lnTo>
                      <a:pt x="2209" y="430"/>
                    </a:lnTo>
                    <a:lnTo>
                      <a:pt x="2225" y="444"/>
                    </a:lnTo>
                    <a:lnTo>
                      <a:pt x="2233" y="452"/>
                    </a:lnTo>
                    <a:lnTo>
                      <a:pt x="2354" y="387"/>
                    </a:lnTo>
                    <a:lnTo>
                      <a:pt x="2418" y="450"/>
                    </a:lnTo>
                    <a:lnTo>
                      <a:pt x="2359" y="574"/>
                    </a:lnTo>
                    <a:lnTo>
                      <a:pt x="2362" y="578"/>
                    </a:lnTo>
                    <a:lnTo>
                      <a:pt x="2373" y="590"/>
                    </a:lnTo>
                    <a:lnTo>
                      <a:pt x="2387" y="606"/>
                    </a:lnTo>
                    <a:lnTo>
                      <a:pt x="2405" y="627"/>
                    </a:lnTo>
                    <a:lnTo>
                      <a:pt x="2422" y="647"/>
                    </a:lnTo>
                    <a:lnTo>
                      <a:pt x="2438" y="667"/>
                    </a:lnTo>
                    <a:lnTo>
                      <a:pt x="2450" y="683"/>
                    </a:lnTo>
                    <a:lnTo>
                      <a:pt x="2454" y="694"/>
                    </a:lnTo>
                    <a:lnTo>
                      <a:pt x="2591" y="667"/>
                    </a:lnTo>
                    <a:lnTo>
                      <a:pt x="2644" y="745"/>
                    </a:lnTo>
                    <a:lnTo>
                      <a:pt x="2550" y="839"/>
                    </a:lnTo>
                    <a:lnTo>
                      <a:pt x="2552" y="846"/>
                    </a:lnTo>
                    <a:lnTo>
                      <a:pt x="2560" y="863"/>
                    </a:lnTo>
                    <a:lnTo>
                      <a:pt x="2570" y="887"/>
                    </a:lnTo>
                    <a:lnTo>
                      <a:pt x="2583" y="916"/>
                    </a:lnTo>
                    <a:lnTo>
                      <a:pt x="2596" y="945"/>
                    </a:lnTo>
                    <a:lnTo>
                      <a:pt x="2606" y="971"/>
                    </a:lnTo>
                    <a:lnTo>
                      <a:pt x="2614" y="990"/>
                    </a:lnTo>
                    <a:lnTo>
                      <a:pt x="2617" y="999"/>
                    </a:lnTo>
                    <a:lnTo>
                      <a:pt x="2749" y="994"/>
                    </a:lnTo>
                    <a:lnTo>
                      <a:pt x="2777" y="1091"/>
                    </a:lnTo>
                    <a:lnTo>
                      <a:pt x="2660" y="1168"/>
                    </a:lnTo>
                    <a:lnTo>
                      <a:pt x="2665" y="1191"/>
                    </a:lnTo>
                    <a:lnTo>
                      <a:pt x="2674" y="1242"/>
                    </a:lnTo>
                    <a:lnTo>
                      <a:pt x="2682" y="1295"/>
                    </a:lnTo>
                    <a:lnTo>
                      <a:pt x="2686" y="1322"/>
                    </a:lnTo>
                    <a:lnTo>
                      <a:pt x="2816" y="1349"/>
                    </a:lnTo>
                    <a:lnTo>
                      <a:pt x="2816" y="1441"/>
                    </a:lnTo>
                    <a:lnTo>
                      <a:pt x="2686" y="1494"/>
                    </a:lnTo>
                    <a:lnTo>
                      <a:pt x="2683" y="1517"/>
                    </a:lnTo>
                    <a:lnTo>
                      <a:pt x="2680" y="1568"/>
                    </a:lnTo>
                    <a:lnTo>
                      <a:pt x="2673" y="1622"/>
                    </a:lnTo>
                    <a:lnTo>
                      <a:pt x="2666" y="1653"/>
                    </a:lnTo>
                    <a:lnTo>
                      <a:pt x="2784" y="1718"/>
                    </a:lnTo>
                    <a:lnTo>
                      <a:pt x="2759" y="1816"/>
                    </a:lnTo>
                    <a:lnTo>
                      <a:pt x="2620" y="1818"/>
                    </a:lnTo>
                    <a:lnTo>
                      <a:pt x="2618" y="1824"/>
                    </a:lnTo>
                    <a:lnTo>
                      <a:pt x="2611" y="1840"/>
                    </a:lnTo>
                    <a:lnTo>
                      <a:pt x="2602" y="1862"/>
                    </a:lnTo>
                    <a:lnTo>
                      <a:pt x="2591" y="1888"/>
                    </a:lnTo>
                    <a:lnTo>
                      <a:pt x="2581" y="1915"/>
                    </a:lnTo>
                    <a:lnTo>
                      <a:pt x="2570" y="1938"/>
                    </a:lnTo>
                    <a:lnTo>
                      <a:pt x="2562" y="1956"/>
                    </a:lnTo>
                    <a:lnTo>
                      <a:pt x="2558" y="1964"/>
                    </a:lnTo>
                    <a:lnTo>
                      <a:pt x="2660" y="2048"/>
                    </a:lnTo>
                    <a:lnTo>
                      <a:pt x="2617" y="2129"/>
                    </a:lnTo>
                    <a:lnTo>
                      <a:pt x="2475" y="2104"/>
                    </a:lnTo>
                    <a:lnTo>
                      <a:pt x="2385" y="2229"/>
                    </a:lnTo>
                    <a:lnTo>
                      <a:pt x="2451" y="2350"/>
                    </a:lnTo>
                    <a:lnTo>
                      <a:pt x="2383" y="2416"/>
                    </a:lnTo>
                    <a:lnTo>
                      <a:pt x="2263" y="2356"/>
                    </a:lnTo>
                    <a:lnTo>
                      <a:pt x="2257" y="2360"/>
                    </a:lnTo>
                    <a:lnTo>
                      <a:pt x="2242" y="2371"/>
                    </a:lnTo>
                    <a:lnTo>
                      <a:pt x="2220" y="2386"/>
                    </a:lnTo>
                    <a:lnTo>
                      <a:pt x="2196" y="2404"/>
                    </a:lnTo>
                    <a:lnTo>
                      <a:pt x="2171" y="2422"/>
                    </a:lnTo>
                    <a:lnTo>
                      <a:pt x="2148" y="2438"/>
                    </a:lnTo>
                    <a:lnTo>
                      <a:pt x="2130" y="2449"/>
                    </a:lnTo>
                    <a:lnTo>
                      <a:pt x="2121" y="2455"/>
                    </a:lnTo>
                    <a:lnTo>
                      <a:pt x="2165" y="2584"/>
                    </a:lnTo>
                    <a:lnTo>
                      <a:pt x="2084" y="2629"/>
                    </a:lnTo>
                    <a:lnTo>
                      <a:pt x="2127" y="2643"/>
                    </a:lnTo>
                    <a:lnTo>
                      <a:pt x="2204" y="2589"/>
                    </a:lnTo>
                    <a:lnTo>
                      <a:pt x="2165" y="2469"/>
                    </a:lnTo>
                    <a:lnTo>
                      <a:pt x="2170" y="2466"/>
                    </a:lnTo>
                    <a:lnTo>
                      <a:pt x="2180" y="2458"/>
                    </a:lnTo>
                    <a:lnTo>
                      <a:pt x="2196" y="2447"/>
                    </a:lnTo>
                    <a:lnTo>
                      <a:pt x="2215" y="2434"/>
                    </a:lnTo>
                    <a:lnTo>
                      <a:pt x="2233" y="2422"/>
                    </a:lnTo>
                    <a:lnTo>
                      <a:pt x="2249" y="2409"/>
                    </a:lnTo>
                    <a:lnTo>
                      <a:pt x="2262" y="2398"/>
                    </a:lnTo>
                    <a:lnTo>
                      <a:pt x="2268" y="2393"/>
                    </a:lnTo>
                    <a:lnTo>
                      <a:pt x="2383" y="2453"/>
                    </a:lnTo>
                    <a:lnTo>
                      <a:pt x="2489" y="2347"/>
                    </a:lnTo>
                    <a:lnTo>
                      <a:pt x="2425" y="2234"/>
                    </a:lnTo>
                    <a:lnTo>
                      <a:pt x="2497" y="2144"/>
                    </a:lnTo>
                    <a:lnTo>
                      <a:pt x="2626" y="2162"/>
                    </a:lnTo>
                    <a:lnTo>
                      <a:pt x="2698" y="2039"/>
                    </a:lnTo>
                    <a:lnTo>
                      <a:pt x="2599" y="1958"/>
                    </a:lnTo>
                    <a:lnTo>
                      <a:pt x="2648" y="1846"/>
                    </a:lnTo>
                    <a:lnTo>
                      <a:pt x="2775" y="1849"/>
                    </a:lnTo>
                    <a:lnTo>
                      <a:pt x="2816" y="1700"/>
                    </a:lnTo>
                    <a:lnTo>
                      <a:pt x="2701" y="1635"/>
                    </a:lnTo>
                    <a:lnTo>
                      <a:pt x="2718" y="1514"/>
                    </a:lnTo>
                    <a:lnTo>
                      <a:pt x="2840" y="1475"/>
                    </a:lnTo>
                    <a:lnTo>
                      <a:pt x="2840" y="1324"/>
                    </a:lnTo>
                    <a:lnTo>
                      <a:pt x="2719" y="1301"/>
                    </a:lnTo>
                    <a:lnTo>
                      <a:pt x="2701" y="1177"/>
                    </a:lnTo>
                    <a:lnTo>
                      <a:pt x="2807" y="1101"/>
                    </a:lnTo>
                    <a:lnTo>
                      <a:pt x="2767" y="962"/>
                    </a:lnTo>
                    <a:lnTo>
                      <a:pt x="2638" y="962"/>
                    </a:lnTo>
                    <a:lnTo>
                      <a:pt x="2589" y="843"/>
                    </a:lnTo>
                    <a:lnTo>
                      <a:pt x="2674" y="756"/>
                    </a:lnTo>
                    <a:lnTo>
                      <a:pt x="2602" y="626"/>
                    </a:lnTo>
                    <a:lnTo>
                      <a:pt x="2475" y="660"/>
                    </a:lnTo>
                    <a:lnTo>
                      <a:pt x="2402" y="564"/>
                    </a:lnTo>
                    <a:lnTo>
                      <a:pt x="2456" y="452"/>
                    </a:lnTo>
                    <a:lnTo>
                      <a:pt x="2345" y="348"/>
                    </a:lnTo>
                    <a:lnTo>
                      <a:pt x="2236" y="407"/>
                    </a:lnTo>
                    <a:lnTo>
                      <a:pt x="2130" y="332"/>
                    </a:lnTo>
                    <a:lnTo>
                      <a:pt x="2170" y="214"/>
                    </a:lnTo>
                    <a:lnTo>
                      <a:pt x="2039" y="144"/>
                    </a:lnTo>
                    <a:lnTo>
                      <a:pt x="1945" y="230"/>
                    </a:lnTo>
                    <a:lnTo>
                      <a:pt x="1831" y="191"/>
                    </a:lnTo>
                    <a:lnTo>
                      <a:pt x="1828" y="58"/>
                    </a:lnTo>
                    <a:lnTo>
                      <a:pt x="1693" y="25"/>
                    </a:lnTo>
                    <a:lnTo>
                      <a:pt x="1622" y="135"/>
                    </a:lnTo>
                    <a:lnTo>
                      <a:pt x="1502" y="123"/>
                    </a:lnTo>
                    <a:lnTo>
                      <a:pt x="1465" y="0"/>
                    </a:lnTo>
                    <a:lnTo>
                      <a:pt x="1318" y="3"/>
                    </a:lnTo>
                    <a:lnTo>
                      <a:pt x="1279" y="128"/>
                    </a:lnTo>
                    <a:lnTo>
                      <a:pt x="1166" y="145"/>
                    </a:lnTo>
                    <a:lnTo>
                      <a:pt x="1103" y="31"/>
                    </a:lnTo>
                    <a:lnTo>
                      <a:pt x="965" y="69"/>
                    </a:lnTo>
                    <a:lnTo>
                      <a:pt x="958" y="198"/>
                    </a:lnTo>
                    <a:lnTo>
                      <a:pt x="866" y="241"/>
                    </a:lnTo>
                    <a:lnTo>
                      <a:pt x="769" y="153"/>
                    </a:lnTo>
                    <a:lnTo>
                      <a:pt x="642" y="222"/>
                    </a:lnTo>
                    <a:lnTo>
                      <a:pt x="672" y="351"/>
                    </a:lnTo>
                    <a:lnTo>
                      <a:pt x="580" y="418"/>
                    </a:lnTo>
                    <a:lnTo>
                      <a:pt x="456" y="370"/>
                    </a:lnTo>
                    <a:lnTo>
                      <a:pt x="355" y="469"/>
                    </a:lnTo>
                    <a:lnTo>
                      <a:pt x="420" y="575"/>
                    </a:lnTo>
                    <a:lnTo>
                      <a:pt x="350" y="677"/>
                    </a:lnTo>
                    <a:lnTo>
                      <a:pt x="215" y="649"/>
                    </a:lnTo>
                    <a:lnTo>
                      <a:pt x="152" y="760"/>
                    </a:lnTo>
                    <a:lnTo>
                      <a:pt x="239" y="859"/>
                    </a:lnTo>
                    <a:lnTo>
                      <a:pt x="195" y="972"/>
                    </a:lnTo>
                    <a:lnTo>
                      <a:pt x="67" y="975"/>
                    </a:lnTo>
                    <a:lnTo>
                      <a:pt x="23" y="1121"/>
                    </a:lnTo>
                    <a:lnTo>
                      <a:pt x="135" y="1189"/>
                    </a:lnTo>
                    <a:lnTo>
                      <a:pt x="125" y="1313"/>
                    </a:lnTo>
                    <a:lnTo>
                      <a:pt x="0" y="1346"/>
                    </a:lnTo>
                    <a:lnTo>
                      <a:pt x="0" y="1457"/>
                    </a:lnTo>
                    <a:lnTo>
                      <a:pt x="32" y="14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504120" y="3252960"/>
                <a:ext cx="30240" cy="33840"/>
              </a:xfrm>
              <a:custGeom>
                <a:avLst/>
                <a:gdLst/>
                <a:ahLst/>
                <a:rect l="l" t="t" r="r" b="b"/>
                <a:pathLst>
                  <a:path w="531" h="531">
                    <a:moveTo>
                      <a:pt x="266" y="531"/>
                    </a:moveTo>
                    <a:lnTo>
                      <a:pt x="239" y="530"/>
                    </a:lnTo>
                    <a:lnTo>
                      <a:pt x="213" y="526"/>
                    </a:lnTo>
                    <a:lnTo>
                      <a:pt x="188" y="520"/>
                    </a:lnTo>
                    <a:lnTo>
                      <a:pt x="163" y="511"/>
                    </a:lnTo>
                    <a:lnTo>
                      <a:pt x="140" y="499"/>
                    </a:lnTo>
                    <a:lnTo>
                      <a:pt x="118" y="486"/>
                    </a:lnTo>
                    <a:lnTo>
                      <a:pt x="97" y="470"/>
                    </a:lnTo>
                    <a:lnTo>
                      <a:pt x="79" y="453"/>
                    </a:lnTo>
                    <a:lnTo>
                      <a:pt x="61" y="435"/>
                    </a:lnTo>
                    <a:lnTo>
                      <a:pt x="46" y="414"/>
                    </a:lnTo>
                    <a:lnTo>
                      <a:pt x="33" y="392"/>
                    </a:lnTo>
                    <a:lnTo>
                      <a:pt x="21" y="369"/>
                    </a:lnTo>
                    <a:lnTo>
                      <a:pt x="12" y="345"/>
                    </a:lnTo>
                    <a:lnTo>
                      <a:pt x="6" y="319"/>
                    </a:lnTo>
                    <a:lnTo>
                      <a:pt x="2" y="293"/>
                    </a:lnTo>
                    <a:lnTo>
                      <a:pt x="0" y="265"/>
                    </a:lnTo>
                    <a:lnTo>
                      <a:pt x="2" y="239"/>
                    </a:lnTo>
                    <a:lnTo>
                      <a:pt x="6" y="212"/>
                    </a:lnTo>
                    <a:lnTo>
                      <a:pt x="12" y="187"/>
                    </a:lnTo>
                    <a:lnTo>
                      <a:pt x="21" y="163"/>
                    </a:lnTo>
                    <a:lnTo>
                      <a:pt x="33" y="140"/>
                    </a:lnTo>
                    <a:lnTo>
                      <a:pt x="46" y="118"/>
                    </a:lnTo>
                    <a:lnTo>
                      <a:pt x="61" y="97"/>
                    </a:lnTo>
                    <a:lnTo>
                      <a:pt x="79" y="79"/>
                    </a:lnTo>
                    <a:lnTo>
                      <a:pt x="97" y="61"/>
                    </a:lnTo>
                    <a:lnTo>
                      <a:pt x="118" y="46"/>
                    </a:lnTo>
                    <a:lnTo>
                      <a:pt x="140" y="32"/>
                    </a:lnTo>
                    <a:lnTo>
                      <a:pt x="163" y="21"/>
                    </a:lnTo>
                    <a:lnTo>
                      <a:pt x="188" y="12"/>
                    </a:lnTo>
                    <a:lnTo>
                      <a:pt x="213" y="6"/>
                    </a:lnTo>
                    <a:lnTo>
                      <a:pt x="239" y="1"/>
                    </a:lnTo>
                    <a:lnTo>
                      <a:pt x="266" y="0"/>
                    </a:lnTo>
                    <a:lnTo>
                      <a:pt x="294" y="1"/>
                    </a:lnTo>
                    <a:lnTo>
                      <a:pt x="319" y="6"/>
                    </a:lnTo>
                    <a:lnTo>
                      <a:pt x="345" y="12"/>
                    </a:lnTo>
                    <a:lnTo>
                      <a:pt x="370" y="21"/>
                    </a:lnTo>
                    <a:lnTo>
                      <a:pt x="393" y="32"/>
                    </a:lnTo>
                    <a:lnTo>
                      <a:pt x="415" y="46"/>
                    </a:lnTo>
                    <a:lnTo>
                      <a:pt x="435" y="61"/>
                    </a:lnTo>
                    <a:lnTo>
                      <a:pt x="454" y="79"/>
                    </a:lnTo>
                    <a:lnTo>
                      <a:pt x="470" y="97"/>
                    </a:lnTo>
                    <a:lnTo>
                      <a:pt x="486" y="118"/>
                    </a:lnTo>
                    <a:lnTo>
                      <a:pt x="499" y="140"/>
                    </a:lnTo>
                    <a:lnTo>
                      <a:pt x="511" y="163"/>
                    </a:lnTo>
                    <a:lnTo>
                      <a:pt x="520" y="187"/>
                    </a:lnTo>
                    <a:lnTo>
                      <a:pt x="526" y="212"/>
                    </a:lnTo>
                    <a:lnTo>
                      <a:pt x="530" y="239"/>
                    </a:lnTo>
                    <a:lnTo>
                      <a:pt x="531" y="265"/>
                    </a:lnTo>
                    <a:lnTo>
                      <a:pt x="530" y="293"/>
                    </a:lnTo>
                    <a:lnTo>
                      <a:pt x="526" y="319"/>
                    </a:lnTo>
                    <a:lnTo>
                      <a:pt x="520" y="345"/>
                    </a:lnTo>
                    <a:lnTo>
                      <a:pt x="511" y="369"/>
                    </a:lnTo>
                    <a:lnTo>
                      <a:pt x="499" y="392"/>
                    </a:lnTo>
                    <a:lnTo>
                      <a:pt x="486" y="414"/>
                    </a:lnTo>
                    <a:lnTo>
                      <a:pt x="470" y="435"/>
                    </a:lnTo>
                    <a:lnTo>
                      <a:pt x="454" y="453"/>
                    </a:lnTo>
                    <a:lnTo>
                      <a:pt x="435" y="470"/>
                    </a:lnTo>
                    <a:lnTo>
                      <a:pt x="415" y="486"/>
                    </a:lnTo>
                    <a:lnTo>
                      <a:pt x="393" y="499"/>
                    </a:lnTo>
                    <a:lnTo>
                      <a:pt x="370" y="511"/>
                    </a:lnTo>
                    <a:lnTo>
                      <a:pt x="345" y="520"/>
                    </a:lnTo>
                    <a:lnTo>
                      <a:pt x="319" y="526"/>
                    </a:lnTo>
                    <a:lnTo>
                      <a:pt x="294" y="530"/>
                    </a:lnTo>
                    <a:lnTo>
                      <a:pt x="266" y="5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504840" y="3254400"/>
                <a:ext cx="27720" cy="30960"/>
              </a:xfrm>
              <a:custGeom>
                <a:avLst/>
                <a:gdLst/>
                <a:ahLst/>
                <a:rect l="l" t="t" r="r" b="b"/>
                <a:pathLst>
                  <a:path w="486" h="487">
                    <a:moveTo>
                      <a:pt x="243" y="487"/>
                    </a:moveTo>
                    <a:lnTo>
                      <a:pt x="219" y="486"/>
                    </a:lnTo>
                    <a:lnTo>
                      <a:pt x="195" y="483"/>
                    </a:lnTo>
                    <a:lnTo>
                      <a:pt x="171" y="476"/>
                    </a:lnTo>
                    <a:lnTo>
                      <a:pt x="149" y="468"/>
                    </a:lnTo>
                    <a:lnTo>
                      <a:pt x="128" y="457"/>
                    </a:lnTo>
                    <a:lnTo>
                      <a:pt x="108" y="446"/>
                    </a:lnTo>
                    <a:lnTo>
                      <a:pt x="89" y="432"/>
                    </a:lnTo>
                    <a:lnTo>
                      <a:pt x="72" y="416"/>
                    </a:lnTo>
                    <a:lnTo>
                      <a:pt x="56" y="399"/>
                    </a:lnTo>
                    <a:lnTo>
                      <a:pt x="42" y="379"/>
                    </a:lnTo>
                    <a:lnTo>
                      <a:pt x="30" y="360"/>
                    </a:lnTo>
                    <a:lnTo>
                      <a:pt x="20" y="338"/>
                    </a:lnTo>
                    <a:lnTo>
                      <a:pt x="12" y="316"/>
                    </a:lnTo>
                    <a:lnTo>
                      <a:pt x="5" y="293"/>
                    </a:lnTo>
                    <a:lnTo>
                      <a:pt x="2" y="269"/>
                    </a:lnTo>
                    <a:lnTo>
                      <a:pt x="0" y="243"/>
                    </a:lnTo>
                    <a:lnTo>
                      <a:pt x="2" y="219"/>
                    </a:lnTo>
                    <a:lnTo>
                      <a:pt x="5" y="195"/>
                    </a:lnTo>
                    <a:lnTo>
                      <a:pt x="12" y="171"/>
                    </a:lnTo>
                    <a:lnTo>
                      <a:pt x="20" y="149"/>
                    </a:lnTo>
                    <a:lnTo>
                      <a:pt x="30" y="128"/>
                    </a:lnTo>
                    <a:lnTo>
                      <a:pt x="42" y="107"/>
                    </a:lnTo>
                    <a:lnTo>
                      <a:pt x="56" y="89"/>
                    </a:lnTo>
                    <a:lnTo>
                      <a:pt x="72" y="72"/>
                    </a:lnTo>
                    <a:lnTo>
                      <a:pt x="89" y="55"/>
                    </a:lnTo>
                    <a:lnTo>
                      <a:pt x="108" y="42"/>
                    </a:lnTo>
                    <a:lnTo>
                      <a:pt x="128" y="30"/>
                    </a:lnTo>
                    <a:lnTo>
                      <a:pt x="149" y="20"/>
                    </a:lnTo>
                    <a:lnTo>
                      <a:pt x="171" y="12"/>
                    </a:lnTo>
                    <a:lnTo>
                      <a:pt x="195" y="5"/>
                    </a:lnTo>
                    <a:lnTo>
                      <a:pt x="219" y="1"/>
                    </a:lnTo>
                    <a:lnTo>
                      <a:pt x="243" y="0"/>
                    </a:lnTo>
                    <a:lnTo>
                      <a:pt x="268" y="1"/>
                    </a:lnTo>
                    <a:lnTo>
                      <a:pt x="292" y="5"/>
                    </a:lnTo>
                    <a:lnTo>
                      <a:pt x="316" y="12"/>
                    </a:lnTo>
                    <a:lnTo>
                      <a:pt x="338" y="20"/>
                    </a:lnTo>
                    <a:lnTo>
                      <a:pt x="359" y="30"/>
                    </a:lnTo>
                    <a:lnTo>
                      <a:pt x="379" y="42"/>
                    </a:lnTo>
                    <a:lnTo>
                      <a:pt x="398" y="55"/>
                    </a:lnTo>
                    <a:lnTo>
                      <a:pt x="415" y="72"/>
                    </a:lnTo>
                    <a:lnTo>
                      <a:pt x="431" y="89"/>
                    </a:lnTo>
                    <a:lnTo>
                      <a:pt x="445" y="107"/>
                    </a:lnTo>
                    <a:lnTo>
                      <a:pt x="457" y="128"/>
                    </a:lnTo>
                    <a:lnTo>
                      <a:pt x="467" y="149"/>
                    </a:lnTo>
                    <a:lnTo>
                      <a:pt x="475" y="171"/>
                    </a:lnTo>
                    <a:lnTo>
                      <a:pt x="482" y="195"/>
                    </a:lnTo>
                    <a:lnTo>
                      <a:pt x="485" y="219"/>
                    </a:lnTo>
                    <a:lnTo>
                      <a:pt x="486" y="243"/>
                    </a:lnTo>
                    <a:lnTo>
                      <a:pt x="485" y="269"/>
                    </a:lnTo>
                    <a:lnTo>
                      <a:pt x="482" y="293"/>
                    </a:lnTo>
                    <a:lnTo>
                      <a:pt x="475" y="316"/>
                    </a:lnTo>
                    <a:lnTo>
                      <a:pt x="467" y="338"/>
                    </a:lnTo>
                    <a:lnTo>
                      <a:pt x="457" y="360"/>
                    </a:lnTo>
                    <a:lnTo>
                      <a:pt x="445" y="379"/>
                    </a:lnTo>
                    <a:lnTo>
                      <a:pt x="431" y="399"/>
                    </a:lnTo>
                    <a:lnTo>
                      <a:pt x="415" y="416"/>
                    </a:lnTo>
                    <a:lnTo>
                      <a:pt x="398" y="432"/>
                    </a:lnTo>
                    <a:lnTo>
                      <a:pt x="379" y="446"/>
                    </a:lnTo>
                    <a:lnTo>
                      <a:pt x="359" y="457"/>
                    </a:lnTo>
                    <a:lnTo>
                      <a:pt x="338" y="468"/>
                    </a:lnTo>
                    <a:lnTo>
                      <a:pt x="316" y="476"/>
                    </a:lnTo>
                    <a:lnTo>
                      <a:pt x="292" y="483"/>
                    </a:lnTo>
                    <a:lnTo>
                      <a:pt x="268" y="486"/>
                    </a:lnTo>
                    <a:lnTo>
                      <a:pt x="243" y="4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513120" y="326376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99" h="198">
                    <a:moveTo>
                      <a:pt x="99" y="198"/>
                    </a:moveTo>
                    <a:lnTo>
                      <a:pt x="80" y="196"/>
                    </a:lnTo>
                    <a:lnTo>
                      <a:pt x="61" y="190"/>
                    </a:lnTo>
                    <a:lnTo>
                      <a:pt x="44" y="181"/>
                    </a:lnTo>
                    <a:lnTo>
                      <a:pt x="29" y="168"/>
                    </a:lnTo>
                    <a:lnTo>
                      <a:pt x="18" y="155"/>
                    </a:lnTo>
                    <a:lnTo>
                      <a:pt x="8" y="137"/>
                    </a:lnTo>
                    <a:lnTo>
                      <a:pt x="3" y="119"/>
                    </a:lnTo>
                    <a:lnTo>
                      <a:pt x="0" y="98"/>
                    </a:lnTo>
                    <a:lnTo>
                      <a:pt x="3" y="79"/>
                    </a:lnTo>
                    <a:lnTo>
                      <a:pt x="8" y="59"/>
                    </a:lnTo>
                    <a:lnTo>
                      <a:pt x="18" y="43"/>
                    </a:lnTo>
                    <a:lnTo>
                      <a:pt x="29" y="28"/>
                    </a:lnTo>
                    <a:lnTo>
                      <a:pt x="44" y="16"/>
                    </a:lnTo>
                    <a:lnTo>
                      <a:pt x="61" y="8"/>
                    </a:lnTo>
                    <a:lnTo>
                      <a:pt x="80" y="3"/>
                    </a:lnTo>
                    <a:lnTo>
                      <a:pt x="99" y="0"/>
                    </a:lnTo>
                    <a:lnTo>
                      <a:pt x="119" y="3"/>
                    </a:lnTo>
                    <a:lnTo>
                      <a:pt x="139" y="8"/>
                    </a:lnTo>
                    <a:lnTo>
                      <a:pt x="155" y="16"/>
                    </a:lnTo>
                    <a:lnTo>
                      <a:pt x="170" y="28"/>
                    </a:lnTo>
                    <a:lnTo>
                      <a:pt x="181" y="43"/>
                    </a:lnTo>
                    <a:lnTo>
                      <a:pt x="190" y="59"/>
                    </a:lnTo>
                    <a:lnTo>
                      <a:pt x="196" y="79"/>
                    </a:lnTo>
                    <a:lnTo>
                      <a:pt x="199" y="98"/>
                    </a:lnTo>
                    <a:lnTo>
                      <a:pt x="196" y="119"/>
                    </a:lnTo>
                    <a:lnTo>
                      <a:pt x="190" y="137"/>
                    </a:lnTo>
                    <a:lnTo>
                      <a:pt x="181" y="155"/>
                    </a:lnTo>
                    <a:lnTo>
                      <a:pt x="170" y="168"/>
                    </a:lnTo>
                    <a:lnTo>
                      <a:pt x="155" y="181"/>
                    </a:lnTo>
                    <a:lnTo>
                      <a:pt x="139" y="190"/>
                    </a:lnTo>
                    <a:lnTo>
                      <a:pt x="119" y="196"/>
                    </a:lnTo>
                    <a:lnTo>
                      <a:pt x="99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6514560" y="326520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71" y="143"/>
                    </a:moveTo>
                    <a:lnTo>
                      <a:pt x="58" y="142"/>
                    </a:lnTo>
                    <a:lnTo>
                      <a:pt x="44" y="137"/>
                    </a:lnTo>
                    <a:lnTo>
                      <a:pt x="31" y="130"/>
                    </a:lnTo>
                    <a:lnTo>
                      <a:pt x="21" y="122"/>
                    </a:lnTo>
                    <a:lnTo>
                      <a:pt x="13" y="111"/>
                    </a:lnTo>
                    <a:lnTo>
                      <a:pt x="6" y="99"/>
                    </a:lnTo>
                    <a:lnTo>
                      <a:pt x="1" y="85"/>
                    </a:lnTo>
                    <a:lnTo>
                      <a:pt x="0" y="70"/>
                    </a:lnTo>
                    <a:lnTo>
                      <a:pt x="1" y="56"/>
                    </a:lnTo>
                    <a:lnTo>
                      <a:pt x="6" y="43"/>
                    </a:lnTo>
                    <a:lnTo>
                      <a:pt x="13" y="31"/>
                    </a:lnTo>
                    <a:lnTo>
                      <a:pt x="21" y="21"/>
                    </a:lnTo>
                    <a:lnTo>
                      <a:pt x="31" y="11"/>
                    </a:lnTo>
                    <a:lnTo>
                      <a:pt x="44" y="6"/>
                    </a:lnTo>
                    <a:lnTo>
                      <a:pt x="58" y="1"/>
                    </a:lnTo>
                    <a:lnTo>
                      <a:pt x="71" y="0"/>
                    </a:lnTo>
                    <a:lnTo>
                      <a:pt x="86" y="1"/>
                    </a:lnTo>
                    <a:lnTo>
                      <a:pt x="100" y="6"/>
                    </a:lnTo>
                    <a:lnTo>
                      <a:pt x="112" y="11"/>
                    </a:lnTo>
                    <a:lnTo>
                      <a:pt x="123" y="21"/>
                    </a:lnTo>
                    <a:lnTo>
                      <a:pt x="131" y="31"/>
                    </a:lnTo>
                    <a:lnTo>
                      <a:pt x="138" y="43"/>
                    </a:lnTo>
                    <a:lnTo>
                      <a:pt x="143" y="56"/>
                    </a:lnTo>
                    <a:lnTo>
                      <a:pt x="144" y="70"/>
                    </a:lnTo>
                    <a:lnTo>
                      <a:pt x="143" y="85"/>
                    </a:lnTo>
                    <a:lnTo>
                      <a:pt x="138" y="99"/>
                    </a:lnTo>
                    <a:lnTo>
                      <a:pt x="131" y="111"/>
                    </a:lnTo>
                    <a:lnTo>
                      <a:pt x="123" y="122"/>
                    </a:lnTo>
                    <a:lnTo>
                      <a:pt x="112" y="130"/>
                    </a:lnTo>
                    <a:lnTo>
                      <a:pt x="100" y="137"/>
                    </a:lnTo>
                    <a:lnTo>
                      <a:pt x="86" y="142"/>
                    </a:lnTo>
                    <a:lnTo>
                      <a:pt x="71" y="1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517080" y="3239280"/>
              <a:ext cx="135720" cy="131400"/>
              <a:chOff x="6517080" y="3239280"/>
              <a:chExt cx="135720" cy="131400"/>
            </a:xfrm>
          </p:grpSpPr>
          <p:sp>
            <p:nvSpPr>
              <p:cNvPr id="284" name=""/>
              <p:cNvSpPr/>
              <p:nvPr/>
            </p:nvSpPr>
            <p:spPr>
              <a:xfrm>
                <a:off x="6594120" y="3282840"/>
                <a:ext cx="33120" cy="24480"/>
              </a:xfrm>
              <a:custGeom>
                <a:avLst/>
                <a:gdLst/>
                <a:ahLst/>
                <a:rect l="l" t="t" r="r" b="b"/>
                <a:pathLst>
                  <a:path w="696" h="496">
                    <a:moveTo>
                      <a:pt x="0" y="358"/>
                    </a:moveTo>
                    <a:lnTo>
                      <a:pt x="2" y="362"/>
                    </a:lnTo>
                    <a:lnTo>
                      <a:pt x="9" y="374"/>
                    </a:lnTo>
                    <a:lnTo>
                      <a:pt x="18" y="391"/>
                    </a:lnTo>
                    <a:lnTo>
                      <a:pt x="29" y="413"/>
                    </a:lnTo>
                    <a:lnTo>
                      <a:pt x="39" y="436"/>
                    </a:lnTo>
                    <a:lnTo>
                      <a:pt x="48" y="458"/>
                    </a:lnTo>
                    <a:lnTo>
                      <a:pt x="54" y="479"/>
                    </a:lnTo>
                    <a:lnTo>
                      <a:pt x="56" y="496"/>
                    </a:lnTo>
                    <a:lnTo>
                      <a:pt x="696" y="148"/>
                    </a:lnTo>
                    <a:lnTo>
                      <a:pt x="601" y="0"/>
                    </a:lnTo>
                    <a:lnTo>
                      <a:pt x="0" y="3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57400" y="3312720"/>
                <a:ext cx="20160" cy="10440"/>
              </a:xfrm>
              <a:custGeom>
                <a:avLst/>
                <a:gdLst/>
                <a:ahLst/>
                <a:rect l="l" t="t" r="r" b="b"/>
                <a:pathLst>
                  <a:path w="426" h="214">
                    <a:moveTo>
                      <a:pt x="0" y="182"/>
                    </a:moveTo>
                    <a:lnTo>
                      <a:pt x="327" y="0"/>
                    </a:lnTo>
                    <a:lnTo>
                      <a:pt x="328" y="3"/>
                    </a:lnTo>
                    <a:lnTo>
                      <a:pt x="334" y="14"/>
                    </a:lnTo>
                    <a:lnTo>
                      <a:pt x="341" y="28"/>
                    </a:lnTo>
                    <a:lnTo>
                      <a:pt x="349" y="44"/>
                    </a:lnTo>
                    <a:lnTo>
                      <a:pt x="358" y="61"/>
                    </a:lnTo>
                    <a:lnTo>
                      <a:pt x="367" y="76"/>
                    </a:lnTo>
                    <a:lnTo>
                      <a:pt x="376" y="87"/>
                    </a:lnTo>
                    <a:lnTo>
                      <a:pt x="384" y="93"/>
                    </a:lnTo>
                    <a:lnTo>
                      <a:pt x="391" y="97"/>
                    </a:lnTo>
                    <a:lnTo>
                      <a:pt x="398" y="102"/>
                    </a:lnTo>
                    <a:lnTo>
                      <a:pt x="405" y="108"/>
                    </a:lnTo>
                    <a:lnTo>
                      <a:pt x="412" y="114"/>
                    </a:lnTo>
                    <a:lnTo>
                      <a:pt x="418" y="119"/>
                    </a:lnTo>
                    <a:lnTo>
                      <a:pt x="422" y="123"/>
                    </a:lnTo>
                    <a:lnTo>
                      <a:pt x="425" y="127"/>
                    </a:lnTo>
                    <a:lnTo>
                      <a:pt x="426" y="128"/>
                    </a:lnTo>
                    <a:lnTo>
                      <a:pt x="290" y="214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555600" y="3312000"/>
                <a:ext cx="17640" cy="10800"/>
              </a:xfrm>
              <a:custGeom>
                <a:avLst/>
                <a:gdLst/>
                <a:ahLst/>
                <a:rect l="l" t="t" r="r" b="b"/>
                <a:pathLst>
                  <a:path w="370" h="224">
                    <a:moveTo>
                      <a:pt x="24" y="224"/>
                    </a:moveTo>
                    <a:lnTo>
                      <a:pt x="370" y="23"/>
                    </a:lnTo>
                    <a:lnTo>
                      <a:pt x="356" y="0"/>
                    </a:lnTo>
                    <a:lnTo>
                      <a:pt x="0" y="205"/>
                    </a:lnTo>
                    <a:lnTo>
                      <a:pt x="24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570000" y="331884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170" h="110">
                    <a:moveTo>
                      <a:pt x="14" y="110"/>
                    </a:moveTo>
                    <a:lnTo>
                      <a:pt x="170" y="24"/>
                    </a:lnTo>
                    <a:lnTo>
                      <a:pt x="156" y="0"/>
                    </a:lnTo>
                    <a:lnTo>
                      <a:pt x="0" y="86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529680" y="3251880"/>
                <a:ext cx="110160" cy="114120"/>
              </a:xfrm>
              <a:custGeom>
                <a:avLst/>
                <a:gdLst/>
                <a:ahLst/>
                <a:rect l="l" t="t" r="r" b="b"/>
                <a:pathLst>
                  <a:path w="2303" h="2305">
                    <a:moveTo>
                      <a:pt x="1151" y="228"/>
                    </a:moveTo>
                    <a:lnTo>
                      <a:pt x="1104" y="229"/>
                    </a:lnTo>
                    <a:lnTo>
                      <a:pt x="1057" y="233"/>
                    </a:lnTo>
                    <a:lnTo>
                      <a:pt x="1011" y="239"/>
                    </a:lnTo>
                    <a:lnTo>
                      <a:pt x="965" y="247"/>
                    </a:lnTo>
                    <a:lnTo>
                      <a:pt x="920" y="257"/>
                    </a:lnTo>
                    <a:lnTo>
                      <a:pt x="876" y="270"/>
                    </a:lnTo>
                    <a:lnTo>
                      <a:pt x="834" y="285"/>
                    </a:lnTo>
                    <a:lnTo>
                      <a:pt x="792" y="301"/>
                    </a:lnTo>
                    <a:lnTo>
                      <a:pt x="751" y="319"/>
                    </a:lnTo>
                    <a:lnTo>
                      <a:pt x="710" y="340"/>
                    </a:lnTo>
                    <a:lnTo>
                      <a:pt x="672" y="362"/>
                    </a:lnTo>
                    <a:lnTo>
                      <a:pt x="634" y="386"/>
                    </a:lnTo>
                    <a:lnTo>
                      <a:pt x="599" y="411"/>
                    </a:lnTo>
                    <a:lnTo>
                      <a:pt x="563" y="439"/>
                    </a:lnTo>
                    <a:lnTo>
                      <a:pt x="529" y="468"/>
                    </a:lnTo>
                    <a:lnTo>
                      <a:pt x="497" y="499"/>
                    </a:lnTo>
                    <a:lnTo>
                      <a:pt x="467" y="531"/>
                    </a:lnTo>
                    <a:lnTo>
                      <a:pt x="438" y="565"/>
                    </a:lnTo>
                    <a:lnTo>
                      <a:pt x="411" y="599"/>
                    </a:lnTo>
                    <a:lnTo>
                      <a:pt x="384" y="636"/>
                    </a:lnTo>
                    <a:lnTo>
                      <a:pt x="360" y="673"/>
                    </a:lnTo>
                    <a:lnTo>
                      <a:pt x="338" y="712"/>
                    </a:lnTo>
                    <a:lnTo>
                      <a:pt x="317" y="751"/>
                    </a:lnTo>
                    <a:lnTo>
                      <a:pt x="299" y="793"/>
                    </a:lnTo>
                    <a:lnTo>
                      <a:pt x="283" y="834"/>
                    </a:lnTo>
                    <a:lnTo>
                      <a:pt x="268" y="877"/>
                    </a:lnTo>
                    <a:lnTo>
                      <a:pt x="255" y="922"/>
                    </a:lnTo>
                    <a:lnTo>
                      <a:pt x="245" y="966"/>
                    </a:lnTo>
                    <a:lnTo>
                      <a:pt x="237" y="1012"/>
                    </a:lnTo>
                    <a:lnTo>
                      <a:pt x="231" y="1058"/>
                    </a:lnTo>
                    <a:lnTo>
                      <a:pt x="228" y="1105"/>
                    </a:lnTo>
                    <a:lnTo>
                      <a:pt x="227" y="1152"/>
                    </a:lnTo>
                    <a:lnTo>
                      <a:pt x="228" y="1199"/>
                    </a:lnTo>
                    <a:lnTo>
                      <a:pt x="231" y="1247"/>
                    </a:lnTo>
                    <a:lnTo>
                      <a:pt x="237" y="1293"/>
                    </a:lnTo>
                    <a:lnTo>
                      <a:pt x="245" y="1339"/>
                    </a:lnTo>
                    <a:lnTo>
                      <a:pt x="255" y="1384"/>
                    </a:lnTo>
                    <a:lnTo>
                      <a:pt x="268" y="1428"/>
                    </a:lnTo>
                    <a:lnTo>
                      <a:pt x="283" y="1470"/>
                    </a:lnTo>
                    <a:lnTo>
                      <a:pt x="299" y="1513"/>
                    </a:lnTo>
                    <a:lnTo>
                      <a:pt x="317" y="1554"/>
                    </a:lnTo>
                    <a:lnTo>
                      <a:pt x="338" y="1593"/>
                    </a:lnTo>
                    <a:lnTo>
                      <a:pt x="360" y="1633"/>
                    </a:lnTo>
                    <a:lnTo>
                      <a:pt x="384" y="1671"/>
                    </a:lnTo>
                    <a:lnTo>
                      <a:pt x="411" y="1706"/>
                    </a:lnTo>
                    <a:lnTo>
                      <a:pt x="438" y="1741"/>
                    </a:lnTo>
                    <a:lnTo>
                      <a:pt x="467" y="1775"/>
                    </a:lnTo>
                    <a:lnTo>
                      <a:pt x="497" y="1807"/>
                    </a:lnTo>
                    <a:lnTo>
                      <a:pt x="529" y="1838"/>
                    </a:lnTo>
                    <a:lnTo>
                      <a:pt x="563" y="1866"/>
                    </a:lnTo>
                    <a:lnTo>
                      <a:pt x="599" y="1894"/>
                    </a:lnTo>
                    <a:lnTo>
                      <a:pt x="634" y="1921"/>
                    </a:lnTo>
                    <a:lnTo>
                      <a:pt x="672" y="1945"/>
                    </a:lnTo>
                    <a:lnTo>
                      <a:pt x="710" y="1967"/>
                    </a:lnTo>
                    <a:lnTo>
                      <a:pt x="751" y="1987"/>
                    </a:lnTo>
                    <a:lnTo>
                      <a:pt x="792" y="2006"/>
                    </a:lnTo>
                    <a:lnTo>
                      <a:pt x="834" y="2022"/>
                    </a:lnTo>
                    <a:lnTo>
                      <a:pt x="876" y="2037"/>
                    </a:lnTo>
                    <a:lnTo>
                      <a:pt x="920" y="2050"/>
                    </a:lnTo>
                    <a:lnTo>
                      <a:pt x="965" y="2060"/>
                    </a:lnTo>
                    <a:lnTo>
                      <a:pt x="1011" y="2068"/>
                    </a:lnTo>
                    <a:lnTo>
                      <a:pt x="1057" y="2074"/>
                    </a:lnTo>
                    <a:lnTo>
                      <a:pt x="1104" y="2077"/>
                    </a:lnTo>
                    <a:lnTo>
                      <a:pt x="1151" y="2078"/>
                    </a:lnTo>
                    <a:lnTo>
                      <a:pt x="1199" y="2077"/>
                    </a:lnTo>
                    <a:lnTo>
                      <a:pt x="1246" y="2074"/>
                    </a:lnTo>
                    <a:lnTo>
                      <a:pt x="1292" y="2068"/>
                    </a:lnTo>
                    <a:lnTo>
                      <a:pt x="1338" y="2060"/>
                    </a:lnTo>
                    <a:lnTo>
                      <a:pt x="1383" y="2050"/>
                    </a:lnTo>
                    <a:lnTo>
                      <a:pt x="1427" y="2037"/>
                    </a:lnTo>
                    <a:lnTo>
                      <a:pt x="1469" y="2022"/>
                    </a:lnTo>
                    <a:lnTo>
                      <a:pt x="1511" y="2006"/>
                    </a:lnTo>
                    <a:lnTo>
                      <a:pt x="1552" y="1987"/>
                    </a:lnTo>
                    <a:lnTo>
                      <a:pt x="1593" y="1967"/>
                    </a:lnTo>
                    <a:lnTo>
                      <a:pt x="1631" y="1945"/>
                    </a:lnTo>
                    <a:lnTo>
                      <a:pt x="1669" y="1921"/>
                    </a:lnTo>
                    <a:lnTo>
                      <a:pt x="1704" y="1894"/>
                    </a:lnTo>
                    <a:lnTo>
                      <a:pt x="1740" y="1866"/>
                    </a:lnTo>
                    <a:lnTo>
                      <a:pt x="1773" y="1838"/>
                    </a:lnTo>
                    <a:lnTo>
                      <a:pt x="1806" y="1807"/>
                    </a:lnTo>
                    <a:lnTo>
                      <a:pt x="1836" y="1775"/>
                    </a:lnTo>
                    <a:lnTo>
                      <a:pt x="1864" y="1741"/>
                    </a:lnTo>
                    <a:lnTo>
                      <a:pt x="1892" y="1706"/>
                    </a:lnTo>
                    <a:lnTo>
                      <a:pt x="1919" y="1671"/>
                    </a:lnTo>
                    <a:lnTo>
                      <a:pt x="1943" y="1633"/>
                    </a:lnTo>
                    <a:lnTo>
                      <a:pt x="1965" y="1593"/>
                    </a:lnTo>
                    <a:lnTo>
                      <a:pt x="1985" y="1554"/>
                    </a:lnTo>
                    <a:lnTo>
                      <a:pt x="2004" y="1513"/>
                    </a:lnTo>
                    <a:lnTo>
                      <a:pt x="2020" y="1470"/>
                    </a:lnTo>
                    <a:lnTo>
                      <a:pt x="2035" y="1428"/>
                    </a:lnTo>
                    <a:lnTo>
                      <a:pt x="2048" y="1384"/>
                    </a:lnTo>
                    <a:lnTo>
                      <a:pt x="2058" y="1339"/>
                    </a:lnTo>
                    <a:lnTo>
                      <a:pt x="2066" y="1293"/>
                    </a:lnTo>
                    <a:lnTo>
                      <a:pt x="2072" y="1247"/>
                    </a:lnTo>
                    <a:lnTo>
                      <a:pt x="2075" y="1199"/>
                    </a:lnTo>
                    <a:lnTo>
                      <a:pt x="2076" y="1152"/>
                    </a:lnTo>
                    <a:lnTo>
                      <a:pt x="2075" y="1105"/>
                    </a:lnTo>
                    <a:lnTo>
                      <a:pt x="2072" y="1058"/>
                    </a:lnTo>
                    <a:lnTo>
                      <a:pt x="2066" y="1012"/>
                    </a:lnTo>
                    <a:lnTo>
                      <a:pt x="2058" y="966"/>
                    </a:lnTo>
                    <a:lnTo>
                      <a:pt x="2048" y="922"/>
                    </a:lnTo>
                    <a:lnTo>
                      <a:pt x="2035" y="877"/>
                    </a:lnTo>
                    <a:lnTo>
                      <a:pt x="2020" y="834"/>
                    </a:lnTo>
                    <a:lnTo>
                      <a:pt x="2004" y="793"/>
                    </a:lnTo>
                    <a:lnTo>
                      <a:pt x="1985" y="751"/>
                    </a:lnTo>
                    <a:lnTo>
                      <a:pt x="1965" y="712"/>
                    </a:lnTo>
                    <a:lnTo>
                      <a:pt x="1943" y="673"/>
                    </a:lnTo>
                    <a:lnTo>
                      <a:pt x="1919" y="636"/>
                    </a:lnTo>
                    <a:lnTo>
                      <a:pt x="1892" y="599"/>
                    </a:lnTo>
                    <a:lnTo>
                      <a:pt x="1864" y="565"/>
                    </a:lnTo>
                    <a:lnTo>
                      <a:pt x="1836" y="531"/>
                    </a:lnTo>
                    <a:lnTo>
                      <a:pt x="1806" y="499"/>
                    </a:lnTo>
                    <a:lnTo>
                      <a:pt x="1773" y="468"/>
                    </a:lnTo>
                    <a:lnTo>
                      <a:pt x="1740" y="439"/>
                    </a:lnTo>
                    <a:lnTo>
                      <a:pt x="1704" y="411"/>
                    </a:lnTo>
                    <a:lnTo>
                      <a:pt x="1669" y="386"/>
                    </a:lnTo>
                    <a:lnTo>
                      <a:pt x="1631" y="362"/>
                    </a:lnTo>
                    <a:lnTo>
                      <a:pt x="1593" y="340"/>
                    </a:lnTo>
                    <a:lnTo>
                      <a:pt x="1552" y="319"/>
                    </a:lnTo>
                    <a:lnTo>
                      <a:pt x="1511" y="301"/>
                    </a:lnTo>
                    <a:lnTo>
                      <a:pt x="1469" y="285"/>
                    </a:lnTo>
                    <a:lnTo>
                      <a:pt x="1427" y="270"/>
                    </a:lnTo>
                    <a:lnTo>
                      <a:pt x="1383" y="257"/>
                    </a:lnTo>
                    <a:lnTo>
                      <a:pt x="1338" y="247"/>
                    </a:lnTo>
                    <a:lnTo>
                      <a:pt x="1292" y="239"/>
                    </a:lnTo>
                    <a:lnTo>
                      <a:pt x="1246" y="233"/>
                    </a:lnTo>
                    <a:lnTo>
                      <a:pt x="1199" y="229"/>
                    </a:lnTo>
                    <a:lnTo>
                      <a:pt x="1151" y="228"/>
                    </a:lnTo>
                    <a:lnTo>
                      <a:pt x="1151" y="0"/>
                    </a:lnTo>
                    <a:lnTo>
                      <a:pt x="1210" y="1"/>
                    </a:lnTo>
                    <a:lnTo>
                      <a:pt x="1269" y="6"/>
                    </a:lnTo>
                    <a:lnTo>
                      <a:pt x="1327" y="14"/>
                    </a:lnTo>
                    <a:lnTo>
                      <a:pt x="1383" y="23"/>
                    </a:lnTo>
                    <a:lnTo>
                      <a:pt x="1439" y="37"/>
                    </a:lnTo>
                    <a:lnTo>
                      <a:pt x="1494" y="52"/>
                    </a:lnTo>
                    <a:lnTo>
                      <a:pt x="1548" y="70"/>
                    </a:lnTo>
                    <a:lnTo>
                      <a:pt x="1600" y="91"/>
                    </a:lnTo>
                    <a:lnTo>
                      <a:pt x="1650" y="114"/>
                    </a:lnTo>
                    <a:lnTo>
                      <a:pt x="1701" y="140"/>
                    </a:lnTo>
                    <a:lnTo>
                      <a:pt x="1748" y="167"/>
                    </a:lnTo>
                    <a:lnTo>
                      <a:pt x="1795" y="197"/>
                    </a:lnTo>
                    <a:lnTo>
                      <a:pt x="1840" y="229"/>
                    </a:lnTo>
                    <a:lnTo>
                      <a:pt x="1884" y="263"/>
                    </a:lnTo>
                    <a:lnTo>
                      <a:pt x="1926" y="300"/>
                    </a:lnTo>
                    <a:lnTo>
                      <a:pt x="1966" y="338"/>
                    </a:lnTo>
                    <a:lnTo>
                      <a:pt x="2004" y="378"/>
                    </a:lnTo>
                    <a:lnTo>
                      <a:pt x="2041" y="420"/>
                    </a:lnTo>
                    <a:lnTo>
                      <a:pt x="2074" y="463"/>
                    </a:lnTo>
                    <a:lnTo>
                      <a:pt x="2106" y="508"/>
                    </a:lnTo>
                    <a:lnTo>
                      <a:pt x="2136" y="555"/>
                    </a:lnTo>
                    <a:lnTo>
                      <a:pt x="2164" y="603"/>
                    </a:lnTo>
                    <a:lnTo>
                      <a:pt x="2189" y="653"/>
                    </a:lnTo>
                    <a:lnTo>
                      <a:pt x="2212" y="704"/>
                    </a:lnTo>
                    <a:lnTo>
                      <a:pt x="2233" y="756"/>
                    </a:lnTo>
                    <a:lnTo>
                      <a:pt x="2251" y="810"/>
                    </a:lnTo>
                    <a:lnTo>
                      <a:pt x="2266" y="864"/>
                    </a:lnTo>
                    <a:lnTo>
                      <a:pt x="2280" y="921"/>
                    </a:lnTo>
                    <a:lnTo>
                      <a:pt x="2289" y="977"/>
                    </a:lnTo>
                    <a:lnTo>
                      <a:pt x="2298" y="1035"/>
                    </a:lnTo>
                    <a:lnTo>
                      <a:pt x="2302" y="1093"/>
                    </a:lnTo>
                    <a:lnTo>
                      <a:pt x="2303" y="1152"/>
                    </a:lnTo>
                    <a:lnTo>
                      <a:pt x="2302" y="1212"/>
                    </a:lnTo>
                    <a:lnTo>
                      <a:pt x="2298" y="1270"/>
                    </a:lnTo>
                    <a:lnTo>
                      <a:pt x="2289" y="1327"/>
                    </a:lnTo>
                    <a:lnTo>
                      <a:pt x="2280" y="1385"/>
                    </a:lnTo>
                    <a:lnTo>
                      <a:pt x="2266" y="1440"/>
                    </a:lnTo>
                    <a:lnTo>
                      <a:pt x="2251" y="1495"/>
                    </a:lnTo>
                    <a:lnTo>
                      <a:pt x="2233" y="1548"/>
                    </a:lnTo>
                    <a:lnTo>
                      <a:pt x="2212" y="1601"/>
                    </a:lnTo>
                    <a:lnTo>
                      <a:pt x="2189" y="1652"/>
                    </a:lnTo>
                    <a:lnTo>
                      <a:pt x="2164" y="1702"/>
                    </a:lnTo>
                    <a:lnTo>
                      <a:pt x="2136" y="1750"/>
                    </a:lnTo>
                    <a:lnTo>
                      <a:pt x="2106" y="1797"/>
                    </a:lnTo>
                    <a:lnTo>
                      <a:pt x="2074" y="1842"/>
                    </a:lnTo>
                    <a:lnTo>
                      <a:pt x="2041" y="1886"/>
                    </a:lnTo>
                    <a:lnTo>
                      <a:pt x="2004" y="1927"/>
                    </a:lnTo>
                    <a:lnTo>
                      <a:pt x="1966" y="1968"/>
                    </a:lnTo>
                    <a:lnTo>
                      <a:pt x="1926" y="2006"/>
                    </a:lnTo>
                    <a:lnTo>
                      <a:pt x="1884" y="2042"/>
                    </a:lnTo>
                    <a:lnTo>
                      <a:pt x="1840" y="2076"/>
                    </a:lnTo>
                    <a:lnTo>
                      <a:pt x="1795" y="2108"/>
                    </a:lnTo>
                    <a:lnTo>
                      <a:pt x="1748" y="2138"/>
                    </a:lnTo>
                    <a:lnTo>
                      <a:pt x="1701" y="2166"/>
                    </a:lnTo>
                    <a:lnTo>
                      <a:pt x="1650" y="2191"/>
                    </a:lnTo>
                    <a:lnTo>
                      <a:pt x="1600" y="2214"/>
                    </a:lnTo>
                    <a:lnTo>
                      <a:pt x="1548" y="2235"/>
                    </a:lnTo>
                    <a:lnTo>
                      <a:pt x="1494" y="2254"/>
                    </a:lnTo>
                    <a:lnTo>
                      <a:pt x="1439" y="2268"/>
                    </a:lnTo>
                    <a:lnTo>
                      <a:pt x="1383" y="2282"/>
                    </a:lnTo>
                    <a:lnTo>
                      <a:pt x="1327" y="2292"/>
                    </a:lnTo>
                    <a:lnTo>
                      <a:pt x="1269" y="2300"/>
                    </a:lnTo>
                    <a:lnTo>
                      <a:pt x="1210" y="2304"/>
                    </a:lnTo>
                    <a:lnTo>
                      <a:pt x="1151" y="2305"/>
                    </a:lnTo>
                    <a:lnTo>
                      <a:pt x="1093" y="2304"/>
                    </a:lnTo>
                    <a:lnTo>
                      <a:pt x="1034" y="2300"/>
                    </a:lnTo>
                    <a:lnTo>
                      <a:pt x="976" y="2292"/>
                    </a:lnTo>
                    <a:lnTo>
                      <a:pt x="920" y="2282"/>
                    </a:lnTo>
                    <a:lnTo>
                      <a:pt x="863" y="2268"/>
                    </a:lnTo>
                    <a:lnTo>
                      <a:pt x="809" y="2254"/>
                    </a:lnTo>
                    <a:lnTo>
                      <a:pt x="755" y="2235"/>
                    </a:lnTo>
                    <a:lnTo>
                      <a:pt x="703" y="2214"/>
                    </a:lnTo>
                    <a:lnTo>
                      <a:pt x="653" y="2191"/>
                    </a:lnTo>
                    <a:lnTo>
                      <a:pt x="602" y="2166"/>
                    </a:lnTo>
                    <a:lnTo>
                      <a:pt x="555" y="2138"/>
                    </a:lnTo>
                    <a:lnTo>
                      <a:pt x="508" y="2108"/>
                    </a:lnTo>
                    <a:lnTo>
                      <a:pt x="463" y="2076"/>
                    </a:lnTo>
                    <a:lnTo>
                      <a:pt x="419" y="2042"/>
                    </a:lnTo>
                    <a:lnTo>
                      <a:pt x="377" y="2006"/>
                    </a:lnTo>
                    <a:lnTo>
                      <a:pt x="337" y="1968"/>
                    </a:lnTo>
                    <a:lnTo>
                      <a:pt x="299" y="1927"/>
                    </a:lnTo>
                    <a:lnTo>
                      <a:pt x="262" y="1886"/>
                    </a:lnTo>
                    <a:lnTo>
                      <a:pt x="229" y="1842"/>
                    </a:lnTo>
                    <a:lnTo>
                      <a:pt x="197" y="1797"/>
                    </a:lnTo>
                    <a:lnTo>
                      <a:pt x="167" y="1750"/>
                    </a:lnTo>
                    <a:lnTo>
                      <a:pt x="139" y="1702"/>
                    </a:lnTo>
                    <a:lnTo>
                      <a:pt x="114" y="1652"/>
                    </a:lnTo>
                    <a:lnTo>
                      <a:pt x="91" y="1601"/>
                    </a:lnTo>
                    <a:lnTo>
                      <a:pt x="70" y="1548"/>
                    </a:lnTo>
                    <a:lnTo>
                      <a:pt x="51" y="1495"/>
                    </a:lnTo>
                    <a:lnTo>
                      <a:pt x="36" y="1440"/>
                    </a:lnTo>
                    <a:lnTo>
                      <a:pt x="23" y="1385"/>
                    </a:lnTo>
                    <a:lnTo>
                      <a:pt x="13" y="1327"/>
                    </a:lnTo>
                    <a:lnTo>
                      <a:pt x="5" y="1270"/>
                    </a:lnTo>
                    <a:lnTo>
                      <a:pt x="1" y="1212"/>
                    </a:lnTo>
                    <a:lnTo>
                      <a:pt x="0" y="1152"/>
                    </a:lnTo>
                    <a:lnTo>
                      <a:pt x="1" y="1093"/>
                    </a:lnTo>
                    <a:lnTo>
                      <a:pt x="5" y="1035"/>
                    </a:lnTo>
                    <a:lnTo>
                      <a:pt x="13" y="977"/>
                    </a:lnTo>
                    <a:lnTo>
                      <a:pt x="23" y="921"/>
                    </a:lnTo>
                    <a:lnTo>
                      <a:pt x="36" y="864"/>
                    </a:lnTo>
                    <a:lnTo>
                      <a:pt x="51" y="810"/>
                    </a:lnTo>
                    <a:lnTo>
                      <a:pt x="70" y="756"/>
                    </a:lnTo>
                    <a:lnTo>
                      <a:pt x="91" y="704"/>
                    </a:lnTo>
                    <a:lnTo>
                      <a:pt x="114" y="653"/>
                    </a:lnTo>
                    <a:lnTo>
                      <a:pt x="139" y="603"/>
                    </a:lnTo>
                    <a:lnTo>
                      <a:pt x="167" y="555"/>
                    </a:lnTo>
                    <a:lnTo>
                      <a:pt x="197" y="508"/>
                    </a:lnTo>
                    <a:lnTo>
                      <a:pt x="229" y="463"/>
                    </a:lnTo>
                    <a:lnTo>
                      <a:pt x="262" y="420"/>
                    </a:lnTo>
                    <a:lnTo>
                      <a:pt x="299" y="378"/>
                    </a:lnTo>
                    <a:lnTo>
                      <a:pt x="337" y="338"/>
                    </a:lnTo>
                    <a:lnTo>
                      <a:pt x="377" y="300"/>
                    </a:lnTo>
                    <a:lnTo>
                      <a:pt x="419" y="263"/>
                    </a:lnTo>
                    <a:lnTo>
                      <a:pt x="463" y="229"/>
                    </a:lnTo>
                    <a:lnTo>
                      <a:pt x="508" y="197"/>
                    </a:lnTo>
                    <a:lnTo>
                      <a:pt x="555" y="167"/>
                    </a:lnTo>
                    <a:lnTo>
                      <a:pt x="602" y="140"/>
                    </a:lnTo>
                    <a:lnTo>
                      <a:pt x="653" y="114"/>
                    </a:lnTo>
                    <a:lnTo>
                      <a:pt x="703" y="91"/>
                    </a:lnTo>
                    <a:lnTo>
                      <a:pt x="755" y="70"/>
                    </a:lnTo>
                    <a:lnTo>
                      <a:pt x="809" y="52"/>
                    </a:lnTo>
                    <a:lnTo>
                      <a:pt x="863" y="37"/>
                    </a:lnTo>
                    <a:lnTo>
                      <a:pt x="920" y="23"/>
                    </a:lnTo>
                    <a:lnTo>
                      <a:pt x="976" y="14"/>
                    </a:lnTo>
                    <a:lnTo>
                      <a:pt x="1034" y="6"/>
                    </a:lnTo>
                    <a:lnTo>
                      <a:pt x="1093" y="1"/>
                    </a:lnTo>
                    <a:lnTo>
                      <a:pt x="1151" y="0"/>
                    </a:lnTo>
                    <a:lnTo>
                      <a:pt x="1151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86920" y="3317760"/>
                <a:ext cx="24120" cy="34560"/>
              </a:xfrm>
              <a:custGeom>
                <a:avLst/>
                <a:gdLst/>
                <a:ahLst/>
                <a:rect l="l" t="t" r="r" b="b"/>
                <a:pathLst>
                  <a:path w="511" h="702">
                    <a:moveTo>
                      <a:pt x="0" y="82"/>
                    </a:moveTo>
                    <a:lnTo>
                      <a:pt x="345" y="702"/>
                    </a:lnTo>
                    <a:lnTo>
                      <a:pt x="511" y="598"/>
                    </a:lnTo>
                    <a:lnTo>
                      <a:pt x="145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58480" y="3266640"/>
                <a:ext cx="23400" cy="34920"/>
              </a:xfrm>
              <a:custGeom>
                <a:avLst/>
                <a:gdLst/>
                <a:ahLst/>
                <a:rect l="l" t="t" r="r" b="b"/>
                <a:pathLst>
                  <a:path w="492" h="705">
                    <a:moveTo>
                      <a:pt x="144" y="0"/>
                    </a:moveTo>
                    <a:lnTo>
                      <a:pt x="492" y="610"/>
                    </a:lnTo>
                    <a:lnTo>
                      <a:pt x="487" y="612"/>
                    </a:lnTo>
                    <a:lnTo>
                      <a:pt x="475" y="617"/>
                    </a:lnTo>
                    <a:lnTo>
                      <a:pt x="456" y="625"/>
                    </a:lnTo>
                    <a:lnTo>
                      <a:pt x="434" y="635"/>
                    </a:lnTo>
                    <a:lnTo>
                      <a:pt x="411" y="647"/>
                    </a:lnTo>
                    <a:lnTo>
                      <a:pt x="391" y="660"/>
                    </a:lnTo>
                    <a:lnTo>
                      <a:pt x="373" y="674"/>
                    </a:lnTo>
                    <a:lnTo>
                      <a:pt x="363" y="688"/>
                    </a:lnTo>
                    <a:lnTo>
                      <a:pt x="354" y="704"/>
                    </a:lnTo>
                    <a:lnTo>
                      <a:pt x="351" y="705"/>
                    </a:lnTo>
                    <a:lnTo>
                      <a:pt x="351" y="700"/>
                    </a:lnTo>
                    <a:lnTo>
                      <a:pt x="353" y="696"/>
                    </a:lnTo>
                    <a:lnTo>
                      <a:pt x="0" y="81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540480" y="3270960"/>
                <a:ext cx="63360" cy="84240"/>
              </a:xfrm>
              <a:custGeom>
                <a:avLst/>
                <a:gdLst/>
                <a:ahLst/>
                <a:rect l="l" t="t" r="r" b="b"/>
                <a:pathLst>
                  <a:path w="1330" h="1698">
                    <a:moveTo>
                      <a:pt x="982" y="1008"/>
                    </a:moveTo>
                    <a:lnTo>
                      <a:pt x="958" y="1021"/>
                    </a:lnTo>
                    <a:lnTo>
                      <a:pt x="1293" y="1607"/>
                    </a:lnTo>
                    <a:lnTo>
                      <a:pt x="1272" y="1616"/>
                    </a:lnTo>
                    <a:lnTo>
                      <a:pt x="1250" y="1624"/>
                    </a:lnTo>
                    <a:lnTo>
                      <a:pt x="1229" y="1632"/>
                    </a:lnTo>
                    <a:lnTo>
                      <a:pt x="1208" y="1639"/>
                    </a:lnTo>
                    <a:lnTo>
                      <a:pt x="1186" y="1646"/>
                    </a:lnTo>
                    <a:lnTo>
                      <a:pt x="1163" y="1652"/>
                    </a:lnTo>
                    <a:lnTo>
                      <a:pt x="1141" y="1657"/>
                    </a:lnTo>
                    <a:lnTo>
                      <a:pt x="1118" y="1662"/>
                    </a:lnTo>
                    <a:lnTo>
                      <a:pt x="1095" y="1667"/>
                    </a:lnTo>
                    <a:lnTo>
                      <a:pt x="1072" y="1671"/>
                    </a:lnTo>
                    <a:lnTo>
                      <a:pt x="1049" y="1674"/>
                    </a:lnTo>
                    <a:lnTo>
                      <a:pt x="1026" y="1677"/>
                    </a:lnTo>
                    <a:lnTo>
                      <a:pt x="1001" y="1679"/>
                    </a:lnTo>
                    <a:lnTo>
                      <a:pt x="978" y="1680"/>
                    </a:lnTo>
                    <a:lnTo>
                      <a:pt x="954" y="1682"/>
                    </a:lnTo>
                    <a:lnTo>
                      <a:pt x="930" y="1682"/>
                    </a:lnTo>
                    <a:lnTo>
                      <a:pt x="883" y="1680"/>
                    </a:lnTo>
                    <a:lnTo>
                      <a:pt x="837" y="1677"/>
                    </a:lnTo>
                    <a:lnTo>
                      <a:pt x="791" y="1671"/>
                    </a:lnTo>
                    <a:lnTo>
                      <a:pt x="746" y="1663"/>
                    </a:lnTo>
                    <a:lnTo>
                      <a:pt x="702" y="1653"/>
                    </a:lnTo>
                    <a:lnTo>
                      <a:pt x="658" y="1640"/>
                    </a:lnTo>
                    <a:lnTo>
                      <a:pt x="615" y="1626"/>
                    </a:lnTo>
                    <a:lnTo>
                      <a:pt x="574" y="1610"/>
                    </a:lnTo>
                    <a:lnTo>
                      <a:pt x="534" y="1592"/>
                    </a:lnTo>
                    <a:lnTo>
                      <a:pt x="495" y="1571"/>
                    </a:lnTo>
                    <a:lnTo>
                      <a:pt x="456" y="1549"/>
                    </a:lnTo>
                    <a:lnTo>
                      <a:pt x="418" y="1526"/>
                    </a:lnTo>
                    <a:lnTo>
                      <a:pt x="383" y="1500"/>
                    </a:lnTo>
                    <a:lnTo>
                      <a:pt x="348" y="1473"/>
                    </a:lnTo>
                    <a:lnTo>
                      <a:pt x="315" y="1444"/>
                    </a:lnTo>
                    <a:lnTo>
                      <a:pt x="284" y="1414"/>
                    </a:lnTo>
                    <a:lnTo>
                      <a:pt x="253" y="1382"/>
                    </a:lnTo>
                    <a:lnTo>
                      <a:pt x="224" y="1349"/>
                    </a:lnTo>
                    <a:lnTo>
                      <a:pt x="197" y="1314"/>
                    </a:lnTo>
                    <a:lnTo>
                      <a:pt x="172" y="1278"/>
                    </a:lnTo>
                    <a:lnTo>
                      <a:pt x="148" y="1242"/>
                    </a:lnTo>
                    <a:lnTo>
                      <a:pt x="126" y="1204"/>
                    </a:lnTo>
                    <a:lnTo>
                      <a:pt x="105" y="1163"/>
                    </a:lnTo>
                    <a:lnTo>
                      <a:pt x="87" y="1123"/>
                    </a:lnTo>
                    <a:lnTo>
                      <a:pt x="71" y="1081"/>
                    </a:lnTo>
                    <a:lnTo>
                      <a:pt x="57" y="1039"/>
                    </a:lnTo>
                    <a:lnTo>
                      <a:pt x="44" y="996"/>
                    </a:lnTo>
                    <a:lnTo>
                      <a:pt x="34" y="951"/>
                    </a:lnTo>
                    <a:lnTo>
                      <a:pt x="26" y="906"/>
                    </a:lnTo>
                    <a:lnTo>
                      <a:pt x="20" y="860"/>
                    </a:lnTo>
                    <a:lnTo>
                      <a:pt x="16" y="814"/>
                    </a:lnTo>
                    <a:lnTo>
                      <a:pt x="15" y="767"/>
                    </a:lnTo>
                    <a:lnTo>
                      <a:pt x="16" y="710"/>
                    </a:lnTo>
                    <a:lnTo>
                      <a:pt x="22" y="655"/>
                    </a:lnTo>
                    <a:lnTo>
                      <a:pt x="30" y="601"/>
                    </a:lnTo>
                    <a:lnTo>
                      <a:pt x="42" y="548"/>
                    </a:lnTo>
                    <a:lnTo>
                      <a:pt x="57" y="496"/>
                    </a:lnTo>
                    <a:lnTo>
                      <a:pt x="74" y="445"/>
                    </a:lnTo>
                    <a:lnTo>
                      <a:pt x="95" y="396"/>
                    </a:lnTo>
                    <a:lnTo>
                      <a:pt x="118" y="348"/>
                    </a:lnTo>
                    <a:lnTo>
                      <a:pt x="143" y="301"/>
                    </a:lnTo>
                    <a:lnTo>
                      <a:pt x="172" y="257"/>
                    </a:lnTo>
                    <a:lnTo>
                      <a:pt x="202" y="214"/>
                    </a:lnTo>
                    <a:lnTo>
                      <a:pt x="235" y="174"/>
                    </a:lnTo>
                    <a:lnTo>
                      <a:pt x="271" y="134"/>
                    </a:lnTo>
                    <a:lnTo>
                      <a:pt x="308" y="98"/>
                    </a:lnTo>
                    <a:lnTo>
                      <a:pt x="348" y="63"/>
                    </a:lnTo>
                    <a:lnTo>
                      <a:pt x="390" y="31"/>
                    </a:lnTo>
                    <a:lnTo>
                      <a:pt x="727" y="615"/>
                    </a:lnTo>
                    <a:lnTo>
                      <a:pt x="751" y="601"/>
                    </a:lnTo>
                    <a:lnTo>
                      <a:pt x="406" y="0"/>
                    </a:lnTo>
                    <a:lnTo>
                      <a:pt x="389" y="12"/>
                    </a:lnTo>
                    <a:lnTo>
                      <a:pt x="371" y="25"/>
                    </a:lnTo>
                    <a:lnTo>
                      <a:pt x="354" y="38"/>
                    </a:lnTo>
                    <a:lnTo>
                      <a:pt x="337" y="52"/>
                    </a:lnTo>
                    <a:lnTo>
                      <a:pt x="321" y="65"/>
                    </a:lnTo>
                    <a:lnTo>
                      <a:pt x="304" y="80"/>
                    </a:lnTo>
                    <a:lnTo>
                      <a:pt x="288" y="95"/>
                    </a:lnTo>
                    <a:lnTo>
                      <a:pt x="272" y="110"/>
                    </a:lnTo>
                    <a:lnTo>
                      <a:pt x="240" y="144"/>
                    </a:lnTo>
                    <a:lnTo>
                      <a:pt x="210" y="179"/>
                    </a:lnTo>
                    <a:lnTo>
                      <a:pt x="182" y="215"/>
                    </a:lnTo>
                    <a:lnTo>
                      <a:pt x="156" y="253"/>
                    </a:lnTo>
                    <a:lnTo>
                      <a:pt x="132" y="291"/>
                    </a:lnTo>
                    <a:lnTo>
                      <a:pt x="110" y="330"/>
                    </a:lnTo>
                    <a:lnTo>
                      <a:pt x="89" y="371"/>
                    </a:lnTo>
                    <a:lnTo>
                      <a:pt x="71" y="412"/>
                    </a:lnTo>
                    <a:lnTo>
                      <a:pt x="54" y="455"/>
                    </a:lnTo>
                    <a:lnTo>
                      <a:pt x="41" y="497"/>
                    </a:lnTo>
                    <a:lnTo>
                      <a:pt x="28" y="541"/>
                    </a:lnTo>
                    <a:lnTo>
                      <a:pt x="19" y="585"/>
                    </a:lnTo>
                    <a:lnTo>
                      <a:pt x="11" y="630"/>
                    </a:lnTo>
                    <a:lnTo>
                      <a:pt x="5" y="675"/>
                    </a:lnTo>
                    <a:lnTo>
                      <a:pt x="2" y="721"/>
                    </a:lnTo>
                    <a:lnTo>
                      <a:pt x="0" y="767"/>
                    </a:lnTo>
                    <a:lnTo>
                      <a:pt x="2" y="813"/>
                    </a:lnTo>
                    <a:lnTo>
                      <a:pt x="5" y="859"/>
                    </a:lnTo>
                    <a:lnTo>
                      <a:pt x="11" y="905"/>
                    </a:lnTo>
                    <a:lnTo>
                      <a:pt x="19" y="950"/>
                    </a:lnTo>
                    <a:lnTo>
                      <a:pt x="28" y="995"/>
                    </a:lnTo>
                    <a:lnTo>
                      <a:pt x="41" y="1039"/>
                    </a:lnTo>
                    <a:lnTo>
                      <a:pt x="54" y="1081"/>
                    </a:lnTo>
                    <a:lnTo>
                      <a:pt x="71" y="1124"/>
                    </a:lnTo>
                    <a:lnTo>
                      <a:pt x="89" y="1165"/>
                    </a:lnTo>
                    <a:lnTo>
                      <a:pt x="110" y="1206"/>
                    </a:lnTo>
                    <a:lnTo>
                      <a:pt x="132" y="1245"/>
                    </a:lnTo>
                    <a:lnTo>
                      <a:pt x="156" y="1283"/>
                    </a:lnTo>
                    <a:lnTo>
                      <a:pt x="182" y="1321"/>
                    </a:lnTo>
                    <a:lnTo>
                      <a:pt x="210" y="1357"/>
                    </a:lnTo>
                    <a:lnTo>
                      <a:pt x="240" y="1392"/>
                    </a:lnTo>
                    <a:lnTo>
                      <a:pt x="272" y="1426"/>
                    </a:lnTo>
                    <a:lnTo>
                      <a:pt x="306" y="1458"/>
                    </a:lnTo>
                    <a:lnTo>
                      <a:pt x="341" y="1488"/>
                    </a:lnTo>
                    <a:lnTo>
                      <a:pt x="377" y="1516"/>
                    </a:lnTo>
                    <a:lnTo>
                      <a:pt x="415" y="1542"/>
                    </a:lnTo>
                    <a:lnTo>
                      <a:pt x="453" y="1566"/>
                    </a:lnTo>
                    <a:lnTo>
                      <a:pt x="492" y="1588"/>
                    </a:lnTo>
                    <a:lnTo>
                      <a:pt x="533" y="1609"/>
                    </a:lnTo>
                    <a:lnTo>
                      <a:pt x="574" y="1627"/>
                    </a:lnTo>
                    <a:lnTo>
                      <a:pt x="617" y="1644"/>
                    </a:lnTo>
                    <a:lnTo>
                      <a:pt x="659" y="1657"/>
                    </a:lnTo>
                    <a:lnTo>
                      <a:pt x="703" y="1670"/>
                    </a:lnTo>
                    <a:lnTo>
                      <a:pt x="748" y="1679"/>
                    </a:lnTo>
                    <a:lnTo>
                      <a:pt x="793" y="1687"/>
                    </a:lnTo>
                    <a:lnTo>
                      <a:pt x="838" y="1693"/>
                    </a:lnTo>
                    <a:lnTo>
                      <a:pt x="884" y="1697"/>
                    </a:lnTo>
                    <a:lnTo>
                      <a:pt x="930" y="1698"/>
                    </a:lnTo>
                    <a:lnTo>
                      <a:pt x="956" y="1698"/>
                    </a:lnTo>
                    <a:lnTo>
                      <a:pt x="983" y="1697"/>
                    </a:lnTo>
                    <a:lnTo>
                      <a:pt x="1009" y="1694"/>
                    </a:lnTo>
                    <a:lnTo>
                      <a:pt x="1036" y="1692"/>
                    </a:lnTo>
                    <a:lnTo>
                      <a:pt x="1061" y="1688"/>
                    </a:lnTo>
                    <a:lnTo>
                      <a:pt x="1088" y="1684"/>
                    </a:lnTo>
                    <a:lnTo>
                      <a:pt x="1113" y="1679"/>
                    </a:lnTo>
                    <a:lnTo>
                      <a:pt x="1138" y="1675"/>
                    </a:lnTo>
                    <a:lnTo>
                      <a:pt x="1163" y="1668"/>
                    </a:lnTo>
                    <a:lnTo>
                      <a:pt x="1188" y="1661"/>
                    </a:lnTo>
                    <a:lnTo>
                      <a:pt x="1212" y="1654"/>
                    </a:lnTo>
                    <a:lnTo>
                      <a:pt x="1236" y="1646"/>
                    </a:lnTo>
                    <a:lnTo>
                      <a:pt x="1260" y="1637"/>
                    </a:lnTo>
                    <a:lnTo>
                      <a:pt x="1284" y="1627"/>
                    </a:lnTo>
                    <a:lnTo>
                      <a:pt x="1307" y="1617"/>
                    </a:lnTo>
                    <a:lnTo>
                      <a:pt x="1330" y="1607"/>
                    </a:lnTo>
                    <a:lnTo>
                      <a:pt x="982" y="10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17440" y="3239640"/>
                <a:ext cx="134640" cy="131040"/>
              </a:xfrm>
              <a:custGeom>
                <a:avLst/>
                <a:gdLst/>
                <a:ahLst/>
                <a:rect l="l" t="t" r="r" b="b"/>
                <a:pathLst>
                  <a:path w="2814" h="2640">
                    <a:moveTo>
                      <a:pt x="2026" y="2640"/>
                    </a:moveTo>
                    <a:lnTo>
                      <a:pt x="2169" y="2578"/>
                    </a:lnTo>
                    <a:lnTo>
                      <a:pt x="2130" y="2441"/>
                    </a:lnTo>
                    <a:lnTo>
                      <a:pt x="2245" y="2360"/>
                    </a:lnTo>
                    <a:lnTo>
                      <a:pt x="2359" y="2420"/>
                    </a:lnTo>
                    <a:lnTo>
                      <a:pt x="2450" y="2329"/>
                    </a:lnTo>
                    <a:lnTo>
                      <a:pt x="2394" y="2214"/>
                    </a:lnTo>
                    <a:lnTo>
                      <a:pt x="2477" y="2107"/>
                    </a:lnTo>
                    <a:lnTo>
                      <a:pt x="2606" y="2136"/>
                    </a:lnTo>
                    <a:lnTo>
                      <a:pt x="2669" y="2026"/>
                    </a:lnTo>
                    <a:lnTo>
                      <a:pt x="2562" y="1949"/>
                    </a:lnTo>
                    <a:lnTo>
                      <a:pt x="2616" y="1819"/>
                    </a:lnTo>
                    <a:lnTo>
                      <a:pt x="2749" y="1825"/>
                    </a:lnTo>
                    <a:lnTo>
                      <a:pt x="2791" y="1693"/>
                    </a:lnTo>
                    <a:lnTo>
                      <a:pt x="2667" y="1633"/>
                    </a:lnTo>
                    <a:lnTo>
                      <a:pt x="2689" y="1484"/>
                    </a:lnTo>
                    <a:lnTo>
                      <a:pt x="2814" y="1444"/>
                    </a:lnTo>
                    <a:lnTo>
                      <a:pt x="2813" y="1323"/>
                    </a:lnTo>
                    <a:lnTo>
                      <a:pt x="2681" y="1296"/>
                    </a:lnTo>
                    <a:lnTo>
                      <a:pt x="2668" y="1158"/>
                    </a:lnTo>
                    <a:lnTo>
                      <a:pt x="2786" y="1079"/>
                    </a:lnTo>
                    <a:lnTo>
                      <a:pt x="2745" y="960"/>
                    </a:lnTo>
                    <a:lnTo>
                      <a:pt x="2613" y="966"/>
                    </a:lnTo>
                    <a:lnTo>
                      <a:pt x="2556" y="830"/>
                    </a:lnTo>
                    <a:lnTo>
                      <a:pt x="2647" y="738"/>
                    </a:lnTo>
                    <a:lnTo>
                      <a:pt x="2585" y="637"/>
                    </a:lnTo>
                    <a:lnTo>
                      <a:pt x="2454" y="663"/>
                    </a:lnTo>
                    <a:lnTo>
                      <a:pt x="2371" y="551"/>
                    </a:lnTo>
                    <a:lnTo>
                      <a:pt x="2427" y="436"/>
                    </a:lnTo>
                    <a:lnTo>
                      <a:pt x="2339" y="354"/>
                    </a:lnTo>
                    <a:lnTo>
                      <a:pt x="2223" y="415"/>
                    </a:lnTo>
                    <a:lnTo>
                      <a:pt x="2100" y="328"/>
                    </a:lnTo>
                    <a:lnTo>
                      <a:pt x="2135" y="208"/>
                    </a:lnTo>
                    <a:lnTo>
                      <a:pt x="2040" y="154"/>
                    </a:lnTo>
                    <a:lnTo>
                      <a:pt x="1939" y="237"/>
                    </a:lnTo>
                    <a:lnTo>
                      <a:pt x="1808" y="195"/>
                    </a:lnTo>
                    <a:lnTo>
                      <a:pt x="1802" y="59"/>
                    </a:lnTo>
                    <a:lnTo>
                      <a:pt x="1694" y="32"/>
                    </a:lnTo>
                    <a:lnTo>
                      <a:pt x="1619" y="147"/>
                    </a:lnTo>
                    <a:lnTo>
                      <a:pt x="1470" y="127"/>
                    </a:lnTo>
                    <a:lnTo>
                      <a:pt x="1444" y="0"/>
                    </a:lnTo>
                    <a:lnTo>
                      <a:pt x="1319" y="5"/>
                    </a:lnTo>
                    <a:lnTo>
                      <a:pt x="1277" y="132"/>
                    </a:lnTo>
                    <a:lnTo>
                      <a:pt x="1150" y="150"/>
                    </a:lnTo>
                    <a:lnTo>
                      <a:pt x="1077" y="31"/>
                    </a:lnTo>
                    <a:lnTo>
                      <a:pt x="959" y="63"/>
                    </a:lnTo>
                    <a:lnTo>
                      <a:pt x="952" y="206"/>
                    </a:lnTo>
                    <a:lnTo>
                      <a:pt x="848" y="247"/>
                    </a:lnTo>
                    <a:lnTo>
                      <a:pt x="749" y="160"/>
                    </a:lnTo>
                    <a:lnTo>
                      <a:pt x="643" y="215"/>
                    </a:lnTo>
                    <a:lnTo>
                      <a:pt x="678" y="351"/>
                    </a:lnTo>
                    <a:lnTo>
                      <a:pt x="572" y="427"/>
                    </a:lnTo>
                    <a:lnTo>
                      <a:pt x="445" y="379"/>
                    </a:lnTo>
                    <a:lnTo>
                      <a:pt x="355" y="451"/>
                    </a:lnTo>
                    <a:lnTo>
                      <a:pt x="428" y="565"/>
                    </a:lnTo>
                    <a:lnTo>
                      <a:pt x="347" y="672"/>
                    </a:lnTo>
                    <a:lnTo>
                      <a:pt x="210" y="648"/>
                    </a:lnTo>
                    <a:lnTo>
                      <a:pt x="157" y="747"/>
                    </a:lnTo>
                    <a:lnTo>
                      <a:pt x="259" y="843"/>
                    </a:lnTo>
                    <a:lnTo>
                      <a:pt x="188" y="979"/>
                    </a:lnTo>
                    <a:lnTo>
                      <a:pt x="63" y="984"/>
                    </a:lnTo>
                    <a:lnTo>
                      <a:pt x="23" y="1096"/>
                    </a:lnTo>
                    <a:lnTo>
                      <a:pt x="147" y="1172"/>
                    </a:lnTo>
                    <a:lnTo>
                      <a:pt x="129" y="1308"/>
                    </a:lnTo>
                    <a:lnTo>
                      <a:pt x="0" y="1351"/>
                    </a:lnTo>
                    <a:lnTo>
                      <a:pt x="3" y="1443"/>
                    </a:lnTo>
                    <a:lnTo>
                      <a:pt x="12" y="1496"/>
                    </a:lnTo>
                    <a:lnTo>
                      <a:pt x="281" y="1502"/>
                    </a:lnTo>
                    <a:lnTo>
                      <a:pt x="283" y="1495"/>
                    </a:lnTo>
                    <a:lnTo>
                      <a:pt x="288" y="1474"/>
                    </a:lnTo>
                    <a:lnTo>
                      <a:pt x="295" y="1441"/>
                    </a:lnTo>
                    <a:lnTo>
                      <a:pt x="306" y="1399"/>
                    </a:lnTo>
                    <a:lnTo>
                      <a:pt x="317" y="1349"/>
                    </a:lnTo>
                    <a:lnTo>
                      <a:pt x="331" y="1292"/>
                    </a:lnTo>
                    <a:lnTo>
                      <a:pt x="346" y="1232"/>
                    </a:lnTo>
                    <a:lnTo>
                      <a:pt x="362" y="1169"/>
                    </a:lnTo>
                    <a:lnTo>
                      <a:pt x="378" y="1105"/>
                    </a:lnTo>
                    <a:lnTo>
                      <a:pt x="394" y="1043"/>
                    </a:lnTo>
                    <a:lnTo>
                      <a:pt x="410" y="983"/>
                    </a:lnTo>
                    <a:lnTo>
                      <a:pt x="425" y="929"/>
                    </a:lnTo>
                    <a:lnTo>
                      <a:pt x="440" y="882"/>
                    </a:lnTo>
                    <a:lnTo>
                      <a:pt x="453" y="843"/>
                    </a:lnTo>
                    <a:lnTo>
                      <a:pt x="463" y="814"/>
                    </a:lnTo>
                    <a:lnTo>
                      <a:pt x="473" y="798"/>
                    </a:lnTo>
                    <a:lnTo>
                      <a:pt x="486" y="785"/>
                    </a:lnTo>
                    <a:lnTo>
                      <a:pt x="512" y="767"/>
                    </a:lnTo>
                    <a:lnTo>
                      <a:pt x="546" y="744"/>
                    </a:lnTo>
                    <a:lnTo>
                      <a:pt x="589" y="717"/>
                    </a:lnTo>
                    <a:lnTo>
                      <a:pt x="638" y="687"/>
                    </a:lnTo>
                    <a:lnTo>
                      <a:pt x="693" y="655"/>
                    </a:lnTo>
                    <a:lnTo>
                      <a:pt x="749" y="622"/>
                    </a:lnTo>
                    <a:lnTo>
                      <a:pt x="808" y="588"/>
                    </a:lnTo>
                    <a:lnTo>
                      <a:pt x="865" y="555"/>
                    </a:lnTo>
                    <a:lnTo>
                      <a:pt x="921" y="524"/>
                    </a:lnTo>
                    <a:lnTo>
                      <a:pt x="973" y="495"/>
                    </a:lnTo>
                    <a:lnTo>
                      <a:pt x="1019" y="470"/>
                    </a:lnTo>
                    <a:lnTo>
                      <a:pt x="1058" y="448"/>
                    </a:lnTo>
                    <a:lnTo>
                      <a:pt x="1088" y="430"/>
                    </a:lnTo>
                    <a:lnTo>
                      <a:pt x="1106" y="420"/>
                    </a:lnTo>
                    <a:lnTo>
                      <a:pt x="1113" y="417"/>
                    </a:lnTo>
                    <a:lnTo>
                      <a:pt x="1755" y="408"/>
                    </a:lnTo>
                    <a:lnTo>
                      <a:pt x="2246" y="844"/>
                    </a:lnTo>
                    <a:lnTo>
                      <a:pt x="2419" y="1236"/>
                    </a:lnTo>
                    <a:lnTo>
                      <a:pt x="2218" y="2054"/>
                    </a:lnTo>
                    <a:lnTo>
                      <a:pt x="1880" y="2329"/>
                    </a:lnTo>
                    <a:lnTo>
                      <a:pt x="1727" y="2428"/>
                    </a:lnTo>
                    <a:lnTo>
                      <a:pt x="2026" y="26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29680" y="3251880"/>
                <a:ext cx="110160" cy="114120"/>
              </a:xfrm>
              <a:custGeom>
                <a:avLst/>
                <a:gdLst/>
                <a:ahLst/>
                <a:rect l="l" t="t" r="r" b="b"/>
                <a:pathLst>
                  <a:path w="2303" h="2303">
                    <a:moveTo>
                      <a:pt x="2287" y="1151"/>
                    </a:moveTo>
                    <a:lnTo>
                      <a:pt x="2286" y="1092"/>
                    </a:lnTo>
                    <a:lnTo>
                      <a:pt x="2281" y="1035"/>
                    </a:lnTo>
                    <a:lnTo>
                      <a:pt x="2275" y="978"/>
                    </a:lnTo>
                    <a:lnTo>
                      <a:pt x="2264" y="922"/>
                    </a:lnTo>
                    <a:lnTo>
                      <a:pt x="2251" y="868"/>
                    </a:lnTo>
                    <a:lnTo>
                      <a:pt x="2237" y="814"/>
                    </a:lnTo>
                    <a:lnTo>
                      <a:pt x="2218" y="761"/>
                    </a:lnTo>
                    <a:lnTo>
                      <a:pt x="2197" y="710"/>
                    </a:lnTo>
                    <a:lnTo>
                      <a:pt x="2175" y="659"/>
                    </a:lnTo>
                    <a:lnTo>
                      <a:pt x="2150" y="610"/>
                    </a:lnTo>
                    <a:lnTo>
                      <a:pt x="2122" y="563"/>
                    </a:lnTo>
                    <a:lnTo>
                      <a:pt x="2093" y="516"/>
                    </a:lnTo>
                    <a:lnTo>
                      <a:pt x="2061" y="473"/>
                    </a:lnTo>
                    <a:lnTo>
                      <a:pt x="2028" y="429"/>
                    </a:lnTo>
                    <a:lnTo>
                      <a:pt x="1992" y="389"/>
                    </a:lnTo>
                    <a:lnTo>
                      <a:pt x="1954" y="348"/>
                    </a:lnTo>
                    <a:lnTo>
                      <a:pt x="1915" y="311"/>
                    </a:lnTo>
                    <a:lnTo>
                      <a:pt x="1874" y="276"/>
                    </a:lnTo>
                    <a:lnTo>
                      <a:pt x="1831" y="242"/>
                    </a:lnTo>
                    <a:lnTo>
                      <a:pt x="1786" y="210"/>
                    </a:lnTo>
                    <a:lnTo>
                      <a:pt x="1740" y="181"/>
                    </a:lnTo>
                    <a:lnTo>
                      <a:pt x="1693" y="154"/>
                    </a:lnTo>
                    <a:lnTo>
                      <a:pt x="1643" y="128"/>
                    </a:lnTo>
                    <a:lnTo>
                      <a:pt x="1594" y="105"/>
                    </a:lnTo>
                    <a:lnTo>
                      <a:pt x="1542" y="86"/>
                    </a:lnTo>
                    <a:lnTo>
                      <a:pt x="1489" y="67"/>
                    </a:lnTo>
                    <a:lnTo>
                      <a:pt x="1435" y="52"/>
                    </a:lnTo>
                    <a:lnTo>
                      <a:pt x="1381" y="40"/>
                    </a:lnTo>
                    <a:lnTo>
                      <a:pt x="1324" y="29"/>
                    </a:lnTo>
                    <a:lnTo>
                      <a:pt x="1268" y="22"/>
                    </a:lnTo>
                    <a:lnTo>
                      <a:pt x="1210" y="18"/>
                    </a:lnTo>
                    <a:lnTo>
                      <a:pt x="1151" y="16"/>
                    </a:lnTo>
                    <a:lnTo>
                      <a:pt x="1093" y="18"/>
                    </a:lnTo>
                    <a:lnTo>
                      <a:pt x="1035" y="22"/>
                    </a:lnTo>
                    <a:lnTo>
                      <a:pt x="979" y="29"/>
                    </a:lnTo>
                    <a:lnTo>
                      <a:pt x="922" y="40"/>
                    </a:lnTo>
                    <a:lnTo>
                      <a:pt x="868" y="52"/>
                    </a:lnTo>
                    <a:lnTo>
                      <a:pt x="814" y="67"/>
                    </a:lnTo>
                    <a:lnTo>
                      <a:pt x="761" y="86"/>
                    </a:lnTo>
                    <a:lnTo>
                      <a:pt x="709" y="105"/>
                    </a:lnTo>
                    <a:lnTo>
                      <a:pt x="660" y="128"/>
                    </a:lnTo>
                    <a:lnTo>
                      <a:pt x="610" y="154"/>
                    </a:lnTo>
                    <a:lnTo>
                      <a:pt x="563" y="181"/>
                    </a:lnTo>
                    <a:lnTo>
                      <a:pt x="517" y="210"/>
                    </a:lnTo>
                    <a:lnTo>
                      <a:pt x="472" y="242"/>
                    </a:lnTo>
                    <a:lnTo>
                      <a:pt x="429" y="276"/>
                    </a:lnTo>
                    <a:lnTo>
                      <a:pt x="388" y="311"/>
                    </a:lnTo>
                    <a:lnTo>
                      <a:pt x="349" y="348"/>
                    </a:lnTo>
                    <a:lnTo>
                      <a:pt x="311" y="389"/>
                    </a:lnTo>
                    <a:lnTo>
                      <a:pt x="275" y="429"/>
                    </a:lnTo>
                    <a:lnTo>
                      <a:pt x="241" y="473"/>
                    </a:lnTo>
                    <a:lnTo>
                      <a:pt x="210" y="516"/>
                    </a:lnTo>
                    <a:lnTo>
                      <a:pt x="180" y="563"/>
                    </a:lnTo>
                    <a:lnTo>
                      <a:pt x="153" y="610"/>
                    </a:lnTo>
                    <a:lnTo>
                      <a:pt x="127" y="659"/>
                    </a:lnTo>
                    <a:lnTo>
                      <a:pt x="106" y="710"/>
                    </a:lnTo>
                    <a:lnTo>
                      <a:pt x="85" y="761"/>
                    </a:lnTo>
                    <a:lnTo>
                      <a:pt x="66" y="814"/>
                    </a:lnTo>
                    <a:lnTo>
                      <a:pt x="51" y="868"/>
                    </a:lnTo>
                    <a:lnTo>
                      <a:pt x="39" y="922"/>
                    </a:lnTo>
                    <a:lnTo>
                      <a:pt x="28" y="978"/>
                    </a:lnTo>
                    <a:lnTo>
                      <a:pt x="21" y="1035"/>
                    </a:lnTo>
                    <a:lnTo>
                      <a:pt x="17" y="1092"/>
                    </a:lnTo>
                    <a:lnTo>
                      <a:pt x="16" y="1151"/>
                    </a:lnTo>
                    <a:lnTo>
                      <a:pt x="17" y="1210"/>
                    </a:lnTo>
                    <a:lnTo>
                      <a:pt x="21" y="1268"/>
                    </a:lnTo>
                    <a:lnTo>
                      <a:pt x="28" y="1324"/>
                    </a:lnTo>
                    <a:lnTo>
                      <a:pt x="39" y="1380"/>
                    </a:lnTo>
                    <a:lnTo>
                      <a:pt x="51" y="1436"/>
                    </a:lnTo>
                    <a:lnTo>
                      <a:pt x="66" y="1489"/>
                    </a:lnTo>
                    <a:lnTo>
                      <a:pt x="85" y="1542"/>
                    </a:lnTo>
                    <a:lnTo>
                      <a:pt x="106" y="1594"/>
                    </a:lnTo>
                    <a:lnTo>
                      <a:pt x="127" y="1644"/>
                    </a:lnTo>
                    <a:lnTo>
                      <a:pt x="153" y="1693"/>
                    </a:lnTo>
                    <a:lnTo>
                      <a:pt x="180" y="1741"/>
                    </a:lnTo>
                    <a:lnTo>
                      <a:pt x="210" y="1787"/>
                    </a:lnTo>
                    <a:lnTo>
                      <a:pt x="241" y="1831"/>
                    </a:lnTo>
                    <a:lnTo>
                      <a:pt x="275" y="1875"/>
                    </a:lnTo>
                    <a:lnTo>
                      <a:pt x="311" y="1916"/>
                    </a:lnTo>
                    <a:lnTo>
                      <a:pt x="349" y="1955"/>
                    </a:lnTo>
                    <a:lnTo>
                      <a:pt x="388" y="1993"/>
                    </a:lnTo>
                    <a:lnTo>
                      <a:pt x="429" y="2029"/>
                    </a:lnTo>
                    <a:lnTo>
                      <a:pt x="472" y="2062"/>
                    </a:lnTo>
                    <a:lnTo>
                      <a:pt x="517" y="2094"/>
                    </a:lnTo>
                    <a:lnTo>
                      <a:pt x="563" y="2123"/>
                    </a:lnTo>
                    <a:lnTo>
                      <a:pt x="610" y="2151"/>
                    </a:lnTo>
                    <a:lnTo>
                      <a:pt x="660" y="2176"/>
                    </a:lnTo>
                    <a:lnTo>
                      <a:pt x="709" y="2198"/>
                    </a:lnTo>
                    <a:lnTo>
                      <a:pt x="761" y="2219"/>
                    </a:lnTo>
                    <a:lnTo>
                      <a:pt x="814" y="2238"/>
                    </a:lnTo>
                    <a:lnTo>
                      <a:pt x="868" y="2253"/>
                    </a:lnTo>
                    <a:lnTo>
                      <a:pt x="922" y="2265"/>
                    </a:lnTo>
                    <a:lnTo>
                      <a:pt x="979" y="2276"/>
                    </a:lnTo>
                    <a:lnTo>
                      <a:pt x="1035" y="2282"/>
                    </a:lnTo>
                    <a:lnTo>
                      <a:pt x="1093" y="2287"/>
                    </a:lnTo>
                    <a:lnTo>
                      <a:pt x="1151" y="2288"/>
                    </a:lnTo>
                    <a:lnTo>
                      <a:pt x="1210" y="2287"/>
                    </a:lnTo>
                    <a:lnTo>
                      <a:pt x="1268" y="2282"/>
                    </a:lnTo>
                    <a:lnTo>
                      <a:pt x="1324" y="2276"/>
                    </a:lnTo>
                    <a:lnTo>
                      <a:pt x="1381" y="2265"/>
                    </a:lnTo>
                    <a:lnTo>
                      <a:pt x="1435" y="2253"/>
                    </a:lnTo>
                    <a:lnTo>
                      <a:pt x="1489" y="2238"/>
                    </a:lnTo>
                    <a:lnTo>
                      <a:pt x="1542" y="2219"/>
                    </a:lnTo>
                    <a:lnTo>
                      <a:pt x="1594" y="2198"/>
                    </a:lnTo>
                    <a:lnTo>
                      <a:pt x="1643" y="2176"/>
                    </a:lnTo>
                    <a:lnTo>
                      <a:pt x="1693" y="2151"/>
                    </a:lnTo>
                    <a:lnTo>
                      <a:pt x="1740" y="2123"/>
                    </a:lnTo>
                    <a:lnTo>
                      <a:pt x="1786" y="2094"/>
                    </a:lnTo>
                    <a:lnTo>
                      <a:pt x="1831" y="2062"/>
                    </a:lnTo>
                    <a:lnTo>
                      <a:pt x="1874" y="2029"/>
                    </a:lnTo>
                    <a:lnTo>
                      <a:pt x="1915" y="1993"/>
                    </a:lnTo>
                    <a:lnTo>
                      <a:pt x="1954" y="1955"/>
                    </a:lnTo>
                    <a:lnTo>
                      <a:pt x="1992" y="1916"/>
                    </a:lnTo>
                    <a:lnTo>
                      <a:pt x="2028" y="1875"/>
                    </a:lnTo>
                    <a:lnTo>
                      <a:pt x="2061" y="1831"/>
                    </a:lnTo>
                    <a:lnTo>
                      <a:pt x="2093" y="1787"/>
                    </a:lnTo>
                    <a:lnTo>
                      <a:pt x="2122" y="1741"/>
                    </a:lnTo>
                    <a:lnTo>
                      <a:pt x="2150" y="1693"/>
                    </a:lnTo>
                    <a:lnTo>
                      <a:pt x="2175" y="1644"/>
                    </a:lnTo>
                    <a:lnTo>
                      <a:pt x="2197" y="1594"/>
                    </a:lnTo>
                    <a:lnTo>
                      <a:pt x="2218" y="1542"/>
                    </a:lnTo>
                    <a:lnTo>
                      <a:pt x="2237" y="1489"/>
                    </a:lnTo>
                    <a:lnTo>
                      <a:pt x="2251" y="1436"/>
                    </a:lnTo>
                    <a:lnTo>
                      <a:pt x="2264" y="1380"/>
                    </a:lnTo>
                    <a:lnTo>
                      <a:pt x="2275" y="1324"/>
                    </a:lnTo>
                    <a:lnTo>
                      <a:pt x="2281" y="1268"/>
                    </a:lnTo>
                    <a:lnTo>
                      <a:pt x="2286" y="1210"/>
                    </a:lnTo>
                    <a:lnTo>
                      <a:pt x="2287" y="1151"/>
                    </a:lnTo>
                    <a:lnTo>
                      <a:pt x="2303" y="1151"/>
                    </a:lnTo>
                    <a:lnTo>
                      <a:pt x="2302" y="1210"/>
                    </a:lnTo>
                    <a:lnTo>
                      <a:pt x="2298" y="1269"/>
                    </a:lnTo>
                    <a:lnTo>
                      <a:pt x="2289" y="1326"/>
                    </a:lnTo>
                    <a:lnTo>
                      <a:pt x="2280" y="1383"/>
                    </a:lnTo>
                    <a:lnTo>
                      <a:pt x="2266" y="1439"/>
                    </a:lnTo>
                    <a:lnTo>
                      <a:pt x="2251" y="1493"/>
                    </a:lnTo>
                    <a:lnTo>
                      <a:pt x="2233" y="1547"/>
                    </a:lnTo>
                    <a:lnTo>
                      <a:pt x="2212" y="1599"/>
                    </a:lnTo>
                    <a:lnTo>
                      <a:pt x="2189" y="1650"/>
                    </a:lnTo>
                    <a:lnTo>
                      <a:pt x="2164" y="1701"/>
                    </a:lnTo>
                    <a:lnTo>
                      <a:pt x="2136" y="1748"/>
                    </a:lnTo>
                    <a:lnTo>
                      <a:pt x="2106" y="1795"/>
                    </a:lnTo>
                    <a:lnTo>
                      <a:pt x="2074" y="1840"/>
                    </a:lnTo>
                    <a:lnTo>
                      <a:pt x="2040" y="1884"/>
                    </a:lnTo>
                    <a:lnTo>
                      <a:pt x="2004" y="1925"/>
                    </a:lnTo>
                    <a:lnTo>
                      <a:pt x="1966" y="1966"/>
                    </a:lnTo>
                    <a:lnTo>
                      <a:pt x="1926" y="2004"/>
                    </a:lnTo>
                    <a:lnTo>
                      <a:pt x="1884" y="2041"/>
                    </a:lnTo>
                    <a:lnTo>
                      <a:pt x="1840" y="2074"/>
                    </a:lnTo>
                    <a:lnTo>
                      <a:pt x="1795" y="2106"/>
                    </a:lnTo>
                    <a:lnTo>
                      <a:pt x="1748" y="2136"/>
                    </a:lnTo>
                    <a:lnTo>
                      <a:pt x="1700" y="2164"/>
                    </a:lnTo>
                    <a:lnTo>
                      <a:pt x="1650" y="2189"/>
                    </a:lnTo>
                    <a:lnTo>
                      <a:pt x="1600" y="2212"/>
                    </a:lnTo>
                    <a:lnTo>
                      <a:pt x="1547" y="2233"/>
                    </a:lnTo>
                    <a:lnTo>
                      <a:pt x="1494" y="2251"/>
                    </a:lnTo>
                    <a:lnTo>
                      <a:pt x="1438" y="2266"/>
                    </a:lnTo>
                    <a:lnTo>
                      <a:pt x="1383" y="2280"/>
                    </a:lnTo>
                    <a:lnTo>
                      <a:pt x="1327" y="2289"/>
                    </a:lnTo>
                    <a:lnTo>
                      <a:pt x="1269" y="2297"/>
                    </a:lnTo>
                    <a:lnTo>
                      <a:pt x="1210" y="2302"/>
                    </a:lnTo>
                    <a:lnTo>
                      <a:pt x="1151" y="2303"/>
                    </a:lnTo>
                    <a:lnTo>
                      <a:pt x="1123" y="2303"/>
                    </a:lnTo>
                    <a:lnTo>
                      <a:pt x="1094" y="2302"/>
                    </a:lnTo>
                    <a:lnTo>
                      <a:pt x="1065" y="2300"/>
                    </a:lnTo>
                    <a:lnTo>
                      <a:pt x="1037" y="2297"/>
                    </a:lnTo>
                    <a:lnTo>
                      <a:pt x="1009" y="2294"/>
                    </a:lnTo>
                    <a:lnTo>
                      <a:pt x="981" y="2291"/>
                    </a:lnTo>
                    <a:lnTo>
                      <a:pt x="953" y="2286"/>
                    </a:lnTo>
                    <a:lnTo>
                      <a:pt x="925" y="2281"/>
                    </a:lnTo>
                    <a:lnTo>
                      <a:pt x="898" y="2276"/>
                    </a:lnTo>
                    <a:lnTo>
                      <a:pt x="870" y="2269"/>
                    </a:lnTo>
                    <a:lnTo>
                      <a:pt x="843" y="2262"/>
                    </a:lnTo>
                    <a:lnTo>
                      <a:pt x="816" y="2254"/>
                    </a:lnTo>
                    <a:lnTo>
                      <a:pt x="790" y="2246"/>
                    </a:lnTo>
                    <a:lnTo>
                      <a:pt x="763" y="2236"/>
                    </a:lnTo>
                    <a:lnTo>
                      <a:pt x="737" y="2226"/>
                    </a:lnTo>
                    <a:lnTo>
                      <a:pt x="710" y="2216"/>
                    </a:lnTo>
                    <a:lnTo>
                      <a:pt x="685" y="2205"/>
                    </a:lnTo>
                    <a:lnTo>
                      <a:pt x="660" y="2194"/>
                    </a:lnTo>
                    <a:lnTo>
                      <a:pt x="634" y="2181"/>
                    </a:lnTo>
                    <a:lnTo>
                      <a:pt x="609" y="2168"/>
                    </a:lnTo>
                    <a:lnTo>
                      <a:pt x="585" y="2155"/>
                    </a:lnTo>
                    <a:lnTo>
                      <a:pt x="561" y="2141"/>
                    </a:lnTo>
                    <a:lnTo>
                      <a:pt x="536" y="2126"/>
                    </a:lnTo>
                    <a:lnTo>
                      <a:pt x="513" y="2111"/>
                    </a:lnTo>
                    <a:lnTo>
                      <a:pt x="489" y="2095"/>
                    </a:lnTo>
                    <a:lnTo>
                      <a:pt x="467" y="2077"/>
                    </a:lnTo>
                    <a:lnTo>
                      <a:pt x="444" y="2060"/>
                    </a:lnTo>
                    <a:lnTo>
                      <a:pt x="422" y="2043"/>
                    </a:lnTo>
                    <a:lnTo>
                      <a:pt x="400" y="2024"/>
                    </a:lnTo>
                    <a:lnTo>
                      <a:pt x="379" y="2005"/>
                    </a:lnTo>
                    <a:lnTo>
                      <a:pt x="358" y="1985"/>
                    </a:lnTo>
                    <a:lnTo>
                      <a:pt x="337" y="1966"/>
                    </a:lnTo>
                    <a:lnTo>
                      <a:pt x="298" y="1924"/>
                    </a:lnTo>
                    <a:lnTo>
                      <a:pt x="260" y="1880"/>
                    </a:lnTo>
                    <a:lnTo>
                      <a:pt x="225" y="1835"/>
                    </a:lnTo>
                    <a:lnTo>
                      <a:pt x="192" y="1789"/>
                    </a:lnTo>
                    <a:lnTo>
                      <a:pt x="162" y="1742"/>
                    </a:lnTo>
                    <a:lnTo>
                      <a:pt x="134" y="1694"/>
                    </a:lnTo>
                    <a:lnTo>
                      <a:pt x="109" y="1643"/>
                    </a:lnTo>
                    <a:lnTo>
                      <a:pt x="87" y="1592"/>
                    </a:lnTo>
                    <a:lnTo>
                      <a:pt x="66" y="1539"/>
                    </a:lnTo>
                    <a:lnTo>
                      <a:pt x="49" y="1486"/>
                    </a:lnTo>
                    <a:lnTo>
                      <a:pt x="34" y="1432"/>
                    </a:lnTo>
                    <a:lnTo>
                      <a:pt x="21" y="1378"/>
                    </a:lnTo>
                    <a:lnTo>
                      <a:pt x="12" y="1322"/>
                    </a:lnTo>
                    <a:lnTo>
                      <a:pt x="5" y="1265"/>
                    </a:lnTo>
                    <a:lnTo>
                      <a:pt x="1" y="1209"/>
                    </a:lnTo>
                    <a:lnTo>
                      <a:pt x="0" y="1151"/>
                    </a:lnTo>
                    <a:lnTo>
                      <a:pt x="1" y="1094"/>
                    </a:lnTo>
                    <a:lnTo>
                      <a:pt x="5" y="1037"/>
                    </a:lnTo>
                    <a:lnTo>
                      <a:pt x="12" y="981"/>
                    </a:lnTo>
                    <a:lnTo>
                      <a:pt x="21" y="925"/>
                    </a:lnTo>
                    <a:lnTo>
                      <a:pt x="34" y="870"/>
                    </a:lnTo>
                    <a:lnTo>
                      <a:pt x="49" y="817"/>
                    </a:lnTo>
                    <a:lnTo>
                      <a:pt x="66" y="763"/>
                    </a:lnTo>
                    <a:lnTo>
                      <a:pt x="87" y="711"/>
                    </a:lnTo>
                    <a:lnTo>
                      <a:pt x="109" y="660"/>
                    </a:lnTo>
                    <a:lnTo>
                      <a:pt x="134" y="610"/>
                    </a:lnTo>
                    <a:lnTo>
                      <a:pt x="162" y="561"/>
                    </a:lnTo>
                    <a:lnTo>
                      <a:pt x="192" y="514"/>
                    </a:lnTo>
                    <a:lnTo>
                      <a:pt x="225" y="468"/>
                    </a:lnTo>
                    <a:lnTo>
                      <a:pt x="260" y="423"/>
                    </a:lnTo>
                    <a:lnTo>
                      <a:pt x="298" y="379"/>
                    </a:lnTo>
                    <a:lnTo>
                      <a:pt x="337" y="338"/>
                    </a:lnTo>
                    <a:lnTo>
                      <a:pt x="358" y="318"/>
                    </a:lnTo>
                    <a:lnTo>
                      <a:pt x="379" y="299"/>
                    </a:lnTo>
                    <a:lnTo>
                      <a:pt x="400" y="279"/>
                    </a:lnTo>
                    <a:lnTo>
                      <a:pt x="422" y="261"/>
                    </a:lnTo>
                    <a:lnTo>
                      <a:pt x="444" y="243"/>
                    </a:lnTo>
                    <a:lnTo>
                      <a:pt x="467" y="226"/>
                    </a:lnTo>
                    <a:lnTo>
                      <a:pt x="489" y="209"/>
                    </a:lnTo>
                    <a:lnTo>
                      <a:pt x="513" y="193"/>
                    </a:lnTo>
                    <a:lnTo>
                      <a:pt x="536" y="178"/>
                    </a:lnTo>
                    <a:lnTo>
                      <a:pt x="561" y="163"/>
                    </a:lnTo>
                    <a:lnTo>
                      <a:pt x="585" y="149"/>
                    </a:lnTo>
                    <a:lnTo>
                      <a:pt x="609" y="135"/>
                    </a:lnTo>
                    <a:lnTo>
                      <a:pt x="634" y="122"/>
                    </a:lnTo>
                    <a:lnTo>
                      <a:pt x="660" y="110"/>
                    </a:lnTo>
                    <a:lnTo>
                      <a:pt x="685" y="98"/>
                    </a:lnTo>
                    <a:lnTo>
                      <a:pt x="710" y="88"/>
                    </a:lnTo>
                    <a:lnTo>
                      <a:pt x="737" y="78"/>
                    </a:lnTo>
                    <a:lnTo>
                      <a:pt x="763" y="67"/>
                    </a:lnTo>
                    <a:lnTo>
                      <a:pt x="790" y="58"/>
                    </a:lnTo>
                    <a:lnTo>
                      <a:pt x="816" y="50"/>
                    </a:lnTo>
                    <a:lnTo>
                      <a:pt x="843" y="42"/>
                    </a:lnTo>
                    <a:lnTo>
                      <a:pt x="870" y="35"/>
                    </a:lnTo>
                    <a:lnTo>
                      <a:pt x="898" y="28"/>
                    </a:lnTo>
                    <a:lnTo>
                      <a:pt x="925" y="22"/>
                    </a:lnTo>
                    <a:lnTo>
                      <a:pt x="953" y="18"/>
                    </a:lnTo>
                    <a:lnTo>
                      <a:pt x="981" y="13"/>
                    </a:lnTo>
                    <a:lnTo>
                      <a:pt x="1009" y="10"/>
                    </a:lnTo>
                    <a:lnTo>
                      <a:pt x="1037" y="6"/>
                    </a:lnTo>
                    <a:lnTo>
                      <a:pt x="1065" y="4"/>
                    </a:lnTo>
                    <a:lnTo>
                      <a:pt x="1094" y="2"/>
                    </a:lnTo>
                    <a:lnTo>
                      <a:pt x="1123" y="0"/>
                    </a:lnTo>
                    <a:lnTo>
                      <a:pt x="1151" y="0"/>
                    </a:lnTo>
                    <a:lnTo>
                      <a:pt x="1180" y="0"/>
                    </a:lnTo>
                    <a:lnTo>
                      <a:pt x="1209" y="2"/>
                    </a:lnTo>
                    <a:lnTo>
                      <a:pt x="1238" y="4"/>
                    </a:lnTo>
                    <a:lnTo>
                      <a:pt x="1265" y="6"/>
                    </a:lnTo>
                    <a:lnTo>
                      <a:pt x="1294" y="10"/>
                    </a:lnTo>
                    <a:lnTo>
                      <a:pt x="1322" y="13"/>
                    </a:lnTo>
                    <a:lnTo>
                      <a:pt x="1350" y="18"/>
                    </a:lnTo>
                    <a:lnTo>
                      <a:pt x="1378" y="22"/>
                    </a:lnTo>
                    <a:lnTo>
                      <a:pt x="1405" y="28"/>
                    </a:lnTo>
                    <a:lnTo>
                      <a:pt x="1433" y="35"/>
                    </a:lnTo>
                    <a:lnTo>
                      <a:pt x="1460" y="42"/>
                    </a:lnTo>
                    <a:lnTo>
                      <a:pt x="1487" y="50"/>
                    </a:lnTo>
                    <a:lnTo>
                      <a:pt x="1513" y="58"/>
                    </a:lnTo>
                    <a:lnTo>
                      <a:pt x="1540" y="67"/>
                    </a:lnTo>
                    <a:lnTo>
                      <a:pt x="1566" y="78"/>
                    </a:lnTo>
                    <a:lnTo>
                      <a:pt x="1593" y="88"/>
                    </a:lnTo>
                    <a:lnTo>
                      <a:pt x="1618" y="98"/>
                    </a:lnTo>
                    <a:lnTo>
                      <a:pt x="1643" y="110"/>
                    </a:lnTo>
                    <a:lnTo>
                      <a:pt x="1669" y="122"/>
                    </a:lnTo>
                    <a:lnTo>
                      <a:pt x="1694" y="135"/>
                    </a:lnTo>
                    <a:lnTo>
                      <a:pt x="1718" y="149"/>
                    </a:lnTo>
                    <a:lnTo>
                      <a:pt x="1742" y="163"/>
                    </a:lnTo>
                    <a:lnTo>
                      <a:pt x="1767" y="178"/>
                    </a:lnTo>
                    <a:lnTo>
                      <a:pt x="1790" y="193"/>
                    </a:lnTo>
                    <a:lnTo>
                      <a:pt x="1814" y="209"/>
                    </a:lnTo>
                    <a:lnTo>
                      <a:pt x="1836" y="226"/>
                    </a:lnTo>
                    <a:lnTo>
                      <a:pt x="1859" y="243"/>
                    </a:lnTo>
                    <a:lnTo>
                      <a:pt x="1881" y="261"/>
                    </a:lnTo>
                    <a:lnTo>
                      <a:pt x="1902" y="279"/>
                    </a:lnTo>
                    <a:lnTo>
                      <a:pt x="1924" y="299"/>
                    </a:lnTo>
                    <a:lnTo>
                      <a:pt x="1945" y="318"/>
                    </a:lnTo>
                    <a:lnTo>
                      <a:pt x="1966" y="338"/>
                    </a:lnTo>
                    <a:lnTo>
                      <a:pt x="2005" y="379"/>
                    </a:lnTo>
                    <a:lnTo>
                      <a:pt x="2043" y="423"/>
                    </a:lnTo>
                    <a:lnTo>
                      <a:pt x="2078" y="468"/>
                    </a:lnTo>
                    <a:lnTo>
                      <a:pt x="2111" y="514"/>
                    </a:lnTo>
                    <a:lnTo>
                      <a:pt x="2141" y="561"/>
                    </a:lnTo>
                    <a:lnTo>
                      <a:pt x="2169" y="610"/>
                    </a:lnTo>
                    <a:lnTo>
                      <a:pt x="2194" y="660"/>
                    </a:lnTo>
                    <a:lnTo>
                      <a:pt x="2216" y="711"/>
                    </a:lnTo>
                    <a:lnTo>
                      <a:pt x="2237" y="763"/>
                    </a:lnTo>
                    <a:lnTo>
                      <a:pt x="2254" y="817"/>
                    </a:lnTo>
                    <a:lnTo>
                      <a:pt x="2269" y="870"/>
                    </a:lnTo>
                    <a:lnTo>
                      <a:pt x="2281" y="925"/>
                    </a:lnTo>
                    <a:lnTo>
                      <a:pt x="2291" y="981"/>
                    </a:lnTo>
                    <a:lnTo>
                      <a:pt x="2298" y="1037"/>
                    </a:lnTo>
                    <a:lnTo>
                      <a:pt x="2302" y="1094"/>
                    </a:lnTo>
                    <a:lnTo>
                      <a:pt x="2303" y="1151"/>
                    </a:lnTo>
                    <a:lnTo>
                      <a:pt x="2287" y="1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64960" y="3263040"/>
                <a:ext cx="57240" cy="37800"/>
              </a:xfrm>
              <a:custGeom>
                <a:avLst/>
                <a:gdLst/>
                <a:ahLst/>
                <a:rect l="l" t="t" r="r" b="b"/>
                <a:pathLst>
                  <a:path w="1196" h="767">
                    <a:moveTo>
                      <a:pt x="348" y="694"/>
                    </a:moveTo>
                    <a:lnTo>
                      <a:pt x="372" y="681"/>
                    </a:lnTo>
                    <a:lnTo>
                      <a:pt x="34" y="96"/>
                    </a:lnTo>
                    <a:lnTo>
                      <a:pt x="56" y="87"/>
                    </a:lnTo>
                    <a:lnTo>
                      <a:pt x="78" y="78"/>
                    </a:lnTo>
                    <a:lnTo>
                      <a:pt x="101" y="70"/>
                    </a:lnTo>
                    <a:lnTo>
                      <a:pt x="124" y="62"/>
                    </a:lnTo>
                    <a:lnTo>
                      <a:pt x="146" y="55"/>
                    </a:lnTo>
                    <a:lnTo>
                      <a:pt x="170" y="48"/>
                    </a:lnTo>
                    <a:lnTo>
                      <a:pt x="193" y="41"/>
                    </a:lnTo>
                    <a:lnTo>
                      <a:pt x="218" y="37"/>
                    </a:lnTo>
                    <a:lnTo>
                      <a:pt x="241" y="31"/>
                    </a:lnTo>
                    <a:lnTo>
                      <a:pt x="265" y="27"/>
                    </a:lnTo>
                    <a:lnTo>
                      <a:pt x="289" y="23"/>
                    </a:lnTo>
                    <a:lnTo>
                      <a:pt x="313" y="20"/>
                    </a:lnTo>
                    <a:lnTo>
                      <a:pt x="339" y="18"/>
                    </a:lnTo>
                    <a:lnTo>
                      <a:pt x="363" y="16"/>
                    </a:lnTo>
                    <a:lnTo>
                      <a:pt x="388" y="15"/>
                    </a:lnTo>
                    <a:lnTo>
                      <a:pt x="413" y="15"/>
                    </a:lnTo>
                    <a:lnTo>
                      <a:pt x="442" y="15"/>
                    </a:lnTo>
                    <a:lnTo>
                      <a:pt x="472" y="17"/>
                    </a:lnTo>
                    <a:lnTo>
                      <a:pt x="501" y="19"/>
                    </a:lnTo>
                    <a:lnTo>
                      <a:pt x="529" y="22"/>
                    </a:lnTo>
                    <a:lnTo>
                      <a:pt x="557" y="26"/>
                    </a:lnTo>
                    <a:lnTo>
                      <a:pt x="585" y="31"/>
                    </a:lnTo>
                    <a:lnTo>
                      <a:pt x="613" y="37"/>
                    </a:lnTo>
                    <a:lnTo>
                      <a:pt x="640" y="43"/>
                    </a:lnTo>
                    <a:lnTo>
                      <a:pt x="667" y="50"/>
                    </a:lnTo>
                    <a:lnTo>
                      <a:pt x="695" y="58"/>
                    </a:lnTo>
                    <a:lnTo>
                      <a:pt x="721" y="68"/>
                    </a:lnTo>
                    <a:lnTo>
                      <a:pt x="746" y="77"/>
                    </a:lnTo>
                    <a:lnTo>
                      <a:pt x="772" y="88"/>
                    </a:lnTo>
                    <a:lnTo>
                      <a:pt x="797" y="99"/>
                    </a:lnTo>
                    <a:lnTo>
                      <a:pt x="822" y="111"/>
                    </a:lnTo>
                    <a:lnTo>
                      <a:pt x="847" y="124"/>
                    </a:lnTo>
                    <a:lnTo>
                      <a:pt x="871" y="137"/>
                    </a:lnTo>
                    <a:lnTo>
                      <a:pt x="894" y="152"/>
                    </a:lnTo>
                    <a:lnTo>
                      <a:pt x="917" y="166"/>
                    </a:lnTo>
                    <a:lnTo>
                      <a:pt x="940" y="182"/>
                    </a:lnTo>
                    <a:lnTo>
                      <a:pt x="962" y="198"/>
                    </a:lnTo>
                    <a:lnTo>
                      <a:pt x="984" y="214"/>
                    </a:lnTo>
                    <a:lnTo>
                      <a:pt x="1004" y="232"/>
                    </a:lnTo>
                    <a:lnTo>
                      <a:pt x="1025" y="250"/>
                    </a:lnTo>
                    <a:lnTo>
                      <a:pt x="1045" y="268"/>
                    </a:lnTo>
                    <a:lnTo>
                      <a:pt x="1064" y="288"/>
                    </a:lnTo>
                    <a:lnTo>
                      <a:pt x="1083" y="307"/>
                    </a:lnTo>
                    <a:lnTo>
                      <a:pt x="1101" y="328"/>
                    </a:lnTo>
                    <a:lnTo>
                      <a:pt x="1118" y="349"/>
                    </a:lnTo>
                    <a:lnTo>
                      <a:pt x="1136" y="369"/>
                    </a:lnTo>
                    <a:lnTo>
                      <a:pt x="1152" y="393"/>
                    </a:lnTo>
                    <a:lnTo>
                      <a:pt x="1168" y="414"/>
                    </a:lnTo>
                    <a:lnTo>
                      <a:pt x="599" y="750"/>
                    </a:lnTo>
                    <a:lnTo>
                      <a:pt x="609" y="767"/>
                    </a:lnTo>
                    <a:lnTo>
                      <a:pt x="616" y="763"/>
                    </a:lnTo>
                    <a:lnTo>
                      <a:pt x="633" y="753"/>
                    </a:lnTo>
                    <a:lnTo>
                      <a:pt x="662" y="736"/>
                    </a:lnTo>
                    <a:lnTo>
                      <a:pt x="699" y="715"/>
                    </a:lnTo>
                    <a:lnTo>
                      <a:pt x="743" y="690"/>
                    </a:lnTo>
                    <a:lnTo>
                      <a:pt x="791" y="662"/>
                    </a:lnTo>
                    <a:lnTo>
                      <a:pt x="843" y="632"/>
                    </a:lnTo>
                    <a:lnTo>
                      <a:pt x="896" y="601"/>
                    </a:lnTo>
                    <a:lnTo>
                      <a:pt x="949" y="570"/>
                    </a:lnTo>
                    <a:lnTo>
                      <a:pt x="1001" y="540"/>
                    </a:lnTo>
                    <a:lnTo>
                      <a:pt x="1049" y="512"/>
                    </a:lnTo>
                    <a:lnTo>
                      <a:pt x="1093" y="487"/>
                    </a:lnTo>
                    <a:lnTo>
                      <a:pt x="1130" y="466"/>
                    </a:lnTo>
                    <a:lnTo>
                      <a:pt x="1159" y="449"/>
                    </a:lnTo>
                    <a:lnTo>
                      <a:pt x="1176" y="439"/>
                    </a:lnTo>
                    <a:lnTo>
                      <a:pt x="1183" y="435"/>
                    </a:lnTo>
                    <a:lnTo>
                      <a:pt x="1196" y="427"/>
                    </a:lnTo>
                    <a:lnTo>
                      <a:pt x="1182" y="406"/>
                    </a:lnTo>
                    <a:lnTo>
                      <a:pt x="1168" y="387"/>
                    </a:lnTo>
                    <a:lnTo>
                      <a:pt x="1153" y="366"/>
                    </a:lnTo>
                    <a:lnTo>
                      <a:pt x="1138" y="346"/>
                    </a:lnTo>
                    <a:lnTo>
                      <a:pt x="1122" y="328"/>
                    </a:lnTo>
                    <a:lnTo>
                      <a:pt x="1106" y="308"/>
                    </a:lnTo>
                    <a:lnTo>
                      <a:pt x="1088" y="290"/>
                    </a:lnTo>
                    <a:lnTo>
                      <a:pt x="1071" y="272"/>
                    </a:lnTo>
                    <a:lnTo>
                      <a:pt x="1038" y="239"/>
                    </a:lnTo>
                    <a:lnTo>
                      <a:pt x="1002" y="209"/>
                    </a:lnTo>
                    <a:lnTo>
                      <a:pt x="966" y="182"/>
                    </a:lnTo>
                    <a:lnTo>
                      <a:pt x="928" y="155"/>
                    </a:lnTo>
                    <a:lnTo>
                      <a:pt x="890" y="131"/>
                    </a:lnTo>
                    <a:lnTo>
                      <a:pt x="851" y="109"/>
                    </a:lnTo>
                    <a:lnTo>
                      <a:pt x="811" y="88"/>
                    </a:lnTo>
                    <a:lnTo>
                      <a:pt x="769" y="70"/>
                    </a:lnTo>
                    <a:lnTo>
                      <a:pt x="727" y="54"/>
                    </a:lnTo>
                    <a:lnTo>
                      <a:pt x="684" y="40"/>
                    </a:lnTo>
                    <a:lnTo>
                      <a:pt x="640" y="27"/>
                    </a:lnTo>
                    <a:lnTo>
                      <a:pt x="595" y="17"/>
                    </a:lnTo>
                    <a:lnTo>
                      <a:pt x="551" y="10"/>
                    </a:lnTo>
                    <a:lnTo>
                      <a:pt x="506" y="4"/>
                    </a:lnTo>
                    <a:lnTo>
                      <a:pt x="460" y="1"/>
                    </a:lnTo>
                    <a:lnTo>
                      <a:pt x="413" y="0"/>
                    </a:lnTo>
                    <a:lnTo>
                      <a:pt x="386" y="0"/>
                    </a:lnTo>
                    <a:lnTo>
                      <a:pt x="359" y="1"/>
                    </a:lnTo>
                    <a:lnTo>
                      <a:pt x="333" y="3"/>
                    </a:lnTo>
                    <a:lnTo>
                      <a:pt x="305" y="5"/>
                    </a:lnTo>
                    <a:lnTo>
                      <a:pt x="279" y="9"/>
                    </a:lnTo>
                    <a:lnTo>
                      <a:pt x="252" y="14"/>
                    </a:lnTo>
                    <a:lnTo>
                      <a:pt x="227" y="18"/>
                    </a:lnTo>
                    <a:lnTo>
                      <a:pt x="200" y="24"/>
                    </a:lnTo>
                    <a:lnTo>
                      <a:pt x="174" y="31"/>
                    </a:lnTo>
                    <a:lnTo>
                      <a:pt x="149" y="38"/>
                    </a:lnTo>
                    <a:lnTo>
                      <a:pt x="123" y="46"/>
                    </a:lnTo>
                    <a:lnTo>
                      <a:pt x="98" y="54"/>
                    </a:lnTo>
                    <a:lnTo>
                      <a:pt x="74" y="63"/>
                    </a:lnTo>
                    <a:lnTo>
                      <a:pt x="48" y="73"/>
                    </a:lnTo>
                    <a:lnTo>
                      <a:pt x="24" y="84"/>
                    </a:lnTo>
                    <a:lnTo>
                      <a:pt x="0" y="95"/>
                    </a:lnTo>
                    <a:lnTo>
                      <a:pt x="348" y="6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597360" y="3290760"/>
                <a:ext cx="31680" cy="18360"/>
              </a:xfrm>
              <a:custGeom>
                <a:avLst/>
                <a:gdLst/>
                <a:ahLst/>
                <a:rect l="l" t="t" r="r" b="b"/>
                <a:pathLst>
                  <a:path w="666" h="373">
                    <a:moveTo>
                      <a:pt x="666" y="373"/>
                    </a:moveTo>
                    <a:lnTo>
                      <a:pt x="665" y="325"/>
                    </a:lnTo>
                    <a:lnTo>
                      <a:pt x="661" y="276"/>
                    </a:lnTo>
                    <a:lnTo>
                      <a:pt x="654" y="228"/>
                    </a:lnTo>
                    <a:lnTo>
                      <a:pt x="646" y="181"/>
                    </a:lnTo>
                    <a:lnTo>
                      <a:pt x="635" y="135"/>
                    </a:lnTo>
                    <a:lnTo>
                      <a:pt x="622" y="89"/>
                    </a:lnTo>
                    <a:lnTo>
                      <a:pt x="606" y="44"/>
                    </a:lnTo>
                    <a:lnTo>
                      <a:pt x="588" y="0"/>
                    </a:lnTo>
                    <a:lnTo>
                      <a:pt x="0" y="326"/>
                    </a:lnTo>
                    <a:lnTo>
                      <a:pt x="0" y="355"/>
                    </a:lnTo>
                    <a:lnTo>
                      <a:pt x="585" y="28"/>
                    </a:lnTo>
                    <a:lnTo>
                      <a:pt x="600" y="68"/>
                    </a:lnTo>
                    <a:lnTo>
                      <a:pt x="613" y="109"/>
                    </a:lnTo>
                    <a:lnTo>
                      <a:pt x="625" y="152"/>
                    </a:lnTo>
                    <a:lnTo>
                      <a:pt x="634" y="195"/>
                    </a:lnTo>
                    <a:lnTo>
                      <a:pt x="641" y="240"/>
                    </a:lnTo>
                    <a:lnTo>
                      <a:pt x="645" y="283"/>
                    </a:lnTo>
                    <a:lnTo>
                      <a:pt x="649" y="328"/>
                    </a:lnTo>
                    <a:lnTo>
                      <a:pt x="650" y="373"/>
                    </a:lnTo>
                    <a:lnTo>
                      <a:pt x="666" y="3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93040" y="3309120"/>
                <a:ext cx="36000" cy="37800"/>
              </a:xfrm>
              <a:custGeom>
                <a:avLst/>
                <a:gdLst/>
                <a:ahLst/>
                <a:rect l="l" t="t" r="r" b="b"/>
                <a:pathLst>
                  <a:path w="754" h="770">
                    <a:moveTo>
                      <a:pt x="738" y="0"/>
                    </a:moveTo>
                    <a:lnTo>
                      <a:pt x="737" y="57"/>
                    </a:lnTo>
                    <a:lnTo>
                      <a:pt x="731" y="113"/>
                    </a:lnTo>
                    <a:lnTo>
                      <a:pt x="723" y="167"/>
                    </a:lnTo>
                    <a:lnTo>
                      <a:pt x="711" y="221"/>
                    </a:lnTo>
                    <a:lnTo>
                      <a:pt x="696" y="274"/>
                    </a:lnTo>
                    <a:lnTo>
                      <a:pt x="679" y="325"/>
                    </a:lnTo>
                    <a:lnTo>
                      <a:pt x="658" y="375"/>
                    </a:lnTo>
                    <a:lnTo>
                      <a:pt x="635" y="423"/>
                    </a:lnTo>
                    <a:lnTo>
                      <a:pt x="609" y="470"/>
                    </a:lnTo>
                    <a:lnTo>
                      <a:pt x="580" y="515"/>
                    </a:lnTo>
                    <a:lnTo>
                      <a:pt x="549" y="558"/>
                    </a:lnTo>
                    <a:lnTo>
                      <a:pt x="516" y="599"/>
                    </a:lnTo>
                    <a:lnTo>
                      <a:pt x="480" y="638"/>
                    </a:lnTo>
                    <a:lnTo>
                      <a:pt x="442" y="675"/>
                    </a:lnTo>
                    <a:lnTo>
                      <a:pt x="402" y="710"/>
                    </a:lnTo>
                    <a:lnTo>
                      <a:pt x="359" y="742"/>
                    </a:lnTo>
                    <a:lnTo>
                      <a:pt x="23" y="160"/>
                    </a:lnTo>
                    <a:lnTo>
                      <a:pt x="0" y="172"/>
                    </a:lnTo>
                    <a:lnTo>
                      <a:pt x="346" y="770"/>
                    </a:lnTo>
                    <a:lnTo>
                      <a:pt x="391" y="737"/>
                    </a:lnTo>
                    <a:lnTo>
                      <a:pt x="434" y="702"/>
                    </a:lnTo>
                    <a:lnTo>
                      <a:pt x="475" y="664"/>
                    </a:lnTo>
                    <a:lnTo>
                      <a:pt x="513" y="625"/>
                    </a:lnTo>
                    <a:lnTo>
                      <a:pt x="549" y="582"/>
                    </a:lnTo>
                    <a:lnTo>
                      <a:pt x="584" y="537"/>
                    </a:lnTo>
                    <a:lnTo>
                      <a:pt x="613" y="491"/>
                    </a:lnTo>
                    <a:lnTo>
                      <a:pt x="642" y="443"/>
                    </a:lnTo>
                    <a:lnTo>
                      <a:pt x="668" y="392"/>
                    </a:lnTo>
                    <a:lnTo>
                      <a:pt x="690" y="340"/>
                    </a:lnTo>
                    <a:lnTo>
                      <a:pt x="709" y="287"/>
                    </a:lnTo>
                    <a:lnTo>
                      <a:pt x="725" y="232"/>
                    </a:lnTo>
                    <a:lnTo>
                      <a:pt x="738" y="175"/>
                    </a:lnTo>
                    <a:lnTo>
                      <a:pt x="747" y="119"/>
                    </a:lnTo>
                    <a:lnTo>
                      <a:pt x="752" y="60"/>
                    </a:lnTo>
                    <a:lnTo>
                      <a:pt x="754" y="0"/>
                    </a:lnTo>
                    <a:lnTo>
                      <a:pt x="7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56680" y="334764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130" h="37">
                    <a:moveTo>
                      <a:pt x="0" y="3"/>
                    </a:moveTo>
                    <a:lnTo>
                      <a:pt x="86" y="0"/>
                    </a:lnTo>
                    <a:lnTo>
                      <a:pt x="130" y="37"/>
                    </a:lnTo>
                    <a:lnTo>
                      <a:pt x="60" y="3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3240" y="3366000"/>
                <a:ext cx="8280" cy="3240"/>
              </a:xfrm>
              <a:custGeom>
                <a:avLst/>
                <a:gdLst/>
                <a:ahLst/>
                <a:rect l="l" t="t" r="r" b="b"/>
                <a:pathLst>
                  <a:path w="174" h="73">
                    <a:moveTo>
                      <a:pt x="123" y="72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174" y="73"/>
                    </a:lnTo>
                    <a:lnTo>
                      <a:pt x="123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49120" y="3359160"/>
                <a:ext cx="24480" cy="10440"/>
              </a:xfrm>
              <a:custGeom>
                <a:avLst/>
                <a:gdLst/>
                <a:ahLst/>
                <a:rect l="l" t="t" r="r" b="b"/>
                <a:pathLst>
                  <a:path w="518" h="212">
                    <a:moveTo>
                      <a:pt x="518" y="205"/>
                    </a:moveTo>
                    <a:lnTo>
                      <a:pt x="393" y="127"/>
                    </a:lnTo>
                    <a:lnTo>
                      <a:pt x="245" y="125"/>
                    </a:lnTo>
                    <a:lnTo>
                      <a:pt x="250" y="134"/>
                    </a:lnTo>
                    <a:lnTo>
                      <a:pt x="0" y="0"/>
                    </a:lnTo>
                    <a:lnTo>
                      <a:pt x="80" y="54"/>
                    </a:lnTo>
                    <a:lnTo>
                      <a:pt x="73" y="57"/>
                    </a:lnTo>
                    <a:lnTo>
                      <a:pt x="39" y="175"/>
                    </a:lnTo>
                    <a:lnTo>
                      <a:pt x="94" y="212"/>
                    </a:lnTo>
                    <a:lnTo>
                      <a:pt x="205" y="135"/>
                    </a:lnTo>
                    <a:lnTo>
                      <a:pt x="202" y="128"/>
                    </a:lnTo>
                    <a:lnTo>
                      <a:pt x="376" y="194"/>
                    </a:lnTo>
                    <a:lnTo>
                      <a:pt x="388" y="212"/>
                    </a:lnTo>
                    <a:lnTo>
                      <a:pt x="518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556680" y="3367440"/>
                <a:ext cx="8280" cy="2160"/>
              </a:xfrm>
              <a:custGeom>
                <a:avLst/>
                <a:gdLst/>
                <a:ahLst/>
                <a:rect l="l" t="t" r="r" b="b"/>
                <a:pathLst>
                  <a:path w="180" h="49">
                    <a:moveTo>
                      <a:pt x="0" y="46"/>
                    </a:moveTo>
                    <a:lnTo>
                      <a:pt x="60" y="0"/>
                    </a:lnTo>
                    <a:lnTo>
                      <a:pt x="180" y="4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536880" y="3356280"/>
                <a:ext cx="8280" cy="288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0"/>
                    </a:moveTo>
                    <a:lnTo>
                      <a:pt x="176" y="0"/>
                    </a:lnTo>
                    <a:lnTo>
                      <a:pt x="176" y="10"/>
                    </a:lnTo>
                    <a:lnTo>
                      <a:pt x="169" y="10"/>
                    </a:lnTo>
                    <a:lnTo>
                      <a:pt x="60" y="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545520" y="33566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0" y="0"/>
                    </a:moveTo>
                    <a:lnTo>
                      <a:pt x="3" y="2"/>
                    </a:lnTo>
                    <a:lnTo>
                      <a:pt x="10" y="8"/>
                    </a:lnTo>
                    <a:lnTo>
                      <a:pt x="19" y="16"/>
                    </a:lnTo>
                    <a:lnTo>
                      <a:pt x="29" y="25"/>
                    </a:lnTo>
                    <a:lnTo>
                      <a:pt x="41" y="35"/>
                    </a:lnTo>
                    <a:lnTo>
                      <a:pt x="51" y="43"/>
                    </a:lnTo>
                    <a:lnTo>
                      <a:pt x="60" y="48"/>
                    </a:lnTo>
                    <a:lnTo>
                      <a:pt x="65" y="51"/>
                    </a:lnTo>
                    <a:lnTo>
                      <a:pt x="44" y="24"/>
                    </a:lnTo>
                    <a:lnTo>
                      <a:pt x="34" y="0"/>
                    </a:lnTo>
                    <a:lnTo>
                      <a:pt x="19" y="1"/>
                    </a:lnTo>
                    <a:lnTo>
                      <a:pt x="27" y="9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17080" y="3239280"/>
                <a:ext cx="135720" cy="131040"/>
              </a:xfrm>
              <a:custGeom>
                <a:avLst/>
                <a:gdLst/>
                <a:ahLst/>
                <a:rect l="l" t="t" r="r" b="b"/>
                <a:pathLst>
                  <a:path w="2840" h="2643">
                    <a:moveTo>
                      <a:pt x="32" y="1448"/>
                    </a:moveTo>
                    <a:lnTo>
                      <a:pt x="32" y="1373"/>
                    </a:lnTo>
                    <a:lnTo>
                      <a:pt x="155" y="1342"/>
                    </a:lnTo>
                    <a:lnTo>
                      <a:pt x="157" y="1317"/>
                    </a:lnTo>
                    <a:lnTo>
                      <a:pt x="163" y="1259"/>
                    </a:lnTo>
                    <a:lnTo>
                      <a:pt x="170" y="1199"/>
                    </a:lnTo>
                    <a:lnTo>
                      <a:pt x="176" y="1169"/>
                    </a:lnTo>
                    <a:lnTo>
                      <a:pt x="55" y="1104"/>
                    </a:lnTo>
                    <a:lnTo>
                      <a:pt x="78" y="1011"/>
                    </a:lnTo>
                    <a:lnTo>
                      <a:pt x="215" y="1011"/>
                    </a:lnTo>
                    <a:lnTo>
                      <a:pt x="217" y="1005"/>
                    </a:lnTo>
                    <a:lnTo>
                      <a:pt x="224" y="987"/>
                    </a:lnTo>
                    <a:lnTo>
                      <a:pt x="234" y="961"/>
                    </a:lnTo>
                    <a:lnTo>
                      <a:pt x="246" y="932"/>
                    </a:lnTo>
                    <a:lnTo>
                      <a:pt x="259" y="902"/>
                    </a:lnTo>
                    <a:lnTo>
                      <a:pt x="270" y="876"/>
                    </a:lnTo>
                    <a:lnTo>
                      <a:pt x="278" y="857"/>
                    </a:lnTo>
                    <a:lnTo>
                      <a:pt x="284" y="848"/>
                    </a:lnTo>
                    <a:lnTo>
                      <a:pt x="185" y="751"/>
                    </a:lnTo>
                    <a:lnTo>
                      <a:pt x="186" y="748"/>
                    </a:lnTo>
                    <a:lnTo>
                      <a:pt x="191" y="740"/>
                    </a:lnTo>
                    <a:lnTo>
                      <a:pt x="198" y="728"/>
                    </a:lnTo>
                    <a:lnTo>
                      <a:pt x="206" y="714"/>
                    </a:lnTo>
                    <a:lnTo>
                      <a:pt x="213" y="702"/>
                    </a:lnTo>
                    <a:lnTo>
                      <a:pt x="220" y="690"/>
                    </a:lnTo>
                    <a:lnTo>
                      <a:pt x="225" y="682"/>
                    </a:lnTo>
                    <a:lnTo>
                      <a:pt x="229" y="679"/>
                    </a:lnTo>
                    <a:lnTo>
                      <a:pt x="236" y="680"/>
                    </a:lnTo>
                    <a:lnTo>
                      <a:pt x="252" y="682"/>
                    </a:lnTo>
                    <a:lnTo>
                      <a:pt x="274" y="687"/>
                    </a:lnTo>
                    <a:lnTo>
                      <a:pt x="298" y="691"/>
                    </a:lnTo>
                    <a:lnTo>
                      <a:pt x="322" y="696"/>
                    </a:lnTo>
                    <a:lnTo>
                      <a:pt x="343" y="700"/>
                    </a:lnTo>
                    <a:lnTo>
                      <a:pt x="358" y="703"/>
                    </a:lnTo>
                    <a:lnTo>
                      <a:pt x="363" y="704"/>
                    </a:lnTo>
                    <a:lnTo>
                      <a:pt x="368" y="698"/>
                    </a:lnTo>
                    <a:lnTo>
                      <a:pt x="378" y="685"/>
                    </a:lnTo>
                    <a:lnTo>
                      <a:pt x="393" y="666"/>
                    </a:lnTo>
                    <a:lnTo>
                      <a:pt x="412" y="643"/>
                    </a:lnTo>
                    <a:lnTo>
                      <a:pt x="429" y="621"/>
                    </a:lnTo>
                    <a:lnTo>
                      <a:pt x="445" y="601"/>
                    </a:lnTo>
                    <a:lnTo>
                      <a:pt x="457" y="586"/>
                    </a:lnTo>
                    <a:lnTo>
                      <a:pt x="463" y="581"/>
                    </a:lnTo>
                    <a:lnTo>
                      <a:pt x="392" y="467"/>
                    </a:lnTo>
                    <a:lnTo>
                      <a:pt x="456" y="404"/>
                    </a:lnTo>
                    <a:lnTo>
                      <a:pt x="588" y="456"/>
                    </a:lnTo>
                    <a:lnTo>
                      <a:pt x="711" y="367"/>
                    </a:lnTo>
                    <a:lnTo>
                      <a:pt x="680" y="230"/>
                    </a:lnTo>
                    <a:lnTo>
                      <a:pt x="751" y="191"/>
                    </a:lnTo>
                    <a:lnTo>
                      <a:pt x="858" y="282"/>
                    </a:lnTo>
                    <a:lnTo>
                      <a:pt x="986" y="226"/>
                    </a:lnTo>
                    <a:lnTo>
                      <a:pt x="991" y="88"/>
                    </a:lnTo>
                    <a:lnTo>
                      <a:pt x="1081" y="60"/>
                    </a:lnTo>
                    <a:lnTo>
                      <a:pt x="1148" y="181"/>
                    </a:lnTo>
                    <a:lnTo>
                      <a:pt x="1154" y="180"/>
                    </a:lnTo>
                    <a:lnTo>
                      <a:pt x="1171" y="177"/>
                    </a:lnTo>
                    <a:lnTo>
                      <a:pt x="1194" y="173"/>
                    </a:lnTo>
                    <a:lnTo>
                      <a:pt x="1222" y="169"/>
                    </a:lnTo>
                    <a:lnTo>
                      <a:pt x="1249" y="165"/>
                    </a:lnTo>
                    <a:lnTo>
                      <a:pt x="1275" y="161"/>
                    </a:lnTo>
                    <a:lnTo>
                      <a:pt x="1294" y="159"/>
                    </a:lnTo>
                    <a:lnTo>
                      <a:pt x="1305" y="159"/>
                    </a:lnTo>
                    <a:lnTo>
                      <a:pt x="1347" y="28"/>
                    </a:lnTo>
                    <a:lnTo>
                      <a:pt x="1435" y="26"/>
                    </a:lnTo>
                    <a:lnTo>
                      <a:pt x="1472" y="154"/>
                    </a:lnTo>
                    <a:lnTo>
                      <a:pt x="1478" y="154"/>
                    </a:lnTo>
                    <a:lnTo>
                      <a:pt x="1496" y="157"/>
                    </a:lnTo>
                    <a:lnTo>
                      <a:pt x="1520" y="159"/>
                    </a:lnTo>
                    <a:lnTo>
                      <a:pt x="1549" y="161"/>
                    </a:lnTo>
                    <a:lnTo>
                      <a:pt x="1578" y="165"/>
                    </a:lnTo>
                    <a:lnTo>
                      <a:pt x="1604" y="168"/>
                    </a:lnTo>
                    <a:lnTo>
                      <a:pt x="1624" y="172"/>
                    </a:lnTo>
                    <a:lnTo>
                      <a:pt x="1634" y="174"/>
                    </a:lnTo>
                    <a:lnTo>
                      <a:pt x="1715" y="59"/>
                    </a:lnTo>
                    <a:lnTo>
                      <a:pt x="1798" y="79"/>
                    </a:lnTo>
                    <a:lnTo>
                      <a:pt x="1803" y="213"/>
                    </a:lnTo>
                    <a:lnTo>
                      <a:pt x="1809" y="215"/>
                    </a:lnTo>
                    <a:lnTo>
                      <a:pt x="1826" y="221"/>
                    </a:lnTo>
                    <a:lnTo>
                      <a:pt x="1849" y="230"/>
                    </a:lnTo>
                    <a:lnTo>
                      <a:pt x="1877" y="241"/>
                    </a:lnTo>
                    <a:lnTo>
                      <a:pt x="1904" y="251"/>
                    </a:lnTo>
                    <a:lnTo>
                      <a:pt x="1928" y="260"/>
                    </a:lnTo>
                    <a:lnTo>
                      <a:pt x="1946" y="268"/>
                    </a:lnTo>
                    <a:lnTo>
                      <a:pt x="1954" y="273"/>
                    </a:lnTo>
                    <a:lnTo>
                      <a:pt x="2058" y="182"/>
                    </a:lnTo>
                    <a:lnTo>
                      <a:pt x="2132" y="222"/>
                    </a:lnTo>
                    <a:lnTo>
                      <a:pt x="2092" y="349"/>
                    </a:lnTo>
                    <a:lnTo>
                      <a:pt x="2098" y="353"/>
                    </a:lnTo>
                    <a:lnTo>
                      <a:pt x="2113" y="363"/>
                    </a:lnTo>
                    <a:lnTo>
                      <a:pt x="2135" y="378"/>
                    </a:lnTo>
                    <a:lnTo>
                      <a:pt x="2160" y="395"/>
                    </a:lnTo>
                    <a:lnTo>
                      <a:pt x="2186" y="414"/>
                    </a:lnTo>
                    <a:lnTo>
                      <a:pt x="2209" y="430"/>
                    </a:lnTo>
                    <a:lnTo>
                      <a:pt x="2225" y="444"/>
                    </a:lnTo>
                    <a:lnTo>
                      <a:pt x="2233" y="452"/>
                    </a:lnTo>
                    <a:lnTo>
                      <a:pt x="2354" y="387"/>
                    </a:lnTo>
                    <a:lnTo>
                      <a:pt x="2418" y="450"/>
                    </a:lnTo>
                    <a:lnTo>
                      <a:pt x="2359" y="574"/>
                    </a:lnTo>
                    <a:lnTo>
                      <a:pt x="2362" y="578"/>
                    </a:lnTo>
                    <a:lnTo>
                      <a:pt x="2373" y="590"/>
                    </a:lnTo>
                    <a:lnTo>
                      <a:pt x="2387" y="606"/>
                    </a:lnTo>
                    <a:lnTo>
                      <a:pt x="2405" y="627"/>
                    </a:lnTo>
                    <a:lnTo>
                      <a:pt x="2422" y="647"/>
                    </a:lnTo>
                    <a:lnTo>
                      <a:pt x="2438" y="667"/>
                    </a:lnTo>
                    <a:lnTo>
                      <a:pt x="2450" y="683"/>
                    </a:lnTo>
                    <a:lnTo>
                      <a:pt x="2454" y="694"/>
                    </a:lnTo>
                    <a:lnTo>
                      <a:pt x="2591" y="667"/>
                    </a:lnTo>
                    <a:lnTo>
                      <a:pt x="2644" y="745"/>
                    </a:lnTo>
                    <a:lnTo>
                      <a:pt x="2550" y="839"/>
                    </a:lnTo>
                    <a:lnTo>
                      <a:pt x="2552" y="846"/>
                    </a:lnTo>
                    <a:lnTo>
                      <a:pt x="2560" y="863"/>
                    </a:lnTo>
                    <a:lnTo>
                      <a:pt x="2570" y="887"/>
                    </a:lnTo>
                    <a:lnTo>
                      <a:pt x="2583" y="916"/>
                    </a:lnTo>
                    <a:lnTo>
                      <a:pt x="2596" y="945"/>
                    </a:lnTo>
                    <a:lnTo>
                      <a:pt x="2606" y="971"/>
                    </a:lnTo>
                    <a:lnTo>
                      <a:pt x="2614" y="990"/>
                    </a:lnTo>
                    <a:lnTo>
                      <a:pt x="2617" y="999"/>
                    </a:lnTo>
                    <a:lnTo>
                      <a:pt x="2749" y="994"/>
                    </a:lnTo>
                    <a:lnTo>
                      <a:pt x="2777" y="1091"/>
                    </a:lnTo>
                    <a:lnTo>
                      <a:pt x="2660" y="1168"/>
                    </a:lnTo>
                    <a:lnTo>
                      <a:pt x="2665" y="1191"/>
                    </a:lnTo>
                    <a:lnTo>
                      <a:pt x="2674" y="1242"/>
                    </a:lnTo>
                    <a:lnTo>
                      <a:pt x="2682" y="1295"/>
                    </a:lnTo>
                    <a:lnTo>
                      <a:pt x="2686" y="1322"/>
                    </a:lnTo>
                    <a:lnTo>
                      <a:pt x="2816" y="1349"/>
                    </a:lnTo>
                    <a:lnTo>
                      <a:pt x="2816" y="1441"/>
                    </a:lnTo>
                    <a:lnTo>
                      <a:pt x="2686" y="1494"/>
                    </a:lnTo>
                    <a:lnTo>
                      <a:pt x="2683" y="1517"/>
                    </a:lnTo>
                    <a:lnTo>
                      <a:pt x="2680" y="1568"/>
                    </a:lnTo>
                    <a:lnTo>
                      <a:pt x="2673" y="1622"/>
                    </a:lnTo>
                    <a:lnTo>
                      <a:pt x="2666" y="1653"/>
                    </a:lnTo>
                    <a:lnTo>
                      <a:pt x="2784" y="1718"/>
                    </a:lnTo>
                    <a:lnTo>
                      <a:pt x="2759" y="1816"/>
                    </a:lnTo>
                    <a:lnTo>
                      <a:pt x="2620" y="1818"/>
                    </a:lnTo>
                    <a:lnTo>
                      <a:pt x="2618" y="1824"/>
                    </a:lnTo>
                    <a:lnTo>
                      <a:pt x="2611" y="1840"/>
                    </a:lnTo>
                    <a:lnTo>
                      <a:pt x="2602" y="1862"/>
                    </a:lnTo>
                    <a:lnTo>
                      <a:pt x="2591" y="1888"/>
                    </a:lnTo>
                    <a:lnTo>
                      <a:pt x="2581" y="1915"/>
                    </a:lnTo>
                    <a:lnTo>
                      <a:pt x="2570" y="1938"/>
                    </a:lnTo>
                    <a:lnTo>
                      <a:pt x="2562" y="1956"/>
                    </a:lnTo>
                    <a:lnTo>
                      <a:pt x="2558" y="1964"/>
                    </a:lnTo>
                    <a:lnTo>
                      <a:pt x="2660" y="2048"/>
                    </a:lnTo>
                    <a:lnTo>
                      <a:pt x="2617" y="2129"/>
                    </a:lnTo>
                    <a:lnTo>
                      <a:pt x="2475" y="2104"/>
                    </a:lnTo>
                    <a:lnTo>
                      <a:pt x="2385" y="2229"/>
                    </a:lnTo>
                    <a:lnTo>
                      <a:pt x="2451" y="2350"/>
                    </a:lnTo>
                    <a:lnTo>
                      <a:pt x="2383" y="2416"/>
                    </a:lnTo>
                    <a:lnTo>
                      <a:pt x="2263" y="2356"/>
                    </a:lnTo>
                    <a:lnTo>
                      <a:pt x="2257" y="2360"/>
                    </a:lnTo>
                    <a:lnTo>
                      <a:pt x="2242" y="2371"/>
                    </a:lnTo>
                    <a:lnTo>
                      <a:pt x="2220" y="2386"/>
                    </a:lnTo>
                    <a:lnTo>
                      <a:pt x="2196" y="2404"/>
                    </a:lnTo>
                    <a:lnTo>
                      <a:pt x="2171" y="2422"/>
                    </a:lnTo>
                    <a:lnTo>
                      <a:pt x="2148" y="2438"/>
                    </a:lnTo>
                    <a:lnTo>
                      <a:pt x="2130" y="2449"/>
                    </a:lnTo>
                    <a:lnTo>
                      <a:pt x="2121" y="2455"/>
                    </a:lnTo>
                    <a:lnTo>
                      <a:pt x="2165" y="2584"/>
                    </a:lnTo>
                    <a:lnTo>
                      <a:pt x="2084" y="2629"/>
                    </a:lnTo>
                    <a:lnTo>
                      <a:pt x="2127" y="2643"/>
                    </a:lnTo>
                    <a:lnTo>
                      <a:pt x="2204" y="2589"/>
                    </a:lnTo>
                    <a:lnTo>
                      <a:pt x="2165" y="2469"/>
                    </a:lnTo>
                    <a:lnTo>
                      <a:pt x="2170" y="2466"/>
                    </a:lnTo>
                    <a:lnTo>
                      <a:pt x="2180" y="2458"/>
                    </a:lnTo>
                    <a:lnTo>
                      <a:pt x="2196" y="2447"/>
                    </a:lnTo>
                    <a:lnTo>
                      <a:pt x="2215" y="2434"/>
                    </a:lnTo>
                    <a:lnTo>
                      <a:pt x="2233" y="2422"/>
                    </a:lnTo>
                    <a:lnTo>
                      <a:pt x="2249" y="2409"/>
                    </a:lnTo>
                    <a:lnTo>
                      <a:pt x="2262" y="2398"/>
                    </a:lnTo>
                    <a:lnTo>
                      <a:pt x="2268" y="2393"/>
                    </a:lnTo>
                    <a:lnTo>
                      <a:pt x="2383" y="2453"/>
                    </a:lnTo>
                    <a:lnTo>
                      <a:pt x="2489" y="2347"/>
                    </a:lnTo>
                    <a:lnTo>
                      <a:pt x="2425" y="2234"/>
                    </a:lnTo>
                    <a:lnTo>
                      <a:pt x="2497" y="2144"/>
                    </a:lnTo>
                    <a:lnTo>
                      <a:pt x="2626" y="2162"/>
                    </a:lnTo>
                    <a:lnTo>
                      <a:pt x="2698" y="2039"/>
                    </a:lnTo>
                    <a:lnTo>
                      <a:pt x="2599" y="1958"/>
                    </a:lnTo>
                    <a:lnTo>
                      <a:pt x="2648" y="1846"/>
                    </a:lnTo>
                    <a:lnTo>
                      <a:pt x="2775" y="1849"/>
                    </a:lnTo>
                    <a:lnTo>
                      <a:pt x="2816" y="1700"/>
                    </a:lnTo>
                    <a:lnTo>
                      <a:pt x="2701" y="1635"/>
                    </a:lnTo>
                    <a:lnTo>
                      <a:pt x="2718" y="1514"/>
                    </a:lnTo>
                    <a:lnTo>
                      <a:pt x="2840" y="1475"/>
                    </a:lnTo>
                    <a:lnTo>
                      <a:pt x="2840" y="1324"/>
                    </a:lnTo>
                    <a:lnTo>
                      <a:pt x="2719" y="1301"/>
                    </a:lnTo>
                    <a:lnTo>
                      <a:pt x="2701" y="1177"/>
                    </a:lnTo>
                    <a:lnTo>
                      <a:pt x="2807" y="1101"/>
                    </a:lnTo>
                    <a:lnTo>
                      <a:pt x="2767" y="962"/>
                    </a:lnTo>
                    <a:lnTo>
                      <a:pt x="2638" y="962"/>
                    </a:lnTo>
                    <a:lnTo>
                      <a:pt x="2589" y="843"/>
                    </a:lnTo>
                    <a:lnTo>
                      <a:pt x="2674" y="756"/>
                    </a:lnTo>
                    <a:lnTo>
                      <a:pt x="2602" y="626"/>
                    </a:lnTo>
                    <a:lnTo>
                      <a:pt x="2475" y="660"/>
                    </a:lnTo>
                    <a:lnTo>
                      <a:pt x="2402" y="564"/>
                    </a:lnTo>
                    <a:lnTo>
                      <a:pt x="2456" y="452"/>
                    </a:lnTo>
                    <a:lnTo>
                      <a:pt x="2345" y="348"/>
                    </a:lnTo>
                    <a:lnTo>
                      <a:pt x="2236" y="407"/>
                    </a:lnTo>
                    <a:lnTo>
                      <a:pt x="2130" y="332"/>
                    </a:lnTo>
                    <a:lnTo>
                      <a:pt x="2170" y="214"/>
                    </a:lnTo>
                    <a:lnTo>
                      <a:pt x="2039" y="144"/>
                    </a:lnTo>
                    <a:lnTo>
                      <a:pt x="1945" y="230"/>
                    </a:lnTo>
                    <a:lnTo>
                      <a:pt x="1831" y="191"/>
                    </a:lnTo>
                    <a:lnTo>
                      <a:pt x="1828" y="58"/>
                    </a:lnTo>
                    <a:lnTo>
                      <a:pt x="1693" y="25"/>
                    </a:lnTo>
                    <a:lnTo>
                      <a:pt x="1622" y="135"/>
                    </a:lnTo>
                    <a:lnTo>
                      <a:pt x="1502" y="123"/>
                    </a:lnTo>
                    <a:lnTo>
                      <a:pt x="1465" y="0"/>
                    </a:lnTo>
                    <a:lnTo>
                      <a:pt x="1318" y="3"/>
                    </a:lnTo>
                    <a:lnTo>
                      <a:pt x="1279" y="128"/>
                    </a:lnTo>
                    <a:lnTo>
                      <a:pt x="1166" y="145"/>
                    </a:lnTo>
                    <a:lnTo>
                      <a:pt x="1103" y="31"/>
                    </a:lnTo>
                    <a:lnTo>
                      <a:pt x="965" y="69"/>
                    </a:lnTo>
                    <a:lnTo>
                      <a:pt x="958" y="198"/>
                    </a:lnTo>
                    <a:lnTo>
                      <a:pt x="866" y="241"/>
                    </a:lnTo>
                    <a:lnTo>
                      <a:pt x="769" y="153"/>
                    </a:lnTo>
                    <a:lnTo>
                      <a:pt x="642" y="222"/>
                    </a:lnTo>
                    <a:lnTo>
                      <a:pt x="672" y="351"/>
                    </a:lnTo>
                    <a:lnTo>
                      <a:pt x="580" y="418"/>
                    </a:lnTo>
                    <a:lnTo>
                      <a:pt x="456" y="370"/>
                    </a:lnTo>
                    <a:lnTo>
                      <a:pt x="355" y="469"/>
                    </a:lnTo>
                    <a:lnTo>
                      <a:pt x="420" y="575"/>
                    </a:lnTo>
                    <a:lnTo>
                      <a:pt x="350" y="677"/>
                    </a:lnTo>
                    <a:lnTo>
                      <a:pt x="215" y="649"/>
                    </a:lnTo>
                    <a:lnTo>
                      <a:pt x="152" y="760"/>
                    </a:lnTo>
                    <a:lnTo>
                      <a:pt x="239" y="859"/>
                    </a:lnTo>
                    <a:lnTo>
                      <a:pt x="195" y="972"/>
                    </a:lnTo>
                    <a:lnTo>
                      <a:pt x="67" y="975"/>
                    </a:lnTo>
                    <a:lnTo>
                      <a:pt x="23" y="1121"/>
                    </a:lnTo>
                    <a:lnTo>
                      <a:pt x="135" y="1189"/>
                    </a:lnTo>
                    <a:lnTo>
                      <a:pt x="125" y="1313"/>
                    </a:lnTo>
                    <a:lnTo>
                      <a:pt x="0" y="1346"/>
                    </a:lnTo>
                    <a:lnTo>
                      <a:pt x="0" y="1457"/>
                    </a:lnTo>
                    <a:lnTo>
                      <a:pt x="32" y="14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572160" y="3296160"/>
                <a:ext cx="25200" cy="26280"/>
              </a:xfrm>
              <a:custGeom>
                <a:avLst/>
                <a:gdLst/>
                <a:ahLst/>
                <a:rect l="l" t="t" r="r" b="b"/>
                <a:pathLst>
                  <a:path w="531" h="531">
                    <a:moveTo>
                      <a:pt x="266" y="531"/>
                    </a:moveTo>
                    <a:lnTo>
                      <a:pt x="239" y="530"/>
                    </a:lnTo>
                    <a:lnTo>
                      <a:pt x="213" y="526"/>
                    </a:lnTo>
                    <a:lnTo>
                      <a:pt x="188" y="520"/>
                    </a:lnTo>
                    <a:lnTo>
                      <a:pt x="163" y="511"/>
                    </a:lnTo>
                    <a:lnTo>
                      <a:pt x="140" y="499"/>
                    </a:lnTo>
                    <a:lnTo>
                      <a:pt x="118" y="486"/>
                    </a:lnTo>
                    <a:lnTo>
                      <a:pt x="97" y="470"/>
                    </a:lnTo>
                    <a:lnTo>
                      <a:pt x="79" y="453"/>
                    </a:lnTo>
                    <a:lnTo>
                      <a:pt x="61" y="435"/>
                    </a:lnTo>
                    <a:lnTo>
                      <a:pt x="46" y="414"/>
                    </a:lnTo>
                    <a:lnTo>
                      <a:pt x="33" y="392"/>
                    </a:lnTo>
                    <a:lnTo>
                      <a:pt x="21" y="369"/>
                    </a:lnTo>
                    <a:lnTo>
                      <a:pt x="12" y="345"/>
                    </a:lnTo>
                    <a:lnTo>
                      <a:pt x="6" y="319"/>
                    </a:lnTo>
                    <a:lnTo>
                      <a:pt x="2" y="293"/>
                    </a:lnTo>
                    <a:lnTo>
                      <a:pt x="0" y="265"/>
                    </a:lnTo>
                    <a:lnTo>
                      <a:pt x="2" y="239"/>
                    </a:lnTo>
                    <a:lnTo>
                      <a:pt x="6" y="212"/>
                    </a:lnTo>
                    <a:lnTo>
                      <a:pt x="12" y="187"/>
                    </a:lnTo>
                    <a:lnTo>
                      <a:pt x="21" y="163"/>
                    </a:lnTo>
                    <a:lnTo>
                      <a:pt x="33" y="140"/>
                    </a:lnTo>
                    <a:lnTo>
                      <a:pt x="46" y="118"/>
                    </a:lnTo>
                    <a:lnTo>
                      <a:pt x="61" y="97"/>
                    </a:lnTo>
                    <a:lnTo>
                      <a:pt x="79" y="79"/>
                    </a:lnTo>
                    <a:lnTo>
                      <a:pt x="97" y="61"/>
                    </a:lnTo>
                    <a:lnTo>
                      <a:pt x="118" y="46"/>
                    </a:lnTo>
                    <a:lnTo>
                      <a:pt x="140" y="32"/>
                    </a:lnTo>
                    <a:lnTo>
                      <a:pt x="163" y="21"/>
                    </a:lnTo>
                    <a:lnTo>
                      <a:pt x="188" y="12"/>
                    </a:lnTo>
                    <a:lnTo>
                      <a:pt x="213" y="6"/>
                    </a:lnTo>
                    <a:lnTo>
                      <a:pt x="239" y="1"/>
                    </a:lnTo>
                    <a:lnTo>
                      <a:pt x="266" y="0"/>
                    </a:lnTo>
                    <a:lnTo>
                      <a:pt x="294" y="1"/>
                    </a:lnTo>
                    <a:lnTo>
                      <a:pt x="319" y="6"/>
                    </a:lnTo>
                    <a:lnTo>
                      <a:pt x="345" y="12"/>
                    </a:lnTo>
                    <a:lnTo>
                      <a:pt x="370" y="21"/>
                    </a:lnTo>
                    <a:lnTo>
                      <a:pt x="393" y="32"/>
                    </a:lnTo>
                    <a:lnTo>
                      <a:pt x="415" y="46"/>
                    </a:lnTo>
                    <a:lnTo>
                      <a:pt x="435" y="61"/>
                    </a:lnTo>
                    <a:lnTo>
                      <a:pt x="454" y="79"/>
                    </a:lnTo>
                    <a:lnTo>
                      <a:pt x="470" y="97"/>
                    </a:lnTo>
                    <a:lnTo>
                      <a:pt x="486" y="118"/>
                    </a:lnTo>
                    <a:lnTo>
                      <a:pt x="499" y="140"/>
                    </a:lnTo>
                    <a:lnTo>
                      <a:pt x="511" y="163"/>
                    </a:lnTo>
                    <a:lnTo>
                      <a:pt x="520" y="187"/>
                    </a:lnTo>
                    <a:lnTo>
                      <a:pt x="526" y="212"/>
                    </a:lnTo>
                    <a:lnTo>
                      <a:pt x="530" y="239"/>
                    </a:lnTo>
                    <a:lnTo>
                      <a:pt x="531" y="265"/>
                    </a:lnTo>
                    <a:lnTo>
                      <a:pt x="530" y="293"/>
                    </a:lnTo>
                    <a:lnTo>
                      <a:pt x="526" y="319"/>
                    </a:lnTo>
                    <a:lnTo>
                      <a:pt x="520" y="345"/>
                    </a:lnTo>
                    <a:lnTo>
                      <a:pt x="511" y="369"/>
                    </a:lnTo>
                    <a:lnTo>
                      <a:pt x="499" y="392"/>
                    </a:lnTo>
                    <a:lnTo>
                      <a:pt x="486" y="414"/>
                    </a:lnTo>
                    <a:lnTo>
                      <a:pt x="470" y="435"/>
                    </a:lnTo>
                    <a:lnTo>
                      <a:pt x="454" y="453"/>
                    </a:lnTo>
                    <a:lnTo>
                      <a:pt x="435" y="470"/>
                    </a:lnTo>
                    <a:lnTo>
                      <a:pt x="415" y="486"/>
                    </a:lnTo>
                    <a:lnTo>
                      <a:pt x="393" y="499"/>
                    </a:lnTo>
                    <a:lnTo>
                      <a:pt x="370" y="511"/>
                    </a:lnTo>
                    <a:lnTo>
                      <a:pt x="345" y="520"/>
                    </a:lnTo>
                    <a:lnTo>
                      <a:pt x="319" y="526"/>
                    </a:lnTo>
                    <a:lnTo>
                      <a:pt x="294" y="530"/>
                    </a:lnTo>
                    <a:lnTo>
                      <a:pt x="266" y="5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573240" y="3297240"/>
                <a:ext cx="23040" cy="24120"/>
              </a:xfrm>
              <a:custGeom>
                <a:avLst/>
                <a:gdLst/>
                <a:ahLst/>
                <a:rect l="l" t="t" r="r" b="b"/>
                <a:pathLst>
                  <a:path w="486" h="487">
                    <a:moveTo>
                      <a:pt x="243" y="487"/>
                    </a:moveTo>
                    <a:lnTo>
                      <a:pt x="219" y="486"/>
                    </a:lnTo>
                    <a:lnTo>
                      <a:pt x="195" y="483"/>
                    </a:lnTo>
                    <a:lnTo>
                      <a:pt x="171" y="476"/>
                    </a:lnTo>
                    <a:lnTo>
                      <a:pt x="149" y="468"/>
                    </a:lnTo>
                    <a:lnTo>
                      <a:pt x="128" y="457"/>
                    </a:lnTo>
                    <a:lnTo>
                      <a:pt x="108" y="446"/>
                    </a:lnTo>
                    <a:lnTo>
                      <a:pt x="89" y="432"/>
                    </a:lnTo>
                    <a:lnTo>
                      <a:pt x="72" y="416"/>
                    </a:lnTo>
                    <a:lnTo>
                      <a:pt x="56" y="399"/>
                    </a:lnTo>
                    <a:lnTo>
                      <a:pt x="42" y="379"/>
                    </a:lnTo>
                    <a:lnTo>
                      <a:pt x="30" y="360"/>
                    </a:lnTo>
                    <a:lnTo>
                      <a:pt x="20" y="338"/>
                    </a:lnTo>
                    <a:lnTo>
                      <a:pt x="12" y="316"/>
                    </a:lnTo>
                    <a:lnTo>
                      <a:pt x="5" y="293"/>
                    </a:lnTo>
                    <a:lnTo>
                      <a:pt x="2" y="269"/>
                    </a:lnTo>
                    <a:lnTo>
                      <a:pt x="0" y="243"/>
                    </a:lnTo>
                    <a:lnTo>
                      <a:pt x="2" y="219"/>
                    </a:lnTo>
                    <a:lnTo>
                      <a:pt x="5" y="195"/>
                    </a:lnTo>
                    <a:lnTo>
                      <a:pt x="12" y="171"/>
                    </a:lnTo>
                    <a:lnTo>
                      <a:pt x="20" y="149"/>
                    </a:lnTo>
                    <a:lnTo>
                      <a:pt x="30" y="128"/>
                    </a:lnTo>
                    <a:lnTo>
                      <a:pt x="42" y="107"/>
                    </a:lnTo>
                    <a:lnTo>
                      <a:pt x="56" y="89"/>
                    </a:lnTo>
                    <a:lnTo>
                      <a:pt x="72" y="72"/>
                    </a:lnTo>
                    <a:lnTo>
                      <a:pt x="89" y="55"/>
                    </a:lnTo>
                    <a:lnTo>
                      <a:pt x="108" y="42"/>
                    </a:lnTo>
                    <a:lnTo>
                      <a:pt x="128" y="30"/>
                    </a:lnTo>
                    <a:lnTo>
                      <a:pt x="149" y="20"/>
                    </a:lnTo>
                    <a:lnTo>
                      <a:pt x="171" y="12"/>
                    </a:lnTo>
                    <a:lnTo>
                      <a:pt x="195" y="5"/>
                    </a:lnTo>
                    <a:lnTo>
                      <a:pt x="219" y="1"/>
                    </a:lnTo>
                    <a:lnTo>
                      <a:pt x="243" y="0"/>
                    </a:lnTo>
                    <a:lnTo>
                      <a:pt x="268" y="1"/>
                    </a:lnTo>
                    <a:lnTo>
                      <a:pt x="292" y="5"/>
                    </a:lnTo>
                    <a:lnTo>
                      <a:pt x="316" y="12"/>
                    </a:lnTo>
                    <a:lnTo>
                      <a:pt x="338" y="20"/>
                    </a:lnTo>
                    <a:lnTo>
                      <a:pt x="359" y="30"/>
                    </a:lnTo>
                    <a:lnTo>
                      <a:pt x="379" y="42"/>
                    </a:lnTo>
                    <a:lnTo>
                      <a:pt x="398" y="55"/>
                    </a:lnTo>
                    <a:lnTo>
                      <a:pt x="415" y="72"/>
                    </a:lnTo>
                    <a:lnTo>
                      <a:pt x="431" y="89"/>
                    </a:lnTo>
                    <a:lnTo>
                      <a:pt x="445" y="107"/>
                    </a:lnTo>
                    <a:lnTo>
                      <a:pt x="457" y="128"/>
                    </a:lnTo>
                    <a:lnTo>
                      <a:pt x="467" y="149"/>
                    </a:lnTo>
                    <a:lnTo>
                      <a:pt x="475" y="171"/>
                    </a:lnTo>
                    <a:lnTo>
                      <a:pt x="482" y="195"/>
                    </a:lnTo>
                    <a:lnTo>
                      <a:pt x="485" y="219"/>
                    </a:lnTo>
                    <a:lnTo>
                      <a:pt x="486" y="243"/>
                    </a:lnTo>
                    <a:lnTo>
                      <a:pt x="485" y="269"/>
                    </a:lnTo>
                    <a:lnTo>
                      <a:pt x="482" y="293"/>
                    </a:lnTo>
                    <a:lnTo>
                      <a:pt x="475" y="316"/>
                    </a:lnTo>
                    <a:lnTo>
                      <a:pt x="467" y="338"/>
                    </a:lnTo>
                    <a:lnTo>
                      <a:pt x="457" y="360"/>
                    </a:lnTo>
                    <a:lnTo>
                      <a:pt x="445" y="379"/>
                    </a:lnTo>
                    <a:lnTo>
                      <a:pt x="431" y="399"/>
                    </a:lnTo>
                    <a:lnTo>
                      <a:pt x="415" y="416"/>
                    </a:lnTo>
                    <a:lnTo>
                      <a:pt x="398" y="432"/>
                    </a:lnTo>
                    <a:lnTo>
                      <a:pt x="379" y="446"/>
                    </a:lnTo>
                    <a:lnTo>
                      <a:pt x="359" y="457"/>
                    </a:lnTo>
                    <a:lnTo>
                      <a:pt x="338" y="468"/>
                    </a:lnTo>
                    <a:lnTo>
                      <a:pt x="316" y="476"/>
                    </a:lnTo>
                    <a:lnTo>
                      <a:pt x="292" y="483"/>
                    </a:lnTo>
                    <a:lnTo>
                      <a:pt x="268" y="486"/>
                    </a:lnTo>
                    <a:lnTo>
                      <a:pt x="243" y="4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80080" y="33044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199" h="198">
                    <a:moveTo>
                      <a:pt x="99" y="198"/>
                    </a:moveTo>
                    <a:lnTo>
                      <a:pt x="80" y="196"/>
                    </a:lnTo>
                    <a:lnTo>
                      <a:pt x="61" y="190"/>
                    </a:lnTo>
                    <a:lnTo>
                      <a:pt x="44" y="181"/>
                    </a:lnTo>
                    <a:lnTo>
                      <a:pt x="29" y="168"/>
                    </a:lnTo>
                    <a:lnTo>
                      <a:pt x="18" y="155"/>
                    </a:lnTo>
                    <a:lnTo>
                      <a:pt x="8" y="137"/>
                    </a:lnTo>
                    <a:lnTo>
                      <a:pt x="3" y="119"/>
                    </a:lnTo>
                    <a:lnTo>
                      <a:pt x="0" y="98"/>
                    </a:lnTo>
                    <a:lnTo>
                      <a:pt x="3" y="79"/>
                    </a:lnTo>
                    <a:lnTo>
                      <a:pt x="8" y="59"/>
                    </a:lnTo>
                    <a:lnTo>
                      <a:pt x="18" y="43"/>
                    </a:lnTo>
                    <a:lnTo>
                      <a:pt x="29" y="28"/>
                    </a:lnTo>
                    <a:lnTo>
                      <a:pt x="44" y="16"/>
                    </a:lnTo>
                    <a:lnTo>
                      <a:pt x="61" y="8"/>
                    </a:lnTo>
                    <a:lnTo>
                      <a:pt x="80" y="3"/>
                    </a:lnTo>
                    <a:lnTo>
                      <a:pt x="99" y="0"/>
                    </a:lnTo>
                    <a:lnTo>
                      <a:pt x="119" y="3"/>
                    </a:lnTo>
                    <a:lnTo>
                      <a:pt x="139" y="8"/>
                    </a:lnTo>
                    <a:lnTo>
                      <a:pt x="155" y="16"/>
                    </a:lnTo>
                    <a:lnTo>
                      <a:pt x="170" y="28"/>
                    </a:lnTo>
                    <a:lnTo>
                      <a:pt x="181" y="43"/>
                    </a:lnTo>
                    <a:lnTo>
                      <a:pt x="190" y="59"/>
                    </a:lnTo>
                    <a:lnTo>
                      <a:pt x="196" y="79"/>
                    </a:lnTo>
                    <a:lnTo>
                      <a:pt x="199" y="98"/>
                    </a:lnTo>
                    <a:lnTo>
                      <a:pt x="196" y="119"/>
                    </a:lnTo>
                    <a:lnTo>
                      <a:pt x="190" y="137"/>
                    </a:lnTo>
                    <a:lnTo>
                      <a:pt x="181" y="155"/>
                    </a:lnTo>
                    <a:lnTo>
                      <a:pt x="170" y="168"/>
                    </a:lnTo>
                    <a:lnTo>
                      <a:pt x="155" y="181"/>
                    </a:lnTo>
                    <a:lnTo>
                      <a:pt x="139" y="190"/>
                    </a:lnTo>
                    <a:lnTo>
                      <a:pt x="119" y="196"/>
                    </a:lnTo>
                    <a:lnTo>
                      <a:pt x="99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581520" y="330552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71" y="143"/>
                    </a:moveTo>
                    <a:lnTo>
                      <a:pt x="58" y="142"/>
                    </a:lnTo>
                    <a:lnTo>
                      <a:pt x="44" y="137"/>
                    </a:lnTo>
                    <a:lnTo>
                      <a:pt x="31" y="130"/>
                    </a:lnTo>
                    <a:lnTo>
                      <a:pt x="21" y="122"/>
                    </a:lnTo>
                    <a:lnTo>
                      <a:pt x="13" y="111"/>
                    </a:lnTo>
                    <a:lnTo>
                      <a:pt x="6" y="99"/>
                    </a:lnTo>
                    <a:lnTo>
                      <a:pt x="1" y="85"/>
                    </a:lnTo>
                    <a:lnTo>
                      <a:pt x="0" y="70"/>
                    </a:lnTo>
                    <a:lnTo>
                      <a:pt x="1" y="56"/>
                    </a:lnTo>
                    <a:lnTo>
                      <a:pt x="6" y="43"/>
                    </a:lnTo>
                    <a:lnTo>
                      <a:pt x="13" y="31"/>
                    </a:lnTo>
                    <a:lnTo>
                      <a:pt x="21" y="21"/>
                    </a:lnTo>
                    <a:lnTo>
                      <a:pt x="31" y="11"/>
                    </a:lnTo>
                    <a:lnTo>
                      <a:pt x="44" y="6"/>
                    </a:lnTo>
                    <a:lnTo>
                      <a:pt x="58" y="1"/>
                    </a:lnTo>
                    <a:lnTo>
                      <a:pt x="71" y="0"/>
                    </a:lnTo>
                    <a:lnTo>
                      <a:pt x="86" y="1"/>
                    </a:lnTo>
                    <a:lnTo>
                      <a:pt x="100" y="6"/>
                    </a:lnTo>
                    <a:lnTo>
                      <a:pt x="112" y="11"/>
                    </a:lnTo>
                    <a:lnTo>
                      <a:pt x="123" y="21"/>
                    </a:lnTo>
                    <a:lnTo>
                      <a:pt x="131" y="31"/>
                    </a:lnTo>
                    <a:lnTo>
                      <a:pt x="138" y="43"/>
                    </a:lnTo>
                    <a:lnTo>
                      <a:pt x="143" y="56"/>
                    </a:lnTo>
                    <a:lnTo>
                      <a:pt x="144" y="70"/>
                    </a:lnTo>
                    <a:lnTo>
                      <a:pt x="143" y="85"/>
                    </a:lnTo>
                    <a:lnTo>
                      <a:pt x="138" y="99"/>
                    </a:lnTo>
                    <a:lnTo>
                      <a:pt x="131" y="111"/>
                    </a:lnTo>
                    <a:lnTo>
                      <a:pt x="123" y="122"/>
                    </a:lnTo>
                    <a:lnTo>
                      <a:pt x="112" y="130"/>
                    </a:lnTo>
                    <a:lnTo>
                      <a:pt x="100" y="137"/>
                    </a:lnTo>
                    <a:lnTo>
                      <a:pt x="86" y="142"/>
                    </a:lnTo>
                    <a:lnTo>
                      <a:pt x="71" y="1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455880" y="3301920"/>
              <a:ext cx="89640" cy="81000"/>
              <a:chOff x="6455880" y="3301920"/>
              <a:chExt cx="89640" cy="81000"/>
            </a:xfrm>
          </p:grpSpPr>
          <p:sp>
            <p:nvSpPr>
              <p:cNvPr id="309" name=""/>
              <p:cNvSpPr/>
              <p:nvPr/>
            </p:nvSpPr>
            <p:spPr>
              <a:xfrm>
                <a:off x="6506640" y="332892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696" h="496">
                    <a:moveTo>
                      <a:pt x="0" y="358"/>
                    </a:moveTo>
                    <a:lnTo>
                      <a:pt x="2" y="362"/>
                    </a:lnTo>
                    <a:lnTo>
                      <a:pt x="9" y="374"/>
                    </a:lnTo>
                    <a:lnTo>
                      <a:pt x="18" y="391"/>
                    </a:lnTo>
                    <a:lnTo>
                      <a:pt x="29" y="413"/>
                    </a:lnTo>
                    <a:lnTo>
                      <a:pt x="39" y="436"/>
                    </a:lnTo>
                    <a:lnTo>
                      <a:pt x="48" y="458"/>
                    </a:lnTo>
                    <a:lnTo>
                      <a:pt x="54" y="479"/>
                    </a:lnTo>
                    <a:lnTo>
                      <a:pt x="56" y="496"/>
                    </a:lnTo>
                    <a:lnTo>
                      <a:pt x="696" y="148"/>
                    </a:lnTo>
                    <a:lnTo>
                      <a:pt x="601" y="0"/>
                    </a:lnTo>
                    <a:lnTo>
                      <a:pt x="0" y="3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82520" y="334728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426" h="214">
                    <a:moveTo>
                      <a:pt x="0" y="182"/>
                    </a:moveTo>
                    <a:lnTo>
                      <a:pt x="327" y="0"/>
                    </a:lnTo>
                    <a:lnTo>
                      <a:pt x="328" y="3"/>
                    </a:lnTo>
                    <a:lnTo>
                      <a:pt x="334" y="14"/>
                    </a:lnTo>
                    <a:lnTo>
                      <a:pt x="341" y="28"/>
                    </a:lnTo>
                    <a:lnTo>
                      <a:pt x="349" y="44"/>
                    </a:lnTo>
                    <a:lnTo>
                      <a:pt x="358" y="61"/>
                    </a:lnTo>
                    <a:lnTo>
                      <a:pt x="367" y="76"/>
                    </a:lnTo>
                    <a:lnTo>
                      <a:pt x="376" y="87"/>
                    </a:lnTo>
                    <a:lnTo>
                      <a:pt x="384" y="93"/>
                    </a:lnTo>
                    <a:lnTo>
                      <a:pt x="391" y="97"/>
                    </a:lnTo>
                    <a:lnTo>
                      <a:pt x="398" y="102"/>
                    </a:lnTo>
                    <a:lnTo>
                      <a:pt x="405" y="108"/>
                    </a:lnTo>
                    <a:lnTo>
                      <a:pt x="412" y="114"/>
                    </a:lnTo>
                    <a:lnTo>
                      <a:pt x="418" y="119"/>
                    </a:lnTo>
                    <a:lnTo>
                      <a:pt x="422" y="123"/>
                    </a:lnTo>
                    <a:lnTo>
                      <a:pt x="425" y="127"/>
                    </a:lnTo>
                    <a:lnTo>
                      <a:pt x="426" y="128"/>
                    </a:lnTo>
                    <a:lnTo>
                      <a:pt x="290" y="214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481440" y="334656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370" h="224">
                    <a:moveTo>
                      <a:pt x="24" y="224"/>
                    </a:moveTo>
                    <a:lnTo>
                      <a:pt x="370" y="23"/>
                    </a:lnTo>
                    <a:lnTo>
                      <a:pt x="356" y="0"/>
                    </a:lnTo>
                    <a:lnTo>
                      <a:pt x="0" y="205"/>
                    </a:lnTo>
                    <a:lnTo>
                      <a:pt x="24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490800" y="33508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70" h="110">
                    <a:moveTo>
                      <a:pt x="14" y="110"/>
                    </a:moveTo>
                    <a:lnTo>
                      <a:pt x="170" y="24"/>
                    </a:lnTo>
                    <a:lnTo>
                      <a:pt x="156" y="0"/>
                    </a:lnTo>
                    <a:lnTo>
                      <a:pt x="0" y="86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464160" y="3309840"/>
                <a:ext cx="72720" cy="70560"/>
              </a:xfrm>
              <a:custGeom>
                <a:avLst/>
                <a:gdLst/>
                <a:ahLst/>
                <a:rect l="l" t="t" r="r" b="b"/>
                <a:pathLst>
                  <a:path w="2303" h="2305">
                    <a:moveTo>
                      <a:pt x="1151" y="228"/>
                    </a:moveTo>
                    <a:lnTo>
                      <a:pt x="1104" y="229"/>
                    </a:lnTo>
                    <a:lnTo>
                      <a:pt x="1057" y="233"/>
                    </a:lnTo>
                    <a:lnTo>
                      <a:pt x="1011" y="239"/>
                    </a:lnTo>
                    <a:lnTo>
                      <a:pt x="965" y="247"/>
                    </a:lnTo>
                    <a:lnTo>
                      <a:pt x="920" y="257"/>
                    </a:lnTo>
                    <a:lnTo>
                      <a:pt x="876" y="270"/>
                    </a:lnTo>
                    <a:lnTo>
                      <a:pt x="834" y="285"/>
                    </a:lnTo>
                    <a:lnTo>
                      <a:pt x="792" y="301"/>
                    </a:lnTo>
                    <a:lnTo>
                      <a:pt x="751" y="319"/>
                    </a:lnTo>
                    <a:lnTo>
                      <a:pt x="710" y="340"/>
                    </a:lnTo>
                    <a:lnTo>
                      <a:pt x="672" y="362"/>
                    </a:lnTo>
                    <a:lnTo>
                      <a:pt x="634" y="386"/>
                    </a:lnTo>
                    <a:lnTo>
                      <a:pt x="599" y="411"/>
                    </a:lnTo>
                    <a:lnTo>
                      <a:pt x="563" y="439"/>
                    </a:lnTo>
                    <a:lnTo>
                      <a:pt x="529" y="468"/>
                    </a:lnTo>
                    <a:lnTo>
                      <a:pt x="497" y="499"/>
                    </a:lnTo>
                    <a:lnTo>
                      <a:pt x="467" y="531"/>
                    </a:lnTo>
                    <a:lnTo>
                      <a:pt x="438" y="565"/>
                    </a:lnTo>
                    <a:lnTo>
                      <a:pt x="411" y="599"/>
                    </a:lnTo>
                    <a:lnTo>
                      <a:pt x="384" y="636"/>
                    </a:lnTo>
                    <a:lnTo>
                      <a:pt x="360" y="673"/>
                    </a:lnTo>
                    <a:lnTo>
                      <a:pt x="338" y="712"/>
                    </a:lnTo>
                    <a:lnTo>
                      <a:pt x="317" y="751"/>
                    </a:lnTo>
                    <a:lnTo>
                      <a:pt x="299" y="793"/>
                    </a:lnTo>
                    <a:lnTo>
                      <a:pt x="283" y="834"/>
                    </a:lnTo>
                    <a:lnTo>
                      <a:pt x="268" y="877"/>
                    </a:lnTo>
                    <a:lnTo>
                      <a:pt x="255" y="922"/>
                    </a:lnTo>
                    <a:lnTo>
                      <a:pt x="245" y="966"/>
                    </a:lnTo>
                    <a:lnTo>
                      <a:pt x="237" y="1012"/>
                    </a:lnTo>
                    <a:lnTo>
                      <a:pt x="231" y="1058"/>
                    </a:lnTo>
                    <a:lnTo>
                      <a:pt x="228" y="1105"/>
                    </a:lnTo>
                    <a:lnTo>
                      <a:pt x="227" y="1152"/>
                    </a:lnTo>
                    <a:lnTo>
                      <a:pt x="228" y="1199"/>
                    </a:lnTo>
                    <a:lnTo>
                      <a:pt x="231" y="1247"/>
                    </a:lnTo>
                    <a:lnTo>
                      <a:pt x="237" y="1293"/>
                    </a:lnTo>
                    <a:lnTo>
                      <a:pt x="245" y="1339"/>
                    </a:lnTo>
                    <a:lnTo>
                      <a:pt x="255" y="1384"/>
                    </a:lnTo>
                    <a:lnTo>
                      <a:pt x="268" y="1428"/>
                    </a:lnTo>
                    <a:lnTo>
                      <a:pt x="283" y="1470"/>
                    </a:lnTo>
                    <a:lnTo>
                      <a:pt x="299" y="1513"/>
                    </a:lnTo>
                    <a:lnTo>
                      <a:pt x="317" y="1554"/>
                    </a:lnTo>
                    <a:lnTo>
                      <a:pt x="338" y="1593"/>
                    </a:lnTo>
                    <a:lnTo>
                      <a:pt x="360" y="1633"/>
                    </a:lnTo>
                    <a:lnTo>
                      <a:pt x="384" y="1671"/>
                    </a:lnTo>
                    <a:lnTo>
                      <a:pt x="411" y="1706"/>
                    </a:lnTo>
                    <a:lnTo>
                      <a:pt x="438" y="1741"/>
                    </a:lnTo>
                    <a:lnTo>
                      <a:pt x="467" y="1775"/>
                    </a:lnTo>
                    <a:lnTo>
                      <a:pt x="497" y="1807"/>
                    </a:lnTo>
                    <a:lnTo>
                      <a:pt x="529" y="1838"/>
                    </a:lnTo>
                    <a:lnTo>
                      <a:pt x="563" y="1866"/>
                    </a:lnTo>
                    <a:lnTo>
                      <a:pt x="599" y="1894"/>
                    </a:lnTo>
                    <a:lnTo>
                      <a:pt x="634" y="1921"/>
                    </a:lnTo>
                    <a:lnTo>
                      <a:pt x="672" y="1945"/>
                    </a:lnTo>
                    <a:lnTo>
                      <a:pt x="710" y="1967"/>
                    </a:lnTo>
                    <a:lnTo>
                      <a:pt x="751" y="1987"/>
                    </a:lnTo>
                    <a:lnTo>
                      <a:pt x="792" y="2006"/>
                    </a:lnTo>
                    <a:lnTo>
                      <a:pt x="834" y="2022"/>
                    </a:lnTo>
                    <a:lnTo>
                      <a:pt x="876" y="2037"/>
                    </a:lnTo>
                    <a:lnTo>
                      <a:pt x="920" y="2050"/>
                    </a:lnTo>
                    <a:lnTo>
                      <a:pt x="965" y="2060"/>
                    </a:lnTo>
                    <a:lnTo>
                      <a:pt x="1011" y="2068"/>
                    </a:lnTo>
                    <a:lnTo>
                      <a:pt x="1057" y="2074"/>
                    </a:lnTo>
                    <a:lnTo>
                      <a:pt x="1104" y="2077"/>
                    </a:lnTo>
                    <a:lnTo>
                      <a:pt x="1151" y="2078"/>
                    </a:lnTo>
                    <a:lnTo>
                      <a:pt x="1199" y="2077"/>
                    </a:lnTo>
                    <a:lnTo>
                      <a:pt x="1246" y="2074"/>
                    </a:lnTo>
                    <a:lnTo>
                      <a:pt x="1292" y="2068"/>
                    </a:lnTo>
                    <a:lnTo>
                      <a:pt x="1338" y="2060"/>
                    </a:lnTo>
                    <a:lnTo>
                      <a:pt x="1383" y="2050"/>
                    </a:lnTo>
                    <a:lnTo>
                      <a:pt x="1427" y="2037"/>
                    </a:lnTo>
                    <a:lnTo>
                      <a:pt x="1469" y="2022"/>
                    </a:lnTo>
                    <a:lnTo>
                      <a:pt x="1511" y="2006"/>
                    </a:lnTo>
                    <a:lnTo>
                      <a:pt x="1552" y="1987"/>
                    </a:lnTo>
                    <a:lnTo>
                      <a:pt x="1593" y="1967"/>
                    </a:lnTo>
                    <a:lnTo>
                      <a:pt x="1631" y="1945"/>
                    </a:lnTo>
                    <a:lnTo>
                      <a:pt x="1669" y="1921"/>
                    </a:lnTo>
                    <a:lnTo>
                      <a:pt x="1704" y="1894"/>
                    </a:lnTo>
                    <a:lnTo>
                      <a:pt x="1740" y="1866"/>
                    </a:lnTo>
                    <a:lnTo>
                      <a:pt x="1773" y="1838"/>
                    </a:lnTo>
                    <a:lnTo>
                      <a:pt x="1806" y="1807"/>
                    </a:lnTo>
                    <a:lnTo>
                      <a:pt x="1836" y="1775"/>
                    </a:lnTo>
                    <a:lnTo>
                      <a:pt x="1864" y="1741"/>
                    </a:lnTo>
                    <a:lnTo>
                      <a:pt x="1892" y="1706"/>
                    </a:lnTo>
                    <a:lnTo>
                      <a:pt x="1919" y="1671"/>
                    </a:lnTo>
                    <a:lnTo>
                      <a:pt x="1943" y="1633"/>
                    </a:lnTo>
                    <a:lnTo>
                      <a:pt x="1965" y="1593"/>
                    </a:lnTo>
                    <a:lnTo>
                      <a:pt x="1985" y="1554"/>
                    </a:lnTo>
                    <a:lnTo>
                      <a:pt x="2004" y="1513"/>
                    </a:lnTo>
                    <a:lnTo>
                      <a:pt x="2020" y="1470"/>
                    </a:lnTo>
                    <a:lnTo>
                      <a:pt x="2035" y="1428"/>
                    </a:lnTo>
                    <a:lnTo>
                      <a:pt x="2048" y="1384"/>
                    </a:lnTo>
                    <a:lnTo>
                      <a:pt x="2058" y="1339"/>
                    </a:lnTo>
                    <a:lnTo>
                      <a:pt x="2066" y="1293"/>
                    </a:lnTo>
                    <a:lnTo>
                      <a:pt x="2072" y="1247"/>
                    </a:lnTo>
                    <a:lnTo>
                      <a:pt x="2075" y="1199"/>
                    </a:lnTo>
                    <a:lnTo>
                      <a:pt x="2076" y="1152"/>
                    </a:lnTo>
                    <a:lnTo>
                      <a:pt x="2075" y="1105"/>
                    </a:lnTo>
                    <a:lnTo>
                      <a:pt x="2072" y="1058"/>
                    </a:lnTo>
                    <a:lnTo>
                      <a:pt x="2066" y="1012"/>
                    </a:lnTo>
                    <a:lnTo>
                      <a:pt x="2058" y="966"/>
                    </a:lnTo>
                    <a:lnTo>
                      <a:pt x="2048" y="922"/>
                    </a:lnTo>
                    <a:lnTo>
                      <a:pt x="2035" y="877"/>
                    </a:lnTo>
                    <a:lnTo>
                      <a:pt x="2020" y="834"/>
                    </a:lnTo>
                    <a:lnTo>
                      <a:pt x="2004" y="793"/>
                    </a:lnTo>
                    <a:lnTo>
                      <a:pt x="1985" y="751"/>
                    </a:lnTo>
                    <a:lnTo>
                      <a:pt x="1965" y="712"/>
                    </a:lnTo>
                    <a:lnTo>
                      <a:pt x="1943" y="673"/>
                    </a:lnTo>
                    <a:lnTo>
                      <a:pt x="1919" y="636"/>
                    </a:lnTo>
                    <a:lnTo>
                      <a:pt x="1892" y="599"/>
                    </a:lnTo>
                    <a:lnTo>
                      <a:pt x="1864" y="565"/>
                    </a:lnTo>
                    <a:lnTo>
                      <a:pt x="1836" y="531"/>
                    </a:lnTo>
                    <a:lnTo>
                      <a:pt x="1806" y="499"/>
                    </a:lnTo>
                    <a:lnTo>
                      <a:pt x="1773" y="468"/>
                    </a:lnTo>
                    <a:lnTo>
                      <a:pt x="1740" y="439"/>
                    </a:lnTo>
                    <a:lnTo>
                      <a:pt x="1704" y="411"/>
                    </a:lnTo>
                    <a:lnTo>
                      <a:pt x="1669" y="386"/>
                    </a:lnTo>
                    <a:lnTo>
                      <a:pt x="1631" y="362"/>
                    </a:lnTo>
                    <a:lnTo>
                      <a:pt x="1593" y="340"/>
                    </a:lnTo>
                    <a:lnTo>
                      <a:pt x="1552" y="319"/>
                    </a:lnTo>
                    <a:lnTo>
                      <a:pt x="1511" y="301"/>
                    </a:lnTo>
                    <a:lnTo>
                      <a:pt x="1469" y="285"/>
                    </a:lnTo>
                    <a:lnTo>
                      <a:pt x="1427" y="270"/>
                    </a:lnTo>
                    <a:lnTo>
                      <a:pt x="1383" y="257"/>
                    </a:lnTo>
                    <a:lnTo>
                      <a:pt x="1338" y="247"/>
                    </a:lnTo>
                    <a:lnTo>
                      <a:pt x="1292" y="239"/>
                    </a:lnTo>
                    <a:lnTo>
                      <a:pt x="1246" y="233"/>
                    </a:lnTo>
                    <a:lnTo>
                      <a:pt x="1199" y="229"/>
                    </a:lnTo>
                    <a:lnTo>
                      <a:pt x="1151" y="228"/>
                    </a:lnTo>
                    <a:lnTo>
                      <a:pt x="1151" y="0"/>
                    </a:lnTo>
                    <a:lnTo>
                      <a:pt x="1210" y="1"/>
                    </a:lnTo>
                    <a:lnTo>
                      <a:pt x="1269" y="6"/>
                    </a:lnTo>
                    <a:lnTo>
                      <a:pt x="1327" y="14"/>
                    </a:lnTo>
                    <a:lnTo>
                      <a:pt x="1383" y="23"/>
                    </a:lnTo>
                    <a:lnTo>
                      <a:pt x="1439" y="37"/>
                    </a:lnTo>
                    <a:lnTo>
                      <a:pt x="1494" y="52"/>
                    </a:lnTo>
                    <a:lnTo>
                      <a:pt x="1548" y="70"/>
                    </a:lnTo>
                    <a:lnTo>
                      <a:pt x="1600" y="91"/>
                    </a:lnTo>
                    <a:lnTo>
                      <a:pt x="1650" y="114"/>
                    </a:lnTo>
                    <a:lnTo>
                      <a:pt x="1701" y="140"/>
                    </a:lnTo>
                    <a:lnTo>
                      <a:pt x="1748" y="167"/>
                    </a:lnTo>
                    <a:lnTo>
                      <a:pt x="1795" y="197"/>
                    </a:lnTo>
                    <a:lnTo>
                      <a:pt x="1840" y="229"/>
                    </a:lnTo>
                    <a:lnTo>
                      <a:pt x="1884" y="263"/>
                    </a:lnTo>
                    <a:lnTo>
                      <a:pt x="1926" y="300"/>
                    </a:lnTo>
                    <a:lnTo>
                      <a:pt x="1966" y="338"/>
                    </a:lnTo>
                    <a:lnTo>
                      <a:pt x="2004" y="378"/>
                    </a:lnTo>
                    <a:lnTo>
                      <a:pt x="2041" y="420"/>
                    </a:lnTo>
                    <a:lnTo>
                      <a:pt x="2074" y="463"/>
                    </a:lnTo>
                    <a:lnTo>
                      <a:pt x="2106" y="508"/>
                    </a:lnTo>
                    <a:lnTo>
                      <a:pt x="2136" y="555"/>
                    </a:lnTo>
                    <a:lnTo>
                      <a:pt x="2164" y="603"/>
                    </a:lnTo>
                    <a:lnTo>
                      <a:pt x="2189" y="653"/>
                    </a:lnTo>
                    <a:lnTo>
                      <a:pt x="2212" y="704"/>
                    </a:lnTo>
                    <a:lnTo>
                      <a:pt x="2233" y="756"/>
                    </a:lnTo>
                    <a:lnTo>
                      <a:pt x="2251" y="810"/>
                    </a:lnTo>
                    <a:lnTo>
                      <a:pt x="2266" y="864"/>
                    </a:lnTo>
                    <a:lnTo>
                      <a:pt x="2280" y="921"/>
                    </a:lnTo>
                    <a:lnTo>
                      <a:pt x="2289" y="977"/>
                    </a:lnTo>
                    <a:lnTo>
                      <a:pt x="2298" y="1035"/>
                    </a:lnTo>
                    <a:lnTo>
                      <a:pt x="2302" y="1093"/>
                    </a:lnTo>
                    <a:lnTo>
                      <a:pt x="2303" y="1152"/>
                    </a:lnTo>
                    <a:lnTo>
                      <a:pt x="2302" y="1212"/>
                    </a:lnTo>
                    <a:lnTo>
                      <a:pt x="2298" y="1270"/>
                    </a:lnTo>
                    <a:lnTo>
                      <a:pt x="2289" y="1327"/>
                    </a:lnTo>
                    <a:lnTo>
                      <a:pt x="2280" y="1385"/>
                    </a:lnTo>
                    <a:lnTo>
                      <a:pt x="2266" y="1440"/>
                    </a:lnTo>
                    <a:lnTo>
                      <a:pt x="2251" y="1495"/>
                    </a:lnTo>
                    <a:lnTo>
                      <a:pt x="2233" y="1548"/>
                    </a:lnTo>
                    <a:lnTo>
                      <a:pt x="2212" y="1601"/>
                    </a:lnTo>
                    <a:lnTo>
                      <a:pt x="2189" y="1652"/>
                    </a:lnTo>
                    <a:lnTo>
                      <a:pt x="2164" y="1702"/>
                    </a:lnTo>
                    <a:lnTo>
                      <a:pt x="2136" y="1750"/>
                    </a:lnTo>
                    <a:lnTo>
                      <a:pt x="2106" y="1797"/>
                    </a:lnTo>
                    <a:lnTo>
                      <a:pt x="2074" y="1842"/>
                    </a:lnTo>
                    <a:lnTo>
                      <a:pt x="2041" y="1886"/>
                    </a:lnTo>
                    <a:lnTo>
                      <a:pt x="2004" y="1927"/>
                    </a:lnTo>
                    <a:lnTo>
                      <a:pt x="1966" y="1968"/>
                    </a:lnTo>
                    <a:lnTo>
                      <a:pt x="1926" y="2006"/>
                    </a:lnTo>
                    <a:lnTo>
                      <a:pt x="1884" y="2042"/>
                    </a:lnTo>
                    <a:lnTo>
                      <a:pt x="1840" y="2076"/>
                    </a:lnTo>
                    <a:lnTo>
                      <a:pt x="1795" y="2108"/>
                    </a:lnTo>
                    <a:lnTo>
                      <a:pt x="1748" y="2138"/>
                    </a:lnTo>
                    <a:lnTo>
                      <a:pt x="1701" y="2166"/>
                    </a:lnTo>
                    <a:lnTo>
                      <a:pt x="1650" y="2191"/>
                    </a:lnTo>
                    <a:lnTo>
                      <a:pt x="1600" y="2214"/>
                    </a:lnTo>
                    <a:lnTo>
                      <a:pt x="1548" y="2235"/>
                    </a:lnTo>
                    <a:lnTo>
                      <a:pt x="1494" y="2254"/>
                    </a:lnTo>
                    <a:lnTo>
                      <a:pt x="1439" y="2268"/>
                    </a:lnTo>
                    <a:lnTo>
                      <a:pt x="1383" y="2282"/>
                    </a:lnTo>
                    <a:lnTo>
                      <a:pt x="1327" y="2292"/>
                    </a:lnTo>
                    <a:lnTo>
                      <a:pt x="1269" y="2300"/>
                    </a:lnTo>
                    <a:lnTo>
                      <a:pt x="1210" y="2304"/>
                    </a:lnTo>
                    <a:lnTo>
                      <a:pt x="1151" y="2305"/>
                    </a:lnTo>
                    <a:lnTo>
                      <a:pt x="1093" y="2304"/>
                    </a:lnTo>
                    <a:lnTo>
                      <a:pt x="1034" y="2300"/>
                    </a:lnTo>
                    <a:lnTo>
                      <a:pt x="976" y="2292"/>
                    </a:lnTo>
                    <a:lnTo>
                      <a:pt x="920" y="2282"/>
                    </a:lnTo>
                    <a:lnTo>
                      <a:pt x="863" y="2268"/>
                    </a:lnTo>
                    <a:lnTo>
                      <a:pt x="809" y="2254"/>
                    </a:lnTo>
                    <a:lnTo>
                      <a:pt x="755" y="2235"/>
                    </a:lnTo>
                    <a:lnTo>
                      <a:pt x="703" y="2214"/>
                    </a:lnTo>
                    <a:lnTo>
                      <a:pt x="653" y="2191"/>
                    </a:lnTo>
                    <a:lnTo>
                      <a:pt x="602" y="2166"/>
                    </a:lnTo>
                    <a:lnTo>
                      <a:pt x="555" y="2138"/>
                    </a:lnTo>
                    <a:lnTo>
                      <a:pt x="508" y="2108"/>
                    </a:lnTo>
                    <a:lnTo>
                      <a:pt x="463" y="2076"/>
                    </a:lnTo>
                    <a:lnTo>
                      <a:pt x="419" y="2042"/>
                    </a:lnTo>
                    <a:lnTo>
                      <a:pt x="377" y="2006"/>
                    </a:lnTo>
                    <a:lnTo>
                      <a:pt x="337" y="1968"/>
                    </a:lnTo>
                    <a:lnTo>
                      <a:pt x="299" y="1927"/>
                    </a:lnTo>
                    <a:lnTo>
                      <a:pt x="262" y="1886"/>
                    </a:lnTo>
                    <a:lnTo>
                      <a:pt x="229" y="1842"/>
                    </a:lnTo>
                    <a:lnTo>
                      <a:pt x="197" y="1797"/>
                    </a:lnTo>
                    <a:lnTo>
                      <a:pt x="167" y="1750"/>
                    </a:lnTo>
                    <a:lnTo>
                      <a:pt x="139" y="1702"/>
                    </a:lnTo>
                    <a:lnTo>
                      <a:pt x="114" y="1652"/>
                    </a:lnTo>
                    <a:lnTo>
                      <a:pt x="91" y="1601"/>
                    </a:lnTo>
                    <a:lnTo>
                      <a:pt x="70" y="1548"/>
                    </a:lnTo>
                    <a:lnTo>
                      <a:pt x="51" y="1495"/>
                    </a:lnTo>
                    <a:lnTo>
                      <a:pt x="36" y="1440"/>
                    </a:lnTo>
                    <a:lnTo>
                      <a:pt x="23" y="1385"/>
                    </a:lnTo>
                    <a:lnTo>
                      <a:pt x="13" y="1327"/>
                    </a:lnTo>
                    <a:lnTo>
                      <a:pt x="5" y="1270"/>
                    </a:lnTo>
                    <a:lnTo>
                      <a:pt x="1" y="1212"/>
                    </a:lnTo>
                    <a:lnTo>
                      <a:pt x="0" y="1152"/>
                    </a:lnTo>
                    <a:lnTo>
                      <a:pt x="1" y="1093"/>
                    </a:lnTo>
                    <a:lnTo>
                      <a:pt x="5" y="1035"/>
                    </a:lnTo>
                    <a:lnTo>
                      <a:pt x="13" y="977"/>
                    </a:lnTo>
                    <a:lnTo>
                      <a:pt x="23" y="921"/>
                    </a:lnTo>
                    <a:lnTo>
                      <a:pt x="36" y="864"/>
                    </a:lnTo>
                    <a:lnTo>
                      <a:pt x="51" y="810"/>
                    </a:lnTo>
                    <a:lnTo>
                      <a:pt x="70" y="756"/>
                    </a:lnTo>
                    <a:lnTo>
                      <a:pt x="91" y="704"/>
                    </a:lnTo>
                    <a:lnTo>
                      <a:pt x="114" y="653"/>
                    </a:lnTo>
                    <a:lnTo>
                      <a:pt x="139" y="603"/>
                    </a:lnTo>
                    <a:lnTo>
                      <a:pt x="167" y="555"/>
                    </a:lnTo>
                    <a:lnTo>
                      <a:pt x="197" y="508"/>
                    </a:lnTo>
                    <a:lnTo>
                      <a:pt x="229" y="463"/>
                    </a:lnTo>
                    <a:lnTo>
                      <a:pt x="262" y="420"/>
                    </a:lnTo>
                    <a:lnTo>
                      <a:pt x="299" y="378"/>
                    </a:lnTo>
                    <a:lnTo>
                      <a:pt x="337" y="338"/>
                    </a:lnTo>
                    <a:lnTo>
                      <a:pt x="377" y="300"/>
                    </a:lnTo>
                    <a:lnTo>
                      <a:pt x="419" y="263"/>
                    </a:lnTo>
                    <a:lnTo>
                      <a:pt x="463" y="229"/>
                    </a:lnTo>
                    <a:lnTo>
                      <a:pt x="508" y="197"/>
                    </a:lnTo>
                    <a:lnTo>
                      <a:pt x="555" y="167"/>
                    </a:lnTo>
                    <a:lnTo>
                      <a:pt x="602" y="140"/>
                    </a:lnTo>
                    <a:lnTo>
                      <a:pt x="653" y="114"/>
                    </a:lnTo>
                    <a:lnTo>
                      <a:pt x="703" y="91"/>
                    </a:lnTo>
                    <a:lnTo>
                      <a:pt x="755" y="70"/>
                    </a:lnTo>
                    <a:lnTo>
                      <a:pt x="809" y="52"/>
                    </a:lnTo>
                    <a:lnTo>
                      <a:pt x="863" y="37"/>
                    </a:lnTo>
                    <a:lnTo>
                      <a:pt x="920" y="23"/>
                    </a:lnTo>
                    <a:lnTo>
                      <a:pt x="976" y="14"/>
                    </a:lnTo>
                    <a:lnTo>
                      <a:pt x="1034" y="6"/>
                    </a:lnTo>
                    <a:lnTo>
                      <a:pt x="1093" y="1"/>
                    </a:lnTo>
                    <a:lnTo>
                      <a:pt x="1151" y="0"/>
                    </a:lnTo>
                    <a:lnTo>
                      <a:pt x="1151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01960" y="3350520"/>
                <a:ext cx="15840" cy="21240"/>
              </a:xfrm>
              <a:custGeom>
                <a:avLst/>
                <a:gdLst/>
                <a:ahLst/>
                <a:rect l="l" t="t" r="r" b="b"/>
                <a:pathLst>
                  <a:path w="511" h="702">
                    <a:moveTo>
                      <a:pt x="0" y="82"/>
                    </a:moveTo>
                    <a:lnTo>
                      <a:pt x="345" y="702"/>
                    </a:lnTo>
                    <a:lnTo>
                      <a:pt x="511" y="598"/>
                    </a:lnTo>
                    <a:lnTo>
                      <a:pt x="145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83240" y="3318840"/>
                <a:ext cx="15480" cy="21240"/>
              </a:xfrm>
              <a:custGeom>
                <a:avLst/>
                <a:gdLst/>
                <a:ahLst/>
                <a:rect l="l" t="t" r="r" b="b"/>
                <a:pathLst>
                  <a:path w="492" h="705">
                    <a:moveTo>
                      <a:pt x="144" y="0"/>
                    </a:moveTo>
                    <a:lnTo>
                      <a:pt x="492" y="610"/>
                    </a:lnTo>
                    <a:lnTo>
                      <a:pt x="487" y="612"/>
                    </a:lnTo>
                    <a:lnTo>
                      <a:pt x="475" y="617"/>
                    </a:lnTo>
                    <a:lnTo>
                      <a:pt x="456" y="625"/>
                    </a:lnTo>
                    <a:lnTo>
                      <a:pt x="434" y="635"/>
                    </a:lnTo>
                    <a:lnTo>
                      <a:pt x="411" y="647"/>
                    </a:lnTo>
                    <a:lnTo>
                      <a:pt x="391" y="660"/>
                    </a:lnTo>
                    <a:lnTo>
                      <a:pt x="373" y="674"/>
                    </a:lnTo>
                    <a:lnTo>
                      <a:pt x="363" y="688"/>
                    </a:lnTo>
                    <a:lnTo>
                      <a:pt x="354" y="704"/>
                    </a:lnTo>
                    <a:lnTo>
                      <a:pt x="351" y="705"/>
                    </a:lnTo>
                    <a:lnTo>
                      <a:pt x="351" y="700"/>
                    </a:lnTo>
                    <a:lnTo>
                      <a:pt x="353" y="696"/>
                    </a:lnTo>
                    <a:lnTo>
                      <a:pt x="0" y="81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71360" y="3321360"/>
                <a:ext cx="41760" cy="51840"/>
              </a:xfrm>
              <a:custGeom>
                <a:avLst/>
                <a:gdLst/>
                <a:ahLst/>
                <a:rect l="l" t="t" r="r" b="b"/>
                <a:pathLst>
                  <a:path w="1330" h="1698">
                    <a:moveTo>
                      <a:pt x="982" y="1008"/>
                    </a:moveTo>
                    <a:lnTo>
                      <a:pt x="958" y="1021"/>
                    </a:lnTo>
                    <a:lnTo>
                      <a:pt x="1293" y="1607"/>
                    </a:lnTo>
                    <a:lnTo>
                      <a:pt x="1272" y="1616"/>
                    </a:lnTo>
                    <a:lnTo>
                      <a:pt x="1250" y="1624"/>
                    </a:lnTo>
                    <a:lnTo>
                      <a:pt x="1229" y="1632"/>
                    </a:lnTo>
                    <a:lnTo>
                      <a:pt x="1208" y="1639"/>
                    </a:lnTo>
                    <a:lnTo>
                      <a:pt x="1186" y="1646"/>
                    </a:lnTo>
                    <a:lnTo>
                      <a:pt x="1163" y="1652"/>
                    </a:lnTo>
                    <a:lnTo>
                      <a:pt x="1141" y="1657"/>
                    </a:lnTo>
                    <a:lnTo>
                      <a:pt x="1118" y="1662"/>
                    </a:lnTo>
                    <a:lnTo>
                      <a:pt x="1095" y="1667"/>
                    </a:lnTo>
                    <a:lnTo>
                      <a:pt x="1072" y="1671"/>
                    </a:lnTo>
                    <a:lnTo>
                      <a:pt x="1049" y="1674"/>
                    </a:lnTo>
                    <a:lnTo>
                      <a:pt x="1026" y="1677"/>
                    </a:lnTo>
                    <a:lnTo>
                      <a:pt x="1001" y="1679"/>
                    </a:lnTo>
                    <a:lnTo>
                      <a:pt x="978" y="1680"/>
                    </a:lnTo>
                    <a:lnTo>
                      <a:pt x="954" y="1682"/>
                    </a:lnTo>
                    <a:lnTo>
                      <a:pt x="930" y="1682"/>
                    </a:lnTo>
                    <a:lnTo>
                      <a:pt x="883" y="1680"/>
                    </a:lnTo>
                    <a:lnTo>
                      <a:pt x="837" y="1677"/>
                    </a:lnTo>
                    <a:lnTo>
                      <a:pt x="791" y="1671"/>
                    </a:lnTo>
                    <a:lnTo>
                      <a:pt x="746" y="1663"/>
                    </a:lnTo>
                    <a:lnTo>
                      <a:pt x="702" y="1653"/>
                    </a:lnTo>
                    <a:lnTo>
                      <a:pt x="658" y="1640"/>
                    </a:lnTo>
                    <a:lnTo>
                      <a:pt x="615" y="1626"/>
                    </a:lnTo>
                    <a:lnTo>
                      <a:pt x="574" y="1610"/>
                    </a:lnTo>
                    <a:lnTo>
                      <a:pt x="534" y="1592"/>
                    </a:lnTo>
                    <a:lnTo>
                      <a:pt x="495" y="1571"/>
                    </a:lnTo>
                    <a:lnTo>
                      <a:pt x="456" y="1549"/>
                    </a:lnTo>
                    <a:lnTo>
                      <a:pt x="418" y="1526"/>
                    </a:lnTo>
                    <a:lnTo>
                      <a:pt x="383" y="1500"/>
                    </a:lnTo>
                    <a:lnTo>
                      <a:pt x="348" y="1473"/>
                    </a:lnTo>
                    <a:lnTo>
                      <a:pt x="315" y="1444"/>
                    </a:lnTo>
                    <a:lnTo>
                      <a:pt x="284" y="1414"/>
                    </a:lnTo>
                    <a:lnTo>
                      <a:pt x="253" y="1382"/>
                    </a:lnTo>
                    <a:lnTo>
                      <a:pt x="224" y="1349"/>
                    </a:lnTo>
                    <a:lnTo>
                      <a:pt x="197" y="1314"/>
                    </a:lnTo>
                    <a:lnTo>
                      <a:pt x="172" y="1278"/>
                    </a:lnTo>
                    <a:lnTo>
                      <a:pt x="148" y="1242"/>
                    </a:lnTo>
                    <a:lnTo>
                      <a:pt x="126" y="1204"/>
                    </a:lnTo>
                    <a:lnTo>
                      <a:pt x="105" y="1163"/>
                    </a:lnTo>
                    <a:lnTo>
                      <a:pt x="87" y="1123"/>
                    </a:lnTo>
                    <a:lnTo>
                      <a:pt x="71" y="1081"/>
                    </a:lnTo>
                    <a:lnTo>
                      <a:pt x="57" y="1039"/>
                    </a:lnTo>
                    <a:lnTo>
                      <a:pt x="44" y="996"/>
                    </a:lnTo>
                    <a:lnTo>
                      <a:pt x="34" y="951"/>
                    </a:lnTo>
                    <a:lnTo>
                      <a:pt x="26" y="906"/>
                    </a:lnTo>
                    <a:lnTo>
                      <a:pt x="20" y="860"/>
                    </a:lnTo>
                    <a:lnTo>
                      <a:pt x="16" y="814"/>
                    </a:lnTo>
                    <a:lnTo>
                      <a:pt x="15" y="767"/>
                    </a:lnTo>
                    <a:lnTo>
                      <a:pt x="16" y="710"/>
                    </a:lnTo>
                    <a:lnTo>
                      <a:pt x="22" y="655"/>
                    </a:lnTo>
                    <a:lnTo>
                      <a:pt x="30" y="601"/>
                    </a:lnTo>
                    <a:lnTo>
                      <a:pt x="42" y="548"/>
                    </a:lnTo>
                    <a:lnTo>
                      <a:pt x="57" y="496"/>
                    </a:lnTo>
                    <a:lnTo>
                      <a:pt x="74" y="445"/>
                    </a:lnTo>
                    <a:lnTo>
                      <a:pt x="95" y="396"/>
                    </a:lnTo>
                    <a:lnTo>
                      <a:pt x="118" y="348"/>
                    </a:lnTo>
                    <a:lnTo>
                      <a:pt x="143" y="301"/>
                    </a:lnTo>
                    <a:lnTo>
                      <a:pt x="172" y="257"/>
                    </a:lnTo>
                    <a:lnTo>
                      <a:pt x="202" y="214"/>
                    </a:lnTo>
                    <a:lnTo>
                      <a:pt x="235" y="174"/>
                    </a:lnTo>
                    <a:lnTo>
                      <a:pt x="271" y="134"/>
                    </a:lnTo>
                    <a:lnTo>
                      <a:pt x="308" y="98"/>
                    </a:lnTo>
                    <a:lnTo>
                      <a:pt x="348" y="63"/>
                    </a:lnTo>
                    <a:lnTo>
                      <a:pt x="390" y="31"/>
                    </a:lnTo>
                    <a:lnTo>
                      <a:pt x="727" y="615"/>
                    </a:lnTo>
                    <a:lnTo>
                      <a:pt x="751" y="601"/>
                    </a:lnTo>
                    <a:lnTo>
                      <a:pt x="406" y="0"/>
                    </a:lnTo>
                    <a:lnTo>
                      <a:pt x="389" y="12"/>
                    </a:lnTo>
                    <a:lnTo>
                      <a:pt x="371" y="25"/>
                    </a:lnTo>
                    <a:lnTo>
                      <a:pt x="354" y="38"/>
                    </a:lnTo>
                    <a:lnTo>
                      <a:pt x="337" y="52"/>
                    </a:lnTo>
                    <a:lnTo>
                      <a:pt x="321" y="65"/>
                    </a:lnTo>
                    <a:lnTo>
                      <a:pt x="304" y="80"/>
                    </a:lnTo>
                    <a:lnTo>
                      <a:pt x="288" y="95"/>
                    </a:lnTo>
                    <a:lnTo>
                      <a:pt x="272" y="110"/>
                    </a:lnTo>
                    <a:lnTo>
                      <a:pt x="240" y="144"/>
                    </a:lnTo>
                    <a:lnTo>
                      <a:pt x="210" y="179"/>
                    </a:lnTo>
                    <a:lnTo>
                      <a:pt x="182" y="215"/>
                    </a:lnTo>
                    <a:lnTo>
                      <a:pt x="156" y="253"/>
                    </a:lnTo>
                    <a:lnTo>
                      <a:pt x="132" y="291"/>
                    </a:lnTo>
                    <a:lnTo>
                      <a:pt x="110" y="330"/>
                    </a:lnTo>
                    <a:lnTo>
                      <a:pt x="89" y="371"/>
                    </a:lnTo>
                    <a:lnTo>
                      <a:pt x="71" y="412"/>
                    </a:lnTo>
                    <a:lnTo>
                      <a:pt x="54" y="455"/>
                    </a:lnTo>
                    <a:lnTo>
                      <a:pt x="41" y="497"/>
                    </a:lnTo>
                    <a:lnTo>
                      <a:pt x="28" y="541"/>
                    </a:lnTo>
                    <a:lnTo>
                      <a:pt x="19" y="585"/>
                    </a:lnTo>
                    <a:lnTo>
                      <a:pt x="11" y="630"/>
                    </a:lnTo>
                    <a:lnTo>
                      <a:pt x="5" y="675"/>
                    </a:lnTo>
                    <a:lnTo>
                      <a:pt x="2" y="721"/>
                    </a:lnTo>
                    <a:lnTo>
                      <a:pt x="0" y="767"/>
                    </a:lnTo>
                    <a:lnTo>
                      <a:pt x="2" y="813"/>
                    </a:lnTo>
                    <a:lnTo>
                      <a:pt x="5" y="859"/>
                    </a:lnTo>
                    <a:lnTo>
                      <a:pt x="11" y="905"/>
                    </a:lnTo>
                    <a:lnTo>
                      <a:pt x="19" y="950"/>
                    </a:lnTo>
                    <a:lnTo>
                      <a:pt x="28" y="995"/>
                    </a:lnTo>
                    <a:lnTo>
                      <a:pt x="41" y="1039"/>
                    </a:lnTo>
                    <a:lnTo>
                      <a:pt x="54" y="1081"/>
                    </a:lnTo>
                    <a:lnTo>
                      <a:pt x="71" y="1124"/>
                    </a:lnTo>
                    <a:lnTo>
                      <a:pt x="89" y="1165"/>
                    </a:lnTo>
                    <a:lnTo>
                      <a:pt x="110" y="1206"/>
                    </a:lnTo>
                    <a:lnTo>
                      <a:pt x="132" y="1245"/>
                    </a:lnTo>
                    <a:lnTo>
                      <a:pt x="156" y="1283"/>
                    </a:lnTo>
                    <a:lnTo>
                      <a:pt x="182" y="1321"/>
                    </a:lnTo>
                    <a:lnTo>
                      <a:pt x="210" y="1357"/>
                    </a:lnTo>
                    <a:lnTo>
                      <a:pt x="240" y="1392"/>
                    </a:lnTo>
                    <a:lnTo>
                      <a:pt x="272" y="1426"/>
                    </a:lnTo>
                    <a:lnTo>
                      <a:pt x="306" y="1458"/>
                    </a:lnTo>
                    <a:lnTo>
                      <a:pt x="341" y="1488"/>
                    </a:lnTo>
                    <a:lnTo>
                      <a:pt x="377" y="1516"/>
                    </a:lnTo>
                    <a:lnTo>
                      <a:pt x="415" y="1542"/>
                    </a:lnTo>
                    <a:lnTo>
                      <a:pt x="453" y="1566"/>
                    </a:lnTo>
                    <a:lnTo>
                      <a:pt x="492" y="1588"/>
                    </a:lnTo>
                    <a:lnTo>
                      <a:pt x="533" y="1609"/>
                    </a:lnTo>
                    <a:lnTo>
                      <a:pt x="574" y="1627"/>
                    </a:lnTo>
                    <a:lnTo>
                      <a:pt x="617" y="1644"/>
                    </a:lnTo>
                    <a:lnTo>
                      <a:pt x="659" y="1657"/>
                    </a:lnTo>
                    <a:lnTo>
                      <a:pt x="703" y="1670"/>
                    </a:lnTo>
                    <a:lnTo>
                      <a:pt x="748" y="1679"/>
                    </a:lnTo>
                    <a:lnTo>
                      <a:pt x="793" y="1687"/>
                    </a:lnTo>
                    <a:lnTo>
                      <a:pt x="838" y="1693"/>
                    </a:lnTo>
                    <a:lnTo>
                      <a:pt x="884" y="1697"/>
                    </a:lnTo>
                    <a:lnTo>
                      <a:pt x="930" y="1698"/>
                    </a:lnTo>
                    <a:lnTo>
                      <a:pt x="956" y="1698"/>
                    </a:lnTo>
                    <a:lnTo>
                      <a:pt x="983" y="1697"/>
                    </a:lnTo>
                    <a:lnTo>
                      <a:pt x="1009" y="1694"/>
                    </a:lnTo>
                    <a:lnTo>
                      <a:pt x="1036" y="1692"/>
                    </a:lnTo>
                    <a:lnTo>
                      <a:pt x="1061" y="1688"/>
                    </a:lnTo>
                    <a:lnTo>
                      <a:pt x="1088" y="1684"/>
                    </a:lnTo>
                    <a:lnTo>
                      <a:pt x="1113" y="1679"/>
                    </a:lnTo>
                    <a:lnTo>
                      <a:pt x="1138" y="1675"/>
                    </a:lnTo>
                    <a:lnTo>
                      <a:pt x="1163" y="1668"/>
                    </a:lnTo>
                    <a:lnTo>
                      <a:pt x="1188" y="1661"/>
                    </a:lnTo>
                    <a:lnTo>
                      <a:pt x="1212" y="1654"/>
                    </a:lnTo>
                    <a:lnTo>
                      <a:pt x="1236" y="1646"/>
                    </a:lnTo>
                    <a:lnTo>
                      <a:pt x="1260" y="1637"/>
                    </a:lnTo>
                    <a:lnTo>
                      <a:pt x="1284" y="1627"/>
                    </a:lnTo>
                    <a:lnTo>
                      <a:pt x="1307" y="1617"/>
                    </a:lnTo>
                    <a:lnTo>
                      <a:pt x="1330" y="1607"/>
                    </a:lnTo>
                    <a:lnTo>
                      <a:pt x="982" y="10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56240" y="3302280"/>
                <a:ext cx="88920" cy="80640"/>
              </a:xfrm>
              <a:custGeom>
                <a:avLst/>
                <a:gdLst/>
                <a:ahLst/>
                <a:rect l="l" t="t" r="r" b="b"/>
                <a:pathLst>
                  <a:path w="2814" h="2640">
                    <a:moveTo>
                      <a:pt x="2026" y="2640"/>
                    </a:moveTo>
                    <a:lnTo>
                      <a:pt x="2169" y="2578"/>
                    </a:lnTo>
                    <a:lnTo>
                      <a:pt x="2130" y="2441"/>
                    </a:lnTo>
                    <a:lnTo>
                      <a:pt x="2245" y="2360"/>
                    </a:lnTo>
                    <a:lnTo>
                      <a:pt x="2359" y="2420"/>
                    </a:lnTo>
                    <a:lnTo>
                      <a:pt x="2450" y="2329"/>
                    </a:lnTo>
                    <a:lnTo>
                      <a:pt x="2394" y="2214"/>
                    </a:lnTo>
                    <a:lnTo>
                      <a:pt x="2477" y="2107"/>
                    </a:lnTo>
                    <a:lnTo>
                      <a:pt x="2606" y="2136"/>
                    </a:lnTo>
                    <a:lnTo>
                      <a:pt x="2669" y="2026"/>
                    </a:lnTo>
                    <a:lnTo>
                      <a:pt x="2562" y="1949"/>
                    </a:lnTo>
                    <a:lnTo>
                      <a:pt x="2616" y="1819"/>
                    </a:lnTo>
                    <a:lnTo>
                      <a:pt x="2749" y="1825"/>
                    </a:lnTo>
                    <a:lnTo>
                      <a:pt x="2791" y="1693"/>
                    </a:lnTo>
                    <a:lnTo>
                      <a:pt x="2667" y="1633"/>
                    </a:lnTo>
                    <a:lnTo>
                      <a:pt x="2689" y="1484"/>
                    </a:lnTo>
                    <a:lnTo>
                      <a:pt x="2814" y="1444"/>
                    </a:lnTo>
                    <a:lnTo>
                      <a:pt x="2813" y="1323"/>
                    </a:lnTo>
                    <a:lnTo>
                      <a:pt x="2681" y="1296"/>
                    </a:lnTo>
                    <a:lnTo>
                      <a:pt x="2668" y="1158"/>
                    </a:lnTo>
                    <a:lnTo>
                      <a:pt x="2786" y="1079"/>
                    </a:lnTo>
                    <a:lnTo>
                      <a:pt x="2745" y="960"/>
                    </a:lnTo>
                    <a:lnTo>
                      <a:pt x="2613" y="966"/>
                    </a:lnTo>
                    <a:lnTo>
                      <a:pt x="2556" y="830"/>
                    </a:lnTo>
                    <a:lnTo>
                      <a:pt x="2647" y="738"/>
                    </a:lnTo>
                    <a:lnTo>
                      <a:pt x="2585" y="637"/>
                    </a:lnTo>
                    <a:lnTo>
                      <a:pt x="2454" y="663"/>
                    </a:lnTo>
                    <a:lnTo>
                      <a:pt x="2371" y="551"/>
                    </a:lnTo>
                    <a:lnTo>
                      <a:pt x="2427" y="436"/>
                    </a:lnTo>
                    <a:lnTo>
                      <a:pt x="2339" y="354"/>
                    </a:lnTo>
                    <a:lnTo>
                      <a:pt x="2223" y="415"/>
                    </a:lnTo>
                    <a:lnTo>
                      <a:pt x="2100" y="328"/>
                    </a:lnTo>
                    <a:lnTo>
                      <a:pt x="2135" y="208"/>
                    </a:lnTo>
                    <a:lnTo>
                      <a:pt x="2040" y="154"/>
                    </a:lnTo>
                    <a:lnTo>
                      <a:pt x="1939" y="237"/>
                    </a:lnTo>
                    <a:lnTo>
                      <a:pt x="1808" y="195"/>
                    </a:lnTo>
                    <a:lnTo>
                      <a:pt x="1802" y="59"/>
                    </a:lnTo>
                    <a:lnTo>
                      <a:pt x="1694" y="32"/>
                    </a:lnTo>
                    <a:lnTo>
                      <a:pt x="1619" y="147"/>
                    </a:lnTo>
                    <a:lnTo>
                      <a:pt x="1470" y="127"/>
                    </a:lnTo>
                    <a:lnTo>
                      <a:pt x="1444" y="0"/>
                    </a:lnTo>
                    <a:lnTo>
                      <a:pt x="1319" y="5"/>
                    </a:lnTo>
                    <a:lnTo>
                      <a:pt x="1277" y="132"/>
                    </a:lnTo>
                    <a:lnTo>
                      <a:pt x="1150" y="150"/>
                    </a:lnTo>
                    <a:lnTo>
                      <a:pt x="1077" y="31"/>
                    </a:lnTo>
                    <a:lnTo>
                      <a:pt x="959" y="63"/>
                    </a:lnTo>
                    <a:lnTo>
                      <a:pt x="952" y="206"/>
                    </a:lnTo>
                    <a:lnTo>
                      <a:pt x="848" y="247"/>
                    </a:lnTo>
                    <a:lnTo>
                      <a:pt x="749" y="160"/>
                    </a:lnTo>
                    <a:lnTo>
                      <a:pt x="643" y="215"/>
                    </a:lnTo>
                    <a:lnTo>
                      <a:pt x="678" y="351"/>
                    </a:lnTo>
                    <a:lnTo>
                      <a:pt x="572" y="427"/>
                    </a:lnTo>
                    <a:lnTo>
                      <a:pt x="445" y="379"/>
                    </a:lnTo>
                    <a:lnTo>
                      <a:pt x="355" y="451"/>
                    </a:lnTo>
                    <a:lnTo>
                      <a:pt x="428" y="565"/>
                    </a:lnTo>
                    <a:lnTo>
                      <a:pt x="347" y="672"/>
                    </a:lnTo>
                    <a:lnTo>
                      <a:pt x="210" y="648"/>
                    </a:lnTo>
                    <a:lnTo>
                      <a:pt x="157" y="747"/>
                    </a:lnTo>
                    <a:lnTo>
                      <a:pt x="259" y="843"/>
                    </a:lnTo>
                    <a:lnTo>
                      <a:pt x="188" y="979"/>
                    </a:lnTo>
                    <a:lnTo>
                      <a:pt x="63" y="984"/>
                    </a:lnTo>
                    <a:lnTo>
                      <a:pt x="23" y="1096"/>
                    </a:lnTo>
                    <a:lnTo>
                      <a:pt x="147" y="1172"/>
                    </a:lnTo>
                    <a:lnTo>
                      <a:pt x="129" y="1308"/>
                    </a:lnTo>
                    <a:lnTo>
                      <a:pt x="0" y="1351"/>
                    </a:lnTo>
                    <a:lnTo>
                      <a:pt x="3" y="1443"/>
                    </a:lnTo>
                    <a:lnTo>
                      <a:pt x="12" y="1496"/>
                    </a:lnTo>
                    <a:lnTo>
                      <a:pt x="281" y="1502"/>
                    </a:lnTo>
                    <a:lnTo>
                      <a:pt x="283" y="1495"/>
                    </a:lnTo>
                    <a:lnTo>
                      <a:pt x="288" y="1474"/>
                    </a:lnTo>
                    <a:lnTo>
                      <a:pt x="295" y="1441"/>
                    </a:lnTo>
                    <a:lnTo>
                      <a:pt x="306" y="1399"/>
                    </a:lnTo>
                    <a:lnTo>
                      <a:pt x="317" y="1349"/>
                    </a:lnTo>
                    <a:lnTo>
                      <a:pt x="331" y="1292"/>
                    </a:lnTo>
                    <a:lnTo>
                      <a:pt x="346" y="1232"/>
                    </a:lnTo>
                    <a:lnTo>
                      <a:pt x="362" y="1169"/>
                    </a:lnTo>
                    <a:lnTo>
                      <a:pt x="378" y="1105"/>
                    </a:lnTo>
                    <a:lnTo>
                      <a:pt x="394" y="1043"/>
                    </a:lnTo>
                    <a:lnTo>
                      <a:pt x="410" y="983"/>
                    </a:lnTo>
                    <a:lnTo>
                      <a:pt x="425" y="929"/>
                    </a:lnTo>
                    <a:lnTo>
                      <a:pt x="440" y="882"/>
                    </a:lnTo>
                    <a:lnTo>
                      <a:pt x="453" y="843"/>
                    </a:lnTo>
                    <a:lnTo>
                      <a:pt x="463" y="814"/>
                    </a:lnTo>
                    <a:lnTo>
                      <a:pt x="473" y="798"/>
                    </a:lnTo>
                    <a:lnTo>
                      <a:pt x="486" y="785"/>
                    </a:lnTo>
                    <a:lnTo>
                      <a:pt x="512" y="767"/>
                    </a:lnTo>
                    <a:lnTo>
                      <a:pt x="546" y="744"/>
                    </a:lnTo>
                    <a:lnTo>
                      <a:pt x="589" y="717"/>
                    </a:lnTo>
                    <a:lnTo>
                      <a:pt x="638" y="687"/>
                    </a:lnTo>
                    <a:lnTo>
                      <a:pt x="693" y="655"/>
                    </a:lnTo>
                    <a:lnTo>
                      <a:pt x="749" y="622"/>
                    </a:lnTo>
                    <a:lnTo>
                      <a:pt x="808" y="588"/>
                    </a:lnTo>
                    <a:lnTo>
                      <a:pt x="865" y="555"/>
                    </a:lnTo>
                    <a:lnTo>
                      <a:pt x="921" y="524"/>
                    </a:lnTo>
                    <a:lnTo>
                      <a:pt x="973" y="495"/>
                    </a:lnTo>
                    <a:lnTo>
                      <a:pt x="1019" y="470"/>
                    </a:lnTo>
                    <a:lnTo>
                      <a:pt x="1058" y="448"/>
                    </a:lnTo>
                    <a:lnTo>
                      <a:pt x="1088" y="430"/>
                    </a:lnTo>
                    <a:lnTo>
                      <a:pt x="1106" y="420"/>
                    </a:lnTo>
                    <a:lnTo>
                      <a:pt x="1113" y="417"/>
                    </a:lnTo>
                    <a:lnTo>
                      <a:pt x="1755" y="408"/>
                    </a:lnTo>
                    <a:lnTo>
                      <a:pt x="2246" y="844"/>
                    </a:lnTo>
                    <a:lnTo>
                      <a:pt x="2419" y="1236"/>
                    </a:lnTo>
                    <a:lnTo>
                      <a:pt x="2218" y="2054"/>
                    </a:lnTo>
                    <a:lnTo>
                      <a:pt x="1880" y="2329"/>
                    </a:lnTo>
                    <a:lnTo>
                      <a:pt x="1727" y="2428"/>
                    </a:lnTo>
                    <a:lnTo>
                      <a:pt x="2026" y="26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464160" y="3309840"/>
                <a:ext cx="72720" cy="70560"/>
              </a:xfrm>
              <a:custGeom>
                <a:avLst/>
                <a:gdLst/>
                <a:ahLst/>
                <a:rect l="l" t="t" r="r" b="b"/>
                <a:pathLst>
                  <a:path w="2303" h="2303">
                    <a:moveTo>
                      <a:pt x="2287" y="1151"/>
                    </a:moveTo>
                    <a:lnTo>
                      <a:pt x="2286" y="1092"/>
                    </a:lnTo>
                    <a:lnTo>
                      <a:pt x="2281" y="1035"/>
                    </a:lnTo>
                    <a:lnTo>
                      <a:pt x="2275" y="978"/>
                    </a:lnTo>
                    <a:lnTo>
                      <a:pt x="2264" y="922"/>
                    </a:lnTo>
                    <a:lnTo>
                      <a:pt x="2251" y="868"/>
                    </a:lnTo>
                    <a:lnTo>
                      <a:pt x="2237" y="814"/>
                    </a:lnTo>
                    <a:lnTo>
                      <a:pt x="2218" y="761"/>
                    </a:lnTo>
                    <a:lnTo>
                      <a:pt x="2197" y="710"/>
                    </a:lnTo>
                    <a:lnTo>
                      <a:pt x="2175" y="659"/>
                    </a:lnTo>
                    <a:lnTo>
                      <a:pt x="2150" y="610"/>
                    </a:lnTo>
                    <a:lnTo>
                      <a:pt x="2122" y="563"/>
                    </a:lnTo>
                    <a:lnTo>
                      <a:pt x="2093" y="516"/>
                    </a:lnTo>
                    <a:lnTo>
                      <a:pt x="2061" y="473"/>
                    </a:lnTo>
                    <a:lnTo>
                      <a:pt x="2028" y="429"/>
                    </a:lnTo>
                    <a:lnTo>
                      <a:pt x="1992" y="389"/>
                    </a:lnTo>
                    <a:lnTo>
                      <a:pt x="1954" y="348"/>
                    </a:lnTo>
                    <a:lnTo>
                      <a:pt x="1915" y="311"/>
                    </a:lnTo>
                    <a:lnTo>
                      <a:pt x="1874" y="276"/>
                    </a:lnTo>
                    <a:lnTo>
                      <a:pt x="1831" y="242"/>
                    </a:lnTo>
                    <a:lnTo>
                      <a:pt x="1786" y="210"/>
                    </a:lnTo>
                    <a:lnTo>
                      <a:pt x="1740" y="181"/>
                    </a:lnTo>
                    <a:lnTo>
                      <a:pt x="1693" y="154"/>
                    </a:lnTo>
                    <a:lnTo>
                      <a:pt x="1643" y="128"/>
                    </a:lnTo>
                    <a:lnTo>
                      <a:pt x="1594" y="105"/>
                    </a:lnTo>
                    <a:lnTo>
                      <a:pt x="1542" y="86"/>
                    </a:lnTo>
                    <a:lnTo>
                      <a:pt x="1489" y="67"/>
                    </a:lnTo>
                    <a:lnTo>
                      <a:pt x="1435" y="52"/>
                    </a:lnTo>
                    <a:lnTo>
                      <a:pt x="1381" y="40"/>
                    </a:lnTo>
                    <a:lnTo>
                      <a:pt x="1324" y="29"/>
                    </a:lnTo>
                    <a:lnTo>
                      <a:pt x="1268" y="22"/>
                    </a:lnTo>
                    <a:lnTo>
                      <a:pt x="1210" y="18"/>
                    </a:lnTo>
                    <a:lnTo>
                      <a:pt x="1151" y="16"/>
                    </a:lnTo>
                    <a:lnTo>
                      <a:pt x="1093" y="18"/>
                    </a:lnTo>
                    <a:lnTo>
                      <a:pt x="1035" y="22"/>
                    </a:lnTo>
                    <a:lnTo>
                      <a:pt x="979" y="29"/>
                    </a:lnTo>
                    <a:lnTo>
                      <a:pt x="922" y="40"/>
                    </a:lnTo>
                    <a:lnTo>
                      <a:pt x="868" y="52"/>
                    </a:lnTo>
                    <a:lnTo>
                      <a:pt x="814" y="67"/>
                    </a:lnTo>
                    <a:lnTo>
                      <a:pt x="761" y="86"/>
                    </a:lnTo>
                    <a:lnTo>
                      <a:pt x="709" y="105"/>
                    </a:lnTo>
                    <a:lnTo>
                      <a:pt x="660" y="128"/>
                    </a:lnTo>
                    <a:lnTo>
                      <a:pt x="610" y="154"/>
                    </a:lnTo>
                    <a:lnTo>
                      <a:pt x="563" y="181"/>
                    </a:lnTo>
                    <a:lnTo>
                      <a:pt x="517" y="210"/>
                    </a:lnTo>
                    <a:lnTo>
                      <a:pt x="472" y="242"/>
                    </a:lnTo>
                    <a:lnTo>
                      <a:pt x="429" y="276"/>
                    </a:lnTo>
                    <a:lnTo>
                      <a:pt x="388" y="311"/>
                    </a:lnTo>
                    <a:lnTo>
                      <a:pt x="349" y="348"/>
                    </a:lnTo>
                    <a:lnTo>
                      <a:pt x="311" y="389"/>
                    </a:lnTo>
                    <a:lnTo>
                      <a:pt x="275" y="429"/>
                    </a:lnTo>
                    <a:lnTo>
                      <a:pt x="241" y="473"/>
                    </a:lnTo>
                    <a:lnTo>
                      <a:pt x="210" y="516"/>
                    </a:lnTo>
                    <a:lnTo>
                      <a:pt x="180" y="563"/>
                    </a:lnTo>
                    <a:lnTo>
                      <a:pt x="153" y="610"/>
                    </a:lnTo>
                    <a:lnTo>
                      <a:pt x="127" y="659"/>
                    </a:lnTo>
                    <a:lnTo>
                      <a:pt x="106" y="710"/>
                    </a:lnTo>
                    <a:lnTo>
                      <a:pt x="85" y="761"/>
                    </a:lnTo>
                    <a:lnTo>
                      <a:pt x="66" y="814"/>
                    </a:lnTo>
                    <a:lnTo>
                      <a:pt x="51" y="868"/>
                    </a:lnTo>
                    <a:lnTo>
                      <a:pt x="39" y="922"/>
                    </a:lnTo>
                    <a:lnTo>
                      <a:pt x="28" y="978"/>
                    </a:lnTo>
                    <a:lnTo>
                      <a:pt x="21" y="1035"/>
                    </a:lnTo>
                    <a:lnTo>
                      <a:pt x="17" y="1092"/>
                    </a:lnTo>
                    <a:lnTo>
                      <a:pt x="16" y="1151"/>
                    </a:lnTo>
                    <a:lnTo>
                      <a:pt x="17" y="1210"/>
                    </a:lnTo>
                    <a:lnTo>
                      <a:pt x="21" y="1268"/>
                    </a:lnTo>
                    <a:lnTo>
                      <a:pt x="28" y="1324"/>
                    </a:lnTo>
                    <a:lnTo>
                      <a:pt x="39" y="1380"/>
                    </a:lnTo>
                    <a:lnTo>
                      <a:pt x="51" y="1436"/>
                    </a:lnTo>
                    <a:lnTo>
                      <a:pt x="66" y="1489"/>
                    </a:lnTo>
                    <a:lnTo>
                      <a:pt x="85" y="1542"/>
                    </a:lnTo>
                    <a:lnTo>
                      <a:pt x="106" y="1594"/>
                    </a:lnTo>
                    <a:lnTo>
                      <a:pt x="127" y="1644"/>
                    </a:lnTo>
                    <a:lnTo>
                      <a:pt x="153" y="1693"/>
                    </a:lnTo>
                    <a:lnTo>
                      <a:pt x="180" y="1741"/>
                    </a:lnTo>
                    <a:lnTo>
                      <a:pt x="210" y="1787"/>
                    </a:lnTo>
                    <a:lnTo>
                      <a:pt x="241" y="1831"/>
                    </a:lnTo>
                    <a:lnTo>
                      <a:pt x="275" y="1875"/>
                    </a:lnTo>
                    <a:lnTo>
                      <a:pt x="311" y="1916"/>
                    </a:lnTo>
                    <a:lnTo>
                      <a:pt x="349" y="1955"/>
                    </a:lnTo>
                    <a:lnTo>
                      <a:pt x="388" y="1993"/>
                    </a:lnTo>
                    <a:lnTo>
                      <a:pt x="429" y="2029"/>
                    </a:lnTo>
                    <a:lnTo>
                      <a:pt x="472" y="2062"/>
                    </a:lnTo>
                    <a:lnTo>
                      <a:pt x="517" y="2094"/>
                    </a:lnTo>
                    <a:lnTo>
                      <a:pt x="563" y="2123"/>
                    </a:lnTo>
                    <a:lnTo>
                      <a:pt x="610" y="2151"/>
                    </a:lnTo>
                    <a:lnTo>
                      <a:pt x="660" y="2176"/>
                    </a:lnTo>
                    <a:lnTo>
                      <a:pt x="709" y="2198"/>
                    </a:lnTo>
                    <a:lnTo>
                      <a:pt x="761" y="2219"/>
                    </a:lnTo>
                    <a:lnTo>
                      <a:pt x="814" y="2238"/>
                    </a:lnTo>
                    <a:lnTo>
                      <a:pt x="868" y="2253"/>
                    </a:lnTo>
                    <a:lnTo>
                      <a:pt x="922" y="2265"/>
                    </a:lnTo>
                    <a:lnTo>
                      <a:pt x="979" y="2276"/>
                    </a:lnTo>
                    <a:lnTo>
                      <a:pt x="1035" y="2282"/>
                    </a:lnTo>
                    <a:lnTo>
                      <a:pt x="1093" y="2287"/>
                    </a:lnTo>
                    <a:lnTo>
                      <a:pt x="1151" y="2288"/>
                    </a:lnTo>
                    <a:lnTo>
                      <a:pt x="1210" y="2287"/>
                    </a:lnTo>
                    <a:lnTo>
                      <a:pt x="1268" y="2282"/>
                    </a:lnTo>
                    <a:lnTo>
                      <a:pt x="1324" y="2276"/>
                    </a:lnTo>
                    <a:lnTo>
                      <a:pt x="1381" y="2265"/>
                    </a:lnTo>
                    <a:lnTo>
                      <a:pt x="1435" y="2253"/>
                    </a:lnTo>
                    <a:lnTo>
                      <a:pt x="1489" y="2238"/>
                    </a:lnTo>
                    <a:lnTo>
                      <a:pt x="1542" y="2219"/>
                    </a:lnTo>
                    <a:lnTo>
                      <a:pt x="1594" y="2198"/>
                    </a:lnTo>
                    <a:lnTo>
                      <a:pt x="1643" y="2176"/>
                    </a:lnTo>
                    <a:lnTo>
                      <a:pt x="1693" y="2151"/>
                    </a:lnTo>
                    <a:lnTo>
                      <a:pt x="1740" y="2123"/>
                    </a:lnTo>
                    <a:lnTo>
                      <a:pt x="1786" y="2094"/>
                    </a:lnTo>
                    <a:lnTo>
                      <a:pt x="1831" y="2062"/>
                    </a:lnTo>
                    <a:lnTo>
                      <a:pt x="1874" y="2029"/>
                    </a:lnTo>
                    <a:lnTo>
                      <a:pt x="1915" y="1993"/>
                    </a:lnTo>
                    <a:lnTo>
                      <a:pt x="1954" y="1955"/>
                    </a:lnTo>
                    <a:lnTo>
                      <a:pt x="1992" y="1916"/>
                    </a:lnTo>
                    <a:lnTo>
                      <a:pt x="2028" y="1875"/>
                    </a:lnTo>
                    <a:lnTo>
                      <a:pt x="2061" y="1831"/>
                    </a:lnTo>
                    <a:lnTo>
                      <a:pt x="2093" y="1787"/>
                    </a:lnTo>
                    <a:lnTo>
                      <a:pt x="2122" y="1741"/>
                    </a:lnTo>
                    <a:lnTo>
                      <a:pt x="2150" y="1693"/>
                    </a:lnTo>
                    <a:lnTo>
                      <a:pt x="2175" y="1644"/>
                    </a:lnTo>
                    <a:lnTo>
                      <a:pt x="2197" y="1594"/>
                    </a:lnTo>
                    <a:lnTo>
                      <a:pt x="2218" y="1542"/>
                    </a:lnTo>
                    <a:lnTo>
                      <a:pt x="2237" y="1489"/>
                    </a:lnTo>
                    <a:lnTo>
                      <a:pt x="2251" y="1436"/>
                    </a:lnTo>
                    <a:lnTo>
                      <a:pt x="2264" y="1380"/>
                    </a:lnTo>
                    <a:lnTo>
                      <a:pt x="2275" y="1324"/>
                    </a:lnTo>
                    <a:lnTo>
                      <a:pt x="2281" y="1268"/>
                    </a:lnTo>
                    <a:lnTo>
                      <a:pt x="2286" y="1210"/>
                    </a:lnTo>
                    <a:lnTo>
                      <a:pt x="2287" y="1151"/>
                    </a:lnTo>
                    <a:lnTo>
                      <a:pt x="2303" y="1151"/>
                    </a:lnTo>
                    <a:lnTo>
                      <a:pt x="2302" y="1210"/>
                    </a:lnTo>
                    <a:lnTo>
                      <a:pt x="2298" y="1269"/>
                    </a:lnTo>
                    <a:lnTo>
                      <a:pt x="2289" y="1326"/>
                    </a:lnTo>
                    <a:lnTo>
                      <a:pt x="2280" y="1383"/>
                    </a:lnTo>
                    <a:lnTo>
                      <a:pt x="2266" y="1439"/>
                    </a:lnTo>
                    <a:lnTo>
                      <a:pt x="2251" y="1493"/>
                    </a:lnTo>
                    <a:lnTo>
                      <a:pt x="2233" y="1547"/>
                    </a:lnTo>
                    <a:lnTo>
                      <a:pt x="2212" y="1599"/>
                    </a:lnTo>
                    <a:lnTo>
                      <a:pt x="2189" y="1650"/>
                    </a:lnTo>
                    <a:lnTo>
                      <a:pt x="2164" y="1701"/>
                    </a:lnTo>
                    <a:lnTo>
                      <a:pt x="2136" y="1748"/>
                    </a:lnTo>
                    <a:lnTo>
                      <a:pt x="2106" y="1795"/>
                    </a:lnTo>
                    <a:lnTo>
                      <a:pt x="2074" y="1840"/>
                    </a:lnTo>
                    <a:lnTo>
                      <a:pt x="2040" y="1884"/>
                    </a:lnTo>
                    <a:lnTo>
                      <a:pt x="2004" y="1925"/>
                    </a:lnTo>
                    <a:lnTo>
                      <a:pt x="1966" y="1966"/>
                    </a:lnTo>
                    <a:lnTo>
                      <a:pt x="1926" y="2004"/>
                    </a:lnTo>
                    <a:lnTo>
                      <a:pt x="1884" y="2041"/>
                    </a:lnTo>
                    <a:lnTo>
                      <a:pt x="1840" y="2074"/>
                    </a:lnTo>
                    <a:lnTo>
                      <a:pt x="1795" y="2106"/>
                    </a:lnTo>
                    <a:lnTo>
                      <a:pt x="1748" y="2136"/>
                    </a:lnTo>
                    <a:lnTo>
                      <a:pt x="1700" y="2164"/>
                    </a:lnTo>
                    <a:lnTo>
                      <a:pt x="1650" y="2189"/>
                    </a:lnTo>
                    <a:lnTo>
                      <a:pt x="1600" y="2212"/>
                    </a:lnTo>
                    <a:lnTo>
                      <a:pt x="1547" y="2233"/>
                    </a:lnTo>
                    <a:lnTo>
                      <a:pt x="1494" y="2251"/>
                    </a:lnTo>
                    <a:lnTo>
                      <a:pt x="1438" y="2266"/>
                    </a:lnTo>
                    <a:lnTo>
                      <a:pt x="1383" y="2280"/>
                    </a:lnTo>
                    <a:lnTo>
                      <a:pt x="1327" y="2289"/>
                    </a:lnTo>
                    <a:lnTo>
                      <a:pt x="1269" y="2297"/>
                    </a:lnTo>
                    <a:lnTo>
                      <a:pt x="1210" y="2302"/>
                    </a:lnTo>
                    <a:lnTo>
                      <a:pt x="1151" y="2303"/>
                    </a:lnTo>
                    <a:lnTo>
                      <a:pt x="1123" y="2303"/>
                    </a:lnTo>
                    <a:lnTo>
                      <a:pt x="1094" y="2302"/>
                    </a:lnTo>
                    <a:lnTo>
                      <a:pt x="1065" y="2300"/>
                    </a:lnTo>
                    <a:lnTo>
                      <a:pt x="1037" y="2297"/>
                    </a:lnTo>
                    <a:lnTo>
                      <a:pt x="1009" y="2294"/>
                    </a:lnTo>
                    <a:lnTo>
                      <a:pt x="981" y="2291"/>
                    </a:lnTo>
                    <a:lnTo>
                      <a:pt x="953" y="2286"/>
                    </a:lnTo>
                    <a:lnTo>
                      <a:pt x="925" y="2281"/>
                    </a:lnTo>
                    <a:lnTo>
                      <a:pt x="898" y="2276"/>
                    </a:lnTo>
                    <a:lnTo>
                      <a:pt x="870" y="2269"/>
                    </a:lnTo>
                    <a:lnTo>
                      <a:pt x="843" y="2262"/>
                    </a:lnTo>
                    <a:lnTo>
                      <a:pt x="816" y="2254"/>
                    </a:lnTo>
                    <a:lnTo>
                      <a:pt x="790" y="2246"/>
                    </a:lnTo>
                    <a:lnTo>
                      <a:pt x="763" y="2236"/>
                    </a:lnTo>
                    <a:lnTo>
                      <a:pt x="737" y="2226"/>
                    </a:lnTo>
                    <a:lnTo>
                      <a:pt x="710" y="2216"/>
                    </a:lnTo>
                    <a:lnTo>
                      <a:pt x="685" y="2205"/>
                    </a:lnTo>
                    <a:lnTo>
                      <a:pt x="660" y="2194"/>
                    </a:lnTo>
                    <a:lnTo>
                      <a:pt x="634" y="2181"/>
                    </a:lnTo>
                    <a:lnTo>
                      <a:pt x="609" y="2168"/>
                    </a:lnTo>
                    <a:lnTo>
                      <a:pt x="585" y="2155"/>
                    </a:lnTo>
                    <a:lnTo>
                      <a:pt x="561" y="2141"/>
                    </a:lnTo>
                    <a:lnTo>
                      <a:pt x="536" y="2126"/>
                    </a:lnTo>
                    <a:lnTo>
                      <a:pt x="513" y="2111"/>
                    </a:lnTo>
                    <a:lnTo>
                      <a:pt x="489" y="2095"/>
                    </a:lnTo>
                    <a:lnTo>
                      <a:pt x="467" y="2077"/>
                    </a:lnTo>
                    <a:lnTo>
                      <a:pt x="444" y="2060"/>
                    </a:lnTo>
                    <a:lnTo>
                      <a:pt x="422" y="2043"/>
                    </a:lnTo>
                    <a:lnTo>
                      <a:pt x="400" y="2024"/>
                    </a:lnTo>
                    <a:lnTo>
                      <a:pt x="379" y="2005"/>
                    </a:lnTo>
                    <a:lnTo>
                      <a:pt x="358" y="1985"/>
                    </a:lnTo>
                    <a:lnTo>
                      <a:pt x="337" y="1966"/>
                    </a:lnTo>
                    <a:lnTo>
                      <a:pt x="298" y="1924"/>
                    </a:lnTo>
                    <a:lnTo>
                      <a:pt x="260" y="1880"/>
                    </a:lnTo>
                    <a:lnTo>
                      <a:pt x="225" y="1835"/>
                    </a:lnTo>
                    <a:lnTo>
                      <a:pt x="192" y="1789"/>
                    </a:lnTo>
                    <a:lnTo>
                      <a:pt x="162" y="1742"/>
                    </a:lnTo>
                    <a:lnTo>
                      <a:pt x="134" y="1694"/>
                    </a:lnTo>
                    <a:lnTo>
                      <a:pt x="109" y="1643"/>
                    </a:lnTo>
                    <a:lnTo>
                      <a:pt x="87" y="1592"/>
                    </a:lnTo>
                    <a:lnTo>
                      <a:pt x="66" y="1539"/>
                    </a:lnTo>
                    <a:lnTo>
                      <a:pt x="49" y="1486"/>
                    </a:lnTo>
                    <a:lnTo>
                      <a:pt x="34" y="1432"/>
                    </a:lnTo>
                    <a:lnTo>
                      <a:pt x="21" y="1378"/>
                    </a:lnTo>
                    <a:lnTo>
                      <a:pt x="12" y="1322"/>
                    </a:lnTo>
                    <a:lnTo>
                      <a:pt x="5" y="1265"/>
                    </a:lnTo>
                    <a:lnTo>
                      <a:pt x="1" y="1209"/>
                    </a:lnTo>
                    <a:lnTo>
                      <a:pt x="0" y="1151"/>
                    </a:lnTo>
                    <a:lnTo>
                      <a:pt x="1" y="1094"/>
                    </a:lnTo>
                    <a:lnTo>
                      <a:pt x="5" y="1037"/>
                    </a:lnTo>
                    <a:lnTo>
                      <a:pt x="12" y="981"/>
                    </a:lnTo>
                    <a:lnTo>
                      <a:pt x="21" y="925"/>
                    </a:lnTo>
                    <a:lnTo>
                      <a:pt x="34" y="870"/>
                    </a:lnTo>
                    <a:lnTo>
                      <a:pt x="49" y="817"/>
                    </a:lnTo>
                    <a:lnTo>
                      <a:pt x="66" y="763"/>
                    </a:lnTo>
                    <a:lnTo>
                      <a:pt x="87" y="711"/>
                    </a:lnTo>
                    <a:lnTo>
                      <a:pt x="109" y="660"/>
                    </a:lnTo>
                    <a:lnTo>
                      <a:pt x="134" y="610"/>
                    </a:lnTo>
                    <a:lnTo>
                      <a:pt x="162" y="561"/>
                    </a:lnTo>
                    <a:lnTo>
                      <a:pt x="192" y="514"/>
                    </a:lnTo>
                    <a:lnTo>
                      <a:pt x="225" y="468"/>
                    </a:lnTo>
                    <a:lnTo>
                      <a:pt x="260" y="423"/>
                    </a:lnTo>
                    <a:lnTo>
                      <a:pt x="298" y="379"/>
                    </a:lnTo>
                    <a:lnTo>
                      <a:pt x="337" y="338"/>
                    </a:lnTo>
                    <a:lnTo>
                      <a:pt x="358" y="318"/>
                    </a:lnTo>
                    <a:lnTo>
                      <a:pt x="379" y="299"/>
                    </a:lnTo>
                    <a:lnTo>
                      <a:pt x="400" y="279"/>
                    </a:lnTo>
                    <a:lnTo>
                      <a:pt x="422" y="261"/>
                    </a:lnTo>
                    <a:lnTo>
                      <a:pt x="444" y="243"/>
                    </a:lnTo>
                    <a:lnTo>
                      <a:pt x="467" y="226"/>
                    </a:lnTo>
                    <a:lnTo>
                      <a:pt x="489" y="209"/>
                    </a:lnTo>
                    <a:lnTo>
                      <a:pt x="513" y="193"/>
                    </a:lnTo>
                    <a:lnTo>
                      <a:pt x="536" y="178"/>
                    </a:lnTo>
                    <a:lnTo>
                      <a:pt x="561" y="163"/>
                    </a:lnTo>
                    <a:lnTo>
                      <a:pt x="585" y="149"/>
                    </a:lnTo>
                    <a:lnTo>
                      <a:pt x="609" y="135"/>
                    </a:lnTo>
                    <a:lnTo>
                      <a:pt x="634" y="122"/>
                    </a:lnTo>
                    <a:lnTo>
                      <a:pt x="660" y="110"/>
                    </a:lnTo>
                    <a:lnTo>
                      <a:pt x="685" y="98"/>
                    </a:lnTo>
                    <a:lnTo>
                      <a:pt x="710" y="88"/>
                    </a:lnTo>
                    <a:lnTo>
                      <a:pt x="737" y="78"/>
                    </a:lnTo>
                    <a:lnTo>
                      <a:pt x="763" y="67"/>
                    </a:lnTo>
                    <a:lnTo>
                      <a:pt x="790" y="58"/>
                    </a:lnTo>
                    <a:lnTo>
                      <a:pt x="816" y="50"/>
                    </a:lnTo>
                    <a:lnTo>
                      <a:pt x="843" y="42"/>
                    </a:lnTo>
                    <a:lnTo>
                      <a:pt x="870" y="35"/>
                    </a:lnTo>
                    <a:lnTo>
                      <a:pt x="898" y="28"/>
                    </a:lnTo>
                    <a:lnTo>
                      <a:pt x="925" y="22"/>
                    </a:lnTo>
                    <a:lnTo>
                      <a:pt x="953" y="18"/>
                    </a:lnTo>
                    <a:lnTo>
                      <a:pt x="981" y="13"/>
                    </a:lnTo>
                    <a:lnTo>
                      <a:pt x="1009" y="10"/>
                    </a:lnTo>
                    <a:lnTo>
                      <a:pt x="1037" y="6"/>
                    </a:lnTo>
                    <a:lnTo>
                      <a:pt x="1065" y="4"/>
                    </a:lnTo>
                    <a:lnTo>
                      <a:pt x="1094" y="2"/>
                    </a:lnTo>
                    <a:lnTo>
                      <a:pt x="1123" y="0"/>
                    </a:lnTo>
                    <a:lnTo>
                      <a:pt x="1151" y="0"/>
                    </a:lnTo>
                    <a:lnTo>
                      <a:pt x="1180" y="0"/>
                    </a:lnTo>
                    <a:lnTo>
                      <a:pt x="1209" y="2"/>
                    </a:lnTo>
                    <a:lnTo>
                      <a:pt x="1238" y="4"/>
                    </a:lnTo>
                    <a:lnTo>
                      <a:pt x="1265" y="6"/>
                    </a:lnTo>
                    <a:lnTo>
                      <a:pt x="1294" y="10"/>
                    </a:lnTo>
                    <a:lnTo>
                      <a:pt x="1322" y="13"/>
                    </a:lnTo>
                    <a:lnTo>
                      <a:pt x="1350" y="18"/>
                    </a:lnTo>
                    <a:lnTo>
                      <a:pt x="1378" y="22"/>
                    </a:lnTo>
                    <a:lnTo>
                      <a:pt x="1405" y="28"/>
                    </a:lnTo>
                    <a:lnTo>
                      <a:pt x="1433" y="35"/>
                    </a:lnTo>
                    <a:lnTo>
                      <a:pt x="1460" y="42"/>
                    </a:lnTo>
                    <a:lnTo>
                      <a:pt x="1487" y="50"/>
                    </a:lnTo>
                    <a:lnTo>
                      <a:pt x="1513" y="58"/>
                    </a:lnTo>
                    <a:lnTo>
                      <a:pt x="1540" y="67"/>
                    </a:lnTo>
                    <a:lnTo>
                      <a:pt x="1566" y="78"/>
                    </a:lnTo>
                    <a:lnTo>
                      <a:pt x="1593" y="88"/>
                    </a:lnTo>
                    <a:lnTo>
                      <a:pt x="1618" y="98"/>
                    </a:lnTo>
                    <a:lnTo>
                      <a:pt x="1643" y="110"/>
                    </a:lnTo>
                    <a:lnTo>
                      <a:pt x="1669" y="122"/>
                    </a:lnTo>
                    <a:lnTo>
                      <a:pt x="1694" y="135"/>
                    </a:lnTo>
                    <a:lnTo>
                      <a:pt x="1718" y="149"/>
                    </a:lnTo>
                    <a:lnTo>
                      <a:pt x="1742" y="163"/>
                    </a:lnTo>
                    <a:lnTo>
                      <a:pt x="1767" y="178"/>
                    </a:lnTo>
                    <a:lnTo>
                      <a:pt x="1790" y="193"/>
                    </a:lnTo>
                    <a:lnTo>
                      <a:pt x="1814" y="209"/>
                    </a:lnTo>
                    <a:lnTo>
                      <a:pt x="1836" y="226"/>
                    </a:lnTo>
                    <a:lnTo>
                      <a:pt x="1859" y="243"/>
                    </a:lnTo>
                    <a:lnTo>
                      <a:pt x="1881" y="261"/>
                    </a:lnTo>
                    <a:lnTo>
                      <a:pt x="1902" y="279"/>
                    </a:lnTo>
                    <a:lnTo>
                      <a:pt x="1924" y="299"/>
                    </a:lnTo>
                    <a:lnTo>
                      <a:pt x="1945" y="318"/>
                    </a:lnTo>
                    <a:lnTo>
                      <a:pt x="1966" y="338"/>
                    </a:lnTo>
                    <a:lnTo>
                      <a:pt x="2005" y="379"/>
                    </a:lnTo>
                    <a:lnTo>
                      <a:pt x="2043" y="423"/>
                    </a:lnTo>
                    <a:lnTo>
                      <a:pt x="2078" y="468"/>
                    </a:lnTo>
                    <a:lnTo>
                      <a:pt x="2111" y="514"/>
                    </a:lnTo>
                    <a:lnTo>
                      <a:pt x="2141" y="561"/>
                    </a:lnTo>
                    <a:lnTo>
                      <a:pt x="2169" y="610"/>
                    </a:lnTo>
                    <a:lnTo>
                      <a:pt x="2194" y="660"/>
                    </a:lnTo>
                    <a:lnTo>
                      <a:pt x="2216" y="711"/>
                    </a:lnTo>
                    <a:lnTo>
                      <a:pt x="2237" y="763"/>
                    </a:lnTo>
                    <a:lnTo>
                      <a:pt x="2254" y="817"/>
                    </a:lnTo>
                    <a:lnTo>
                      <a:pt x="2269" y="870"/>
                    </a:lnTo>
                    <a:lnTo>
                      <a:pt x="2281" y="925"/>
                    </a:lnTo>
                    <a:lnTo>
                      <a:pt x="2291" y="981"/>
                    </a:lnTo>
                    <a:lnTo>
                      <a:pt x="2298" y="1037"/>
                    </a:lnTo>
                    <a:lnTo>
                      <a:pt x="2302" y="1094"/>
                    </a:lnTo>
                    <a:lnTo>
                      <a:pt x="2303" y="1151"/>
                    </a:lnTo>
                    <a:lnTo>
                      <a:pt x="2287" y="1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87560" y="3316680"/>
                <a:ext cx="37800" cy="23400"/>
              </a:xfrm>
              <a:custGeom>
                <a:avLst/>
                <a:gdLst/>
                <a:ahLst/>
                <a:rect l="l" t="t" r="r" b="b"/>
                <a:pathLst>
                  <a:path w="1196" h="767">
                    <a:moveTo>
                      <a:pt x="348" y="694"/>
                    </a:moveTo>
                    <a:lnTo>
                      <a:pt x="372" y="681"/>
                    </a:lnTo>
                    <a:lnTo>
                      <a:pt x="34" y="96"/>
                    </a:lnTo>
                    <a:lnTo>
                      <a:pt x="56" y="87"/>
                    </a:lnTo>
                    <a:lnTo>
                      <a:pt x="78" y="78"/>
                    </a:lnTo>
                    <a:lnTo>
                      <a:pt x="101" y="70"/>
                    </a:lnTo>
                    <a:lnTo>
                      <a:pt x="124" y="62"/>
                    </a:lnTo>
                    <a:lnTo>
                      <a:pt x="146" y="55"/>
                    </a:lnTo>
                    <a:lnTo>
                      <a:pt x="170" y="48"/>
                    </a:lnTo>
                    <a:lnTo>
                      <a:pt x="193" y="41"/>
                    </a:lnTo>
                    <a:lnTo>
                      <a:pt x="218" y="37"/>
                    </a:lnTo>
                    <a:lnTo>
                      <a:pt x="241" y="31"/>
                    </a:lnTo>
                    <a:lnTo>
                      <a:pt x="265" y="27"/>
                    </a:lnTo>
                    <a:lnTo>
                      <a:pt x="289" y="23"/>
                    </a:lnTo>
                    <a:lnTo>
                      <a:pt x="313" y="20"/>
                    </a:lnTo>
                    <a:lnTo>
                      <a:pt x="339" y="18"/>
                    </a:lnTo>
                    <a:lnTo>
                      <a:pt x="363" y="16"/>
                    </a:lnTo>
                    <a:lnTo>
                      <a:pt x="388" y="15"/>
                    </a:lnTo>
                    <a:lnTo>
                      <a:pt x="413" y="15"/>
                    </a:lnTo>
                    <a:lnTo>
                      <a:pt x="442" y="15"/>
                    </a:lnTo>
                    <a:lnTo>
                      <a:pt x="472" y="17"/>
                    </a:lnTo>
                    <a:lnTo>
                      <a:pt x="501" y="19"/>
                    </a:lnTo>
                    <a:lnTo>
                      <a:pt x="529" y="22"/>
                    </a:lnTo>
                    <a:lnTo>
                      <a:pt x="557" y="26"/>
                    </a:lnTo>
                    <a:lnTo>
                      <a:pt x="585" y="31"/>
                    </a:lnTo>
                    <a:lnTo>
                      <a:pt x="613" y="37"/>
                    </a:lnTo>
                    <a:lnTo>
                      <a:pt x="640" y="43"/>
                    </a:lnTo>
                    <a:lnTo>
                      <a:pt x="667" y="50"/>
                    </a:lnTo>
                    <a:lnTo>
                      <a:pt x="695" y="58"/>
                    </a:lnTo>
                    <a:lnTo>
                      <a:pt x="721" y="68"/>
                    </a:lnTo>
                    <a:lnTo>
                      <a:pt x="746" y="77"/>
                    </a:lnTo>
                    <a:lnTo>
                      <a:pt x="772" y="88"/>
                    </a:lnTo>
                    <a:lnTo>
                      <a:pt x="797" y="99"/>
                    </a:lnTo>
                    <a:lnTo>
                      <a:pt x="822" y="111"/>
                    </a:lnTo>
                    <a:lnTo>
                      <a:pt x="847" y="124"/>
                    </a:lnTo>
                    <a:lnTo>
                      <a:pt x="871" y="137"/>
                    </a:lnTo>
                    <a:lnTo>
                      <a:pt x="894" y="152"/>
                    </a:lnTo>
                    <a:lnTo>
                      <a:pt x="917" y="166"/>
                    </a:lnTo>
                    <a:lnTo>
                      <a:pt x="940" y="182"/>
                    </a:lnTo>
                    <a:lnTo>
                      <a:pt x="962" y="198"/>
                    </a:lnTo>
                    <a:lnTo>
                      <a:pt x="984" y="214"/>
                    </a:lnTo>
                    <a:lnTo>
                      <a:pt x="1004" y="232"/>
                    </a:lnTo>
                    <a:lnTo>
                      <a:pt x="1025" y="250"/>
                    </a:lnTo>
                    <a:lnTo>
                      <a:pt x="1045" y="268"/>
                    </a:lnTo>
                    <a:lnTo>
                      <a:pt x="1064" y="288"/>
                    </a:lnTo>
                    <a:lnTo>
                      <a:pt x="1083" y="307"/>
                    </a:lnTo>
                    <a:lnTo>
                      <a:pt x="1101" y="328"/>
                    </a:lnTo>
                    <a:lnTo>
                      <a:pt x="1118" y="349"/>
                    </a:lnTo>
                    <a:lnTo>
                      <a:pt x="1136" y="369"/>
                    </a:lnTo>
                    <a:lnTo>
                      <a:pt x="1152" y="393"/>
                    </a:lnTo>
                    <a:lnTo>
                      <a:pt x="1168" y="414"/>
                    </a:lnTo>
                    <a:lnTo>
                      <a:pt x="599" y="750"/>
                    </a:lnTo>
                    <a:lnTo>
                      <a:pt x="609" y="767"/>
                    </a:lnTo>
                    <a:lnTo>
                      <a:pt x="616" y="763"/>
                    </a:lnTo>
                    <a:lnTo>
                      <a:pt x="633" y="753"/>
                    </a:lnTo>
                    <a:lnTo>
                      <a:pt x="662" y="736"/>
                    </a:lnTo>
                    <a:lnTo>
                      <a:pt x="699" y="715"/>
                    </a:lnTo>
                    <a:lnTo>
                      <a:pt x="743" y="690"/>
                    </a:lnTo>
                    <a:lnTo>
                      <a:pt x="791" y="662"/>
                    </a:lnTo>
                    <a:lnTo>
                      <a:pt x="843" y="632"/>
                    </a:lnTo>
                    <a:lnTo>
                      <a:pt x="896" y="601"/>
                    </a:lnTo>
                    <a:lnTo>
                      <a:pt x="949" y="570"/>
                    </a:lnTo>
                    <a:lnTo>
                      <a:pt x="1001" y="540"/>
                    </a:lnTo>
                    <a:lnTo>
                      <a:pt x="1049" y="512"/>
                    </a:lnTo>
                    <a:lnTo>
                      <a:pt x="1093" y="487"/>
                    </a:lnTo>
                    <a:lnTo>
                      <a:pt x="1130" y="466"/>
                    </a:lnTo>
                    <a:lnTo>
                      <a:pt x="1159" y="449"/>
                    </a:lnTo>
                    <a:lnTo>
                      <a:pt x="1176" y="439"/>
                    </a:lnTo>
                    <a:lnTo>
                      <a:pt x="1183" y="435"/>
                    </a:lnTo>
                    <a:lnTo>
                      <a:pt x="1196" y="427"/>
                    </a:lnTo>
                    <a:lnTo>
                      <a:pt x="1182" y="406"/>
                    </a:lnTo>
                    <a:lnTo>
                      <a:pt x="1168" y="387"/>
                    </a:lnTo>
                    <a:lnTo>
                      <a:pt x="1153" y="366"/>
                    </a:lnTo>
                    <a:lnTo>
                      <a:pt x="1138" y="346"/>
                    </a:lnTo>
                    <a:lnTo>
                      <a:pt x="1122" y="328"/>
                    </a:lnTo>
                    <a:lnTo>
                      <a:pt x="1106" y="308"/>
                    </a:lnTo>
                    <a:lnTo>
                      <a:pt x="1088" y="290"/>
                    </a:lnTo>
                    <a:lnTo>
                      <a:pt x="1071" y="272"/>
                    </a:lnTo>
                    <a:lnTo>
                      <a:pt x="1038" y="239"/>
                    </a:lnTo>
                    <a:lnTo>
                      <a:pt x="1002" y="209"/>
                    </a:lnTo>
                    <a:lnTo>
                      <a:pt x="966" y="182"/>
                    </a:lnTo>
                    <a:lnTo>
                      <a:pt x="928" y="155"/>
                    </a:lnTo>
                    <a:lnTo>
                      <a:pt x="890" y="131"/>
                    </a:lnTo>
                    <a:lnTo>
                      <a:pt x="851" y="109"/>
                    </a:lnTo>
                    <a:lnTo>
                      <a:pt x="811" y="88"/>
                    </a:lnTo>
                    <a:lnTo>
                      <a:pt x="769" y="70"/>
                    </a:lnTo>
                    <a:lnTo>
                      <a:pt x="727" y="54"/>
                    </a:lnTo>
                    <a:lnTo>
                      <a:pt x="684" y="40"/>
                    </a:lnTo>
                    <a:lnTo>
                      <a:pt x="640" y="27"/>
                    </a:lnTo>
                    <a:lnTo>
                      <a:pt x="595" y="17"/>
                    </a:lnTo>
                    <a:lnTo>
                      <a:pt x="551" y="10"/>
                    </a:lnTo>
                    <a:lnTo>
                      <a:pt x="506" y="4"/>
                    </a:lnTo>
                    <a:lnTo>
                      <a:pt x="460" y="1"/>
                    </a:lnTo>
                    <a:lnTo>
                      <a:pt x="413" y="0"/>
                    </a:lnTo>
                    <a:lnTo>
                      <a:pt x="386" y="0"/>
                    </a:lnTo>
                    <a:lnTo>
                      <a:pt x="359" y="1"/>
                    </a:lnTo>
                    <a:lnTo>
                      <a:pt x="333" y="3"/>
                    </a:lnTo>
                    <a:lnTo>
                      <a:pt x="305" y="5"/>
                    </a:lnTo>
                    <a:lnTo>
                      <a:pt x="279" y="9"/>
                    </a:lnTo>
                    <a:lnTo>
                      <a:pt x="252" y="14"/>
                    </a:lnTo>
                    <a:lnTo>
                      <a:pt x="227" y="18"/>
                    </a:lnTo>
                    <a:lnTo>
                      <a:pt x="200" y="24"/>
                    </a:lnTo>
                    <a:lnTo>
                      <a:pt x="174" y="31"/>
                    </a:lnTo>
                    <a:lnTo>
                      <a:pt x="149" y="38"/>
                    </a:lnTo>
                    <a:lnTo>
                      <a:pt x="123" y="46"/>
                    </a:lnTo>
                    <a:lnTo>
                      <a:pt x="98" y="54"/>
                    </a:lnTo>
                    <a:lnTo>
                      <a:pt x="74" y="63"/>
                    </a:lnTo>
                    <a:lnTo>
                      <a:pt x="48" y="73"/>
                    </a:lnTo>
                    <a:lnTo>
                      <a:pt x="24" y="84"/>
                    </a:lnTo>
                    <a:lnTo>
                      <a:pt x="0" y="95"/>
                    </a:lnTo>
                    <a:lnTo>
                      <a:pt x="348" y="6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509160" y="333360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666" h="373">
                    <a:moveTo>
                      <a:pt x="666" y="373"/>
                    </a:moveTo>
                    <a:lnTo>
                      <a:pt x="665" y="325"/>
                    </a:lnTo>
                    <a:lnTo>
                      <a:pt x="661" y="276"/>
                    </a:lnTo>
                    <a:lnTo>
                      <a:pt x="654" y="228"/>
                    </a:lnTo>
                    <a:lnTo>
                      <a:pt x="646" y="181"/>
                    </a:lnTo>
                    <a:lnTo>
                      <a:pt x="635" y="135"/>
                    </a:lnTo>
                    <a:lnTo>
                      <a:pt x="622" y="89"/>
                    </a:lnTo>
                    <a:lnTo>
                      <a:pt x="606" y="44"/>
                    </a:lnTo>
                    <a:lnTo>
                      <a:pt x="588" y="0"/>
                    </a:lnTo>
                    <a:lnTo>
                      <a:pt x="0" y="326"/>
                    </a:lnTo>
                    <a:lnTo>
                      <a:pt x="0" y="355"/>
                    </a:lnTo>
                    <a:lnTo>
                      <a:pt x="585" y="28"/>
                    </a:lnTo>
                    <a:lnTo>
                      <a:pt x="600" y="68"/>
                    </a:lnTo>
                    <a:lnTo>
                      <a:pt x="613" y="109"/>
                    </a:lnTo>
                    <a:lnTo>
                      <a:pt x="625" y="152"/>
                    </a:lnTo>
                    <a:lnTo>
                      <a:pt x="634" y="195"/>
                    </a:lnTo>
                    <a:lnTo>
                      <a:pt x="641" y="240"/>
                    </a:lnTo>
                    <a:lnTo>
                      <a:pt x="645" y="283"/>
                    </a:lnTo>
                    <a:lnTo>
                      <a:pt x="649" y="328"/>
                    </a:lnTo>
                    <a:lnTo>
                      <a:pt x="650" y="373"/>
                    </a:lnTo>
                    <a:lnTo>
                      <a:pt x="666" y="3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506280" y="3345120"/>
                <a:ext cx="23760" cy="23400"/>
              </a:xfrm>
              <a:custGeom>
                <a:avLst/>
                <a:gdLst/>
                <a:ahLst/>
                <a:rect l="l" t="t" r="r" b="b"/>
                <a:pathLst>
                  <a:path w="754" h="770">
                    <a:moveTo>
                      <a:pt x="738" y="0"/>
                    </a:moveTo>
                    <a:lnTo>
                      <a:pt x="737" y="57"/>
                    </a:lnTo>
                    <a:lnTo>
                      <a:pt x="731" y="113"/>
                    </a:lnTo>
                    <a:lnTo>
                      <a:pt x="723" y="167"/>
                    </a:lnTo>
                    <a:lnTo>
                      <a:pt x="711" y="221"/>
                    </a:lnTo>
                    <a:lnTo>
                      <a:pt x="696" y="274"/>
                    </a:lnTo>
                    <a:lnTo>
                      <a:pt x="679" y="325"/>
                    </a:lnTo>
                    <a:lnTo>
                      <a:pt x="658" y="375"/>
                    </a:lnTo>
                    <a:lnTo>
                      <a:pt x="635" y="423"/>
                    </a:lnTo>
                    <a:lnTo>
                      <a:pt x="609" y="470"/>
                    </a:lnTo>
                    <a:lnTo>
                      <a:pt x="580" y="515"/>
                    </a:lnTo>
                    <a:lnTo>
                      <a:pt x="549" y="558"/>
                    </a:lnTo>
                    <a:lnTo>
                      <a:pt x="516" y="599"/>
                    </a:lnTo>
                    <a:lnTo>
                      <a:pt x="480" y="638"/>
                    </a:lnTo>
                    <a:lnTo>
                      <a:pt x="442" y="675"/>
                    </a:lnTo>
                    <a:lnTo>
                      <a:pt x="402" y="710"/>
                    </a:lnTo>
                    <a:lnTo>
                      <a:pt x="359" y="742"/>
                    </a:lnTo>
                    <a:lnTo>
                      <a:pt x="23" y="160"/>
                    </a:lnTo>
                    <a:lnTo>
                      <a:pt x="0" y="172"/>
                    </a:lnTo>
                    <a:lnTo>
                      <a:pt x="346" y="770"/>
                    </a:lnTo>
                    <a:lnTo>
                      <a:pt x="391" y="737"/>
                    </a:lnTo>
                    <a:lnTo>
                      <a:pt x="434" y="702"/>
                    </a:lnTo>
                    <a:lnTo>
                      <a:pt x="475" y="664"/>
                    </a:lnTo>
                    <a:lnTo>
                      <a:pt x="513" y="625"/>
                    </a:lnTo>
                    <a:lnTo>
                      <a:pt x="549" y="582"/>
                    </a:lnTo>
                    <a:lnTo>
                      <a:pt x="584" y="537"/>
                    </a:lnTo>
                    <a:lnTo>
                      <a:pt x="613" y="491"/>
                    </a:lnTo>
                    <a:lnTo>
                      <a:pt x="642" y="443"/>
                    </a:lnTo>
                    <a:lnTo>
                      <a:pt x="668" y="392"/>
                    </a:lnTo>
                    <a:lnTo>
                      <a:pt x="690" y="340"/>
                    </a:lnTo>
                    <a:lnTo>
                      <a:pt x="709" y="287"/>
                    </a:lnTo>
                    <a:lnTo>
                      <a:pt x="725" y="232"/>
                    </a:lnTo>
                    <a:lnTo>
                      <a:pt x="738" y="175"/>
                    </a:lnTo>
                    <a:lnTo>
                      <a:pt x="747" y="119"/>
                    </a:lnTo>
                    <a:lnTo>
                      <a:pt x="752" y="60"/>
                    </a:lnTo>
                    <a:lnTo>
                      <a:pt x="754" y="0"/>
                    </a:lnTo>
                    <a:lnTo>
                      <a:pt x="7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482160" y="33685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130" h="37">
                    <a:moveTo>
                      <a:pt x="0" y="3"/>
                    </a:moveTo>
                    <a:lnTo>
                      <a:pt x="86" y="0"/>
                    </a:lnTo>
                    <a:lnTo>
                      <a:pt x="130" y="37"/>
                    </a:lnTo>
                    <a:lnTo>
                      <a:pt x="60" y="3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492960" y="338004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174" h="73">
                    <a:moveTo>
                      <a:pt x="123" y="72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174" y="73"/>
                    </a:lnTo>
                    <a:lnTo>
                      <a:pt x="123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77120" y="3376080"/>
                <a:ext cx="16200" cy="6480"/>
              </a:xfrm>
              <a:custGeom>
                <a:avLst/>
                <a:gdLst/>
                <a:ahLst/>
                <a:rect l="l" t="t" r="r" b="b"/>
                <a:pathLst>
                  <a:path w="518" h="212">
                    <a:moveTo>
                      <a:pt x="518" y="205"/>
                    </a:moveTo>
                    <a:lnTo>
                      <a:pt x="393" y="127"/>
                    </a:lnTo>
                    <a:lnTo>
                      <a:pt x="245" y="125"/>
                    </a:lnTo>
                    <a:lnTo>
                      <a:pt x="250" y="134"/>
                    </a:lnTo>
                    <a:lnTo>
                      <a:pt x="0" y="0"/>
                    </a:lnTo>
                    <a:lnTo>
                      <a:pt x="80" y="54"/>
                    </a:lnTo>
                    <a:lnTo>
                      <a:pt x="73" y="57"/>
                    </a:lnTo>
                    <a:lnTo>
                      <a:pt x="39" y="175"/>
                    </a:lnTo>
                    <a:lnTo>
                      <a:pt x="94" y="212"/>
                    </a:lnTo>
                    <a:lnTo>
                      <a:pt x="205" y="135"/>
                    </a:lnTo>
                    <a:lnTo>
                      <a:pt x="202" y="128"/>
                    </a:lnTo>
                    <a:lnTo>
                      <a:pt x="376" y="194"/>
                    </a:lnTo>
                    <a:lnTo>
                      <a:pt x="388" y="212"/>
                    </a:lnTo>
                    <a:lnTo>
                      <a:pt x="518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482160" y="33811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180" h="49">
                    <a:moveTo>
                      <a:pt x="0" y="46"/>
                    </a:moveTo>
                    <a:lnTo>
                      <a:pt x="60" y="0"/>
                    </a:lnTo>
                    <a:lnTo>
                      <a:pt x="180" y="4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68840" y="337428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0"/>
                    </a:moveTo>
                    <a:lnTo>
                      <a:pt x="176" y="0"/>
                    </a:lnTo>
                    <a:lnTo>
                      <a:pt x="176" y="10"/>
                    </a:lnTo>
                    <a:lnTo>
                      <a:pt x="169" y="10"/>
                    </a:lnTo>
                    <a:lnTo>
                      <a:pt x="60" y="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474600" y="3374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0" y="0"/>
                    </a:moveTo>
                    <a:lnTo>
                      <a:pt x="3" y="2"/>
                    </a:lnTo>
                    <a:lnTo>
                      <a:pt x="10" y="8"/>
                    </a:lnTo>
                    <a:lnTo>
                      <a:pt x="19" y="16"/>
                    </a:lnTo>
                    <a:lnTo>
                      <a:pt x="29" y="25"/>
                    </a:lnTo>
                    <a:lnTo>
                      <a:pt x="41" y="35"/>
                    </a:lnTo>
                    <a:lnTo>
                      <a:pt x="51" y="43"/>
                    </a:lnTo>
                    <a:lnTo>
                      <a:pt x="60" y="48"/>
                    </a:lnTo>
                    <a:lnTo>
                      <a:pt x="65" y="51"/>
                    </a:lnTo>
                    <a:lnTo>
                      <a:pt x="44" y="24"/>
                    </a:lnTo>
                    <a:lnTo>
                      <a:pt x="34" y="0"/>
                    </a:lnTo>
                    <a:lnTo>
                      <a:pt x="19" y="1"/>
                    </a:lnTo>
                    <a:lnTo>
                      <a:pt x="27" y="9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55880" y="3301920"/>
                <a:ext cx="89640" cy="81000"/>
              </a:xfrm>
              <a:custGeom>
                <a:avLst/>
                <a:gdLst/>
                <a:ahLst/>
                <a:rect l="l" t="t" r="r" b="b"/>
                <a:pathLst>
                  <a:path w="2840" h="2643">
                    <a:moveTo>
                      <a:pt x="32" y="1448"/>
                    </a:moveTo>
                    <a:lnTo>
                      <a:pt x="32" y="1373"/>
                    </a:lnTo>
                    <a:lnTo>
                      <a:pt x="155" y="1342"/>
                    </a:lnTo>
                    <a:lnTo>
                      <a:pt x="157" y="1317"/>
                    </a:lnTo>
                    <a:lnTo>
                      <a:pt x="163" y="1259"/>
                    </a:lnTo>
                    <a:lnTo>
                      <a:pt x="170" y="1199"/>
                    </a:lnTo>
                    <a:lnTo>
                      <a:pt x="176" y="1169"/>
                    </a:lnTo>
                    <a:lnTo>
                      <a:pt x="55" y="1104"/>
                    </a:lnTo>
                    <a:lnTo>
                      <a:pt x="78" y="1011"/>
                    </a:lnTo>
                    <a:lnTo>
                      <a:pt x="215" y="1011"/>
                    </a:lnTo>
                    <a:lnTo>
                      <a:pt x="217" y="1005"/>
                    </a:lnTo>
                    <a:lnTo>
                      <a:pt x="224" y="987"/>
                    </a:lnTo>
                    <a:lnTo>
                      <a:pt x="234" y="961"/>
                    </a:lnTo>
                    <a:lnTo>
                      <a:pt x="246" y="932"/>
                    </a:lnTo>
                    <a:lnTo>
                      <a:pt x="259" y="902"/>
                    </a:lnTo>
                    <a:lnTo>
                      <a:pt x="270" y="876"/>
                    </a:lnTo>
                    <a:lnTo>
                      <a:pt x="278" y="857"/>
                    </a:lnTo>
                    <a:lnTo>
                      <a:pt x="284" y="848"/>
                    </a:lnTo>
                    <a:lnTo>
                      <a:pt x="185" y="751"/>
                    </a:lnTo>
                    <a:lnTo>
                      <a:pt x="186" y="748"/>
                    </a:lnTo>
                    <a:lnTo>
                      <a:pt x="191" y="740"/>
                    </a:lnTo>
                    <a:lnTo>
                      <a:pt x="198" y="728"/>
                    </a:lnTo>
                    <a:lnTo>
                      <a:pt x="206" y="714"/>
                    </a:lnTo>
                    <a:lnTo>
                      <a:pt x="213" y="702"/>
                    </a:lnTo>
                    <a:lnTo>
                      <a:pt x="220" y="690"/>
                    </a:lnTo>
                    <a:lnTo>
                      <a:pt x="225" y="682"/>
                    </a:lnTo>
                    <a:lnTo>
                      <a:pt x="229" y="679"/>
                    </a:lnTo>
                    <a:lnTo>
                      <a:pt x="236" y="680"/>
                    </a:lnTo>
                    <a:lnTo>
                      <a:pt x="252" y="682"/>
                    </a:lnTo>
                    <a:lnTo>
                      <a:pt x="274" y="687"/>
                    </a:lnTo>
                    <a:lnTo>
                      <a:pt x="298" y="691"/>
                    </a:lnTo>
                    <a:lnTo>
                      <a:pt x="322" y="696"/>
                    </a:lnTo>
                    <a:lnTo>
                      <a:pt x="343" y="700"/>
                    </a:lnTo>
                    <a:lnTo>
                      <a:pt x="358" y="703"/>
                    </a:lnTo>
                    <a:lnTo>
                      <a:pt x="363" y="704"/>
                    </a:lnTo>
                    <a:lnTo>
                      <a:pt x="368" y="698"/>
                    </a:lnTo>
                    <a:lnTo>
                      <a:pt x="378" y="685"/>
                    </a:lnTo>
                    <a:lnTo>
                      <a:pt x="393" y="666"/>
                    </a:lnTo>
                    <a:lnTo>
                      <a:pt x="412" y="643"/>
                    </a:lnTo>
                    <a:lnTo>
                      <a:pt x="429" y="621"/>
                    </a:lnTo>
                    <a:lnTo>
                      <a:pt x="445" y="601"/>
                    </a:lnTo>
                    <a:lnTo>
                      <a:pt x="457" y="586"/>
                    </a:lnTo>
                    <a:lnTo>
                      <a:pt x="463" y="581"/>
                    </a:lnTo>
                    <a:lnTo>
                      <a:pt x="392" y="467"/>
                    </a:lnTo>
                    <a:lnTo>
                      <a:pt x="456" y="404"/>
                    </a:lnTo>
                    <a:lnTo>
                      <a:pt x="588" y="456"/>
                    </a:lnTo>
                    <a:lnTo>
                      <a:pt x="711" y="367"/>
                    </a:lnTo>
                    <a:lnTo>
                      <a:pt x="680" y="230"/>
                    </a:lnTo>
                    <a:lnTo>
                      <a:pt x="751" y="191"/>
                    </a:lnTo>
                    <a:lnTo>
                      <a:pt x="858" y="282"/>
                    </a:lnTo>
                    <a:lnTo>
                      <a:pt x="986" y="226"/>
                    </a:lnTo>
                    <a:lnTo>
                      <a:pt x="991" y="88"/>
                    </a:lnTo>
                    <a:lnTo>
                      <a:pt x="1081" y="60"/>
                    </a:lnTo>
                    <a:lnTo>
                      <a:pt x="1148" y="181"/>
                    </a:lnTo>
                    <a:lnTo>
                      <a:pt x="1154" y="180"/>
                    </a:lnTo>
                    <a:lnTo>
                      <a:pt x="1171" y="177"/>
                    </a:lnTo>
                    <a:lnTo>
                      <a:pt x="1194" y="173"/>
                    </a:lnTo>
                    <a:lnTo>
                      <a:pt x="1222" y="169"/>
                    </a:lnTo>
                    <a:lnTo>
                      <a:pt x="1249" y="165"/>
                    </a:lnTo>
                    <a:lnTo>
                      <a:pt x="1275" y="161"/>
                    </a:lnTo>
                    <a:lnTo>
                      <a:pt x="1294" y="159"/>
                    </a:lnTo>
                    <a:lnTo>
                      <a:pt x="1305" y="159"/>
                    </a:lnTo>
                    <a:lnTo>
                      <a:pt x="1347" y="28"/>
                    </a:lnTo>
                    <a:lnTo>
                      <a:pt x="1435" y="26"/>
                    </a:lnTo>
                    <a:lnTo>
                      <a:pt x="1472" y="154"/>
                    </a:lnTo>
                    <a:lnTo>
                      <a:pt x="1478" y="154"/>
                    </a:lnTo>
                    <a:lnTo>
                      <a:pt x="1496" y="157"/>
                    </a:lnTo>
                    <a:lnTo>
                      <a:pt x="1520" y="159"/>
                    </a:lnTo>
                    <a:lnTo>
                      <a:pt x="1549" y="161"/>
                    </a:lnTo>
                    <a:lnTo>
                      <a:pt x="1578" y="165"/>
                    </a:lnTo>
                    <a:lnTo>
                      <a:pt x="1604" y="168"/>
                    </a:lnTo>
                    <a:lnTo>
                      <a:pt x="1624" y="172"/>
                    </a:lnTo>
                    <a:lnTo>
                      <a:pt x="1634" y="174"/>
                    </a:lnTo>
                    <a:lnTo>
                      <a:pt x="1715" y="59"/>
                    </a:lnTo>
                    <a:lnTo>
                      <a:pt x="1798" y="79"/>
                    </a:lnTo>
                    <a:lnTo>
                      <a:pt x="1803" y="213"/>
                    </a:lnTo>
                    <a:lnTo>
                      <a:pt x="1809" y="215"/>
                    </a:lnTo>
                    <a:lnTo>
                      <a:pt x="1826" y="221"/>
                    </a:lnTo>
                    <a:lnTo>
                      <a:pt x="1849" y="230"/>
                    </a:lnTo>
                    <a:lnTo>
                      <a:pt x="1877" y="241"/>
                    </a:lnTo>
                    <a:lnTo>
                      <a:pt x="1904" y="251"/>
                    </a:lnTo>
                    <a:lnTo>
                      <a:pt x="1928" y="260"/>
                    </a:lnTo>
                    <a:lnTo>
                      <a:pt x="1946" y="268"/>
                    </a:lnTo>
                    <a:lnTo>
                      <a:pt x="1954" y="273"/>
                    </a:lnTo>
                    <a:lnTo>
                      <a:pt x="2058" y="182"/>
                    </a:lnTo>
                    <a:lnTo>
                      <a:pt x="2132" y="222"/>
                    </a:lnTo>
                    <a:lnTo>
                      <a:pt x="2092" y="349"/>
                    </a:lnTo>
                    <a:lnTo>
                      <a:pt x="2098" y="353"/>
                    </a:lnTo>
                    <a:lnTo>
                      <a:pt x="2113" y="363"/>
                    </a:lnTo>
                    <a:lnTo>
                      <a:pt x="2135" y="378"/>
                    </a:lnTo>
                    <a:lnTo>
                      <a:pt x="2160" y="395"/>
                    </a:lnTo>
                    <a:lnTo>
                      <a:pt x="2186" y="414"/>
                    </a:lnTo>
                    <a:lnTo>
                      <a:pt x="2209" y="430"/>
                    </a:lnTo>
                    <a:lnTo>
                      <a:pt x="2225" y="444"/>
                    </a:lnTo>
                    <a:lnTo>
                      <a:pt x="2233" y="452"/>
                    </a:lnTo>
                    <a:lnTo>
                      <a:pt x="2354" y="387"/>
                    </a:lnTo>
                    <a:lnTo>
                      <a:pt x="2418" y="450"/>
                    </a:lnTo>
                    <a:lnTo>
                      <a:pt x="2359" y="574"/>
                    </a:lnTo>
                    <a:lnTo>
                      <a:pt x="2362" y="578"/>
                    </a:lnTo>
                    <a:lnTo>
                      <a:pt x="2373" y="590"/>
                    </a:lnTo>
                    <a:lnTo>
                      <a:pt x="2387" y="606"/>
                    </a:lnTo>
                    <a:lnTo>
                      <a:pt x="2405" y="627"/>
                    </a:lnTo>
                    <a:lnTo>
                      <a:pt x="2422" y="647"/>
                    </a:lnTo>
                    <a:lnTo>
                      <a:pt x="2438" y="667"/>
                    </a:lnTo>
                    <a:lnTo>
                      <a:pt x="2450" y="683"/>
                    </a:lnTo>
                    <a:lnTo>
                      <a:pt x="2454" y="694"/>
                    </a:lnTo>
                    <a:lnTo>
                      <a:pt x="2591" y="667"/>
                    </a:lnTo>
                    <a:lnTo>
                      <a:pt x="2644" y="745"/>
                    </a:lnTo>
                    <a:lnTo>
                      <a:pt x="2550" y="839"/>
                    </a:lnTo>
                    <a:lnTo>
                      <a:pt x="2552" y="846"/>
                    </a:lnTo>
                    <a:lnTo>
                      <a:pt x="2560" y="863"/>
                    </a:lnTo>
                    <a:lnTo>
                      <a:pt x="2570" y="887"/>
                    </a:lnTo>
                    <a:lnTo>
                      <a:pt x="2583" y="916"/>
                    </a:lnTo>
                    <a:lnTo>
                      <a:pt x="2596" y="945"/>
                    </a:lnTo>
                    <a:lnTo>
                      <a:pt x="2606" y="971"/>
                    </a:lnTo>
                    <a:lnTo>
                      <a:pt x="2614" y="990"/>
                    </a:lnTo>
                    <a:lnTo>
                      <a:pt x="2617" y="999"/>
                    </a:lnTo>
                    <a:lnTo>
                      <a:pt x="2749" y="994"/>
                    </a:lnTo>
                    <a:lnTo>
                      <a:pt x="2777" y="1091"/>
                    </a:lnTo>
                    <a:lnTo>
                      <a:pt x="2660" y="1168"/>
                    </a:lnTo>
                    <a:lnTo>
                      <a:pt x="2665" y="1191"/>
                    </a:lnTo>
                    <a:lnTo>
                      <a:pt x="2674" y="1242"/>
                    </a:lnTo>
                    <a:lnTo>
                      <a:pt x="2682" y="1295"/>
                    </a:lnTo>
                    <a:lnTo>
                      <a:pt x="2686" y="1322"/>
                    </a:lnTo>
                    <a:lnTo>
                      <a:pt x="2816" y="1349"/>
                    </a:lnTo>
                    <a:lnTo>
                      <a:pt x="2816" y="1441"/>
                    </a:lnTo>
                    <a:lnTo>
                      <a:pt x="2686" y="1494"/>
                    </a:lnTo>
                    <a:lnTo>
                      <a:pt x="2683" y="1517"/>
                    </a:lnTo>
                    <a:lnTo>
                      <a:pt x="2680" y="1568"/>
                    </a:lnTo>
                    <a:lnTo>
                      <a:pt x="2673" y="1622"/>
                    </a:lnTo>
                    <a:lnTo>
                      <a:pt x="2666" y="1653"/>
                    </a:lnTo>
                    <a:lnTo>
                      <a:pt x="2784" y="1718"/>
                    </a:lnTo>
                    <a:lnTo>
                      <a:pt x="2759" y="1816"/>
                    </a:lnTo>
                    <a:lnTo>
                      <a:pt x="2620" y="1818"/>
                    </a:lnTo>
                    <a:lnTo>
                      <a:pt x="2618" y="1824"/>
                    </a:lnTo>
                    <a:lnTo>
                      <a:pt x="2611" y="1840"/>
                    </a:lnTo>
                    <a:lnTo>
                      <a:pt x="2602" y="1862"/>
                    </a:lnTo>
                    <a:lnTo>
                      <a:pt x="2591" y="1888"/>
                    </a:lnTo>
                    <a:lnTo>
                      <a:pt x="2581" y="1915"/>
                    </a:lnTo>
                    <a:lnTo>
                      <a:pt x="2570" y="1938"/>
                    </a:lnTo>
                    <a:lnTo>
                      <a:pt x="2562" y="1956"/>
                    </a:lnTo>
                    <a:lnTo>
                      <a:pt x="2558" y="1964"/>
                    </a:lnTo>
                    <a:lnTo>
                      <a:pt x="2660" y="2048"/>
                    </a:lnTo>
                    <a:lnTo>
                      <a:pt x="2617" y="2129"/>
                    </a:lnTo>
                    <a:lnTo>
                      <a:pt x="2475" y="2104"/>
                    </a:lnTo>
                    <a:lnTo>
                      <a:pt x="2385" y="2229"/>
                    </a:lnTo>
                    <a:lnTo>
                      <a:pt x="2451" y="2350"/>
                    </a:lnTo>
                    <a:lnTo>
                      <a:pt x="2383" y="2416"/>
                    </a:lnTo>
                    <a:lnTo>
                      <a:pt x="2263" y="2356"/>
                    </a:lnTo>
                    <a:lnTo>
                      <a:pt x="2257" y="2360"/>
                    </a:lnTo>
                    <a:lnTo>
                      <a:pt x="2242" y="2371"/>
                    </a:lnTo>
                    <a:lnTo>
                      <a:pt x="2220" y="2386"/>
                    </a:lnTo>
                    <a:lnTo>
                      <a:pt x="2196" y="2404"/>
                    </a:lnTo>
                    <a:lnTo>
                      <a:pt x="2171" y="2422"/>
                    </a:lnTo>
                    <a:lnTo>
                      <a:pt x="2148" y="2438"/>
                    </a:lnTo>
                    <a:lnTo>
                      <a:pt x="2130" y="2449"/>
                    </a:lnTo>
                    <a:lnTo>
                      <a:pt x="2121" y="2455"/>
                    </a:lnTo>
                    <a:lnTo>
                      <a:pt x="2165" y="2584"/>
                    </a:lnTo>
                    <a:lnTo>
                      <a:pt x="2084" y="2629"/>
                    </a:lnTo>
                    <a:lnTo>
                      <a:pt x="2127" y="2643"/>
                    </a:lnTo>
                    <a:lnTo>
                      <a:pt x="2204" y="2589"/>
                    </a:lnTo>
                    <a:lnTo>
                      <a:pt x="2165" y="2469"/>
                    </a:lnTo>
                    <a:lnTo>
                      <a:pt x="2170" y="2466"/>
                    </a:lnTo>
                    <a:lnTo>
                      <a:pt x="2180" y="2458"/>
                    </a:lnTo>
                    <a:lnTo>
                      <a:pt x="2196" y="2447"/>
                    </a:lnTo>
                    <a:lnTo>
                      <a:pt x="2215" y="2434"/>
                    </a:lnTo>
                    <a:lnTo>
                      <a:pt x="2233" y="2422"/>
                    </a:lnTo>
                    <a:lnTo>
                      <a:pt x="2249" y="2409"/>
                    </a:lnTo>
                    <a:lnTo>
                      <a:pt x="2262" y="2398"/>
                    </a:lnTo>
                    <a:lnTo>
                      <a:pt x="2268" y="2393"/>
                    </a:lnTo>
                    <a:lnTo>
                      <a:pt x="2383" y="2453"/>
                    </a:lnTo>
                    <a:lnTo>
                      <a:pt x="2489" y="2347"/>
                    </a:lnTo>
                    <a:lnTo>
                      <a:pt x="2425" y="2234"/>
                    </a:lnTo>
                    <a:lnTo>
                      <a:pt x="2497" y="2144"/>
                    </a:lnTo>
                    <a:lnTo>
                      <a:pt x="2626" y="2162"/>
                    </a:lnTo>
                    <a:lnTo>
                      <a:pt x="2698" y="2039"/>
                    </a:lnTo>
                    <a:lnTo>
                      <a:pt x="2599" y="1958"/>
                    </a:lnTo>
                    <a:lnTo>
                      <a:pt x="2648" y="1846"/>
                    </a:lnTo>
                    <a:lnTo>
                      <a:pt x="2775" y="1849"/>
                    </a:lnTo>
                    <a:lnTo>
                      <a:pt x="2816" y="1700"/>
                    </a:lnTo>
                    <a:lnTo>
                      <a:pt x="2701" y="1635"/>
                    </a:lnTo>
                    <a:lnTo>
                      <a:pt x="2718" y="1514"/>
                    </a:lnTo>
                    <a:lnTo>
                      <a:pt x="2840" y="1475"/>
                    </a:lnTo>
                    <a:lnTo>
                      <a:pt x="2840" y="1324"/>
                    </a:lnTo>
                    <a:lnTo>
                      <a:pt x="2719" y="1301"/>
                    </a:lnTo>
                    <a:lnTo>
                      <a:pt x="2701" y="1177"/>
                    </a:lnTo>
                    <a:lnTo>
                      <a:pt x="2807" y="1101"/>
                    </a:lnTo>
                    <a:lnTo>
                      <a:pt x="2767" y="962"/>
                    </a:lnTo>
                    <a:lnTo>
                      <a:pt x="2638" y="962"/>
                    </a:lnTo>
                    <a:lnTo>
                      <a:pt x="2589" y="843"/>
                    </a:lnTo>
                    <a:lnTo>
                      <a:pt x="2674" y="756"/>
                    </a:lnTo>
                    <a:lnTo>
                      <a:pt x="2602" y="626"/>
                    </a:lnTo>
                    <a:lnTo>
                      <a:pt x="2475" y="660"/>
                    </a:lnTo>
                    <a:lnTo>
                      <a:pt x="2402" y="564"/>
                    </a:lnTo>
                    <a:lnTo>
                      <a:pt x="2456" y="452"/>
                    </a:lnTo>
                    <a:lnTo>
                      <a:pt x="2345" y="348"/>
                    </a:lnTo>
                    <a:lnTo>
                      <a:pt x="2236" y="407"/>
                    </a:lnTo>
                    <a:lnTo>
                      <a:pt x="2130" y="332"/>
                    </a:lnTo>
                    <a:lnTo>
                      <a:pt x="2170" y="214"/>
                    </a:lnTo>
                    <a:lnTo>
                      <a:pt x="2039" y="144"/>
                    </a:lnTo>
                    <a:lnTo>
                      <a:pt x="1945" y="230"/>
                    </a:lnTo>
                    <a:lnTo>
                      <a:pt x="1831" y="191"/>
                    </a:lnTo>
                    <a:lnTo>
                      <a:pt x="1828" y="58"/>
                    </a:lnTo>
                    <a:lnTo>
                      <a:pt x="1693" y="25"/>
                    </a:lnTo>
                    <a:lnTo>
                      <a:pt x="1622" y="135"/>
                    </a:lnTo>
                    <a:lnTo>
                      <a:pt x="1502" y="123"/>
                    </a:lnTo>
                    <a:lnTo>
                      <a:pt x="1465" y="0"/>
                    </a:lnTo>
                    <a:lnTo>
                      <a:pt x="1318" y="3"/>
                    </a:lnTo>
                    <a:lnTo>
                      <a:pt x="1279" y="128"/>
                    </a:lnTo>
                    <a:lnTo>
                      <a:pt x="1166" y="145"/>
                    </a:lnTo>
                    <a:lnTo>
                      <a:pt x="1103" y="31"/>
                    </a:lnTo>
                    <a:lnTo>
                      <a:pt x="965" y="69"/>
                    </a:lnTo>
                    <a:lnTo>
                      <a:pt x="958" y="198"/>
                    </a:lnTo>
                    <a:lnTo>
                      <a:pt x="866" y="241"/>
                    </a:lnTo>
                    <a:lnTo>
                      <a:pt x="769" y="153"/>
                    </a:lnTo>
                    <a:lnTo>
                      <a:pt x="642" y="222"/>
                    </a:lnTo>
                    <a:lnTo>
                      <a:pt x="672" y="351"/>
                    </a:lnTo>
                    <a:lnTo>
                      <a:pt x="580" y="418"/>
                    </a:lnTo>
                    <a:lnTo>
                      <a:pt x="456" y="370"/>
                    </a:lnTo>
                    <a:lnTo>
                      <a:pt x="355" y="469"/>
                    </a:lnTo>
                    <a:lnTo>
                      <a:pt x="420" y="575"/>
                    </a:lnTo>
                    <a:lnTo>
                      <a:pt x="350" y="677"/>
                    </a:lnTo>
                    <a:lnTo>
                      <a:pt x="215" y="649"/>
                    </a:lnTo>
                    <a:lnTo>
                      <a:pt x="152" y="760"/>
                    </a:lnTo>
                    <a:lnTo>
                      <a:pt x="239" y="859"/>
                    </a:lnTo>
                    <a:lnTo>
                      <a:pt x="195" y="972"/>
                    </a:lnTo>
                    <a:lnTo>
                      <a:pt x="67" y="975"/>
                    </a:lnTo>
                    <a:lnTo>
                      <a:pt x="23" y="1121"/>
                    </a:lnTo>
                    <a:lnTo>
                      <a:pt x="135" y="1189"/>
                    </a:lnTo>
                    <a:lnTo>
                      <a:pt x="125" y="1313"/>
                    </a:lnTo>
                    <a:lnTo>
                      <a:pt x="0" y="1346"/>
                    </a:lnTo>
                    <a:lnTo>
                      <a:pt x="0" y="1457"/>
                    </a:lnTo>
                    <a:lnTo>
                      <a:pt x="32" y="14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492240" y="3336840"/>
                <a:ext cx="16560" cy="16200"/>
              </a:xfrm>
              <a:custGeom>
                <a:avLst/>
                <a:gdLst/>
                <a:ahLst/>
                <a:rect l="l" t="t" r="r" b="b"/>
                <a:pathLst>
                  <a:path w="531" h="531">
                    <a:moveTo>
                      <a:pt x="266" y="531"/>
                    </a:moveTo>
                    <a:lnTo>
                      <a:pt x="239" y="530"/>
                    </a:lnTo>
                    <a:lnTo>
                      <a:pt x="213" y="526"/>
                    </a:lnTo>
                    <a:lnTo>
                      <a:pt x="188" y="520"/>
                    </a:lnTo>
                    <a:lnTo>
                      <a:pt x="163" y="511"/>
                    </a:lnTo>
                    <a:lnTo>
                      <a:pt x="140" y="499"/>
                    </a:lnTo>
                    <a:lnTo>
                      <a:pt x="118" y="486"/>
                    </a:lnTo>
                    <a:lnTo>
                      <a:pt x="97" y="470"/>
                    </a:lnTo>
                    <a:lnTo>
                      <a:pt x="79" y="453"/>
                    </a:lnTo>
                    <a:lnTo>
                      <a:pt x="61" y="435"/>
                    </a:lnTo>
                    <a:lnTo>
                      <a:pt x="46" y="414"/>
                    </a:lnTo>
                    <a:lnTo>
                      <a:pt x="33" y="392"/>
                    </a:lnTo>
                    <a:lnTo>
                      <a:pt x="21" y="369"/>
                    </a:lnTo>
                    <a:lnTo>
                      <a:pt x="12" y="345"/>
                    </a:lnTo>
                    <a:lnTo>
                      <a:pt x="6" y="319"/>
                    </a:lnTo>
                    <a:lnTo>
                      <a:pt x="2" y="293"/>
                    </a:lnTo>
                    <a:lnTo>
                      <a:pt x="0" y="265"/>
                    </a:lnTo>
                    <a:lnTo>
                      <a:pt x="2" y="239"/>
                    </a:lnTo>
                    <a:lnTo>
                      <a:pt x="6" y="212"/>
                    </a:lnTo>
                    <a:lnTo>
                      <a:pt x="12" y="187"/>
                    </a:lnTo>
                    <a:lnTo>
                      <a:pt x="21" y="163"/>
                    </a:lnTo>
                    <a:lnTo>
                      <a:pt x="33" y="140"/>
                    </a:lnTo>
                    <a:lnTo>
                      <a:pt x="46" y="118"/>
                    </a:lnTo>
                    <a:lnTo>
                      <a:pt x="61" y="97"/>
                    </a:lnTo>
                    <a:lnTo>
                      <a:pt x="79" y="79"/>
                    </a:lnTo>
                    <a:lnTo>
                      <a:pt x="97" y="61"/>
                    </a:lnTo>
                    <a:lnTo>
                      <a:pt x="118" y="46"/>
                    </a:lnTo>
                    <a:lnTo>
                      <a:pt x="140" y="32"/>
                    </a:lnTo>
                    <a:lnTo>
                      <a:pt x="163" y="21"/>
                    </a:lnTo>
                    <a:lnTo>
                      <a:pt x="188" y="12"/>
                    </a:lnTo>
                    <a:lnTo>
                      <a:pt x="213" y="6"/>
                    </a:lnTo>
                    <a:lnTo>
                      <a:pt x="239" y="1"/>
                    </a:lnTo>
                    <a:lnTo>
                      <a:pt x="266" y="0"/>
                    </a:lnTo>
                    <a:lnTo>
                      <a:pt x="294" y="1"/>
                    </a:lnTo>
                    <a:lnTo>
                      <a:pt x="319" y="6"/>
                    </a:lnTo>
                    <a:lnTo>
                      <a:pt x="345" y="12"/>
                    </a:lnTo>
                    <a:lnTo>
                      <a:pt x="370" y="21"/>
                    </a:lnTo>
                    <a:lnTo>
                      <a:pt x="393" y="32"/>
                    </a:lnTo>
                    <a:lnTo>
                      <a:pt x="415" y="46"/>
                    </a:lnTo>
                    <a:lnTo>
                      <a:pt x="435" y="61"/>
                    </a:lnTo>
                    <a:lnTo>
                      <a:pt x="454" y="79"/>
                    </a:lnTo>
                    <a:lnTo>
                      <a:pt x="470" y="97"/>
                    </a:lnTo>
                    <a:lnTo>
                      <a:pt x="486" y="118"/>
                    </a:lnTo>
                    <a:lnTo>
                      <a:pt x="499" y="140"/>
                    </a:lnTo>
                    <a:lnTo>
                      <a:pt x="511" y="163"/>
                    </a:lnTo>
                    <a:lnTo>
                      <a:pt x="520" y="187"/>
                    </a:lnTo>
                    <a:lnTo>
                      <a:pt x="526" y="212"/>
                    </a:lnTo>
                    <a:lnTo>
                      <a:pt x="530" y="239"/>
                    </a:lnTo>
                    <a:lnTo>
                      <a:pt x="531" y="265"/>
                    </a:lnTo>
                    <a:lnTo>
                      <a:pt x="530" y="293"/>
                    </a:lnTo>
                    <a:lnTo>
                      <a:pt x="526" y="319"/>
                    </a:lnTo>
                    <a:lnTo>
                      <a:pt x="520" y="345"/>
                    </a:lnTo>
                    <a:lnTo>
                      <a:pt x="511" y="369"/>
                    </a:lnTo>
                    <a:lnTo>
                      <a:pt x="499" y="392"/>
                    </a:lnTo>
                    <a:lnTo>
                      <a:pt x="486" y="414"/>
                    </a:lnTo>
                    <a:lnTo>
                      <a:pt x="470" y="435"/>
                    </a:lnTo>
                    <a:lnTo>
                      <a:pt x="454" y="453"/>
                    </a:lnTo>
                    <a:lnTo>
                      <a:pt x="435" y="470"/>
                    </a:lnTo>
                    <a:lnTo>
                      <a:pt x="415" y="486"/>
                    </a:lnTo>
                    <a:lnTo>
                      <a:pt x="393" y="499"/>
                    </a:lnTo>
                    <a:lnTo>
                      <a:pt x="370" y="511"/>
                    </a:lnTo>
                    <a:lnTo>
                      <a:pt x="345" y="520"/>
                    </a:lnTo>
                    <a:lnTo>
                      <a:pt x="319" y="526"/>
                    </a:lnTo>
                    <a:lnTo>
                      <a:pt x="294" y="530"/>
                    </a:lnTo>
                    <a:lnTo>
                      <a:pt x="266" y="5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92960" y="333756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486" h="487">
                    <a:moveTo>
                      <a:pt x="243" y="487"/>
                    </a:moveTo>
                    <a:lnTo>
                      <a:pt x="219" y="486"/>
                    </a:lnTo>
                    <a:lnTo>
                      <a:pt x="195" y="483"/>
                    </a:lnTo>
                    <a:lnTo>
                      <a:pt x="171" y="476"/>
                    </a:lnTo>
                    <a:lnTo>
                      <a:pt x="149" y="468"/>
                    </a:lnTo>
                    <a:lnTo>
                      <a:pt x="128" y="457"/>
                    </a:lnTo>
                    <a:lnTo>
                      <a:pt x="108" y="446"/>
                    </a:lnTo>
                    <a:lnTo>
                      <a:pt x="89" y="432"/>
                    </a:lnTo>
                    <a:lnTo>
                      <a:pt x="72" y="416"/>
                    </a:lnTo>
                    <a:lnTo>
                      <a:pt x="56" y="399"/>
                    </a:lnTo>
                    <a:lnTo>
                      <a:pt x="42" y="379"/>
                    </a:lnTo>
                    <a:lnTo>
                      <a:pt x="30" y="360"/>
                    </a:lnTo>
                    <a:lnTo>
                      <a:pt x="20" y="338"/>
                    </a:lnTo>
                    <a:lnTo>
                      <a:pt x="12" y="316"/>
                    </a:lnTo>
                    <a:lnTo>
                      <a:pt x="5" y="293"/>
                    </a:lnTo>
                    <a:lnTo>
                      <a:pt x="2" y="269"/>
                    </a:lnTo>
                    <a:lnTo>
                      <a:pt x="0" y="243"/>
                    </a:lnTo>
                    <a:lnTo>
                      <a:pt x="2" y="219"/>
                    </a:lnTo>
                    <a:lnTo>
                      <a:pt x="5" y="195"/>
                    </a:lnTo>
                    <a:lnTo>
                      <a:pt x="12" y="171"/>
                    </a:lnTo>
                    <a:lnTo>
                      <a:pt x="20" y="149"/>
                    </a:lnTo>
                    <a:lnTo>
                      <a:pt x="30" y="128"/>
                    </a:lnTo>
                    <a:lnTo>
                      <a:pt x="42" y="107"/>
                    </a:lnTo>
                    <a:lnTo>
                      <a:pt x="56" y="89"/>
                    </a:lnTo>
                    <a:lnTo>
                      <a:pt x="72" y="72"/>
                    </a:lnTo>
                    <a:lnTo>
                      <a:pt x="89" y="55"/>
                    </a:lnTo>
                    <a:lnTo>
                      <a:pt x="108" y="42"/>
                    </a:lnTo>
                    <a:lnTo>
                      <a:pt x="128" y="30"/>
                    </a:lnTo>
                    <a:lnTo>
                      <a:pt x="149" y="20"/>
                    </a:lnTo>
                    <a:lnTo>
                      <a:pt x="171" y="12"/>
                    </a:lnTo>
                    <a:lnTo>
                      <a:pt x="195" y="5"/>
                    </a:lnTo>
                    <a:lnTo>
                      <a:pt x="219" y="1"/>
                    </a:lnTo>
                    <a:lnTo>
                      <a:pt x="243" y="0"/>
                    </a:lnTo>
                    <a:lnTo>
                      <a:pt x="268" y="1"/>
                    </a:lnTo>
                    <a:lnTo>
                      <a:pt x="292" y="5"/>
                    </a:lnTo>
                    <a:lnTo>
                      <a:pt x="316" y="12"/>
                    </a:lnTo>
                    <a:lnTo>
                      <a:pt x="338" y="20"/>
                    </a:lnTo>
                    <a:lnTo>
                      <a:pt x="359" y="30"/>
                    </a:lnTo>
                    <a:lnTo>
                      <a:pt x="379" y="42"/>
                    </a:lnTo>
                    <a:lnTo>
                      <a:pt x="398" y="55"/>
                    </a:lnTo>
                    <a:lnTo>
                      <a:pt x="415" y="72"/>
                    </a:lnTo>
                    <a:lnTo>
                      <a:pt x="431" y="89"/>
                    </a:lnTo>
                    <a:lnTo>
                      <a:pt x="445" y="107"/>
                    </a:lnTo>
                    <a:lnTo>
                      <a:pt x="457" y="128"/>
                    </a:lnTo>
                    <a:lnTo>
                      <a:pt x="467" y="149"/>
                    </a:lnTo>
                    <a:lnTo>
                      <a:pt x="475" y="171"/>
                    </a:lnTo>
                    <a:lnTo>
                      <a:pt x="482" y="195"/>
                    </a:lnTo>
                    <a:lnTo>
                      <a:pt x="485" y="219"/>
                    </a:lnTo>
                    <a:lnTo>
                      <a:pt x="486" y="243"/>
                    </a:lnTo>
                    <a:lnTo>
                      <a:pt x="485" y="269"/>
                    </a:lnTo>
                    <a:lnTo>
                      <a:pt x="482" y="293"/>
                    </a:lnTo>
                    <a:lnTo>
                      <a:pt x="475" y="316"/>
                    </a:lnTo>
                    <a:lnTo>
                      <a:pt x="467" y="338"/>
                    </a:lnTo>
                    <a:lnTo>
                      <a:pt x="457" y="360"/>
                    </a:lnTo>
                    <a:lnTo>
                      <a:pt x="445" y="379"/>
                    </a:lnTo>
                    <a:lnTo>
                      <a:pt x="431" y="399"/>
                    </a:lnTo>
                    <a:lnTo>
                      <a:pt x="415" y="416"/>
                    </a:lnTo>
                    <a:lnTo>
                      <a:pt x="398" y="432"/>
                    </a:lnTo>
                    <a:lnTo>
                      <a:pt x="379" y="446"/>
                    </a:lnTo>
                    <a:lnTo>
                      <a:pt x="359" y="457"/>
                    </a:lnTo>
                    <a:lnTo>
                      <a:pt x="338" y="468"/>
                    </a:lnTo>
                    <a:lnTo>
                      <a:pt x="316" y="476"/>
                    </a:lnTo>
                    <a:lnTo>
                      <a:pt x="292" y="483"/>
                    </a:lnTo>
                    <a:lnTo>
                      <a:pt x="268" y="486"/>
                    </a:lnTo>
                    <a:lnTo>
                      <a:pt x="243" y="4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97640" y="33418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199" h="198">
                    <a:moveTo>
                      <a:pt x="99" y="198"/>
                    </a:moveTo>
                    <a:lnTo>
                      <a:pt x="80" y="196"/>
                    </a:lnTo>
                    <a:lnTo>
                      <a:pt x="61" y="190"/>
                    </a:lnTo>
                    <a:lnTo>
                      <a:pt x="44" y="181"/>
                    </a:lnTo>
                    <a:lnTo>
                      <a:pt x="29" y="168"/>
                    </a:lnTo>
                    <a:lnTo>
                      <a:pt x="18" y="155"/>
                    </a:lnTo>
                    <a:lnTo>
                      <a:pt x="8" y="137"/>
                    </a:lnTo>
                    <a:lnTo>
                      <a:pt x="3" y="119"/>
                    </a:lnTo>
                    <a:lnTo>
                      <a:pt x="0" y="98"/>
                    </a:lnTo>
                    <a:lnTo>
                      <a:pt x="3" y="79"/>
                    </a:lnTo>
                    <a:lnTo>
                      <a:pt x="8" y="59"/>
                    </a:lnTo>
                    <a:lnTo>
                      <a:pt x="18" y="43"/>
                    </a:lnTo>
                    <a:lnTo>
                      <a:pt x="29" y="28"/>
                    </a:lnTo>
                    <a:lnTo>
                      <a:pt x="44" y="16"/>
                    </a:lnTo>
                    <a:lnTo>
                      <a:pt x="61" y="8"/>
                    </a:lnTo>
                    <a:lnTo>
                      <a:pt x="80" y="3"/>
                    </a:lnTo>
                    <a:lnTo>
                      <a:pt x="99" y="0"/>
                    </a:lnTo>
                    <a:lnTo>
                      <a:pt x="119" y="3"/>
                    </a:lnTo>
                    <a:lnTo>
                      <a:pt x="139" y="8"/>
                    </a:lnTo>
                    <a:lnTo>
                      <a:pt x="155" y="16"/>
                    </a:lnTo>
                    <a:lnTo>
                      <a:pt x="170" y="28"/>
                    </a:lnTo>
                    <a:lnTo>
                      <a:pt x="181" y="43"/>
                    </a:lnTo>
                    <a:lnTo>
                      <a:pt x="190" y="59"/>
                    </a:lnTo>
                    <a:lnTo>
                      <a:pt x="196" y="79"/>
                    </a:lnTo>
                    <a:lnTo>
                      <a:pt x="199" y="98"/>
                    </a:lnTo>
                    <a:lnTo>
                      <a:pt x="196" y="119"/>
                    </a:lnTo>
                    <a:lnTo>
                      <a:pt x="190" y="137"/>
                    </a:lnTo>
                    <a:lnTo>
                      <a:pt x="181" y="155"/>
                    </a:lnTo>
                    <a:lnTo>
                      <a:pt x="170" y="168"/>
                    </a:lnTo>
                    <a:lnTo>
                      <a:pt x="155" y="181"/>
                    </a:lnTo>
                    <a:lnTo>
                      <a:pt x="139" y="190"/>
                    </a:lnTo>
                    <a:lnTo>
                      <a:pt x="119" y="196"/>
                    </a:lnTo>
                    <a:lnTo>
                      <a:pt x="99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498360" y="33429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71" y="143"/>
                    </a:moveTo>
                    <a:lnTo>
                      <a:pt x="58" y="142"/>
                    </a:lnTo>
                    <a:lnTo>
                      <a:pt x="44" y="137"/>
                    </a:lnTo>
                    <a:lnTo>
                      <a:pt x="31" y="130"/>
                    </a:lnTo>
                    <a:lnTo>
                      <a:pt x="21" y="122"/>
                    </a:lnTo>
                    <a:lnTo>
                      <a:pt x="13" y="111"/>
                    </a:lnTo>
                    <a:lnTo>
                      <a:pt x="6" y="99"/>
                    </a:lnTo>
                    <a:lnTo>
                      <a:pt x="1" y="85"/>
                    </a:lnTo>
                    <a:lnTo>
                      <a:pt x="0" y="70"/>
                    </a:lnTo>
                    <a:lnTo>
                      <a:pt x="1" y="56"/>
                    </a:lnTo>
                    <a:lnTo>
                      <a:pt x="6" y="43"/>
                    </a:lnTo>
                    <a:lnTo>
                      <a:pt x="13" y="31"/>
                    </a:lnTo>
                    <a:lnTo>
                      <a:pt x="21" y="21"/>
                    </a:lnTo>
                    <a:lnTo>
                      <a:pt x="31" y="11"/>
                    </a:lnTo>
                    <a:lnTo>
                      <a:pt x="44" y="6"/>
                    </a:lnTo>
                    <a:lnTo>
                      <a:pt x="58" y="1"/>
                    </a:lnTo>
                    <a:lnTo>
                      <a:pt x="71" y="0"/>
                    </a:lnTo>
                    <a:lnTo>
                      <a:pt x="86" y="1"/>
                    </a:lnTo>
                    <a:lnTo>
                      <a:pt x="100" y="6"/>
                    </a:lnTo>
                    <a:lnTo>
                      <a:pt x="112" y="11"/>
                    </a:lnTo>
                    <a:lnTo>
                      <a:pt x="123" y="21"/>
                    </a:lnTo>
                    <a:lnTo>
                      <a:pt x="131" y="31"/>
                    </a:lnTo>
                    <a:lnTo>
                      <a:pt x="138" y="43"/>
                    </a:lnTo>
                    <a:lnTo>
                      <a:pt x="143" y="56"/>
                    </a:lnTo>
                    <a:lnTo>
                      <a:pt x="144" y="70"/>
                    </a:lnTo>
                    <a:lnTo>
                      <a:pt x="143" y="85"/>
                    </a:lnTo>
                    <a:lnTo>
                      <a:pt x="138" y="99"/>
                    </a:lnTo>
                    <a:lnTo>
                      <a:pt x="131" y="111"/>
                    </a:lnTo>
                    <a:lnTo>
                      <a:pt x="123" y="122"/>
                    </a:lnTo>
                    <a:lnTo>
                      <a:pt x="112" y="130"/>
                    </a:lnTo>
                    <a:lnTo>
                      <a:pt x="100" y="137"/>
                    </a:lnTo>
                    <a:lnTo>
                      <a:pt x="86" y="142"/>
                    </a:lnTo>
                    <a:lnTo>
                      <a:pt x="71" y="1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"/>
          <p:cNvSpPr/>
          <p:nvPr/>
        </p:nvSpPr>
        <p:spPr>
          <a:xfrm>
            <a:off x="6640560" y="3144960"/>
            <a:ext cx="2139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"/>
              </a:rPr>
              <a:t>Semantic 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43280" y="3098880"/>
            <a:ext cx="4381560" cy="115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86400" y="3149640"/>
            <a:ext cx="2597400" cy="253800"/>
          </a:xfrm>
          <a:prstGeom prst="rect">
            <a:avLst/>
          </a:prstGeom>
          <a:noFill/>
          <a:ln w="190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86400" y="3433680"/>
            <a:ext cx="2597400" cy="255600"/>
          </a:xfrm>
          <a:prstGeom prst="rect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375240" y="3719520"/>
            <a:ext cx="2598840" cy="223920"/>
          </a:xfrm>
          <a:prstGeom prst="rect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375240" y="3973680"/>
            <a:ext cx="2598840" cy="223560"/>
          </a:xfrm>
          <a:prstGeom prst="rect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05440" y="3649680"/>
            <a:ext cx="122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man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83160" y="3963960"/>
            <a:ext cx="100080" cy="144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724280" y="3760920"/>
            <a:ext cx="319320" cy="355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42" name=""/>
          <p:cNvSpPr/>
          <p:nvPr/>
        </p:nvSpPr>
        <p:spPr>
          <a:xfrm>
            <a:off x="4583160" y="4438800"/>
            <a:ext cx="100080" cy="144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83160" y="4540320"/>
            <a:ext cx="100080" cy="144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83160" y="4629240"/>
            <a:ext cx="101520" cy="144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37240" y="4295880"/>
            <a:ext cx="4390920" cy="50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05200" y="4327560"/>
            <a:ext cx="4391280" cy="50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75320" y="4357800"/>
            <a:ext cx="4390920" cy="50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5080" y="4387680"/>
            <a:ext cx="4390920" cy="509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88080" y="4341960"/>
            <a:ext cx="907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ask-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78520" y="4479840"/>
            <a:ext cx="2954520" cy="355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49800" y="4397400"/>
            <a:ext cx="405000" cy="411120"/>
          </a:xfrm>
          <a:custGeom>
            <a:avLst/>
            <a:gdLst/>
            <a:ahLst/>
            <a:rect l="l" t="t" r="r" b="b"/>
            <a:pathLst>
              <a:path w="2151" h="2083">
                <a:moveTo>
                  <a:pt x="1360" y="24"/>
                </a:moveTo>
                <a:lnTo>
                  <a:pt x="1367" y="29"/>
                </a:lnTo>
                <a:lnTo>
                  <a:pt x="1373" y="34"/>
                </a:lnTo>
                <a:lnTo>
                  <a:pt x="1379" y="40"/>
                </a:lnTo>
                <a:lnTo>
                  <a:pt x="1386" y="45"/>
                </a:lnTo>
                <a:lnTo>
                  <a:pt x="1391" y="52"/>
                </a:lnTo>
                <a:lnTo>
                  <a:pt x="1397" y="58"/>
                </a:lnTo>
                <a:lnTo>
                  <a:pt x="1401" y="64"/>
                </a:lnTo>
                <a:lnTo>
                  <a:pt x="1406" y="72"/>
                </a:lnTo>
                <a:lnTo>
                  <a:pt x="1409" y="85"/>
                </a:lnTo>
                <a:lnTo>
                  <a:pt x="1410" y="98"/>
                </a:lnTo>
                <a:lnTo>
                  <a:pt x="1409" y="111"/>
                </a:lnTo>
                <a:lnTo>
                  <a:pt x="1406" y="122"/>
                </a:lnTo>
                <a:lnTo>
                  <a:pt x="1401" y="134"/>
                </a:lnTo>
                <a:lnTo>
                  <a:pt x="1395" y="144"/>
                </a:lnTo>
                <a:lnTo>
                  <a:pt x="1390" y="155"/>
                </a:lnTo>
                <a:lnTo>
                  <a:pt x="1385" y="166"/>
                </a:lnTo>
                <a:lnTo>
                  <a:pt x="1377" y="174"/>
                </a:lnTo>
                <a:lnTo>
                  <a:pt x="1369" y="180"/>
                </a:lnTo>
                <a:lnTo>
                  <a:pt x="1360" y="185"/>
                </a:lnTo>
                <a:lnTo>
                  <a:pt x="1350" y="191"/>
                </a:lnTo>
                <a:lnTo>
                  <a:pt x="1341" y="197"/>
                </a:lnTo>
                <a:lnTo>
                  <a:pt x="1333" y="204"/>
                </a:lnTo>
                <a:lnTo>
                  <a:pt x="1325" y="211"/>
                </a:lnTo>
                <a:lnTo>
                  <a:pt x="1318" y="220"/>
                </a:lnTo>
                <a:lnTo>
                  <a:pt x="1335" y="230"/>
                </a:lnTo>
                <a:lnTo>
                  <a:pt x="1356" y="230"/>
                </a:lnTo>
                <a:lnTo>
                  <a:pt x="1376" y="229"/>
                </a:lnTo>
                <a:lnTo>
                  <a:pt x="1395" y="228"/>
                </a:lnTo>
                <a:lnTo>
                  <a:pt x="1415" y="227"/>
                </a:lnTo>
                <a:lnTo>
                  <a:pt x="1435" y="225"/>
                </a:lnTo>
                <a:lnTo>
                  <a:pt x="1454" y="223"/>
                </a:lnTo>
                <a:lnTo>
                  <a:pt x="1474" y="222"/>
                </a:lnTo>
                <a:lnTo>
                  <a:pt x="1493" y="221"/>
                </a:lnTo>
                <a:lnTo>
                  <a:pt x="1513" y="220"/>
                </a:lnTo>
                <a:lnTo>
                  <a:pt x="1532" y="219"/>
                </a:lnTo>
                <a:lnTo>
                  <a:pt x="1552" y="219"/>
                </a:lnTo>
                <a:lnTo>
                  <a:pt x="1573" y="219"/>
                </a:lnTo>
                <a:lnTo>
                  <a:pt x="1592" y="220"/>
                </a:lnTo>
                <a:lnTo>
                  <a:pt x="1613" y="221"/>
                </a:lnTo>
                <a:lnTo>
                  <a:pt x="1634" y="223"/>
                </a:lnTo>
                <a:lnTo>
                  <a:pt x="1655" y="227"/>
                </a:lnTo>
                <a:lnTo>
                  <a:pt x="1670" y="236"/>
                </a:lnTo>
                <a:lnTo>
                  <a:pt x="1679" y="250"/>
                </a:lnTo>
                <a:lnTo>
                  <a:pt x="1685" y="267"/>
                </a:lnTo>
                <a:lnTo>
                  <a:pt x="1688" y="286"/>
                </a:lnTo>
                <a:lnTo>
                  <a:pt x="1689" y="296"/>
                </a:lnTo>
                <a:lnTo>
                  <a:pt x="1688" y="305"/>
                </a:lnTo>
                <a:lnTo>
                  <a:pt x="1685" y="314"/>
                </a:lnTo>
                <a:lnTo>
                  <a:pt x="1680" y="323"/>
                </a:lnTo>
                <a:lnTo>
                  <a:pt x="1674" y="331"/>
                </a:lnTo>
                <a:lnTo>
                  <a:pt x="1666" y="335"/>
                </a:lnTo>
                <a:lnTo>
                  <a:pt x="1657" y="339"/>
                </a:lnTo>
                <a:lnTo>
                  <a:pt x="1647" y="340"/>
                </a:lnTo>
                <a:lnTo>
                  <a:pt x="1637" y="342"/>
                </a:lnTo>
                <a:lnTo>
                  <a:pt x="1628" y="346"/>
                </a:lnTo>
                <a:lnTo>
                  <a:pt x="1620" y="350"/>
                </a:lnTo>
                <a:lnTo>
                  <a:pt x="1613" y="358"/>
                </a:lnTo>
                <a:lnTo>
                  <a:pt x="1614" y="371"/>
                </a:lnTo>
                <a:lnTo>
                  <a:pt x="1618" y="379"/>
                </a:lnTo>
                <a:lnTo>
                  <a:pt x="1625" y="385"/>
                </a:lnTo>
                <a:lnTo>
                  <a:pt x="1634" y="387"/>
                </a:lnTo>
                <a:lnTo>
                  <a:pt x="1644" y="389"/>
                </a:lnTo>
                <a:lnTo>
                  <a:pt x="1655" y="390"/>
                </a:lnTo>
                <a:lnTo>
                  <a:pt x="1664" y="393"/>
                </a:lnTo>
                <a:lnTo>
                  <a:pt x="1673" y="396"/>
                </a:lnTo>
                <a:lnTo>
                  <a:pt x="1687" y="395"/>
                </a:lnTo>
                <a:lnTo>
                  <a:pt x="1700" y="394"/>
                </a:lnTo>
                <a:lnTo>
                  <a:pt x="1713" y="394"/>
                </a:lnTo>
                <a:lnTo>
                  <a:pt x="1727" y="394"/>
                </a:lnTo>
                <a:lnTo>
                  <a:pt x="1741" y="394"/>
                </a:lnTo>
                <a:lnTo>
                  <a:pt x="1755" y="394"/>
                </a:lnTo>
                <a:lnTo>
                  <a:pt x="1769" y="394"/>
                </a:lnTo>
                <a:lnTo>
                  <a:pt x="1782" y="393"/>
                </a:lnTo>
                <a:lnTo>
                  <a:pt x="1795" y="390"/>
                </a:lnTo>
                <a:lnTo>
                  <a:pt x="1808" y="388"/>
                </a:lnTo>
                <a:lnTo>
                  <a:pt x="1820" y="385"/>
                </a:lnTo>
                <a:lnTo>
                  <a:pt x="1832" y="380"/>
                </a:lnTo>
                <a:lnTo>
                  <a:pt x="1842" y="373"/>
                </a:lnTo>
                <a:lnTo>
                  <a:pt x="1853" y="365"/>
                </a:lnTo>
                <a:lnTo>
                  <a:pt x="1862" y="356"/>
                </a:lnTo>
                <a:lnTo>
                  <a:pt x="1871" y="344"/>
                </a:lnTo>
                <a:lnTo>
                  <a:pt x="1861" y="339"/>
                </a:lnTo>
                <a:lnTo>
                  <a:pt x="1853" y="332"/>
                </a:lnTo>
                <a:lnTo>
                  <a:pt x="1845" y="324"/>
                </a:lnTo>
                <a:lnTo>
                  <a:pt x="1838" y="316"/>
                </a:lnTo>
                <a:lnTo>
                  <a:pt x="1832" y="306"/>
                </a:lnTo>
                <a:lnTo>
                  <a:pt x="1825" y="297"/>
                </a:lnTo>
                <a:lnTo>
                  <a:pt x="1819" y="289"/>
                </a:lnTo>
                <a:lnTo>
                  <a:pt x="1812" y="280"/>
                </a:lnTo>
                <a:lnTo>
                  <a:pt x="1812" y="260"/>
                </a:lnTo>
                <a:lnTo>
                  <a:pt x="1815" y="242"/>
                </a:lnTo>
                <a:lnTo>
                  <a:pt x="1818" y="225"/>
                </a:lnTo>
                <a:lnTo>
                  <a:pt x="1827" y="210"/>
                </a:lnTo>
                <a:lnTo>
                  <a:pt x="1834" y="206"/>
                </a:lnTo>
                <a:lnTo>
                  <a:pt x="1842" y="205"/>
                </a:lnTo>
                <a:lnTo>
                  <a:pt x="1850" y="204"/>
                </a:lnTo>
                <a:lnTo>
                  <a:pt x="1857" y="204"/>
                </a:lnTo>
                <a:lnTo>
                  <a:pt x="1875" y="205"/>
                </a:lnTo>
                <a:lnTo>
                  <a:pt x="1893" y="206"/>
                </a:lnTo>
                <a:lnTo>
                  <a:pt x="1910" y="207"/>
                </a:lnTo>
                <a:lnTo>
                  <a:pt x="1929" y="208"/>
                </a:lnTo>
                <a:lnTo>
                  <a:pt x="1946" y="210"/>
                </a:lnTo>
                <a:lnTo>
                  <a:pt x="1964" y="211"/>
                </a:lnTo>
                <a:lnTo>
                  <a:pt x="1983" y="212"/>
                </a:lnTo>
                <a:lnTo>
                  <a:pt x="2001" y="213"/>
                </a:lnTo>
                <a:lnTo>
                  <a:pt x="2019" y="214"/>
                </a:lnTo>
                <a:lnTo>
                  <a:pt x="2037" y="215"/>
                </a:lnTo>
                <a:lnTo>
                  <a:pt x="2056" y="218"/>
                </a:lnTo>
                <a:lnTo>
                  <a:pt x="2074" y="219"/>
                </a:lnTo>
                <a:lnTo>
                  <a:pt x="2091" y="221"/>
                </a:lnTo>
                <a:lnTo>
                  <a:pt x="2110" y="223"/>
                </a:lnTo>
                <a:lnTo>
                  <a:pt x="2128" y="226"/>
                </a:lnTo>
                <a:lnTo>
                  <a:pt x="2145" y="229"/>
                </a:lnTo>
                <a:lnTo>
                  <a:pt x="2145" y="248"/>
                </a:lnTo>
                <a:lnTo>
                  <a:pt x="2145" y="268"/>
                </a:lnTo>
                <a:lnTo>
                  <a:pt x="2145" y="289"/>
                </a:lnTo>
                <a:lnTo>
                  <a:pt x="2149" y="309"/>
                </a:lnTo>
                <a:lnTo>
                  <a:pt x="2136" y="328"/>
                </a:lnTo>
                <a:lnTo>
                  <a:pt x="2122" y="347"/>
                </a:lnTo>
                <a:lnTo>
                  <a:pt x="2109" y="365"/>
                </a:lnTo>
                <a:lnTo>
                  <a:pt x="2095" y="384"/>
                </a:lnTo>
                <a:lnTo>
                  <a:pt x="2080" y="401"/>
                </a:lnTo>
                <a:lnTo>
                  <a:pt x="2067" y="419"/>
                </a:lnTo>
                <a:lnTo>
                  <a:pt x="2054" y="439"/>
                </a:lnTo>
                <a:lnTo>
                  <a:pt x="2043" y="458"/>
                </a:lnTo>
                <a:lnTo>
                  <a:pt x="2050" y="464"/>
                </a:lnTo>
                <a:lnTo>
                  <a:pt x="2058" y="468"/>
                </a:lnTo>
                <a:lnTo>
                  <a:pt x="2067" y="470"/>
                </a:lnTo>
                <a:lnTo>
                  <a:pt x="2076" y="472"/>
                </a:lnTo>
                <a:lnTo>
                  <a:pt x="2085" y="475"/>
                </a:lnTo>
                <a:lnTo>
                  <a:pt x="2094" y="477"/>
                </a:lnTo>
                <a:lnTo>
                  <a:pt x="2103" y="482"/>
                </a:lnTo>
                <a:lnTo>
                  <a:pt x="2110" y="488"/>
                </a:lnTo>
                <a:lnTo>
                  <a:pt x="2120" y="496"/>
                </a:lnTo>
                <a:lnTo>
                  <a:pt x="2128" y="506"/>
                </a:lnTo>
                <a:lnTo>
                  <a:pt x="2135" y="516"/>
                </a:lnTo>
                <a:lnTo>
                  <a:pt x="2140" y="528"/>
                </a:lnTo>
                <a:lnTo>
                  <a:pt x="2144" y="540"/>
                </a:lnTo>
                <a:lnTo>
                  <a:pt x="2148" y="553"/>
                </a:lnTo>
                <a:lnTo>
                  <a:pt x="2150" y="566"/>
                </a:lnTo>
                <a:lnTo>
                  <a:pt x="2151" y="578"/>
                </a:lnTo>
                <a:lnTo>
                  <a:pt x="2148" y="599"/>
                </a:lnTo>
                <a:lnTo>
                  <a:pt x="2142" y="620"/>
                </a:lnTo>
                <a:lnTo>
                  <a:pt x="2135" y="641"/>
                </a:lnTo>
                <a:lnTo>
                  <a:pt x="2126" y="661"/>
                </a:lnTo>
                <a:lnTo>
                  <a:pt x="2115" y="682"/>
                </a:lnTo>
                <a:lnTo>
                  <a:pt x="2104" y="702"/>
                </a:lnTo>
                <a:lnTo>
                  <a:pt x="2091" y="720"/>
                </a:lnTo>
                <a:lnTo>
                  <a:pt x="2077" y="737"/>
                </a:lnTo>
                <a:lnTo>
                  <a:pt x="2062" y="755"/>
                </a:lnTo>
                <a:lnTo>
                  <a:pt x="2045" y="771"/>
                </a:lnTo>
                <a:lnTo>
                  <a:pt x="2028" y="786"/>
                </a:lnTo>
                <a:lnTo>
                  <a:pt x="2011" y="798"/>
                </a:lnTo>
                <a:lnTo>
                  <a:pt x="1991" y="810"/>
                </a:lnTo>
                <a:lnTo>
                  <a:pt x="1971" y="820"/>
                </a:lnTo>
                <a:lnTo>
                  <a:pt x="1951" y="828"/>
                </a:lnTo>
                <a:lnTo>
                  <a:pt x="1930" y="835"/>
                </a:lnTo>
                <a:lnTo>
                  <a:pt x="1918" y="836"/>
                </a:lnTo>
                <a:lnTo>
                  <a:pt x="1906" y="836"/>
                </a:lnTo>
                <a:lnTo>
                  <a:pt x="1894" y="834"/>
                </a:lnTo>
                <a:lnTo>
                  <a:pt x="1884" y="831"/>
                </a:lnTo>
                <a:lnTo>
                  <a:pt x="1873" y="825"/>
                </a:lnTo>
                <a:lnTo>
                  <a:pt x="1863" y="818"/>
                </a:lnTo>
                <a:lnTo>
                  <a:pt x="1855" y="811"/>
                </a:lnTo>
                <a:lnTo>
                  <a:pt x="1847" y="802"/>
                </a:lnTo>
                <a:lnTo>
                  <a:pt x="1844" y="794"/>
                </a:lnTo>
                <a:lnTo>
                  <a:pt x="1840" y="785"/>
                </a:lnTo>
                <a:lnTo>
                  <a:pt x="1837" y="776"/>
                </a:lnTo>
                <a:lnTo>
                  <a:pt x="1830" y="771"/>
                </a:lnTo>
                <a:lnTo>
                  <a:pt x="1811" y="785"/>
                </a:lnTo>
                <a:lnTo>
                  <a:pt x="1795" y="801"/>
                </a:lnTo>
                <a:lnTo>
                  <a:pt x="1782" y="818"/>
                </a:lnTo>
                <a:lnTo>
                  <a:pt x="1770" y="836"/>
                </a:lnTo>
                <a:lnTo>
                  <a:pt x="1758" y="855"/>
                </a:lnTo>
                <a:lnTo>
                  <a:pt x="1748" y="874"/>
                </a:lnTo>
                <a:lnTo>
                  <a:pt x="1736" y="894"/>
                </a:lnTo>
                <a:lnTo>
                  <a:pt x="1725" y="912"/>
                </a:lnTo>
                <a:lnTo>
                  <a:pt x="1726" y="919"/>
                </a:lnTo>
                <a:lnTo>
                  <a:pt x="1721" y="923"/>
                </a:lnTo>
                <a:lnTo>
                  <a:pt x="1717" y="926"/>
                </a:lnTo>
                <a:lnTo>
                  <a:pt x="1713" y="931"/>
                </a:lnTo>
                <a:lnTo>
                  <a:pt x="1708" y="931"/>
                </a:lnTo>
                <a:lnTo>
                  <a:pt x="1703" y="930"/>
                </a:lnTo>
                <a:lnTo>
                  <a:pt x="1700" y="926"/>
                </a:lnTo>
                <a:lnTo>
                  <a:pt x="1698" y="920"/>
                </a:lnTo>
                <a:lnTo>
                  <a:pt x="1687" y="917"/>
                </a:lnTo>
                <a:lnTo>
                  <a:pt x="1675" y="914"/>
                </a:lnTo>
                <a:lnTo>
                  <a:pt x="1663" y="911"/>
                </a:lnTo>
                <a:lnTo>
                  <a:pt x="1651" y="909"/>
                </a:lnTo>
                <a:lnTo>
                  <a:pt x="1638" y="908"/>
                </a:lnTo>
                <a:lnTo>
                  <a:pt x="1627" y="908"/>
                </a:lnTo>
                <a:lnTo>
                  <a:pt x="1614" y="907"/>
                </a:lnTo>
                <a:lnTo>
                  <a:pt x="1603" y="907"/>
                </a:lnTo>
                <a:lnTo>
                  <a:pt x="1590" y="907"/>
                </a:lnTo>
                <a:lnTo>
                  <a:pt x="1577" y="908"/>
                </a:lnTo>
                <a:lnTo>
                  <a:pt x="1566" y="908"/>
                </a:lnTo>
                <a:lnTo>
                  <a:pt x="1553" y="909"/>
                </a:lnTo>
                <a:lnTo>
                  <a:pt x="1542" y="910"/>
                </a:lnTo>
                <a:lnTo>
                  <a:pt x="1529" y="911"/>
                </a:lnTo>
                <a:lnTo>
                  <a:pt x="1517" y="911"/>
                </a:lnTo>
                <a:lnTo>
                  <a:pt x="1506" y="912"/>
                </a:lnTo>
                <a:lnTo>
                  <a:pt x="1498" y="929"/>
                </a:lnTo>
                <a:lnTo>
                  <a:pt x="1500" y="946"/>
                </a:lnTo>
                <a:lnTo>
                  <a:pt x="1505" y="967"/>
                </a:lnTo>
                <a:lnTo>
                  <a:pt x="1504" y="987"/>
                </a:lnTo>
                <a:lnTo>
                  <a:pt x="1511" y="992"/>
                </a:lnTo>
                <a:lnTo>
                  <a:pt x="1517" y="998"/>
                </a:lnTo>
                <a:lnTo>
                  <a:pt x="1523" y="1005"/>
                </a:lnTo>
                <a:lnTo>
                  <a:pt x="1528" y="1012"/>
                </a:lnTo>
                <a:lnTo>
                  <a:pt x="1532" y="1020"/>
                </a:lnTo>
                <a:lnTo>
                  <a:pt x="1535" y="1028"/>
                </a:lnTo>
                <a:lnTo>
                  <a:pt x="1537" y="1036"/>
                </a:lnTo>
                <a:lnTo>
                  <a:pt x="1537" y="1045"/>
                </a:lnTo>
                <a:lnTo>
                  <a:pt x="1537" y="1059"/>
                </a:lnTo>
                <a:lnTo>
                  <a:pt x="1534" y="1073"/>
                </a:lnTo>
                <a:lnTo>
                  <a:pt x="1529" y="1085"/>
                </a:lnTo>
                <a:lnTo>
                  <a:pt x="1523" y="1098"/>
                </a:lnTo>
                <a:lnTo>
                  <a:pt x="1520" y="1109"/>
                </a:lnTo>
                <a:lnTo>
                  <a:pt x="1519" y="1122"/>
                </a:lnTo>
                <a:lnTo>
                  <a:pt x="1522" y="1135"/>
                </a:lnTo>
                <a:lnTo>
                  <a:pt x="1531" y="1147"/>
                </a:lnTo>
                <a:lnTo>
                  <a:pt x="1549" y="1152"/>
                </a:lnTo>
                <a:lnTo>
                  <a:pt x="1566" y="1154"/>
                </a:lnTo>
                <a:lnTo>
                  <a:pt x="1582" y="1153"/>
                </a:lnTo>
                <a:lnTo>
                  <a:pt x="1598" y="1150"/>
                </a:lnTo>
                <a:lnTo>
                  <a:pt x="1615" y="1145"/>
                </a:lnTo>
                <a:lnTo>
                  <a:pt x="1632" y="1139"/>
                </a:lnTo>
                <a:lnTo>
                  <a:pt x="1648" y="1135"/>
                </a:lnTo>
                <a:lnTo>
                  <a:pt x="1665" y="1130"/>
                </a:lnTo>
                <a:lnTo>
                  <a:pt x="1676" y="1123"/>
                </a:lnTo>
                <a:lnTo>
                  <a:pt x="1689" y="1115"/>
                </a:lnTo>
                <a:lnTo>
                  <a:pt x="1701" y="1108"/>
                </a:lnTo>
                <a:lnTo>
                  <a:pt x="1712" y="1101"/>
                </a:lnTo>
                <a:lnTo>
                  <a:pt x="1725" y="1096"/>
                </a:lnTo>
                <a:lnTo>
                  <a:pt x="1738" y="1090"/>
                </a:lnTo>
                <a:lnTo>
                  <a:pt x="1750" y="1085"/>
                </a:lnTo>
                <a:lnTo>
                  <a:pt x="1763" y="1083"/>
                </a:lnTo>
                <a:lnTo>
                  <a:pt x="1770" y="1091"/>
                </a:lnTo>
                <a:lnTo>
                  <a:pt x="1776" y="1101"/>
                </a:lnTo>
                <a:lnTo>
                  <a:pt x="1781" y="1112"/>
                </a:lnTo>
                <a:lnTo>
                  <a:pt x="1786" y="1122"/>
                </a:lnTo>
                <a:lnTo>
                  <a:pt x="1791" y="1134"/>
                </a:lnTo>
                <a:lnTo>
                  <a:pt x="1796" y="1144"/>
                </a:lnTo>
                <a:lnTo>
                  <a:pt x="1803" y="1154"/>
                </a:lnTo>
                <a:lnTo>
                  <a:pt x="1811" y="1164"/>
                </a:lnTo>
                <a:lnTo>
                  <a:pt x="1824" y="1183"/>
                </a:lnTo>
                <a:lnTo>
                  <a:pt x="1837" y="1203"/>
                </a:lnTo>
                <a:lnTo>
                  <a:pt x="1848" y="1222"/>
                </a:lnTo>
                <a:lnTo>
                  <a:pt x="1860" y="1243"/>
                </a:lnTo>
                <a:lnTo>
                  <a:pt x="1870" y="1264"/>
                </a:lnTo>
                <a:lnTo>
                  <a:pt x="1879" y="1287"/>
                </a:lnTo>
                <a:lnTo>
                  <a:pt x="1886" y="1309"/>
                </a:lnTo>
                <a:lnTo>
                  <a:pt x="1891" y="1333"/>
                </a:lnTo>
                <a:lnTo>
                  <a:pt x="1888" y="1351"/>
                </a:lnTo>
                <a:lnTo>
                  <a:pt x="1883" y="1369"/>
                </a:lnTo>
                <a:lnTo>
                  <a:pt x="1875" y="1386"/>
                </a:lnTo>
                <a:lnTo>
                  <a:pt x="1865" y="1402"/>
                </a:lnTo>
                <a:lnTo>
                  <a:pt x="1856" y="1409"/>
                </a:lnTo>
                <a:lnTo>
                  <a:pt x="1846" y="1414"/>
                </a:lnTo>
                <a:lnTo>
                  <a:pt x="1834" y="1418"/>
                </a:lnTo>
                <a:lnTo>
                  <a:pt x="1823" y="1421"/>
                </a:lnTo>
                <a:lnTo>
                  <a:pt x="1811" y="1423"/>
                </a:lnTo>
                <a:lnTo>
                  <a:pt x="1800" y="1423"/>
                </a:lnTo>
                <a:lnTo>
                  <a:pt x="1788" y="1422"/>
                </a:lnTo>
                <a:lnTo>
                  <a:pt x="1777" y="1418"/>
                </a:lnTo>
                <a:lnTo>
                  <a:pt x="1769" y="1415"/>
                </a:lnTo>
                <a:lnTo>
                  <a:pt x="1761" y="1412"/>
                </a:lnTo>
                <a:lnTo>
                  <a:pt x="1753" y="1409"/>
                </a:lnTo>
                <a:lnTo>
                  <a:pt x="1743" y="1406"/>
                </a:lnTo>
                <a:lnTo>
                  <a:pt x="1734" y="1404"/>
                </a:lnTo>
                <a:lnTo>
                  <a:pt x="1725" y="1403"/>
                </a:lnTo>
                <a:lnTo>
                  <a:pt x="1716" y="1404"/>
                </a:lnTo>
                <a:lnTo>
                  <a:pt x="1706" y="1408"/>
                </a:lnTo>
                <a:lnTo>
                  <a:pt x="1697" y="1414"/>
                </a:lnTo>
                <a:lnTo>
                  <a:pt x="1690" y="1419"/>
                </a:lnTo>
                <a:lnTo>
                  <a:pt x="1683" y="1427"/>
                </a:lnTo>
                <a:lnTo>
                  <a:pt x="1680" y="1435"/>
                </a:lnTo>
                <a:lnTo>
                  <a:pt x="1676" y="1445"/>
                </a:lnTo>
                <a:lnTo>
                  <a:pt x="1674" y="1455"/>
                </a:lnTo>
                <a:lnTo>
                  <a:pt x="1673" y="1465"/>
                </a:lnTo>
                <a:lnTo>
                  <a:pt x="1673" y="1476"/>
                </a:lnTo>
                <a:lnTo>
                  <a:pt x="1676" y="1478"/>
                </a:lnTo>
                <a:lnTo>
                  <a:pt x="1680" y="1480"/>
                </a:lnTo>
                <a:lnTo>
                  <a:pt x="1683" y="1482"/>
                </a:lnTo>
                <a:lnTo>
                  <a:pt x="1688" y="1483"/>
                </a:lnTo>
                <a:lnTo>
                  <a:pt x="1691" y="1493"/>
                </a:lnTo>
                <a:lnTo>
                  <a:pt x="1696" y="1503"/>
                </a:lnTo>
                <a:lnTo>
                  <a:pt x="1703" y="1513"/>
                </a:lnTo>
                <a:lnTo>
                  <a:pt x="1710" y="1522"/>
                </a:lnTo>
                <a:lnTo>
                  <a:pt x="1719" y="1530"/>
                </a:lnTo>
                <a:lnTo>
                  <a:pt x="1728" y="1538"/>
                </a:lnTo>
                <a:lnTo>
                  <a:pt x="1739" y="1545"/>
                </a:lnTo>
                <a:lnTo>
                  <a:pt x="1749" y="1551"/>
                </a:lnTo>
                <a:lnTo>
                  <a:pt x="1758" y="1554"/>
                </a:lnTo>
                <a:lnTo>
                  <a:pt x="1769" y="1558"/>
                </a:lnTo>
                <a:lnTo>
                  <a:pt x="1780" y="1560"/>
                </a:lnTo>
                <a:lnTo>
                  <a:pt x="1792" y="1562"/>
                </a:lnTo>
                <a:lnTo>
                  <a:pt x="1803" y="1562"/>
                </a:lnTo>
                <a:lnTo>
                  <a:pt x="1815" y="1562"/>
                </a:lnTo>
                <a:lnTo>
                  <a:pt x="1826" y="1560"/>
                </a:lnTo>
                <a:lnTo>
                  <a:pt x="1837" y="1556"/>
                </a:lnTo>
                <a:lnTo>
                  <a:pt x="1850" y="1545"/>
                </a:lnTo>
                <a:lnTo>
                  <a:pt x="1863" y="1530"/>
                </a:lnTo>
                <a:lnTo>
                  <a:pt x="1875" y="1515"/>
                </a:lnTo>
                <a:lnTo>
                  <a:pt x="1886" y="1500"/>
                </a:lnTo>
                <a:lnTo>
                  <a:pt x="1899" y="1486"/>
                </a:lnTo>
                <a:lnTo>
                  <a:pt x="1913" y="1477"/>
                </a:lnTo>
                <a:lnTo>
                  <a:pt x="1929" y="1474"/>
                </a:lnTo>
                <a:lnTo>
                  <a:pt x="1948" y="1476"/>
                </a:lnTo>
                <a:lnTo>
                  <a:pt x="1978" y="1490"/>
                </a:lnTo>
                <a:lnTo>
                  <a:pt x="2004" y="1509"/>
                </a:lnTo>
                <a:lnTo>
                  <a:pt x="2024" y="1532"/>
                </a:lnTo>
                <a:lnTo>
                  <a:pt x="2042" y="1558"/>
                </a:lnTo>
                <a:lnTo>
                  <a:pt x="2057" y="1586"/>
                </a:lnTo>
                <a:lnTo>
                  <a:pt x="2072" y="1615"/>
                </a:lnTo>
                <a:lnTo>
                  <a:pt x="2085" y="1644"/>
                </a:lnTo>
                <a:lnTo>
                  <a:pt x="2102" y="1672"/>
                </a:lnTo>
                <a:lnTo>
                  <a:pt x="2104" y="1682"/>
                </a:lnTo>
                <a:lnTo>
                  <a:pt x="2110" y="1689"/>
                </a:lnTo>
                <a:lnTo>
                  <a:pt x="2115" y="1697"/>
                </a:lnTo>
                <a:lnTo>
                  <a:pt x="2114" y="1707"/>
                </a:lnTo>
                <a:lnTo>
                  <a:pt x="2109" y="1715"/>
                </a:lnTo>
                <a:lnTo>
                  <a:pt x="2103" y="1724"/>
                </a:lnTo>
                <a:lnTo>
                  <a:pt x="2098" y="1733"/>
                </a:lnTo>
                <a:lnTo>
                  <a:pt x="2094" y="1741"/>
                </a:lnTo>
                <a:lnTo>
                  <a:pt x="2089" y="1750"/>
                </a:lnTo>
                <a:lnTo>
                  <a:pt x="2085" y="1758"/>
                </a:lnTo>
                <a:lnTo>
                  <a:pt x="2082" y="1767"/>
                </a:lnTo>
                <a:lnTo>
                  <a:pt x="2080" y="1775"/>
                </a:lnTo>
                <a:lnTo>
                  <a:pt x="2068" y="1780"/>
                </a:lnTo>
                <a:lnTo>
                  <a:pt x="2056" y="1786"/>
                </a:lnTo>
                <a:lnTo>
                  <a:pt x="2044" y="1790"/>
                </a:lnTo>
                <a:lnTo>
                  <a:pt x="2032" y="1796"/>
                </a:lnTo>
                <a:lnTo>
                  <a:pt x="2020" y="1801"/>
                </a:lnTo>
                <a:lnTo>
                  <a:pt x="2008" y="1806"/>
                </a:lnTo>
                <a:lnTo>
                  <a:pt x="1997" y="1812"/>
                </a:lnTo>
                <a:lnTo>
                  <a:pt x="1984" y="1817"/>
                </a:lnTo>
                <a:lnTo>
                  <a:pt x="1973" y="1823"/>
                </a:lnTo>
                <a:lnTo>
                  <a:pt x="1961" y="1828"/>
                </a:lnTo>
                <a:lnTo>
                  <a:pt x="1950" y="1834"/>
                </a:lnTo>
                <a:lnTo>
                  <a:pt x="1938" y="1841"/>
                </a:lnTo>
                <a:lnTo>
                  <a:pt x="1926" y="1847"/>
                </a:lnTo>
                <a:lnTo>
                  <a:pt x="1915" y="1854"/>
                </a:lnTo>
                <a:lnTo>
                  <a:pt x="1903" y="1861"/>
                </a:lnTo>
                <a:lnTo>
                  <a:pt x="1892" y="1868"/>
                </a:lnTo>
                <a:lnTo>
                  <a:pt x="1880" y="1873"/>
                </a:lnTo>
                <a:lnTo>
                  <a:pt x="1869" y="1879"/>
                </a:lnTo>
                <a:lnTo>
                  <a:pt x="1856" y="1884"/>
                </a:lnTo>
                <a:lnTo>
                  <a:pt x="1844" y="1888"/>
                </a:lnTo>
                <a:lnTo>
                  <a:pt x="1831" y="1891"/>
                </a:lnTo>
                <a:lnTo>
                  <a:pt x="1817" y="1892"/>
                </a:lnTo>
                <a:lnTo>
                  <a:pt x="1804" y="1891"/>
                </a:lnTo>
                <a:lnTo>
                  <a:pt x="1791" y="1888"/>
                </a:lnTo>
                <a:lnTo>
                  <a:pt x="1778" y="1878"/>
                </a:lnTo>
                <a:lnTo>
                  <a:pt x="1770" y="1868"/>
                </a:lnTo>
                <a:lnTo>
                  <a:pt x="1764" y="1856"/>
                </a:lnTo>
                <a:lnTo>
                  <a:pt x="1759" y="1841"/>
                </a:lnTo>
                <a:lnTo>
                  <a:pt x="1758" y="1831"/>
                </a:lnTo>
                <a:lnTo>
                  <a:pt x="1762" y="1821"/>
                </a:lnTo>
                <a:lnTo>
                  <a:pt x="1766" y="1811"/>
                </a:lnTo>
                <a:lnTo>
                  <a:pt x="1772" y="1802"/>
                </a:lnTo>
                <a:lnTo>
                  <a:pt x="1777" y="1793"/>
                </a:lnTo>
                <a:lnTo>
                  <a:pt x="1778" y="1783"/>
                </a:lnTo>
                <a:lnTo>
                  <a:pt x="1774" y="1773"/>
                </a:lnTo>
                <a:lnTo>
                  <a:pt x="1766" y="1764"/>
                </a:lnTo>
                <a:lnTo>
                  <a:pt x="1751" y="1759"/>
                </a:lnTo>
                <a:lnTo>
                  <a:pt x="1736" y="1756"/>
                </a:lnTo>
                <a:lnTo>
                  <a:pt x="1720" y="1755"/>
                </a:lnTo>
                <a:lnTo>
                  <a:pt x="1705" y="1755"/>
                </a:lnTo>
                <a:lnTo>
                  <a:pt x="1690" y="1756"/>
                </a:lnTo>
                <a:lnTo>
                  <a:pt x="1674" y="1758"/>
                </a:lnTo>
                <a:lnTo>
                  <a:pt x="1659" y="1762"/>
                </a:lnTo>
                <a:lnTo>
                  <a:pt x="1644" y="1766"/>
                </a:lnTo>
                <a:lnTo>
                  <a:pt x="1629" y="1772"/>
                </a:lnTo>
                <a:lnTo>
                  <a:pt x="1615" y="1778"/>
                </a:lnTo>
                <a:lnTo>
                  <a:pt x="1600" y="1786"/>
                </a:lnTo>
                <a:lnTo>
                  <a:pt x="1587" y="1794"/>
                </a:lnTo>
                <a:lnTo>
                  <a:pt x="1574" y="1803"/>
                </a:lnTo>
                <a:lnTo>
                  <a:pt x="1561" y="1813"/>
                </a:lnTo>
                <a:lnTo>
                  <a:pt x="1549" y="1824"/>
                </a:lnTo>
                <a:lnTo>
                  <a:pt x="1537" y="1835"/>
                </a:lnTo>
                <a:lnTo>
                  <a:pt x="1537" y="1847"/>
                </a:lnTo>
                <a:lnTo>
                  <a:pt x="1541" y="1857"/>
                </a:lnTo>
                <a:lnTo>
                  <a:pt x="1549" y="1864"/>
                </a:lnTo>
                <a:lnTo>
                  <a:pt x="1557" y="1870"/>
                </a:lnTo>
                <a:lnTo>
                  <a:pt x="1566" y="1877"/>
                </a:lnTo>
                <a:lnTo>
                  <a:pt x="1575" y="1884"/>
                </a:lnTo>
                <a:lnTo>
                  <a:pt x="1581" y="1894"/>
                </a:lnTo>
                <a:lnTo>
                  <a:pt x="1583" y="1906"/>
                </a:lnTo>
                <a:lnTo>
                  <a:pt x="1580" y="1922"/>
                </a:lnTo>
                <a:lnTo>
                  <a:pt x="1576" y="1939"/>
                </a:lnTo>
                <a:lnTo>
                  <a:pt x="1570" y="1955"/>
                </a:lnTo>
                <a:lnTo>
                  <a:pt x="1565" y="1970"/>
                </a:lnTo>
                <a:lnTo>
                  <a:pt x="1557" y="1985"/>
                </a:lnTo>
                <a:lnTo>
                  <a:pt x="1546" y="1998"/>
                </a:lnTo>
                <a:lnTo>
                  <a:pt x="1534" y="2009"/>
                </a:lnTo>
                <a:lnTo>
                  <a:pt x="1519" y="2018"/>
                </a:lnTo>
                <a:lnTo>
                  <a:pt x="1502" y="2027"/>
                </a:lnTo>
                <a:lnTo>
                  <a:pt x="1486" y="2035"/>
                </a:lnTo>
                <a:lnTo>
                  <a:pt x="1469" y="2042"/>
                </a:lnTo>
                <a:lnTo>
                  <a:pt x="1453" y="2050"/>
                </a:lnTo>
                <a:lnTo>
                  <a:pt x="1437" y="2057"/>
                </a:lnTo>
                <a:lnTo>
                  <a:pt x="1421" y="2065"/>
                </a:lnTo>
                <a:lnTo>
                  <a:pt x="1405" y="2074"/>
                </a:lnTo>
                <a:lnTo>
                  <a:pt x="1388" y="2083"/>
                </a:lnTo>
                <a:lnTo>
                  <a:pt x="1378" y="2074"/>
                </a:lnTo>
                <a:lnTo>
                  <a:pt x="1371" y="2061"/>
                </a:lnTo>
                <a:lnTo>
                  <a:pt x="1367" y="2047"/>
                </a:lnTo>
                <a:lnTo>
                  <a:pt x="1360" y="2035"/>
                </a:lnTo>
                <a:lnTo>
                  <a:pt x="1353" y="2016"/>
                </a:lnTo>
                <a:lnTo>
                  <a:pt x="1346" y="1999"/>
                </a:lnTo>
                <a:lnTo>
                  <a:pt x="1339" y="1980"/>
                </a:lnTo>
                <a:lnTo>
                  <a:pt x="1331" y="1962"/>
                </a:lnTo>
                <a:lnTo>
                  <a:pt x="1323" y="1945"/>
                </a:lnTo>
                <a:lnTo>
                  <a:pt x="1316" y="1927"/>
                </a:lnTo>
                <a:lnTo>
                  <a:pt x="1308" y="1910"/>
                </a:lnTo>
                <a:lnTo>
                  <a:pt x="1300" y="1893"/>
                </a:lnTo>
                <a:lnTo>
                  <a:pt x="1296" y="1888"/>
                </a:lnTo>
                <a:lnTo>
                  <a:pt x="1293" y="1885"/>
                </a:lnTo>
                <a:lnTo>
                  <a:pt x="1288" y="1880"/>
                </a:lnTo>
                <a:lnTo>
                  <a:pt x="1285" y="1877"/>
                </a:lnTo>
                <a:lnTo>
                  <a:pt x="1280" y="1873"/>
                </a:lnTo>
                <a:lnTo>
                  <a:pt x="1276" y="1871"/>
                </a:lnTo>
                <a:lnTo>
                  <a:pt x="1270" y="1869"/>
                </a:lnTo>
                <a:lnTo>
                  <a:pt x="1265" y="1868"/>
                </a:lnTo>
                <a:lnTo>
                  <a:pt x="1254" y="1872"/>
                </a:lnTo>
                <a:lnTo>
                  <a:pt x="1246" y="1879"/>
                </a:lnTo>
                <a:lnTo>
                  <a:pt x="1241" y="1888"/>
                </a:lnTo>
                <a:lnTo>
                  <a:pt x="1238" y="1899"/>
                </a:lnTo>
                <a:lnTo>
                  <a:pt x="1234" y="1910"/>
                </a:lnTo>
                <a:lnTo>
                  <a:pt x="1229" y="1921"/>
                </a:lnTo>
                <a:lnTo>
                  <a:pt x="1224" y="1931"/>
                </a:lnTo>
                <a:lnTo>
                  <a:pt x="1216" y="1939"/>
                </a:lnTo>
                <a:lnTo>
                  <a:pt x="1208" y="1944"/>
                </a:lnTo>
                <a:lnTo>
                  <a:pt x="1198" y="1949"/>
                </a:lnTo>
                <a:lnTo>
                  <a:pt x="1189" y="1953"/>
                </a:lnTo>
                <a:lnTo>
                  <a:pt x="1179" y="1956"/>
                </a:lnTo>
                <a:lnTo>
                  <a:pt x="1170" y="1957"/>
                </a:lnTo>
                <a:lnTo>
                  <a:pt x="1159" y="1957"/>
                </a:lnTo>
                <a:lnTo>
                  <a:pt x="1149" y="1956"/>
                </a:lnTo>
                <a:lnTo>
                  <a:pt x="1140" y="1952"/>
                </a:lnTo>
                <a:lnTo>
                  <a:pt x="1121" y="1945"/>
                </a:lnTo>
                <a:lnTo>
                  <a:pt x="1104" y="1937"/>
                </a:lnTo>
                <a:lnTo>
                  <a:pt x="1087" y="1926"/>
                </a:lnTo>
                <a:lnTo>
                  <a:pt x="1069" y="1914"/>
                </a:lnTo>
                <a:lnTo>
                  <a:pt x="1053" y="1899"/>
                </a:lnTo>
                <a:lnTo>
                  <a:pt x="1039" y="1884"/>
                </a:lnTo>
                <a:lnTo>
                  <a:pt x="1026" y="1866"/>
                </a:lnTo>
                <a:lnTo>
                  <a:pt x="1014" y="1849"/>
                </a:lnTo>
                <a:lnTo>
                  <a:pt x="1005" y="1833"/>
                </a:lnTo>
                <a:lnTo>
                  <a:pt x="996" y="1816"/>
                </a:lnTo>
                <a:lnTo>
                  <a:pt x="988" y="1797"/>
                </a:lnTo>
                <a:lnTo>
                  <a:pt x="982" y="1778"/>
                </a:lnTo>
                <a:lnTo>
                  <a:pt x="977" y="1758"/>
                </a:lnTo>
                <a:lnTo>
                  <a:pt x="976" y="1739"/>
                </a:lnTo>
                <a:lnTo>
                  <a:pt x="978" y="1719"/>
                </a:lnTo>
                <a:lnTo>
                  <a:pt x="984" y="1699"/>
                </a:lnTo>
                <a:lnTo>
                  <a:pt x="988" y="1686"/>
                </a:lnTo>
                <a:lnTo>
                  <a:pt x="992" y="1671"/>
                </a:lnTo>
                <a:lnTo>
                  <a:pt x="999" y="1658"/>
                </a:lnTo>
                <a:lnTo>
                  <a:pt x="1008" y="1644"/>
                </a:lnTo>
                <a:lnTo>
                  <a:pt x="1019" y="1634"/>
                </a:lnTo>
                <a:lnTo>
                  <a:pt x="1030" y="1623"/>
                </a:lnTo>
                <a:lnTo>
                  <a:pt x="1044" y="1616"/>
                </a:lnTo>
                <a:lnTo>
                  <a:pt x="1058" y="1611"/>
                </a:lnTo>
                <a:lnTo>
                  <a:pt x="1064" y="1611"/>
                </a:lnTo>
                <a:lnTo>
                  <a:pt x="1069" y="1611"/>
                </a:lnTo>
                <a:lnTo>
                  <a:pt x="1074" y="1611"/>
                </a:lnTo>
                <a:lnTo>
                  <a:pt x="1080" y="1612"/>
                </a:lnTo>
                <a:lnTo>
                  <a:pt x="1084" y="1613"/>
                </a:lnTo>
                <a:lnTo>
                  <a:pt x="1090" y="1615"/>
                </a:lnTo>
                <a:lnTo>
                  <a:pt x="1094" y="1618"/>
                </a:lnTo>
                <a:lnTo>
                  <a:pt x="1098" y="1621"/>
                </a:lnTo>
                <a:lnTo>
                  <a:pt x="1105" y="1620"/>
                </a:lnTo>
                <a:lnTo>
                  <a:pt x="1112" y="1621"/>
                </a:lnTo>
                <a:lnTo>
                  <a:pt x="1119" y="1621"/>
                </a:lnTo>
                <a:lnTo>
                  <a:pt x="1125" y="1622"/>
                </a:lnTo>
                <a:lnTo>
                  <a:pt x="1132" y="1622"/>
                </a:lnTo>
                <a:lnTo>
                  <a:pt x="1137" y="1621"/>
                </a:lnTo>
                <a:lnTo>
                  <a:pt x="1143" y="1618"/>
                </a:lnTo>
                <a:lnTo>
                  <a:pt x="1149" y="1613"/>
                </a:lnTo>
                <a:lnTo>
                  <a:pt x="1150" y="1593"/>
                </a:lnTo>
                <a:lnTo>
                  <a:pt x="1145" y="1576"/>
                </a:lnTo>
                <a:lnTo>
                  <a:pt x="1137" y="1560"/>
                </a:lnTo>
                <a:lnTo>
                  <a:pt x="1128" y="1544"/>
                </a:lnTo>
                <a:lnTo>
                  <a:pt x="1117" y="1529"/>
                </a:lnTo>
                <a:lnTo>
                  <a:pt x="1104" y="1514"/>
                </a:lnTo>
                <a:lnTo>
                  <a:pt x="1094" y="1498"/>
                </a:lnTo>
                <a:lnTo>
                  <a:pt x="1085" y="1482"/>
                </a:lnTo>
                <a:lnTo>
                  <a:pt x="1084" y="1455"/>
                </a:lnTo>
                <a:lnTo>
                  <a:pt x="1087" y="1430"/>
                </a:lnTo>
                <a:lnTo>
                  <a:pt x="1088" y="1406"/>
                </a:lnTo>
                <a:lnTo>
                  <a:pt x="1083" y="1379"/>
                </a:lnTo>
                <a:lnTo>
                  <a:pt x="1096" y="1372"/>
                </a:lnTo>
                <a:lnTo>
                  <a:pt x="1108" y="1365"/>
                </a:lnTo>
                <a:lnTo>
                  <a:pt x="1121" y="1359"/>
                </a:lnTo>
                <a:lnTo>
                  <a:pt x="1135" y="1354"/>
                </a:lnTo>
                <a:lnTo>
                  <a:pt x="1148" y="1348"/>
                </a:lnTo>
                <a:lnTo>
                  <a:pt x="1161" y="1342"/>
                </a:lnTo>
                <a:lnTo>
                  <a:pt x="1175" y="1336"/>
                </a:lnTo>
                <a:lnTo>
                  <a:pt x="1188" y="1331"/>
                </a:lnTo>
                <a:lnTo>
                  <a:pt x="1202" y="1324"/>
                </a:lnTo>
                <a:lnTo>
                  <a:pt x="1214" y="1318"/>
                </a:lnTo>
                <a:lnTo>
                  <a:pt x="1228" y="1311"/>
                </a:lnTo>
                <a:lnTo>
                  <a:pt x="1241" y="1304"/>
                </a:lnTo>
                <a:lnTo>
                  <a:pt x="1254" y="1297"/>
                </a:lnTo>
                <a:lnTo>
                  <a:pt x="1266" y="1289"/>
                </a:lnTo>
                <a:lnTo>
                  <a:pt x="1279" y="1281"/>
                </a:lnTo>
                <a:lnTo>
                  <a:pt x="1291" y="1272"/>
                </a:lnTo>
                <a:lnTo>
                  <a:pt x="1293" y="1266"/>
                </a:lnTo>
                <a:lnTo>
                  <a:pt x="1294" y="1262"/>
                </a:lnTo>
                <a:lnTo>
                  <a:pt x="1295" y="1256"/>
                </a:lnTo>
                <a:lnTo>
                  <a:pt x="1295" y="1250"/>
                </a:lnTo>
                <a:lnTo>
                  <a:pt x="1285" y="1245"/>
                </a:lnTo>
                <a:lnTo>
                  <a:pt x="1273" y="1242"/>
                </a:lnTo>
                <a:lnTo>
                  <a:pt x="1261" y="1240"/>
                </a:lnTo>
                <a:lnTo>
                  <a:pt x="1249" y="1237"/>
                </a:lnTo>
                <a:lnTo>
                  <a:pt x="1238" y="1234"/>
                </a:lnTo>
                <a:lnTo>
                  <a:pt x="1227" y="1229"/>
                </a:lnTo>
                <a:lnTo>
                  <a:pt x="1218" y="1222"/>
                </a:lnTo>
                <a:lnTo>
                  <a:pt x="1210" y="1212"/>
                </a:lnTo>
                <a:lnTo>
                  <a:pt x="1211" y="1205"/>
                </a:lnTo>
                <a:lnTo>
                  <a:pt x="1206" y="1200"/>
                </a:lnTo>
                <a:lnTo>
                  <a:pt x="1203" y="1196"/>
                </a:lnTo>
                <a:lnTo>
                  <a:pt x="1208" y="1190"/>
                </a:lnTo>
                <a:lnTo>
                  <a:pt x="1206" y="1173"/>
                </a:lnTo>
                <a:lnTo>
                  <a:pt x="1208" y="1156"/>
                </a:lnTo>
                <a:lnTo>
                  <a:pt x="1210" y="1139"/>
                </a:lnTo>
                <a:lnTo>
                  <a:pt x="1213" y="1123"/>
                </a:lnTo>
                <a:lnTo>
                  <a:pt x="1219" y="1107"/>
                </a:lnTo>
                <a:lnTo>
                  <a:pt x="1226" y="1092"/>
                </a:lnTo>
                <a:lnTo>
                  <a:pt x="1234" y="1077"/>
                </a:lnTo>
                <a:lnTo>
                  <a:pt x="1244" y="1063"/>
                </a:lnTo>
                <a:lnTo>
                  <a:pt x="1236" y="1060"/>
                </a:lnTo>
                <a:lnTo>
                  <a:pt x="1228" y="1058"/>
                </a:lnTo>
                <a:lnTo>
                  <a:pt x="1219" y="1055"/>
                </a:lnTo>
                <a:lnTo>
                  <a:pt x="1211" y="1053"/>
                </a:lnTo>
                <a:lnTo>
                  <a:pt x="1199" y="1046"/>
                </a:lnTo>
                <a:lnTo>
                  <a:pt x="1191" y="1037"/>
                </a:lnTo>
                <a:lnTo>
                  <a:pt x="1187" y="1025"/>
                </a:lnTo>
                <a:lnTo>
                  <a:pt x="1185" y="1013"/>
                </a:lnTo>
                <a:lnTo>
                  <a:pt x="1182" y="1000"/>
                </a:lnTo>
                <a:lnTo>
                  <a:pt x="1180" y="987"/>
                </a:lnTo>
                <a:lnTo>
                  <a:pt x="1176" y="975"/>
                </a:lnTo>
                <a:lnTo>
                  <a:pt x="1170" y="964"/>
                </a:lnTo>
                <a:lnTo>
                  <a:pt x="1172" y="947"/>
                </a:lnTo>
                <a:lnTo>
                  <a:pt x="1178" y="932"/>
                </a:lnTo>
                <a:lnTo>
                  <a:pt x="1188" y="920"/>
                </a:lnTo>
                <a:lnTo>
                  <a:pt x="1199" y="909"/>
                </a:lnTo>
                <a:lnTo>
                  <a:pt x="1213" y="900"/>
                </a:lnTo>
                <a:lnTo>
                  <a:pt x="1227" y="892"/>
                </a:lnTo>
                <a:lnTo>
                  <a:pt x="1241" y="884"/>
                </a:lnTo>
                <a:lnTo>
                  <a:pt x="1255" y="874"/>
                </a:lnTo>
                <a:lnTo>
                  <a:pt x="1247" y="872"/>
                </a:lnTo>
                <a:lnTo>
                  <a:pt x="1239" y="870"/>
                </a:lnTo>
                <a:lnTo>
                  <a:pt x="1229" y="867"/>
                </a:lnTo>
                <a:lnTo>
                  <a:pt x="1221" y="866"/>
                </a:lnTo>
                <a:lnTo>
                  <a:pt x="1212" y="864"/>
                </a:lnTo>
                <a:lnTo>
                  <a:pt x="1203" y="863"/>
                </a:lnTo>
                <a:lnTo>
                  <a:pt x="1194" y="863"/>
                </a:lnTo>
                <a:lnTo>
                  <a:pt x="1185" y="862"/>
                </a:lnTo>
                <a:lnTo>
                  <a:pt x="1102" y="857"/>
                </a:lnTo>
                <a:lnTo>
                  <a:pt x="1092" y="872"/>
                </a:lnTo>
                <a:lnTo>
                  <a:pt x="1082" y="886"/>
                </a:lnTo>
                <a:lnTo>
                  <a:pt x="1070" y="900"/>
                </a:lnTo>
                <a:lnTo>
                  <a:pt x="1059" y="914"/>
                </a:lnTo>
                <a:lnTo>
                  <a:pt x="1049" y="929"/>
                </a:lnTo>
                <a:lnTo>
                  <a:pt x="1039" y="944"/>
                </a:lnTo>
                <a:lnTo>
                  <a:pt x="1031" y="959"/>
                </a:lnTo>
                <a:lnTo>
                  <a:pt x="1027" y="975"/>
                </a:lnTo>
                <a:lnTo>
                  <a:pt x="1031" y="977"/>
                </a:lnTo>
                <a:lnTo>
                  <a:pt x="1037" y="979"/>
                </a:lnTo>
                <a:lnTo>
                  <a:pt x="1042" y="980"/>
                </a:lnTo>
                <a:lnTo>
                  <a:pt x="1047" y="982"/>
                </a:lnTo>
                <a:lnTo>
                  <a:pt x="1053" y="983"/>
                </a:lnTo>
                <a:lnTo>
                  <a:pt x="1058" y="982"/>
                </a:lnTo>
                <a:lnTo>
                  <a:pt x="1064" y="979"/>
                </a:lnTo>
                <a:lnTo>
                  <a:pt x="1068" y="975"/>
                </a:lnTo>
                <a:lnTo>
                  <a:pt x="1074" y="976"/>
                </a:lnTo>
                <a:lnTo>
                  <a:pt x="1079" y="976"/>
                </a:lnTo>
                <a:lnTo>
                  <a:pt x="1084" y="977"/>
                </a:lnTo>
                <a:lnTo>
                  <a:pt x="1089" y="979"/>
                </a:lnTo>
                <a:lnTo>
                  <a:pt x="1095" y="980"/>
                </a:lnTo>
                <a:lnTo>
                  <a:pt x="1099" y="983"/>
                </a:lnTo>
                <a:lnTo>
                  <a:pt x="1104" y="985"/>
                </a:lnTo>
                <a:lnTo>
                  <a:pt x="1108" y="987"/>
                </a:lnTo>
                <a:lnTo>
                  <a:pt x="1107" y="997"/>
                </a:lnTo>
                <a:lnTo>
                  <a:pt x="1103" y="998"/>
                </a:lnTo>
                <a:lnTo>
                  <a:pt x="1095" y="998"/>
                </a:lnTo>
                <a:lnTo>
                  <a:pt x="1088" y="1000"/>
                </a:lnTo>
                <a:lnTo>
                  <a:pt x="1099" y="1014"/>
                </a:lnTo>
                <a:lnTo>
                  <a:pt x="1106" y="1030"/>
                </a:lnTo>
                <a:lnTo>
                  <a:pt x="1111" y="1046"/>
                </a:lnTo>
                <a:lnTo>
                  <a:pt x="1113" y="1062"/>
                </a:lnTo>
                <a:lnTo>
                  <a:pt x="1114" y="1081"/>
                </a:lnTo>
                <a:lnTo>
                  <a:pt x="1114" y="1098"/>
                </a:lnTo>
                <a:lnTo>
                  <a:pt x="1114" y="1116"/>
                </a:lnTo>
                <a:lnTo>
                  <a:pt x="1117" y="1135"/>
                </a:lnTo>
                <a:lnTo>
                  <a:pt x="1110" y="1154"/>
                </a:lnTo>
                <a:lnTo>
                  <a:pt x="1099" y="1173"/>
                </a:lnTo>
                <a:lnTo>
                  <a:pt x="1087" y="1190"/>
                </a:lnTo>
                <a:lnTo>
                  <a:pt x="1073" y="1205"/>
                </a:lnTo>
                <a:lnTo>
                  <a:pt x="1057" y="1220"/>
                </a:lnTo>
                <a:lnTo>
                  <a:pt x="1041" y="1234"/>
                </a:lnTo>
                <a:lnTo>
                  <a:pt x="1024" y="1248"/>
                </a:lnTo>
                <a:lnTo>
                  <a:pt x="1008" y="1262"/>
                </a:lnTo>
                <a:lnTo>
                  <a:pt x="992" y="1271"/>
                </a:lnTo>
                <a:lnTo>
                  <a:pt x="975" y="1280"/>
                </a:lnTo>
                <a:lnTo>
                  <a:pt x="956" y="1289"/>
                </a:lnTo>
                <a:lnTo>
                  <a:pt x="939" y="1296"/>
                </a:lnTo>
                <a:lnTo>
                  <a:pt x="921" y="1302"/>
                </a:lnTo>
                <a:lnTo>
                  <a:pt x="903" y="1305"/>
                </a:lnTo>
                <a:lnTo>
                  <a:pt x="885" y="1303"/>
                </a:lnTo>
                <a:lnTo>
                  <a:pt x="867" y="1297"/>
                </a:lnTo>
                <a:lnTo>
                  <a:pt x="858" y="1290"/>
                </a:lnTo>
                <a:lnTo>
                  <a:pt x="854" y="1281"/>
                </a:lnTo>
                <a:lnTo>
                  <a:pt x="853" y="1270"/>
                </a:lnTo>
                <a:lnTo>
                  <a:pt x="852" y="1258"/>
                </a:lnTo>
                <a:lnTo>
                  <a:pt x="850" y="1248"/>
                </a:lnTo>
                <a:lnTo>
                  <a:pt x="847" y="1240"/>
                </a:lnTo>
                <a:lnTo>
                  <a:pt x="839" y="1235"/>
                </a:lnTo>
                <a:lnTo>
                  <a:pt x="826" y="1236"/>
                </a:lnTo>
                <a:lnTo>
                  <a:pt x="817" y="1244"/>
                </a:lnTo>
                <a:lnTo>
                  <a:pt x="808" y="1252"/>
                </a:lnTo>
                <a:lnTo>
                  <a:pt x="801" y="1262"/>
                </a:lnTo>
                <a:lnTo>
                  <a:pt x="793" y="1271"/>
                </a:lnTo>
                <a:lnTo>
                  <a:pt x="786" y="1281"/>
                </a:lnTo>
                <a:lnTo>
                  <a:pt x="779" y="1291"/>
                </a:lnTo>
                <a:lnTo>
                  <a:pt x="772" y="1301"/>
                </a:lnTo>
                <a:lnTo>
                  <a:pt x="765" y="1310"/>
                </a:lnTo>
                <a:lnTo>
                  <a:pt x="757" y="1323"/>
                </a:lnTo>
                <a:lnTo>
                  <a:pt x="748" y="1335"/>
                </a:lnTo>
                <a:lnTo>
                  <a:pt x="741" y="1348"/>
                </a:lnTo>
                <a:lnTo>
                  <a:pt x="733" y="1362"/>
                </a:lnTo>
                <a:lnTo>
                  <a:pt x="726" y="1376"/>
                </a:lnTo>
                <a:lnTo>
                  <a:pt x="719" y="1389"/>
                </a:lnTo>
                <a:lnTo>
                  <a:pt x="712" y="1403"/>
                </a:lnTo>
                <a:lnTo>
                  <a:pt x="706" y="1417"/>
                </a:lnTo>
                <a:lnTo>
                  <a:pt x="703" y="1418"/>
                </a:lnTo>
                <a:lnTo>
                  <a:pt x="701" y="1421"/>
                </a:lnTo>
                <a:lnTo>
                  <a:pt x="698" y="1424"/>
                </a:lnTo>
                <a:lnTo>
                  <a:pt x="695" y="1425"/>
                </a:lnTo>
                <a:lnTo>
                  <a:pt x="682" y="1424"/>
                </a:lnTo>
                <a:lnTo>
                  <a:pt x="670" y="1423"/>
                </a:lnTo>
                <a:lnTo>
                  <a:pt x="656" y="1422"/>
                </a:lnTo>
                <a:lnTo>
                  <a:pt x="643" y="1421"/>
                </a:lnTo>
                <a:lnTo>
                  <a:pt x="629" y="1419"/>
                </a:lnTo>
                <a:lnTo>
                  <a:pt x="615" y="1418"/>
                </a:lnTo>
                <a:lnTo>
                  <a:pt x="603" y="1417"/>
                </a:lnTo>
                <a:lnTo>
                  <a:pt x="589" y="1416"/>
                </a:lnTo>
                <a:lnTo>
                  <a:pt x="575" y="1415"/>
                </a:lnTo>
                <a:lnTo>
                  <a:pt x="562" y="1414"/>
                </a:lnTo>
                <a:lnTo>
                  <a:pt x="549" y="1412"/>
                </a:lnTo>
                <a:lnTo>
                  <a:pt x="535" y="1410"/>
                </a:lnTo>
                <a:lnTo>
                  <a:pt x="522" y="1409"/>
                </a:lnTo>
                <a:lnTo>
                  <a:pt x="508" y="1407"/>
                </a:lnTo>
                <a:lnTo>
                  <a:pt x="496" y="1404"/>
                </a:lnTo>
                <a:lnTo>
                  <a:pt x="483" y="1402"/>
                </a:lnTo>
                <a:lnTo>
                  <a:pt x="477" y="1400"/>
                </a:lnTo>
                <a:lnTo>
                  <a:pt x="473" y="1397"/>
                </a:lnTo>
                <a:lnTo>
                  <a:pt x="467" y="1395"/>
                </a:lnTo>
                <a:lnTo>
                  <a:pt x="461" y="1392"/>
                </a:lnTo>
                <a:lnTo>
                  <a:pt x="456" y="1387"/>
                </a:lnTo>
                <a:lnTo>
                  <a:pt x="452" y="1382"/>
                </a:lnTo>
                <a:lnTo>
                  <a:pt x="448" y="1378"/>
                </a:lnTo>
                <a:lnTo>
                  <a:pt x="446" y="1372"/>
                </a:lnTo>
                <a:lnTo>
                  <a:pt x="443" y="1361"/>
                </a:lnTo>
                <a:lnTo>
                  <a:pt x="440" y="1348"/>
                </a:lnTo>
                <a:lnTo>
                  <a:pt x="440" y="1335"/>
                </a:lnTo>
                <a:lnTo>
                  <a:pt x="444" y="1323"/>
                </a:lnTo>
                <a:lnTo>
                  <a:pt x="453" y="1308"/>
                </a:lnTo>
                <a:lnTo>
                  <a:pt x="464" y="1296"/>
                </a:lnTo>
                <a:lnTo>
                  <a:pt x="478" y="1288"/>
                </a:lnTo>
                <a:lnTo>
                  <a:pt x="494" y="1282"/>
                </a:lnTo>
                <a:lnTo>
                  <a:pt x="509" y="1276"/>
                </a:lnTo>
                <a:lnTo>
                  <a:pt x="526" y="1270"/>
                </a:lnTo>
                <a:lnTo>
                  <a:pt x="538" y="1262"/>
                </a:lnTo>
                <a:lnTo>
                  <a:pt x="550" y="1250"/>
                </a:lnTo>
                <a:lnTo>
                  <a:pt x="550" y="1245"/>
                </a:lnTo>
                <a:lnTo>
                  <a:pt x="539" y="1238"/>
                </a:lnTo>
                <a:lnTo>
                  <a:pt x="529" y="1233"/>
                </a:lnTo>
                <a:lnTo>
                  <a:pt x="517" y="1227"/>
                </a:lnTo>
                <a:lnTo>
                  <a:pt x="506" y="1222"/>
                </a:lnTo>
                <a:lnTo>
                  <a:pt x="494" y="1218"/>
                </a:lnTo>
                <a:lnTo>
                  <a:pt x="483" y="1214"/>
                </a:lnTo>
                <a:lnTo>
                  <a:pt x="470" y="1212"/>
                </a:lnTo>
                <a:lnTo>
                  <a:pt x="458" y="1210"/>
                </a:lnTo>
                <a:lnTo>
                  <a:pt x="445" y="1209"/>
                </a:lnTo>
                <a:lnTo>
                  <a:pt x="432" y="1207"/>
                </a:lnTo>
                <a:lnTo>
                  <a:pt x="420" y="1209"/>
                </a:lnTo>
                <a:lnTo>
                  <a:pt x="407" y="1209"/>
                </a:lnTo>
                <a:lnTo>
                  <a:pt x="394" y="1211"/>
                </a:lnTo>
                <a:lnTo>
                  <a:pt x="381" y="1212"/>
                </a:lnTo>
                <a:lnTo>
                  <a:pt x="370" y="1215"/>
                </a:lnTo>
                <a:lnTo>
                  <a:pt x="357" y="1219"/>
                </a:lnTo>
                <a:lnTo>
                  <a:pt x="337" y="1233"/>
                </a:lnTo>
                <a:lnTo>
                  <a:pt x="326" y="1251"/>
                </a:lnTo>
                <a:lnTo>
                  <a:pt x="322" y="1272"/>
                </a:lnTo>
                <a:lnTo>
                  <a:pt x="320" y="1295"/>
                </a:lnTo>
                <a:lnTo>
                  <a:pt x="319" y="1319"/>
                </a:lnTo>
                <a:lnTo>
                  <a:pt x="317" y="1342"/>
                </a:lnTo>
                <a:lnTo>
                  <a:pt x="308" y="1362"/>
                </a:lnTo>
                <a:lnTo>
                  <a:pt x="292" y="1379"/>
                </a:lnTo>
                <a:lnTo>
                  <a:pt x="273" y="1382"/>
                </a:lnTo>
                <a:lnTo>
                  <a:pt x="256" y="1384"/>
                </a:lnTo>
                <a:lnTo>
                  <a:pt x="239" y="1386"/>
                </a:lnTo>
                <a:lnTo>
                  <a:pt x="221" y="1386"/>
                </a:lnTo>
                <a:lnTo>
                  <a:pt x="205" y="1386"/>
                </a:lnTo>
                <a:lnTo>
                  <a:pt x="188" y="1385"/>
                </a:lnTo>
                <a:lnTo>
                  <a:pt x="172" y="1384"/>
                </a:lnTo>
                <a:lnTo>
                  <a:pt x="155" y="1381"/>
                </a:lnTo>
                <a:lnTo>
                  <a:pt x="138" y="1380"/>
                </a:lnTo>
                <a:lnTo>
                  <a:pt x="121" y="1378"/>
                </a:lnTo>
                <a:lnTo>
                  <a:pt x="104" y="1376"/>
                </a:lnTo>
                <a:lnTo>
                  <a:pt x="87" y="1374"/>
                </a:lnTo>
                <a:lnTo>
                  <a:pt x="69" y="1373"/>
                </a:lnTo>
                <a:lnTo>
                  <a:pt x="52" y="1372"/>
                </a:lnTo>
                <a:lnTo>
                  <a:pt x="34" y="1372"/>
                </a:lnTo>
                <a:lnTo>
                  <a:pt x="15" y="1372"/>
                </a:lnTo>
                <a:lnTo>
                  <a:pt x="6" y="1354"/>
                </a:lnTo>
                <a:lnTo>
                  <a:pt x="1" y="1332"/>
                </a:lnTo>
                <a:lnTo>
                  <a:pt x="0" y="1311"/>
                </a:lnTo>
                <a:lnTo>
                  <a:pt x="2" y="1291"/>
                </a:lnTo>
                <a:lnTo>
                  <a:pt x="23" y="1271"/>
                </a:lnTo>
                <a:lnTo>
                  <a:pt x="44" y="1251"/>
                </a:lnTo>
                <a:lnTo>
                  <a:pt x="64" y="1230"/>
                </a:lnTo>
                <a:lnTo>
                  <a:pt x="84" y="1211"/>
                </a:lnTo>
                <a:lnTo>
                  <a:pt x="104" y="1191"/>
                </a:lnTo>
                <a:lnTo>
                  <a:pt x="123" y="1170"/>
                </a:lnTo>
                <a:lnTo>
                  <a:pt x="142" y="1150"/>
                </a:lnTo>
                <a:lnTo>
                  <a:pt x="161" y="1127"/>
                </a:lnTo>
                <a:lnTo>
                  <a:pt x="158" y="1121"/>
                </a:lnTo>
                <a:lnTo>
                  <a:pt x="155" y="1117"/>
                </a:lnTo>
                <a:lnTo>
                  <a:pt x="149" y="1115"/>
                </a:lnTo>
                <a:lnTo>
                  <a:pt x="143" y="1114"/>
                </a:lnTo>
                <a:lnTo>
                  <a:pt x="130" y="1116"/>
                </a:lnTo>
                <a:lnTo>
                  <a:pt x="117" y="1119"/>
                </a:lnTo>
                <a:lnTo>
                  <a:pt x="103" y="1120"/>
                </a:lnTo>
                <a:lnTo>
                  <a:pt x="89" y="1120"/>
                </a:lnTo>
                <a:lnTo>
                  <a:pt x="76" y="1119"/>
                </a:lnTo>
                <a:lnTo>
                  <a:pt x="64" y="1115"/>
                </a:lnTo>
                <a:lnTo>
                  <a:pt x="51" y="1109"/>
                </a:lnTo>
                <a:lnTo>
                  <a:pt x="40" y="1101"/>
                </a:lnTo>
                <a:lnTo>
                  <a:pt x="32" y="1086"/>
                </a:lnTo>
                <a:lnTo>
                  <a:pt x="25" y="1071"/>
                </a:lnTo>
                <a:lnTo>
                  <a:pt x="20" y="1055"/>
                </a:lnTo>
                <a:lnTo>
                  <a:pt x="17" y="1039"/>
                </a:lnTo>
                <a:lnTo>
                  <a:pt x="21" y="1017"/>
                </a:lnTo>
                <a:lnTo>
                  <a:pt x="25" y="994"/>
                </a:lnTo>
                <a:lnTo>
                  <a:pt x="32" y="972"/>
                </a:lnTo>
                <a:lnTo>
                  <a:pt x="43" y="952"/>
                </a:lnTo>
                <a:lnTo>
                  <a:pt x="40" y="949"/>
                </a:lnTo>
                <a:lnTo>
                  <a:pt x="54" y="933"/>
                </a:lnTo>
                <a:lnTo>
                  <a:pt x="69" y="916"/>
                </a:lnTo>
                <a:lnTo>
                  <a:pt x="84" y="900"/>
                </a:lnTo>
                <a:lnTo>
                  <a:pt x="100" y="884"/>
                </a:lnTo>
                <a:lnTo>
                  <a:pt x="118" y="869"/>
                </a:lnTo>
                <a:lnTo>
                  <a:pt x="135" y="856"/>
                </a:lnTo>
                <a:lnTo>
                  <a:pt x="155" y="844"/>
                </a:lnTo>
                <a:lnTo>
                  <a:pt x="174" y="835"/>
                </a:lnTo>
                <a:lnTo>
                  <a:pt x="188" y="832"/>
                </a:lnTo>
                <a:lnTo>
                  <a:pt x="201" y="831"/>
                </a:lnTo>
                <a:lnTo>
                  <a:pt x="213" y="832"/>
                </a:lnTo>
                <a:lnTo>
                  <a:pt x="226" y="834"/>
                </a:lnTo>
                <a:lnTo>
                  <a:pt x="239" y="838"/>
                </a:lnTo>
                <a:lnTo>
                  <a:pt x="250" y="842"/>
                </a:lnTo>
                <a:lnTo>
                  <a:pt x="261" y="849"/>
                </a:lnTo>
                <a:lnTo>
                  <a:pt x="272" y="857"/>
                </a:lnTo>
                <a:lnTo>
                  <a:pt x="277" y="864"/>
                </a:lnTo>
                <a:lnTo>
                  <a:pt x="280" y="871"/>
                </a:lnTo>
                <a:lnTo>
                  <a:pt x="284" y="879"/>
                </a:lnTo>
                <a:lnTo>
                  <a:pt x="288" y="887"/>
                </a:lnTo>
                <a:lnTo>
                  <a:pt x="292" y="894"/>
                </a:lnTo>
                <a:lnTo>
                  <a:pt x="297" y="900"/>
                </a:lnTo>
                <a:lnTo>
                  <a:pt x="305" y="902"/>
                </a:lnTo>
                <a:lnTo>
                  <a:pt x="315" y="903"/>
                </a:lnTo>
                <a:lnTo>
                  <a:pt x="329" y="903"/>
                </a:lnTo>
                <a:lnTo>
                  <a:pt x="341" y="897"/>
                </a:lnTo>
                <a:lnTo>
                  <a:pt x="352" y="889"/>
                </a:lnTo>
                <a:lnTo>
                  <a:pt x="361" y="879"/>
                </a:lnTo>
                <a:lnTo>
                  <a:pt x="370" y="866"/>
                </a:lnTo>
                <a:lnTo>
                  <a:pt x="377" y="854"/>
                </a:lnTo>
                <a:lnTo>
                  <a:pt x="385" y="842"/>
                </a:lnTo>
                <a:lnTo>
                  <a:pt x="392" y="831"/>
                </a:lnTo>
                <a:lnTo>
                  <a:pt x="407" y="805"/>
                </a:lnTo>
                <a:lnTo>
                  <a:pt x="422" y="779"/>
                </a:lnTo>
                <a:lnTo>
                  <a:pt x="436" y="753"/>
                </a:lnTo>
                <a:lnTo>
                  <a:pt x="451" y="728"/>
                </a:lnTo>
                <a:lnTo>
                  <a:pt x="466" y="702"/>
                </a:lnTo>
                <a:lnTo>
                  <a:pt x="481" y="676"/>
                </a:lnTo>
                <a:lnTo>
                  <a:pt x="497" y="651"/>
                </a:lnTo>
                <a:lnTo>
                  <a:pt x="514" y="626"/>
                </a:lnTo>
                <a:lnTo>
                  <a:pt x="523" y="616"/>
                </a:lnTo>
                <a:lnTo>
                  <a:pt x="534" y="607"/>
                </a:lnTo>
                <a:lnTo>
                  <a:pt x="545" y="598"/>
                </a:lnTo>
                <a:lnTo>
                  <a:pt x="558" y="591"/>
                </a:lnTo>
                <a:lnTo>
                  <a:pt x="569" y="585"/>
                </a:lnTo>
                <a:lnTo>
                  <a:pt x="582" y="582"/>
                </a:lnTo>
                <a:lnTo>
                  <a:pt x="596" y="581"/>
                </a:lnTo>
                <a:lnTo>
                  <a:pt x="608" y="584"/>
                </a:lnTo>
                <a:lnTo>
                  <a:pt x="619" y="590"/>
                </a:lnTo>
                <a:lnTo>
                  <a:pt x="629" y="593"/>
                </a:lnTo>
                <a:lnTo>
                  <a:pt x="636" y="599"/>
                </a:lnTo>
                <a:lnTo>
                  <a:pt x="636" y="611"/>
                </a:lnTo>
                <a:lnTo>
                  <a:pt x="637" y="616"/>
                </a:lnTo>
                <a:lnTo>
                  <a:pt x="642" y="620"/>
                </a:lnTo>
                <a:lnTo>
                  <a:pt x="648" y="621"/>
                </a:lnTo>
                <a:lnTo>
                  <a:pt x="653" y="622"/>
                </a:lnTo>
                <a:lnTo>
                  <a:pt x="653" y="626"/>
                </a:lnTo>
                <a:lnTo>
                  <a:pt x="653" y="630"/>
                </a:lnTo>
                <a:lnTo>
                  <a:pt x="652" y="634"/>
                </a:lnTo>
                <a:lnTo>
                  <a:pt x="649" y="636"/>
                </a:lnTo>
                <a:lnTo>
                  <a:pt x="652" y="643"/>
                </a:lnTo>
                <a:lnTo>
                  <a:pt x="656" y="647"/>
                </a:lnTo>
                <a:lnTo>
                  <a:pt x="661" y="650"/>
                </a:lnTo>
                <a:lnTo>
                  <a:pt x="667" y="652"/>
                </a:lnTo>
                <a:lnTo>
                  <a:pt x="673" y="653"/>
                </a:lnTo>
                <a:lnTo>
                  <a:pt x="680" y="653"/>
                </a:lnTo>
                <a:lnTo>
                  <a:pt x="686" y="653"/>
                </a:lnTo>
                <a:lnTo>
                  <a:pt x="693" y="653"/>
                </a:lnTo>
                <a:lnTo>
                  <a:pt x="713" y="646"/>
                </a:lnTo>
                <a:lnTo>
                  <a:pt x="732" y="635"/>
                </a:lnTo>
                <a:lnTo>
                  <a:pt x="748" y="621"/>
                </a:lnTo>
                <a:lnTo>
                  <a:pt x="762" y="604"/>
                </a:lnTo>
                <a:lnTo>
                  <a:pt x="774" y="586"/>
                </a:lnTo>
                <a:lnTo>
                  <a:pt x="786" y="567"/>
                </a:lnTo>
                <a:lnTo>
                  <a:pt x="796" y="548"/>
                </a:lnTo>
                <a:lnTo>
                  <a:pt x="805" y="530"/>
                </a:lnTo>
                <a:lnTo>
                  <a:pt x="805" y="517"/>
                </a:lnTo>
                <a:lnTo>
                  <a:pt x="805" y="503"/>
                </a:lnTo>
                <a:lnTo>
                  <a:pt x="801" y="492"/>
                </a:lnTo>
                <a:lnTo>
                  <a:pt x="788" y="486"/>
                </a:lnTo>
                <a:lnTo>
                  <a:pt x="773" y="492"/>
                </a:lnTo>
                <a:lnTo>
                  <a:pt x="757" y="500"/>
                </a:lnTo>
                <a:lnTo>
                  <a:pt x="741" y="507"/>
                </a:lnTo>
                <a:lnTo>
                  <a:pt x="725" y="514"/>
                </a:lnTo>
                <a:lnTo>
                  <a:pt x="709" y="518"/>
                </a:lnTo>
                <a:lnTo>
                  <a:pt x="693" y="518"/>
                </a:lnTo>
                <a:lnTo>
                  <a:pt x="679" y="514"/>
                </a:lnTo>
                <a:lnTo>
                  <a:pt x="665" y="502"/>
                </a:lnTo>
                <a:lnTo>
                  <a:pt x="661" y="485"/>
                </a:lnTo>
                <a:lnTo>
                  <a:pt x="663" y="469"/>
                </a:lnTo>
                <a:lnTo>
                  <a:pt x="664" y="452"/>
                </a:lnTo>
                <a:lnTo>
                  <a:pt x="659" y="433"/>
                </a:lnTo>
                <a:lnTo>
                  <a:pt x="665" y="420"/>
                </a:lnTo>
                <a:lnTo>
                  <a:pt x="672" y="409"/>
                </a:lnTo>
                <a:lnTo>
                  <a:pt x="676" y="396"/>
                </a:lnTo>
                <a:lnTo>
                  <a:pt x="681" y="384"/>
                </a:lnTo>
                <a:lnTo>
                  <a:pt x="691" y="370"/>
                </a:lnTo>
                <a:lnTo>
                  <a:pt x="702" y="356"/>
                </a:lnTo>
                <a:lnTo>
                  <a:pt x="711" y="342"/>
                </a:lnTo>
                <a:lnTo>
                  <a:pt x="720" y="328"/>
                </a:lnTo>
                <a:lnTo>
                  <a:pt x="729" y="314"/>
                </a:lnTo>
                <a:lnTo>
                  <a:pt x="739" y="301"/>
                </a:lnTo>
                <a:lnTo>
                  <a:pt x="747" y="287"/>
                </a:lnTo>
                <a:lnTo>
                  <a:pt x="755" y="273"/>
                </a:lnTo>
                <a:lnTo>
                  <a:pt x="772" y="250"/>
                </a:lnTo>
                <a:lnTo>
                  <a:pt x="790" y="237"/>
                </a:lnTo>
                <a:lnTo>
                  <a:pt x="812" y="233"/>
                </a:lnTo>
                <a:lnTo>
                  <a:pt x="834" y="231"/>
                </a:lnTo>
                <a:lnTo>
                  <a:pt x="858" y="234"/>
                </a:lnTo>
                <a:lnTo>
                  <a:pt x="884" y="236"/>
                </a:lnTo>
                <a:lnTo>
                  <a:pt x="909" y="235"/>
                </a:lnTo>
                <a:lnTo>
                  <a:pt x="935" y="229"/>
                </a:lnTo>
                <a:lnTo>
                  <a:pt x="941" y="230"/>
                </a:lnTo>
                <a:lnTo>
                  <a:pt x="949" y="231"/>
                </a:lnTo>
                <a:lnTo>
                  <a:pt x="956" y="231"/>
                </a:lnTo>
                <a:lnTo>
                  <a:pt x="963" y="231"/>
                </a:lnTo>
                <a:lnTo>
                  <a:pt x="970" y="230"/>
                </a:lnTo>
                <a:lnTo>
                  <a:pt x="977" y="229"/>
                </a:lnTo>
                <a:lnTo>
                  <a:pt x="984" y="228"/>
                </a:lnTo>
                <a:lnTo>
                  <a:pt x="991" y="227"/>
                </a:lnTo>
                <a:lnTo>
                  <a:pt x="998" y="229"/>
                </a:lnTo>
                <a:lnTo>
                  <a:pt x="1005" y="229"/>
                </a:lnTo>
                <a:lnTo>
                  <a:pt x="1011" y="229"/>
                </a:lnTo>
                <a:lnTo>
                  <a:pt x="1017" y="228"/>
                </a:lnTo>
                <a:lnTo>
                  <a:pt x="1023" y="227"/>
                </a:lnTo>
                <a:lnTo>
                  <a:pt x="1029" y="226"/>
                </a:lnTo>
                <a:lnTo>
                  <a:pt x="1036" y="225"/>
                </a:lnTo>
                <a:lnTo>
                  <a:pt x="1042" y="223"/>
                </a:lnTo>
                <a:lnTo>
                  <a:pt x="1034" y="212"/>
                </a:lnTo>
                <a:lnTo>
                  <a:pt x="1029" y="199"/>
                </a:lnTo>
                <a:lnTo>
                  <a:pt x="1026" y="188"/>
                </a:lnTo>
                <a:lnTo>
                  <a:pt x="1016" y="176"/>
                </a:lnTo>
                <a:lnTo>
                  <a:pt x="1015" y="154"/>
                </a:lnTo>
                <a:lnTo>
                  <a:pt x="1019" y="131"/>
                </a:lnTo>
                <a:lnTo>
                  <a:pt x="1024" y="111"/>
                </a:lnTo>
                <a:lnTo>
                  <a:pt x="1034" y="91"/>
                </a:lnTo>
                <a:lnTo>
                  <a:pt x="1046" y="72"/>
                </a:lnTo>
                <a:lnTo>
                  <a:pt x="1061" y="56"/>
                </a:lnTo>
                <a:lnTo>
                  <a:pt x="1079" y="43"/>
                </a:lnTo>
                <a:lnTo>
                  <a:pt x="1098" y="31"/>
                </a:lnTo>
                <a:lnTo>
                  <a:pt x="1105" y="28"/>
                </a:lnTo>
                <a:lnTo>
                  <a:pt x="1113" y="24"/>
                </a:lnTo>
                <a:lnTo>
                  <a:pt x="1120" y="22"/>
                </a:lnTo>
                <a:lnTo>
                  <a:pt x="1127" y="18"/>
                </a:lnTo>
                <a:lnTo>
                  <a:pt x="1135" y="15"/>
                </a:lnTo>
                <a:lnTo>
                  <a:pt x="1143" y="13"/>
                </a:lnTo>
                <a:lnTo>
                  <a:pt x="1151" y="10"/>
                </a:lnTo>
                <a:lnTo>
                  <a:pt x="1159" y="8"/>
                </a:lnTo>
                <a:lnTo>
                  <a:pt x="1179" y="6"/>
                </a:lnTo>
                <a:lnTo>
                  <a:pt x="1197" y="3"/>
                </a:lnTo>
                <a:lnTo>
                  <a:pt x="1217" y="1"/>
                </a:lnTo>
                <a:lnTo>
                  <a:pt x="1236" y="0"/>
                </a:lnTo>
                <a:lnTo>
                  <a:pt x="1256" y="0"/>
                </a:lnTo>
                <a:lnTo>
                  <a:pt x="1277" y="2"/>
                </a:lnTo>
                <a:lnTo>
                  <a:pt x="1296" y="6"/>
                </a:lnTo>
                <a:lnTo>
                  <a:pt x="1316" y="11"/>
                </a:lnTo>
                <a:lnTo>
                  <a:pt x="1322" y="13"/>
                </a:lnTo>
                <a:lnTo>
                  <a:pt x="1326" y="13"/>
                </a:lnTo>
                <a:lnTo>
                  <a:pt x="1332" y="14"/>
                </a:lnTo>
                <a:lnTo>
                  <a:pt x="1338" y="16"/>
                </a:lnTo>
                <a:lnTo>
                  <a:pt x="1344" y="17"/>
                </a:lnTo>
                <a:lnTo>
                  <a:pt x="1349" y="19"/>
                </a:lnTo>
                <a:lnTo>
                  <a:pt x="1354" y="22"/>
                </a:lnTo>
                <a:lnTo>
                  <a:pt x="1360" y="2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00920" y="4403880"/>
            <a:ext cx="35856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49800" y="4505400"/>
            <a:ext cx="20484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2826600">
            <a:off x="6214320" y="4546800"/>
            <a:ext cx="7164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97680" y="4500720"/>
            <a:ext cx="144360" cy="22536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240600" y="4595760"/>
            <a:ext cx="203040" cy="196920"/>
          </a:xfrm>
          <a:custGeom>
            <a:avLst/>
            <a:gdLst/>
            <a:ahLst/>
            <a:rect l="l" t="t" r="r" b="b"/>
            <a:pathLst>
              <a:path w="1080" h="1005">
                <a:moveTo>
                  <a:pt x="495" y="17"/>
                </a:moveTo>
                <a:lnTo>
                  <a:pt x="508" y="36"/>
                </a:lnTo>
                <a:lnTo>
                  <a:pt x="510" y="57"/>
                </a:lnTo>
                <a:lnTo>
                  <a:pt x="506" y="76"/>
                </a:lnTo>
                <a:lnTo>
                  <a:pt x="498" y="97"/>
                </a:lnTo>
                <a:lnTo>
                  <a:pt x="492" y="118"/>
                </a:lnTo>
                <a:lnTo>
                  <a:pt x="491" y="137"/>
                </a:lnTo>
                <a:lnTo>
                  <a:pt x="498" y="156"/>
                </a:lnTo>
                <a:lnTo>
                  <a:pt x="517" y="173"/>
                </a:lnTo>
                <a:lnTo>
                  <a:pt x="539" y="180"/>
                </a:lnTo>
                <a:lnTo>
                  <a:pt x="561" y="182"/>
                </a:lnTo>
                <a:lnTo>
                  <a:pt x="583" y="180"/>
                </a:lnTo>
                <a:lnTo>
                  <a:pt x="603" y="175"/>
                </a:lnTo>
                <a:lnTo>
                  <a:pt x="623" y="167"/>
                </a:lnTo>
                <a:lnTo>
                  <a:pt x="644" y="159"/>
                </a:lnTo>
                <a:lnTo>
                  <a:pt x="664" y="151"/>
                </a:lnTo>
                <a:lnTo>
                  <a:pt x="684" y="144"/>
                </a:lnTo>
                <a:lnTo>
                  <a:pt x="691" y="138"/>
                </a:lnTo>
                <a:lnTo>
                  <a:pt x="697" y="134"/>
                </a:lnTo>
                <a:lnTo>
                  <a:pt x="704" y="130"/>
                </a:lnTo>
                <a:lnTo>
                  <a:pt x="711" y="126"/>
                </a:lnTo>
                <a:lnTo>
                  <a:pt x="718" y="122"/>
                </a:lnTo>
                <a:lnTo>
                  <a:pt x="725" y="119"/>
                </a:lnTo>
                <a:lnTo>
                  <a:pt x="732" y="115"/>
                </a:lnTo>
                <a:lnTo>
                  <a:pt x="739" y="112"/>
                </a:lnTo>
                <a:lnTo>
                  <a:pt x="741" y="114"/>
                </a:lnTo>
                <a:lnTo>
                  <a:pt x="744" y="115"/>
                </a:lnTo>
                <a:lnTo>
                  <a:pt x="747" y="115"/>
                </a:lnTo>
                <a:lnTo>
                  <a:pt x="749" y="114"/>
                </a:lnTo>
                <a:lnTo>
                  <a:pt x="755" y="130"/>
                </a:lnTo>
                <a:lnTo>
                  <a:pt x="763" y="145"/>
                </a:lnTo>
                <a:lnTo>
                  <a:pt x="772" y="160"/>
                </a:lnTo>
                <a:lnTo>
                  <a:pt x="781" y="175"/>
                </a:lnTo>
                <a:lnTo>
                  <a:pt x="792" y="189"/>
                </a:lnTo>
                <a:lnTo>
                  <a:pt x="802" y="204"/>
                </a:lnTo>
                <a:lnTo>
                  <a:pt x="811" y="218"/>
                </a:lnTo>
                <a:lnTo>
                  <a:pt x="820" y="233"/>
                </a:lnTo>
                <a:lnTo>
                  <a:pt x="828" y="245"/>
                </a:lnTo>
                <a:lnTo>
                  <a:pt x="835" y="258"/>
                </a:lnTo>
                <a:lnTo>
                  <a:pt x="841" y="272"/>
                </a:lnTo>
                <a:lnTo>
                  <a:pt x="847" y="286"/>
                </a:lnTo>
                <a:lnTo>
                  <a:pt x="850" y="300"/>
                </a:lnTo>
                <a:lnTo>
                  <a:pt x="855" y="313"/>
                </a:lnTo>
                <a:lnTo>
                  <a:pt x="858" y="328"/>
                </a:lnTo>
                <a:lnTo>
                  <a:pt x="863" y="342"/>
                </a:lnTo>
                <a:lnTo>
                  <a:pt x="860" y="353"/>
                </a:lnTo>
                <a:lnTo>
                  <a:pt x="853" y="361"/>
                </a:lnTo>
                <a:lnTo>
                  <a:pt x="845" y="368"/>
                </a:lnTo>
                <a:lnTo>
                  <a:pt x="835" y="372"/>
                </a:lnTo>
                <a:lnTo>
                  <a:pt x="818" y="373"/>
                </a:lnTo>
                <a:lnTo>
                  <a:pt x="803" y="370"/>
                </a:lnTo>
                <a:lnTo>
                  <a:pt x="788" y="363"/>
                </a:lnTo>
                <a:lnTo>
                  <a:pt x="774" y="356"/>
                </a:lnTo>
                <a:lnTo>
                  <a:pt x="760" y="348"/>
                </a:lnTo>
                <a:lnTo>
                  <a:pt x="746" y="343"/>
                </a:lnTo>
                <a:lnTo>
                  <a:pt x="728" y="341"/>
                </a:lnTo>
                <a:lnTo>
                  <a:pt x="710" y="343"/>
                </a:lnTo>
                <a:lnTo>
                  <a:pt x="702" y="346"/>
                </a:lnTo>
                <a:lnTo>
                  <a:pt x="693" y="349"/>
                </a:lnTo>
                <a:lnTo>
                  <a:pt x="684" y="353"/>
                </a:lnTo>
                <a:lnTo>
                  <a:pt x="678" y="357"/>
                </a:lnTo>
                <a:lnTo>
                  <a:pt x="669" y="363"/>
                </a:lnTo>
                <a:lnTo>
                  <a:pt x="664" y="370"/>
                </a:lnTo>
                <a:lnTo>
                  <a:pt x="659" y="378"/>
                </a:lnTo>
                <a:lnTo>
                  <a:pt x="656" y="386"/>
                </a:lnTo>
                <a:lnTo>
                  <a:pt x="644" y="417"/>
                </a:lnTo>
                <a:lnTo>
                  <a:pt x="644" y="449"/>
                </a:lnTo>
                <a:lnTo>
                  <a:pt x="651" y="483"/>
                </a:lnTo>
                <a:lnTo>
                  <a:pt x="663" y="515"/>
                </a:lnTo>
                <a:lnTo>
                  <a:pt x="678" y="532"/>
                </a:lnTo>
                <a:lnTo>
                  <a:pt x="694" y="548"/>
                </a:lnTo>
                <a:lnTo>
                  <a:pt x="710" y="562"/>
                </a:lnTo>
                <a:lnTo>
                  <a:pt x="728" y="575"/>
                </a:lnTo>
                <a:lnTo>
                  <a:pt x="748" y="584"/>
                </a:lnTo>
                <a:lnTo>
                  <a:pt x="769" y="591"/>
                </a:lnTo>
                <a:lnTo>
                  <a:pt x="790" y="593"/>
                </a:lnTo>
                <a:lnTo>
                  <a:pt x="815" y="591"/>
                </a:lnTo>
                <a:lnTo>
                  <a:pt x="830" y="587"/>
                </a:lnTo>
                <a:lnTo>
                  <a:pt x="842" y="578"/>
                </a:lnTo>
                <a:lnTo>
                  <a:pt x="854" y="569"/>
                </a:lnTo>
                <a:lnTo>
                  <a:pt x="865" y="559"/>
                </a:lnTo>
                <a:lnTo>
                  <a:pt x="875" y="547"/>
                </a:lnTo>
                <a:lnTo>
                  <a:pt x="884" y="535"/>
                </a:lnTo>
                <a:lnTo>
                  <a:pt x="893" y="522"/>
                </a:lnTo>
                <a:lnTo>
                  <a:pt x="902" y="510"/>
                </a:lnTo>
                <a:lnTo>
                  <a:pt x="907" y="512"/>
                </a:lnTo>
                <a:lnTo>
                  <a:pt x="910" y="510"/>
                </a:lnTo>
                <a:lnTo>
                  <a:pt x="914" y="507"/>
                </a:lnTo>
                <a:lnTo>
                  <a:pt x="915" y="504"/>
                </a:lnTo>
                <a:lnTo>
                  <a:pt x="939" y="504"/>
                </a:lnTo>
                <a:lnTo>
                  <a:pt x="959" y="510"/>
                </a:lnTo>
                <a:lnTo>
                  <a:pt x="976" y="522"/>
                </a:lnTo>
                <a:lnTo>
                  <a:pt x="991" y="537"/>
                </a:lnTo>
                <a:lnTo>
                  <a:pt x="1004" y="555"/>
                </a:lnTo>
                <a:lnTo>
                  <a:pt x="1015" y="575"/>
                </a:lnTo>
                <a:lnTo>
                  <a:pt x="1027" y="595"/>
                </a:lnTo>
                <a:lnTo>
                  <a:pt x="1038" y="612"/>
                </a:lnTo>
                <a:lnTo>
                  <a:pt x="1042" y="623"/>
                </a:lnTo>
                <a:lnTo>
                  <a:pt x="1047" y="634"/>
                </a:lnTo>
                <a:lnTo>
                  <a:pt x="1053" y="645"/>
                </a:lnTo>
                <a:lnTo>
                  <a:pt x="1060" y="656"/>
                </a:lnTo>
                <a:lnTo>
                  <a:pt x="1066" y="666"/>
                </a:lnTo>
                <a:lnTo>
                  <a:pt x="1073" y="676"/>
                </a:lnTo>
                <a:lnTo>
                  <a:pt x="1077" y="688"/>
                </a:lnTo>
                <a:lnTo>
                  <a:pt x="1080" y="699"/>
                </a:lnTo>
                <a:lnTo>
                  <a:pt x="1067" y="703"/>
                </a:lnTo>
                <a:lnTo>
                  <a:pt x="1054" y="707"/>
                </a:lnTo>
                <a:lnTo>
                  <a:pt x="1043" y="713"/>
                </a:lnTo>
                <a:lnTo>
                  <a:pt x="1031" y="719"/>
                </a:lnTo>
                <a:lnTo>
                  <a:pt x="1020" y="726"/>
                </a:lnTo>
                <a:lnTo>
                  <a:pt x="1008" y="732"/>
                </a:lnTo>
                <a:lnTo>
                  <a:pt x="996" y="737"/>
                </a:lnTo>
                <a:lnTo>
                  <a:pt x="984" y="743"/>
                </a:lnTo>
                <a:lnTo>
                  <a:pt x="964" y="754"/>
                </a:lnTo>
                <a:lnTo>
                  <a:pt x="944" y="765"/>
                </a:lnTo>
                <a:lnTo>
                  <a:pt x="924" y="778"/>
                </a:lnTo>
                <a:lnTo>
                  <a:pt x="904" y="788"/>
                </a:lnTo>
                <a:lnTo>
                  <a:pt x="884" y="800"/>
                </a:lnTo>
                <a:lnTo>
                  <a:pt x="864" y="809"/>
                </a:lnTo>
                <a:lnTo>
                  <a:pt x="842" y="818"/>
                </a:lnTo>
                <a:lnTo>
                  <a:pt x="820" y="824"/>
                </a:lnTo>
                <a:lnTo>
                  <a:pt x="812" y="823"/>
                </a:lnTo>
                <a:lnTo>
                  <a:pt x="805" y="822"/>
                </a:lnTo>
                <a:lnTo>
                  <a:pt x="799" y="819"/>
                </a:lnTo>
                <a:lnTo>
                  <a:pt x="794" y="812"/>
                </a:lnTo>
                <a:lnTo>
                  <a:pt x="797" y="805"/>
                </a:lnTo>
                <a:lnTo>
                  <a:pt x="797" y="799"/>
                </a:lnTo>
                <a:lnTo>
                  <a:pt x="796" y="792"/>
                </a:lnTo>
                <a:lnTo>
                  <a:pt x="799" y="785"/>
                </a:lnTo>
                <a:lnTo>
                  <a:pt x="804" y="773"/>
                </a:lnTo>
                <a:lnTo>
                  <a:pt x="809" y="760"/>
                </a:lnTo>
                <a:lnTo>
                  <a:pt x="810" y="748"/>
                </a:lnTo>
                <a:lnTo>
                  <a:pt x="805" y="735"/>
                </a:lnTo>
                <a:lnTo>
                  <a:pt x="803" y="728"/>
                </a:lnTo>
                <a:lnTo>
                  <a:pt x="799" y="720"/>
                </a:lnTo>
                <a:lnTo>
                  <a:pt x="794" y="714"/>
                </a:lnTo>
                <a:lnTo>
                  <a:pt x="788" y="707"/>
                </a:lnTo>
                <a:lnTo>
                  <a:pt x="781" y="703"/>
                </a:lnTo>
                <a:lnTo>
                  <a:pt x="774" y="698"/>
                </a:lnTo>
                <a:lnTo>
                  <a:pt x="766" y="695"/>
                </a:lnTo>
                <a:lnTo>
                  <a:pt x="759" y="693"/>
                </a:lnTo>
                <a:lnTo>
                  <a:pt x="749" y="687"/>
                </a:lnTo>
                <a:lnTo>
                  <a:pt x="739" y="684"/>
                </a:lnTo>
                <a:lnTo>
                  <a:pt x="727" y="682"/>
                </a:lnTo>
                <a:lnTo>
                  <a:pt x="716" y="682"/>
                </a:lnTo>
                <a:lnTo>
                  <a:pt x="703" y="683"/>
                </a:lnTo>
                <a:lnTo>
                  <a:pt x="691" y="683"/>
                </a:lnTo>
                <a:lnTo>
                  <a:pt x="679" y="684"/>
                </a:lnTo>
                <a:lnTo>
                  <a:pt x="666" y="686"/>
                </a:lnTo>
                <a:lnTo>
                  <a:pt x="642" y="693"/>
                </a:lnTo>
                <a:lnTo>
                  <a:pt x="619" y="701"/>
                </a:lnTo>
                <a:lnTo>
                  <a:pt x="596" y="710"/>
                </a:lnTo>
                <a:lnTo>
                  <a:pt x="573" y="721"/>
                </a:lnTo>
                <a:lnTo>
                  <a:pt x="551" y="734"/>
                </a:lnTo>
                <a:lnTo>
                  <a:pt x="531" y="750"/>
                </a:lnTo>
                <a:lnTo>
                  <a:pt x="513" y="767"/>
                </a:lnTo>
                <a:lnTo>
                  <a:pt x="497" y="787"/>
                </a:lnTo>
                <a:lnTo>
                  <a:pt x="493" y="809"/>
                </a:lnTo>
                <a:lnTo>
                  <a:pt x="495" y="832"/>
                </a:lnTo>
                <a:lnTo>
                  <a:pt x="502" y="855"/>
                </a:lnTo>
                <a:lnTo>
                  <a:pt x="514" y="875"/>
                </a:lnTo>
                <a:lnTo>
                  <a:pt x="551" y="906"/>
                </a:lnTo>
                <a:lnTo>
                  <a:pt x="546" y="916"/>
                </a:lnTo>
                <a:lnTo>
                  <a:pt x="542" y="925"/>
                </a:lnTo>
                <a:lnTo>
                  <a:pt x="534" y="933"/>
                </a:lnTo>
                <a:lnTo>
                  <a:pt x="524" y="939"/>
                </a:lnTo>
                <a:lnTo>
                  <a:pt x="513" y="948"/>
                </a:lnTo>
                <a:lnTo>
                  <a:pt x="499" y="958"/>
                </a:lnTo>
                <a:lnTo>
                  <a:pt x="485" y="966"/>
                </a:lnTo>
                <a:lnTo>
                  <a:pt x="471" y="972"/>
                </a:lnTo>
                <a:lnTo>
                  <a:pt x="456" y="979"/>
                </a:lnTo>
                <a:lnTo>
                  <a:pt x="443" y="987"/>
                </a:lnTo>
                <a:lnTo>
                  <a:pt x="429" y="996"/>
                </a:lnTo>
                <a:lnTo>
                  <a:pt x="415" y="1005"/>
                </a:lnTo>
                <a:lnTo>
                  <a:pt x="407" y="1005"/>
                </a:lnTo>
                <a:lnTo>
                  <a:pt x="396" y="987"/>
                </a:lnTo>
                <a:lnTo>
                  <a:pt x="387" y="971"/>
                </a:lnTo>
                <a:lnTo>
                  <a:pt x="378" y="954"/>
                </a:lnTo>
                <a:lnTo>
                  <a:pt x="370" y="936"/>
                </a:lnTo>
                <a:lnTo>
                  <a:pt x="362" y="918"/>
                </a:lnTo>
                <a:lnTo>
                  <a:pt x="355" y="901"/>
                </a:lnTo>
                <a:lnTo>
                  <a:pt x="348" y="883"/>
                </a:lnTo>
                <a:lnTo>
                  <a:pt x="342" y="864"/>
                </a:lnTo>
                <a:lnTo>
                  <a:pt x="337" y="854"/>
                </a:lnTo>
                <a:lnTo>
                  <a:pt x="332" y="843"/>
                </a:lnTo>
                <a:lnTo>
                  <a:pt x="325" y="833"/>
                </a:lnTo>
                <a:lnTo>
                  <a:pt x="319" y="823"/>
                </a:lnTo>
                <a:lnTo>
                  <a:pt x="311" y="813"/>
                </a:lnTo>
                <a:lnTo>
                  <a:pt x="302" y="807"/>
                </a:lnTo>
                <a:lnTo>
                  <a:pt x="292" y="801"/>
                </a:lnTo>
                <a:lnTo>
                  <a:pt x="279" y="797"/>
                </a:lnTo>
                <a:lnTo>
                  <a:pt x="272" y="796"/>
                </a:lnTo>
                <a:lnTo>
                  <a:pt x="264" y="796"/>
                </a:lnTo>
                <a:lnTo>
                  <a:pt x="256" y="796"/>
                </a:lnTo>
                <a:lnTo>
                  <a:pt x="248" y="796"/>
                </a:lnTo>
                <a:lnTo>
                  <a:pt x="240" y="797"/>
                </a:lnTo>
                <a:lnTo>
                  <a:pt x="233" y="800"/>
                </a:lnTo>
                <a:lnTo>
                  <a:pt x="227" y="804"/>
                </a:lnTo>
                <a:lnTo>
                  <a:pt x="221" y="810"/>
                </a:lnTo>
                <a:lnTo>
                  <a:pt x="214" y="820"/>
                </a:lnTo>
                <a:lnTo>
                  <a:pt x="209" y="833"/>
                </a:lnTo>
                <a:lnTo>
                  <a:pt x="205" y="846"/>
                </a:lnTo>
                <a:lnTo>
                  <a:pt x="202" y="857"/>
                </a:lnTo>
                <a:lnTo>
                  <a:pt x="198" y="870"/>
                </a:lnTo>
                <a:lnTo>
                  <a:pt x="191" y="879"/>
                </a:lnTo>
                <a:lnTo>
                  <a:pt x="182" y="887"/>
                </a:lnTo>
                <a:lnTo>
                  <a:pt x="168" y="892"/>
                </a:lnTo>
                <a:lnTo>
                  <a:pt x="148" y="888"/>
                </a:lnTo>
                <a:lnTo>
                  <a:pt x="127" y="883"/>
                </a:lnTo>
                <a:lnTo>
                  <a:pt x="108" y="875"/>
                </a:lnTo>
                <a:lnTo>
                  <a:pt x="90" y="864"/>
                </a:lnTo>
                <a:lnTo>
                  <a:pt x="72" y="852"/>
                </a:lnTo>
                <a:lnTo>
                  <a:pt x="55" y="838"/>
                </a:lnTo>
                <a:lnTo>
                  <a:pt x="42" y="823"/>
                </a:lnTo>
                <a:lnTo>
                  <a:pt x="28" y="807"/>
                </a:lnTo>
                <a:lnTo>
                  <a:pt x="19" y="789"/>
                </a:lnTo>
                <a:lnTo>
                  <a:pt x="12" y="772"/>
                </a:lnTo>
                <a:lnTo>
                  <a:pt x="5" y="754"/>
                </a:lnTo>
                <a:lnTo>
                  <a:pt x="1" y="735"/>
                </a:lnTo>
                <a:lnTo>
                  <a:pt x="0" y="717"/>
                </a:lnTo>
                <a:lnTo>
                  <a:pt x="2" y="697"/>
                </a:lnTo>
                <a:lnTo>
                  <a:pt x="8" y="680"/>
                </a:lnTo>
                <a:lnTo>
                  <a:pt x="17" y="661"/>
                </a:lnTo>
                <a:lnTo>
                  <a:pt x="34" y="648"/>
                </a:lnTo>
                <a:lnTo>
                  <a:pt x="50" y="641"/>
                </a:lnTo>
                <a:lnTo>
                  <a:pt x="67" y="641"/>
                </a:lnTo>
                <a:lnTo>
                  <a:pt x="85" y="644"/>
                </a:lnTo>
                <a:lnTo>
                  <a:pt x="103" y="649"/>
                </a:lnTo>
                <a:lnTo>
                  <a:pt x="121" y="651"/>
                </a:lnTo>
                <a:lnTo>
                  <a:pt x="139" y="649"/>
                </a:lnTo>
                <a:lnTo>
                  <a:pt x="157" y="640"/>
                </a:lnTo>
                <a:lnTo>
                  <a:pt x="172" y="616"/>
                </a:lnTo>
                <a:lnTo>
                  <a:pt x="178" y="591"/>
                </a:lnTo>
                <a:lnTo>
                  <a:pt x="176" y="563"/>
                </a:lnTo>
                <a:lnTo>
                  <a:pt x="172" y="539"/>
                </a:lnTo>
                <a:lnTo>
                  <a:pt x="167" y="528"/>
                </a:lnTo>
                <a:lnTo>
                  <a:pt x="163" y="516"/>
                </a:lnTo>
                <a:lnTo>
                  <a:pt x="157" y="505"/>
                </a:lnTo>
                <a:lnTo>
                  <a:pt x="152" y="493"/>
                </a:lnTo>
                <a:lnTo>
                  <a:pt x="146" y="482"/>
                </a:lnTo>
                <a:lnTo>
                  <a:pt x="139" y="470"/>
                </a:lnTo>
                <a:lnTo>
                  <a:pt x="133" y="459"/>
                </a:lnTo>
                <a:lnTo>
                  <a:pt x="126" y="448"/>
                </a:lnTo>
                <a:lnTo>
                  <a:pt x="119" y="441"/>
                </a:lnTo>
                <a:lnTo>
                  <a:pt x="115" y="432"/>
                </a:lnTo>
                <a:lnTo>
                  <a:pt x="112" y="423"/>
                </a:lnTo>
                <a:lnTo>
                  <a:pt x="105" y="415"/>
                </a:lnTo>
                <a:lnTo>
                  <a:pt x="101" y="399"/>
                </a:lnTo>
                <a:lnTo>
                  <a:pt x="114" y="392"/>
                </a:lnTo>
                <a:lnTo>
                  <a:pt x="128" y="386"/>
                </a:lnTo>
                <a:lnTo>
                  <a:pt x="141" y="379"/>
                </a:lnTo>
                <a:lnTo>
                  <a:pt x="153" y="372"/>
                </a:lnTo>
                <a:lnTo>
                  <a:pt x="167" y="365"/>
                </a:lnTo>
                <a:lnTo>
                  <a:pt x="180" y="358"/>
                </a:lnTo>
                <a:lnTo>
                  <a:pt x="194" y="351"/>
                </a:lnTo>
                <a:lnTo>
                  <a:pt x="206" y="345"/>
                </a:lnTo>
                <a:lnTo>
                  <a:pt x="220" y="338"/>
                </a:lnTo>
                <a:lnTo>
                  <a:pt x="233" y="331"/>
                </a:lnTo>
                <a:lnTo>
                  <a:pt x="247" y="324"/>
                </a:lnTo>
                <a:lnTo>
                  <a:pt x="260" y="316"/>
                </a:lnTo>
                <a:lnTo>
                  <a:pt x="273" y="309"/>
                </a:lnTo>
                <a:lnTo>
                  <a:pt x="287" y="302"/>
                </a:lnTo>
                <a:lnTo>
                  <a:pt x="300" y="295"/>
                </a:lnTo>
                <a:lnTo>
                  <a:pt x="313" y="288"/>
                </a:lnTo>
                <a:lnTo>
                  <a:pt x="325" y="278"/>
                </a:lnTo>
                <a:lnTo>
                  <a:pt x="332" y="265"/>
                </a:lnTo>
                <a:lnTo>
                  <a:pt x="334" y="251"/>
                </a:lnTo>
                <a:lnTo>
                  <a:pt x="335" y="237"/>
                </a:lnTo>
                <a:lnTo>
                  <a:pt x="328" y="226"/>
                </a:lnTo>
                <a:lnTo>
                  <a:pt x="320" y="213"/>
                </a:lnTo>
                <a:lnTo>
                  <a:pt x="312" y="203"/>
                </a:lnTo>
                <a:lnTo>
                  <a:pt x="303" y="191"/>
                </a:lnTo>
                <a:lnTo>
                  <a:pt x="292" y="183"/>
                </a:lnTo>
                <a:lnTo>
                  <a:pt x="280" y="176"/>
                </a:lnTo>
                <a:lnTo>
                  <a:pt x="267" y="172"/>
                </a:lnTo>
                <a:lnTo>
                  <a:pt x="252" y="171"/>
                </a:lnTo>
                <a:lnTo>
                  <a:pt x="243" y="160"/>
                </a:lnTo>
                <a:lnTo>
                  <a:pt x="235" y="148"/>
                </a:lnTo>
                <a:lnTo>
                  <a:pt x="232" y="133"/>
                </a:lnTo>
                <a:lnTo>
                  <a:pt x="234" y="116"/>
                </a:lnTo>
                <a:lnTo>
                  <a:pt x="242" y="104"/>
                </a:lnTo>
                <a:lnTo>
                  <a:pt x="250" y="91"/>
                </a:lnTo>
                <a:lnTo>
                  <a:pt x="259" y="78"/>
                </a:lnTo>
                <a:lnTo>
                  <a:pt x="269" y="68"/>
                </a:lnTo>
                <a:lnTo>
                  <a:pt x="280" y="58"/>
                </a:lnTo>
                <a:lnTo>
                  <a:pt x="290" y="48"/>
                </a:lnTo>
                <a:lnTo>
                  <a:pt x="303" y="39"/>
                </a:lnTo>
                <a:lnTo>
                  <a:pt x="315" y="32"/>
                </a:lnTo>
                <a:lnTo>
                  <a:pt x="328" y="25"/>
                </a:lnTo>
                <a:lnTo>
                  <a:pt x="341" y="19"/>
                </a:lnTo>
                <a:lnTo>
                  <a:pt x="355" y="14"/>
                </a:lnTo>
                <a:lnTo>
                  <a:pt x="370" y="9"/>
                </a:lnTo>
                <a:lnTo>
                  <a:pt x="384" y="6"/>
                </a:lnTo>
                <a:lnTo>
                  <a:pt x="399" y="2"/>
                </a:lnTo>
                <a:lnTo>
                  <a:pt x="415" y="1"/>
                </a:lnTo>
                <a:lnTo>
                  <a:pt x="430" y="0"/>
                </a:lnTo>
                <a:lnTo>
                  <a:pt x="438" y="0"/>
                </a:lnTo>
                <a:lnTo>
                  <a:pt x="446" y="1"/>
                </a:lnTo>
                <a:lnTo>
                  <a:pt x="455" y="4"/>
                </a:lnTo>
                <a:lnTo>
                  <a:pt x="463" y="5"/>
                </a:lnTo>
                <a:lnTo>
                  <a:pt x="471" y="8"/>
                </a:lnTo>
                <a:lnTo>
                  <a:pt x="479" y="10"/>
                </a:lnTo>
                <a:lnTo>
                  <a:pt x="487" y="14"/>
                </a:lnTo>
                <a:lnTo>
                  <a:pt x="495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76960" y="4599000"/>
            <a:ext cx="12600" cy="6480"/>
          </a:xfrm>
          <a:custGeom>
            <a:avLst/>
            <a:gdLst/>
            <a:ahLst/>
            <a:rect l="l" t="t" r="r" b="b"/>
            <a:pathLst>
              <a:path w="65" h="40">
                <a:moveTo>
                  <a:pt x="65" y="25"/>
                </a:moveTo>
                <a:lnTo>
                  <a:pt x="62" y="30"/>
                </a:lnTo>
                <a:lnTo>
                  <a:pt x="60" y="35"/>
                </a:lnTo>
                <a:lnTo>
                  <a:pt x="57" y="37"/>
                </a:lnTo>
                <a:lnTo>
                  <a:pt x="52" y="40"/>
                </a:lnTo>
                <a:lnTo>
                  <a:pt x="44" y="38"/>
                </a:lnTo>
                <a:lnTo>
                  <a:pt x="36" y="35"/>
                </a:lnTo>
                <a:lnTo>
                  <a:pt x="27" y="32"/>
                </a:lnTo>
                <a:lnTo>
                  <a:pt x="19" y="29"/>
                </a:lnTo>
                <a:lnTo>
                  <a:pt x="11" y="24"/>
                </a:lnTo>
                <a:lnTo>
                  <a:pt x="5" y="18"/>
                </a:lnTo>
                <a:lnTo>
                  <a:pt x="1" y="10"/>
                </a:lnTo>
                <a:lnTo>
                  <a:pt x="0" y="0"/>
                </a:lnTo>
                <a:lnTo>
                  <a:pt x="7" y="6"/>
                </a:lnTo>
                <a:lnTo>
                  <a:pt x="14" y="10"/>
                </a:lnTo>
                <a:lnTo>
                  <a:pt x="22" y="14"/>
                </a:lnTo>
                <a:lnTo>
                  <a:pt x="31" y="16"/>
                </a:lnTo>
                <a:lnTo>
                  <a:pt x="39" y="18"/>
                </a:lnTo>
                <a:lnTo>
                  <a:pt x="47" y="20"/>
                </a:lnTo>
                <a:lnTo>
                  <a:pt x="57" y="22"/>
                </a:lnTo>
                <a:lnTo>
                  <a:pt x="65" y="2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4600440"/>
            <a:ext cx="3240" cy="3240"/>
          </a:xfrm>
          <a:custGeom>
            <a:avLst/>
            <a:gdLst/>
            <a:ahLst/>
            <a:rect l="l" t="t" r="r" b="b"/>
            <a:pathLst>
              <a:path w="23" h="12">
                <a:moveTo>
                  <a:pt x="23" y="5"/>
                </a:moveTo>
                <a:lnTo>
                  <a:pt x="19" y="7"/>
                </a:lnTo>
                <a:lnTo>
                  <a:pt x="14" y="9"/>
                </a:lnTo>
                <a:lnTo>
                  <a:pt x="8" y="10"/>
                </a:lnTo>
                <a:lnTo>
                  <a:pt x="2" y="12"/>
                </a:lnTo>
                <a:lnTo>
                  <a:pt x="0" y="8"/>
                </a:lnTo>
                <a:lnTo>
                  <a:pt x="1" y="3"/>
                </a:lnTo>
                <a:lnTo>
                  <a:pt x="4" y="1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21" y="1"/>
                </a:lnTo>
                <a:lnTo>
                  <a:pt x="23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40320" y="4600440"/>
            <a:ext cx="16200" cy="3240"/>
          </a:xfrm>
          <a:custGeom>
            <a:avLst/>
            <a:gdLst/>
            <a:ahLst/>
            <a:rect l="l" t="t" r="r" b="b"/>
            <a:pathLst>
              <a:path w="82" h="18">
                <a:moveTo>
                  <a:pt x="82" y="5"/>
                </a:moveTo>
                <a:lnTo>
                  <a:pt x="82" y="7"/>
                </a:lnTo>
                <a:lnTo>
                  <a:pt x="82" y="9"/>
                </a:lnTo>
                <a:lnTo>
                  <a:pt x="80" y="13"/>
                </a:lnTo>
                <a:lnTo>
                  <a:pt x="78" y="15"/>
                </a:lnTo>
                <a:lnTo>
                  <a:pt x="7" y="18"/>
                </a:lnTo>
                <a:lnTo>
                  <a:pt x="3" y="15"/>
                </a:lnTo>
                <a:lnTo>
                  <a:pt x="0" y="9"/>
                </a:lnTo>
                <a:lnTo>
                  <a:pt x="0" y="5"/>
                </a:lnTo>
                <a:lnTo>
                  <a:pt x="3" y="0"/>
                </a:lnTo>
                <a:lnTo>
                  <a:pt x="12" y="1"/>
                </a:lnTo>
                <a:lnTo>
                  <a:pt x="22" y="1"/>
                </a:lnTo>
                <a:lnTo>
                  <a:pt x="33" y="1"/>
                </a:lnTo>
                <a:lnTo>
                  <a:pt x="43" y="0"/>
                </a:lnTo>
                <a:lnTo>
                  <a:pt x="53" y="0"/>
                </a:lnTo>
                <a:lnTo>
                  <a:pt x="64" y="0"/>
                </a:lnTo>
                <a:lnTo>
                  <a:pt x="73" y="1"/>
                </a:lnTo>
                <a:lnTo>
                  <a:pt x="82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05400" y="4602240"/>
            <a:ext cx="3240" cy="144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0"/>
                </a:moveTo>
                <a:lnTo>
                  <a:pt x="14" y="5"/>
                </a:lnTo>
                <a:lnTo>
                  <a:pt x="11" y="7"/>
                </a:lnTo>
                <a:lnTo>
                  <a:pt x="5" y="8"/>
                </a:lnTo>
                <a:lnTo>
                  <a:pt x="0" y="8"/>
                </a:lnTo>
                <a:lnTo>
                  <a:pt x="1" y="4"/>
                </a:lnTo>
                <a:lnTo>
                  <a:pt x="6" y="1"/>
                </a:lnTo>
                <a:lnTo>
                  <a:pt x="12" y="0"/>
                </a:lnTo>
                <a:lnTo>
                  <a:pt x="16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15120" y="4605480"/>
            <a:ext cx="3240" cy="1440"/>
          </a:xfrm>
          <a:custGeom>
            <a:avLst/>
            <a:gdLst/>
            <a:ahLst/>
            <a:rect l="l" t="t" r="r" b="b"/>
            <a:pathLst>
              <a:path w="15" h="13">
                <a:moveTo>
                  <a:pt x="14" y="0"/>
                </a:moveTo>
                <a:lnTo>
                  <a:pt x="15" y="5"/>
                </a:lnTo>
                <a:lnTo>
                  <a:pt x="13" y="8"/>
                </a:lnTo>
                <a:lnTo>
                  <a:pt x="10" y="10"/>
                </a:lnTo>
                <a:lnTo>
                  <a:pt x="6" y="13"/>
                </a:lnTo>
                <a:lnTo>
                  <a:pt x="0" y="7"/>
                </a:lnTo>
                <a:lnTo>
                  <a:pt x="1" y="2"/>
                </a:lnTo>
                <a:lnTo>
                  <a:pt x="6" y="0"/>
                </a:lnTo>
                <a:lnTo>
                  <a:pt x="11" y="0"/>
                </a:lnTo>
                <a:lnTo>
                  <a:pt x="1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97480" y="4605480"/>
            <a:ext cx="3240" cy="1440"/>
          </a:xfrm>
          <a:custGeom>
            <a:avLst/>
            <a:gdLst/>
            <a:ahLst/>
            <a:rect l="l" t="t" r="r" b="b"/>
            <a:pathLst>
              <a:path w="17" h="13">
                <a:moveTo>
                  <a:pt x="16" y="0"/>
                </a:moveTo>
                <a:lnTo>
                  <a:pt x="17" y="5"/>
                </a:lnTo>
                <a:lnTo>
                  <a:pt x="15" y="8"/>
                </a:lnTo>
                <a:lnTo>
                  <a:pt x="13" y="10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2" y="11"/>
                </a:lnTo>
                <a:lnTo>
                  <a:pt x="0" y="10"/>
                </a:lnTo>
                <a:lnTo>
                  <a:pt x="3" y="7"/>
                </a:lnTo>
                <a:lnTo>
                  <a:pt x="7" y="3"/>
                </a:lnTo>
                <a:lnTo>
                  <a:pt x="11" y="1"/>
                </a:lnTo>
                <a:lnTo>
                  <a:pt x="16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340320" y="4606920"/>
            <a:ext cx="20880" cy="3240"/>
          </a:xfrm>
          <a:custGeom>
            <a:avLst/>
            <a:gdLst/>
            <a:ahLst/>
            <a:rect l="l" t="t" r="r" b="b"/>
            <a:pathLst>
              <a:path w="98" h="21">
                <a:moveTo>
                  <a:pt x="98" y="9"/>
                </a:moveTo>
                <a:lnTo>
                  <a:pt x="97" y="14"/>
                </a:lnTo>
                <a:lnTo>
                  <a:pt x="94" y="16"/>
                </a:lnTo>
                <a:lnTo>
                  <a:pt x="88" y="16"/>
                </a:lnTo>
                <a:lnTo>
                  <a:pt x="82" y="16"/>
                </a:lnTo>
                <a:lnTo>
                  <a:pt x="73" y="17"/>
                </a:lnTo>
                <a:lnTo>
                  <a:pt x="63" y="18"/>
                </a:lnTo>
                <a:lnTo>
                  <a:pt x="53" y="18"/>
                </a:lnTo>
                <a:lnTo>
                  <a:pt x="45" y="18"/>
                </a:lnTo>
                <a:lnTo>
                  <a:pt x="36" y="18"/>
                </a:lnTo>
                <a:lnTo>
                  <a:pt x="27" y="18"/>
                </a:lnTo>
                <a:lnTo>
                  <a:pt x="17" y="20"/>
                </a:lnTo>
                <a:lnTo>
                  <a:pt x="7" y="21"/>
                </a:lnTo>
                <a:lnTo>
                  <a:pt x="4" y="17"/>
                </a:lnTo>
                <a:lnTo>
                  <a:pt x="2" y="13"/>
                </a:lnTo>
                <a:lnTo>
                  <a:pt x="0" y="8"/>
                </a:lnTo>
                <a:lnTo>
                  <a:pt x="3" y="5"/>
                </a:lnTo>
                <a:lnTo>
                  <a:pt x="12" y="5"/>
                </a:lnTo>
                <a:lnTo>
                  <a:pt x="22" y="3"/>
                </a:lnTo>
                <a:lnTo>
                  <a:pt x="32" y="2"/>
                </a:lnTo>
                <a:lnTo>
                  <a:pt x="42" y="1"/>
                </a:lnTo>
                <a:lnTo>
                  <a:pt x="51" y="0"/>
                </a:lnTo>
                <a:lnTo>
                  <a:pt x="61" y="0"/>
                </a:lnTo>
                <a:lnTo>
                  <a:pt x="71" y="2"/>
                </a:lnTo>
                <a:lnTo>
                  <a:pt x="81" y="6"/>
                </a:lnTo>
                <a:lnTo>
                  <a:pt x="86" y="6"/>
                </a:lnTo>
                <a:lnTo>
                  <a:pt x="89" y="6"/>
                </a:lnTo>
                <a:lnTo>
                  <a:pt x="94" y="7"/>
                </a:lnTo>
                <a:lnTo>
                  <a:pt x="98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92800" y="4608360"/>
            <a:ext cx="1800" cy="180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3"/>
                </a:moveTo>
                <a:lnTo>
                  <a:pt x="9" y="6"/>
                </a:lnTo>
                <a:lnTo>
                  <a:pt x="7" y="8"/>
                </a:lnTo>
                <a:lnTo>
                  <a:pt x="3" y="10"/>
                </a:lnTo>
                <a:lnTo>
                  <a:pt x="0" y="11"/>
                </a:lnTo>
                <a:lnTo>
                  <a:pt x="0" y="7"/>
                </a:lnTo>
                <a:lnTo>
                  <a:pt x="1" y="5"/>
                </a:lnTo>
                <a:lnTo>
                  <a:pt x="5" y="4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0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08640" y="4608360"/>
            <a:ext cx="1800" cy="1800"/>
          </a:xfrm>
          <a:custGeom>
            <a:avLst/>
            <a:gdLst/>
            <a:ahLst/>
            <a:rect l="l" t="t" r="r" b="b"/>
            <a:pathLst>
              <a:path w="11" h="8">
                <a:moveTo>
                  <a:pt x="8" y="0"/>
                </a:moveTo>
                <a:lnTo>
                  <a:pt x="8" y="1"/>
                </a:lnTo>
                <a:lnTo>
                  <a:pt x="8" y="2"/>
                </a:lnTo>
                <a:lnTo>
                  <a:pt x="10" y="3"/>
                </a:lnTo>
                <a:lnTo>
                  <a:pt x="11" y="3"/>
                </a:lnTo>
                <a:lnTo>
                  <a:pt x="8" y="5"/>
                </a:lnTo>
                <a:lnTo>
                  <a:pt x="6" y="5"/>
                </a:lnTo>
                <a:lnTo>
                  <a:pt x="3" y="7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19800" y="4611600"/>
            <a:ext cx="3240" cy="3240"/>
          </a:xfrm>
          <a:custGeom>
            <a:avLst/>
            <a:gdLst/>
            <a:ahLst/>
            <a:rect l="l" t="t" r="r" b="b"/>
            <a:pathLst>
              <a:path w="21" h="13">
                <a:moveTo>
                  <a:pt x="21" y="6"/>
                </a:moveTo>
                <a:lnTo>
                  <a:pt x="18" y="10"/>
                </a:lnTo>
                <a:lnTo>
                  <a:pt x="12" y="11"/>
                </a:lnTo>
                <a:lnTo>
                  <a:pt x="7" y="11"/>
                </a:lnTo>
                <a:lnTo>
                  <a:pt x="3" y="13"/>
                </a:lnTo>
                <a:lnTo>
                  <a:pt x="0" y="6"/>
                </a:lnTo>
                <a:lnTo>
                  <a:pt x="6" y="4"/>
                </a:lnTo>
                <a:lnTo>
                  <a:pt x="13" y="0"/>
                </a:lnTo>
                <a:lnTo>
                  <a:pt x="18" y="0"/>
                </a:lnTo>
                <a:lnTo>
                  <a:pt x="2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00720" y="4611600"/>
            <a:ext cx="3240" cy="3240"/>
          </a:xfrm>
          <a:custGeom>
            <a:avLst/>
            <a:gdLst/>
            <a:ahLst/>
            <a:rect l="l" t="t" r="r" b="b"/>
            <a:pathLst>
              <a:path w="17" h="12">
                <a:moveTo>
                  <a:pt x="17" y="2"/>
                </a:moveTo>
                <a:lnTo>
                  <a:pt x="5" y="12"/>
                </a:lnTo>
                <a:lnTo>
                  <a:pt x="0" y="8"/>
                </a:lnTo>
                <a:lnTo>
                  <a:pt x="3" y="5"/>
                </a:lnTo>
                <a:lnTo>
                  <a:pt x="7" y="1"/>
                </a:lnTo>
                <a:lnTo>
                  <a:pt x="13" y="0"/>
                </a:lnTo>
                <a:lnTo>
                  <a:pt x="17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40320" y="4614840"/>
            <a:ext cx="16200" cy="3240"/>
          </a:xfrm>
          <a:custGeom>
            <a:avLst/>
            <a:gdLst/>
            <a:ahLst/>
            <a:rect l="l" t="t" r="r" b="b"/>
            <a:pathLst>
              <a:path w="91" h="15">
                <a:moveTo>
                  <a:pt x="91" y="4"/>
                </a:moveTo>
                <a:lnTo>
                  <a:pt x="91" y="11"/>
                </a:lnTo>
                <a:lnTo>
                  <a:pt x="80" y="12"/>
                </a:lnTo>
                <a:lnTo>
                  <a:pt x="68" y="14"/>
                </a:lnTo>
                <a:lnTo>
                  <a:pt x="57" y="14"/>
                </a:lnTo>
                <a:lnTo>
                  <a:pt x="45" y="15"/>
                </a:lnTo>
                <a:lnTo>
                  <a:pt x="34" y="15"/>
                </a:lnTo>
                <a:lnTo>
                  <a:pt x="23" y="15"/>
                </a:lnTo>
                <a:lnTo>
                  <a:pt x="12" y="15"/>
                </a:lnTo>
                <a:lnTo>
                  <a:pt x="1" y="14"/>
                </a:lnTo>
                <a:lnTo>
                  <a:pt x="0" y="10"/>
                </a:lnTo>
                <a:lnTo>
                  <a:pt x="3" y="5"/>
                </a:lnTo>
                <a:lnTo>
                  <a:pt x="7" y="1"/>
                </a:lnTo>
                <a:lnTo>
                  <a:pt x="12" y="0"/>
                </a:lnTo>
                <a:lnTo>
                  <a:pt x="22" y="0"/>
                </a:lnTo>
                <a:lnTo>
                  <a:pt x="32" y="0"/>
                </a:lnTo>
                <a:lnTo>
                  <a:pt x="43" y="0"/>
                </a:lnTo>
                <a:lnTo>
                  <a:pt x="53" y="0"/>
                </a:lnTo>
                <a:lnTo>
                  <a:pt x="62" y="0"/>
                </a:lnTo>
                <a:lnTo>
                  <a:pt x="73" y="0"/>
                </a:lnTo>
                <a:lnTo>
                  <a:pt x="82" y="1"/>
                </a:lnTo>
                <a:lnTo>
                  <a:pt x="9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311880" y="4616280"/>
            <a:ext cx="1440" cy="1800"/>
          </a:xfrm>
          <a:custGeom>
            <a:avLst/>
            <a:gdLst/>
            <a:ahLst/>
            <a:rect l="l" t="t" r="r" b="b"/>
            <a:pathLst>
              <a:path w="16" h="14">
                <a:moveTo>
                  <a:pt x="16" y="8"/>
                </a:moveTo>
                <a:lnTo>
                  <a:pt x="12" y="9"/>
                </a:lnTo>
                <a:lnTo>
                  <a:pt x="8" y="11"/>
                </a:lnTo>
                <a:lnTo>
                  <a:pt x="5" y="14"/>
                </a:lnTo>
                <a:lnTo>
                  <a:pt x="0" y="12"/>
                </a:lnTo>
                <a:lnTo>
                  <a:pt x="13" y="0"/>
                </a:lnTo>
                <a:lnTo>
                  <a:pt x="14" y="2"/>
                </a:lnTo>
                <a:lnTo>
                  <a:pt x="16" y="3"/>
                </a:lnTo>
                <a:lnTo>
                  <a:pt x="16" y="6"/>
                </a:lnTo>
                <a:lnTo>
                  <a:pt x="16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294600" y="4616280"/>
            <a:ext cx="2880" cy="1800"/>
          </a:xfrm>
          <a:custGeom>
            <a:avLst/>
            <a:gdLst/>
            <a:ahLst/>
            <a:rect l="l" t="t" r="r" b="b"/>
            <a:pathLst>
              <a:path w="19" h="10">
                <a:moveTo>
                  <a:pt x="19" y="2"/>
                </a:moveTo>
                <a:lnTo>
                  <a:pt x="15" y="6"/>
                </a:lnTo>
                <a:lnTo>
                  <a:pt x="12" y="8"/>
                </a:lnTo>
                <a:lnTo>
                  <a:pt x="7" y="9"/>
                </a:lnTo>
                <a:lnTo>
                  <a:pt x="4" y="10"/>
                </a:lnTo>
                <a:lnTo>
                  <a:pt x="0" y="8"/>
                </a:lnTo>
                <a:lnTo>
                  <a:pt x="4" y="6"/>
                </a:lnTo>
                <a:lnTo>
                  <a:pt x="8" y="1"/>
                </a:lnTo>
                <a:lnTo>
                  <a:pt x="13" y="0"/>
                </a:lnTo>
                <a:lnTo>
                  <a:pt x="19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392880" y="4619520"/>
            <a:ext cx="14400" cy="3240"/>
          </a:xfrm>
          <a:custGeom>
            <a:avLst/>
            <a:gdLst/>
            <a:ahLst/>
            <a:rect l="l" t="t" r="r" b="b"/>
            <a:pathLst>
              <a:path w="73" h="17">
                <a:moveTo>
                  <a:pt x="73" y="13"/>
                </a:moveTo>
                <a:lnTo>
                  <a:pt x="64" y="15"/>
                </a:lnTo>
                <a:lnTo>
                  <a:pt x="54" y="16"/>
                </a:lnTo>
                <a:lnTo>
                  <a:pt x="45" y="17"/>
                </a:lnTo>
                <a:lnTo>
                  <a:pt x="36" y="17"/>
                </a:lnTo>
                <a:lnTo>
                  <a:pt x="27" y="17"/>
                </a:lnTo>
                <a:lnTo>
                  <a:pt x="18" y="16"/>
                </a:lnTo>
                <a:lnTo>
                  <a:pt x="8" y="13"/>
                </a:lnTo>
                <a:lnTo>
                  <a:pt x="0" y="9"/>
                </a:lnTo>
                <a:lnTo>
                  <a:pt x="0" y="2"/>
                </a:lnTo>
                <a:lnTo>
                  <a:pt x="8" y="1"/>
                </a:lnTo>
                <a:lnTo>
                  <a:pt x="16" y="0"/>
                </a:lnTo>
                <a:lnTo>
                  <a:pt x="25" y="0"/>
                </a:lnTo>
                <a:lnTo>
                  <a:pt x="33" y="1"/>
                </a:lnTo>
                <a:lnTo>
                  <a:pt x="41" y="2"/>
                </a:lnTo>
                <a:lnTo>
                  <a:pt x="49" y="4"/>
                </a:lnTo>
                <a:lnTo>
                  <a:pt x="57" y="5"/>
                </a:lnTo>
                <a:lnTo>
                  <a:pt x="65" y="5"/>
                </a:lnTo>
                <a:lnTo>
                  <a:pt x="73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288120" y="4619520"/>
            <a:ext cx="3240" cy="324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17"/>
                </a:moveTo>
                <a:lnTo>
                  <a:pt x="2" y="16"/>
                </a:lnTo>
                <a:lnTo>
                  <a:pt x="1" y="13"/>
                </a:lnTo>
                <a:lnTo>
                  <a:pt x="0" y="11"/>
                </a:lnTo>
                <a:lnTo>
                  <a:pt x="2" y="7"/>
                </a:lnTo>
                <a:lnTo>
                  <a:pt x="5" y="6"/>
                </a:lnTo>
                <a:lnTo>
                  <a:pt x="9" y="5"/>
                </a:lnTo>
                <a:lnTo>
                  <a:pt x="14" y="2"/>
                </a:lnTo>
                <a:lnTo>
                  <a:pt x="17" y="0"/>
                </a:lnTo>
                <a:lnTo>
                  <a:pt x="3" y="1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03960" y="4619520"/>
            <a:ext cx="3240" cy="1800"/>
          </a:xfrm>
          <a:custGeom>
            <a:avLst/>
            <a:gdLst/>
            <a:ahLst/>
            <a:rect l="l" t="t" r="r" b="b"/>
            <a:pathLst>
              <a:path w="16" h="13">
                <a:moveTo>
                  <a:pt x="16" y="2"/>
                </a:moveTo>
                <a:lnTo>
                  <a:pt x="15" y="6"/>
                </a:lnTo>
                <a:lnTo>
                  <a:pt x="11" y="9"/>
                </a:lnTo>
                <a:lnTo>
                  <a:pt x="6" y="12"/>
                </a:lnTo>
                <a:lnTo>
                  <a:pt x="2" y="13"/>
                </a:lnTo>
                <a:lnTo>
                  <a:pt x="0" y="8"/>
                </a:lnTo>
                <a:lnTo>
                  <a:pt x="2" y="6"/>
                </a:lnTo>
                <a:lnTo>
                  <a:pt x="8" y="4"/>
                </a:lnTo>
                <a:lnTo>
                  <a:pt x="12" y="0"/>
                </a:lnTo>
                <a:lnTo>
                  <a:pt x="13" y="0"/>
                </a:lnTo>
                <a:lnTo>
                  <a:pt x="15" y="1"/>
                </a:lnTo>
                <a:lnTo>
                  <a:pt x="15" y="1"/>
                </a:lnTo>
                <a:lnTo>
                  <a:pt x="16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3040" y="4621320"/>
            <a:ext cx="1440" cy="1440"/>
          </a:xfrm>
          <a:custGeom>
            <a:avLst/>
            <a:gdLst/>
            <a:ahLst/>
            <a:rect l="l" t="t" r="r" b="b"/>
            <a:pathLst>
              <a:path w="14" h="8">
                <a:moveTo>
                  <a:pt x="14" y="2"/>
                </a:moveTo>
                <a:lnTo>
                  <a:pt x="12" y="6"/>
                </a:lnTo>
                <a:lnTo>
                  <a:pt x="8" y="8"/>
                </a:lnTo>
                <a:lnTo>
                  <a:pt x="5" y="8"/>
                </a:lnTo>
                <a:lnTo>
                  <a:pt x="0" y="8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  <a:lnTo>
                  <a:pt x="10" y="0"/>
                </a:lnTo>
                <a:lnTo>
                  <a:pt x="1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42120" y="4621320"/>
            <a:ext cx="11160" cy="3240"/>
          </a:xfrm>
          <a:custGeom>
            <a:avLst/>
            <a:gdLst/>
            <a:ahLst/>
            <a:rect l="l" t="t" r="r" b="b"/>
            <a:pathLst>
              <a:path w="49" h="15">
                <a:moveTo>
                  <a:pt x="49" y="4"/>
                </a:moveTo>
                <a:lnTo>
                  <a:pt x="49" y="11"/>
                </a:lnTo>
                <a:lnTo>
                  <a:pt x="42" y="11"/>
                </a:lnTo>
                <a:lnTo>
                  <a:pt x="35" y="12"/>
                </a:lnTo>
                <a:lnTo>
                  <a:pt x="28" y="13"/>
                </a:lnTo>
                <a:lnTo>
                  <a:pt x="21" y="15"/>
                </a:lnTo>
                <a:lnTo>
                  <a:pt x="14" y="15"/>
                </a:lnTo>
                <a:lnTo>
                  <a:pt x="8" y="13"/>
                </a:lnTo>
                <a:lnTo>
                  <a:pt x="4" y="10"/>
                </a:lnTo>
                <a:lnTo>
                  <a:pt x="0" y="4"/>
                </a:lnTo>
                <a:lnTo>
                  <a:pt x="6" y="4"/>
                </a:lnTo>
                <a:lnTo>
                  <a:pt x="13" y="3"/>
                </a:lnTo>
                <a:lnTo>
                  <a:pt x="19" y="2"/>
                </a:lnTo>
                <a:lnTo>
                  <a:pt x="26" y="1"/>
                </a:lnTo>
                <a:lnTo>
                  <a:pt x="31" y="0"/>
                </a:lnTo>
                <a:lnTo>
                  <a:pt x="37" y="1"/>
                </a:lnTo>
                <a:lnTo>
                  <a:pt x="43" y="2"/>
                </a:lnTo>
                <a:lnTo>
                  <a:pt x="49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97480" y="4622760"/>
            <a:ext cx="5040" cy="3240"/>
          </a:xfrm>
          <a:custGeom>
            <a:avLst/>
            <a:gdLst/>
            <a:ahLst/>
            <a:rect l="l" t="t" r="r" b="b"/>
            <a:pathLst>
              <a:path w="24" h="12">
                <a:moveTo>
                  <a:pt x="24" y="0"/>
                </a:moveTo>
                <a:lnTo>
                  <a:pt x="20" y="4"/>
                </a:lnTo>
                <a:lnTo>
                  <a:pt x="14" y="8"/>
                </a:lnTo>
                <a:lnTo>
                  <a:pt x="7" y="11"/>
                </a:lnTo>
                <a:lnTo>
                  <a:pt x="0" y="12"/>
                </a:lnTo>
                <a:lnTo>
                  <a:pt x="5" y="8"/>
                </a:lnTo>
                <a:lnTo>
                  <a:pt x="11" y="3"/>
                </a:lnTo>
                <a:lnTo>
                  <a:pt x="18" y="1"/>
                </a:lnTo>
                <a:lnTo>
                  <a:pt x="2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15120" y="4622760"/>
            <a:ext cx="3240" cy="1800"/>
          </a:xfrm>
          <a:custGeom>
            <a:avLst/>
            <a:gdLst/>
            <a:ahLst/>
            <a:rect l="l" t="t" r="r" b="b"/>
            <a:pathLst>
              <a:path w="16" h="10">
                <a:moveTo>
                  <a:pt x="16" y="2"/>
                </a:moveTo>
                <a:lnTo>
                  <a:pt x="14" y="6"/>
                </a:lnTo>
                <a:lnTo>
                  <a:pt x="10" y="8"/>
                </a:lnTo>
                <a:lnTo>
                  <a:pt x="6" y="9"/>
                </a:lnTo>
                <a:lnTo>
                  <a:pt x="2" y="10"/>
                </a:lnTo>
                <a:lnTo>
                  <a:pt x="0" y="3"/>
                </a:lnTo>
                <a:lnTo>
                  <a:pt x="5" y="2"/>
                </a:lnTo>
                <a:lnTo>
                  <a:pt x="8" y="0"/>
                </a:lnTo>
                <a:lnTo>
                  <a:pt x="12" y="0"/>
                </a:lnTo>
                <a:lnTo>
                  <a:pt x="16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372360" y="4624560"/>
            <a:ext cx="6120" cy="2880"/>
          </a:xfrm>
          <a:custGeom>
            <a:avLst/>
            <a:gdLst/>
            <a:ahLst/>
            <a:rect l="l" t="t" r="r" b="b"/>
            <a:pathLst>
              <a:path w="31" h="16">
                <a:moveTo>
                  <a:pt x="31" y="6"/>
                </a:moveTo>
                <a:lnTo>
                  <a:pt x="23" y="8"/>
                </a:lnTo>
                <a:lnTo>
                  <a:pt x="15" y="11"/>
                </a:lnTo>
                <a:lnTo>
                  <a:pt x="8" y="16"/>
                </a:lnTo>
                <a:lnTo>
                  <a:pt x="0" y="15"/>
                </a:lnTo>
                <a:lnTo>
                  <a:pt x="6" y="8"/>
                </a:lnTo>
                <a:lnTo>
                  <a:pt x="14" y="3"/>
                </a:lnTo>
                <a:lnTo>
                  <a:pt x="22" y="1"/>
                </a:lnTo>
                <a:lnTo>
                  <a:pt x="31" y="0"/>
                </a:lnTo>
                <a:lnTo>
                  <a:pt x="3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07200" y="4626000"/>
            <a:ext cx="4680" cy="1440"/>
          </a:xfrm>
          <a:custGeom>
            <a:avLst/>
            <a:gdLst/>
            <a:ahLst/>
            <a:rect l="l" t="t" r="r" b="b"/>
            <a:pathLst>
              <a:path w="23" h="11">
                <a:moveTo>
                  <a:pt x="23" y="2"/>
                </a:moveTo>
                <a:lnTo>
                  <a:pt x="18" y="6"/>
                </a:lnTo>
                <a:lnTo>
                  <a:pt x="14" y="9"/>
                </a:lnTo>
                <a:lnTo>
                  <a:pt x="8" y="11"/>
                </a:lnTo>
                <a:lnTo>
                  <a:pt x="2" y="11"/>
                </a:lnTo>
                <a:lnTo>
                  <a:pt x="2" y="10"/>
                </a:lnTo>
                <a:lnTo>
                  <a:pt x="2" y="9"/>
                </a:lnTo>
                <a:lnTo>
                  <a:pt x="1" y="8"/>
                </a:lnTo>
                <a:lnTo>
                  <a:pt x="0" y="7"/>
                </a:lnTo>
                <a:lnTo>
                  <a:pt x="5" y="3"/>
                </a:lnTo>
                <a:lnTo>
                  <a:pt x="11" y="1"/>
                </a:lnTo>
                <a:lnTo>
                  <a:pt x="17" y="0"/>
                </a:lnTo>
                <a:lnTo>
                  <a:pt x="23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397560" y="4626000"/>
            <a:ext cx="12600" cy="4680"/>
          </a:xfrm>
          <a:custGeom>
            <a:avLst/>
            <a:gdLst/>
            <a:ahLst/>
            <a:rect l="l" t="t" r="r" b="b"/>
            <a:pathLst>
              <a:path w="71" h="18">
                <a:moveTo>
                  <a:pt x="65" y="2"/>
                </a:moveTo>
                <a:lnTo>
                  <a:pt x="68" y="4"/>
                </a:lnTo>
                <a:lnTo>
                  <a:pt x="70" y="6"/>
                </a:lnTo>
                <a:lnTo>
                  <a:pt x="70" y="10"/>
                </a:lnTo>
                <a:lnTo>
                  <a:pt x="71" y="12"/>
                </a:lnTo>
                <a:lnTo>
                  <a:pt x="62" y="13"/>
                </a:lnTo>
                <a:lnTo>
                  <a:pt x="53" y="16"/>
                </a:lnTo>
                <a:lnTo>
                  <a:pt x="44" y="17"/>
                </a:lnTo>
                <a:lnTo>
                  <a:pt x="33" y="18"/>
                </a:lnTo>
                <a:lnTo>
                  <a:pt x="24" y="18"/>
                </a:lnTo>
                <a:lnTo>
                  <a:pt x="16" y="18"/>
                </a:lnTo>
                <a:lnTo>
                  <a:pt x="8" y="16"/>
                </a:lnTo>
                <a:lnTo>
                  <a:pt x="1" y="12"/>
                </a:lnTo>
                <a:lnTo>
                  <a:pt x="0" y="8"/>
                </a:lnTo>
                <a:lnTo>
                  <a:pt x="2" y="4"/>
                </a:lnTo>
                <a:lnTo>
                  <a:pt x="6" y="2"/>
                </a:lnTo>
                <a:lnTo>
                  <a:pt x="9" y="0"/>
                </a:lnTo>
                <a:lnTo>
                  <a:pt x="16" y="0"/>
                </a:lnTo>
                <a:lnTo>
                  <a:pt x="23" y="1"/>
                </a:lnTo>
                <a:lnTo>
                  <a:pt x="30" y="2"/>
                </a:lnTo>
                <a:lnTo>
                  <a:pt x="37" y="2"/>
                </a:lnTo>
                <a:lnTo>
                  <a:pt x="44" y="3"/>
                </a:lnTo>
                <a:lnTo>
                  <a:pt x="51" y="3"/>
                </a:lnTo>
                <a:lnTo>
                  <a:pt x="59" y="3"/>
                </a:lnTo>
                <a:lnTo>
                  <a:pt x="65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62640" y="4627440"/>
            <a:ext cx="7920" cy="5040"/>
          </a:xfrm>
          <a:custGeom>
            <a:avLst/>
            <a:gdLst/>
            <a:ahLst/>
            <a:rect l="l" t="t" r="r" b="b"/>
            <a:pathLst>
              <a:path w="38" h="19">
                <a:moveTo>
                  <a:pt x="8" y="18"/>
                </a:moveTo>
                <a:lnTo>
                  <a:pt x="5" y="18"/>
                </a:lnTo>
                <a:lnTo>
                  <a:pt x="3" y="19"/>
                </a:lnTo>
                <a:lnTo>
                  <a:pt x="1" y="18"/>
                </a:lnTo>
                <a:lnTo>
                  <a:pt x="0" y="17"/>
                </a:lnTo>
                <a:lnTo>
                  <a:pt x="3" y="13"/>
                </a:lnTo>
                <a:lnTo>
                  <a:pt x="8" y="10"/>
                </a:lnTo>
                <a:lnTo>
                  <a:pt x="12" y="7"/>
                </a:lnTo>
                <a:lnTo>
                  <a:pt x="18" y="5"/>
                </a:lnTo>
                <a:lnTo>
                  <a:pt x="23" y="3"/>
                </a:lnTo>
                <a:lnTo>
                  <a:pt x="28" y="2"/>
                </a:lnTo>
                <a:lnTo>
                  <a:pt x="33" y="0"/>
                </a:lnTo>
                <a:lnTo>
                  <a:pt x="38" y="0"/>
                </a:lnTo>
                <a:lnTo>
                  <a:pt x="34" y="8"/>
                </a:lnTo>
                <a:lnTo>
                  <a:pt x="26" y="12"/>
                </a:lnTo>
                <a:lnTo>
                  <a:pt x="16" y="14"/>
                </a:lnTo>
                <a:lnTo>
                  <a:pt x="8" y="1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24480" y="4627440"/>
            <a:ext cx="5040" cy="1800"/>
          </a:xfrm>
          <a:custGeom>
            <a:avLst/>
            <a:gdLst/>
            <a:ahLst/>
            <a:rect l="l" t="t" r="r" b="b"/>
            <a:pathLst>
              <a:path w="24" h="8">
                <a:moveTo>
                  <a:pt x="24" y="1"/>
                </a:moveTo>
                <a:lnTo>
                  <a:pt x="20" y="5"/>
                </a:lnTo>
                <a:lnTo>
                  <a:pt x="15" y="6"/>
                </a:lnTo>
                <a:lnTo>
                  <a:pt x="8" y="7"/>
                </a:lnTo>
                <a:lnTo>
                  <a:pt x="2" y="8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5" y="4"/>
                </a:lnTo>
                <a:lnTo>
                  <a:pt x="11" y="1"/>
                </a:lnTo>
                <a:lnTo>
                  <a:pt x="17" y="0"/>
                </a:lnTo>
                <a:lnTo>
                  <a:pt x="24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280200" y="4629240"/>
            <a:ext cx="9360" cy="792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37"/>
                </a:moveTo>
                <a:lnTo>
                  <a:pt x="44" y="41"/>
                </a:lnTo>
                <a:lnTo>
                  <a:pt x="38" y="42"/>
                </a:lnTo>
                <a:lnTo>
                  <a:pt x="33" y="42"/>
                </a:lnTo>
                <a:lnTo>
                  <a:pt x="28" y="42"/>
                </a:lnTo>
                <a:lnTo>
                  <a:pt x="23" y="41"/>
                </a:lnTo>
                <a:lnTo>
                  <a:pt x="17" y="39"/>
                </a:lnTo>
                <a:lnTo>
                  <a:pt x="12" y="39"/>
                </a:lnTo>
                <a:lnTo>
                  <a:pt x="6" y="41"/>
                </a:lnTo>
                <a:lnTo>
                  <a:pt x="2" y="31"/>
                </a:lnTo>
                <a:lnTo>
                  <a:pt x="0" y="22"/>
                </a:lnTo>
                <a:lnTo>
                  <a:pt x="0" y="11"/>
                </a:lnTo>
                <a:lnTo>
                  <a:pt x="2" y="0"/>
                </a:lnTo>
                <a:lnTo>
                  <a:pt x="10" y="2"/>
                </a:lnTo>
                <a:lnTo>
                  <a:pt x="16" y="7"/>
                </a:lnTo>
                <a:lnTo>
                  <a:pt x="21" y="13"/>
                </a:lnTo>
                <a:lnTo>
                  <a:pt x="24" y="20"/>
                </a:lnTo>
                <a:lnTo>
                  <a:pt x="28" y="27"/>
                </a:lnTo>
                <a:lnTo>
                  <a:pt x="32" y="32"/>
                </a:lnTo>
                <a:lnTo>
                  <a:pt x="39" y="37"/>
                </a:lnTo>
                <a:lnTo>
                  <a:pt x="48" y="3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03960" y="4629240"/>
            <a:ext cx="1440" cy="144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4"/>
                </a:moveTo>
                <a:lnTo>
                  <a:pt x="9" y="6"/>
                </a:lnTo>
                <a:lnTo>
                  <a:pt x="8" y="7"/>
                </a:lnTo>
                <a:lnTo>
                  <a:pt x="5" y="10"/>
                </a:lnTo>
                <a:lnTo>
                  <a:pt x="3" y="11"/>
                </a:lnTo>
                <a:lnTo>
                  <a:pt x="1" y="10"/>
                </a:lnTo>
                <a:lnTo>
                  <a:pt x="0" y="7"/>
                </a:lnTo>
                <a:lnTo>
                  <a:pt x="0" y="4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1"/>
                </a:lnTo>
                <a:lnTo>
                  <a:pt x="10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19800" y="4630680"/>
            <a:ext cx="3240" cy="1800"/>
          </a:xfrm>
          <a:custGeom>
            <a:avLst/>
            <a:gdLst/>
            <a:ahLst/>
            <a:rect l="l" t="t" r="r" b="b"/>
            <a:pathLst>
              <a:path w="20" h="10">
                <a:moveTo>
                  <a:pt x="20" y="0"/>
                </a:moveTo>
                <a:lnTo>
                  <a:pt x="18" y="3"/>
                </a:lnTo>
                <a:lnTo>
                  <a:pt x="14" y="7"/>
                </a:lnTo>
                <a:lnTo>
                  <a:pt x="10" y="9"/>
                </a:lnTo>
                <a:lnTo>
                  <a:pt x="5" y="10"/>
                </a:lnTo>
                <a:lnTo>
                  <a:pt x="0" y="10"/>
                </a:lnTo>
                <a:lnTo>
                  <a:pt x="3" y="6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53280" y="4632480"/>
            <a:ext cx="7920" cy="2880"/>
          </a:xfrm>
          <a:custGeom>
            <a:avLst/>
            <a:gdLst/>
            <a:ahLst/>
            <a:rect l="l" t="t" r="r" b="b"/>
            <a:pathLst>
              <a:path w="40" h="21">
                <a:moveTo>
                  <a:pt x="40" y="8"/>
                </a:moveTo>
                <a:lnTo>
                  <a:pt x="35" y="10"/>
                </a:lnTo>
                <a:lnTo>
                  <a:pt x="31" y="11"/>
                </a:lnTo>
                <a:lnTo>
                  <a:pt x="27" y="14"/>
                </a:lnTo>
                <a:lnTo>
                  <a:pt x="23" y="16"/>
                </a:lnTo>
                <a:lnTo>
                  <a:pt x="18" y="18"/>
                </a:lnTo>
                <a:lnTo>
                  <a:pt x="13" y="19"/>
                </a:lnTo>
                <a:lnTo>
                  <a:pt x="8" y="21"/>
                </a:lnTo>
                <a:lnTo>
                  <a:pt x="3" y="21"/>
                </a:lnTo>
                <a:lnTo>
                  <a:pt x="0" y="13"/>
                </a:lnTo>
                <a:lnTo>
                  <a:pt x="5" y="10"/>
                </a:lnTo>
                <a:lnTo>
                  <a:pt x="11" y="8"/>
                </a:lnTo>
                <a:lnTo>
                  <a:pt x="18" y="4"/>
                </a:lnTo>
                <a:lnTo>
                  <a:pt x="24" y="1"/>
                </a:lnTo>
                <a:lnTo>
                  <a:pt x="30" y="0"/>
                </a:lnTo>
                <a:lnTo>
                  <a:pt x="34" y="0"/>
                </a:lnTo>
                <a:lnTo>
                  <a:pt x="38" y="2"/>
                </a:lnTo>
                <a:lnTo>
                  <a:pt x="40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75240" y="4632480"/>
            <a:ext cx="7920" cy="4680"/>
          </a:xfrm>
          <a:custGeom>
            <a:avLst/>
            <a:gdLst/>
            <a:ahLst/>
            <a:rect l="l" t="t" r="r" b="b"/>
            <a:pathLst>
              <a:path w="40" h="22">
                <a:moveTo>
                  <a:pt x="39" y="6"/>
                </a:moveTo>
                <a:lnTo>
                  <a:pt x="40" y="10"/>
                </a:lnTo>
                <a:lnTo>
                  <a:pt x="38" y="14"/>
                </a:lnTo>
                <a:lnTo>
                  <a:pt x="36" y="17"/>
                </a:lnTo>
                <a:lnTo>
                  <a:pt x="32" y="18"/>
                </a:lnTo>
                <a:lnTo>
                  <a:pt x="22" y="17"/>
                </a:lnTo>
                <a:lnTo>
                  <a:pt x="12" y="21"/>
                </a:lnTo>
                <a:lnTo>
                  <a:pt x="4" y="22"/>
                </a:lnTo>
                <a:lnTo>
                  <a:pt x="0" y="13"/>
                </a:lnTo>
                <a:lnTo>
                  <a:pt x="6" y="10"/>
                </a:lnTo>
                <a:lnTo>
                  <a:pt x="11" y="7"/>
                </a:lnTo>
                <a:lnTo>
                  <a:pt x="16" y="3"/>
                </a:lnTo>
                <a:lnTo>
                  <a:pt x="21" y="1"/>
                </a:lnTo>
                <a:lnTo>
                  <a:pt x="26" y="0"/>
                </a:lnTo>
                <a:lnTo>
                  <a:pt x="30" y="0"/>
                </a:lnTo>
                <a:lnTo>
                  <a:pt x="35" y="2"/>
                </a:lnTo>
                <a:lnTo>
                  <a:pt x="39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332400" y="4632480"/>
            <a:ext cx="5040" cy="2880"/>
          </a:xfrm>
          <a:custGeom>
            <a:avLst/>
            <a:gdLst/>
            <a:ahLst/>
            <a:rect l="l" t="t" r="r" b="b"/>
            <a:pathLst>
              <a:path w="17" h="11">
                <a:moveTo>
                  <a:pt x="17" y="2"/>
                </a:moveTo>
                <a:lnTo>
                  <a:pt x="16" y="8"/>
                </a:lnTo>
                <a:lnTo>
                  <a:pt x="12" y="9"/>
                </a:lnTo>
                <a:lnTo>
                  <a:pt x="7" y="9"/>
                </a:lnTo>
                <a:lnTo>
                  <a:pt x="2" y="11"/>
                </a:lnTo>
                <a:lnTo>
                  <a:pt x="0" y="9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  <a:lnTo>
                  <a:pt x="4" y="2"/>
                </a:lnTo>
                <a:lnTo>
                  <a:pt x="9" y="1"/>
                </a:lnTo>
                <a:lnTo>
                  <a:pt x="12" y="0"/>
                </a:lnTo>
                <a:lnTo>
                  <a:pt x="17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11880" y="4633920"/>
            <a:ext cx="3240" cy="3240"/>
          </a:xfrm>
          <a:custGeom>
            <a:avLst/>
            <a:gdLst/>
            <a:ahLst/>
            <a:rect l="l" t="t" r="r" b="b"/>
            <a:pathLst>
              <a:path w="22" h="15">
                <a:moveTo>
                  <a:pt x="22" y="0"/>
                </a:moveTo>
                <a:lnTo>
                  <a:pt x="19" y="5"/>
                </a:lnTo>
                <a:lnTo>
                  <a:pt x="14" y="8"/>
                </a:lnTo>
                <a:lnTo>
                  <a:pt x="9" y="11"/>
                </a:lnTo>
                <a:lnTo>
                  <a:pt x="3" y="15"/>
                </a:lnTo>
                <a:lnTo>
                  <a:pt x="0" y="13"/>
                </a:lnTo>
                <a:lnTo>
                  <a:pt x="5" y="8"/>
                </a:lnTo>
                <a:lnTo>
                  <a:pt x="10" y="5"/>
                </a:lnTo>
                <a:lnTo>
                  <a:pt x="15" y="1"/>
                </a:lnTo>
                <a:lnTo>
                  <a:pt x="22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65880" y="4635360"/>
            <a:ext cx="7920" cy="5040"/>
          </a:xfrm>
          <a:custGeom>
            <a:avLst/>
            <a:gdLst/>
            <a:ahLst/>
            <a:rect l="l" t="t" r="r" b="b"/>
            <a:pathLst>
              <a:path w="40" h="28">
                <a:moveTo>
                  <a:pt x="40" y="7"/>
                </a:moveTo>
                <a:lnTo>
                  <a:pt x="40" y="13"/>
                </a:lnTo>
                <a:lnTo>
                  <a:pt x="2" y="28"/>
                </a:lnTo>
                <a:lnTo>
                  <a:pt x="0" y="20"/>
                </a:lnTo>
                <a:lnTo>
                  <a:pt x="1" y="15"/>
                </a:lnTo>
                <a:lnTo>
                  <a:pt x="5" y="13"/>
                </a:lnTo>
                <a:lnTo>
                  <a:pt x="10" y="10"/>
                </a:lnTo>
                <a:lnTo>
                  <a:pt x="17" y="9"/>
                </a:lnTo>
                <a:lnTo>
                  <a:pt x="23" y="8"/>
                </a:lnTo>
                <a:lnTo>
                  <a:pt x="29" y="6"/>
                </a:lnTo>
                <a:lnTo>
                  <a:pt x="33" y="1"/>
                </a:lnTo>
                <a:lnTo>
                  <a:pt x="37" y="0"/>
                </a:lnTo>
                <a:lnTo>
                  <a:pt x="38" y="2"/>
                </a:lnTo>
                <a:lnTo>
                  <a:pt x="39" y="5"/>
                </a:lnTo>
                <a:lnTo>
                  <a:pt x="40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45360" y="4635360"/>
            <a:ext cx="6120" cy="3240"/>
          </a:xfrm>
          <a:custGeom>
            <a:avLst/>
            <a:gdLst/>
            <a:ahLst/>
            <a:rect l="l" t="t" r="r" b="b"/>
            <a:pathLst>
              <a:path w="38" h="17">
                <a:moveTo>
                  <a:pt x="38" y="5"/>
                </a:moveTo>
                <a:lnTo>
                  <a:pt x="34" y="7"/>
                </a:lnTo>
                <a:lnTo>
                  <a:pt x="29" y="10"/>
                </a:lnTo>
                <a:lnTo>
                  <a:pt x="24" y="12"/>
                </a:lnTo>
                <a:lnTo>
                  <a:pt x="20" y="14"/>
                </a:lnTo>
                <a:lnTo>
                  <a:pt x="15" y="15"/>
                </a:lnTo>
                <a:lnTo>
                  <a:pt x="9" y="17"/>
                </a:lnTo>
                <a:lnTo>
                  <a:pt x="5" y="17"/>
                </a:lnTo>
                <a:lnTo>
                  <a:pt x="0" y="15"/>
                </a:lnTo>
                <a:lnTo>
                  <a:pt x="4" y="12"/>
                </a:lnTo>
                <a:lnTo>
                  <a:pt x="8" y="10"/>
                </a:lnTo>
                <a:lnTo>
                  <a:pt x="13" y="6"/>
                </a:lnTo>
                <a:lnTo>
                  <a:pt x="19" y="3"/>
                </a:lnTo>
                <a:lnTo>
                  <a:pt x="24" y="2"/>
                </a:lnTo>
                <a:lnTo>
                  <a:pt x="29" y="0"/>
                </a:lnTo>
                <a:lnTo>
                  <a:pt x="35" y="2"/>
                </a:lnTo>
                <a:lnTo>
                  <a:pt x="38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402240" y="4635360"/>
            <a:ext cx="12960" cy="5040"/>
          </a:xfrm>
          <a:custGeom>
            <a:avLst/>
            <a:gdLst/>
            <a:ahLst/>
            <a:rect l="l" t="t" r="r" b="b"/>
            <a:pathLst>
              <a:path w="64" h="18">
                <a:moveTo>
                  <a:pt x="62" y="7"/>
                </a:moveTo>
                <a:lnTo>
                  <a:pt x="64" y="11"/>
                </a:lnTo>
                <a:lnTo>
                  <a:pt x="61" y="13"/>
                </a:lnTo>
                <a:lnTo>
                  <a:pt x="57" y="16"/>
                </a:lnTo>
                <a:lnTo>
                  <a:pt x="52" y="17"/>
                </a:lnTo>
                <a:lnTo>
                  <a:pt x="0" y="18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1"/>
                </a:lnTo>
                <a:lnTo>
                  <a:pt x="32" y="2"/>
                </a:lnTo>
                <a:lnTo>
                  <a:pt x="39" y="4"/>
                </a:lnTo>
                <a:lnTo>
                  <a:pt x="47" y="5"/>
                </a:lnTo>
                <a:lnTo>
                  <a:pt x="54" y="7"/>
                </a:lnTo>
                <a:lnTo>
                  <a:pt x="62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23040" y="4638600"/>
            <a:ext cx="1440" cy="18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7" y="0"/>
                </a:moveTo>
                <a:lnTo>
                  <a:pt x="15" y="3"/>
                </a:lnTo>
                <a:lnTo>
                  <a:pt x="12" y="6"/>
                </a:lnTo>
                <a:lnTo>
                  <a:pt x="6" y="7"/>
                </a:lnTo>
                <a:lnTo>
                  <a:pt x="1" y="10"/>
                </a:lnTo>
                <a:lnTo>
                  <a:pt x="0" y="8"/>
                </a:lnTo>
                <a:lnTo>
                  <a:pt x="4" y="5"/>
                </a:lnTo>
                <a:lnTo>
                  <a:pt x="7" y="2"/>
                </a:lnTo>
                <a:lnTo>
                  <a:pt x="13" y="1"/>
                </a:lnTo>
                <a:lnTo>
                  <a:pt x="1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278400" y="4638600"/>
            <a:ext cx="111240" cy="50760"/>
          </a:xfrm>
          <a:custGeom>
            <a:avLst/>
            <a:gdLst/>
            <a:ahLst/>
            <a:rect l="l" t="t" r="r" b="b"/>
            <a:pathLst>
              <a:path w="588" h="265">
                <a:moveTo>
                  <a:pt x="588" y="2"/>
                </a:moveTo>
                <a:lnTo>
                  <a:pt x="586" y="8"/>
                </a:lnTo>
                <a:lnTo>
                  <a:pt x="583" y="13"/>
                </a:lnTo>
                <a:lnTo>
                  <a:pt x="576" y="15"/>
                </a:lnTo>
                <a:lnTo>
                  <a:pt x="570" y="17"/>
                </a:lnTo>
                <a:lnTo>
                  <a:pt x="547" y="25"/>
                </a:lnTo>
                <a:lnTo>
                  <a:pt x="525" y="33"/>
                </a:lnTo>
                <a:lnTo>
                  <a:pt x="502" y="43"/>
                </a:lnTo>
                <a:lnTo>
                  <a:pt x="480" y="52"/>
                </a:lnTo>
                <a:lnTo>
                  <a:pt x="459" y="61"/>
                </a:lnTo>
                <a:lnTo>
                  <a:pt x="437" y="71"/>
                </a:lnTo>
                <a:lnTo>
                  <a:pt x="415" y="82"/>
                </a:lnTo>
                <a:lnTo>
                  <a:pt x="394" y="92"/>
                </a:lnTo>
                <a:lnTo>
                  <a:pt x="372" y="103"/>
                </a:lnTo>
                <a:lnTo>
                  <a:pt x="350" y="113"/>
                </a:lnTo>
                <a:lnTo>
                  <a:pt x="328" y="123"/>
                </a:lnTo>
                <a:lnTo>
                  <a:pt x="306" y="134"/>
                </a:lnTo>
                <a:lnTo>
                  <a:pt x="285" y="143"/>
                </a:lnTo>
                <a:lnTo>
                  <a:pt x="263" y="152"/>
                </a:lnTo>
                <a:lnTo>
                  <a:pt x="241" y="161"/>
                </a:lnTo>
                <a:lnTo>
                  <a:pt x="218" y="169"/>
                </a:lnTo>
                <a:lnTo>
                  <a:pt x="197" y="179"/>
                </a:lnTo>
                <a:lnTo>
                  <a:pt x="176" y="187"/>
                </a:lnTo>
                <a:lnTo>
                  <a:pt x="156" y="196"/>
                </a:lnTo>
                <a:lnTo>
                  <a:pt x="135" y="204"/>
                </a:lnTo>
                <a:lnTo>
                  <a:pt x="114" y="213"/>
                </a:lnTo>
                <a:lnTo>
                  <a:pt x="94" y="222"/>
                </a:lnTo>
                <a:lnTo>
                  <a:pt x="74" y="232"/>
                </a:lnTo>
                <a:lnTo>
                  <a:pt x="54" y="242"/>
                </a:lnTo>
                <a:lnTo>
                  <a:pt x="53" y="242"/>
                </a:lnTo>
                <a:lnTo>
                  <a:pt x="53" y="242"/>
                </a:lnTo>
                <a:lnTo>
                  <a:pt x="52" y="241"/>
                </a:lnTo>
                <a:lnTo>
                  <a:pt x="51" y="240"/>
                </a:lnTo>
                <a:lnTo>
                  <a:pt x="46" y="245"/>
                </a:lnTo>
                <a:lnTo>
                  <a:pt x="41" y="250"/>
                </a:lnTo>
                <a:lnTo>
                  <a:pt x="36" y="255"/>
                </a:lnTo>
                <a:lnTo>
                  <a:pt x="29" y="257"/>
                </a:lnTo>
                <a:lnTo>
                  <a:pt x="22" y="260"/>
                </a:lnTo>
                <a:lnTo>
                  <a:pt x="15" y="263"/>
                </a:lnTo>
                <a:lnTo>
                  <a:pt x="7" y="264"/>
                </a:lnTo>
                <a:lnTo>
                  <a:pt x="0" y="265"/>
                </a:lnTo>
                <a:lnTo>
                  <a:pt x="2" y="256"/>
                </a:lnTo>
                <a:lnTo>
                  <a:pt x="9" y="253"/>
                </a:lnTo>
                <a:lnTo>
                  <a:pt x="18" y="252"/>
                </a:lnTo>
                <a:lnTo>
                  <a:pt x="25" y="247"/>
                </a:lnTo>
                <a:lnTo>
                  <a:pt x="38" y="241"/>
                </a:lnTo>
                <a:lnTo>
                  <a:pt x="52" y="235"/>
                </a:lnTo>
                <a:lnTo>
                  <a:pt x="65" y="229"/>
                </a:lnTo>
                <a:lnTo>
                  <a:pt x="78" y="223"/>
                </a:lnTo>
                <a:lnTo>
                  <a:pt x="91" y="218"/>
                </a:lnTo>
                <a:lnTo>
                  <a:pt x="104" y="211"/>
                </a:lnTo>
                <a:lnTo>
                  <a:pt x="118" y="205"/>
                </a:lnTo>
                <a:lnTo>
                  <a:pt x="130" y="199"/>
                </a:lnTo>
                <a:lnTo>
                  <a:pt x="143" y="194"/>
                </a:lnTo>
                <a:lnTo>
                  <a:pt x="157" y="188"/>
                </a:lnTo>
                <a:lnTo>
                  <a:pt x="169" y="182"/>
                </a:lnTo>
                <a:lnTo>
                  <a:pt x="182" y="176"/>
                </a:lnTo>
                <a:lnTo>
                  <a:pt x="196" y="172"/>
                </a:lnTo>
                <a:lnTo>
                  <a:pt x="209" y="166"/>
                </a:lnTo>
                <a:lnTo>
                  <a:pt x="222" y="161"/>
                </a:lnTo>
                <a:lnTo>
                  <a:pt x="235" y="157"/>
                </a:lnTo>
                <a:lnTo>
                  <a:pt x="242" y="152"/>
                </a:lnTo>
                <a:lnTo>
                  <a:pt x="249" y="149"/>
                </a:lnTo>
                <a:lnTo>
                  <a:pt x="257" y="144"/>
                </a:lnTo>
                <a:lnTo>
                  <a:pt x="265" y="141"/>
                </a:lnTo>
                <a:lnTo>
                  <a:pt x="273" y="138"/>
                </a:lnTo>
                <a:lnTo>
                  <a:pt x="281" y="135"/>
                </a:lnTo>
                <a:lnTo>
                  <a:pt x="289" y="131"/>
                </a:lnTo>
                <a:lnTo>
                  <a:pt x="297" y="128"/>
                </a:lnTo>
                <a:lnTo>
                  <a:pt x="315" y="119"/>
                </a:lnTo>
                <a:lnTo>
                  <a:pt x="333" y="111"/>
                </a:lnTo>
                <a:lnTo>
                  <a:pt x="350" y="101"/>
                </a:lnTo>
                <a:lnTo>
                  <a:pt x="368" y="92"/>
                </a:lnTo>
                <a:lnTo>
                  <a:pt x="386" y="84"/>
                </a:lnTo>
                <a:lnTo>
                  <a:pt x="403" y="75"/>
                </a:lnTo>
                <a:lnTo>
                  <a:pt x="421" y="66"/>
                </a:lnTo>
                <a:lnTo>
                  <a:pt x="439" y="58"/>
                </a:lnTo>
                <a:lnTo>
                  <a:pt x="456" y="50"/>
                </a:lnTo>
                <a:lnTo>
                  <a:pt x="475" y="41"/>
                </a:lnTo>
                <a:lnTo>
                  <a:pt x="493" y="33"/>
                </a:lnTo>
                <a:lnTo>
                  <a:pt x="510" y="25"/>
                </a:lnTo>
                <a:lnTo>
                  <a:pt x="529" y="18"/>
                </a:lnTo>
                <a:lnTo>
                  <a:pt x="547" y="11"/>
                </a:lnTo>
                <a:lnTo>
                  <a:pt x="567" y="6"/>
                </a:lnTo>
                <a:lnTo>
                  <a:pt x="585" y="0"/>
                </a:lnTo>
                <a:lnTo>
                  <a:pt x="588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337440" y="4640400"/>
            <a:ext cx="28440" cy="10800"/>
          </a:xfrm>
          <a:custGeom>
            <a:avLst/>
            <a:gdLst/>
            <a:ahLst/>
            <a:rect l="l" t="t" r="r" b="b"/>
            <a:pathLst>
              <a:path w="152" h="60">
                <a:moveTo>
                  <a:pt x="152" y="7"/>
                </a:moveTo>
                <a:lnTo>
                  <a:pt x="135" y="17"/>
                </a:lnTo>
                <a:lnTo>
                  <a:pt x="117" y="25"/>
                </a:lnTo>
                <a:lnTo>
                  <a:pt x="97" y="31"/>
                </a:lnTo>
                <a:lnTo>
                  <a:pt x="77" y="34"/>
                </a:lnTo>
                <a:lnTo>
                  <a:pt x="57" y="39"/>
                </a:lnTo>
                <a:lnTo>
                  <a:pt x="37" y="45"/>
                </a:lnTo>
                <a:lnTo>
                  <a:pt x="19" y="51"/>
                </a:lnTo>
                <a:lnTo>
                  <a:pt x="0" y="60"/>
                </a:lnTo>
                <a:lnTo>
                  <a:pt x="4" y="55"/>
                </a:lnTo>
                <a:lnTo>
                  <a:pt x="8" y="52"/>
                </a:lnTo>
                <a:lnTo>
                  <a:pt x="14" y="48"/>
                </a:lnTo>
                <a:lnTo>
                  <a:pt x="20" y="46"/>
                </a:lnTo>
                <a:lnTo>
                  <a:pt x="26" y="44"/>
                </a:lnTo>
                <a:lnTo>
                  <a:pt x="32" y="41"/>
                </a:lnTo>
                <a:lnTo>
                  <a:pt x="38" y="39"/>
                </a:lnTo>
                <a:lnTo>
                  <a:pt x="44" y="37"/>
                </a:lnTo>
                <a:lnTo>
                  <a:pt x="51" y="36"/>
                </a:lnTo>
                <a:lnTo>
                  <a:pt x="58" y="33"/>
                </a:lnTo>
                <a:lnTo>
                  <a:pt x="64" y="31"/>
                </a:lnTo>
                <a:lnTo>
                  <a:pt x="71" y="29"/>
                </a:lnTo>
                <a:lnTo>
                  <a:pt x="77" y="26"/>
                </a:lnTo>
                <a:lnTo>
                  <a:pt x="83" y="25"/>
                </a:lnTo>
                <a:lnTo>
                  <a:pt x="90" y="25"/>
                </a:lnTo>
                <a:lnTo>
                  <a:pt x="97" y="26"/>
                </a:lnTo>
                <a:lnTo>
                  <a:pt x="102" y="21"/>
                </a:lnTo>
                <a:lnTo>
                  <a:pt x="106" y="16"/>
                </a:lnTo>
                <a:lnTo>
                  <a:pt x="113" y="13"/>
                </a:lnTo>
                <a:lnTo>
                  <a:pt x="120" y="10"/>
                </a:lnTo>
                <a:lnTo>
                  <a:pt x="127" y="8"/>
                </a:lnTo>
                <a:lnTo>
                  <a:pt x="134" y="6"/>
                </a:lnTo>
                <a:lnTo>
                  <a:pt x="141" y="3"/>
                </a:lnTo>
                <a:lnTo>
                  <a:pt x="147" y="0"/>
                </a:lnTo>
                <a:lnTo>
                  <a:pt x="152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334200" y="4640400"/>
            <a:ext cx="6120" cy="288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7"/>
                </a:moveTo>
                <a:lnTo>
                  <a:pt x="31" y="8"/>
                </a:lnTo>
                <a:lnTo>
                  <a:pt x="27" y="10"/>
                </a:lnTo>
                <a:lnTo>
                  <a:pt x="22" y="12"/>
                </a:lnTo>
                <a:lnTo>
                  <a:pt x="19" y="13"/>
                </a:lnTo>
                <a:lnTo>
                  <a:pt x="14" y="14"/>
                </a:lnTo>
                <a:lnTo>
                  <a:pt x="9" y="16"/>
                </a:lnTo>
                <a:lnTo>
                  <a:pt x="5" y="18"/>
                </a:lnTo>
                <a:lnTo>
                  <a:pt x="0" y="19"/>
                </a:lnTo>
                <a:lnTo>
                  <a:pt x="5" y="12"/>
                </a:lnTo>
                <a:lnTo>
                  <a:pt x="12" y="8"/>
                </a:lnTo>
                <a:lnTo>
                  <a:pt x="20" y="5"/>
                </a:lnTo>
                <a:lnTo>
                  <a:pt x="27" y="0"/>
                </a:lnTo>
                <a:lnTo>
                  <a:pt x="36" y="0"/>
                </a:lnTo>
                <a:lnTo>
                  <a:pt x="36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3320" y="4641840"/>
            <a:ext cx="6480" cy="144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2"/>
                </a:moveTo>
                <a:lnTo>
                  <a:pt x="22" y="7"/>
                </a:lnTo>
                <a:lnTo>
                  <a:pt x="15" y="10"/>
                </a:lnTo>
                <a:lnTo>
                  <a:pt x="7" y="14"/>
                </a:lnTo>
                <a:lnTo>
                  <a:pt x="0" y="13"/>
                </a:lnTo>
                <a:lnTo>
                  <a:pt x="6" y="8"/>
                </a:lnTo>
                <a:lnTo>
                  <a:pt x="14" y="4"/>
                </a:lnTo>
                <a:lnTo>
                  <a:pt x="21" y="0"/>
                </a:lnTo>
                <a:lnTo>
                  <a:pt x="28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324480" y="4645080"/>
            <a:ext cx="6480" cy="3240"/>
          </a:xfrm>
          <a:custGeom>
            <a:avLst/>
            <a:gdLst/>
            <a:ahLst/>
            <a:rect l="l" t="t" r="r" b="b"/>
            <a:pathLst>
              <a:path w="29" h="15">
                <a:moveTo>
                  <a:pt x="29" y="3"/>
                </a:moveTo>
                <a:lnTo>
                  <a:pt x="23" y="7"/>
                </a:lnTo>
                <a:lnTo>
                  <a:pt x="16" y="12"/>
                </a:lnTo>
                <a:lnTo>
                  <a:pt x="8" y="15"/>
                </a:lnTo>
                <a:lnTo>
                  <a:pt x="0" y="15"/>
                </a:lnTo>
                <a:lnTo>
                  <a:pt x="4" y="11"/>
                </a:lnTo>
                <a:lnTo>
                  <a:pt x="11" y="5"/>
                </a:lnTo>
                <a:lnTo>
                  <a:pt x="19" y="2"/>
                </a:lnTo>
                <a:lnTo>
                  <a:pt x="28" y="0"/>
                </a:lnTo>
                <a:lnTo>
                  <a:pt x="29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05480" y="4645080"/>
            <a:ext cx="15840" cy="4680"/>
          </a:xfrm>
          <a:custGeom>
            <a:avLst/>
            <a:gdLst/>
            <a:ahLst/>
            <a:rect l="l" t="t" r="r" b="b"/>
            <a:pathLst>
              <a:path w="81" h="23">
                <a:moveTo>
                  <a:pt x="81" y="13"/>
                </a:moveTo>
                <a:lnTo>
                  <a:pt x="73" y="14"/>
                </a:lnTo>
                <a:lnTo>
                  <a:pt x="64" y="15"/>
                </a:lnTo>
                <a:lnTo>
                  <a:pt x="56" y="15"/>
                </a:lnTo>
                <a:lnTo>
                  <a:pt x="47" y="17"/>
                </a:lnTo>
                <a:lnTo>
                  <a:pt x="38" y="18"/>
                </a:lnTo>
                <a:lnTo>
                  <a:pt x="29" y="19"/>
                </a:lnTo>
                <a:lnTo>
                  <a:pt x="21" y="21"/>
                </a:lnTo>
                <a:lnTo>
                  <a:pt x="13" y="23"/>
                </a:lnTo>
                <a:lnTo>
                  <a:pt x="11" y="22"/>
                </a:lnTo>
                <a:lnTo>
                  <a:pt x="6" y="20"/>
                </a:lnTo>
                <a:lnTo>
                  <a:pt x="3" y="18"/>
                </a:lnTo>
                <a:lnTo>
                  <a:pt x="0" y="13"/>
                </a:lnTo>
                <a:lnTo>
                  <a:pt x="0" y="8"/>
                </a:lnTo>
                <a:lnTo>
                  <a:pt x="3" y="5"/>
                </a:lnTo>
                <a:lnTo>
                  <a:pt x="5" y="2"/>
                </a:lnTo>
                <a:lnTo>
                  <a:pt x="9" y="0"/>
                </a:lnTo>
                <a:lnTo>
                  <a:pt x="81" y="6"/>
                </a:lnTo>
                <a:lnTo>
                  <a:pt x="81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76960" y="4645080"/>
            <a:ext cx="115920" cy="57240"/>
          </a:xfrm>
          <a:custGeom>
            <a:avLst/>
            <a:gdLst/>
            <a:ahLst/>
            <a:rect l="l" t="t" r="r" b="b"/>
            <a:pathLst>
              <a:path w="613" h="285">
                <a:moveTo>
                  <a:pt x="611" y="14"/>
                </a:moveTo>
                <a:lnTo>
                  <a:pt x="606" y="16"/>
                </a:lnTo>
                <a:lnTo>
                  <a:pt x="602" y="17"/>
                </a:lnTo>
                <a:lnTo>
                  <a:pt x="597" y="17"/>
                </a:lnTo>
                <a:lnTo>
                  <a:pt x="594" y="18"/>
                </a:lnTo>
                <a:lnTo>
                  <a:pt x="589" y="19"/>
                </a:lnTo>
                <a:lnTo>
                  <a:pt x="584" y="19"/>
                </a:lnTo>
                <a:lnTo>
                  <a:pt x="580" y="20"/>
                </a:lnTo>
                <a:lnTo>
                  <a:pt x="575" y="23"/>
                </a:lnTo>
                <a:lnTo>
                  <a:pt x="552" y="34"/>
                </a:lnTo>
                <a:lnTo>
                  <a:pt x="529" y="45"/>
                </a:lnTo>
                <a:lnTo>
                  <a:pt x="506" y="55"/>
                </a:lnTo>
                <a:lnTo>
                  <a:pt x="483" y="64"/>
                </a:lnTo>
                <a:lnTo>
                  <a:pt x="460" y="75"/>
                </a:lnTo>
                <a:lnTo>
                  <a:pt x="437" y="84"/>
                </a:lnTo>
                <a:lnTo>
                  <a:pt x="415" y="95"/>
                </a:lnTo>
                <a:lnTo>
                  <a:pt x="393" y="107"/>
                </a:lnTo>
                <a:lnTo>
                  <a:pt x="369" y="118"/>
                </a:lnTo>
                <a:lnTo>
                  <a:pt x="345" y="130"/>
                </a:lnTo>
                <a:lnTo>
                  <a:pt x="321" y="141"/>
                </a:lnTo>
                <a:lnTo>
                  <a:pt x="296" y="152"/>
                </a:lnTo>
                <a:lnTo>
                  <a:pt x="272" y="163"/>
                </a:lnTo>
                <a:lnTo>
                  <a:pt x="247" y="175"/>
                </a:lnTo>
                <a:lnTo>
                  <a:pt x="223" y="185"/>
                </a:lnTo>
                <a:lnTo>
                  <a:pt x="198" y="196"/>
                </a:lnTo>
                <a:lnTo>
                  <a:pt x="174" y="207"/>
                </a:lnTo>
                <a:lnTo>
                  <a:pt x="150" y="217"/>
                </a:lnTo>
                <a:lnTo>
                  <a:pt x="126" y="229"/>
                </a:lnTo>
                <a:lnTo>
                  <a:pt x="102" y="240"/>
                </a:lnTo>
                <a:lnTo>
                  <a:pt x="77" y="251"/>
                </a:lnTo>
                <a:lnTo>
                  <a:pt x="53" y="262"/>
                </a:lnTo>
                <a:lnTo>
                  <a:pt x="29" y="274"/>
                </a:lnTo>
                <a:lnTo>
                  <a:pt x="5" y="285"/>
                </a:lnTo>
                <a:lnTo>
                  <a:pt x="3" y="283"/>
                </a:lnTo>
                <a:lnTo>
                  <a:pt x="1" y="282"/>
                </a:lnTo>
                <a:lnTo>
                  <a:pt x="0" y="280"/>
                </a:lnTo>
                <a:lnTo>
                  <a:pt x="0" y="277"/>
                </a:lnTo>
                <a:lnTo>
                  <a:pt x="21" y="268"/>
                </a:lnTo>
                <a:lnTo>
                  <a:pt x="41" y="259"/>
                </a:lnTo>
                <a:lnTo>
                  <a:pt x="61" y="250"/>
                </a:lnTo>
                <a:lnTo>
                  <a:pt x="82" y="240"/>
                </a:lnTo>
                <a:lnTo>
                  <a:pt x="102" y="230"/>
                </a:lnTo>
                <a:lnTo>
                  <a:pt x="122" y="221"/>
                </a:lnTo>
                <a:lnTo>
                  <a:pt x="142" y="211"/>
                </a:lnTo>
                <a:lnTo>
                  <a:pt x="163" y="200"/>
                </a:lnTo>
                <a:lnTo>
                  <a:pt x="182" y="191"/>
                </a:lnTo>
                <a:lnTo>
                  <a:pt x="203" y="182"/>
                </a:lnTo>
                <a:lnTo>
                  <a:pt x="224" y="171"/>
                </a:lnTo>
                <a:lnTo>
                  <a:pt x="243" y="162"/>
                </a:lnTo>
                <a:lnTo>
                  <a:pt x="264" y="153"/>
                </a:lnTo>
                <a:lnTo>
                  <a:pt x="285" y="145"/>
                </a:lnTo>
                <a:lnTo>
                  <a:pt x="306" y="136"/>
                </a:lnTo>
                <a:lnTo>
                  <a:pt x="326" y="128"/>
                </a:lnTo>
                <a:lnTo>
                  <a:pt x="344" y="118"/>
                </a:lnTo>
                <a:lnTo>
                  <a:pt x="361" y="110"/>
                </a:lnTo>
                <a:lnTo>
                  <a:pt x="378" y="101"/>
                </a:lnTo>
                <a:lnTo>
                  <a:pt x="395" y="93"/>
                </a:lnTo>
                <a:lnTo>
                  <a:pt x="413" y="84"/>
                </a:lnTo>
                <a:lnTo>
                  <a:pt x="430" y="76"/>
                </a:lnTo>
                <a:lnTo>
                  <a:pt x="447" y="67"/>
                </a:lnTo>
                <a:lnTo>
                  <a:pt x="465" y="58"/>
                </a:lnTo>
                <a:lnTo>
                  <a:pt x="482" y="50"/>
                </a:lnTo>
                <a:lnTo>
                  <a:pt x="499" y="42"/>
                </a:lnTo>
                <a:lnTo>
                  <a:pt x="516" y="34"/>
                </a:lnTo>
                <a:lnTo>
                  <a:pt x="534" y="27"/>
                </a:lnTo>
                <a:lnTo>
                  <a:pt x="552" y="19"/>
                </a:lnTo>
                <a:lnTo>
                  <a:pt x="569" y="12"/>
                </a:lnTo>
                <a:lnTo>
                  <a:pt x="588" y="5"/>
                </a:lnTo>
                <a:lnTo>
                  <a:pt x="606" y="0"/>
                </a:lnTo>
                <a:lnTo>
                  <a:pt x="610" y="3"/>
                </a:lnTo>
                <a:lnTo>
                  <a:pt x="612" y="7"/>
                </a:lnTo>
                <a:lnTo>
                  <a:pt x="613" y="10"/>
                </a:lnTo>
                <a:lnTo>
                  <a:pt x="611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307200" y="4645080"/>
            <a:ext cx="3240" cy="3240"/>
          </a:xfrm>
          <a:custGeom>
            <a:avLst/>
            <a:gdLst/>
            <a:ahLst/>
            <a:rect l="l" t="t" r="r" b="b"/>
            <a:pathLst>
              <a:path w="12" h="11">
                <a:moveTo>
                  <a:pt x="12" y="0"/>
                </a:moveTo>
                <a:lnTo>
                  <a:pt x="12" y="5"/>
                </a:lnTo>
                <a:lnTo>
                  <a:pt x="8" y="7"/>
                </a:lnTo>
                <a:lnTo>
                  <a:pt x="3" y="8"/>
                </a:lnTo>
                <a:lnTo>
                  <a:pt x="0" y="11"/>
                </a:lnTo>
                <a:lnTo>
                  <a:pt x="0" y="6"/>
                </a:lnTo>
                <a:lnTo>
                  <a:pt x="2" y="2"/>
                </a:lnTo>
                <a:lnTo>
                  <a:pt x="7" y="0"/>
                </a:lnTo>
                <a:lnTo>
                  <a:pt x="12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316560" y="4648320"/>
            <a:ext cx="5040" cy="2880"/>
          </a:xfrm>
          <a:custGeom>
            <a:avLst/>
            <a:gdLst/>
            <a:ahLst/>
            <a:rect l="l" t="t" r="r" b="b"/>
            <a:pathLst>
              <a:path w="28" h="19">
                <a:moveTo>
                  <a:pt x="27" y="11"/>
                </a:moveTo>
                <a:lnTo>
                  <a:pt x="21" y="13"/>
                </a:lnTo>
                <a:lnTo>
                  <a:pt x="14" y="16"/>
                </a:lnTo>
                <a:lnTo>
                  <a:pt x="7" y="19"/>
                </a:lnTo>
                <a:lnTo>
                  <a:pt x="0" y="16"/>
                </a:lnTo>
                <a:lnTo>
                  <a:pt x="4" y="11"/>
                </a:lnTo>
                <a:lnTo>
                  <a:pt x="10" y="6"/>
                </a:lnTo>
                <a:lnTo>
                  <a:pt x="17" y="4"/>
                </a:lnTo>
                <a:lnTo>
                  <a:pt x="23" y="0"/>
                </a:lnTo>
                <a:lnTo>
                  <a:pt x="25" y="2"/>
                </a:lnTo>
                <a:lnTo>
                  <a:pt x="27" y="4"/>
                </a:lnTo>
                <a:lnTo>
                  <a:pt x="28" y="7"/>
                </a:lnTo>
                <a:lnTo>
                  <a:pt x="27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381720" y="4651200"/>
            <a:ext cx="14400" cy="8280"/>
          </a:xfrm>
          <a:custGeom>
            <a:avLst/>
            <a:gdLst/>
            <a:ahLst/>
            <a:rect l="l" t="t" r="r" b="b"/>
            <a:pathLst>
              <a:path w="76" h="38">
                <a:moveTo>
                  <a:pt x="74" y="10"/>
                </a:moveTo>
                <a:lnTo>
                  <a:pt x="64" y="15"/>
                </a:lnTo>
                <a:lnTo>
                  <a:pt x="55" y="19"/>
                </a:lnTo>
                <a:lnTo>
                  <a:pt x="46" y="24"/>
                </a:lnTo>
                <a:lnTo>
                  <a:pt x="37" y="30"/>
                </a:lnTo>
                <a:lnTo>
                  <a:pt x="29" y="33"/>
                </a:lnTo>
                <a:lnTo>
                  <a:pt x="19" y="37"/>
                </a:lnTo>
                <a:lnTo>
                  <a:pt x="10" y="38"/>
                </a:lnTo>
                <a:lnTo>
                  <a:pt x="0" y="37"/>
                </a:lnTo>
                <a:lnTo>
                  <a:pt x="0" y="31"/>
                </a:lnTo>
                <a:lnTo>
                  <a:pt x="8" y="26"/>
                </a:lnTo>
                <a:lnTo>
                  <a:pt x="17" y="22"/>
                </a:lnTo>
                <a:lnTo>
                  <a:pt x="25" y="17"/>
                </a:lnTo>
                <a:lnTo>
                  <a:pt x="34" y="14"/>
                </a:lnTo>
                <a:lnTo>
                  <a:pt x="44" y="10"/>
                </a:lnTo>
                <a:lnTo>
                  <a:pt x="53" y="7"/>
                </a:lnTo>
                <a:lnTo>
                  <a:pt x="62" y="3"/>
                </a:lnTo>
                <a:lnTo>
                  <a:pt x="71" y="0"/>
                </a:lnTo>
                <a:lnTo>
                  <a:pt x="74" y="1"/>
                </a:lnTo>
                <a:lnTo>
                  <a:pt x="75" y="4"/>
                </a:lnTo>
                <a:lnTo>
                  <a:pt x="76" y="7"/>
                </a:lnTo>
                <a:lnTo>
                  <a:pt x="74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10440" y="4651200"/>
            <a:ext cx="2880" cy="324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3"/>
                </a:moveTo>
                <a:lnTo>
                  <a:pt x="18" y="6"/>
                </a:lnTo>
                <a:lnTo>
                  <a:pt x="17" y="8"/>
                </a:lnTo>
                <a:lnTo>
                  <a:pt x="13" y="9"/>
                </a:lnTo>
                <a:lnTo>
                  <a:pt x="11" y="12"/>
                </a:lnTo>
                <a:lnTo>
                  <a:pt x="8" y="12"/>
                </a:lnTo>
                <a:lnTo>
                  <a:pt x="5" y="12"/>
                </a:lnTo>
                <a:lnTo>
                  <a:pt x="3" y="11"/>
                </a:lnTo>
                <a:lnTo>
                  <a:pt x="0" y="9"/>
                </a:lnTo>
                <a:lnTo>
                  <a:pt x="4" y="6"/>
                </a:lnTo>
                <a:lnTo>
                  <a:pt x="7" y="3"/>
                </a:lnTo>
                <a:lnTo>
                  <a:pt x="13" y="0"/>
                </a:lnTo>
                <a:lnTo>
                  <a:pt x="18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19800" y="4651200"/>
            <a:ext cx="14400" cy="9720"/>
          </a:xfrm>
          <a:custGeom>
            <a:avLst/>
            <a:gdLst/>
            <a:ahLst/>
            <a:rect l="l" t="t" r="r" b="b"/>
            <a:pathLst>
              <a:path w="77" h="40">
                <a:moveTo>
                  <a:pt x="77" y="0"/>
                </a:moveTo>
                <a:lnTo>
                  <a:pt x="74" y="3"/>
                </a:lnTo>
                <a:lnTo>
                  <a:pt x="69" y="6"/>
                </a:lnTo>
                <a:lnTo>
                  <a:pt x="65" y="9"/>
                </a:lnTo>
                <a:lnTo>
                  <a:pt x="60" y="11"/>
                </a:lnTo>
                <a:lnTo>
                  <a:pt x="55" y="15"/>
                </a:lnTo>
                <a:lnTo>
                  <a:pt x="51" y="17"/>
                </a:lnTo>
                <a:lnTo>
                  <a:pt x="45" y="18"/>
                </a:lnTo>
                <a:lnTo>
                  <a:pt x="40" y="20"/>
                </a:lnTo>
                <a:lnTo>
                  <a:pt x="38" y="20"/>
                </a:lnTo>
                <a:lnTo>
                  <a:pt x="37" y="20"/>
                </a:lnTo>
                <a:lnTo>
                  <a:pt x="36" y="19"/>
                </a:lnTo>
                <a:lnTo>
                  <a:pt x="36" y="19"/>
                </a:lnTo>
                <a:lnTo>
                  <a:pt x="32" y="23"/>
                </a:lnTo>
                <a:lnTo>
                  <a:pt x="29" y="26"/>
                </a:lnTo>
                <a:lnTo>
                  <a:pt x="24" y="30"/>
                </a:lnTo>
                <a:lnTo>
                  <a:pt x="20" y="32"/>
                </a:lnTo>
                <a:lnTo>
                  <a:pt x="15" y="34"/>
                </a:lnTo>
                <a:lnTo>
                  <a:pt x="10" y="36"/>
                </a:lnTo>
                <a:lnTo>
                  <a:pt x="5" y="38"/>
                </a:lnTo>
                <a:lnTo>
                  <a:pt x="0" y="40"/>
                </a:lnTo>
                <a:lnTo>
                  <a:pt x="6" y="32"/>
                </a:lnTo>
                <a:lnTo>
                  <a:pt x="14" y="25"/>
                </a:lnTo>
                <a:lnTo>
                  <a:pt x="23" y="21"/>
                </a:lnTo>
                <a:lnTo>
                  <a:pt x="32" y="20"/>
                </a:lnTo>
                <a:lnTo>
                  <a:pt x="37" y="17"/>
                </a:lnTo>
                <a:lnTo>
                  <a:pt x="42" y="12"/>
                </a:lnTo>
                <a:lnTo>
                  <a:pt x="47" y="9"/>
                </a:lnTo>
                <a:lnTo>
                  <a:pt x="53" y="5"/>
                </a:lnTo>
                <a:lnTo>
                  <a:pt x="59" y="3"/>
                </a:lnTo>
                <a:lnTo>
                  <a:pt x="65" y="1"/>
                </a:lnTo>
                <a:lnTo>
                  <a:pt x="71" y="0"/>
                </a:lnTo>
                <a:lnTo>
                  <a:pt x="7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08720" y="4654440"/>
            <a:ext cx="17640" cy="3240"/>
          </a:xfrm>
          <a:custGeom>
            <a:avLst/>
            <a:gdLst/>
            <a:ahLst/>
            <a:rect l="l" t="t" r="r" b="b"/>
            <a:pathLst>
              <a:path w="92" h="17">
                <a:moveTo>
                  <a:pt x="92" y="11"/>
                </a:moveTo>
                <a:lnTo>
                  <a:pt x="81" y="12"/>
                </a:lnTo>
                <a:lnTo>
                  <a:pt x="70" y="14"/>
                </a:lnTo>
                <a:lnTo>
                  <a:pt x="58" y="15"/>
                </a:lnTo>
                <a:lnTo>
                  <a:pt x="46" y="15"/>
                </a:lnTo>
                <a:lnTo>
                  <a:pt x="35" y="17"/>
                </a:lnTo>
                <a:lnTo>
                  <a:pt x="23" y="17"/>
                </a:lnTo>
                <a:lnTo>
                  <a:pt x="13" y="15"/>
                </a:lnTo>
                <a:lnTo>
                  <a:pt x="2" y="14"/>
                </a:lnTo>
                <a:lnTo>
                  <a:pt x="0" y="13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7" y="0"/>
                </a:lnTo>
                <a:lnTo>
                  <a:pt x="92" y="4"/>
                </a:lnTo>
                <a:lnTo>
                  <a:pt x="92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00720" y="4656240"/>
            <a:ext cx="4680" cy="3240"/>
          </a:xfrm>
          <a:custGeom>
            <a:avLst/>
            <a:gdLst/>
            <a:ahLst/>
            <a:rect l="l" t="t" r="r" b="b"/>
            <a:pathLst>
              <a:path w="31" h="14">
                <a:moveTo>
                  <a:pt x="31" y="1"/>
                </a:moveTo>
                <a:lnTo>
                  <a:pt x="24" y="6"/>
                </a:lnTo>
                <a:lnTo>
                  <a:pt x="18" y="10"/>
                </a:lnTo>
                <a:lnTo>
                  <a:pt x="8" y="14"/>
                </a:lnTo>
                <a:lnTo>
                  <a:pt x="0" y="13"/>
                </a:lnTo>
                <a:lnTo>
                  <a:pt x="8" y="9"/>
                </a:lnTo>
                <a:lnTo>
                  <a:pt x="15" y="3"/>
                </a:lnTo>
                <a:lnTo>
                  <a:pt x="23" y="0"/>
                </a:lnTo>
                <a:lnTo>
                  <a:pt x="31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92880" y="4659480"/>
            <a:ext cx="6480" cy="4680"/>
          </a:xfrm>
          <a:custGeom>
            <a:avLst/>
            <a:gdLst/>
            <a:ahLst/>
            <a:rect l="l" t="t" r="r" b="b"/>
            <a:pathLst>
              <a:path w="24" h="22">
                <a:moveTo>
                  <a:pt x="24" y="11"/>
                </a:moveTo>
                <a:lnTo>
                  <a:pt x="20" y="15"/>
                </a:lnTo>
                <a:lnTo>
                  <a:pt x="16" y="19"/>
                </a:lnTo>
                <a:lnTo>
                  <a:pt x="10" y="22"/>
                </a:lnTo>
                <a:lnTo>
                  <a:pt x="3" y="21"/>
                </a:lnTo>
                <a:lnTo>
                  <a:pt x="0" y="16"/>
                </a:lnTo>
                <a:lnTo>
                  <a:pt x="5" y="9"/>
                </a:lnTo>
                <a:lnTo>
                  <a:pt x="14" y="3"/>
                </a:lnTo>
                <a:lnTo>
                  <a:pt x="22" y="0"/>
                </a:lnTo>
                <a:lnTo>
                  <a:pt x="24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294600" y="4660920"/>
            <a:ext cx="23760" cy="12600"/>
          </a:xfrm>
          <a:custGeom>
            <a:avLst/>
            <a:gdLst/>
            <a:ahLst/>
            <a:rect l="l" t="t" r="r" b="b"/>
            <a:pathLst>
              <a:path w="120" h="61">
                <a:moveTo>
                  <a:pt x="120" y="3"/>
                </a:moveTo>
                <a:lnTo>
                  <a:pt x="106" y="12"/>
                </a:lnTo>
                <a:lnTo>
                  <a:pt x="92" y="18"/>
                </a:lnTo>
                <a:lnTo>
                  <a:pt x="77" y="27"/>
                </a:lnTo>
                <a:lnTo>
                  <a:pt x="62" y="33"/>
                </a:lnTo>
                <a:lnTo>
                  <a:pt x="47" y="40"/>
                </a:lnTo>
                <a:lnTo>
                  <a:pt x="32" y="47"/>
                </a:lnTo>
                <a:lnTo>
                  <a:pt x="17" y="54"/>
                </a:lnTo>
                <a:lnTo>
                  <a:pt x="2" y="61"/>
                </a:lnTo>
                <a:lnTo>
                  <a:pt x="0" y="60"/>
                </a:lnTo>
                <a:lnTo>
                  <a:pt x="14" y="51"/>
                </a:lnTo>
                <a:lnTo>
                  <a:pt x="28" y="43"/>
                </a:lnTo>
                <a:lnTo>
                  <a:pt x="43" y="35"/>
                </a:lnTo>
                <a:lnTo>
                  <a:pt x="57" y="27"/>
                </a:lnTo>
                <a:lnTo>
                  <a:pt x="72" y="20"/>
                </a:lnTo>
                <a:lnTo>
                  <a:pt x="87" y="13"/>
                </a:lnTo>
                <a:lnTo>
                  <a:pt x="102" y="6"/>
                </a:lnTo>
                <a:lnTo>
                  <a:pt x="117" y="0"/>
                </a:lnTo>
                <a:lnTo>
                  <a:pt x="120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89560" y="4662360"/>
            <a:ext cx="5040" cy="1800"/>
          </a:xfrm>
          <a:custGeom>
            <a:avLst/>
            <a:gdLst/>
            <a:ahLst/>
            <a:rect l="l" t="t" r="r" b="b"/>
            <a:pathLst>
              <a:path w="25" h="13">
                <a:moveTo>
                  <a:pt x="25" y="0"/>
                </a:moveTo>
                <a:lnTo>
                  <a:pt x="20" y="5"/>
                </a:lnTo>
                <a:lnTo>
                  <a:pt x="16" y="8"/>
                </a:lnTo>
                <a:lnTo>
                  <a:pt x="9" y="10"/>
                </a:lnTo>
                <a:lnTo>
                  <a:pt x="3" y="13"/>
                </a:lnTo>
                <a:lnTo>
                  <a:pt x="0" y="10"/>
                </a:lnTo>
                <a:lnTo>
                  <a:pt x="5" y="6"/>
                </a:lnTo>
                <a:lnTo>
                  <a:pt x="12" y="2"/>
                </a:lnTo>
                <a:lnTo>
                  <a:pt x="18" y="0"/>
                </a:lnTo>
                <a:lnTo>
                  <a:pt x="25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10160" y="4662360"/>
            <a:ext cx="17640" cy="3240"/>
          </a:xfrm>
          <a:custGeom>
            <a:avLst/>
            <a:gdLst/>
            <a:ahLst/>
            <a:rect l="l" t="t" r="r" b="b"/>
            <a:pathLst>
              <a:path w="91" h="20">
                <a:moveTo>
                  <a:pt x="91" y="4"/>
                </a:moveTo>
                <a:lnTo>
                  <a:pt x="91" y="10"/>
                </a:lnTo>
                <a:lnTo>
                  <a:pt x="79" y="12"/>
                </a:lnTo>
                <a:lnTo>
                  <a:pt x="69" y="13"/>
                </a:lnTo>
                <a:lnTo>
                  <a:pt x="57" y="13"/>
                </a:lnTo>
                <a:lnTo>
                  <a:pt x="47" y="14"/>
                </a:lnTo>
                <a:lnTo>
                  <a:pt x="37" y="15"/>
                </a:lnTo>
                <a:lnTo>
                  <a:pt x="26" y="17"/>
                </a:lnTo>
                <a:lnTo>
                  <a:pt x="16" y="18"/>
                </a:lnTo>
                <a:lnTo>
                  <a:pt x="4" y="20"/>
                </a:lnTo>
                <a:lnTo>
                  <a:pt x="1" y="18"/>
                </a:lnTo>
                <a:lnTo>
                  <a:pt x="0" y="13"/>
                </a:lnTo>
                <a:lnTo>
                  <a:pt x="0" y="8"/>
                </a:lnTo>
                <a:lnTo>
                  <a:pt x="0" y="4"/>
                </a:lnTo>
                <a:lnTo>
                  <a:pt x="4" y="0"/>
                </a:lnTo>
                <a:lnTo>
                  <a:pt x="15" y="0"/>
                </a:lnTo>
                <a:lnTo>
                  <a:pt x="26" y="0"/>
                </a:lnTo>
                <a:lnTo>
                  <a:pt x="37" y="0"/>
                </a:lnTo>
                <a:lnTo>
                  <a:pt x="48" y="0"/>
                </a:lnTo>
                <a:lnTo>
                  <a:pt x="58" y="2"/>
                </a:lnTo>
                <a:lnTo>
                  <a:pt x="70" y="2"/>
                </a:lnTo>
                <a:lnTo>
                  <a:pt x="80" y="3"/>
                </a:lnTo>
                <a:lnTo>
                  <a:pt x="9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80200" y="4665600"/>
            <a:ext cx="6480" cy="4680"/>
          </a:xfrm>
          <a:custGeom>
            <a:avLst/>
            <a:gdLst/>
            <a:ahLst/>
            <a:rect l="l" t="t" r="r" b="b"/>
            <a:pathLst>
              <a:path w="34" h="21">
                <a:moveTo>
                  <a:pt x="34" y="2"/>
                </a:moveTo>
                <a:lnTo>
                  <a:pt x="31" y="8"/>
                </a:lnTo>
                <a:lnTo>
                  <a:pt x="27" y="14"/>
                </a:lnTo>
                <a:lnTo>
                  <a:pt x="20" y="17"/>
                </a:lnTo>
                <a:lnTo>
                  <a:pt x="13" y="21"/>
                </a:lnTo>
                <a:lnTo>
                  <a:pt x="10" y="21"/>
                </a:lnTo>
                <a:lnTo>
                  <a:pt x="6" y="20"/>
                </a:lnTo>
                <a:lnTo>
                  <a:pt x="3" y="18"/>
                </a:lnTo>
                <a:lnTo>
                  <a:pt x="0" y="16"/>
                </a:lnTo>
                <a:lnTo>
                  <a:pt x="8" y="12"/>
                </a:lnTo>
                <a:lnTo>
                  <a:pt x="17" y="7"/>
                </a:lnTo>
                <a:lnTo>
                  <a:pt x="25" y="2"/>
                </a:lnTo>
                <a:lnTo>
                  <a:pt x="33" y="0"/>
                </a:lnTo>
                <a:lnTo>
                  <a:pt x="3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78400" y="4670280"/>
            <a:ext cx="82800" cy="41400"/>
          </a:xfrm>
          <a:custGeom>
            <a:avLst/>
            <a:gdLst/>
            <a:ahLst/>
            <a:rect l="l" t="t" r="r" b="b"/>
            <a:pathLst>
              <a:path w="439" h="211">
                <a:moveTo>
                  <a:pt x="438" y="8"/>
                </a:moveTo>
                <a:lnTo>
                  <a:pt x="410" y="20"/>
                </a:lnTo>
                <a:lnTo>
                  <a:pt x="383" y="33"/>
                </a:lnTo>
                <a:lnTo>
                  <a:pt x="355" y="44"/>
                </a:lnTo>
                <a:lnTo>
                  <a:pt x="327" y="57"/>
                </a:lnTo>
                <a:lnTo>
                  <a:pt x="300" y="70"/>
                </a:lnTo>
                <a:lnTo>
                  <a:pt x="272" y="82"/>
                </a:lnTo>
                <a:lnTo>
                  <a:pt x="244" y="95"/>
                </a:lnTo>
                <a:lnTo>
                  <a:pt x="218" y="108"/>
                </a:lnTo>
                <a:lnTo>
                  <a:pt x="190" y="121"/>
                </a:lnTo>
                <a:lnTo>
                  <a:pt x="164" y="134"/>
                </a:lnTo>
                <a:lnTo>
                  <a:pt x="136" y="147"/>
                </a:lnTo>
                <a:lnTo>
                  <a:pt x="109" y="161"/>
                </a:lnTo>
                <a:lnTo>
                  <a:pt x="82" y="173"/>
                </a:lnTo>
                <a:lnTo>
                  <a:pt x="54" y="186"/>
                </a:lnTo>
                <a:lnTo>
                  <a:pt x="28" y="199"/>
                </a:lnTo>
                <a:lnTo>
                  <a:pt x="0" y="211"/>
                </a:lnTo>
                <a:lnTo>
                  <a:pt x="0" y="206"/>
                </a:lnTo>
                <a:lnTo>
                  <a:pt x="27" y="193"/>
                </a:lnTo>
                <a:lnTo>
                  <a:pt x="53" y="180"/>
                </a:lnTo>
                <a:lnTo>
                  <a:pt x="80" y="167"/>
                </a:lnTo>
                <a:lnTo>
                  <a:pt x="105" y="155"/>
                </a:lnTo>
                <a:lnTo>
                  <a:pt x="131" y="142"/>
                </a:lnTo>
                <a:lnTo>
                  <a:pt x="158" y="128"/>
                </a:lnTo>
                <a:lnTo>
                  <a:pt x="183" y="116"/>
                </a:lnTo>
                <a:lnTo>
                  <a:pt x="210" y="102"/>
                </a:lnTo>
                <a:lnTo>
                  <a:pt x="236" y="89"/>
                </a:lnTo>
                <a:lnTo>
                  <a:pt x="263" y="76"/>
                </a:lnTo>
                <a:lnTo>
                  <a:pt x="288" y="64"/>
                </a:lnTo>
                <a:lnTo>
                  <a:pt x="315" y="51"/>
                </a:lnTo>
                <a:lnTo>
                  <a:pt x="342" y="40"/>
                </a:lnTo>
                <a:lnTo>
                  <a:pt x="369" y="28"/>
                </a:lnTo>
                <a:lnTo>
                  <a:pt x="395" y="18"/>
                </a:lnTo>
                <a:lnTo>
                  <a:pt x="423" y="7"/>
                </a:lnTo>
                <a:lnTo>
                  <a:pt x="425" y="4"/>
                </a:lnTo>
                <a:lnTo>
                  <a:pt x="429" y="2"/>
                </a:lnTo>
                <a:lnTo>
                  <a:pt x="433" y="0"/>
                </a:lnTo>
                <a:lnTo>
                  <a:pt x="439" y="2"/>
                </a:lnTo>
                <a:lnTo>
                  <a:pt x="438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05480" y="4672080"/>
            <a:ext cx="15840" cy="3240"/>
          </a:xfrm>
          <a:custGeom>
            <a:avLst/>
            <a:gdLst/>
            <a:ahLst/>
            <a:rect l="l" t="t" r="r" b="b"/>
            <a:pathLst>
              <a:path w="87" h="17">
                <a:moveTo>
                  <a:pt x="87" y="0"/>
                </a:moveTo>
                <a:lnTo>
                  <a:pt x="83" y="9"/>
                </a:lnTo>
                <a:lnTo>
                  <a:pt x="75" y="11"/>
                </a:lnTo>
                <a:lnTo>
                  <a:pt x="65" y="12"/>
                </a:lnTo>
                <a:lnTo>
                  <a:pt x="57" y="14"/>
                </a:lnTo>
                <a:lnTo>
                  <a:pt x="49" y="13"/>
                </a:lnTo>
                <a:lnTo>
                  <a:pt x="40" y="13"/>
                </a:lnTo>
                <a:lnTo>
                  <a:pt x="32" y="14"/>
                </a:lnTo>
                <a:lnTo>
                  <a:pt x="25" y="15"/>
                </a:lnTo>
                <a:lnTo>
                  <a:pt x="19" y="17"/>
                </a:lnTo>
                <a:lnTo>
                  <a:pt x="13" y="17"/>
                </a:lnTo>
                <a:lnTo>
                  <a:pt x="6" y="15"/>
                </a:lnTo>
                <a:lnTo>
                  <a:pt x="0" y="12"/>
                </a:lnTo>
                <a:lnTo>
                  <a:pt x="1" y="5"/>
                </a:lnTo>
                <a:lnTo>
                  <a:pt x="6" y="2"/>
                </a:lnTo>
                <a:lnTo>
                  <a:pt x="12" y="0"/>
                </a:lnTo>
                <a:lnTo>
                  <a:pt x="16" y="0"/>
                </a:lnTo>
                <a:lnTo>
                  <a:pt x="24" y="0"/>
                </a:lnTo>
                <a:lnTo>
                  <a:pt x="34" y="0"/>
                </a:lnTo>
                <a:lnTo>
                  <a:pt x="42" y="0"/>
                </a:lnTo>
                <a:lnTo>
                  <a:pt x="52" y="0"/>
                </a:lnTo>
                <a:lnTo>
                  <a:pt x="61" y="0"/>
                </a:lnTo>
                <a:lnTo>
                  <a:pt x="69" y="0"/>
                </a:lnTo>
                <a:lnTo>
                  <a:pt x="78" y="0"/>
                </a:lnTo>
                <a:lnTo>
                  <a:pt x="8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86680" y="4675320"/>
            <a:ext cx="4680" cy="2880"/>
          </a:xfrm>
          <a:custGeom>
            <a:avLst/>
            <a:gdLst/>
            <a:ahLst/>
            <a:rect l="l" t="t" r="r" b="b"/>
            <a:pathLst>
              <a:path w="26" h="15">
                <a:moveTo>
                  <a:pt x="26" y="5"/>
                </a:moveTo>
                <a:lnTo>
                  <a:pt x="20" y="9"/>
                </a:lnTo>
                <a:lnTo>
                  <a:pt x="15" y="13"/>
                </a:lnTo>
                <a:lnTo>
                  <a:pt x="8" y="15"/>
                </a:lnTo>
                <a:lnTo>
                  <a:pt x="1" y="15"/>
                </a:lnTo>
                <a:lnTo>
                  <a:pt x="1" y="14"/>
                </a:lnTo>
                <a:lnTo>
                  <a:pt x="1" y="13"/>
                </a:lnTo>
                <a:lnTo>
                  <a:pt x="0" y="13"/>
                </a:lnTo>
                <a:lnTo>
                  <a:pt x="0" y="12"/>
                </a:lnTo>
                <a:lnTo>
                  <a:pt x="5" y="7"/>
                </a:lnTo>
                <a:lnTo>
                  <a:pt x="13" y="2"/>
                </a:lnTo>
                <a:lnTo>
                  <a:pt x="20" y="0"/>
                </a:lnTo>
                <a:lnTo>
                  <a:pt x="26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278400" y="4678200"/>
            <a:ext cx="3240" cy="3240"/>
          </a:xfrm>
          <a:custGeom>
            <a:avLst/>
            <a:gdLst/>
            <a:ahLst/>
            <a:rect l="l" t="t" r="r" b="b"/>
            <a:pathLst>
              <a:path w="19" h="13">
                <a:moveTo>
                  <a:pt x="19" y="3"/>
                </a:moveTo>
                <a:lnTo>
                  <a:pt x="16" y="7"/>
                </a:lnTo>
                <a:lnTo>
                  <a:pt x="11" y="9"/>
                </a:lnTo>
                <a:lnTo>
                  <a:pt x="5" y="11"/>
                </a:lnTo>
                <a:lnTo>
                  <a:pt x="1" y="13"/>
                </a:lnTo>
                <a:lnTo>
                  <a:pt x="0" y="7"/>
                </a:lnTo>
                <a:lnTo>
                  <a:pt x="3" y="5"/>
                </a:lnTo>
                <a:lnTo>
                  <a:pt x="8" y="4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9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99360" y="4678200"/>
            <a:ext cx="12600" cy="3240"/>
          </a:xfrm>
          <a:custGeom>
            <a:avLst/>
            <a:gdLst/>
            <a:ahLst/>
            <a:rect l="l" t="t" r="r" b="b"/>
            <a:pathLst>
              <a:path w="61" h="17">
                <a:moveTo>
                  <a:pt x="59" y="15"/>
                </a:moveTo>
                <a:lnTo>
                  <a:pt x="51" y="14"/>
                </a:lnTo>
                <a:lnTo>
                  <a:pt x="43" y="15"/>
                </a:lnTo>
                <a:lnTo>
                  <a:pt x="35" y="15"/>
                </a:lnTo>
                <a:lnTo>
                  <a:pt x="28" y="16"/>
                </a:lnTo>
                <a:lnTo>
                  <a:pt x="22" y="17"/>
                </a:lnTo>
                <a:lnTo>
                  <a:pt x="15" y="17"/>
                </a:lnTo>
                <a:lnTo>
                  <a:pt x="7" y="16"/>
                </a:lnTo>
                <a:lnTo>
                  <a:pt x="0" y="13"/>
                </a:lnTo>
                <a:lnTo>
                  <a:pt x="5" y="8"/>
                </a:lnTo>
                <a:lnTo>
                  <a:pt x="11" y="5"/>
                </a:lnTo>
                <a:lnTo>
                  <a:pt x="18" y="1"/>
                </a:lnTo>
                <a:lnTo>
                  <a:pt x="25" y="0"/>
                </a:lnTo>
                <a:lnTo>
                  <a:pt x="29" y="4"/>
                </a:lnTo>
                <a:lnTo>
                  <a:pt x="36" y="5"/>
                </a:lnTo>
                <a:lnTo>
                  <a:pt x="43" y="5"/>
                </a:lnTo>
                <a:lnTo>
                  <a:pt x="51" y="4"/>
                </a:lnTo>
                <a:lnTo>
                  <a:pt x="57" y="3"/>
                </a:lnTo>
                <a:lnTo>
                  <a:pt x="60" y="4"/>
                </a:lnTo>
                <a:lnTo>
                  <a:pt x="61" y="7"/>
                </a:lnTo>
                <a:lnTo>
                  <a:pt x="59" y="1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373800" y="4680000"/>
            <a:ext cx="9360" cy="3240"/>
          </a:xfrm>
          <a:custGeom>
            <a:avLst/>
            <a:gdLst/>
            <a:ahLst/>
            <a:rect l="l" t="t" r="r" b="b"/>
            <a:pathLst>
              <a:path w="49" h="19">
                <a:moveTo>
                  <a:pt x="49" y="19"/>
                </a:moveTo>
                <a:lnTo>
                  <a:pt x="43" y="16"/>
                </a:lnTo>
                <a:lnTo>
                  <a:pt x="38" y="16"/>
                </a:lnTo>
                <a:lnTo>
                  <a:pt x="32" y="16"/>
                </a:lnTo>
                <a:lnTo>
                  <a:pt x="25" y="17"/>
                </a:lnTo>
                <a:lnTo>
                  <a:pt x="19" y="19"/>
                </a:lnTo>
                <a:lnTo>
                  <a:pt x="12" y="19"/>
                </a:lnTo>
                <a:lnTo>
                  <a:pt x="5" y="19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lnTo>
                  <a:pt x="2" y="4"/>
                </a:lnTo>
                <a:lnTo>
                  <a:pt x="5" y="0"/>
                </a:lnTo>
                <a:lnTo>
                  <a:pt x="11" y="4"/>
                </a:lnTo>
                <a:lnTo>
                  <a:pt x="18" y="4"/>
                </a:lnTo>
                <a:lnTo>
                  <a:pt x="26" y="4"/>
                </a:lnTo>
                <a:lnTo>
                  <a:pt x="34" y="4"/>
                </a:lnTo>
                <a:lnTo>
                  <a:pt x="41" y="4"/>
                </a:lnTo>
                <a:lnTo>
                  <a:pt x="47" y="6"/>
                </a:lnTo>
                <a:lnTo>
                  <a:pt x="49" y="10"/>
                </a:lnTo>
                <a:lnTo>
                  <a:pt x="49" y="1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245280" y="4681440"/>
            <a:ext cx="112680" cy="58680"/>
          </a:xfrm>
          <a:custGeom>
            <a:avLst/>
            <a:gdLst/>
            <a:ahLst/>
            <a:rect l="l" t="t" r="r" b="b"/>
            <a:pathLst>
              <a:path w="604" h="297">
                <a:moveTo>
                  <a:pt x="604" y="2"/>
                </a:moveTo>
                <a:lnTo>
                  <a:pt x="604" y="7"/>
                </a:lnTo>
                <a:lnTo>
                  <a:pt x="587" y="15"/>
                </a:lnTo>
                <a:lnTo>
                  <a:pt x="569" y="22"/>
                </a:lnTo>
                <a:lnTo>
                  <a:pt x="551" y="30"/>
                </a:lnTo>
                <a:lnTo>
                  <a:pt x="534" y="38"/>
                </a:lnTo>
                <a:lnTo>
                  <a:pt x="517" y="46"/>
                </a:lnTo>
                <a:lnTo>
                  <a:pt x="500" y="55"/>
                </a:lnTo>
                <a:lnTo>
                  <a:pt x="482" y="65"/>
                </a:lnTo>
                <a:lnTo>
                  <a:pt x="465" y="74"/>
                </a:lnTo>
                <a:lnTo>
                  <a:pt x="458" y="74"/>
                </a:lnTo>
                <a:lnTo>
                  <a:pt x="452" y="75"/>
                </a:lnTo>
                <a:lnTo>
                  <a:pt x="447" y="77"/>
                </a:lnTo>
                <a:lnTo>
                  <a:pt x="441" y="81"/>
                </a:lnTo>
                <a:lnTo>
                  <a:pt x="435" y="84"/>
                </a:lnTo>
                <a:lnTo>
                  <a:pt x="429" y="88"/>
                </a:lnTo>
                <a:lnTo>
                  <a:pt x="424" y="90"/>
                </a:lnTo>
                <a:lnTo>
                  <a:pt x="418" y="92"/>
                </a:lnTo>
                <a:lnTo>
                  <a:pt x="396" y="104"/>
                </a:lnTo>
                <a:lnTo>
                  <a:pt x="375" y="115"/>
                </a:lnTo>
                <a:lnTo>
                  <a:pt x="353" y="126"/>
                </a:lnTo>
                <a:lnTo>
                  <a:pt x="331" y="135"/>
                </a:lnTo>
                <a:lnTo>
                  <a:pt x="308" y="145"/>
                </a:lnTo>
                <a:lnTo>
                  <a:pt x="286" y="155"/>
                </a:lnTo>
                <a:lnTo>
                  <a:pt x="265" y="164"/>
                </a:lnTo>
                <a:lnTo>
                  <a:pt x="243" y="173"/>
                </a:lnTo>
                <a:lnTo>
                  <a:pt x="220" y="182"/>
                </a:lnTo>
                <a:lnTo>
                  <a:pt x="198" y="191"/>
                </a:lnTo>
                <a:lnTo>
                  <a:pt x="176" y="201"/>
                </a:lnTo>
                <a:lnTo>
                  <a:pt x="154" y="211"/>
                </a:lnTo>
                <a:lnTo>
                  <a:pt x="132" y="221"/>
                </a:lnTo>
                <a:lnTo>
                  <a:pt x="111" y="233"/>
                </a:lnTo>
                <a:lnTo>
                  <a:pt x="91" y="244"/>
                </a:lnTo>
                <a:lnTo>
                  <a:pt x="70" y="257"/>
                </a:lnTo>
                <a:lnTo>
                  <a:pt x="61" y="261"/>
                </a:lnTo>
                <a:lnTo>
                  <a:pt x="51" y="264"/>
                </a:lnTo>
                <a:lnTo>
                  <a:pt x="43" y="267"/>
                </a:lnTo>
                <a:lnTo>
                  <a:pt x="34" y="273"/>
                </a:lnTo>
                <a:lnTo>
                  <a:pt x="26" y="278"/>
                </a:lnTo>
                <a:lnTo>
                  <a:pt x="19" y="285"/>
                </a:lnTo>
                <a:lnTo>
                  <a:pt x="12" y="291"/>
                </a:lnTo>
                <a:lnTo>
                  <a:pt x="5" y="297"/>
                </a:lnTo>
                <a:lnTo>
                  <a:pt x="0" y="297"/>
                </a:lnTo>
                <a:lnTo>
                  <a:pt x="0" y="292"/>
                </a:lnTo>
                <a:lnTo>
                  <a:pt x="1" y="287"/>
                </a:lnTo>
                <a:lnTo>
                  <a:pt x="4" y="284"/>
                </a:lnTo>
                <a:lnTo>
                  <a:pt x="8" y="280"/>
                </a:lnTo>
                <a:lnTo>
                  <a:pt x="15" y="278"/>
                </a:lnTo>
                <a:lnTo>
                  <a:pt x="21" y="274"/>
                </a:lnTo>
                <a:lnTo>
                  <a:pt x="28" y="271"/>
                </a:lnTo>
                <a:lnTo>
                  <a:pt x="34" y="270"/>
                </a:lnTo>
                <a:lnTo>
                  <a:pt x="60" y="256"/>
                </a:lnTo>
                <a:lnTo>
                  <a:pt x="85" y="242"/>
                </a:lnTo>
                <a:lnTo>
                  <a:pt x="110" y="229"/>
                </a:lnTo>
                <a:lnTo>
                  <a:pt x="136" y="216"/>
                </a:lnTo>
                <a:lnTo>
                  <a:pt x="161" y="203"/>
                </a:lnTo>
                <a:lnTo>
                  <a:pt x="186" y="190"/>
                </a:lnTo>
                <a:lnTo>
                  <a:pt x="212" y="178"/>
                </a:lnTo>
                <a:lnTo>
                  <a:pt x="238" y="165"/>
                </a:lnTo>
                <a:lnTo>
                  <a:pt x="263" y="153"/>
                </a:lnTo>
                <a:lnTo>
                  <a:pt x="289" y="141"/>
                </a:lnTo>
                <a:lnTo>
                  <a:pt x="315" y="128"/>
                </a:lnTo>
                <a:lnTo>
                  <a:pt x="341" y="117"/>
                </a:lnTo>
                <a:lnTo>
                  <a:pt x="367" y="105"/>
                </a:lnTo>
                <a:lnTo>
                  <a:pt x="392" y="92"/>
                </a:lnTo>
                <a:lnTo>
                  <a:pt x="419" y="81"/>
                </a:lnTo>
                <a:lnTo>
                  <a:pt x="444" y="69"/>
                </a:lnTo>
                <a:lnTo>
                  <a:pt x="463" y="59"/>
                </a:lnTo>
                <a:lnTo>
                  <a:pt x="481" y="49"/>
                </a:lnTo>
                <a:lnTo>
                  <a:pt x="501" y="39"/>
                </a:lnTo>
                <a:lnTo>
                  <a:pt x="520" y="31"/>
                </a:lnTo>
                <a:lnTo>
                  <a:pt x="541" y="23"/>
                </a:lnTo>
                <a:lnTo>
                  <a:pt x="561" y="15"/>
                </a:lnTo>
                <a:lnTo>
                  <a:pt x="581" y="8"/>
                </a:lnTo>
                <a:lnTo>
                  <a:pt x="601" y="0"/>
                </a:lnTo>
                <a:lnTo>
                  <a:pt x="60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259680" y="4683240"/>
            <a:ext cx="9360" cy="23760"/>
          </a:xfrm>
          <a:custGeom>
            <a:avLst/>
            <a:gdLst/>
            <a:ahLst/>
            <a:rect l="l" t="t" r="r" b="b"/>
            <a:pathLst>
              <a:path w="55" h="124">
                <a:moveTo>
                  <a:pt x="55" y="124"/>
                </a:moveTo>
                <a:lnTo>
                  <a:pt x="47" y="110"/>
                </a:lnTo>
                <a:lnTo>
                  <a:pt x="37" y="95"/>
                </a:lnTo>
                <a:lnTo>
                  <a:pt x="28" y="81"/>
                </a:lnTo>
                <a:lnTo>
                  <a:pt x="17" y="66"/>
                </a:lnTo>
                <a:lnTo>
                  <a:pt x="9" y="51"/>
                </a:lnTo>
                <a:lnTo>
                  <a:pt x="4" y="35"/>
                </a:lnTo>
                <a:lnTo>
                  <a:pt x="0" y="18"/>
                </a:lnTo>
                <a:lnTo>
                  <a:pt x="0" y="0"/>
                </a:lnTo>
                <a:lnTo>
                  <a:pt x="9" y="14"/>
                </a:lnTo>
                <a:lnTo>
                  <a:pt x="19" y="29"/>
                </a:lnTo>
                <a:lnTo>
                  <a:pt x="27" y="44"/>
                </a:lnTo>
                <a:lnTo>
                  <a:pt x="35" y="59"/>
                </a:lnTo>
                <a:lnTo>
                  <a:pt x="40" y="75"/>
                </a:lnTo>
                <a:lnTo>
                  <a:pt x="46" y="90"/>
                </a:lnTo>
                <a:lnTo>
                  <a:pt x="52" y="107"/>
                </a:lnTo>
                <a:lnTo>
                  <a:pt x="55" y="12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372360" y="4686480"/>
            <a:ext cx="23760" cy="4680"/>
          </a:xfrm>
          <a:custGeom>
            <a:avLst/>
            <a:gdLst/>
            <a:ahLst/>
            <a:rect l="l" t="t" r="r" b="b"/>
            <a:pathLst>
              <a:path w="119" h="19">
                <a:moveTo>
                  <a:pt x="119" y="4"/>
                </a:moveTo>
                <a:lnTo>
                  <a:pt x="117" y="12"/>
                </a:lnTo>
                <a:lnTo>
                  <a:pt x="103" y="14"/>
                </a:lnTo>
                <a:lnTo>
                  <a:pt x="88" y="15"/>
                </a:lnTo>
                <a:lnTo>
                  <a:pt x="74" y="16"/>
                </a:lnTo>
                <a:lnTo>
                  <a:pt x="59" y="16"/>
                </a:lnTo>
                <a:lnTo>
                  <a:pt x="45" y="17"/>
                </a:lnTo>
                <a:lnTo>
                  <a:pt x="31" y="18"/>
                </a:lnTo>
                <a:lnTo>
                  <a:pt x="19" y="18"/>
                </a:lnTo>
                <a:lnTo>
                  <a:pt x="6" y="19"/>
                </a:lnTo>
                <a:lnTo>
                  <a:pt x="0" y="9"/>
                </a:lnTo>
                <a:lnTo>
                  <a:pt x="4" y="3"/>
                </a:lnTo>
                <a:lnTo>
                  <a:pt x="8" y="1"/>
                </a:lnTo>
                <a:lnTo>
                  <a:pt x="14" y="0"/>
                </a:lnTo>
                <a:lnTo>
                  <a:pt x="20" y="1"/>
                </a:lnTo>
                <a:lnTo>
                  <a:pt x="26" y="2"/>
                </a:lnTo>
                <a:lnTo>
                  <a:pt x="33" y="3"/>
                </a:lnTo>
                <a:lnTo>
                  <a:pt x="38" y="3"/>
                </a:lnTo>
                <a:lnTo>
                  <a:pt x="43" y="2"/>
                </a:lnTo>
                <a:lnTo>
                  <a:pt x="119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272280" y="4691160"/>
            <a:ext cx="4680" cy="3240"/>
          </a:xfrm>
          <a:custGeom>
            <a:avLst/>
            <a:gdLst/>
            <a:ahLst/>
            <a:rect l="l" t="t" r="r" b="b"/>
            <a:pathLst>
              <a:path w="23" h="14">
                <a:moveTo>
                  <a:pt x="23" y="1"/>
                </a:moveTo>
                <a:lnTo>
                  <a:pt x="23" y="6"/>
                </a:lnTo>
                <a:lnTo>
                  <a:pt x="19" y="9"/>
                </a:lnTo>
                <a:lnTo>
                  <a:pt x="16" y="12"/>
                </a:lnTo>
                <a:lnTo>
                  <a:pt x="13" y="14"/>
                </a:lnTo>
                <a:lnTo>
                  <a:pt x="9" y="14"/>
                </a:lnTo>
                <a:lnTo>
                  <a:pt x="6" y="14"/>
                </a:lnTo>
                <a:lnTo>
                  <a:pt x="2" y="13"/>
                </a:lnTo>
                <a:lnTo>
                  <a:pt x="0" y="9"/>
                </a:lnTo>
                <a:lnTo>
                  <a:pt x="2" y="4"/>
                </a:lnTo>
                <a:lnTo>
                  <a:pt x="8" y="6"/>
                </a:lnTo>
                <a:lnTo>
                  <a:pt x="13" y="4"/>
                </a:lnTo>
                <a:lnTo>
                  <a:pt x="18" y="0"/>
                </a:lnTo>
                <a:lnTo>
                  <a:pt x="23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245280" y="4691160"/>
            <a:ext cx="111240" cy="56880"/>
          </a:xfrm>
          <a:custGeom>
            <a:avLst/>
            <a:gdLst/>
            <a:ahLst/>
            <a:rect l="l" t="t" r="r" b="b"/>
            <a:pathLst>
              <a:path w="586" h="289">
                <a:moveTo>
                  <a:pt x="586" y="14"/>
                </a:moveTo>
                <a:lnTo>
                  <a:pt x="580" y="20"/>
                </a:lnTo>
                <a:lnTo>
                  <a:pt x="572" y="22"/>
                </a:lnTo>
                <a:lnTo>
                  <a:pt x="563" y="22"/>
                </a:lnTo>
                <a:lnTo>
                  <a:pt x="555" y="25"/>
                </a:lnTo>
                <a:lnTo>
                  <a:pt x="411" y="94"/>
                </a:lnTo>
                <a:lnTo>
                  <a:pt x="387" y="99"/>
                </a:lnTo>
                <a:lnTo>
                  <a:pt x="376" y="105"/>
                </a:lnTo>
                <a:lnTo>
                  <a:pt x="364" y="110"/>
                </a:lnTo>
                <a:lnTo>
                  <a:pt x="352" y="116"/>
                </a:lnTo>
                <a:lnTo>
                  <a:pt x="340" y="122"/>
                </a:lnTo>
                <a:lnTo>
                  <a:pt x="329" y="128"/>
                </a:lnTo>
                <a:lnTo>
                  <a:pt x="316" y="133"/>
                </a:lnTo>
                <a:lnTo>
                  <a:pt x="305" y="139"/>
                </a:lnTo>
                <a:lnTo>
                  <a:pt x="293" y="145"/>
                </a:lnTo>
                <a:lnTo>
                  <a:pt x="280" y="151"/>
                </a:lnTo>
                <a:lnTo>
                  <a:pt x="269" y="158"/>
                </a:lnTo>
                <a:lnTo>
                  <a:pt x="257" y="163"/>
                </a:lnTo>
                <a:lnTo>
                  <a:pt x="246" y="169"/>
                </a:lnTo>
                <a:lnTo>
                  <a:pt x="234" y="176"/>
                </a:lnTo>
                <a:lnTo>
                  <a:pt x="223" y="183"/>
                </a:lnTo>
                <a:lnTo>
                  <a:pt x="211" y="190"/>
                </a:lnTo>
                <a:lnTo>
                  <a:pt x="200" y="197"/>
                </a:lnTo>
                <a:lnTo>
                  <a:pt x="188" y="197"/>
                </a:lnTo>
                <a:lnTo>
                  <a:pt x="177" y="199"/>
                </a:lnTo>
                <a:lnTo>
                  <a:pt x="165" y="204"/>
                </a:lnTo>
                <a:lnTo>
                  <a:pt x="155" y="208"/>
                </a:lnTo>
                <a:lnTo>
                  <a:pt x="143" y="213"/>
                </a:lnTo>
                <a:lnTo>
                  <a:pt x="133" y="219"/>
                </a:lnTo>
                <a:lnTo>
                  <a:pt x="121" y="224"/>
                </a:lnTo>
                <a:lnTo>
                  <a:pt x="111" y="230"/>
                </a:lnTo>
                <a:lnTo>
                  <a:pt x="105" y="238"/>
                </a:lnTo>
                <a:lnTo>
                  <a:pt x="97" y="241"/>
                </a:lnTo>
                <a:lnTo>
                  <a:pt x="87" y="244"/>
                </a:lnTo>
                <a:lnTo>
                  <a:pt x="79" y="249"/>
                </a:lnTo>
                <a:lnTo>
                  <a:pt x="69" y="254"/>
                </a:lnTo>
                <a:lnTo>
                  <a:pt x="60" y="260"/>
                </a:lnTo>
                <a:lnTo>
                  <a:pt x="51" y="266"/>
                </a:lnTo>
                <a:lnTo>
                  <a:pt x="42" y="272"/>
                </a:lnTo>
                <a:lnTo>
                  <a:pt x="33" y="276"/>
                </a:lnTo>
                <a:lnTo>
                  <a:pt x="22" y="282"/>
                </a:lnTo>
                <a:lnTo>
                  <a:pt x="13" y="285"/>
                </a:lnTo>
                <a:lnTo>
                  <a:pt x="3" y="289"/>
                </a:lnTo>
                <a:lnTo>
                  <a:pt x="0" y="282"/>
                </a:lnTo>
                <a:lnTo>
                  <a:pt x="3" y="277"/>
                </a:lnTo>
                <a:lnTo>
                  <a:pt x="6" y="274"/>
                </a:lnTo>
                <a:lnTo>
                  <a:pt x="11" y="272"/>
                </a:lnTo>
                <a:lnTo>
                  <a:pt x="16" y="269"/>
                </a:lnTo>
                <a:lnTo>
                  <a:pt x="22" y="267"/>
                </a:lnTo>
                <a:lnTo>
                  <a:pt x="28" y="264"/>
                </a:lnTo>
                <a:lnTo>
                  <a:pt x="31" y="259"/>
                </a:lnTo>
                <a:lnTo>
                  <a:pt x="63" y="244"/>
                </a:lnTo>
                <a:lnTo>
                  <a:pt x="93" y="229"/>
                </a:lnTo>
                <a:lnTo>
                  <a:pt x="124" y="214"/>
                </a:lnTo>
                <a:lnTo>
                  <a:pt x="155" y="199"/>
                </a:lnTo>
                <a:lnTo>
                  <a:pt x="186" y="184"/>
                </a:lnTo>
                <a:lnTo>
                  <a:pt x="217" y="169"/>
                </a:lnTo>
                <a:lnTo>
                  <a:pt x="248" y="155"/>
                </a:lnTo>
                <a:lnTo>
                  <a:pt x="279" y="140"/>
                </a:lnTo>
                <a:lnTo>
                  <a:pt x="310" y="126"/>
                </a:lnTo>
                <a:lnTo>
                  <a:pt x="341" y="113"/>
                </a:lnTo>
                <a:lnTo>
                  <a:pt x="372" y="98"/>
                </a:lnTo>
                <a:lnTo>
                  <a:pt x="404" y="84"/>
                </a:lnTo>
                <a:lnTo>
                  <a:pt x="435" y="70"/>
                </a:lnTo>
                <a:lnTo>
                  <a:pt x="467" y="56"/>
                </a:lnTo>
                <a:lnTo>
                  <a:pt x="498" y="42"/>
                </a:lnTo>
                <a:lnTo>
                  <a:pt x="529" y="29"/>
                </a:lnTo>
                <a:lnTo>
                  <a:pt x="535" y="23"/>
                </a:lnTo>
                <a:lnTo>
                  <a:pt x="541" y="19"/>
                </a:lnTo>
                <a:lnTo>
                  <a:pt x="548" y="17"/>
                </a:lnTo>
                <a:lnTo>
                  <a:pt x="555" y="14"/>
                </a:lnTo>
                <a:lnTo>
                  <a:pt x="560" y="11"/>
                </a:lnTo>
                <a:lnTo>
                  <a:pt x="567" y="9"/>
                </a:lnTo>
                <a:lnTo>
                  <a:pt x="573" y="5"/>
                </a:lnTo>
                <a:lnTo>
                  <a:pt x="578" y="0"/>
                </a:lnTo>
                <a:lnTo>
                  <a:pt x="580" y="2"/>
                </a:lnTo>
                <a:lnTo>
                  <a:pt x="583" y="5"/>
                </a:lnTo>
                <a:lnTo>
                  <a:pt x="586" y="9"/>
                </a:lnTo>
                <a:lnTo>
                  <a:pt x="586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73800" y="4695840"/>
            <a:ext cx="20520" cy="3240"/>
          </a:xfrm>
          <a:custGeom>
            <a:avLst/>
            <a:gdLst/>
            <a:ahLst/>
            <a:rect l="l" t="t" r="r" b="b"/>
            <a:pathLst>
              <a:path w="106" h="20">
                <a:moveTo>
                  <a:pt x="102" y="3"/>
                </a:moveTo>
                <a:lnTo>
                  <a:pt x="105" y="6"/>
                </a:lnTo>
                <a:lnTo>
                  <a:pt x="106" y="9"/>
                </a:lnTo>
                <a:lnTo>
                  <a:pt x="106" y="13"/>
                </a:lnTo>
                <a:lnTo>
                  <a:pt x="103" y="15"/>
                </a:lnTo>
                <a:lnTo>
                  <a:pt x="91" y="15"/>
                </a:lnTo>
                <a:lnTo>
                  <a:pt x="77" y="16"/>
                </a:lnTo>
                <a:lnTo>
                  <a:pt x="63" y="17"/>
                </a:lnTo>
                <a:lnTo>
                  <a:pt x="50" y="18"/>
                </a:lnTo>
                <a:lnTo>
                  <a:pt x="37" y="20"/>
                </a:lnTo>
                <a:lnTo>
                  <a:pt x="24" y="18"/>
                </a:lnTo>
                <a:lnTo>
                  <a:pt x="11" y="17"/>
                </a:lnTo>
                <a:lnTo>
                  <a:pt x="0" y="15"/>
                </a:lnTo>
                <a:lnTo>
                  <a:pt x="1" y="0"/>
                </a:lnTo>
                <a:lnTo>
                  <a:pt x="102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408720" y="4699080"/>
            <a:ext cx="12600" cy="6120"/>
          </a:xfrm>
          <a:custGeom>
            <a:avLst/>
            <a:gdLst/>
            <a:ahLst/>
            <a:rect l="l" t="t" r="r" b="b"/>
            <a:pathLst>
              <a:path w="59" h="34">
                <a:moveTo>
                  <a:pt x="57" y="14"/>
                </a:moveTo>
                <a:lnTo>
                  <a:pt x="49" y="14"/>
                </a:lnTo>
                <a:lnTo>
                  <a:pt x="42" y="17"/>
                </a:lnTo>
                <a:lnTo>
                  <a:pt x="35" y="20"/>
                </a:lnTo>
                <a:lnTo>
                  <a:pt x="28" y="25"/>
                </a:lnTo>
                <a:lnTo>
                  <a:pt x="21" y="29"/>
                </a:lnTo>
                <a:lnTo>
                  <a:pt x="14" y="33"/>
                </a:lnTo>
                <a:lnTo>
                  <a:pt x="7" y="34"/>
                </a:lnTo>
                <a:lnTo>
                  <a:pt x="0" y="33"/>
                </a:lnTo>
                <a:lnTo>
                  <a:pt x="4" y="25"/>
                </a:lnTo>
                <a:lnTo>
                  <a:pt x="8" y="19"/>
                </a:lnTo>
                <a:lnTo>
                  <a:pt x="14" y="15"/>
                </a:lnTo>
                <a:lnTo>
                  <a:pt x="22" y="12"/>
                </a:lnTo>
                <a:lnTo>
                  <a:pt x="29" y="10"/>
                </a:lnTo>
                <a:lnTo>
                  <a:pt x="37" y="7"/>
                </a:lnTo>
                <a:lnTo>
                  <a:pt x="44" y="5"/>
                </a:lnTo>
                <a:lnTo>
                  <a:pt x="50" y="0"/>
                </a:lnTo>
                <a:lnTo>
                  <a:pt x="54" y="2"/>
                </a:lnTo>
                <a:lnTo>
                  <a:pt x="58" y="5"/>
                </a:lnTo>
                <a:lnTo>
                  <a:pt x="59" y="10"/>
                </a:lnTo>
                <a:lnTo>
                  <a:pt x="57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49960" y="4699080"/>
            <a:ext cx="112680" cy="57240"/>
          </a:xfrm>
          <a:custGeom>
            <a:avLst/>
            <a:gdLst/>
            <a:ahLst/>
            <a:rect l="l" t="t" r="r" b="b"/>
            <a:pathLst>
              <a:path w="603" h="282">
                <a:moveTo>
                  <a:pt x="601" y="13"/>
                </a:moveTo>
                <a:lnTo>
                  <a:pt x="582" y="21"/>
                </a:lnTo>
                <a:lnTo>
                  <a:pt x="562" y="29"/>
                </a:lnTo>
                <a:lnTo>
                  <a:pt x="544" y="37"/>
                </a:lnTo>
                <a:lnTo>
                  <a:pt x="524" y="45"/>
                </a:lnTo>
                <a:lnTo>
                  <a:pt x="506" y="53"/>
                </a:lnTo>
                <a:lnTo>
                  <a:pt x="487" y="62"/>
                </a:lnTo>
                <a:lnTo>
                  <a:pt x="469" y="71"/>
                </a:lnTo>
                <a:lnTo>
                  <a:pt x="450" y="82"/>
                </a:lnTo>
                <a:lnTo>
                  <a:pt x="423" y="93"/>
                </a:lnTo>
                <a:lnTo>
                  <a:pt x="394" y="106"/>
                </a:lnTo>
                <a:lnTo>
                  <a:pt x="366" y="119"/>
                </a:lnTo>
                <a:lnTo>
                  <a:pt x="339" y="131"/>
                </a:lnTo>
                <a:lnTo>
                  <a:pt x="311" y="144"/>
                </a:lnTo>
                <a:lnTo>
                  <a:pt x="283" y="158"/>
                </a:lnTo>
                <a:lnTo>
                  <a:pt x="256" y="171"/>
                </a:lnTo>
                <a:lnTo>
                  <a:pt x="228" y="183"/>
                </a:lnTo>
                <a:lnTo>
                  <a:pt x="199" y="197"/>
                </a:lnTo>
                <a:lnTo>
                  <a:pt x="171" y="210"/>
                </a:lnTo>
                <a:lnTo>
                  <a:pt x="144" y="222"/>
                </a:lnTo>
                <a:lnTo>
                  <a:pt x="116" y="235"/>
                </a:lnTo>
                <a:lnTo>
                  <a:pt x="88" y="248"/>
                </a:lnTo>
                <a:lnTo>
                  <a:pt x="61" y="259"/>
                </a:lnTo>
                <a:lnTo>
                  <a:pt x="32" y="271"/>
                </a:lnTo>
                <a:lnTo>
                  <a:pt x="4" y="282"/>
                </a:lnTo>
                <a:lnTo>
                  <a:pt x="1" y="280"/>
                </a:lnTo>
                <a:lnTo>
                  <a:pt x="1" y="277"/>
                </a:lnTo>
                <a:lnTo>
                  <a:pt x="0" y="273"/>
                </a:lnTo>
                <a:lnTo>
                  <a:pt x="0" y="270"/>
                </a:lnTo>
                <a:lnTo>
                  <a:pt x="26" y="259"/>
                </a:lnTo>
                <a:lnTo>
                  <a:pt x="53" y="249"/>
                </a:lnTo>
                <a:lnTo>
                  <a:pt x="79" y="237"/>
                </a:lnTo>
                <a:lnTo>
                  <a:pt x="106" y="226"/>
                </a:lnTo>
                <a:lnTo>
                  <a:pt x="131" y="214"/>
                </a:lnTo>
                <a:lnTo>
                  <a:pt x="158" y="202"/>
                </a:lnTo>
                <a:lnTo>
                  <a:pt x="183" y="190"/>
                </a:lnTo>
                <a:lnTo>
                  <a:pt x="209" y="177"/>
                </a:lnTo>
                <a:lnTo>
                  <a:pt x="236" y="166"/>
                </a:lnTo>
                <a:lnTo>
                  <a:pt x="261" y="153"/>
                </a:lnTo>
                <a:lnTo>
                  <a:pt x="288" y="141"/>
                </a:lnTo>
                <a:lnTo>
                  <a:pt x="313" y="129"/>
                </a:lnTo>
                <a:lnTo>
                  <a:pt x="340" y="118"/>
                </a:lnTo>
                <a:lnTo>
                  <a:pt x="366" y="106"/>
                </a:lnTo>
                <a:lnTo>
                  <a:pt x="393" y="95"/>
                </a:lnTo>
                <a:lnTo>
                  <a:pt x="419" y="84"/>
                </a:lnTo>
                <a:lnTo>
                  <a:pt x="424" y="77"/>
                </a:lnTo>
                <a:lnTo>
                  <a:pt x="444" y="68"/>
                </a:lnTo>
                <a:lnTo>
                  <a:pt x="466" y="59"/>
                </a:lnTo>
                <a:lnTo>
                  <a:pt x="487" y="50"/>
                </a:lnTo>
                <a:lnTo>
                  <a:pt x="508" y="39"/>
                </a:lnTo>
                <a:lnTo>
                  <a:pt x="530" y="29"/>
                </a:lnTo>
                <a:lnTo>
                  <a:pt x="550" y="18"/>
                </a:lnTo>
                <a:lnTo>
                  <a:pt x="572" y="9"/>
                </a:lnTo>
                <a:lnTo>
                  <a:pt x="594" y="0"/>
                </a:lnTo>
                <a:lnTo>
                  <a:pt x="599" y="1"/>
                </a:lnTo>
                <a:lnTo>
                  <a:pt x="602" y="5"/>
                </a:lnTo>
                <a:lnTo>
                  <a:pt x="603" y="8"/>
                </a:lnTo>
                <a:lnTo>
                  <a:pt x="601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37160" y="4700520"/>
            <a:ext cx="5040" cy="3240"/>
          </a:xfrm>
          <a:custGeom>
            <a:avLst/>
            <a:gdLst/>
            <a:ahLst/>
            <a:rect l="l" t="t" r="r" b="b"/>
            <a:pathLst>
              <a:path w="26" h="12">
                <a:moveTo>
                  <a:pt x="26" y="10"/>
                </a:moveTo>
                <a:lnTo>
                  <a:pt x="21" y="12"/>
                </a:lnTo>
                <a:lnTo>
                  <a:pt x="14" y="11"/>
                </a:lnTo>
                <a:lnTo>
                  <a:pt x="7" y="9"/>
                </a:lnTo>
                <a:lnTo>
                  <a:pt x="0" y="5"/>
                </a:lnTo>
                <a:lnTo>
                  <a:pt x="0" y="0"/>
                </a:lnTo>
                <a:lnTo>
                  <a:pt x="8" y="2"/>
                </a:lnTo>
                <a:lnTo>
                  <a:pt x="17" y="1"/>
                </a:lnTo>
                <a:lnTo>
                  <a:pt x="24" y="2"/>
                </a:lnTo>
                <a:lnTo>
                  <a:pt x="26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84960" y="4702320"/>
            <a:ext cx="4680" cy="2880"/>
          </a:xfrm>
          <a:custGeom>
            <a:avLst/>
            <a:gdLst/>
            <a:ahLst/>
            <a:rect l="l" t="t" r="r" b="b"/>
            <a:pathLst>
              <a:path w="20" h="15">
                <a:moveTo>
                  <a:pt x="20" y="12"/>
                </a:moveTo>
                <a:lnTo>
                  <a:pt x="15" y="15"/>
                </a:lnTo>
                <a:lnTo>
                  <a:pt x="11" y="14"/>
                </a:lnTo>
                <a:lnTo>
                  <a:pt x="5" y="11"/>
                </a:lnTo>
                <a:lnTo>
                  <a:pt x="0" y="10"/>
                </a:lnTo>
                <a:lnTo>
                  <a:pt x="1" y="5"/>
                </a:lnTo>
                <a:lnTo>
                  <a:pt x="5" y="3"/>
                </a:lnTo>
                <a:lnTo>
                  <a:pt x="10" y="2"/>
                </a:lnTo>
                <a:lnTo>
                  <a:pt x="14" y="0"/>
                </a:lnTo>
                <a:lnTo>
                  <a:pt x="20" y="0"/>
                </a:lnTo>
                <a:lnTo>
                  <a:pt x="20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80280" y="4705200"/>
            <a:ext cx="44280" cy="20880"/>
          </a:xfrm>
          <a:custGeom>
            <a:avLst/>
            <a:gdLst/>
            <a:ahLst/>
            <a:rect l="l" t="t" r="r" b="b"/>
            <a:pathLst>
              <a:path w="241" h="106">
                <a:moveTo>
                  <a:pt x="241" y="6"/>
                </a:moveTo>
                <a:lnTo>
                  <a:pt x="239" y="12"/>
                </a:lnTo>
                <a:lnTo>
                  <a:pt x="235" y="16"/>
                </a:lnTo>
                <a:lnTo>
                  <a:pt x="231" y="17"/>
                </a:lnTo>
                <a:lnTo>
                  <a:pt x="226" y="18"/>
                </a:lnTo>
                <a:lnTo>
                  <a:pt x="220" y="20"/>
                </a:lnTo>
                <a:lnTo>
                  <a:pt x="214" y="21"/>
                </a:lnTo>
                <a:lnTo>
                  <a:pt x="210" y="22"/>
                </a:lnTo>
                <a:lnTo>
                  <a:pt x="205" y="24"/>
                </a:lnTo>
                <a:lnTo>
                  <a:pt x="190" y="30"/>
                </a:lnTo>
                <a:lnTo>
                  <a:pt x="176" y="37"/>
                </a:lnTo>
                <a:lnTo>
                  <a:pt x="163" y="44"/>
                </a:lnTo>
                <a:lnTo>
                  <a:pt x="148" y="51"/>
                </a:lnTo>
                <a:lnTo>
                  <a:pt x="134" y="58"/>
                </a:lnTo>
                <a:lnTo>
                  <a:pt x="120" y="65"/>
                </a:lnTo>
                <a:lnTo>
                  <a:pt x="105" y="70"/>
                </a:lnTo>
                <a:lnTo>
                  <a:pt x="90" y="75"/>
                </a:lnTo>
                <a:lnTo>
                  <a:pt x="79" y="80"/>
                </a:lnTo>
                <a:lnTo>
                  <a:pt x="68" y="84"/>
                </a:lnTo>
                <a:lnTo>
                  <a:pt x="57" y="89"/>
                </a:lnTo>
                <a:lnTo>
                  <a:pt x="45" y="93"/>
                </a:lnTo>
                <a:lnTo>
                  <a:pt x="35" y="98"/>
                </a:lnTo>
                <a:lnTo>
                  <a:pt x="23" y="101"/>
                </a:lnTo>
                <a:lnTo>
                  <a:pt x="12" y="105"/>
                </a:lnTo>
                <a:lnTo>
                  <a:pt x="0" y="106"/>
                </a:lnTo>
                <a:lnTo>
                  <a:pt x="4" y="103"/>
                </a:lnTo>
                <a:lnTo>
                  <a:pt x="7" y="99"/>
                </a:lnTo>
                <a:lnTo>
                  <a:pt x="12" y="96"/>
                </a:lnTo>
                <a:lnTo>
                  <a:pt x="16" y="93"/>
                </a:lnTo>
                <a:lnTo>
                  <a:pt x="21" y="91"/>
                </a:lnTo>
                <a:lnTo>
                  <a:pt x="26" y="89"/>
                </a:lnTo>
                <a:lnTo>
                  <a:pt x="31" y="88"/>
                </a:lnTo>
                <a:lnTo>
                  <a:pt x="36" y="86"/>
                </a:lnTo>
                <a:lnTo>
                  <a:pt x="49" y="81"/>
                </a:lnTo>
                <a:lnTo>
                  <a:pt x="60" y="75"/>
                </a:lnTo>
                <a:lnTo>
                  <a:pt x="73" y="69"/>
                </a:lnTo>
                <a:lnTo>
                  <a:pt x="84" y="63"/>
                </a:lnTo>
                <a:lnTo>
                  <a:pt x="97" y="58"/>
                </a:lnTo>
                <a:lnTo>
                  <a:pt x="110" y="52"/>
                </a:lnTo>
                <a:lnTo>
                  <a:pt x="121" y="46"/>
                </a:lnTo>
                <a:lnTo>
                  <a:pt x="134" y="40"/>
                </a:lnTo>
                <a:lnTo>
                  <a:pt x="147" y="36"/>
                </a:lnTo>
                <a:lnTo>
                  <a:pt x="159" y="30"/>
                </a:lnTo>
                <a:lnTo>
                  <a:pt x="172" y="25"/>
                </a:lnTo>
                <a:lnTo>
                  <a:pt x="185" y="20"/>
                </a:lnTo>
                <a:lnTo>
                  <a:pt x="196" y="15"/>
                </a:lnTo>
                <a:lnTo>
                  <a:pt x="209" y="9"/>
                </a:lnTo>
                <a:lnTo>
                  <a:pt x="221" y="5"/>
                </a:lnTo>
                <a:lnTo>
                  <a:pt x="234" y="0"/>
                </a:lnTo>
                <a:lnTo>
                  <a:pt x="24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257880" y="4707000"/>
            <a:ext cx="109440" cy="55440"/>
          </a:xfrm>
          <a:custGeom>
            <a:avLst/>
            <a:gdLst/>
            <a:ahLst/>
            <a:rect l="l" t="t" r="r" b="b"/>
            <a:pathLst>
              <a:path w="579" h="284">
                <a:moveTo>
                  <a:pt x="577" y="0"/>
                </a:moveTo>
                <a:lnTo>
                  <a:pt x="579" y="3"/>
                </a:lnTo>
                <a:lnTo>
                  <a:pt x="579" y="7"/>
                </a:lnTo>
                <a:lnTo>
                  <a:pt x="576" y="11"/>
                </a:lnTo>
                <a:lnTo>
                  <a:pt x="574" y="15"/>
                </a:lnTo>
                <a:lnTo>
                  <a:pt x="556" y="21"/>
                </a:lnTo>
                <a:lnTo>
                  <a:pt x="538" y="27"/>
                </a:lnTo>
                <a:lnTo>
                  <a:pt x="521" y="34"/>
                </a:lnTo>
                <a:lnTo>
                  <a:pt x="503" y="41"/>
                </a:lnTo>
                <a:lnTo>
                  <a:pt x="486" y="48"/>
                </a:lnTo>
                <a:lnTo>
                  <a:pt x="469" y="56"/>
                </a:lnTo>
                <a:lnTo>
                  <a:pt x="451" y="64"/>
                </a:lnTo>
                <a:lnTo>
                  <a:pt x="435" y="72"/>
                </a:lnTo>
                <a:lnTo>
                  <a:pt x="418" y="80"/>
                </a:lnTo>
                <a:lnTo>
                  <a:pt x="401" y="90"/>
                </a:lnTo>
                <a:lnTo>
                  <a:pt x="384" y="98"/>
                </a:lnTo>
                <a:lnTo>
                  <a:pt x="366" y="106"/>
                </a:lnTo>
                <a:lnTo>
                  <a:pt x="349" y="114"/>
                </a:lnTo>
                <a:lnTo>
                  <a:pt x="332" y="121"/>
                </a:lnTo>
                <a:lnTo>
                  <a:pt x="313" y="129"/>
                </a:lnTo>
                <a:lnTo>
                  <a:pt x="296" y="136"/>
                </a:lnTo>
                <a:lnTo>
                  <a:pt x="274" y="147"/>
                </a:lnTo>
                <a:lnTo>
                  <a:pt x="252" y="159"/>
                </a:lnTo>
                <a:lnTo>
                  <a:pt x="230" y="169"/>
                </a:lnTo>
                <a:lnTo>
                  <a:pt x="208" y="180"/>
                </a:lnTo>
                <a:lnTo>
                  <a:pt x="188" y="191"/>
                </a:lnTo>
                <a:lnTo>
                  <a:pt x="166" y="201"/>
                </a:lnTo>
                <a:lnTo>
                  <a:pt x="145" y="214"/>
                </a:lnTo>
                <a:lnTo>
                  <a:pt x="124" y="227"/>
                </a:lnTo>
                <a:lnTo>
                  <a:pt x="110" y="233"/>
                </a:lnTo>
                <a:lnTo>
                  <a:pt x="97" y="238"/>
                </a:lnTo>
                <a:lnTo>
                  <a:pt x="84" y="245"/>
                </a:lnTo>
                <a:lnTo>
                  <a:pt x="70" y="252"/>
                </a:lnTo>
                <a:lnTo>
                  <a:pt x="57" y="260"/>
                </a:lnTo>
                <a:lnTo>
                  <a:pt x="45" y="268"/>
                </a:lnTo>
                <a:lnTo>
                  <a:pt x="32" y="275"/>
                </a:lnTo>
                <a:lnTo>
                  <a:pt x="19" y="283"/>
                </a:lnTo>
                <a:lnTo>
                  <a:pt x="14" y="283"/>
                </a:lnTo>
                <a:lnTo>
                  <a:pt x="7" y="284"/>
                </a:lnTo>
                <a:lnTo>
                  <a:pt x="2" y="283"/>
                </a:lnTo>
                <a:lnTo>
                  <a:pt x="0" y="277"/>
                </a:lnTo>
                <a:lnTo>
                  <a:pt x="0" y="272"/>
                </a:lnTo>
                <a:lnTo>
                  <a:pt x="11" y="265"/>
                </a:lnTo>
                <a:lnTo>
                  <a:pt x="24" y="258"/>
                </a:lnTo>
                <a:lnTo>
                  <a:pt x="37" y="252"/>
                </a:lnTo>
                <a:lnTo>
                  <a:pt x="49" y="247"/>
                </a:lnTo>
                <a:lnTo>
                  <a:pt x="62" y="242"/>
                </a:lnTo>
                <a:lnTo>
                  <a:pt x="75" y="236"/>
                </a:lnTo>
                <a:lnTo>
                  <a:pt x="87" y="229"/>
                </a:lnTo>
                <a:lnTo>
                  <a:pt x="99" y="221"/>
                </a:lnTo>
                <a:lnTo>
                  <a:pt x="124" y="208"/>
                </a:lnTo>
                <a:lnTo>
                  <a:pt x="148" y="196"/>
                </a:lnTo>
                <a:lnTo>
                  <a:pt x="174" y="183"/>
                </a:lnTo>
                <a:lnTo>
                  <a:pt x="199" y="170"/>
                </a:lnTo>
                <a:lnTo>
                  <a:pt x="225" y="158"/>
                </a:lnTo>
                <a:lnTo>
                  <a:pt x="249" y="146"/>
                </a:lnTo>
                <a:lnTo>
                  <a:pt x="274" y="133"/>
                </a:lnTo>
                <a:lnTo>
                  <a:pt x="299" y="122"/>
                </a:lnTo>
                <a:lnTo>
                  <a:pt x="325" y="109"/>
                </a:lnTo>
                <a:lnTo>
                  <a:pt x="350" y="98"/>
                </a:lnTo>
                <a:lnTo>
                  <a:pt x="375" y="86"/>
                </a:lnTo>
                <a:lnTo>
                  <a:pt x="401" y="74"/>
                </a:lnTo>
                <a:lnTo>
                  <a:pt x="426" y="62"/>
                </a:lnTo>
                <a:lnTo>
                  <a:pt x="451" y="49"/>
                </a:lnTo>
                <a:lnTo>
                  <a:pt x="477" y="38"/>
                </a:lnTo>
                <a:lnTo>
                  <a:pt x="502" y="25"/>
                </a:lnTo>
                <a:lnTo>
                  <a:pt x="511" y="22"/>
                </a:lnTo>
                <a:lnTo>
                  <a:pt x="521" y="18"/>
                </a:lnTo>
                <a:lnTo>
                  <a:pt x="530" y="15"/>
                </a:lnTo>
                <a:lnTo>
                  <a:pt x="540" y="12"/>
                </a:lnTo>
                <a:lnTo>
                  <a:pt x="549" y="9"/>
                </a:lnTo>
                <a:lnTo>
                  <a:pt x="559" y="6"/>
                </a:lnTo>
                <a:lnTo>
                  <a:pt x="568" y="3"/>
                </a:lnTo>
                <a:lnTo>
                  <a:pt x="57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40400" y="4708440"/>
            <a:ext cx="9720" cy="3240"/>
          </a:xfrm>
          <a:custGeom>
            <a:avLst/>
            <a:gdLst/>
            <a:ahLst/>
            <a:rect l="l" t="t" r="r" b="b"/>
            <a:pathLst>
              <a:path w="47" h="16">
                <a:moveTo>
                  <a:pt x="47" y="12"/>
                </a:moveTo>
                <a:lnTo>
                  <a:pt x="47" y="16"/>
                </a:lnTo>
                <a:lnTo>
                  <a:pt x="41" y="15"/>
                </a:lnTo>
                <a:lnTo>
                  <a:pt x="34" y="16"/>
                </a:lnTo>
                <a:lnTo>
                  <a:pt x="27" y="16"/>
                </a:lnTo>
                <a:lnTo>
                  <a:pt x="21" y="16"/>
                </a:lnTo>
                <a:lnTo>
                  <a:pt x="14" y="16"/>
                </a:lnTo>
                <a:lnTo>
                  <a:pt x="8" y="15"/>
                </a:lnTo>
                <a:lnTo>
                  <a:pt x="3" y="12"/>
                </a:lnTo>
                <a:lnTo>
                  <a:pt x="0" y="6"/>
                </a:lnTo>
                <a:lnTo>
                  <a:pt x="4" y="3"/>
                </a:lnTo>
                <a:lnTo>
                  <a:pt x="10" y="2"/>
                </a:lnTo>
                <a:lnTo>
                  <a:pt x="16" y="1"/>
                </a:lnTo>
                <a:lnTo>
                  <a:pt x="22" y="0"/>
                </a:lnTo>
                <a:lnTo>
                  <a:pt x="27" y="1"/>
                </a:lnTo>
                <a:lnTo>
                  <a:pt x="33" y="2"/>
                </a:lnTo>
                <a:lnTo>
                  <a:pt x="39" y="3"/>
                </a:lnTo>
                <a:lnTo>
                  <a:pt x="45" y="6"/>
                </a:lnTo>
                <a:lnTo>
                  <a:pt x="47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97480" y="4710240"/>
            <a:ext cx="76320" cy="39600"/>
          </a:xfrm>
          <a:custGeom>
            <a:avLst/>
            <a:gdLst/>
            <a:ahLst/>
            <a:rect l="l" t="t" r="r" b="b"/>
            <a:pathLst>
              <a:path w="404" h="200">
                <a:moveTo>
                  <a:pt x="402" y="15"/>
                </a:moveTo>
                <a:lnTo>
                  <a:pt x="396" y="16"/>
                </a:lnTo>
                <a:lnTo>
                  <a:pt x="390" y="17"/>
                </a:lnTo>
                <a:lnTo>
                  <a:pt x="385" y="19"/>
                </a:lnTo>
                <a:lnTo>
                  <a:pt x="379" y="21"/>
                </a:lnTo>
                <a:lnTo>
                  <a:pt x="373" y="22"/>
                </a:lnTo>
                <a:lnTo>
                  <a:pt x="367" y="24"/>
                </a:lnTo>
                <a:lnTo>
                  <a:pt x="363" y="27"/>
                </a:lnTo>
                <a:lnTo>
                  <a:pt x="358" y="31"/>
                </a:lnTo>
                <a:lnTo>
                  <a:pt x="342" y="37"/>
                </a:lnTo>
                <a:lnTo>
                  <a:pt x="326" y="44"/>
                </a:lnTo>
                <a:lnTo>
                  <a:pt x="310" y="51"/>
                </a:lnTo>
                <a:lnTo>
                  <a:pt x="293" y="57"/>
                </a:lnTo>
                <a:lnTo>
                  <a:pt x="277" y="64"/>
                </a:lnTo>
                <a:lnTo>
                  <a:pt x="262" y="71"/>
                </a:lnTo>
                <a:lnTo>
                  <a:pt x="246" y="79"/>
                </a:lnTo>
                <a:lnTo>
                  <a:pt x="231" y="87"/>
                </a:lnTo>
                <a:lnTo>
                  <a:pt x="217" y="94"/>
                </a:lnTo>
                <a:lnTo>
                  <a:pt x="202" y="101"/>
                </a:lnTo>
                <a:lnTo>
                  <a:pt x="189" y="109"/>
                </a:lnTo>
                <a:lnTo>
                  <a:pt x="175" y="116"/>
                </a:lnTo>
                <a:lnTo>
                  <a:pt x="160" y="123"/>
                </a:lnTo>
                <a:lnTo>
                  <a:pt x="146" y="130"/>
                </a:lnTo>
                <a:lnTo>
                  <a:pt x="132" y="138"/>
                </a:lnTo>
                <a:lnTo>
                  <a:pt x="117" y="145"/>
                </a:lnTo>
                <a:lnTo>
                  <a:pt x="103" y="152"/>
                </a:lnTo>
                <a:lnTo>
                  <a:pt x="90" y="159"/>
                </a:lnTo>
                <a:lnTo>
                  <a:pt x="75" y="166"/>
                </a:lnTo>
                <a:lnTo>
                  <a:pt x="61" y="173"/>
                </a:lnTo>
                <a:lnTo>
                  <a:pt x="46" y="180"/>
                </a:lnTo>
                <a:lnTo>
                  <a:pt x="32" y="186"/>
                </a:lnTo>
                <a:lnTo>
                  <a:pt x="18" y="193"/>
                </a:lnTo>
                <a:lnTo>
                  <a:pt x="3" y="200"/>
                </a:lnTo>
                <a:lnTo>
                  <a:pt x="1" y="198"/>
                </a:lnTo>
                <a:lnTo>
                  <a:pt x="0" y="196"/>
                </a:lnTo>
                <a:lnTo>
                  <a:pt x="0" y="192"/>
                </a:lnTo>
                <a:lnTo>
                  <a:pt x="0" y="190"/>
                </a:lnTo>
                <a:lnTo>
                  <a:pt x="23" y="178"/>
                </a:lnTo>
                <a:lnTo>
                  <a:pt x="47" y="167"/>
                </a:lnTo>
                <a:lnTo>
                  <a:pt x="70" y="154"/>
                </a:lnTo>
                <a:lnTo>
                  <a:pt x="93" y="143"/>
                </a:lnTo>
                <a:lnTo>
                  <a:pt x="117" y="131"/>
                </a:lnTo>
                <a:lnTo>
                  <a:pt x="140" y="118"/>
                </a:lnTo>
                <a:lnTo>
                  <a:pt x="163" y="107"/>
                </a:lnTo>
                <a:lnTo>
                  <a:pt x="187" y="95"/>
                </a:lnTo>
                <a:lnTo>
                  <a:pt x="211" y="84"/>
                </a:lnTo>
                <a:lnTo>
                  <a:pt x="235" y="71"/>
                </a:lnTo>
                <a:lnTo>
                  <a:pt x="258" y="60"/>
                </a:lnTo>
                <a:lnTo>
                  <a:pt x="282" y="48"/>
                </a:lnTo>
                <a:lnTo>
                  <a:pt x="305" y="37"/>
                </a:lnTo>
                <a:lnTo>
                  <a:pt x="329" y="25"/>
                </a:lnTo>
                <a:lnTo>
                  <a:pt x="352" y="15"/>
                </a:lnTo>
                <a:lnTo>
                  <a:pt x="376" y="3"/>
                </a:lnTo>
                <a:lnTo>
                  <a:pt x="381" y="2"/>
                </a:lnTo>
                <a:lnTo>
                  <a:pt x="387" y="1"/>
                </a:lnTo>
                <a:lnTo>
                  <a:pt x="391" y="0"/>
                </a:lnTo>
                <a:lnTo>
                  <a:pt x="397" y="0"/>
                </a:lnTo>
                <a:lnTo>
                  <a:pt x="401" y="1"/>
                </a:lnTo>
                <a:lnTo>
                  <a:pt x="403" y="3"/>
                </a:lnTo>
                <a:lnTo>
                  <a:pt x="404" y="8"/>
                </a:lnTo>
                <a:lnTo>
                  <a:pt x="402" y="1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391440" y="4711680"/>
            <a:ext cx="39600" cy="20520"/>
          </a:xfrm>
          <a:custGeom>
            <a:avLst/>
            <a:gdLst/>
            <a:ahLst/>
            <a:rect l="l" t="t" r="r" b="b"/>
            <a:pathLst>
              <a:path w="209" h="105">
                <a:moveTo>
                  <a:pt x="207" y="21"/>
                </a:moveTo>
                <a:lnTo>
                  <a:pt x="201" y="24"/>
                </a:lnTo>
                <a:lnTo>
                  <a:pt x="194" y="24"/>
                </a:lnTo>
                <a:lnTo>
                  <a:pt x="187" y="22"/>
                </a:lnTo>
                <a:lnTo>
                  <a:pt x="182" y="24"/>
                </a:lnTo>
                <a:lnTo>
                  <a:pt x="166" y="31"/>
                </a:lnTo>
                <a:lnTo>
                  <a:pt x="148" y="39"/>
                </a:lnTo>
                <a:lnTo>
                  <a:pt x="132" y="46"/>
                </a:lnTo>
                <a:lnTo>
                  <a:pt x="115" y="53"/>
                </a:lnTo>
                <a:lnTo>
                  <a:pt x="99" y="60"/>
                </a:lnTo>
                <a:lnTo>
                  <a:pt x="83" y="67"/>
                </a:lnTo>
                <a:lnTo>
                  <a:pt x="66" y="74"/>
                </a:lnTo>
                <a:lnTo>
                  <a:pt x="50" y="81"/>
                </a:lnTo>
                <a:lnTo>
                  <a:pt x="9" y="105"/>
                </a:lnTo>
                <a:lnTo>
                  <a:pt x="4" y="102"/>
                </a:lnTo>
                <a:lnTo>
                  <a:pt x="1" y="96"/>
                </a:lnTo>
                <a:lnTo>
                  <a:pt x="0" y="90"/>
                </a:lnTo>
                <a:lnTo>
                  <a:pt x="5" y="85"/>
                </a:lnTo>
                <a:lnTo>
                  <a:pt x="18" y="78"/>
                </a:lnTo>
                <a:lnTo>
                  <a:pt x="32" y="72"/>
                </a:lnTo>
                <a:lnTo>
                  <a:pt x="45" y="66"/>
                </a:lnTo>
                <a:lnTo>
                  <a:pt x="58" y="60"/>
                </a:lnTo>
                <a:lnTo>
                  <a:pt x="72" y="54"/>
                </a:lnTo>
                <a:lnTo>
                  <a:pt x="86" y="49"/>
                </a:lnTo>
                <a:lnTo>
                  <a:pt x="99" y="43"/>
                </a:lnTo>
                <a:lnTo>
                  <a:pt x="113" y="37"/>
                </a:lnTo>
                <a:lnTo>
                  <a:pt x="123" y="32"/>
                </a:lnTo>
                <a:lnTo>
                  <a:pt x="132" y="28"/>
                </a:lnTo>
                <a:lnTo>
                  <a:pt x="144" y="23"/>
                </a:lnTo>
                <a:lnTo>
                  <a:pt x="154" y="20"/>
                </a:lnTo>
                <a:lnTo>
                  <a:pt x="166" y="16"/>
                </a:lnTo>
                <a:lnTo>
                  <a:pt x="176" y="12"/>
                </a:lnTo>
                <a:lnTo>
                  <a:pt x="186" y="6"/>
                </a:lnTo>
                <a:lnTo>
                  <a:pt x="197" y="0"/>
                </a:lnTo>
                <a:lnTo>
                  <a:pt x="202" y="2"/>
                </a:lnTo>
                <a:lnTo>
                  <a:pt x="207" y="7"/>
                </a:lnTo>
                <a:lnTo>
                  <a:pt x="209" y="14"/>
                </a:lnTo>
                <a:lnTo>
                  <a:pt x="207" y="2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54720" y="4714920"/>
            <a:ext cx="31680" cy="14400"/>
          </a:xfrm>
          <a:custGeom>
            <a:avLst/>
            <a:gdLst/>
            <a:ahLst/>
            <a:rect l="l" t="t" r="r" b="b"/>
            <a:pathLst>
              <a:path w="172" h="71">
                <a:moveTo>
                  <a:pt x="172" y="5"/>
                </a:moveTo>
                <a:lnTo>
                  <a:pt x="150" y="13"/>
                </a:lnTo>
                <a:lnTo>
                  <a:pt x="129" y="23"/>
                </a:lnTo>
                <a:lnTo>
                  <a:pt x="107" y="32"/>
                </a:lnTo>
                <a:lnTo>
                  <a:pt x="87" y="40"/>
                </a:lnTo>
                <a:lnTo>
                  <a:pt x="65" y="49"/>
                </a:lnTo>
                <a:lnTo>
                  <a:pt x="44" y="57"/>
                </a:lnTo>
                <a:lnTo>
                  <a:pt x="22" y="64"/>
                </a:lnTo>
                <a:lnTo>
                  <a:pt x="0" y="71"/>
                </a:lnTo>
                <a:lnTo>
                  <a:pt x="0" y="66"/>
                </a:lnTo>
                <a:lnTo>
                  <a:pt x="21" y="55"/>
                </a:lnTo>
                <a:lnTo>
                  <a:pt x="42" y="44"/>
                </a:lnTo>
                <a:lnTo>
                  <a:pt x="63" y="34"/>
                </a:lnTo>
                <a:lnTo>
                  <a:pt x="84" y="25"/>
                </a:lnTo>
                <a:lnTo>
                  <a:pt x="106" y="17"/>
                </a:lnTo>
                <a:lnTo>
                  <a:pt x="128" y="9"/>
                </a:lnTo>
                <a:lnTo>
                  <a:pt x="150" y="3"/>
                </a:lnTo>
                <a:lnTo>
                  <a:pt x="172" y="0"/>
                </a:lnTo>
                <a:lnTo>
                  <a:pt x="172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443640" y="4716360"/>
            <a:ext cx="9720" cy="3240"/>
          </a:xfrm>
          <a:custGeom>
            <a:avLst/>
            <a:gdLst/>
            <a:ahLst/>
            <a:rect l="l" t="t" r="r" b="b"/>
            <a:pathLst>
              <a:path w="51" h="17">
                <a:moveTo>
                  <a:pt x="51" y="4"/>
                </a:moveTo>
                <a:lnTo>
                  <a:pt x="48" y="10"/>
                </a:lnTo>
                <a:lnTo>
                  <a:pt x="43" y="13"/>
                </a:lnTo>
                <a:lnTo>
                  <a:pt x="37" y="16"/>
                </a:lnTo>
                <a:lnTo>
                  <a:pt x="30" y="17"/>
                </a:lnTo>
                <a:lnTo>
                  <a:pt x="22" y="17"/>
                </a:lnTo>
                <a:lnTo>
                  <a:pt x="15" y="17"/>
                </a:lnTo>
                <a:lnTo>
                  <a:pt x="8" y="17"/>
                </a:lnTo>
                <a:lnTo>
                  <a:pt x="3" y="17"/>
                </a:lnTo>
                <a:lnTo>
                  <a:pt x="0" y="12"/>
                </a:lnTo>
                <a:lnTo>
                  <a:pt x="0" y="8"/>
                </a:lnTo>
                <a:lnTo>
                  <a:pt x="3" y="3"/>
                </a:lnTo>
                <a:lnTo>
                  <a:pt x="5" y="0"/>
                </a:lnTo>
                <a:lnTo>
                  <a:pt x="11" y="0"/>
                </a:lnTo>
                <a:lnTo>
                  <a:pt x="17" y="0"/>
                </a:lnTo>
                <a:lnTo>
                  <a:pt x="22" y="1"/>
                </a:lnTo>
                <a:lnTo>
                  <a:pt x="29" y="1"/>
                </a:lnTo>
                <a:lnTo>
                  <a:pt x="35" y="2"/>
                </a:lnTo>
                <a:lnTo>
                  <a:pt x="41" y="3"/>
                </a:lnTo>
                <a:lnTo>
                  <a:pt x="46" y="3"/>
                </a:lnTo>
                <a:lnTo>
                  <a:pt x="5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394320" y="4719600"/>
            <a:ext cx="38160" cy="19080"/>
          </a:xfrm>
          <a:custGeom>
            <a:avLst/>
            <a:gdLst/>
            <a:ahLst/>
            <a:rect l="l" t="t" r="r" b="b"/>
            <a:pathLst>
              <a:path w="201" h="96">
                <a:moveTo>
                  <a:pt x="198" y="18"/>
                </a:moveTo>
                <a:lnTo>
                  <a:pt x="192" y="20"/>
                </a:lnTo>
                <a:lnTo>
                  <a:pt x="187" y="20"/>
                </a:lnTo>
                <a:lnTo>
                  <a:pt x="183" y="19"/>
                </a:lnTo>
                <a:lnTo>
                  <a:pt x="177" y="18"/>
                </a:lnTo>
                <a:lnTo>
                  <a:pt x="159" y="31"/>
                </a:lnTo>
                <a:lnTo>
                  <a:pt x="139" y="41"/>
                </a:lnTo>
                <a:lnTo>
                  <a:pt x="120" y="50"/>
                </a:lnTo>
                <a:lnTo>
                  <a:pt x="100" y="60"/>
                </a:lnTo>
                <a:lnTo>
                  <a:pt x="80" y="68"/>
                </a:lnTo>
                <a:lnTo>
                  <a:pt x="60" y="76"/>
                </a:lnTo>
                <a:lnTo>
                  <a:pt x="40" y="85"/>
                </a:lnTo>
                <a:lnTo>
                  <a:pt x="20" y="95"/>
                </a:lnTo>
                <a:lnTo>
                  <a:pt x="14" y="96"/>
                </a:lnTo>
                <a:lnTo>
                  <a:pt x="7" y="94"/>
                </a:lnTo>
                <a:lnTo>
                  <a:pt x="1" y="89"/>
                </a:lnTo>
                <a:lnTo>
                  <a:pt x="0" y="81"/>
                </a:lnTo>
                <a:lnTo>
                  <a:pt x="0" y="77"/>
                </a:lnTo>
                <a:lnTo>
                  <a:pt x="22" y="68"/>
                </a:lnTo>
                <a:lnTo>
                  <a:pt x="43" y="58"/>
                </a:lnTo>
                <a:lnTo>
                  <a:pt x="64" y="49"/>
                </a:lnTo>
                <a:lnTo>
                  <a:pt x="85" y="39"/>
                </a:lnTo>
                <a:lnTo>
                  <a:pt x="107" y="30"/>
                </a:lnTo>
                <a:lnTo>
                  <a:pt x="129" y="20"/>
                </a:lnTo>
                <a:lnTo>
                  <a:pt x="151" y="12"/>
                </a:lnTo>
                <a:lnTo>
                  <a:pt x="174" y="7"/>
                </a:lnTo>
                <a:lnTo>
                  <a:pt x="178" y="3"/>
                </a:lnTo>
                <a:lnTo>
                  <a:pt x="183" y="1"/>
                </a:lnTo>
                <a:lnTo>
                  <a:pt x="190" y="0"/>
                </a:lnTo>
                <a:lnTo>
                  <a:pt x="194" y="0"/>
                </a:lnTo>
                <a:lnTo>
                  <a:pt x="199" y="2"/>
                </a:lnTo>
                <a:lnTo>
                  <a:pt x="201" y="5"/>
                </a:lnTo>
                <a:lnTo>
                  <a:pt x="201" y="10"/>
                </a:lnTo>
                <a:lnTo>
                  <a:pt x="198" y="1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448320" y="4724280"/>
            <a:ext cx="9720" cy="1800"/>
          </a:xfrm>
          <a:custGeom>
            <a:avLst/>
            <a:gdLst/>
            <a:ahLst/>
            <a:rect l="l" t="t" r="r" b="b"/>
            <a:pathLst>
              <a:path w="44" h="14">
                <a:moveTo>
                  <a:pt x="44" y="3"/>
                </a:moveTo>
                <a:lnTo>
                  <a:pt x="41" y="9"/>
                </a:lnTo>
                <a:lnTo>
                  <a:pt x="38" y="12"/>
                </a:lnTo>
                <a:lnTo>
                  <a:pt x="32" y="14"/>
                </a:lnTo>
                <a:lnTo>
                  <a:pt x="26" y="14"/>
                </a:lnTo>
                <a:lnTo>
                  <a:pt x="20" y="13"/>
                </a:lnTo>
                <a:lnTo>
                  <a:pt x="14" y="13"/>
                </a:lnTo>
                <a:lnTo>
                  <a:pt x="8" y="12"/>
                </a:lnTo>
                <a:lnTo>
                  <a:pt x="2" y="13"/>
                </a:lnTo>
                <a:lnTo>
                  <a:pt x="0" y="7"/>
                </a:lnTo>
                <a:lnTo>
                  <a:pt x="4" y="4"/>
                </a:lnTo>
                <a:lnTo>
                  <a:pt x="10" y="2"/>
                </a:lnTo>
                <a:lnTo>
                  <a:pt x="16" y="2"/>
                </a:lnTo>
                <a:lnTo>
                  <a:pt x="22" y="0"/>
                </a:lnTo>
                <a:lnTo>
                  <a:pt x="27" y="0"/>
                </a:lnTo>
                <a:lnTo>
                  <a:pt x="33" y="2"/>
                </a:lnTo>
                <a:lnTo>
                  <a:pt x="39" y="3"/>
                </a:lnTo>
                <a:lnTo>
                  <a:pt x="44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243480" y="4726080"/>
            <a:ext cx="9720" cy="6120"/>
          </a:xfrm>
          <a:custGeom>
            <a:avLst/>
            <a:gdLst/>
            <a:ahLst/>
            <a:rect l="l" t="t" r="r" b="b"/>
            <a:pathLst>
              <a:path w="52" h="33">
                <a:moveTo>
                  <a:pt x="52" y="2"/>
                </a:moveTo>
                <a:lnTo>
                  <a:pt x="52" y="8"/>
                </a:lnTo>
                <a:lnTo>
                  <a:pt x="45" y="10"/>
                </a:lnTo>
                <a:lnTo>
                  <a:pt x="39" y="12"/>
                </a:lnTo>
                <a:lnTo>
                  <a:pt x="32" y="14"/>
                </a:lnTo>
                <a:lnTo>
                  <a:pt x="25" y="17"/>
                </a:lnTo>
                <a:lnTo>
                  <a:pt x="20" y="19"/>
                </a:lnTo>
                <a:lnTo>
                  <a:pt x="14" y="23"/>
                </a:lnTo>
                <a:lnTo>
                  <a:pt x="9" y="27"/>
                </a:lnTo>
                <a:lnTo>
                  <a:pt x="5" y="33"/>
                </a:lnTo>
                <a:lnTo>
                  <a:pt x="0" y="33"/>
                </a:lnTo>
                <a:lnTo>
                  <a:pt x="2" y="24"/>
                </a:lnTo>
                <a:lnTo>
                  <a:pt x="6" y="18"/>
                </a:lnTo>
                <a:lnTo>
                  <a:pt x="12" y="14"/>
                </a:lnTo>
                <a:lnTo>
                  <a:pt x="20" y="10"/>
                </a:lnTo>
                <a:lnTo>
                  <a:pt x="28" y="8"/>
                </a:lnTo>
                <a:lnTo>
                  <a:pt x="36" y="5"/>
                </a:lnTo>
                <a:lnTo>
                  <a:pt x="43" y="3"/>
                </a:lnTo>
                <a:lnTo>
                  <a:pt x="50" y="0"/>
                </a:lnTo>
                <a:lnTo>
                  <a:pt x="52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94320" y="4727520"/>
            <a:ext cx="41400" cy="22320"/>
          </a:xfrm>
          <a:custGeom>
            <a:avLst/>
            <a:gdLst/>
            <a:ahLst/>
            <a:rect l="l" t="t" r="r" b="b"/>
            <a:pathLst>
              <a:path w="223" h="120">
                <a:moveTo>
                  <a:pt x="223" y="6"/>
                </a:moveTo>
                <a:lnTo>
                  <a:pt x="222" y="13"/>
                </a:lnTo>
                <a:lnTo>
                  <a:pt x="219" y="19"/>
                </a:lnTo>
                <a:lnTo>
                  <a:pt x="214" y="22"/>
                </a:lnTo>
                <a:lnTo>
                  <a:pt x="208" y="26"/>
                </a:lnTo>
                <a:lnTo>
                  <a:pt x="202" y="28"/>
                </a:lnTo>
                <a:lnTo>
                  <a:pt x="197" y="30"/>
                </a:lnTo>
                <a:lnTo>
                  <a:pt x="191" y="34"/>
                </a:lnTo>
                <a:lnTo>
                  <a:pt x="186" y="38"/>
                </a:lnTo>
                <a:lnTo>
                  <a:pt x="164" y="49"/>
                </a:lnTo>
                <a:lnTo>
                  <a:pt x="143" y="59"/>
                </a:lnTo>
                <a:lnTo>
                  <a:pt x="121" y="70"/>
                </a:lnTo>
                <a:lnTo>
                  <a:pt x="100" y="79"/>
                </a:lnTo>
                <a:lnTo>
                  <a:pt x="78" y="89"/>
                </a:lnTo>
                <a:lnTo>
                  <a:pt x="56" y="100"/>
                </a:lnTo>
                <a:lnTo>
                  <a:pt x="34" y="110"/>
                </a:lnTo>
                <a:lnTo>
                  <a:pt x="12" y="120"/>
                </a:lnTo>
                <a:lnTo>
                  <a:pt x="8" y="118"/>
                </a:lnTo>
                <a:lnTo>
                  <a:pt x="4" y="117"/>
                </a:lnTo>
                <a:lnTo>
                  <a:pt x="2" y="113"/>
                </a:lnTo>
                <a:lnTo>
                  <a:pt x="0" y="110"/>
                </a:lnTo>
                <a:lnTo>
                  <a:pt x="12" y="100"/>
                </a:lnTo>
                <a:lnTo>
                  <a:pt x="25" y="90"/>
                </a:lnTo>
                <a:lnTo>
                  <a:pt x="39" y="81"/>
                </a:lnTo>
                <a:lnTo>
                  <a:pt x="53" y="73"/>
                </a:lnTo>
                <a:lnTo>
                  <a:pt x="67" y="66"/>
                </a:lnTo>
                <a:lnTo>
                  <a:pt x="80" y="58"/>
                </a:lnTo>
                <a:lnTo>
                  <a:pt x="94" y="51"/>
                </a:lnTo>
                <a:lnTo>
                  <a:pt x="108" y="43"/>
                </a:lnTo>
                <a:lnTo>
                  <a:pt x="115" y="38"/>
                </a:lnTo>
                <a:lnTo>
                  <a:pt x="122" y="35"/>
                </a:lnTo>
                <a:lnTo>
                  <a:pt x="129" y="33"/>
                </a:lnTo>
                <a:lnTo>
                  <a:pt x="137" y="30"/>
                </a:lnTo>
                <a:lnTo>
                  <a:pt x="145" y="29"/>
                </a:lnTo>
                <a:lnTo>
                  <a:pt x="152" y="27"/>
                </a:lnTo>
                <a:lnTo>
                  <a:pt x="158" y="22"/>
                </a:lnTo>
                <a:lnTo>
                  <a:pt x="163" y="18"/>
                </a:lnTo>
                <a:lnTo>
                  <a:pt x="170" y="18"/>
                </a:lnTo>
                <a:lnTo>
                  <a:pt x="177" y="15"/>
                </a:lnTo>
                <a:lnTo>
                  <a:pt x="185" y="11"/>
                </a:lnTo>
                <a:lnTo>
                  <a:pt x="193" y="6"/>
                </a:lnTo>
                <a:lnTo>
                  <a:pt x="200" y="3"/>
                </a:lnTo>
                <a:lnTo>
                  <a:pt x="208" y="0"/>
                </a:lnTo>
                <a:lnTo>
                  <a:pt x="216" y="0"/>
                </a:lnTo>
                <a:lnTo>
                  <a:pt x="223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450120" y="4732200"/>
            <a:ext cx="7920" cy="3240"/>
          </a:xfrm>
          <a:custGeom>
            <a:avLst/>
            <a:gdLst/>
            <a:ahLst/>
            <a:rect l="l" t="t" r="r" b="b"/>
            <a:pathLst>
              <a:path w="45" h="15">
                <a:moveTo>
                  <a:pt x="45" y="5"/>
                </a:moveTo>
                <a:lnTo>
                  <a:pt x="41" y="9"/>
                </a:lnTo>
                <a:lnTo>
                  <a:pt x="36" y="12"/>
                </a:lnTo>
                <a:lnTo>
                  <a:pt x="32" y="14"/>
                </a:lnTo>
                <a:lnTo>
                  <a:pt x="26" y="15"/>
                </a:lnTo>
                <a:lnTo>
                  <a:pt x="20" y="15"/>
                </a:lnTo>
                <a:lnTo>
                  <a:pt x="14" y="15"/>
                </a:lnTo>
                <a:lnTo>
                  <a:pt x="7" y="14"/>
                </a:lnTo>
                <a:lnTo>
                  <a:pt x="2" y="13"/>
                </a:lnTo>
                <a:lnTo>
                  <a:pt x="0" y="7"/>
                </a:lnTo>
                <a:lnTo>
                  <a:pt x="4" y="4"/>
                </a:lnTo>
                <a:lnTo>
                  <a:pt x="7" y="1"/>
                </a:lnTo>
                <a:lnTo>
                  <a:pt x="12" y="0"/>
                </a:lnTo>
                <a:lnTo>
                  <a:pt x="21" y="0"/>
                </a:lnTo>
                <a:lnTo>
                  <a:pt x="30" y="0"/>
                </a:lnTo>
                <a:lnTo>
                  <a:pt x="39" y="1"/>
                </a:lnTo>
                <a:lnTo>
                  <a:pt x="45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354720" y="4737240"/>
            <a:ext cx="30240" cy="4680"/>
          </a:xfrm>
          <a:custGeom>
            <a:avLst/>
            <a:gdLst/>
            <a:ahLst/>
            <a:rect l="l" t="t" r="r" b="b"/>
            <a:pathLst>
              <a:path w="164" h="27">
                <a:moveTo>
                  <a:pt x="164" y="25"/>
                </a:moveTo>
                <a:lnTo>
                  <a:pt x="163" y="27"/>
                </a:lnTo>
                <a:lnTo>
                  <a:pt x="153" y="23"/>
                </a:lnTo>
                <a:lnTo>
                  <a:pt x="141" y="19"/>
                </a:lnTo>
                <a:lnTo>
                  <a:pt x="130" y="17"/>
                </a:lnTo>
                <a:lnTo>
                  <a:pt x="118" y="16"/>
                </a:lnTo>
                <a:lnTo>
                  <a:pt x="107" y="15"/>
                </a:lnTo>
                <a:lnTo>
                  <a:pt x="94" y="15"/>
                </a:lnTo>
                <a:lnTo>
                  <a:pt x="81" y="13"/>
                </a:lnTo>
                <a:lnTo>
                  <a:pt x="69" y="12"/>
                </a:lnTo>
                <a:lnTo>
                  <a:pt x="61" y="13"/>
                </a:lnTo>
                <a:lnTo>
                  <a:pt x="51" y="16"/>
                </a:lnTo>
                <a:lnTo>
                  <a:pt x="43" y="17"/>
                </a:lnTo>
                <a:lnTo>
                  <a:pt x="34" y="19"/>
                </a:lnTo>
                <a:lnTo>
                  <a:pt x="26" y="20"/>
                </a:lnTo>
                <a:lnTo>
                  <a:pt x="17" y="23"/>
                </a:lnTo>
                <a:lnTo>
                  <a:pt x="9" y="24"/>
                </a:lnTo>
                <a:lnTo>
                  <a:pt x="0" y="25"/>
                </a:lnTo>
                <a:lnTo>
                  <a:pt x="17" y="17"/>
                </a:lnTo>
                <a:lnTo>
                  <a:pt x="36" y="10"/>
                </a:lnTo>
                <a:lnTo>
                  <a:pt x="56" y="4"/>
                </a:lnTo>
                <a:lnTo>
                  <a:pt x="77" y="1"/>
                </a:lnTo>
                <a:lnTo>
                  <a:pt x="97" y="0"/>
                </a:lnTo>
                <a:lnTo>
                  <a:pt x="117" y="1"/>
                </a:lnTo>
                <a:lnTo>
                  <a:pt x="137" y="5"/>
                </a:lnTo>
                <a:lnTo>
                  <a:pt x="154" y="12"/>
                </a:lnTo>
                <a:lnTo>
                  <a:pt x="164" y="2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305400" y="4740120"/>
            <a:ext cx="27000" cy="16200"/>
          </a:xfrm>
          <a:custGeom>
            <a:avLst/>
            <a:gdLst/>
            <a:ahLst/>
            <a:rect l="l" t="t" r="r" b="b"/>
            <a:pathLst>
              <a:path w="146" h="78">
                <a:moveTo>
                  <a:pt x="146" y="6"/>
                </a:moveTo>
                <a:lnTo>
                  <a:pt x="143" y="13"/>
                </a:lnTo>
                <a:lnTo>
                  <a:pt x="126" y="21"/>
                </a:lnTo>
                <a:lnTo>
                  <a:pt x="107" y="30"/>
                </a:lnTo>
                <a:lnTo>
                  <a:pt x="90" y="38"/>
                </a:lnTo>
                <a:lnTo>
                  <a:pt x="72" y="47"/>
                </a:lnTo>
                <a:lnTo>
                  <a:pt x="54" y="55"/>
                </a:lnTo>
                <a:lnTo>
                  <a:pt x="36" y="64"/>
                </a:lnTo>
                <a:lnTo>
                  <a:pt x="19" y="72"/>
                </a:lnTo>
                <a:lnTo>
                  <a:pt x="0" y="78"/>
                </a:lnTo>
                <a:lnTo>
                  <a:pt x="0" y="72"/>
                </a:lnTo>
                <a:lnTo>
                  <a:pt x="17" y="62"/>
                </a:lnTo>
                <a:lnTo>
                  <a:pt x="36" y="52"/>
                </a:lnTo>
                <a:lnTo>
                  <a:pt x="53" y="43"/>
                </a:lnTo>
                <a:lnTo>
                  <a:pt x="70" y="34"/>
                </a:lnTo>
                <a:lnTo>
                  <a:pt x="89" y="24"/>
                </a:lnTo>
                <a:lnTo>
                  <a:pt x="106" y="16"/>
                </a:lnTo>
                <a:lnTo>
                  <a:pt x="125" y="8"/>
                </a:lnTo>
                <a:lnTo>
                  <a:pt x="143" y="0"/>
                </a:lnTo>
                <a:lnTo>
                  <a:pt x="146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50120" y="4740120"/>
            <a:ext cx="4680" cy="3240"/>
          </a:xfrm>
          <a:custGeom>
            <a:avLst/>
            <a:gdLst/>
            <a:ahLst/>
            <a:rect l="l" t="t" r="r" b="b"/>
            <a:pathLst>
              <a:path w="28" h="15">
                <a:moveTo>
                  <a:pt x="28" y="9"/>
                </a:moveTo>
                <a:lnTo>
                  <a:pt x="28" y="12"/>
                </a:lnTo>
                <a:lnTo>
                  <a:pt x="22" y="15"/>
                </a:lnTo>
                <a:lnTo>
                  <a:pt x="15" y="15"/>
                </a:lnTo>
                <a:lnTo>
                  <a:pt x="8" y="15"/>
                </a:lnTo>
                <a:lnTo>
                  <a:pt x="1" y="15"/>
                </a:lnTo>
                <a:lnTo>
                  <a:pt x="0" y="10"/>
                </a:lnTo>
                <a:lnTo>
                  <a:pt x="4" y="5"/>
                </a:lnTo>
                <a:lnTo>
                  <a:pt x="7" y="2"/>
                </a:lnTo>
                <a:lnTo>
                  <a:pt x="12" y="0"/>
                </a:lnTo>
                <a:lnTo>
                  <a:pt x="16" y="2"/>
                </a:lnTo>
                <a:lnTo>
                  <a:pt x="21" y="3"/>
                </a:lnTo>
                <a:lnTo>
                  <a:pt x="24" y="5"/>
                </a:lnTo>
                <a:lnTo>
                  <a:pt x="28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69120" y="4746600"/>
            <a:ext cx="11160" cy="3240"/>
          </a:xfrm>
          <a:custGeom>
            <a:avLst/>
            <a:gdLst/>
            <a:ahLst/>
            <a:rect l="l" t="t" r="r" b="b"/>
            <a:pathLst>
              <a:path w="56" h="15">
                <a:moveTo>
                  <a:pt x="56" y="9"/>
                </a:moveTo>
                <a:lnTo>
                  <a:pt x="48" y="15"/>
                </a:lnTo>
                <a:lnTo>
                  <a:pt x="42" y="15"/>
                </a:lnTo>
                <a:lnTo>
                  <a:pt x="35" y="15"/>
                </a:lnTo>
                <a:lnTo>
                  <a:pt x="30" y="15"/>
                </a:lnTo>
                <a:lnTo>
                  <a:pt x="24" y="15"/>
                </a:lnTo>
                <a:lnTo>
                  <a:pt x="18" y="14"/>
                </a:lnTo>
                <a:lnTo>
                  <a:pt x="12" y="12"/>
                </a:lnTo>
                <a:lnTo>
                  <a:pt x="6" y="11"/>
                </a:lnTo>
                <a:lnTo>
                  <a:pt x="0" y="9"/>
                </a:lnTo>
                <a:lnTo>
                  <a:pt x="6" y="4"/>
                </a:lnTo>
                <a:lnTo>
                  <a:pt x="11" y="1"/>
                </a:lnTo>
                <a:lnTo>
                  <a:pt x="19" y="0"/>
                </a:lnTo>
                <a:lnTo>
                  <a:pt x="26" y="0"/>
                </a:lnTo>
                <a:lnTo>
                  <a:pt x="33" y="0"/>
                </a:lnTo>
                <a:lnTo>
                  <a:pt x="41" y="1"/>
                </a:lnTo>
                <a:lnTo>
                  <a:pt x="48" y="1"/>
                </a:lnTo>
                <a:lnTo>
                  <a:pt x="55" y="2"/>
                </a:lnTo>
                <a:lnTo>
                  <a:pt x="56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356520" y="4751280"/>
            <a:ext cx="10800" cy="3240"/>
          </a:xfrm>
          <a:custGeom>
            <a:avLst/>
            <a:gdLst/>
            <a:ahLst/>
            <a:rect l="l" t="t" r="r" b="b"/>
            <a:pathLst>
              <a:path w="63" h="14">
                <a:moveTo>
                  <a:pt x="63" y="7"/>
                </a:moveTo>
                <a:lnTo>
                  <a:pt x="63" y="14"/>
                </a:lnTo>
                <a:lnTo>
                  <a:pt x="54" y="14"/>
                </a:lnTo>
                <a:lnTo>
                  <a:pt x="46" y="14"/>
                </a:lnTo>
                <a:lnTo>
                  <a:pt x="38" y="14"/>
                </a:lnTo>
                <a:lnTo>
                  <a:pt x="30" y="14"/>
                </a:lnTo>
                <a:lnTo>
                  <a:pt x="23" y="14"/>
                </a:lnTo>
                <a:lnTo>
                  <a:pt x="15" y="12"/>
                </a:lnTo>
                <a:lnTo>
                  <a:pt x="8" y="11"/>
                </a:lnTo>
                <a:lnTo>
                  <a:pt x="0" y="9"/>
                </a:lnTo>
                <a:lnTo>
                  <a:pt x="4" y="0"/>
                </a:lnTo>
                <a:lnTo>
                  <a:pt x="12" y="2"/>
                </a:lnTo>
                <a:lnTo>
                  <a:pt x="19" y="2"/>
                </a:lnTo>
                <a:lnTo>
                  <a:pt x="27" y="2"/>
                </a:lnTo>
                <a:lnTo>
                  <a:pt x="34" y="2"/>
                </a:lnTo>
                <a:lnTo>
                  <a:pt x="41" y="2"/>
                </a:lnTo>
                <a:lnTo>
                  <a:pt x="48" y="3"/>
                </a:lnTo>
                <a:lnTo>
                  <a:pt x="56" y="4"/>
                </a:lnTo>
                <a:lnTo>
                  <a:pt x="63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07200" y="4754520"/>
            <a:ext cx="20520" cy="9720"/>
          </a:xfrm>
          <a:custGeom>
            <a:avLst/>
            <a:gdLst/>
            <a:ahLst/>
            <a:rect l="l" t="t" r="r" b="b"/>
            <a:pathLst>
              <a:path w="106" h="57">
                <a:moveTo>
                  <a:pt x="106" y="4"/>
                </a:moveTo>
                <a:lnTo>
                  <a:pt x="104" y="14"/>
                </a:lnTo>
                <a:lnTo>
                  <a:pt x="92" y="20"/>
                </a:lnTo>
                <a:lnTo>
                  <a:pt x="80" y="24"/>
                </a:lnTo>
                <a:lnTo>
                  <a:pt x="68" y="29"/>
                </a:lnTo>
                <a:lnTo>
                  <a:pt x="56" y="34"/>
                </a:lnTo>
                <a:lnTo>
                  <a:pt x="43" y="38"/>
                </a:lnTo>
                <a:lnTo>
                  <a:pt x="32" y="43"/>
                </a:lnTo>
                <a:lnTo>
                  <a:pt x="20" y="50"/>
                </a:lnTo>
                <a:lnTo>
                  <a:pt x="10" y="57"/>
                </a:lnTo>
                <a:lnTo>
                  <a:pt x="5" y="57"/>
                </a:lnTo>
                <a:lnTo>
                  <a:pt x="3" y="55"/>
                </a:lnTo>
                <a:lnTo>
                  <a:pt x="1" y="54"/>
                </a:lnTo>
                <a:lnTo>
                  <a:pt x="0" y="51"/>
                </a:lnTo>
                <a:lnTo>
                  <a:pt x="3" y="43"/>
                </a:lnTo>
                <a:lnTo>
                  <a:pt x="8" y="37"/>
                </a:lnTo>
                <a:lnTo>
                  <a:pt x="13" y="34"/>
                </a:lnTo>
                <a:lnTo>
                  <a:pt x="21" y="31"/>
                </a:lnTo>
                <a:lnTo>
                  <a:pt x="28" y="29"/>
                </a:lnTo>
                <a:lnTo>
                  <a:pt x="36" y="27"/>
                </a:lnTo>
                <a:lnTo>
                  <a:pt x="43" y="23"/>
                </a:lnTo>
                <a:lnTo>
                  <a:pt x="49" y="17"/>
                </a:lnTo>
                <a:lnTo>
                  <a:pt x="57" y="16"/>
                </a:lnTo>
                <a:lnTo>
                  <a:pt x="64" y="13"/>
                </a:lnTo>
                <a:lnTo>
                  <a:pt x="71" y="9"/>
                </a:lnTo>
                <a:lnTo>
                  <a:pt x="78" y="5"/>
                </a:lnTo>
                <a:lnTo>
                  <a:pt x="84" y="2"/>
                </a:lnTo>
                <a:lnTo>
                  <a:pt x="91" y="0"/>
                </a:lnTo>
                <a:lnTo>
                  <a:pt x="97" y="0"/>
                </a:lnTo>
                <a:lnTo>
                  <a:pt x="106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345360" y="4757760"/>
            <a:ext cx="15840" cy="4680"/>
          </a:xfrm>
          <a:custGeom>
            <a:avLst/>
            <a:gdLst/>
            <a:ahLst/>
            <a:rect l="l" t="t" r="r" b="b"/>
            <a:pathLst>
              <a:path w="85" h="19">
                <a:moveTo>
                  <a:pt x="85" y="19"/>
                </a:moveTo>
                <a:lnTo>
                  <a:pt x="76" y="18"/>
                </a:lnTo>
                <a:lnTo>
                  <a:pt x="66" y="18"/>
                </a:lnTo>
                <a:lnTo>
                  <a:pt x="55" y="16"/>
                </a:lnTo>
                <a:lnTo>
                  <a:pt x="44" y="15"/>
                </a:lnTo>
                <a:lnTo>
                  <a:pt x="33" y="15"/>
                </a:lnTo>
                <a:lnTo>
                  <a:pt x="22" y="14"/>
                </a:lnTo>
                <a:lnTo>
                  <a:pt x="10" y="15"/>
                </a:lnTo>
                <a:lnTo>
                  <a:pt x="0" y="16"/>
                </a:lnTo>
                <a:lnTo>
                  <a:pt x="0" y="12"/>
                </a:lnTo>
                <a:lnTo>
                  <a:pt x="1" y="6"/>
                </a:lnTo>
                <a:lnTo>
                  <a:pt x="5" y="3"/>
                </a:lnTo>
                <a:lnTo>
                  <a:pt x="10" y="0"/>
                </a:lnTo>
                <a:lnTo>
                  <a:pt x="20" y="1"/>
                </a:lnTo>
                <a:lnTo>
                  <a:pt x="31" y="0"/>
                </a:lnTo>
                <a:lnTo>
                  <a:pt x="43" y="0"/>
                </a:lnTo>
                <a:lnTo>
                  <a:pt x="54" y="0"/>
                </a:lnTo>
                <a:lnTo>
                  <a:pt x="65" y="1"/>
                </a:lnTo>
                <a:lnTo>
                  <a:pt x="74" y="4"/>
                </a:lnTo>
                <a:lnTo>
                  <a:pt x="81" y="10"/>
                </a:lnTo>
                <a:lnTo>
                  <a:pt x="85" y="1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386400" y="4759200"/>
            <a:ext cx="9720" cy="6480"/>
          </a:xfrm>
          <a:custGeom>
            <a:avLst/>
            <a:gdLst/>
            <a:ahLst/>
            <a:rect l="l" t="t" r="r" b="b"/>
            <a:pathLst>
              <a:path w="49" h="31">
                <a:moveTo>
                  <a:pt x="7" y="4"/>
                </a:moveTo>
                <a:lnTo>
                  <a:pt x="8" y="13"/>
                </a:lnTo>
                <a:lnTo>
                  <a:pt x="15" y="18"/>
                </a:lnTo>
                <a:lnTo>
                  <a:pt x="24" y="20"/>
                </a:lnTo>
                <a:lnTo>
                  <a:pt x="31" y="25"/>
                </a:lnTo>
                <a:lnTo>
                  <a:pt x="37" y="28"/>
                </a:lnTo>
                <a:lnTo>
                  <a:pt x="42" y="25"/>
                </a:lnTo>
                <a:lnTo>
                  <a:pt x="47" y="22"/>
                </a:lnTo>
                <a:lnTo>
                  <a:pt x="49" y="29"/>
                </a:lnTo>
                <a:lnTo>
                  <a:pt x="42" y="30"/>
                </a:lnTo>
                <a:lnTo>
                  <a:pt x="37" y="31"/>
                </a:lnTo>
                <a:lnTo>
                  <a:pt x="30" y="31"/>
                </a:lnTo>
                <a:lnTo>
                  <a:pt x="23" y="31"/>
                </a:lnTo>
                <a:lnTo>
                  <a:pt x="17" y="30"/>
                </a:lnTo>
                <a:lnTo>
                  <a:pt x="11" y="28"/>
                </a:lnTo>
                <a:lnTo>
                  <a:pt x="6" y="26"/>
                </a:lnTo>
                <a:lnTo>
                  <a:pt x="0" y="23"/>
                </a:ln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6" y="3"/>
                </a:lnTo>
                <a:lnTo>
                  <a:pt x="7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267600" y="4761000"/>
            <a:ext cx="7920" cy="6120"/>
          </a:xfrm>
          <a:custGeom>
            <a:avLst/>
            <a:gdLst/>
            <a:ahLst/>
            <a:rect l="l" t="t" r="r" b="b"/>
            <a:pathLst>
              <a:path w="45" h="34">
                <a:moveTo>
                  <a:pt x="45" y="12"/>
                </a:moveTo>
                <a:lnTo>
                  <a:pt x="39" y="14"/>
                </a:lnTo>
                <a:lnTo>
                  <a:pt x="33" y="17"/>
                </a:lnTo>
                <a:lnTo>
                  <a:pt x="28" y="22"/>
                </a:lnTo>
                <a:lnTo>
                  <a:pt x="22" y="27"/>
                </a:lnTo>
                <a:lnTo>
                  <a:pt x="16" y="31"/>
                </a:lnTo>
                <a:lnTo>
                  <a:pt x="11" y="34"/>
                </a:lnTo>
                <a:lnTo>
                  <a:pt x="6" y="34"/>
                </a:lnTo>
                <a:lnTo>
                  <a:pt x="0" y="30"/>
                </a:lnTo>
                <a:lnTo>
                  <a:pt x="0" y="22"/>
                </a:lnTo>
                <a:lnTo>
                  <a:pt x="2" y="17"/>
                </a:lnTo>
                <a:lnTo>
                  <a:pt x="7" y="14"/>
                </a:lnTo>
                <a:lnTo>
                  <a:pt x="13" y="12"/>
                </a:lnTo>
                <a:lnTo>
                  <a:pt x="18" y="9"/>
                </a:lnTo>
                <a:lnTo>
                  <a:pt x="25" y="8"/>
                </a:lnTo>
                <a:lnTo>
                  <a:pt x="30" y="5"/>
                </a:lnTo>
                <a:lnTo>
                  <a:pt x="35" y="1"/>
                </a:lnTo>
                <a:lnTo>
                  <a:pt x="39" y="0"/>
                </a:lnTo>
                <a:lnTo>
                  <a:pt x="41" y="2"/>
                </a:lnTo>
                <a:lnTo>
                  <a:pt x="43" y="7"/>
                </a:lnTo>
                <a:lnTo>
                  <a:pt x="45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10440" y="4762440"/>
            <a:ext cx="19080" cy="11160"/>
          </a:xfrm>
          <a:custGeom>
            <a:avLst/>
            <a:gdLst/>
            <a:ahLst/>
            <a:rect l="l" t="t" r="r" b="b"/>
            <a:pathLst>
              <a:path w="105" h="54">
                <a:moveTo>
                  <a:pt x="105" y="8"/>
                </a:moveTo>
                <a:lnTo>
                  <a:pt x="100" y="12"/>
                </a:lnTo>
                <a:lnTo>
                  <a:pt x="96" y="15"/>
                </a:lnTo>
                <a:lnTo>
                  <a:pt x="90" y="17"/>
                </a:lnTo>
                <a:lnTo>
                  <a:pt x="84" y="20"/>
                </a:lnTo>
                <a:lnTo>
                  <a:pt x="77" y="22"/>
                </a:lnTo>
                <a:lnTo>
                  <a:pt x="72" y="24"/>
                </a:lnTo>
                <a:lnTo>
                  <a:pt x="65" y="25"/>
                </a:lnTo>
                <a:lnTo>
                  <a:pt x="59" y="27"/>
                </a:lnTo>
                <a:lnTo>
                  <a:pt x="53" y="31"/>
                </a:lnTo>
                <a:lnTo>
                  <a:pt x="46" y="35"/>
                </a:lnTo>
                <a:lnTo>
                  <a:pt x="40" y="38"/>
                </a:lnTo>
                <a:lnTo>
                  <a:pt x="33" y="42"/>
                </a:lnTo>
                <a:lnTo>
                  <a:pt x="28" y="45"/>
                </a:lnTo>
                <a:lnTo>
                  <a:pt x="21" y="48"/>
                </a:lnTo>
                <a:lnTo>
                  <a:pt x="14" y="52"/>
                </a:lnTo>
                <a:lnTo>
                  <a:pt x="7" y="54"/>
                </a:lnTo>
                <a:lnTo>
                  <a:pt x="0" y="36"/>
                </a:lnTo>
                <a:lnTo>
                  <a:pt x="12" y="32"/>
                </a:lnTo>
                <a:lnTo>
                  <a:pt x="23" y="28"/>
                </a:lnTo>
                <a:lnTo>
                  <a:pt x="33" y="23"/>
                </a:lnTo>
                <a:lnTo>
                  <a:pt x="45" y="17"/>
                </a:lnTo>
                <a:lnTo>
                  <a:pt x="57" y="13"/>
                </a:lnTo>
                <a:lnTo>
                  <a:pt x="68" y="8"/>
                </a:lnTo>
                <a:lnTo>
                  <a:pt x="78" y="4"/>
                </a:lnTo>
                <a:lnTo>
                  <a:pt x="90" y="0"/>
                </a:lnTo>
                <a:lnTo>
                  <a:pt x="95" y="1"/>
                </a:lnTo>
                <a:lnTo>
                  <a:pt x="99" y="2"/>
                </a:lnTo>
                <a:lnTo>
                  <a:pt x="103" y="4"/>
                </a:lnTo>
                <a:lnTo>
                  <a:pt x="105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346800" y="4765680"/>
            <a:ext cx="15840" cy="3240"/>
          </a:xfrm>
          <a:custGeom>
            <a:avLst/>
            <a:gdLst/>
            <a:ahLst/>
            <a:rect l="l" t="t" r="r" b="b"/>
            <a:pathLst>
              <a:path w="78" h="17">
                <a:moveTo>
                  <a:pt x="78" y="7"/>
                </a:moveTo>
                <a:lnTo>
                  <a:pt x="78" y="10"/>
                </a:lnTo>
                <a:lnTo>
                  <a:pt x="76" y="13"/>
                </a:lnTo>
                <a:lnTo>
                  <a:pt x="75" y="15"/>
                </a:lnTo>
                <a:lnTo>
                  <a:pt x="73" y="17"/>
                </a:lnTo>
                <a:lnTo>
                  <a:pt x="6" y="15"/>
                </a:lnTo>
                <a:lnTo>
                  <a:pt x="4" y="13"/>
                </a:lnTo>
                <a:lnTo>
                  <a:pt x="2" y="10"/>
                </a:lnTo>
                <a:lnTo>
                  <a:pt x="0" y="7"/>
                </a:lnTo>
                <a:lnTo>
                  <a:pt x="0" y="2"/>
                </a:lnTo>
                <a:lnTo>
                  <a:pt x="10" y="1"/>
                </a:lnTo>
                <a:lnTo>
                  <a:pt x="19" y="0"/>
                </a:lnTo>
                <a:lnTo>
                  <a:pt x="28" y="0"/>
                </a:lnTo>
                <a:lnTo>
                  <a:pt x="38" y="1"/>
                </a:lnTo>
                <a:lnTo>
                  <a:pt x="49" y="2"/>
                </a:lnTo>
                <a:lnTo>
                  <a:pt x="58" y="3"/>
                </a:lnTo>
                <a:lnTo>
                  <a:pt x="68" y="6"/>
                </a:lnTo>
                <a:lnTo>
                  <a:pt x="78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49960" y="4765680"/>
            <a:ext cx="1440" cy="144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6"/>
                </a:moveTo>
                <a:lnTo>
                  <a:pt x="7" y="8"/>
                </a:lnTo>
                <a:lnTo>
                  <a:pt x="0" y="0"/>
                </a:lnTo>
                <a:lnTo>
                  <a:pt x="2" y="3"/>
                </a:lnTo>
                <a:lnTo>
                  <a:pt x="6" y="6"/>
                </a:lnTo>
                <a:lnTo>
                  <a:pt x="8" y="7"/>
                </a:lnTo>
                <a:lnTo>
                  <a:pt x="8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51400" y="4767120"/>
            <a:ext cx="11160" cy="7920"/>
          </a:xfrm>
          <a:custGeom>
            <a:avLst/>
            <a:gdLst/>
            <a:ahLst/>
            <a:rect l="l" t="t" r="r" b="b"/>
            <a:pathLst>
              <a:path w="64" h="39">
                <a:moveTo>
                  <a:pt x="64" y="37"/>
                </a:moveTo>
                <a:lnTo>
                  <a:pt x="53" y="39"/>
                </a:lnTo>
                <a:lnTo>
                  <a:pt x="45" y="39"/>
                </a:lnTo>
                <a:lnTo>
                  <a:pt x="37" y="36"/>
                </a:lnTo>
                <a:lnTo>
                  <a:pt x="29" y="30"/>
                </a:lnTo>
                <a:lnTo>
                  <a:pt x="22" y="24"/>
                </a:lnTo>
                <a:lnTo>
                  <a:pt x="15" y="17"/>
                </a:lnTo>
                <a:lnTo>
                  <a:pt x="9" y="10"/>
                </a:lnTo>
                <a:lnTo>
                  <a:pt x="0" y="6"/>
                </a:lnTo>
                <a:lnTo>
                  <a:pt x="3" y="0"/>
                </a:lnTo>
                <a:lnTo>
                  <a:pt x="11" y="5"/>
                </a:lnTo>
                <a:lnTo>
                  <a:pt x="19" y="9"/>
                </a:lnTo>
                <a:lnTo>
                  <a:pt x="27" y="14"/>
                </a:lnTo>
                <a:lnTo>
                  <a:pt x="35" y="19"/>
                </a:lnTo>
                <a:lnTo>
                  <a:pt x="42" y="23"/>
                </a:lnTo>
                <a:lnTo>
                  <a:pt x="50" y="28"/>
                </a:lnTo>
                <a:lnTo>
                  <a:pt x="57" y="32"/>
                </a:lnTo>
                <a:lnTo>
                  <a:pt x="64" y="3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99280" y="4767120"/>
            <a:ext cx="14040" cy="349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30" y="56"/>
                </a:moveTo>
                <a:lnTo>
                  <a:pt x="35" y="68"/>
                </a:lnTo>
                <a:lnTo>
                  <a:pt x="41" y="79"/>
                </a:lnTo>
                <a:lnTo>
                  <a:pt x="46" y="90"/>
                </a:lnTo>
                <a:lnTo>
                  <a:pt x="51" y="100"/>
                </a:lnTo>
                <a:lnTo>
                  <a:pt x="57" y="110"/>
                </a:lnTo>
                <a:lnTo>
                  <a:pt x="64" y="121"/>
                </a:lnTo>
                <a:lnTo>
                  <a:pt x="71" y="131"/>
                </a:lnTo>
                <a:lnTo>
                  <a:pt x="78" y="143"/>
                </a:lnTo>
                <a:lnTo>
                  <a:pt x="77" y="151"/>
                </a:lnTo>
                <a:lnTo>
                  <a:pt x="73" y="158"/>
                </a:lnTo>
                <a:lnTo>
                  <a:pt x="69" y="165"/>
                </a:lnTo>
                <a:lnTo>
                  <a:pt x="65" y="172"/>
                </a:lnTo>
                <a:lnTo>
                  <a:pt x="56" y="157"/>
                </a:lnTo>
                <a:lnTo>
                  <a:pt x="49" y="142"/>
                </a:lnTo>
                <a:lnTo>
                  <a:pt x="42" y="125"/>
                </a:lnTo>
                <a:lnTo>
                  <a:pt x="36" y="108"/>
                </a:lnTo>
                <a:lnTo>
                  <a:pt x="31" y="92"/>
                </a:lnTo>
                <a:lnTo>
                  <a:pt x="24" y="75"/>
                </a:lnTo>
                <a:lnTo>
                  <a:pt x="17" y="59"/>
                </a:lnTo>
                <a:lnTo>
                  <a:pt x="9" y="44"/>
                </a:lnTo>
                <a:lnTo>
                  <a:pt x="9" y="38"/>
                </a:lnTo>
                <a:lnTo>
                  <a:pt x="7" y="31"/>
                </a:lnTo>
                <a:lnTo>
                  <a:pt x="5" y="24"/>
                </a:lnTo>
                <a:lnTo>
                  <a:pt x="9" y="17"/>
                </a:lnTo>
                <a:lnTo>
                  <a:pt x="0" y="0"/>
                </a:lnTo>
                <a:lnTo>
                  <a:pt x="11" y="11"/>
                </a:lnTo>
                <a:lnTo>
                  <a:pt x="18" y="26"/>
                </a:lnTo>
                <a:lnTo>
                  <a:pt x="23" y="42"/>
                </a:lnTo>
                <a:lnTo>
                  <a:pt x="30" y="5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313320" y="4770360"/>
            <a:ext cx="17640" cy="9720"/>
          </a:xfrm>
          <a:custGeom>
            <a:avLst/>
            <a:gdLst/>
            <a:ahLst/>
            <a:rect l="l" t="t" r="r" b="b"/>
            <a:pathLst>
              <a:path w="94" h="52">
                <a:moveTo>
                  <a:pt x="94" y="11"/>
                </a:moveTo>
                <a:lnTo>
                  <a:pt x="83" y="14"/>
                </a:lnTo>
                <a:lnTo>
                  <a:pt x="71" y="19"/>
                </a:lnTo>
                <a:lnTo>
                  <a:pt x="61" y="23"/>
                </a:lnTo>
                <a:lnTo>
                  <a:pt x="49" y="29"/>
                </a:lnTo>
                <a:lnTo>
                  <a:pt x="39" y="35"/>
                </a:lnTo>
                <a:lnTo>
                  <a:pt x="29" y="41"/>
                </a:lnTo>
                <a:lnTo>
                  <a:pt x="17" y="46"/>
                </a:lnTo>
                <a:lnTo>
                  <a:pt x="7" y="52"/>
                </a:lnTo>
                <a:lnTo>
                  <a:pt x="3" y="50"/>
                </a:lnTo>
                <a:lnTo>
                  <a:pt x="1" y="46"/>
                </a:lnTo>
                <a:lnTo>
                  <a:pt x="0" y="43"/>
                </a:lnTo>
                <a:lnTo>
                  <a:pt x="1" y="38"/>
                </a:lnTo>
                <a:lnTo>
                  <a:pt x="11" y="30"/>
                </a:lnTo>
                <a:lnTo>
                  <a:pt x="22" y="23"/>
                </a:lnTo>
                <a:lnTo>
                  <a:pt x="33" y="18"/>
                </a:lnTo>
                <a:lnTo>
                  <a:pt x="45" y="12"/>
                </a:lnTo>
                <a:lnTo>
                  <a:pt x="56" y="7"/>
                </a:lnTo>
                <a:lnTo>
                  <a:pt x="69" y="5"/>
                </a:lnTo>
                <a:lnTo>
                  <a:pt x="82" y="1"/>
                </a:lnTo>
                <a:lnTo>
                  <a:pt x="94" y="0"/>
                </a:lnTo>
                <a:lnTo>
                  <a:pt x="94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351480" y="4773600"/>
            <a:ext cx="9720" cy="3240"/>
          </a:xfrm>
          <a:custGeom>
            <a:avLst/>
            <a:gdLst/>
            <a:ahLst/>
            <a:rect l="l" t="t" r="r" b="b"/>
            <a:pathLst>
              <a:path w="47" h="16">
                <a:moveTo>
                  <a:pt x="47" y="11"/>
                </a:moveTo>
                <a:lnTo>
                  <a:pt x="43" y="13"/>
                </a:lnTo>
                <a:lnTo>
                  <a:pt x="37" y="15"/>
                </a:lnTo>
                <a:lnTo>
                  <a:pt x="30" y="16"/>
                </a:lnTo>
                <a:lnTo>
                  <a:pt x="24" y="16"/>
                </a:lnTo>
                <a:lnTo>
                  <a:pt x="17" y="16"/>
                </a:lnTo>
                <a:lnTo>
                  <a:pt x="12" y="15"/>
                </a:lnTo>
                <a:lnTo>
                  <a:pt x="5" y="13"/>
                </a:lnTo>
                <a:lnTo>
                  <a:pt x="0" y="11"/>
                </a:lnTo>
                <a:lnTo>
                  <a:pt x="0" y="2"/>
                </a:lnTo>
                <a:lnTo>
                  <a:pt x="7" y="2"/>
                </a:lnTo>
                <a:lnTo>
                  <a:pt x="14" y="1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4" y="5"/>
                </a:lnTo>
                <a:lnTo>
                  <a:pt x="47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16560" y="4775040"/>
            <a:ext cx="20880" cy="11160"/>
          </a:xfrm>
          <a:custGeom>
            <a:avLst/>
            <a:gdLst/>
            <a:ahLst/>
            <a:rect l="l" t="t" r="r" b="b"/>
            <a:pathLst>
              <a:path w="110" h="61">
                <a:moveTo>
                  <a:pt x="110" y="10"/>
                </a:moveTo>
                <a:lnTo>
                  <a:pt x="107" y="19"/>
                </a:lnTo>
                <a:lnTo>
                  <a:pt x="99" y="21"/>
                </a:lnTo>
                <a:lnTo>
                  <a:pt x="88" y="23"/>
                </a:lnTo>
                <a:lnTo>
                  <a:pt x="79" y="26"/>
                </a:lnTo>
                <a:lnTo>
                  <a:pt x="71" y="31"/>
                </a:lnTo>
                <a:lnTo>
                  <a:pt x="63" y="35"/>
                </a:lnTo>
                <a:lnTo>
                  <a:pt x="55" y="39"/>
                </a:lnTo>
                <a:lnTo>
                  <a:pt x="47" y="42"/>
                </a:lnTo>
                <a:lnTo>
                  <a:pt x="38" y="47"/>
                </a:lnTo>
                <a:lnTo>
                  <a:pt x="30" y="50"/>
                </a:lnTo>
                <a:lnTo>
                  <a:pt x="23" y="55"/>
                </a:lnTo>
                <a:lnTo>
                  <a:pt x="15" y="61"/>
                </a:lnTo>
                <a:lnTo>
                  <a:pt x="9" y="59"/>
                </a:lnTo>
                <a:lnTo>
                  <a:pt x="4" y="56"/>
                </a:lnTo>
                <a:lnTo>
                  <a:pt x="1" y="51"/>
                </a:lnTo>
                <a:lnTo>
                  <a:pt x="0" y="46"/>
                </a:lnTo>
                <a:lnTo>
                  <a:pt x="1" y="40"/>
                </a:lnTo>
                <a:lnTo>
                  <a:pt x="6" y="39"/>
                </a:lnTo>
                <a:lnTo>
                  <a:pt x="11" y="40"/>
                </a:lnTo>
                <a:lnTo>
                  <a:pt x="17" y="40"/>
                </a:lnTo>
                <a:lnTo>
                  <a:pt x="26" y="34"/>
                </a:lnTo>
                <a:lnTo>
                  <a:pt x="37" y="30"/>
                </a:lnTo>
                <a:lnTo>
                  <a:pt x="47" y="25"/>
                </a:lnTo>
                <a:lnTo>
                  <a:pt x="57" y="20"/>
                </a:lnTo>
                <a:lnTo>
                  <a:pt x="68" y="16"/>
                </a:lnTo>
                <a:lnTo>
                  <a:pt x="77" y="11"/>
                </a:lnTo>
                <a:lnTo>
                  <a:pt x="87" y="5"/>
                </a:lnTo>
                <a:lnTo>
                  <a:pt x="97" y="0"/>
                </a:lnTo>
                <a:lnTo>
                  <a:pt x="101" y="0"/>
                </a:lnTo>
                <a:lnTo>
                  <a:pt x="106" y="2"/>
                </a:lnTo>
                <a:lnTo>
                  <a:pt x="108" y="5"/>
                </a:lnTo>
                <a:lnTo>
                  <a:pt x="110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51480" y="4781520"/>
            <a:ext cx="5040" cy="3240"/>
          </a:xfrm>
          <a:custGeom>
            <a:avLst/>
            <a:gdLst/>
            <a:ahLst/>
            <a:rect l="l" t="t" r="r" b="b"/>
            <a:pathLst>
              <a:path w="30" h="17">
                <a:moveTo>
                  <a:pt x="30" y="9"/>
                </a:moveTo>
                <a:lnTo>
                  <a:pt x="30" y="12"/>
                </a:lnTo>
                <a:lnTo>
                  <a:pt x="30" y="14"/>
                </a:lnTo>
                <a:lnTo>
                  <a:pt x="30" y="16"/>
                </a:lnTo>
                <a:lnTo>
                  <a:pt x="29" y="17"/>
                </a:lnTo>
                <a:lnTo>
                  <a:pt x="21" y="15"/>
                </a:lnTo>
                <a:lnTo>
                  <a:pt x="12" y="15"/>
                </a:lnTo>
                <a:lnTo>
                  <a:pt x="4" y="12"/>
                </a:lnTo>
                <a:lnTo>
                  <a:pt x="0" y="2"/>
                </a:lnTo>
                <a:lnTo>
                  <a:pt x="9" y="1"/>
                </a:lnTo>
                <a:lnTo>
                  <a:pt x="19" y="0"/>
                </a:lnTo>
                <a:lnTo>
                  <a:pt x="27" y="2"/>
                </a:lnTo>
                <a:lnTo>
                  <a:pt x="30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346800" y="4789440"/>
            <a:ext cx="4680" cy="3240"/>
          </a:xfrm>
          <a:custGeom>
            <a:avLst/>
            <a:gdLst/>
            <a:ahLst/>
            <a:rect l="l" t="t" r="r" b="b"/>
            <a:pathLst>
              <a:path w="21" h="13">
                <a:moveTo>
                  <a:pt x="21" y="7"/>
                </a:moveTo>
                <a:lnTo>
                  <a:pt x="18" y="11"/>
                </a:lnTo>
                <a:lnTo>
                  <a:pt x="13" y="13"/>
                </a:lnTo>
                <a:lnTo>
                  <a:pt x="6" y="13"/>
                </a:lnTo>
                <a:lnTo>
                  <a:pt x="0" y="13"/>
                </a:lnTo>
                <a:lnTo>
                  <a:pt x="15" y="0"/>
                </a:lnTo>
                <a:lnTo>
                  <a:pt x="21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978520" y="4479840"/>
            <a:ext cx="2954520" cy="3556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39000" y="4438800"/>
            <a:ext cx="2955600" cy="35712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08760" y="4459320"/>
            <a:ext cx="2955960" cy="3556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365880" y="4498920"/>
            <a:ext cx="270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sk-specific resources and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83160" y="4730760"/>
            <a:ext cx="101520" cy="144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687920" y="444492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57680" y="1562040"/>
            <a:ext cx="1677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User intera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545680" y="1598760"/>
            <a:ext cx="4633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99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97280" y="1808280"/>
            <a:ext cx="2257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54440" y="2117880"/>
            <a:ext cx="4381560" cy="95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26000" y="2070000"/>
            <a:ext cx="984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e-Wallet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91080" y="2592360"/>
            <a:ext cx="10152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697280" y="262728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96040" y="1415880"/>
            <a:ext cx="520560" cy="559080"/>
          </a:xfrm>
          <a:custGeom>
            <a:avLst/>
            <a:gdLst/>
            <a:ahLst/>
            <a:rect l="l" t="t" r="r" b="b"/>
            <a:pathLst>
              <a:path w="2151" h="2083">
                <a:moveTo>
                  <a:pt x="1360" y="24"/>
                </a:moveTo>
                <a:lnTo>
                  <a:pt x="1367" y="29"/>
                </a:lnTo>
                <a:lnTo>
                  <a:pt x="1373" y="34"/>
                </a:lnTo>
                <a:lnTo>
                  <a:pt x="1379" y="40"/>
                </a:lnTo>
                <a:lnTo>
                  <a:pt x="1386" y="45"/>
                </a:lnTo>
                <a:lnTo>
                  <a:pt x="1391" y="52"/>
                </a:lnTo>
                <a:lnTo>
                  <a:pt x="1397" y="58"/>
                </a:lnTo>
                <a:lnTo>
                  <a:pt x="1401" y="64"/>
                </a:lnTo>
                <a:lnTo>
                  <a:pt x="1406" y="72"/>
                </a:lnTo>
                <a:lnTo>
                  <a:pt x="1409" y="85"/>
                </a:lnTo>
                <a:lnTo>
                  <a:pt x="1410" y="98"/>
                </a:lnTo>
                <a:lnTo>
                  <a:pt x="1409" y="111"/>
                </a:lnTo>
                <a:lnTo>
                  <a:pt x="1406" y="122"/>
                </a:lnTo>
                <a:lnTo>
                  <a:pt x="1401" y="134"/>
                </a:lnTo>
                <a:lnTo>
                  <a:pt x="1395" y="144"/>
                </a:lnTo>
                <a:lnTo>
                  <a:pt x="1390" y="155"/>
                </a:lnTo>
                <a:lnTo>
                  <a:pt x="1385" y="166"/>
                </a:lnTo>
                <a:lnTo>
                  <a:pt x="1377" y="174"/>
                </a:lnTo>
                <a:lnTo>
                  <a:pt x="1369" y="180"/>
                </a:lnTo>
                <a:lnTo>
                  <a:pt x="1360" y="185"/>
                </a:lnTo>
                <a:lnTo>
                  <a:pt x="1350" y="191"/>
                </a:lnTo>
                <a:lnTo>
                  <a:pt x="1341" y="197"/>
                </a:lnTo>
                <a:lnTo>
                  <a:pt x="1333" y="204"/>
                </a:lnTo>
                <a:lnTo>
                  <a:pt x="1325" y="211"/>
                </a:lnTo>
                <a:lnTo>
                  <a:pt x="1318" y="220"/>
                </a:lnTo>
                <a:lnTo>
                  <a:pt x="1335" y="230"/>
                </a:lnTo>
                <a:lnTo>
                  <a:pt x="1356" y="230"/>
                </a:lnTo>
                <a:lnTo>
                  <a:pt x="1376" y="229"/>
                </a:lnTo>
                <a:lnTo>
                  <a:pt x="1395" y="228"/>
                </a:lnTo>
                <a:lnTo>
                  <a:pt x="1415" y="227"/>
                </a:lnTo>
                <a:lnTo>
                  <a:pt x="1435" y="225"/>
                </a:lnTo>
                <a:lnTo>
                  <a:pt x="1454" y="223"/>
                </a:lnTo>
                <a:lnTo>
                  <a:pt x="1474" y="222"/>
                </a:lnTo>
                <a:lnTo>
                  <a:pt x="1493" y="221"/>
                </a:lnTo>
                <a:lnTo>
                  <a:pt x="1513" y="220"/>
                </a:lnTo>
                <a:lnTo>
                  <a:pt x="1532" y="219"/>
                </a:lnTo>
                <a:lnTo>
                  <a:pt x="1552" y="219"/>
                </a:lnTo>
                <a:lnTo>
                  <a:pt x="1573" y="219"/>
                </a:lnTo>
                <a:lnTo>
                  <a:pt x="1592" y="220"/>
                </a:lnTo>
                <a:lnTo>
                  <a:pt x="1613" y="221"/>
                </a:lnTo>
                <a:lnTo>
                  <a:pt x="1634" y="223"/>
                </a:lnTo>
                <a:lnTo>
                  <a:pt x="1655" y="227"/>
                </a:lnTo>
                <a:lnTo>
                  <a:pt x="1670" y="236"/>
                </a:lnTo>
                <a:lnTo>
                  <a:pt x="1679" y="250"/>
                </a:lnTo>
                <a:lnTo>
                  <a:pt x="1685" y="267"/>
                </a:lnTo>
                <a:lnTo>
                  <a:pt x="1688" y="286"/>
                </a:lnTo>
                <a:lnTo>
                  <a:pt x="1689" y="296"/>
                </a:lnTo>
                <a:lnTo>
                  <a:pt x="1688" y="305"/>
                </a:lnTo>
                <a:lnTo>
                  <a:pt x="1685" y="314"/>
                </a:lnTo>
                <a:lnTo>
                  <a:pt x="1680" y="323"/>
                </a:lnTo>
                <a:lnTo>
                  <a:pt x="1674" y="331"/>
                </a:lnTo>
                <a:lnTo>
                  <a:pt x="1666" y="335"/>
                </a:lnTo>
                <a:lnTo>
                  <a:pt x="1657" y="339"/>
                </a:lnTo>
                <a:lnTo>
                  <a:pt x="1647" y="340"/>
                </a:lnTo>
                <a:lnTo>
                  <a:pt x="1637" y="342"/>
                </a:lnTo>
                <a:lnTo>
                  <a:pt x="1628" y="346"/>
                </a:lnTo>
                <a:lnTo>
                  <a:pt x="1620" y="350"/>
                </a:lnTo>
                <a:lnTo>
                  <a:pt x="1613" y="358"/>
                </a:lnTo>
                <a:lnTo>
                  <a:pt x="1614" y="371"/>
                </a:lnTo>
                <a:lnTo>
                  <a:pt x="1618" y="379"/>
                </a:lnTo>
                <a:lnTo>
                  <a:pt x="1625" y="385"/>
                </a:lnTo>
                <a:lnTo>
                  <a:pt x="1634" y="387"/>
                </a:lnTo>
                <a:lnTo>
                  <a:pt x="1644" y="389"/>
                </a:lnTo>
                <a:lnTo>
                  <a:pt x="1655" y="390"/>
                </a:lnTo>
                <a:lnTo>
                  <a:pt x="1664" y="393"/>
                </a:lnTo>
                <a:lnTo>
                  <a:pt x="1673" y="396"/>
                </a:lnTo>
                <a:lnTo>
                  <a:pt x="1687" y="395"/>
                </a:lnTo>
                <a:lnTo>
                  <a:pt x="1700" y="394"/>
                </a:lnTo>
                <a:lnTo>
                  <a:pt x="1713" y="394"/>
                </a:lnTo>
                <a:lnTo>
                  <a:pt x="1727" y="394"/>
                </a:lnTo>
                <a:lnTo>
                  <a:pt x="1741" y="394"/>
                </a:lnTo>
                <a:lnTo>
                  <a:pt x="1755" y="394"/>
                </a:lnTo>
                <a:lnTo>
                  <a:pt x="1769" y="394"/>
                </a:lnTo>
                <a:lnTo>
                  <a:pt x="1782" y="393"/>
                </a:lnTo>
                <a:lnTo>
                  <a:pt x="1795" y="390"/>
                </a:lnTo>
                <a:lnTo>
                  <a:pt x="1808" y="388"/>
                </a:lnTo>
                <a:lnTo>
                  <a:pt x="1820" y="385"/>
                </a:lnTo>
                <a:lnTo>
                  <a:pt x="1832" y="380"/>
                </a:lnTo>
                <a:lnTo>
                  <a:pt x="1842" y="373"/>
                </a:lnTo>
                <a:lnTo>
                  <a:pt x="1853" y="365"/>
                </a:lnTo>
                <a:lnTo>
                  <a:pt x="1862" y="356"/>
                </a:lnTo>
                <a:lnTo>
                  <a:pt x="1871" y="344"/>
                </a:lnTo>
                <a:lnTo>
                  <a:pt x="1861" y="339"/>
                </a:lnTo>
                <a:lnTo>
                  <a:pt x="1853" y="332"/>
                </a:lnTo>
                <a:lnTo>
                  <a:pt x="1845" y="324"/>
                </a:lnTo>
                <a:lnTo>
                  <a:pt x="1838" y="316"/>
                </a:lnTo>
                <a:lnTo>
                  <a:pt x="1832" y="306"/>
                </a:lnTo>
                <a:lnTo>
                  <a:pt x="1825" y="297"/>
                </a:lnTo>
                <a:lnTo>
                  <a:pt x="1819" y="289"/>
                </a:lnTo>
                <a:lnTo>
                  <a:pt x="1812" y="280"/>
                </a:lnTo>
                <a:lnTo>
                  <a:pt x="1812" y="260"/>
                </a:lnTo>
                <a:lnTo>
                  <a:pt x="1815" y="242"/>
                </a:lnTo>
                <a:lnTo>
                  <a:pt x="1818" y="225"/>
                </a:lnTo>
                <a:lnTo>
                  <a:pt x="1827" y="210"/>
                </a:lnTo>
                <a:lnTo>
                  <a:pt x="1834" y="206"/>
                </a:lnTo>
                <a:lnTo>
                  <a:pt x="1842" y="205"/>
                </a:lnTo>
                <a:lnTo>
                  <a:pt x="1850" y="204"/>
                </a:lnTo>
                <a:lnTo>
                  <a:pt x="1857" y="204"/>
                </a:lnTo>
                <a:lnTo>
                  <a:pt x="1875" y="205"/>
                </a:lnTo>
                <a:lnTo>
                  <a:pt x="1893" y="206"/>
                </a:lnTo>
                <a:lnTo>
                  <a:pt x="1910" y="207"/>
                </a:lnTo>
                <a:lnTo>
                  <a:pt x="1929" y="208"/>
                </a:lnTo>
                <a:lnTo>
                  <a:pt x="1946" y="210"/>
                </a:lnTo>
                <a:lnTo>
                  <a:pt x="1964" y="211"/>
                </a:lnTo>
                <a:lnTo>
                  <a:pt x="1983" y="212"/>
                </a:lnTo>
                <a:lnTo>
                  <a:pt x="2001" y="213"/>
                </a:lnTo>
                <a:lnTo>
                  <a:pt x="2019" y="214"/>
                </a:lnTo>
                <a:lnTo>
                  <a:pt x="2037" y="215"/>
                </a:lnTo>
                <a:lnTo>
                  <a:pt x="2056" y="218"/>
                </a:lnTo>
                <a:lnTo>
                  <a:pt x="2074" y="219"/>
                </a:lnTo>
                <a:lnTo>
                  <a:pt x="2091" y="221"/>
                </a:lnTo>
                <a:lnTo>
                  <a:pt x="2110" y="223"/>
                </a:lnTo>
                <a:lnTo>
                  <a:pt x="2128" y="226"/>
                </a:lnTo>
                <a:lnTo>
                  <a:pt x="2145" y="229"/>
                </a:lnTo>
                <a:lnTo>
                  <a:pt x="2145" y="248"/>
                </a:lnTo>
                <a:lnTo>
                  <a:pt x="2145" y="268"/>
                </a:lnTo>
                <a:lnTo>
                  <a:pt x="2145" y="289"/>
                </a:lnTo>
                <a:lnTo>
                  <a:pt x="2149" y="309"/>
                </a:lnTo>
                <a:lnTo>
                  <a:pt x="2136" y="328"/>
                </a:lnTo>
                <a:lnTo>
                  <a:pt x="2122" y="347"/>
                </a:lnTo>
                <a:lnTo>
                  <a:pt x="2109" y="365"/>
                </a:lnTo>
                <a:lnTo>
                  <a:pt x="2095" y="384"/>
                </a:lnTo>
                <a:lnTo>
                  <a:pt x="2080" y="401"/>
                </a:lnTo>
                <a:lnTo>
                  <a:pt x="2067" y="419"/>
                </a:lnTo>
                <a:lnTo>
                  <a:pt x="2054" y="439"/>
                </a:lnTo>
                <a:lnTo>
                  <a:pt x="2043" y="458"/>
                </a:lnTo>
                <a:lnTo>
                  <a:pt x="2050" y="464"/>
                </a:lnTo>
                <a:lnTo>
                  <a:pt x="2058" y="468"/>
                </a:lnTo>
                <a:lnTo>
                  <a:pt x="2067" y="470"/>
                </a:lnTo>
                <a:lnTo>
                  <a:pt x="2076" y="472"/>
                </a:lnTo>
                <a:lnTo>
                  <a:pt x="2085" y="475"/>
                </a:lnTo>
                <a:lnTo>
                  <a:pt x="2094" y="477"/>
                </a:lnTo>
                <a:lnTo>
                  <a:pt x="2103" y="482"/>
                </a:lnTo>
                <a:lnTo>
                  <a:pt x="2110" y="488"/>
                </a:lnTo>
                <a:lnTo>
                  <a:pt x="2120" y="496"/>
                </a:lnTo>
                <a:lnTo>
                  <a:pt x="2128" y="506"/>
                </a:lnTo>
                <a:lnTo>
                  <a:pt x="2135" y="516"/>
                </a:lnTo>
                <a:lnTo>
                  <a:pt x="2140" y="528"/>
                </a:lnTo>
                <a:lnTo>
                  <a:pt x="2144" y="540"/>
                </a:lnTo>
                <a:lnTo>
                  <a:pt x="2148" y="553"/>
                </a:lnTo>
                <a:lnTo>
                  <a:pt x="2150" y="566"/>
                </a:lnTo>
                <a:lnTo>
                  <a:pt x="2151" y="578"/>
                </a:lnTo>
                <a:lnTo>
                  <a:pt x="2148" y="599"/>
                </a:lnTo>
                <a:lnTo>
                  <a:pt x="2142" y="620"/>
                </a:lnTo>
                <a:lnTo>
                  <a:pt x="2135" y="641"/>
                </a:lnTo>
                <a:lnTo>
                  <a:pt x="2126" y="661"/>
                </a:lnTo>
                <a:lnTo>
                  <a:pt x="2115" y="682"/>
                </a:lnTo>
                <a:lnTo>
                  <a:pt x="2104" y="702"/>
                </a:lnTo>
                <a:lnTo>
                  <a:pt x="2091" y="720"/>
                </a:lnTo>
                <a:lnTo>
                  <a:pt x="2077" y="737"/>
                </a:lnTo>
                <a:lnTo>
                  <a:pt x="2062" y="755"/>
                </a:lnTo>
                <a:lnTo>
                  <a:pt x="2045" y="771"/>
                </a:lnTo>
                <a:lnTo>
                  <a:pt x="2028" y="786"/>
                </a:lnTo>
                <a:lnTo>
                  <a:pt x="2011" y="798"/>
                </a:lnTo>
                <a:lnTo>
                  <a:pt x="1991" y="810"/>
                </a:lnTo>
                <a:lnTo>
                  <a:pt x="1971" y="820"/>
                </a:lnTo>
                <a:lnTo>
                  <a:pt x="1951" y="828"/>
                </a:lnTo>
                <a:lnTo>
                  <a:pt x="1930" y="835"/>
                </a:lnTo>
                <a:lnTo>
                  <a:pt x="1918" y="836"/>
                </a:lnTo>
                <a:lnTo>
                  <a:pt x="1906" y="836"/>
                </a:lnTo>
                <a:lnTo>
                  <a:pt x="1894" y="834"/>
                </a:lnTo>
                <a:lnTo>
                  <a:pt x="1884" y="831"/>
                </a:lnTo>
                <a:lnTo>
                  <a:pt x="1873" y="825"/>
                </a:lnTo>
                <a:lnTo>
                  <a:pt x="1863" y="818"/>
                </a:lnTo>
                <a:lnTo>
                  <a:pt x="1855" y="811"/>
                </a:lnTo>
                <a:lnTo>
                  <a:pt x="1847" y="802"/>
                </a:lnTo>
                <a:lnTo>
                  <a:pt x="1844" y="794"/>
                </a:lnTo>
                <a:lnTo>
                  <a:pt x="1840" y="785"/>
                </a:lnTo>
                <a:lnTo>
                  <a:pt x="1837" y="776"/>
                </a:lnTo>
                <a:lnTo>
                  <a:pt x="1830" y="771"/>
                </a:lnTo>
                <a:lnTo>
                  <a:pt x="1811" y="785"/>
                </a:lnTo>
                <a:lnTo>
                  <a:pt x="1795" y="801"/>
                </a:lnTo>
                <a:lnTo>
                  <a:pt x="1782" y="818"/>
                </a:lnTo>
                <a:lnTo>
                  <a:pt x="1770" y="836"/>
                </a:lnTo>
                <a:lnTo>
                  <a:pt x="1758" y="855"/>
                </a:lnTo>
                <a:lnTo>
                  <a:pt x="1748" y="874"/>
                </a:lnTo>
                <a:lnTo>
                  <a:pt x="1736" y="894"/>
                </a:lnTo>
                <a:lnTo>
                  <a:pt x="1725" y="912"/>
                </a:lnTo>
                <a:lnTo>
                  <a:pt x="1726" y="919"/>
                </a:lnTo>
                <a:lnTo>
                  <a:pt x="1721" y="923"/>
                </a:lnTo>
                <a:lnTo>
                  <a:pt x="1717" y="926"/>
                </a:lnTo>
                <a:lnTo>
                  <a:pt x="1713" y="931"/>
                </a:lnTo>
                <a:lnTo>
                  <a:pt x="1708" y="931"/>
                </a:lnTo>
                <a:lnTo>
                  <a:pt x="1703" y="930"/>
                </a:lnTo>
                <a:lnTo>
                  <a:pt x="1700" y="926"/>
                </a:lnTo>
                <a:lnTo>
                  <a:pt x="1698" y="920"/>
                </a:lnTo>
                <a:lnTo>
                  <a:pt x="1687" y="917"/>
                </a:lnTo>
                <a:lnTo>
                  <a:pt x="1675" y="914"/>
                </a:lnTo>
                <a:lnTo>
                  <a:pt x="1663" y="911"/>
                </a:lnTo>
                <a:lnTo>
                  <a:pt x="1651" y="909"/>
                </a:lnTo>
                <a:lnTo>
                  <a:pt x="1638" y="908"/>
                </a:lnTo>
                <a:lnTo>
                  <a:pt x="1627" y="908"/>
                </a:lnTo>
                <a:lnTo>
                  <a:pt x="1614" y="907"/>
                </a:lnTo>
                <a:lnTo>
                  <a:pt x="1603" y="907"/>
                </a:lnTo>
                <a:lnTo>
                  <a:pt x="1590" y="907"/>
                </a:lnTo>
                <a:lnTo>
                  <a:pt x="1577" y="908"/>
                </a:lnTo>
                <a:lnTo>
                  <a:pt x="1566" y="908"/>
                </a:lnTo>
                <a:lnTo>
                  <a:pt x="1553" y="909"/>
                </a:lnTo>
                <a:lnTo>
                  <a:pt x="1542" y="910"/>
                </a:lnTo>
                <a:lnTo>
                  <a:pt x="1529" y="911"/>
                </a:lnTo>
                <a:lnTo>
                  <a:pt x="1517" y="911"/>
                </a:lnTo>
                <a:lnTo>
                  <a:pt x="1506" y="912"/>
                </a:lnTo>
                <a:lnTo>
                  <a:pt x="1498" y="929"/>
                </a:lnTo>
                <a:lnTo>
                  <a:pt x="1500" y="946"/>
                </a:lnTo>
                <a:lnTo>
                  <a:pt x="1505" y="967"/>
                </a:lnTo>
                <a:lnTo>
                  <a:pt x="1504" y="987"/>
                </a:lnTo>
                <a:lnTo>
                  <a:pt x="1511" y="992"/>
                </a:lnTo>
                <a:lnTo>
                  <a:pt x="1517" y="998"/>
                </a:lnTo>
                <a:lnTo>
                  <a:pt x="1523" y="1005"/>
                </a:lnTo>
                <a:lnTo>
                  <a:pt x="1528" y="1012"/>
                </a:lnTo>
                <a:lnTo>
                  <a:pt x="1532" y="1020"/>
                </a:lnTo>
                <a:lnTo>
                  <a:pt x="1535" y="1028"/>
                </a:lnTo>
                <a:lnTo>
                  <a:pt x="1537" y="1036"/>
                </a:lnTo>
                <a:lnTo>
                  <a:pt x="1537" y="1045"/>
                </a:lnTo>
                <a:lnTo>
                  <a:pt x="1537" y="1059"/>
                </a:lnTo>
                <a:lnTo>
                  <a:pt x="1534" y="1073"/>
                </a:lnTo>
                <a:lnTo>
                  <a:pt x="1529" y="1085"/>
                </a:lnTo>
                <a:lnTo>
                  <a:pt x="1523" y="1098"/>
                </a:lnTo>
                <a:lnTo>
                  <a:pt x="1520" y="1109"/>
                </a:lnTo>
                <a:lnTo>
                  <a:pt x="1519" y="1122"/>
                </a:lnTo>
                <a:lnTo>
                  <a:pt x="1522" y="1135"/>
                </a:lnTo>
                <a:lnTo>
                  <a:pt x="1531" y="1147"/>
                </a:lnTo>
                <a:lnTo>
                  <a:pt x="1549" y="1152"/>
                </a:lnTo>
                <a:lnTo>
                  <a:pt x="1566" y="1154"/>
                </a:lnTo>
                <a:lnTo>
                  <a:pt x="1582" y="1153"/>
                </a:lnTo>
                <a:lnTo>
                  <a:pt x="1598" y="1150"/>
                </a:lnTo>
                <a:lnTo>
                  <a:pt x="1615" y="1145"/>
                </a:lnTo>
                <a:lnTo>
                  <a:pt x="1632" y="1139"/>
                </a:lnTo>
                <a:lnTo>
                  <a:pt x="1648" y="1135"/>
                </a:lnTo>
                <a:lnTo>
                  <a:pt x="1665" y="1130"/>
                </a:lnTo>
                <a:lnTo>
                  <a:pt x="1676" y="1123"/>
                </a:lnTo>
                <a:lnTo>
                  <a:pt x="1689" y="1115"/>
                </a:lnTo>
                <a:lnTo>
                  <a:pt x="1701" y="1108"/>
                </a:lnTo>
                <a:lnTo>
                  <a:pt x="1712" y="1101"/>
                </a:lnTo>
                <a:lnTo>
                  <a:pt x="1725" y="1096"/>
                </a:lnTo>
                <a:lnTo>
                  <a:pt x="1738" y="1090"/>
                </a:lnTo>
                <a:lnTo>
                  <a:pt x="1750" y="1085"/>
                </a:lnTo>
                <a:lnTo>
                  <a:pt x="1763" y="1083"/>
                </a:lnTo>
                <a:lnTo>
                  <a:pt x="1770" y="1091"/>
                </a:lnTo>
                <a:lnTo>
                  <a:pt x="1776" y="1101"/>
                </a:lnTo>
                <a:lnTo>
                  <a:pt x="1781" y="1112"/>
                </a:lnTo>
                <a:lnTo>
                  <a:pt x="1786" y="1122"/>
                </a:lnTo>
                <a:lnTo>
                  <a:pt x="1791" y="1134"/>
                </a:lnTo>
                <a:lnTo>
                  <a:pt x="1796" y="1144"/>
                </a:lnTo>
                <a:lnTo>
                  <a:pt x="1803" y="1154"/>
                </a:lnTo>
                <a:lnTo>
                  <a:pt x="1811" y="1164"/>
                </a:lnTo>
                <a:lnTo>
                  <a:pt x="1824" y="1183"/>
                </a:lnTo>
                <a:lnTo>
                  <a:pt x="1837" y="1203"/>
                </a:lnTo>
                <a:lnTo>
                  <a:pt x="1848" y="1222"/>
                </a:lnTo>
                <a:lnTo>
                  <a:pt x="1860" y="1243"/>
                </a:lnTo>
                <a:lnTo>
                  <a:pt x="1870" y="1264"/>
                </a:lnTo>
                <a:lnTo>
                  <a:pt x="1879" y="1287"/>
                </a:lnTo>
                <a:lnTo>
                  <a:pt x="1886" y="1309"/>
                </a:lnTo>
                <a:lnTo>
                  <a:pt x="1891" y="1333"/>
                </a:lnTo>
                <a:lnTo>
                  <a:pt x="1888" y="1351"/>
                </a:lnTo>
                <a:lnTo>
                  <a:pt x="1883" y="1369"/>
                </a:lnTo>
                <a:lnTo>
                  <a:pt x="1875" y="1386"/>
                </a:lnTo>
                <a:lnTo>
                  <a:pt x="1865" y="1402"/>
                </a:lnTo>
                <a:lnTo>
                  <a:pt x="1856" y="1409"/>
                </a:lnTo>
                <a:lnTo>
                  <a:pt x="1846" y="1414"/>
                </a:lnTo>
                <a:lnTo>
                  <a:pt x="1834" y="1418"/>
                </a:lnTo>
                <a:lnTo>
                  <a:pt x="1823" y="1421"/>
                </a:lnTo>
                <a:lnTo>
                  <a:pt x="1811" y="1423"/>
                </a:lnTo>
                <a:lnTo>
                  <a:pt x="1800" y="1423"/>
                </a:lnTo>
                <a:lnTo>
                  <a:pt x="1788" y="1422"/>
                </a:lnTo>
                <a:lnTo>
                  <a:pt x="1777" y="1418"/>
                </a:lnTo>
                <a:lnTo>
                  <a:pt x="1769" y="1415"/>
                </a:lnTo>
                <a:lnTo>
                  <a:pt x="1761" y="1412"/>
                </a:lnTo>
                <a:lnTo>
                  <a:pt x="1753" y="1409"/>
                </a:lnTo>
                <a:lnTo>
                  <a:pt x="1743" y="1406"/>
                </a:lnTo>
                <a:lnTo>
                  <a:pt x="1734" y="1404"/>
                </a:lnTo>
                <a:lnTo>
                  <a:pt x="1725" y="1403"/>
                </a:lnTo>
                <a:lnTo>
                  <a:pt x="1716" y="1404"/>
                </a:lnTo>
                <a:lnTo>
                  <a:pt x="1706" y="1408"/>
                </a:lnTo>
                <a:lnTo>
                  <a:pt x="1697" y="1414"/>
                </a:lnTo>
                <a:lnTo>
                  <a:pt x="1690" y="1419"/>
                </a:lnTo>
                <a:lnTo>
                  <a:pt x="1683" y="1427"/>
                </a:lnTo>
                <a:lnTo>
                  <a:pt x="1680" y="1435"/>
                </a:lnTo>
                <a:lnTo>
                  <a:pt x="1676" y="1445"/>
                </a:lnTo>
                <a:lnTo>
                  <a:pt x="1674" y="1455"/>
                </a:lnTo>
                <a:lnTo>
                  <a:pt x="1673" y="1465"/>
                </a:lnTo>
                <a:lnTo>
                  <a:pt x="1673" y="1476"/>
                </a:lnTo>
                <a:lnTo>
                  <a:pt x="1676" y="1478"/>
                </a:lnTo>
                <a:lnTo>
                  <a:pt x="1680" y="1480"/>
                </a:lnTo>
                <a:lnTo>
                  <a:pt x="1683" y="1482"/>
                </a:lnTo>
                <a:lnTo>
                  <a:pt x="1688" y="1483"/>
                </a:lnTo>
                <a:lnTo>
                  <a:pt x="1691" y="1493"/>
                </a:lnTo>
                <a:lnTo>
                  <a:pt x="1696" y="1503"/>
                </a:lnTo>
                <a:lnTo>
                  <a:pt x="1703" y="1513"/>
                </a:lnTo>
                <a:lnTo>
                  <a:pt x="1710" y="1522"/>
                </a:lnTo>
                <a:lnTo>
                  <a:pt x="1719" y="1530"/>
                </a:lnTo>
                <a:lnTo>
                  <a:pt x="1728" y="1538"/>
                </a:lnTo>
                <a:lnTo>
                  <a:pt x="1739" y="1545"/>
                </a:lnTo>
                <a:lnTo>
                  <a:pt x="1749" y="1551"/>
                </a:lnTo>
                <a:lnTo>
                  <a:pt x="1758" y="1554"/>
                </a:lnTo>
                <a:lnTo>
                  <a:pt x="1769" y="1558"/>
                </a:lnTo>
                <a:lnTo>
                  <a:pt x="1780" y="1560"/>
                </a:lnTo>
                <a:lnTo>
                  <a:pt x="1792" y="1562"/>
                </a:lnTo>
                <a:lnTo>
                  <a:pt x="1803" y="1562"/>
                </a:lnTo>
                <a:lnTo>
                  <a:pt x="1815" y="1562"/>
                </a:lnTo>
                <a:lnTo>
                  <a:pt x="1826" y="1560"/>
                </a:lnTo>
                <a:lnTo>
                  <a:pt x="1837" y="1556"/>
                </a:lnTo>
                <a:lnTo>
                  <a:pt x="1850" y="1545"/>
                </a:lnTo>
                <a:lnTo>
                  <a:pt x="1863" y="1530"/>
                </a:lnTo>
                <a:lnTo>
                  <a:pt x="1875" y="1515"/>
                </a:lnTo>
                <a:lnTo>
                  <a:pt x="1886" y="1500"/>
                </a:lnTo>
                <a:lnTo>
                  <a:pt x="1899" y="1486"/>
                </a:lnTo>
                <a:lnTo>
                  <a:pt x="1913" y="1477"/>
                </a:lnTo>
                <a:lnTo>
                  <a:pt x="1929" y="1474"/>
                </a:lnTo>
                <a:lnTo>
                  <a:pt x="1948" y="1476"/>
                </a:lnTo>
                <a:lnTo>
                  <a:pt x="1978" y="1490"/>
                </a:lnTo>
                <a:lnTo>
                  <a:pt x="2004" y="1509"/>
                </a:lnTo>
                <a:lnTo>
                  <a:pt x="2024" y="1532"/>
                </a:lnTo>
                <a:lnTo>
                  <a:pt x="2042" y="1558"/>
                </a:lnTo>
                <a:lnTo>
                  <a:pt x="2057" y="1586"/>
                </a:lnTo>
                <a:lnTo>
                  <a:pt x="2072" y="1615"/>
                </a:lnTo>
                <a:lnTo>
                  <a:pt x="2085" y="1644"/>
                </a:lnTo>
                <a:lnTo>
                  <a:pt x="2102" y="1672"/>
                </a:lnTo>
                <a:lnTo>
                  <a:pt x="2104" y="1682"/>
                </a:lnTo>
                <a:lnTo>
                  <a:pt x="2110" y="1689"/>
                </a:lnTo>
                <a:lnTo>
                  <a:pt x="2115" y="1697"/>
                </a:lnTo>
                <a:lnTo>
                  <a:pt x="2114" y="1707"/>
                </a:lnTo>
                <a:lnTo>
                  <a:pt x="2109" y="1715"/>
                </a:lnTo>
                <a:lnTo>
                  <a:pt x="2103" y="1724"/>
                </a:lnTo>
                <a:lnTo>
                  <a:pt x="2098" y="1733"/>
                </a:lnTo>
                <a:lnTo>
                  <a:pt x="2094" y="1741"/>
                </a:lnTo>
                <a:lnTo>
                  <a:pt x="2089" y="1750"/>
                </a:lnTo>
                <a:lnTo>
                  <a:pt x="2085" y="1758"/>
                </a:lnTo>
                <a:lnTo>
                  <a:pt x="2082" y="1767"/>
                </a:lnTo>
                <a:lnTo>
                  <a:pt x="2080" y="1775"/>
                </a:lnTo>
                <a:lnTo>
                  <a:pt x="2068" y="1780"/>
                </a:lnTo>
                <a:lnTo>
                  <a:pt x="2056" y="1786"/>
                </a:lnTo>
                <a:lnTo>
                  <a:pt x="2044" y="1790"/>
                </a:lnTo>
                <a:lnTo>
                  <a:pt x="2032" y="1796"/>
                </a:lnTo>
                <a:lnTo>
                  <a:pt x="2020" y="1801"/>
                </a:lnTo>
                <a:lnTo>
                  <a:pt x="2008" y="1806"/>
                </a:lnTo>
                <a:lnTo>
                  <a:pt x="1997" y="1812"/>
                </a:lnTo>
                <a:lnTo>
                  <a:pt x="1984" y="1817"/>
                </a:lnTo>
                <a:lnTo>
                  <a:pt x="1973" y="1823"/>
                </a:lnTo>
                <a:lnTo>
                  <a:pt x="1961" y="1828"/>
                </a:lnTo>
                <a:lnTo>
                  <a:pt x="1950" y="1834"/>
                </a:lnTo>
                <a:lnTo>
                  <a:pt x="1938" y="1841"/>
                </a:lnTo>
                <a:lnTo>
                  <a:pt x="1926" y="1847"/>
                </a:lnTo>
                <a:lnTo>
                  <a:pt x="1915" y="1854"/>
                </a:lnTo>
                <a:lnTo>
                  <a:pt x="1903" y="1861"/>
                </a:lnTo>
                <a:lnTo>
                  <a:pt x="1892" y="1868"/>
                </a:lnTo>
                <a:lnTo>
                  <a:pt x="1880" y="1873"/>
                </a:lnTo>
                <a:lnTo>
                  <a:pt x="1869" y="1879"/>
                </a:lnTo>
                <a:lnTo>
                  <a:pt x="1856" y="1884"/>
                </a:lnTo>
                <a:lnTo>
                  <a:pt x="1844" y="1888"/>
                </a:lnTo>
                <a:lnTo>
                  <a:pt x="1831" y="1891"/>
                </a:lnTo>
                <a:lnTo>
                  <a:pt x="1817" y="1892"/>
                </a:lnTo>
                <a:lnTo>
                  <a:pt x="1804" y="1891"/>
                </a:lnTo>
                <a:lnTo>
                  <a:pt x="1791" y="1888"/>
                </a:lnTo>
                <a:lnTo>
                  <a:pt x="1778" y="1878"/>
                </a:lnTo>
                <a:lnTo>
                  <a:pt x="1770" y="1868"/>
                </a:lnTo>
                <a:lnTo>
                  <a:pt x="1764" y="1856"/>
                </a:lnTo>
                <a:lnTo>
                  <a:pt x="1759" y="1841"/>
                </a:lnTo>
                <a:lnTo>
                  <a:pt x="1758" y="1831"/>
                </a:lnTo>
                <a:lnTo>
                  <a:pt x="1762" y="1821"/>
                </a:lnTo>
                <a:lnTo>
                  <a:pt x="1766" y="1811"/>
                </a:lnTo>
                <a:lnTo>
                  <a:pt x="1772" y="1802"/>
                </a:lnTo>
                <a:lnTo>
                  <a:pt x="1777" y="1793"/>
                </a:lnTo>
                <a:lnTo>
                  <a:pt x="1778" y="1783"/>
                </a:lnTo>
                <a:lnTo>
                  <a:pt x="1774" y="1773"/>
                </a:lnTo>
                <a:lnTo>
                  <a:pt x="1766" y="1764"/>
                </a:lnTo>
                <a:lnTo>
                  <a:pt x="1751" y="1759"/>
                </a:lnTo>
                <a:lnTo>
                  <a:pt x="1736" y="1756"/>
                </a:lnTo>
                <a:lnTo>
                  <a:pt x="1720" y="1755"/>
                </a:lnTo>
                <a:lnTo>
                  <a:pt x="1705" y="1755"/>
                </a:lnTo>
                <a:lnTo>
                  <a:pt x="1690" y="1756"/>
                </a:lnTo>
                <a:lnTo>
                  <a:pt x="1674" y="1758"/>
                </a:lnTo>
                <a:lnTo>
                  <a:pt x="1659" y="1762"/>
                </a:lnTo>
                <a:lnTo>
                  <a:pt x="1644" y="1766"/>
                </a:lnTo>
                <a:lnTo>
                  <a:pt x="1629" y="1772"/>
                </a:lnTo>
                <a:lnTo>
                  <a:pt x="1615" y="1778"/>
                </a:lnTo>
                <a:lnTo>
                  <a:pt x="1600" y="1786"/>
                </a:lnTo>
                <a:lnTo>
                  <a:pt x="1587" y="1794"/>
                </a:lnTo>
                <a:lnTo>
                  <a:pt x="1574" y="1803"/>
                </a:lnTo>
                <a:lnTo>
                  <a:pt x="1561" y="1813"/>
                </a:lnTo>
                <a:lnTo>
                  <a:pt x="1549" y="1824"/>
                </a:lnTo>
                <a:lnTo>
                  <a:pt x="1537" y="1835"/>
                </a:lnTo>
                <a:lnTo>
                  <a:pt x="1537" y="1847"/>
                </a:lnTo>
                <a:lnTo>
                  <a:pt x="1541" y="1857"/>
                </a:lnTo>
                <a:lnTo>
                  <a:pt x="1549" y="1864"/>
                </a:lnTo>
                <a:lnTo>
                  <a:pt x="1557" y="1870"/>
                </a:lnTo>
                <a:lnTo>
                  <a:pt x="1566" y="1877"/>
                </a:lnTo>
                <a:lnTo>
                  <a:pt x="1575" y="1884"/>
                </a:lnTo>
                <a:lnTo>
                  <a:pt x="1581" y="1894"/>
                </a:lnTo>
                <a:lnTo>
                  <a:pt x="1583" y="1906"/>
                </a:lnTo>
                <a:lnTo>
                  <a:pt x="1580" y="1922"/>
                </a:lnTo>
                <a:lnTo>
                  <a:pt x="1576" y="1939"/>
                </a:lnTo>
                <a:lnTo>
                  <a:pt x="1570" y="1955"/>
                </a:lnTo>
                <a:lnTo>
                  <a:pt x="1565" y="1970"/>
                </a:lnTo>
                <a:lnTo>
                  <a:pt x="1557" y="1985"/>
                </a:lnTo>
                <a:lnTo>
                  <a:pt x="1546" y="1998"/>
                </a:lnTo>
                <a:lnTo>
                  <a:pt x="1534" y="2009"/>
                </a:lnTo>
                <a:lnTo>
                  <a:pt x="1519" y="2018"/>
                </a:lnTo>
                <a:lnTo>
                  <a:pt x="1502" y="2027"/>
                </a:lnTo>
                <a:lnTo>
                  <a:pt x="1486" y="2035"/>
                </a:lnTo>
                <a:lnTo>
                  <a:pt x="1469" y="2042"/>
                </a:lnTo>
                <a:lnTo>
                  <a:pt x="1453" y="2050"/>
                </a:lnTo>
                <a:lnTo>
                  <a:pt x="1437" y="2057"/>
                </a:lnTo>
                <a:lnTo>
                  <a:pt x="1421" y="2065"/>
                </a:lnTo>
                <a:lnTo>
                  <a:pt x="1405" y="2074"/>
                </a:lnTo>
                <a:lnTo>
                  <a:pt x="1388" y="2083"/>
                </a:lnTo>
                <a:lnTo>
                  <a:pt x="1378" y="2074"/>
                </a:lnTo>
                <a:lnTo>
                  <a:pt x="1371" y="2061"/>
                </a:lnTo>
                <a:lnTo>
                  <a:pt x="1367" y="2047"/>
                </a:lnTo>
                <a:lnTo>
                  <a:pt x="1360" y="2035"/>
                </a:lnTo>
                <a:lnTo>
                  <a:pt x="1353" y="2016"/>
                </a:lnTo>
                <a:lnTo>
                  <a:pt x="1346" y="1999"/>
                </a:lnTo>
                <a:lnTo>
                  <a:pt x="1339" y="1980"/>
                </a:lnTo>
                <a:lnTo>
                  <a:pt x="1331" y="1962"/>
                </a:lnTo>
                <a:lnTo>
                  <a:pt x="1323" y="1945"/>
                </a:lnTo>
                <a:lnTo>
                  <a:pt x="1316" y="1927"/>
                </a:lnTo>
                <a:lnTo>
                  <a:pt x="1308" y="1910"/>
                </a:lnTo>
                <a:lnTo>
                  <a:pt x="1300" y="1893"/>
                </a:lnTo>
                <a:lnTo>
                  <a:pt x="1296" y="1888"/>
                </a:lnTo>
                <a:lnTo>
                  <a:pt x="1293" y="1885"/>
                </a:lnTo>
                <a:lnTo>
                  <a:pt x="1288" y="1880"/>
                </a:lnTo>
                <a:lnTo>
                  <a:pt x="1285" y="1877"/>
                </a:lnTo>
                <a:lnTo>
                  <a:pt x="1280" y="1873"/>
                </a:lnTo>
                <a:lnTo>
                  <a:pt x="1276" y="1871"/>
                </a:lnTo>
                <a:lnTo>
                  <a:pt x="1270" y="1869"/>
                </a:lnTo>
                <a:lnTo>
                  <a:pt x="1265" y="1868"/>
                </a:lnTo>
                <a:lnTo>
                  <a:pt x="1254" y="1872"/>
                </a:lnTo>
                <a:lnTo>
                  <a:pt x="1246" y="1879"/>
                </a:lnTo>
                <a:lnTo>
                  <a:pt x="1241" y="1888"/>
                </a:lnTo>
                <a:lnTo>
                  <a:pt x="1238" y="1899"/>
                </a:lnTo>
                <a:lnTo>
                  <a:pt x="1234" y="1910"/>
                </a:lnTo>
                <a:lnTo>
                  <a:pt x="1229" y="1921"/>
                </a:lnTo>
                <a:lnTo>
                  <a:pt x="1224" y="1931"/>
                </a:lnTo>
                <a:lnTo>
                  <a:pt x="1216" y="1939"/>
                </a:lnTo>
                <a:lnTo>
                  <a:pt x="1208" y="1944"/>
                </a:lnTo>
                <a:lnTo>
                  <a:pt x="1198" y="1949"/>
                </a:lnTo>
                <a:lnTo>
                  <a:pt x="1189" y="1953"/>
                </a:lnTo>
                <a:lnTo>
                  <a:pt x="1179" y="1956"/>
                </a:lnTo>
                <a:lnTo>
                  <a:pt x="1170" y="1957"/>
                </a:lnTo>
                <a:lnTo>
                  <a:pt x="1159" y="1957"/>
                </a:lnTo>
                <a:lnTo>
                  <a:pt x="1149" y="1956"/>
                </a:lnTo>
                <a:lnTo>
                  <a:pt x="1140" y="1952"/>
                </a:lnTo>
                <a:lnTo>
                  <a:pt x="1121" y="1945"/>
                </a:lnTo>
                <a:lnTo>
                  <a:pt x="1104" y="1937"/>
                </a:lnTo>
                <a:lnTo>
                  <a:pt x="1087" y="1926"/>
                </a:lnTo>
                <a:lnTo>
                  <a:pt x="1069" y="1914"/>
                </a:lnTo>
                <a:lnTo>
                  <a:pt x="1053" y="1899"/>
                </a:lnTo>
                <a:lnTo>
                  <a:pt x="1039" y="1884"/>
                </a:lnTo>
                <a:lnTo>
                  <a:pt x="1026" y="1866"/>
                </a:lnTo>
                <a:lnTo>
                  <a:pt x="1014" y="1849"/>
                </a:lnTo>
                <a:lnTo>
                  <a:pt x="1005" y="1833"/>
                </a:lnTo>
                <a:lnTo>
                  <a:pt x="996" y="1816"/>
                </a:lnTo>
                <a:lnTo>
                  <a:pt x="988" y="1797"/>
                </a:lnTo>
                <a:lnTo>
                  <a:pt x="982" y="1778"/>
                </a:lnTo>
                <a:lnTo>
                  <a:pt x="977" y="1758"/>
                </a:lnTo>
                <a:lnTo>
                  <a:pt x="976" y="1739"/>
                </a:lnTo>
                <a:lnTo>
                  <a:pt x="978" y="1719"/>
                </a:lnTo>
                <a:lnTo>
                  <a:pt x="984" y="1699"/>
                </a:lnTo>
                <a:lnTo>
                  <a:pt x="988" y="1686"/>
                </a:lnTo>
                <a:lnTo>
                  <a:pt x="992" y="1671"/>
                </a:lnTo>
                <a:lnTo>
                  <a:pt x="999" y="1658"/>
                </a:lnTo>
                <a:lnTo>
                  <a:pt x="1008" y="1644"/>
                </a:lnTo>
                <a:lnTo>
                  <a:pt x="1019" y="1634"/>
                </a:lnTo>
                <a:lnTo>
                  <a:pt x="1030" y="1623"/>
                </a:lnTo>
                <a:lnTo>
                  <a:pt x="1044" y="1616"/>
                </a:lnTo>
                <a:lnTo>
                  <a:pt x="1058" y="1611"/>
                </a:lnTo>
                <a:lnTo>
                  <a:pt x="1064" y="1611"/>
                </a:lnTo>
                <a:lnTo>
                  <a:pt x="1069" y="1611"/>
                </a:lnTo>
                <a:lnTo>
                  <a:pt x="1074" y="1611"/>
                </a:lnTo>
                <a:lnTo>
                  <a:pt x="1080" y="1612"/>
                </a:lnTo>
                <a:lnTo>
                  <a:pt x="1084" y="1613"/>
                </a:lnTo>
                <a:lnTo>
                  <a:pt x="1090" y="1615"/>
                </a:lnTo>
                <a:lnTo>
                  <a:pt x="1094" y="1618"/>
                </a:lnTo>
                <a:lnTo>
                  <a:pt x="1098" y="1621"/>
                </a:lnTo>
                <a:lnTo>
                  <a:pt x="1105" y="1620"/>
                </a:lnTo>
                <a:lnTo>
                  <a:pt x="1112" y="1621"/>
                </a:lnTo>
                <a:lnTo>
                  <a:pt x="1119" y="1621"/>
                </a:lnTo>
                <a:lnTo>
                  <a:pt x="1125" y="1622"/>
                </a:lnTo>
                <a:lnTo>
                  <a:pt x="1132" y="1622"/>
                </a:lnTo>
                <a:lnTo>
                  <a:pt x="1137" y="1621"/>
                </a:lnTo>
                <a:lnTo>
                  <a:pt x="1143" y="1618"/>
                </a:lnTo>
                <a:lnTo>
                  <a:pt x="1149" y="1613"/>
                </a:lnTo>
                <a:lnTo>
                  <a:pt x="1150" y="1593"/>
                </a:lnTo>
                <a:lnTo>
                  <a:pt x="1145" y="1576"/>
                </a:lnTo>
                <a:lnTo>
                  <a:pt x="1137" y="1560"/>
                </a:lnTo>
                <a:lnTo>
                  <a:pt x="1128" y="1544"/>
                </a:lnTo>
                <a:lnTo>
                  <a:pt x="1117" y="1529"/>
                </a:lnTo>
                <a:lnTo>
                  <a:pt x="1104" y="1514"/>
                </a:lnTo>
                <a:lnTo>
                  <a:pt x="1094" y="1498"/>
                </a:lnTo>
                <a:lnTo>
                  <a:pt x="1085" y="1482"/>
                </a:lnTo>
                <a:lnTo>
                  <a:pt x="1084" y="1455"/>
                </a:lnTo>
                <a:lnTo>
                  <a:pt x="1087" y="1430"/>
                </a:lnTo>
                <a:lnTo>
                  <a:pt x="1088" y="1406"/>
                </a:lnTo>
                <a:lnTo>
                  <a:pt x="1083" y="1379"/>
                </a:lnTo>
                <a:lnTo>
                  <a:pt x="1096" y="1372"/>
                </a:lnTo>
                <a:lnTo>
                  <a:pt x="1108" y="1365"/>
                </a:lnTo>
                <a:lnTo>
                  <a:pt x="1121" y="1359"/>
                </a:lnTo>
                <a:lnTo>
                  <a:pt x="1135" y="1354"/>
                </a:lnTo>
                <a:lnTo>
                  <a:pt x="1148" y="1348"/>
                </a:lnTo>
                <a:lnTo>
                  <a:pt x="1161" y="1342"/>
                </a:lnTo>
                <a:lnTo>
                  <a:pt x="1175" y="1336"/>
                </a:lnTo>
                <a:lnTo>
                  <a:pt x="1188" y="1331"/>
                </a:lnTo>
                <a:lnTo>
                  <a:pt x="1202" y="1324"/>
                </a:lnTo>
                <a:lnTo>
                  <a:pt x="1214" y="1318"/>
                </a:lnTo>
                <a:lnTo>
                  <a:pt x="1228" y="1311"/>
                </a:lnTo>
                <a:lnTo>
                  <a:pt x="1241" y="1304"/>
                </a:lnTo>
                <a:lnTo>
                  <a:pt x="1254" y="1297"/>
                </a:lnTo>
                <a:lnTo>
                  <a:pt x="1266" y="1289"/>
                </a:lnTo>
                <a:lnTo>
                  <a:pt x="1279" y="1281"/>
                </a:lnTo>
                <a:lnTo>
                  <a:pt x="1291" y="1272"/>
                </a:lnTo>
                <a:lnTo>
                  <a:pt x="1293" y="1266"/>
                </a:lnTo>
                <a:lnTo>
                  <a:pt x="1294" y="1262"/>
                </a:lnTo>
                <a:lnTo>
                  <a:pt x="1295" y="1256"/>
                </a:lnTo>
                <a:lnTo>
                  <a:pt x="1295" y="1250"/>
                </a:lnTo>
                <a:lnTo>
                  <a:pt x="1285" y="1245"/>
                </a:lnTo>
                <a:lnTo>
                  <a:pt x="1273" y="1242"/>
                </a:lnTo>
                <a:lnTo>
                  <a:pt x="1261" y="1240"/>
                </a:lnTo>
                <a:lnTo>
                  <a:pt x="1249" y="1237"/>
                </a:lnTo>
                <a:lnTo>
                  <a:pt x="1238" y="1234"/>
                </a:lnTo>
                <a:lnTo>
                  <a:pt x="1227" y="1229"/>
                </a:lnTo>
                <a:lnTo>
                  <a:pt x="1218" y="1222"/>
                </a:lnTo>
                <a:lnTo>
                  <a:pt x="1210" y="1212"/>
                </a:lnTo>
                <a:lnTo>
                  <a:pt x="1211" y="1205"/>
                </a:lnTo>
                <a:lnTo>
                  <a:pt x="1206" y="1200"/>
                </a:lnTo>
                <a:lnTo>
                  <a:pt x="1203" y="1196"/>
                </a:lnTo>
                <a:lnTo>
                  <a:pt x="1208" y="1190"/>
                </a:lnTo>
                <a:lnTo>
                  <a:pt x="1206" y="1173"/>
                </a:lnTo>
                <a:lnTo>
                  <a:pt x="1208" y="1156"/>
                </a:lnTo>
                <a:lnTo>
                  <a:pt x="1210" y="1139"/>
                </a:lnTo>
                <a:lnTo>
                  <a:pt x="1213" y="1123"/>
                </a:lnTo>
                <a:lnTo>
                  <a:pt x="1219" y="1107"/>
                </a:lnTo>
                <a:lnTo>
                  <a:pt x="1226" y="1092"/>
                </a:lnTo>
                <a:lnTo>
                  <a:pt x="1234" y="1077"/>
                </a:lnTo>
                <a:lnTo>
                  <a:pt x="1244" y="1063"/>
                </a:lnTo>
                <a:lnTo>
                  <a:pt x="1236" y="1060"/>
                </a:lnTo>
                <a:lnTo>
                  <a:pt x="1228" y="1058"/>
                </a:lnTo>
                <a:lnTo>
                  <a:pt x="1219" y="1055"/>
                </a:lnTo>
                <a:lnTo>
                  <a:pt x="1211" y="1053"/>
                </a:lnTo>
                <a:lnTo>
                  <a:pt x="1199" y="1046"/>
                </a:lnTo>
                <a:lnTo>
                  <a:pt x="1191" y="1037"/>
                </a:lnTo>
                <a:lnTo>
                  <a:pt x="1187" y="1025"/>
                </a:lnTo>
                <a:lnTo>
                  <a:pt x="1185" y="1013"/>
                </a:lnTo>
                <a:lnTo>
                  <a:pt x="1182" y="1000"/>
                </a:lnTo>
                <a:lnTo>
                  <a:pt x="1180" y="987"/>
                </a:lnTo>
                <a:lnTo>
                  <a:pt x="1176" y="975"/>
                </a:lnTo>
                <a:lnTo>
                  <a:pt x="1170" y="964"/>
                </a:lnTo>
                <a:lnTo>
                  <a:pt x="1172" y="947"/>
                </a:lnTo>
                <a:lnTo>
                  <a:pt x="1178" y="932"/>
                </a:lnTo>
                <a:lnTo>
                  <a:pt x="1188" y="920"/>
                </a:lnTo>
                <a:lnTo>
                  <a:pt x="1199" y="909"/>
                </a:lnTo>
                <a:lnTo>
                  <a:pt x="1213" y="900"/>
                </a:lnTo>
                <a:lnTo>
                  <a:pt x="1227" y="892"/>
                </a:lnTo>
                <a:lnTo>
                  <a:pt x="1241" y="884"/>
                </a:lnTo>
                <a:lnTo>
                  <a:pt x="1255" y="874"/>
                </a:lnTo>
                <a:lnTo>
                  <a:pt x="1247" y="872"/>
                </a:lnTo>
                <a:lnTo>
                  <a:pt x="1239" y="870"/>
                </a:lnTo>
                <a:lnTo>
                  <a:pt x="1229" y="867"/>
                </a:lnTo>
                <a:lnTo>
                  <a:pt x="1221" y="866"/>
                </a:lnTo>
                <a:lnTo>
                  <a:pt x="1212" y="864"/>
                </a:lnTo>
                <a:lnTo>
                  <a:pt x="1203" y="863"/>
                </a:lnTo>
                <a:lnTo>
                  <a:pt x="1194" y="863"/>
                </a:lnTo>
                <a:lnTo>
                  <a:pt x="1185" y="862"/>
                </a:lnTo>
                <a:lnTo>
                  <a:pt x="1102" y="857"/>
                </a:lnTo>
                <a:lnTo>
                  <a:pt x="1092" y="872"/>
                </a:lnTo>
                <a:lnTo>
                  <a:pt x="1082" y="886"/>
                </a:lnTo>
                <a:lnTo>
                  <a:pt x="1070" y="900"/>
                </a:lnTo>
                <a:lnTo>
                  <a:pt x="1059" y="914"/>
                </a:lnTo>
                <a:lnTo>
                  <a:pt x="1049" y="929"/>
                </a:lnTo>
                <a:lnTo>
                  <a:pt x="1039" y="944"/>
                </a:lnTo>
                <a:lnTo>
                  <a:pt x="1031" y="959"/>
                </a:lnTo>
                <a:lnTo>
                  <a:pt x="1027" y="975"/>
                </a:lnTo>
                <a:lnTo>
                  <a:pt x="1031" y="977"/>
                </a:lnTo>
                <a:lnTo>
                  <a:pt x="1037" y="979"/>
                </a:lnTo>
                <a:lnTo>
                  <a:pt x="1042" y="980"/>
                </a:lnTo>
                <a:lnTo>
                  <a:pt x="1047" y="982"/>
                </a:lnTo>
                <a:lnTo>
                  <a:pt x="1053" y="983"/>
                </a:lnTo>
                <a:lnTo>
                  <a:pt x="1058" y="982"/>
                </a:lnTo>
                <a:lnTo>
                  <a:pt x="1064" y="979"/>
                </a:lnTo>
                <a:lnTo>
                  <a:pt x="1068" y="975"/>
                </a:lnTo>
                <a:lnTo>
                  <a:pt x="1074" y="976"/>
                </a:lnTo>
                <a:lnTo>
                  <a:pt x="1079" y="976"/>
                </a:lnTo>
                <a:lnTo>
                  <a:pt x="1084" y="977"/>
                </a:lnTo>
                <a:lnTo>
                  <a:pt x="1089" y="979"/>
                </a:lnTo>
                <a:lnTo>
                  <a:pt x="1095" y="980"/>
                </a:lnTo>
                <a:lnTo>
                  <a:pt x="1099" y="983"/>
                </a:lnTo>
                <a:lnTo>
                  <a:pt x="1104" y="985"/>
                </a:lnTo>
                <a:lnTo>
                  <a:pt x="1108" y="987"/>
                </a:lnTo>
                <a:lnTo>
                  <a:pt x="1107" y="997"/>
                </a:lnTo>
                <a:lnTo>
                  <a:pt x="1103" y="998"/>
                </a:lnTo>
                <a:lnTo>
                  <a:pt x="1095" y="998"/>
                </a:lnTo>
                <a:lnTo>
                  <a:pt x="1088" y="1000"/>
                </a:lnTo>
                <a:lnTo>
                  <a:pt x="1099" y="1014"/>
                </a:lnTo>
                <a:lnTo>
                  <a:pt x="1106" y="1030"/>
                </a:lnTo>
                <a:lnTo>
                  <a:pt x="1111" y="1046"/>
                </a:lnTo>
                <a:lnTo>
                  <a:pt x="1113" y="1062"/>
                </a:lnTo>
                <a:lnTo>
                  <a:pt x="1114" y="1081"/>
                </a:lnTo>
                <a:lnTo>
                  <a:pt x="1114" y="1098"/>
                </a:lnTo>
                <a:lnTo>
                  <a:pt x="1114" y="1116"/>
                </a:lnTo>
                <a:lnTo>
                  <a:pt x="1117" y="1135"/>
                </a:lnTo>
                <a:lnTo>
                  <a:pt x="1110" y="1154"/>
                </a:lnTo>
                <a:lnTo>
                  <a:pt x="1099" y="1173"/>
                </a:lnTo>
                <a:lnTo>
                  <a:pt x="1087" y="1190"/>
                </a:lnTo>
                <a:lnTo>
                  <a:pt x="1073" y="1205"/>
                </a:lnTo>
                <a:lnTo>
                  <a:pt x="1057" y="1220"/>
                </a:lnTo>
                <a:lnTo>
                  <a:pt x="1041" y="1234"/>
                </a:lnTo>
                <a:lnTo>
                  <a:pt x="1024" y="1248"/>
                </a:lnTo>
                <a:lnTo>
                  <a:pt x="1008" y="1262"/>
                </a:lnTo>
                <a:lnTo>
                  <a:pt x="992" y="1271"/>
                </a:lnTo>
                <a:lnTo>
                  <a:pt x="975" y="1280"/>
                </a:lnTo>
                <a:lnTo>
                  <a:pt x="956" y="1289"/>
                </a:lnTo>
                <a:lnTo>
                  <a:pt x="939" y="1296"/>
                </a:lnTo>
                <a:lnTo>
                  <a:pt x="921" y="1302"/>
                </a:lnTo>
                <a:lnTo>
                  <a:pt x="903" y="1305"/>
                </a:lnTo>
                <a:lnTo>
                  <a:pt x="885" y="1303"/>
                </a:lnTo>
                <a:lnTo>
                  <a:pt x="867" y="1297"/>
                </a:lnTo>
                <a:lnTo>
                  <a:pt x="858" y="1290"/>
                </a:lnTo>
                <a:lnTo>
                  <a:pt x="854" y="1281"/>
                </a:lnTo>
                <a:lnTo>
                  <a:pt x="853" y="1270"/>
                </a:lnTo>
                <a:lnTo>
                  <a:pt x="852" y="1258"/>
                </a:lnTo>
                <a:lnTo>
                  <a:pt x="850" y="1248"/>
                </a:lnTo>
                <a:lnTo>
                  <a:pt x="847" y="1240"/>
                </a:lnTo>
                <a:lnTo>
                  <a:pt x="839" y="1235"/>
                </a:lnTo>
                <a:lnTo>
                  <a:pt x="826" y="1236"/>
                </a:lnTo>
                <a:lnTo>
                  <a:pt x="817" y="1244"/>
                </a:lnTo>
                <a:lnTo>
                  <a:pt x="808" y="1252"/>
                </a:lnTo>
                <a:lnTo>
                  <a:pt x="801" y="1262"/>
                </a:lnTo>
                <a:lnTo>
                  <a:pt x="793" y="1271"/>
                </a:lnTo>
                <a:lnTo>
                  <a:pt x="786" y="1281"/>
                </a:lnTo>
                <a:lnTo>
                  <a:pt x="779" y="1291"/>
                </a:lnTo>
                <a:lnTo>
                  <a:pt x="772" y="1301"/>
                </a:lnTo>
                <a:lnTo>
                  <a:pt x="765" y="1310"/>
                </a:lnTo>
                <a:lnTo>
                  <a:pt x="757" y="1323"/>
                </a:lnTo>
                <a:lnTo>
                  <a:pt x="748" y="1335"/>
                </a:lnTo>
                <a:lnTo>
                  <a:pt x="741" y="1348"/>
                </a:lnTo>
                <a:lnTo>
                  <a:pt x="733" y="1362"/>
                </a:lnTo>
                <a:lnTo>
                  <a:pt x="726" y="1376"/>
                </a:lnTo>
                <a:lnTo>
                  <a:pt x="719" y="1389"/>
                </a:lnTo>
                <a:lnTo>
                  <a:pt x="712" y="1403"/>
                </a:lnTo>
                <a:lnTo>
                  <a:pt x="706" y="1417"/>
                </a:lnTo>
                <a:lnTo>
                  <a:pt x="703" y="1418"/>
                </a:lnTo>
                <a:lnTo>
                  <a:pt x="701" y="1421"/>
                </a:lnTo>
                <a:lnTo>
                  <a:pt x="698" y="1424"/>
                </a:lnTo>
                <a:lnTo>
                  <a:pt x="695" y="1425"/>
                </a:lnTo>
                <a:lnTo>
                  <a:pt x="682" y="1424"/>
                </a:lnTo>
                <a:lnTo>
                  <a:pt x="670" y="1423"/>
                </a:lnTo>
                <a:lnTo>
                  <a:pt x="656" y="1422"/>
                </a:lnTo>
                <a:lnTo>
                  <a:pt x="643" y="1421"/>
                </a:lnTo>
                <a:lnTo>
                  <a:pt x="629" y="1419"/>
                </a:lnTo>
                <a:lnTo>
                  <a:pt x="615" y="1418"/>
                </a:lnTo>
                <a:lnTo>
                  <a:pt x="603" y="1417"/>
                </a:lnTo>
                <a:lnTo>
                  <a:pt x="589" y="1416"/>
                </a:lnTo>
                <a:lnTo>
                  <a:pt x="575" y="1415"/>
                </a:lnTo>
                <a:lnTo>
                  <a:pt x="562" y="1414"/>
                </a:lnTo>
                <a:lnTo>
                  <a:pt x="549" y="1412"/>
                </a:lnTo>
                <a:lnTo>
                  <a:pt x="535" y="1410"/>
                </a:lnTo>
                <a:lnTo>
                  <a:pt x="522" y="1409"/>
                </a:lnTo>
                <a:lnTo>
                  <a:pt x="508" y="1407"/>
                </a:lnTo>
                <a:lnTo>
                  <a:pt x="496" y="1404"/>
                </a:lnTo>
                <a:lnTo>
                  <a:pt x="483" y="1402"/>
                </a:lnTo>
                <a:lnTo>
                  <a:pt x="477" y="1400"/>
                </a:lnTo>
                <a:lnTo>
                  <a:pt x="473" y="1397"/>
                </a:lnTo>
                <a:lnTo>
                  <a:pt x="467" y="1395"/>
                </a:lnTo>
                <a:lnTo>
                  <a:pt x="461" y="1392"/>
                </a:lnTo>
                <a:lnTo>
                  <a:pt x="456" y="1387"/>
                </a:lnTo>
                <a:lnTo>
                  <a:pt x="452" y="1382"/>
                </a:lnTo>
                <a:lnTo>
                  <a:pt x="448" y="1378"/>
                </a:lnTo>
                <a:lnTo>
                  <a:pt x="446" y="1372"/>
                </a:lnTo>
                <a:lnTo>
                  <a:pt x="443" y="1361"/>
                </a:lnTo>
                <a:lnTo>
                  <a:pt x="440" y="1348"/>
                </a:lnTo>
                <a:lnTo>
                  <a:pt x="440" y="1335"/>
                </a:lnTo>
                <a:lnTo>
                  <a:pt x="444" y="1323"/>
                </a:lnTo>
                <a:lnTo>
                  <a:pt x="453" y="1308"/>
                </a:lnTo>
                <a:lnTo>
                  <a:pt x="464" y="1296"/>
                </a:lnTo>
                <a:lnTo>
                  <a:pt x="478" y="1288"/>
                </a:lnTo>
                <a:lnTo>
                  <a:pt x="494" y="1282"/>
                </a:lnTo>
                <a:lnTo>
                  <a:pt x="509" y="1276"/>
                </a:lnTo>
                <a:lnTo>
                  <a:pt x="526" y="1270"/>
                </a:lnTo>
                <a:lnTo>
                  <a:pt x="538" y="1262"/>
                </a:lnTo>
                <a:lnTo>
                  <a:pt x="550" y="1250"/>
                </a:lnTo>
                <a:lnTo>
                  <a:pt x="550" y="1245"/>
                </a:lnTo>
                <a:lnTo>
                  <a:pt x="539" y="1238"/>
                </a:lnTo>
                <a:lnTo>
                  <a:pt x="529" y="1233"/>
                </a:lnTo>
                <a:lnTo>
                  <a:pt x="517" y="1227"/>
                </a:lnTo>
                <a:lnTo>
                  <a:pt x="506" y="1222"/>
                </a:lnTo>
                <a:lnTo>
                  <a:pt x="494" y="1218"/>
                </a:lnTo>
                <a:lnTo>
                  <a:pt x="483" y="1214"/>
                </a:lnTo>
                <a:lnTo>
                  <a:pt x="470" y="1212"/>
                </a:lnTo>
                <a:lnTo>
                  <a:pt x="458" y="1210"/>
                </a:lnTo>
                <a:lnTo>
                  <a:pt x="445" y="1209"/>
                </a:lnTo>
                <a:lnTo>
                  <a:pt x="432" y="1207"/>
                </a:lnTo>
                <a:lnTo>
                  <a:pt x="420" y="1209"/>
                </a:lnTo>
                <a:lnTo>
                  <a:pt x="407" y="1209"/>
                </a:lnTo>
                <a:lnTo>
                  <a:pt x="394" y="1211"/>
                </a:lnTo>
                <a:lnTo>
                  <a:pt x="381" y="1212"/>
                </a:lnTo>
                <a:lnTo>
                  <a:pt x="370" y="1215"/>
                </a:lnTo>
                <a:lnTo>
                  <a:pt x="357" y="1219"/>
                </a:lnTo>
                <a:lnTo>
                  <a:pt x="337" y="1233"/>
                </a:lnTo>
                <a:lnTo>
                  <a:pt x="326" y="1251"/>
                </a:lnTo>
                <a:lnTo>
                  <a:pt x="322" y="1272"/>
                </a:lnTo>
                <a:lnTo>
                  <a:pt x="320" y="1295"/>
                </a:lnTo>
                <a:lnTo>
                  <a:pt x="319" y="1319"/>
                </a:lnTo>
                <a:lnTo>
                  <a:pt x="317" y="1342"/>
                </a:lnTo>
                <a:lnTo>
                  <a:pt x="308" y="1362"/>
                </a:lnTo>
                <a:lnTo>
                  <a:pt x="292" y="1379"/>
                </a:lnTo>
                <a:lnTo>
                  <a:pt x="273" y="1382"/>
                </a:lnTo>
                <a:lnTo>
                  <a:pt x="256" y="1384"/>
                </a:lnTo>
                <a:lnTo>
                  <a:pt x="239" y="1386"/>
                </a:lnTo>
                <a:lnTo>
                  <a:pt x="221" y="1386"/>
                </a:lnTo>
                <a:lnTo>
                  <a:pt x="205" y="1386"/>
                </a:lnTo>
                <a:lnTo>
                  <a:pt x="188" y="1385"/>
                </a:lnTo>
                <a:lnTo>
                  <a:pt x="172" y="1384"/>
                </a:lnTo>
                <a:lnTo>
                  <a:pt x="155" y="1381"/>
                </a:lnTo>
                <a:lnTo>
                  <a:pt x="138" y="1380"/>
                </a:lnTo>
                <a:lnTo>
                  <a:pt x="121" y="1378"/>
                </a:lnTo>
                <a:lnTo>
                  <a:pt x="104" y="1376"/>
                </a:lnTo>
                <a:lnTo>
                  <a:pt x="87" y="1374"/>
                </a:lnTo>
                <a:lnTo>
                  <a:pt x="69" y="1373"/>
                </a:lnTo>
                <a:lnTo>
                  <a:pt x="52" y="1372"/>
                </a:lnTo>
                <a:lnTo>
                  <a:pt x="34" y="1372"/>
                </a:lnTo>
                <a:lnTo>
                  <a:pt x="15" y="1372"/>
                </a:lnTo>
                <a:lnTo>
                  <a:pt x="6" y="1354"/>
                </a:lnTo>
                <a:lnTo>
                  <a:pt x="1" y="1332"/>
                </a:lnTo>
                <a:lnTo>
                  <a:pt x="0" y="1311"/>
                </a:lnTo>
                <a:lnTo>
                  <a:pt x="2" y="1291"/>
                </a:lnTo>
                <a:lnTo>
                  <a:pt x="23" y="1271"/>
                </a:lnTo>
                <a:lnTo>
                  <a:pt x="44" y="1251"/>
                </a:lnTo>
                <a:lnTo>
                  <a:pt x="64" y="1230"/>
                </a:lnTo>
                <a:lnTo>
                  <a:pt x="84" y="1211"/>
                </a:lnTo>
                <a:lnTo>
                  <a:pt x="104" y="1191"/>
                </a:lnTo>
                <a:lnTo>
                  <a:pt x="123" y="1170"/>
                </a:lnTo>
                <a:lnTo>
                  <a:pt x="142" y="1150"/>
                </a:lnTo>
                <a:lnTo>
                  <a:pt x="161" y="1127"/>
                </a:lnTo>
                <a:lnTo>
                  <a:pt x="158" y="1121"/>
                </a:lnTo>
                <a:lnTo>
                  <a:pt x="155" y="1117"/>
                </a:lnTo>
                <a:lnTo>
                  <a:pt x="149" y="1115"/>
                </a:lnTo>
                <a:lnTo>
                  <a:pt x="143" y="1114"/>
                </a:lnTo>
                <a:lnTo>
                  <a:pt x="130" y="1116"/>
                </a:lnTo>
                <a:lnTo>
                  <a:pt x="117" y="1119"/>
                </a:lnTo>
                <a:lnTo>
                  <a:pt x="103" y="1120"/>
                </a:lnTo>
                <a:lnTo>
                  <a:pt x="89" y="1120"/>
                </a:lnTo>
                <a:lnTo>
                  <a:pt x="76" y="1119"/>
                </a:lnTo>
                <a:lnTo>
                  <a:pt x="64" y="1115"/>
                </a:lnTo>
                <a:lnTo>
                  <a:pt x="51" y="1109"/>
                </a:lnTo>
                <a:lnTo>
                  <a:pt x="40" y="1101"/>
                </a:lnTo>
                <a:lnTo>
                  <a:pt x="32" y="1086"/>
                </a:lnTo>
                <a:lnTo>
                  <a:pt x="25" y="1071"/>
                </a:lnTo>
                <a:lnTo>
                  <a:pt x="20" y="1055"/>
                </a:lnTo>
                <a:lnTo>
                  <a:pt x="17" y="1039"/>
                </a:lnTo>
                <a:lnTo>
                  <a:pt x="21" y="1017"/>
                </a:lnTo>
                <a:lnTo>
                  <a:pt x="25" y="994"/>
                </a:lnTo>
                <a:lnTo>
                  <a:pt x="32" y="972"/>
                </a:lnTo>
                <a:lnTo>
                  <a:pt x="43" y="952"/>
                </a:lnTo>
                <a:lnTo>
                  <a:pt x="40" y="949"/>
                </a:lnTo>
                <a:lnTo>
                  <a:pt x="54" y="933"/>
                </a:lnTo>
                <a:lnTo>
                  <a:pt x="69" y="916"/>
                </a:lnTo>
                <a:lnTo>
                  <a:pt x="84" y="900"/>
                </a:lnTo>
                <a:lnTo>
                  <a:pt x="100" y="884"/>
                </a:lnTo>
                <a:lnTo>
                  <a:pt x="118" y="869"/>
                </a:lnTo>
                <a:lnTo>
                  <a:pt x="135" y="856"/>
                </a:lnTo>
                <a:lnTo>
                  <a:pt x="155" y="844"/>
                </a:lnTo>
                <a:lnTo>
                  <a:pt x="174" y="835"/>
                </a:lnTo>
                <a:lnTo>
                  <a:pt x="188" y="832"/>
                </a:lnTo>
                <a:lnTo>
                  <a:pt x="201" y="831"/>
                </a:lnTo>
                <a:lnTo>
                  <a:pt x="213" y="832"/>
                </a:lnTo>
                <a:lnTo>
                  <a:pt x="226" y="834"/>
                </a:lnTo>
                <a:lnTo>
                  <a:pt x="239" y="838"/>
                </a:lnTo>
                <a:lnTo>
                  <a:pt x="250" y="842"/>
                </a:lnTo>
                <a:lnTo>
                  <a:pt x="261" y="849"/>
                </a:lnTo>
                <a:lnTo>
                  <a:pt x="272" y="857"/>
                </a:lnTo>
                <a:lnTo>
                  <a:pt x="277" y="864"/>
                </a:lnTo>
                <a:lnTo>
                  <a:pt x="280" y="871"/>
                </a:lnTo>
                <a:lnTo>
                  <a:pt x="284" y="879"/>
                </a:lnTo>
                <a:lnTo>
                  <a:pt x="288" y="887"/>
                </a:lnTo>
                <a:lnTo>
                  <a:pt x="292" y="894"/>
                </a:lnTo>
                <a:lnTo>
                  <a:pt x="297" y="900"/>
                </a:lnTo>
                <a:lnTo>
                  <a:pt x="305" y="902"/>
                </a:lnTo>
                <a:lnTo>
                  <a:pt x="315" y="903"/>
                </a:lnTo>
                <a:lnTo>
                  <a:pt x="329" y="903"/>
                </a:lnTo>
                <a:lnTo>
                  <a:pt x="341" y="897"/>
                </a:lnTo>
                <a:lnTo>
                  <a:pt x="352" y="889"/>
                </a:lnTo>
                <a:lnTo>
                  <a:pt x="361" y="879"/>
                </a:lnTo>
                <a:lnTo>
                  <a:pt x="370" y="866"/>
                </a:lnTo>
                <a:lnTo>
                  <a:pt x="377" y="854"/>
                </a:lnTo>
                <a:lnTo>
                  <a:pt x="385" y="842"/>
                </a:lnTo>
                <a:lnTo>
                  <a:pt x="392" y="831"/>
                </a:lnTo>
                <a:lnTo>
                  <a:pt x="407" y="805"/>
                </a:lnTo>
                <a:lnTo>
                  <a:pt x="422" y="779"/>
                </a:lnTo>
                <a:lnTo>
                  <a:pt x="436" y="753"/>
                </a:lnTo>
                <a:lnTo>
                  <a:pt x="451" y="728"/>
                </a:lnTo>
                <a:lnTo>
                  <a:pt x="466" y="702"/>
                </a:lnTo>
                <a:lnTo>
                  <a:pt x="481" y="676"/>
                </a:lnTo>
                <a:lnTo>
                  <a:pt x="497" y="651"/>
                </a:lnTo>
                <a:lnTo>
                  <a:pt x="514" y="626"/>
                </a:lnTo>
                <a:lnTo>
                  <a:pt x="523" y="616"/>
                </a:lnTo>
                <a:lnTo>
                  <a:pt x="534" y="607"/>
                </a:lnTo>
                <a:lnTo>
                  <a:pt x="545" y="598"/>
                </a:lnTo>
                <a:lnTo>
                  <a:pt x="558" y="591"/>
                </a:lnTo>
                <a:lnTo>
                  <a:pt x="569" y="585"/>
                </a:lnTo>
                <a:lnTo>
                  <a:pt x="582" y="582"/>
                </a:lnTo>
                <a:lnTo>
                  <a:pt x="596" y="581"/>
                </a:lnTo>
                <a:lnTo>
                  <a:pt x="608" y="584"/>
                </a:lnTo>
                <a:lnTo>
                  <a:pt x="619" y="590"/>
                </a:lnTo>
                <a:lnTo>
                  <a:pt x="629" y="593"/>
                </a:lnTo>
                <a:lnTo>
                  <a:pt x="636" y="599"/>
                </a:lnTo>
                <a:lnTo>
                  <a:pt x="636" y="611"/>
                </a:lnTo>
                <a:lnTo>
                  <a:pt x="637" y="616"/>
                </a:lnTo>
                <a:lnTo>
                  <a:pt x="642" y="620"/>
                </a:lnTo>
                <a:lnTo>
                  <a:pt x="648" y="621"/>
                </a:lnTo>
                <a:lnTo>
                  <a:pt x="653" y="622"/>
                </a:lnTo>
                <a:lnTo>
                  <a:pt x="653" y="626"/>
                </a:lnTo>
                <a:lnTo>
                  <a:pt x="653" y="630"/>
                </a:lnTo>
                <a:lnTo>
                  <a:pt x="652" y="634"/>
                </a:lnTo>
                <a:lnTo>
                  <a:pt x="649" y="636"/>
                </a:lnTo>
                <a:lnTo>
                  <a:pt x="652" y="643"/>
                </a:lnTo>
                <a:lnTo>
                  <a:pt x="656" y="647"/>
                </a:lnTo>
                <a:lnTo>
                  <a:pt x="661" y="650"/>
                </a:lnTo>
                <a:lnTo>
                  <a:pt x="667" y="652"/>
                </a:lnTo>
                <a:lnTo>
                  <a:pt x="673" y="653"/>
                </a:lnTo>
                <a:lnTo>
                  <a:pt x="680" y="653"/>
                </a:lnTo>
                <a:lnTo>
                  <a:pt x="686" y="653"/>
                </a:lnTo>
                <a:lnTo>
                  <a:pt x="693" y="653"/>
                </a:lnTo>
                <a:lnTo>
                  <a:pt x="713" y="646"/>
                </a:lnTo>
                <a:lnTo>
                  <a:pt x="732" y="635"/>
                </a:lnTo>
                <a:lnTo>
                  <a:pt x="748" y="621"/>
                </a:lnTo>
                <a:lnTo>
                  <a:pt x="762" y="604"/>
                </a:lnTo>
                <a:lnTo>
                  <a:pt x="774" y="586"/>
                </a:lnTo>
                <a:lnTo>
                  <a:pt x="786" y="567"/>
                </a:lnTo>
                <a:lnTo>
                  <a:pt x="796" y="548"/>
                </a:lnTo>
                <a:lnTo>
                  <a:pt x="805" y="530"/>
                </a:lnTo>
                <a:lnTo>
                  <a:pt x="805" y="517"/>
                </a:lnTo>
                <a:lnTo>
                  <a:pt x="805" y="503"/>
                </a:lnTo>
                <a:lnTo>
                  <a:pt x="801" y="492"/>
                </a:lnTo>
                <a:lnTo>
                  <a:pt x="788" y="486"/>
                </a:lnTo>
                <a:lnTo>
                  <a:pt x="773" y="492"/>
                </a:lnTo>
                <a:lnTo>
                  <a:pt x="757" y="500"/>
                </a:lnTo>
                <a:lnTo>
                  <a:pt x="741" y="507"/>
                </a:lnTo>
                <a:lnTo>
                  <a:pt x="725" y="514"/>
                </a:lnTo>
                <a:lnTo>
                  <a:pt x="709" y="518"/>
                </a:lnTo>
                <a:lnTo>
                  <a:pt x="693" y="518"/>
                </a:lnTo>
                <a:lnTo>
                  <a:pt x="679" y="514"/>
                </a:lnTo>
                <a:lnTo>
                  <a:pt x="665" y="502"/>
                </a:lnTo>
                <a:lnTo>
                  <a:pt x="661" y="485"/>
                </a:lnTo>
                <a:lnTo>
                  <a:pt x="663" y="469"/>
                </a:lnTo>
                <a:lnTo>
                  <a:pt x="664" y="452"/>
                </a:lnTo>
                <a:lnTo>
                  <a:pt x="659" y="433"/>
                </a:lnTo>
                <a:lnTo>
                  <a:pt x="665" y="420"/>
                </a:lnTo>
                <a:lnTo>
                  <a:pt x="672" y="409"/>
                </a:lnTo>
                <a:lnTo>
                  <a:pt x="676" y="396"/>
                </a:lnTo>
                <a:lnTo>
                  <a:pt x="681" y="384"/>
                </a:lnTo>
                <a:lnTo>
                  <a:pt x="691" y="370"/>
                </a:lnTo>
                <a:lnTo>
                  <a:pt x="702" y="356"/>
                </a:lnTo>
                <a:lnTo>
                  <a:pt x="711" y="342"/>
                </a:lnTo>
                <a:lnTo>
                  <a:pt x="720" y="328"/>
                </a:lnTo>
                <a:lnTo>
                  <a:pt x="729" y="314"/>
                </a:lnTo>
                <a:lnTo>
                  <a:pt x="739" y="301"/>
                </a:lnTo>
                <a:lnTo>
                  <a:pt x="747" y="287"/>
                </a:lnTo>
                <a:lnTo>
                  <a:pt x="755" y="273"/>
                </a:lnTo>
                <a:lnTo>
                  <a:pt x="772" y="250"/>
                </a:lnTo>
                <a:lnTo>
                  <a:pt x="790" y="237"/>
                </a:lnTo>
                <a:lnTo>
                  <a:pt x="812" y="233"/>
                </a:lnTo>
                <a:lnTo>
                  <a:pt x="834" y="231"/>
                </a:lnTo>
                <a:lnTo>
                  <a:pt x="858" y="234"/>
                </a:lnTo>
                <a:lnTo>
                  <a:pt x="884" y="236"/>
                </a:lnTo>
                <a:lnTo>
                  <a:pt x="909" y="235"/>
                </a:lnTo>
                <a:lnTo>
                  <a:pt x="935" y="229"/>
                </a:lnTo>
                <a:lnTo>
                  <a:pt x="941" y="230"/>
                </a:lnTo>
                <a:lnTo>
                  <a:pt x="949" y="231"/>
                </a:lnTo>
                <a:lnTo>
                  <a:pt x="956" y="231"/>
                </a:lnTo>
                <a:lnTo>
                  <a:pt x="963" y="231"/>
                </a:lnTo>
                <a:lnTo>
                  <a:pt x="970" y="230"/>
                </a:lnTo>
                <a:lnTo>
                  <a:pt x="977" y="229"/>
                </a:lnTo>
                <a:lnTo>
                  <a:pt x="984" y="228"/>
                </a:lnTo>
                <a:lnTo>
                  <a:pt x="991" y="227"/>
                </a:lnTo>
                <a:lnTo>
                  <a:pt x="998" y="229"/>
                </a:lnTo>
                <a:lnTo>
                  <a:pt x="1005" y="229"/>
                </a:lnTo>
                <a:lnTo>
                  <a:pt x="1011" y="229"/>
                </a:lnTo>
                <a:lnTo>
                  <a:pt x="1017" y="228"/>
                </a:lnTo>
                <a:lnTo>
                  <a:pt x="1023" y="227"/>
                </a:lnTo>
                <a:lnTo>
                  <a:pt x="1029" y="226"/>
                </a:lnTo>
                <a:lnTo>
                  <a:pt x="1036" y="225"/>
                </a:lnTo>
                <a:lnTo>
                  <a:pt x="1042" y="223"/>
                </a:lnTo>
                <a:lnTo>
                  <a:pt x="1034" y="212"/>
                </a:lnTo>
                <a:lnTo>
                  <a:pt x="1029" y="199"/>
                </a:lnTo>
                <a:lnTo>
                  <a:pt x="1026" y="188"/>
                </a:lnTo>
                <a:lnTo>
                  <a:pt x="1016" y="176"/>
                </a:lnTo>
                <a:lnTo>
                  <a:pt x="1015" y="154"/>
                </a:lnTo>
                <a:lnTo>
                  <a:pt x="1019" y="131"/>
                </a:lnTo>
                <a:lnTo>
                  <a:pt x="1024" y="111"/>
                </a:lnTo>
                <a:lnTo>
                  <a:pt x="1034" y="91"/>
                </a:lnTo>
                <a:lnTo>
                  <a:pt x="1046" y="72"/>
                </a:lnTo>
                <a:lnTo>
                  <a:pt x="1061" y="56"/>
                </a:lnTo>
                <a:lnTo>
                  <a:pt x="1079" y="43"/>
                </a:lnTo>
                <a:lnTo>
                  <a:pt x="1098" y="31"/>
                </a:lnTo>
                <a:lnTo>
                  <a:pt x="1105" y="28"/>
                </a:lnTo>
                <a:lnTo>
                  <a:pt x="1113" y="24"/>
                </a:lnTo>
                <a:lnTo>
                  <a:pt x="1120" y="22"/>
                </a:lnTo>
                <a:lnTo>
                  <a:pt x="1127" y="18"/>
                </a:lnTo>
                <a:lnTo>
                  <a:pt x="1135" y="15"/>
                </a:lnTo>
                <a:lnTo>
                  <a:pt x="1143" y="13"/>
                </a:lnTo>
                <a:lnTo>
                  <a:pt x="1151" y="10"/>
                </a:lnTo>
                <a:lnTo>
                  <a:pt x="1159" y="8"/>
                </a:lnTo>
                <a:lnTo>
                  <a:pt x="1179" y="6"/>
                </a:lnTo>
                <a:lnTo>
                  <a:pt x="1197" y="3"/>
                </a:lnTo>
                <a:lnTo>
                  <a:pt x="1217" y="1"/>
                </a:lnTo>
                <a:lnTo>
                  <a:pt x="1236" y="0"/>
                </a:lnTo>
                <a:lnTo>
                  <a:pt x="1256" y="0"/>
                </a:lnTo>
                <a:lnTo>
                  <a:pt x="1277" y="2"/>
                </a:lnTo>
                <a:lnTo>
                  <a:pt x="1296" y="6"/>
                </a:lnTo>
                <a:lnTo>
                  <a:pt x="1316" y="11"/>
                </a:lnTo>
                <a:lnTo>
                  <a:pt x="1322" y="13"/>
                </a:lnTo>
                <a:lnTo>
                  <a:pt x="1326" y="13"/>
                </a:lnTo>
                <a:lnTo>
                  <a:pt x="1332" y="14"/>
                </a:lnTo>
                <a:lnTo>
                  <a:pt x="1338" y="16"/>
                </a:lnTo>
                <a:lnTo>
                  <a:pt x="1344" y="17"/>
                </a:lnTo>
                <a:lnTo>
                  <a:pt x="1349" y="19"/>
                </a:lnTo>
                <a:lnTo>
                  <a:pt x="1354" y="22"/>
                </a:lnTo>
                <a:lnTo>
                  <a:pt x="1360" y="2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40480" y="1684440"/>
            <a:ext cx="262080" cy="268200"/>
          </a:xfrm>
          <a:custGeom>
            <a:avLst/>
            <a:gdLst/>
            <a:ahLst/>
            <a:rect l="l" t="t" r="r" b="b"/>
            <a:pathLst>
              <a:path w="1080" h="1005">
                <a:moveTo>
                  <a:pt x="495" y="17"/>
                </a:moveTo>
                <a:lnTo>
                  <a:pt x="508" y="36"/>
                </a:lnTo>
                <a:lnTo>
                  <a:pt x="510" y="57"/>
                </a:lnTo>
                <a:lnTo>
                  <a:pt x="506" y="76"/>
                </a:lnTo>
                <a:lnTo>
                  <a:pt x="498" y="97"/>
                </a:lnTo>
                <a:lnTo>
                  <a:pt x="492" y="118"/>
                </a:lnTo>
                <a:lnTo>
                  <a:pt x="491" y="137"/>
                </a:lnTo>
                <a:lnTo>
                  <a:pt x="498" y="156"/>
                </a:lnTo>
                <a:lnTo>
                  <a:pt x="517" y="173"/>
                </a:lnTo>
                <a:lnTo>
                  <a:pt x="539" y="180"/>
                </a:lnTo>
                <a:lnTo>
                  <a:pt x="561" y="182"/>
                </a:lnTo>
                <a:lnTo>
                  <a:pt x="583" y="180"/>
                </a:lnTo>
                <a:lnTo>
                  <a:pt x="603" y="175"/>
                </a:lnTo>
                <a:lnTo>
                  <a:pt x="623" y="167"/>
                </a:lnTo>
                <a:lnTo>
                  <a:pt x="644" y="159"/>
                </a:lnTo>
                <a:lnTo>
                  <a:pt x="664" y="151"/>
                </a:lnTo>
                <a:lnTo>
                  <a:pt x="684" y="144"/>
                </a:lnTo>
                <a:lnTo>
                  <a:pt x="691" y="138"/>
                </a:lnTo>
                <a:lnTo>
                  <a:pt x="697" y="134"/>
                </a:lnTo>
                <a:lnTo>
                  <a:pt x="704" y="130"/>
                </a:lnTo>
                <a:lnTo>
                  <a:pt x="711" y="126"/>
                </a:lnTo>
                <a:lnTo>
                  <a:pt x="718" y="122"/>
                </a:lnTo>
                <a:lnTo>
                  <a:pt x="725" y="119"/>
                </a:lnTo>
                <a:lnTo>
                  <a:pt x="732" y="115"/>
                </a:lnTo>
                <a:lnTo>
                  <a:pt x="739" y="112"/>
                </a:lnTo>
                <a:lnTo>
                  <a:pt x="741" y="114"/>
                </a:lnTo>
                <a:lnTo>
                  <a:pt x="744" y="115"/>
                </a:lnTo>
                <a:lnTo>
                  <a:pt x="747" y="115"/>
                </a:lnTo>
                <a:lnTo>
                  <a:pt x="749" y="114"/>
                </a:lnTo>
                <a:lnTo>
                  <a:pt x="755" y="130"/>
                </a:lnTo>
                <a:lnTo>
                  <a:pt x="763" y="145"/>
                </a:lnTo>
                <a:lnTo>
                  <a:pt x="772" y="160"/>
                </a:lnTo>
                <a:lnTo>
                  <a:pt x="781" y="175"/>
                </a:lnTo>
                <a:lnTo>
                  <a:pt x="792" y="189"/>
                </a:lnTo>
                <a:lnTo>
                  <a:pt x="802" y="204"/>
                </a:lnTo>
                <a:lnTo>
                  <a:pt x="811" y="218"/>
                </a:lnTo>
                <a:lnTo>
                  <a:pt x="820" y="233"/>
                </a:lnTo>
                <a:lnTo>
                  <a:pt x="828" y="245"/>
                </a:lnTo>
                <a:lnTo>
                  <a:pt x="835" y="258"/>
                </a:lnTo>
                <a:lnTo>
                  <a:pt x="841" y="272"/>
                </a:lnTo>
                <a:lnTo>
                  <a:pt x="847" y="286"/>
                </a:lnTo>
                <a:lnTo>
                  <a:pt x="850" y="300"/>
                </a:lnTo>
                <a:lnTo>
                  <a:pt x="855" y="313"/>
                </a:lnTo>
                <a:lnTo>
                  <a:pt x="858" y="328"/>
                </a:lnTo>
                <a:lnTo>
                  <a:pt x="863" y="342"/>
                </a:lnTo>
                <a:lnTo>
                  <a:pt x="860" y="353"/>
                </a:lnTo>
                <a:lnTo>
                  <a:pt x="853" y="361"/>
                </a:lnTo>
                <a:lnTo>
                  <a:pt x="845" y="368"/>
                </a:lnTo>
                <a:lnTo>
                  <a:pt x="835" y="372"/>
                </a:lnTo>
                <a:lnTo>
                  <a:pt x="818" y="373"/>
                </a:lnTo>
                <a:lnTo>
                  <a:pt x="803" y="370"/>
                </a:lnTo>
                <a:lnTo>
                  <a:pt x="788" y="363"/>
                </a:lnTo>
                <a:lnTo>
                  <a:pt x="774" y="356"/>
                </a:lnTo>
                <a:lnTo>
                  <a:pt x="760" y="348"/>
                </a:lnTo>
                <a:lnTo>
                  <a:pt x="746" y="343"/>
                </a:lnTo>
                <a:lnTo>
                  <a:pt x="728" y="341"/>
                </a:lnTo>
                <a:lnTo>
                  <a:pt x="710" y="343"/>
                </a:lnTo>
                <a:lnTo>
                  <a:pt x="702" y="346"/>
                </a:lnTo>
                <a:lnTo>
                  <a:pt x="693" y="349"/>
                </a:lnTo>
                <a:lnTo>
                  <a:pt x="684" y="353"/>
                </a:lnTo>
                <a:lnTo>
                  <a:pt x="678" y="357"/>
                </a:lnTo>
                <a:lnTo>
                  <a:pt x="669" y="363"/>
                </a:lnTo>
                <a:lnTo>
                  <a:pt x="664" y="370"/>
                </a:lnTo>
                <a:lnTo>
                  <a:pt x="659" y="378"/>
                </a:lnTo>
                <a:lnTo>
                  <a:pt x="656" y="386"/>
                </a:lnTo>
                <a:lnTo>
                  <a:pt x="644" y="417"/>
                </a:lnTo>
                <a:lnTo>
                  <a:pt x="644" y="449"/>
                </a:lnTo>
                <a:lnTo>
                  <a:pt x="651" y="483"/>
                </a:lnTo>
                <a:lnTo>
                  <a:pt x="663" y="515"/>
                </a:lnTo>
                <a:lnTo>
                  <a:pt x="678" y="532"/>
                </a:lnTo>
                <a:lnTo>
                  <a:pt x="694" y="548"/>
                </a:lnTo>
                <a:lnTo>
                  <a:pt x="710" y="562"/>
                </a:lnTo>
                <a:lnTo>
                  <a:pt x="728" y="575"/>
                </a:lnTo>
                <a:lnTo>
                  <a:pt x="748" y="584"/>
                </a:lnTo>
                <a:lnTo>
                  <a:pt x="769" y="591"/>
                </a:lnTo>
                <a:lnTo>
                  <a:pt x="790" y="593"/>
                </a:lnTo>
                <a:lnTo>
                  <a:pt x="815" y="591"/>
                </a:lnTo>
                <a:lnTo>
                  <a:pt x="830" y="587"/>
                </a:lnTo>
                <a:lnTo>
                  <a:pt x="842" y="578"/>
                </a:lnTo>
                <a:lnTo>
                  <a:pt x="854" y="569"/>
                </a:lnTo>
                <a:lnTo>
                  <a:pt x="865" y="559"/>
                </a:lnTo>
                <a:lnTo>
                  <a:pt x="875" y="547"/>
                </a:lnTo>
                <a:lnTo>
                  <a:pt x="884" y="535"/>
                </a:lnTo>
                <a:lnTo>
                  <a:pt x="893" y="522"/>
                </a:lnTo>
                <a:lnTo>
                  <a:pt x="902" y="510"/>
                </a:lnTo>
                <a:lnTo>
                  <a:pt x="907" y="512"/>
                </a:lnTo>
                <a:lnTo>
                  <a:pt x="910" y="510"/>
                </a:lnTo>
                <a:lnTo>
                  <a:pt x="914" y="507"/>
                </a:lnTo>
                <a:lnTo>
                  <a:pt x="915" y="504"/>
                </a:lnTo>
                <a:lnTo>
                  <a:pt x="939" y="504"/>
                </a:lnTo>
                <a:lnTo>
                  <a:pt x="959" y="510"/>
                </a:lnTo>
                <a:lnTo>
                  <a:pt x="976" y="522"/>
                </a:lnTo>
                <a:lnTo>
                  <a:pt x="991" y="537"/>
                </a:lnTo>
                <a:lnTo>
                  <a:pt x="1004" y="555"/>
                </a:lnTo>
                <a:lnTo>
                  <a:pt x="1015" y="575"/>
                </a:lnTo>
                <a:lnTo>
                  <a:pt x="1027" y="595"/>
                </a:lnTo>
                <a:lnTo>
                  <a:pt x="1038" y="612"/>
                </a:lnTo>
                <a:lnTo>
                  <a:pt x="1042" y="623"/>
                </a:lnTo>
                <a:lnTo>
                  <a:pt x="1047" y="634"/>
                </a:lnTo>
                <a:lnTo>
                  <a:pt x="1053" y="645"/>
                </a:lnTo>
                <a:lnTo>
                  <a:pt x="1060" y="656"/>
                </a:lnTo>
                <a:lnTo>
                  <a:pt x="1066" y="666"/>
                </a:lnTo>
                <a:lnTo>
                  <a:pt x="1073" y="676"/>
                </a:lnTo>
                <a:lnTo>
                  <a:pt x="1077" y="688"/>
                </a:lnTo>
                <a:lnTo>
                  <a:pt x="1080" y="699"/>
                </a:lnTo>
                <a:lnTo>
                  <a:pt x="1067" y="703"/>
                </a:lnTo>
                <a:lnTo>
                  <a:pt x="1054" y="707"/>
                </a:lnTo>
                <a:lnTo>
                  <a:pt x="1043" y="713"/>
                </a:lnTo>
                <a:lnTo>
                  <a:pt x="1031" y="719"/>
                </a:lnTo>
                <a:lnTo>
                  <a:pt x="1020" y="726"/>
                </a:lnTo>
                <a:lnTo>
                  <a:pt x="1008" y="732"/>
                </a:lnTo>
                <a:lnTo>
                  <a:pt x="996" y="737"/>
                </a:lnTo>
                <a:lnTo>
                  <a:pt x="984" y="743"/>
                </a:lnTo>
                <a:lnTo>
                  <a:pt x="964" y="754"/>
                </a:lnTo>
                <a:lnTo>
                  <a:pt x="944" y="765"/>
                </a:lnTo>
                <a:lnTo>
                  <a:pt x="924" y="778"/>
                </a:lnTo>
                <a:lnTo>
                  <a:pt x="904" y="788"/>
                </a:lnTo>
                <a:lnTo>
                  <a:pt x="884" y="800"/>
                </a:lnTo>
                <a:lnTo>
                  <a:pt x="864" y="809"/>
                </a:lnTo>
                <a:lnTo>
                  <a:pt x="842" y="818"/>
                </a:lnTo>
                <a:lnTo>
                  <a:pt x="820" y="824"/>
                </a:lnTo>
                <a:lnTo>
                  <a:pt x="812" y="823"/>
                </a:lnTo>
                <a:lnTo>
                  <a:pt x="805" y="822"/>
                </a:lnTo>
                <a:lnTo>
                  <a:pt x="799" y="819"/>
                </a:lnTo>
                <a:lnTo>
                  <a:pt x="794" y="812"/>
                </a:lnTo>
                <a:lnTo>
                  <a:pt x="797" y="805"/>
                </a:lnTo>
                <a:lnTo>
                  <a:pt x="797" y="799"/>
                </a:lnTo>
                <a:lnTo>
                  <a:pt x="796" y="792"/>
                </a:lnTo>
                <a:lnTo>
                  <a:pt x="799" y="785"/>
                </a:lnTo>
                <a:lnTo>
                  <a:pt x="804" y="773"/>
                </a:lnTo>
                <a:lnTo>
                  <a:pt x="809" y="760"/>
                </a:lnTo>
                <a:lnTo>
                  <a:pt x="810" y="748"/>
                </a:lnTo>
                <a:lnTo>
                  <a:pt x="805" y="735"/>
                </a:lnTo>
                <a:lnTo>
                  <a:pt x="803" y="728"/>
                </a:lnTo>
                <a:lnTo>
                  <a:pt x="799" y="720"/>
                </a:lnTo>
                <a:lnTo>
                  <a:pt x="794" y="714"/>
                </a:lnTo>
                <a:lnTo>
                  <a:pt x="788" y="707"/>
                </a:lnTo>
                <a:lnTo>
                  <a:pt x="781" y="703"/>
                </a:lnTo>
                <a:lnTo>
                  <a:pt x="774" y="698"/>
                </a:lnTo>
                <a:lnTo>
                  <a:pt x="766" y="695"/>
                </a:lnTo>
                <a:lnTo>
                  <a:pt x="759" y="693"/>
                </a:lnTo>
                <a:lnTo>
                  <a:pt x="749" y="687"/>
                </a:lnTo>
                <a:lnTo>
                  <a:pt x="739" y="684"/>
                </a:lnTo>
                <a:lnTo>
                  <a:pt x="727" y="682"/>
                </a:lnTo>
                <a:lnTo>
                  <a:pt x="716" y="682"/>
                </a:lnTo>
                <a:lnTo>
                  <a:pt x="703" y="683"/>
                </a:lnTo>
                <a:lnTo>
                  <a:pt x="691" y="683"/>
                </a:lnTo>
                <a:lnTo>
                  <a:pt x="679" y="684"/>
                </a:lnTo>
                <a:lnTo>
                  <a:pt x="666" y="686"/>
                </a:lnTo>
                <a:lnTo>
                  <a:pt x="642" y="693"/>
                </a:lnTo>
                <a:lnTo>
                  <a:pt x="619" y="701"/>
                </a:lnTo>
                <a:lnTo>
                  <a:pt x="596" y="710"/>
                </a:lnTo>
                <a:lnTo>
                  <a:pt x="573" y="721"/>
                </a:lnTo>
                <a:lnTo>
                  <a:pt x="551" y="734"/>
                </a:lnTo>
                <a:lnTo>
                  <a:pt x="531" y="750"/>
                </a:lnTo>
                <a:lnTo>
                  <a:pt x="513" y="767"/>
                </a:lnTo>
                <a:lnTo>
                  <a:pt x="497" y="787"/>
                </a:lnTo>
                <a:lnTo>
                  <a:pt x="493" y="809"/>
                </a:lnTo>
                <a:lnTo>
                  <a:pt x="495" y="832"/>
                </a:lnTo>
                <a:lnTo>
                  <a:pt x="502" y="855"/>
                </a:lnTo>
                <a:lnTo>
                  <a:pt x="514" y="875"/>
                </a:lnTo>
                <a:lnTo>
                  <a:pt x="551" y="906"/>
                </a:lnTo>
                <a:lnTo>
                  <a:pt x="546" y="916"/>
                </a:lnTo>
                <a:lnTo>
                  <a:pt x="542" y="925"/>
                </a:lnTo>
                <a:lnTo>
                  <a:pt x="534" y="933"/>
                </a:lnTo>
                <a:lnTo>
                  <a:pt x="524" y="939"/>
                </a:lnTo>
                <a:lnTo>
                  <a:pt x="513" y="948"/>
                </a:lnTo>
                <a:lnTo>
                  <a:pt x="499" y="958"/>
                </a:lnTo>
                <a:lnTo>
                  <a:pt x="485" y="966"/>
                </a:lnTo>
                <a:lnTo>
                  <a:pt x="471" y="972"/>
                </a:lnTo>
                <a:lnTo>
                  <a:pt x="456" y="979"/>
                </a:lnTo>
                <a:lnTo>
                  <a:pt x="443" y="987"/>
                </a:lnTo>
                <a:lnTo>
                  <a:pt x="429" y="996"/>
                </a:lnTo>
                <a:lnTo>
                  <a:pt x="415" y="1005"/>
                </a:lnTo>
                <a:lnTo>
                  <a:pt x="407" y="1005"/>
                </a:lnTo>
                <a:lnTo>
                  <a:pt x="396" y="987"/>
                </a:lnTo>
                <a:lnTo>
                  <a:pt x="387" y="971"/>
                </a:lnTo>
                <a:lnTo>
                  <a:pt x="378" y="954"/>
                </a:lnTo>
                <a:lnTo>
                  <a:pt x="370" y="936"/>
                </a:lnTo>
                <a:lnTo>
                  <a:pt x="362" y="918"/>
                </a:lnTo>
                <a:lnTo>
                  <a:pt x="355" y="901"/>
                </a:lnTo>
                <a:lnTo>
                  <a:pt x="348" y="883"/>
                </a:lnTo>
                <a:lnTo>
                  <a:pt x="342" y="864"/>
                </a:lnTo>
                <a:lnTo>
                  <a:pt x="337" y="854"/>
                </a:lnTo>
                <a:lnTo>
                  <a:pt x="332" y="843"/>
                </a:lnTo>
                <a:lnTo>
                  <a:pt x="325" y="833"/>
                </a:lnTo>
                <a:lnTo>
                  <a:pt x="319" y="823"/>
                </a:lnTo>
                <a:lnTo>
                  <a:pt x="311" y="813"/>
                </a:lnTo>
                <a:lnTo>
                  <a:pt x="302" y="807"/>
                </a:lnTo>
                <a:lnTo>
                  <a:pt x="292" y="801"/>
                </a:lnTo>
                <a:lnTo>
                  <a:pt x="279" y="797"/>
                </a:lnTo>
                <a:lnTo>
                  <a:pt x="272" y="796"/>
                </a:lnTo>
                <a:lnTo>
                  <a:pt x="264" y="796"/>
                </a:lnTo>
                <a:lnTo>
                  <a:pt x="256" y="796"/>
                </a:lnTo>
                <a:lnTo>
                  <a:pt x="248" y="796"/>
                </a:lnTo>
                <a:lnTo>
                  <a:pt x="240" y="797"/>
                </a:lnTo>
                <a:lnTo>
                  <a:pt x="233" y="800"/>
                </a:lnTo>
                <a:lnTo>
                  <a:pt x="227" y="804"/>
                </a:lnTo>
                <a:lnTo>
                  <a:pt x="221" y="810"/>
                </a:lnTo>
                <a:lnTo>
                  <a:pt x="214" y="820"/>
                </a:lnTo>
                <a:lnTo>
                  <a:pt x="209" y="833"/>
                </a:lnTo>
                <a:lnTo>
                  <a:pt x="205" y="846"/>
                </a:lnTo>
                <a:lnTo>
                  <a:pt x="202" y="857"/>
                </a:lnTo>
                <a:lnTo>
                  <a:pt x="198" y="870"/>
                </a:lnTo>
                <a:lnTo>
                  <a:pt x="191" y="879"/>
                </a:lnTo>
                <a:lnTo>
                  <a:pt x="182" y="887"/>
                </a:lnTo>
                <a:lnTo>
                  <a:pt x="168" y="892"/>
                </a:lnTo>
                <a:lnTo>
                  <a:pt x="148" y="888"/>
                </a:lnTo>
                <a:lnTo>
                  <a:pt x="127" y="883"/>
                </a:lnTo>
                <a:lnTo>
                  <a:pt x="108" y="875"/>
                </a:lnTo>
                <a:lnTo>
                  <a:pt x="90" y="864"/>
                </a:lnTo>
                <a:lnTo>
                  <a:pt x="72" y="852"/>
                </a:lnTo>
                <a:lnTo>
                  <a:pt x="55" y="838"/>
                </a:lnTo>
                <a:lnTo>
                  <a:pt x="42" y="823"/>
                </a:lnTo>
                <a:lnTo>
                  <a:pt x="28" y="807"/>
                </a:lnTo>
                <a:lnTo>
                  <a:pt x="19" y="789"/>
                </a:lnTo>
                <a:lnTo>
                  <a:pt x="12" y="772"/>
                </a:lnTo>
                <a:lnTo>
                  <a:pt x="5" y="754"/>
                </a:lnTo>
                <a:lnTo>
                  <a:pt x="1" y="735"/>
                </a:lnTo>
                <a:lnTo>
                  <a:pt x="0" y="717"/>
                </a:lnTo>
                <a:lnTo>
                  <a:pt x="2" y="697"/>
                </a:lnTo>
                <a:lnTo>
                  <a:pt x="8" y="680"/>
                </a:lnTo>
                <a:lnTo>
                  <a:pt x="17" y="661"/>
                </a:lnTo>
                <a:lnTo>
                  <a:pt x="34" y="648"/>
                </a:lnTo>
                <a:lnTo>
                  <a:pt x="50" y="641"/>
                </a:lnTo>
                <a:lnTo>
                  <a:pt x="67" y="641"/>
                </a:lnTo>
                <a:lnTo>
                  <a:pt x="85" y="644"/>
                </a:lnTo>
                <a:lnTo>
                  <a:pt x="103" y="649"/>
                </a:lnTo>
                <a:lnTo>
                  <a:pt x="121" y="651"/>
                </a:lnTo>
                <a:lnTo>
                  <a:pt x="139" y="649"/>
                </a:lnTo>
                <a:lnTo>
                  <a:pt x="157" y="640"/>
                </a:lnTo>
                <a:lnTo>
                  <a:pt x="172" y="616"/>
                </a:lnTo>
                <a:lnTo>
                  <a:pt x="178" y="591"/>
                </a:lnTo>
                <a:lnTo>
                  <a:pt x="176" y="563"/>
                </a:lnTo>
                <a:lnTo>
                  <a:pt x="172" y="539"/>
                </a:lnTo>
                <a:lnTo>
                  <a:pt x="167" y="528"/>
                </a:lnTo>
                <a:lnTo>
                  <a:pt x="163" y="516"/>
                </a:lnTo>
                <a:lnTo>
                  <a:pt x="157" y="505"/>
                </a:lnTo>
                <a:lnTo>
                  <a:pt x="152" y="493"/>
                </a:lnTo>
                <a:lnTo>
                  <a:pt x="146" y="482"/>
                </a:lnTo>
                <a:lnTo>
                  <a:pt x="139" y="470"/>
                </a:lnTo>
                <a:lnTo>
                  <a:pt x="133" y="459"/>
                </a:lnTo>
                <a:lnTo>
                  <a:pt x="126" y="448"/>
                </a:lnTo>
                <a:lnTo>
                  <a:pt x="119" y="441"/>
                </a:lnTo>
                <a:lnTo>
                  <a:pt x="115" y="432"/>
                </a:lnTo>
                <a:lnTo>
                  <a:pt x="112" y="423"/>
                </a:lnTo>
                <a:lnTo>
                  <a:pt x="105" y="415"/>
                </a:lnTo>
                <a:lnTo>
                  <a:pt x="101" y="399"/>
                </a:lnTo>
                <a:lnTo>
                  <a:pt x="114" y="392"/>
                </a:lnTo>
                <a:lnTo>
                  <a:pt x="128" y="386"/>
                </a:lnTo>
                <a:lnTo>
                  <a:pt x="141" y="379"/>
                </a:lnTo>
                <a:lnTo>
                  <a:pt x="153" y="372"/>
                </a:lnTo>
                <a:lnTo>
                  <a:pt x="167" y="365"/>
                </a:lnTo>
                <a:lnTo>
                  <a:pt x="180" y="358"/>
                </a:lnTo>
                <a:lnTo>
                  <a:pt x="194" y="351"/>
                </a:lnTo>
                <a:lnTo>
                  <a:pt x="206" y="345"/>
                </a:lnTo>
                <a:lnTo>
                  <a:pt x="220" y="338"/>
                </a:lnTo>
                <a:lnTo>
                  <a:pt x="233" y="331"/>
                </a:lnTo>
                <a:lnTo>
                  <a:pt x="247" y="324"/>
                </a:lnTo>
                <a:lnTo>
                  <a:pt x="260" y="316"/>
                </a:lnTo>
                <a:lnTo>
                  <a:pt x="273" y="309"/>
                </a:lnTo>
                <a:lnTo>
                  <a:pt x="287" y="302"/>
                </a:lnTo>
                <a:lnTo>
                  <a:pt x="300" y="295"/>
                </a:lnTo>
                <a:lnTo>
                  <a:pt x="313" y="288"/>
                </a:lnTo>
                <a:lnTo>
                  <a:pt x="325" y="278"/>
                </a:lnTo>
                <a:lnTo>
                  <a:pt x="332" y="265"/>
                </a:lnTo>
                <a:lnTo>
                  <a:pt x="334" y="251"/>
                </a:lnTo>
                <a:lnTo>
                  <a:pt x="335" y="237"/>
                </a:lnTo>
                <a:lnTo>
                  <a:pt x="328" y="226"/>
                </a:lnTo>
                <a:lnTo>
                  <a:pt x="320" y="213"/>
                </a:lnTo>
                <a:lnTo>
                  <a:pt x="312" y="203"/>
                </a:lnTo>
                <a:lnTo>
                  <a:pt x="303" y="191"/>
                </a:lnTo>
                <a:lnTo>
                  <a:pt x="292" y="183"/>
                </a:lnTo>
                <a:lnTo>
                  <a:pt x="280" y="176"/>
                </a:lnTo>
                <a:lnTo>
                  <a:pt x="267" y="172"/>
                </a:lnTo>
                <a:lnTo>
                  <a:pt x="252" y="171"/>
                </a:lnTo>
                <a:lnTo>
                  <a:pt x="243" y="160"/>
                </a:lnTo>
                <a:lnTo>
                  <a:pt x="235" y="148"/>
                </a:lnTo>
                <a:lnTo>
                  <a:pt x="232" y="133"/>
                </a:lnTo>
                <a:lnTo>
                  <a:pt x="234" y="116"/>
                </a:lnTo>
                <a:lnTo>
                  <a:pt x="242" y="104"/>
                </a:lnTo>
                <a:lnTo>
                  <a:pt x="250" y="91"/>
                </a:lnTo>
                <a:lnTo>
                  <a:pt x="259" y="78"/>
                </a:lnTo>
                <a:lnTo>
                  <a:pt x="269" y="68"/>
                </a:lnTo>
                <a:lnTo>
                  <a:pt x="280" y="58"/>
                </a:lnTo>
                <a:lnTo>
                  <a:pt x="290" y="48"/>
                </a:lnTo>
                <a:lnTo>
                  <a:pt x="303" y="39"/>
                </a:lnTo>
                <a:lnTo>
                  <a:pt x="315" y="32"/>
                </a:lnTo>
                <a:lnTo>
                  <a:pt x="328" y="25"/>
                </a:lnTo>
                <a:lnTo>
                  <a:pt x="341" y="19"/>
                </a:lnTo>
                <a:lnTo>
                  <a:pt x="355" y="14"/>
                </a:lnTo>
                <a:lnTo>
                  <a:pt x="370" y="9"/>
                </a:lnTo>
                <a:lnTo>
                  <a:pt x="384" y="6"/>
                </a:lnTo>
                <a:lnTo>
                  <a:pt x="399" y="2"/>
                </a:lnTo>
                <a:lnTo>
                  <a:pt x="415" y="1"/>
                </a:lnTo>
                <a:lnTo>
                  <a:pt x="430" y="0"/>
                </a:lnTo>
                <a:lnTo>
                  <a:pt x="438" y="0"/>
                </a:lnTo>
                <a:lnTo>
                  <a:pt x="446" y="1"/>
                </a:lnTo>
                <a:lnTo>
                  <a:pt x="455" y="4"/>
                </a:lnTo>
                <a:lnTo>
                  <a:pt x="463" y="5"/>
                </a:lnTo>
                <a:lnTo>
                  <a:pt x="471" y="8"/>
                </a:lnTo>
                <a:lnTo>
                  <a:pt x="479" y="10"/>
                </a:lnTo>
                <a:lnTo>
                  <a:pt x="487" y="14"/>
                </a:lnTo>
                <a:lnTo>
                  <a:pt x="495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88000" y="1689120"/>
            <a:ext cx="15840" cy="9360"/>
          </a:xfrm>
          <a:custGeom>
            <a:avLst/>
            <a:gdLst/>
            <a:ahLst/>
            <a:rect l="l" t="t" r="r" b="b"/>
            <a:pathLst>
              <a:path w="65" h="40">
                <a:moveTo>
                  <a:pt x="65" y="25"/>
                </a:moveTo>
                <a:lnTo>
                  <a:pt x="62" y="30"/>
                </a:lnTo>
                <a:lnTo>
                  <a:pt x="60" y="35"/>
                </a:lnTo>
                <a:lnTo>
                  <a:pt x="57" y="37"/>
                </a:lnTo>
                <a:lnTo>
                  <a:pt x="52" y="40"/>
                </a:lnTo>
                <a:lnTo>
                  <a:pt x="44" y="38"/>
                </a:lnTo>
                <a:lnTo>
                  <a:pt x="36" y="35"/>
                </a:lnTo>
                <a:lnTo>
                  <a:pt x="27" y="32"/>
                </a:lnTo>
                <a:lnTo>
                  <a:pt x="19" y="29"/>
                </a:lnTo>
                <a:lnTo>
                  <a:pt x="11" y="24"/>
                </a:lnTo>
                <a:lnTo>
                  <a:pt x="5" y="18"/>
                </a:lnTo>
                <a:lnTo>
                  <a:pt x="1" y="10"/>
                </a:lnTo>
                <a:lnTo>
                  <a:pt x="0" y="0"/>
                </a:lnTo>
                <a:lnTo>
                  <a:pt x="7" y="6"/>
                </a:lnTo>
                <a:lnTo>
                  <a:pt x="14" y="10"/>
                </a:lnTo>
                <a:lnTo>
                  <a:pt x="22" y="14"/>
                </a:lnTo>
                <a:lnTo>
                  <a:pt x="31" y="16"/>
                </a:lnTo>
                <a:lnTo>
                  <a:pt x="39" y="18"/>
                </a:lnTo>
                <a:lnTo>
                  <a:pt x="47" y="20"/>
                </a:lnTo>
                <a:lnTo>
                  <a:pt x="57" y="22"/>
                </a:lnTo>
                <a:lnTo>
                  <a:pt x="65" y="2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32640" y="1690560"/>
            <a:ext cx="1440" cy="1800"/>
          </a:xfrm>
          <a:custGeom>
            <a:avLst/>
            <a:gdLst/>
            <a:ahLst/>
            <a:rect l="l" t="t" r="r" b="b"/>
            <a:pathLst>
              <a:path w="7" h="3">
                <a:moveTo>
                  <a:pt x="7" y="3"/>
                </a:moveTo>
                <a:lnTo>
                  <a:pt x="0" y="0"/>
                </a:lnTo>
                <a:lnTo>
                  <a:pt x="4" y="0"/>
                </a:lnTo>
                <a:lnTo>
                  <a:pt x="7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48480" y="1692360"/>
            <a:ext cx="4680" cy="3240"/>
          </a:xfrm>
          <a:custGeom>
            <a:avLst/>
            <a:gdLst/>
            <a:ahLst/>
            <a:rect l="l" t="t" r="r" b="b"/>
            <a:pathLst>
              <a:path w="23" h="12">
                <a:moveTo>
                  <a:pt x="23" y="5"/>
                </a:moveTo>
                <a:lnTo>
                  <a:pt x="19" y="7"/>
                </a:lnTo>
                <a:lnTo>
                  <a:pt x="14" y="9"/>
                </a:lnTo>
                <a:lnTo>
                  <a:pt x="8" y="10"/>
                </a:lnTo>
                <a:lnTo>
                  <a:pt x="2" y="12"/>
                </a:lnTo>
                <a:lnTo>
                  <a:pt x="0" y="8"/>
                </a:lnTo>
                <a:lnTo>
                  <a:pt x="1" y="3"/>
                </a:lnTo>
                <a:lnTo>
                  <a:pt x="4" y="1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21" y="1"/>
                </a:lnTo>
                <a:lnTo>
                  <a:pt x="23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670800" y="1692360"/>
            <a:ext cx="20520" cy="4680"/>
          </a:xfrm>
          <a:custGeom>
            <a:avLst/>
            <a:gdLst/>
            <a:ahLst/>
            <a:rect l="l" t="t" r="r" b="b"/>
            <a:pathLst>
              <a:path w="82" h="18">
                <a:moveTo>
                  <a:pt x="82" y="5"/>
                </a:moveTo>
                <a:lnTo>
                  <a:pt x="82" y="7"/>
                </a:lnTo>
                <a:lnTo>
                  <a:pt x="82" y="9"/>
                </a:lnTo>
                <a:lnTo>
                  <a:pt x="80" y="13"/>
                </a:lnTo>
                <a:lnTo>
                  <a:pt x="78" y="15"/>
                </a:lnTo>
                <a:lnTo>
                  <a:pt x="7" y="18"/>
                </a:lnTo>
                <a:lnTo>
                  <a:pt x="3" y="15"/>
                </a:lnTo>
                <a:lnTo>
                  <a:pt x="0" y="9"/>
                </a:lnTo>
                <a:lnTo>
                  <a:pt x="0" y="5"/>
                </a:lnTo>
                <a:lnTo>
                  <a:pt x="3" y="0"/>
                </a:lnTo>
                <a:lnTo>
                  <a:pt x="12" y="1"/>
                </a:lnTo>
                <a:lnTo>
                  <a:pt x="22" y="1"/>
                </a:lnTo>
                <a:lnTo>
                  <a:pt x="33" y="1"/>
                </a:lnTo>
                <a:lnTo>
                  <a:pt x="43" y="0"/>
                </a:lnTo>
                <a:lnTo>
                  <a:pt x="53" y="0"/>
                </a:lnTo>
                <a:lnTo>
                  <a:pt x="64" y="0"/>
                </a:lnTo>
                <a:lnTo>
                  <a:pt x="73" y="1"/>
                </a:lnTo>
                <a:lnTo>
                  <a:pt x="82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4720" y="1693800"/>
            <a:ext cx="4680" cy="324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0"/>
                </a:moveTo>
                <a:lnTo>
                  <a:pt x="14" y="5"/>
                </a:lnTo>
                <a:lnTo>
                  <a:pt x="11" y="7"/>
                </a:lnTo>
                <a:lnTo>
                  <a:pt x="5" y="8"/>
                </a:lnTo>
                <a:lnTo>
                  <a:pt x="0" y="8"/>
                </a:lnTo>
                <a:lnTo>
                  <a:pt x="1" y="4"/>
                </a:lnTo>
                <a:lnTo>
                  <a:pt x="6" y="1"/>
                </a:lnTo>
                <a:lnTo>
                  <a:pt x="12" y="0"/>
                </a:lnTo>
                <a:lnTo>
                  <a:pt x="16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637320" y="1698480"/>
            <a:ext cx="4680" cy="3240"/>
          </a:xfrm>
          <a:custGeom>
            <a:avLst/>
            <a:gdLst/>
            <a:ahLst/>
            <a:rect l="l" t="t" r="r" b="b"/>
            <a:pathLst>
              <a:path w="15" h="13">
                <a:moveTo>
                  <a:pt x="14" y="0"/>
                </a:moveTo>
                <a:lnTo>
                  <a:pt x="15" y="5"/>
                </a:lnTo>
                <a:lnTo>
                  <a:pt x="13" y="8"/>
                </a:lnTo>
                <a:lnTo>
                  <a:pt x="10" y="10"/>
                </a:lnTo>
                <a:lnTo>
                  <a:pt x="6" y="13"/>
                </a:lnTo>
                <a:lnTo>
                  <a:pt x="0" y="7"/>
                </a:lnTo>
                <a:lnTo>
                  <a:pt x="1" y="2"/>
                </a:lnTo>
                <a:lnTo>
                  <a:pt x="6" y="0"/>
                </a:lnTo>
                <a:lnTo>
                  <a:pt x="11" y="0"/>
                </a:lnTo>
                <a:lnTo>
                  <a:pt x="1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15000" y="1698480"/>
            <a:ext cx="3240" cy="3240"/>
          </a:xfrm>
          <a:custGeom>
            <a:avLst/>
            <a:gdLst/>
            <a:ahLst/>
            <a:rect l="l" t="t" r="r" b="b"/>
            <a:pathLst>
              <a:path w="17" h="13">
                <a:moveTo>
                  <a:pt x="16" y="0"/>
                </a:moveTo>
                <a:lnTo>
                  <a:pt x="17" y="5"/>
                </a:lnTo>
                <a:lnTo>
                  <a:pt x="15" y="8"/>
                </a:lnTo>
                <a:lnTo>
                  <a:pt x="13" y="10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2" y="11"/>
                </a:lnTo>
                <a:lnTo>
                  <a:pt x="0" y="10"/>
                </a:lnTo>
                <a:lnTo>
                  <a:pt x="3" y="7"/>
                </a:lnTo>
                <a:lnTo>
                  <a:pt x="7" y="3"/>
                </a:lnTo>
                <a:lnTo>
                  <a:pt x="11" y="1"/>
                </a:lnTo>
                <a:lnTo>
                  <a:pt x="16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670800" y="1700280"/>
            <a:ext cx="23760" cy="4680"/>
          </a:xfrm>
          <a:custGeom>
            <a:avLst/>
            <a:gdLst/>
            <a:ahLst/>
            <a:rect l="l" t="t" r="r" b="b"/>
            <a:pathLst>
              <a:path w="98" h="21">
                <a:moveTo>
                  <a:pt x="98" y="9"/>
                </a:moveTo>
                <a:lnTo>
                  <a:pt x="97" y="14"/>
                </a:lnTo>
                <a:lnTo>
                  <a:pt x="94" y="16"/>
                </a:lnTo>
                <a:lnTo>
                  <a:pt x="88" y="16"/>
                </a:lnTo>
                <a:lnTo>
                  <a:pt x="82" y="16"/>
                </a:lnTo>
                <a:lnTo>
                  <a:pt x="73" y="17"/>
                </a:lnTo>
                <a:lnTo>
                  <a:pt x="63" y="18"/>
                </a:lnTo>
                <a:lnTo>
                  <a:pt x="53" y="18"/>
                </a:lnTo>
                <a:lnTo>
                  <a:pt x="45" y="18"/>
                </a:lnTo>
                <a:lnTo>
                  <a:pt x="36" y="18"/>
                </a:lnTo>
                <a:lnTo>
                  <a:pt x="27" y="18"/>
                </a:lnTo>
                <a:lnTo>
                  <a:pt x="17" y="20"/>
                </a:lnTo>
                <a:lnTo>
                  <a:pt x="7" y="21"/>
                </a:lnTo>
                <a:lnTo>
                  <a:pt x="4" y="17"/>
                </a:lnTo>
                <a:lnTo>
                  <a:pt x="2" y="13"/>
                </a:lnTo>
                <a:lnTo>
                  <a:pt x="0" y="8"/>
                </a:lnTo>
                <a:lnTo>
                  <a:pt x="3" y="5"/>
                </a:lnTo>
                <a:lnTo>
                  <a:pt x="12" y="5"/>
                </a:lnTo>
                <a:lnTo>
                  <a:pt x="22" y="3"/>
                </a:lnTo>
                <a:lnTo>
                  <a:pt x="32" y="2"/>
                </a:lnTo>
                <a:lnTo>
                  <a:pt x="42" y="1"/>
                </a:lnTo>
                <a:lnTo>
                  <a:pt x="51" y="0"/>
                </a:lnTo>
                <a:lnTo>
                  <a:pt x="61" y="0"/>
                </a:lnTo>
                <a:lnTo>
                  <a:pt x="71" y="2"/>
                </a:lnTo>
                <a:lnTo>
                  <a:pt x="81" y="6"/>
                </a:lnTo>
                <a:lnTo>
                  <a:pt x="86" y="6"/>
                </a:lnTo>
                <a:lnTo>
                  <a:pt x="89" y="6"/>
                </a:lnTo>
                <a:lnTo>
                  <a:pt x="94" y="7"/>
                </a:lnTo>
                <a:lnTo>
                  <a:pt x="98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07080" y="1703520"/>
            <a:ext cx="3240" cy="144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3"/>
                </a:moveTo>
                <a:lnTo>
                  <a:pt x="9" y="6"/>
                </a:lnTo>
                <a:lnTo>
                  <a:pt x="7" y="8"/>
                </a:lnTo>
                <a:lnTo>
                  <a:pt x="3" y="10"/>
                </a:lnTo>
                <a:lnTo>
                  <a:pt x="0" y="11"/>
                </a:lnTo>
                <a:lnTo>
                  <a:pt x="0" y="7"/>
                </a:lnTo>
                <a:lnTo>
                  <a:pt x="1" y="5"/>
                </a:lnTo>
                <a:lnTo>
                  <a:pt x="5" y="4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0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629400" y="1703520"/>
            <a:ext cx="1440" cy="1440"/>
          </a:xfrm>
          <a:custGeom>
            <a:avLst/>
            <a:gdLst/>
            <a:ahLst/>
            <a:rect l="l" t="t" r="r" b="b"/>
            <a:pathLst>
              <a:path w="11" h="8">
                <a:moveTo>
                  <a:pt x="8" y="0"/>
                </a:moveTo>
                <a:lnTo>
                  <a:pt x="8" y="1"/>
                </a:lnTo>
                <a:lnTo>
                  <a:pt x="8" y="2"/>
                </a:lnTo>
                <a:lnTo>
                  <a:pt x="10" y="3"/>
                </a:lnTo>
                <a:lnTo>
                  <a:pt x="11" y="3"/>
                </a:lnTo>
                <a:lnTo>
                  <a:pt x="8" y="5"/>
                </a:lnTo>
                <a:lnTo>
                  <a:pt x="6" y="5"/>
                </a:lnTo>
                <a:lnTo>
                  <a:pt x="3" y="7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42000" y="1706400"/>
            <a:ext cx="5040" cy="3240"/>
          </a:xfrm>
          <a:custGeom>
            <a:avLst/>
            <a:gdLst/>
            <a:ahLst/>
            <a:rect l="l" t="t" r="r" b="b"/>
            <a:pathLst>
              <a:path w="21" h="13">
                <a:moveTo>
                  <a:pt x="21" y="6"/>
                </a:moveTo>
                <a:lnTo>
                  <a:pt x="18" y="10"/>
                </a:lnTo>
                <a:lnTo>
                  <a:pt x="12" y="11"/>
                </a:lnTo>
                <a:lnTo>
                  <a:pt x="7" y="11"/>
                </a:lnTo>
                <a:lnTo>
                  <a:pt x="3" y="13"/>
                </a:lnTo>
                <a:lnTo>
                  <a:pt x="0" y="6"/>
                </a:lnTo>
                <a:lnTo>
                  <a:pt x="6" y="4"/>
                </a:lnTo>
                <a:lnTo>
                  <a:pt x="13" y="0"/>
                </a:lnTo>
                <a:lnTo>
                  <a:pt x="18" y="0"/>
                </a:lnTo>
                <a:lnTo>
                  <a:pt x="2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18240" y="1708200"/>
            <a:ext cx="4680" cy="3240"/>
          </a:xfrm>
          <a:custGeom>
            <a:avLst/>
            <a:gdLst/>
            <a:ahLst/>
            <a:rect l="l" t="t" r="r" b="b"/>
            <a:pathLst>
              <a:path w="17" h="12">
                <a:moveTo>
                  <a:pt x="17" y="2"/>
                </a:moveTo>
                <a:lnTo>
                  <a:pt x="5" y="12"/>
                </a:lnTo>
                <a:lnTo>
                  <a:pt x="0" y="8"/>
                </a:lnTo>
                <a:lnTo>
                  <a:pt x="3" y="5"/>
                </a:lnTo>
                <a:lnTo>
                  <a:pt x="7" y="1"/>
                </a:lnTo>
                <a:lnTo>
                  <a:pt x="13" y="0"/>
                </a:lnTo>
                <a:lnTo>
                  <a:pt x="17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69000" y="1711440"/>
            <a:ext cx="22320" cy="3240"/>
          </a:xfrm>
          <a:custGeom>
            <a:avLst/>
            <a:gdLst/>
            <a:ahLst/>
            <a:rect l="l" t="t" r="r" b="b"/>
            <a:pathLst>
              <a:path w="91" h="15">
                <a:moveTo>
                  <a:pt x="91" y="4"/>
                </a:moveTo>
                <a:lnTo>
                  <a:pt x="91" y="11"/>
                </a:lnTo>
                <a:lnTo>
                  <a:pt x="80" y="12"/>
                </a:lnTo>
                <a:lnTo>
                  <a:pt x="68" y="14"/>
                </a:lnTo>
                <a:lnTo>
                  <a:pt x="57" y="14"/>
                </a:lnTo>
                <a:lnTo>
                  <a:pt x="45" y="15"/>
                </a:lnTo>
                <a:lnTo>
                  <a:pt x="34" y="15"/>
                </a:lnTo>
                <a:lnTo>
                  <a:pt x="23" y="15"/>
                </a:lnTo>
                <a:lnTo>
                  <a:pt x="12" y="15"/>
                </a:lnTo>
                <a:lnTo>
                  <a:pt x="1" y="14"/>
                </a:lnTo>
                <a:lnTo>
                  <a:pt x="0" y="10"/>
                </a:lnTo>
                <a:lnTo>
                  <a:pt x="3" y="5"/>
                </a:lnTo>
                <a:lnTo>
                  <a:pt x="7" y="1"/>
                </a:lnTo>
                <a:lnTo>
                  <a:pt x="12" y="0"/>
                </a:lnTo>
                <a:lnTo>
                  <a:pt x="22" y="0"/>
                </a:lnTo>
                <a:lnTo>
                  <a:pt x="32" y="0"/>
                </a:lnTo>
                <a:lnTo>
                  <a:pt x="43" y="0"/>
                </a:lnTo>
                <a:lnTo>
                  <a:pt x="53" y="0"/>
                </a:lnTo>
                <a:lnTo>
                  <a:pt x="62" y="0"/>
                </a:lnTo>
                <a:lnTo>
                  <a:pt x="73" y="0"/>
                </a:lnTo>
                <a:lnTo>
                  <a:pt x="82" y="1"/>
                </a:lnTo>
                <a:lnTo>
                  <a:pt x="9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632640" y="1711440"/>
            <a:ext cx="3240" cy="4680"/>
          </a:xfrm>
          <a:custGeom>
            <a:avLst/>
            <a:gdLst/>
            <a:ahLst/>
            <a:rect l="l" t="t" r="r" b="b"/>
            <a:pathLst>
              <a:path w="16" h="14">
                <a:moveTo>
                  <a:pt x="16" y="8"/>
                </a:moveTo>
                <a:lnTo>
                  <a:pt x="12" y="9"/>
                </a:lnTo>
                <a:lnTo>
                  <a:pt x="8" y="11"/>
                </a:lnTo>
                <a:lnTo>
                  <a:pt x="5" y="14"/>
                </a:lnTo>
                <a:lnTo>
                  <a:pt x="0" y="12"/>
                </a:lnTo>
                <a:lnTo>
                  <a:pt x="13" y="0"/>
                </a:lnTo>
                <a:lnTo>
                  <a:pt x="14" y="2"/>
                </a:lnTo>
                <a:lnTo>
                  <a:pt x="16" y="3"/>
                </a:lnTo>
                <a:lnTo>
                  <a:pt x="16" y="6"/>
                </a:lnTo>
                <a:lnTo>
                  <a:pt x="16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10320" y="1712880"/>
            <a:ext cx="4680" cy="1800"/>
          </a:xfrm>
          <a:custGeom>
            <a:avLst/>
            <a:gdLst/>
            <a:ahLst/>
            <a:rect l="l" t="t" r="r" b="b"/>
            <a:pathLst>
              <a:path w="19" h="10">
                <a:moveTo>
                  <a:pt x="19" y="2"/>
                </a:moveTo>
                <a:lnTo>
                  <a:pt x="15" y="6"/>
                </a:lnTo>
                <a:lnTo>
                  <a:pt x="12" y="8"/>
                </a:lnTo>
                <a:lnTo>
                  <a:pt x="7" y="9"/>
                </a:lnTo>
                <a:lnTo>
                  <a:pt x="4" y="10"/>
                </a:lnTo>
                <a:lnTo>
                  <a:pt x="0" y="8"/>
                </a:lnTo>
                <a:lnTo>
                  <a:pt x="4" y="6"/>
                </a:lnTo>
                <a:lnTo>
                  <a:pt x="8" y="1"/>
                </a:lnTo>
                <a:lnTo>
                  <a:pt x="13" y="0"/>
                </a:lnTo>
                <a:lnTo>
                  <a:pt x="19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37400" y="1717560"/>
            <a:ext cx="17280" cy="5040"/>
          </a:xfrm>
          <a:custGeom>
            <a:avLst/>
            <a:gdLst/>
            <a:ahLst/>
            <a:rect l="l" t="t" r="r" b="b"/>
            <a:pathLst>
              <a:path w="73" h="17">
                <a:moveTo>
                  <a:pt x="73" y="13"/>
                </a:moveTo>
                <a:lnTo>
                  <a:pt x="64" y="15"/>
                </a:lnTo>
                <a:lnTo>
                  <a:pt x="54" y="16"/>
                </a:lnTo>
                <a:lnTo>
                  <a:pt x="45" y="17"/>
                </a:lnTo>
                <a:lnTo>
                  <a:pt x="36" y="17"/>
                </a:lnTo>
                <a:lnTo>
                  <a:pt x="27" y="17"/>
                </a:lnTo>
                <a:lnTo>
                  <a:pt x="18" y="16"/>
                </a:lnTo>
                <a:lnTo>
                  <a:pt x="8" y="13"/>
                </a:lnTo>
                <a:lnTo>
                  <a:pt x="0" y="9"/>
                </a:lnTo>
                <a:lnTo>
                  <a:pt x="0" y="2"/>
                </a:lnTo>
                <a:lnTo>
                  <a:pt x="8" y="1"/>
                </a:lnTo>
                <a:lnTo>
                  <a:pt x="16" y="0"/>
                </a:lnTo>
                <a:lnTo>
                  <a:pt x="25" y="0"/>
                </a:lnTo>
                <a:lnTo>
                  <a:pt x="33" y="1"/>
                </a:lnTo>
                <a:lnTo>
                  <a:pt x="41" y="2"/>
                </a:lnTo>
                <a:lnTo>
                  <a:pt x="49" y="4"/>
                </a:lnTo>
                <a:lnTo>
                  <a:pt x="57" y="5"/>
                </a:lnTo>
                <a:lnTo>
                  <a:pt x="65" y="5"/>
                </a:lnTo>
                <a:lnTo>
                  <a:pt x="73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02400" y="1717560"/>
            <a:ext cx="3240" cy="504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17"/>
                </a:moveTo>
                <a:lnTo>
                  <a:pt x="2" y="16"/>
                </a:lnTo>
                <a:lnTo>
                  <a:pt x="1" y="13"/>
                </a:lnTo>
                <a:lnTo>
                  <a:pt x="0" y="11"/>
                </a:lnTo>
                <a:lnTo>
                  <a:pt x="2" y="7"/>
                </a:lnTo>
                <a:lnTo>
                  <a:pt x="5" y="6"/>
                </a:lnTo>
                <a:lnTo>
                  <a:pt x="9" y="5"/>
                </a:lnTo>
                <a:lnTo>
                  <a:pt x="14" y="2"/>
                </a:lnTo>
                <a:lnTo>
                  <a:pt x="17" y="0"/>
                </a:lnTo>
                <a:lnTo>
                  <a:pt x="3" y="1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22920" y="1717560"/>
            <a:ext cx="5040" cy="3240"/>
          </a:xfrm>
          <a:custGeom>
            <a:avLst/>
            <a:gdLst/>
            <a:ahLst/>
            <a:rect l="l" t="t" r="r" b="b"/>
            <a:pathLst>
              <a:path w="16" h="13">
                <a:moveTo>
                  <a:pt x="16" y="2"/>
                </a:moveTo>
                <a:lnTo>
                  <a:pt x="15" y="6"/>
                </a:lnTo>
                <a:lnTo>
                  <a:pt x="11" y="9"/>
                </a:lnTo>
                <a:lnTo>
                  <a:pt x="6" y="12"/>
                </a:lnTo>
                <a:lnTo>
                  <a:pt x="2" y="13"/>
                </a:lnTo>
                <a:lnTo>
                  <a:pt x="0" y="8"/>
                </a:lnTo>
                <a:lnTo>
                  <a:pt x="2" y="6"/>
                </a:lnTo>
                <a:lnTo>
                  <a:pt x="8" y="4"/>
                </a:lnTo>
                <a:lnTo>
                  <a:pt x="12" y="0"/>
                </a:lnTo>
                <a:lnTo>
                  <a:pt x="13" y="0"/>
                </a:lnTo>
                <a:lnTo>
                  <a:pt x="15" y="1"/>
                </a:lnTo>
                <a:lnTo>
                  <a:pt x="15" y="1"/>
                </a:lnTo>
                <a:lnTo>
                  <a:pt x="16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47040" y="1719360"/>
            <a:ext cx="2880" cy="1440"/>
          </a:xfrm>
          <a:custGeom>
            <a:avLst/>
            <a:gdLst/>
            <a:ahLst/>
            <a:rect l="l" t="t" r="r" b="b"/>
            <a:pathLst>
              <a:path w="14" h="8">
                <a:moveTo>
                  <a:pt x="14" y="2"/>
                </a:moveTo>
                <a:lnTo>
                  <a:pt x="12" y="6"/>
                </a:lnTo>
                <a:lnTo>
                  <a:pt x="8" y="8"/>
                </a:lnTo>
                <a:lnTo>
                  <a:pt x="5" y="8"/>
                </a:lnTo>
                <a:lnTo>
                  <a:pt x="0" y="8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  <a:lnTo>
                  <a:pt x="10" y="0"/>
                </a:lnTo>
                <a:lnTo>
                  <a:pt x="1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672240" y="1719360"/>
            <a:ext cx="12600" cy="4680"/>
          </a:xfrm>
          <a:custGeom>
            <a:avLst/>
            <a:gdLst/>
            <a:ahLst/>
            <a:rect l="l" t="t" r="r" b="b"/>
            <a:pathLst>
              <a:path w="49" h="15">
                <a:moveTo>
                  <a:pt x="49" y="4"/>
                </a:moveTo>
                <a:lnTo>
                  <a:pt x="49" y="11"/>
                </a:lnTo>
                <a:lnTo>
                  <a:pt x="42" y="11"/>
                </a:lnTo>
                <a:lnTo>
                  <a:pt x="35" y="12"/>
                </a:lnTo>
                <a:lnTo>
                  <a:pt x="28" y="13"/>
                </a:lnTo>
                <a:lnTo>
                  <a:pt x="21" y="15"/>
                </a:lnTo>
                <a:lnTo>
                  <a:pt x="14" y="15"/>
                </a:lnTo>
                <a:lnTo>
                  <a:pt x="8" y="13"/>
                </a:lnTo>
                <a:lnTo>
                  <a:pt x="4" y="10"/>
                </a:lnTo>
                <a:lnTo>
                  <a:pt x="0" y="4"/>
                </a:lnTo>
                <a:lnTo>
                  <a:pt x="6" y="4"/>
                </a:lnTo>
                <a:lnTo>
                  <a:pt x="13" y="3"/>
                </a:lnTo>
                <a:lnTo>
                  <a:pt x="19" y="2"/>
                </a:lnTo>
                <a:lnTo>
                  <a:pt x="26" y="1"/>
                </a:lnTo>
                <a:lnTo>
                  <a:pt x="31" y="0"/>
                </a:lnTo>
                <a:lnTo>
                  <a:pt x="37" y="1"/>
                </a:lnTo>
                <a:lnTo>
                  <a:pt x="43" y="2"/>
                </a:lnTo>
                <a:lnTo>
                  <a:pt x="49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613560" y="1722600"/>
            <a:ext cx="6480" cy="2880"/>
          </a:xfrm>
          <a:custGeom>
            <a:avLst/>
            <a:gdLst/>
            <a:ahLst/>
            <a:rect l="l" t="t" r="r" b="b"/>
            <a:pathLst>
              <a:path w="24" h="12">
                <a:moveTo>
                  <a:pt x="24" y="0"/>
                </a:moveTo>
                <a:lnTo>
                  <a:pt x="20" y="4"/>
                </a:lnTo>
                <a:lnTo>
                  <a:pt x="14" y="8"/>
                </a:lnTo>
                <a:lnTo>
                  <a:pt x="7" y="11"/>
                </a:lnTo>
                <a:lnTo>
                  <a:pt x="0" y="12"/>
                </a:lnTo>
                <a:lnTo>
                  <a:pt x="5" y="8"/>
                </a:lnTo>
                <a:lnTo>
                  <a:pt x="11" y="3"/>
                </a:lnTo>
                <a:lnTo>
                  <a:pt x="18" y="1"/>
                </a:lnTo>
                <a:lnTo>
                  <a:pt x="2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637320" y="1722600"/>
            <a:ext cx="4680" cy="28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6" y="2"/>
                </a:moveTo>
                <a:lnTo>
                  <a:pt x="14" y="6"/>
                </a:lnTo>
                <a:lnTo>
                  <a:pt x="10" y="8"/>
                </a:lnTo>
                <a:lnTo>
                  <a:pt x="6" y="9"/>
                </a:lnTo>
                <a:lnTo>
                  <a:pt x="2" y="10"/>
                </a:lnTo>
                <a:lnTo>
                  <a:pt x="0" y="3"/>
                </a:lnTo>
                <a:lnTo>
                  <a:pt x="5" y="2"/>
                </a:lnTo>
                <a:lnTo>
                  <a:pt x="8" y="0"/>
                </a:lnTo>
                <a:lnTo>
                  <a:pt x="12" y="0"/>
                </a:lnTo>
                <a:lnTo>
                  <a:pt x="16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10400" y="1724040"/>
            <a:ext cx="7920" cy="4680"/>
          </a:xfrm>
          <a:custGeom>
            <a:avLst/>
            <a:gdLst/>
            <a:ahLst/>
            <a:rect l="l" t="t" r="r" b="b"/>
            <a:pathLst>
              <a:path w="31" h="16">
                <a:moveTo>
                  <a:pt x="31" y="6"/>
                </a:moveTo>
                <a:lnTo>
                  <a:pt x="23" y="8"/>
                </a:lnTo>
                <a:lnTo>
                  <a:pt x="15" y="11"/>
                </a:lnTo>
                <a:lnTo>
                  <a:pt x="8" y="16"/>
                </a:lnTo>
                <a:lnTo>
                  <a:pt x="0" y="15"/>
                </a:lnTo>
                <a:lnTo>
                  <a:pt x="6" y="8"/>
                </a:lnTo>
                <a:lnTo>
                  <a:pt x="14" y="3"/>
                </a:lnTo>
                <a:lnTo>
                  <a:pt x="22" y="1"/>
                </a:lnTo>
                <a:lnTo>
                  <a:pt x="31" y="0"/>
                </a:lnTo>
                <a:lnTo>
                  <a:pt x="3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27960" y="1727280"/>
            <a:ext cx="4680" cy="3240"/>
          </a:xfrm>
          <a:custGeom>
            <a:avLst/>
            <a:gdLst/>
            <a:ahLst/>
            <a:rect l="l" t="t" r="r" b="b"/>
            <a:pathLst>
              <a:path w="23" h="11">
                <a:moveTo>
                  <a:pt x="23" y="2"/>
                </a:moveTo>
                <a:lnTo>
                  <a:pt x="18" y="6"/>
                </a:lnTo>
                <a:lnTo>
                  <a:pt x="14" y="9"/>
                </a:lnTo>
                <a:lnTo>
                  <a:pt x="8" y="11"/>
                </a:lnTo>
                <a:lnTo>
                  <a:pt x="2" y="11"/>
                </a:lnTo>
                <a:lnTo>
                  <a:pt x="2" y="10"/>
                </a:lnTo>
                <a:lnTo>
                  <a:pt x="2" y="9"/>
                </a:lnTo>
                <a:lnTo>
                  <a:pt x="1" y="8"/>
                </a:lnTo>
                <a:lnTo>
                  <a:pt x="0" y="7"/>
                </a:lnTo>
                <a:lnTo>
                  <a:pt x="5" y="3"/>
                </a:lnTo>
                <a:lnTo>
                  <a:pt x="11" y="1"/>
                </a:lnTo>
                <a:lnTo>
                  <a:pt x="17" y="0"/>
                </a:lnTo>
                <a:lnTo>
                  <a:pt x="23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743880" y="1727280"/>
            <a:ext cx="17280" cy="4680"/>
          </a:xfrm>
          <a:custGeom>
            <a:avLst/>
            <a:gdLst/>
            <a:ahLst/>
            <a:rect l="l" t="t" r="r" b="b"/>
            <a:pathLst>
              <a:path w="71" h="18">
                <a:moveTo>
                  <a:pt x="65" y="2"/>
                </a:moveTo>
                <a:lnTo>
                  <a:pt x="68" y="4"/>
                </a:lnTo>
                <a:lnTo>
                  <a:pt x="70" y="6"/>
                </a:lnTo>
                <a:lnTo>
                  <a:pt x="70" y="10"/>
                </a:lnTo>
                <a:lnTo>
                  <a:pt x="71" y="12"/>
                </a:lnTo>
                <a:lnTo>
                  <a:pt x="62" y="13"/>
                </a:lnTo>
                <a:lnTo>
                  <a:pt x="53" y="16"/>
                </a:lnTo>
                <a:lnTo>
                  <a:pt x="44" y="17"/>
                </a:lnTo>
                <a:lnTo>
                  <a:pt x="33" y="18"/>
                </a:lnTo>
                <a:lnTo>
                  <a:pt x="24" y="18"/>
                </a:lnTo>
                <a:lnTo>
                  <a:pt x="16" y="18"/>
                </a:lnTo>
                <a:lnTo>
                  <a:pt x="8" y="16"/>
                </a:lnTo>
                <a:lnTo>
                  <a:pt x="1" y="12"/>
                </a:lnTo>
                <a:lnTo>
                  <a:pt x="0" y="8"/>
                </a:lnTo>
                <a:lnTo>
                  <a:pt x="2" y="4"/>
                </a:lnTo>
                <a:lnTo>
                  <a:pt x="6" y="2"/>
                </a:lnTo>
                <a:lnTo>
                  <a:pt x="9" y="0"/>
                </a:lnTo>
                <a:lnTo>
                  <a:pt x="16" y="0"/>
                </a:lnTo>
                <a:lnTo>
                  <a:pt x="23" y="1"/>
                </a:lnTo>
                <a:lnTo>
                  <a:pt x="30" y="2"/>
                </a:lnTo>
                <a:lnTo>
                  <a:pt x="37" y="2"/>
                </a:lnTo>
                <a:lnTo>
                  <a:pt x="44" y="3"/>
                </a:lnTo>
                <a:lnTo>
                  <a:pt x="51" y="3"/>
                </a:lnTo>
                <a:lnTo>
                  <a:pt x="59" y="3"/>
                </a:lnTo>
                <a:lnTo>
                  <a:pt x="65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699240" y="1730520"/>
            <a:ext cx="9360" cy="4680"/>
          </a:xfrm>
          <a:custGeom>
            <a:avLst/>
            <a:gdLst/>
            <a:ahLst/>
            <a:rect l="l" t="t" r="r" b="b"/>
            <a:pathLst>
              <a:path w="38" h="19">
                <a:moveTo>
                  <a:pt x="8" y="18"/>
                </a:moveTo>
                <a:lnTo>
                  <a:pt x="5" y="18"/>
                </a:lnTo>
                <a:lnTo>
                  <a:pt x="3" y="19"/>
                </a:lnTo>
                <a:lnTo>
                  <a:pt x="1" y="18"/>
                </a:lnTo>
                <a:lnTo>
                  <a:pt x="0" y="17"/>
                </a:lnTo>
                <a:lnTo>
                  <a:pt x="3" y="13"/>
                </a:lnTo>
                <a:lnTo>
                  <a:pt x="8" y="10"/>
                </a:lnTo>
                <a:lnTo>
                  <a:pt x="12" y="7"/>
                </a:lnTo>
                <a:lnTo>
                  <a:pt x="18" y="5"/>
                </a:lnTo>
                <a:lnTo>
                  <a:pt x="23" y="3"/>
                </a:lnTo>
                <a:lnTo>
                  <a:pt x="28" y="2"/>
                </a:lnTo>
                <a:lnTo>
                  <a:pt x="33" y="0"/>
                </a:lnTo>
                <a:lnTo>
                  <a:pt x="38" y="0"/>
                </a:lnTo>
                <a:lnTo>
                  <a:pt x="34" y="8"/>
                </a:lnTo>
                <a:lnTo>
                  <a:pt x="26" y="12"/>
                </a:lnTo>
                <a:lnTo>
                  <a:pt x="16" y="14"/>
                </a:lnTo>
                <a:lnTo>
                  <a:pt x="8" y="1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648480" y="1728720"/>
            <a:ext cx="6480" cy="3240"/>
          </a:xfrm>
          <a:custGeom>
            <a:avLst/>
            <a:gdLst/>
            <a:ahLst/>
            <a:rect l="l" t="t" r="r" b="b"/>
            <a:pathLst>
              <a:path w="24" h="8">
                <a:moveTo>
                  <a:pt x="24" y="1"/>
                </a:moveTo>
                <a:lnTo>
                  <a:pt x="20" y="5"/>
                </a:lnTo>
                <a:lnTo>
                  <a:pt x="15" y="6"/>
                </a:lnTo>
                <a:lnTo>
                  <a:pt x="8" y="7"/>
                </a:lnTo>
                <a:lnTo>
                  <a:pt x="2" y="8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5" y="4"/>
                </a:lnTo>
                <a:lnTo>
                  <a:pt x="11" y="1"/>
                </a:lnTo>
                <a:lnTo>
                  <a:pt x="17" y="0"/>
                </a:lnTo>
                <a:lnTo>
                  <a:pt x="24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593040" y="1731960"/>
            <a:ext cx="12600" cy="936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37"/>
                </a:moveTo>
                <a:lnTo>
                  <a:pt x="44" y="41"/>
                </a:lnTo>
                <a:lnTo>
                  <a:pt x="38" y="42"/>
                </a:lnTo>
                <a:lnTo>
                  <a:pt x="33" y="42"/>
                </a:lnTo>
                <a:lnTo>
                  <a:pt x="28" y="42"/>
                </a:lnTo>
                <a:lnTo>
                  <a:pt x="23" y="41"/>
                </a:lnTo>
                <a:lnTo>
                  <a:pt x="17" y="39"/>
                </a:lnTo>
                <a:lnTo>
                  <a:pt x="12" y="39"/>
                </a:lnTo>
                <a:lnTo>
                  <a:pt x="6" y="41"/>
                </a:lnTo>
                <a:lnTo>
                  <a:pt x="2" y="31"/>
                </a:lnTo>
                <a:lnTo>
                  <a:pt x="0" y="22"/>
                </a:lnTo>
                <a:lnTo>
                  <a:pt x="0" y="11"/>
                </a:lnTo>
                <a:lnTo>
                  <a:pt x="2" y="0"/>
                </a:lnTo>
                <a:lnTo>
                  <a:pt x="10" y="2"/>
                </a:lnTo>
                <a:lnTo>
                  <a:pt x="16" y="7"/>
                </a:lnTo>
                <a:lnTo>
                  <a:pt x="21" y="13"/>
                </a:lnTo>
                <a:lnTo>
                  <a:pt x="24" y="20"/>
                </a:lnTo>
                <a:lnTo>
                  <a:pt x="28" y="27"/>
                </a:lnTo>
                <a:lnTo>
                  <a:pt x="32" y="32"/>
                </a:lnTo>
                <a:lnTo>
                  <a:pt x="39" y="37"/>
                </a:lnTo>
                <a:lnTo>
                  <a:pt x="48" y="3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621480" y="1731960"/>
            <a:ext cx="3240" cy="144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4"/>
                </a:moveTo>
                <a:lnTo>
                  <a:pt x="9" y="6"/>
                </a:lnTo>
                <a:lnTo>
                  <a:pt x="8" y="7"/>
                </a:lnTo>
                <a:lnTo>
                  <a:pt x="5" y="10"/>
                </a:lnTo>
                <a:lnTo>
                  <a:pt x="3" y="11"/>
                </a:lnTo>
                <a:lnTo>
                  <a:pt x="1" y="10"/>
                </a:lnTo>
                <a:lnTo>
                  <a:pt x="0" y="7"/>
                </a:lnTo>
                <a:lnTo>
                  <a:pt x="0" y="4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1"/>
                </a:lnTo>
                <a:lnTo>
                  <a:pt x="10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642000" y="1731960"/>
            <a:ext cx="5040" cy="3240"/>
          </a:xfrm>
          <a:custGeom>
            <a:avLst/>
            <a:gdLst/>
            <a:ahLst/>
            <a:rect l="l" t="t" r="r" b="b"/>
            <a:pathLst>
              <a:path w="20" h="10">
                <a:moveTo>
                  <a:pt x="20" y="0"/>
                </a:moveTo>
                <a:lnTo>
                  <a:pt x="18" y="3"/>
                </a:lnTo>
                <a:lnTo>
                  <a:pt x="14" y="7"/>
                </a:lnTo>
                <a:lnTo>
                  <a:pt x="10" y="9"/>
                </a:lnTo>
                <a:lnTo>
                  <a:pt x="5" y="10"/>
                </a:lnTo>
                <a:lnTo>
                  <a:pt x="0" y="10"/>
                </a:lnTo>
                <a:lnTo>
                  <a:pt x="3" y="6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686640" y="1735200"/>
            <a:ext cx="9360" cy="4680"/>
          </a:xfrm>
          <a:custGeom>
            <a:avLst/>
            <a:gdLst/>
            <a:ahLst/>
            <a:rect l="l" t="t" r="r" b="b"/>
            <a:pathLst>
              <a:path w="40" h="21">
                <a:moveTo>
                  <a:pt x="40" y="8"/>
                </a:moveTo>
                <a:lnTo>
                  <a:pt x="35" y="10"/>
                </a:lnTo>
                <a:lnTo>
                  <a:pt x="31" y="11"/>
                </a:lnTo>
                <a:lnTo>
                  <a:pt x="27" y="14"/>
                </a:lnTo>
                <a:lnTo>
                  <a:pt x="23" y="16"/>
                </a:lnTo>
                <a:lnTo>
                  <a:pt x="18" y="18"/>
                </a:lnTo>
                <a:lnTo>
                  <a:pt x="13" y="19"/>
                </a:lnTo>
                <a:lnTo>
                  <a:pt x="8" y="21"/>
                </a:lnTo>
                <a:lnTo>
                  <a:pt x="3" y="21"/>
                </a:lnTo>
                <a:lnTo>
                  <a:pt x="0" y="13"/>
                </a:lnTo>
                <a:lnTo>
                  <a:pt x="5" y="10"/>
                </a:lnTo>
                <a:lnTo>
                  <a:pt x="11" y="8"/>
                </a:lnTo>
                <a:lnTo>
                  <a:pt x="18" y="4"/>
                </a:lnTo>
                <a:lnTo>
                  <a:pt x="24" y="1"/>
                </a:lnTo>
                <a:lnTo>
                  <a:pt x="30" y="0"/>
                </a:lnTo>
                <a:lnTo>
                  <a:pt x="34" y="0"/>
                </a:lnTo>
                <a:lnTo>
                  <a:pt x="38" y="2"/>
                </a:lnTo>
                <a:lnTo>
                  <a:pt x="40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715080" y="1735200"/>
            <a:ext cx="9720" cy="4680"/>
          </a:xfrm>
          <a:custGeom>
            <a:avLst/>
            <a:gdLst/>
            <a:ahLst/>
            <a:rect l="l" t="t" r="r" b="b"/>
            <a:pathLst>
              <a:path w="40" h="22">
                <a:moveTo>
                  <a:pt x="39" y="6"/>
                </a:moveTo>
                <a:lnTo>
                  <a:pt x="40" y="10"/>
                </a:lnTo>
                <a:lnTo>
                  <a:pt x="38" y="14"/>
                </a:lnTo>
                <a:lnTo>
                  <a:pt x="36" y="17"/>
                </a:lnTo>
                <a:lnTo>
                  <a:pt x="32" y="18"/>
                </a:lnTo>
                <a:lnTo>
                  <a:pt x="22" y="17"/>
                </a:lnTo>
                <a:lnTo>
                  <a:pt x="12" y="21"/>
                </a:lnTo>
                <a:lnTo>
                  <a:pt x="4" y="22"/>
                </a:lnTo>
                <a:lnTo>
                  <a:pt x="0" y="13"/>
                </a:lnTo>
                <a:lnTo>
                  <a:pt x="6" y="10"/>
                </a:lnTo>
                <a:lnTo>
                  <a:pt x="11" y="7"/>
                </a:lnTo>
                <a:lnTo>
                  <a:pt x="16" y="3"/>
                </a:lnTo>
                <a:lnTo>
                  <a:pt x="21" y="1"/>
                </a:lnTo>
                <a:lnTo>
                  <a:pt x="26" y="0"/>
                </a:lnTo>
                <a:lnTo>
                  <a:pt x="30" y="0"/>
                </a:lnTo>
                <a:lnTo>
                  <a:pt x="35" y="2"/>
                </a:lnTo>
                <a:lnTo>
                  <a:pt x="39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659640" y="1736640"/>
            <a:ext cx="4680" cy="3240"/>
          </a:xfrm>
          <a:custGeom>
            <a:avLst/>
            <a:gdLst/>
            <a:ahLst/>
            <a:rect l="l" t="t" r="r" b="b"/>
            <a:pathLst>
              <a:path w="17" h="11">
                <a:moveTo>
                  <a:pt x="17" y="2"/>
                </a:moveTo>
                <a:lnTo>
                  <a:pt x="16" y="8"/>
                </a:lnTo>
                <a:lnTo>
                  <a:pt x="12" y="9"/>
                </a:lnTo>
                <a:lnTo>
                  <a:pt x="7" y="9"/>
                </a:lnTo>
                <a:lnTo>
                  <a:pt x="2" y="11"/>
                </a:lnTo>
                <a:lnTo>
                  <a:pt x="0" y="9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  <a:lnTo>
                  <a:pt x="4" y="2"/>
                </a:lnTo>
                <a:lnTo>
                  <a:pt x="9" y="1"/>
                </a:lnTo>
                <a:lnTo>
                  <a:pt x="12" y="0"/>
                </a:lnTo>
                <a:lnTo>
                  <a:pt x="17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632640" y="1736640"/>
            <a:ext cx="4680" cy="3240"/>
          </a:xfrm>
          <a:custGeom>
            <a:avLst/>
            <a:gdLst/>
            <a:ahLst/>
            <a:rect l="l" t="t" r="r" b="b"/>
            <a:pathLst>
              <a:path w="22" h="15">
                <a:moveTo>
                  <a:pt x="22" y="0"/>
                </a:moveTo>
                <a:lnTo>
                  <a:pt x="19" y="5"/>
                </a:lnTo>
                <a:lnTo>
                  <a:pt x="14" y="8"/>
                </a:lnTo>
                <a:lnTo>
                  <a:pt x="9" y="11"/>
                </a:lnTo>
                <a:lnTo>
                  <a:pt x="3" y="15"/>
                </a:lnTo>
                <a:lnTo>
                  <a:pt x="0" y="13"/>
                </a:lnTo>
                <a:lnTo>
                  <a:pt x="5" y="8"/>
                </a:lnTo>
                <a:lnTo>
                  <a:pt x="10" y="5"/>
                </a:lnTo>
                <a:lnTo>
                  <a:pt x="15" y="1"/>
                </a:lnTo>
                <a:lnTo>
                  <a:pt x="22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03920" y="1738440"/>
            <a:ext cx="9720" cy="7920"/>
          </a:xfrm>
          <a:custGeom>
            <a:avLst/>
            <a:gdLst/>
            <a:ahLst/>
            <a:rect l="l" t="t" r="r" b="b"/>
            <a:pathLst>
              <a:path w="40" h="28">
                <a:moveTo>
                  <a:pt x="40" y="7"/>
                </a:moveTo>
                <a:lnTo>
                  <a:pt x="40" y="13"/>
                </a:lnTo>
                <a:lnTo>
                  <a:pt x="2" y="28"/>
                </a:lnTo>
                <a:lnTo>
                  <a:pt x="0" y="20"/>
                </a:lnTo>
                <a:lnTo>
                  <a:pt x="1" y="15"/>
                </a:lnTo>
                <a:lnTo>
                  <a:pt x="5" y="13"/>
                </a:lnTo>
                <a:lnTo>
                  <a:pt x="10" y="10"/>
                </a:lnTo>
                <a:lnTo>
                  <a:pt x="17" y="9"/>
                </a:lnTo>
                <a:lnTo>
                  <a:pt x="23" y="8"/>
                </a:lnTo>
                <a:lnTo>
                  <a:pt x="29" y="6"/>
                </a:lnTo>
                <a:lnTo>
                  <a:pt x="33" y="1"/>
                </a:lnTo>
                <a:lnTo>
                  <a:pt x="37" y="0"/>
                </a:lnTo>
                <a:lnTo>
                  <a:pt x="38" y="2"/>
                </a:lnTo>
                <a:lnTo>
                  <a:pt x="39" y="5"/>
                </a:lnTo>
                <a:lnTo>
                  <a:pt x="40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73680" y="1739880"/>
            <a:ext cx="9720" cy="4680"/>
          </a:xfrm>
          <a:custGeom>
            <a:avLst/>
            <a:gdLst/>
            <a:ahLst/>
            <a:rect l="l" t="t" r="r" b="b"/>
            <a:pathLst>
              <a:path w="38" h="17">
                <a:moveTo>
                  <a:pt x="38" y="5"/>
                </a:moveTo>
                <a:lnTo>
                  <a:pt x="34" y="7"/>
                </a:lnTo>
                <a:lnTo>
                  <a:pt x="29" y="10"/>
                </a:lnTo>
                <a:lnTo>
                  <a:pt x="24" y="12"/>
                </a:lnTo>
                <a:lnTo>
                  <a:pt x="20" y="14"/>
                </a:lnTo>
                <a:lnTo>
                  <a:pt x="15" y="15"/>
                </a:lnTo>
                <a:lnTo>
                  <a:pt x="9" y="17"/>
                </a:lnTo>
                <a:lnTo>
                  <a:pt x="5" y="17"/>
                </a:lnTo>
                <a:lnTo>
                  <a:pt x="0" y="15"/>
                </a:lnTo>
                <a:lnTo>
                  <a:pt x="4" y="12"/>
                </a:lnTo>
                <a:lnTo>
                  <a:pt x="8" y="10"/>
                </a:lnTo>
                <a:lnTo>
                  <a:pt x="13" y="6"/>
                </a:lnTo>
                <a:lnTo>
                  <a:pt x="19" y="3"/>
                </a:lnTo>
                <a:lnTo>
                  <a:pt x="24" y="2"/>
                </a:lnTo>
                <a:lnTo>
                  <a:pt x="29" y="0"/>
                </a:lnTo>
                <a:lnTo>
                  <a:pt x="35" y="2"/>
                </a:lnTo>
                <a:lnTo>
                  <a:pt x="38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750000" y="1739880"/>
            <a:ext cx="14400" cy="4680"/>
          </a:xfrm>
          <a:custGeom>
            <a:avLst/>
            <a:gdLst/>
            <a:ahLst/>
            <a:rect l="l" t="t" r="r" b="b"/>
            <a:pathLst>
              <a:path w="64" h="18">
                <a:moveTo>
                  <a:pt x="62" y="7"/>
                </a:moveTo>
                <a:lnTo>
                  <a:pt x="64" y="11"/>
                </a:lnTo>
                <a:lnTo>
                  <a:pt x="61" y="13"/>
                </a:lnTo>
                <a:lnTo>
                  <a:pt x="57" y="16"/>
                </a:lnTo>
                <a:lnTo>
                  <a:pt x="52" y="17"/>
                </a:lnTo>
                <a:lnTo>
                  <a:pt x="0" y="18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1"/>
                </a:lnTo>
                <a:lnTo>
                  <a:pt x="32" y="2"/>
                </a:lnTo>
                <a:lnTo>
                  <a:pt x="39" y="4"/>
                </a:lnTo>
                <a:lnTo>
                  <a:pt x="47" y="5"/>
                </a:lnTo>
                <a:lnTo>
                  <a:pt x="54" y="7"/>
                </a:lnTo>
                <a:lnTo>
                  <a:pt x="62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47040" y="1743120"/>
            <a:ext cx="2880" cy="32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7" y="0"/>
                </a:moveTo>
                <a:lnTo>
                  <a:pt x="15" y="3"/>
                </a:lnTo>
                <a:lnTo>
                  <a:pt x="12" y="6"/>
                </a:lnTo>
                <a:lnTo>
                  <a:pt x="6" y="7"/>
                </a:lnTo>
                <a:lnTo>
                  <a:pt x="1" y="10"/>
                </a:lnTo>
                <a:lnTo>
                  <a:pt x="0" y="8"/>
                </a:lnTo>
                <a:lnTo>
                  <a:pt x="4" y="5"/>
                </a:lnTo>
                <a:lnTo>
                  <a:pt x="7" y="2"/>
                </a:lnTo>
                <a:lnTo>
                  <a:pt x="13" y="1"/>
                </a:lnTo>
                <a:lnTo>
                  <a:pt x="1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89800" y="1743120"/>
            <a:ext cx="142920" cy="71280"/>
          </a:xfrm>
          <a:custGeom>
            <a:avLst/>
            <a:gdLst/>
            <a:ahLst/>
            <a:rect l="l" t="t" r="r" b="b"/>
            <a:pathLst>
              <a:path w="588" h="265">
                <a:moveTo>
                  <a:pt x="588" y="2"/>
                </a:moveTo>
                <a:lnTo>
                  <a:pt x="586" y="8"/>
                </a:lnTo>
                <a:lnTo>
                  <a:pt x="583" y="13"/>
                </a:lnTo>
                <a:lnTo>
                  <a:pt x="576" y="15"/>
                </a:lnTo>
                <a:lnTo>
                  <a:pt x="570" y="17"/>
                </a:lnTo>
                <a:lnTo>
                  <a:pt x="547" y="25"/>
                </a:lnTo>
                <a:lnTo>
                  <a:pt x="525" y="33"/>
                </a:lnTo>
                <a:lnTo>
                  <a:pt x="502" y="43"/>
                </a:lnTo>
                <a:lnTo>
                  <a:pt x="480" y="52"/>
                </a:lnTo>
                <a:lnTo>
                  <a:pt x="459" y="61"/>
                </a:lnTo>
                <a:lnTo>
                  <a:pt x="437" y="71"/>
                </a:lnTo>
                <a:lnTo>
                  <a:pt x="415" y="82"/>
                </a:lnTo>
                <a:lnTo>
                  <a:pt x="394" y="92"/>
                </a:lnTo>
                <a:lnTo>
                  <a:pt x="372" y="103"/>
                </a:lnTo>
                <a:lnTo>
                  <a:pt x="350" y="113"/>
                </a:lnTo>
                <a:lnTo>
                  <a:pt x="328" y="123"/>
                </a:lnTo>
                <a:lnTo>
                  <a:pt x="306" y="134"/>
                </a:lnTo>
                <a:lnTo>
                  <a:pt x="285" y="143"/>
                </a:lnTo>
                <a:lnTo>
                  <a:pt x="263" y="152"/>
                </a:lnTo>
                <a:lnTo>
                  <a:pt x="241" y="161"/>
                </a:lnTo>
                <a:lnTo>
                  <a:pt x="218" y="169"/>
                </a:lnTo>
                <a:lnTo>
                  <a:pt x="197" y="179"/>
                </a:lnTo>
                <a:lnTo>
                  <a:pt x="176" y="187"/>
                </a:lnTo>
                <a:lnTo>
                  <a:pt x="156" y="196"/>
                </a:lnTo>
                <a:lnTo>
                  <a:pt x="135" y="204"/>
                </a:lnTo>
                <a:lnTo>
                  <a:pt x="114" y="213"/>
                </a:lnTo>
                <a:lnTo>
                  <a:pt x="94" y="222"/>
                </a:lnTo>
                <a:lnTo>
                  <a:pt x="74" y="232"/>
                </a:lnTo>
                <a:lnTo>
                  <a:pt x="54" y="242"/>
                </a:lnTo>
                <a:lnTo>
                  <a:pt x="53" y="242"/>
                </a:lnTo>
                <a:lnTo>
                  <a:pt x="53" y="242"/>
                </a:lnTo>
                <a:lnTo>
                  <a:pt x="52" y="241"/>
                </a:lnTo>
                <a:lnTo>
                  <a:pt x="51" y="240"/>
                </a:lnTo>
                <a:lnTo>
                  <a:pt x="46" y="245"/>
                </a:lnTo>
                <a:lnTo>
                  <a:pt x="41" y="250"/>
                </a:lnTo>
                <a:lnTo>
                  <a:pt x="36" y="255"/>
                </a:lnTo>
                <a:lnTo>
                  <a:pt x="29" y="257"/>
                </a:lnTo>
                <a:lnTo>
                  <a:pt x="22" y="260"/>
                </a:lnTo>
                <a:lnTo>
                  <a:pt x="15" y="263"/>
                </a:lnTo>
                <a:lnTo>
                  <a:pt x="7" y="264"/>
                </a:lnTo>
                <a:lnTo>
                  <a:pt x="0" y="265"/>
                </a:lnTo>
                <a:lnTo>
                  <a:pt x="2" y="256"/>
                </a:lnTo>
                <a:lnTo>
                  <a:pt x="9" y="253"/>
                </a:lnTo>
                <a:lnTo>
                  <a:pt x="18" y="252"/>
                </a:lnTo>
                <a:lnTo>
                  <a:pt x="25" y="247"/>
                </a:lnTo>
                <a:lnTo>
                  <a:pt x="38" y="241"/>
                </a:lnTo>
                <a:lnTo>
                  <a:pt x="52" y="235"/>
                </a:lnTo>
                <a:lnTo>
                  <a:pt x="65" y="229"/>
                </a:lnTo>
                <a:lnTo>
                  <a:pt x="78" y="223"/>
                </a:lnTo>
                <a:lnTo>
                  <a:pt x="91" y="218"/>
                </a:lnTo>
                <a:lnTo>
                  <a:pt x="104" y="211"/>
                </a:lnTo>
                <a:lnTo>
                  <a:pt x="118" y="205"/>
                </a:lnTo>
                <a:lnTo>
                  <a:pt x="130" y="199"/>
                </a:lnTo>
                <a:lnTo>
                  <a:pt x="143" y="194"/>
                </a:lnTo>
                <a:lnTo>
                  <a:pt x="157" y="188"/>
                </a:lnTo>
                <a:lnTo>
                  <a:pt x="169" y="182"/>
                </a:lnTo>
                <a:lnTo>
                  <a:pt x="182" y="176"/>
                </a:lnTo>
                <a:lnTo>
                  <a:pt x="196" y="172"/>
                </a:lnTo>
                <a:lnTo>
                  <a:pt x="209" y="166"/>
                </a:lnTo>
                <a:lnTo>
                  <a:pt x="222" y="161"/>
                </a:lnTo>
                <a:lnTo>
                  <a:pt x="235" y="157"/>
                </a:lnTo>
                <a:lnTo>
                  <a:pt x="242" y="152"/>
                </a:lnTo>
                <a:lnTo>
                  <a:pt x="249" y="149"/>
                </a:lnTo>
                <a:lnTo>
                  <a:pt x="257" y="144"/>
                </a:lnTo>
                <a:lnTo>
                  <a:pt x="265" y="141"/>
                </a:lnTo>
                <a:lnTo>
                  <a:pt x="273" y="138"/>
                </a:lnTo>
                <a:lnTo>
                  <a:pt x="281" y="135"/>
                </a:lnTo>
                <a:lnTo>
                  <a:pt x="289" y="131"/>
                </a:lnTo>
                <a:lnTo>
                  <a:pt x="297" y="128"/>
                </a:lnTo>
                <a:lnTo>
                  <a:pt x="315" y="119"/>
                </a:lnTo>
                <a:lnTo>
                  <a:pt x="333" y="111"/>
                </a:lnTo>
                <a:lnTo>
                  <a:pt x="350" y="101"/>
                </a:lnTo>
                <a:lnTo>
                  <a:pt x="368" y="92"/>
                </a:lnTo>
                <a:lnTo>
                  <a:pt x="386" y="84"/>
                </a:lnTo>
                <a:lnTo>
                  <a:pt x="403" y="75"/>
                </a:lnTo>
                <a:lnTo>
                  <a:pt x="421" y="66"/>
                </a:lnTo>
                <a:lnTo>
                  <a:pt x="439" y="58"/>
                </a:lnTo>
                <a:lnTo>
                  <a:pt x="456" y="50"/>
                </a:lnTo>
                <a:lnTo>
                  <a:pt x="475" y="41"/>
                </a:lnTo>
                <a:lnTo>
                  <a:pt x="493" y="33"/>
                </a:lnTo>
                <a:lnTo>
                  <a:pt x="510" y="25"/>
                </a:lnTo>
                <a:lnTo>
                  <a:pt x="529" y="18"/>
                </a:lnTo>
                <a:lnTo>
                  <a:pt x="547" y="11"/>
                </a:lnTo>
                <a:lnTo>
                  <a:pt x="567" y="6"/>
                </a:lnTo>
                <a:lnTo>
                  <a:pt x="585" y="0"/>
                </a:lnTo>
                <a:lnTo>
                  <a:pt x="588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664320" y="1744560"/>
            <a:ext cx="38160" cy="15840"/>
          </a:xfrm>
          <a:custGeom>
            <a:avLst/>
            <a:gdLst/>
            <a:ahLst/>
            <a:rect l="l" t="t" r="r" b="b"/>
            <a:pathLst>
              <a:path w="152" h="60">
                <a:moveTo>
                  <a:pt x="152" y="7"/>
                </a:moveTo>
                <a:lnTo>
                  <a:pt x="135" y="17"/>
                </a:lnTo>
                <a:lnTo>
                  <a:pt x="117" y="25"/>
                </a:lnTo>
                <a:lnTo>
                  <a:pt x="97" y="31"/>
                </a:lnTo>
                <a:lnTo>
                  <a:pt x="77" y="34"/>
                </a:lnTo>
                <a:lnTo>
                  <a:pt x="57" y="39"/>
                </a:lnTo>
                <a:lnTo>
                  <a:pt x="37" y="45"/>
                </a:lnTo>
                <a:lnTo>
                  <a:pt x="19" y="51"/>
                </a:lnTo>
                <a:lnTo>
                  <a:pt x="0" y="60"/>
                </a:lnTo>
                <a:lnTo>
                  <a:pt x="4" y="55"/>
                </a:lnTo>
                <a:lnTo>
                  <a:pt x="8" y="52"/>
                </a:lnTo>
                <a:lnTo>
                  <a:pt x="14" y="48"/>
                </a:lnTo>
                <a:lnTo>
                  <a:pt x="20" y="46"/>
                </a:lnTo>
                <a:lnTo>
                  <a:pt x="26" y="44"/>
                </a:lnTo>
                <a:lnTo>
                  <a:pt x="32" y="41"/>
                </a:lnTo>
                <a:lnTo>
                  <a:pt x="38" y="39"/>
                </a:lnTo>
                <a:lnTo>
                  <a:pt x="44" y="37"/>
                </a:lnTo>
                <a:lnTo>
                  <a:pt x="51" y="36"/>
                </a:lnTo>
                <a:lnTo>
                  <a:pt x="58" y="33"/>
                </a:lnTo>
                <a:lnTo>
                  <a:pt x="64" y="31"/>
                </a:lnTo>
                <a:lnTo>
                  <a:pt x="71" y="29"/>
                </a:lnTo>
                <a:lnTo>
                  <a:pt x="77" y="26"/>
                </a:lnTo>
                <a:lnTo>
                  <a:pt x="83" y="25"/>
                </a:lnTo>
                <a:lnTo>
                  <a:pt x="90" y="25"/>
                </a:lnTo>
                <a:lnTo>
                  <a:pt x="97" y="26"/>
                </a:lnTo>
                <a:lnTo>
                  <a:pt x="102" y="21"/>
                </a:lnTo>
                <a:lnTo>
                  <a:pt x="106" y="16"/>
                </a:lnTo>
                <a:lnTo>
                  <a:pt x="113" y="13"/>
                </a:lnTo>
                <a:lnTo>
                  <a:pt x="120" y="10"/>
                </a:lnTo>
                <a:lnTo>
                  <a:pt x="127" y="8"/>
                </a:lnTo>
                <a:lnTo>
                  <a:pt x="134" y="6"/>
                </a:lnTo>
                <a:lnTo>
                  <a:pt x="141" y="3"/>
                </a:lnTo>
                <a:lnTo>
                  <a:pt x="147" y="0"/>
                </a:lnTo>
                <a:lnTo>
                  <a:pt x="152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661080" y="1746360"/>
            <a:ext cx="9720" cy="468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7"/>
                </a:moveTo>
                <a:lnTo>
                  <a:pt x="31" y="8"/>
                </a:lnTo>
                <a:lnTo>
                  <a:pt x="27" y="10"/>
                </a:lnTo>
                <a:lnTo>
                  <a:pt x="22" y="12"/>
                </a:lnTo>
                <a:lnTo>
                  <a:pt x="19" y="13"/>
                </a:lnTo>
                <a:lnTo>
                  <a:pt x="14" y="14"/>
                </a:lnTo>
                <a:lnTo>
                  <a:pt x="9" y="16"/>
                </a:lnTo>
                <a:lnTo>
                  <a:pt x="5" y="18"/>
                </a:lnTo>
                <a:lnTo>
                  <a:pt x="0" y="19"/>
                </a:lnTo>
                <a:lnTo>
                  <a:pt x="5" y="12"/>
                </a:lnTo>
                <a:lnTo>
                  <a:pt x="12" y="8"/>
                </a:lnTo>
                <a:lnTo>
                  <a:pt x="20" y="5"/>
                </a:lnTo>
                <a:lnTo>
                  <a:pt x="27" y="0"/>
                </a:lnTo>
                <a:lnTo>
                  <a:pt x="36" y="0"/>
                </a:lnTo>
                <a:lnTo>
                  <a:pt x="36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635880" y="1747800"/>
            <a:ext cx="6120" cy="324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2"/>
                </a:moveTo>
                <a:lnTo>
                  <a:pt x="22" y="7"/>
                </a:lnTo>
                <a:lnTo>
                  <a:pt x="15" y="10"/>
                </a:lnTo>
                <a:lnTo>
                  <a:pt x="7" y="14"/>
                </a:lnTo>
                <a:lnTo>
                  <a:pt x="0" y="13"/>
                </a:lnTo>
                <a:lnTo>
                  <a:pt x="6" y="8"/>
                </a:lnTo>
                <a:lnTo>
                  <a:pt x="14" y="4"/>
                </a:lnTo>
                <a:lnTo>
                  <a:pt x="21" y="0"/>
                </a:lnTo>
                <a:lnTo>
                  <a:pt x="28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649920" y="1751040"/>
            <a:ext cx="6480" cy="4680"/>
          </a:xfrm>
          <a:custGeom>
            <a:avLst/>
            <a:gdLst/>
            <a:ahLst/>
            <a:rect l="l" t="t" r="r" b="b"/>
            <a:pathLst>
              <a:path w="29" h="15">
                <a:moveTo>
                  <a:pt x="29" y="3"/>
                </a:moveTo>
                <a:lnTo>
                  <a:pt x="23" y="7"/>
                </a:lnTo>
                <a:lnTo>
                  <a:pt x="16" y="12"/>
                </a:lnTo>
                <a:lnTo>
                  <a:pt x="8" y="15"/>
                </a:lnTo>
                <a:lnTo>
                  <a:pt x="0" y="15"/>
                </a:lnTo>
                <a:lnTo>
                  <a:pt x="4" y="11"/>
                </a:lnTo>
                <a:lnTo>
                  <a:pt x="11" y="5"/>
                </a:lnTo>
                <a:lnTo>
                  <a:pt x="19" y="2"/>
                </a:lnTo>
                <a:lnTo>
                  <a:pt x="28" y="0"/>
                </a:lnTo>
                <a:lnTo>
                  <a:pt x="29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753240" y="1751040"/>
            <a:ext cx="20520" cy="7920"/>
          </a:xfrm>
          <a:custGeom>
            <a:avLst/>
            <a:gdLst/>
            <a:ahLst/>
            <a:rect l="l" t="t" r="r" b="b"/>
            <a:pathLst>
              <a:path w="81" h="23">
                <a:moveTo>
                  <a:pt x="81" y="13"/>
                </a:moveTo>
                <a:lnTo>
                  <a:pt x="73" y="14"/>
                </a:lnTo>
                <a:lnTo>
                  <a:pt x="64" y="15"/>
                </a:lnTo>
                <a:lnTo>
                  <a:pt x="56" y="15"/>
                </a:lnTo>
                <a:lnTo>
                  <a:pt x="47" y="17"/>
                </a:lnTo>
                <a:lnTo>
                  <a:pt x="38" y="18"/>
                </a:lnTo>
                <a:lnTo>
                  <a:pt x="29" y="19"/>
                </a:lnTo>
                <a:lnTo>
                  <a:pt x="21" y="21"/>
                </a:lnTo>
                <a:lnTo>
                  <a:pt x="13" y="23"/>
                </a:lnTo>
                <a:lnTo>
                  <a:pt x="11" y="22"/>
                </a:lnTo>
                <a:lnTo>
                  <a:pt x="6" y="20"/>
                </a:lnTo>
                <a:lnTo>
                  <a:pt x="3" y="18"/>
                </a:lnTo>
                <a:lnTo>
                  <a:pt x="0" y="13"/>
                </a:lnTo>
                <a:lnTo>
                  <a:pt x="0" y="8"/>
                </a:lnTo>
                <a:lnTo>
                  <a:pt x="3" y="5"/>
                </a:lnTo>
                <a:lnTo>
                  <a:pt x="5" y="2"/>
                </a:lnTo>
                <a:lnTo>
                  <a:pt x="9" y="0"/>
                </a:lnTo>
                <a:lnTo>
                  <a:pt x="81" y="6"/>
                </a:lnTo>
                <a:lnTo>
                  <a:pt x="81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588000" y="1752480"/>
            <a:ext cx="149400" cy="76320"/>
          </a:xfrm>
          <a:custGeom>
            <a:avLst/>
            <a:gdLst/>
            <a:ahLst/>
            <a:rect l="l" t="t" r="r" b="b"/>
            <a:pathLst>
              <a:path w="613" h="285">
                <a:moveTo>
                  <a:pt x="611" y="14"/>
                </a:moveTo>
                <a:lnTo>
                  <a:pt x="606" y="16"/>
                </a:lnTo>
                <a:lnTo>
                  <a:pt x="602" y="17"/>
                </a:lnTo>
                <a:lnTo>
                  <a:pt x="597" y="17"/>
                </a:lnTo>
                <a:lnTo>
                  <a:pt x="594" y="18"/>
                </a:lnTo>
                <a:lnTo>
                  <a:pt x="589" y="19"/>
                </a:lnTo>
                <a:lnTo>
                  <a:pt x="584" y="19"/>
                </a:lnTo>
                <a:lnTo>
                  <a:pt x="580" y="20"/>
                </a:lnTo>
                <a:lnTo>
                  <a:pt x="575" y="23"/>
                </a:lnTo>
                <a:lnTo>
                  <a:pt x="552" y="34"/>
                </a:lnTo>
                <a:lnTo>
                  <a:pt x="529" y="45"/>
                </a:lnTo>
                <a:lnTo>
                  <a:pt x="506" y="55"/>
                </a:lnTo>
                <a:lnTo>
                  <a:pt x="483" y="64"/>
                </a:lnTo>
                <a:lnTo>
                  <a:pt x="460" y="75"/>
                </a:lnTo>
                <a:lnTo>
                  <a:pt x="437" y="84"/>
                </a:lnTo>
                <a:lnTo>
                  <a:pt x="415" y="95"/>
                </a:lnTo>
                <a:lnTo>
                  <a:pt x="393" y="107"/>
                </a:lnTo>
                <a:lnTo>
                  <a:pt x="369" y="118"/>
                </a:lnTo>
                <a:lnTo>
                  <a:pt x="345" y="130"/>
                </a:lnTo>
                <a:lnTo>
                  <a:pt x="321" y="141"/>
                </a:lnTo>
                <a:lnTo>
                  <a:pt x="296" y="152"/>
                </a:lnTo>
                <a:lnTo>
                  <a:pt x="272" y="163"/>
                </a:lnTo>
                <a:lnTo>
                  <a:pt x="247" y="175"/>
                </a:lnTo>
                <a:lnTo>
                  <a:pt x="223" y="185"/>
                </a:lnTo>
                <a:lnTo>
                  <a:pt x="198" y="196"/>
                </a:lnTo>
                <a:lnTo>
                  <a:pt x="174" y="207"/>
                </a:lnTo>
                <a:lnTo>
                  <a:pt x="150" y="217"/>
                </a:lnTo>
                <a:lnTo>
                  <a:pt x="126" y="229"/>
                </a:lnTo>
                <a:lnTo>
                  <a:pt x="102" y="240"/>
                </a:lnTo>
                <a:lnTo>
                  <a:pt x="77" y="251"/>
                </a:lnTo>
                <a:lnTo>
                  <a:pt x="53" y="262"/>
                </a:lnTo>
                <a:lnTo>
                  <a:pt x="29" y="274"/>
                </a:lnTo>
                <a:lnTo>
                  <a:pt x="5" y="285"/>
                </a:lnTo>
                <a:lnTo>
                  <a:pt x="3" y="283"/>
                </a:lnTo>
                <a:lnTo>
                  <a:pt x="1" y="282"/>
                </a:lnTo>
                <a:lnTo>
                  <a:pt x="0" y="280"/>
                </a:lnTo>
                <a:lnTo>
                  <a:pt x="0" y="277"/>
                </a:lnTo>
                <a:lnTo>
                  <a:pt x="21" y="268"/>
                </a:lnTo>
                <a:lnTo>
                  <a:pt x="41" y="259"/>
                </a:lnTo>
                <a:lnTo>
                  <a:pt x="61" y="250"/>
                </a:lnTo>
                <a:lnTo>
                  <a:pt x="82" y="240"/>
                </a:lnTo>
                <a:lnTo>
                  <a:pt x="102" y="230"/>
                </a:lnTo>
                <a:lnTo>
                  <a:pt x="122" y="221"/>
                </a:lnTo>
                <a:lnTo>
                  <a:pt x="142" y="211"/>
                </a:lnTo>
                <a:lnTo>
                  <a:pt x="163" y="200"/>
                </a:lnTo>
                <a:lnTo>
                  <a:pt x="182" y="191"/>
                </a:lnTo>
                <a:lnTo>
                  <a:pt x="203" y="182"/>
                </a:lnTo>
                <a:lnTo>
                  <a:pt x="224" y="171"/>
                </a:lnTo>
                <a:lnTo>
                  <a:pt x="243" y="162"/>
                </a:lnTo>
                <a:lnTo>
                  <a:pt x="264" y="153"/>
                </a:lnTo>
                <a:lnTo>
                  <a:pt x="285" y="145"/>
                </a:lnTo>
                <a:lnTo>
                  <a:pt x="306" y="136"/>
                </a:lnTo>
                <a:lnTo>
                  <a:pt x="326" y="128"/>
                </a:lnTo>
                <a:lnTo>
                  <a:pt x="344" y="118"/>
                </a:lnTo>
                <a:lnTo>
                  <a:pt x="361" y="110"/>
                </a:lnTo>
                <a:lnTo>
                  <a:pt x="378" y="101"/>
                </a:lnTo>
                <a:lnTo>
                  <a:pt x="395" y="93"/>
                </a:lnTo>
                <a:lnTo>
                  <a:pt x="413" y="84"/>
                </a:lnTo>
                <a:lnTo>
                  <a:pt x="430" y="76"/>
                </a:lnTo>
                <a:lnTo>
                  <a:pt x="447" y="67"/>
                </a:lnTo>
                <a:lnTo>
                  <a:pt x="465" y="58"/>
                </a:lnTo>
                <a:lnTo>
                  <a:pt x="482" y="50"/>
                </a:lnTo>
                <a:lnTo>
                  <a:pt x="499" y="42"/>
                </a:lnTo>
                <a:lnTo>
                  <a:pt x="516" y="34"/>
                </a:lnTo>
                <a:lnTo>
                  <a:pt x="534" y="27"/>
                </a:lnTo>
                <a:lnTo>
                  <a:pt x="552" y="19"/>
                </a:lnTo>
                <a:lnTo>
                  <a:pt x="569" y="12"/>
                </a:lnTo>
                <a:lnTo>
                  <a:pt x="588" y="5"/>
                </a:lnTo>
                <a:lnTo>
                  <a:pt x="606" y="0"/>
                </a:lnTo>
                <a:lnTo>
                  <a:pt x="610" y="3"/>
                </a:lnTo>
                <a:lnTo>
                  <a:pt x="612" y="7"/>
                </a:lnTo>
                <a:lnTo>
                  <a:pt x="613" y="10"/>
                </a:lnTo>
                <a:lnTo>
                  <a:pt x="611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27960" y="1752480"/>
            <a:ext cx="2880" cy="3240"/>
          </a:xfrm>
          <a:custGeom>
            <a:avLst/>
            <a:gdLst/>
            <a:ahLst/>
            <a:rect l="l" t="t" r="r" b="b"/>
            <a:pathLst>
              <a:path w="12" h="11">
                <a:moveTo>
                  <a:pt x="12" y="0"/>
                </a:moveTo>
                <a:lnTo>
                  <a:pt x="12" y="5"/>
                </a:lnTo>
                <a:lnTo>
                  <a:pt x="8" y="7"/>
                </a:lnTo>
                <a:lnTo>
                  <a:pt x="3" y="8"/>
                </a:lnTo>
                <a:lnTo>
                  <a:pt x="0" y="11"/>
                </a:lnTo>
                <a:lnTo>
                  <a:pt x="0" y="6"/>
                </a:lnTo>
                <a:lnTo>
                  <a:pt x="2" y="2"/>
                </a:lnTo>
                <a:lnTo>
                  <a:pt x="7" y="0"/>
                </a:lnTo>
                <a:lnTo>
                  <a:pt x="12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38760" y="1755720"/>
            <a:ext cx="6480" cy="4680"/>
          </a:xfrm>
          <a:custGeom>
            <a:avLst/>
            <a:gdLst/>
            <a:ahLst/>
            <a:rect l="l" t="t" r="r" b="b"/>
            <a:pathLst>
              <a:path w="28" h="19">
                <a:moveTo>
                  <a:pt x="27" y="11"/>
                </a:moveTo>
                <a:lnTo>
                  <a:pt x="21" y="13"/>
                </a:lnTo>
                <a:lnTo>
                  <a:pt x="14" y="16"/>
                </a:lnTo>
                <a:lnTo>
                  <a:pt x="7" y="19"/>
                </a:lnTo>
                <a:lnTo>
                  <a:pt x="0" y="16"/>
                </a:lnTo>
                <a:lnTo>
                  <a:pt x="4" y="11"/>
                </a:lnTo>
                <a:lnTo>
                  <a:pt x="10" y="6"/>
                </a:lnTo>
                <a:lnTo>
                  <a:pt x="17" y="4"/>
                </a:lnTo>
                <a:lnTo>
                  <a:pt x="23" y="0"/>
                </a:lnTo>
                <a:lnTo>
                  <a:pt x="25" y="2"/>
                </a:lnTo>
                <a:lnTo>
                  <a:pt x="27" y="4"/>
                </a:lnTo>
                <a:lnTo>
                  <a:pt x="28" y="7"/>
                </a:lnTo>
                <a:lnTo>
                  <a:pt x="27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723000" y="1760400"/>
            <a:ext cx="19080" cy="11160"/>
          </a:xfrm>
          <a:custGeom>
            <a:avLst/>
            <a:gdLst/>
            <a:ahLst/>
            <a:rect l="l" t="t" r="r" b="b"/>
            <a:pathLst>
              <a:path w="76" h="38">
                <a:moveTo>
                  <a:pt x="74" y="10"/>
                </a:moveTo>
                <a:lnTo>
                  <a:pt x="64" y="15"/>
                </a:lnTo>
                <a:lnTo>
                  <a:pt x="55" y="19"/>
                </a:lnTo>
                <a:lnTo>
                  <a:pt x="46" y="24"/>
                </a:lnTo>
                <a:lnTo>
                  <a:pt x="37" y="30"/>
                </a:lnTo>
                <a:lnTo>
                  <a:pt x="29" y="33"/>
                </a:lnTo>
                <a:lnTo>
                  <a:pt x="19" y="37"/>
                </a:lnTo>
                <a:lnTo>
                  <a:pt x="10" y="38"/>
                </a:lnTo>
                <a:lnTo>
                  <a:pt x="0" y="37"/>
                </a:lnTo>
                <a:lnTo>
                  <a:pt x="0" y="31"/>
                </a:lnTo>
                <a:lnTo>
                  <a:pt x="8" y="26"/>
                </a:lnTo>
                <a:lnTo>
                  <a:pt x="17" y="22"/>
                </a:lnTo>
                <a:lnTo>
                  <a:pt x="25" y="17"/>
                </a:lnTo>
                <a:lnTo>
                  <a:pt x="34" y="14"/>
                </a:lnTo>
                <a:lnTo>
                  <a:pt x="44" y="10"/>
                </a:lnTo>
                <a:lnTo>
                  <a:pt x="53" y="7"/>
                </a:lnTo>
                <a:lnTo>
                  <a:pt x="62" y="3"/>
                </a:lnTo>
                <a:lnTo>
                  <a:pt x="71" y="0"/>
                </a:lnTo>
                <a:lnTo>
                  <a:pt x="74" y="1"/>
                </a:lnTo>
                <a:lnTo>
                  <a:pt x="75" y="4"/>
                </a:lnTo>
                <a:lnTo>
                  <a:pt x="76" y="7"/>
                </a:lnTo>
                <a:lnTo>
                  <a:pt x="74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30840" y="1762200"/>
            <a:ext cx="3240" cy="324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3"/>
                </a:moveTo>
                <a:lnTo>
                  <a:pt x="18" y="6"/>
                </a:lnTo>
                <a:lnTo>
                  <a:pt x="17" y="8"/>
                </a:lnTo>
                <a:lnTo>
                  <a:pt x="13" y="9"/>
                </a:lnTo>
                <a:lnTo>
                  <a:pt x="11" y="12"/>
                </a:lnTo>
                <a:lnTo>
                  <a:pt x="8" y="12"/>
                </a:lnTo>
                <a:lnTo>
                  <a:pt x="5" y="12"/>
                </a:lnTo>
                <a:lnTo>
                  <a:pt x="3" y="11"/>
                </a:lnTo>
                <a:lnTo>
                  <a:pt x="0" y="9"/>
                </a:lnTo>
                <a:lnTo>
                  <a:pt x="4" y="6"/>
                </a:lnTo>
                <a:lnTo>
                  <a:pt x="7" y="3"/>
                </a:lnTo>
                <a:lnTo>
                  <a:pt x="13" y="0"/>
                </a:lnTo>
                <a:lnTo>
                  <a:pt x="18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642000" y="1762200"/>
            <a:ext cx="19080" cy="11160"/>
          </a:xfrm>
          <a:custGeom>
            <a:avLst/>
            <a:gdLst/>
            <a:ahLst/>
            <a:rect l="l" t="t" r="r" b="b"/>
            <a:pathLst>
              <a:path w="77" h="40">
                <a:moveTo>
                  <a:pt x="77" y="0"/>
                </a:moveTo>
                <a:lnTo>
                  <a:pt x="74" y="3"/>
                </a:lnTo>
                <a:lnTo>
                  <a:pt x="69" y="6"/>
                </a:lnTo>
                <a:lnTo>
                  <a:pt x="65" y="9"/>
                </a:lnTo>
                <a:lnTo>
                  <a:pt x="60" y="11"/>
                </a:lnTo>
                <a:lnTo>
                  <a:pt x="55" y="15"/>
                </a:lnTo>
                <a:lnTo>
                  <a:pt x="51" y="17"/>
                </a:lnTo>
                <a:lnTo>
                  <a:pt x="45" y="18"/>
                </a:lnTo>
                <a:lnTo>
                  <a:pt x="40" y="20"/>
                </a:lnTo>
                <a:lnTo>
                  <a:pt x="38" y="20"/>
                </a:lnTo>
                <a:lnTo>
                  <a:pt x="37" y="20"/>
                </a:lnTo>
                <a:lnTo>
                  <a:pt x="36" y="19"/>
                </a:lnTo>
                <a:lnTo>
                  <a:pt x="36" y="19"/>
                </a:lnTo>
                <a:lnTo>
                  <a:pt x="32" y="23"/>
                </a:lnTo>
                <a:lnTo>
                  <a:pt x="29" y="26"/>
                </a:lnTo>
                <a:lnTo>
                  <a:pt x="24" y="30"/>
                </a:lnTo>
                <a:lnTo>
                  <a:pt x="20" y="32"/>
                </a:lnTo>
                <a:lnTo>
                  <a:pt x="15" y="34"/>
                </a:lnTo>
                <a:lnTo>
                  <a:pt x="10" y="36"/>
                </a:lnTo>
                <a:lnTo>
                  <a:pt x="5" y="38"/>
                </a:lnTo>
                <a:lnTo>
                  <a:pt x="0" y="40"/>
                </a:lnTo>
                <a:lnTo>
                  <a:pt x="6" y="32"/>
                </a:lnTo>
                <a:lnTo>
                  <a:pt x="14" y="25"/>
                </a:lnTo>
                <a:lnTo>
                  <a:pt x="23" y="21"/>
                </a:lnTo>
                <a:lnTo>
                  <a:pt x="32" y="20"/>
                </a:lnTo>
                <a:lnTo>
                  <a:pt x="37" y="17"/>
                </a:lnTo>
                <a:lnTo>
                  <a:pt x="42" y="12"/>
                </a:lnTo>
                <a:lnTo>
                  <a:pt x="47" y="9"/>
                </a:lnTo>
                <a:lnTo>
                  <a:pt x="53" y="5"/>
                </a:lnTo>
                <a:lnTo>
                  <a:pt x="59" y="3"/>
                </a:lnTo>
                <a:lnTo>
                  <a:pt x="65" y="1"/>
                </a:lnTo>
                <a:lnTo>
                  <a:pt x="71" y="0"/>
                </a:lnTo>
                <a:lnTo>
                  <a:pt x="7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57920" y="1763640"/>
            <a:ext cx="22320" cy="4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92" y="11"/>
                </a:moveTo>
                <a:lnTo>
                  <a:pt x="81" y="12"/>
                </a:lnTo>
                <a:lnTo>
                  <a:pt x="70" y="14"/>
                </a:lnTo>
                <a:lnTo>
                  <a:pt x="58" y="15"/>
                </a:lnTo>
                <a:lnTo>
                  <a:pt x="46" y="15"/>
                </a:lnTo>
                <a:lnTo>
                  <a:pt x="35" y="17"/>
                </a:lnTo>
                <a:lnTo>
                  <a:pt x="23" y="17"/>
                </a:lnTo>
                <a:lnTo>
                  <a:pt x="13" y="15"/>
                </a:lnTo>
                <a:lnTo>
                  <a:pt x="2" y="14"/>
                </a:lnTo>
                <a:lnTo>
                  <a:pt x="0" y="13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7" y="0"/>
                </a:lnTo>
                <a:lnTo>
                  <a:pt x="92" y="4"/>
                </a:lnTo>
                <a:lnTo>
                  <a:pt x="92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18240" y="1766880"/>
            <a:ext cx="6480" cy="4680"/>
          </a:xfrm>
          <a:custGeom>
            <a:avLst/>
            <a:gdLst/>
            <a:ahLst/>
            <a:rect l="l" t="t" r="r" b="b"/>
            <a:pathLst>
              <a:path w="31" h="14">
                <a:moveTo>
                  <a:pt x="31" y="1"/>
                </a:moveTo>
                <a:lnTo>
                  <a:pt x="24" y="6"/>
                </a:lnTo>
                <a:lnTo>
                  <a:pt x="18" y="10"/>
                </a:lnTo>
                <a:lnTo>
                  <a:pt x="8" y="14"/>
                </a:lnTo>
                <a:lnTo>
                  <a:pt x="0" y="13"/>
                </a:lnTo>
                <a:lnTo>
                  <a:pt x="8" y="9"/>
                </a:lnTo>
                <a:lnTo>
                  <a:pt x="15" y="3"/>
                </a:lnTo>
                <a:lnTo>
                  <a:pt x="23" y="0"/>
                </a:lnTo>
                <a:lnTo>
                  <a:pt x="31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737400" y="1771560"/>
            <a:ext cx="6480" cy="6480"/>
          </a:xfrm>
          <a:custGeom>
            <a:avLst/>
            <a:gdLst/>
            <a:ahLst/>
            <a:rect l="l" t="t" r="r" b="b"/>
            <a:pathLst>
              <a:path w="24" h="22">
                <a:moveTo>
                  <a:pt x="24" y="11"/>
                </a:moveTo>
                <a:lnTo>
                  <a:pt x="20" y="15"/>
                </a:lnTo>
                <a:lnTo>
                  <a:pt x="16" y="19"/>
                </a:lnTo>
                <a:lnTo>
                  <a:pt x="10" y="22"/>
                </a:lnTo>
                <a:lnTo>
                  <a:pt x="3" y="21"/>
                </a:lnTo>
                <a:lnTo>
                  <a:pt x="0" y="16"/>
                </a:lnTo>
                <a:lnTo>
                  <a:pt x="5" y="9"/>
                </a:lnTo>
                <a:lnTo>
                  <a:pt x="14" y="3"/>
                </a:lnTo>
                <a:lnTo>
                  <a:pt x="22" y="0"/>
                </a:lnTo>
                <a:lnTo>
                  <a:pt x="24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611760" y="1773360"/>
            <a:ext cx="28800" cy="15840"/>
          </a:xfrm>
          <a:custGeom>
            <a:avLst/>
            <a:gdLst/>
            <a:ahLst/>
            <a:rect l="l" t="t" r="r" b="b"/>
            <a:pathLst>
              <a:path w="120" h="61">
                <a:moveTo>
                  <a:pt x="120" y="3"/>
                </a:moveTo>
                <a:lnTo>
                  <a:pt x="106" y="12"/>
                </a:lnTo>
                <a:lnTo>
                  <a:pt x="92" y="18"/>
                </a:lnTo>
                <a:lnTo>
                  <a:pt x="77" y="27"/>
                </a:lnTo>
                <a:lnTo>
                  <a:pt x="62" y="33"/>
                </a:lnTo>
                <a:lnTo>
                  <a:pt x="47" y="40"/>
                </a:lnTo>
                <a:lnTo>
                  <a:pt x="32" y="47"/>
                </a:lnTo>
                <a:lnTo>
                  <a:pt x="17" y="54"/>
                </a:lnTo>
                <a:lnTo>
                  <a:pt x="2" y="61"/>
                </a:lnTo>
                <a:lnTo>
                  <a:pt x="0" y="60"/>
                </a:lnTo>
                <a:lnTo>
                  <a:pt x="14" y="51"/>
                </a:lnTo>
                <a:lnTo>
                  <a:pt x="28" y="43"/>
                </a:lnTo>
                <a:lnTo>
                  <a:pt x="43" y="35"/>
                </a:lnTo>
                <a:lnTo>
                  <a:pt x="57" y="27"/>
                </a:lnTo>
                <a:lnTo>
                  <a:pt x="72" y="20"/>
                </a:lnTo>
                <a:lnTo>
                  <a:pt x="87" y="13"/>
                </a:lnTo>
                <a:lnTo>
                  <a:pt x="102" y="6"/>
                </a:lnTo>
                <a:lnTo>
                  <a:pt x="117" y="0"/>
                </a:lnTo>
                <a:lnTo>
                  <a:pt x="120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05640" y="1774800"/>
            <a:ext cx="6120" cy="3240"/>
          </a:xfrm>
          <a:custGeom>
            <a:avLst/>
            <a:gdLst/>
            <a:ahLst/>
            <a:rect l="l" t="t" r="r" b="b"/>
            <a:pathLst>
              <a:path w="25" h="13">
                <a:moveTo>
                  <a:pt x="25" y="0"/>
                </a:moveTo>
                <a:lnTo>
                  <a:pt x="20" y="5"/>
                </a:lnTo>
                <a:lnTo>
                  <a:pt x="16" y="8"/>
                </a:lnTo>
                <a:lnTo>
                  <a:pt x="9" y="10"/>
                </a:lnTo>
                <a:lnTo>
                  <a:pt x="3" y="13"/>
                </a:lnTo>
                <a:lnTo>
                  <a:pt x="0" y="10"/>
                </a:lnTo>
                <a:lnTo>
                  <a:pt x="5" y="6"/>
                </a:lnTo>
                <a:lnTo>
                  <a:pt x="12" y="2"/>
                </a:lnTo>
                <a:lnTo>
                  <a:pt x="18" y="0"/>
                </a:lnTo>
                <a:lnTo>
                  <a:pt x="25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759720" y="1776240"/>
            <a:ext cx="21960" cy="5040"/>
          </a:xfrm>
          <a:custGeom>
            <a:avLst/>
            <a:gdLst/>
            <a:ahLst/>
            <a:rect l="l" t="t" r="r" b="b"/>
            <a:pathLst>
              <a:path w="91" h="20">
                <a:moveTo>
                  <a:pt x="91" y="4"/>
                </a:moveTo>
                <a:lnTo>
                  <a:pt x="91" y="10"/>
                </a:lnTo>
                <a:lnTo>
                  <a:pt x="79" y="12"/>
                </a:lnTo>
                <a:lnTo>
                  <a:pt x="69" y="13"/>
                </a:lnTo>
                <a:lnTo>
                  <a:pt x="57" y="13"/>
                </a:lnTo>
                <a:lnTo>
                  <a:pt x="47" y="14"/>
                </a:lnTo>
                <a:lnTo>
                  <a:pt x="37" y="15"/>
                </a:lnTo>
                <a:lnTo>
                  <a:pt x="26" y="17"/>
                </a:lnTo>
                <a:lnTo>
                  <a:pt x="16" y="18"/>
                </a:lnTo>
                <a:lnTo>
                  <a:pt x="4" y="20"/>
                </a:lnTo>
                <a:lnTo>
                  <a:pt x="1" y="18"/>
                </a:lnTo>
                <a:lnTo>
                  <a:pt x="0" y="13"/>
                </a:lnTo>
                <a:lnTo>
                  <a:pt x="0" y="8"/>
                </a:lnTo>
                <a:lnTo>
                  <a:pt x="0" y="4"/>
                </a:lnTo>
                <a:lnTo>
                  <a:pt x="4" y="0"/>
                </a:lnTo>
                <a:lnTo>
                  <a:pt x="15" y="0"/>
                </a:lnTo>
                <a:lnTo>
                  <a:pt x="26" y="0"/>
                </a:lnTo>
                <a:lnTo>
                  <a:pt x="37" y="0"/>
                </a:lnTo>
                <a:lnTo>
                  <a:pt x="48" y="0"/>
                </a:lnTo>
                <a:lnTo>
                  <a:pt x="58" y="2"/>
                </a:lnTo>
                <a:lnTo>
                  <a:pt x="70" y="2"/>
                </a:lnTo>
                <a:lnTo>
                  <a:pt x="80" y="3"/>
                </a:lnTo>
                <a:lnTo>
                  <a:pt x="9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591240" y="1781280"/>
            <a:ext cx="9720" cy="6120"/>
          </a:xfrm>
          <a:custGeom>
            <a:avLst/>
            <a:gdLst/>
            <a:ahLst/>
            <a:rect l="l" t="t" r="r" b="b"/>
            <a:pathLst>
              <a:path w="34" h="21">
                <a:moveTo>
                  <a:pt x="34" y="2"/>
                </a:moveTo>
                <a:lnTo>
                  <a:pt x="31" y="8"/>
                </a:lnTo>
                <a:lnTo>
                  <a:pt x="27" y="14"/>
                </a:lnTo>
                <a:lnTo>
                  <a:pt x="20" y="17"/>
                </a:lnTo>
                <a:lnTo>
                  <a:pt x="13" y="21"/>
                </a:lnTo>
                <a:lnTo>
                  <a:pt x="10" y="21"/>
                </a:lnTo>
                <a:lnTo>
                  <a:pt x="6" y="20"/>
                </a:lnTo>
                <a:lnTo>
                  <a:pt x="3" y="18"/>
                </a:lnTo>
                <a:lnTo>
                  <a:pt x="0" y="16"/>
                </a:lnTo>
                <a:lnTo>
                  <a:pt x="8" y="12"/>
                </a:lnTo>
                <a:lnTo>
                  <a:pt x="17" y="7"/>
                </a:lnTo>
                <a:lnTo>
                  <a:pt x="25" y="2"/>
                </a:lnTo>
                <a:lnTo>
                  <a:pt x="33" y="0"/>
                </a:lnTo>
                <a:lnTo>
                  <a:pt x="3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589800" y="1785960"/>
            <a:ext cx="106200" cy="57240"/>
          </a:xfrm>
          <a:custGeom>
            <a:avLst/>
            <a:gdLst/>
            <a:ahLst/>
            <a:rect l="l" t="t" r="r" b="b"/>
            <a:pathLst>
              <a:path w="439" h="211">
                <a:moveTo>
                  <a:pt x="438" y="8"/>
                </a:moveTo>
                <a:lnTo>
                  <a:pt x="410" y="20"/>
                </a:lnTo>
                <a:lnTo>
                  <a:pt x="383" y="33"/>
                </a:lnTo>
                <a:lnTo>
                  <a:pt x="355" y="44"/>
                </a:lnTo>
                <a:lnTo>
                  <a:pt x="327" y="57"/>
                </a:lnTo>
                <a:lnTo>
                  <a:pt x="300" y="70"/>
                </a:lnTo>
                <a:lnTo>
                  <a:pt x="272" y="82"/>
                </a:lnTo>
                <a:lnTo>
                  <a:pt x="244" y="95"/>
                </a:lnTo>
                <a:lnTo>
                  <a:pt x="218" y="108"/>
                </a:lnTo>
                <a:lnTo>
                  <a:pt x="190" y="121"/>
                </a:lnTo>
                <a:lnTo>
                  <a:pt x="164" y="134"/>
                </a:lnTo>
                <a:lnTo>
                  <a:pt x="136" y="147"/>
                </a:lnTo>
                <a:lnTo>
                  <a:pt x="109" y="161"/>
                </a:lnTo>
                <a:lnTo>
                  <a:pt x="82" y="173"/>
                </a:lnTo>
                <a:lnTo>
                  <a:pt x="54" y="186"/>
                </a:lnTo>
                <a:lnTo>
                  <a:pt x="28" y="199"/>
                </a:lnTo>
                <a:lnTo>
                  <a:pt x="0" y="211"/>
                </a:lnTo>
                <a:lnTo>
                  <a:pt x="0" y="206"/>
                </a:lnTo>
                <a:lnTo>
                  <a:pt x="27" y="193"/>
                </a:lnTo>
                <a:lnTo>
                  <a:pt x="53" y="180"/>
                </a:lnTo>
                <a:lnTo>
                  <a:pt x="80" y="167"/>
                </a:lnTo>
                <a:lnTo>
                  <a:pt x="105" y="155"/>
                </a:lnTo>
                <a:lnTo>
                  <a:pt x="131" y="142"/>
                </a:lnTo>
                <a:lnTo>
                  <a:pt x="158" y="128"/>
                </a:lnTo>
                <a:lnTo>
                  <a:pt x="183" y="116"/>
                </a:lnTo>
                <a:lnTo>
                  <a:pt x="210" y="102"/>
                </a:lnTo>
                <a:lnTo>
                  <a:pt x="236" y="89"/>
                </a:lnTo>
                <a:lnTo>
                  <a:pt x="263" y="76"/>
                </a:lnTo>
                <a:lnTo>
                  <a:pt x="288" y="64"/>
                </a:lnTo>
                <a:lnTo>
                  <a:pt x="315" y="51"/>
                </a:lnTo>
                <a:lnTo>
                  <a:pt x="342" y="40"/>
                </a:lnTo>
                <a:lnTo>
                  <a:pt x="369" y="28"/>
                </a:lnTo>
                <a:lnTo>
                  <a:pt x="395" y="18"/>
                </a:lnTo>
                <a:lnTo>
                  <a:pt x="423" y="7"/>
                </a:lnTo>
                <a:lnTo>
                  <a:pt x="425" y="4"/>
                </a:lnTo>
                <a:lnTo>
                  <a:pt x="429" y="2"/>
                </a:lnTo>
                <a:lnTo>
                  <a:pt x="433" y="0"/>
                </a:lnTo>
                <a:lnTo>
                  <a:pt x="439" y="2"/>
                </a:lnTo>
                <a:lnTo>
                  <a:pt x="438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53240" y="1789200"/>
            <a:ext cx="20520" cy="3240"/>
          </a:xfrm>
          <a:custGeom>
            <a:avLst/>
            <a:gdLst/>
            <a:ahLst/>
            <a:rect l="l" t="t" r="r" b="b"/>
            <a:pathLst>
              <a:path w="87" h="17">
                <a:moveTo>
                  <a:pt x="87" y="0"/>
                </a:moveTo>
                <a:lnTo>
                  <a:pt x="83" y="9"/>
                </a:lnTo>
                <a:lnTo>
                  <a:pt x="75" y="11"/>
                </a:lnTo>
                <a:lnTo>
                  <a:pt x="65" y="12"/>
                </a:lnTo>
                <a:lnTo>
                  <a:pt x="57" y="14"/>
                </a:lnTo>
                <a:lnTo>
                  <a:pt x="49" y="13"/>
                </a:lnTo>
                <a:lnTo>
                  <a:pt x="40" y="13"/>
                </a:lnTo>
                <a:lnTo>
                  <a:pt x="32" y="14"/>
                </a:lnTo>
                <a:lnTo>
                  <a:pt x="25" y="15"/>
                </a:lnTo>
                <a:lnTo>
                  <a:pt x="19" y="17"/>
                </a:lnTo>
                <a:lnTo>
                  <a:pt x="13" y="17"/>
                </a:lnTo>
                <a:lnTo>
                  <a:pt x="6" y="15"/>
                </a:lnTo>
                <a:lnTo>
                  <a:pt x="0" y="12"/>
                </a:lnTo>
                <a:lnTo>
                  <a:pt x="1" y="5"/>
                </a:lnTo>
                <a:lnTo>
                  <a:pt x="6" y="2"/>
                </a:lnTo>
                <a:lnTo>
                  <a:pt x="12" y="0"/>
                </a:lnTo>
                <a:lnTo>
                  <a:pt x="16" y="0"/>
                </a:lnTo>
                <a:lnTo>
                  <a:pt x="24" y="0"/>
                </a:lnTo>
                <a:lnTo>
                  <a:pt x="34" y="0"/>
                </a:lnTo>
                <a:lnTo>
                  <a:pt x="42" y="0"/>
                </a:lnTo>
                <a:lnTo>
                  <a:pt x="52" y="0"/>
                </a:lnTo>
                <a:lnTo>
                  <a:pt x="61" y="0"/>
                </a:lnTo>
                <a:lnTo>
                  <a:pt x="69" y="0"/>
                </a:lnTo>
                <a:lnTo>
                  <a:pt x="78" y="0"/>
                </a:lnTo>
                <a:lnTo>
                  <a:pt x="8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599160" y="1792440"/>
            <a:ext cx="7920" cy="2880"/>
          </a:xfrm>
          <a:custGeom>
            <a:avLst/>
            <a:gdLst/>
            <a:ahLst/>
            <a:rect l="l" t="t" r="r" b="b"/>
            <a:pathLst>
              <a:path w="26" h="15">
                <a:moveTo>
                  <a:pt x="26" y="5"/>
                </a:moveTo>
                <a:lnTo>
                  <a:pt x="20" y="9"/>
                </a:lnTo>
                <a:lnTo>
                  <a:pt x="15" y="13"/>
                </a:lnTo>
                <a:lnTo>
                  <a:pt x="8" y="15"/>
                </a:lnTo>
                <a:lnTo>
                  <a:pt x="1" y="15"/>
                </a:lnTo>
                <a:lnTo>
                  <a:pt x="1" y="14"/>
                </a:lnTo>
                <a:lnTo>
                  <a:pt x="1" y="13"/>
                </a:lnTo>
                <a:lnTo>
                  <a:pt x="0" y="13"/>
                </a:lnTo>
                <a:lnTo>
                  <a:pt x="0" y="12"/>
                </a:lnTo>
                <a:lnTo>
                  <a:pt x="5" y="7"/>
                </a:lnTo>
                <a:lnTo>
                  <a:pt x="13" y="2"/>
                </a:lnTo>
                <a:lnTo>
                  <a:pt x="20" y="0"/>
                </a:lnTo>
                <a:lnTo>
                  <a:pt x="26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589800" y="1798560"/>
            <a:ext cx="4680" cy="3240"/>
          </a:xfrm>
          <a:custGeom>
            <a:avLst/>
            <a:gdLst/>
            <a:ahLst/>
            <a:rect l="l" t="t" r="r" b="b"/>
            <a:pathLst>
              <a:path w="19" h="13">
                <a:moveTo>
                  <a:pt x="19" y="3"/>
                </a:moveTo>
                <a:lnTo>
                  <a:pt x="16" y="7"/>
                </a:lnTo>
                <a:lnTo>
                  <a:pt x="11" y="9"/>
                </a:lnTo>
                <a:lnTo>
                  <a:pt x="5" y="11"/>
                </a:lnTo>
                <a:lnTo>
                  <a:pt x="1" y="13"/>
                </a:lnTo>
                <a:lnTo>
                  <a:pt x="0" y="7"/>
                </a:lnTo>
                <a:lnTo>
                  <a:pt x="3" y="5"/>
                </a:lnTo>
                <a:lnTo>
                  <a:pt x="8" y="4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9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745320" y="1798560"/>
            <a:ext cx="15840" cy="4680"/>
          </a:xfrm>
          <a:custGeom>
            <a:avLst/>
            <a:gdLst/>
            <a:ahLst/>
            <a:rect l="l" t="t" r="r" b="b"/>
            <a:pathLst>
              <a:path w="61" h="17">
                <a:moveTo>
                  <a:pt x="59" y="15"/>
                </a:moveTo>
                <a:lnTo>
                  <a:pt x="51" y="14"/>
                </a:lnTo>
                <a:lnTo>
                  <a:pt x="43" y="15"/>
                </a:lnTo>
                <a:lnTo>
                  <a:pt x="35" y="15"/>
                </a:lnTo>
                <a:lnTo>
                  <a:pt x="28" y="16"/>
                </a:lnTo>
                <a:lnTo>
                  <a:pt x="22" y="17"/>
                </a:lnTo>
                <a:lnTo>
                  <a:pt x="15" y="17"/>
                </a:lnTo>
                <a:lnTo>
                  <a:pt x="7" y="16"/>
                </a:lnTo>
                <a:lnTo>
                  <a:pt x="0" y="13"/>
                </a:lnTo>
                <a:lnTo>
                  <a:pt x="5" y="8"/>
                </a:lnTo>
                <a:lnTo>
                  <a:pt x="11" y="5"/>
                </a:lnTo>
                <a:lnTo>
                  <a:pt x="18" y="1"/>
                </a:lnTo>
                <a:lnTo>
                  <a:pt x="25" y="0"/>
                </a:lnTo>
                <a:lnTo>
                  <a:pt x="29" y="4"/>
                </a:lnTo>
                <a:lnTo>
                  <a:pt x="36" y="5"/>
                </a:lnTo>
                <a:lnTo>
                  <a:pt x="43" y="5"/>
                </a:lnTo>
                <a:lnTo>
                  <a:pt x="51" y="4"/>
                </a:lnTo>
                <a:lnTo>
                  <a:pt x="57" y="3"/>
                </a:lnTo>
                <a:lnTo>
                  <a:pt x="60" y="4"/>
                </a:lnTo>
                <a:lnTo>
                  <a:pt x="61" y="7"/>
                </a:lnTo>
                <a:lnTo>
                  <a:pt x="59" y="1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713640" y="1800360"/>
            <a:ext cx="12600" cy="4680"/>
          </a:xfrm>
          <a:custGeom>
            <a:avLst/>
            <a:gdLst/>
            <a:ahLst/>
            <a:rect l="l" t="t" r="r" b="b"/>
            <a:pathLst>
              <a:path w="49" h="19">
                <a:moveTo>
                  <a:pt x="49" y="19"/>
                </a:moveTo>
                <a:lnTo>
                  <a:pt x="43" y="16"/>
                </a:lnTo>
                <a:lnTo>
                  <a:pt x="38" y="16"/>
                </a:lnTo>
                <a:lnTo>
                  <a:pt x="32" y="16"/>
                </a:lnTo>
                <a:lnTo>
                  <a:pt x="25" y="17"/>
                </a:lnTo>
                <a:lnTo>
                  <a:pt x="19" y="19"/>
                </a:lnTo>
                <a:lnTo>
                  <a:pt x="12" y="19"/>
                </a:lnTo>
                <a:lnTo>
                  <a:pt x="5" y="19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lnTo>
                  <a:pt x="2" y="4"/>
                </a:lnTo>
                <a:lnTo>
                  <a:pt x="5" y="0"/>
                </a:lnTo>
                <a:lnTo>
                  <a:pt x="11" y="4"/>
                </a:lnTo>
                <a:lnTo>
                  <a:pt x="18" y="4"/>
                </a:lnTo>
                <a:lnTo>
                  <a:pt x="26" y="4"/>
                </a:lnTo>
                <a:lnTo>
                  <a:pt x="34" y="4"/>
                </a:lnTo>
                <a:lnTo>
                  <a:pt x="41" y="4"/>
                </a:lnTo>
                <a:lnTo>
                  <a:pt x="47" y="6"/>
                </a:lnTo>
                <a:lnTo>
                  <a:pt x="49" y="10"/>
                </a:lnTo>
                <a:lnTo>
                  <a:pt x="49" y="1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46960" y="1801800"/>
            <a:ext cx="145800" cy="81000"/>
          </a:xfrm>
          <a:custGeom>
            <a:avLst/>
            <a:gdLst/>
            <a:ahLst/>
            <a:rect l="l" t="t" r="r" b="b"/>
            <a:pathLst>
              <a:path w="604" h="297">
                <a:moveTo>
                  <a:pt x="604" y="2"/>
                </a:moveTo>
                <a:lnTo>
                  <a:pt x="604" y="7"/>
                </a:lnTo>
                <a:lnTo>
                  <a:pt x="587" y="15"/>
                </a:lnTo>
                <a:lnTo>
                  <a:pt x="569" y="22"/>
                </a:lnTo>
                <a:lnTo>
                  <a:pt x="551" y="30"/>
                </a:lnTo>
                <a:lnTo>
                  <a:pt x="534" y="38"/>
                </a:lnTo>
                <a:lnTo>
                  <a:pt x="517" y="46"/>
                </a:lnTo>
                <a:lnTo>
                  <a:pt x="500" y="55"/>
                </a:lnTo>
                <a:lnTo>
                  <a:pt x="482" y="65"/>
                </a:lnTo>
                <a:lnTo>
                  <a:pt x="465" y="74"/>
                </a:lnTo>
                <a:lnTo>
                  <a:pt x="458" y="74"/>
                </a:lnTo>
                <a:lnTo>
                  <a:pt x="452" y="75"/>
                </a:lnTo>
                <a:lnTo>
                  <a:pt x="447" y="77"/>
                </a:lnTo>
                <a:lnTo>
                  <a:pt x="441" y="81"/>
                </a:lnTo>
                <a:lnTo>
                  <a:pt x="435" y="84"/>
                </a:lnTo>
                <a:lnTo>
                  <a:pt x="429" y="88"/>
                </a:lnTo>
                <a:lnTo>
                  <a:pt x="424" y="90"/>
                </a:lnTo>
                <a:lnTo>
                  <a:pt x="418" y="92"/>
                </a:lnTo>
                <a:lnTo>
                  <a:pt x="396" y="104"/>
                </a:lnTo>
                <a:lnTo>
                  <a:pt x="375" y="115"/>
                </a:lnTo>
                <a:lnTo>
                  <a:pt x="353" y="126"/>
                </a:lnTo>
                <a:lnTo>
                  <a:pt x="331" y="135"/>
                </a:lnTo>
                <a:lnTo>
                  <a:pt x="308" y="145"/>
                </a:lnTo>
                <a:lnTo>
                  <a:pt x="286" y="155"/>
                </a:lnTo>
                <a:lnTo>
                  <a:pt x="265" y="164"/>
                </a:lnTo>
                <a:lnTo>
                  <a:pt x="243" y="173"/>
                </a:lnTo>
                <a:lnTo>
                  <a:pt x="220" y="182"/>
                </a:lnTo>
                <a:lnTo>
                  <a:pt x="198" y="191"/>
                </a:lnTo>
                <a:lnTo>
                  <a:pt x="176" y="201"/>
                </a:lnTo>
                <a:lnTo>
                  <a:pt x="154" y="211"/>
                </a:lnTo>
                <a:lnTo>
                  <a:pt x="132" y="221"/>
                </a:lnTo>
                <a:lnTo>
                  <a:pt x="111" y="233"/>
                </a:lnTo>
                <a:lnTo>
                  <a:pt x="91" y="244"/>
                </a:lnTo>
                <a:lnTo>
                  <a:pt x="70" y="257"/>
                </a:lnTo>
                <a:lnTo>
                  <a:pt x="61" y="261"/>
                </a:lnTo>
                <a:lnTo>
                  <a:pt x="51" y="264"/>
                </a:lnTo>
                <a:lnTo>
                  <a:pt x="43" y="267"/>
                </a:lnTo>
                <a:lnTo>
                  <a:pt x="34" y="273"/>
                </a:lnTo>
                <a:lnTo>
                  <a:pt x="26" y="278"/>
                </a:lnTo>
                <a:lnTo>
                  <a:pt x="19" y="285"/>
                </a:lnTo>
                <a:lnTo>
                  <a:pt x="12" y="291"/>
                </a:lnTo>
                <a:lnTo>
                  <a:pt x="5" y="297"/>
                </a:lnTo>
                <a:lnTo>
                  <a:pt x="0" y="297"/>
                </a:lnTo>
                <a:lnTo>
                  <a:pt x="0" y="292"/>
                </a:lnTo>
                <a:lnTo>
                  <a:pt x="1" y="287"/>
                </a:lnTo>
                <a:lnTo>
                  <a:pt x="4" y="284"/>
                </a:lnTo>
                <a:lnTo>
                  <a:pt x="8" y="280"/>
                </a:lnTo>
                <a:lnTo>
                  <a:pt x="15" y="278"/>
                </a:lnTo>
                <a:lnTo>
                  <a:pt x="21" y="274"/>
                </a:lnTo>
                <a:lnTo>
                  <a:pt x="28" y="271"/>
                </a:lnTo>
                <a:lnTo>
                  <a:pt x="34" y="270"/>
                </a:lnTo>
                <a:lnTo>
                  <a:pt x="60" y="256"/>
                </a:lnTo>
                <a:lnTo>
                  <a:pt x="85" y="242"/>
                </a:lnTo>
                <a:lnTo>
                  <a:pt x="110" y="229"/>
                </a:lnTo>
                <a:lnTo>
                  <a:pt x="136" y="216"/>
                </a:lnTo>
                <a:lnTo>
                  <a:pt x="161" y="203"/>
                </a:lnTo>
                <a:lnTo>
                  <a:pt x="186" y="190"/>
                </a:lnTo>
                <a:lnTo>
                  <a:pt x="212" y="178"/>
                </a:lnTo>
                <a:lnTo>
                  <a:pt x="238" y="165"/>
                </a:lnTo>
                <a:lnTo>
                  <a:pt x="263" y="153"/>
                </a:lnTo>
                <a:lnTo>
                  <a:pt x="289" y="141"/>
                </a:lnTo>
                <a:lnTo>
                  <a:pt x="315" y="128"/>
                </a:lnTo>
                <a:lnTo>
                  <a:pt x="341" y="117"/>
                </a:lnTo>
                <a:lnTo>
                  <a:pt x="367" y="105"/>
                </a:lnTo>
                <a:lnTo>
                  <a:pt x="392" y="92"/>
                </a:lnTo>
                <a:lnTo>
                  <a:pt x="419" y="81"/>
                </a:lnTo>
                <a:lnTo>
                  <a:pt x="444" y="69"/>
                </a:lnTo>
                <a:lnTo>
                  <a:pt x="463" y="59"/>
                </a:lnTo>
                <a:lnTo>
                  <a:pt x="481" y="49"/>
                </a:lnTo>
                <a:lnTo>
                  <a:pt x="501" y="39"/>
                </a:lnTo>
                <a:lnTo>
                  <a:pt x="520" y="31"/>
                </a:lnTo>
                <a:lnTo>
                  <a:pt x="541" y="23"/>
                </a:lnTo>
                <a:lnTo>
                  <a:pt x="561" y="15"/>
                </a:lnTo>
                <a:lnTo>
                  <a:pt x="581" y="8"/>
                </a:lnTo>
                <a:lnTo>
                  <a:pt x="601" y="0"/>
                </a:lnTo>
                <a:lnTo>
                  <a:pt x="60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64240" y="1805040"/>
            <a:ext cx="12600" cy="33120"/>
          </a:xfrm>
          <a:custGeom>
            <a:avLst/>
            <a:gdLst/>
            <a:ahLst/>
            <a:rect l="l" t="t" r="r" b="b"/>
            <a:pathLst>
              <a:path w="55" h="124">
                <a:moveTo>
                  <a:pt x="55" y="124"/>
                </a:moveTo>
                <a:lnTo>
                  <a:pt x="47" y="110"/>
                </a:lnTo>
                <a:lnTo>
                  <a:pt x="37" y="95"/>
                </a:lnTo>
                <a:lnTo>
                  <a:pt x="28" y="81"/>
                </a:lnTo>
                <a:lnTo>
                  <a:pt x="17" y="66"/>
                </a:lnTo>
                <a:lnTo>
                  <a:pt x="9" y="51"/>
                </a:lnTo>
                <a:lnTo>
                  <a:pt x="4" y="35"/>
                </a:lnTo>
                <a:lnTo>
                  <a:pt x="0" y="18"/>
                </a:lnTo>
                <a:lnTo>
                  <a:pt x="0" y="0"/>
                </a:lnTo>
                <a:lnTo>
                  <a:pt x="9" y="14"/>
                </a:lnTo>
                <a:lnTo>
                  <a:pt x="19" y="29"/>
                </a:lnTo>
                <a:lnTo>
                  <a:pt x="27" y="44"/>
                </a:lnTo>
                <a:lnTo>
                  <a:pt x="35" y="59"/>
                </a:lnTo>
                <a:lnTo>
                  <a:pt x="40" y="75"/>
                </a:lnTo>
                <a:lnTo>
                  <a:pt x="46" y="90"/>
                </a:lnTo>
                <a:lnTo>
                  <a:pt x="52" y="107"/>
                </a:lnTo>
                <a:lnTo>
                  <a:pt x="55" y="12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10400" y="1809720"/>
            <a:ext cx="30240" cy="4680"/>
          </a:xfrm>
          <a:custGeom>
            <a:avLst/>
            <a:gdLst/>
            <a:ahLst/>
            <a:rect l="l" t="t" r="r" b="b"/>
            <a:pathLst>
              <a:path w="119" h="19">
                <a:moveTo>
                  <a:pt x="119" y="4"/>
                </a:moveTo>
                <a:lnTo>
                  <a:pt x="117" y="12"/>
                </a:lnTo>
                <a:lnTo>
                  <a:pt x="103" y="14"/>
                </a:lnTo>
                <a:lnTo>
                  <a:pt x="88" y="15"/>
                </a:lnTo>
                <a:lnTo>
                  <a:pt x="74" y="16"/>
                </a:lnTo>
                <a:lnTo>
                  <a:pt x="59" y="16"/>
                </a:lnTo>
                <a:lnTo>
                  <a:pt x="45" y="17"/>
                </a:lnTo>
                <a:lnTo>
                  <a:pt x="31" y="18"/>
                </a:lnTo>
                <a:lnTo>
                  <a:pt x="19" y="18"/>
                </a:lnTo>
                <a:lnTo>
                  <a:pt x="6" y="19"/>
                </a:lnTo>
                <a:lnTo>
                  <a:pt x="0" y="9"/>
                </a:lnTo>
                <a:lnTo>
                  <a:pt x="4" y="3"/>
                </a:lnTo>
                <a:lnTo>
                  <a:pt x="8" y="1"/>
                </a:lnTo>
                <a:lnTo>
                  <a:pt x="14" y="0"/>
                </a:lnTo>
                <a:lnTo>
                  <a:pt x="20" y="1"/>
                </a:lnTo>
                <a:lnTo>
                  <a:pt x="26" y="2"/>
                </a:lnTo>
                <a:lnTo>
                  <a:pt x="33" y="3"/>
                </a:lnTo>
                <a:lnTo>
                  <a:pt x="38" y="3"/>
                </a:lnTo>
                <a:lnTo>
                  <a:pt x="43" y="2"/>
                </a:lnTo>
                <a:lnTo>
                  <a:pt x="119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581880" y="1814400"/>
            <a:ext cx="6120" cy="3240"/>
          </a:xfrm>
          <a:custGeom>
            <a:avLst/>
            <a:gdLst/>
            <a:ahLst/>
            <a:rect l="l" t="t" r="r" b="b"/>
            <a:pathLst>
              <a:path w="23" h="14">
                <a:moveTo>
                  <a:pt x="23" y="1"/>
                </a:moveTo>
                <a:lnTo>
                  <a:pt x="23" y="6"/>
                </a:lnTo>
                <a:lnTo>
                  <a:pt x="19" y="9"/>
                </a:lnTo>
                <a:lnTo>
                  <a:pt x="16" y="12"/>
                </a:lnTo>
                <a:lnTo>
                  <a:pt x="13" y="14"/>
                </a:lnTo>
                <a:lnTo>
                  <a:pt x="9" y="14"/>
                </a:lnTo>
                <a:lnTo>
                  <a:pt x="6" y="14"/>
                </a:lnTo>
                <a:lnTo>
                  <a:pt x="2" y="13"/>
                </a:lnTo>
                <a:lnTo>
                  <a:pt x="0" y="9"/>
                </a:lnTo>
                <a:lnTo>
                  <a:pt x="2" y="4"/>
                </a:lnTo>
                <a:lnTo>
                  <a:pt x="8" y="6"/>
                </a:lnTo>
                <a:lnTo>
                  <a:pt x="13" y="4"/>
                </a:lnTo>
                <a:lnTo>
                  <a:pt x="18" y="0"/>
                </a:lnTo>
                <a:lnTo>
                  <a:pt x="23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548400" y="1816200"/>
            <a:ext cx="141480" cy="75960"/>
          </a:xfrm>
          <a:custGeom>
            <a:avLst/>
            <a:gdLst/>
            <a:ahLst/>
            <a:rect l="l" t="t" r="r" b="b"/>
            <a:pathLst>
              <a:path w="586" h="289">
                <a:moveTo>
                  <a:pt x="586" y="14"/>
                </a:moveTo>
                <a:lnTo>
                  <a:pt x="580" y="20"/>
                </a:lnTo>
                <a:lnTo>
                  <a:pt x="572" y="22"/>
                </a:lnTo>
                <a:lnTo>
                  <a:pt x="563" y="22"/>
                </a:lnTo>
                <a:lnTo>
                  <a:pt x="555" y="25"/>
                </a:lnTo>
                <a:lnTo>
                  <a:pt x="411" y="94"/>
                </a:lnTo>
                <a:lnTo>
                  <a:pt x="387" y="99"/>
                </a:lnTo>
                <a:lnTo>
                  <a:pt x="376" y="105"/>
                </a:lnTo>
                <a:lnTo>
                  <a:pt x="364" y="110"/>
                </a:lnTo>
                <a:lnTo>
                  <a:pt x="352" y="116"/>
                </a:lnTo>
                <a:lnTo>
                  <a:pt x="340" y="122"/>
                </a:lnTo>
                <a:lnTo>
                  <a:pt x="329" y="128"/>
                </a:lnTo>
                <a:lnTo>
                  <a:pt x="316" y="133"/>
                </a:lnTo>
                <a:lnTo>
                  <a:pt x="305" y="139"/>
                </a:lnTo>
                <a:lnTo>
                  <a:pt x="293" y="145"/>
                </a:lnTo>
                <a:lnTo>
                  <a:pt x="280" y="151"/>
                </a:lnTo>
                <a:lnTo>
                  <a:pt x="269" y="158"/>
                </a:lnTo>
                <a:lnTo>
                  <a:pt x="257" y="163"/>
                </a:lnTo>
                <a:lnTo>
                  <a:pt x="246" y="169"/>
                </a:lnTo>
                <a:lnTo>
                  <a:pt x="234" y="176"/>
                </a:lnTo>
                <a:lnTo>
                  <a:pt x="223" y="183"/>
                </a:lnTo>
                <a:lnTo>
                  <a:pt x="211" y="190"/>
                </a:lnTo>
                <a:lnTo>
                  <a:pt x="200" y="197"/>
                </a:lnTo>
                <a:lnTo>
                  <a:pt x="188" y="197"/>
                </a:lnTo>
                <a:lnTo>
                  <a:pt x="177" y="199"/>
                </a:lnTo>
                <a:lnTo>
                  <a:pt x="165" y="204"/>
                </a:lnTo>
                <a:lnTo>
                  <a:pt x="155" y="208"/>
                </a:lnTo>
                <a:lnTo>
                  <a:pt x="143" y="213"/>
                </a:lnTo>
                <a:lnTo>
                  <a:pt x="133" y="219"/>
                </a:lnTo>
                <a:lnTo>
                  <a:pt x="121" y="224"/>
                </a:lnTo>
                <a:lnTo>
                  <a:pt x="111" y="230"/>
                </a:lnTo>
                <a:lnTo>
                  <a:pt x="105" y="238"/>
                </a:lnTo>
                <a:lnTo>
                  <a:pt x="97" y="241"/>
                </a:lnTo>
                <a:lnTo>
                  <a:pt x="87" y="244"/>
                </a:lnTo>
                <a:lnTo>
                  <a:pt x="79" y="249"/>
                </a:lnTo>
                <a:lnTo>
                  <a:pt x="69" y="254"/>
                </a:lnTo>
                <a:lnTo>
                  <a:pt x="60" y="260"/>
                </a:lnTo>
                <a:lnTo>
                  <a:pt x="51" y="266"/>
                </a:lnTo>
                <a:lnTo>
                  <a:pt x="42" y="272"/>
                </a:lnTo>
                <a:lnTo>
                  <a:pt x="33" y="276"/>
                </a:lnTo>
                <a:lnTo>
                  <a:pt x="22" y="282"/>
                </a:lnTo>
                <a:lnTo>
                  <a:pt x="13" y="285"/>
                </a:lnTo>
                <a:lnTo>
                  <a:pt x="3" y="289"/>
                </a:lnTo>
                <a:lnTo>
                  <a:pt x="0" y="282"/>
                </a:lnTo>
                <a:lnTo>
                  <a:pt x="3" y="277"/>
                </a:lnTo>
                <a:lnTo>
                  <a:pt x="6" y="274"/>
                </a:lnTo>
                <a:lnTo>
                  <a:pt x="11" y="272"/>
                </a:lnTo>
                <a:lnTo>
                  <a:pt x="16" y="269"/>
                </a:lnTo>
                <a:lnTo>
                  <a:pt x="22" y="267"/>
                </a:lnTo>
                <a:lnTo>
                  <a:pt x="28" y="264"/>
                </a:lnTo>
                <a:lnTo>
                  <a:pt x="31" y="259"/>
                </a:lnTo>
                <a:lnTo>
                  <a:pt x="63" y="244"/>
                </a:lnTo>
                <a:lnTo>
                  <a:pt x="93" y="229"/>
                </a:lnTo>
                <a:lnTo>
                  <a:pt x="124" y="214"/>
                </a:lnTo>
                <a:lnTo>
                  <a:pt x="155" y="199"/>
                </a:lnTo>
                <a:lnTo>
                  <a:pt x="186" y="184"/>
                </a:lnTo>
                <a:lnTo>
                  <a:pt x="217" y="169"/>
                </a:lnTo>
                <a:lnTo>
                  <a:pt x="248" y="155"/>
                </a:lnTo>
                <a:lnTo>
                  <a:pt x="279" y="140"/>
                </a:lnTo>
                <a:lnTo>
                  <a:pt x="310" y="126"/>
                </a:lnTo>
                <a:lnTo>
                  <a:pt x="341" y="113"/>
                </a:lnTo>
                <a:lnTo>
                  <a:pt x="372" y="98"/>
                </a:lnTo>
                <a:lnTo>
                  <a:pt x="404" y="84"/>
                </a:lnTo>
                <a:lnTo>
                  <a:pt x="435" y="70"/>
                </a:lnTo>
                <a:lnTo>
                  <a:pt x="467" y="56"/>
                </a:lnTo>
                <a:lnTo>
                  <a:pt x="498" y="42"/>
                </a:lnTo>
                <a:lnTo>
                  <a:pt x="529" y="29"/>
                </a:lnTo>
                <a:lnTo>
                  <a:pt x="535" y="23"/>
                </a:lnTo>
                <a:lnTo>
                  <a:pt x="541" y="19"/>
                </a:lnTo>
                <a:lnTo>
                  <a:pt x="548" y="17"/>
                </a:lnTo>
                <a:lnTo>
                  <a:pt x="555" y="14"/>
                </a:lnTo>
                <a:lnTo>
                  <a:pt x="560" y="11"/>
                </a:lnTo>
                <a:lnTo>
                  <a:pt x="567" y="9"/>
                </a:lnTo>
                <a:lnTo>
                  <a:pt x="573" y="5"/>
                </a:lnTo>
                <a:lnTo>
                  <a:pt x="578" y="0"/>
                </a:lnTo>
                <a:lnTo>
                  <a:pt x="580" y="2"/>
                </a:lnTo>
                <a:lnTo>
                  <a:pt x="583" y="5"/>
                </a:lnTo>
                <a:lnTo>
                  <a:pt x="586" y="9"/>
                </a:lnTo>
                <a:lnTo>
                  <a:pt x="586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713640" y="1820880"/>
            <a:ext cx="25200" cy="4680"/>
          </a:xfrm>
          <a:custGeom>
            <a:avLst/>
            <a:gdLst/>
            <a:ahLst/>
            <a:rect l="l" t="t" r="r" b="b"/>
            <a:pathLst>
              <a:path w="106" h="20">
                <a:moveTo>
                  <a:pt x="102" y="3"/>
                </a:moveTo>
                <a:lnTo>
                  <a:pt x="105" y="6"/>
                </a:lnTo>
                <a:lnTo>
                  <a:pt x="106" y="9"/>
                </a:lnTo>
                <a:lnTo>
                  <a:pt x="106" y="13"/>
                </a:lnTo>
                <a:lnTo>
                  <a:pt x="103" y="15"/>
                </a:lnTo>
                <a:lnTo>
                  <a:pt x="91" y="15"/>
                </a:lnTo>
                <a:lnTo>
                  <a:pt x="77" y="16"/>
                </a:lnTo>
                <a:lnTo>
                  <a:pt x="63" y="17"/>
                </a:lnTo>
                <a:lnTo>
                  <a:pt x="50" y="18"/>
                </a:lnTo>
                <a:lnTo>
                  <a:pt x="37" y="20"/>
                </a:lnTo>
                <a:lnTo>
                  <a:pt x="24" y="18"/>
                </a:lnTo>
                <a:lnTo>
                  <a:pt x="11" y="17"/>
                </a:lnTo>
                <a:lnTo>
                  <a:pt x="0" y="15"/>
                </a:lnTo>
                <a:lnTo>
                  <a:pt x="1" y="0"/>
                </a:lnTo>
                <a:lnTo>
                  <a:pt x="102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757920" y="1825560"/>
            <a:ext cx="14400" cy="7920"/>
          </a:xfrm>
          <a:custGeom>
            <a:avLst/>
            <a:gdLst/>
            <a:ahLst/>
            <a:rect l="l" t="t" r="r" b="b"/>
            <a:pathLst>
              <a:path w="59" h="34">
                <a:moveTo>
                  <a:pt x="57" y="14"/>
                </a:moveTo>
                <a:lnTo>
                  <a:pt x="49" y="14"/>
                </a:lnTo>
                <a:lnTo>
                  <a:pt x="42" y="17"/>
                </a:lnTo>
                <a:lnTo>
                  <a:pt x="35" y="20"/>
                </a:lnTo>
                <a:lnTo>
                  <a:pt x="28" y="25"/>
                </a:lnTo>
                <a:lnTo>
                  <a:pt x="21" y="29"/>
                </a:lnTo>
                <a:lnTo>
                  <a:pt x="14" y="33"/>
                </a:lnTo>
                <a:lnTo>
                  <a:pt x="7" y="34"/>
                </a:lnTo>
                <a:lnTo>
                  <a:pt x="0" y="33"/>
                </a:lnTo>
                <a:lnTo>
                  <a:pt x="4" y="25"/>
                </a:lnTo>
                <a:lnTo>
                  <a:pt x="8" y="19"/>
                </a:lnTo>
                <a:lnTo>
                  <a:pt x="14" y="15"/>
                </a:lnTo>
                <a:lnTo>
                  <a:pt x="22" y="12"/>
                </a:lnTo>
                <a:lnTo>
                  <a:pt x="29" y="10"/>
                </a:lnTo>
                <a:lnTo>
                  <a:pt x="37" y="7"/>
                </a:lnTo>
                <a:lnTo>
                  <a:pt x="44" y="5"/>
                </a:lnTo>
                <a:lnTo>
                  <a:pt x="50" y="0"/>
                </a:lnTo>
                <a:lnTo>
                  <a:pt x="54" y="2"/>
                </a:lnTo>
                <a:lnTo>
                  <a:pt x="58" y="5"/>
                </a:lnTo>
                <a:lnTo>
                  <a:pt x="59" y="10"/>
                </a:lnTo>
                <a:lnTo>
                  <a:pt x="57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551640" y="1825560"/>
            <a:ext cx="147600" cy="76320"/>
          </a:xfrm>
          <a:custGeom>
            <a:avLst/>
            <a:gdLst/>
            <a:ahLst/>
            <a:rect l="l" t="t" r="r" b="b"/>
            <a:pathLst>
              <a:path w="603" h="282">
                <a:moveTo>
                  <a:pt x="601" y="13"/>
                </a:moveTo>
                <a:lnTo>
                  <a:pt x="582" y="21"/>
                </a:lnTo>
                <a:lnTo>
                  <a:pt x="562" y="29"/>
                </a:lnTo>
                <a:lnTo>
                  <a:pt x="544" y="37"/>
                </a:lnTo>
                <a:lnTo>
                  <a:pt x="524" y="45"/>
                </a:lnTo>
                <a:lnTo>
                  <a:pt x="506" y="53"/>
                </a:lnTo>
                <a:lnTo>
                  <a:pt x="487" y="62"/>
                </a:lnTo>
                <a:lnTo>
                  <a:pt x="469" y="71"/>
                </a:lnTo>
                <a:lnTo>
                  <a:pt x="450" y="82"/>
                </a:lnTo>
                <a:lnTo>
                  <a:pt x="423" y="93"/>
                </a:lnTo>
                <a:lnTo>
                  <a:pt x="394" y="106"/>
                </a:lnTo>
                <a:lnTo>
                  <a:pt x="366" y="119"/>
                </a:lnTo>
                <a:lnTo>
                  <a:pt x="339" y="131"/>
                </a:lnTo>
                <a:lnTo>
                  <a:pt x="311" y="144"/>
                </a:lnTo>
                <a:lnTo>
                  <a:pt x="283" y="158"/>
                </a:lnTo>
                <a:lnTo>
                  <a:pt x="256" y="171"/>
                </a:lnTo>
                <a:lnTo>
                  <a:pt x="228" y="183"/>
                </a:lnTo>
                <a:lnTo>
                  <a:pt x="199" y="197"/>
                </a:lnTo>
                <a:lnTo>
                  <a:pt x="171" y="210"/>
                </a:lnTo>
                <a:lnTo>
                  <a:pt x="144" y="222"/>
                </a:lnTo>
                <a:lnTo>
                  <a:pt x="116" y="235"/>
                </a:lnTo>
                <a:lnTo>
                  <a:pt x="88" y="248"/>
                </a:lnTo>
                <a:lnTo>
                  <a:pt x="61" y="259"/>
                </a:lnTo>
                <a:lnTo>
                  <a:pt x="32" y="271"/>
                </a:lnTo>
                <a:lnTo>
                  <a:pt x="4" y="282"/>
                </a:lnTo>
                <a:lnTo>
                  <a:pt x="1" y="280"/>
                </a:lnTo>
                <a:lnTo>
                  <a:pt x="1" y="277"/>
                </a:lnTo>
                <a:lnTo>
                  <a:pt x="0" y="273"/>
                </a:lnTo>
                <a:lnTo>
                  <a:pt x="0" y="270"/>
                </a:lnTo>
                <a:lnTo>
                  <a:pt x="26" y="259"/>
                </a:lnTo>
                <a:lnTo>
                  <a:pt x="53" y="249"/>
                </a:lnTo>
                <a:lnTo>
                  <a:pt x="79" y="237"/>
                </a:lnTo>
                <a:lnTo>
                  <a:pt x="106" y="226"/>
                </a:lnTo>
                <a:lnTo>
                  <a:pt x="131" y="214"/>
                </a:lnTo>
                <a:lnTo>
                  <a:pt x="158" y="202"/>
                </a:lnTo>
                <a:lnTo>
                  <a:pt x="183" y="190"/>
                </a:lnTo>
                <a:lnTo>
                  <a:pt x="209" y="177"/>
                </a:lnTo>
                <a:lnTo>
                  <a:pt x="236" y="166"/>
                </a:lnTo>
                <a:lnTo>
                  <a:pt x="261" y="153"/>
                </a:lnTo>
                <a:lnTo>
                  <a:pt x="288" y="141"/>
                </a:lnTo>
                <a:lnTo>
                  <a:pt x="313" y="129"/>
                </a:lnTo>
                <a:lnTo>
                  <a:pt x="340" y="118"/>
                </a:lnTo>
                <a:lnTo>
                  <a:pt x="366" y="106"/>
                </a:lnTo>
                <a:lnTo>
                  <a:pt x="393" y="95"/>
                </a:lnTo>
                <a:lnTo>
                  <a:pt x="419" y="84"/>
                </a:lnTo>
                <a:lnTo>
                  <a:pt x="424" y="77"/>
                </a:lnTo>
                <a:lnTo>
                  <a:pt x="444" y="68"/>
                </a:lnTo>
                <a:lnTo>
                  <a:pt x="466" y="59"/>
                </a:lnTo>
                <a:lnTo>
                  <a:pt x="487" y="50"/>
                </a:lnTo>
                <a:lnTo>
                  <a:pt x="508" y="39"/>
                </a:lnTo>
                <a:lnTo>
                  <a:pt x="530" y="29"/>
                </a:lnTo>
                <a:lnTo>
                  <a:pt x="550" y="18"/>
                </a:lnTo>
                <a:lnTo>
                  <a:pt x="572" y="9"/>
                </a:lnTo>
                <a:lnTo>
                  <a:pt x="594" y="0"/>
                </a:lnTo>
                <a:lnTo>
                  <a:pt x="599" y="1"/>
                </a:lnTo>
                <a:lnTo>
                  <a:pt x="602" y="5"/>
                </a:lnTo>
                <a:lnTo>
                  <a:pt x="603" y="8"/>
                </a:lnTo>
                <a:lnTo>
                  <a:pt x="601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794640" y="1827360"/>
            <a:ext cx="6120" cy="2880"/>
          </a:xfrm>
          <a:custGeom>
            <a:avLst/>
            <a:gdLst/>
            <a:ahLst/>
            <a:rect l="l" t="t" r="r" b="b"/>
            <a:pathLst>
              <a:path w="26" h="12">
                <a:moveTo>
                  <a:pt x="26" y="10"/>
                </a:moveTo>
                <a:lnTo>
                  <a:pt x="21" y="12"/>
                </a:lnTo>
                <a:lnTo>
                  <a:pt x="14" y="11"/>
                </a:lnTo>
                <a:lnTo>
                  <a:pt x="7" y="9"/>
                </a:lnTo>
                <a:lnTo>
                  <a:pt x="0" y="5"/>
                </a:lnTo>
                <a:lnTo>
                  <a:pt x="0" y="0"/>
                </a:lnTo>
                <a:lnTo>
                  <a:pt x="8" y="2"/>
                </a:lnTo>
                <a:lnTo>
                  <a:pt x="17" y="1"/>
                </a:lnTo>
                <a:lnTo>
                  <a:pt x="24" y="2"/>
                </a:lnTo>
                <a:lnTo>
                  <a:pt x="26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727680" y="1828800"/>
            <a:ext cx="5040" cy="4680"/>
          </a:xfrm>
          <a:custGeom>
            <a:avLst/>
            <a:gdLst/>
            <a:ahLst/>
            <a:rect l="l" t="t" r="r" b="b"/>
            <a:pathLst>
              <a:path w="20" h="15">
                <a:moveTo>
                  <a:pt x="20" y="12"/>
                </a:moveTo>
                <a:lnTo>
                  <a:pt x="15" y="15"/>
                </a:lnTo>
                <a:lnTo>
                  <a:pt x="11" y="14"/>
                </a:lnTo>
                <a:lnTo>
                  <a:pt x="5" y="11"/>
                </a:lnTo>
                <a:lnTo>
                  <a:pt x="0" y="10"/>
                </a:lnTo>
                <a:lnTo>
                  <a:pt x="1" y="5"/>
                </a:lnTo>
                <a:lnTo>
                  <a:pt x="5" y="3"/>
                </a:lnTo>
                <a:lnTo>
                  <a:pt x="10" y="2"/>
                </a:lnTo>
                <a:lnTo>
                  <a:pt x="14" y="0"/>
                </a:lnTo>
                <a:lnTo>
                  <a:pt x="20" y="0"/>
                </a:lnTo>
                <a:lnTo>
                  <a:pt x="20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719760" y="1833480"/>
            <a:ext cx="59040" cy="28800"/>
          </a:xfrm>
          <a:custGeom>
            <a:avLst/>
            <a:gdLst/>
            <a:ahLst/>
            <a:rect l="l" t="t" r="r" b="b"/>
            <a:pathLst>
              <a:path w="241" h="106">
                <a:moveTo>
                  <a:pt x="241" y="6"/>
                </a:moveTo>
                <a:lnTo>
                  <a:pt x="239" y="12"/>
                </a:lnTo>
                <a:lnTo>
                  <a:pt x="235" y="16"/>
                </a:lnTo>
                <a:lnTo>
                  <a:pt x="231" y="17"/>
                </a:lnTo>
                <a:lnTo>
                  <a:pt x="226" y="18"/>
                </a:lnTo>
                <a:lnTo>
                  <a:pt x="220" y="20"/>
                </a:lnTo>
                <a:lnTo>
                  <a:pt x="214" y="21"/>
                </a:lnTo>
                <a:lnTo>
                  <a:pt x="210" y="22"/>
                </a:lnTo>
                <a:lnTo>
                  <a:pt x="205" y="24"/>
                </a:lnTo>
                <a:lnTo>
                  <a:pt x="190" y="30"/>
                </a:lnTo>
                <a:lnTo>
                  <a:pt x="176" y="37"/>
                </a:lnTo>
                <a:lnTo>
                  <a:pt x="163" y="44"/>
                </a:lnTo>
                <a:lnTo>
                  <a:pt x="148" y="51"/>
                </a:lnTo>
                <a:lnTo>
                  <a:pt x="134" y="58"/>
                </a:lnTo>
                <a:lnTo>
                  <a:pt x="120" y="65"/>
                </a:lnTo>
                <a:lnTo>
                  <a:pt x="105" y="70"/>
                </a:lnTo>
                <a:lnTo>
                  <a:pt x="90" y="75"/>
                </a:lnTo>
                <a:lnTo>
                  <a:pt x="79" y="80"/>
                </a:lnTo>
                <a:lnTo>
                  <a:pt x="68" y="84"/>
                </a:lnTo>
                <a:lnTo>
                  <a:pt x="57" y="89"/>
                </a:lnTo>
                <a:lnTo>
                  <a:pt x="45" y="93"/>
                </a:lnTo>
                <a:lnTo>
                  <a:pt x="35" y="98"/>
                </a:lnTo>
                <a:lnTo>
                  <a:pt x="23" y="101"/>
                </a:lnTo>
                <a:lnTo>
                  <a:pt x="12" y="105"/>
                </a:lnTo>
                <a:lnTo>
                  <a:pt x="0" y="106"/>
                </a:lnTo>
                <a:lnTo>
                  <a:pt x="4" y="103"/>
                </a:lnTo>
                <a:lnTo>
                  <a:pt x="7" y="99"/>
                </a:lnTo>
                <a:lnTo>
                  <a:pt x="12" y="96"/>
                </a:lnTo>
                <a:lnTo>
                  <a:pt x="16" y="93"/>
                </a:lnTo>
                <a:lnTo>
                  <a:pt x="21" y="91"/>
                </a:lnTo>
                <a:lnTo>
                  <a:pt x="26" y="89"/>
                </a:lnTo>
                <a:lnTo>
                  <a:pt x="31" y="88"/>
                </a:lnTo>
                <a:lnTo>
                  <a:pt x="36" y="86"/>
                </a:lnTo>
                <a:lnTo>
                  <a:pt x="49" y="81"/>
                </a:lnTo>
                <a:lnTo>
                  <a:pt x="60" y="75"/>
                </a:lnTo>
                <a:lnTo>
                  <a:pt x="73" y="69"/>
                </a:lnTo>
                <a:lnTo>
                  <a:pt x="84" y="63"/>
                </a:lnTo>
                <a:lnTo>
                  <a:pt x="97" y="58"/>
                </a:lnTo>
                <a:lnTo>
                  <a:pt x="110" y="52"/>
                </a:lnTo>
                <a:lnTo>
                  <a:pt x="121" y="46"/>
                </a:lnTo>
                <a:lnTo>
                  <a:pt x="134" y="40"/>
                </a:lnTo>
                <a:lnTo>
                  <a:pt x="147" y="36"/>
                </a:lnTo>
                <a:lnTo>
                  <a:pt x="159" y="30"/>
                </a:lnTo>
                <a:lnTo>
                  <a:pt x="172" y="25"/>
                </a:lnTo>
                <a:lnTo>
                  <a:pt x="185" y="20"/>
                </a:lnTo>
                <a:lnTo>
                  <a:pt x="196" y="15"/>
                </a:lnTo>
                <a:lnTo>
                  <a:pt x="209" y="9"/>
                </a:lnTo>
                <a:lnTo>
                  <a:pt x="221" y="5"/>
                </a:lnTo>
                <a:lnTo>
                  <a:pt x="234" y="0"/>
                </a:lnTo>
                <a:lnTo>
                  <a:pt x="24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562800" y="1835280"/>
            <a:ext cx="141120" cy="75960"/>
          </a:xfrm>
          <a:custGeom>
            <a:avLst/>
            <a:gdLst/>
            <a:ahLst/>
            <a:rect l="l" t="t" r="r" b="b"/>
            <a:pathLst>
              <a:path w="579" h="284">
                <a:moveTo>
                  <a:pt x="577" y="0"/>
                </a:moveTo>
                <a:lnTo>
                  <a:pt x="579" y="3"/>
                </a:lnTo>
                <a:lnTo>
                  <a:pt x="579" y="7"/>
                </a:lnTo>
                <a:lnTo>
                  <a:pt x="576" y="11"/>
                </a:lnTo>
                <a:lnTo>
                  <a:pt x="574" y="15"/>
                </a:lnTo>
                <a:lnTo>
                  <a:pt x="556" y="21"/>
                </a:lnTo>
                <a:lnTo>
                  <a:pt x="538" y="27"/>
                </a:lnTo>
                <a:lnTo>
                  <a:pt x="521" y="34"/>
                </a:lnTo>
                <a:lnTo>
                  <a:pt x="503" y="41"/>
                </a:lnTo>
                <a:lnTo>
                  <a:pt x="486" y="48"/>
                </a:lnTo>
                <a:lnTo>
                  <a:pt x="469" y="56"/>
                </a:lnTo>
                <a:lnTo>
                  <a:pt x="451" y="64"/>
                </a:lnTo>
                <a:lnTo>
                  <a:pt x="435" y="72"/>
                </a:lnTo>
                <a:lnTo>
                  <a:pt x="418" y="80"/>
                </a:lnTo>
                <a:lnTo>
                  <a:pt x="401" y="90"/>
                </a:lnTo>
                <a:lnTo>
                  <a:pt x="384" y="98"/>
                </a:lnTo>
                <a:lnTo>
                  <a:pt x="366" y="106"/>
                </a:lnTo>
                <a:lnTo>
                  <a:pt x="349" y="114"/>
                </a:lnTo>
                <a:lnTo>
                  <a:pt x="332" y="121"/>
                </a:lnTo>
                <a:lnTo>
                  <a:pt x="313" y="129"/>
                </a:lnTo>
                <a:lnTo>
                  <a:pt x="296" y="136"/>
                </a:lnTo>
                <a:lnTo>
                  <a:pt x="274" y="147"/>
                </a:lnTo>
                <a:lnTo>
                  <a:pt x="252" y="159"/>
                </a:lnTo>
                <a:lnTo>
                  <a:pt x="230" y="169"/>
                </a:lnTo>
                <a:lnTo>
                  <a:pt x="208" y="180"/>
                </a:lnTo>
                <a:lnTo>
                  <a:pt x="188" y="191"/>
                </a:lnTo>
                <a:lnTo>
                  <a:pt x="166" y="201"/>
                </a:lnTo>
                <a:lnTo>
                  <a:pt x="145" y="214"/>
                </a:lnTo>
                <a:lnTo>
                  <a:pt x="124" y="227"/>
                </a:lnTo>
                <a:lnTo>
                  <a:pt x="110" y="233"/>
                </a:lnTo>
                <a:lnTo>
                  <a:pt x="97" y="238"/>
                </a:lnTo>
                <a:lnTo>
                  <a:pt x="84" y="245"/>
                </a:lnTo>
                <a:lnTo>
                  <a:pt x="70" y="252"/>
                </a:lnTo>
                <a:lnTo>
                  <a:pt x="57" y="260"/>
                </a:lnTo>
                <a:lnTo>
                  <a:pt x="45" y="268"/>
                </a:lnTo>
                <a:lnTo>
                  <a:pt x="32" y="275"/>
                </a:lnTo>
                <a:lnTo>
                  <a:pt x="19" y="283"/>
                </a:lnTo>
                <a:lnTo>
                  <a:pt x="14" y="283"/>
                </a:lnTo>
                <a:lnTo>
                  <a:pt x="7" y="284"/>
                </a:lnTo>
                <a:lnTo>
                  <a:pt x="2" y="283"/>
                </a:lnTo>
                <a:lnTo>
                  <a:pt x="0" y="277"/>
                </a:lnTo>
                <a:lnTo>
                  <a:pt x="0" y="272"/>
                </a:lnTo>
                <a:lnTo>
                  <a:pt x="11" y="265"/>
                </a:lnTo>
                <a:lnTo>
                  <a:pt x="24" y="258"/>
                </a:lnTo>
                <a:lnTo>
                  <a:pt x="37" y="252"/>
                </a:lnTo>
                <a:lnTo>
                  <a:pt x="49" y="247"/>
                </a:lnTo>
                <a:lnTo>
                  <a:pt x="62" y="242"/>
                </a:lnTo>
                <a:lnTo>
                  <a:pt x="75" y="236"/>
                </a:lnTo>
                <a:lnTo>
                  <a:pt x="87" y="229"/>
                </a:lnTo>
                <a:lnTo>
                  <a:pt x="99" y="221"/>
                </a:lnTo>
                <a:lnTo>
                  <a:pt x="124" y="208"/>
                </a:lnTo>
                <a:lnTo>
                  <a:pt x="148" y="196"/>
                </a:lnTo>
                <a:lnTo>
                  <a:pt x="174" y="183"/>
                </a:lnTo>
                <a:lnTo>
                  <a:pt x="199" y="170"/>
                </a:lnTo>
                <a:lnTo>
                  <a:pt x="225" y="158"/>
                </a:lnTo>
                <a:lnTo>
                  <a:pt x="249" y="146"/>
                </a:lnTo>
                <a:lnTo>
                  <a:pt x="274" y="133"/>
                </a:lnTo>
                <a:lnTo>
                  <a:pt x="299" y="122"/>
                </a:lnTo>
                <a:lnTo>
                  <a:pt x="325" y="109"/>
                </a:lnTo>
                <a:lnTo>
                  <a:pt x="350" y="98"/>
                </a:lnTo>
                <a:lnTo>
                  <a:pt x="375" y="86"/>
                </a:lnTo>
                <a:lnTo>
                  <a:pt x="401" y="74"/>
                </a:lnTo>
                <a:lnTo>
                  <a:pt x="426" y="62"/>
                </a:lnTo>
                <a:lnTo>
                  <a:pt x="451" y="49"/>
                </a:lnTo>
                <a:lnTo>
                  <a:pt x="477" y="38"/>
                </a:lnTo>
                <a:lnTo>
                  <a:pt x="502" y="25"/>
                </a:lnTo>
                <a:lnTo>
                  <a:pt x="511" y="22"/>
                </a:lnTo>
                <a:lnTo>
                  <a:pt x="521" y="18"/>
                </a:lnTo>
                <a:lnTo>
                  <a:pt x="530" y="15"/>
                </a:lnTo>
                <a:lnTo>
                  <a:pt x="540" y="12"/>
                </a:lnTo>
                <a:lnTo>
                  <a:pt x="549" y="9"/>
                </a:lnTo>
                <a:lnTo>
                  <a:pt x="559" y="6"/>
                </a:lnTo>
                <a:lnTo>
                  <a:pt x="568" y="3"/>
                </a:lnTo>
                <a:lnTo>
                  <a:pt x="57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797520" y="1838160"/>
            <a:ext cx="12960" cy="5040"/>
          </a:xfrm>
          <a:custGeom>
            <a:avLst/>
            <a:gdLst/>
            <a:ahLst/>
            <a:rect l="l" t="t" r="r" b="b"/>
            <a:pathLst>
              <a:path w="47" h="16">
                <a:moveTo>
                  <a:pt x="47" y="12"/>
                </a:moveTo>
                <a:lnTo>
                  <a:pt x="47" y="16"/>
                </a:lnTo>
                <a:lnTo>
                  <a:pt x="41" y="15"/>
                </a:lnTo>
                <a:lnTo>
                  <a:pt x="34" y="16"/>
                </a:lnTo>
                <a:lnTo>
                  <a:pt x="27" y="16"/>
                </a:lnTo>
                <a:lnTo>
                  <a:pt x="21" y="16"/>
                </a:lnTo>
                <a:lnTo>
                  <a:pt x="14" y="16"/>
                </a:lnTo>
                <a:lnTo>
                  <a:pt x="8" y="15"/>
                </a:lnTo>
                <a:lnTo>
                  <a:pt x="3" y="12"/>
                </a:lnTo>
                <a:lnTo>
                  <a:pt x="0" y="6"/>
                </a:lnTo>
                <a:lnTo>
                  <a:pt x="4" y="3"/>
                </a:lnTo>
                <a:lnTo>
                  <a:pt x="10" y="2"/>
                </a:lnTo>
                <a:lnTo>
                  <a:pt x="16" y="1"/>
                </a:lnTo>
                <a:lnTo>
                  <a:pt x="22" y="0"/>
                </a:lnTo>
                <a:lnTo>
                  <a:pt x="27" y="1"/>
                </a:lnTo>
                <a:lnTo>
                  <a:pt x="33" y="2"/>
                </a:lnTo>
                <a:lnTo>
                  <a:pt x="39" y="3"/>
                </a:lnTo>
                <a:lnTo>
                  <a:pt x="45" y="6"/>
                </a:lnTo>
                <a:lnTo>
                  <a:pt x="47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15000" y="1841400"/>
            <a:ext cx="96840" cy="54000"/>
          </a:xfrm>
          <a:custGeom>
            <a:avLst/>
            <a:gdLst/>
            <a:ahLst/>
            <a:rect l="l" t="t" r="r" b="b"/>
            <a:pathLst>
              <a:path w="404" h="200">
                <a:moveTo>
                  <a:pt x="402" y="15"/>
                </a:moveTo>
                <a:lnTo>
                  <a:pt x="396" y="16"/>
                </a:lnTo>
                <a:lnTo>
                  <a:pt x="390" y="17"/>
                </a:lnTo>
                <a:lnTo>
                  <a:pt x="385" y="19"/>
                </a:lnTo>
                <a:lnTo>
                  <a:pt x="379" y="21"/>
                </a:lnTo>
                <a:lnTo>
                  <a:pt x="373" y="22"/>
                </a:lnTo>
                <a:lnTo>
                  <a:pt x="367" y="24"/>
                </a:lnTo>
                <a:lnTo>
                  <a:pt x="363" y="27"/>
                </a:lnTo>
                <a:lnTo>
                  <a:pt x="358" y="31"/>
                </a:lnTo>
                <a:lnTo>
                  <a:pt x="342" y="37"/>
                </a:lnTo>
                <a:lnTo>
                  <a:pt x="326" y="44"/>
                </a:lnTo>
                <a:lnTo>
                  <a:pt x="310" y="51"/>
                </a:lnTo>
                <a:lnTo>
                  <a:pt x="293" y="57"/>
                </a:lnTo>
                <a:lnTo>
                  <a:pt x="277" y="64"/>
                </a:lnTo>
                <a:lnTo>
                  <a:pt x="262" y="71"/>
                </a:lnTo>
                <a:lnTo>
                  <a:pt x="246" y="79"/>
                </a:lnTo>
                <a:lnTo>
                  <a:pt x="231" y="87"/>
                </a:lnTo>
                <a:lnTo>
                  <a:pt x="217" y="94"/>
                </a:lnTo>
                <a:lnTo>
                  <a:pt x="202" y="101"/>
                </a:lnTo>
                <a:lnTo>
                  <a:pt x="189" y="109"/>
                </a:lnTo>
                <a:lnTo>
                  <a:pt x="175" y="116"/>
                </a:lnTo>
                <a:lnTo>
                  <a:pt x="160" y="123"/>
                </a:lnTo>
                <a:lnTo>
                  <a:pt x="146" y="130"/>
                </a:lnTo>
                <a:lnTo>
                  <a:pt x="132" y="138"/>
                </a:lnTo>
                <a:lnTo>
                  <a:pt x="117" y="145"/>
                </a:lnTo>
                <a:lnTo>
                  <a:pt x="103" y="152"/>
                </a:lnTo>
                <a:lnTo>
                  <a:pt x="90" y="159"/>
                </a:lnTo>
                <a:lnTo>
                  <a:pt x="75" y="166"/>
                </a:lnTo>
                <a:lnTo>
                  <a:pt x="61" y="173"/>
                </a:lnTo>
                <a:lnTo>
                  <a:pt x="46" y="180"/>
                </a:lnTo>
                <a:lnTo>
                  <a:pt x="32" y="186"/>
                </a:lnTo>
                <a:lnTo>
                  <a:pt x="18" y="193"/>
                </a:lnTo>
                <a:lnTo>
                  <a:pt x="3" y="200"/>
                </a:lnTo>
                <a:lnTo>
                  <a:pt x="1" y="198"/>
                </a:lnTo>
                <a:lnTo>
                  <a:pt x="0" y="196"/>
                </a:lnTo>
                <a:lnTo>
                  <a:pt x="0" y="192"/>
                </a:lnTo>
                <a:lnTo>
                  <a:pt x="0" y="190"/>
                </a:lnTo>
                <a:lnTo>
                  <a:pt x="23" y="178"/>
                </a:lnTo>
                <a:lnTo>
                  <a:pt x="47" y="167"/>
                </a:lnTo>
                <a:lnTo>
                  <a:pt x="70" y="154"/>
                </a:lnTo>
                <a:lnTo>
                  <a:pt x="93" y="143"/>
                </a:lnTo>
                <a:lnTo>
                  <a:pt x="117" y="131"/>
                </a:lnTo>
                <a:lnTo>
                  <a:pt x="140" y="118"/>
                </a:lnTo>
                <a:lnTo>
                  <a:pt x="163" y="107"/>
                </a:lnTo>
                <a:lnTo>
                  <a:pt x="187" y="95"/>
                </a:lnTo>
                <a:lnTo>
                  <a:pt x="211" y="84"/>
                </a:lnTo>
                <a:lnTo>
                  <a:pt x="235" y="71"/>
                </a:lnTo>
                <a:lnTo>
                  <a:pt x="258" y="60"/>
                </a:lnTo>
                <a:lnTo>
                  <a:pt x="282" y="48"/>
                </a:lnTo>
                <a:lnTo>
                  <a:pt x="305" y="37"/>
                </a:lnTo>
                <a:lnTo>
                  <a:pt x="329" y="25"/>
                </a:lnTo>
                <a:lnTo>
                  <a:pt x="352" y="15"/>
                </a:lnTo>
                <a:lnTo>
                  <a:pt x="376" y="3"/>
                </a:lnTo>
                <a:lnTo>
                  <a:pt x="381" y="2"/>
                </a:lnTo>
                <a:lnTo>
                  <a:pt x="387" y="1"/>
                </a:lnTo>
                <a:lnTo>
                  <a:pt x="391" y="0"/>
                </a:lnTo>
                <a:lnTo>
                  <a:pt x="397" y="0"/>
                </a:lnTo>
                <a:lnTo>
                  <a:pt x="401" y="1"/>
                </a:lnTo>
                <a:lnTo>
                  <a:pt x="403" y="3"/>
                </a:lnTo>
                <a:lnTo>
                  <a:pt x="404" y="8"/>
                </a:lnTo>
                <a:lnTo>
                  <a:pt x="402" y="1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734160" y="1843200"/>
            <a:ext cx="50760" cy="27000"/>
          </a:xfrm>
          <a:custGeom>
            <a:avLst/>
            <a:gdLst/>
            <a:ahLst/>
            <a:rect l="l" t="t" r="r" b="b"/>
            <a:pathLst>
              <a:path w="209" h="105">
                <a:moveTo>
                  <a:pt x="207" y="21"/>
                </a:moveTo>
                <a:lnTo>
                  <a:pt x="201" y="24"/>
                </a:lnTo>
                <a:lnTo>
                  <a:pt x="194" y="24"/>
                </a:lnTo>
                <a:lnTo>
                  <a:pt x="187" y="22"/>
                </a:lnTo>
                <a:lnTo>
                  <a:pt x="182" y="24"/>
                </a:lnTo>
                <a:lnTo>
                  <a:pt x="166" y="31"/>
                </a:lnTo>
                <a:lnTo>
                  <a:pt x="148" y="39"/>
                </a:lnTo>
                <a:lnTo>
                  <a:pt x="132" y="46"/>
                </a:lnTo>
                <a:lnTo>
                  <a:pt x="115" y="53"/>
                </a:lnTo>
                <a:lnTo>
                  <a:pt x="99" y="60"/>
                </a:lnTo>
                <a:lnTo>
                  <a:pt x="83" y="67"/>
                </a:lnTo>
                <a:lnTo>
                  <a:pt x="66" y="74"/>
                </a:lnTo>
                <a:lnTo>
                  <a:pt x="50" y="81"/>
                </a:lnTo>
                <a:lnTo>
                  <a:pt x="9" y="105"/>
                </a:lnTo>
                <a:lnTo>
                  <a:pt x="4" y="102"/>
                </a:lnTo>
                <a:lnTo>
                  <a:pt x="1" y="96"/>
                </a:lnTo>
                <a:lnTo>
                  <a:pt x="0" y="90"/>
                </a:lnTo>
                <a:lnTo>
                  <a:pt x="5" y="85"/>
                </a:lnTo>
                <a:lnTo>
                  <a:pt x="18" y="78"/>
                </a:lnTo>
                <a:lnTo>
                  <a:pt x="32" y="72"/>
                </a:lnTo>
                <a:lnTo>
                  <a:pt x="45" y="66"/>
                </a:lnTo>
                <a:lnTo>
                  <a:pt x="58" y="60"/>
                </a:lnTo>
                <a:lnTo>
                  <a:pt x="72" y="54"/>
                </a:lnTo>
                <a:lnTo>
                  <a:pt x="86" y="49"/>
                </a:lnTo>
                <a:lnTo>
                  <a:pt x="99" y="43"/>
                </a:lnTo>
                <a:lnTo>
                  <a:pt x="113" y="37"/>
                </a:lnTo>
                <a:lnTo>
                  <a:pt x="123" y="32"/>
                </a:lnTo>
                <a:lnTo>
                  <a:pt x="132" y="28"/>
                </a:lnTo>
                <a:lnTo>
                  <a:pt x="144" y="23"/>
                </a:lnTo>
                <a:lnTo>
                  <a:pt x="154" y="20"/>
                </a:lnTo>
                <a:lnTo>
                  <a:pt x="166" y="16"/>
                </a:lnTo>
                <a:lnTo>
                  <a:pt x="176" y="12"/>
                </a:lnTo>
                <a:lnTo>
                  <a:pt x="186" y="6"/>
                </a:lnTo>
                <a:lnTo>
                  <a:pt x="197" y="0"/>
                </a:lnTo>
                <a:lnTo>
                  <a:pt x="202" y="2"/>
                </a:lnTo>
                <a:lnTo>
                  <a:pt x="207" y="7"/>
                </a:lnTo>
                <a:lnTo>
                  <a:pt x="209" y="14"/>
                </a:lnTo>
                <a:lnTo>
                  <a:pt x="207" y="2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686640" y="1847880"/>
            <a:ext cx="41040" cy="19080"/>
          </a:xfrm>
          <a:custGeom>
            <a:avLst/>
            <a:gdLst/>
            <a:ahLst/>
            <a:rect l="l" t="t" r="r" b="b"/>
            <a:pathLst>
              <a:path w="172" h="71">
                <a:moveTo>
                  <a:pt x="172" y="5"/>
                </a:moveTo>
                <a:lnTo>
                  <a:pt x="150" y="13"/>
                </a:lnTo>
                <a:lnTo>
                  <a:pt x="129" y="23"/>
                </a:lnTo>
                <a:lnTo>
                  <a:pt x="107" y="32"/>
                </a:lnTo>
                <a:lnTo>
                  <a:pt x="87" y="40"/>
                </a:lnTo>
                <a:lnTo>
                  <a:pt x="65" y="49"/>
                </a:lnTo>
                <a:lnTo>
                  <a:pt x="44" y="57"/>
                </a:lnTo>
                <a:lnTo>
                  <a:pt x="22" y="64"/>
                </a:lnTo>
                <a:lnTo>
                  <a:pt x="0" y="71"/>
                </a:lnTo>
                <a:lnTo>
                  <a:pt x="0" y="66"/>
                </a:lnTo>
                <a:lnTo>
                  <a:pt x="21" y="55"/>
                </a:lnTo>
                <a:lnTo>
                  <a:pt x="42" y="44"/>
                </a:lnTo>
                <a:lnTo>
                  <a:pt x="63" y="34"/>
                </a:lnTo>
                <a:lnTo>
                  <a:pt x="84" y="25"/>
                </a:lnTo>
                <a:lnTo>
                  <a:pt x="106" y="17"/>
                </a:lnTo>
                <a:lnTo>
                  <a:pt x="128" y="9"/>
                </a:lnTo>
                <a:lnTo>
                  <a:pt x="150" y="3"/>
                </a:lnTo>
                <a:lnTo>
                  <a:pt x="172" y="0"/>
                </a:lnTo>
                <a:lnTo>
                  <a:pt x="172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02560" y="1849320"/>
            <a:ext cx="12600" cy="5040"/>
          </a:xfrm>
          <a:custGeom>
            <a:avLst/>
            <a:gdLst/>
            <a:ahLst/>
            <a:rect l="l" t="t" r="r" b="b"/>
            <a:pathLst>
              <a:path w="51" h="17">
                <a:moveTo>
                  <a:pt x="51" y="4"/>
                </a:moveTo>
                <a:lnTo>
                  <a:pt x="48" y="10"/>
                </a:lnTo>
                <a:lnTo>
                  <a:pt x="43" y="13"/>
                </a:lnTo>
                <a:lnTo>
                  <a:pt x="37" y="16"/>
                </a:lnTo>
                <a:lnTo>
                  <a:pt x="30" y="17"/>
                </a:lnTo>
                <a:lnTo>
                  <a:pt x="22" y="17"/>
                </a:lnTo>
                <a:lnTo>
                  <a:pt x="15" y="17"/>
                </a:lnTo>
                <a:lnTo>
                  <a:pt x="8" y="17"/>
                </a:lnTo>
                <a:lnTo>
                  <a:pt x="3" y="17"/>
                </a:lnTo>
                <a:lnTo>
                  <a:pt x="0" y="12"/>
                </a:lnTo>
                <a:lnTo>
                  <a:pt x="0" y="8"/>
                </a:lnTo>
                <a:lnTo>
                  <a:pt x="3" y="3"/>
                </a:lnTo>
                <a:lnTo>
                  <a:pt x="5" y="0"/>
                </a:lnTo>
                <a:lnTo>
                  <a:pt x="11" y="0"/>
                </a:lnTo>
                <a:lnTo>
                  <a:pt x="17" y="0"/>
                </a:lnTo>
                <a:lnTo>
                  <a:pt x="22" y="1"/>
                </a:lnTo>
                <a:lnTo>
                  <a:pt x="29" y="1"/>
                </a:lnTo>
                <a:lnTo>
                  <a:pt x="35" y="2"/>
                </a:lnTo>
                <a:lnTo>
                  <a:pt x="41" y="3"/>
                </a:lnTo>
                <a:lnTo>
                  <a:pt x="46" y="3"/>
                </a:lnTo>
                <a:lnTo>
                  <a:pt x="5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38840" y="1854360"/>
            <a:ext cx="49320" cy="25200"/>
          </a:xfrm>
          <a:custGeom>
            <a:avLst/>
            <a:gdLst/>
            <a:ahLst/>
            <a:rect l="l" t="t" r="r" b="b"/>
            <a:pathLst>
              <a:path w="201" h="96">
                <a:moveTo>
                  <a:pt x="198" y="18"/>
                </a:moveTo>
                <a:lnTo>
                  <a:pt x="192" y="20"/>
                </a:lnTo>
                <a:lnTo>
                  <a:pt x="187" y="20"/>
                </a:lnTo>
                <a:lnTo>
                  <a:pt x="183" y="19"/>
                </a:lnTo>
                <a:lnTo>
                  <a:pt x="177" y="18"/>
                </a:lnTo>
                <a:lnTo>
                  <a:pt x="159" y="31"/>
                </a:lnTo>
                <a:lnTo>
                  <a:pt x="139" y="41"/>
                </a:lnTo>
                <a:lnTo>
                  <a:pt x="120" y="50"/>
                </a:lnTo>
                <a:lnTo>
                  <a:pt x="100" y="60"/>
                </a:lnTo>
                <a:lnTo>
                  <a:pt x="80" y="68"/>
                </a:lnTo>
                <a:lnTo>
                  <a:pt x="60" y="76"/>
                </a:lnTo>
                <a:lnTo>
                  <a:pt x="40" y="85"/>
                </a:lnTo>
                <a:lnTo>
                  <a:pt x="20" y="95"/>
                </a:lnTo>
                <a:lnTo>
                  <a:pt x="14" y="96"/>
                </a:lnTo>
                <a:lnTo>
                  <a:pt x="7" y="94"/>
                </a:lnTo>
                <a:lnTo>
                  <a:pt x="1" y="89"/>
                </a:lnTo>
                <a:lnTo>
                  <a:pt x="0" y="81"/>
                </a:lnTo>
                <a:lnTo>
                  <a:pt x="0" y="77"/>
                </a:lnTo>
                <a:lnTo>
                  <a:pt x="22" y="68"/>
                </a:lnTo>
                <a:lnTo>
                  <a:pt x="43" y="58"/>
                </a:lnTo>
                <a:lnTo>
                  <a:pt x="64" y="49"/>
                </a:lnTo>
                <a:lnTo>
                  <a:pt x="85" y="39"/>
                </a:lnTo>
                <a:lnTo>
                  <a:pt x="107" y="30"/>
                </a:lnTo>
                <a:lnTo>
                  <a:pt x="129" y="20"/>
                </a:lnTo>
                <a:lnTo>
                  <a:pt x="151" y="12"/>
                </a:lnTo>
                <a:lnTo>
                  <a:pt x="174" y="7"/>
                </a:lnTo>
                <a:lnTo>
                  <a:pt x="178" y="3"/>
                </a:lnTo>
                <a:lnTo>
                  <a:pt x="183" y="1"/>
                </a:lnTo>
                <a:lnTo>
                  <a:pt x="190" y="0"/>
                </a:lnTo>
                <a:lnTo>
                  <a:pt x="194" y="0"/>
                </a:lnTo>
                <a:lnTo>
                  <a:pt x="199" y="2"/>
                </a:lnTo>
                <a:lnTo>
                  <a:pt x="201" y="5"/>
                </a:lnTo>
                <a:lnTo>
                  <a:pt x="201" y="10"/>
                </a:lnTo>
                <a:lnTo>
                  <a:pt x="198" y="1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08680" y="1859040"/>
            <a:ext cx="11160" cy="4680"/>
          </a:xfrm>
          <a:custGeom>
            <a:avLst/>
            <a:gdLst/>
            <a:ahLst/>
            <a:rect l="l" t="t" r="r" b="b"/>
            <a:pathLst>
              <a:path w="44" h="14">
                <a:moveTo>
                  <a:pt x="44" y="3"/>
                </a:moveTo>
                <a:lnTo>
                  <a:pt x="41" y="9"/>
                </a:lnTo>
                <a:lnTo>
                  <a:pt x="38" y="12"/>
                </a:lnTo>
                <a:lnTo>
                  <a:pt x="32" y="14"/>
                </a:lnTo>
                <a:lnTo>
                  <a:pt x="26" y="14"/>
                </a:lnTo>
                <a:lnTo>
                  <a:pt x="20" y="13"/>
                </a:lnTo>
                <a:lnTo>
                  <a:pt x="14" y="13"/>
                </a:lnTo>
                <a:lnTo>
                  <a:pt x="8" y="12"/>
                </a:lnTo>
                <a:lnTo>
                  <a:pt x="2" y="13"/>
                </a:lnTo>
                <a:lnTo>
                  <a:pt x="0" y="7"/>
                </a:lnTo>
                <a:lnTo>
                  <a:pt x="4" y="4"/>
                </a:lnTo>
                <a:lnTo>
                  <a:pt x="10" y="2"/>
                </a:lnTo>
                <a:lnTo>
                  <a:pt x="16" y="2"/>
                </a:lnTo>
                <a:lnTo>
                  <a:pt x="22" y="0"/>
                </a:lnTo>
                <a:lnTo>
                  <a:pt x="27" y="0"/>
                </a:lnTo>
                <a:lnTo>
                  <a:pt x="33" y="2"/>
                </a:lnTo>
                <a:lnTo>
                  <a:pt x="39" y="3"/>
                </a:lnTo>
                <a:lnTo>
                  <a:pt x="44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545160" y="1862280"/>
            <a:ext cx="12960" cy="9360"/>
          </a:xfrm>
          <a:custGeom>
            <a:avLst/>
            <a:gdLst/>
            <a:ahLst/>
            <a:rect l="l" t="t" r="r" b="b"/>
            <a:pathLst>
              <a:path w="52" h="33">
                <a:moveTo>
                  <a:pt x="52" y="2"/>
                </a:moveTo>
                <a:lnTo>
                  <a:pt x="52" y="8"/>
                </a:lnTo>
                <a:lnTo>
                  <a:pt x="45" y="10"/>
                </a:lnTo>
                <a:lnTo>
                  <a:pt x="39" y="12"/>
                </a:lnTo>
                <a:lnTo>
                  <a:pt x="32" y="14"/>
                </a:lnTo>
                <a:lnTo>
                  <a:pt x="25" y="17"/>
                </a:lnTo>
                <a:lnTo>
                  <a:pt x="20" y="19"/>
                </a:lnTo>
                <a:lnTo>
                  <a:pt x="14" y="23"/>
                </a:lnTo>
                <a:lnTo>
                  <a:pt x="9" y="27"/>
                </a:lnTo>
                <a:lnTo>
                  <a:pt x="5" y="33"/>
                </a:lnTo>
                <a:lnTo>
                  <a:pt x="0" y="33"/>
                </a:lnTo>
                <a:lnTo>
                  <a:pt x="2" y="24"/>
                </a:lnTo>
                <a:lnTo>
                  <a:pt x="6" y="18"/>
                </a:lnTo>
                <a:lnTo>
                  <a:pt x="12" y="14"/>
                </a:lnTo>
                <a:lnTo>
                  <a:pt x="20" y="10"/>
                </a:lnTo>
                <a:lnTo>
                  <a:pt x="28" y="8"/>
                </a:lnTo>
                <a:lnTo>
                  <a:pt x="36" y="5"/>
                </a:lnTo>
                <a:lnTo>
                  <a:pt x="43" y="3"/>
                </a:lnTo>
                <a:lnTo>
                  <a:pt x="50" y="0"/>
                </a:lnTo>
                <a:lnTo>
                  <a:pt x="52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38840" y="1863720"/>
            <a:ext cx="54000" cy="31680"/>
          </a:xfrm>
          <a:custGeom>
            <a:avLst/>
            <a:gdLst/>
            <a:ahLst/>
            <a:rect l="l" t="t" r="r" b="b"/>
            <a:pathLst>
              <a:path w="223" h="120">
                <a:moveTo>
                  <a:pt x="223" y="6"/>
                </a:moveTo>
                <a:lnTo>
                  <a:pt x="222" y="13"/>
                </a:lnTo>
                <a:lnTo>
                  <a:pt x="219" y="19"/>
                </a:lnTo>
                <a:lnTo>
                  <a:pt x="214" y="22"/>
                </a:lnTo>
                <a:lnTo>
                  <a:pt x="208" y="26"/>
                </a:lnTo>
                <a:lnTo>
                  <a:pt x="202" y="28"/>
                </a:lnTo>
                <a:lnTo>
                  <a:pt x="197" y="30"/>
                </a:lnTo>
                <a:lnTo>
                  <a:pt x="191" y="34"/>
                </a:lnTo>
                <a:lnTo>
                  <a:pt x="186" y="38"/>
                </a:lnTo>
                <a:lnTo>
                  <a:pt x="164" y="49"/>
                </a:lnTo>
                <a:lnTo>
                  <a:pt x="143" y="59"/>
                </a:lnTo>
                <a:lnTo>
                  <a:pt x="121" y="70"/>
                </a:lnTo>
                <a:lnTo>
                  <a:pt x="100" y="79"/>
                </a:lnTo>
                <a:lnTo>
                  <a:pt x="78" y="89"/>
                </a:lnTo>
                <a:lnTo>
                  <a:pt x="56" y="100"/>
                </a:lnTo>
                <a:lnTo>
                  <a:pt x="34" y="110"/>
                </a:lnTo>
                <a:lnTo>
                  <a:pt x="12" y="120"/>
                </a:lnTo>
                <a:lnTo>
                  <a:pt x="8" y="118"/>
                </a:lnTo>
                <a:lnTo>
                  <a:pt x="4" y="117"/>
                </a:lnTo>
                <a:lnTo>
                  <a:pt x="2" y="113"/>
                </a:lnTo>
                <a:lnTo>
                  <a:pt x="0" y="110"/>
                </a:lnTo>
                <a:lnTo>
                  <a:pt x="12" y="100"/>
                </a:lnTo>
                <a:lnTo>
                  <a:pt x="25" y="90"/>
                </a:lnTo>
                <a:lnTo>
                  <a:pt x="39" y="81"/>
                </a:lnTo>
                <a:lnTo>
                  <a:pt x="53" y="73"/>
                </a:lnTo>
                <a:lnTo>
                  <a:pt x="67" y="66"/>
                </a:lnTo>
                <a:lnTo>
                  <a:pt x="80" y="58"/>
                </a:lnTo>
                <a:lnTo>
                  <a:pt x="94" y="51"/>
                </a:lnTo>
                <a:lnTo>
                  <a:pt x="108" y="43"/>
                </a:lnTo>
                <a:lnTo>
                  <a:pt x="115" y="38"/>
                </a:lnTo>
                <a:lnTo>
                  <a:pt x="122" y="35"/>
                </a:lnTo>
                <a:lnTo>
                  <a:pt x="129" y="33"/>
                </a:lnTo>
                <a:lnTo>
                  <a:pt x="137" y="30"/>
                </a:lnTo>
                <a:lnTo>
                  <a:pt x="145" y="29"/>
                </a:lnTo>
                <a:lnTo>
                  <a:pt x="152" y="27"/>
                </a:lnTo>
                <a:lnTo>
                  <a:pt x="158" y="22"/>
                </a:lnTo>
                <a:lnTo>
                  <a:pt x="163" y="18"/>
                </a:lnTo>
                <a:lnTo>
                  <a:pt x="170" y="18"/>
                </a:lnTo>
                <a:lnTo>
                  <a:pt x="177" y="15"/>
                </a:lnTo>
                <a:lnTo>
                  <a:pt x="185" y="11"/>
                </a:lnTo>
                <a:lnTo>
                  <a:pt x="193" y="6"/>
                </a:lnTo>
                <a:lnTo>
                  <a:pt x="200" y="3"/>
                </a:lnTo>
                <a:lnTo>
                  <a:pt x="208" y="0"/>
                </a:lnTo>
                <a:lnTo>
                  <a:pt x="216" y="0"/>
                </a:lnTo>
                <a:lnTo>
                  <a:pt x="223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10480" y="1871640"/>
            <a:ext cx="11160" cy="3240"/>
          </a:xfrm>
          <a:custGeom>
            <a:avLst/>
            <a:gdLst/>
            <a:ahLst/>
            <a:rect l="l" t="t" r="r" b="b"/>
            <a:pathLst>
              <a:path w="45" h="15">
                <a:moveTo>
                  <a:pt x="45" y="5"/>
                </a:moveTo>
                <a:lnTo>
                  <a:pt x="41" y="9"/>
                </a:lnTo>
                <a:lnTo>
                  <a:pt x="36" y="12"/>
                </a:lnTo>
                <a:lnTo>
                  <a:pt x="32" y="14"/>
                </a:lnTo>
                <a:lnTo>
                  <a:pt x="26" y="15"/>
                </a:lnTo>
                <a:lnTo>
                  <a:pt x="20" y="15"/>
                </a:lnTo>
                <a:lnTo>
                  <a:pt x="14" y="15"/>
                </a:lnTo>
                <a:lnTo>
                  <a:pt x="7" y="14"/>
                </a:lnTo>
                <a:lnTo>
                  <a:pt x="2" y="13"/>
                </a:lnTo>
                <a:lnTo>
                  <a:pt x="0" y="7"/>
                </a:lnTo>
                <a:lnTo>
                  <a:pt x="4" y="4"/>
                </a:lnTo>
                <a:lnTo>
                  <a:pt x="7" y="1"/>
                </a:lnTo>
                <a:lnTo>
                  <a:pt x="12" y="0"/>
                </a:lnTo>
                <a:lnTo>
                  <a:pt x="21" y="0"/>
                </a:lnTo>
                <a:lnTo>
                  <a:pt x="30" y="0"/>
                </a:lnTo>
                <a:lnTo>
                  <a:pt x="39" y="1"/>
                </a:lnTo>
                <a:lnTo>
                  <a:pt x="45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688080" y="1876320"/>
            <a:ext cx="39600" cy="7920"/>
          </a:xfrm>
          <a:custGeom>
            <a:avLst/>
            <a:gdLst/>
            <a:ahLst/>
            <a:rect l="l" t="t" r="r" b="b"/>
            <a:pathLst>
              <a:path w="164" h="27">
                <a:moveTo>
                  <a:pt x="164" y="25"/>
                </a:moveTo>
                <a:lnTo>
                  <a:pt x="163" y="27"/>
                </a:lnTo>
                <a:lnTo>
                  <a:pt x="153" y="23"/>
                </a:lnTo>
                <a:lnTo>
                  <a:pt x="141" y="19"/>
                </a:lnTo>
                <a:lnTo>
                  <a:pt x="130" y="17"/>
                </a:lnTo>
                <a:lnTo>
                  <a:pt x="118" y="16"/>
                </a:lnTo>
                <a:lnTo>
                  <a:pt x="107" y="15"/>
                </a:lnTo>
                <a:lnTo>
                  <a:pt x="94" y="15"/>
                </a:lnTo>
                <a:lnTo>
                  <a:pt x="81" y="13"/>
                </a:lnTo>
                <a:lnTo>
                  <a:pt x="69" y="12"/>
                </a:lnTo>
                <a:lnTo>
                  <a:pt x="61" y="13"/>
                </a:lnTo>
                <a:lnTo>
                  <a:pt x="51" y="16"/>
                </a:lnTo>
                <a:lnTo>
                  <a:pt x="43" y="17"/>
                </a:lnTo>
                <a:lnTo>
                  <a:pt x="34" y="19"/>
                </a:lnTo>
                <a:lnTo>
                  <a:pt x="26" y="20"/>
                </a:lnTo>
                <a:lnTo>
                  <a:pt x="17" y="23"/>
                </a:lnTo>
                <a:lnTo>
                  <a:pt x="9" y="24"/>
                </a:lnTo>
                <a:lnTo>
                  <a:pt x="0" y="25"/>
                </a:lnTo>
                <a:lnTo>
                  <a:pt x="17" y="17"/>
                </a:lnTo>
                <a:lnTo>
                  <a:pt x="36" y="10"/>
                </a:lnTo>
                <a:lnTo>
                  <a:pt x="56" y="4"/>
                </a:lnTo>
                <a:lnTo>
                  <a:pt x="77" y="1"/>
                </a:lnTo>
                <a:lnTo>
                  <a:pt x="97" y="0"/>
                </a:lnTo>
                <a:lnTo>
                  <a:pt x="117" y="1"/>
                </a:lnTo>
                <a:lnTo>
                  <a:pt x="137" y="5"/>
                </a:lnTo>
                <a:lnTo>
                  <a:pt x="154" y="12"/>
                </a:lnTo>
                <a:lnTo>
                  <a:pt x="164" y="2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24720" y="1881360"/>
            <a:ext cx="34920" cy="20520"/>
          </a:xfrm>
          <a:custGeom>
            <a:avLst/>
            <a:gdLst/>
            <a:ahLst/>
            <a:rect l="l" t="t" r="r" b="b"/>
            <a:pathLst>
              <a:path w="146" h="78">
                <a:moveTo>
                  <a:pt x="146" y="6"/>
                </a:moveTo>
                <a:lnTo>
                  <a:pt x="143" y="13"/>
                </a:lnTo>
                <a:lnTo>
                  <a:pt x="126" y="21"/>
                </a:lnTo>
                <a:lnTo>
                  <a:pt x="107" y="30"/>
                </a:lnTo>
                <a:lnTo>
                  <a:pt x="90" y="38"/>
                </a:lnTo>
                <a:lnTo>
                  <a:pt x="72" y="47"/>
                </a:lnTo>
                <a:lnTo>
                  <a:pt x="54" y="55"/>
                </a:lnTo>
                <a:lnTo>
                  <a:pt x="36" y="64"/>
                </a:lnTo>
                <a:lnTo>
                  <a:pt x="19" y="72"/>
                </a:lnTo>
                <a:lnTo>
                  <a:pt x="0" y="78"/>
                </a:lnTo>
                <a:lnTo>
                  <a:pt x="0" y="72"/>
                </a:lnTo>
                <a:lnTo>
                  <a:pt x="17" y="62"/>
                </a:lnTo>
                <a:lnTo>
                  <a:pt x="36" y="52"/>
                </a:lnTo>
                <a:lnTo>
                  <a:pt x="53" y="43"/>
                </a:lnTo>
                <a:lnTo>
                  <a:pt x="70" y="34"/>
                </a:lnTo>
                <a:lnTo>
                  <a:pt x="89" y="24"/>
                </a:lnTo>
                <a:lnTo>
                  <a:pt x="106" y="16"/>
                </a:lnTo>
                <a:lnTo>
                  <a:pt x="125" y="8"/>
                </a:lnTo>
                <a:lnTo>
                  <a:pt x="143" y="0"/>
                </a:lnTo>
                <a:lnTo>
                  <a:pt x="146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10480" y="1882800"/>
            <a:ext cx="6120" cy="3240"/>
          </a:xfrm>
          <a:custGeom>
            <a:avLst/>
            <a:gdLst/>
            <a:ahLst/>
            <a:rect l="l" t="t" r="r" b="b"/>
            <a:pathLst>
              <a:path w="28" h="15">
                <a:moveTo>
                  <a:pt x="28" y="9"/>
                </a:moveTo>
                <a:lnTo>
                  <a:pt x="28" y="12"/>
                </a:lnTo>
                <a:lnTo>
                  <a:pt x="22" y="15"/>
                </a:lnTo>
                <a:lnTo>
                  <a:pt x="15" y="15"/>
                </a:lnTo>
                <a:lnTo>
                  <a:pt x="8" y="15"/>
                </a:lnTo>
                <a:lnTo>
                  <a:pt x="1" y="15"/>
                </a:lnTo>
                <a:lnTo>
                  <a:pt x="0" y="10"/>
                </a:lnTo>
                <a:lnTo>
                  <a:pt x="4" y="5"/>
                </a:lnTo>
                <a:lnTo>
                  <a:pt x="7" y="2"/>
                </a:lnTo>
                <a:lnTo>
                  <a:pt x="12" y="0"/>
                </a:lnTo>
                <a:lnTo>
                  <a:pt x="16" y="2"/>
                </a:lnTo>
                <a:lnTo>
                  <a:pt x="21" y="3"/>
                </a:lnTo>
                <a:lnTo>
                  <a:pt x="24" y="5"/>
                </a:lnTo>
                <a:lnTo>
                  <a:pt x="28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705720" y="1890720"/>
            <a:ext cx="14040" cy="3240"/>
          </a:xfrm>
          <a:custGeom>
            <a:avLst/>
            <a:gdLst/>
            <a:ahLst/>
            <a:rect l="l" t="t" r="r" b="b"/>
            <a:pathLst>
              <a:path w="56" h="15">
                <a:moveTo>
                  <a:pt x="56" y="9"/>
                </a:moveTo>
                <a:lnTo>
                  <a:pt x="48" y="15"/>
                </a:lnTo>
                <a:lnTo>
                  <a:pt x="42" y="15"/>
                </a:lnTo>
                <a:lnTo>
                  <a:pt x="35" y="15"/>
                </a:lnTo>
                <a:lnTo>
                  <a:pt x="30" y="15"/>
                </a:lnTo>
                <a:lnTo>
                  <a:pt x="24" y="15"/>
                </a:lnTo>
                <a:lnTo>
                  <a:pt x="18" y="14"/>
                </a:lnTo>
                <a:lnTo>
                  <a:pt x="12" y="12"/>
                </a:lnTo>
                <a:lnTo>
                  <a:pt x="6" y="11"/>
                </a:lnTo>
                <a:lnTo>
                  <a:pt x="0" y="9"/>
                </a:lnTo>
                <a:lnTo>
                  <a:pt x="6" y="4"/>
                </a:lnTo>
                <a:lnTo>
                  <a:pt x="11" y="1"/>
                </a:lnTo>
                <a:lnTo>
                  <a:pt x="19" y="0"/>
                </a:lnTo>
                <a:lnTo>
                  <a:pt x="26" y="0"/>
                </a:lnTo>
                <a:lnTo>
                  <a:pt x="33" y="0"/>
                </a:lnTo>
                <a:lnTo>
                  <a:pt x="41" y="1"/>
                </a:lnTo>
                <a:lnTo>
                  <a:pt x="48" y="1"/>
                </a:lnTo>
                <a:lnTo>
                  <a:pt x="55" y="2"/>
                </a:lnTo>
                <a:lnTo>
                  <a:pt x="56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689880" y="1897200"/>
            <a:ext cx="14040" cy="2880"/>
          </a:xfrm>
          <a:custGeom>
            <a:avLst/>
            <a:gdLst/>
            <a:ahLst/>
            <a:rect l="l" t="t" r="r" b="b"/>
            <a:pathLst>
              <a:path w="63" h="14">
                <a:moveTo>
                  <a:pt x="63" y="7"/>
                </a:moveTo>
                <a:lnTo>
                  <a:pt x="63" y="14"/>
                </a:lnTo>
                <a:lnTo>
                  <a:pt x="54" y="14"/>
                </a:lnTo>
                <a:lnTo>
                  <a:pt x="46" y="14"/>
                </a:lnTo>
                <a:lnTo>
                  <a:pt x="38" y="14"/>
                </a:lnTo>
                <a:lnTo>
                  <a:pt x="30" y="14"/>
                </a:lnTo>
                <a:lnTo>
                  <a:pt x="23" y="14"/>
                </a:lnTo>
                <a:lnTo>
                  <a:pt x="15" y="12"/>
                </a:lnTo>
                <a:lnTo>
                  <a:pt x="8" y="11"/>
                </a:lnTo>
                <a:lnTo>
                  <a:pt x="0" y="9"/>
                </a:lnTo>
                <a:lnTo>
                  <a:pt x="4" y="0"/>
                </a:lnTo>
                <a:lnTo>
                  <a:pt x="12" y="2"/>
                </a:lnTo>
                <a:lnTo>
                  <a:pt x="19" y="2"/>
                </a:lnTo>
                <a:lnTo>
                  <a:pt x="27" y="2"/>
                </a:lnTo>
                <a:lnTo>
                  <a:pt x="34" y="2"/>
                </a:lnTo>
                <a:lnTo>
                  <a:pt x="41" y="2"/>
                </a:lnTo>
                <a:lnTo>
                  <a:pt x="48" y="3"/>
                </a:lnTo>
                <a:lnTo>
                  <a:pt x="56" y="4"/>
                </a:lnTo>
                <a:lnTo>
                  <a:pt x="63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627960" y="1900080"/>
            <a:ext cx="25200" cy="14400"/>
          </a:xfrm>
          <a:custGeom>
            <a:avLst/>
            <a:gdLst/>
            <a:ahLst/>
            <a:rect l="l" t="t" r="r" b="b"/>
            <a:pathLst>
              <a:path w="106" h="57">
                <a:moveTo>
                  <a:pt x="106" y="4"/>
                </a:moveTo>
                <a:lnTo>
                  <a:pt x="104" y="14"/>
                </a:lnTo>
                <a:lnTo>
                  <a:pt x="92" y="20"/>
                </a:lnTo>
                <a:lnTo>
                  <a:pt x="80" y="24"/>
                </a:lnTo>
                <a:lnTo>
                  <a:pt x="68" y="29"/>
                </a:lnTo>
                <a:lnTo>
                  <a:pt x="56" y="34"/>
                </a:lnTo>
                <a:lnTo>
                  <a:pt x="43" y="38"/>
                </a:lnTo>
                <a:lnTo>
                  <a:pt x="32" y="43"/>
                </a:lnTo>
                <a:lnTo>
                  <a:pt x="20" y="50"/>
                </a:lnTo>
                <a:lnTo>
                  <a:pt x="10" y="57"/>
                </a:lnTo>
                <a:lnTo>
                  <a:pt x="5" y="57"/>
                </a:lnTo>
                <a:lnTo>
                  <a:pt x="3" y="55"/>
                </a:lnTo>
                <a:lnTo>
                  <a:pt x="1" y="54"/>
                </a:lnTo>
                <a:lnTo>
                  <a:pt x="0" y="51"/>
                </a:lnTo>
                <a:lnTo>
                  <a:pt x="3" y="43"/>
                </a:lnTo>
                <a:lnTo>
                  <a:pt x="8" y="37"/>
                </a:lnTo>
                <a:lnTo>
                  <a:pt x="13" y="34"/>
                </a:lnTo>
                <a:lnTo>
                  <a:pt x="21" y="31"/>
                </a:lnTo>
                <a:lnTo>
                  <a:pt x="28" y="29"/>
                </a:lnTo>
                <a:lnTo>
                  <a:pt x="36" y="27"/>
                </a:lnTo>
                <a:lnTo>
                  <a:pt x="43" y="23"/>
                </a:lnTo>
                <a:lnTo>
                  <a:pt x="49" y="17"/>
                </a:lnTo>
                <a:lnTo>
                  <a:pt x="57" y="16"/>
                </a:lnTo>
                <a:lnTo>
                  <a:pt x="64" y="13"/>
                </a:lnTo>
                <a:lnTo>
                  <a:pt x="71" y="9"/>
                </a:lnTo>
                <a:lnTo>
                  <a:pt x="78" y="5"/>
                </a:lnTo>
                <a:lnTo>
                  <a:pt x="84" y="2"/>
                </a:lnTo>
                <a:lnTo>
                  <a:pt x="91" y="0"/>
                </a:lnTo>
                <a:lnTo>
                  <a:pt x="97" y="0"/>
                </a:lnTo>
                <a:lnTo>
                  <a:pt x="106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75480" y="1906560"/>
            <a:ext cx="20520" cy="4680"/>
          </a:xfrm>
          <a:custGeom>
            <a:avLst/>
            <a:gdLst/>
            <a:ahLst/>
            <a:rect l="l" t="t" r="r" b="b"/>
            <a:pathLst>
              <a:path w="85" h="19">
                <a:moveTo>
                  <a:pt x="85" y="19"/>
                </a:moveTo>
                <a:lnTo>
                  <a:pt x="76" y="18"/>
                </a:lnTo>
                <a:lnTo>
                  <a:pt x="66" y="18"/>
                </a:lnTo>
                <a:lnTo>
                  <a:pt x="55" y="16"/>
                </a:lnTo>
                <a:lnTo>
                  <a:pt x="44" y="15"/>
                </a:lnTo>
                <a:lnTo>
                  <a:pt x="33" y="15"/>
                </a:lnTo>
                <a:lnTo>
                  <a:pt x="22" y="14"/>
                </a:lnTo>
                <a:lnTo>
                  <a:pt x="10" y="15"/>
                </a:lnTo>
                <a:lnTo>
                  <a:pt x="0" y="16"/>
                </a:lnTo>
                <a:lnTo>
                  <a:pt x="0" y="12"/>
                </a:lnTo>
                <a:lnTo>
                  <a:pt x="1" y="6"/>
                </a:lnTo>
                <a:lnTo>
                  <a:pt x="5" y="3"/>
                </a:lnTo>
                <a:lnTo>
                  <a:pt x="10" y="0"/>
                </a:lnTo>
                <a:lnTo>
                  <a:pt x="20" y="1"/>
                </a:lnTo>
                <a:lnTo>
                  <a:pt x="31" y="0"/>
                </a:lnTo>
                <a:lnTo>
                  <a:pt x="43" y="0"/>
                </a:lnTo>
                <a:lnTo>
                  <a:pt x="54" y="0"/>
                </a:lnTo>
                <a:lnTo>
                  <a:pt x="65" y="1"/>
                </a:lnTo>
                <a:lnTo>
                  <a:pt x="74" y="4"/>
                </a:lnTo>
                <a:lnTo>
                  <a:pt x="81" y="10"/>
                </a:lnTo>
                <a:lnTo>
                  <a:pt x="85" y="1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727680" y="1908000"/>
            <a:ext cx="12960" cy="8280"/>
          </a:xfrm>
          <a:custGeom>
            <a:avLst/>
            <a:gdLst/>
            <a:ahLst/>
            <a:rect l="l" t="t" r="r" b="b"/>
            <a:pathLst>
              <a:path w="49" h="31">
                <a:moveTo>
                  <a:pt x="7" y="4"/>
                </a:moveTo>
                <a:lnTo>
                  <a:pt x="8" y="13"/>
                </a:lnTo>
                <a:lnTo>
                  <a:pt x="15" y="18"/>
                </a:lnTo>
                <a:lnTo>
                  <a:pt x="24" y="20"/>
                </a:lnTo>
                <a:lnTo>
                  <a:pt x="31" y="25"/>
                </a:lnTo>
                <a:lnTo>
                  <a:pt x="37" y="28"/>
                </a:lnTo>
                <a:lnTo>
                  <a:pt x="42" y="25"/>
                </a:lnTo>
                <a:lnTo>
                  <a:pt x="47" y="22"/>
                </a:lnTo>
                <a:lnTo>
                  <a:pt x="49" y="29"/>
                </a:lnTo>
                <a:lnTo>
                  <a:pt x="42" y="30"/>
                </a:lnTo>
                <a:lnTo>
                  <a:pt x="37" y="31"/>
                </a:lnTo>
                <a:lnTo>
                  <a:pt x="30" y="31"/>
                </a:lnTo>
                <a:lnTo>
                  <a:pt x="23" y="31"/>
                </a:lnTo>
                <a:lnTo>
                  <a:pt x="17" y="30"/>
                </a:lnTo>
                <a:lnTo>
                  <a:pt x="11" y="28"/>
                </a:lnTo>
                <a:lnTo>
                  <a:pt x="6" y="26"/>
                </a:lnTo>
                <a:lnTo>
                  <a:pt x="0" y="23"/>
                </a:ln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6" y="3"/>
                </a:lnTo>
                <a:lnTo>
                  <a:pt x="7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573960" y="1909800"/>
            <a:ext cx="11160" cy="9360"/>
          </a:xfrm>
          <a:custGeom>
            <a:avLst/>
            <a:gdLst/>
            <a:ahLst/>
            <a:rect l="l" t="t" r="r" b="b"/>
            <a:pathLst>
              <a:path w="45" h="34">
                <a:moveTo>
                  <a:pt x="45" y="12"/>
                </a:moveTo>
                <a:lnTo>
                  <a:pt x="39" y="14"/>
                </a:lnTo>
                <a:lnTo>
                  <a:pt x="33" y="17"/>
                </a:lnTo>
                <a:lnTo>
                  <a:pt x="28" y="22"/>
                </a:lnTo>
                <a:lnTo>
                  <a:pt x="22" y="27"/>
                </a:lnTo>
                <a:lnTo>
                  <a:pt x="16" y="31"/>
                </a:lnTo>
                <a:lnTo>
                  <a:pt x="11" y="34"/>
                </a:lnTo>
                <a:lnTo>
                  <a:pt x="6" y="34"/>
                </a:lnTo>
                <a:lnTo>
                  <a:pt x="0" y="30"/>
                </a:lnTo>
                <a:lnTo>
                  <a:pt x="0" y="22"/>
                </a:lnTo>
                <a:lnTo>
                  <a:pt x="2" y="17"/>
                </a:lnTo>
                <a:lnTo>
                  <a:pt x="7" y="14"/>
                </a:lnTo>
                <a:lnTo>
                  <a:pt x="13" y="12"/>
                </a:lnTo>
                <a:lnTo>
                  <a:pt x="18" y="9"/>
                </a:lnTo>
                <a:lnTo>
                  <a:pt x="25" y="8"/>
                </a:lnTo>
                <a:lnTo>
                  <a:pt x="30" y="5"/>
                </a:lnTo>
                <a:lnTo>
                  <a:pt x="35" y="1"/>
                </a:lnTo>
                <a:lnTo>
                  <a:pt x="39" y="0"/>
                </a:lnTo>
                <a:lnTo>
                  <a:pt x="41" y="2"/>
                </a:lnTo>
                <a:lnTo>
                  <a:pt x="43" y="7"/>
                </a:lnTo>
                <a:lnTo>
                  <a:pt x="45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630840" y="1911240"/>
            <a:ext cx="24120" cy="14400"/>
          </a:xfrm>
          <a:custGeom>
            <a:avLst/>
            <a:gdLst/>
            <a:ahLst/>
            <a:rect l="l" t="t" r="r" b="b"/>
            <a:pathLst>
              <a:path w="105" h="54">
                <a:moveTo>
                  <a:pt x="105" y="8"/>
                </a:moveTo>
                <a:lnTo>
                  <a:pt x="100" y="12"/>
                </a:lnTo>
                <a:lnTo>
                  <a:pt x="96" y="15"/>
                </a:lnTo>
                <a:lnTo>
                  <a:pt x="90" y="17"/>
                </a:lnTo>
                <a:lnTo>
                  <a:pt x="84" y="20"/>
                </a:lnTo>
                <a:lnTo>
                  <a:pt x="77" y="22"/>
                </a:lnTo>
                <a:lnTo>
                  <a:pt x="72" y="24"/>
                </a:lnTo>
                <a:lnTo>
                  <a:pt x="65" y="25"/>
                </a:lnTo>
                <a:lnTo>
                  <a:pt x="59" y="27"/>
                </a:lnTo>
                <a:lnTo>
                  <a:pt x="53" y="31"/>
                </a:lnTo>
                <a:lnTo>
                  <a:pt x="46" y="35"/>
                </a:lnTo>
                <a:lnTo>
                  <a:pt x="40" y="38"/>
                </a:lnTo>
                <a:lnTo>
                  <a:pt x="33" y="42"/>
                </a:lnTo>
                <a:lnTo>
                  <a:pt x="28" y="45"/>
                </a:lnTo>
                <a:lnTo>
                  <a:pt x="21" y="48"/>
                </a:lnTo>
                <a:lnTo>
                  <a:pt x="14" y="52"/>
                </a:lnTo>
                <a:lnTo>
                  <a:pt x="7" y="54"/>
                </a:lnTo>
                <a:lnTo>
                  <a:pt x="0" y="36"/>
                </a:lnTo>
                <a:lnTo>
                  <a:pt x="12" y="32"/>
                </a:lnTo>
                <a:lnTo>
                  <a:pt x="23" y="28"/>
                </a:lnTo>
                <a:lnTo>
                  <a:pt x="33" y="23"/>
                </a:lnTo>
                <a:lnTo>
                  <a:pt x="45" y="17"/>
                </a:lnTo>
                <a:lnTo>
                  <a:pt x="57" y="13"/>
                </a:lnTo>
                <a:lnTo>
                  <a:pt x="68" y="8"/>
                </a:lnTo>
                <a:lnTo>
                  <a:pt x="78" y="4"/>
                </a:lnTo>
                <a:lnTo>
                  <a:pt x="90" y="0"/>
                </a:lnTo>
                <a:lnTo>
                  <a:pt x="95" y="1"/>
                </a:lnTo>
                <a:lnTo>
                  <a:pt x="99" y="2"/>
                </a:lnTo>
                <a:lnTo>
                  <a:pt x="103" y="4"/>
                </a:lnTo>
                <a:lnTo>
                  <a:pt x="105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678720" y="1914480"/>
            <a:ext cx="19080" cy="6480"/>
          </a:xfrm>
          <a:custGeom>
            <a:avLst/>
            <a:gdLst/>
            <a:ahLst/>
            <a:rect l="l" t="t" r="r" b="b"/>
            <a:pathLst>
              <a:path w="78" h="17">
                <a:moveTo>
                  <a:pt x="78" y="7"/>
                </a:moveTo>
                <a:lnTo>
                  <a:pt x="78" y="10"/>
                </a:lnTo>
                <a:lnTo>
                  <a:pt x="76" y="13"/>
                </a:lnTo>
                <a:lnTo>
                  <a:pt x="75" y="15"/>
                </a:lnTo>
                <a:lnTo>
                  <a:pt x="73" y="17"/>
                </a:lnTo>
                <a:lnTo>
                  <a:pt x="6" y="15"/>
                </a:lnTo>
                <a:lnTo>
                  <a:pt x="4" y="13"/>
                </a:lnTo>
                <a:lnTo>
                  <a:pt x="2" y="10"/>
                </a:lnTo>
                <a:lnTo>
                  <a:pt x="0" y="7"/>
                </a:lnTo>
                <a:lnTo>
                  <a:pt x="0" y="2"/>
                </a:lnTo>
                <a:lnTo>
                  <a:pt x="10" y="1"/>
                </a:lnTo>
                <a:lnTo>
                  <a:pt x="19" y="0"/>
                </a:lnTo>
                <a:lnTo>
                  <a:pt x="28" y="0"/>
                </a:lnTo>
                <a:lnTo>
                  <a:pt x="38" y="1"/>
                </a:lnTo>
                <a:lnTo>
                  <a:pt x="49" y="2"/>
                </a:lnTo>
                <a:lnTo>
                  <a:pt x="58" y="3"/>
                </a:lnTo>
                <a:lnTo>
                  <a:pt x="68" y="6"/>
                </a:lnTo>
                <a:lnTo>
                  <a:pt x="78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551640" y="1916280"/>
            <a:ext cx="3240" cy="144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6"/>
                </a:moveTo>
                <a:lnTo>
                  <a:pt x="7" y="8"/>
                </a:lnTo>
                <a:lnTo>
                  <a:pt x="0" y="0"/>
                </a:lnTo>
                <a:lnTo>
                  <a:pt x="2" y="3"/>
                </a:lnTo>
                <a:lnTo>
                  <a:pt x="6" y="6"/>
                </a:lnTo>
                <a:lnTo>
                  <a:pt x="8" y="7"/>
                </a:lnTo>
                <a:lnTo>
                  <a:pt x="8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556320" y="1917720"/>
            <a:ext cx="14400" cy="11160"/>
          </a:xfrm>
          <a:custGeom>
            <a:avLst/>
            <a:gdLst/>
            <a:ahLst/>
            <a:rect l="l" t="t" r="r" b="b"/>
            <a:pathLst>
              <a:path w="64" h="39">
                <a:moveTo>
                  <a:pt x="64" y="37"/>
                </a:moveTo>
                <a:lnTo>
                  <a:pt x="53" y="39"/>
                </a:lnTo>
                <a:lnTo>
                  <a:pt x="45" y="39"/>
                </a:lnTo>
                <a:lnTo>
                  <a:pt x="37" y="36"/>
                </a:lnTo>
                <a:lnTo>
                  <a:pt x="29" y="30"/>
                </a:lnTo>
                <a:lnTo>
                  <a:pt x="22" y="24"/>
                </a:lnTo>
                <a:lnTo>
                  <a:pt x="15" y="17"/>
                </a:lnTo>
                <a:lnTo>
                  <a:pt x="9" y="10"/>
                </a:lnTo>
                <a:lnTo>
                  <a:pt x="0" y="6"/>
                </a:lnTo>
                <a:lnTo>
                  <a:pt x="3" y="0"/>
                </a:lnTo>
                <a:lnTo>
                  <a:pt x="11" y="5"/>
                </a:lnTo>
                <a:lnTo>
                  <a:pt x="19" y="9"/>
                </a:lnTo>
                <a:lnTo>
                  <a:pt x="27" y="14"/>
                </a:lnTo>
                <a:lnTo>
                  <a:pt x="35" y="19"/>
                </a:lnTo>
                <a:lnTo>
                  <a:pt x="42" y="23"/>
                </a:lnTo>
                <a:lnTo>
                  <a:pt x="50" y="28"/>
                </a:lnTo>
                <a:lnTo>
                  <a:pt x="57" y="32"/>
                </a:lnTo>
                <a:lnTo>
                  <a:pt x="64" y="3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616800" y="1919160"/>
            <a:ext cx="19080" cy="46080"/>
          </a:xfrm>
          <a:custGeom>
            <a:avLst/>
            <a:gdLst/>
            <a:ahLst/>
            <a:rect l="l" t="t" r="r" b="b"/>
            <a:pathLst>
              <a:path w="78" h="172">
                <a:moveTo>
                  <a:pt x="30" y="56"/>
                </a:moveTo>
                <a:lnTo>
                  <a:pt x="35" y="68"/>
                </a:lnTo>
                <a:lnTo>
                  <a:pt x="41" y="79"/>
                </a:lnTo>
                <a:lnTo>
                  <a:pt x="46" y="90"/>
                </a:lnTo>
                <a:lnTo>
                  <a:pt x="51" y="100"/>
                </a:lnTo>
                <a:lnTo>
                  <a:pt x="57" y="110"/>
                </a:lnTo>
                <a:lnTo>
                  <a:pt x="64" y="121"/>
                </a:lnTo>
                <a:lnTo>
                  <a:pt x="71" y="131"/>
                </a:lnTo>
                <a:lnTo>
                  <a:pt x="78" y="143"/>
                </a:lnTo>
                <a:lnTo>
                  <a:pt x="77" y="151"/>
                </a:lnTo>
                <a:lnTo>
                  <a:pt x="73" y="158"/>
                </a:lnTo>
                <a:lnTo>
                  <a:pt x="69" y="165"/>
                </a:lnTo>
                <a:lnTo>
                  <a:pt x="65" y="172"/>
                </a:lnTo>
                <a:lnTo>
                  <a:pt x="56" y="157"/>
                </a:lnTo>
                <a:lnTo>
                  <a:pt x="49" y="142"/>
                </a:lnTo>
                <a:lnTo>
                  <a:pt x="42" y="125"/>
                </a:lnTo>
                <a:lnTo>
                  <a:pt x="36" y="108"/>
                </a:lnTo>
                <a:lnTo>
                  <a:pt x="31" y="92"/>
                </a:lnTo>
                <a:lnTo>
                  <a:pt x="24" y="75"/>
                </a:lnTo>
                <a:lnTo>
                  <a:pt x="17" y="59"/>
                </a:lnTo>
                <a:lnTo>
                  <a:pt x="9" y="44"/>
                </a:lnTo>
                <a:lnTo>
                  <a:pt x="9" y="38"/>
                </a:lnTo>
                <a:lnTo>
                  <a:pt x="7" y="31"/>
                </a:lnTo>
                <a:lnTo>
                  <a:pt x="5" y="24"/>
                </a:lnTo>
                <a:lnTo>
                  <a:pt x="9" y="17"/>
                </a:lnTo>
                <a:lnTo>
                  <a:pt x="0" y="0"/>
                </a:lnTo>
                <a:lnTo>
                  <a:pt x="11" y="11"/>
                </a:lnTo>
                <a:lnTo>
                  <a:pt x="18" y="26"/>
                </a:lnTo>
                <a:lnTo>
                  <a:pt x="23" y="42"/>
                </a:lnTo>
                <a:lnTo>
                  <a:pt x="30" y="5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635880" y="1922400"/>
            <a:ext cx="21960" cy="14400"/>
          </a:xfrm>
          <a:custGeom>
            <a:avLst/>
            <a:gdLst/>
            <a:ahLst/>
            <a:rect l="l" t="t" r="r" b="b"/>
            <a:pathLst>
              <a:path w="94" h="52">
                <a:moveTo>
                  <a:pt x="94" y="11"/>
                </a:moveTo>
                <a:lnTo>
                  <a:pt x="83" y="14"/>
                </a:lnTo>
                <a:lnTo>
                  <a:pt x="71" y="19"/>
                </a:lnTo>
                <a:lnTo>
                  <a:pt x="61" y="23"/>
                </a:lnTo>
                <a:lnTo>
                  <a:pt x="49" y="29"/>
                </a:lnTo>
                <a:lnTo>
                  <a:pt x="39" y="35"/>
                </a:lnTo>
                <a:lnTo>
                  <a:pt x="29" y="41"/>
                </a:lnTo>
                <a:lnTo>
                  <a:pt x="17" y="46"/>
                </a:lnTo>
                <a:lnTo>
                  <a:pt x="7" y="52"/>
                </a:lnTo>
                <a:lnTo>
                  <a:pt x="3" y="50"/>
                </a:lnTo>
                <a:lnTo>
                  <a:pt x="1" y="46"/>
                </a:lnTo>
                <a:lnTo>
                  <a:pt x="0" y="43"/>
                </a:lnTo>
                <a:lnTo>
                  <a:pt x="1" y="38"/>
                </a:lnTo>
                <a:lnTo>
                  <a:pt x="11" y="30"/>
                </a:lnTo>
                <a:lnTo>
                  <a:pt x="22" y="23"/>
                </a:lnTo>
                <a:lnTo>
                  <a:pt x="33" y="18"/>
                </a:lnTo>
                <a:lnTo>
                  <a:pt x="45" y="12"/>
                </a:lnTo>
                <a:lnTo>
                  <a:pt x="56" y="7"/>
                </a:lnTo>
                <a:lnTo>
                  <a:pt x="69" y="5"/>
                </a:lnTo>
                <a:lnTo>
                  <a:pt x="82" y="1"/>
                </a:lnTo>
                <a:lnTo>
                  <a:pt x="94" y="0"/>
                </a:lnTo>
                <a:lnTo>
                  <a:pt x="94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83400" y="1927080"/>
            <a:ext cx="11160" cy="5040"/>
          </a:xfrm>
          <a:custGeom>
            <a:avLst/>
            <a:gdLst/>
            <a:ahLst/>
            <a:rect l="l" t="t" r="r" b="b"/>
            <a:pathLst>
              <a:path w="47" h="16">
                <a:moveTo>
                  <a:pt x="47" y="11"/>
                </a:moveTo>
                <a:lnTo>
                  <a:pt x="43" y="13"/>
                </a:lnTo>
                <a:lnTo>
                  <a:pt x="37" y="15"/>
                </a:lnTo>
                <a:lnTo>
                  <a:pt x="30" y="16"/>
                </a:lnTo>
                <a:lnTo>
                  <a:pt x="24" y="16"/>
                </a:lnTo>
                <a:lnTo>
                  <a:pt x="17" y="16"/>
                </a:lnTo>
                <a:lnTo>
                  <a:pt x="12" y="15"/>
                </a:lnTo>
                <a:lnTo>
                  <a:pt x="5" y="13"/>
                </a:lnTo>
                <a:lnTo>
                  <a:pt x="0" y="11"/>
                </a:lnTo>
                <a:lnTo>
                  <a:pt x="0" y="2"/>
                </a:lnTo>
                <a:lnTo>
                  <a:pt x="7" y="2"/>
                </a:lnTo>
                <a:lnTo>
                  <a:pt x="14" y="1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4" y="5"/>
                </a:lnTo>
                <a:lnTo>
                  <a:pt x="47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638760" y="1928880"/>
            <a:ext cx="27000" cy="15840"/>
          </a:xfrm>
          <a:custGeom>
            <a:avLst/>
            <a:gdLst/>
            <a:ahLst/>
            <a:rect l="l" t="t" r="r" b="b"/>
            <a:pathLst>
              <a:path w="110" h="61">
                <a:moveTo>
                  <a:pt x="110" y="10"/>
                </a:moveTo>
                <a:lnTo>
                  <a:pt x="107" y="19"/>
                </a:lnTo>
                <a:lnTo>
                  <a:pt x="99" y="21"/>
                </a:lnTo>
                <a:lnTo>
                  <a:pt x="88" y="23"/>
                </a:lnTo>
                <a:lnTo>
                  <a:pt x="79" y="26"/>
                </a:lnTo>
                <a:lnTo>
                  <a:pt x="71" y="31"/>
                </a:lnTo>
                <a:lnTo>
                  <a:pt x="63" y="35"/>
                </a:lnTo>
                <a:lnTo>
                  <a:pt x="55" y="39"/>
                </a:lnTo>
                <a:lnTo>
                  <a:pt x="47" y="42"/>
                </a:lnTo>
                <a:lnTo>
                  <a:pt x="38" y="47"/>
                </a:lnTo>
                <a:lnTo>
                  <a:pt x="30" y="50"/>
                </a:lnTo>
                <a:lnTo>
                  <a:pt x="23" y="55"/>
                </a:lnTo>
                <a:lnTo>
                  <a:pt x="15" y="61"/>
                </a:lnTo>
                <a:lnTo>
                  <a:pt x="9" y="59"/>
                </a:lnTo>
                <a:lnTo>
                  <a:pt x="4" y="56"/>
                </a:lnTo>
                <a:lnTo>
                  <a:pt x="1" y="51"/>
                </a:lnTo>
                <a:lnTo>
                  <a:pt x="0" y="46"/>
                </a:lnTo>
                <a:lnTo>
                  <a:pt x="1" y="40"/>
                </a:lnTo>
                <a:lnTo>
                  <a:pt x="6" y="39"/>
                </a:lnTo>
                <a:lnTo>
                  <a:pt x="11" y="40"/>
                </a:lnTo>
                <a:lnTo>
                  <a:pt x="17" y="40"/>
                </a:lnTo>
                <a:lnTo>
                  <a:pt x="26" y="34"/>
                </a:lnTo>
                <a:lnTo>
                  <a:pt x="37" y="30"/>
                </a:lnTo>
                <a:lnTo>
                  <a:pt x="47" y="25"/>
                </a:lnTo>
                <a:lnTo>
                  <a:pt x="57" y="20"/>
                </a:lnTo>
                <a:lnTo>
                  <a:pt x="68" y="16"/>
                </a:lnTo>
                <a:lnTo>
                  <a:pt x="77" y="11"/>
                </a:lnTo>
                <a:lnTo>
                  <a:pt x="87" y="5"/>
                </a:lnTo>
                <a:lnTo>
                  <a:pt x="97" y="0"/>
                </a:lnTo>
                <a:lnTo>
                  <a:pt x="101" y="0"/>
                </a:lnTo>
                <a:lnTo>
                  <a:pt x="106" y="2"/>
                </a:lnTo>
                <a:lnTo>
                  <a:pt x="108" y="5"/>
                </a:lnTo>
                <a:lnTo>
                  <a:pt x="110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83400" y="1938240"/>
            <a:ext cx="7920" cy="5040"/>
          </a:xfrm>
          <a:custGeom>
            <a:avLst/>
            <a:gdLst/>
            <a:ahLst/>
            <a:rect l="l" t="t" r="r" b="b"/>
            <a:pathLst>
              <a:path w="30" h="17">
                <a:moveTo>
                  <a:pt x="30" y="9"/>
                </a:moveTo>
                <a:lnTo>
                  <a:pt x="30" y="12"/>
                </a:lnTo>
                <a:lnTo>
                  <a:pt x="30" y="14"/>
                </a:lnTo>
                <a:lnTo>
                  <a:pt x="30" y="16"/>
                </a:lnTo>
                <a:lnTo>
                  <a:pt x="29" y="17"/>
                </a:lnTo>
                <a:lnTo>
                  <a:pt x="21" y="15"/>
                </a:lnTo>
                <a:lnTo>
                  <a:pt x="12" y="15"/>
                </a:lnTo>
                <a:lnTo>
                  <a:pt x="4" y="12"/>
                </a:lnTo>
                <a:lnTo>
                  <a:pt x="0" y="2"/>
                </a:lnTo>
                <a:lnTo>
                  <a:pt x="9" y="1"/>
                </a:lnTo>
                <a:lnTo>
                  <a:pt x="19" y="0"/>
                </a:lnTo>
                <a:lnTo>
                  <a:pt x="27" y="2"/>
                </a:lnTo>
                <a:lnTo>
                  <a:pt x="30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678720" y="1949400"/>
            <a:ext cx="4680" cy="3240"/>
          </a:xfrm>
          <a:custGeom>
            <a:avLst/>
            <a:gdLst/>
            <a:ahLst/>
            <a:rect l="l" t="t" r="r" b="b"/>
            <a:pathLst>
              <a:path w="21" h="13">
                <a:moveTo>
                  <a:pt x="21" y="7"/>
                </a:moveTo>
                <a:lnTo>
                  <a:pt x="18" y="11"/>
                </a:lnTo>
                <a:lnTo>
                  <a:pt x="13" y="13"/>
                </a:lnTo>
                <a:lnTo>
                  <a:pt x="6" y="13"/>
                </a:lnTo>
                <a:lnTo>
                  <a:pt x="0" y="13"/>
                </a:lnTo>
                <a:lnTo>
                  <a:pt x="15" y="0"/>
                </a:lnTo>
                <a:lnTo>
                  <a:pt x="21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361200" y="1415880"/>
            <a:ext cx="46188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296040" y="1562040"/>
            <a:ext cx="26352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2826600">
            <a:off x="6502680" y="1622880"/>
            <a:ext cx="98640" cy="1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289560" y="941400"/>
            <a:ext cx="520920" cy="558720"/>
          </a:xfrm>
          <a:custGeom>
            <a:avLst/>
            <a:gdLst/>
            <a:ahLst/>
            <a:rect l="l" t="t" r="r" b="b"/>
            <a:pathLst>
              <a:path w="2151" h="2083">
                <a:moveTo>
                  <a:pt x="1360" y="24"/>
                </a:moveTo>
                <a:lnTo>
                  <a:pt x="1367" y="29"/>
                </a:lnTo>
                <a:lnTo>
                  <a:pt x="1373" y="34"/>
                </a:lnTo>
                <a:lnTo>
                  <a:pt x="1379" y="40"/>
                </a:lnTo>
                <a:lnTo>
                  <a:pt x="1386" y="45"/>
                </a:lnTo>
                <a:lnTo>
                  <a:pt x="1391" y="52"/>
                </a:lnTo>
                <a:lnTo>
                  <a:pt x="1397" y="58"/>
                </a:lnTo>
                <a:lnTo>
                  <a:pt x="1401" y="64"/>
                </a:lnTo>
                <a:lnTo>
                  <a:pt x="1406" y="72"/>
                </a:lnTo>
                <a:lnTo>
                  <a:pt x="1409" y="85"/>
                </a:lnTo>
                <a:lnTo>
                  <a:pt x="1410" y="98"/>
                </a:lnTo>
                <a:lnTo>
                  <a:pt x="1409" y="111"/>
                </a:lnTo>
                <a:lnTo>
                  <a:pt x="1406" y="122"/>
                </a:lnTo>
                <a:lnTo>
                  <a:pt x="1401" y="134"/>
                </a:lnTo>
                <a:lnTo>
                  <a:pt x="1395" y="144"/>
                </a:lnTo>
                <a:lnTo>
                  <a:pt x="1390" y="155"/>
                </a:lnTo>
                <a:lnTo>
                  <a:pt x="1385" y="166"/>
                </a:lnTo>
                <a:lnTo>
                  <a:pt x="1377" y="174"/>
                </a:lnTo>
                <a:lnTo>
                  <a:pt x="1369" y="180"/>
                </a:lnTo>
                <a:lnTo>
                  <a:pt x="1360" y="185"/>
                </a:lnTo>
                <a:lnTo>
                  <a:pt x="1350" y="191"/>
                </a:lnTo>
                <a:lnTo>
                  <a:pt x="1341" y="197"/>
                </a:lnTo>
                <a:lnTo>
                  <a:pt x="1333" y="204"/>
                </a:lnTo>
                <a:lnTo>
                  <a:pt x="1325" y="211"/>
                </a:lnTo>
                <a:lnTo>
                  <a:pt x="1318" y="220"/>
                </a:lnTo>
                <a:lnTo>
                  <a:pt x="1335" y="230"/>
                </a:lnTo>
                <a:lnTo>
                  <a:pt x="1356" y="230"/>
                </a:lnTo>
                <a:lnTo>
                  <a:pt x="1376" y="229"/>
                </a:lnTo>
                <a:lnTo>
                  <a:pt x="1395" y="228"/>
                </a:lnTo>
                <a:lnTo>
                  <a:pt x="1415" y="227"/>
                </a:lnTo>
                <a:lnTo>
                  <a:pt x="1435" y="225"/>
                </a:lnTo>
                <a:lnTo>
                  <a:pt x="1454" y="223"/>
                </a:lnTo>
                <a:lnTo>
                  <a:pt x="1474" y="222"/>
                </a:lnTo>
                <a:lnTo>
                  <a:pt x="1493" y="221"/>
                </a:lnTo>
                <a:lnTo>
                  <a:pt x="1513" y="220"/>
                </a:lnTo>
                <a:lnTo>
                  <a:pt x="1532" y="219"/>
                </a:lnTo>
                <a:lnTo>
                  <a:pt x="1552" y="219"/>
                </a:lnTo>
                <a:lnTo>
                  <a:pt x="1573" y="219"/>
                </a:lnTo>
                <a:lnTo>
                  <a:pt x="1592" y="220"/>
                </a:lnTo>
                <a:lnTo>
                  <a:pt x="1613" y="221"/>
                </a:lnTo>
                <a:lnTo>
                  <a:pt x="1634" y="223"/>
                </a:lnTo>
                <a:lnTo>
                  <a:pt x="1655" y="227"/>
                </a:lnTo>
                <a:lnTo>
                  <a:pt x="1670" y="236"/>
                </a:lnTo>
                <a:lnTo>
                  <a:pt x="1679" y="250"/>
                </a:lnTo>
                <a:lnTo>
                  <a:pt x="1685" y="267"/>
                </a:lnTo>
                <a:lnTo>
                  <a:pt x="1688" y="286"/>
                </a:lnTo>
                <a:lnTo>
                  <a:pt x="1689" y="296"/>
                </a:lnTo>
                <a:lnTo>
                  <a:pt x="1688" y="305"/>
                </a:lnTo>
                <a:lnTo>
                  <a:pt x="1685" y="314"/>
                </a:lnTo>
                <a:lnTo>
                  <a:pt x="1680" y="323"/>
                </a:lnTo>
                <a:lnTo>
                  <a:pt x="1674" y="331"/>
                </a:lnTo>
                <a:lnTo>
                  <a:pt x="1666" y="335"/>
                </a:lnTo>
                <a:lnTo>
                  <a:pt x="1657" y="339"/>
                </a:lnTo>
                <a:lnTo>
                  <a:pt x="1647" y="340"/>
                </a:lnTo>
                <a:lnTo>
                  <a:pt x="1637" y="342"/>
                </a:lnTo>
                <a:lnTo>
                  <a:pt x="1628" y="346"/>
                </a:lnTo>
                <a:lnTo>
                  <a:pt x="1620" y="350"/>
                </a:lnTo>
                <a:lnTo>
                  <a:pt x="1613" y="358"/>
                </a:lnTo>
                <a:lnTo>
                  <a:pt x="1614" y="371"/>
                </a:lnTo>
                <a:lnTo>
                  <a:pt x="1618" y="379"/>
                </a:lnTo>
                <a:lnTo>
                  <a:pt x="1625" y="385"/>
                </a:lnTo>
                <a:lnTo>
                  <a:pt x="1634" y="387"/>
                </a:lnTo>
                <a:lnTo>
                  <a:pt x="1644" y="389"/>
                </a:lnTo>
                <a:lnTo>
                  <a:pt x="1655" y="390"/>
                </a:lnTo>
                <a:lnTo>
                  <a:pt x="1664" y="393"/>
                </a:lnTo>
                <a:lnTo>
                  <a:pt x="1673" y="396"/>
                </a:lnTo>
                <a:lnTo>
                  <a:pt x="1687" y="395"/>
                </a:lnTo>
                <a:lnTo>
                  <a:pt x="1700" y="394"/>
                </a:lnTo>
                <a:lnTo>
                  <a:pt x="1713" y="394"/>
                </a:lnTo>
                <a:lnTo>
                  <a:pt x="1727" y="394"/>
                </a:lnTo>
                <a:lnTo>
                  <a:pt x="1741" y="394"/>
                </a:lnTo>
                <a:lnTo>
                  <a:pt x="1755" y="394"/>
                </a:lnTo>
                <a:lnTo>
                  <a:pt x="1769" y="394"/>
                </a:lnTo>
                <a:lnTo>
                  <a:pt x="1782" y="393"/>
                </a:lnTo>
                <a:lnTo>
                  <a:pt x="1795" y="390"/>
                </a:lnTo>
                <a:lnTo>
                  <a:pt x="1808" y="388"/>
                </a:lnTo>
                <a:lnTo>
                  <a:pt x="1820" y="385"/>
                </a:lnTo>
                <a:lnTo>
                  <a:pt x="1832" y="380"/>
                </a:lnTo>
                <a:lnTo>
                  <a:pt x="1842" y="373"/>
                </a:lnTo>
                <a:lnTo>
                  <a:pt x="1853" y="365"/>
                </a:lnTo>
                <a:lnTo>
                  <a:pt x="1862" y="356"/>
                </a:lnTo>
                <a:lnTo>
                  <a:pt x="1871" y="344"/>
                </a:lnTo>
                <a:lnTo>
                  <a:pt x="1861" y="339"/>
                </a:lnTo>
                <a:lnTo>
                  <a:pt x="1853" y="332"/>
                </a:lnTo>
                <a:lnTo>
                  <a:pt x="1845" y="324"/>
                </a:lnTo>
                <a:lnTo>
                  <a:pt x="1838" y="316"/>
                </a:lnTo>
                <a:lnTo>
                  <a:pt x="1832" y="306"/>
                </a:lnTo>
                <a:lnTo>
                  <a:pt x="1825" y="297"/>
                </a:lnTo>
                <a:lnTo>
                  <a:pt x="1819" y="289"/>
                </a:lnTo>
                <a:lnTo>
                  <a:pt x="1812" y="280"/>
                </a:lnTo>
                <a:lnTo>
                  <a:pt x="1812" y="260"/>
                </a:lnTo>
                <a:lnTo>
                  <a:pt x="1815" y="242"/>
                </a:lnTo>
                <a:lnTo>
                  <a:pt x="1818" y="225"/>
                </a:lnTo>
                <a:lnTo>
                  <a:pt x="1827" y="210"/>
                </a:lnTo>
                <a:lnTo>
                  <a:pt x="1834" y="206"/>
                </a:lnTo>
                <a:lnTo>
                  <a:pt x="1842" y="205"/>
                </a:lnTo>
                <a:lnTo>
                  <a:pt x="1850" y="204"/>
                </a:lnTo>
                <a:lnTo>
                  <a:pt x="1857" y="204"/>
                </a:lnTo>
                <a:lnTo>
                  <a:pt x="1875" y="205"/>
                </a:lnTo>
                <a:lnTo>
                  <a:pt x="1893" y="206"/>
                </a:lnTo>
                <a:lnTo>
                  <a:pt x="1910" y="207"/>
                </a:lnTo>
                <a:lnTo>
                  <a:pt x="1929" y="208"/>
                </a:lnTo>
                <a:lnTo>
                  <a:pt x="1946" y="210"/>
                </a:lnTo>
                <a:lnTo>
                  <a:pt x="1964" y="211"/>
                </a:lnTo>
                <a:lnTo>
                  <a:pt x="1983" y="212"/>
                </a:lnTo>
                <a:lnTo>
                  <a:pt x="2001" y="213"/>
                </a:lnTo>
                <a:lnTo>
                  <a:pt x="2019" y="214"/>
                </a:lnTo>
                <a:lnTo>
                  <a:pt x="2037" y="215"/>
                </a:lnTo>
                <a:lnTo>
                  <a:pt x="2056" y="218"/>
                </a:lnTo>
                <a:lnTo>
                  <a:pt x="2074" y="219"/>
                </a:lnTo>
                <a:lnTo>
                  <a:pt x="2091" y="221"/>
                </a:lnTo>
                <a:lnTo>
                  <a:pt x="2110" y="223"/>
                </a:lnTo>
                <a:lnTo>
                  <a:pt x="2128" y="226"/>
                </a:lnTo>
                <a:lnTo>
                  <a:pt x="2145" y="229"/>
                </a:lnTo>
                <a:lnTo>
                  <a:pt x="2145" y="248"/>
                </a:lnTo>
                <a:lnTo>
                  <a:pt x="2145" y="268"/>
                </a:lnTo>
                <a:lnTo>
                  <a:pt x="2145" y="289"/>
                </a:lnTo>
                <a:lnTo>
                  <a:pt x="2149" y="309"/>
                </a:lnTo>
                <a:lnTo>
                  <a:pt x="2136" y="328"/>
                </a:lnTo>
                <a:lnTo>
                  <a:pt x="2122" y="347"/>
                </a:lnTo>
                <a:lnTo>
                  <a:pt x="2109" y="365"/>
                </a:lnTo>
                <a:lnTo>
                  <a:pt x="2095" y="384"/>
                </a:lnTo>
                <a:lnTo>
                  <a:pt x="2080" y="401"/>
                </a:lnTo>
                <a:lnTo>
                  <a:pt x="2067" y="419"/>
                </a:lnTo>
                <a:lnTo>
                  <a:pt x="2054" y="439"/>
                </a:lnTo>
                <a:lnTo>
                  <a:pt x="2043" y="458"/>
                </a:lnTo>
                <a:lnTo>
                  <a:pt x="2050" y="464"/>
                </a:lnTo>
                <a:lnTo>
                  <a:pt x="2058" y="468"/>
                </a:lnTo>
                <a:lnTo>
                  <a:pt x="2067" y="470"/>
                </a:lnTo>
                <a:lnTo>
                  <a:pt x="2076" y="472"/>
                </a:lnTo>
                <a:lnTo>
                  <a:pt x="2085" y="475"/>
                </a:lnTo>
                <a:lnTo>
                  <a:pt x="2094" y="477"/>
                </a:lnTo>
                <a:lnTo>
                  <a:pt x="2103" y="482"/>
                </a:lnTo>
                <a:lnTo>
                  <a:pt x="2110" y="488"/>
                </a:lnTo>
                <a:lnTo>
                  <a:pt x="2120" y="496"/>
                </a:lnTo>
                <a:lnTo>
                  <a:pt x="2128" y="506"/>
                </a:lnTo>
                <a:lnTo>
                  <a:pt x="2135" y="516"/>
                </a:lnTo>
                <a:lnTo>
                  <a:pt x="2140" y="528"/>
                </a:lnTo>
                <a:lnTo>
                  <a:pt x="2144" y="540"/>
                </a:lnTo>
                <a:lnTo>
                  <a:pt x="2148" y="553"/>
                </a:lnTo>
                <a:lnTo>
                  <a:pt x="2150" y="566"/>
                </a:lnTo>
                <a:lnTo>
                  <a:pt x="2151" y="578"/>
                </a:lnTo>
                <a:lnTo>
                  <a:pt x="2148" y="599"/>
                </a:lnTo>
                <a:lnTo>
                  <a:pt x="2142" y="620"/>
                </a:lnTo>
                <a:lnTo>
                  <a:pt x="2135" y="641"/>
                </a:lnTo>
                <a:lnTo>
                  <a:pt x="2126" y="661"/>
                </a:lnTo>
                <a:lnTo>
                  <a:pt x="2115" y="682"/>
                </a:lnTo>
                <a:lnTo>
                  <a:pt x="2104" y="702"/>
                </a:lnTo>
                <a:lnTo>
                  <a:pt x="2091" y="720"/>
                </a:lnTo>
                <a:lnTo>
                  <a:pt x="2077" y="737"/>
                </a:lnTo>
                <a:lnTo>
                  <a:pt x="2062" y="755"/>
                </a:lnTo>
                <a:lnTo>
                  <a:pt x="2045" y="771"/>
                </a:lnTo>
                <a:lnTo>
                  <a:pt x="2028" y="786"/>
                </a:lnTo>
                <a:lnTo>
                  <a:pt x="2011" y="798"/>
                </a:lnTo>
                <a:lnTo>
                  <a:pt x="1991" y="810"/>
                </a:lnTo>
                <a:lnTo>
                  <a:pt x="1971" y="820"/>
                </a:lnTo>
                <a:lnTo>
                  <a:pt x="1951" y="828"/>
                </a:lnTo>
                <a:lnTo>
                  <a:pt x="1930" y="835"/>
                </a:lnTo>
                <a:lnTo>
                  <a:pt x="1918" y="836"/>
                </a:lnTo>
                <a:lnTo>
                  <a:pt x="1906" y="836"/>
                </a:lnTo>
                <a:lnTo>
                  <a:pt x="1894" y="834"/>
                </a:lnTo>
                <a:lnTo>
                  <a:pt x="1884" y="831"/>
                </a:lnTo>
                <a:lnTo>
                  <a:pt x="1873" y="825"/>
                </a:lnTo>
                <a:lnTo>
                  <a:pt x="1863" y="818"/>
                </a:lnTo>
                <a:lnTo>
                  <a:pt x="1855" y="811"/>
                </a:lnTo>
                <a:lnTo>
                  <a:pt x="1847" y="802"/>
                </a:lnTo>
                <a:lnTo>
                  <a:pt x="1844" y="794"/>
                </a:lnTo>
                <a:lnTo>
                  <a:pt x="1840" y="785"/>
                </a:lnTo>
                <a:lnTo>
                  <a:pt x="1837" y="776"/>
                </a:lnTo>
                <a:lnTo>
                  <a:pt x="1830" y="771"/>
                </a:lnTo>
                <a:lnTo>
                  <a:pt x="1811" y="785"/>
                </a:lnTo>
                <a:lnTo>
                  <a:pt x="1795" y="801"/>
                </a:lnTo>
                <a:lnTo>
                  <a:pt x="1782" y="818"/>
                </a:lnTo>
                <a:lnTo>
                  <a:pt x="1770" y="836"/>
                </a:lnTo>
                <a:lnTo>
                  <a:pt x="1758" y="855"/>
                </a:lnTo>
                <a:lnTo>
                  <a:pt x="1748" y="874"/>
                </a:lnTo>
                <a:lnTo>
                  <a:pt x="1736" y="894"/>
                </a:lnTo>
                <a:lnTo>
                  <a:pt x="1725" y="912"/>
                </a:lnTo>
                <a:lnTo>
                  <a:pt x="1726" y="919"/>
                </a:lnTo>
                <a:lnTo>
                  <a:pt x="1721" y="923"/>
                </a:lnTo>
                <a:lnTo>
                  <a:pt x="1717" y="926"/>
                </a:lnTo>
                <a:lnTo>
                  <a:pt x="1713" y="931"/>
                </a:lnTo>
                <a:lnTo>
                  <a:pt x="1708" y="931"/>
                </a:lnTo>
                <a:lnTo>
                  <a:pt x="1703" y="930"/>
                </a:lnTo>
                <a:lnTo>
                  <a:pt x="1700" y="926"/>
                </a:lnTo>
                <a:lnTo>
                  <a:pt x="1698" y="920"/>
                </a:lnTo>
                <a:lnTo>
                  <a:pt x="1687" y="917"/>
                </a:lnTo>
                <a:lnTo>
                  <a:pt x="1675" y="914"/>
                </a:lnTo>
                <a:lnTo>
                  <a:pt x="1663" y="911"/>
                </a:lnTo>
                <a:lnTo>
                  <a:pt x="1651" y="909"/>
                </a:lnTo>
                <a:lnTo>
                  <a:pt x="1638" y="908"/>
                </a:lnTo>
                <a:lnTo>
                  <a:pt x="1627" y="908"/>
                </a:lnTo>
                <a:lnTo>
                  <a:pt x="1614" y="907"/>
                </a:lnTo>
                <a:lnTo>
                  <a:pt x="1603" y="907"/>
                </a:lnTo>
                <a:lnTo>
                  <a:pt x="1590" y="907"/>
                </a:lnTo>
                <a:lnTo>
                  <a:pt x="1577" y="908"/>
                </a:lnTo>
                <a:lnTo>
                  <a:pt x="1566" y="908"/>
                </a:lnTo>
                <a:lnTo>
                  <a:pt x="1553" y="909"/>
                </a:lnTo>
                <a:lnTo>
                  <a:pt x="1542" y="910"/>
                </a:lnTo>
                <a:lnTo>
                  <a:pt x="1529" y="911"/>
                </a:lnTo>
                <a:lnTo>
                  <a:pt x="1517" y="911"/>
                </a:lnTo>
                <a:lnTo>
                  <a:pt x="1506" y="912"/>
                </a:lnTo>
                <a:lnTo>
                  <a:pt x="1498" y="929"/>
                </a:lnTo>
                <a:lnTo>
                  <a:pt x="1500" y="946"/>
                </a:lnTo>
                <a:lnTo>
                  <a:pt x="1505" y="967"/>
                </a:lnTo>
                <a:lnTo>
                  <a:pt x="1504" y="987"/>
                </a:lnTo>
                <a:lnTo>
                  <a:pt x="1511" y="992"/>
                </a:lnTo>
                <a:lnTo>
                  <a:pt x="1517" y="998"/>
                </a:lnTo>
                <a:lnTo>
                  <a:pt x="1523" y="1005"/>
                </a:lnTo>
                <a:lnTo>
                  <a:pt x="1528" y="1012"/>
                </a:lnTo>
                <a:lnTo>
                  <a:pt x="1532" y="1020"/>
                </a:lnTo>
                <a:lnTo>
                  <a:pt x="1535" y="1028"/>
                </a:lnTo>
                <a:lnTo>
                  <a:pt x="1537" y="1036"/>
                </a:lnTo>
                <a:lnTo>
                  <a:pt x="1537" y="1045"/>
                </a:lnTo>
                <a:lnTo>
                  <a:pt x="1537" y="1059"/>
                </a:lnTo>
                <a:lnTo>
                  <a:pt x="1534" y="1073"/>
                </a:lnTo>
                <a:lnTo>
                  <a:pt x="1529" y="1085"/>
                </a:lnTo>
                <a:lnTo>
                  <a:pt x="1523" y="1098"/>
                </a:lnTo>
                <a:lnTo>
                  <a:pt x="1520" y="1109"/>
                </a:lnTo>
                <a:lnTo>
                  <a:pt x="1519" y="1122"/>
                </a:lnTo>
                <a:lnTo>
                  <a:pt x="1522" y="1135"/>
                </a:lnTo>
                <a:lnTo>
                  <a:pt x="1531" y="1147"/>
                </a:lnTo>
                <a:lnTo>
                  <a:pt x="1549" y="1152"/>
                </a:lnTo>
                <a:lnTo>
                  <a:pt x="1566" y="1154"/>
                </a:lnTo>
                <a:lnTo>
                  <a:pt x="1582" y="1153"/>
                </a:lnTo>
                <a:lnTo>
                  <a:pt x="1598" y="1150"/>
                </a:lnTo>
                <a:lnTo>
                  <a:pt x="1615" y="1145"/>
                </a:lnTo>
                <a:lnTo>
                  <a:pt x="1632" y="1139"/>
                </a:lnTo>
                <a:lnTo>
                  <a:pt x="1648" y="1135"/>
                </a:lnTo>
                <a:lnTo>
                  <a:pt x="1665" y="1130"/>
                </a:lnTo>
                <a:lnTo>
                  <a:pt x="1676" y="1123"/>
                </a:lnTo>
                <a:lnTo>
                  <a:pt x="1689" y="1115"/>
                </a:lnTo>
                <a:lnTo>
                  <a:pt x="1701" y="1108"/>
                </a:lnTo>
                <a:lnTo>
                  <a:pt x="1712" y="1101"/>
                </a:lnTo>
                <a:lnTo>
                  <a:pt x="1725" y="1096"/>
                </a:lnTo>
                <a:lnTo>
                  <a:pt x="1738" y="1090"/>
                </a:lnTo>
                <a:lnTo>
                  <a:pt x="1750" y="1085"/>
                </a:lnTo>
                <a:lnTo>
                  <a:pt x="1763" y="1083"/>
                </a:lnTo>
                <a:lnTo>
                  <a:pt x="1770" y="1091"/>
                </a:lnTo>
                <a:lnTo>
                  <a:pt x="1776" y="1101"/>
                </a:lnTo>
                <a:lnTo>
                  <a:pt x="1781" y="1112"/>
                </a:lnTo>
                <a:lnTo>
                  <a:pt x="1786" y="1122"/>
                </a:lnTo>
                <a:lnTo>
                  <a:pt x="1791" y="1134"/>
                </a:lnTo>
                <a:lnTo>
                  <a:pt x="1796" y="1144"/>
                </a:lnTo>
                <a:lnTo>
                  <a:pt x="1803" y="1154"/>
                </a:lnTo>
                <a:lnTo>
                  <a:pt x="1811" y="1164"/>
                </a:lnTo>
                <a:lnTo>
                  <a:pt x="1824" y="1183"/>
                </a:lnTo>
                <a:lnTo>
                  <a:pt x="1837" y="1203"/>
                </a:lnTo>
                <a:lnTo>
                  <a:pt x="1848" y="1222"/>
                </a:lnTo>
                <a:lnTo>
                  <a:pt x="1860" y="1243"/>
                </a:lnTo>
                <a:lnTo>
                  <a:pt x="1870" y="1264"/>
                </a:lnTo>
                <a:lnTo>
                  <a:pt x="1879" y="1287"/>
                </a:lnTo>
                <a:lnTo>
                  <a:pt x="1886" y="1309"/>
                </a:lnTo>
                <a:lnTo>
                  <a:pt x="1891" y="1333"/>
                </a:lnTo>
                <a:lnTo>
                  <a:pt x="1888" y="1351"/>
                </a:lnTo>
                <a:lnTo>
                  <a:pt x="1883" y="1369"/>
                </a:lnTo>
                <a:lnTo>
                  <a:pt x="1875" y="1386"/>
                </a:lnTo>
                <a:lnTo>
                  <a:pt x="1865" y="1402"/>
                </a:lnTo>
                <a:lnTo>
                  <a:pt x="1856" y="1409"/>
                </a:lnTo>
                <a:lnTo>
                  <a:pt x="1846" y="1414"/>
                </a:lnTo>
                <a:lnTo>
                  <a:pt x="1834" y="1418"/>
                </a:lnTo>
                <a:lnTo>
                  <a:pt x="1823" y="1421"/>
                </a:lnTo>
                <a:lnTo>
                  <a:pt x="1811" y="1423"/>
                </a:lnTo>
                <a:lnTo>
                  <a:pt x="1800" y="1423"/>
                </a:lnTo>
                <a:lnTo>
                  <a:pt x="1788" y="1422"/>
                </a:lnTo>
                <a:lnTo>
                  <a:pt x="1777" y="1418"/>
                </a:lnTo>
                <a:lnTo>
                  <a:pt x="1769" y="1415"/>
                </a:lnTo>
                <a:lnTo>
                  <a:pt x="1761" y="1412"/>
                </a:lnTo>
                <a:lnTo>
                  <a:pt x="1753" y="1409"/>
                </a:lnTo>
                <a:lnTo>
                  <a:pt x="1743" y="1406"/>
                </a:lnTo>
                <a:lnTo>
                  <a:pt x="1734" y="1404"/>
                </a:lnTo>
                <a:lnTo>
                  <a:pt x="1725" y="1403"/>
                </a:lnTo>
                <a:lnTo>
                  <a:pt x="1716" y="1404"/>
                </a:lnTo>
                <a:lnTo>
                  <a:pt x="1706" y="1408"/>
                </a:lnTo>
                <a:lnTo>
                  <a:pt x="1697" y="1414"/>
                </a:lnTo>
                <a:lnTo>
                  <a:pt x="1690" y="1419"/>
                </a:lnTo>
                <a:lnTo>
                  <a:pt x="1683" y="1427"/>
                </a:lnTo>
                <a:lnTo>
                  <a:pt x="1680" y="1435"/>
                </a:lnTo>
                <a:lnTo>
                  <a:pt x="1676" y="1445"/>
                </a:lnTo>
                <a:lnTo>
                  <a:pt x="1674" y="1455"/>
                </a:lnTo>
                <a:lnTo>
                  <a:pt x="1673" y="1465"/>
                </a:lnTo>
                <a:lnTo>
                  <a:pt x="1673" y="1476"/>
                </a:lnTo>
                <a:lnTo>
                  <a:pt x="1676" y="1478"/>
                </a:lnTo>
                <a:lnTo>
                  <a:pt x="1680" y="1480"/>
                </a:lnTo>
                <a:lnTo>
                  <a:pt x="1683" y="1482"/>
                </a:lnTo>
                <a:lnTo>
                  <a:pt x="1688" y="1483"/>
                </a:lnTo>
                <a:lnTo>
                  <a:pt x="1691" y="1493"/>
                </a:lnTo>
                <a:lnTo>
                  <a:pt x="1696" y="1503"/>
                </a:lnTo>
                <a:lnTo>
                  <a:pt x="1703" y="1513"/>
                </a:lnTo>
                <a:lnTo>
                  <a:pt x="1710" y="1522"/>
                </a:lnTo>
                <a:lnTo>
                  <a:pt x="1719" y="1530"/>
                </a:lnTo>
                <a:lnTo>
                  <a:pt x="1728" y="1538"/>
                </a:lnTo>
                <a:lnTo>
                  <a:pt x="1739" y="1545"/>
                </a:lnTo>
                <a:lnTo>
                  <a:pt x="1749" y="1551"/>
                </a:lnTo>
                <a:lnTo>
                  <a:pt x="1758" y="1554"/>
                </a:lnTo>
                <a:lnTo>
                  <a:pt x="1769" y="1558"/>
                </a:lnTo>
                <a:lnTo>
                  <a:pt x="1780" y="1560"/>
                </a:lnTo>
                <a:lnTo>
                  <a:pt x="1792" y="1562"/>
                </a:lnTo>
                <a:lnTo>
                  <a:pt x="1803" y="1562"/>
                </a:lnTo>
                <a:lnTo>
                  <a:pt x="1815" y="1562"/>
                </a:lnTo>
                <a:lnTo>
                  <a:pt x="1826" y="1560"/>
                </a:lnTo>
                <a:lnTo>
                  <a:pt x="1837" y="1556"/>
                </a:lnTo>
                <a:lnTo>
                  <a:pt x="1850" y="1545"/>
                </a:lnTo>
                <a:lnTo>
                  <a:pt x="1863" y="1530"/>
                </a:lnTo>
                <a:lnTo>
                  <a:pt x="1875" y="1515"/>
                </a:lnTo>
                <a:lnTo>
                  <a:pt x="1886" y="1500"/>
                </a:lnTo>
                <a:lnTo>
                  <a:pt x="1899" y="1486"/>
                </a:lnTo>
                <a:lnTo>
                  <a:pt x="1913" y="1477"/>
                </a:lnTo>
                <a:lnTo>
                  <a:pt x="1929" y="1474"/>
                </a:lnTo>
                <a:lnTo>
                  <a:pt x="1948" y="1476"/>
                </a:lnTo>
                <a:lnTo>
                  <a:pt x="1978" y="1490"/>
                </a:lnTo>
                <a:lnTo>
                  <a:pt x="2004" y="1509"/>
                </a:lnTo>
                <a:lnTo>
                  <a:pt x="2024" y="1532"/>
                </a:lnTo>
                <a:lnTo>
                  <a:pt x="2042" y="1558"/>
                </a:lnTo>
                <a:lnTo>
                  <a:pt x="2057" y="1586"/>
                </a:lnTo>
                <a:lnTo>
                  <a:pt x="2072" y="1615"/>
                </a:lnTo>
                <a:lnTo>
                  <a:pt x="2085" y="1644"/>
                </a:lnTo>
                <a:lnTo>
                  <a:pt x="2102" y="1672"/>
                </a:lnTo>
                <a:lnTo>
                  <a:pt x="2104" y="1682"/>
                </a:lnTo>
                <a:lnTo>
                  <a:pt x="2110" y="1689"/>
                </a:lnTo>
                <a:lnTo>
                  <a:pt x="2115" y="1697"/>
                </a:lnTo>
                <a:lnTo>
                  <a:pt x="2114" y="1707"/>
                </a:lnTo>
                <a:lnTo>
                  <a:pt x="2109" y="1715"/>
                </a:lnTo>
                <a:lnTo>
                  <a:pt x="2103" y="1724"/>
                </a:lnTo>
                <a:lnTo>
                  <a:pt x="2098" y="1733"/>
                </a:lnTo>
                <a:lnTo>
                  <a:pt x="2094" y="1741"/>
                </a:lnTo>
                <a:lnTo>
                  <a:pt x="2089" y="1750"/>
                </a:lnTo>
                <a:lnTo>
                  <a:pt x="2085" y="1758"/>
                </a:lnTo>
                <a:lnTo>
                  <a:pt x="2082" y="1767"/>
                </a:lnTo>
                <a:lnTo>
                  <a:pt x="2080" y="1775"/>
                </a:lnTo>
                <a:lnTo>
                  <a:pt x="2068" y="1780"/>
                </a:lnTo>
                <a:lnTo>
                  <a:pt x="2056" y="1786"/>
                </a:lnTo>
                <a:lnTo>
                  <a:pt x="2044" y="1790"/>
                </a:lnTo>
                <a:lnTo>
                  <a:pt x="2032" y="1796"/>
                </a:lnTo>
                <a:lnTo>
                  <a:pt x="2020" y="1801"/>
                </a:lnTo>
                <a:lnTo>
                  <a:pt x="2008" y="1806"/>
                </a:lnTo>
                <a:lnTo>
                  <a:pt x="1997" y="1812"/>
                </a:lnTo>
                <a:lnTo>
                  <a:pt x="1984" y="1817"/>
                </a:lnTo>
                <a:lnTo>
                  <a:pt x="1973" y="1823"/>
                </a:lnTo>
                <a:lnTo>
                  <a:pt x="1961" y="1828"/>
                </a:lnTo>
                <a:lnTo>
                  <a:pt x="1950" y="1834"/>
                </a:lnTo>
                <a:lnTo>
                  <a:pt x="1938" y="1841"/>
                </a:lnTo>
                <a:lnTo>
                  <a:pt x="1926" y="1847"/>
                </a:lnTo>
                <a:lnTo>
                  <a:pt x="1915" y="1854"/>
                </a:lnTo>
                <a:lnTo>
                  <a:pt x="1903" y="1861"/>
                </a:lnTo>
                <a:lnTo>
                  <a:pt x="1892" y="1868"/>
                </a:lnTo>
                <a:lnTo>
                  <a:pt x="1880" y="1873"/>
                </a:lnTo>
                <a:lnTo>
                  <a:pt x="1869" y="1879"/>
                </a:lnTo>
                <a:lnTo>
                  <a:pt x="1856" y="1884"/>
                </a:lnTo>
                <a:lnTo>
                  <a:pt x="1844" y="1888"/>
                </a:lnTo>
                <a:lnTo>
                  <a:pt x="1831" y="1891"/>
                </a:lnTo>
                <a:lnTo>
                  <a:pt x="1817" y="1892"/>
                </a:lnTo>
                <a:lnTo>
                  <a:pt x="1804" y="1891"/>
                </a:lnTo>
                <a:lnTo>
                  <a:pt x="1791" y="1888"/>
                </a:lnTo>
                <a:lnTo>
                  <a:pt x="1778" y="1878"/>
                </a:lnTo>
                <a:lnTo>
                  <a:pt x="1770" y="1868"/>
                </a:lnTo>
                <a:lnTo>
                  <a:pt x="1764" y="1856"/>
                </a:lnTo>
                <a:lnTo>
                  <a:pt x="1759" y="1841"/>
                </a:lnTo>
                <a:lnTo>
                  <a:pt x="1758" y="1831"/>
                </a:lnTo>
                <a:lnTo>
                  <a:pt x="1762" y="1821"/>
                </a:lnTo>
                <a:lnTo>
                  <a:pt x="1766" y="1811"/>
                </a:lnTo>
                <a:lnTo>
                  <a:pt x="1772" y="1802"/>
                </a:lnTo>
                <a:lnTo>
                  <a:pt x="1777" y="1793"/>
                </a:lnTo>
                <a:lnTo>
                  <a:pt x="1778" y="1783"/>
                </a:lnTo>
                <a:lnTo>
                  <a:pt x="1774" y="1773"/>
                </a:lnTo>
                <a:lnTo>
                  <a:pt x="1766" y="1764"/>
                </a:lnTo>
                <a:lnTo>
                  <a:pt x="1751" y="1759"/>
                </a:lnTo>
                <a:lnTo>
                  <a:pt x="1736" y="1756"/>
                </a:lnTo>
                <a:lnTo>
                  <a:pt x="1720" y="1755"/>
                </a:lnTo>
                <a:lnTo>
                  <a:pt x="1705" y="1755"/>
                </a:lnTo>
                <a:lnTo>
                  <a:pt x="1690" y="1756"/>
                </a:lnTo>
                <a:lnTo>
                  <a:pt x="1674" y="1758"/>
                </a:lnTo>
                <a:lnTo>
                  <a:pt x="1659" y="1762"/>
                </a:lnTo>
                <a:lnTo>
                  <a:pt x="1644" y="1766"/>
                </a:lnTo>
                <a:lnTo>
                  <a:pt x="1629" y="1772"/>
                </a:lnTo>
                <a:lnTo>
                  <a:pt x="1615" y="1778"/>
                </a:lnTo>
                <a:lnTo>
                  <a:pt x="1600" y="1786"/>
                </a:lnTo>
                <a:lnTo>
                  <a:pt x="1587" y="1794"/>
                </a:lnTo>
                <a:lnTo>
                  <a:pt x="1574" y="1803"/>
                </a:lnTo>
                <a:lnTo>
                  <a:pt x="1561" y="1813"/>
                </a:lnTo>
                <a:lnTo>
                  <a:pt x="1549" y="1824"/>
                </a:lnTo>
                <a:lnTo>
                  <a:pt x="1537" y="1835"/>
                </a:lnTo>
                <a:lnTo>
                  <a:pt x="1537" y="1847"/>
                </a:lnTo>
                <a:lnTo>
                  <a:pt x="1541" y="1857"/>
                </a:lnTo>
                <a:lnTo>
                  <a:pt x="1549" y="1864"/>
                </a:lnTo>
                <a:lnTo>
                  <a:pt x="1557" y="1870"/>
                </a:lnTo>
                <a:lnTo>
                  <a:pt x="1566" y="1877"/>
                </a:lnTo>
                <a:lnTo>
                  <a:pt x="1575" y="1884"/>
                </a:lnTo>
                <a:lnTo>
                  <a:pt x="1581" y="1894"/>
                </a:lnTo>
                <a:lnTo>
                  <a:pt x="1583" y="1906"/>
                </a:lnTo>
                <a:lnTo>
                  <a:pt x="1580" y="1922"/>
                </a:lnTo>
                <a:lnTo>
                  <a:pt x="1576" y="1939"/>
                </a:lnTo>
                <a:lnTo>
                  <a:pt x="1570" y="1955"/>
                </a:lnTo>
                <a:lnTo>
                  <a:pt x="1565" y="1970"/>
                </a:lnTo>
                <a:lnTo>
                  <a:pt x="1557" y="1985"/>
                </a:lnTo>
                <a:lnTo>
                  <a:pt x="1546" y="1998"/>
                </a:lnTo>
                <a:lnTo>
                  <a:pt x="1534" y="2009"/>
                </a:lnTo>
                <a:lnTo>
                  <a:pt x="1519" y="2018"/>
                </a:lnTo>
                <a:lnTo>
                  <a:pt x="1502" y="2027"/>
                </a:lnTo>
                <a:lnTo>
                  <a:pt x="1486" y="2035"/>
                </a:lnTo>
                <a:lnTo>
                  <a:pt x="1469" y="2042"/>
                </a:lnTo>
                <a:lnTo>
                  <a:pt x="1453" y="2050"/>
                </a:lnTo>
                <a:lnTo>
                  <a:pt x="1437" y="2057"/>
                </a:lnTo>
                <a:lnTo>
                  <a:pt x="1421" y="2065"/>
                </a:lnTo>
                <a:lnTo>
                  <a:pt x="1405" y="2074"/>
                </a:lnTo>
                <a:lnTo>
                  <a:pt x="1388" y="2083"/>
                </a:lnTo>
                <a:lnTo>
                  <a:pt x="1378" y="2074"/>
                </a:lnTo>
                <a:lnTo>
                  <a:pt x="1371" y="2061"/>
                </a:lnTo>
                <a:lnTo>
                  <a:pt x="1367" y="2047"/>
                </a:lnTo>
                <a:lnTo>
                  <a:pt x="1360" y="2035"/>
                </a:lnTo>
                <a:lnTo>
                  <a:pt x="1353" y="2016"/>
                </a:lnTo>
                <a:lnTo>
                  <a:pt x="1346" y="1999"/>
                </a:lnTo>
                <a:lnTo>
                  <a:pt x="1339" y="1980"/>
                </a:lnTo>
                <a:lnTo>
                  <a:pt x="1331" y="1962"/>
                </a:lnTo>
                <a:lnTo>
                  <a:pt x="1323" y="1945"/>
                </a:lnTo>
                <a:lnTo>
                  <a:pt x="1316" y="1927"/>
                </a:lnTo>
                <a:lnTo>
                  <a:pt x="1308" y="1910"/>
                </a:lnTo>
                <a:lnTo>
                  <a:pt x="1300" y="1893"/>
                </a:lnTo>
                <a:lnTo>
                  <a:pt x="1296" y="1888"/>
                </a:lnTo>
                <a:lnTo>
                  <a:pt x="1293" y="1885"/>
                </a:lnTo>
                <a:lnTo>
                  <a:pt x="1288" y="1880"/>
                </a:lnTo>
                <a:lnTo>
                  <a:pt x="1285" y="1877"/>
                </a:lnTo>
                <a:lnTo>
                  <a:pt x="1280" y="1873"/>
                </a:lnTo>
                <a:lnTo>
                  <a:pt x="1276" y="1871"/>
                </a:lnTo>
                <a:lnTo>
                  <a:pt x="1270" y="1869"/>
                </a:lnTo>
                <a:lnTo>
                  <a:pt x="1265" y="1868"/>
                </a:lnTo>
                <a:lnTo>
                  <a:pt x="1254" y="1872"/>
                </a:lnTo>
                <a:lnTo>
                  <a:pt x="1246" y="1879"/>
                </a:lnTo>
                <a:lnTo>
                  <a:pt x="1241" y="1888"/>
                </a:lnTo>
                <a:lnTo>
                  <a:pt x="1238" y="1899"/>
                </a:lnTo>
                <a:lnTo>
                  <a:pt x="1234" y="1910"/>
                </a:lnTo>
                <a:lnTo>
                  <a:pt x="1229" y="1921"/>
                </a:lnTo>
                <a:lnTo>
                  <a:pt x="1224" y="1931"/>
                </a:lnTo>
                <a:lnTo>
                  <a:pt x="1216" y="1939"/>
                </a:lnTo>
                <a:lnTo>
                  <a:pt x="1208" y="1944"/>
                </a:lnTo>
                <a:lnTo>
                  <a:pt x="1198" y="1949"/>
                </a:lnTo>
                <a:lnTo>
                  <a:pt x="1189" y="1953"/>
                </a:lnTo>
                <a:lnTo>
                  <a:pt x="1179" y="1956"/>
                </a:lnTo>
                <a:lnTo>
                  <a:pt x="1170" y="1957"/>
                </a:lnTo>
                <a:lnTo>
                  <a:pt x="1159" y="1957"/>
                </a:lnTo>
                <a:lnTo>
                  <a:pt x="1149" y="1956"/>
                </a:lnTo>
                <a:lnTo>
                  <a:pt x="1140" y="1952"/>
                </a:lnTo>
                <a:lnTo>
                  <a:pt x="1121" y="1945"/>
                </a:lnTo>
                <a:lnTo>
                  <a:pt x="1104" y="1937"/>
                </a:lnTo>
                <a:lnTo>
                  <a:pt x="1087" y="1926"/>
                </a:lnTo>
                <a:lnTo>
                  <a:pt x="1069" y="1914"/>
                </a:lnTo>
                <a:lnTo>
                  <a:pt x="1053" y="1899"/>
                </a:lnTo>
                <a:lnTo>
                  <a:pt x="1039" y="1884"/>
                </a:lnTo>
                <a:lnTo>
                  <a:pt x="1026" y="1866"/>
                </a:lnTo>
                <a:lnTo>
                  <a:pt x="1014" y="1849"/>
                </a:lnTo>
                <a:lnTo>
                  <a:pt x="1005" y="1833"/>
                </a:lnTo>
                <a:lnTo>
                  <a:pt x="996" y="1816"/>
                </a:lnTo>
                <a:lnTo>
                  <a:pt x="988" y="1797"/>
                </a:lnTo>
                <a:lnTo>
                  <a:pt x="982" y="1778"/>
                </a:lnTo>
                <a:lnTo>
                  <a:pt x="977" y="1758"/>
                </a:lnTo>
                <a:lnTo>
                  <a:pt x="976" y="1739"/>
                </a:lnTo>
                <a:lnTo>
                  <a:pt x="978" y="1719"/>
                </a:lnTo>
                <a:lnTo>
                  <a:pt x="984" y="1699"/>
                </a:lnTo>
                <a:lnTo>
                  <a:pt x="988" y="1686"/>
                </a:lnTo>
                <a:lnTo>
                  <a:pt x="992" y="1671"/>
                </a:lnTo>
                <a:lnTo>
                  <a:pt x="999" y="1658"/>
                </a:lnTo>
                <a:lnTo>
                  <a:pt x="1008" y="1644"/>
                </a:lnTo>
                <a:lnTo>
                  <a:pt x="1019" y="1634"/>
                </a:lnTo>
                <a:lnTo>
                  <a:pt x="1030" y="1623"/>
                </a:lnTo>
                <a:lnTo>
                  <a:pt x="1044" y="1616"/>
                </a:lnTo>
                <a:lnTo>
                  <a:pt x="1058" y="1611"/>
                </a:lnTo>
                <a:lnTo>
                  <a:pt x="1064" y="1611"/>
                </a:lnTo>
                <a:lnTo>
                  <a:pt x="1069" y="1611"/>
                </a:lnTo>
                <a:lnTo>
                  <a:pt x="1074" y="1611"/>
                </a:lnTo>
                <a:lnTo>
                  <a:pt x="1080" y="1612"/>
                </a:lnTo>
                <a:lnTo>
                  <a:pt x="1084" y="1613"/>
                </a:lnTo>
                <a:lnTo>
                  <a:pt x="1090" y="1615"/>
                </a:lnTo>
                <a:lnTo>
                  <a:pt x="1094" y="1618"/>
                </a:lnTo>
                <a:lnTo>
                  <a:pt x="1098" y="1621"/>
                </a:lnTo>
                <a:lnTo>
                  <a:pt x="1105" y="1620"/>
                </a:lnTo>
                <a:lnTo>
                  <a:pt x="1112" y="1621"/>
                </a:lnTo>
                <a:lnTo>
                  <a:pt x="1119" y="1621"/>
                </a:lnTo>
                <a:lnTo>
                  <a:pt x="1125" y="1622"/>
                </a:lnTo>
                <a:lnTo>
                  <a:pt x="1132" y="1622"/>
                </a:lnTo>
                <a:lnTo>
                  <a:pt x="1137" y="1621"/>
                </a:lnTo>
                <a:lnTo>
                  <a:pt x="1143" y="1618"/>
                </a:lnTo>
                <a:lnTo>
                  <a:pt x="1149" y="1613"/>
                </a:lnTo>
                <a:lnTo>
                  <a:pt x="1150" y="1593"/>
                </a:lnTo>
                <a:lnTo>
                  <a:pt x="1145" y="1576"/>
                </a:lnTo>
                <a:lnTo>
                  <a:pt x="1137" y="1560"/>
                </a:lnTo>
                <a:lnTo>
                  <a:pt x="1128" y="1544"/>
                </a:lnTo>
                <a:lnTo>
                  <a:pt x="1117" y="1529"/>
                </a:lnTo>
                <a:lnTo>
                  <a:pt x="1104" y="1514"/>
                </a:lnTo>
                <a:lnTo>
                  <a:pt x="1094" y="1498"/>
                </a:lnTo>
                <a:lnTo>
                  <a:pt x="1085" y="1482"/>
                </a:lnTo>
                <a:lnTo>
                  <a:pt x="1084" y="1455"/>
                </a:lnTo>
                <a:lnTo>
                  <a:pt x="1087" y="1430"/>
                </a:lnTo>
                <a:lnTo>
                  <a:pt x="1088" y="1406"/>
                </a:lnTo>
                <a:lnTo>
                  <a:pt x="1083" y="1379"/>
                </a:lnTo>
                <a:lnTo>
                  <a:pt x="1096" y="1372"/>
                </a:lnTo>
                <a:lnTo>
                  <a:pt x="1108" y="1365"/>
                </a:lnTo>
                <a:lnTo>
                  <a:pt x="1121" y="1359"/>
                </a:lnTo>
                <a:lnTo>
                  <a:pt x="1135" y="1354"/>
                </a:lnTo>
                <a:lnTo>
                  <a:pt x="1148" y="1348"/>
                </a:lnTo>
                <a:lnTo>
                  <a:pt x="1161" y="1342"/>
                </a:lnTo>
                <a:lnTo>
                  <a:pt x="1175" y="1336"/>
                </a:lnTo>
                <a:lnTo>
                  <a:pt x="1188" y="1331"/>
                </a:lnTo>
                <a:lnTo>
                  <a:pt x="1202" y="1324"/>
                </a:lnTo>
                <a:lnTo>
                  <a:pt x="1214" y="1318"/>
                </a:lnTo>
                <a:lnTo>
                  <a:pt x="1228" y="1311"/>
                </a:lnTo>
                <a:lnTo>
                  <a:pt x="1241" y="1304"/>
                </a:lnTo>
                <a:lnTo>
                  <a:pt x="1254" y="1297"/>
                </a:lnTo>
                <a:lnTo>
                  <a:pt x="1266" y="1289"/>
                </a:lnTo>
                <a:lnTo>
                  <a:pt x="1279" y="1281"/>
                </a:lnTo>
                <a:lnTo>
                  <a:pt x="1291" y="1272"/>
                </a:lnTo>
                <a:lnTo>
                  <a:pt x="1293" y="1266"/>
                </a:lnTo>
                <a:lnTo>
                  <a:pt x="1294" y="1262"/>
                </a:lnTo>
                <a:lnTo>
                  <a:pt x="1295" y="1256"/>
                </a:lnTo>
                <a:lnTo>
                  <a:pt x="1295" y="1250"/>
                </a:lnTo>
                <a:lnTo>
                  <a:pt x="1285" y="1245"/>
                </a:lnTo>
                <a:lnTo>
                  <a:pt x="1273" y="1242"/>
                </a:lnTo>
                <a:lnTo>
                  <a:pt x="1261" y="1240"/>
                </a:lnTo>
                <a:lnTo>
                  <a:pt x="1249" y="1237"/>
                </a:lnTo>
                <a:lnTo>
                  <a:pt x="1238" y="1234"/>
                </a:lnTo>
                <a:lnTo>
                  <a:pt x="1227" y="1229"/>
                </a:lnTo>
                <a:lnTo>
                  <a:pt x="1218" y="1222"/>
                </a:lnTo>
                <a:lnTo>
                  <a:pt x="1210" y="1212"/>
                </a:lnTo>
                <a:lnTo>
                  <a:pt x="1211" y="1205"/>
                </a:lnTo>
                <a:lnTo>
                  <a:pt x="1206" y="1200"/>
                </a:lnTo>
                <a:lnTo>
                  <a:pt x="1203" y="1196"/>
                </a:lnTo>
                <a:lnTo>
                  <a:pt x="1208" y="1190"/>
                </a:lnTo>
                <a:lnTo>
                  <a:pt x="1206" y="1173"/>
                </a:lnTo>
                <a:lnTo>
                  <a:pt x="1208" y="1156"/>
                </a:lnTo>
                <a:lnTo>
                  <a:pt x="1210" y="1139"/>
                </a:lnTo>
                <a:lnTo>
                  <a:pt x="1213" y="1123"/>
                </a:lnTo>
                <a:lnTo>
                  <a:pt x="1219" y="1107"/>
                </a:lnTo>
                <a:lnTo>
                  <a:pt x="1226" y="1092"/>
                </a:lnTo>
                <a:lnTo>
                  <a:pt x="1234" y="1077"/>
                </a:lnTo>
                <a:lnTo>
                  <a:pt x="1244" y="1063"/>
                </a:lnTo>
                <a:lnTo>
                  <a:pt x="1236" y="1060"/>
                </a:lnTo>
                <a:lnTo>
                  <a:pt x="1228" y="1058"/>
                </a:lnTo>
                <a:lnTo>
                  <a:pt x="1219" y="1055"/>
                </a:lnTo>
                <a:lnTo>
                  <a:pt x="1211" y="1053"/>
                </a:lnTo>
                <a:lnTo>
                  <a:pt x="1199" y="1046"/>
                </a:lnTo>
                <a:lnTo>
                  <a:pt x="1191" y="1037"/>
                </a:lnTo>
                <a:lnTo>
                  <a:pt x="1187" y="1025"/>
                </a:lnTo>
                <a:lnTo>
                  <a:pt x="1185" y="1013"/>
                </a:lnTo>
                <a:lnTo>
                  <a:pt x="1182" y="1000"/>
                </a:lnTo>
                <a:lnTo>
                  <a:pt x="1180" y="987"/>
                </a:lnTo>
                <a:lnTo>
                  <a:pt x="1176" y="975"/>
                </a:lnTo>
                <a:lnTo>
                  <a:pt x="1170" y="964"/>
                </a:lnTo>
                <a:lnTo>
                  <a:pt x="1172" y="947"/>
                </a:lnTo>
                <a:lnTo>
                  <a:pt x="1178" y="932"/>
                </a:lnTo>
                <a:lnTo>
                  <a:pt x="1188" y="920"/>
                </a:lnTo>
                <a:lnTo>
                  <a:pt x="1199" y="909"/>
                </a:lnTo>
                <a:lnTo>
                  <a:pt x="1213" y="900"/>
                </a:lnTo>
                <a:lnTo>
                  <a:pt x="1227" y="892"/>
                </a:lnTo>
                <a:lnTo>
                  <a:pt x="1241" y="884"/>
                </a:lnTo>
                <a:lnTo>
                  <a:pt x="1255" y="874"/>
                </a:lnTo>
                <a:lnTo>
                  <a:pt x="1247" y="872"/>
                </a:lnTo>
                <a:lnTo>
                  <a:pt x="1239" y="870"/>
                </a:lnTo>
                <a:lnTo>
                  <a:pt x="1229" y="867"/>
                </a:lnTo>
                <a:lnTo>
                  <a:pt x="1221" y="866"/>
                </a:lnTo>
                <a:lnTo>
                  <a:pt x="1212" y="864"/>
                </a:lnTo>
                <a:lnTo>
                  <a:pt x="1203" y="863"/>
                </a:lnTo>
                <a:lnTo>
                  <a:pt x="1194" y="863"/>
                </a:lnTo>
                <a:lnTo>
                  <a:pt x="1185" y="862"/>
                </a:lnTo>
                <a:lnTo>
                  <a:pt x="1102" y="857"/>
                </a:lnTo>
                <a:lnTo>
                  <a:pt x="1092" y="872"/>
                </a:lnTo>
                <a:lnTo>
                  <a:pt x="1082" y="886"/>
                </a:lnTo>
                <a:lnTo>
                  <a:pt x="1070" y="900"/>
                </a:lnTo>
                <a:lnTo>
                  <a:pt x="1059" y="914"/>
                </a:lnTo>
                <a:lnTo>
                  <a:pt x="1049" y="929"/>
                </a:lnTo>
                <a:lnTo>
                  <a:pt x="1039" y="944"/>
                </a:lnTo>
                <a:lnTo>
                  <a:pt x="1031" y="959"/>
                </a:lnTo>
                <a:lnTo>
                  <a:pt x="1027" y="975"/>
                </a:lnTo>
                <a:lnTo>
                  <a:pt x="1031" y="977"/>
                </a:lnTo>
                <a:lnTo>
                  <a:pt x="1037" y="979"/>
                </a:lnTo>
                <a:lnTo>
                  <a:pt x="1042" y="980"/>
                </a:lnTo>
                <a:lnTo>
                  <a:pt x="1047" y="982"/>
                </a:lnTo>
                <a:lnTo>
                  <a:pt x="1053" y="983"/>
                </a:lnTo>
                <a:lnTo>
                  <a:pt x="1058" y="982"/>
                </a:lnTo>
                <a:lnTo>
                  <a:pt x="1064" y="979"/>
                </a:lnTo>
                <a:lnTo>
                  <a:pt x="1068" y="975"/>
                </a:lnTo>
                <a:lnTo>
                  <a:pt x="1074" y="976"/>
                </a:lnTo>
                <a:lnTo>
                  <a:pt x="1079" y="976"/>
                </a:lnTo>
                <a:lnTo>
                  <a:pt x="1084" y="977"/>
                </a:lnTo>
                <a:lnTo>
                  <a:pt x="1089" y="979"/>
                </a:lnTo>
                <a:lnTo>
                  <a:pt x="1095" y="980"/>
                </a:lnTo>
                <a:lnTo>
                  <a:pt x="1099" y="983"/>
                </a:lnTo>
                <a:lnTo>
                  <a:pt x="1104" y="985"/>
                </a:lnTo>
                <a:lnTo>
                  <a:pt x="1108" y="987"/>
                </a:lnTo>
                <a:lnTo>
                  <a:pt x="1107" y="997"/>
                </a:lnTo>
                <a:lnTo>
                  <a:pt x="1103" y="998"/>
                </a:lnTo>
                <a:lnTo>
                  <a:pt x="1095" y="998"/>
                </a:lnTo>
                <a:lnTo>
                  <a:pt x="1088" y="1000"/>
                </a:lnTo>
                <a:lnTo>
                  <a:pt x="1099" y="1014"/>
                </a:lnTo>
                <a:lnTo>
                  <a:pt x="1106" y="1030"/>
                </a:lnTo>
                <a:lnTo>
                  <a:pt x="1111" y="1046"/>
                </a:lnTo>
                <a:lnTo>
                  <a:pt x="1113" y="1062"/>
                </a:lnTo>
                <a:lnTo>
                  <a:pt x="1114" y="1081"/>
                </a:lnTo>
                <a:lnTo>
                  <a:pt x="1114" y="1098"/>
                </a:lnTo>
                <a:lnTo>
                  <a:pt x="1114" y="1116"/>
                </a:lnTo>
                <a:lnTo>
                  <a:pt x="1117" y="1135"/>
                </a:lnTo>
                <a:lnTo>
                  <a:pt x="1110" y="1154"/>
                </a:lnTo>
                <a:lnTo>
                  <a:pt x="1099" y="1173"/>
                </a:lnTo>
                <a:lnTo>
                  <a:pt x="1087" y="1190"/>
                </a:lnTo>
                <a:lnTo>
                  <a:pt x="1073" y="1205"/>
                </a:lnTo>
                <a:lnTo>
                  <a:pt x="1057" y="1220"/>
                </a:lnTo>
                <a:lnTo>
                  <a:pt x="1041" y="1234"/>
                </a:lnTo>
                <a:lnTo>
                  <a:pt x="1024" y="1248"/>
                </a:lnTo>
                <a:lnTo>
                  <a:pt x="1008" y="1262"/>
                </a:lnTo>
                <a:lnTo>
                  <a:pt x="992" y="1271"/>
                </a:lnTo>
                <a:lnTo>
                  <a:pt x="975" y="1280"/>
                </a:lnTo>
                <a:lnTo>
                  <a:pt x="956" y="1289"/>
                </a:lnTo>
                <a:lnTo>
                  <a:pt x="939" y="1296"/>
                </a:lnTo>
                <a:lnTo>
                  <a:pt x="921" y="1302"/>
                </a:lnTo>
                <a:lnTo>
                  <a:pt x="903" y="1305"/>
                </a:lnTo>
                <a:lnTo>
                  <a:pt x="885" y="1303"/>
                </a:lnTo>
                <a:lnTo>
                  <a:pt x="867" y="1297"/>
                </a:lnTo>
                <a:lnTo>
                  <a:pt x="858" y="1290"/>
                </a:lnTo>
                <a:lnTo>
                  <a:pt x="854" y="1281"/>
                </a:lnTo>
                <a:lnTo>
                  <a:pt x="853" y="1270"/>
                </a:lnTo>
                <a:lnTo>
                  <a:pt x="852" y="1258"/>
                </a:lnTo>
                <a:lnTo>
                  <a:pt x="850" y="1248"/>
                </a:lnTo>
                <a:lnTo>
                  <a:pt x="847" y="1240"/>
                </a:lnTo>
                <a:lnTo>
                  <a:pt x="839" y="1235"/>
                </a:lnTo>
                <a:lnTo>
                  <a:pt x="826" y="1236"/>
                </a:lnTo>
                <a:lnTo>
                  <a:pt x="817" y="1244"/>
                </a:lnTo>
                <a:lnTo>
                  <a:pt x="808" y="1252"/>
                </a:lnTo>
                <a:lnTo>
                  <a:pt x="801" y="1262"/>
                </a:lnTo>
                <a:lnTo>
                  <a:pt x="793" y="1271"/>
                </a:lnTo>
                <a:lnTo>
                  <a:pt x="786" y="1281"/>
                </a:lnTo>
                <a:lnTo>
                  <a:pt x="779" y="1291"/>
                </a:lnTo>
                <a:lnTo>
                  <a:pt x="772" y="1301"/>
                </a:lnTo>
                <a:lnTo>
                  <a:pt x="765" y="1310"/>
                </a:lnTo>
                <a:lnTo>
                  <a:pt x="757" y="1323"/>
                </a:lnTo>
                <a:lnTo>
                  <a:pt x="748" y="1335"/>
                </a:lnTo>
                <a:lnTo>
                  <a:pt x="741" y="1348"/>
                </a:lnTo>
                <a:lnTo>
                  <a:pt x="733" y="1362"/>
                </a:lnTo>
                <a:lnTo>
                  <a:pt x="726" y="1376"/>
                </a:lnTo>
                <a:lnTo>
                  <a:pt x="719" y="1389"/>
                </a:lnTo>
                <a:lnTo>
                  <a:pt x="712" y="1403"/>
                </a:lnTo>
                <a:lnTo>
                  <a:pt x="706" y="1417"/>
                </a:lnTo>
                <a:lnTo>
                  <a:pt x="703" y="1418"/>
                </a:lnTo>
                <a:lnTo>
                  <a:pt x="701" y="1421"/>
                </a:lnTo>
                <a:lnTo>
                  <a:pt x="698" y="1424"/>
                </a:lnTo>
                <a:lnTo>
                  <a:pt x="695" y="1425"/>
                </a:lnTo>
                <a:lnTo>
                  <a:pt x="682" y="1424"/>
                </a:lnTo>
                <a:lnTo>
                  <a:pt x="670" y="1423"/>
                </a:lnTo>
                <a:lnTo>
                  <a:pt x="656" y="1422"/>
                </a:lnTo>
                <a:lnTo>
                  <a:pt x="643" y="1421"/>
                </a:lnTo>
                <a:lnTo>
                  <a:pt x="629" y="1419"/>
                </a:lnTo>
                <a:lnTo>
                  <a:pt x="615" y="1418"/>
                </a:lnTo>
                <a:lnTo>
                  <a:pt x="603" y="1417"/>
                </a:lnTo>
                <a:lnTo>
                  <a:pt x="589" y="1416"/>
                </a:lnTo>
                <a:lnTo>
                  <a:pt x="575" y="1415"/>
                </a:lnTo>
                <a:lnTo>
                  <a:pt x="562" y="1414"/>
                </a:lnTo>
                <a:lnTo>
                  <a:pt x="549" y="1412"/>
                </a:lnTo>
                <a:lnTo>
                  <a:pt x="535" y="1410"/>
                </a:lnTo>
                <a:lnTo>
                  <a:pt x="522" y="1409"/>
                </a:lnTo>
                <a:lnTo>
                  <a:pt x="508" y="1407"/>
                </a:lnTo>
                <a:lnTo>
                  <a:pt x="496" y="1404"/>
                </a:lnTo>
                <a:lnTo>
                  <a:pt x="483" y="1402"/>
                </a:lnTo>
                <a:lnTo>
                  <a:pt x="477" y="1400"/>
                </a:lnTo>
                <a:lnTo>
                  <a:pt x="473" y="1397"/>
                </a:lnTo>
                <a:lnTo>
                  <a:pt x="467" y="1395"/>
                </a:lnTo>
                <a:lnTo>
                  <a:pt x="461" y="1392"/>
                </a:lnTo>
                <a:lnTo>
                  <a:pt x="456" y="1387"/>
                </a:lnTo>
                <a:lnTo>
                  <a:pt x="452" y="1382"/>
                </a:lnTo>
                <a:lnTo>
                  <a:pt x="448" y="1378"/>
                </a:lnTo>
                <a:lnTo>
                  <a:pt x="446" y="1372"/>
                </a:lnTo>
                <a:lnTo>
                  <a:pt x="443" y="1361"/>
                </a:lnTo>
                <a:lnTo>
                  <a:pt x="440" y="1348"/>
                </a:lnTo>
                <a:lnTo>
                  <a:pt x="440" y="1335"/>
                </a:lnTo>
                <a:lnTo>
                  <a:pt x="444" y="1323"/>
                </a:lnTo>
                <a:lnTo>
                  <a:pt x="453" y="1308"/>
                </a:lnTo>
                <a:lnTo>
                  <a:pt x="464" y="1296"/>
                </a:lnTo>
                <a:lnTo>
                  <a:pt x="478" y="1288"/>
                </a:lnTo>
                <a:lnTo>
                  <a:pt x="494" y="1282"/>
                </a:lnTo>
                <a:lnTo>
                  <a:pt x="509" y="1276"/>
                </a:lnTo>
                <a:lnTo>
                  <a:pt x="526" y="1270"/>
                </a:lnTo>
                <a:lnTo>
                  <a:pt x="538" y="1262"/>
                </a:lnTo>
                <a:lnTo>
                  <a:pt x="550" y="1250"/>
                </a:lnTo>
                <a:lnTo>
                  <a:pt x="550" y="1245"/>
                </a:lnTo>
                <a:lnTo>
                  <a:pt x="539" y="1238"/>
                </a:lnTo>
                <a:lnTo>
                  <a:pt x="529" y="1233"/>
                </a:lnTo>
                <a:lnTo>
                  <a:pt x="517" y="1227"/>
                </a:lnTo>
                <a:lnTo>
                  <a:pt x="506" y="1222"/>
                </a:lnTo>
                <a:lnTo>
                  <a:pt x="494" y="1218"/>
                </a:lnTo>
                <a:lnTo>
                  <a:pt x="483" y="1214"/>
                </a:lnTo>
                <a:lnTo>
                  <a:pt x="470" y="1212"/>
                </a:lnTo>
                <a:lnTo>
                  <a:pt x="458" y="1210"/>
                </a:lnTo>
                <a:lnTo>
                  <a:pt x="445" y="1209"/>
                </a:lnTo>
                <a:lnTo>
                  <a:pt x="432" y="1207"/>
                </a:lnTo>
                <a:lnTo>
                  <a:pt x="420" y="1209"/>
                </a:lnTo>
                <a:lnTo>
                  <a:pt x="407" y="1209"/>
                </a:lnTo>
                <a:lnTo>
                  <a:pt x="394" y="1211"/>
                </a:lnTo>
                <a:lnTo>
                  <a:pt x="381" y="1212"/>
                </a:lnTo>
                <a:lnTo>
                  <a:pt x="370" y="1215"/>
                </a:lnTo>
                <a:lnTo>
                  <a:pt x="357" y="1219"/>
                </a:lnTo>
                <a:lnTo>
                  <a:pt x="337" y="1233"/>
                </a:lnTo>
                <a:lnTo>
                  <a:pt x="326" y="1251"/>
                </a:lnTo>
                <a:lnTo>
                  <a:pt x="322" y="1272"/>
                </a:lnTo>
                <a:lnTo>
                  <a:pt x="320" y="1295"/>
                </a:lnTo>
                <a:lnTo>
                  <a:pt x="319" y="1319"/>
                </a:lnTo>
                <a:lnTo>
                  <a:pt x="317" y="1342"/>
                </a:lnTo>
                <a:lnTo>
                  <a:pt x="308" y="1362"/>
                </a:lnTo>
                <a:lnTo>
                  <a:pt x="292" y="1379"/>
                </a:lnTo>
                <a:lnTo>
                  <a:pt x="273" y="1382"/>
                </a:lnTo>
                <a:lnTo>
                  <a:pt x="256" y="1384"/>
                </a:lnTo>
                <a:lnTo>
                  <a:pt x="239" y="1386"/>
                </a:lnTo>
                <a:lnTo>
                  <a:pt x="221" y="1386"/>
                </a:lnTo>
                <a:lnTo>
                  <a:pt x="205" y="1386"/>
                </a:lnTo>
                <a:lnTo>
                  <a:pt x="188" y="1385"/>
                </a:lnTo>
                <a:lnTo>
                  <a:pt x="172" y="1384"/>
                </a:lnTo>
                <a:lnTo>
                  <a:pt x="155" y="1381"/>
                </a:lnTo>
                <a:lnTo>
                  <a:pt x="138" y="1380"/>
                </a:lnTo>
                <a:lnTo>
                  <a:pt x="121" y="1378"/>
                </a:lnTo>
                <a:lnTo>
                  <a:pt x="104" y="1376"/>
                </a:lnTo>
                <a:lnTo>
                  <a:pt x="87" y="1374"/>
                </a:lnTo>
                <a:lnTo>
                  <a:pt x="69" y="1373"/>
                </a:lnTo>
                <a:lnTo>
                  <a:pt x="52" y="1372"/>
                </a:lnTo>
                <a:lnTo>
                  <a:pt x="34" y="1372"/>
                </a:lnTo>
                <a:lnTo>
                  <a:pt x="15" y="1372"/>
                </a:lnTo>
                <a:lnTo>
                  <a:pt x="6" y="1354"/>
                </a:lnTo>
                <a:lnTo>
                  <a:pt x="1" y="1332"/>
                </a:lnTo>
                <a:lnTo>
                  <a:pt x="0" y="1311"/>
                </a:lnTo>
                <a:lnTo>
                  <a:pt x="2" y="1291"/>
                </a:lnTo>
                <a:lnTo>
                  <a:pt x="23" y="1271"/>
                </a:lnTo>
                <a:lnTo>
                  <a:pt x="44" y="1251"/>
                </a:lnTo>
                <a:lnTo>
                  <a:pt x="64" y="1230"/>
                </a:lnTo>
                <a:lnTo>
                  <a:pt x="84" y="1211"/>
                </a:lnTo>
                <a:lnTo>
                  <a:pt x="104" y="1191"/>
                </a:lnTo>
                <a:lnTo>
                  <a:pt x="123" y="1170"/>
                </a:lnTo>
                <a:lnTo>
                  <a:pt x="142" y="1150"/>
                </a:lnTo>
                <a:lnTo>
                  <a:pt x="161" y="1127"/>
                </a:lnTo>
                <a:lnTo>
                  <a:pt x="158" y="1121"/>
                </a:lnTo>
                <a:lnTo>
                  <a:pt x="155" y="1117"/>
                </a:lnTo>
                <a:lnTo>
                  <a:pt x="149" y="1115"/>
                </a:lnTo>
                <a:lnTo>
                  <a:pt x="143" y="1114"/>
                </a:lnTo>
                <a:lnTo>
                  <a:pt x="130" y="1116"/>
                </a:lnTo>
                <a:lnTo>
                  <a:pt x="117" y="1119"/>
                </a:lnTo>
                <a:lnTo>
                  <a:pt x="103" y="1120"/>
                </a:lnTo>
                <a:lnTo>
                  <a:pt x="89" y="1120"/>
                </a:lnTo>
                <a:lnTo>
                  <a:pt x="76" y="1119"/>
                </a:lnTo>
                <a:lnTo>
                  <a:pt x="64" y="1115"/>
                </a:lnTo>
                <a:lnTo>
                  <a:pt x="51" y="1109"/>
                </a:lnTo>
                <a:lnTo>
                  <a:pt x="40" y="1101"/>
                </a:lnTo>
                <a:lnTo>
                  <a:pt x="32" y="1086"/>
                </a:lnTo>
                <a:lnTo>
                  <a:pt x="25" y="1071"/>
                </a:lnTo>
                <a:lnTo>
                  <a:pt x="20" y="1055"/>
                </a:lnTo>
                <a:lnTo>
                  <a:pt x="17" y="1039"/>
                </a:lnTo>
                <a:lnTo>
                  <a:pt x="21" y="1017"/>
                </a:lnTo>
                <a:lnTo>
                  <a:pt x="25" y="994"/>
                </a:lnTo>
                <a:lnTo>
                  <a:pt x="32" y="972"/>
                </a:lnTo>
                <a:lnTo>
                  <a:pt x="43" y="952"/>
                </a:lnTo>
                <a:lnTo>
                  <a:pt x="40" y="949"/>
                </a:lnTo>
                <a:lnTo>
                  <a:pt x="54" y="933"/>
                </a:lnTo>
                <a:lnTo>
                  <a:pt x="69" y="916"/>
                </a:lnTo>
                <a:lnTo>
                  <a:pt x="84" y="900"/>
                </a:lnTo>
                <a:lnTo>
                  <a:pt x="100" y="884"/>
                </a:lnTo>
                <a:lnTo>
                  <a:pt x="118" y="869"/>
                </a:lnTo>
                <a:lnTo>
                  <a:pt x="135" y="856"/>
                </a:lnTo>
                <a:lnTo>
                  <a:pt x="155" y="844"/>
                </a:lnTo>
                <a:lnTo>
                  <a:pt x="174" y="835"/>
                </a:lnTo>
                <a:lnTo>
                  <a:pt x="188" y="832"/>
                </a:lnTo>
                <a:lnTo>
                  <a:pt x="201" y="831"/>
                </a:lnTo>
                <a:lnTo>
                  <a:pt x="213" y="832"/>
                </a:lnTo>
                <a:lnTo>
                  <a:pt x="226" y="834"/>
                </a:lnTo>
                <a:lnTo>
                  <a:pt x="239" y="838"/>
                </a:lnTo>
                <a:lnTo>
                  <a:pt x="250" y="842"/>
                </a:lnTo>
                <a:lnTo>
                  <a:pt x="261" y="849"/>
                </a:lnTo>
                <a:lnTo>
                  <a:pt x="272" y="857"/>
                </a:lnTo>
                <a:lnTo>
                  <a:pt x="277" y="864"/>
                </a:lnTo>
                <a:lnTo>
                  <a:pt x="280" y="871"/>
                </a:lnTo>
                <a:lnTo>
                  <a:pt x="284" y="879"/>
                </a:lnTo>
                <a:lnTo>
                  <a:pt x="288" y="887"/>
                </a:lnTo>
                <a:lnTo>
                  <a:pt x="292" y="894"/>
                </a:lnTo>
                <a:lnTo>
                  <a:pt x="297" y="900"/>
                </a:lnTo>
                <a:lnTo>
                  <a:pt x="305" y="902"/>
                </a:lnTo>
                <a:lnTo>
                  <a:pt x="315" y="903"/>
                </a:lnTo>
                <a:lnTo>
                  <a:pt x="329" y="903"/>
                </a:lnTo>
                <a:lnTo>
                  <a:pt x="341" y="897"/>
                </a:lnTo>
                <a:lnTo>
                  <a:pt x="352" y="889"/>
                </a:lnTo>
                <a:lnTo>
                  <a:pt x="361" y="879"/>
                </a:lnTo>
                <a:lnTo>
                  <a:pt x="370" y="866"/>
                </a:lnTo>
                <a:lnTo>
                  <a:pt x="377" y="854"/>
                </a:lnTo>
                <a:lnTo>
                  <a:pt x="385" y="842"/>
                </a:lnTo>
                <a:lnTo>
                  <a:pt x="392" y="831"/>
                </a:lnTo>
                <a:lnTo>
                  <a:pt x="407" y="805"/>
                </a:lnTo>
                <a:lnTo>
                  <a:pt x="422" y="779"/>
                </a:lnTo>
                <a:lnTo>
                  <a:pt x="436" y="753"/>
                </a:lnTo>
                <a:lnTo>
                  <a:pt x="451" y="728"/>
                </a:lnTo>
                <a:lnTo>
                  <a:pt x="466" y="702"/>
                </a:lnTo>
                <a:lnTo>
                  <a:pt x="481" y="676"/>
                </a:lnTo>
                <a:lnTo>
                  <a:pt x="497" y="651"/>
                </a:lnTo>
                <a:lnTo>
                  <a:pt x="514" y="626"/>
                </a:lnTo>
                <a:lnTo>
                  <a:pt x="523" y="616"/>
                </a:lnTo>
                <a:lnTo>
                  <a:pt x="534" y="607"/>
                </a:lnTo>
                <a:lnTo>
                  <a:pt x="545" y="598"/>
                </a:lnTo>
                <a:lnTo>
                  <a:pt x="558" y="591"/>
                </a:lnTo>
                <a:lnTo>
                  <a:pt x="569" y="585"/>
                </a:lnTo>
                <a:lnTo>
                  <a:pt x="582" y="582"/>
                </a:lnTo>
                <a:lnTo>
                  <a:pt x="596" y="581"/>
                </a:lnTo>
                <a:lnTo>
                  <a:pt x="608" y="584"/>
                </a:lnTo>
                <a:lnTo>
                  <a:pt x="619" y="590"/>
                </a:lnTo>
                <a:lnTo>
                  <a:pt x="629" y="593"/>
                </a:lnTo>
                <a:lnTo>
                  <a:pt x="636" y="599"/>
                </a:lnTo>
                <a:lnTo>
                  <a:pt x="636" y="611"/>
                </a:lnTo>
                <a:lnTo>
                  <a:pt x="637" y="616"/>
                </a:lnTo>
                <a:lnTo>
                  <a:pt x="642" y="620"/>
                </a:lnTo>
                <a:lnTo>
                  <a:pt x="648" y="621"/>
                </a:lnTo>
                <a:lnTo>
                  <a:pt x="653" y="622"/>
                </a:lnTo>
                <a:lnTo>
                  <a:pt x="653" y="626"/>
                </a:lnTo>
                <a:lnTo>
                  <a:pt x="653" y="630"/>
                </a:lnTo>
                <a:lnTo>
                  <a:pt x="652" y="634"/>
                </a:lnTo>
                <a:lnTo>
                  <a:pt x="649" y="636"/>
                </a:lnTo>
                <a:lnTo>
                  <a:pt x="652" y="643"/>
                </a:lnTo>
                <a:lnTo>
                  <a:pt x="656" y="647"/>
                </a:lnTo>
                <a:lnTo>
                  <a:pt x="661" y="650"/>
                </a:lnTo>
                <a:lnTo>
                  <a:pt x="667" y="652"/>
                </a:lnTo>
                <a:lnTo>
                  <a:pt x="673" y="653"/>
                </a:lnTo>
                <a:lnTo>
                  <a:pt x="680" y="653"/>
                </a:lnTo>
                <a:lnTo>
                  <a:pt x="686" y="653"/>
                </a:lnTo>
                <a:lnTo>
                  <a:pt x="693" y="653"/>
                </a:lnTo>
                <a:lnTo>
                  <a:pt x="713" y="646"/>
                </a:lnTo>
                <a:lnTo>
                  <a:pt x="732" y="635"/>
                </a:lnTo>
                <a:lnTo>
                  <a:pt x="748" y="621"/>
                </a:lnTo>
                <a:lnTo>
                  <a:pt x="762" y="604"/>
                </a:lnTo>
                <a:lnTo>
                  <a:pt x="774" y="586"/>
                </a:lnTo>
                <a:lnTo>
                  <a:pt x="786" y="567"/>
                </a:lnTo>
                <a:lnTo>
                  <a:pt x="796" y="548"/>
                </a:lnTo>
                <a:lnTo>
                  <a:pt x="805" y="530"/>
                </a:lnTo>
                <a:lnTo>
                  <a:pt x="805" y="517"/>
                </a:lnTo>
                <a:lnTo>
                  <a:pt x="805" y="503"/>
                </a:lnTo>
                <a:lnTo>
                  <a:pt x="801" y="492"/>
                </a:lnTo>
                <a:lnTo>
                  <a:pt x="788" y="486"/>
                </a:lnTo>
                <a:lnTo>
                  <a:pt x="773" y="492"/>
                </a:lnTo>
                <a:lnTo>
                  <a:pt x="757" y="500"/>
                </a:lnTo>
                <a:lnTo>
                  <a:pt x="741" y="507"/>
                </a:lnTo>
                <a:lnTo>
                  <a:pt x="725" y="514"/>
                </a:lnTo>
                <a:lnTo>
                  <a:pt x="709" y="518"/>
                </a:lnTo>
                <a:lnTo>
                  <a:pt x="693" y="518"/>
                </a:lnTo>
                <a:lnTo>
                  <a:pt x="679" y="514"/>
                </a:lnTo>
                <a:lnTo>
                  <a:pt x="665" y="502"/>
                </a:lnTo>
                <a:lnTo>
                  <a:pt x="661" y="485"/>
                </a:lnTo>
                <a:lnTo>
                  <a:pt x="663" y="469"/>
                </a:lnTo>
                <a:lnTo>
                  <a:pt x="664" y="452"/>
                </a:lnTo>
                <a:lnTo>
                  <a:pt x="659" y="433"/>
                </a:lnTo>
                <a:lnTo>
                  <a:pt x="665" y="420"/>
                </a:lnTo>
                <a:lnTo>
                  <a:pt x="672" y="409"/>
                </a:lnTo>
                <a:lnTo>
                  <a:pt x="676" y="396"/>
                </a:lnTo>
                <a:lnTo>
                  <a:pt x="681" y="384"/>
                </a:lnTo>
                <a:lnTo>
                  <a:pt x="691" y="370"/>
                </a:lnTo>
                <a:lnTo>
                  <a:pt x="702" y="356"/>
                </a:lnTo>
                <a:lnTo>
                  <a:pt x="711" y="342"/>
                </a:lnTo>
                <a:lnTo>
                  <a:pt x="720" y="328"/>
                </a:lnTo>
                <a:lnTo>
                  <a:pt x="729" y="314"/>
                </a:lnTo>
                <a:lnTo>
                  <a:pt x="739" y="301"/>
                </a:lnTo>
                <a:lnTo>
                  <a:pt x="747" y="287"/>
                </a:lnTo>
                <a:lnTo>
                  <a:pt x="755" y="273"/>
                </a:lnTo>
                <a:lnTo>
                  <a:pt x="772" y="250"/>
                </a:lnTo>
                <a:lnTo>
                  <a:pt x="790" y="237"/>
                </a:lnTo>
                <a:lnTo>
                  <a:pt x="812" y="233"/>
                </a:lnTo>
                <a:lnTo>
                  <a:pt x="834" y="231"/>
                </a:lnTo>
                <a:lnTo>
                  <a:pt x="858" y="234"/>
                </a:lnTo>
                <a:lnTo>
                  <a:pt x="884" y="236"/>
                </a:lnTo>
                <a:lnTo>
                  <a:pt x="909" y="235"/>
                </a:lnTo>
                <a:lnTo>
                  <a:pt x="935" y="229"/>
                </a:lnTo>
                <a:lnTo>
                  <a:pt x="941" y="230"/>
                </a:lnTo>
                <a:lnTo>
                  <a:pt x="949" y="231"/>
                </a:lnTo>
                <a:lnTo>
                  <a:pt x="956" y="231"/>
                </a:lnTo>
                <a:lnTo>
                  <a:pt x="963" y="231"/>
                </a:lnTo>
                <a:lnTo>
                  <a:pt x="970" y="230"/>
                </a:lnTo>
                <a:lnTo>
                  <a:pt x="977" y="229"/>
                </a:lnTo>
                <a:lnTo>
                  <a:pt x="984" y="228"/>
                </a:lnTo>
                <a:lnTo>
                  <a:pt x="991" y="227"/>
                </a:lnTo>
                <a:lnTo>
                  <a:pt x="998" y="229"/>
                </a:lnTo>
                <a:lnTo>
                  <a:pt x="1005" y="229"/>
                </a:lnTo>
                <a:lnTo>
                  <a:pt x="1011" y="229"/>
                </a:lnTo>
                <a:lnTo>
                  <a:pt x="1017" y="228"/>
                </a:lnTo>
                <a:lnTo>
                  <a:pt x="1023" y="227"/>
                </a:lnTo>
                <a:lnTo>
                  <a:pt x="1029" y="226"/>
                </a:lnTo>
                <a:lnTo>
                  <a:pt x="1036" y="225"/>
                </a:lnTo>
                <a:lnTo>
                  <a:pt x="1042" y="223"/>
                </a:lnTo>
                <a:lnTo>
                  <a:pt x="1034" y="212"/>
                </a:lnTo>
                <a:lnTo>
                  <a:pt x="1029" y="199"/>
                </a:lnTo>
                <a:lnTo>
                  <a:pt x="1026" y="188"/>
                </a:lnTo>
                <a:lnTo>
                  <a:pt x="1016" y="176"/>
                </a:lnTo>
                <a:lnTo>
                  <a:pt x="1015" y="154"/>
                </a:lnTo>
                <a:lnTo>
                  <a:pt x="1019" y="131"/>
                </a:lnTo>
                <a:lnTo>
                  <a:pt x="1024" y="111"/>
                </a:lnTo>
                <a:lnTo>
                  <a:pt x="1034" y="91"/>
                </a:lnTo>
                <a:lnTo>
                  <a:pt x="1046" y="72"/>
                </a:lnTo>
                <a:lnTo>
                  <a:pt x="1061" y="56"/>
                </a:lnTo>
                <a:lnTo>
                  <a:pt x="1079" y="43"/>
                </a:lnTo>
                <a:lnTo>
                  <a:pt x="1098" y="31"/>
                </a:lnTo>
                <a:lnTo>
                  <a:pt x="1105" y="28"/>
                </a:lnTo>
                <a:lnTo>
                  <a:pt x="1113" y="24"/>
                </a:lnTo>
                <a:lnTo>
                  <a:pt x="1120" y="22"/>
                </a:lnTo>
                <a:lnTo>
                  <a:pt x="1127" y="18"/>
                </a:lnTo>
                <a:lnTo>
                  <a:pt x="1135" y="15"/>
                </a:lnTo>
                <a:lnTo>
                  <a:pt x="1143" y="13"/>
                </a:lnTo>
                <a:lnTo>
                  <a:pt x="1151" y="10"/>
                </a:lnTo>
                <a:lnTo>
                  <a:pt x="1159" y="8"/>
                </a:lnTo>
                <a:lnTo>
                  <a:pt x="1179" y="6"/>
                </a:lnTo>
                <a:lnTo>
                  <a:pt x="1197" y="3"/>
                </a:lnTo>
                <a:lnTo>
                  <a:pt x="1217" y="1"/>
                </a:lnTo>
                <a:lnTo>
                  <a:pt x="1236" y="0"/>
                </a:lnTo>
                <a:lnTo>
                  <a:pt x="1256" y="0"/>
                </a:lnTo>
                <a:lnTo>
                  <a:pt x="1277" y="2"/>
                </a:lnTo>
                <a:lnTo>
                  <a:pt x="1296" y="6"/>
                </a:lnTo>
                <a:lnTo>
                  <a:pt x="1316" y="11"/>
                </a:lnTo>
                <a:lnTo>
                  <a:pt x="1322" y="13"/>
                </a:lnTo>
                <a:lnTo>
                  <a:pt x="1326" y="13"/>
                </a:lnTo>
                <a:lnTo>
                  <a:pt x="1332" y="14"/>
                </a:lnTo>
                <a:lnTo>
                  <a:pt x="1338" y="16"/>
                </a:lnTo>
                <a:lnTo>
                  <a:pt x="1344" y="17"/>
                </a:lnTo>
                <a:lnTo>
                  <a:pt x="1349" y="19"/>
                </a:lnTo>
                <a:lnTo>
                  <a:pt x="1354" y="22"/>
                </a:lnTo>
                <a:lnTo>
                  <a:pt x="1360" y="2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534000" y="1209600"/>
            <a:ext cx="262080" cy="268200"/>
          </a:xfrm>
          <a:custGeom>
            <a:avLst/>
            <a:gdLst/>
            <a:ahLst/>
            <a:rect l="l" t="t" r="r" b="b"/>
            <a:pathLst>
              <a:path w="1080" h="1005">
                <a:moveTo>
                  <a:pt x="495" y="17"/>
                </a:moveTo>
                <a:lnTo>
                  <a:pt x="508" y="36"/>
                </a:lnTo>
                <a:lnTo>
                  <a:pt x="510" y="57"/>
                </a:lnTo>
                <a:lnTo>
                  <a:pt x="506" y="76"/>
                </a:lnTo>
                <a:lnTo>
                  <a:pt x="498" y="97"/>
                </a:lnTo>
                <a:lnTo>
                  <a:pt x="492" y="118"/>
                </a:lnTo>
                <a:lnTo>
                  <a:pt x="491" y="137"/>
                </a:lnTo>
                <a:lnTo>
                  <a:pt x="498" y="156"/>
                </a:lnTo>
                <a:lnTo>
                  <a:pt x="517" y="173"/>
                </a:lnTo>
                <a:lnTo>
                  <a:pt x="539" y="180"/>
                </a:lnTo>
                <a:lnTo>
                  <a:pt x="561" y="182"/>
                </a:lnTo>
                <a:lnTo>
                  <a:pt x="583" y="180"/>
                </a:lnTo>
                <a:lnTo>
                  <a:pt x="603" y="175"/>
                </a:lnTo>
                <a:lnTo>
                  <a:pt x="623" y="167"/>
                </a:lnTo>
                <a:lnTo>
                  <a:pt x="644" y="159"/>
                </a:lnTo>
                <a:lnTo>
                  <a:pt x="664" y="151"/>
                </a:lnTo>
                <a:lnTo>
                  <a:pt x="684" y="144"/>
                </a:lnTo>
                <a:lnTo>
                  <a:pt x="691" y="138"/>
                </a:lnTo>
                <a:lnTo>
                  <a:pt x="697" y="134"/>
                </a:lnTo>
                <a:lnTo>
                  <a:pt x="704" y="130"/>
                </a:lnTo>
                <a:lnTo>
                  <a:pt x="711" y="126"/>
                </a:lnTo>
                <a:lnTo>
                  <a:pt x="718" y="122"/>
                </a:lnTo>
                <a:lnTo>
                  <a:pt x="725" y="119"/>
                </a:lnTo>
                <a:lnTo>
                  <a:pt x="732" y="115"/>
                </a:lnTo>
                <a:lnTo>
                  <a:pt x="739" y="112"/>
                </a:lnTo>
                <a:lnTo>
                  <a:pt x="741" y="114"/>
                </a:lnTo>
                <a:lnTo>
                  <a:pt x="744" y="115"/>
                </a:lnTo>
                <a:lnTo>
                  <a:pt x="747" y="115"/>
                </a:lnTo>
                <a:lnTo>
                  <a:pt x="749" y="114"/>
                </a:lnTo>
                <a:lnTo>
                  <a:pt x="755" y="130"/>
                </a:lnTo>
                <a:lnTo>
                  <a:pt x="763" y="145"/>
                </a:lnTo>
                <a:lnTo>
                  <a:pt x="772" y="160"/>
                </a:lnTo>
                <a:lnTo>
                  <a:pt x="781" y="175"/>
                </a:lnTo>
                <a:lnTo>
                  <a:pt x="792" y="189"/>
                </a:lnTo>
                <a:lnTo>
                  <a:pt x="802" y="204"/>
                </a:lnTo>
                <a:lnTo>
                  <a:pt x="811" y="218"/>
                </a:lnTo>
                <a:lnTo>
                  <a:pt x="820" y="233"/>
                </a:lnTo>
                <a:lnTo>
                  <a:pt x="828" y="245"/>
                </a:lnTo>
                <a:lnTo>
                  <a:pt x="835" y="258"/>
                </a:lnTo>
                <a:lnTo>
                  <a:pt x="841" y="272"/>
                </a:lnTo>
                <a:lnTo>
                  <a:pt x="847" y="286"/>
                </a:lnTo>
                <a:lnTo>
                  <a:pt x="850" y="300"/>
                </a:lnTo>
                <a:lnTo>
                  <a:pt x="855" y="313"/>
                </a:lnTo>
                <a:lnTo>
                  <a:pt x="858" y="328"/>
                </a:lnTo>
                <a:lnTo>
                  <a:pt x="863" y="342"/>
                </a:lnTo>
                <a:lnTo>
                  <a:pt x="860" y="353"/>
                </a:lnTo>
                <a:lnTo>
                  <a:pt x="853" y="361"/>
                </a:lnTo>
                <a:lnTo>
                  <a:pt x="845" y="368"/>
                </a:lnTo>
                <a:lnTo>
                  <a:pt x="835" y="372"/>
                </a:lnTo>
                <a:lnTo>
                  <a:pt x="818" y="373"/>
                </a:lnTo>
                <a:lnTo>
                  <a:pt x="803" y="370"/>
                </a:lnTo>
                <a:lnTo>
                  <a:pt x="788" y="363"/>
                </a:lnTo>
                <a:lnTo>
                  <a:pt x="774" y="356"/>
                </a:lnTo>
                <a:lnTo>
                  <a:pt x="760" y="348"/>
                </a:lnTo>
                <a:lnTo>
                  <a:pt x="746" y="343"/>
                </a:lnTo>
                <a:lnTo>
                  <a:pt x="728" y="341"/>
                </a:lnTo>
                <a:lnTo>
                  <a:pt x="710" y="343"/>
                </a:lnTo>
                <a:lnTo>
                  <a:pt x="702" y="346"/>
                </a:lnTo>
                <a:lnTo>
                  <a:pt x="693" y="349"/>
                </a:lnTo>
                <a:lnTo>
                  <a:pt x="684" y="353"/>
                </a:lnTo>
                <a:lnTo>
                  <a:pt x="678" y="357"/>
                </a:lnTo>
                <a:lnTo>
                  <a:pt x="669" y="363"/>
                </a:lnTo>
                <a:lnTo>
                  <a:pt x="664" y="370"/>
                </a:lnTo>
                <a:lnTo>
                  <a:pt x="659" y="378"/>
                </a:lnTo>
                <a:lnTo>
                  <a:pt x="656" y="386"/>
                </a:lnTo>
                <a:lnTo>
                  <a:pt x="644" y="417"/>
                </a:lnTo>
                <a:lnTo>
                  <a:pt x="644" y="449"/>
                </a:lnTo>
                <a:lnTo>
                  <a:pt x="651" y="483"/>
                </a:lnTo>
                <a:lnTo>
                  <a:pt x="663" y="515"/>
                </a:lnTo>
                <a:lnTo>
                  <a:pt x="678" y="532"/>
                </a:lnTo>
                <a:lnTo>
                  <a:pt x="694" y="548"/>
                </a:lnTo>
                <a:lnTo>
                  <a:pt x="710" y="562"/>
                </a:lnTo>
                <a:lnTo>
                  <a:pt x="728" y="575"/>
                </a:lnTo>
                <a:lnTo>
                  <a:pt x="748" y="584"/>
                </a:lnTo>
                <a:lnTo>
                  <a:pt x="769" y="591"/>
                </a:lnTo>
                <a:lnTo>
                  <a:pt x="790" y="593"/>
                </a:lnTo>
                <a:lnTo>
                  <a:pt x="815" y="591"/>
                </a:lnTo>
                <a:lnTo>
                  <a:pt x="830" y="587"/>
                </a:lnTo>
                <a:lnTo>
                  <a:pt x="842" y="578"/>
                </a:lnTo>
                <a:lnTo>
                  <a:pt x="854" y="569"/>
                </a:lnTo>
                <a:lnTo>
                  <a:pt x="865" y="559"/>
                </a:lnTo>
                <a:lnTo>
                  <a:pt x="875" y="547"/>
                </a:lnTo>
                <a:lnTo>
                  <a:pt x="884" y="535"/>
                </a:lnTo>
                <a:lnTo>
                  <a:pt x="893" y="522"/>
                </a:lnTo>
                <a:lnTo>
                  <a:pt x="902" y="510"/>
                </a:lnTo>
                <a:lnTo>
                  <a:pt x="907" y="512"/>
                </a:lnTo>
                <a:lnTo>
                  <a:pt x="910" y="510"/>
                </a:lnTo>
                <a:lnTo>
                  <a:pt x="914" y="507"/>
                </a:lnTo>
                <a:lnTo>
                  <a:pt x="915" y="504"/>
                </a:lnTo>
                <a:lnTo>
                  <a:pt x="939" y="504"/>
                </a:lnTo>
                <a:lnTo>
                  <a:pt x="959" y="510"/>
                </a:lnTo>
                <a:lnTo>
                  <a:pt x="976" y="522"/>
                </a:lnTo>
                <a:lnTo>
                  <a:pt x="991" y="537"/>
                </a:lnTo>
                <a:lnTo>
                  <a:pt x="1004" y="555"/>
                </a:lnTo>
                <a:lnTo>
                  <a:pt x="1015" y="575"/>
                </a:lnTo>
                <a:lnTo>
                  <a:pt x="1027" y="595"/>
                </a:lnTo>
                <a:lnTo>
                  <a:pt x="1038" y="612"/>
                </a:lnTo>
                <a:lnTo>
                  <a:pt x="1042" y="623"/>
                </a:lnTo>
                <a:lnTo>
                  <a:pt x="1047" y="634"/>
                </a:lnTo>
                <a:lnTo>
                  <a:pt x="1053" y="645"/>
                </a:lnTo>
                <a:lnTo>
                  <a:pt x="1060" y="656"/>
                </a:lnTo>
                <a:lnTo>
                  <a:pt x="1066" y="666"/>
                </a:lnTo>
                <a:lnTo>
                  <a:pt x="1073" y="676"/>
                </a:lnTo>
                <a:lnTo>
                  <a:pt x="1077" y="688"/>
                </a:lnTo>
                <a:lnTo>
                  <a:pt x="1080" y="699"/>
                </a:lnTo>
                <a:lnTo>
                  <a:pt x="1067" y="703"/>
                </a:lnTo>
                <a:lnTo>
                  <a:pt x="1054" y="707"/>
                </a:lnTo>
                <a:lnTo>
                  <a:pt x="1043" y="713"/>
                </a:lnTo>
                <a:lnTo>
                  <a:pt x="1031" y="719"/>
                </a:lnTo>
                <a:lnTo>
                  <a:pt x="1020" y="726"/>
                </a:lnTo>
                <a:lnTo>
                  <a:pt x="1008" y="732"/>
                </a:lnTo>
                <a:lnTo>
                  <a:pt x="996" y="737"/>
                </a:lnTo>
                <a:lnTo>
                  <a:pt x="984" y="743"/>
                </a:lnTo>
                <a:lnTo>
                  <a:pt x="964" y="754"/>
                </a:lnTo>
                <a:lnTo>
                  <a:pt x="944" y="765"/>
                </a:lnTo>
                <a:lnTo>
                  <a:pt x="924" y="778"/>
                </a:lnTo>
                <a:lnTo>
                  <a:pt x="904" y="788"/>
                </a:lnTo>
                <a:lnTo>
                  <a:pt x="884" y="800"/>
                </a:lnTo>
                <a:lnTo>
                  <a:pt x="864" y="809"/>
                </a:lnTo>
                <a:lnTo>
                  <a:pt x="842" y="818"/>
                </a:lnTo>
                <a:lnTo>
                  <a:pt x="820" y="824"/>
                </a:lnTo>
                <a:lnTo>
                  <a:pt x="812" y="823"/>
                </a:lnTo>
                <a:lnTo>
                  <a:pt x="805" y="822"/>
                </a:lnTo>
                <a:lnTo>
                  <a:pt x="799" y="819"/>
                </a:lnTo>
                <a:lnTo>
                  <a:pt x="794" y="812"/>
                </a:lnTo>
                <a:lnTo>
                  <a:pt x="797" y="805"/>
                </a:lnTo>
                <a:lnTo>
                  <a:pt x="797" y="799"/>
                </a:lnTo>
                <a:lnTo>
                  <a:pt x="796" y="792"/>
                </a:lnTo>
                <a:lnTo>
                  <a:pt x="799" y="785"/>
                </a:lnTo>
                <a:lnTo>
                  <a:pt x="804" y="773"/>
                </a:lnTo>
                <a:lnTo>
                  <a:pt x="809" y="760"/>
                </a:lnTo>
                <a:lnTo>
                  <a:pt x="810" y="748"/>
                </a:lnTo>
                <a:lnTo>
                  <a:pt x="805" y="735"/>
                </a:lnTo>
                <a:lnTo>
                  <a:pt x="803" y="728"/>
                </a:lnTo>
                <a:lnTo>
                  <a:pt x="799" y="720"/>
                </a:lnTo>
                <a:lnTo>
                  <a:pt x="794" y="714"/>
                </a:lnTo>
                <a:lnTo>
                  <a:pt x="788" y="707"/>
                </a:lnTo>
                <a:lnTo>
                  <a:pt x="781" y="703"/>
                </a:lnTo>
                <a:lnTo>
                  <a:pt x="774" y="698"/>
                </a:lnTo>
                <a:lnTo>
                  <a:pt x="766" y="695"/>
                </a:lnTo>
                <a:lnTo>
                  <a:pt x="759" y="693"/>
                </a:lnTo>
                <a:lnTo>
                  <a:pt x="749" y="687"/>
                </a:lnTo>
                <a:lnTo>
                  <a:pt x="739" y="684"/>
                </a:lnTo>
                <a:lnTo>
                  <a:pt x="727" y="682"/>
                </a:lnTo>
                <a:lnTo>
                  <a:pt x="716" y="682"/>
                </a:lnTo>
                <a:lnTo>
                  <a:pt x="703" y="683"/>
                </a:lnTo>
                <a:lnTo>
                  <a:pt x="691" y="683"/>
                </a:lnTo>
                <a:lnTo>
                  <a:pt x="679" y="684"/>
                </a:lnTo>
                <a:lnTo>
                  <a:pt x="666" y="686"/>
                </a:lnTo>
                <a:lnTo>
                  <a:pt x="642" y="693"/>
                </a:lnTo>
                <a:lnTo>
                  <a:pt x="619" y="701"/>
                </a:lnTo>
                <a:lnTo>
                  <a:pt x="596" y="710"/>
                </a:lnTo>
                <a:lnTo>
                  <a:pt x="573" y="721"/>
                </a:lnTo>
                <a:lnTo>
                  <a:pt x="551" y="734"/>
                </a:lnTo>
                <a:lnTo>
                  <a:pt x="531" y="750"/>
                </a:lnTo>
                <a:lnTo>
                  <a:pt x="513" y="767"/>
                </a:lnTo>
                <a:lnTo>
                  <a:pt x="497" y="787"/>
                </a:lnTo>
                <a:lnTo>
                  <a:pt x="493" y="809"/>
                </a:lnTo>
                <a:lnTo>
                  <a:pt x="495" y="832"/>
                </a:lnTo>
                <a:lnTo>
                  <a:pt x="502" y="855"/>
                </a:lnTo>
                <a:lnTo>
                  <a:pt x="514" y="875"/>
                </a:lnTo>
                <a:lnTo>
                  <a:pt x="551" y="906"/>
                </a:lnTo>
                <a:lnTo>
                  <a:pt x="546" y="916"/>
                </a:lnTo>
                <a:lnTo>
                  <a:pt x="542" y="925"/>
                </a:lnTo>
                <a:lnTo>
                  <a:pt x="534" y="933"/>
                </a:lnTo>
                <a:lnTo>
                  <a:pt x="524" y="939"/>
                </a:lnTo>
                <a:lnTo>
                  <a:pt x="513" y="948"/>
                </a:lnTo>
                <a:lnTo>
                  <a:pt x="499" y="958"/>
                </a:lnTo>
                <a:lnTo>
                  <a:pt x="485" y="966"/>
                </a:lnTo>
                <a:lnTo>
                  <a:pt x="471" y="972"/>
                </a:lnTo>
                <a:lnTo>
                  <a:pt x="456" y="979"/>
                </a:lnTo>
                <a:lnTo>
                  <a:pt x="443" y="987"/>
                </a:lnTo>
                <a:lnTo>
                  <a:pt x="429" y="996"/>
                </a:lnTo>
                <a:lnTo>
                  <a:pt x="415" y="1005"/>
                </a:lnTo>
                <a:lnTo>
                  <a:pt x="407" y="1005"/>
                </a:lnTo>
                <a:lnTo>
                  <a:pt x="396" y="987"/>
                </a:lnTo>
                <a:lnTo>
                  <a:pt x="387" y="971"/>
                </a:lnTo>
                <a:lnTo>
                  <a:pt x="378" y="954"/>
                </a:lnTo>
                <a:lnTo>
                  <a:pt x="370" y="936"/>
                </a:lnTo>
                <a:lnTo>
                  <a:pt x="362" y="918"/>
                </a:lnTo>
                <a:lnTo>
                  <a:pt x="355" y="901"/>
                </a:lnTo>
                <a:lnTo>
                  <a:pt x="348" y="883"/>
                </a:lnTo>
                <a:lnTo>
                  <a:pt x="342" y="864"/>
                </a:lnTo>
                <a:lnTo>
                  <a:pt x="337" y="854"/>
                </a:lnTo>
                <a:lnTo>
                  <a:pt x="332" y="843"/>
                </a:lnTo>
                <a:lnTo>
                  <a:pt x="325" y="833"/>
                </a:lnTo>
                <a:lnTo>
                  <a:pt x="319" y="823"/>
                </a:lnTo>
                <a:lnTo>
                  <a:pt x="311" y="813"/>
                </a:lnTo>
                <a:lnTo>
                  <a:pt x="302" y="807"/>
                </a:lnTo>
                <a:lnTo>
                  <a:pt x="292" y="801"/>
                </a:lnTo>
                <a:lnTo>
                  <a:pt x="279" y="797"/>
                </a:lnTo>
                <a:lnTo>
                  <a:pt x="272" y="796"/>
                </a:lnTo>
                <a:lnTo>
                  <a:pt x="264" y="796"/>
                </a:lnTo>
                <a:lnTo>
                  <a:pt x="256" y="796"/>
                </a:lnTo>
                <a:lnTo>
                  <a:pt x="248" y="796"/>
                </a:lnTo>
                <a:lnTo>
                  <a:pt x="240" y="797"/>
                </a:lnTo>
                <a:lnTo>
                  <a:pt x="233" y="800"/>
                </a:lnTo>
                <a:lnTo>
                  <a:pt x="227" y="804"/>
                </a:lnTo>
                <a:lnTo>
                  <a:pt x="221" y="810"/>
                </a:lnTo>
                <a:lnTo>
                  <a:pt x="214" y="820"/>
                </a:lnTo>
                <a:lnTo>
                  <a:pt x="209" y="833"/>
                </a:lnTo>
                <a:lnTo>
                  <a:pt x="205" y="846"/>
                </a:lnTo>
                <a:lnTo>
                  <a:pt x="202" y="857"/>
                </a:lnTo>
                <a:lnTo>
                  <a:pt x="198" y="870"/>
                </a:lnTo>
                <a:lnTo>
                  <a:pt x="191" y="879"/>
                </a:lnTo>
                <a:lnTo>
                  <a:pt x="182" y="887"/>
                </a:lnTo>
                <a:lnTo>
                  <a:pt x="168" y="892"/>
                </a:lnTo>
                <a:lnTo>
                  <a:pt x="148" y="888"/>
                </a:lnTo>
                <a:lnTo>
                  <a:pt x="127" y="883"/>
                </a:lnTo>
                <a:lnTo>
                  <a:pt x="108" y="875"/>
                </a:lnTo>
                <a:lnTo>
                  <a:pt x="90" y="864"/>
                </a:lnTo>
                <a:lnTo>
                  <a:pt x="72" y="852"/>
                </a:lnTo>
                <a:lnTo>
                  <a:pt x="55" y="838"/>
                </a:lnTo>
                <a:lnTo>
                  <a:pt x="42" y="823"/>
                </a:lnTo>
                <a:lnTo>
                  <a:pt x="28" y="807"/>
                </a:lnTo>
                <a:lnTo>
                  <a:pt x="19" y="789"/>
                </a:lnTo>
                <a:lnTo>
                  <a:pt x="12" y="772"/>
                </a:lnTo>
                <a:lnTo>
                  <a:pt x="5" y="754"/>
                </a:lnTo>
                <a:lnTo>
                  <a:pt x="1" y="735"/>
                </a:lnTo>
                <a:lnTo>
                  <a:pt x="0" y="717"/>
                </a:lnTo>
                <a:lnTo>
                  <a:pt x="2" y="697"/>
                </a:lnTo>
                <a:lnTo>
                  <a:pt x="8" y="680"/>
                </a:lnTo>
                <a:lnTo>
                  <a:pt x="17" y="661"/>
                </a:lnTo>
                <a:lnTo>
                  <a:pt x="34" y="648"/>
                </a:lnTo>
                <a:lnTo>
                  <a:pt x="50" y="641"/>
                </a:lnTo>
                <a:lnTo>
                  <a:pt x="67" y="641"/>
                </a:lnTo>
                <a:lnTo>
                  <a:pt x="85" y="644"/>
                </a:lnTo>
                <a:lnTo>
                  <a:pt x="103" y="649"/>
                </a:lnTo>
                <a:lnTo>
                  <a:pt x="121" y="651"/>
                </a:lnTo>
                <a:lnTo>
                  <a:pt x="139" y="649"/>
                </a:lnTo>
                <a:lnTo>
                  <a:pt x="157" y="640"/>
                </a:lnTo>
                <a:lnTo>
                  <a:pt x="172" y="616"/>
                </a:lnTo>
                <a:lnTo>
                  <a:pt x="178" y="591"/>
                </a:lnTo>
                <a:lnTo>
                  <a:pt x="176" y="563"/>
                </a:lnTo>
                <a:lnTo>
                  <a:pt x="172" y="539"/>
                </a:lnTo>
                <a:lnTo>
                  <a:pt x="167" y="528"/>
                </a:lnTo>
                <a:lnTo>
                  <a:pt x="163" y="516"/>
                </a:lnTo>
                <a:lnTo>
                  <a:pt x="157" y="505"/>
                </a:lnTo>
                <a:lnTo>
                  <a:pt x="152" y="493"/>
                </a:lnTo>
                <a:lnTo>
                  <a:pt x="146" y="482"/>
                </a:lnTo>
                <a:lnTo>
                  <a:pt x="139" y="470"/>
                </a:lnTo>
                <a:lnTo>
                  <a:pt x="133" y="459"/>
                </a:lnTo>
                <a:lnTo>
                  <a:pt x="126" y="448"/>
                </a:lnTo>
                <a:lnTo>
                  <a:pt x="119" y="441"/>
                </a:lnTo>
                <a:lnTo>
                  <a:pt x="115" y="432"/>
                </a:lnTo>
                <a:lnTo>
                  <a:pt x="112" y="423"/>
                </a:lnTo>
                <a:lnTo>
                  <a:pt x="105" y="415"/>
                </a:lnTo>
                <a:lnTo>
                  <a:pt x="101" y="399"/>
                </a:lnTo>
                <a:lnTo>
                  <a:pt x="114" y="392"/>
                </a:lnTo>
                <a:lnTo>
                  <a:pt x="128" y="386"/>
                </a:lnTo>
                <a:lnTo>
                  <a:pt x="141" y="379"/>
                </a:lnTo>
                <a:lnTo>
                  <a:pt x="153" y="372"/>
                </a:lnTo>
                <a:lnTo>
                  <a:pt x="167" y="365"/>
                </a:lnTo>
                <a:lnTo>
                  <a:pt x="180" y="358"/>
                </a:lnTo>
                <a:lnTo>
                  <a:pt x="194" y="351"/>
                </a:lnTo>
                <a:lnTo>
                  <a:pt x="206" y="345"/>
                </a:lnTo>
                <a:lnTo>
                  <a:pt x="220" y="338"/>
                </a:lnTo>
                <a:lnTo>
                  <a:pt x="233" y="331"/>
                </a:lnTo>
                <a:lnTo>
                  <a:pt x="247" y="324"/>
                </a:lnTo>
                <a:lnTo>
                  <a:pt x="260" y="316"/>
                </a:lnTo>
                <a:lnTo>
                  <a:pt x="273" y="309"/>
                </a:lnTo>
                <a:lnTo>
                  <a:pt x="287" y="302"/>
                </a:lnTo>
                <a:lnTo>
                  <a:pt x="300" y="295"/>
                </a:lnTo>
                <a:lnTo>
                  <a:pt x="313" y="288"/>
                </a:lnTo>
                <a:lnTo>
                  <a:pt x="325" y="278"/>
                </a:lnTo>
                <a:lnTo>
                  <a:pt x="332" y="265"/>
                </a:lnTo>
                <a:lnTo>
                  <a:pt x="334" y="251"/>
                </a:lnTo>
                <a:lnTo>
                  <a:pt x="335" y="237"/>
                </a:lnTo>
                <a:lnTo>
                  <a:pt x="328" y="226"/>
                </a:lnTo>
                <a:lnTo>
                  <a:pt x="320" y="213"/>
                </a:lnTo>
                <a:lnTo>
                  <a:pt x="312" y="203"/>
                </a:lnTo>
                <a:lnTo>
                  <a:pt x="303" y="191"/>
                </a:lnTo>
                <a:lnTo>
                  <a:pt x="292" y="183"/>
                </a:lnTo>
                <a:lnTo>
                  <a:pt x="280" y="176"/>
                </a:lnTo>
                <a:lnTo>
                  <a:pt x="267" y="172"/>
                </a:lnTo>
                <a:lnTo>
                  <a:pt x="252" y="171"/>
                </a:lnTo>
                <a:lnTo>
                  <a:pt x="243" y="160"/>
                </a:lnTo>
                <a:lnTo>
                  <a:pt x="235" y="148"/>
                </a:lnTo>
                <a:lnTo>
                  <a:pt x="232" y="133"/>
                </a:lnTo>
                <a:lnTo>
                  <a:pt x="234" y="116"/>
                </a:lnTo>
                <a:lnTo>
                  <a:pt x="242" y="104"/>
                </a:lnTo>
                <a:lnTo>
                  <a:pt x="250" y="91"/>
                </a:lnTo>
                <a:lnTo>
                  <a:pt x="259" y="78"/>
                </a:lnTo>
                <a:lnTo>
                  <a:pt x="269" y="68"/>
                </a:lnTo>
                <a:lnTo>
                  <a:pt x="280" y="58"/>
                </a:lnTo>
                <a:lnTo>
                  <a:pt x="290" y="48"/>
                </a:lnTo>
                <a:lnTo>
                  <a:pt x="303" y="39"/>
                </a:lnTo>
                <a:lnTo>
                  <a:pt x="315" y="32"/>
                </a:lnTo>
                <a:lnTo>
                  <a:pt x="328" y="25"/>
                </a:lnTo>
                <a:lnTo>
                  <a:pt x="341" y="19"/>
                </a:lnTo>
                <a:lnTo>
                  <a:pt x="355" y="14"/>
                </a:lnTo>
                <a:lnTo>
                  <a:pt x="370" y="9"/>
                </a:lnTo>
                <a:lnTo>
                  <a:pt x="384" y="6"/>
                </a:lnTo>
                <a:lnTo>
                  <a:pt x="399" y="2"/>
                </a:lnTo>
                <a:lnTo>
                  <a:pt x="415" y="1"/>
                </a:lnTo>
                <a:lnTo>
                  <a:pt x="430" y="0"/>
                </a:lnTo>
                <a:lnTo>
                  <a:pt x="438" y="0"/>
                </a:lnTo>
                <a:lnTo>
                  <a:pt x="446" y="1"/>
                </a:lnTo>
                <a:lnTo>
                  <a:pt x="455" y="4"/>
                </a:lnTo>
                <a:lnTo>
                  <a:pt x="463" y="5"/>
                </a:lnTo>
                <a:lnTo>
                  <a:pt x="471" y="8"/>
                </a:lnTo>
                <a:lnTo>
                  <a:pt x="479" y="10"/>
                </a:lnTo>
                <a:lnTo>
                  <a:pt x="487" y="14"/>
                </a:lnTo>
                <a:lnTo>
                  <a:pt x="495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581880" y="1214280"/>
            <a:ext cx="15840" cy="9720"/>
          </a:xfrm>
          <a:custGeom>
            <a:avLst/>
            <a:gdLst/>
            <a:ahLst/>
            <a:rect l="l" t="t" r="r" b="b"/>
            <a:pathLst>
              <a:path w="65" h="40">
                <a:moveTo>
                  <a:pt x="65" y="25"/>
                </a:moveTo>
                <a:lnTo>
                  <a:pt x="62" y="30"/>
                </a:lnTo>
                <a:lnTo>
                  <a:pt x="60" y="35"/>
                </a:lnTo>
                <a:lnTo>
                  <a:pt x="57" y="37"/>
                </a:lnTo>
                <a:lnTo>
                  <a:pt x="52" y="40"/>
                </a:lnTo>
                <a:lnTo>
                  <a:pt x="44" y="38"/>
                </a:lnTo>
                <a:lnTo>
                  <a:pt x="36" y="35"/>
                </a:lnTo>
                <a:lnTo>
                  <a:pt x="27" y="32"/>
                </a:lnTo>
                <a:lnTo>
                  <a:pt x="19" y="29"/>
                </a:lnTo>
                <a:lnTo>
                  <a:pt x="11" y="24"/>
                </a:lnTo>
                <a:lnTo>
                  <a:pt x="5" y="18"/>
                </a:lnTo>
                <a:lnTo>
                  <a:pt x="1" y="10"/>
                </a:lnTo>
                <a:lnTo>
                  <a:pt x="0" y="0"/>
                </a:lnTo>
                <a:lnTo>
                  <a:pt x="7" y="6"/>
                </a:lnTo>
                <a:lnTo>
                  <a:pt x="14" y="10"/>
                </a:lnTo>
                <a:lnTo>
                  <a:pt x="22" y="14"/>
                </a:lnTo>
                <a:lnTo>
                  <a:pt x="31" y="16"/>
                </a:lnTo>
                <a:lnTo>
                  <a:pt x="39" y="18"/>
                </a:lnTo>
                <a:lnTo>
                  <a:pt x="47" y="20"/>
                </a:lnTo>
                <a:lnTo>
                  <a:pt x="57" y="22"/>
                </a:lnTo>
                <a:lnTo>
                  <a:pt x="65" y="2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26160" y="1216080"/>
            <a:ext cx="1800" cy="1440"/>
          </a:xfrm>
          <a:custGeom>
            <a:avLst/>
            <a:gdLst/>
            <a:ahLst/>
            <a:rect l="l" t="t" r="r" b="b"/>
            <a:pathLst>
              <a:path w="7" h="3">
                <a:moveTo>
                  <a:pt x="7" y="3"/>
                </a:moveTo>
                <a:lnTo>
                  <a:pt x="0" y="0"/>
                </a:lnTo>
                <a:lnTo>
                  <a:pt x="4" y="0"/>
                </a:lnTo>
                <a:lnTo>
                  <a:pt x="7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642000" y="1217520"/>
            <a:ext cx="5040" cy="3240"/>
          </a:xfrm>
          <a:custGeom>
            <a:avLst/>
            <a:gdLst/>
            <a:ahLst/>
            <a:rect l="l" t="t" r="r" b="b"/>
            <a:pathLst>
              <a:path w="23" h="12">
                <a:moveTo>
                  <a:pt x="23" y="5"/>
                </a:moveTo>
                <a:lnTo>
                  <a:pt x="19" y="7"/>
                </a:lnTo>
                <a:lnTo>
                  <a:pt x="14" y="9"/>
                </a:lnTo>
                <a:lnTo>
                  <a:pt x="8" y="10"/>
                </a:lnTo>
                <a:lnTo>
                  <a:pt x="2" y="12"/>
                </a:lnTo>
                <a:lnTo>
                  <a:pt x="0" y="8"/>
                </a:lnTo>
                <a:lnTo>
                  <a:pt x="1" y="3"/>
                </a:lnTo>
                <a:lnTo>
                  <a:pt x="4" y="1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21" y="1"/>
                </a:lnTo>
                <a:lnTo>
                  <a:pt x="23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64320" y="1217520"/>
            <a:ext cx="20520" cy="4680"/>
          </a:xfrm>
          <a:custGeom>
            <a:avLst/>
            <a:gdLst/>
            <a:ahLst/>
            <a:rect l="l" t="t" r="r" b="b"/>
            <a:pathLst>
              <a:path w="82" h="18">
                <a:moveTo>
                  <a:pt x="82" y="5"/>
                </a:moveTo>
                <a:lnTo>
                  <a:pt x="82" y="7"/>
                </a:lnTo>
                <a:lnTo>
                  <a:pt x="82" y="9"/>
                </a:lnTo>
                <a:lnTo>
                  <a:pt x="80" y="13"/>
                </a:lnTo>
                <a:lnTo>
                  <a:pt x="78" y="15"/>
                </a:lnTo>
                <a:lnTo>
                  <a:pt x="7" y="18"/>
                </a:lnTo>
                <a:lnTo>
                  <a:pt x="3" y="15"/>
                </a:lnTo>
                <a:lnTo>
                  <a:pt x="0" y="9"/>
                </a:lnTo>
                <a:lnTo>
                  <a:pt x="0" y="5"/>
                </a:lnTo>
                <a:lnTo>
                  <a:pt x="3" y="0"/>
                </a:lnTo>
                <a:lnTo>
                  <a:pt x="12" y="1"/>
                </a:lnTo>
                <a:lnTo>
                  <a:pt x="22" y="1"/>
                </a:lnTo>
                <a:lnTo>
                  <a:pt x="33" y="1"/>
                </a:lnTo>
                <a:lnTo>
                  <a:pt x="43" y="0"/>
                </a:lnTo>
                <a:lnTo>
                  <a:pt x="53" y="0"/>
                </a:lnTo>
                <a:lnTo>
                  <a:pt x="64" y="0"/>
                </a:lnTo>
                <a:lnTo>
                  <a:pt x="73" y="1"/>
                </a:lnTo>
                <a:lnTo>
                  <a:pt x="82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18240" y="1219320"/>
            <a:ext cx="4680" cy="288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0"/>
                </a:moveTo>
                <a:lnTo>
                  <a:pt x="14" y="5"/>
                </a:lnTo>
                <a:lnTo>
                  <a:pt x="11" y="7"/>
                </a:lnTo>
                <a:lnTo>
                  <a:pt x="5" y="8"/>
                </a:lnTo>
                <a:lnTo>
                  <a:pt x="0" y="8"/>
                </a:lnTo>
                <a:lnTo>
                  <a:pt x="1" y="4"/>
                </a:lnTo>
                <a:lnTo>
                  <a:pt x="6" y="1"/>
                </a:lnTo>
                <a:lnTo>
                  <a:pt x="12" y="0"/>
                </a:lnTo>
                <a:lnTo>
                  <a:pt x="16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630840" y="1224000"/>
            <a:ext cx="5040" cy="3240"/>
          </a:xfrm>
          <a:custGeom>
            <a:avLst/>
            <a:gdLst/>
            <a:ahLst/>
            <a:rect l="l" t="t" r="r" b="b"/>
            <a:pathLst>
              <a:path w="15" h="13">
                <a:moveTo>
                  <a:pt x="14" y="0"/>
                </a:moveTo>
                <a:lnTo>
                  <a:pt x="15" y="5"/>
                </a:lnTo>
                <a:lnTo>
                  <a:pt x="13" y="8"/>
                </a:lnTo>
                <a:lnTo>
                  <a:pt x="10" y="10"/>
                </a:lnTo>
                <a:lnTo>
                  <a:pt x="6" y="13"/>
                </a:lnTo>
                <a:lnTo>
                  <a:pt x="0" y="7"/>
                </a:lnTo>
                <a:lnTo>
                  <a:pt x="1" y="2"/>
                </a:lnTo>
                <a:lnTo>
                  <a:pt x="6" y="0"/>
                </a:lnTo>
                <a:lnTo>
                  <a:pt x="11" y="0"/>
                </a:lnTo>
                <a:lnTo>
                  <a:pt x="1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608880" y="1224000"/>
            <a:ext cx="2880" cy="3240"/>
          </a:xfrm>
          <a:custGeom>
            <a:avLst/>
            <a:gdLst/>
            <a:ahLst/>
            <a:rect l="l" t="t" r="r" b="b"/>
            <a:pathLst>
              <a:path w="17" h="13">
                <a:moveTo>
                  <a:pt x="16" y="0"/>
                </a:moveTo>
                <a:lnTo>
                  <a:pt x="17" y="5"/>
                </a:lnTo>
                <a:lnTo>
                  <a:pt x="15" y="8"/>
                </a:lnTo>
                <a:lnTo>
                  <a:pt x="13" y="10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2" y="11"/>
                </a:lnTo>
                <a:lnTo>
                  <a:pt x="0" y="10"/>
                </a:lnTo>
                <a:lnTo>
                  <a:pt x="3" y="7"/>
                </a:lnTo>
                <a:lnTo>
                  <a:pt x="7" y="3"/>
                </a:lnTo>
                <a:lnTo>
                  <a:pt x="11" y="1"/>
                </a:lnTo>
                <a:lnTo>
                  <a:pt x="16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664320" y="1225440"/>
            <a:ext cx="23760" cy="5040"/>
          </a:xfrm>
          <a:custGeom>
            <a:avLst/>
            <a:gdLst/>
            <a:ahLst/>
            <a:rect l="l" t="t" r="r" b="b"/>
            <a:pathLst>
              <a:path w="98" h="21">
                <a:moveTo>
                  <a:pt x="98" y="9"/>
                </a:moveTo>
                <a:lnTo>
                  <a:pt x="97" y="14"/>
                </a:lnTo>
                <a:lnTo>
                  <a:pt x="94" y="16"/>
                </a:lnTo>
                <a:lnTo>
                  <a:pt x="88" y="16"/>
                </a:lnTo>
                <a:lnTo>
                  <a:pt x="82" y="16"/>
                </a:lnTo>
                <a:lnTo>
                  <a:pt x="73" y="17"/>
                </a:lnTo>
                <a:lnTo>
                  <a:pt x="63" y="18"/>
                </a:lnTo>
                <a:lnTo>
                  <a:pt x="53" y="18"/>
                </a:lnTo>
                <a:lnTo>
                  <a:pt x="45" y="18"/>
                </a:lnTo>
                <a:lnTo>
                  <a:pt x="36" y="18"/>
                </a:lnTo>
                <a:lnTo>
                  <a:pt x="27" y="18"/>
                </a:lnTo>
                <a:lnTo>
                  <a:pt x="17" y="20"/>
                </a:lnTo>
                <a:lnTo>
                  <a:pt x="7" y="21"/>
                </a:lnTo>
                <a:lnTo>
                  <a:pt x="4" y="17"/>
                </a:lnTo>
                <a:lnTo>
                  <a:pt x="2" y="13"/>
                </a:lnTo>
                <a:lnTo>
                  <a:pt x="0" y="8"/>
                </a:lnTo>
                <a:lnTo>
                  <a:pt x="3" y="5"/>
                </a:lnTo>
                <a:lnTo>
                  <a:pt x="12" y="5"/>
                </a:lnTo>
                <a:lnTo>
                  <a:pt x="22" y="3"/>
                </a:lnTo>
                <a:lnTo>
                  <a:pt x="32" y="2"/>
                </a:lnTo>
                <a:lnTo>
                  <a:pt x="42" y="1"/>
                </a:lnTo>
                <a:lnTo>
                  <a:pt x="51" y="0"/>
                </a:lnTo>
                <a:lnTo>
                  <a:pt x="61" y="0"/>
                </a:lnTo>
                <a:lnTo>
                  <a:pt x="71" y="2"/>
                </a:lnTo>
                <a:lnTo>
                  <a:pt x="81" y="6"/>
                </a:lnTo>
                <a:lnTo>
                  <a:pt x="86" y="6"/>
                </a:lnTo>
                <a:lnTo>
                  <a:pt x="89" y="6"/>
                </a:lnTo>
                <a:lnTo>
                  <a:pt x="94" y="7"/>
                </a:lnTo>
                <a:lnTo>
                  <a:pt x="98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228680"/>
            <a:ext cx="2880" cy="180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3"/>
                </a:moveTo>
                <a:lnTo>
                  <a:pt x="9" y="6"/>
                </a:lnTo>
                <a:lnTo>
                  <a:pt x="7" y="8"/>
                </a:lnTo>
                <a:lnTo>
                  <a:pt x="3" y="10"/>
                </a:lnTo>
                <a:lnTo>
                  <a:pt x="0" y="11"/>
                </a:lnTo>
                <a:lnTo>
                  <a:pt x="0" y="7"/>
                </a:lnTo>
                <a:lnTo>
                  <a:pt x="1" y="5"/>
                </a:lnTo>
                <a:lnTo>
                  <a:pt x="5" y="4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0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622920" y="1228680"/>
            <a:ext cx="1800" cy="1800"/>
          </a:xfrm>
          <a:custGeom>
            <a:avLst/>
            <a:gdLst/>
            <a:ahLst/>
            <a:rect l="l" t="t" r="r" b="b"/>
            <a:pathLst>
              <a:path w="11" h="8">
                <a:moveTo>
                  <a:pt x="8" y="0"/>
                </a:moveTo>
                <a:lnTo>
                  <a:pt x="8" y="1"/>
                </a:lnTo>
                <a:lnTo>
                  <a:pt x="8" y="2"/>
                </a:lnTo>
                <a:lnTo>
                  <a:pt x="10" y="3"/>
                </a:lnTo>
                <a:lnTo>
                  <a:pt x="11" y="3"/>
                </a:lnTo>
                <a:lnTo>
                  <a:pt x="8" y="5"/>
                </a:lnTo>
                <a:lnTo>
                  <a:pt x="6" y="5"/>
                </a:lnTo>
                <a:lnTo>
                  <a:pt x="3" y="7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635880" y="1231920"/>
            <a:ext cx="4680" cy="3240"/>
          </a:xfrm>
          <a:custGeom>
            <a:avLst/>
            <a:gdLst/>
            <a:ahLst/>
            <a:rect l="l" t="t" r="r" b="b"/>
            <a:pathLst>
              <a:path w="21" h="13">
                <a:moveTo>
                  <a:pt x="21" y="6"/>
                </a:moveTo>
                <a:lnTo>
                  <a:pt x="18" y="10"/>
                </a:lnTo>
                <a:lnTo>
                  <a:pt x="12" y="11"/>
                </a:lnTo>
                <a:lnTo>
                  <a:pt x="7" y="11"/>
                </a:lnTo>
                <a:lnTo>
                  <a:pt x="3" y="13"/>
                </a:lnTo>
                <a:lnTo>
                  <a:pt x="0" y="6"/>
                </a:lnTo>
                <a:lnTo>
                  <a:pt x="6" y="4"/>
                </a:lnTo>
                <a:lnTo>
                  <a:pt x="13" y="0"/>
                </a:lnTo>
                <a:lnTo>
                  <a:pt x="18" y="0"/>
                </a:lnTo>
                <a:lnTo>
                  <a:pt x="2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611760" y="1233360"/>
            <a:ext cx="5040" cy="3240"/>
          </a:xfrm>
          <a:custGeom>
            <a:avLst/>
            <a:gdLst/>
            <a:ahLst/>
            <a:rect l="l" t="t" r="r" b="b"/>
            <a:pathLst>
              <a:path w="17" h="12">
                <a:moveTo>
                  <a:pt x="17" y="2"/>
                </a:moveTo>
                <a:lnTo>
                  <a:pt x="5" y="12"/>
                </a:lnTo>
                <a:lnTo>
                  <a:pt x="0" y="8"/>
                </a:lnTo>
                <a:lnTo>
                  <a:pt x="3" y="5"/>
                </a:lnTo>
                <a:lnTo>
                  <a:pt x="7" y="1"/>
                </a:lnTo>
                <a:lnTo>
                  <a:pt x="13" y="0"/>
                </a:lnTo>
                <a:lnTo>
                  <a:pt x="17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662880" y="1236600"/>
            <a:ext cx="21960" cy="3240"/>
          </a:xfrm>
          <a:custGeom>
            <a:avLst/>
            <a:gdLst/>
            <a:ahLst/>
            <a:rect l="l" t="t" r="r" b="b"/>
            <a:pathLst>
              <a:path w="91" h="15">
                <a:moveTo>
                  <a:pt x="91" y="4"/>
                </a:moveTo>
                <a:lnTo>
                  <a:pt x="91" y="11"/>
                </a:lnTo>
                <a:lnTo>
                  <a:pt x="80" y="12"/>
                </a:lnTo>
                <a:lnTo>
                  <a:pt x="68" y="14"/>
                </a:lnTo>
                <a:lnTo>
                  <a:pt x="57" y="14"/>
                </a:lnTo>
                <a:lnTo>
                  <a:pt x="45" y="15"/>
                </a:lnTo>
                <a:lnTo>
                  <a:pt x="34" y="15"/>
                </a:lnTo>
                <a:lnTo>
                  <a:pt x="23" y="15"/>
                </a:lnTo>
                <a:lnTo>
                  <a:pt x="12" y="15"/>
                </a:lnTo>
                <a:lnTo>
                  <a:pt x="1" y="14"/>
                </a:lnTo>
                <a:lnTo>
                  <a:pt x="0" y="10"/>
                </a:lnTo>
                <a:lnTo>
                  <a:pt x="3" y="5"/>
                </a:lnTo>
                <a:lnTo>
                  <a:pt x="7" y="1"/>
                </a:lnTo>
                <a:lnTo>
                  <a:pt x="12" y="0"/>
                </a:lnTo>
                <a:lnTo>
                  <a:pt x="22" y="0"/>
                </a:lnTo>
                <a:lnTo>
                  <a:pt x="32" y="0"/>
                </a:lnTo>
                <a:lnTo>
                  <a:pt x="43" y="0"/>
                </a:lnTo>
                <a:lnTo>
                  <a:pt x="53" y="0"/>
                </a:lnTo>
                <a:lnTo>
                  <a:pt x="62" y="0"/>
                </a:lnTo>
                <a:lnTo>
                  <a:pt x="73" y="0"/>
                </a:lnTo>
                <a:lnTo>
                  <a:pt x="82" y="1"/>
                </a:lnTo>
                <a:lnTo>
                  <a:pt x="9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626160" y="1236600"/>
            <a:ext cx="3240" cy="4680"/>
          </a:xfrm>
          <a:custGeom>
            <a:avLst/>
            <a:gdLst/>
            <a:ahLst/>
            <a:rect l="l" t="t" r="r" b="b"/>
            <a:pathLst>
              <a:path w="16" h="14">
                <a:moveTo>
                  <a:pt x="16" y="8"/>
                </a:moveTo>
                <a:lnTo>
                  <a:pt x="12" y="9"/>
                </a:lnTo>
                <a:lnTo>
                  <a:pt x="8" y="11"/>
                </a:lnTo>
                <a:lnTo>
                  <a:pt x="5" y="14"/>
                </a:lnTo>
                <a:lnTo>
                  <a:pt x="0" y="12"/>
                </a:lnTo>
                <a:lnTo>
                  <a:pt x="13" y="0"/>
                </a:lnTo>
                <a:lnTo>
                  <a:pt x="14" y="2"/>
                </a:lnTo>
                <a:lnTo>
                  <a:pt x="16" y="3"/>
                </a:lnTo>
                <a:lnTo>
                  <a:pt x="16" y="6"/>
                </a:lnTo>
                <a:lnTo>
                  <a:pt x="16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603840" y="1238400"/>
            <a:ext cx="5040" cy="1440"/>
          </a:xfrm>
          <a:custGeom>
            <a:avLst/>
            <a:gdLst/>
            <a:ahLst/>
            <a:rect l="l" t="t" r="r" b="b"/>
            <a:pathLst>
              <a:path w="19" h="10">
                <a:moveTo>
                  <a:pt x="19" y="2"/>
                </a:moveTo>
                <a:lnTo>
                  <a:pt x="15" y="6"/>
                </a:lnTo>
                <a:lnTo>
                  <a:pt x="12" y="8"/>
                </a:lnTo>
                <a:lnTo>
                  <a:pt x="7" y="9"/>
                </a:lnTo>
                <a:lnTo>
                  <a:pt x="4" y="10"/>
                </a:lnTo>
                <a:lnTo>
                  <a:pt x="0" y="8"/>
                </a:lnTo>
                <a:lnTo>
                  <a:pt x="4" y="6"/>
                </a:lnTo>
                <a:lnTo>
                  <a:pt x="8" y="1"/>
                </a:lnTo>
                <a:lnTo>
                  <a:pt x="13" y="0"/>
                </a:lnTo>
                <a:lnTo>
                  <a:pt x="19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30920" y="1243080"/>
            <a:ext cx="17640" cy="4680"/>
          </a:xfrm>
          <a:custGeom>
            <a:avLst/>
            <a:gdLst/>
            <a:ahLst/>
            <a:rect l="l" t="t" r="r" b="b"/>
            <a:pathLst>
              <a:path w="73" h="17">
                <a:moveTo>
                  <a:pt x="73" y="13"/>
                </a:moveTo>
                <a:lnTo>
                  <a:pt x="64" y="15"/>
                </a:lnTo>
                <a:lnTo>
                  <a:pt x="54" y="16"/>
                </a:lnTo>
                <a:lnTo>
                  <a:pt x="45" y="17"/>
                </a:lnTo>
                <a:lnTo>
                  <a:pt x="36" y="17"/>
                </a:lnTo>
                <a:lnTo>
                  <a:pt x="27" y="17"/>
                </a:lnTo>
                <a:lnTo>
                  <a:pt x="18" y="16"/>
                </a:lnTo>
                <a:lnTo>
                  <a:pt x="8" y="13"/>
                </a:lnTo>
                <a:lnTo>
                  <a:pt x="0" y="9"/>
                </a:lnTo>
                <a:lnTo>
                  <a:pt x="0" y="2"/>
                </a:lnTo>
                <a:lnTo>
                  <a:pt x="8" y="1"/>
                </a:lnTo>
                <a:lnTo>
                  <a:pt x="16" y="0"/>
                </a:lnTo>
                <a:lnTo>
                  <a:pt x="25" y="0"/>
                </a:lnTo>
                <a:lnTo>
                  <a:pt x="33" y="1"/>
                </a:lnTo>
                <a:lnTo>
                  <a:pt x="41" y="2"/>
                </a:lnTo>
                <a:lnTo>
                  <a:pt x="49" y="4"/>
                </a:lnTo>
                <a:lnTo>
                  <a:pt x="57" y="5"/>
                </a:lnTo>
                <a:lnTo>
                  <a:pt x="65" y="5"/>
                </a:lnTo>
                <a:lnTo>
                  <a:pt x="73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95920" y="1243080"/>
            <a:ext cx="3240" cy="468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17"/>
                </a:moveTo>
                <a:lnTo>
                  <a:pt x="2" y="16"/>
                </a:lnTo>
                <a:lnTo>
                  <a:pt x="1" y="13"/>
                </a:lnTo>
                <a:lnTo>
                  <a:pt x="0" y="11"/>
                </a:lnTo>
                <a:lnTo>
                  <a:pt x="2" y="7"/>
                </a:lnTo>
                <a:lnTo>
                  <a:pt x="5" y="6"/>
                </a:lnTo>
                <a:lnTo>
                  <a:pt x="9" y="5"/>
                </a:lnTo>
                <a:lnTo>
                  <a:pt x="14" y="2"/>
                </a:lnTo>
                <a:lnTo>
                  <a:pt x="17" y="0"/>
                </a:lnTo>
                <a:lnTo>
                  <a:pt x="3" y="1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16800" y="1243080"/>
            <a:ext cx="4680" cy="3240"/>
          </a:xfrm>
          <a:custGeom>
            <a:avLst/>
            <a:gdLst/>
            <a:ahLst/>
            <a:rect l="l" t="t" r="r" b="b"/>
            <a:pathLst>
              <a:path w="16" h="13">
                <a:moveTo>
                  <a:pt x="16" y="2"/>
                </a:moveTo>
                <a:lnTo>
                  <a:pt x="15" y="6"/>
                </a:lnTo>
                <a:lnTo>
                  <a:pt x="11" y="9"/>
                </a:lnTo>
                <a:lnTo>
                  <a:pt x="6" y="12"/>
                </a:lnTo>
                <a:lnTo>
                  <a:pt x="2" y="13"/>
                </a:lnTo>
                <a:lnTo>
                  <a:pt x="0" y="8"/>
                </a:lnTo>
                <a:lnTo>
                  <a:pt x="2" y="6"/>
                </a:lnTo>
                <a:lnTo>
                  <a:pt x="8" y="4"/>
                </a:lnTo>
                <a:lnTo>
                  <a:pt x="12" y="0"/>
                </a:lnTo>
                <a:lnTo>
                  <a:pt x="13" y="0"/>
                </a:lnTo>
                <a:lnTo>
                  <a:pt x="15" y="1"/>
                </a:lnTo>
                <a:lnTo>
                  <a:pt x="15" y="1"/>
                </a:lnTo>
                <a:lnTo>
                  <a:pt x="16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640560" y="1244520"/>
            <a:ext cx="3240" cy="1800"/>
          </a:xfrm>
          <a:custGeom>
            <a:avLst/>
            <a:gdLst/>
            <a:ahLst/>
            <a:rect l="l" t="t" r="r" b="b"/>
            <a:pathLst>
              <a:path w="14" h="8">
                <a:moveTo>
                  <a:pt x="14" y="2"/>
                </a:moveTo>
                <a:lnTo>
                  <a:pt x="12" y="6"/>
                </a:lnTo>
                <a:lnTo>
                  <a:pt x="8" y="8"/>
                </a:lnTo>
                <a:lnTo>
                  <a:pt x="5" y="8"/>
                </a:lnTo>
                <a:lnTo>
                  <a:pt x="0" y="8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  <a:lnTo>
                  <a:pt x="10" y="0"/>
                </a:lnTo>
                <a:lnTo>
                  <a:pt x="1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665760" y="1244520"/>
            <a:ext cx="12960" cy="4680"/>
          </a:xfrm>
          <a:custGeom>
            <a:avLst/>
            <a:gdLst/>
            <a:ahLst/>
            <a:rect l="l" t="t" r="r" b="b"/>
            <a:pathLst>
              <a:path w="49" h="15">
                <a:moveTo>
                  <a:pt x="49" y="4"/>
                </a:moveTo>
                <a:lnTo>
                  <a:pt x="49" y="11"/>
                </a:lnTo>
                <a:lnTo>
                  <a:pt x="42" y="11"/>
                </a:lnTo>
                <a:lnTo>
                  <a:pt x="35" y="12"/>
                </a:lnTo>
                <a:lnTo>
                  <a:pt x="28" y="13"/>
                </a:lnTo>
                <a:lnTo>
                  <a:pt x="21" y="15"/>
                </a:lnTo>
                <a:lnTo>
                  <a:pt x="14" y="15"/>
                </a:lnTo>
                <a:lnTo>
                  <a:pt x="8" y="13"/>
                </a:lnTo>
                <a:lnTo>
                  <a:pt x="4" y="10"/>
                </a:lnTo>
                <a:lnTo>
                  <a:pt x="0" y="4"/>
                </a:lnTo>
                <a:lnTo>
                  <a:pt x="6" y="4"/>
                </a:lnTo>
                <a:lnTo>
                  <a:pt x="13" y="3"/>
                </a:lnTo>
                <a:lnTo>
                  <a:pt x="19" y="2"/>
                </a:lnTo>
                <a:lnTo>
                  <a:pt x="26" y="1"/>
                </a:lnTo>
                <a:lnTo>
                  <a:pt x="31" y="0"/>
                </a:lnTo>
                <a:lnTo>
                  <a:pt x="37" y="1"/>
                </a:lnTo>
                <a:lnTo>
                  <a:pt x="43" y="2"/>
                </a:lnTo>
                <a:lnTo>
                  <a:pt x="49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607080" y="1247760"/>
            <a:ext cx="6480" cy="3240"/>
          </a:xfrm>
          <a:custGeom>
            <a:avLst/>
            <a:gdLst/>
            <a:ahLst/>
            <a:rect l="l" t="t" r="r" b="b"/>
            <a:pathLst>
              <a:path w="24" h="12">
                <a:moveTo>
                  <a:pt x="24" y="0"/>
                </a:moveTo>
                <a:lnTo>
                  <a:pt x="20" y="4"/>
                </a:lnTo>
                <a:lnTo>
                  <a:pt x="14" y="8"/>
                </a:lnTo>
                <a:lnTo>
                  <a:pt x="7" y="11"/>
                </a:lnTo>
                <a:lnTo>
                  <a:pt x="0" y="12"/>
                </a:lnTo>
                <a:lnTo>
                  <a:pt x="5" y="8"/>
                </a:lnTo>
                <a:lnTo>
                  <a:pt x="11" y="3"/>
                </a:lnTo>
                <a:lnTo>
                  <a:pt x="18" y="1"/>
                </a:lnTo>
                <a:lnTo>
                  <a:pt x="2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630840" y="1247760"/>
            <a:ext cx="5040" cy="32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6" y="2"/>
                </a:moveTo>
                <a:lnTo>
                  <a:pt x="14" y="6"/>
                </a:lnTo>
                <a:lnTo>
                  <a:pt x="10" y="8"/>
                </a:lnTo>
                <a:lnTo>
                  <a:pt x="6" y="9"/>
                </a:lnTo>
                <a:lnTo>
                  <a:pt x="2" y="10"/>
                </a:lnTo>
                <a:lnTo>
                  <a:pt x="0" y="3"/>
                </a:lnTo>
                <a:lnTo>
                  <a:pt x="5" y="2"/>
                </a:lnTo>
                <a:lnTo>
                  <a:pt x="8" y="0"/>
                </a:lnTo>
                <a:lnTo>
                  <a:pt x="12" y="0"/>
                </a:lnTo>
                <a:lnTo>
                  <a:pt x="16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703920" y="1249200"/>
            <a:ext cx="7920" cy="5040"/>
          </a:xfrm>
          <a:custGeom>
            <a:avLst/>
            <a:gdLst/>
            <a:ahLst/>
            <a:rect l="l" t="t" r="r" b="b"/>
            <a:pathLst>
              <a:path w="31" h="16">
                <a:moveTo>
                  <a:pt x="31" y="6"/>
                </a:moveTo>
                <a:lnTo>
                  <a:pt x="23" y="8"/>
                </a:lnTo>
                <a:lnTo>
                  <a:pt x="15" y="11"/>
                </a:lnTo>
                <a:lnTo>
                  <a:pt x="8" y="16"/>
                </a:lnTo>
                <a:lnTo>
                  <a:pt x="0" y="15"/>
                </a:lnTo>
                <a:lnTo>
                  <a:pt x="6" y="8"/>
                </a:lnTo>
                <a:lnTo>
                  <a:pt x="14" y="3"/>
                </a:lnTo>
                <a:lnTo>
                  <a:pt x="22" y="1"/>
                </a:lnTo>
                <a:lnTo>
                  <a:pt x="31" y="0"/>
                </a:lnTo>
                <a:lnTo>
                  <a:pt x="3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621480" y="1252440"/>
            <a:ext cx="4680" cy="3240"/>
          </a:xfrm>
          <a:custGeom>
            <a:avLst/>
            <a:gdLst/>
            <a:ahLst/>
            <a:rect l="l" t="t" r="r" b="b"/>
            <a:pathLst>
              <a:path w="23" h="11">
                <a:moveTo>
                  <a:pt x="23" y="2"/>
                </a:moveTo>
                <a:lnTo>
                  <a:pt x="18" y="6"/>
                </a:lnTo>
                <a:lnTo>
                  <a:pt x="14" y="9"/>
                </a:lnTo>
                <a:lnTo>
                  <a:pt x="8" y="11"/>
                </a:lnTo>
                <a:lnTo>
                  <a:pt x="2" y="11"/>
                </a:lnTo>
                <a:lnTo>
                  <a:pt x="2" y="10"/>
                </a:lnTo>
                <a:lnTo>
                  <a:pt x="2" y="9"/>
                </a:lnTo>
                <a:lnTo>
                  <a:pt x="1" y="8"/>
                </a:lnTo>
                <a:lnTo>
                  <a:pt x="0" y="7"/>
                </a:lnTo>
                <a:lnTo>
                  <a:pt x="5" y="3"/>
                </a:lnTo>
                <a:lnTo>
                  <a:pt x="11" y="1"/>
                </a:lnTo>
                <a:lnTo>
                  <a:pt x="17" y="0"/>
                </a:lnTo>
                <a:lnTo>
                  <a:pt x="23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737400" y="1252440"/>
            <a:ext cx="17280" cy="5040"/>
          </a:xfrm>
          <a:custGeom>
            <a:avLst/>
            <a:gdLst/>
            <a:ahLst/>
            <a:rect l="l" t="t" r="r" b="b"/>
            <a:pathLst>
              <a:path w="71" h="18">
                <a:moveTo>
                  <a:pt x="65" y="2"/>
                </a:moveTo>
                <a:lnTo>
                  <a:pt x="68" y="4"/>
                </a:lnTo>
                <a:lnTo>
                  <a:pt x="70" y="6"/>
                </a:lnTo>
                <a:lnTo>
                  <a:pt x="70" y="10"/>
                </a:lnTo>
                <a:lnTo>
                  <a:pt x="71" y="12"/>
                </a:lnTo>
                <a:lnTo>
                  <a:pt x="62" y="13"/>
                </a:lnTo>
                <a:lnTo>
                  <a:pt x="53" y="16"/>
                </a:lnTo>
                <a:lnTo>
                  <a:pt x="44" y="17"/>
                </a:lnTo>
                <a:lnTo>
                  <a:pt x="33" y="18"/>
                </a:lnTo>
                <a:lnTo>
                  <a:pt x="24" y="18"/>
                </a:lnTo>
                <a:lnTo>
                  <a:pt x="16" y="18"/>
                </a:lnTo>
                <a:lnTo>
                  <a:pt x="8" y="16"/>
                </a:lnTo>
                <a:lnTo>
                  <a:pt x="1" y="12"/>
                </a:lnTo>
                <a:lnTo>
                  <a:pt x="0" y="8"/>
                </a:lnTo>
                <a:lnTo>
                  <a:pt x="2" y="4"/>
                </a:lnTo>
                <a:lnTo>
                  <a:pt x="6" y="2"/>
                </a:lnTo>
                <a:lnTo>
                  <a:pt x="9" y="0"/>
                </a:lnTo>
                <a:lnTo>
                  <a:pt x="16" y="0"/>
                </a:lnTo>
                <a:lnTo>
                  <a:pt x="23" y="1"/>
                </a:lnTo>
                <a:lnTo>
                  <a:pt x="30" y="2"/>
                </a:lnTo>
                <a:lnTo>
                  <a:pt x="37" y="2"/>
                </a:lnTo>
                <a:lnTo>
                  <a:pt x="44" y="3"/>
                </a:lnTo>
                <a:lnTo>
                  <a:pt x="51" y="3"/>
                </a:lnTo>
                <a:lnTo>
                  <a:pt x="59" y="3"/>
                </a:lnTo>
                <a:lnTo>
                  <a:pt x="65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692760" y="1255680"/>
            <a:ext cx="9720" cy="4680"/>
          </a:xfrm>
          <a:custGeom>
            <a:avLst/>
            <a:gdLst/>
            <a:ahLst/>
            <a:rect l="l" t="t" r="r" b="b"/>
            <a:pathLst>
              <a:path w="38" h="19">
                <a:moveTo>
                  <a:pt x="8" y="18"/>
                </a:moveTo>
                <a:lnTo>
                  <a:pt x="5" y="18"/>
                </a:lnTo>
                <a:lnTo>
                  <a:pt x="3" y="19"/>
                </a:lnTo>
                <a:lnTo>
                  <a:pt x="1" y="18"/>
                </a:lnTo>
                <a:lnTo>
                  <a:pt x="0" y="17"/>
                </a:lnTo>
                <a:lnTo>
                  <a:pt x="3" y="13"/>
                </a:lnTo>
                <a:lnTo>
                  <a:pt x="8" y="10"/>
                </a:lnTo>
                <a:lnTo>
                  <a:pt x="12" y="7"/>
                </a:lnTo>
                <a:lnTo>
                  <a:pt x="18" y="5"/>
                </a:lnTo>
                <a:lnTo>
                  <a:pt x="23" y="3"/>
                </a:lnTo>
                <a:lnTo>
                  <a:pt x="28" y="2"/>
                </a:lnTo>
                <a:lnTo>
                  <a:pt x="33" y="0"/>
                </a:lnTo>
                <a:lnTo>
                  <a:pt x="38" y="0"/>
                </a:lnTo>
                <a:lnTo>
                  <a:pt x="34" y="8"/>
                </a:lnTo>
                <a:lnTo>
                  <a:pt x="26" y="12"/>
                </a:lnTo>
                <a:lnTo>
                  <a:pt x="16" y="14"/>
                </a:lnTo>
                <a:lnTo>
                  <a:pt x="8" y="1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642000" y="1254240"/>
            <a:ext cx="6480" cy="3240"/>
          </a:xfrm>
          <a:custGeom>
            <a:avLst/>
            <a:gdLst/>
            <a:ahLst/>
            <a:rect l="l" t="t" r="r" b="b"/>
            <a:pathLst>
              <a:path w="24" h="8">
                <a:moveTo>
                  <a:pt x="24" y="1"/>
                </a:moveTo>
                <a:lnTo>
                  <a:pt x="20" y="5"/>
                </a:lnTo>
                <a:lnTo>
                  <a:pt x="15" y="6"/>
                </a:lnTo>
                <a:lnTo>
                  <a:pt x="8" y="7"/>
                </a:lnTo>
                <a:lnTo>
                  <a:pt x="2" y="8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5" y="4"/>
                </a:lnTo>
                <a:lnTo>
                  <a:pt x="11" y="1"/>
                </a:lnTo>
                <a:lnTo>
                  <a:pt x="17" y="0"/>
                </a:lnTo>
                <a:lnTo>
                  <a:pt x="24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86560" y="1257480"/>
            <a:ext cx="12600" cy="936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37"/>
                </a:moveTo>
                <a:lnTo>
                  <a:pt x="44" y="41"/>
                </a:lnTo>
                <a:lnTo>
                  <a:pt x="38" y="42"/>
                </a:lnTo>
                <a:lnTo>
                  <a:pt x="33" y="42"/>
                </a:lnTo>
                <a:lnTo>
                  <a:pt x="28" y="42"/>
                </a:lnTo>
                <a:lnTo>
                  <a:pt x="23" y="41"/>
                </a:lnTo>
                <a:lnTo>
                  <a:pt x="17" y="39"/>
                </a:lnTo>
                <a:lnTo>
                  <a:pt x="12" y="39"/>
                </a:lnTo>
                <a:lnTo>
                  <a:pt x="6" y="41"/>
                </a:lnTo>
                <a:lnTo>
                  <a:pt x="2" y="31"/>
                </a:lnTo>
                <a:lnTo>
                  <a:pt x="0" y="22"/>
                </a:lnTo>
                <a:lnTo>
                  <a:pt x="0" y="11"/>
                </a:lnTo>
                <a:lnTo>
                  <a:pt x="2" y="0"/>
                </a:lnTo>
                <a:lnTo>
                  <a:pt x="10" y="2"/>
                </a:lnTo>
                <a:lnTo>
                  <a:pt x="16" y="7"/>
                </a:lnTo>
                <a:lnTo>
                  <a:pt x="21" y="13"/>
                </a:lnTo>
                <a:lnTo>
                  <a:pt x="24" y="20"/>
                </a:lnTo>
                <a:lnTo>
                  <a:pt x="28" y="27"/>
                </a:lnTo>
                <a:lnTo>
                  <a:pt x="32" y="32"/>
                </a:lnTo>
                <a:lnTo>
                  <a:pt x="39" y="37"/>
                </a:lnTo>
                <a:lnTo>
                  <a:pt x="48" y="3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15000" y="1257480"/>
            <a:ext cx="3240" cy="144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4"/>
                </a:moveTo>
                <a:lnTo>
                  <a:pt x="9" y="6"/>
                </a:lnTo>
                <a:lnTo>
                  <a:pt x="8" y="7"/>
                </a:lnTo>
                <a:lnTo>
                  <a:pt x="5" y="10"/>
                </a:lnTo>
                <a:lnTo>
                  <a:pt x="3" y="11"/>
                </a:lnTo>
                <a:lnTo>
                  <a:pt x="1" y="10"/>
                </a:lnTo>
                <a:lnTo>
                  <a:pt x="0" y="7"/>
                </a:lnTo>
                <a:lnTo>
                  <a:pt x="0" y="4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1"/>
                </a:lnTo>
                <a:lnTo>
                  <a:pt x="10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635880" y="1257480"/>
            <a:ext cx="4680" cy="2880"/>
          </a:xfrm>
          <a:custGeom>
            <a:avLst/>
            <a:gdLst/>
            <a:ahLst/>
            <a:rect l="l" t="t" r="r" b="b"/>
            <a:pathLst>
              <a:path w="20" h="10">
                <a:moveTo>
                  <a:pt x="20" y="0"/>
                </a:moveTo>
                <a:lnTo>
                  <a:pt x="18" y="3"/>
                </a:lnTo>
                <a:lnTo>
                  <a:pt x="14" y="7"/>
                </a:lnTo>
                <a:lnTo>
                  <a:pt x="10" y="9"/>
                </a:lnTo>
                <a:lnTo>
                  <a:pt x="5" y="10"/>
                </a:lnTo>
                <a:lnTo>
                  <a:pt x="0" y="10"/>
                </a:lnTo>
                <a:lnTo>
                  <a:pt x="3" y="6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680160" y="1260360"/>
            <a:ext cx="9720" cy="5040"/>
          </a:xfrm>
          <a:custGeom>
            <a:avLst/>
            <a:gdLst/>
            <a:ahLst/>
            <a:rect l="l" t="t" r="r" b="b"/>
            <a:pathLst>
              <a:path w="40" h="21">
                <a:moveTo>
                  <a:pt x="40" y="8"/>
                </a:moveTo>
                <a:lnTo>
                  <a:pt x="35" y="10"/>
                </a:lnTo>
                <a:lnTo>
                  <a:pt x="31" y="11"/>
                </a:lnTo>
                <a:lnTo>
                  <a:pt x="27" y="14"/>
                </a:lnTo>
                <a:lnTo>
                  <a:pt x="23" y="16"/>
                </a:lnTo>
                <a:lnTo>
                  <a:pt x="18" y="18"/>
                </a:lnTo>
                <a:lnTo>
                  <a:pt x="13" y="19"/>
                </a:lnTo>
                <a:lnTo>
                  <a:pt x="8" y="21"/>
                </a:lnTo>
                <a:lnTo>
                  <a:pt x="3" y="21"/>
                </a:lnTo>
                <a:lnTo>
                  <a:pt x="0" y="13"/>
                </a:lnTo>
                <a:lnTo>
                  <a:pt x="5" y="10"/>
                </a:lnTo>
                <a:lnTo>
                  <a:pt x="11" y="8"/>
                </a:lnTo>
                <a:lnTo>
                  <a:pt x="18" y="4"/>
                </a:lnTo>
                <a:lnTo>
                  <a:pt x="24" y="1"/>
                </a:lnTo>
                <a:lnTo>
                  <a:pt x="30" y="0"/>
                </a:lnTo>
                <a:lnTo>
                  <a:pt x="34" y="0"/>
                </a:lnTo>
                <a:lnTo>
                  <a:pt x="38" y="2"/>
                </a:lnTo>
                <a:lnTo>
                  <a:pt x="40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08600" y="1260360"/>
            <a:ext cx="9720" cy="5040"/>
          </a:xfrm>
          <a:custGeom>
            <a:avLst/>
            <a:gdLst/>
            <a:ahLst/>
            <a:rect l="l" t="t" r="r" b="b"/>
            <a:pathLst>
              <a:path w="40" h="22">
                <a:moveTo>
                  <a:pt x="39" y="6"/>
                </a:moveTo>
                <a:lnTo>
                  <a:pt x="40" y="10"/>
                </a:lnTo>
                <a:lnTo>
                  <a:pt x="38" y="14"/>
                </a:lnTo>
                <a:lnTo>
                  <a:pt x="36" y="17"/>
                </a:lnTo>
                <a:lnTo>
                  <a:pt x="32" y="18"/>
                </a:lnTo>
                <a:lnTo>
                  <a:pt x="22" y="17"/>
                </a:lnTo>
                <a:lnTo>
                  <a:pt x="12" y="21"/>
                </a:lnTo>
                <a:lnTo>
                  <a:pt x="4" y="22"/>
                </a:lnTo>
                <a:lnTo>
                  <a:pt x="0" y="13"/>
                </a:lnTo>
                <a:lnTo>
                  <a:pt x="6" y="10"/>
                </a:lnTo>
                <a:lnTo>
                  <a:pt x="11" y="7"/>
                </a:lnTo>
                <a:lnTo>
                  <a:pt x="16" y="3"/>
                </a:lnTo>
                <a:lnTo>
                  <a:pt x="21" y="1"/>
                </a:lnTo>
                <a:lnTo>
                  <a:pt x="26" y="0"/>
                </a:lnTo>
                <a:lnTo>
                  <a:pt x="30" y="0"/>
                </a:lnTo>
                <a:lnTo>
                  <a:pt x="35" y="2"/>
                </a:lnTo>
                <a:lnTo>
                  <a:pt x="39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653160" y="1262160"/>
            <a:ext cx="4680" cy="3240"/>
          </a:xfrm>
          <a:custGeom>
            <a:avLst/>
            <a:gdLst/>
            <a:ahLst/>
            <a:rect l="l" t="t" r="r" b="b"/>
            <a:pathLst>
              <a:path w="17" h="11">
                <a:moveTo>
                  <a:pt x="17" y="2"/>
                </a:moveTo>
                <a:lnTo>
                  <a:pt x="16" y="8"/>
                </a:lnTo>
                <a:lnTo>
                  <a:pt x="12" y="9"/>
                </a:lnTo>
                <a:lnTo>
                  <a:pt x="7" y="9"/>
                </a:lnTo>
                <a:lnTo>
                  <a:pt x="2" y="11"/>
                </a:lnTo>
                <a:lnTo>
                  <a:pt x="0" y="9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  <a:lnTo>
                  <a:pt x="4" y="2"/>
                </a:lnTo>
                <a:lnTo>
                  <a:pt x="9" y="1"/>
                </a:lnTo>
                <a:lnTo>
                  <a:pt x="12" y="0"/>
                </a:lnTo>
                <a:lnTo>
                  <a:pt x="17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626160" y="1262160"/>
            <a:ext cx="4680" cy="3240"/>
          </a:xfrm>
          <a:custGeom>
            <a:avLst/>
            <a:gdLst/>
            <a:ahLst/>
            <a:rect l="l" t="t" r="r" b="b"/>
            <a:pathLst>
              <a:path w="22" h="15">
                <a:moveTo>
                  <a:pt x="22" y="0"/>
                </a:moveTo>
                <a:lnTo>
                  <a:pt x="19" y="5"/>
                </a:lnTo>
                <a:lnTo>
                  <a:pt x="14" y="8"/>
                </a:lnTo>
                <a:lnTo>
                  <a:pt x="9" y="11"/>
                </a:lnTo>
                <a:lnTo>
                  <a:pt x="3" y="15"/>
                </a:lnTo>
                <a:lnTo>
                  <a:pt x="0" y="13"/>
                </a:lnTo>
                <a:lnTo>
                  <a:pt x="5" y="8"/>
                </a:lnTo>
                <a:lnTo>
                  <a:pt x="10" y="5"/>
                </a:lnTo>
                <a:lnTo>
                  <a:pt x="15" y="1"/>
                </a:lnTo>
                <a:lnTo>
                  <a:pt x="22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697800" y="1263600"/>
            <a:ext cx="9360" cy="7920"/>
          </a:xfrm>
          <a:custGeom>
            <a:avLst/>
            <a:gdLst/>
            <a:ahLst/>
            <a:rect l="l" t="t" r="r" b="b"/>
            <a:pathLst>
              <a:path w="40" h="28">
                <a:moveTo>
                  <a:pt x="40" y="7"/>
                </a:moveTo>
                <a:lnTo>
                  <a:pt x="40" y="13"/>
                </a:lnTo>
                <a:lnTo>
                  <a:pt x="2" y="28"/>
                </a:lnTo>
                <a:lnTo>
                  <a:pt x="0" y="20"/>
                </a:lnTo>
                <a:lnTo>
                  <a:pt x="1" y="15"/>
                </a:lnTo>
                <a:lnTo>
                  <a:pt x="5" y="13"/>
                </a:lnTo>
                <a:lnTo>
                  <a:pt x="10" y="10"/>
                </a:lnTo>
                <a:lnTo>
                  <a:pt x="17" y="9"/>
                </a:lnTo>
                <a:lnTo>
                  <a:pt x="23" y="8"/>
                </a:lnTo>
                <a:lnTo>
                  <a:pt x="29" y="6"/>
                </a:lnTo>
                <a:lnTo>
                  <a:pt x="33" y="1"/>
                </a:lnTo>
                <a:lnTo>
                  <a:pt x="37" y="0"/>
                </a:lnTo>
                <a:lnTo>
                  <a:pt x="38" y="2"/>
                </a:lnTo>
                <a:lnTo>
                  <a:pt x="39" y="5"/>
                </a:lnTo>
                <a:lnTo>
                  <a:pt x="40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667560" y="1265400"/>
            <a:ext cx="9360" cy="4680"/>
          </a:xfrm>
          <a:custGeom>
            <a:avLst/>
            <a:gdLst/>
            <a:ahLst/>
            <a:rect l="l" t="t" r="r" b="b"/>
            <a:pathLst>
              <a:path w="38" h="17">
                <a:moveTo>
                  <a:pt x="38" y="5"/>
                </a:moveTo>
                <a:lnTo>
                  <a:pt x="34" y="7"/>
                </a:lnTo>
                <a:lnTo>
                  <a:pt x="29" y="10"/>
                </a:lnTo>
                <a:lnTo>
                  <a:pt x="24" y="12"/>
                </a:lnTo>
                <a:lnTo>
                  <a:pt x="20" y="14"/>
                </a:lnTo>
                <a:lnTo>
                  <a:pt x="15" y="15"/>
                </a:lnTo>
                <a:lnTo>
                  <a:pt x="9" y="17"/>
                </a:lnTo>
                <a:lnTo>
                  <a:pt x="5" y="17"/>
                </a:lnTo>
                <a:lnTo>
                  <a:pt x="0" y="15"/>
                </a:lnTo>
                <a:lnTo>
                  <a:pt x="4" y="12"/>
                </a:lnTo>
                <a:lnTo>
                  <a:pt x="8" y="10"/>
                </a:lnTo>
                <a:lnTo>
                  <a:pt x="13" y="6"/>
                </a:lnTo>
                <a:lnTo>
                  <a:pt x="19" y="3"/>
                </a:lnTo>
                <a:lnTo>
                  <a:pt x="24" y="2"/>
                </a:lnTo>
                <a:lnTo>
                  <a:pt x="29" y="0"/>
                </a:lnTo>
                <a:lnTo>
                  <a:pt x="35" y="2"/>
                </a:lnTo>
                <a:lnTo>
                  <a:pt x="38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43880" y="1265400"/>
            <a:ext cx="14040" cy="4680"/>
          </a:xfrm>
          <a:custGeom>
            <a:avLst/>
            <a:gdLst/>
            <a:ahLst/>
            <a:rect l="l" t="t" r="r" b="b"/>
            <a:pathLst>
              <a:path w="64" h="18">
                <a:moveTo>
                  <a:pt x="62" y="7"/>
                </a:moveTo>
                <a:lnTo>
                  <a:pt x="64" y="11"/>
                </a:lnTo>
                <a:lnTo>
                  <a:pt x="61" y="13"/>
                </a:lnTo>
                <a:lnTo>
                  <a:pt x="57" y="16"/>
                </a:lnTo>
                <a:lnTo>
                  <a:pt x="52" y="17"/>
                </a:lnTo>
                <a:lnTo>
                  <a:pt x="0" y="18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1"/>
                </a:lnTo>
                <a:lnTo>
                  <a:pt x="32" y="2"/>
                </a:lnTo>
                <a:lnTo>
                  <a:pt x="39" y="4"/>
                </a:lnTo>
                <a:lnTo>
                  <a:pt x="47" y="5"/>
                </a:lnTo>
                <a:lnTo>
                  <a:pt x="54" y="7"/>
                </a:lnTo>
                <a:lnTo>
                  <a:pt x="62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640560" y="1268280"/>
            <a:ext cx="3240" cy="32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7" y="0"/>
                </a:moveTo>
                <a:lnTo>
                  <a:pt x="15" y="3"/>
                </a:lnTo>
                <a:lnTo>
                  <a:pt x="12" y="6"/>
                </a:lnTo>
                <a:lnTo>
                  <a:pt x="6" y="7"/>
                </a:lnTo>
                <a:lnTo>
                  <a:pt x="1" y="10"/>
                </a:lnTo>
                <a:lnTo>
                  <a:pt x="0" y="8"/>
                </a:lnTo>
                <a:lnTo>
                  <a:pt x="4" y="5"/>
                </a:lnTo>
                <a:lnTo>
                  <a:pt x="7" y="2"/>
                </a:lnTo>
                <a:lnTo>
                  <a:pt x="13" y="1"/>
                </a:lnTo>
                <a:lnTo>
                  <a:pt x="1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83320" y="1268280"/>
            <a:ext cx="142920" cy="71640"/>
          </a:xfrm>
          <a:custGeom>
            <a:avLst/>
            <a:gdLst/>
            <a:ahLst/>
            <a:rect l="l" t="t" r="r" b="b"/>
            <a:pathLst>
              <a:path w="588" h="265">
                <a:moveTo>
                  <a:pt x="588" y="2"/>
                </a:moveTo>
                <a:lnTo>
                  <a:pt x="586" y="8"/>
                </a:lnTo>
                <a:lnTo>
                  <a:pt x="583" y="13"/>
                </a:lnTo>
                <a:lnTo>
                  <a:pt x="576" y="15"/>
                </a:lnTo>
                <a:lnTo>
                  <a:pt x="570" y="17"/>
                </a:lnTo>
                <a:lnTo>
                  <a:pt x="547" y="25"/>
                </a:lnTo>
                <a:lnTo>
                  <a:pt x="525" y="33"/>
                </a:lnTo>
                <a:lnTo>
                  <a:pt x="502" y="43"/>
                </a:lnTo>
                <a:lnTo>
                  <a:pt x="480" y="52"/>
                </a:lnTo>
                <a:lnTo>
                  <a:pt x="459" y="61"/>
                </a:lnTo>
                <a:lnTo>
                  <a:pt x="437" y="71"/>
                </a:lnTo>
                <a:lnTo>
                  <a:pt x="415" y="82"/>
                </a:lnTo>
                <a:lnTo>
                  <a:pt x="394" y="92"/>
                </a:lnTo>
                <a:lnTo>
                  <a:pt x="372" y="103"/>
                </a:lnTo>
                <a:lnTo>
                  <a:pt x="350" y="113"/>
                </a:lnTo>
                <a:lnTo>
                  <a:pt x="328" y="123"/>
                </a:lnTo>
                <a:lnTo>
                  <a:pt x="306" y="134"/>
                </a:lnTo>
                <a:lnTo>
                  <a:pt x="285" y="143"/>
                </a:lnTo>
                <a:lnTo>
                  <a:pt x="263" y="152"/>
                </a:lnTo>
                <a:lnTo>
                  <a:pt x="241" y="161"/>
                </a:lnTo>
                <a:lnTo>
                  <a:pt x="218" y="169"/>
                </a:lnTo>
                <a:lnTo>
                  <a:pt x="197" y="179"/>
                </a:lnTo>
                <a:lnTo>
                  <a:pt x="176" y="187"/>
                </a:lnTo>
                <a:lnTo>
                  <a:pt x="156" y="196"/>
                </a:lnTo>
                <a:lnTo>
                  <a:pt x="135" y="204"/>
                </a:lnTo>
                <a:lnTo>
                  <a:pt x="114" y="213"/>
                </a:lnTo>
                <a:lnTo>
                  <a:pt x="94" y="222"/>
                </a:lnTo>
                <a:lnTo>
                  <a:pt x="74" y="232"/>
                </a:lnTo>
                <a:lnTo>
                  <a:pt x="54" y="242"/>
                </a:lnTo>
                <a:lnTo>
                  <a:pt x="53" y="242"/>
                </a:lnTo>
                <a:lnTo>
                  <a:pt x="53" y="242"/>
                </a:lnTo>
                <a:lnTo>
                  <a:pt x="52" y="241"/>
                </a:lnTo>
                <a:lnTo>
                  <a:pt x="51" y="240"/>
                </a:lnTo>
                <a:lnTo>
                  <a:pt x="46" y="245"/>
                </a:lnTo>
                <a:lnTo>
                  <a:pt x="41" y="250"/>
                </a:lnTo>
                <a:lnTo>
                  <a:pt x="36" y="255"/>
                </a:lnTo>
                <a:lnTo>
                  <a:pt x="29" y="257"/>
                </a:lnTo>
                <a:lnTo>
                  <a:pt x="22" y="260"/>
                </a:lnTo>
                <a:lnTo>
                  <a:pt x="15" y="263"/>
                </a:lnTo>
                <a:lnTo>
                  <a:pt x="7" y="264"/>
                </a:lnTo>
                <a:lnTo>
                  <a:pt x="0" y="265"/>
                </a:lnTo>
                <a:lnTo>
                  <a:pt x="2" y="256"/>
                </a:lnTo>
                <a:lnTo>
                  <a:pt x="9" y="253"/>
                </a:lnTo>
                <a:lnTo>
                  <a:pt x="18" y="252"/>
                </a:lnTo>
                <a:lnTo>
                  <a:pt x="25" y="247"/>
                </a:lnTo>
                <a:lnTo>
                  <a:pt x="38" y="241"/>
                </a:lnTo>
                <a:lnTo>
                  <a:pt x="52" y="235"/>
                </a:lnTo>
                <a:lnTo>
                  <a:pt x="65" y="229"/>
                </a:lnTo>
                <a:lnTo>
                  <a:pt x="78" y="223"/>
                </a:lnTo>
                <a:lnTo>
                  <a:pt x="91" y="218"/>
                </a:lnTo>
                <a:lnTo>
                  <a:pt x="104" y="211"/>
                </a:lnTo>
                <a:lnTo>
                  <a:pt x="118" y="205"/>
                </a:lnTo>
                <a:lnTo>
                  <a:pt x="130" y="199"/>
                </a:lnTo>
                <a:lnTo>
                  <a:pt x="143" y="194"/>
                </a:lnTo>
                <a:lnTo>
                  <a:pt x="157" y="188"/>
                </a:lnTo>
                <a:lnTo>
                  <a:pt x="169" y="182"/>
                </a:lnTo>
                <a:lnTo>
                  <a:pt x="182" y="176"/>
                </a:lnTo>
                <a:lnTo>
                  <a:pt x="196" y="172"/>
                </a:lnTo>
                <a:lnTo>
                  <a:pt x="209" y="166"/>
                </a:lnTo>
                <a:lnTo>
                  <a:pt x="222" y="161"/>
                </a:lnTo>
                <a:lnTo>
                  <a:pt x="235" y="157"/>
                </a:lnTo>
                <a:lnTo>
                  <a:pt x="242" y="152"/>
                </a:lnTo>
                <a:lnTo>
                  <a:pt x="249" y="149"/>
                </a:lnTo>
                <a:lnTo>
                  <a:pt x="257" y="144"/>
                </a:lnTo>
                <a:lnTo>
                  <a:pt x="265" y="141"/>
                </a:lnTo>
                <a:lnTo>
                  <a:pt x="273" y="138"/>
                </a:lnTo>
                <a:lnTo>
                  <a:pt x="281" y="135"/>
                </a:lnTo>
                <a:lnTo>
                  <a:pt x="289" y="131"/>
                </a:lnTo>
                <a:lnTo>
                  <a:pt x="297" y="128"/>
                </a:lnTo>
                <a:lnTo>
                  <a:pt x="315" y="119"/>
                </a:lnTo>
                <a:lnTo>
                  <a:pt x="333" y="111"/>
                </a:lnTo>
                <a:lnTo>
                  <a:pt x="350" y="101"/>
                </a:lnTo>
                <a:lnTo>
                  <a:pt x="368" y="92"/>
                </a:lnTo>
                <a:lnTo>
                  <a:pt x="386" y="84"/>
                </a:lnTo>
                <a:lnTo>
                  <a:pt x="403" y="75"/>
                </a:lnTo>
                <a:lnTo>
                  <a:pt x="421" y="66"/>
                </a:lnTo>
                <a:lnTo>
                  <a:pt x="439" y="58"/>
                </a:lnTo>
                <a:lnTo>
                  <a:pt x="456" y="50"/>
                </a:lnTo>
                <a:lnTo>
                  <a:pt x="475" y="41"/>
                </a:lnTo>
                <a:lnTo>
                  <a:pt x="493" y="33"/>
                </a:lnTo>
                <a:lnTo>
                  <a:pt x="510" y="25"/>
                </a:lnTo>
                <a:lnTo>
                  <a:pt x="529" y="18"/>
                </a:lnTo>
                <a:lnTo>
                  <a:pt x="547" y="11"/>
                </a:lnTo>
                <a:lnTo>
                  <a:pt x="567" y="6"/>
                </a:lnTo>
                <a:lnTo>
                  <a:pt x="585" y="0"/>
                </a:lnTo>
                <a:lnTo>
                  <a:pt x="588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657840" y="1270080"/>
            <a:ext cx="38160" cy="15840"/>
          </a:xfrm>
          <a:custGeom>
            <a:avLst/>
            <a:gdLst/>
            <a:ahLst/>
            <a:rect l="l" t="t" r="r" b="b"/>
            <a:pathLst>
              <a:path w="152" h="60">
                <a:moveTo>
                  <a:pt x="152" y="7"/>
                </a:moveTo>
                <a:lnTo>
                  <a:pt x="135" y="17"/>
                </a:lnTo>
                <a:lnTo>
                  <a:pt x="117" y="25"/>
                </a:lnTo>
                <a:lnTo>
                  <a:pt x="97" y="31"/>
                </a:lnTo>
                <a:lnTo>
                  <a:pt x="77" y="34"/>
                </a:lnTo>
                <a:lnTo>
                  <a:pt x="57" y="39"/>
                </a:lnTo>
                <a:lnTo>
                  <a:pt x="37" y="45"/>
                </a:lnTo>
                <a:lnTo>
                  <a:pt x="19" y="51"/>
                </a:lnTo>
                <a:lnTo>
                  <a:pt x="0" y="60"/>
                </a:lnTo>
                <a:lnTo>
                  <a:pt x="4" y="55"/>
                </a:lnTo>
                <a:lnTo>
                  <a:pt x="8" y="52"/>
                </a:lnTo>
                <a:lnTo>
                  <a:pt x="14" y="48"/>
                </a:lnTo>
                <a:lnTo>
                  <a:pt x="20" y="46"/>
                </a:lnTo>
                <a:lnTo>
                  <a:pt x="26" y="44"/>
                </a:lnTo>
                <a:lnTo>
                  <a:pt x="32" y="41"/>
                </a:lnTo>
                <a:lnTo>
                  <a:pt x="38" y="39"/>
                </a:lnTo>
                <a:lnTo>
                  <a:pt x="44" y="37"/>
                </a:lnTo>
                <a:lnTo>
                  <a:pt x="51" y="36"/>
                </a:lnTo>
                <a:lnTo>
                  <a:pt x="58" y="33"/>
                </a:lnTo>
                <a:lnTo>
                  <a:pt x="64" y="31"/>
                </a:lnTo>
                <a:lnTo>
                  <a:pt x="71" y="29"/>
                </a:lnTo>
                <a:lnTo>
                  <a:pt x="77" y="26"/>
                </a:lnTo>
                <a:lnTo>
                  <a:pt x="83" y="25"/>
                </a:lnTo>
                <a:lnTo>
                  <a:pt x="90" y="25"/>
                </a:lnTo>
                <a:lnTo>
                  <a:pt x="97" y="26"/>
                </a:lnTo>
                <a:lnTo>
                  <a:pt x="102" y="21"/>
                </a:lnTo>
                <a:lnTo>
                  <a:pt x="106" y="16"/>
                </a:lnTo>
                <a:lnTo>
                  <a:pt x="113" y="13"/>
                </a:lnTo>
                <a:lnTo>
                  <a:pt x="120" y="10"/>
                </a:lnTo>
                <a:lnTo>
                  <a:pt x="127" y="8"/>
                </a:lnTo>
                <a:lnTo>
                  <a:pt x="134" y="6"/>
                </a:lnTo>
                <a:lnTo>
                  <a:pt x="141" y="3"/>
                </a:lnTo>
                <a:lnTo>
                  <a:pt x="147" y="0"/>
                </a:lnTo>
                <a:lnTo>
                  <a:pt x="152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654960" y="1271520"/>
            <a:ext cx="9360" cy="468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7"/>
                </a:moveTo>
                <a:lnTo>
                  <a:pt x="31" y="8"/>
                </a:lnTo>
                <a:lnTo>
                  <a:pt x="27" y="10"/>
                </a:lnTo>
                <a:lnTo>
                  <a:pt x="22" y="12"/>
                </a:lnTo>
                <a:lnTo>
                  <a:pt x="19" y="13"/>
                </a:lnTo>
                <a:lnTo>
                  <a:pt x="14" y="14"/>
                </a:lnTo>
                <a:lnTo>
                  <a:pt x="9" y="16"/>
                </a:lnTo>
                <a:lnTo>
                  <a:pt x="5" y="18"/>
                </a:lnTo>
                <a:lnTo>
                  <a:pt x="0" y="19"/>
                </a:lnTo>
                <a:lnTo>
                  <a:pt x="5" y="12"/>
                </a:lnTo>
                <a:lnTo>
                  <a:pt x="12" y="8"/>
                </a:lnTo>
                <a:lnTo>
                  <a:pt x="20" y="5"/>
                </a:lnTo>
                <a:lnTo>
                  <a:pt x="27" y="0"/>
                </a:lnTo>
                <a:lnTo>
                  <a:pt x="36" y="0"/>
                </a:lnTo>
                <a:lnTo>
                  <a:pt x="36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629400" y="1273320"/>
            <a:ext cx="6480" cy="288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2"/>
                </a:moveTo>
                <a:lnTo>
                  <a:pt x="22" y="7"/>
                </a:lnTo>
                <a:lnTo>
                  <a:pt x="15" y="10"/>
                </a:lnTo>
                <a:lnTo>
                  <a:pt x="7" y="14"/>
                </a:lnTo>
                <a:lnTo>
                  <a:pt x="0" y="13"/>
                </a:lnTo>
                <a:lnTo>
                  <a:pt x="6" y="8"/>
                </a:lnTo>
                <a:lnTo>
                  <a:pt x="14" y="4"/>
                </a:lnTo>
                <a:lnTo>
                  <a:pt x="21" y="0"/>
                </a:lnTo>
                <a:lnTo>
                  <a:pt x="28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43800" y="1276200"/>
            <a:ext cx="6120" cy="5040"/>
          </a:xfrm>
          <a:custGeom>
            <a:avLst/>
            <a:gdLst/>
            <a:ahLst/>
            <a:rect l="l" t="t" r="r" b="b"/>
            <a:pathLst>
              <a:path w="29" h="15">
                <a:moveTo>
                  <a:pt x="29" y="3"/>
                </a:moveTo>
                <a:lnTo>
                  <a:pt x="23" y="7"/>
                </a:lnTo>
                <a:lnTo>
                  <a:pt x="16" y="12"/>
                </a:lnTo>
                <a:lnTo>
                  <a:pt x="8" y="15"/>
                </a:lnTo>
                <a:lnTo>
                  <a:pt x="0" y="15"/>
                </a:lnTo>
                <a:lnTo>
                  <a:pt x="4" y="11"/>
                </a:lnTo>
                <a:lnTo>
                  <a:pt x="11" y="5"/>
                </a:lnTo>
                <a:lnTo>
                  <a:pt x="19" y="2"/>
                </a:lnTo>
                <a:lnTo>
                  <a:pt x="28" y="0"/>
                </a:lnTo>
                <a:lnTo>
                  <a:pt x="29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46760" y="1276200"/>
            <a:ext cx="20880" cy="7920"/>
          </a:xfrm>
          <a:custGeom>
            <a:avLst/>
            <a:gdLst/>
            <a:ahLst/>
            <a:rect l="l" t="t" r="r" b="b"/>
            <a:pathLst>
              <a:path w="81" h="23">
                <a:moveTo>
                  <a:pt x="81" y="13"/>
                </a:moveTo>
                <a:lnTo>
                  <a:pt x="73" y="14"/>
                </a:lnTo>
                <a:lnTo>
                  <a:pt x="64" y="15"/>
                </a:lnTo>
                <a:lnTo>
                  <a:pt x="56" y="15"/>
                </a:lnTo>
                <a:lnTo>
                  <a:pt x="47" y="17"/>
                </a:lnTo>
                <a:lnTo>
                  <a:pt x="38" y="18"/>
                </a:lnTo>
                <a:lnTo>
                  <a:pt x="29" y="19"/>
                </a:lnTo>
                <a:lnTo>
                  <a:pt x="21" y="21"/>
                </a:lnTo>
                <a:lnTo>
                  <a:pt x="13" y="23"/>
                </a:lnTo>
                <a:lnTo>
                  <a:pt x="11" y="22"/>
                </a:lnTo>
                <a:lnTo>
                  <a:pt x="6" y="20"/>
                </a:lnTo>
                <a:lnTo>
                  <a:pt x="3" y="18"/>
                </a:lnTo>
                <a:lnTo>
                  <a:pt x="0" y="13"/>
                </a:lnTo>
                <a:lnTo>
                  <a:pt x="0" y="8"/>
                </a:lnTo>
                <a:lnTo>
                  <a:pt x="3" y="5"/>
                </a:lnTo>
                <a:lnTo>
                  <a:pt x="5" y="2"/>
                </a:lnTo>
                <a:lnTo>
                  <a:pt x="9" y="0"/>
                </a:lnTo>
                <a:lnTo>
                  <a:pt x="81" y="6"/>
                </a:lnTo>
                <a:lnTo>
                  <a:pt x="81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581880" y="1278000"/>
            <a:ext cx="149040" cy="75960"/>
          </a:xfrm>
          <a:custGeom>
            <a:avLst/>
            <a:gdLst/>
            <a:ahLst/>
            <a:rect l="l" t="t" r="r" b="b"/>
            <a:pathLst>
              <a:path w="613" h="285">
                <a:moveTo>
                  <a:pt x="611" y="14"/>
                </a:moveTo>
                <a:lnTo>
                  <a:pt x="606" y="16"/>
                </a:lnTo>
                <a:lnTo>
                  <a:pt x="602" y="17"/>
                </a:lnTo>
                <a:lnTo>
                  <a:pt x="597" y="17"/>
                </a:lnTo>
                <a:lnTo>
                  <a:pt x="594" y="18"/>
                </a:lnTo>
                <a:lnTo>
                  <a:pt x="589" y="19"/>
                </a:lnTo>
                <a:lnTo>
                  <a:pt x="584" y="19"/>
                </a:lnTo>
                <a:lnTo>
                  <a:pt x="580" y="20"/>
                </a:lnTo>
                <a:lnTo>
                  <a:pt x="575" y="23"/>
                </a:lnTo>
                <a:lnTo>
                  <a:pt x="552" y="34"/>
                </a:lnTo>
                <a:lnTo>
                  <a:pt x="529" y="45"/>
                </a:lnTo>
                <a:lnTo>
                  <a:pt x="506" y="55"/>
                </a:lnTo>
                <a:lnTo>
                  <a:pt x="483" y="64"/>
                </a:lnTo>
                <a:lnTo>
                  <a:pt x="460" y="75"/>
                </a:lnTo>
                <a:lnTo>
                  <a:pt x="437" y="84"/>
                </a:lnTo>
                <a:lnTo>
                  <a:pt x="415" y="95"/>
                </a:lnTo>
                <a:lnTo>
                  <a:pt x="393" y="107"/>
                </a:lnTo>
                <a:lnTo>
                  <a:pt x="369" y="118"/>
                </a:lnTo>
                <a:lnTo>
                  <a:pt x="345" y="130"/>
                </a:lnTo>
                <a:lnTo>
                  <a:pt x="321" y="141"/>
                </a:lnTo>
                <a:lnTo>
                  <a:pt x="296" y="152"/>
                </a:lnTo>
                <a:lnTo>
                  <a:pt x="272" y="163"/>
                </a:lnTo>
                <a:lnTo>
                  <a:pt x="247" y="175"/>
                </a:lnTo>
                <a:lnTo>
                  <a:pt x="223" y="185"/>
                </a:lnTo>
                <a:lnTo>
                  <a:pt x="198" y="196"/>
                </a:lnTo>
                <a:lnTo>
                  <a:pt x="174" y="207"/>
                </a:lnTo>
                <a:lnTo>
                  <a:pt x="150" y="217"/>
                </a:lnTo>
                <a:lnTo>
                  <a:pt x="126" y="229"/>
                </a:lnTo>
                <a:lnTo>
                  <a:pt x="102" y="240"/>
                </a:lnTo>
                <a:lnTo>
                  <a:pt x="77" y="251"/>
                </a:lnTo>
                <a:lnTo>
                  <a:pt x="53" y="262"/>
                </a:lnTo>
                <a:lnTo>
                  <a:pt x="29" y="274"/>
                </a:lnTo>
                <a:lnTo>
                  <a:pt x="5" y="285"/>
                </a:lnTo>
                <a:lnTo>
                  <a:pt x="3" y="283"/>
                </a:lnTo>
                <a:lnTo>
                  <a:pt x="1" y="282"/>
                </a:lnTo>
                <a:lnTo>
                  <a:pt x="0" y="280"/>
                </a:lnTo>
                <a:lnTo>
                  <a:pt x="0" y="277"/>
                </a:lnTo>
                <a:lnTo>
                  <a:pt x="21" y="268"/>
                </a:lnTo>
                <a:lnTo>
                  <a:pt x="41" y="259"/>
                </a:lnTo>
                <a:lnTo>
                  <a:pt x="61" y="250"/>
                </a:lnTo>
                <a:lnTo>
                  <a:pt x="82" y="240"/>
                </a:lnTo>
                <a:lnTo>
                  <a:pt x="102" y="230"/>
                </a:lnTo>
                <a:lnTo>
                  <a:pt x="122" y="221"/>
                </a:lnTo>
                <a:lnTo>
                  <a:pt x="142" y="211"/>
                </a:lnTo>
                <a:lnTo>
                  <a:pt x="163" y="200"/>
                </a:lnTo>
                <a:lnTo>
                  <a:pt x="182" y="191"/>
                </a:lnTo>
                <a:lnTo>
                  <a:pt x="203" y="182"/>
                </a:lnTo>
                <a:lnTo>
                  <a:pt x="224" y="171"/>
                </a:lnTo>
                <a:lnTo>
                  <a:pt x="243" y="162"/>
                </a:lnTo>
                <a:lnTo>
                  <a:pt x="264" y="153"/>
                </a:lnTo>
                <a:lnTo>
                  <a:pt x="285" y="145"/>
                </a:lnTo>
                <a:lnTo>
                  <a:pt x="306" y="136"/>
                </a:lnTo>
                <a:lnTo>
                  <a:pt x="326" y="128"/>
                </a:lnTo>
                <a:lnTo>
                  <a:pt x="344" y="118"/>
                </a:lnTo>
                <a:lnTo>
                  <a:pt x="361" y="110"/>
                </a:lnTo>
                <a:lnTo>
                  <a:pt x="378" y="101"/>
                </a:lnTo>
                <a:lnTo>
                  <a:pt x="395" y="93"/>
                </a:lnTo>
                <a:lnTo>
                  <a:pt x="413" y="84"/>
                </a:lnTo>
                <a:lnTo>
                  <a:pt x="430" y="76"/>
                </a:lnTo>
                <a:lnTo>
                  <a:pt x="447" y="67"/>
                </a:lnTo>
                <a:lnTo>
                  <a:pt x="465" y="58"/>
                </a:lnTo>
                <a:lnTo>
                  <a:pt x="482" y="50"/>
                </a:lnTo>
                <a:lnTo>
                  <a:pt x="499" y="42"/>
                </a:lnTo>
                <a:lnTo>
                  <a:pt x="516" y="34"/>
                </a:lnTo>
                <a:lnTo>
                  <a:pt x="534" y="27"/>
                </a:lnTo>
                <a:lnTo>
                  <a:pt x="552" y="19"/>
                </a:lnTo>
                <a:lnTo>
                  <a:pt x="569" y="12"/>
                </a:lnTo>
                <a:lnTo>
                  <a:pt x="588" y="5"/>
                </a:lnTo>
                <a:lnTo>
                  <a:pt x="606" y="0"/>
                </a:lnTo>
                <a:lnTo>
                  <a:pt x="610" y="3"/>
                </a:lnTo>
                <a:lnTo>
                  <a:pt x="612" y="7"/>
                </a:lnTo>
                <a:lnTo>
                  <a:pt x="613" y="10"/>
                </a:lnTo>
                <a:lnTo>
                  <a:pt x="611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21480" y="1278000"/>
            <a:ext cx="3240" cy="3240"/>
          </a:xfrm>
          <a:custGeom>
            <a:avLst/>
            <a:gdLst/>
            <a:ahLst/>
            <a:rect l="l" t="t" r="r" b="b"/>
            <a:pathLst>
              <a:path w="12" h="11">
                <a:moveTo>
                  <a:pt x="12" y="0"/>
                </a:moveTo>
                <a:lnTo>
                  <a:pt x="12" y="5"/>
                </a:lnTo>
                <a:lnTo>
                  <a:pt x="8" y="7"/>
                </a:lnTo>
                <a:lnTo>
                  <a:pt x="3" y="8"/>
                </a:lnTo>
                <a:lnTo>
                  <a:pt x="0" y="11"/>
                </a:lnTo>
                <a:lnTo>
                  <a:pt x="0" y="6"/>
                </a:lnTo>
                <a:lnTo>
                  <a:pt x="2" y="2"/>
                </a:lnTo>
                <a:lnTo>
                  <a:pt x="7" y="0"/>
                </a:lnTo>
                <a:lnTo>
                  <a:pt x="12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632640" y="1281240"/>
            <a:ext cx="6120" cy="4680"/>
          </a:xfrm>
          <a:custGeom>
            <a:avLst/>
            <a:gdLst/>
            <a:ahLst/>
            <a:rect l="l" t="t" r="r" b="b"/>
            <a:pathLst>
              <a:path w="28" h="19">
                <a:moveTo>
                  <a:pt x="27" y="11"/>
                </a:moveTo>
                <a:lnTo>
                  <a:pt x="21" y="13"/>
                </a:lnTo>
                <a:lnTo>
                  <a:pt x="14" y="16"/>
                </a:lnTo>
                <a:lnTo>
                  <a:pt x="7" y="19"/>
                </a:lnTo>
                <a:lnTo>
                  <a:pt x="0" y="16"/>
                </a:lnTo>
                <a:lnTo>
                  <a:pt x="4" y="11"/>
                </a:lnTo>
                <a:lnTo>
                  <a:pt x="10" y="6"/>
                </a:lnTo>
                <a:lnTo>
                  <a:pt x="17" y="4"/>
                </a:lnTo>
                <a:lnTo>
                  <a:pt x="23" y="0"/>
                </a:lnTo>
                <a:lnTo>
                  <a:pt x="25" y="2"/>
                </a:lnTo>
                <a:lnTo>
                  <a:pt x="27" y="4"/>
                </a:lnTo>
                <a:lnTo>
                  <a:pt x="28" y="7"/>
                </a:lnTo>
                <a:lnTo>
                  <a:pt x="27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716880" y="1285920"/>
            <a:ext cx="18720" cy="11160"/>
          </a:xfrm>
          <a:custGeom>
            <a:avLst/>
            <a:gdLst/>
            <a:ahLst/>
            <a:rect l="l" t="t" r="r" b="b"/>
            <a:pathLst>
              <a:path w="76" h="38">
                <a:moveTo>
                  <a:pt x="74" y="10"/>
                </a:moveTo>
                <a:lnTo>
                  <a:pt x="64" y="15"/>
                </a:lnTo>
                <a:lnTo>
                  <a:pt x="55" y="19"/>
                </a:lnTo>
                <a:lnTo>
                  <a:pt x="46" y="24"/>
                </a:lnTo>
                <a:lnTo>
                  <a:pt x="37" y="30"/>
                </a:lnTo>
                <a:lnTo>
                  <a:pt x="29" y="33"/>
                </a:lnTo>
                <a:lnTo>
                  <a:pt x="19" y="37"/>
                </a:lnTo>
                <a:lnTo>
                  <a:pt x="10" y="38"/>
                </a:lnTo>
                <a:lnTo>
                  <a:pt x="0" y="37"/>
                </a:lnTo>
                <a:lnTo>
                  <a:pt x="0" y="31"/>
                </a:lnTo>
                <a:lnTo>
                  <a:pt x="8" y="26"/>
                </a:lnTo>
                <a:lnTo>
                  <a:pt x="17" y="22"/>
                </a:lnTo>
                <a:lnTo>
                  <a:pt x="25" y="17"/>
                </a:lnTo>
                <a:lnTo>
                  <a:pt x="34" y="14"/>
                </a:lnTo>
                <a:lnTo>
                  <a:pt x="44" y="10"/>
                </a:lnTo>
                <a:lnTo>
                  <a:pt x="53" y="7"/>
                </a:lnTo>
                <a:lnTo>
                  <a:pt x="62" y="3"/>
                </a:lnTo>
                <a:lnTo>
                  <a:pt x="71" y="0"/>
                </a:lnTo>
                <a:lnTo>
                  <a:pt x="74" y="1"/>
                </a:lnTo>
                <a:lnTo>
                  <a:pt x="75" y="4"/>
                </a:lnTo>
                <a:lnTo>
                  <a:pt x="76" y="7"/>
                </a:lnTo>
                <a:lnTo>
                  <a:pt x="74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624720" y="1287360"/>
            <a:ext cx="3240" cy="324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3"/>
                </a:moveTo>
                <a:lnTo>
                  <a:pt x="18" y="6"/>
                </a:lnTo>
                <a:lnTo>
                  <a:pt x="17" y="8"/>
                </a:lnTo>
                <a:lnTo>
                  <a:pt x="13" y="9"/>
                </a:lnTo>
                <a:lnTo>
                  <a:pt x="11" y="12"/>
                </a:lnTo>
                <a:lnTo>
                  <a:pt x="8" y="12"/>
                </a:lnTo>
                <a:lnTo>
                  <a:pt x="5" y="12"/>
                </a:lnTo>
                <a:lnTo>
                  <a:pt x="3" y="11"/>
                </a:lnTo>
                <a:lnTo>
                  <a:pt x="0" y="9"/>
                </a:lnTo>
                <a:lnTo>
                  <a:pt x="4" y="6"/>
                </a:lnTo>
                <a:lnTo>
                  <a:pt x="7" y="3"/>
                </a:lnTo>
                <a:lnTo>
                  <a:pt x="13" y="0"/>
                </a:lnTo>
                <a:lnTo>
                  <a:pt x="18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635880" y="1287360"/>
            <a:ext cx="19080" cy="11160"/>
          </a:xfrm>
          <a:custGeom>
            <a:avLst/>
            <a:gdLst/>
            <a:ahLst/>
            <a:rect l="l" t="t" r="r" b="b"/>
            <a:pathLst>
              <a:path w="77" h="40">
                <a:moveTo>
                  <a:pt x="77" y="0"/>
                </a:moveTo>
                <a:lnTo>
                  <a:pt x="74" y="3"/>
                </a:lnTo>
                <a:lnTo>
                  <a:pt x="69" y="6"/>
                </a:lnTo>
                <a:lnTo>
                  <a:pt x="65" y="9"/>
                </a:lnTo>
                <a:lnTo>
                  <a:pt x="60" y="11"/>
                </a:lnTo>
                <a:lnTo>
                  <a:pt x="55" y="15"/>
                </a:lnTo>
                <a:lnTo>
                  <a:pt x="51" y="17"/>
                </a:lnTo>
                <a:lnTo>
                  <a:pt x="45" y="18"/>
                </a:lnTo>
                <a:lnTo>
                  <a:pt x="40" y="20"/>
                </a:lnTo>
                <a:lnTo>
                  <a:pt x="38" y="20"/>
                </a:lnTo>
                <a:lnTo>
                  <a:pt x="37" y="20"/>
                </a:lnTo>
                <a:lnTo>
                  <a:pt x="36" y="19"/>
                </a:lnTo>
                <a:lnTo>
                  <a:pt x="36" y="19"/>
                </a:lnTo>
                <a:lnTo>
                  <a:pt x="32" y="23"/>
                </a:lnTo>
                <a:lnTo>
                  <a:pt x="29" y="26"/>
                </a:lnTo>
                <a:lnTo>
                  <a:pt x="24" y="30"/>
                </a:lnTo>
                <a:lnTo>
                  <a:pt x="20" y="32"/>
                </a:lnTo>
                <a:lnTo>
                  <a:pt x="15" y="34"/>
                </a:lnTo>
                <a:lnTo>
                  <a:pt x="10" y="36"/>
                </a:lnTo>
                <a:lnTo>
                  <a:pt x="5" y="38"/>
                </a:lnTo>
                <a:lnTo>
                  <a:pt x="0" y="40"/>
                </a:lnTo>
                <a:lnTo>
                  <a:pt x="6" y="32"/>
                </a:lnTo>
                <a:lnTo>
                  <a:pt x="14" y="25"/>
                </a:lnTo>
                <a:lnTo>
                  <a:pt x="23" y="21"/>
                </a:lnTo>
                <a:lnTo>
                  <a:pt x="32" y="20"/>
                </a:lnTo>
                <a:lnTo>
                  <a:pt x="37" y="17"/>
                </a:lnTo>
                <a:lnTo>
                  <a:pt x="42" y="12"/>
                </a:lnTo>
                <a:lnTo>
                  <a:pt x="47" y="9"/>
                </a:lnTo>
                <a:lnTo>
                  <a:pt x="53" y="5"/>
                </a:lnTo>
                <a:lnTo>
                  <a:pt x="59" y="3"/>
                </a:lnTo>
                <a:lnTo>
                  <a:pt x="65" y="1"/>
                </a:lnTo>
                <a:lnTo>
                  <a:pt x="71" y="0"/>
                </a:lnTo>
                <a:lnTo>
                  <a:pt x="7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751800" y="1289160"/>
            <a:ext cx="21960" cy="4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92" y="11"/>
                </a:moveTo>
                <a:lnTo>
                  <a:pt x="81" y="12"/>
                </a:lnTo>
                <a:lnTo>
                  <a:pt x="70" y="14"/>
                </a:lnTo>
                <a:lnTo>
                  <a:pt x="58" y="15"/>
                </a:lnTo>
                <a:lnTo>
                  <a:pt x="46" y="15"/>
                </a:lnTo>
                <a:lnTo>
                  <a:pt x="35" y="17"/>
                </a:lnTo>
                <a:lnTo>
                  <a:pt x="23" y="17"/>
                </a:lnTo>
                <a:lnTo>
                  <a:pt x="13" y="15"/>
                </a:lnTo>
                <a:lnTo>
                  <a:pt x="2" y="14"/>
                </a:lnTo>
                <a:lnTo>
                  <a:pt x="0" y="13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7" y="0"/>
                </a:lnTo>
                <a:lnTo>
                  <a:pt x="92" y="4"/>
                </a:lnTo>
                <a:lnTo>
                  <a:pt x="92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11760" y="1292400"/>
            <a:ext cx="6480" cy="4680"/>
          </a:xfrm>
          <a:custGeom>
            <a:avLst/>
            <a:gdLst/>
            <a:ahLst/>
            <a:rect l="l" t="t" r="r" b="b"/>
            <a:pathLst>
              <a:path w="31" h="14">
                <a:moveTo>
                  <a:pt x="31" y="1"/>
                </a:moveTo>
                <a:lnTo>
                  <a:pt x="24" y="6"/>
                </a:lnTo>
                <a:lnTo>
                  <a:pt x="18" y="10"/>
                </a:lnTo>
                <a:lnTo>
                  <a:pt x="8" y="14"/>
                </a:lnTo>
                <a:lnTo>
                  <a:pt x="0" y="13"/>
                </a:lnTo>
                <a:lnTo>
                  <a:pt x="8" y="9"/>
                </a:lnTo>
                <a:lnTo>
                  <a:pt x="15" y="3"/>
                </a:lnTo>
                <a:lnTo>
                  <a:pt x="23" y="0"/>
                </a:lnTo>
                <a:lnTo>
                  <a:pt x="31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730920" y="1297080"/>
            <a:ext cx="6480" cy="6120"/>
          </a:xfrm>
          <a:custGeom>
            <a:avLst/>
            <a:gdLst/>
            <a:ahLst/>
            <a:rect l="l" t="t" r="r" b="b"/>
            <a:pathLst>
              <a:path w="24" h="22">
                <a:moveTo>
                  <a:pt x="24" y="11"/>
                </a:moveTo>
                <a:lnTo>
                  <a:pt x="20" y="15"/>
                </a:lnTo>
                <a:lnTo>
                  <a:pt x="16" y="19"/>
                </a:lnTo>
                <a:lnTo>
                  <a:pt x="10" y="22"/>
                </a:lnTo>
                <a:lnTo>
                  <a:pt x="3" y="21"/>
                </a:lnTo>
                <a:lnTo>
                  <a:pt x="0" y="16"/>
                </a:lnTo>
                <a:lnTo>
                  <a:pt x="5" y="9"/>
                </a:lnTo>
                <a:lnTo>
                  <a:pt x="14" y="3"/>
                </a:lnTo>
                <a:lnTo>
                  <a:pt x="22" y="0"/>
                </a:lnTo>
                <a:lnTo>
                  <a:pt x="24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605640" y="1298520"/>
            <a:ext cx="28440" cy="15840"/>
          </a:xfrm>
          <a:custGeom>
            <a:avLst/>
            <a:gdLst/>
            <a:ahLst/>
            <a:rect l="l" t="t" r="r" b="b"/>
            <a:pathLst>
              <a:path w="120" h="61">
                <a:moveTo>
                  <a:pt x="120" y="3"/>
                </a:moveTo>
                <a:lnTo>
                  <a:pt x="106" y="12"/>
                </a:lnTo>
                <a:lnTo>
                  <a:pt x="92" y="18"/>
                </a:lnTo>
                <a:lnTo>
                  <a:pt x="77" y="27"/>
                </a:lnTo>
                <a:lnTo>
                  <a:pt x="62" y="33"/>
                </a:lnTo>
                <a:lnTo>
                  <a:pt x="47" y="40"/>
                </a:lnTo>
                <a:lnTo>
                  <a:pt x="32" y="47"/>
                </a:lnTo>
                <a:lnTo>
                  <a:pt x="17" y="54"/>
                </a:lnTo>
                <a:lnTo>
                  <a:pt x="2" y="61"/>
                </a:lnTo>
                <a:lnTo>
                  <a:pt x="0" y="60"/>
                </a:lnTo>
                <a:lnTo>
                  <a:pt x="14" y="51"/>
                </a:lnTo>
                <a:lnTo>
                  <a:pt x="28" y="43"/>
                </a:lnTo>
                <a:lnTo>
                  <a:pt x="43" y="35"/>
                </a:lnTo>
                <a:lnTo>
                  <a:pt x="57" y="27"/>
                </a:lnTo>
                <a:lnTo>
                  <a:pt x="72" y="20"/>
                </a:lnTo>
                <a:lnTo>
                  <a:pt x="87" y="13"/>
                </a:lnTo>
                <a:lnTo>
                  <a:pt x="102" y="6"/>
                </a:lnTo>
                <a:lnTo>
                  <a:pt x="117" y="0"/>
                </a:lnTo>
                <a:lnTo>
                  <a:pt x="120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599160" y="1300320"/>
            <a:ext cx="6480" cy="2880"/>
          </a:xfrm>
          <a:custGeom>
            <a:avLst/>
            <a:gdLst/>
            <a:ahLst/>
            <a:rect l="l" t="t" r="r" b="b"/>
            <a:pathLst>
              <a:path w="25" h="13">
                <a:moveTo>
                  <a:pt x="25" y="0"/>
                </a:moveTo>
                <a:lnTo>
                  <a:pt x="20" y="5"/>
                </a:lnTo>
                <a:lnTo>
                  <a:pt x="16" y="8"/>
                </a:lnTo>
                <a:lnTo>
                  <a:pt x="9" y="10"/>
                </a:lnTo>
                <a:lnTo>
                  <a:pt x="3" y="13"/>
                </a:lnTo>
                <a:lnTo>
                  <a:pt x="0" y="10"/>
                </a:lnTo>
                <a:lnTo>
                  <a:pt x="5" y="6"/>
                </a:lnTo>
                <a:lnTo>
                  <a:pt x="12" y="2"/>
                </a:lnTo>
                <a:lnTo>
                  <a:pt x="18" y="0"/>
                </a:lnTo>
                <a:lnTo>
                  <a:pt x="25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753240" y="1301760"/>
            <a:ext cx="22320" cy="4680"/>
          </a:xfrm>
          <a:custGeom>
            <a:avLst/>
            <a:gdLst/>
            <a:ahLst/>
            <a:rect l="l" t="t" r="r" b="b"/>
            <a:pathLst>
              <a:path w="91" h="20">
                <a:moveTo>
                  <a:pt x="91" y="4"/>
                </a:moveTo>
                <a:lnTo>
                  <a:pt x="91" y="10"/>
                </a:lnTo>
                <a:lnTo>
                  <a:pt x="79" y="12"/>
                </a:lnTo>
                <a:lnTo>
                  <a:pt x="69" y="13"/>
                </a:lnTo>
                <a:lnTo>
                  <a:pt x="57" y="13"/>
                </a:lnTo>
                <a:lnTo>
                  <a:pt x="47" y="14"/>
                </a:lnTo>
                <a:lnTo>
                  <a:pt x="37" y="15"/>
                </a:lnTo>
                <a:lnTo>
                  <a:pt x="26" y="17"/>
                </a:lnTo>
                <a:lnTo>
                  <a:pt x="16" y="18"/>
                </a:lnTo>
                <a:lnTo>
                  <a:pt x="4" y="20"/>
                </a:lnTo>
                <a:lnTo>
                  <a:pt x="1" y="18"/>
                </a:lnTo>
                <a:lnTo>
                  <a:pt x="0" y="13"/>
                </a:lnTo>
                <a:lnTo>
                  <a:pt x="0" y="8"/>
                </a:lnTo>
                <a:lnTo>
                  <a:pt x="0" y="4"/>
                </a:lnTo>
                <a:lnTo>
                  <a:pt x="4" y="0"/>
                </a:lnTo>
                <a:lnTo>
                  <a:pt x="15" y="0"/>
                </a:lnTo>
                <a:lnTo>
                  <a:pt x="26" y="0"/>
                </a:lnTo>
                <a:lnTo>
                  <a:pt x="37" y="0"/>
                </a:lnTo>
                <a:lnTo>
                  <a:pt x="48" y="0"/>
                </a:lnTo>
                <a:lnTo>
                  <a:pt x="58" y="2"/>
                </a:lnTo>
                <a:lnTo>
                  <a:pt x="70" y="2"/>
                </a:lnTo>
                <a:lnTo>
                  <a:pt x="80" y="3"/>
                </a:lnTo>
                <a:lnTo>
                  <a:pt x="9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585120" y="1306440"/>
            <a:ext cx="9360" cy="6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34" y="2"/>
                </a:moveTo>
                <a:lnTo>
                  <a:pt x="31" y="8"/>
                </a:lnTo>
                <a:lnTo>
                  <a:pt x="27" y="14"/>
                </a:lnTo>
                <a:lnTo>
                  <a:pt x="20" y="17"/>
                </a:lnTo>
                <a:lnTo>
                  <a:pt x="13" y="21"/>
                </a:lnTo>
                <a:lnTo>
                  <a:pt x="10" y="21"/>
                </a:lnTo>
                <a:lnTo>
                  <a:pt x="6" y="20"/>
                </a:lnTo>
                <a:lnTo>
                  <a:pt x="3" y="18"/>
                </a:lnTo>
                <a:lnTo>
                  <a:pt x="0" y="16"/>
                </a:lnTo>
                <a:lnTo>
                  <a:pt x="8" y="12"/>
                </a:lnTo>
                <a:lnTo>
                  <a:pt x="17" y="7"/>
                </a:lnTo>
                <a:lnTo>
                  <a:pt x="25" y="2"/>
                </a:lnTo>
                <a:lnTo>
                  <a:pt x="33" y="0"/>
                </a:lnTo>
                <a:lnTo>
                  <a:pt x="3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583320" y="1311120"/>
            <a:ext cx="106560" cy="57240"/>
          </a:xfrm>
          <a:custGeom>
            <a:avLst/>
            <a:gdLst/>
            <a:ahLst/>
            <a:rect l="l" t="t" r="r" b="b"/>
            <a:pathLst>
              <a:path w="439" h="211">
                <a:moveTo>
                  <a:pt x="438" y="8"/>
                </a:moveTo>
                <a:lnTo>
                  <a:pt x="410" y="20"/>
                </a:lnTo>
                <a:lnTo>
                  <a:pt x="383" y="33"/>
                </a:lnTo>
                <a:lnTo>
                  <a:pt x="355" y="44"/>
                </a:lnTo>
                <a:lnTo>
                  <a:pt x="327" y="57"/>
                </a:lnTo>
                <a:lnTo>
                  <a:pt x="300" y="70"/>
                </a:lnTo>
                <a:lnTo>
                  <a:pt x="272" y="82"/>
                </a:lnTo>
                <a:lnTo>
                  <a:pt x="244" y="95"/>
                </a:lnTo>
                <a:lnTo>
                  <a:pt x="218" y="108"/>
                </a:lnTo>
                <a:lnTo>
                  <a:pt x="190" y="121"/>
                </a:lnTo>
                <a:lnTo>
                  <a:pt x="164" y="134"/>
                </a:lnTo>
                <a:lnTo>
                  <a:pt x="136" y="147"/>
                </a:lnTo>
                <a:lnTo>
                  <a:pt x="109" y="161"/>
                </a:lnTo>
                <a:lnTo>
                  <a:pt x="82" y="173"/>
                </a:lnTo>
                <a:lnTo>
                  <a:pt x="54" y="186"/>
                </a:lnTo>
                <a:lnTo>
                  <a:pt x="28" y="199"/>
                </a:lnTo>
                <a:lnTo>
                  <a:pt x="0" y="211"/>
                </a:lnTo>
                <a:lnTo>
                  <a:pt x="0" y="206"/>
                </a:lnTo>
                <a:lnTo>
                  <a:pt x="27" y="193"/>
                </a:lnTo>
                <a:lnTo>
                  <a:pt x="53" y="180"/>
                </a:lnTo>
                <a:lnTo>
                  <a:pt x="80" y="167"/>
                </a:lnTo>
                <a:lnTo>
                  <a:pt x="105" y="155"/>
                </a:lnTo>
                <a:lnTo>
                  <a:pt x="131" y="142"/>
                </a:lnTo>
                <a:lnTo>
                  <a:pt x="158" y="128"/>
                </a:lnTo>
                <a:lnTo>
                  <a:pt x="183" y="116"/>
                </a:lnTo>
                <a:lnTo>
                  <a:pt x="210" y="102"/>
                </a:lnTo>
                <a:lnTo>
                  <a:pt x="236" y="89"/>
                </a:lnTo>
                <a:lnTo>
                  <a:pt x="263" y="76"/>
                </a:lnTo>
                <a:lnTo>
                  <a:pt x="288" y="64"/>
                </a:lnTo>
                <a:lnTo>
                  <a:pt x="315" y="51"/>
                </a:lnTo>
                <a:lnTo>
                  <a:pt x="342" y="40"/>
                </a:lnTo>
                <a:lnTo>
                  <a:pt x="369" y="28"/>
                </a:lnTo>
                <a:lnTo>
                  <a:pt x="395" y="18"/>
                </a:lnTo>
                <a:lnTo>
                  <a:pt x="423" y="7"/>
                </a:lnTo>
                <a:lnTo>
                  <a:pt x="425" y="4"/>
                </a:lnTo>
                <a:lnTo>
                  <a:pt x="429" y="2"/>
                </a:lnTo>
                <a:lnTo>
                  <a:pt x="433" y="0"/>
                </a:lnTo>
                <a:lnTo>
                  <a:pt x="439" y="2"/>
                </a:lnTo>
                <a:lnTo>
                  <a:pt x="438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746760" y="1314360"/>
            <a:ext cx="20880" cy="3240"/>
          </a:xfrm>
          <a:custGeom>
            <a:avLst/>
            <a:gdLst/>
            <a:ahLst/>
            <a:rect l="l" t="t" r="r" b="b"/>
            <a:pathLst>
              <a:path w="87" h="17">
                <a:moveTo>
                  <a:pt x="87" y="0"/>
                </a:moveTo>
                <a:lnTo>
                  <a:pt x="83" y="9"/>
                </a:lnTo>
                <a:lnTo>
                  <a:pt x="75" y="11"/>
                </a:lnTo>
                <a:lnTo>
                  <a:pt x="65" y="12"/>
                </a:lnTo>
                <a:lnTo>
                  <a:pt x="57" y="14"/>
                </a:lnTo>
                <a:lnTo>
                  <a:pt x="49" y="13"/>
                </a:lnTo>
                <a:lnTo>
                  <a:pt x="40" y="13"/>
                </a:lnTo>
                <a:lnTo>
                  <a:pt x="32" y="14"/>
                </a:lnTo>
                <a:lnTo>
                  <a:pt x="25" y="15"/>
                </a:lnTo>
                <a:lnTo>
                  <a:pt x="19" y="17"/>
                </a:lnTo>
                <a:lnTo>
                  <a:pt x="13" y="17"/>
                </a:lnTo>
                <a:lnTo>
                  <a:pt x="6" y="15"/>
                </a:lnTo>
                <a:lnTo>
                  <a:pt x="0" y="12"/>
                </a:lnTo>
                <a:lnTo>
                  <a:pt x="1" y="5"/>
                </a:lnTo>
                <a:lnTo>
                  <a:pt x="6" y="2"/>
                </a:lnTo>
                <a:lnTo>
                  <a:pt x="12" y="0"/>
                </a:lnTo>
                <a:lnTo>
                  <a:pt x="16" y="0"/>
                </a:lnTo>
                <a:lnTo>
                  <a:pt x="24" y="0"/>
                </a:lnTo>
                <a:lnTo>
                  <a:pt x="34" y="0"/>
                </a:lnTo>
                <a:lnTo>
                  <a:pt x="42" y="0"/>
                </a:lnTo>
                <a:lnTo>
                  <a:pt x="52" y="0"/>
                </a:lnTo>
                <a:lnTo>
                  <a:pt x="61" y="0"/>
                </a:lnTo>
                <a:lnTo>
                  <a:pt x="69" y="0"/>
                </a:lnTo>
                <a:lnTo>
                  <a:pt x="78" y="0"/>
                </a:lnTo>
                <a:lnTo>
                  <a:pt x="8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593040" y="1317600"/>
            <a:ext cx="7920" cy="3240"/>
          </a:xfrm>
          <a:custGeom>
            <a:avLst/>
            <a:gdLst/>
            <a:ahLst/>
            <a:rect l="l" t="t" r="r" b="b"/>
            <a:pathLst>
              <a:path w="26" h="15">
                <a:moveTo>
                  <a:pt x="26" y="5"/>
                </a:moveTo>
                <a:lnTo>
                  <a:pt x="20" y="9"/>
                </a:lnTo>
                <a:lnTo>
                  <a:pt x="15" y="13"/>
                </a:lnTo>
                <a:lnTo>
                  <a:pt x="8" y="15"/>
                </a:lnTo>
                <a:lnTo>
                  <a:pt x="1" y="15"/>
                </a:lnTo>
                <a:lnTo>
                  <a:pt x="1" y="14"/>
                </a:lnTo>
                <a:lnTo>
                  <a:pt x="1" y="13"/>
                </a:lnTo>
                <a:lnTo>
                  <a:pt x="0" y="13"/>
                </a:lnTo>
                <a:lnTo>
                  <a:pt x="0" y="12"/>
                </a:lnTo>
                <a:lnTo>
                  <a:pt x="5" y="7"/>
                </a:lnTo>
                <a:lnTo>
                  <a:pt x="13" y="2"/>
                </a:lnTo>
                <a:lnTo>
                  <a:pt x="20" y="0"/>
                </a:lnTo>
                <a:lnTo>
                  <a:pt x="26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583320" y="1324080"/>
            <a:ext cx="4680" cy="3240"/>
          </a:xfrm>
          <a:custGeom>
            <a:avLst/>
            <a:gdLst/>
            <a:ahLst/>
            <a:rect l="l" t="t" r="r" b="b"/>
            <a:pathLst>
              <a:path w="19" h="13">
                <a:moveTo>
                  <a:pt x="19" y="3"/>
                </a:moveTo>
                <a:lnTo>
                  <a:pt x="16" y="7"/>
                </a:lnTo>
                <a:lnTo>
                  <a:pt x="11" y="9"/>
                </a:lnTo>
                <a:lnTo>
                  <a:pt x="5" y="11"/>
                </a:lnTo>
                <a:lnTo>
                  <a:pt x="1" y="13"/>
                </a:lnTo>
                <a:lnTo>
                  <a:pt x="0" y="7"/>
                </a:lnTo>
                <a:lnTo>
                  <a:pt x="3" y="5"/>
                </a:lnTo>
                <a:lnTo>
                  <a:pt x="8" y="4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9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738840" y="1324080"/>
            <a:ext cx="15840" cy="4680"/>
          </a:xfrm>
          <a:custGeom>
            <a:avLst/>
            <a:gdLst/>
            <a:ahLst/>
            <a:rect l="l" t="t" r="r" b="b"/>
            <a:pathLst>
              <a:path w="61" h="17">
                <a:moveTo>
                  <a:pt x="59" y="15"/>
                </a:moveTo>
                <a:lnTo>
                  <a:pt x="51" y="14"/>
                </a:lnTo>
                <a:lnTo>
                  <a:pt x="43" y="15"/>
                </a:lnTo>
                <a:lnTo>
                  <a:pt x="35" y="15"/>
                </a:lnTo>
                <a:lnTo>
                  <a:pt x="28" y="16"/>
                </a:lnTo>
                <a:lnTo>
                  <a:pt x="22" y="17"/>
                </a:lnTo>
                <a:lnTo>
                  <a:pt x="15" y="17"/>
                </a:lnTo>
                <a:lnTo>
                  <a:pt x="7" y="16"/>
                </a:lnTo>
                <a:lnTo>
                  <a:pt x="0" y="13"/>
                </a:lnTo>
                <a:lnTo>
                  <a:pt x="5" y="8"/>
                </a:lnTo>
                <a:lnTo>
                  <a:pt x="11" y="5"/>
                </a:lnTo>
                <a:lnTo>
                  <a:pt x="18" y="1"/>
                </a:lnTo>
                <a:lnTo>
                  <a:pt x="25" y="0"/>
                </a:lnTo>
                <a:lnTo>
                  <a:pt x="29" y="4"/>
                </a:lnTo>
                <a:lnTo>
                  <a:pt x="36" y="5"/>
                </a:lnTo>
                <a:lnTo>
                  <a:pt x="43" y="5"/>
                </a:lnTo>
                <a:lnTo>
                  <a:pt x="51" y="4"/>
                </a:lnTo>
                <a:lnTo>
                  <a:pt x="57" y="3"/>
                </a:lnTo>
                <a:lnTo>
                  <a:pt x="60" y="4"/>
                </a:lnTo>
                <a:lnTo>
                  <a:pt x="61" y="7"/>
                </a:lnTo>
                <a:lnTo>
                  <a:pt x="59" y="1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707160" y="1325520"/>
            <a:ext cx="12600" cy="4680"/>
          </a:xfrm>
          <a:custGeom>
            <a:avLst/>
            <a:gdLst/>
            <a:ahLst/>
            <a:rect l="l" t="t" r="r" b="b"/>
            <a:pathLst>
              <a:path w="49" h="19">
                <a:moveTo>
                  <a:pt x="49" y="19"/>
                </a:moveTo>
                <a:lnTo>
                  <a:pt x="43" y="16"/>
                </a:lnTo>
                <a:lnTo>
                  <a:pt x="38" y="16"/>
                </a:lnTo>
                <a:lnTo>
                  <a:pt x="32" y="16"/>
                </a:lnTo>
                <a:lnTo>
                  <a:pt x="25" y="17"/>
                </a:lnTo>
                <a:lnTo>
                  <a:pt x="19" y="19"/>
                </a:lnTo>
                <a:lnTo>
                  <a:pt x="12" y="19"/>
                </a:lnTo>
                <a:lnTo>
                  <a:pt x="5" y="19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lnTo>
                  <a:pt x="2" y="4"/>
                </a:lnTo>
                <a:lnTo>
                  <a:pt x="5" y="0"/>
                </a:lnTo>
                <a:lnTo>
                  <a:pt x="11" y="4"/>
                </a:lnTo>
                <a:lnTo>
                  <a:pt x="18" y="4"/>
                </a:lnTo>
                <a:lnTo>
                  <a:pt x="26" y="4"/>
                </a:lnTo>
                <a:lnTo>
                  <a:pt x="34" y="4"/>
                </a:lnTo>
                <a:lnTo>
                  <a:pt x="41" y="4"/>
                </a:lnTo>
                <a:lnTo>
                  <a:pt x="47" y="6"/>
                </a:lnTo>
                <a:lnTo>
                  <a:pt x="49" y="10"/>
                </a:lnTo>
                <a:lnTo>
                  <a:pt x="49" y="1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540480" y="1327320"/>
            <a:ext cx="146160" cy="80640"/>
          </a:xfrm>
          <a:custGeom>
            <a:avLst/>
            <a:gdLst/>
            <a:ahLst/>
            <a:rect l="l" t="t" r="r" b="b"/>
            <a:pathLst>
              <a:path w="604" h="297">
                <a:moveTo>
                  <a:pt x="604" y="2"/>
                </a:moveTo>
                <a:lnTo>
                  <a:pt x="604" y="7"/>
                </a:lnTo>
                <a:lnTo>
                  <a:pt x="587" y="15"/>
                </a:lnTo>
                <a:lnTo>
                  <a:pt x="569" y="22"/>
                </a:lnTo>
                <a:lnTo>
                  <a:pt x="551" y="30"/>
                </a:lnTo>
                <a:lnTo>
                  <a:pt x="534" y="38"/>
                </a:lnTo>
                <a:lnTo>
                  <a:pt x="517" y="46"/>
                </a:lnTo>
                <a:lnTo>
                  <a:pt x="500" y="55"/>
                </a:lnTo>
                <a:lnTo>
                  <a:pt x="482" y="65"/>
                </a:lnTo>
                <a:lnTo>
                  <a:pt x="465" y="74"/>
                </a:lnTo>
                <a:lnTo>
                  <a:pt x="458" y="74"/>
                </a:lnTo>
                <a:lnTo>
                  <a:pt x="452" y="75"/>
                </a:lnTo>
                <a:lnTo>
                  <a:pt x="447" y="77"/>
                </a:lnTo>
                <a:lnTo>
                  <a:pt x="441" y="81"/>
                </a:lnTo>
                <a:lnTo>
                  <a:pt x="435" y="84"/>
                </a:lnTo>
                <a:lnTo>
                  <a:pt x="429" y="88"/>
                </a:lnTo>
                <a:lnTo>
                  <a:pt x="424" y="90"/>
                </a:lnTo>
                <a:lnTo>
                  <a:pt x="418" y="92"/>
                </a:lnTo>
                <a:lnTo>
                  <a:pt x="396" y="104"/>
                </a:lnTo>
                <a:lnTo>
                  <a:pt x="375" y="115"/>
                </a:lnTo>
                <a:lnTo>
                  <a:pt x="353" y="126"/>
                </a:lnTo>
                <a:lnTo>
                  <a:pt x="331" y="135"/>
                </a:lnTo>
                <a:lnTo>
                  <a:pt x="308" y="145"/>
                </a:lnTo>
                <a:lnTo>
                  <a:pt x="286" y="155"/>
                </a:lnTo>
                <a:lnTo>
                  <a:pt x="265" y="164"/>
                </a:lnTo>
                <a:lnTo>
                  <a:pt x="243" y="173"/>
                </a:lnTo>
                <a:lnTo>
                  <a:pt x="220" y="182"/>
                </a:lnTo>
                <a:lnTo>
                  <a:pt x="198" y="191"/>
                </a:lnTo>
                <a:lnTo>
                  <a:pt x="176" y="201"/>
                </a:lnTo>
                <a:lnTo>
                  <a:pt x="154" y="211"/>
                </a:lnTo>
                <a:lnTo>
                  <a:pt x="132" y="221"/>
                </a:lnTo>
                <a:lnTo>
                  <a:pt x="111" y="233"/>
                </a:lnTo>
                <a:lnTo>
                  <a:pt x="91" y="244"/>
                </a:lnTo>
                <a:lnTo>
                  <a:pt x="70" y="257"/>
                </a:lnTo>
                <a:lnTo>
                  <a:pt x="61" y="261"/>
                </a:lnTo>
                <a:lnTo>
                  <a:pt x="51" y="264"/>
                </a:lnTo>
                <a:lnTo>
                  <a:pt x="43" y="267"/>
                </a:lnTo>
                <a:lnTo>
                  <a:pt x="34" y="273"/>
                </a:lnTo>
                <a:lnTo>
                  <a:pt x="26" y="278"/>
                </a:lnTo>
                <a:lnTo>
                  <a:pt x="19" y="285"/>
                </a:lnTo>
                <a:lnTo>
                  <a:pt x="12" y="291"/>
                </a:lnTo>
                <a:lnTo>
                  <a:pt x="5" y="297"/>
                </a:lnTo>
                <a:lnTo>
                  <a:pt x="0" y="297"/>
                </a:lnTo>
                <a:lnTo>
                  <a:pt x="0" y="292"/>
                </a:lnTo>
                <a:lnTo>
                  <a:pt x="1" y="287"/>
                </a:lnTo>
                <a:lnTo>
                  <a:pt x="4" y="284"/>
                </a:lnTo>
                <a:lnTo>
                  <a:pt x="8" y="280"/>
                </a:lnTo>
                <a:lnTo>
                  <a:pt x="15" y="278"/>
                </a:lnTo>
                <a:lnTo>
                  <a:pt x="21" y="274"/>
                </a:lnTo>
                <a:lnTo>
                  <a:pt x="28" y="271"/>
                </a:lnTo>
                <a:lnTo>
                  <a:pt x="34" y="270"/>
                </a:lnTo>
                <a:lnTo>
                  <a:pt x="60" y="256"/>
                </a:lnTo>
                <a:lnTo>
                  <a:pt x="85" y="242"/>
                </a:lnTo>
                <a:lnTo>
                  <a:pt x="110" y="229"/>
                </a:lnTo>
                <a:lnTo>
                  <a:pt x="136" y="216"/>
                </a:lnTo>
                <a:lnTo>
                  <a:pt x="161" y="203"/>
                </a:lnTo>
                <a:lnTo>
                  <a:pt x="186" y="190"/>
                </a:lnTo>
                <a:lnTo>
                  <a:pt x="212" y="178"/>
                </a:lnTo>
                <a:lnTo>
                  <a:pt x="238" y="165"/>
                </a:lnTo>
                <a:lnTo>
                  <a:pt x="263" y="153"/>
                </a:lnTo>
                <a:lnTo>
                  <a:pt x="289" y="141"/>
                </a:lnTo>
                <a:lnTo>
                  <a:pt x="315" y="128"/>
                </a:lnTo>
                <a:lnTo>
                  <a:pt x="341" y="117"/>
                </a:lnTo>
                <a:lnTo>
                  <a:pt x="367" y="105"/>
                </a:lnTo>
                <a:lnTo>
                  <a:pt x="392" y="92"/>
                </a:lnTo>
                <a:lnTo>
                  <a:pt x="419" y="81"/>
                </a:lnTo>
                <a:lnTo>
                  <a:pt x="444" y="69"/>
                </a:lnTo>
                <a:lnTo>
                  <a:pt x="463" y="59"/>
                </a:lnTo>
                <a:lnTo>
                  <a:pt x="481" y="49"/>
                </a:lnTo>
                <a:lnTo>
                  <a:pt x="501" y="39"/>
                </a:lnTo>
                <a:lnTo>
                  <a:pt x="520" y="31"/>
                </a:lnTo>
                <a:lnTo>
                  <a:pt x="541" y="23"/>
                </a:lnTo>
                <a:lnTo>
                  <a:pt x="561" y="15"/>
                </a:lnTo>
                <a:lnTo>
                  <a:pt x="581" y="8"/>
                </a:lnTo>
                <a:lnTo>
                  <a:pt x="601" y="0"/>
                </a:lnTo>
                <a:lnTo>
                  <a:pt x="60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558120" y="1330200"/>
            <a:ext cx="12600" cy="33480"/>
          </a:xfrm>
          <a:custGeom>
            <a:avLst/>
            <a:gdLst/>
            <a:ahLst/>
            <a:rect l="l" t="t" r="r" b="b"/>
            <a:pathLst>
              <a:path w="55" h="124">
                <a:moveTo>
                  <a:pt x="55" y="124"/>
                </a:moveTo>
                <a:lnTo>
                  <a:pt x="47" y="110"/>
                </a:lnTo>
                <a:lnTo>
                  <a:pt x="37" y="95"/>
                </a:lnTo>
                <a:lnTo>
                  <a:pt x="28" y="81"/>
                </a:lnTo>
                <a:lnTo>
                  <a:pt x="17" y="66"/>
                </a:lnTo>
                <a:lnTo>
                  <a:pt x="9" y="51"/>
                </a:lnTo>
                <a:lnTo>
                  <a:pt x="4" y="35"/>
                </a:lnTo>
                <a:lnTo>
                  <a:pt x="0" y="18"/>
                </a:lnTo>
                <a:lnTo>
                  <a:pt x="0" y="0"/>
                </a:lnTo>
                <a:lnTo>
                  <a:pt x="9" y="14"/>
                </a:lnTo>
                <a:lnTo>
                  <a:pt x="19" y="29"/>
                </a:lnTo>
                <a:lnTo>
                  <a:pt x="27" y="44"/>
                </a:lnTo>
                <a:lnTo>
                  <a:pt x="35" y="59"/>
                </a:lnTo>
                <a:lnTo>
                  <a:pt x="40" y="75"/>
                </a:lnTo>
                <a:lnTo>
                  <a:pt x="46" y="90"/>
                </a:lnTo>
                <a:lnTo>
                  <a:pt x="52" y="107"/>
                </a:lnTo>
                <a:lnTo>
                  <a:pt x="55" y="12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703920" y="1335240"/>
            <a:ext cx="30240" cy="4680"/>
          </a:xfrm>
          <a:custGeom>
            <a:avLst/>
            <a:gdLst/>
            <a:ahLst/>
            <a:rect l="l" t="t" r="r" b="b"/>
            <a:pathLst>
              <a:path w="119" h="19">
                <a:moveTo>
                  <a:pt x="119" y="4"/>
                </a:moveTo>
                <a:lnTo>
                  <a:pt x="117" y="12"/>
                </a:lnTo>
                <a:lnTo>
                  <a:pt x="103" y="14"/>
                </a:lnTo>
                <a:lnTo>
                  <a:pt x="88" y="15"/>
                </a:lnTo>
                <a:lnTo>
                  <a:pt x="74" y="16"/>
                </a:lnTo>
                <a:lnTo>
                  <a:pt x="59" y="16"/>
                </a:lnTo>
                <a:lnTo>
                  <a:pt x="45" y="17"/>
                </a:lnTo>
                <a:lnTo>
                  <a:pt x="31" y="18"/>
                </a:lnTo>
                <a:lnTo>
                  <a:pt x="19" y="18"/>
                </a:lnTo>
                <a:lnTo>
                  <a:pt x="6" y="19"/>
                </a:lnTo>
                <a:lnTo>
                  <a:pt x="0" y="9"/>
                </a:lnTo>
                <a:lnTo>
                  <a:pt x="4" y="3"/>
                </a:lnTo>
                <a:lnTo>
                  <a:pt x="8" y="1"/>
                </a:lnTo>
                <a:lnTo>
                  <a:pt x="14" y="0"/>
                </a:lnTo>
                <a:lnTo>
                  <a:pt x="20" y="1"/>
                </a:lnTo>
                <a:lnTo>
                  <a:pt x="26" y="2"/>
                </a:lnTo>
                <a:lnTo>
                  <a:pt x="33" y="3"/>
                </a:lnTo>
                <a:lnTo>
                  <a:pt x="38" y="3"/>
                </a:lnTo>
                <a:lnTo>
                  <a:pt x="43" y="2"/>
                </a:lnTo>
                <a:lnTo>
                  <a:pt x="119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75400" y="1339920"/>
            <a:ext cx="6480" cy="3240"/>
          </a:xfrm>
          <a:custGeom>
            <a:avLst/>
            <a:gdLst/>
            <a:ahLst/>
            <a:rect l="l" t="t" r="r" b="b"/>
            <a:pathLst>
              <a:path w="23" h="14">
                <a:moveTo>
                  <a:pt x="23" y="1"/>
                </a:moveTo>
                <a:lnTo>
                  <a:pt x="23" y="6"/>
                </a:lnTo>
                <a:lnTo>
                  <a:pt x="19" y="9"/>
                </a:lnTo>
                <a:lnTo>
                  <a:pt x="16" y="12"/>
                </a:lnTo>
                <a:lnTo>
                  <a:pt x="13" y="14"/>
                </a:lnTo>
                <a:lnTo>
                  <a:pt x="9" y="14"/>
                </a:lnTo>
                <a:lnTo>
                  <a:pt x="6" y="14"/>
                </a:lnTo>
                <a:lnTo>
                  <a:pt x="2" y="13"/>
                </a:lnTo>
                <a:lnTo>
                  <a:pt x="0" y="9"/>
                </a:lnTo>
                <a:lnTo>
                  <a:pt x="2" y="4"/>
                </a:lnTo>
                <a:lnTo>
                  <a:pt x="8" y="6"/>
                </a:lnTo>
                <a:lnTo>
                  <a:pt x="13" y="4"/>
                </a:lnTo>
                <a:lnTo>
                  <a:pt x="18" y="0"/>
                </a:lnTo>
                <a:lnTo>
                  <a:pt x="23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541920" y="1341360"/>
            <a:ext cx="141480" cy="76320"/>
          </a:xfrm>
          <a:custGeom>
            <a:avLst/>
            <a:gdLst/>
            <a:ahLst/>
            <a:rect l="l" t="t" r="r" b="b"/>
            <a:pathLst>
              <a:path w="586" h="289">
                <a:moveTo>
                  <a:pt x="586" y="14"/>
                </a:moveTo>
                <a:lnTo>
                  <a:pt x="580" y="20"/>
                </a:lnTo>
                <a:lnTo>
                  <a:pt x="572" y="22"/>
                </a:lnTo>
                <a:lnTo>
                  <a:pt x="563" y="22"/>
                </a:lnTo>
                <a:lnTo>
                  <a:pt x="555" y="25"/>
                </a:lnTo>
                <a:lnTo>
                  <a:pt x="411" y="94"/>
                </a:lnTo>
                <a:lnTo>
                  <a:pt x="387" y="99"/>
                </a:lnTo>
                <a:lnTo>
                  <a:pt x="376" y="105"/>
                </a:lnTo>
                <a:lnTo>
                  <a:pt x="364" y="110"/>
                </a:lnTo>
                <a:lnTo>
                  <a:pt x="352" y="116"/>
                </a:lnTo>
                <a:lnTo>
                  <a:pt x="340" y="122"/>
                </a:lnTo>
                <a:lnTo>
                  <a:pt x="329" y="128"/>
                </a:lnTo>
                <a:lnTo>
                  <a:pt x="316" y="133"/>
                </a:lnTo>
                <a:lnTo>
                  <a:pt x="305" y="139"/>
                </a:lnTo>
                <a:lnTo>
                  <a:pt x="293" y="145"/>
                </a:lnTo>
                <a:lnTo>
                  <a:pt x="280" y="151"/>
                </a:lnTo>
                <a:lnTo>
                  <a:pt x="269" y="158"/>
                </a:lnTo>
                <a:lnTo>
                  <a:pt x="257" y="163"/>
                </a:lnTo>
                <a:lnTo>
                  <a:pt x="246" y="169"/>
                </a:lnTo>
                <a:lnTo>
                  <a:pt x="234" y="176"/>
                </a:lnTo>
                <a:lnTo>
                  <a:pt x="223" y="183"/>
                </a:lnTo>
                <a:lnTo>
                  <a:pt x="211" y="190"/>
                </a:lnTo>
                <a:lnTo>
                  <a:pt x="200" y="197"/>
                </a:lnTo>
                <a:lnTo>
                  <a:pt x="188" y="197"/>
                </a:lnTo>
                <a:lnTo>
                  <a:pt x="177" y="199"/>
                </a:lnTo>
                <a:lnTo>
                  <a:pt x="165" y="204"/>
                </a:lnTo>
                <a:lnTo>
                  <a:pt x="155" y="208"/>
                </a:lnTo>
                <a:lnTo>
                  <a:pt x="143" y="213"/>
                </a:lnTo>
                <a:lnTo>
                  <a:pt x="133" y="219"/>
                </a:lnTo>
                <a:lnTo>
                  <a:pt x="121" y="224"/>
                </a:lnTo>
                <a:lnTo>
                  <a:pt x="111" y="230"/>
                </a:lnTo>
                <a:lnTo>
                  <a:pt x="105" y="238"/>
                </a:lnTo>
                <a:lnTo>
                  <a:pt x="97" y="241"/>
                </a:lnTo>
                <a:lnTo>
                  <a:pt x="87" y="244"/>
                </a:lnTo>
                <a:lnTo>
                  <a:pt x="79" y="249"/>
                </a:lnTo>
                <a:lnTo>
                  <a:pt x="69" y="254"/>
                </a:lnTo>
                <a:lnTo>
                  <a:pt x="60" y="260"/>
                </a:lnTo>
                <a:lnTo>
                  <a:pt x="51" y="266"/>
                </a:lnTo>
                <a:lnTo>
                  <a:pt x="42" y="272"/>
                </a:lnTo>
                <a:lnTo>
                  <a:pt x="33" y="276"/>
                </a:lnTo>
                <a:lnTo>
                  <a:pt x="22" y="282"/>
                </a:lnTo>
                <a:lnTo>
                  <a:pt x="13" y="285"/>
                </a:lnTo>
                <a:lnTo>
                  <a:pt x="3" y="289"/>
                </a:lnTo>
                <a:lnTo>
                  <a:pt x="0" y="282"/>
                </a:lnTo>
                <a:lnTo>
                  <a:pt x="3" y="277"/>
                </a:lnTo>
                <a:lnTo>
                  <a:pt x="6" y="274"/>
                </a:lnTo>
                <a:lnTo>
                  <a:pt x="11" y="272"/>
                </a:lnTo>
                <a:lnTo>
                  <a:pt x="16" y="269"/>
                </a:lnTo>
                <a:lnTo>
                  <a:pt x="22" y="267"/>
                </a:lnTo>
                <a:lnTo>
                  <a:pt x="28" y="264"/>
                </a:lnTo>
                <a:lnTo>
                  <a:pt x="31" y="259"/>
                </a:lnTo>
                <a:lnTo>
                  <a:pt x="63" y="244"/>
                </a:lnTo>
                <a:lnTo>
                  <a:pt x="93" y="229"/>
                </a:lnTo>
                <a:lnTo>
                  <a:pt x="124" y="214"/>
                </a:lnTo>
                <a:lnTo>
                  <a:pt x="155" y="199"/>
                </a:lnTo>
                <a:lnTo>
                  <a:pt x="186" y="184"/>
                </a:lnTo>
                <a:lnTo>
                  <a:pt x="217" y="169"/>
                </a:lnTo>
                <a:lnTo>
                  <a:pt x="248" y="155"/>
                </a:lnTo>
                <a:lnTo>
                  <a:pt x="279" y="140"/>
                </a:lnTo>
                <a:lnTo>
                  <a:pt x="310" y="126"/>
                </a:lnTo>
                <a:lnTo>
                  <a:pt x="341" y="113"/>
                </a:lnTo>
                <a:lnTo>
                  <a:pt x="372" y="98"/>
                </a:lnTo>
                <a:lnTo>
                  <a:pt x="404" y="84"/>
                </a:lnTo>
                <a:lnTo>
                  <a:pt x="435" y="70"/>
                </a:lnTo>
                <a:lnTo>
                  <a:pt x="467" y="56"/>
                </a:lnTo>
                <a:lnTo>
                  <a:pt x="498" y="42"/>
                </a:lnTo>
                <a:lnTo>
                  <a:pt x="529" y="29"/>
                </a:lnTo>
                <a:lnTo>
                  <a:pt x="535" y="23"/>
                </a:lnTo>
                <a:lnTo>
                  <a:pt x="541" y="19"/>
                </a:lnTo>
                <a:lnTo>
                  <a:pt x="548" y="17"/>
                </a:lnTo>
                <a:lnTo>
                  <a:pt x="555" y="14"/>
                </a:lnTo>
                <a:lnTo>
                  <a:pt x="560" y="11"/>
                </a:lnTo>
                <a:lnTo>
                  <a:pt x="567" y="9"/>
                </a:lnTo>
                <a:lnTo>
                  <a:pt x="573" y="5"/>
                </a:lnTo>
                <a:lnTo>
                  <a:pt x="578" y="0"/>
                </a:lnTo>
                <a:lnTo>
                  <a:pt x="580" y="2"/>
                </a:lnTo>
                <a:lnTo>
                  <a:pt x="583" y="5"/>
                </a:lnTo>
                <a:lnTo>
                  <a:pt x="586" y="9"/>
                </a:lnTo>
                <a:lnTo>
                  <a:pt x="586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707160" y="1346040"/>
            <a:ext cx="25560" cy="5040"/>
          </a:xfrm>
          <a:custGeom>
            <a:avLst/>
            <a:gdLst/>
            <a:ahLst/>
            <a:rect l="l" t="t" r="r" b="b"/>
            <a:pathLst>
              <a:path w="106" h="20">
                <a:moveTo>
                  <a:pt x="102" y="3"/>
                </a:moveTo>
                <a:lnTo>
                  <a:pt x="105" y="6"/>
                </a:lnTo>
                <a:lnTo>
                  <a:pt x="106" y="9"/>
                </a:lnTo>
                <a:lnTo>
                  <a:pt x="106" y="13"/>
                </a:lnTo>
                <a:lnTo>
                  <a:pt x="103" y="15"/>
                </a:lnTo>
                <a:lnTo>
                  <a:pt x="91" y="15"/>
                </a:lnTo>
                <a:lnTo>
                  <a:pt x="77" y="16"/>
                </a:lnTo>
                <a:lnTo>
                  <a:pt x="63" y="17"/>
                </a:lnTo>
                <a:lnTo>
                  <a:pt x="50" y="18"/>
                </a:lnTo>
                <a:lnTo>
                  <a:pt x="37" y="20"/>
                </a:lnTo>
                <a:lnTo>
                  <a:pt x="24" y="18"/>
                </a:lnTo>
                <a:lnTo>
                  <a:pt x="11" y="17"/>
                </a:lnTo>
                <a:lnTo>
                  <a:pt x="0" y="15"/>
                </a:lnTo>
                <a:lnTo>
                  <a:pt x="1" y="0"/>
                </a:lnTo>
                <a:lnTo>
                  <a:pt x="102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751800" y="1351080"/>
            <a:ext cx="14040" cy="7920"/>
          </a:xfrm>
          <a:custGeom>
            <a:avLst/>
            <a:gdLst/>
            <a:ahLst/>
            <a:rect l="l" t="t" r="r" b="b"/>
            <a:pathLst>
              <a:path w="59" h="34">
                <a:moveTo>
                  <a:pt x="57" y="14"/>
                </a:moveTo>
                <a:lnTo>
                  <a:pt x="49" y="14"/>
                </a:lnTo>
                <a:lnTo>
                  <a:pt x="42" y="17"/>
                </a:lnTo>
                <a:lnTo>
                  <a:pt x="35" y="20"/>
                </a:lnTo>
                <a:lnTo>
                  <a:pt x="28" y="25"/>
                </a:lnTo>
                <a:lnTo>
                  <a:pt x="21" y="29"/>
                </a:lnTo>
                <a:lnTo>
                  <a:pt x="14" y="33"/>
                </a:lnTo>
                <a:lnTo>
                  <a:pt x="7" y="34"/>
                </a:lnTo>
                <a:lnTo>
                  <a:pt x="0" y="33"/>
                </a:lnTo>
                <a:lnTo>
                  <a:pt x="4" y="25"/>
                </a:lnTo>
                <a:lnTo>
                  <a:pt x="8" y="19"/>
                </a:lnTo>
                <a:lnTo>
                  <a:pt x="14" y="15"/>
                </a:lnTo>
                <a:lnTo>
                  <a:pt x="22" y="12"/>
                </a:lnTo>
                <a:lnTo>
                  <a:pt x="29" y="10"/>
                </a:lnTo>
                <a:lnTo>
                  <a:pt x="37" y="7"/>
                </a:lnTo>
                <a:lnTo>
                  <a:pt x="44" y="5"/>
                </a:lnTo>
                <a:lnTo>
                  <a:pt x="50" y="0"/>
                </a:lnTo>
                <a:lnTo>
                  <a:pt x="54" y="2"/>
                </a:lnTo>
                <a:lnTo>
                  <a:pt x="58" y="5"/>
                </a:lnTo>
                <a:lnTo>
                  <a:pt x="59" y="10"/>
                </a:lnTo>
                <a:lnTo>
                  <a:pt x="57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45160" y="1351080"/>
            <a:ext cx="147600" cy="75960"/>
          </a:xfrm>
          <a:custGeom>
            <a:avLst/>
            <a:gdLst/>
            <a:ahLst/>
            <a:rect l="l" t="t" r="r" b="b"/>
            <a:pathLst>
              <a:path w="603" h="282">
                <a:moveTo>
                  <a:pt x="601" y="13"/>
                </a:moveTo>
                <a:lnTo>
                  <a:pt x="582" y="21"/>
                </a:lnTo>
                <a:lnTo>
                  <a:pt x="562" y="29"/>
                </a:lnTo>
                <a:lnTo>
                  <a:pt x="544" y="37"/>
                </a:lnTo>
                <a:lnTo>
                  <a:pt x="524" y="45"/>
                </a:lnTo>
                <a:lnTo>
                  <a:pt x="506" y="53"/>
                </a:lnTo>
                <a:lnTo>
                  <a:pt x="487" y="62"/>
                </a:lnTo>
                <a:lnTo>
                  <a:pt x="469" y="71"/>
                </a:lnTo>
                <a:lnTo>
                  <a:pt x="450" y="82"/>
                </a:lnTo>
                <a:lnTo>
                  <a:pt x="423" y="93"/>
                </a:lnTo>
                <a:lnTo>
                  <a:pt x="394" y="106"/>
                </a:lnTo>
                <a:lnTo>
                  <a:pt x="366" y="119"/>
                </a:lnTo>
                <a:lnTo>
                  <a:pt x="339" y="131"/>
                </a:lnTo>
                <a:lnTo>
                  <a:pt x="311" y="144"/>
                </a:lnTo>
                <a:lnTo>
                  <a:pt x="283" y="158"/>
                </a:lnTo>
                <a:lnTo>
                  <a:pt x="256" y="171"/>
                </a:lnTo>
                <a:lnTo>
                  <a:pt x="228" y="183"/>
                </a:lnTo>
                <a:lnTo>
                  <a:pt x="199" y="197"/>
                </a:lnTo>
                <a:lnTo>
                  <a:pt x="171" y="210"/>
                </a:lnTo>
                <a:lnTo>
                  <a:pt x="144" y="222"/>
                </a:lnTo>
                <a:lnTo>
                  <a:pt x="116" y="235"/>
                </a:lnTo>
                <a:lnTo>
                  <a:pt x="88" y="248"/>
                </a:lnTo>
                <a:lnTo>
                  <a:pt x="61" y="259"/>
                </a:lnTo>
                <a:lnTo>
                  <a:pt x="32" y="271"/>
                </a:lnTo>
                <a:lnTo>
                  <a:pt x="4" y="282"/>
                </a:lnTo>
                <a:lnTo>
                  <a:pt x="1" y="280"/>
                </a:lnTo>
                <a:lnTo>
                  <a:pt x="1" y="277"/>
                </a:lnTo>
                <a:lnTo>
                  <a:pt x="0" y="273"/>
                </a:lnTo>
                <a:lnTo>
                  <a:pt x="0" y="270"/>
                </a:lnTo>
                <a:lnTo>
                  <a:pt x="26" y="259"/>
                </a:lnTo>
                <a:lnTo>
                  <a:pt x="53" y="249"/>
                </a:lnTo>
                <a:lnTo>
                  <a:pt x="79" y="237"/>
                </a:lnTo>
                <a:lnTo>
                  <a:pt x="106" y="226"/>
                </a:lnTo>
                <a:lnTo>
                  <a:pt x="131" y="214"/>
                </a:lnTo>
                <a:lnTo>
                  <a:pt x="158" y="202"/>
                </a:lnTo>
                <a:lnTo>
                  <a:pt x="183" y="190"/>
                </a:lnTo>
                <a:lnTo>
                  <a:pt x="209" y="177"/>
                </a:lnTo>
                <a:lnTo>
                  <a:pt x="236" y="166"/>
                </a:lnTo>
                <a:lnTo>
                  <a:pt x="261" y="153"/>
                </a:lnTo>
                <a:lnTo>
                  <a:pt x="288" y="141"/>
                </a:lnTo>
                <a:lnTo>
                  <a:pt x="313" y="129"/>
                </a:lnTo>
                <a:lnTo>
                  <a:pt x="340" y="118"/>
                </a:lnTo>
                <a:lnTo>
                  <a:pt x="366" y="106"/>
                </a:lnTo>
                <a:lnTo>
                  <a:pt x="393" y="95"/>
                </a:lnTo>
                <a:lnTo>
                  <a:pt x="419" y="84"/>
                </a:lnTo>
                <a:lnTo>
                  <a:pt x="424" y="77"/>
                </a:lnTo>
                <a:lnTo>
                  <a:pt x="444" y="68"/>
                </a:lnTo>
                <a:lnTo>
                  <a:pt x="466" y="59"/>
                </a:lnTo>
                <a:lnTo>
                  <a:pt x="487" y="50"/>
                </a:lnTo>
                <a:lnTo>
                  <a:pt x="508" y="39"/>
                </a:lnTo>
                <a:lnTo>
                  <a:pt x="530" y="29"/>
                </a:lnTo>
                <a:lnTo>
                  <a:pt x="550" y="18"/>
                </a:lnTo>
                <a:lnTo>
                  <a:pt x="572" y="9"/>
                </a:lnTo>
                <a:lnTo>
                  <a:pt x="594" y="0"/>
                </a:lnTo>
                <a:lnTo>
                  <a:pt x="599" y="1"/>
                </a:lnTo>
                <a:lnTo>
                  <a:pt x="602" y="5"/>
                </a:lnTo>
                <a:lnTo>
                  <a:pt x="603" y="8"/>
                </a:lnTo>
                <a:lnTo>
                  <a:pt x="601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788160" y="1352520"/>
            <a:ext cx="6480" cy="3240"/>
          </a:xfrm>
          <a:custGeom>
            <a:avLst/>
            <a:gdLst/>
            <a:ahLst/>
            <a:rect l="l" t="t" r="r" b="b"/>
            <a:pathLst>
              <a:path w="26" h="12">
                <a:moveTo>
                  <a:pt x="26" y="10"/>
                </a:moveTo>
                <a:lnTo>
                  <a:pt x="21" y="12"/>
                </a:lnTo>
                <a:lnTo>
                  <a:pt x="14" y="11"/>
                </a:lnTo>
                <a:lnTo>
                  <a:pt x="7" y="9"/>
                </a:lnTo>
                <a:lnTo>
                  <a:pt x="0" y="5"/>
                </a:lnTo>
                <a:lnTo>
                  <a:pt x="0" y="0"/>
                </a:lnTo>
                <a:lnTo>
                  <a:pt x="8" y="2"/>
                </a:lnTo>
                <a:lnTo>
                  <a:pt x="17" y="1"/>
                </a:lnTo>
                <a:lnTo>
                  <a:pt x="24" y="2"/>
                </a:lnTo>
                <a:lnTo>
                  <a:pt x="26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721560" y="1353960"/>
            <a:ext cx="4680" cy="5040"/>
          </a:xfrm>
          <a:custGeom>
            <a:avLst/>
            <a:gdLst/>
            <a:ahLst/>
            <a:rect l="l" t="t" r="r" b="b"/>
            <a:pathLst>
              <a:path w="20" h="15">
                <a:moveTo>
                  <a:pt x="20" y="12"/>
                </a:moveTo>
                <a:lnTo>
                  <a:pt x="15" y="15"/>
                </a:lnTo>
                <a:lnTo>
                  <a:pt x="11" y="14"/>
                </a:lnTo>
                <a:lnTo>
                  <a:pt x="5" y="11"/>
                </a:lnTo>
                <a:lnTo>
                  <a:pt x="0" y="10"/>
                </a:lnTo>
                <a:lnTo>
                  <a:pt x="1" y="5"/>
                </a:lnTo>
                <a:lnTo>
                  <a:pt x="5" y="3"/>
                </a:lnTo>
                <a:lnTo>
                  <a:pt x="10" y="2"/>
                </a:lnTo>
                <a:lnTo>
                  <a:pt x="14" y="0"/>
                </a:lnTo>
                <a:lnTo>
                  <a:pt x="20" y="0"/>
                </a:lnTo>
                <a:lnTo>
                  <a:pt x="20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713640" y="1359000"/>
            <a:ext cx="58680" cy="28440"/>
          </a:xfrm>
          <a:custGeom>
            <a:avLst/>
            <a:gdLst/>
            <a:ahLst/>
            <a:rect l="l" t="t" r="r" b="b"/>
            <a:pathLst>
              <a:path w="241" h="106">
                <a:moveTo>
                  <a:pt x="241" y="6"/>
                </a:moveTo>
                <a:lnTo>
                  <a:pt x="239" y="12"/>
                </a:lnTo>
                <a:lnTo>
                  <a:pt x="235" y="16"/>
                </a:lnTo>
                <a:lnTo>
                  <a:pt x="231" y="17"/>
                </a:lnTo>
                <a:lnTo>
                  <a:pt x="226" y="18"/>
                </a:lnTo>
                <a:lnTo>
                  <a:pt x="220" y="20"/>
                </a:lnTo>
                <a:lnTo>
                  <a:pt x="214" y="21"/>
                </a:lnTo>
                <a:lnTo>
                  <a:pt x="210" y="22"/>
                </a:lnTo>
                <a:lnTo>
                  <a:pt x="205" y="24"/>
                </a:lnTo>
                <a:lnTo>
                  <a:pt x="190" y="30"/>
                </a:lnTo>
                <a:lnTo>
                  <a:pt x="176" y="37"/>
                </a:lnTo>
                <a:lnTo>
                  <a:pt x="163" y="44"/>
                </a:lnTo>
                <a:lnTo>
                  <a:pt x="148" y="51"/>
                </a:lnTo>
                <a:lnTo>
                  <a:pt x="134" y="58"/>
                </a:lnTo>
                <a:lnTo>
                  <a:pt x="120" y="65"/>
                </a:lnTo>
                <a:lnTo>
                  <a:pt x="105" y="70"/>
                </a:lnTo>
                <a:lnTo>
                  <a:pt x="90" y="75"/>
                </a:lnTo>
                <a:lnTo>
                  <a:pt x="79" y="80"/>
                </a:lnTo>
                <a:lnTo>
                  <a:pt x="68" y="84"/>
                </a:lnTo>
                <a:lnTo>
                  <a:pt x="57" y="89"/>
                </a:lnTo>
                <a:lnTo>
                  <a:pt x="45" y="93"/>
                </a:lnTo>
                <a:lnTo>
                  <a:pt x="35" y="98"/>
                </a:lnTo>
                <a:lnTo>
                  <a:pt x="23" y="101"/>
                </a:lnTo>
                <a:lnTo>
                  <a:pt x="12" y="105"/>
                </a:lnTo>
                <a:lnTo>
                  <a:pt x="0" y="106"/>
                </a:lnTo>
                <a:lnTo>
                  <a:pt x="4" y="103"/>
                </a:lnTo>
                <a:lnTo>
                  <a:pt x="7" y="99"/>
                </a:lnTo>
                <a:lnTo>
                  <a:pt x="12" y="96"/>
                </a:lnTo>
                <a:lnTo>
                  <a:pt x="16" y="93"/>
                </a:lnTo>
                <a:lnTo>
                  <a:pt x="21" y="91"/>
                </a:lnTo>
                <a:lnTo>
                  <a:pt x="26" y="89"/>
                </a:lnTo>
                <a:lnTo>
                  <a:pt x="31" y="88"/>
                </a:lnTo>
                <a:lnTo>
                  <a:pt x="36" y="86"/>
                </a:lnTo>
                <a:lnTo>
                  <a:pt x="49" y="81"/>
                </a:lnTo>
                <a:lnTo>
                  <a:pt x="60" y="75"/>
                </a:lnTo>
                <a:lnTo>
                  <a:pt x="73" y="69"/>
                </a:lnTo>
                <a:lnTo>
                  <a:pt x="84" y="63"/>
                </a:lnTo>
                <a:lnTo>
                  <a:pt x="97" y="58"/>
                </a:lnTo>
                <a:lnTo>
                  <a:pt x="110" y="52"/>
                </a:lnTo>
                <a:lnTo>
                  <a:pt x="121" y="46"/>
                </a:lnTo>
                <a:lnTo>
                  <a:pt x="134" y="40"/>
                </a:lnTo>
                <a:lnTo>
                  <a:pt x="147" y="36"/>
                </a:lnTo>
                <a:lnTo>
                  <a:pt x="159" y="30"/>
                </a:lnTo>
                <a:lnTo>
                  <a:pt x="172" y="25"/>
                </a:lnTo>
                <a:lnTo>
                  <a:pt x="185" y="20"/>
                </a:lnTo>
                <a:lnTo>
                  <a:pt x="196" y="15"/>
                </a:lnTo>
                <a:lnTo>
                  <a:pt x="209" y="9"/>
                </a:lnTo>
                <a:lnTo>
                  <a:pt x="221" y="5"/>
                </a:lnTo>
                <a:lnTo>
                  <a:pt x="234" y="0"/>
                </a:lnTo>
                <a:lnTo>
                  <a:pt x="24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556320" y="1360440"/>
            <a:ext cx="141480" cy="76320"/>
          </a:xfrm>
          <a:custGeom>
            <a:avLst/>
            <a:gdLst/>
            <a:ahLst/>
            <a:rect l="l" t="t" r="r" b="b"/>
            <a:pathLst>
              <a:path w="579" h="284">
                <a:moveTo>
                  <a:pt x="577" y="0"/>
                </a:moveTo>
                <a:lnTo>
                  <a:pt x="579" y="3"/>
                </a:lnTo>
                <a:lnTo>
                  <a:pt x="579" y="7"/>
                </a:lnTo>
                <a:lnTo>
                  <a:pt x="576" y="11"/>
                </a:lnTo>
                <a:lnTo>
                  <a:pt x="574" y="15"/>
                </a:lnTo>
                <a:lnTo>
                  <a:pt x="556" y="21"/>
                </a:lnTo>
                <a:lnTo>
                  <a:pt x="538" y="27"/>
                </a:lnTo>
                <a:lnTo>
                  <a:pt x="521" y="34"/>
                </a:lnTo>
                <a:lnTo>
                  <a:pt x="503" y="41"/>
                </a:lnTo>
                <a:lnTo>
                  <a:pt x="486" y="48"/>
                </a:lnTo>
                <a:lnTo>
                  <a:pt x="469" y="56"/>
                </a:lnTo>
                <a:lnTo>
                  <a:pt x="451" y="64"/>
                </a:lnTo>
                <a:lnTo>
                  <a:pt x="435" y="72"/>
                </a:lnTo>
                <a:lnTo>
                  <a:pt x="418" y="80"/>
                </a:lnTo>
                <a:lnTo>
                  <a:pt x="401" y="90"/>
                </a:lnTo>
                <a:lnTo>
                  <a:pt x="384" y="98"/>
                </a:lnTo>
                <a:lnTo>
                  <a:pt x="366" y="106"/>
                </a:lnTo>
                <a:lnTo>
                  <a:pt x="349" y="114"/>
                </a:lnTo>
                <a:lnTo>
                  <a:pt x="332" y="121"/>
                </a:lnTo>
                <a:lnTo>
                  <a:pt x="313" y="129"/>
                </a:lnTo>
                <a:lnTo>
                  <a:pt x="296" y="136"/>
                </a:lnTo>
                <a:lnTo>
                  <a:pt x="274" y="147"/>
                </a:lnTo>
                <a:lnTo>
                  <a:pt x="252" y="159"/>
                </a:lnTo>
                <a:lnTo>
                  <a:pt x="230" y="169"/>
                </a:lnTo>
                <a:lnTo>
                  <a:pt x="208" y="180"/>
                </a:lnTo>
                <a:lnTo>
                  <a:pt x="188" y="191"/>
                </a:lnTo>
                <a:lnTo>
                  <a:pt x="166" y="201"/>
                </a:lnTo>
                <a:lnTo>
                  <a:pt x="145" y="214"/>
                </a:lnTo>
                <a:lnTo>
                  <a:pt x="124" y="227"/>
                </a:lnTo>
                <a:lnTo>
                  <a:pt x="110" y="233"/>
                </a:lnTo>
                <a:lnTo>
                  <a:pt x="97" y="238"/>
                </a:lnTo>
                <a:lnTo>
                  <a:pt x="84" y="245"/>
                </a:lnTo>
                <a:lnTo>
                  <a:pt x="70" y="252"/>
                </a:lnTo>
                <a:lnTo>
                  <a:pt x="57" y="260"/>
                </a:lnTo>
                <a:lnTo>
                  <a:pt x="45" y="268"/>
                </a:lnTo>
                <a:lnTo>
                  <a:pt x="32" y="275"/>
                </a:lnTo>
                <a:lnTo>
                  <a:pt x="19" y="283"/>
                </a:lnTo>
                <a:lnTo>
                  <a:pt x="14" y="283"/>
                </a:lnTo>
                <a:lnTo>
                  <a:pt x="7" y="284"/>
                </a:lnTo>
                <a:lnTo>
                  <a:pt x="2" y="283"/>
                </a:lnTo>
                <a:lnTo>
                  <a:pt x="0" y="277"/>
                </a:lnTo>
                <a:lnTo>
                  <a:pt x="0" y="272"/>
                </a:lnTo>
                <a:lnTo>
                  <a:pt x="11" y="265"/>
                </a:lnTo>
                <a:lnTo>
                  <a:pt x="24" y="258"/>
                </a:lnTo>
                <a:lnTo>
                  <a:pt x="37" y="252"/>
                </a:lnTo>
                <a:lnTo>
                  <a:pt x="49" y="247"/>
                </a:lnTo>
                <a:lnTo>
                  <a:pt x="62" y="242"/>
                </a:lnTo>
                <a:lnTo>
                  <a:pt x="75" y="236"/>
                </a:lnTo>
                <a:lnTo>
                  <a:pt x="87" y="229"/>
                </a:lnTo>
                <a:lnTo>
                  <a:pt x="99" y="221"/>
                </a:lnTo>
                <a:lnTo>
                  <a:pt x="124" y="208"/>
                </a:lnTo>
                <a:lnTo>
                  <a:pt x="148" y="196"/>
                </a:lnTo>
                <a:lnTo>
                  <a:pt x="174" y="183"/>
                </a:lnTo>
                <a:lnTo>
                  <a:pt x="199" y="170"/>
                </a:lnTo>
                <a:lnTo>
                  <a:pt x="225" y="158"/>
                </a:lnTo>
                <a:lnTo>
                  <a:pt x="249" y="146"/>
                </a:lnTo>
                <a:lnTo>
                  <a:pt x="274" y="133"/>
                </a:lnTo>
                <a:lnTo>
                  <a:pt x="299" y="122"/>
                </a:lnTo>
                <a:lnTo>
                  <a:pt x="325" y="109"/>
                </a:lnTo>
                <a:lnTo>
                  <a:pt x="350" y="98"/>
                </a:lnTo>
                <a:lnTo>
                  <a:pt x="375" y="86"/>
                </a:lnTo>
                <a:lnTo>
                  <a:pt x="401" y="74"/>
                </a:lnTo>
                <a:lnTo>
                  <a:pt x="426" y="62"/>
                </a:lnTo>
                <a:lnTo>
                  <a:pt x="451" y="49"/>
                </a:lnTo>
                <a:lnTo>
                  <a:pt x="477" y="38"/>
                </a:lnTo>
                <a:lnTo>
                  <a:pt x="502" y="25"/>
                </a:lnTo>
                <a:lnTo>
                  <a:pt x="511" y="22"/>
                </a:lnTo>
                <a:lnTo>
                  <a:pt x="521" y="18"/>
                </a:lnTo>
                <a:lnTo>
                  <a:pt x="530" y="15"/>
                </a:lnTo>
                <a:lnTo>
                  <a:pt x="540" y="12"/>
                </a:lnTo>
                <a:lnTo>
                  <a:pt x="549" y="9"/>
                </a:lnTo>
                <a:lnTo>
                  <a:pt x="559" y="6"/>
                </a:lnTo>
                <a:lnTo>
                  <a:pt x="568" y="3"/>
                </a:lnTo>
                <a:lnTo>
                  <a:pt x="57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91400" y="1363680"/>
            <a:ext cx="12600" cy="4680"/>
          </a:xfrm>
          <a:custGeom>
            <a:avLst/>
            <a:gdLst/>
            <a:ahLst/>
            <a:rect l="l" t="t" r="r" b="b"/>
            <a:pathLst>
              <a:path w="47" h="16">
                <a:moveTo>
                  <a:pt x="47" y="12"/>
                </a:moveTo>
                <a:lnTo>
                  <a:pt x="47" y="16"/>
                </a:lnTo>
                <a:lnTo>
                  <a:pt x="41" y="15"/>
                </a:lnTo>
                <a:lnTo>
                  <a:pt x="34" y="16"/>
                </a:lnTo>
                <a:lnTo>
                  <a:pt x="27" y="16"/>
                </a:lnTo>
                <a:lnTo>
                  <a:pt x="21" y="16"/>
                </a:lnTo>
                <a:lnTo>
                  <a:pt x="14" y="16"/>
                </a:lnTo>
                <a:lnTo>
                  <a:pt x="8" y="15"/>
                </a:lnTo>
                <a:lnTo>
                  <a:pt x="3" y="12"/>
                </a:lnTo>
                <a:lnTo>
                  <a:pt x="0" y="6"/>
                </a:lnTo>
                <a:lnTo>
                  <a:pt x="4" y="3"/>
                </a:lnTo>
                <a:lnTo>
                  <a:pt x="10" y="2"/>
                </a:lnTo>
                <a:lnTo>
                  <a:pt x="16" y="1"/>
                </a:lnTo>
                <a:lnTo>
                  <a:pt x="22" y="0"/>
                </a:lnTo>
                <a:lnTo>
                  <a:pt x="27" y="1"/>
                </a:lnTo>
                <a:lnTo>
                  <a:pt x="33" y="2"/>
                </a:lnTo>
                <a:lnTo>
                  <a:pt x="39" y="3"/>
                </a:lnTo>
                <a:lnTo>
                  <a:pt x="45" y="6"/>
                </a:lnTo>
                <a:lnTo>
                  <a:pt x="47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608880" y="1366920"/>
            <a:ext cx="96840" cy="54000"/>
          </a:xfrm>
          <a:custGeom>
            <a:avLst/>
            <a:gdLst/>
            <a:ahLst/>
            <a:rect l="l" t="t" r="r" b="b"/>
            <a:pathLst>
              <a:path w="404" h="200">
                <a:moveTo>
                  <a:pt x="402" y="15"/>
                </a:moveTo>
                <a:lnTo>
                  <a:pt x="396" y="16"/>
                </a:lnTo>
                <a:lnTo>
                  <a:pt x="390" y="17"/>
                </a:lnTo>
                <a:lnTo>
                  <a:pt x="385" y="19"/>
                </a:lnTo>
                <a:lnTo>
                  <a:pt x="379" y="21"/>
                </a:lnTo>
                <a:lnTo>
                  <a:pt x="373" y="22"/>
                </a:lnTo>
                <a:lnTo>
                  <a:pt x="367" y="24"/>
                </a:lnTo>
                <a:lnTo>
                  <a:pt x="363" y="27"/>
                </a:lnTo>
                <a:lnTo>
                  <a:pt x="358" y="31"/>
                </a:lnTo>
                <a:lnTo>
                  <a:pt x="342" y="37"/>
                </a:lnTo>
                <a:lnTo>
                  <a:pt x="326" y="44"/>
                </a:lnTo>
                <a:lnTo>
                  <a:pt x="310" y="51"/>
                </a:lnTo>
                <a:lnTo>
                  <a:pt x="293" y="57"/>
                </a:lnTo>
                <a:lnTo>
                  <a:pt x="277" y="64"/>
                </a:lnTo>
                <a:lnTo>
                  <a:pt x="262" y="71"/>
                </a:lnTo>
                <a:lnTo>
                  <a:pt x="246" y="79"/>
                </a:lnTo>
                <a:lnTo>
                  <a:pt x="231" y="87"/>
                </a:lnTo>
                <a:lnTo>
                  <a:pt x="217" y="94"/>
                </a:lnTo>
                <a:lnTo>
                  <a:pt x="202" y="101"/>
                </a:lnTo>
                <a:lnTo>
                  <a:pt x="189" y="109"/>
                </a:lnTo>
                <a:lnTo>
                  <a:pt x="175" y="116"/>
                </a:lnTo>
                <a:lnTo>
                  <a:pt x="160" y="123"/>
                </a:lnTo>
                <a:lnTo>
                  <a:pt x="146" y="130"/>
                </a:lnTo>
                <a:lnTo>
                  <a:pt x="132" y="138"/>
                </a:lnTo>
                <a:lnTo>
                  <a:pt x="117" y="145"/>
                </a:lnTo>
                <a:lnTo>
                  <a:pt x="103" y="152"/>
                </a:lnTo>
                <a:lnTo>
                  <a:pt x="90" y="159"/>
                </a:lnTo>
                <a:lnTo>
                  <a:pt x="75" y="166"/>
                </a:lnTo>
                <a:lnTo>
                  <a:pt x="61" y="173"/>
                </a:lnTo>
                <a:lnTo>
                  <a:pt x="46" y="180"/>
                </a:lnTo>
                <a:lnTo>
                  <a:pt x="32" y="186"/>
                </a:lnTo>
                <a:lnTo>
                  <a:pt x="18" y="193"/>
                </a:lnTo>
                <a:lnTo>
                  <a:pt x="3" y="200"/>
                </a:lnTo>
                <a:lnTo>
                  <a:pt x="1" y="198"/>
                </a:lnTo>
                <a:lnTo>
                  <a:pt x="0" y="196"/>
                </a:lnTo>
                <a:lnTo>
                  <a:pt x="0" y="192"/>
                </a:lnTo>
                <a:lnTo>
                  <a:pt x="0" y="190"/>
                </a:lnTo>
                <a:lnTo>
                  <a:pt x="23" y="178"/>
                </a:lnTo>
                <a:lnTo>
                  <a:pt x="47" y="167"/>
                </a:lnTo>
                <a:lnTo>
                  <a:pt x="70" y="154"/>
                </a:lnTo>
                <a:lnTo>
                  <a:pt x="93" y="143"/>
                </a:lnTo>
                <a:lnTo>
                  <a:pt x="117" y="131"/>
                </a:lnTo>
                <a:lnTo>
                  <a:pt x="140" y="118"/>
                </a:lnTo>
                <a:lnTo>
                  <a:pt x="163" y="107"/>
                </a:lnTo>
                <a:lnTo>
                  <a:pt x="187" y="95"/>
                </a:lnTo>
                <a:lnTo>
                  <a:pt x="211" y="84"/>
                </a:lnTo>
                <a:lnTo>
                  <a:pt x="235" y="71"/>
                </a:lnTo>
                <a:lnTo>
                  <a:pt x="258" y="60"/>
                </a:lnTo>
                <a:lnTo>
                  <a:pt x="282" y="48"/>
                </a:lnTo>
                <a:lnTo>
                  <a:pt x="305" y="37"/>
                </a:lnTo>
                <a:lnTo>
                  <a:pt x="329" y="25"/>
                </a:lnTo>
                <a:lnTo>
                  <a:pt x="352" y="15"/>
                </a:lnTo>
                <a:lnTo>
                  <a:pt x="376" y="3"/>
                </a:lnTo>
                <a:lnTo>
                  <a:pt x="381" y="2"/>
                </a:lnTo>
                <a:lnTo>
                  <a:pt x="387" y="1"/>
                </a:lnTo>
                <a:lnTo>
                  <a:pt x="391" y="0"/>
                </a:lnTo>
                <a:lnTo>
                  <a:pt x="397" y="0"/>
                </a:lnTo>
                <a:lnTo>
                  <a:pt x="401" y="1"/>
                </a:lnTo>
                <a:lnTo>
                  <a:pt x="403" y="3"/>
                </a:lnTo>
                <a:lnTo>
                  <a:pt x="404" y="8"/>
                </a:lnTo>
                <a:lnTo>
                  <a:pt x="402" y="1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27680" y="1368360"/>
            <a:ext cx="51120" cy="27000"/>
          </a:xfrm>
          <a:custGeom>
            <a:avLst/>
            <a:gdLst/>
            <a:ahLst/>
            <a:rect l="l" t="t" r="r" b="b"/>
            <a:pathLst>
              <a:path w="209" h="105">
                <a:moveTo>
                  <a:pt x="207" y="21"/>
                </a:moveTo>
                <a:lnTo>
                  <a:pt x="201" y="24"/>
                </a:lnTo>
                <a:lnTo>
                  <a:pt x="194" y="24"/>
                </a:lnTo>
                <a:lnTo>
                  <a:pt x="187" y="22"/>
                </a:lnTo>
                <a:lnTo>
                  <a:pt x="182" y="24"/>
                </a:lnTo>
                <a:lnTo>
                  <a:pt x="166" y="31"/>
                </a:lnTo>
                <a:lnTo>
                  <a:pt x="148" y="39"/>
                </a:lnTo>
                <a:lnTo>
                  <a:pt x="132" y="46"/>
                </a:lnTo>
                <a:lnTo>
                  <a:pt x="115" y="53"/>
                </a:lnTo>
                <a:lnTo>
                  <a:pt x="99" y="60"/>
                </a:lnTo>
                <a:lnTo>
                  <a:pt x="83" y="67"/>
                </a:lnTo>
                <a:lnTo>
                  <a:pt x="66" y="74"/>
                </a:lnTo>
                <a:lnTo>
                  <a:pt x="50" y="81"/>
                </a:lnTo>
                <a:lnTo>
                  <a:pt x="9" y="105"/>
                </a:lnTo>
                <a:lnTo>
                  <a:pt x="4" y="102"/>
                </a:lnTo>
                <a:lnTo>
                  <a:pt x="1" y="96"/>
                </a:lnTo>
                <a:lnTo>
                  <a:pt x="0" y="90"/>
                </a:lnTo>
                <a:lnTo>
                  <a:pt x="5" y="85"/>
                </a:lnTo>
                <a:lnTo>
                  <a:pt x="18" y="78"/>
                </a:lnTo>
                <a:lnTo>
                  <a:pt x="32" y="72"/>
                </a:lnTo>
                <a:lnTo>
                  <a:pt x="45" y="66"/>
                </a:lnTo>
                <a:lnTo>
                  <a:pt x="58" y="60"/>
                </a:lnTo>
                <a:lnTo>
                  <a:pt x="72" y="54"/>
                </a:lnTo>
                <a:lnTo>
                  <a:pt x="86" y="49"/>
                </a:lnTo>
                <a:lnTo>
                  <a:pt x="99" y="43"/>
                </a:lnTo>
                <a:lnTo>
                  <a:pt x="113" y="37"/>
                </a:lnTo>
                <a:lnTo>
                  <a:pt x="123" y="32"/>
                </a:lnTo>
                <a:lnTo>
                  <a:pt x="132" y="28"/>
                </a:lnTo>
                <a:lnTo>
                  <a:pt x="144" y="23"/>
                </a:lnTo>
                <a:lnTo>
                  <a:pt x="154" y="20"/>
                </a:lnTo>
                <a:lnTo>
                  <a:pt x="166" y="16"/>
                </a:lnTo>
                <a:lnTo>
                  <a:pt x="176" y="12"/>
                </a:lnTo>
                <a:lnTo>
                  <a:pt x="186" y="6"/>
                </a:lnTo>
                <a:lnTo>
                  <a:pt x="197" y="0"/>
                </a:lnTo>
                <a:lnTo>
                  <a:pt x="202" y="2"/>
                </a:lnTo>
                <a:lnTo>
                  <a:pt x="207" y="7"/>
                </a:lnTo>
                <a:lnTo>
                  <a:pt x="209" y="14"/>
                </a:lnTo>
                <a:lnTo>
                  <a:pt x="207" y="2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80160" y="1373040"/>
            <a:ext cx="41400" cy="19080"/>
          </a:xfrm>
          <a:custGeom>
            <a:avLst/>
            <a:gdLst/>
            <a:ahLst/>
            <a:rect l="l" t="t" r="r" b="b"/>
            <a:pathLst>
              <a:path w="172" h="71">
                <a:moveTo>
                  <a:pt x="172" y="5"/>
                </a:moveTo>
                <a:lnTo>
                  <a:pt x="150" y="13"/>
                </a:lnTo>
                <a:lnTo>
                  <a:pt x="129" y="23"/>
                </a:lnTo>
                <a:lnTo>
                  <a:pt x="107" y="32"/>
                </a:lnTo>
                <a:lnTo>
                  <a:pt x="87" y="40"/>
                </a:lnTo>
                <a:lnTo>
                  <a:pt x="65" y="49"/>
                </a:lnTo>
                <a:lnTo>
                  <a:pt x="44" y="57"/>
                </a:lnTo>
                <a:lnTo>
                  <a:pt x="22" y="64"/>
                </a:lnTo>
                <a:lnTo>
                  <a:pt x="0" y="71"/>
                </a:lnTo>
                <a:lnTo>
                  <a:pt x="0" y="66"/>
                </a:lnTo>
                <a:lnTo>
                  <a:pt x="21" y="55"/>
                </a:lnTo>
                <a:lnTo>
                  <a:pt x="42" y="44"/>
                </a:lnTo>
                <a:lnTo>
                  <a:pt x="63" y="34"/>
                </a:lnTo>
                <a:lnTo>
                  <a:pt x="84" y="25"/>
                </a:lnTo>
                <a:lnTo>
                  <a:pt x="106" y="17"/>
                </a:lnTo>
                <a:lnTo>
                  <a:pt x="128" y="9"/>
                </a:lnTo>
                <a:lnTo>
                  <a:pt x="150" y="3"/>
                </a:lnTo>
                <a:lnTo>
                  <a:pt x="172" y="0"/>
                </a:lnTo>
                <a:lnTo>
                  <a:pt x="172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796080" y="1374840"/>
            <a:ext cx="12600" cy="4680"/>
          </a:xfrm>
          <a:custGeom>
            <a:avLst/>
            <a:gdLst/>
            <a:ahLst/>
            <a:rect l="l" t="t" r="r" b="b"/>
            <a:pathLst>
              <a:path w="51" h="17">
                <a:moveTo>
                  <a:pt x="51" y="4"/>
                </a:moveTo>
                <a:lnTo>
                  <a:pt x="48" y="10"/>
                </a:lnTo>
                <a:lnTo>
                  <a:pt x="43" y="13"/>
                </a:lnTo>
                <a:lnTo>
                  <a:pt x="37" y="16"/>
                </a:lnTo>
                <a:lnTo>
                  <a:pt x="30" y="17"/>
                </a:lnTo>
                <a:lnTo>
                  <a:pt x="22" y="17"/>
                </a:lnTo>
                <a:lnTo>
                  <a:pt x="15" y="17"/>
                </a:lnTo>
                <a:lnTo>
                  <a:pt x="8" y="17"/>
                </a:lnTo>
                <a:lnTo>
                  <a:pt x="3" y="17"/>
                </a:lnTo>
                <a:lnTo>
                  <a:pt x="0" y="12"/>
                </a:lnTo>
                <a:lnTo>
                  <a:pt x="0" y="8"/>
                </a:lnTo>
                <a:lnTo>
                  <a:pt x="3" y="3"/>
                </a:lnTo>
                <a:lnTo>
                  <a:pt x="5" y="0"/>
                </a:lnTo>
                <a:lnTo>
                  <a:pt x="11" y="0"/>
                </a:lnTo>
                <a:lnTo>
                  <a:pt x="17" y="0"/>
                </a:lnTo>
                <a:lnTo>
                  <a:pt x="22" y="1"/>
                </a:lnTo>
                <a:lnTo>
                  <a:pt x="29" y="1"/>
                </a:lnTo>
                <a:lnTo>
                  <a:pt x="35" y="2"/>
                </a:lnTo>
                <a:lnTo>
                  <a:pt x="41" y="3"/>
                </a:lnTo>
                <a:lnTo>
                  <a:pt x="46" y="3"/>
                </a:lnTo>
                <a:lnTo>
                  <a:pt x="5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732720" y="1379520"/>
            <a:ext cx="48960" cy="25560"/>
          </a:xfrm>
          <a:custGeom>
            <a:avLst/>
            <a:gdLst/>
            <a:ahLst/>
            <a:rect l="l" t="t" r="r" b="b"/>
            <a:pathLst>
              <a:path w="201" h="96">
                <a:moveTo>
                  <a:pt x="198" y="18"/>
                </a:moveTo>
                <a:lnTo>
                  <a:pt x="192" y="20"/>
                </a:lnTo>
                <a:lnTo>
                  <a:pt x="187" y="20"/>
                </a:lnTo>
                <a:lnTo>
                  <a:pt x="183" y="19"/>
                </a:lnTo>
                <a:lnTo>
                  <a:pt x="177" y="18"/>
                </a:lnTo>
                <a:lnTo>
                  <a:pt x="159" y="31"/>
                </a:lnTo>
                <a:lnTo>
                  <a:pt x="139" y="41"/>
                </a:lnTo>
                <a:lnTo>
                  <a:pt x="120" y="50"/>
                </a:lnTo>
                <a:lnTo>
                  <a:pt x="100" y="60"/>
                </a:lnTo>
                <a:lnTo>
                  <a:pt x="80" y="68"/>
                </a:lnTo>
                <a:lnTo>
                  <a:pt x="60" y="76"/>
                </a:lnTo>
                <a:lnTo>
                  <a:pt x="40" y="85"/>
                </a:lnTo>
                <a:lnTo>
                  <a:pt x="20" y="95"/>
                </a:lnTo>
                <a:lnTo>
                  <a:pt x="14" y="96"/>
                </a:lnTo>
                <a:lnTo>
                  <a:pt x="7" y="94"/>
                </a:lnTo>
                <a:lnTo>
                  <a:pt x="1" y="89"/>
                </a:lnTo>
                <a:lnTo>
                  <a:pt x="0" y="81"/>
                </a:lnTo>
                <a:lnTo>
                  <a:pt x="0" y="77"/>
                </a:lnTo>
                <a:lnTo>
                  <a:pt x="22" y="68"/>
                </a:lnTo>
                <a:lnTo>
                  <a:pt x="43" y="58"/>
                </a:lnTo>
                <a:lnTo>
                  <a:pt x="64" y="49"/>
                </a:lnTo>
                <a:lnTo>
                  <a:pt x="85" y="39"/>
                </a:lnTo>
                <a:lnTo>
                  <a:pt x="107" y="30"/>
                </a:lnTo>
                <a:lnTo>
                  <a:pt x="129" y="20"/>
                </a:lnTo>
                <a:lnTo>
                  <a:pt x="151" y="12"/>
                </a:lnTo>
                <a:lnTo>
                  <a:pt x="174" y="7"/>
                </a:lnTo>
                <a:lnTo>
                  <a:pt x="178" y="3"/>
                </a:lnTo>
                <a:lnTo>
                  <a:pt x="183" y="1"/>
                </a:lnTo>
                <a:lnTo>
                  <a:pt x="190" y="0"/>
                </a:lnTo>
                <a:lnTo>
                  <a:pt x="194" y="0"/>
                </a:lnTo>
                <a:lnTo>
                  <a:pt x="199" y="2"/>
                </a:lnTo>
                <a:lnTo>
                  <a:pt x="201" y="5"/>
                </a:lnTo>
                <a:lnTo>
                  <a:pt x="201" y="10"/>
                </a:lnTo>
                <a:lnTo>
                  <a:pt x="198" y="1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802560" y="1384200"/>
            <a:ext cx="11160" cy="5040"/>
          </a:xfrm>
          <a:custGeom>
            <a:avLst/>
            <a:gdLst/>
            <a:ahLst/>
            <a:rect l="l" t="t" r="r" b="b"/>
            <a:pathLst>
              <a:path w="44" h="14">
                <a:moveTo>
                  <a:pt x="44" y="3"/>
                </a:moveTo>
                <a:lnTo>
                  <a:pt x="41" y="9"/>
                </a:lnTo>
                <a:lnTo>
                  <a:pt x="38" y="12"/>
                </a:lnTo>
                <a:lnTo>
                  <a:pt x="32" y="14"/>
                </a:lnTo>
                <a:lnTo>
                  <a:pt x="26" y="14"/>
                </a:lnTo>
                <a:lnTo>
                  <a:pt x="20" y="13"/>
                </a:lnTo>
                <a:lnTo>
                  <a:pt x="14" y="13"/>
                </a:lnTo>
                <a:lnTo>
                  <a:pt x="8" y="12"/>
                </a:lnTo>
                <a:lnTo>
                  <a:pt x="2" y="13"/>
                </a:lnTo>
                <a:lnTo>
                  <a:pt x="0" y="7"/>
                </a:lnTo>
                <a:lnTo>
                  <a:pt x="4" y="4"/>
                </a:lnTo>
                <a:lnTo>
                  <a:pt x="10" y="2"/>
                </a:lnTo>
                <a:lnTo>
                  <a:pt x="16" y="2"/>
                </a:lnTo>
                <a:lnTo>
                  <a:pt x="22" y="0"/>
                </a:lnTo>
                <a:lnTo>
                  <a:pt x="27" y="0"/>
                </a:lnTo>
                <a:lnTo>
                  <a:pt x="33" y="2"/>
                </a:lnTo>
                <a:lnTo>
                  <a:pt x="39" y="3"/>
                </a:lnTo>
                <a:lnTo>
                  <a:pt x="44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539040" y="1387440"/>
            <a:ext cx="12600" cy="9720"/>
          </a:xfrm>
          <a:custGeom>
            <a:avLst/>
            <a:gdLst/>
            <a:ahLst/>
            <a:rect l="l" t="t" r="r" b="b"/>
            <a:pathLst>
              <a:path w="52" h="33">
                <a:moveTo>
                  <a:pt x="52" y="2"/>
                </a:moveTo>
                <a:lnTo>
                  <a:pt x="52" y="8"/>
                </a:lnTo>
                <a:lnTo>
                  <a:pt x="45" y="10"/>
                </a:lnTo>
                <a:lnTo>
                  <a:pt x="39" y="12"/>
                </a:lnTo>
                <a:lnTo>
                  <a:pt x="32" y="14"/>
                </a:lnTo>
                <a:lnTo>
                  <a:pt x="25" y="17"/>
                </a:lnTo>
                <a:lnTo>
                  <a:pt x="20" y="19"/>
                </a:lnTo>
                <a:lnTo>
                  <a:pt x="14" y="23"/>
                </a:lnTo>
                <a:lnTo>
                  <a:pt x="9" y="27"/>
                </a:lnTo>
                <a:lnTo>
                  <a:pt x="5" y="33"/>
                </a:lnTo>
                <a:lnTo>
                  <a:pt x="0" y="33"/>
                </a:lnTo>
                <a:lnTo>
                  <a:pt x="2" y="24"/>
                </a:lnTo>
                <a:lnTo>
                  <a:pt x="6" y="18"/>
                </a:lnTo>
                <a:lnTo>
                  <a:pt x="12" y="14"/>
                </a:lnTo>
                <a:lnTo>
                  <a:pt x="20" y="10"/>
                </a:lnTo>
                <a:lnTo>
                  <a:pt x="28" y="8"/>
                </a:lnTo>
                <a:lnTo>
                  <a:pt x="36" y="5"/>
                </a:lnTo>
                <a:lnTo>
                  <a:pt x="43" y="3"/>
                </a:lnTo>
                <a:lnTo>
                  <a:pt x="50" y="0"/>
                </a:lnTo>
                <a:lnTo>
                  <a:pt x="52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732720" y="1389240"/>
            <a:ext cx="54000" cy="31680"/>
          </a:xfrm>
          <a:custGeom>
            <a:avLst/>
            <a:gdLst/>
            <a:ahLst/>
            <a:rect l="l" t="t" r="r" b="b"/>
            <a:pathLst>
              <a:path w="223" h="120">
                <a:moveTo>
                  <a:pt x="223" y="6"/>
                </a:moveTo>
                <a:lnTo>
                  <a:pt x="222" y="13"/>
                </a:lnTo>
                <a:lnTo>
                  <a:pt x="219" y="19"/>
                </a:lnTo>
                <a:lnTo>
                  <a:pt x="214" y="22"/>
                </a:lnTo>
                <a:lnTo>
                  <a:pt x="208" y="26"/>
                </a:lnTo>
                <a:lnTo>
                  <a:pt x="202" y="28"/>
                </a:lnTo>
                <a:lnTo>
                  <a:pt x="197" y="30"/>
                </a:lnTo>
                <a:lnTo>
                  <a:pt x="191" y="34"/>
                </a:lnTo>
                <a:lnTo>
                  <a:pt x="186" y="38"/>
                </a:lnTo>
                <a:lnTo>
                  <a:pt x="164" y="49"/>
                </a:lnTo>
                <a:lnTo>
                  <a:pt x="143" y="59"/>
                </a:lnTo>
                <a:lnTo>
                  <a:pt x="121" y="70"/>
                </a:lnTo>
                <a:lnTo>
                  <a:pt x="100" y="79"/>
                </a:lnTo>
                <a:lnTo>
                  <a:pt x="78" y="89"/>
                </a:lnTo>
                <a:lnTo>
                  <a:pt x="56" y="100"/>
                </a:lnTo>
                <a:lnTo>
                  <a:pt x="34" y="110"/>
                </a:lnTo>
                <a:lnTo>
                  <a:pt x="12" y="120"/>
                </a:lnTo>
                <a:lnTo>
                  <a:pt x="8" y="118"/>
                </a:lnTo>
                <a:lnTo>
                  <a:pt x="4" y="117"/>
                </a:lnTo>
                <a:lnTo>
                  <a:pt x="2" y="113"/>
                </a:lnTo>
                <a:lnTo>
                  <a:pt x="0" y="110"/>
                </a:lnTo>
                <a:lnTo>
                  <a:pt x="12" y="100"/>
                </a:lnTo>
                <a:lnTo>
                  <a:pt x="25" y="90"/>
                </a:lnTo>
                <a:lnTo>
                  <a:pt x="39" y="81"/>
                </a:lnTo>
                <a:lnTo>
                  <a:pt x="53" y="73"/>
                </a:lnTo>
                <a:lnTo>
                  <a:pt x="67" y="66"/>
                </a:lnTo>
                <a:lnTo>
                  <a:pt x="80" y="58"/>
                </a:lnTo>
                <a:lnTo>
                  <a:pt x="94" y="51"/>
                </a:lnTo>
                <a:lnTo>
                  <a:pt x="108" y="43"/>
                </a:lnTo>
                <a:lnTo>
                  <a:pt x="115" y="38"/>
                </a:lnTo>
                <a:lnTo>
                  <a:pt x="122" y="35"/>
                </a:lnTo>
                <a:lnTo>
                  <a:pt x="129" y="33"/>
                </a:lnTo>
                <a:lnTo>
                  <a:pt x="137" y="30"/>
                </a:lnTo>
                <a:lnTo>
                  <a:pt x="145" y="29"/>
                </a:lnTo>
                <a:lnTo>
                  <a:pt x="152" y="27"/>
                </a:lnTo>
                <a:lnTo>
                  <a:pt x="158" y="22"/>
                </a:lnTo>
                <a:lnTo>
                  <a:pt x="163" y="18"/>
                </a:lnTo>
                <a:lnTo>
                  <a:pt x="170" y="18"/>
                </a:lnTo>
                <a:lnTo>
                  <a:pt x="177" y="15"/>
                </a:lnTo>
                <a:lnTo>
                  <a:pt x="185" y="11"/>
                </a:lnTo>
                <a:lnTo>
                  <a:pt x="193" y="6"/>
                </a:lnTo>
                <a:lnTo>
                  <a:pt x="200" y="3"/>
                </a:lnTo>
                <a:lnTo>
                  <a:pt x="208" y="0"/>
                </a:lnTo>
                <a:lnTo>
                  <a:pt x="216" y="0"/>
                </a:lnTo>
                <a:lnTo>
                  <a:pt x="223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04000" y="1397160"/>
            <a:ext cx="11160" cy="2880"/>
          </a:xfrm>
          <a:custGeom>
            <a:avLst/>
            <a:gdLst/>
            <a:ahLst/>
            <a:rect l="l" t="t" r="r" b="b"/>
            <a:pathLst>
              <a:path w="45" h="15">
                <a:moveTo>
                  <a:pt x="45" y="5"/>
                </a:moveTo>
                <a:lnTo>
                  <a:pt x="41" y="9"/>
                </a:lnTo>
                <a:lnTo>
                  <a:pt x="36" y="12"/>
                </a:lnTo>
                <a:lnTo>
                  <a:pt x="32" y="14"/>
                </a:lnTo>
                <a:lnTo>
                  <a:pt x="26" y="15"/>
                </a:lnTo>
                <a:lnTo>
                  <a:pt x="20" y="15"/>
                </a:lnTo>
                <a:lnTo>
                  <a:pt x="14" y="15"/>
                </a:lnTo>
                <a:lnTo>
                  <a:pt x="7" y="14"/>
                </a:lnTo>
                <a:lnTo>
                  <a:pt x="2" y="13"/>
                </a:lnTo>
                <a:lnTo>
                  <a:pt x="0" y="7"/>
                </a:lnTo>
                <a:lnTo>
                  <a:pt x="4" y="4"/>
                </a:lnTo>
                <a:lnTo>
                  <a:pt x="7" y="1"/>
                </a:lnTo>
                <a:lnTo>
                  <a:pt x="12" y="0"/>
                </a:lnTo>
                <a:lnTo>
                  <a:pt x="21" y="0"/>
                </a:lnTo>
                <a:lnTo>
                  <a:pt x="30" y="0"/>
                </a:lnTo>
                <a:lnTo>
                  <a:pt x="39" y="1"/>
                </a:lnTo>
                <a:lnTo>
                  <a:pt x="45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681960" y="1401840"/>
            <a:ext cx="39600" cy="7920"/>
          </a:xfrm>
          <a:custGeom>
            <a:avLst/>
            <a:gdLst/>
            <a:ahLst/>
            <a:rect l="l" t="t" r="r" b="b"/>
            <a:pathLst>
              <a:path w="164" h="27">
                <a:moveTo>
                  <a:pt x="164" y="25"/>
                </a:moveTo>
                <a:lnTo>
                  <a:pt x="163" y="27"/>
                </a:lnTo>
                <a:lnTo>
                  <a:pt x="153" y="23"/>
                </a:lnTo>
                <a:lnTo>
                  <a:pt x="141" y="19"/>
                </a:lnTo>
                <a:lnTo>
                  <a:pt x="130" y="17"/>
                </a:lnTo>
                <a:lnTo>
                  <a:pt x="118" y="16"/>
                </a:lnTo>
                <a:lnTo>
                  <a:pt x="107" y="15"/>
                </a:lnTo>
                <a:lnTo>
                  <a:pt x="94" y="15"/>
                </a:lnTo>
                <a:lnTo>
                  <a:pt x="81" y="13"/>
                </a:lnTo>
                <a:lnTo>
                  <a:pt x="69" y="12"/>
                </a:lnTo>
                <a:lnTo>
                  <a:pt x="61" y="13"/>
                </a:lnTo>
                <a:lnTo>
                  <a:pt x="51" y="16"/>
                </a:lnTo>
                <a:lnTo>
                  <a:pt x="43" y="17"/>
                </a:lnTo>
                <a:lnTo>
                  <a:pt x="34" y="19"/>
                </a:lnTo>
                <a:lnTo>
                  <a:pt x="26" y="20"/>
                </a:lnTo>
                <a:lnTo>
                  <a:pt x="17" y="23"/>
                </a:lnTo>
                <a:lnTo>
                  <a:pt x="9" y="24"/>
                </a:lnTo>
                <a:lnTo>
                  <a:pt x="0" y="25"/>
                </a:lnTo>
                <a:lnTo>
                  <a:pt x="17" y="17"/>
                </a:lnTo>
                <a:lnTo>
                  <a:pt x="36" y="10"/>
                </a:lnTo>
                <a:lnTo>
                  <a:pt x="56" y="4"/>
                </a:lnTo>
                <a:lnTo>
                  <a:pt x="77" y="1"/>
                </a:lnTo>
                <a:lnTo>
                  <a:pt x="97" y="0"/>
                </a:lnTo>
                <a:lnTo>
                  <a:pt x="117" y="1"/>
                </a:lnTo>
                <a:lnTo>
                  <a:pt x="137" y="5"/>
                </a:lnTo>
                <a:lnTo>
                  <a:pt x="154" y="12"/>
                </a:lnTo>
                <a:lnTo>
                  <a:pt x="164" y="2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18240" y="1406520"/>
            <a:ext cx="34920" cy="20520"/>
          </a:xfrm>
          <a:custGeom>
            <a:avLst/>
            <a:gdLst/>
            <a:ahLst/>
            <a:rect l="l" t="t" r="r" b="b"/>
            <a:pathLst>
              <a:path w="146" h="78">
                <a:moveTo>
                  <a:pt x="146" y="6"/>
                </a:moveTo>
                <a:lnTo>
                  <a:pt x="143" y="13"/>
                </a:lnTo>
                <a:lnTo>
                  <a:pt x="126" y="21"/>
                </a:lnTo>
                <a:lnTo>
                  <a:pt x="107" y="30"/>
                </a:lnTo>
                <a:lnTo>
                  <a:pt x="90" y="38"/>
                </a:lnTo>
                <a:lnTo>
                  <a:pt x="72" y="47"/>
                </a:lnTo>
                <a:lnTo>
                  <a:pt x="54" y="55"/>
                </a:lnTo>
                <a:lnTo>
                  <a:pt x="36" y="64"/>
                </a:lnTo>
                <a:lnTo>
                  <a:pt x="19" y="72"/>
                </a:lnTo>
                <a:lnTo>
                  <a:pt x="0" y="78"/>
                </a:lnTo>
                <a:lnTo>
                  <a:pt x="0" y="72"/>
                </a:lnTo>
                <a:lnTo>
                  <a:pt x="17" y="62"/>
                </a:lnTo>
                <a:lnTo>
                  <a:pt x="36" y="52"/>
                </a:lnTo>
                <a:lnTo>
                  <a:pt x="53" y="43"/>
                </a:lnTo>
                <a:lnTo>
                  <a:pt x="70" y="34"/>
                </a:lnTo>
                <a:lnTo>
                  <a:pt x="89" y="24"/>
                </a:lnTo>
                <a:lnTo>
                  <a:pt x="106" y="16"/>
                </a:lnTo>
                <a:lnTo>
                  <a:pt x="125" y="8"/>
                </a:lnTo>
                <a:lnTo>
                  <a:pt x="143" y="0"/>
                </a:lnTo>
                <a:lnTo>
                  <a:pt x="146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804000" y="1407960"/>
            <a:ext cx="6480" cy="3240"/>
          </a:xfrm>
          <a:custGeom>
            <a:avLst/>
            <a:gdLst/>
            <a:ahLst/>
            <a:rect l="l" t="t" r="r" b="b"/>
            <a:pathLst>
              <a:path w="28" h="15">
                <a:moveTo>
                  <a:pt x="28" y="9"/>
                </a:moveTo>
                <a:lnTo>
                  <a:pt x="28" y="12"/>
                </a:lnTo>
                <a:lnTo>
                  <a:pt x="22" y="15"/>
                </a:lnTo>
                <a:lnTo>
                  <a:pt x="15" y="15"/>
                </a:lnTo>
                <a:lnTo>
                  <a:pt x="8" y="15"/>
                </a:lnTo>
                <a:lnTo>
                  <a:pt x="1" y="15"/>
                </a:lnTo>
                <a:lnTo>
                  <a:pt x="0" y="10"/>
                </a:lnTo>
                <a:lnTo>
                  <a:pt x="4" y="5"/>
                </a:lnTo>
                <a:lnTo>
                  <a:pt x="7" y="2"/>
                </a:lnTo>
                <a:lnTo>
                  <a:pt x="12" y="0"/>
                </a:lnTo>
                <a:lnTo>
                  <a:pt x="16" y="2"/>
                </a:lnTo>
                <a:lnTo>
                  <a:pt x="21" y="3"/>
                </a:lnTo>
                <a:lnTo>
                  <a:pt x="24" y="5"/>
                </a:lnTo>
                <a:lnTo>
                  <a:pt x="28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99240" y="1415880"/>
            <a:ext cx="14400" cy="3240"/>
          </a:xfrm>
          <a:custGeom>
            <a:avLst/>
            <a:gdLst/>
            <a:ahLst/>
            <a:rect l="l" t="t" r="r" b="b"/>
            <a:pathLst>
              <a:path w="56" h="15">
                <a:moveTo>
                  <a:pt x="56" y="9"/>
                </a:moveTo>
                <a:lnTo>
                  <a:pt x="48" y="15"/>
                </a:lnTo>
                <a:lnTo>
                  <a:pt x="42" y="15"/>
                </a:lnTo>
                <a:lnTo>
                  <a:pt x="35" y="15"/>
                </a:lnTo>
                <a:lnTo>
                  <a:pt x="30" y="15"/>
                </a:lnTo>
                <a:lnTo>
                  <a:pt x="24" y="15"/>
                </a:lnTo>
                <a:lnTo>
                  <a:pt x="18" y="14"/>
                </a:lnTo>
                <a:lnTo>
                  <a:pt x="12" y="12"/>
                </a:lnTo>
                <a:lnTo>
                  <a:pt x="6" y="11"/>
                </a:lnTo>
                <a:lnTo>
                  <a:pt x="0" y="9"/>
                </a:lnTo>
                <a:lnTo>
                  <a:pt x="6" y="4"/>
                </a:lnTo>
                <a:lnTo>
                  <a:pt x="11" y="1"/>
                </a:lnTo>
                <a:lnTo>
                  <a:pt x="19" y="0"/>
                </a:lnTo>
                <a:lnTo>
                  <a:pt x="26" y="0"/>
                </a:lnTo>
                <a:lnTo>
                  <a:pt x="33" y="0"/>
                </a:lnTo>
                <a:lnTo>
                  <a:pt x="41" y="1"/>
                </a:lnTo>
                <a:lnTo>
                  <a:pt x="48" y="1"/>
                </a:lnTo>
                <a:lnTo>
                  <a:pt x="55" y="2"/>
                </a:lnTo>
                <a:lnTo>
                  <a:pt x="56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683400" y="1422360"/>
            <a:ext cx="14400" cy="3240"/>
          </a:xfrm>
          <a:custGeom>
            <a:avLst/>
            <a:gdLst/>
            <a:ahLst/>
            <a:rect l="l" t="t" r="r" b="b"/>
            <a:pathLst>
              <a:path w="63" h="14">
                <a:moveTo>
                  <a:pt x="63" y="7"/>
                </a:moveTo>
                <a:lnTo>
                  <a:pt x="63" y="14"/>
                </a:lnTo>
                <a:lnTo>
                  <a:pt x="54" y="14"/>
                </a:lnTo>
                <a:lnTo>
                  <a:pt x="46" y="14"/>
                </a:lnTo>
                <a:lnTo>
                  <a:pt x="38" y="14"/>
                </a:lnTo>
                <a:lnTo>
                  <a:pt x="30" y="14"/>
                </a:lnTo>
                <a:lnTo>
                  <a:pt x="23" y="14"/>
                </a:lnTo>
                <a:lnTo>
                  <a:pt x="15" y="12"/>
                </a:lnTo>
                <a:lnTo>
                  <a:pt x="8" y="11"/>
                </a:lnTo>
                <a:lnTo>
                  <a:pt x="0" y="9"/>
                </a:lnTo>
                <a:lnTo>
                  <a:pt x="4" y="0"/>
                </a:lnTo>
                <a:lnTo>
                  <a:pt x="12" y="2"/>
                </a:lnTo>
                <a:lnTo>
                  <a:pt x="19" y="2"/>
                </a:lnTo>
                <a:lnTo>
                  <a:pt x="27" y="2"/>
                </a:lnTo>
                <a:lnTo>
                  <a:pt x="34" y="2"/>
                </a:lnTo>
                <a:lnTo>
                  <a:pt x="41" y="2"/>
                </a:lnTo>
                <a:lnTo>
                  <a:pt x="48" y="3"/>
                </a:lnTo>
                <a:lnTo>
                  <a:pt x="56" y="4"/>
                </a:lnTo>
                <a:lnTo>
                  <a:pt x="63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621480" y="1425600"/>
            <a:ext cx="25560" cy="14400"/>
          </a:xfrm>
          <a:custGeom>
            <a:avLst/>
            <a:gdLst/>
            <a:ahLst/>
            <a:rect l="l" t="t" r="r" b="b"/>
            <a:pathLst>
              <a:path w="106" h="57">
                <a:moveTo>
                  <a:pt x="106" y="4"/>
                </a:moveTo>
                <a:lnTo>
                  <a:pt x="104" y="14"/>
                </a:lnTo>
                <a:lnTo>
                  <a:pt x="92" y="20"/>
                </a:lnTo>
                <a:lnTo>
                  <a:pt x="80" y="24"/>
                </a:lnTo>
                <a:lnTo>
                  <a:pt x="68" y="29"/>
                </a:lnTo>
                <a:lnTo>
                  <a:pt x="56" y="34"/>
                </a:lnTo>
                <a:lnTo>
                  <a:pt x="43" y="38"/>
                </a:lnTo>
                <a:lnTo>
                  <a:pt x="32" y="43"/>
                </a:lnTo>
                <a:lnTo>
                  <a:pt x="20" y="50"/>
                </a:lnTo>
                <a:lnTo>
                  <a:pt x="10" y="57"/>
                </a:lnTo>
                <a:lnTo>
                  <a:pt x="5" y="57"/>
                </a:lnTo>
                <a:lnTo>
                  <a:pt x="3" y="55"/>
                </a:lnTo>
                <a:lnTo>
                  <a:pt x="1" y="54"/>
                </a:lnTo>
                <a:lnTo>
                  <a:pt x="0" y="51"/>
                </a:lnTo>
                <a:lnTo>
                  <a:pt x="3" y="43"/>
                </a:lnTo>
                <a:lnTo>
                  <a:pt x="8" y="37"/>
                </a:lnTo>
                <a:lnTo>
                  <a:pt x="13" y="34"/>
                </a:lnTo>
                <a:lnTo>
                  <a:pt x="21" y="31"/>
                </a:lnTo>
                <a:lnTo>
                  <a:pt x="28" y="29"/>
                </a:lnTo>
                <a:lnTo>
                  <a:pt x="36" y="27"/>
                </a:lnTo>
                <a:lnTo>
                  <a:pt x="43" y="23"/>
                </a:lnTo>
                <a:lnTo>
                  <a:pt x="49" y="17"/>
                </a:lnTo>
                <a:lnTo>
                  <a:pt x="57" y="16"/>
                </a:lnTo>
                <a:lnTo>
                  <a:pt x="64" y="13"/>
                </a:lnTo>
                <a:lnTo>
                  <a:pt x="71" y="9"/>
                </a:lnTo>
                <a:lnTo>
                  <a:pt x="78" y="5"/>
                </a:lnTo>
                <a:lnTo>
                  <a:pt x="84" y="2"/>
                </a:lnTo>
                <a:lnTo>
                  <a:pt x="91" y="0"/>
                </a:lnTo>
                <a:lnTo>
                  <a:pt x="97" y="0"/>
                </a:lnTo>
                <a:lnTo>
                  <a:pt x="106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669000" y="1432080"/>
            <a:ext cx="20880" cy="4680"/>
          </a:xfrm>
          <a:custGeom>
            <a:avLst/>
            <a:gdLst/>
            <a:ahLst/>
            <a:rect l="l" t="t" r="r" b="b"/>
            <a:pathLst>
              <a:path w="85" h="19">
                <a:moveTo>
                  <a:pt x="85" y="19"/>
                </a:moveTo>
                <a:lnTo>
                  <a:pt x="76" y="18"/>
                </a:lnTo>
                <a:lnTo>
                  <a:pt x="66" y="18"/>
                </a:lnTo>
                <a:lnTo>
                  <a:pt x="55" y="16"/>
                </a:lnTo>
                <a:lnTo>
                  <a:pt x="44" y="15"/>
                </a:lnTo>
                <a:lnTo>
                  <a:pt x="33" y="15"/>
                </a:lnTo>
                <a:lnTo>
                  <a:pt x="22" y="14"/>
                </a:lnTo>
                <a:lnTo>
                  <a:pt x="10" y="15"/>
                </a:lnTo>
                <a:lnTo>
                  <a:pt x="0" y="16"/>
                </a:lnTo>
                <a:lnTo>
                  <a:pt x="0" y="12"/>
                </a:lnTo>
                <a:lnTo>
                  <a:pt x="1" y="6"/>
                </a:lnTo>
                <a:lnTo>
                  <a:pt x="5" y="3"/>
                </a:lnTo>
                <a:lnTo>
                  <a:pt x="10" y="0"/>
                </a:lnTo>
                <a:lnTo>
                  <a:pt x="20" y="1"/>
                </a:lnTo>
                <a:lnTo>
                  <a:pt x="31" y="0"/>
                </a:lnTo>
                <a:lnTo>
                  <a:pt x="43" y="0"/>
                </a:lnTo>
                <a:lnTo>
                  <a:pt x="54" y="0"/>
                </a:lnTo>
                <a:lnTo>
                  <a:pt x="65" y="1"/>
                </a:lnTo>
                <a:lnTo>
                  <a:pt x="74" y="4"/>
                </a:lnTo>
                <a:lnTo>
                  <a:pt x="81" y="10"/>
                </a:lnTo>
                <a:lnTo>
                  <a:pt x="85" y="1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721560" y="1370160"/>
            <a:ext cx="12600" cy="7920"/>
          </a:xfrm>
          <a:custGeom>
            <a:avLst/>
            <a:gdLst/>
            <a:ahLst/>
            <a:rect l="l" t="t" r="r" b="b"/>
            <a:pathLst>
              <a:path w="49" h="31">
                <a:moveTo>
                  <a:pt x="7" y="4"/>
                </a:moveTo>
                <a:lnTo>
                  <a:pt x="8" y="13"/>
                </a:lnTo>
                <a:lnTo>
                  <a:pt x="15" y="18"/>
                </a:lnTo>
                <a:lnTo>
                  <a:pt x="24" y="20"/>
                </a:lnTo>
                <a:lnTo>
                  <a:pt x="31" y="25"/>
                </a:lnTo>
                <a:lnTo>
                  <a:pt x="37" y="28"/>
                </a:lnTo>
                <a:lnTo>
                  <a:pt x="42" y="25"/>
                </a:lnTo>
                <a:lnTo>
                  <a:pt x="47" y="22"/>
                </a:lnTo>
                <a:lnTo>
                  <a:pt x="49" y="29"/>
                </a:lnTo>
                <a:lnTo>
                  <a:pt x="42" y="30"/>
                </a:lnTo>
                <a:lnTo>
                  <a:pt x="37" y="31"/>
                </a:lnTo>
                <a:lnTo>
                  <a:pt x="30" y="31"/>
                </a:lnTo>
                <a:lnTo>
                  <a:pt x="23" y="31"/>
                </a:lnTo>
                <a:lnTo>
                  <a:pt x="17" y="30"/>
                </a:lnTo>
                <a:lnTo>
                  <a:pt x="11" y="28"/>
                </a:lnTo>
                <a:lnTo>
                  <a:pt x="6" y="26"/>
                </a:lnTo>
                <a:lnTo>
                  <a:pt x="0" y="23"/>
                </a:ln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6" y="3"/>
                </a:lnTo>
                <a:lnTo>
                  <a:pt x="7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567480" y="1371600"/>
            <a:ext cx="11160" cy="9360"/>
          </a:xfrm>
          <a:custGeom>
            <a:avLst/>
            <a:gdLst/>
            <a:ahLst/>
            <a:rect l="l" t="t" r="r" b="b"/>
            <a:pathLst>
              <a:path w="45" h="34">
                <a:moveTo>
                  <a:pt x="45" y="12"/>
                </a:moveTo>
                <a:lnTo>
                  <a:pt x="39" y="14"/>
                </a:lnTo>
                <a:lnTo>
                  <a:pt x="33" y="17"/>
                </a:lnTo>
                <a:lnTo>
                  <a:pt x="28" y="22"/>
                </a:lnTo>
                <a:lnTo>
                  <a:pt x="22" y="27"/>
                </a:lnTo>
                <a:lnTo>
                  <a:pt x="16" y="31"/>
                </a:lnTo>
                <a:lnTo>
                  <a:pt x="11" y="34"/>
                </a:lnTo>
                <a:lnTo>
                  <a:pt x="6" y="34"/>
                </a:lnTo>
                <a:lnTo>
                  <a:pt x="0" y="30"/>
                </a:lnTo>
                <a:lnTo>
                  <a:pt x="0" y="22"/>
                </a:lnTo>
                <a:lnTo>
                  <a:pt x="2" y="17"/>
                </a:lnTo>
                <a:lnTo>
                  <a:pt x="7" y="14"/>
                </a:lnTo>
                <a:lnTo>
                  <a:pt x="13" y="12"/>
                </a:lnTo>
                <a:lnTo>
                  <a:pt x="18" y="9"/>
                </a:lnTo>
                <a:lnTo>
                  <a:pt x="25" y="8"/>
                </a:lnTo>
                <a:lnTo>
                  <a:pt x="30" y="5"/>
                </a:lnTo>
                <a:lnTo>
                  <a:pt x="35" y="1"/>
                </a:lnTo>
                <a:lnTo>
                  <a:pt x="39" y="0"/>
                </a:lnTo>
                <a:lnTo>
                  <a:pt x="41" y="2"/>
                </a:lnTo>
                <a:lnTo>
                  <a:pt x="43" y="7"/>
                </a:lnTo>
                <a:lnTo>
                  <a:pt x="45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624720" y="1373040"/>
            <a:ext cx="23760" cy="14400"/>
          </a:xfrm>
          <a:custGeom>
            <a:avLst/>
            <a:gdLst/>
            <a:ahLst/>
            <a:rect l="l" t="t" r="r" b="b"/>
            <a:pathLst>
              <a:path w="105" h="54">
                <a:moveTo>
                  <a:pt x="105" y="8"/>
                </a:moveTo>
                <a:lnTo>
                  <a:pt x="100" y="12"/>
                </a:lnTo>
                <a:lnTo>
                  <a:pt x="96" y="15"/>
                </a:lnTo>
                <a:lnTo>
                  <a:pt x="90" y="17"/>
                </a:lnTo>
                <a:lnTo>
                  <a:pt x="84" y="20"/>
                </a:lnTo>
                <a:lnTo>
                  <a:pt x="77" y="22"/>
                </a:lnTo>
                <a:lnTo>
                  <a:pt x="72" y="24"/>
                </a:lnTo>
                <a:lnTo>
                  <a:pt x="65" y="25"/>
                </a:lnTo>
                <a:lnTo>
                  <a:pt x="59" y="27"/>
                </a:lnTo>
                <a:lnTo>
                  <a:pt x="53" y="31"/>
                </a:lnTo>
                <a:lnTo>
                  <a:pt x="46" y="35"/>
                </a:lnTo>
                <a:lnTo>
                  <a:pt x="40" y="38"/>
                </a:lnTo>
                <a:lnTo>
                  <a:pt x="33" y="42"/>
                </a:lnTo>
                <a:lnTo>
                  <a:pt x="28" y="45"/>
                </a:lnTo>
                <a:lnTo>
                  <a:pt x="21" y="48"/>
                </a:lnTo>
                <a:lnTo>
                  <a:pt x="14" y="52"/>
                </a:lnTo>
                <a:lnTo>
                  <a:pt x="7" y="54"/>
                </a:lnTo>
                <a:lnTo>
                  <a:pt x="0" y="36"/>
                </a:lnTo>
                <a:lnTo>
                  <a:pt x="12" y="32"/>
                </a:lnTo>
                <a:lnTo>
                  <a:pt x="23" y="28"/>
                </a:lnTo>
                <a:lnTo>
                  <a:pt x="33" y="23"/>
                </a:lnTo>
                <a:lnTo>
                  <a:pt x="45" y="17"/>
                </a:lnTo>
                <a:lnTo>
                  <a:pt x="57" y="13"/>
                </a:lnTo>
                <a:lnTo>
                  <a:pt x="68" y="8"/>
                </a:lnTo>
                <a:lnTo>
                  <a:pt x="78" y="4"/>
                </a:lnTo>
                <a:lnTo>
                  <a:pt x="90" y="0"/>
                </a:lnTo>
                <a:lnTo>
                  <a:pt x="95" y="1"/>
                </a:lnTo>
                <a:lnTo>
                  <a:pt x="99" y="2"/>
                </a:lnTo>
                <a:lnTo>
                  <a:pt x="103" y="4"/>
                </a:lnTo>
                <a:lnTo>
                  <a:pt x="105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545160" y="1378080"/>
            <a:ext cx="3240" cy="144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6"/>
                </a:moveTo>
                <a:lnTo>
                  <a:pt x="7" y="8"/>
                </a:lnTo>
                <a:lnTo>
                  <a:pt x="0" y="0"/>
                </a:lnTo>
                <a:lnTo>
                  <a:pt x="2" y="3"/>
                </a:lnTo>
                <a:lnTo>
                  <a:pt x="6" y="6"/>
                </a:lnTo>
                <a:lnTo>
                  <a:pt x="8" y="7"/>
                </a:lnTo>
                <a:lnTo>
                  <a:pt x="8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550200" y="1379520"/>
            <a:ext cx="14040" cy="11160"/>
          </a:xfrm>
          <a:custGeom>
            <a:avLst/>
            <a:gdLst/>
            <a:ahLst/>
            <a:rect l="l" t="t" r="r" b="b"/>
            <a:pathLst>
              <a:path w="64" h="39">
                <a:moveTo>
                  <a:pt x="64" y="37"/>
                </a:moveTo>
                <a:lnTo>
                  <a:pt x="53" y="39"/>
                </a:lnTo>
                <a:lnTo>
                  <a:pt x="45" y="39"/>
                </a:lnTo>
                <a:lnTo>
                  <a:pt x="37" y="36"/>
                </a:lnTo>
                <a:lnTo>
                  <a:pt x="29" y="30"/>
                </a:lnTo>
                <a:lnTo>
                  <a:pt x="22" y="24"/>
                </a:lnTo>
                <a:lnTo>
                  <a:pt x="15" y="17"/>
                </a:lnTo>
                <a:lnTo>
                  <a:pt x="9" y="10"/>
                </a:lnTo>
                <a:lnTo>
                  <a:pt x="0" y="6"/>
                </a:lnTo>
                <a:lnTo>
                  <a:pt x="3" y="0"/>
                </a:lnTo>
                <a:lnTo>
                  <a:pt x="11" y="5"/>
                </a:lnTo>
                <a:lnTo>
                  <a:pt x="19" y="9"/>
                </a:lnTo>
                <a:lnTo>
                  <a:pt x="27" y="14"/>
                </a:lnTo>
                <a:lnTo>
                  <a:pt x="35" y="19"/>
                </a:lnTo>
                <a:lnTo>
                  <a:pt x="42" y="23"/>
                </a:lnTo>
                <a:lnTo>
                  <a:pt x="50" y="28"/>
                </a:lnTo>
                <a:lnTo>
                  <a:pt x="57" y="32"/>
                </a:lnTo>
                <a:lnTo>
                  <a:pt x="64" y="3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629400" y="1384200"/>
            <a:ext cx="22320" cy="14400"/>
          </a:xfrm>
          <a:custGeom>
            <a:avLst/>
            <a:gdLst/>
            <a:ahLst/>
            <a:rect l="l" t="t" r="r" b="b"/>
            <a:pathLst>
              <a:path w="94" h="52">
                <a:moveTo>
                  <a:pt x="94" y="11"/>
                </a:moveTo>
                <a:lnTo>
                  <a:pt x="83" y="14"/>
                </a:lnTo>
                <a:lnTo>
                  <a:pt x="71" y="19"/>
                </a:lnTo>
                <a:lnTo>
                  <a:pt x="61" y="23"/>
                </a:lnTo>
                <a:lnTo>
                  <a:pt x="49" y="29"/>
                </a:lnTo>
                <a:lnTo>
                  <a:pt x="39" y="35"/>
                </a:lnTo>
                <a:lnTo>
                  <a:pt x="29" y="41"/>
                </a:lnTo>
                <a:lnTo>
                  <a:pt x="17" y="46"/>
                </a:lnTo>
                <a:lnTo>
                  <a:pt x="7" y="52"/>
                </a:lnTo>
                <a:lnTo>
                  <a:pt x="3" y="50"/>
                </a:lnTo>
                <a:lnTo>
                  <a:pt x="1" y="46"/>
                </a:lnTo>
                <a:lnTo>
                  <a:pt x="0" y="43"/>
                </a:lnTo>
                <a:lnTo>
                  <a:pt x="1" y="38"/>
                </a:lnTo>
                <a:lnTo>
                  <a:pt x="11" y="30"/>
                </a:lnTo>
                <a:lnTo>
                  <a:pt x="22" y="23"/>
                </a:lnTo>
                <a:lnTo>
                  <a:pt x="33" y="18"/>
                </a:lnTo>
                <a:lnTo>
                  <a:pt x="45" y="12"/>
                </a:lnTo>
                <a:lnTo>
                  <a:pt x="56" y="7"/>
                </a:lnTo>
                <a:lnTo>
                  <a:pt x="69" y="5"/>
                </a:lnTo>
                <a:lnTo>
                  <a:pt x="82" y="1"/>
                </a:lnTo>
                <a:lnTo>
                  <a:pt x="94" y="0"/>
                </a:lnTo>
                <a:lnTo>
                  <a:pt x="94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676920" y="1389240"/>
            <a:ext cx="11160" cy="4680"/>
          </a:xfrm>
          <a:custGeom>
            <a:avLst/>
            <a:gdLst/>
            <a:ahLst/>
            <a:rect l="l" t="t" r="r" b="b"/>
            <a:pathLst>
              <a:path w="47" h="16">
                <a:moveTo>
                  <a:pt x="47" y="11"/>
                </a:moveTo>
                <a:lnTo>
                  <a:pt x="43" y="13"/>
                </a:lnTo>
                <a:lnTo>
                  <a:pt x="37" y="15"/>
                </a:lnTo>
                <a:lnTo>
                  <a:pt x="30" y="16"/>
                </a:lnTo>
                <a:lnTo>
                  <a:pt x="24" y="16"/>
                </a:lnTo>
                <a:lnTo>
                  <a:pt x="17" y="16"/>
                </a:lnTo>
                <a:lnTo>
                  <a:pt x="12" y="15"/>
                </a:lnTo>
                <a:lnTo>
                  <a:pt x="5" y="13"/>
                </a:lnTo>
                <a:lnTo>
                  <a:pt x="0" y="11"/>
                </a:lnTo>
                <a:lnTo>
                  <a:pt x="0" y="2"/>
                </a:lnTo>
                <a:lnTo>
                  <a:pt x="7" y="2"/>
                </a:lnTo>
                <a:lnTo>
                  <a:pt x="14" y="1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4" y="5"/>
                </a:lnTo>
                <a:lnTo>
                  <a:pt x="47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32640" y="1390680"/>
            <a:ext cx="27000" cy="15840"/>
          </a:xfrm>
          <a:custGeom>
            <a:avLst/>
            <a:gdLst/>
            <a:ahLst/>
            <a:rect l="l" t="t" r="r" b="b"/>
            <a:pathLst>
              <a:path w="110" h="61">
                <a:moveTo>
                  <a:pt x="110" y="10"/>
                </a:moveTo>
                <a:lnTo>
                  <a:pt x="107" y="19"/>
                </a:lnTo>
                <a:lnTo>
                  <a:pt x="99" y="21"/>
                </a:lnTo>
                <a:lnTo>
                  <a:pt x="88" y="23"/>
                </a:lnTo>
                <a:lnTo>
                  <a:pt x="79" y="26"/>
                </a:lnTo>
                <a:lnTo>
                  <a:pt x="71" y="31"/>
                </a:lnTo>
                <a:lnTo>
                  <a:pt x="63" y="35"/>
                </a:lnTo>
                <a:lnTo>
                  <a:pt x="55" y="39"/>
                </a:lnTo>
                <a:lnTo>
                  <a:pt x="47" y="42"/>
                </a:lnTo>
                <a:lnTo>
                  <a:pt x="38" y="47"/>
                </a:lnTo>
                <a:lnTo>
                  <a:pt x="30" y="50"/>
                </a:lnTo>
                <a:lnTo>
                  <a:pt x="23" y="55"/>
                </a:lnTo>
                <a:lnTo>
                  <a:pt x="15" y="61"/>
                </a:lnTo>
                <a:lnTo>
                  <a:pt x="9" y="59"/>
                </a:lnTo>
                <a:lnTo>
                  <a:pt x="4" y="56"/>
                </a:lnTo>
                <a:lnTo>
                  <a:pt x="1" y="51"/>
                </a:lnTo>
                <a:lnTo>
                  <a:pt x="0" y="46"/>
                </a:lnTo>
                <a:lnTo>
                  <a:pt x="1" y="40"/>
                </a:lnTo>
                <a:lnTo>
                  <a:pt x="6" y="39"/>
                </a:lnTo>
                <a:lnTo>
                  <a:pt x="11" y="40"/>
                </a:lnTo>
                <a:lnTo>
                  <a:pt x="17" y="40"/>
                </a:lnTo>
                <a:lnTo>
                  <a:pt x="26" y="34"/>
                </a:lnTo>
                <a:lnTo>
                  <a:pt x="37" y="30"/>
                </a:lnTo>
                <a:lnTo>
                  <a:pt x="47" y="25"/>
                </a:lnTo>
                <a:lnTo>
                  <a:pt x="57" y="20"/>
                </a:lnTo>
                <a:lnTo>
                  <a:pt x="68" y="16"/>
                </a:lnTo>
                <a:lnTo>
                  <a:pt x="77" y="11"/>
                </a:lnTo>
                <a:lnTo>
                  <a:pt x="87" y="5"/>
                </a:lnTo>
                <a:lnTo>
                  <a:pt x="97" y="0"/>
                </a:lnTo>
                <a:lnTo>
                  <a:pt x="101" y="0"/>
                </a:lnTo>
                <a:lnTo>
                  <a:pt x="106" y="2"/>
                </a:lnTo>
                <a:lnTo>
                  <a:pt x="108" y="5"/>
                </a:lnTo>
                <a:lnTo>
                  <a:pt x="110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76920" y="1400040"/>
            <a:ext cx="7920" cy="5040"/>
          </a:xfrm>
          <a:custGeom>
            <a:avLst/>
            <a:gdLst/>
            <a:ahLst/>
            <a:rect l="l" t="t" r="r" b="b"/>
            <a:pathLst>
              <a:path w="30" h="17">
                <a:moveTo>
                  <a:pt x="30" y="9"/>
                </a:moveTo>
                <a:lnTo>
                  <a:pt x="30" y="12"/>
                </a:lnTo>
                <a:lnTo>
                  <a:pt x="30" y="14"/>
                </a:lnTo>
                <a:lnTo>
                  <a:pt x="30" y="16"/>
                </a:lnTo>
                <a:lnTo>
                  <a:pt x="29" y="17"/>
                </a:lnTo>
                <a:lnTo>
                  <a:pt x="21" y="15"/>
                </a:lnTo>
                <a:lnTo>
                  <a:pt x="12" y="15"/>
                </a:lnTo>
                <a:lnTo>
                  <a:pt x="4" y="12"/>
                </a:lnTo>
                <a:lnTo>
                  <a:pt x="0" y="2"/>
                </a:lnTo>
                <a:lnTo>
                  <a:pt x="9" y="1"/>
                </a:lnTo>
                <a:lnTo>
                  <a:pt x="19" y="0"/>
                </a:lnTo>
                <a:lnTo>
                  <a:pt x="27" y="2"/>
                </a:lnTo>
                <a:lnTo>
                  <a:pt x="30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672240" y="1411200"/>
            <a:ext cx="4680" cy="3240"/>
          </a:xfrm>
          <a:custGeom>
            <a:avLst/>
            <a:gdLst/>
            <a:ahLst/>
            <a:rect l="l" t="t" r="r" b="b"/>
            <a:pathLst>
              <a:path w="21" h="13">
                <a:moveTo>
                  <a:pt x="21" y="7"/>
                </a:moveTo>
                <a:lnTo>
                  <a:pt x="18" y="11"/>
                </a:lnTo>
                <a:lnTo>
                  <a:pt x="13" y="13"/>
                </a:lnTo>
                <a:lnTo>
                  <a:pt x="6" y="13"/>
                </a:lnTo>
                <a:lnTo>
                  <a:pt x="0" y="13"/>
                </a:lnTo>
                <a:lnTo>
                  <a:pt x="15" y="0"/>
                </a:lnTo>
                <a:lnTo>
                  <a:pt x="21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354720" y="941400"/>
            <a:ext cx="46188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289560" y="1087560"/>
            <a:ext cx="263520" cy="25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rot="2826600">
            <a:off x="6496560" y="1148400"/>
            <a:ext cx="98280" cy="1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592520" y="1265400"/>
            <a:ext cx="100080" cy="144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21400" y="700200"/>
            <a:ext cx="1160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684840" y="843120"/>
            <a:ext cx="2043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White &amp; yellow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759720" y="1244520"/>
            <a:ext cx="2338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990000"/>
                </a:solidFill>
                <a:latin typeface="Arial"/>
              </a:rPr>
              <a:t>MAS administration toolk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654440" y="693720"/>
            <a:ext cx="4381560" cy="86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397560" y="746280"/>
            <a:ext cx="2598840" cy="355320"/>
          </a:xfrm>
          <a:prstGeom prst="rect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50280" y="704880"/>
            <a:ext cx="14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333399"/>
                </a:solidFill>
                <a:latin typeface="Arial"/>
              </a:rPr>
              <a:t>knowledg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397560" y="1152360"/>
            <a:ext cx="2598840" cy="357480"/>
          </a:xfrm>
          <a:prstGeom prst="rect">
            <a:avLst/>
          </a:prstGeom>
          <a:noFill/>
          <a:ln w="190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531280" y="1108080"/>
            <a:ext cx="473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99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97280" y="75420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477120" y="795240"/>
            <a:ext cx="153720" cy="25560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57680" y="2724120"/>
            <a:ext cx="46224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999040" y="2682720"/>
            <a:ext cx="25909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990000"/>
                </a:solidFill>
                <a:latin typeface="Arial"/>
              </a:rPr>
              <a:t>Inference eng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8556480" y="2600280"/>
            <a:ext cx="43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99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494320" y="2371680"/>
            <a:ext cx="522360" cy="558720"/>
          </a:xfrm>
          <a:custGeom>
            <a:avLst/>
            <a:gdLst/>
            <a:ahLst/>
            <a:rect l="l" t="t" r="r" b="b"/>
            <a:pathLst>
              <a:path w="2151" h="2083">
                <a:moveTo>
                  <a:pt x="1360" y="24"/>
                </a:moveTo>
                <a:lnTo>
                  <a:pt x="1367" y="29"/>
                </a:lnTo>
                <a:lnTo>
                  <a:pt x="1373" y="34"/>
                </a:lnTo>
                <a:lnTo>
                  <a:pt x="1379" y="40"/>
                </a:lnTo>
                <a:lnTo>
                  <a:pt x="1386" y="45"/>
                </a:lnTo>
                <a:lnTo>
                  <a:pt x="1391" y="52"/>
                </a:lnTo>
                <a:lnTo>
                  <a:pt x="1397" y="58"/>
                </a:lnTo>
                <a:lnTo>
                  <a:pt x="1401" y="64"/>
                </a:lnTo>
                <a:lnTo>
                  <a:pt x="1406" y="72"/>
                </a:lnTo>
                <a:lnTo>
                  <a:pt x="1409" y="85"/>
                </a:lnTo>
                <a:lnTo>
                  <a:pt x="1410" y="98"/>
                </a:lnTo>
                <a:lnTo>
                  <a:pt x="1409" y="111"/>
                </a:lnTo>
                <a:lnTo>
                  <a:pt x="1406" y="122"/>
                </a:lnTo>
                <a:lnTo>
                  <a:pt x="1401" y="134"/>
                </a:lnTo>
                <a:lnTo>
                  <a:pt x="1395" y="144"/>
                </a:lnTo>
                <a:lnTo>
                  <a:pt x="1390" y="155"/>
                </a:lnTo>
                <a:lnTo>
                  <a:pt x="1385" y="166"/>
                </a:lnTo>
                <a:lnTo>
                  <a:pt x="1377" y="174"/>
                </a:lnTo>
                <a:lnTo>
                  <a:pt x="1369" y="180"/>
                </a:lnTo>
                <a:lnTo>
                  <a:pt x="1360" y="185"/>
                </a:lnTo>
                <a:lnTo>
                  <a:pt x="1350" y="191"/>
                </a:lnTo>
                <a:lnTo>
                  <a:pt x="1341" y="197"/>
                </a:lnTo>
                <a:lnTo>
                  <a:pt x="1333" y="204"/>
                </a:lnTo>
                <a:lnTo>
                  <a:pt x="1325" y="211"/>
                </a:lnTo>
                <a:lnTo>
                  <a:pt x="1318" y="220"/>
                </a:lnTo>
                <a:lnTo>
                  <a:pt x="1335" y="230"/>
                </a:lnTo>
                <a:lnTo>
                  <a:pt x="1356" y="230"/>
                </a:lnTo>
                <a:lnTo>
                  <a:pt x="1376" y="229"/>
                </a:lnTo>
                <a:lnTo>
                  <a:pt x="1395" y="228"/>
                </a:lnTo>
                <a:lnTo>
                  <a:pt x="1415" y="227"/>
                </a:lnTo>
                <a:lnTo>
                  <a:pt x="1435" y="225"/>
                </a:lnTo>
                <a:lnTo>
                  <a:pt x="1454" y="223"/>
                </a:lnTo>
                <a:lnTo>
                  <a:pt x="1474" y="222"/>
                </a:lnTo>
                <a:lnTo>
                  <a:pt x="1493" y="221"/>
                </a:lnTo>
                <a:lnTo>
                  <a:pt x="1513" y="220"/>
                </a:lnTo>
                <a:lnTo>
                  <a:pt x="1532" y="219"/>
                </a:lnTo>
                <a:lnTo>
                  <a:pt x="1552" y="219"/>
                </a:lnTo>
                <a:lnTo>
                  <a:pt x="1573" y="219"/>
                </a:lnTo>
                <a:lnTo>
                  <a:pt x="1592" y="220"/>
                </a:lnTo>
                <a:lnTo>
                  <a:pt x="1613" y="221"/>
                </a:lnTo>
                <a:lnTo>
                  <a:pt x="1634" y="223"/>
                </a:lnTo>
                <a:lnTo>
                  <a:pt x="1655" y="227"/>
                </a:lnTo>
                <a:lnTo>
                  <a:pt x="1670" y="236"/>
                </a:lnTo>
                <a:lnTo>
                  <a:pt x="1679" y="250"/>
                </a:lnTo>
                <a:lnTo>
                  <a:pt x="1685" y="267"/>
                </a:lnTo>
                <a:lnTo>
                  <a:pt x="1688" y="286"/>
                </a:lnTo>
                <a:lnTo>
                  <a:pt x="1689" y="296"/>
                </a:lnTo>
                <a:lnTo>
                  <a:pt x="1688" y="305"/>
                </a:lnTo>
                <a:lnTo>
                  <a:pt x="1685" y="314"/>
                </a:lnTo>
                <a:lnTo>
                  <a:pt x="1680" y="323"/>
                </a:lnTo>
                <a:lnTo>
                  <a:pt x="1674" y="331"/>
                </a:lnTo>
                <a:lnTo>
                  <a:pt x="1666" y="335"/>
                </a:lnTo>
                <a:lnTo>
                  <a:pt x="1657" y="339"/>
                </a:lnTo>
                <a:lnTo>
                  <a:pt x="1647" y="340"/>
                </a:lnTo>
                <a:lnTo>
                  <a:pt x="1637" y="342"/>
                </a:lnTo>
                <a:lnTo>
                  <a:pt x="1628" y="346"/>
                </a:lnTo>
                <a:lnTo>
                  <a:pt x="1620" y="350"/>
                </a:lnTo>
                <a:lnTo>
                  <a:pt x="1613" y="358"/>
                </a:lnTo>
                <a:lnTo>
                  <a:pt x="1614" y="371"/>
                </a:lnTo>
                <a:lnTo>
                  <a:pt x="1618" y="379"/>
                </a:lnTo>
                <a:lnTo>
                  <a:pt x="1625" y="385"/>
                </a:lnTo>
                <a:lnTo>
                  <a:pt x="1634" y="387"/>
                </a:lnTo>
                <a:lnTo>
                  <a:pt x="1644" y="389"/>
                </a:lnTo>
                <a:lnTo>
                  <a:pt x="1655" y="390"/>
                </a:lnTo>
                <a:lnTo>
                  <a:pt x="1664" y="393"/>
                </a:lnTo>
                <a:lnTo>
                  <a:pt x="1673" y="396"/>
                </a:lnTo>
                <a:lnTo>
                  <a:pt x="1687" y="395"/>
                </a:lnTo>
                <a:lnTo>
                  <a:pt x="1700" y="394"/>
                </a:lnTo>
                <a:lnTo>
                  <a:pt x="1713" y="394"/>
                </a:lnTo>
                <a:lnTo>
                  <a:pt x="1727" y="394"/>
                </a:lnTo>
                <a:lnTo>
                  <a:pt x="1741" y="394"/>
                </a:lnTo>
                <a:lnTo>
                  <a:pt x="1755" y="394"/>
                </a:lnTo>
                <a:lnTo>
                  <a:pt x="1769" y="394"/>
                </a:lnTo>
                <a:lnTo>
                  <a:pt x="1782" y="393"/>
                </a:lnTo>
                <a:lnTo>
                  <a:pt x="1795" y="390"/>
                </a:lnTo>
                <a:lnTo>
                  <a:pt x="1808" y="388"/>
                </a:lnTo>
                <a:lnTo>
                  <a:pt x="1820" y="385"/>
                </a:lnTo>
                <a:lnTo>
                  <a:pt x="1832" y="380"/>
                </a:lnTo>
                <a:lnTo>
                  <a:pt x="1842" y="373"/>
                </a:lnTo>
                <a:lnTo>
                  <a:pt x="1853" y="365"/>
                </a:lnTo>
                <a:lnTo>
                  <a:pt x="1862" y="356"/>
                </a:lnTo>
                <a:lnTo>
                  <a:pt x="1871" y="344"/>
                </a:lnTo>
                <a:lnTo>
                  <a:pt x="1861" y="339"/>
                </a:lnTo>
                <a:lnTo>
                  <a:pt x="1853" y="332"/>
                </a:lnTo>
                <a:lnTo>
                  <a:pt x="1845" y="324"/>
                </a:lnTo>
                <a:lnTo>
                  <a:pt x="1838" y="316"/>
                </a:lnTo>
                <a:lnTo>
                  <a:pt x="1832" y="306"/>
                </a:lnTo>
                <a:lnTo>
                  <a:pt x="1825" y="297"/>
                </a:lnTo>
                <a:lnTo>
                  <a:pt x="1819" y="289"/>
                </a:lnTo>
                <a:lnTo>
                  <a:pt x="1812" y="280"/>
                </a:lnTo>
                <a:lnTo>
                  <a:pt x="1812" y="260"/>
                </a:lnTo>
                <a:lnTo>
                  <a:pt x="1815" y="242"/>
                </a:lnTo>
                <a:lnTo>
                  <a:pt x="1818" y="225"/>
                </a:lnTo>
                <a:lnTo>
                  <a:pt x="1827" y="210"/>
                </a:lnTo>
                <a:lnTo>
                  <a:pt x="1834" y="206"/>
                </a:lnTo>
                <a:lnTo>
                  <a:pt x="1842" y="205"/>
                </a:lnTo>
                <a:lnTo>
                  <a:pt x="1850" y="204"/>
                </a:lnTo>
                <a:lnTo>
                  <a:pt x="1857" y="204"/>
                </a:lnTo>
                <a:lnTo>
                  <a:pt x="1875" y="205"/>
                </a:lnTo>
                <a:lnTo>
                  <a:pt x="1893" y="206"/>
                </a:lnTo>
                <a:lnTo>
                  <a:pt x="1910" y="207"/>
                </a:lnTo>
                <a:lnTo>
                  <a:pt x="1929" y="208"/>
                </a:lnTo>
                <a:lnTo>
                  <a:pt x="1946" y="210"/>
                </a:lnTo>
                <a:lnTo>
                  <a:pt x="1964" y="211"/>
                </a:lnTo>
                <a:lnTo>
                  <a:pt x="1983" y="212"/>
                </a:lnTo>
                <a:lnTo>
                  <a:pt x="2001" y="213"/>
                </a:lnTo>
                <a:lnTo>
                  <a:pt x="2019" y="214"/>
                </a:lnTo>
                <a:lnTo>
                  <a:pt x="2037" y="215"/>
                </a:lnTo>
                <a:lnTo>
                  <a:pt x="2056" y="218"/>
                </a:lnTo>
                <a:lnTo>
                  <a:pt x="2074" y="219"/>
                </a:lnTo>
                <a:lnTo>
                  <a:pt x="2091" y="221"/>
                </a:lnTo>
                <a:lnTo>
                  <a:pt x="2110" y="223"/>
                </a:lnTo>
                <a:lnTo>
                  <a:pt x="2128" y="226"/>
                </a:lnTo>
                <a:lnTo>
                  <a:pt x="2145" y="229"/>
                </a:lnTo>
                <a:lnTo>
                  <a:pt x="2145" y="248"/>
                </a:lnTo>
                <a:lnTo>
                  <a:pt x="2145" y="268"/>
                </a:lnTo>
                <a:lnTo>
                  <a:pt x="2145" y="289"/>
                </a:lnTo>
                <a:lnTo>
                  <a:pt x="2149" y="309"/>
                </a:lnTo>
                <a:lnTo>
                  <a:pt x="2136" y="328"/>
                </a:lnTo>
                <a:lnTo>
                  <a:pt x="2122" y="347"/>
                </a:lnTo>
                <a:lnTo>
                  <a:pt x="2109" y="365"/>
                </a:lnTo>
                <a:lnTo>
                  <a:pt x="2095" y="384"/>
                </a:lnTo>
                <a:lnTo>
                  <a:pt x="2080" y="401"/>
                </a:lnTo>
                <a:lnTo>
                  <a:pt x="2067" y="419"/>
                </a:lnTo>
                <a:lnTo>
                  <a:pt x="2054" y="439"/>
                </a:lnTo>
                <a:lnTo>
                  <a:pt x="2043" y="458"/>
                </a:lnTo>
                <a:lnTo>
                  <a:pt x="2050" y="464"/>
                </a:lnTo>
                <a:lnTo>
                  <a:pt x="2058" y="468"/>
                </a:lnTo>
                <a:lnTo>
                  <a:pt x="2067" y="470"/>
                </a:lnTo>
                <a:lnTo>
                  <a:pt x="2076" y="472"/>
                </a:lnTo>
                <a:lnTo>
                  <a:pt x="2085" y="475"/>
                </a:lnTo>
                <a:lnTo>
                  <a:pt x="2094" y="477"/>
                </a:lnTo>
                <a:lnTo>
                  <a:pt x="2103" y="482"/>
                </a:lnTo>
                <a:lnTo>
                  <a:pt x="2110" y="488"/>
                </a:lnTo>
                <a:lnTo>
                  <a:pt x="2120" y="496"/>
                </a:lnTo>
                <a:lnTo>
                  <a:pt x="2128" y="506"/>
                </a:lnTo>
                <a:lnTo>
                  <a:pt x="2135" y="516"/>
                </a:lnTo>
                <a:lnTo>
                  <a:pt x="2140" y="528"/>
                </a:lnTo>
                <a:lnTo>
                  <a:pt x="2144" y="540"/>
                </a:lnTo>
                <a:lnTo>
                  <a:pt x="2148" y="553"/>
                </a:lnTo>
                <a:lnTo>
                  <a:pt x="2150" y="566"/>
                </a:lnTo>
                <a:lnTo>
                  <a:pt x="2151" y="578"/>
                </a:lnTo>
                <a:lnTo>
                  <a:pt x="2148" y="599"/>
                </a:lnTo>
                <a:lnTo>
                  <a:pt x="2142" y="620"/>
                </a:lnTo>
                <a:lnTo>
                  <a:pt x="2135" y="641"/>
                </a:lnTo>
                <a:lnTo>
                  <a:pt x="2126" y="661"/>
                </a:lnTo>
                <a:lnTo>
                  <a:pt x="2115" y="682"/>
                </a:lnTo>
                <a:lnTo>
                  <a:pt x="2104" y="702"/>
                </a:lnTo>
                <a:lnTo>
                  <a:pt x="2091" y="720"/>
                </a:lnTo>
                <a:lnTo>
                  <a:pt x="2077" y="737"/>
                </a:lnTo>
                <a:lnTo>
                  <a:pt x="2062" y="755"/>
                </a:lnTo>
                <a:lnTo>
                  <a:pt x="2045" y="771"/>
                </a:lnTo>
                <a:lnTo>
                  <a:pt x="2028" y="786"/>
                </a:lnTo>
                <a:lnTo>
                  <a:pt x="2011" y="798"/>
                </a:lnTo>
                <a:lnTo>
                  <a:pt x="1991" y="810"/>
                </a:lnTo>
                <a:lnTo>
                  <a:pt x="1971" y="820"/>
                </a:lnTo>
                <a:lnTo>
                  <a:pt x="1951" y="828"/>
                </a:lnTo>
                <a:lnTo>
                  <a:pt x="1930" y="835"/>
                </a:lnTo>
                <a:lnTo>
                  <a:pt x="1918" y="836"/>
                </a:lnTo>
                <a:lnTo>
                  <a:pt x="1906" y="836"/>
                </a:lnTo>
                <a:lnTo>
                  <a:pt x="1894" y="834"/>
                </a:lnTo>
                <a:lnTo>
                  <a:pt x="1884" y="831"/>
                </a:lnTo>
                <a:lnTo>
                  <a:pt x="1873" y="825"/>
                </a:lnTo>
                <a:lnTo>
                  <a:pt x="1863" y="818"/>
                </a:lnTo>
                <a:lnTo>
                  <a:pt x="1855" y="811"/>
                </a:lnTo>
                <a:lnTo>
                  <a:pt x="1847" y="802"/>
                </a:lnTo>
                <a:lnTo>
                  <a:pt x="1844" y="794"/>
                </a:lnTo>
                <a:lnTo>
                  <a:pt x="1840" y="785"/>
                </a:lnTo>
                <a:lnTo>
                  <a:pt x="1837" y="776"/>
                </a:lnTo>
                <a:lnTo>
                  <a:pt x="1830" y="771"/>
                </a:lnTo>
                <a:lnTo>
                  <a:pt x="1811" y="785"/>
                </a:lnTo>
                <a:lnTo>
                  <a:pt x="1795" y="801"/>
                </a:lnTo>
                <a:lnTo>
                  <a:pt x="1782" y="818"/>
                </a:lnTo>
                <a:lnTo>
                  <a:pt x="1770" y="836"/>
                </a:lnTo>
                <a:lnTo>
                  <a:pt x="1758" y="855"/>
                </a:lnTo>
                <a:lnTo>
                  <a:pt x="1748" y="874"/>
                </a:lnTo>
                <a:lnTo>
                  <a:pt x="1736" y="894"/>
                </a:lnTo>
                <a:lnTo>
                  <a:pt x="1725" y="912"/>
                </a:lnTo>
                <a:lnTo>
                  <a:pt x="1726" y="919"/>
                </a:lnTo>
                <a:lnTo>
                  <a:pt x="1721" y="923"/>
                </a:lnTo>
                <a:lnTo>
                  <a:pt x="1717" y="926"/>
                </a:lnTo>
                <a:lnTo>
                  <a:pt x="1713" y="931"/>
                </a:lnTo>
                <a:lnTo>
                  <a:pt x="1708" y="931"/>
                </a:lnTo>
                <a:lnTo>
                  <a:pt x="1703" y="930"/>
                </a:lnTo>
                <a:lnTo>
                  <a:pt x="1700" y="926"/>
                </a:lnTo>
                <a:lnTo>
                  <a:pt x="1698" y="920"/>
                </a:lnTo>
                <a:lnTo>
                  <a:pt x="1687" y="917"/>
                </a:lnTo>
                <a:lnTo>
                  <a:pt x="1675" y="914"/>
                </a:lnTo>
                <a:lnTo>
                  <a:pt x="1663" y="911"/>
                </a:lnTo>
                <a:lnTo>
                  <a:pt x="1651" y="909"/>
                </a:lnTo>
                <a:lnTo>
                  <a:pt x="1638" y="908"/>
                </a:lnTo>
                <a:lnTo>
                  <a:pt x="1627" y="908"/>
                </a:lnTo>
                <a:lnTo>
                  <a:pt x="1614" y="907"/>
                </a:lnTo>
                <a:lnTo>
                  <a:pt x="1603" y="907"/>
                </a:lnTo>
                <a:lnTo>
                  <a:pt x="1590" y="907"/>
                </a:lnTo>
                <a:lnTo>
                  <a:pt x="1577" y="908"/>
                </a:lnTo>
                <a:lnTo>
                  <a:pt x="1566" y="908"/>
                </a:lnTo>
                <a:lnTo>
                  <a:pt x="1553" y="909"/>
                </a:lnTo>
                <a:lnTo>
                  <a:pt x="1542" y="910"/>
                </a:lnTo>
                <a:lnTo>
                  <a:pt x="1529" y="911"/>
                </a:lnTo>
                <a:lnTo>
                  <a:pt x="1517" y="911"/>
                </a:lnTo>
                <a:lnTo>
                  <a:pt x="1506" y="912"/>
                </a:lnTo>
                <a:lnTo>
                  <a:pt x="1498" y="929"/>
                </a:lnTo>
                <a:lnTo>
                  <a:pt x="1500" y="946"/>
                </a:lnTo>
                <a:lnTo>
                  <a:pt x="1505" y="967"/>
                </a:lnTo>
                <a:lnTo>
                  <a:pt x="1504" y="987"/>
                </a:lnTo>
                <a:lnTo>
                  <a:pt x="1511" y="992"/>
                </a:lnTo>
                <a:lnTo>
                  <a:pt x="1517" y="998"/>
                </a:lnTo>
                <a:lnTo>
                  <a:pt x="1523" y="1005"/>
                </a:lnTo>
                <a:lnTo>
                  <a:pt x="1528" y="1012"/>
                </a:lnTo>
                <a:lnTo>
                  <a:pt x="1532" y="1020"/>
                </a:lnTo>
                <a:lnTo>
                  <a:pt x="1535" y="1028"/>
                </a:lnTo>
                <a:lnTo>
                  <a:pt x="1537" y="1036"/>
                </a:lnTo>
                <a:lnTo>
                  <a:pt x="1537" y="1045"/>
                </a:lnTo>
                <a:lnTo>
                  <a:pt x="1537" y="1059"/>
                </a:lnTo>
                <a:lnTo>
                  <a:pt x="1534" y="1073"/>
                </a:lnTo>
                <a:lnTo>
                  <a:pt x="1529" y="1085"/>
                </a:lnTo>
                <a:lnTo>
                  <a:pt x="1523" y="1098"/>
                </a:lnTo>
                <a:lnTo>
                  <a:pt x="1520" y="1109"/>
                </a:lnTo>
                <a:lnTo>
                  <a:pt x="1519" y="1122"/>
                </a:lnTo>
                <a:lnTo>
                  <a:pt x="1522" y="1135"/>
                </a:lnTo>
                <a:lnTo>
                  <a:pt x="1531" y="1147"/>
                </a:lnTo>
                <a:lnTo>
                  <a:pt x="1549" y="1152"/>
                </a:lnTo>
                <a:lnTo>
                  <a:pt x="1566" y="1154"/>
                </a:lnTo>
                <a:lnTo>
                  <a:pt x="1582" y="1153"/>
                </a:lnTo>
                <a:lnTo>
                  <a:pt x="1598" y="1150"/>
                </a:lnTo>
                <a:lnTo>
                  <a:pt x="1615" y="1145"/>
                </a:lnTo>
                <a:lnTo>
                  <a:pt x="1632" y="1139"/>
                </a:lnTo>
                <a:lnTo>
                  <a:pt x="1648" y="1135"/>
                </a:lnTo>
                <a:lnTo>
                  <a:pt x="1665" y="1130"/>
                </a:lnTo>
                <a:lnTo>
                  <a:pt x="1676" y="1123"/>
                </a:lnTo>
                <a:lnTo>
                  <a:pt x="1689" y="1115"/>
                </a:lnTo>
                <a:lnTo>
                  <a:pt x="1701" y="1108"/>
                </a:lnTo>
                <a:lnTo>
                  <a:pt x="1712" y="1101"/>
                </a:lnTo>
                <a:lnTo>
                  <a:pt x="1725" y="1096"/>
                </a:lnTo>
                <a:lnTo>
                  <a:pt x="1738" y="1090"/>
                </a:lnTo>
                <a:lnTo>
                  <a:pt x="1750" y="1085"/>
                </a:lnTo>
                <a:lnTo>
                  <a:pt x="1763" y="1083"/>
                </a:lnTo>
                <a:lnTo>
                  <a:pt x="1770" y="1091"/>
                </a:lnTo>
                <a:lnTo>
                  <a:pt x="1776" y="1101"/>
                </a:lnTo>
                <a:lnTo>
                  <a:pt x="1781" y="1112"/>
                </a:lnTo>
                <a:lnTo>
                  <a:pt x="1786" y="1122"/>
                </a:lnTo>
                <a:lnTo>
                  <a:pt x="1791" y="1134"/>
                </a:lnTo>
                <a:lnTo>
                  <a:pt x="1796" y="1144"/>
                </a:lnTo>
                <a:lnTo>
                  <a:pt x="1803" y="1154"/>
                </a:lnTo>
                <a:lnTo>
                  <a:pt x="1811" y="1164"/>
                </a:lnTo>
                <a:lnTo>
                  <a:pt x="1824" y="1183"/>
                </a:lnTo>
                <a:lnTo>
                  <a:pt x="1837" y="1203"/>
                </a:lnTo>
                <a:lnTo>
                  <a:pt x="1848" y="1222"/>
                </a:lnTo>
                <a:lnTo>
                  <a:pt x="1860" y="1243"/>
                </a:lnTo>
                <a:lnTo>
                  <a:pt x="1870" y="1264"/>
                </a:lnTo>
                <a:lnTo>
                  <a:pt x="1879" y="1287"/>
                </a:lnTo>
                <a:lnTo>
                  <a:pt x="1886" y="1309"/>
                </a:lnTo>
                <a:lnTo>
                  <a:pt x="1891" y="1333"/>
                </a:lnTo>
                <a:lnTo>
                  <a:pt x="1888" y="1351"/>
                </a:lnTo>
                <a:lnTo>
                  <a:pt x="1883" y="1369"/>
                </a:lnTo>
                <a:lnTo>
                  <a:pt x="1875" y="1386"/>
                </a:lnTo>
                <a:lnTo>
                  <a:pt x="1865" y="1402"/>
                </a:lnTo>
                <a:lnTo>
                  <a:pt x="1856" y="1409"/>
                </a:lnTo>
                <a:lnTo>
                  <a:pt x="1846" y="1414"/>
                </a:lnTo>
                <a:lnTo>
                  <a:pt x="1834" y="1418"/>
                </a:lnTo>
                <a:lnTo>
                  <a:pt x="1823" y="1421"/>
                </a:lnTo>
                <a:lnTo>
                  <a:pt x="1811" y="1423"/>
                </a:lnTo>
                <a:lnTo>
                  <a:pt x="1800" y="1423"/>
                </a:lnTo>
                <a:lnTo>
                  <a:pt x="1788" y="1422"/>
                </a:lnTo>
                <a:lnTo>
                  <a:pt x="1777" y="1418"/>
                </a:lnTo>
                <a:lnTo>
                  <a:pt x="1769" y="1415"/>
                </a:lnTo>
                <a:lnTo>
                  <a:pt x="1761" y="1412"/>
                </a:lnTo>
                <a:lnTo>
                  <a:pt x="1753" y="1409"/>
                </a:lnTo>
                <a:lnTo>
                  <a:pt x="1743" y="1406"/>
                </a:lnTo>
                <a:lnTo>
                  <a:pt x="1734" y="1404"/>
                </a:lnTo>
                <a:lnTo>
                  <a:pt x="1725" y="1403"/>
                </a:lnTo>
                <a:lnTo>
                  <a:pt x="1716" y="1404"/>
                </a:lnTo>
                <a:lnTo>
                  <a:pt x="1706" y="1408"/>
                </a:lnTo>
                <a:lnTo>
                  <a:pt x="1697" y="1414"/>
                </a:lnTo>
                <a:lnTo>
                  <a:pt x="1690" y="1419"/>
                </a:lnTo>
                <a:lnTo>
                  <a:pt x="1683" y="1427"/>
                </a:lnTo>
                <a:lnTo>
                  <a:pt x="1680" y="1435"/>
                </a:lnTo>
                <a:lnTo>
                  <a:pt x="1676" y="1445"/>
                </a:lnTo>
                <a:lnTo>
                  <a:pt x="1674" y="1455"/>
                </a:lnTo>
                <a:lnTo>
                  <a:pt x="1673" y="1465"/>
                </a:lnTo>
                <a:lnTo>
                  <a:pt x="1673" y="1476"/>
                </a:lnTo>
                <a:lnTo>
                  <a:pt x="1676" y="1478"/>
                </a:lnTo>
                <a:lnTo>
                  <a:pt x="1680" y="1480"/>
                </a:lnTo>
                <a:lnTo>
                  <a:pt x="1683" y="1482"/>
                </a:lnTo>
                <a:lnTo>
                  <a:pt x="1688" y="1483"/>
                </a:lnTo>
                <a:lnTo>
                  <a:pt x="1691" y="1493"/>
                </a:lnTo>
                <a:lnTo>
                  <a:pt x="1696" y="1503"/>
                </a:lnTo>
                <a:lnTo>
                  <a:pt x="1703" y="1513"/>
                </a:lnTo>
                <a:lnTo>
                  <a:pt x="1710" y="1522"/>
                </a:lnTo>
                <a:lnTo>
                  <a:pt x="1719" y="1530"/>
                </a:lnTo>
                <a:lnTo>
                  <a:pt x="1728" y="1538"/>
                </a:lnTo>
                <a:lnTo>
                  <a:pt x="1739" y="1545"/>
                </a:lnTo>
                <a:lnTo>
                  <a:pt x="1749" y="1551"/>
                </a:lnTo>
                <a:lnTo>
                  <a:pt x="1758" y="1554"/>
                </a:lnTo>
                <a:lnTo>
                  <a:pt x="1769" y="1558"/>
                </a:lnTo>
                <a:lnTo>
                  <a:pt x="1780" y="1560"/>
                </a:lnTo>
                <a:lnTo>
                  <a:pt x="1792" y="1562"/>
                </a:lnTo>
                <a:lnTo>
                  <a:pt x="1803" y="1562"/>
                </a:lnTo>
                <a:lnTo>
                  <a:pt x="1815" y="1562"/>
                </a:lnTo>
                <a:lnTo>
                  <a:pt x="1826" y="1560"/>
                </a:lnTo>
                <a:lnTo>
                  <a:pt x="1837" y="1556"/>
                </a:lnTo>
                <a:lnTo>
                  <a:pt x="1850" y="1545"/>
                </a:lnTo>
                <a:lnTo>
                  <a:pt x="1863" y="1530"/>
                </a:lnTo>
                <a:lnTo>
                  <a:pt x="1875" y="1515"/>
                </a:lnTo>
                <a:lnTo>
                  <a:pt x="1886" y="1500"/>
                </a:lnTo>
                <a:lnTo>
                  <a:pt x="1899" y="1486"/>
                </a:lnTo>
                <a:lnTo>
                  <a:pt x="1913" y="1477"/>
                </a:lnTo>
                <a:lnTo>
                  <a:pt x="1929" y="1474"/>
                </a:lnTo>
                <a:lnTo>
                  <a:pt x="1948" y="1476"/>
                </a:lnTo>
                <a:lnTo>
                  <a:pt x="1978" y="1490"/>
                </a:lnTo>
                <a:lnTo>
                  <a:pt x="2004" y="1509"/>
                </a:lnTo>
                <a:lnTo>
                  <a:pt x="2024" y="1532"/>
                </a:lnTo>
                <a:lnTo>
                  <a:pt x="2042" y="1558"/>
                </a:lnTo>
                <a:lnTo>
                  <a:pt x="2057" y="1586"/>
                </a:lnTo>
                <a:lnTo>
                  <a:pt x="2072" y="1615"/>
                </a:lnTo>
                <a:lnTo>
                  <a:pt x="2085" y="1644"/>
                </a:lnTo>
                <a:lnTo>
                  <a:pt x="2102" y="1672"/>
                </a:lnTo>
                <a:lnTo>
                  <a:pt x="2104" y="1682"/>
                </a:lnTo>
                <a:lnTo>
                  <a:pt x="2110" y="1689"/>
                </a:lnTo>
                <a:lnTo>
                  <a:pt x="2115" y="1697"/>
                </a:lnTo>
                <a:lnTo>
                  <a:pt x="2114" y="1707"/>
                </a:lnTo>
                <a:lnTo>
                  <a:pt x="2109" y="1715"/>
                </a:lnTo>
                <a:lnTo>
                  <a:pt x="2103" y="1724"/>
                </a:lnTo>
                <a:lnTo>
                  <a:pt x="2098" y="1733"/>
                </a:lnTo>
                <a:lnTo>
                  <a:pt x="2094" y="1741"/>
                </a:lnTo>
                <a:lnTo>
                  <a:pt x="2089" y="1750"/>
                </a:lnTo>
                <a:lnTo>
                  <a:pt x="2085" y="1758"/>
                </a:lnTo>
                <a:lnTo>
                  <a:pt x="2082" y="1767"/>
                </a:lnTo>
                <a:lnTo>
                  <a:pt x="2080" y="1775"/>
                </a:lnTo>
                <a:lnTo>
                  <a:pt x="2068" y="1780"/>
                </a:lnTo>
                <a:lnTo>
                  <a:pt x="2056" y="1786"/>
                </a:lnTo>
                <a:lnTo>
                  <a:pt x="2044" y="1790"/>
                </a:lnTo>
                <a:lnTo>
                  <a:pt x="2032" y="1796"/>
                </a:lnTo>
                <a:lnTo>
                  <a:pt x="2020" y="1801"/>
                </a:lnTo>
                <a:lnTo>
                  <a:pt x="2008" y="1806"/>
                </a:lnTo>
                <a:lnTo>
                  <a:pt x="1997" y="1812"/>
                </a:lnTo>
                <a:lnTo>
                  <a:pt x="1984" y="1817"/>
                </a:lnTo>
                <a:lnTo>
                  <a:pt x="1973" y="1823"/>
                </a:lnTo>
                <a:lnTo>
                  <a:pt x="1961" y="1828"/>
                </a:lnTo>
                <a:lnTo>
                  <a:pt x="1950" y="1834"/>
                </a:lnTo>
                <a:lnTo>
                  <a:pt x="1938" y="1841"/>
                </a:lnTo>
                <a:lnTo>
                  <a:pt x="1926" y="1847"/>
                </a:lnTo>
                <a:lnTo>
                  <a:pt x="1915" y="1854"/>
                </a:lnTo>
                <a:lnTo>
                  <a:pt x="1903" y="1861"/>
                </a:lnTo>
                <a:lnTo>
                  <a:pt x="1892" y="1868"/>
                </a:lnTo>
                <a:lnTo>
                  <a:pt x="1880" y="1873"/>
                </a:lnTo>
                <a:lnTo>
                  <a:pt x="1869" y="1879"/>
                </a:lnTo>
                <a:lnTo>
                  <a:pt x="1856" y="1884"/>
                </a:lnTo>
                <a:lnTo>
                  <a:pt x="1844" y="1888"/>
                </a:lnTo>
                <a:lnTo>
                  <a:pt x="1831" y="1891"/>
                </a:lnTo>
                <a:lnTo>
                  <a:pt x="1817" y="1892"/>
                </a:lnTo>
                <a:lnTo>
                  <a:pt x="1804" y="1891"/>
                </a:lnTo>
                <a:lnTo>
                  <a:pt x="1791" y="1888"/>
                </a:lnTo>
                <a:lnTo>
                  <a:pt x="1778" y="1878"/>
                </a:lnTo>
                <a:lnTo>
                  <a:pt x="1770" y="1868"/>
                </a:lnTo>
                <a:lnTo>
                  <a:pt x="1764" y="1856"/>
                </a:lnTo>
                <a:lnTo>
                  <a:pt x="1759" y="1841"/>
                </a:lnTo>
                <a:lnTo>
                  <a:pt x="1758" y="1831"/>
                </a:lnTo>
                <a:lnTo>
                  <a:pt x="1762" y="1821"/>
                </a:lnTo>
                <a:lnTo>
                  <a:pt x="1766" y="1811"/>
                </a:lnTo>
                <a:lnTo>
                  <a:pt x="1772" y="1802"/>
                </a:lnTo>
                <a:lnTo>
                  <a:pt x="1777" y="1793"/>
                </a:lnTo>
                <a:lnTo>
                  <a:pt x="1778" y="1783"/>
                </a:lnTo>
                <a:lnTo>
                  <a:pt x="1774" y="1773"/>
                </a:lnTo>
                <a:lnTo>
                  <a:pt x="1766" y="1764"/>
                </a:lnTo>
                <a:lnTo>
                  <a:pt x="1751" y="1759"/>
                </a:lnTo>
                <a:lnTo>
                  <a:pt x="1736" y="1756"/>
                </a:lnTo>
                <a:lnTo>
                  <a:pt x="1720" y="1755"/>
                </a:lnTo>
                <a:lnTo>
                  <a:pt x="1705" y="1755"/>
                </a:lnTo>
                <a:lnTo>
                  <a:pt x="1690" y="1756"/>
                </a:lnTo>
                <a:lnTo>
                  <a:pt x="1674" y="1758"/>
                </a:lnTo>
                <a:lnTo>
                  <a:pt x="1659" y="1762"/>
                </a:lnTo>
                <a:lnTo>
                  <a:pt x="1644" y="1766"/>
                </a:lnTo>
                <a:lnTo>
                  <a:pt x="1629" y="1772"/>
                </a:lnTo>
                <a:lnTo>
                  <a:pt x="1615" y="1778"/>
                </a:lnTo>
                <a:lnTo>
                  <a:pt x="1600" y="1786"/>
                </a:lnTo>
                <a:lnTo>
                  <a:pt x="1587" y="1794"/>
                </a:lnTo>
                <a:lnTo>
                  <a:pt x="1574" y="1803"/>
                </a:lnTo>
                <a:lnTo>
                  <a:pt x="1561" y="1813"/>
                </a:lnTo>
                <a:lnTo>
                  <a:pt x="1549" y="1824"/>
                </a:lnTo>
                <a:lnTo>
                  <a:pt x="1537" y="1835"/>
                </a:lnTo>
                <a:lnTo>
                  <a:pt x="1537" y="1847"/>
                </a:lnTo>
                <a:lnTo>
                  <a:pt x="1541" y="1857"/>
                </a:lnTo>
                <a:lnTo>
                  <a:pt x="1549" y="1864"/>
                </a:lnTo>
                <a:lnTo>
                  <a:pt x="1557" y="1870"/>
                </a:lnTo>
                <a:lnTo>
                  <a:pt x="1566" y="1877"/>
                </a:lnTo>
                <a:lnTo>
                  <a:pt x="1575" y="1884"/>
                </a:lnTo>
                <a:lnTo>
                  <a:pt x="1581" y="1894"/>
                </a:lnTo>
                <a:lnTo>
                  <a:pt x="1583" y="1906"/>
                </a:lnTo>
                <a:lnTo>
                  <a:pt x="1580" y="1922"/>
                </a:lnTo>
                <a:lnTo>
                  <a:pt x="1576" y="1939"/>
                </a:lnTo>
                <a:lnTo>
                  <a:pt x="1570" y="1955"/>
                </a:lnTo>
                <a:lnTo>
                  <a:pt x="1565" y="1970"/>
                </a:lnTo>
                <a:lnTo>
                  <a:pt x="1557" y="1985"/>
                </a:lnTo>
                <a:lnTo>
                  <a:pt x="1546" y="1998"/>
                </a:lnTo>
                <a:lnTo>
                  <a:pt x="1534" y="2009"/>
                </a:lnTo>
                <a:lnTo>
                  <a:pt x="1519" y="2018"/>
                </a:lnTo>
                <a:lnTo>
                  <a:pt x="1502" y="2027"/>
                </a:lnTo>
                <a:lnTo>
                  <a:pt x="1486" y="2035"/>
                </a:lnTo>
                <a:lnTo>
                  <a:pt x="1469" y="2042"/>
                </a:lnTo>
                <a:lnTo>
                  <a:pt x="1453" y="2050"/>
                </a:lnTo>
                <a:lnTo>
                  <a:pt x="1437" y="2057"/>
                </a:lnTo>
                <a:lnTo>
                  <a:pt x="1421" y="2065"/>
                </a:lnTo>
                <a:lnTo>
                  <a:pt x="1405" y="2074"/>
                </a:lnTo>
                <a:lnTo>
                  <a:pt x="1388" y="2083"/>
                </a:lnTo>
                <a:lnTo>
                  <a:pt x="1378" y="2074"/>
                </a:lnTo>
                <a:lnTo>
                  <a:pt x="1371" y="2061"/>
                </a:lnTo>
                <a:lnTo>
                  <a:pt x="1367" y="2047"/>
                </a:lnTo>
                <a:lnTo>
                  <a:pt x="1360" y="2035"/>
                </a:lnTo>
                <a:lnTo>
                  <a:pt x="1353" y="2016"/>
                </a:lnTo>
                <a:lnTo>
                  <a:pt x="1346" y="1999"/>
                </a:lnTo>
                <a:lnTo>
                  <a:pt x="1339" y="1980"/>
                </a:lnTo>
                <a:lnTo>
                  <a:pt x="1331" y="1962"/>
                </a:lnTo>
                <a:lnTo>
                  <a:pt x="1323" y="1945"/>
                </a:lnTo>
                <a:lnTo>
                  <a:pt x="1316" y="1927"/>
                </a:lnTo>
                <a:lnTo>
                  <a:pt x="1308" y="1910"/>
                </a:lnTo>
                <a:lnTo>
                  <a:pt x="1300" y="1893"/>
                </a:lnTo>
                <a:lnTo>
                  <a:pt x="1296" y="1888"/>
                </a:lnTo>
                <a:lnTo>
                  <a:pt x="1293" y="1885"/>
                </a:lnTo>
                <a:lnTo>
                  <a:pt x="1288" y="1880"/>
                </a:lnTo>
                <a:lnTo>
                  <a:pt x="1285" y="1877"/>
                </a:lnTo>
                <a:lnTo>
                  <a:pt x="1280" y="1873"/>
                </a:lnTo>
                <a:lnTo>
                  <a:pt x="1276" y="1871"/>
                </a:lnTo>
                <a:lnTo>
                  <a:pt x="1270" y="1869"/>
                </a:lnTo>
                <a:lnTo>
                  <a:pt x="1265" y="1868"/>
                </a:lnTo>
                <a:lnTo>
                  <a:pt x="1254" y="1872"/>
                </a:lnTo>
                <a:lnTo>
                  <a:pt x="1246" y="1879"/>
                </a:lnTo>
                <a:lnTo>
                  <a:pt x="1241" y="1888"/>
                </a:lnTo>
                <a:lnTo>
                  <a:pt x="1238" y="1899"/>
                </a:lnTo>
                <a:lnTo>
                  <a:pt x="1234" y="1910"/>
                </a:lnTo>
                <a:lnTo>
                  <a:pt x="1229" y="1921"/>
                </a:lnTo>
                <a:lnTo>
                  <a:pt x="1224" y="1931"/>
                </a:lnTo>
                <a:lnTo>
                  <a:pt x="1216" y="1939"/>
                </a:lnTo>
                <a:lnTo>
                  <a:pt x="1208" y="1944"/>
                </a:lnTo>
                <a:lnTo>
                  <a:pt x="1198" y="1949"/>
                </a:lnTo>
                <a:lnTo>
                  <a:pt x="1189" y="1953"/>
                </a:lnTo>
                <a:lnTo>
                  <a:pt x="1179" y="1956"/>
                </a:lnTo>
                <a:lnTo>
                  <a:pt x="1170" y="1957"/>
                </a:lnTo>
                <a:lnTo>
                  <a:pt x="1159" y="1957"/>
                </a:lnTo>
                <a:lnTo>
                  <a:pt x="1149" y="1956"/>
                </a:lnTo>
                <a:lnTo>
                  <a:pt x="1140" y="1952"/>
                </a:lnTo>
                <a:lnTo>
                  <a:pt x="1121" y="1945"/>
                </a:lnTo>
                <a:lnTo>
                  <a:pt x="1104" y="1937"/>
                </a:lnTo>
                <a:lnTo>
                  <a:pt x="1087" y="1926"/>
                </a:lnTo>
                <a:lnTo>
                  <a:pt x="1069" y="1914"/>
                </a:lnTo>
                <a:lnTo>
                  <a:pt x="1053" y="1899"/>
                </a:lnTo>
                <a:lnTo>
                  <a:pt x="1039" y="1884"/>
                </a:lnTo>
                <a:lnTo>
                  <a:pt x="1026" y="1866"/>
                </a:lnTo>
                <a:lnTo>
                  <a:pt x="1014" y="1849"/>
                </a:lnTo>
                <a:lnTo>
                  <a:pt x="1005" y="1833"/>
                </a:lnTo>
                <a:lnTo>
                  <a:pt x="996" y="1816"/>
                </a:lnTo>
                <a:lnTo>
                  <a:pt x="988" y="1797"/>
                </a:lnTo>
                <a:lnTo>
                  <a:pt x="982" y="1778"/>
                </a:lnTo>
                <a:lnTo>
                  <a:pt x="977" y="1758"/>
                </a:lnTo>
                <a:lnTo>
                  <a:pt x="976" y="1739"/>
                </a:lnTo>
                <a:lnTo>
                  <a:pt x="978" y="1719"/>
                </a:lnTo>
                <a:lnTo>
                  <a:pt x="984" y="1699"/>
                </a:lnTo>
                <a:lnTo>
                  <a:pt x="988" y="1686"/>
                </a:lnTo>
                <a:lnTo>
                  <a:pt x="992" y="1671"/>
                </a:lnTo>
                <a:lnTo>
                  <a:pt x="999" y="1658"/>
                </a:lnTo>
                <a:lnTo>
                  <a:pt x="1008" y="1644"/>
                </a:lnTo>
                <a:lnTo>
                  <a:pt x="1019" y="1634"/>
                </a:lnTo>
                <a:lnTo>
                  <a:pt x="1030" y="1623"/>
                </a:lnTo>
                <a:lnTo>
                  <a:pt x="1044" y="1616"/>
                </a:lnTo>
                <a:lnTo>
                  <a:pt x="1058" y="1611"/>
                </a:lnTo>
                <a:lnTo>
                  <a:pt x="1064" y="1611"/>
                </a:lnTo>
                <a:lnTo>
                  <a:pt x="1069" y="1611"/>
                </a:lnTo>
                <a:lnTo>
                  <a:pt x="1074" y="1611"/>
                </a:lnTo>
                <a:lnTo>
                  <a:pt x="1080" y="1612"/>
                </a:lnTo>
                <a:lnTo>
                  <a:pt x="1084" y="1613"/>
                </a:lnTo>
                <a:lnTo>
                  <a:pt x="1090" y="1615"/>
                </a:lnTo>
                <a:lnTo>
                  <a:pt x="1094" y="1618"/>
                </a:lnTo>
                <a:lnTo>
                  <a:pt x="1098" y="1621"/>
                </a:lnTo>
                <a:lnTo>
                  <a:pt x="1105" y="1620"/>
                </a:lnTo>
                <a:lnTo>
                  <a:pt x="1112" y="1621"/>
                </a:lnTo>
                <a:lnTo>
                  <a:pt x="1119" y="1621"/>
                </a:lnTo>
                <a:lnTo>
                  <a:pt x="1125" y="1622"/>
                </a:lnTo>
                <a:lnTo>
                  <a:pt x="1132" y="1622"/>
                </a:lnTo>
                <a:lnTo>
                  <a:pt x="1137" y="1621"/>
                </a:lnTo>
                <a:lnTo>
                  <a:pt x="1143" y="1618"/>
                </a:lnTo>
                <a:lnTo>
                  <a:pt x="1149" y="1613"/>
                </a:lnTo>
                <a:lnTo>
                  <a:pt x="1150" y="1593"/>
                </a:lnTo>
                <a:lnTo>
                  <a:pt x="1145" y="1576"/>
                </a:lnTo>
                <a:lnTo>
                  <a:pt x="1137" y="1560"/>
                </a:lnTo>
                <a:lnTo>
                  <a:pt x="1128" y="1544"/>
                </a:lnTo>
                <a:lnTo>
                  <a:pt x="1117" y="1529"/>
                </a:lnTo>
                <a:lnTo>
                  <a:pt x="1104" y="1514"/>
                </a:lnTo>
                <a:lnTo>
                  <a:pt x="1094" y="1498"/>
                </a:lnTo>
                <a:lnTo>
                  <a:pt x="1085" y="1482"/>
                </a:lnTo>
                <a:lnTo>
                  <a:pt x="1084" y="1455"/>
                </a:lnTo>
                <a:lnTo>
                  <a:pt x="1087" y="1430"/>
                </a:lnTo>
                <a:lnTo>
                  <a:pt x="1088" y="1406"/>
                </a:lnTo>
                <a:lnTo>
                  <a:pt x="1083" y="1379"/>
                </a:lnTo>
                <a:lnTo>
                  <a:pt x="1096" y="1372"/>
                </a:lnTo>
                <a:lnTo>
                  <a:pt x="1108" y="1365"/>
                </a:lnTo>
                <a:lnTo>
                  <a:pt x="1121" y="1359"/>
                </a:lnTo>
                <a:lnTo>
                  <a:pt x="1135" y="1354"/>
                </a:lnTo>
                <a:lnTo>
                  <a:pt x="1148" y="1348"/>
                </a:lnTo>
                <a:lnTo>
                  <a:pt x="1161" y="1342"/>
                </a:lnTo>
                <a:lnTo>
                  <a:pt x="1175" y="1336"/>
                </a:lnTo>
                <a:lnTo>
                  <a:pt x="1188" y="1331"/>
                </a:lnTo>
                <a:lnTo>
                  <a:pt x="1202" y="1324"/>
                </a:lnTo>
                <a:lnTo>
                  <a:pt x="1214" y="1318"/>
                </a:lnTo>
                <a:lnTo>
                  <a:pt x="1228" y="1311"/>
                </a:lnTo>
                <a:lnTo>
                  <a:pt x="1241" y="1304"/>
                </a:lnTo>
                <a:lnTo>
                  <a:pt x="1254" y="1297"/>
                </a:lnTo>
                <a:lnTo>
                  <a:pt x="1266" y="1289"/>
                </a:lnTo>
                <a:lnTo>
                  <a:pt x="1279" y="1281"/>
                </a:lnTo>
                <a:lnTo>
                  <a:pt x="1291" y="1272"/>
                </a:lnTo>
                <a:lnTo>
                  <a:pt x="1293" y="1266"/>
                </a:lnTo>
                <a:lnTo>
                  <a:pt x="1294" y="1262"/>
                </a:lnTo>
                <a:lnTo>
                  <a:pt x="1295" y="1256"/>
                </a:lnTo>
                <a:lnTo>
                  <a:pt x="1295" y="1250"/>
                </a:lnTo>
                <a:lnTo>
                  <a:pt x="1285" y="1245"/>
                </a:lnTo>
                <a:lnTo>
                  <a:pt x="1273" y="1242"/>
                </a:lnTo>
                <a:lnTo>
                  <a:pt x="1261" y="1240"/>
                </a:lnTo>
                <a:lnTo>
                  <a:pt x="1249" y="1237"/>
                </a:lnTo>
                <a:lnTo>
                  <a:pt x="1238" y="1234"/>
                </a:lnTo>
                <a:lnTo>
                  <a:pt x="1227" y="1229"/>
                </a:lnTo>
                <a:lnTo>
                  <a:pt x="1218" y="1222"/>
                </a:lnTo>
                <a:lnTo>
                  <a:pt x="1210" y="1212"/>
                </a:lnTo>
                <a:lnTo>
                  <a:pt x="1211" y="1205"/>
                </a:lnTo>
                <a:lnTo>
                  <a:pt x="1206" y="1200"/>
                </a:lnTo>
                <a:lnTo>
                  <a:pt x="1203" y="1196"/>
                </a:lnTo>
                <a:lnTo>
                  <a:pt x="1208" y="1190"/>
                </a:lnTo>
                <a:lnTo>
                  <a:pt x="1206" y="1173"/>
                </a:lnTo>
                <a:lnTo>
                  <a:pt x="1208" y="1156"/>
                </a:lnTo>
                <a:lnTo>
                  <a:pt x="1210" y="1139"/>
                </a:lnTo>
                <a:lnTo>
                  <a:pt x="1213" y="1123"/>
                </a:lnTo>
                <a:lnTo>
                  <a:pt x="1219" y="1107"/>
                </a:lnTo>
                <a:lnTo>
                  <a:pt x="1226" y="1092"/>
                </a:lnTo>
                <a:lnTo>
                  <a:pt x="1234" y="1077"/>
                </a:lnTo>
                <a:lnTo>
                  <a:pt x="1244" y="1063"/>
                </a:lnTo>
                <a:lnTo>
                  <a:pt x="1236" y="1060"/>
                </a:lnTo>
                <a:lnTo>
                  <a:pt x="1228" y="1058"/>
                </a:lnTo>
                <a:lnTo>
                  <a:pt x="1219" y="1055"/>
                </a:lnTo>
                <a:lnTo>
                  <a:pt x="1211" y="1053"/>
                </a:lnTo>
                <a:lnTo>
                  <a:pt x="1199" y="1046"/>
                </a:lnTo>
                <a:lnTo>
                  <a:pt x="1191" y="1037"/>
                </a:lnTo>
                <a:lnTo>
                  <a:pt x="1187" y="1025"/>
                </a:lnTo>
                <a:lnTo>
                  <a:pt x="1185" y="1013"/>
                </a:lnTo>
                <a:lnTo>
                  <a:pt x="1182" y="1000"/>
                </a:lnTo>
                <a:lnTo>
                  <a:pt x="1180" y="987"/>
                </a:lnTo>
                <a:lnTo>
                  <a:pt x="1176" y="975"/>
                </a:lnTo>
                <a:lnTo>
                  <a:pt x="1170" y="964"/>
                </a:lnTo>
                <a:lnTo>
                  <a:pt x="1172" y="947"/>
                </a:lnTo>
                <a:lnTo>
                  <a:pt x="1178" y="932"/>
                </a:lnTo>
                <a:lnTo>
                  <a:pt x="1188" y="920"/>
                </a:lnTo>
                <a:lnTo>
                  <a:pt x="1199" y="909"/>
                </a:lnTo>
                <a:lnTo>
                  <a:pt x="1213" y="900"/>
                </a:lnTo>
                <a:lnTo>
                  <a:pt x="1227" y="892"/>
                </a:lnTo>
                <a:lnTo>
                  <a:pt x="1241" y="884"/>
                </a:lnTo>
                <a:lnTo>
                  <a:pt x="1255" y="874"/>
                </a:lnTo>
                <a:lnTo>
                  <a:pt x="1247" y="872"/>
                </a:lnTo>
                <a:lnTo>
                  <a:pt x="1239" y="870"/>
                </a:lnTo>
                <a:lnTo>
                  <a:pt x="1229" y="867"/>
                </a:lnTo>
                <a:lnTo>
                  <a:pt x="1221" y="866"/>
                </a:lnTo>
                <a:lnTo>
                  <a:pt x="1212" y="864"/>
                </a:lnTo>
                <a:lnTo>
                  <a:pt x="1203" y="863"/>
                </a:lnTo>
                <a:lnTo>
                  <a:pt x="1194" y="863"/>
                </a:lnTo>
                <a:lnTo>
                  <a:pt x="1185" y="862"/>
                </a:lnTo>
                <a:lnTo>
                  <a:pt x="1102" y="857"/>
                </a:lnTo>
                <a:lnTo>
                  <a:pt x="1092" y="872"/>
                </a:lnTo>
                <a:lnTo>
                  <a:pt x="1082" y="886"/>
                </a:lnTo>
                <a:lnTo>
                  <a:pt x="1070" y="900"/>
                </a:lnTo>
                <a:lnTo>
                  <a:pt x="1059" y="914"/>
                </a:lnTo>
                <a:lnTo>
                  <a:pt x="1049" y="929"/>
                </a:lnTo>
                <a:lnTo>
                  <a:pt x="1039" y="944"/>
                </a:lnTo>
                <a:lnTo>
                  <a:pt x="1031" y="959"/>
                </a:lnTo>
                <a:lnTo>
                  <a:pt x="1027" y="975"/>
                </a:lnTo>
                <a:lnTo>
                  <a:pt x="1031" y="977"/>
                </a:lnTo>
                <a:lnTo>
                  <a:pt x="1037" y="979"/>
                </a:lnTo>
                <a:lnTo>
                  <a:pt x="1042" y="980"/>
                </a:lnTo>
                <a:lnTo>
                  <a:pt x="1047" y="982"/>
                </a:lnTo>
                <a:lnTo>
                  <a:pt x="1053" y="983"/>
                </a:lnTo>
                <a:lnTo>
                  <a:pt x="1058" y="982"/>
                </a:lnTo>
                <a:lnTo>
                  <a:pt x="1064" y="979"/>
                </a:lnTo>
                <a:lnTo>
                  <a:pt x="1068" y="975"/>
                </a:lnTo>
                <a:lnTo>
                  <a:pt x="1074" y="976"/>
                </a:lnTo>
                <a:lnTo>
                  <a:pt x="1079" y="976"/>
                </a:lnTo>
                <a:lnTo>
                  <a:pt x="1084" y="977"/>
                </a:lnTo>
                <a:lnTo>
                  <a:pt x="1089" y="979"/>
                </a:lnTo>
                <a:lnTo>
                  <a:pt x="1095" y="980"/>
                </a:lnTo>
                <a:lnTo>
                  <a:pt x="1099" y="983"/>
                </a:lnTo>
                <a:lnTo>
                  <a:pt x="1104" y="985"/>
                </a:lnTo>
                <a:lnTo>
                  <a:pt x="1108" y="987"/>
                </a:lnTo>
                <a:lnTo>
                  <a:pt x="1107" y="997"/>
                </a:lnTo>
                <a:lnTo>
                  <a:pt x="1103" y="998"/>
                </a:lnTo>
                <a:lnTo>
                  <a:pt x="1095" y="998"/>
                </a:lnTo>
                <a:lnTo>
                  <a:pt x="1088" y="1000"/>
                </a:lnTo>
                <a:lnTo>
                  <a:pt x="1099" y="1014"/>
                </a:lnTo>
                <a:lnTo>
                  <a:pt x="1106" y="1030"/>
                </a:lnTo>
                <a:lnTo>
                  <a:pt x="1111" y="1046"/>
                </a:lnTo>
                <a:lnTo>
                  <a:pt x="1113" y="1062"/>
                </a:lnTo>
                <a:lnTo>
                  <a:pt x="1114" y="1081"/>
                </a:lnTo>
                <a:lnTo>
                  <a:pt x="1114" y="1098"/>
                </a:lnTo>
                <a:lnTo>
                  <a:pt x="1114" y="1116"/>
                </a:lnTo>
                <a:lnTo>
                  <a:pt x="1117" y="1135"/>
                </a:lnTo>
                <a:lnTo>
                  <a:pt x="1110" y="1154"/>
                </a:lnTo>
                <a:lnTo>
                  <a:pt x="1099" y="1173"/>
                </a:lnTo>
                <a:lnTo>
                  <a:pt x="1087" y="1190"/>
                </a:lnTo>
                <a:lnTo>
                  <a:pt x="1073" y="1205"/>
                </a:lnTo>
                <a:lnTo>
                  <a:pt x="1057" y="1220"/>
                </a:lnTo>
                <a:lnTo>
                  <a:pt x="1041" y="1234"/>
                </a:lnTo>
                <a:lnTo>
                  <a:pt x="1024" y="1248"/>
                </a:lnTo>
                <a:lnTo>
                  <a:pt x="1008" y="1262"/>
                </a:lnTo>
                <a:lnTo>
                  <a:pt x="992" y="1271"/>
                </a:lnTo>
                <a:lnTo>
                  <a:pt x="975" y="1280"/>
                </a:lnTo>
                <a:lnTo>
                  <a:pt x="956" y="1289"/>
                </a:lnTo>
                <a:lnTo>
                  <a:pt x="939" y="1296"/>
                </a:lnTo>
                <a:lnTo>
                  <a:pt x="921" y="1302"/>
                </a:lnTo>
                <a:lnTo>
                  <a:pt x="903" y="1305"/>
                </a:lnTo>
                <a:lnTo>
                  <a:pt x="885" y="1303"/>
                </a:lnTo>
                <a:lnTo>
                  <a:pt x="867" y="1297"/>
                </a:lnTo>
                <a:lnTo>
                  <a:pt x="858" y="1290"/>
                </a:lnTo>
                <a:lnTo>
                  <a:pt x="854" y="1281"/>
                </a:lnTo>
                <a:lnTo>
                  <a:pt x="853" y="1270"/>
                </a:lnTo>
                <a:lnTo>
                  <a:pt x="852" y="1258"/>
                </a:lnTo>
                <a:lnTo>
                  <a:pt x="850" y="1248"/>
                </a:lnTo>
                <a:lnTo>
                  <a:pt x="847" y="1240"/>
                </a:lnTo>
                <a:lnTo>
                  <a:pt x="839" y="1235"/>
                </a:lnTo>
                <a:lnTo>
                  <a:pt x="826" y="1236"/>
                </a:lnTo>
                <a:lnTo>
                  <a:pt x="817" y="1244"/>
                </a:lnTo>
                <a:lnTo>
                  <a:pt x="808" y="1252"/>
                </a:lnTo>
                <a:lnTo>
                  <a:pt x="801" y="1262"/>
                </a:lnTo>
                <a:lnTo>
                  <a:pt x="793" y="1271"/>
                </a:lnTo>
                <a:lnTo>
                  <a:pt x="786" y="1281"/>
                </a:lnTo>
                <a:lnTo>
                  <a:pt x="779" y="1291"/>
                </a:lnTo>
                <a:lnTo>
                  <a:pt x="772" y="1301"/>
                </a:lnTo>
                <a:lnTo>
                  <a:pt x="765" y="1310"/>
                </a:lnTo>
                <a:lnTo>
                  <a:pt x="757" y="1323"/>
                </a:lnTo>
                <a:lnTo>
                  <a:pt x="748" y="1335"/>
                </a:lnTo>
                <a:lnTo>
                  <a:pt x="741" y="1348"/>
                </a:lnTo>
                <a:lnTo>
                  <a:pt x="733" y="1362"/>
                </a:lnTo>
                <a:lnTo>
                  <a:pt x="726" y="1376"/>
                </a:lnTo>
                <a:lnTo>
                  <a:pt x="719" y="1389"/>
                </a:lnTo>
                <a:lnTo>
                  <a:pt x="712" y="1403"/>
                </a:lnTo>
                <a:lnTo>
                  <a:pt x="706" y="1417"/>
                </a:lnTo>
                <a:lnTo>
                  <a:pt x="703" y="1418"/>
                </a:lnTo>
                <a:lnTo>
                  <a:pt x="701" y="1421"/>
                </a:lnTo>
                <a:lnTo>
                  <a:pt x="698" y="1424"/>
                </a:lnTo>
                <a:lnTo>
                  <a:pt x="695" y="1425"/>
                </a:lnTo>
                <a:lnTo>
                  <a:pt x="682" y="1424"/>
                </a:lnTo>
                <a:lnTo>
                  <a:pt x="670" y="1423"/>
                </a:lnTo>
                <a:lnTo>
                  <a:pt x="656" y="1422"/>
                </a:lnTo>
                <a:lnTo>
                  <a:pt x="643" y="1421"/>
                </a:lnTo>
                <a:lnTo>
                  <a:pt x="629" y="1419"/>
                </a:lnTo>
                <a:lnTo>
                  <a:pt x="615" y="1418"/>
                </a:lnTo>
                <a:lnTo>
                  <a:pt x="603" y="1417"/>
                </a:lnTo>
                <a:lnTo>
                  <a:pt x="589" y="1416"/>
                </a:lnTo>
                <a:lnTo>
                  <a:pt x="575" y="1415"/>
                </a:lnTo>
                <a:lnTo>
                  <a:pt x="562" y="1414"/>
                </a:lnTo>
                <a:lnTo>
                  <a:pt x="549" y="1412"/>
                </a:lnTo>
                <a:lnTo>
                  <a:pt x="535" y="1410"/>
                </a:lnTo>
                <a:lnTo>
                  <a:pt x="522" y="1409"/>
                </a:lnTo>
                <a:lnTo>
                  <a:pt x="508" y="1407"/>
                </a:lnTo>
                <a:lnTo>
                  <a:pt x="496" y="1404"/>
                </a:lnTo>
                <a:lnTo>
                  <a:pt x="483" y="1402"/>
                </a:lnTo>
                <a:lnTo>
                  <a:pt x="477" y="1400"/>
                </a:lnTo>
                <a:lnTo>
                  <a:pt x="473" y="1397"/>
                </a:lnTo>
                <a:lnTo>
                  <a:pt x="467" y="1395"/>
                </a:lnTo>
                <a:lnTo>
                  <a:pt x="461" y="1392"/>
                </a:lnTo>
                <a:lnTo>
                  <a:pt x="456" y="1387"/>
                </a:lnTo>
                <a:lnTo>
                  <a:pt x="452" y="1382"/>
                </a:lnTo>
                <a:lnTo>
                  <a:pt x="448" y="1378"/>
                </a:lnTo>
                <a:lnTo>
                  <a:pt x="446" y="1372"/>
                </a:lnTo>
                <a:lnTo>
                  <a:pt x="443" y="1361"/>
                </a:lnTo>
                <a:lnTo>
                  <a:pt x="440" y="1348"/>
                </a:lnTo>
                <a:lnTo>
                  <a:pt x="440" y="1335"/>
                </a:lnTo>
                <a:lnTo>
                  <a:pt x="444" y="1323"/>
                </a:lnTo>
                <a:lnTo>
                  <a:pt x="453" y="1308"/>
                </a:lnTo>
                <a:lnTo>
                  <a:pt x="464" y="1296"/>
                </a:lnTo>
                <a:lnTo>
                  <a:pt x="478" y="1288"/>
                </a:lnTo>
                <a:lnTo>
                  <a:pt x="494" y="1282"/>
                </a:lnTo>
                <a:lnTo>
                  <a:pt x="509" y="1276"/>
                </a:lnTo>
                <a:lnTo>
                  <a:pt x="526" y="1270"/>
                </a:lnTo>
                <a:lnTo>
                  <a:pt x="538" y="1262"/>
                </a:lnTo>
                <a:lnTo>
                  <a:pt x="550" y="1250"/>
                </a:lnTo>
                <a:lnTo>
                  <a:pt x="550" y="1245"/>
                </a:lnTo>
                <a:lnTo>
                  <a:pt x="539" y="1238"/>
                </a:lnTo>
                <a:lnTo>
                  <a:pt x="529" y="1233"/>
                </a:lnTo>
                <a:lnTo>
                  <a:pt x="517" y="1227"/>
                </a:lnTo>
                <a:lnTo>
                  <a:pt x="506" y="1222"/>
                </a:lnTo>
                <a:lnTo>
                  <a:pt x="494" y="1218"/>
                </a:lnTo>
                <a:lnTo>
                  <a:pt x="483" y="1214"/>
                </a:lnTo>
                <a:lnTo>
                  <a:pt x="470" y="1212"/>
                </a:lnTo>
                <a:lnTo>
                  <a:pt x="458" y="1210"/>
                </a:lnTo>
                <a:lnTo>
                  <a:pt x="445" y="1209"/>
                </a:lnTo>
                <a:lnTo>
                  <a:pt x="432" y="1207"/>
                </a:lnTo>
                <a:lnTo>
                  <a:pt x="420" y="1209"/>
                </a:lnTo>
                <a:lnTo>
                  <a:pt x="407" y="1209"/>
                </a:lnTo>
                <a:lnTo>
                  <a:pt x="394" y="1211"/>
                </a:lnTo>
                <a:lnTo>
                  <a:pt x="381" y="1212"/>
                </a:lnTo>
                <a:lnTo>
                  <a:pt x="370" y="1215"/>
                </a:lnTo>
                <a:lnTo>
                  <a:pt x="357" y="1219"/>
                </a:lnTo>
                <a:lnTo>
                  <a:pt x="337" y="1233"/>
                </a:lnTo>
                <a:lnTo>
                  <a:pt x="326" y="1251"/>
                </a:lnTo>
                <a:lnTo>
                  <a:pt x="322" y="1272"/>
                </a:lnTo>
                <a:lnTo>
                  <a:pt x="320" y="1295"/>
                </a:lnTo>
                <a:lnTo>
                  <a:pt x="319" y="1319"/>
                </a:lnTo>
                <a:lnTo>
                  <a:pt x="317" y="1342"/>
                </a:lnTo>
                <a:lnTo>
                  <a:pt x="308" y="1362"/>
                </a:lnTo>
                <a:lnTo>
                  <a:pt x="292" y="1379"/>
                </a:lnTo>
                <a:lnTo>
                  <a:pt x="273" y="1382"/>
                </a:lnTo>
                <a:lnTo>
                  <a:pt x="256" y="1384"/>
                </a:lnTo>
                <a:lnTo>
                  <a:pt x="239" y="1386"/>
                </a:lnTo>
                <a:lnTo>
                  <a:pt x="221" y="1386"/>
                </a:lnTo>
                <a:lnTo>
                  <a:pt x="205" y="1386"/>
                </a:lnTo>
                <a:lnTo>
                  <a:pt x="188" y="1385"/>
                </a:lnTo>
                <a:lnTo>
                  <a:pt x="172" y="1384"/>
                </a:lnTo>
                <a:lnTo>
                  <a:pt x="155" y="1381"/>
                </a:lnTo>
                <a:lnTo>
                  <a:pt x="138" y="1380"/>
                </a:lnTo>
                <a:lnTo>
                  <a:pt x="121" y="1378"/>
                </a:lnTo>
                <a:lnTo>
                  <a:pt x="104" y="1376"/>
                </a:lnTo>
                <a:lnTo>
                  <a:pt x="87" y="1374"/>
                </a:lnTo>
                <a:lnTo>
                  <a:pt x="69" y="1373"/>
                </a:lnTo>
                <a:lnTo>
                  <a:pt x="52" y="1372"/>
                </a:lnTo>
                <a:lnTo>
                  <a:pt x="34" y="1372"/>
                </a:lnTo>
                <a:lnTo>
                  <a:pt x="15" y="1372"/>
                </a:lnTo>
                <a:lnTo>
                  <a:pt x="6" y="1354"/>
                </a:lnTo>
                <a:lnTo>
                  <a:pt x="1" y="1332"/>
                </a:lnTo>
                <a:lnTo>
                  <a:pt x="0" y="1311"/>
                </a:lnTo>
                <a:lnTo>
                  <a:pt x="2" y="1291"/>
                </a:lnTo>
                <a:lnTo>
                  <a:pt x="23" y="1271"/>
                </a:lnTo>
                <a:lnTo>
                  <a:pt x="44" y="1251"/>
                </a:lnTo>
                <a:lnTo>
                  <a:pt x="64" y="1230"/>
                </a:lnTo>
                <a:lnTo>
                  <a:pt x="84" y="1211"/>
                </a:lnTo>
                <a:lnTo>
                  <a:pt x="104" y="1191"/>
                </a:lnTo>
                <a:lnTo>
                  <a:pt x="123" y="1170"/>
                </a:lnTo>
                <a:lnTo>
                  <a:pt x="142" y="1150"/>
                </a:lnTo>
                <a:lnTo>
                  <a:pt x="161" y="1127"/>
                </a:lnTo>
                <a:lnTo>
                  <a:pt x="158" y="1121"/>
                </a:lnTo>
                <a:lnTo>
                  <a:pt x="155" y="1117"/>
                </a:lnTo>
                <a:lnTo>
                  <a:pt x="149" y="1115"/>
                </a:lnTo>
                <a:lnTo>
                  <a:pt x="143" y="1114"/>
                </a:lnTo>
                <a:lnTo>
                  <a:pt x="130" y="1116"/>
                </a:lnTo>
                <a:lnTo>
                  <a:pt x="117" y="1119"/>
                </a:lnTo>
                <a:lnTo>
                  <a:pt x="103" y="1120"/>
                </a:lnTo>
                <a:lnTo>
                  <a:pt x="89" y="1120"/>
                </a:lnTo>
                <a:lnTo>
                  <a:pt x="76" y="1119"/>
                </a:lnTo>
                <a:lnTo>
                  <a:pt x="64" y="1115"/>
                </a:lnTo>
                <a:lnTo>
                  <a:pt x="51" y="1109"/>
                </a:lnTo>
                <a:lnTo>
                  <a:pt x="40" y="1101"/>
                </a:lnTo>
                <a:lnTo>
                  <a:pt x="32" y="1086"/>
                </a:lnTo>
                <a:lnTo>
                  <a:pt x="25" y="1071"/>
                </a:lnTo>
                <a:lnTo>
                  <a:pt x="20" y="1055"/>
                </a:lnTo>
                <a:lnTo>
                  <a:pt x="17" y="1039"/>
                </a:lnTo>
                <a:lnTo>
                  <a:pt x="21" y="1017"/>
                </a:lnTo>
                <a:lnTo>
                  <a:pt x="25" y="994"/>
                </a:lnTo>
                <a:lnTo>
                  <a:pt x="32" y="972"/>
                </a:lnTo>
                <a:lnTo>
                  <a:pt x="43" y="952"/>
                </a:lnTo>
                <a:lnTo>
                  <a:pt x="40" y="949"/>
                </a:lnTo>
                <a:lnTo>
                  <a:pt x="54" y="933"/>
                </a:lnTo>
                <a:lnTo>
                  <a:pt x="69" y="916"/>
                </a:lnTo>
                <a:lnTo>
                  <a:pt x="84" y="900"/>
                </a:lnTo>
                <a:lnTo>
                  <a:pt x="100" y="884"/>
                </a:lnTo>
                <a:lnTo>
                  <a:pt x="118" y="869"/>
                </a:lnTo>
                <a:lnTo>
                  <a:pt x="135" y="856"/>
                </a:lnTo>
                <a:lnTo>
                  <a:pt x="155" y="844"/>
                </a:lnTo>
                <a:lnTo>
                  <a:pt x="174" y="835"/>
                </a:lnTo>
                <a:lnTo>
                  <a:pt x="188" y="832"/>
                </a:lnTo>
                <a:lnTo>
                  <a:pt x="201" y="831"/>
                </a:lnTo>
                <a:lnTo>
                  <a:pt x="213" y="832"/>
                </a:lnTo>
                <a:lnTo>
                  <a:pt x="226" y="834"/>
                </a:lnTo>
                <a:lnTo>
                  <a:pt x="239" y="838"/>
                </a:lnTo>
                <a:lnTo>
                  <a:pt x="250" y="842"/>
                </a:lnTo>
                <a:lnTo>
                  <a:pt x="261" y="849"/>
                </a:lnTo>
                <a:lnTo>
                  <a:pt x="272" y="857"/>
                </a:lnTo>
                <a:lnTo>
                  <a:pt x="277" y="864"/>
                </a:lnTo>
                <a:lnTo>
                  <a:pt x="280" y="871"/>
                </a:lnTo>
                <a:lnTo>
                  <a:pt x="284" y="879"/>
                </a:lnTo>
                <a:lnTo>
                  <a:pt x="288" y="887"/>
                </a:lnTo>
                <a:lnTo>
                  <a:pt x="292" y="894"/>
                </a:lnTo>
                <a:lnTo>
                  <a:pt x="297" y="900"/>
                </a:lnTo>
                <a:lnTo>
                  <a:pt x="305" y="902"/>
                </a:lnTo>
                <a:lnTo>
                  <a:pt x="315" y="903"/>
                </a:lnTo>
                <a:lnTo>
                  <a:pt x="329" y="903"/>
                </a:lnTo>
                <a:lnTo>
                  <a:pt x="341" y="897"/>
                </a:lnTo>
                <a:lnTo>
                  <a:pt x="352" y="889"/>
                </a:lnTo>
                <a:lnTo>
                  <a:pt x="361" y="879"/>
                </a:lnTo>
                <a:lnTo>
                  <a:pt x="370" y="866"/>
                </a:lnTo>
                <a:lnTo>
                  <a:pt x="377" y="854"/>
                </a:lnTo>
                <a:lnTo>
                  <a:pt x="385" y="842"/>
                </a:lnTo>
                <a:lnTo>
                  <a:pt x="392" y="831"/>
                </a:lnTo>
                <a:lnTo>
                  <a:pt x="407" y="805"/>
                </a:lnTo>
                <a:lnTo>
                  <a:pt x="422" y="779"/>
                </a:lnTo>
                <a:lnTo>
                  <a:pt x="436" y="753"/>
                </a:lnTo>
                <a:lnTo>
                  <a:pt x="451" y="728"/>
                </a:lnTo>
                <a:lnTo>
                  <a:pt x="466" y="702"/>
                </a:lnTo>
                <a:lnTo>
                  <a:pt x="481" y="676"/>
                </a:lnTo>
                <a:lnTo>
                  <a:pt x="497" y="651"/>
                </a:lnTo>
                <a:lnTo>
                  <a:pt x="514" y="626"/>
                </a:lnTo>
                <a:lnTo>
                  <a:pt x="523" y="616"/>
                </a:lnTo>
                <a:lnTo>
                  <a:pt x="534" y="607"/>
                </a:lnTo>
                <a:lnTo>
                  <a:pt x="545" y="598"/>
                </a:lnTo>
                <a:lnTo>
                  <a:pt x="558" y="591"/>
                </a:lnTo>
                <a:lnTo>
                  <a:pt x="569" y="585"/>
                </a:lnTo>
                <a:lnTo>
                  <a:pt x="582" y="582"/>
                </a:lnTo>
                <a:lnTo>
                  <a:pt x="596" y="581"/>
                </a:lnTo>
                <a:lnTo>
                  <a:pt x="608" y="584"/>
                </a:lnTo>
                <a:lnTo>
                  <a:pt x="619" y="590"/>
                </a:lnTo>
                <a:lnTo>
                  <a:pt x="629" y="593"/>
                </a:lnTo>
                <a:lnTo>
                  <a:pt x="636" y="599"/>
                </a:lnTo>
                <a:lnTo>
                  <a:pt x="636" y="611"/>
                </a:lnTo>
                <a:lnTo>
                  <a:pt x="637" y="616"/>
                </a:lnTo>
                <a:lnTo>
                  <a:pt x="642" y="620"/>
                </a:lnTo>
                <a:lnTo>
                  <a:pt x="648" y="621"/>
                </a:lnTo>
                <a:lnTo>
                  <a:pt x="653" y="622"/>
                </a:lnTo>
                <a:lnTo>
                  <a:pt x="653" y="626"/>
                </a:lnTo>
                <a:lnTo>
                  <a:pt x="653" y="630"/>
                </a:lnTo>
                <a:lnTo>
                  <a:pt x="652" y="634"/>
                </a:lnTo>
                <a:lnTo>
                  <a:pt x="649" y="636"/>
                </a:lnTo>
                <a:lnTo>
                  <a:pt x="652" y="643"/>
                </a:lnTo>
                <a:lnTo>
                  <a:pt x="656" y="647"/>
                </a:lnTo>
                <a:lnTo>
                  <a:pt x="661" y="650"/>
                </a:lnTo>
                <a:lnTo>
                  <a:pt x="667" y="652"/>
                </a:lnTo>
                <a:lnTo>
                  <a:pt x="673" y="653"/>
                </a:lnTo>
                <a:lnTo>
                  <a:pt x="680" y="653"/>
                </a:lnTo>
                <a:lnTo>
                  <a:pt x="686" y="653"/>
                </a:lnTo>
                <a:lnTo>
                  <a:pt x="693" y="653"/>
                </a:lnTo>
                <a:lnTo>
                  <a:pt x="713" y="646"/>
                </a:lnTo>
                <a:lnTo>
                  <a:pt x="732" y="635"/>
                </a:lnTo>
                <a:lnTo>
                  <a:pt x="748" y="621"/>
                </a:lnTo>
                <a:lnTo>
                  <a:pt x="762" y="604"/>
                </a:lnTo>
                <a:lnTo>
                  <a:pt x="774" y="586"/>
                </a:lnTo>
                <a:lnTo>
                  <a:pt x="786" y="567"/>
                </a:lnTo>
                <a:lnTo>
                  <a:pt x="796" y="548"/>
                </a:lnTo>
                <a:lnTo>
                  <a:pt x="805" y="530"/>
                </a:lnTo>
                <a:lnTo>
                  <a:pt x="805" y="517"/>
                </a:lnTo>
                <a:lnTo>
                  <a:pt x="805" y="503"/>
                </a:lnTo>
                <a:lnTo>
                  <a:pt x="801" y="492"/>
                </a:lnTo>
                <a:lnTo>
                  <a:pt x="788" y="486"/>
                </a:lnTo>
                <a:lnTo>
                  <a:pt x="773" y="492"/>
                </a:lnTo>
                <a:lnTo>
                  <a:pt x="757" y="500"/>
                </a:lnTo>
                <a:lnTo>
                  <a:pt x="741" y="507"/>
                </a:lnTo>
                <a:lnTo>
                  <a:pt x="725" y="514"/>
                </a:lnTo>
                <a:lnTo>
                  <a:pt x="709" y="518"/>
                </a:lnTo>
                <a:lnTo>
                  <a:pt x="693" y="518"/>
                </a:lnTo>
                <a:lnTo>
                  <a:pt x="679" y="514"/>
                </a:lnTo>
                <a:lnTo>
                  <a:pt x="665" y="502"/>
                </a:lnTo>
                <a:lnTo>
                  <a:pt x="661" y="485"/>
                </a:lnTo>
                <a:lnTo>
                  <a:pt x="663" y="469"/>
                </a:lnTo>
                <a:lnTo>
                  <a:pt x="664" y="452"/>
                </a:lnTo>
                <a:lnTo>
                  <a:pt x="659" y="433"/>
                </a:lnTo>
                <a:lnTo>
                  <a:pt x="665" y="420"/>
                </a:lnTo>
                <a:lnTo>
                  <a:pt x="672" y="409"/>
                </a:lnTo>
                <a:lnTo>
                  <a:pt x="676" y="396"/>
                </a:lnTo>
                <a:lnTo>
                  <a:pt x="681" y="384"/>
                </a:lnTo>
                <a:lnTo>
                  <a:pt x="691" y="370"/>
                </a:lnTo>
                <a:lnTo>
                  <a:pt x="702" y="356"/>
                </a:lnTo>
                <a:lnTo>
                  <a:pt x="711" y="342"/>
                </a:lnTo>
                <a:lnTo>
                  <a:pt x="720" y="328"/>
                </a:lnTo>
                <a:lnTo>
                  <a:pt x="729" y="314"/>
                </a:lnTo>
                <a:lnTo>
                  <a:pt x="739" y="301"/>
                </a:lnTo>
                <a:lnTo>
                  <a:pt x="747" y="287"/>
                </a:lnTo>
                <a:lnTo>
                  <a:pt x="755" y="273"/>
                </a:lnTo>
                <a:lnTo>
                  <a:pt x="772" y="250"/>
                </a:lnTo>
                <a:lnTo>
                  <a:pt x="790" y="237"/>
                </a:lnTo>
                <a:lnTo>
                  <a:pt x="812" y="233"/>
                </a:lnTo>
                <a:lnTo>
                  <a:pt x="834" y="231"/>
                </a:lnTo>
                <a:lnTo>
                  <a:pt x="858" y="234"/>
                </a:lnTo>
                <a:lnTo>
                  <a:pt x="884" y="236"/>
                </a:lnTo>
                <a:lnTo>
                  <a:pt x="909" y="235"/>
                </a:lnTo>
                <a:lnTo>
                  <a:pt x="935" y="229"/>
                </a:lnTo>
                <a:lnTo>
                  <a:pt x="941" y="230"/>
                </a:lnTo>
                <a:lnTo>
                  <a:pt x="949" y="231"/>
                </a:lnTo>
                <a:lnTo>
                  <a:pt x="956" y="231"/>
                </a:lnTo>
                <a:lnTo>
                  <a:pt x="963" y="231"/>
                </a:lnTo>
                <a:lnTo>
                  <a:pt x="970" y="230"/>
                </a:lnTo>
                <a:lnTo>
                  <a:pt x="977" y="229"/>
                </a:lnTo>
                <a:lnTo>
                  <a:pt x="984" y="228"/>
                </a:lnTo>
                <a:lnTo>
                  <a:pt x="991" y="227"/>
                </a:lnTo>
                <a:lnTo>
                  <a:pt x="998" y="229"/>
                </a:lnTo>
                <a:lnTo>
                  <a:pt x="1005" y="229"/>
                </a:lnTo>
                <a:lnTo>
                  <a:pt x="1011" y="229"/>
                </a:lnTo>
                <a:lnTo>
                  <a:pt x="1017" y="228"/>
                </a:lnTo>
                <a:lnTo>
                  <a:pt x="1023" y="227"/>
                </a:lnTo>
                <a:lnTo>
                  <a:pt x="1029" y="226"/>
                </a:lnTo>
                <a:lnTo>
                  <a:pt x="1036" y="225"/>
                </a:lnTo>
                <a:lnTo>
                  <a:pt x="1042" y="223"/>
                </a:lnTo>
                <a:lnTo>
                  <a:pt x="1034" y="212"/>
                </a:lnTo>
                <a:lnTo>
                  <a:pt x="1029" y="199"/>
                </a:lnTo>
                <a:lnTo>
                  <a:pt x="1026" y="188"/>
                </a:lnTo>
                <a:lnTo>
                  <a:pt x="1016" y="176"/>
                </a:lnTo>
                <a:lnTo>
                  <a:pt x="1015" y="154"/>
                </a:lnTo>
                <a:lnTo>
                  <a:pt x="1019" y="131"/>
                </a:lnTo>
                <a:lnTo>
                  <a:pt x="1024" y="111"/>
                </a:lnTo>
                <a:lnTo>
                  <a:pt x="1034" y="91"/>
                </a:lnTo>
                <a:lnTo>
                  <a:pt x="1046" y="72"/>
                </a:lnTo>
                <a:lnTo>
                  <a:pt x="1061" y="56"/>
                </a:lnTo>
                <a:lnTo>
                  <a:pt x="1079" y="43"/>
                </a:lnTo>
                <a:lnTo>
                  <a:pt x="1098" y="31"/>
                </a:lnTo>
                <a:lnTo>
                  <a:pt x="1105" y="28"/>
                </a:lnTo>
                <a:lnTo>
                  <a:pt x="1113" y="24"/>
                </a:lnTo>
                <a:lnTo>
                  <a:pt x="1120" y="22"/>
                </a:lnTo>
                <a:lnTo>
                  <a:pt x="1127" y="18"/>
                </a:lnTo>
                <a:lnTo>
                  <a:pt x="1135" y="15"/>
                </a:lnTo>
                <a:lnTo>
                  <a:pt x="1143" y="13"/>
                </a:lnTo>
                <a:lnTo>
                  <a:pt x="1151" y="10"/>
                </a:lnTo>
                <a:lnTo>
                  <a:pt x="1159" y="8"/>
                </a:lnTo>
                <a:lnTo>
                  <a:pt x="1179" y="6"/>
                </a:lnTo>
                <a:lnTo>
                  <a:pt x="1197" y="3"/>
                </a:lnTo>
                <a:lnTo>
                  <a:pt x="1217" y="1"/>
                </a:lnTo>
                <a:lnTo>
                  <a:pt x="1236" y="0"/>
                </a:lnTo>
                <a:lnTo>
                  <a:pt x="1256" y="0"/>
                </a:lnTo>
                <a:lnTo>
                  <a:pt x="1277" y="2"/>
                </a:lnTo>
                <a:lnTo>
                  <a:pt x="1296" y="6"/>
                </a:lnTo>
                <a:lnTo>
                  <a:pt x="1316" y="11"/>
                </a:lnTo>
                <a:lnTo>
                  <a:pt x="1322" y="13"/>
                </a:lnTo>
                <a:lnTo>
                  <a:pt x="1326" y="13"/>
                </a:lnTo>
                <a:lnTo>
                  <a:pt x="1332" y="14"/>
                </a:lnTo>
                <a:lnTo>
                  <a:pt x="1338" y="16"/>
                </a:lnTo>
                <a:lnTo>
                  <a:pt x="1344" y="17"/>
                </a:lnTo>
                <a:lnTo>
                  <a:pt x="1349" y="19"/>
                </a:lnTo>
                <a:lnTo>
                  <a:pt x="1354" y="22"/>
                </a:lnTo>
                <a:lnTo>
                  <a:pt x="1360" y="2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738760" y="2639880"/>
            <a:ext cx="262080" cy="268560"/>
          </a:xfrm>
          <a:custGeom>
            <a:avLst/>
            <a:gdLst/>
            <a:ahLst/>
            <a:rect l="l" t="t" r="r" b="b"/>
            <a:pathLst>
              <a:path w="1080" h="1005">
                <a:moveTo>
                  <a:pt x="495" y="17"/>
                </a:moveTo>
                <a:lnTo>
                  <a:pt x="508" y="36"/>
                </a:lnTo>
                <a:lnTo>
                  <a:pt x="510" y="57"/>
                </a:lnTo>
                <a:lnTo>
                  <a:pt x="506" y="76"/>
                </a:lnTo>
                <a:lnTo>
                  <a:pt x="498" y="97"/>
                </a:lnTo>
                <a:lnTo>
                  <a:pt x="492" y="118"/>
                </a:lnTo>
                <a:lnTo>
                  <a:pt x="491" y="137"/>
                </a:lnTo>
                <a:lnTo>
                  <a:pt x="498" y="156"/>
                </a:lnTo>
                <a:lnTo>
                  <a:pt x="517" y="173"/>
                </a:lnTo>
                <a:lnTo>
                  <a:pt x="539" y="180"/>
                </a:lnTo>
                <a:lnTo>
                  <a:pt x="561" y="182"/>
                </a:lnTo>
                <a:lnTo>
                  <a:pt x="583" y="180"/>
                </a:lnTo>
                <a:lnTo>
                  <a:pt x="603" y="175"/>
                </a:lnTo>
                <a:lnTo>
                  <a:pt x="623" y="167"/>
                </a:lnTo>
                <a:lnTo>
                  <a:pt x="644" y="159"/>
                </a:lnTo>
                <a:lnTo>
                  <a:pt x="664" y="151"/>
                </a:lnTo>
                <a:lnTo>
                  <a:pt x="684" y="144"/>
                </a:lnTo>
                <a:lnTo>
                  <a:pt x="691" y="138"/>
                </a:lnTo>
                <a:lnTo>
                  <a:pt x="697" y="134"/>
                </a:lnTo>
                <a:lnTo>
                  <a:pt x="704" y="130"/>
                </a:lnTo>
                <a:lnTo>
                  <a:pt x="711" y="126"/>
                </a:lnTo>
                <a:lnTo>
                  <a:pt x="718" y="122"/>
                </a:lnTo>
                <a:lnTo>
                  <a:pt x="725" y="119"/>
                </a:lnTo>
                <a:lnTo>
                  <a:pt x="732" y="115"/>
                </a:lnTo>
                <a:lnTo>
                  <a:pt x="739" y="112"/>
                </a:lnTo>
                <a:lnTo>
                  <a:pt x="741" y="114"/>
                </a:lnTo>
                <a:lnTo>
                  <a:pt x="744" y="115"/>
                </a:lnTo>
                <a:lnTo>
                  <a:pt x="747" y="115"/>
                </a:lnTo>
                <a:lnTo>
                  <a:pt x="749" y="114"/>
                </a:lnTo>
                <a:lnTo>
                  <a:pt x="755" y="130"/>
                </a:lnTo>
                <a:lnTo>
                  <a:pt x="763" y="145"/>
                </a:lnTo>
                <a:lnTo>
                  <a:pt x="772" y="160"/>
                </a:lnTo>
                <a:lnTo>
                  <a:pt x="781" y="175"/>
                </a:lnTo>
                <a:lnTo>
                  <a:pt x="792" y="189"/>
                </a:lnTo>
                <a:lnTo>
                  <a:pt x="802" y="204"/>
                </a:lnTo>
                <a:lnTo>
                  <a:pt x="811" y="218"/>
                </a:lnTo>
                <a:lnTo>
                  <a:pt x="820" y="233"/>
                </a:lnTo>
                <a:lnTo>
                  <a:pt x="828" y="245"/>
                </a:lnTo>
                <a:lnTo>
                  <a:pt x="835" y="258"/>
                </a:lnTo>
                <a:lnTo>
                  <a:pt x="841" y="272"/>
                </a:lnTo>
                <a:lnTo>
                  <a:pt x="847" y="286"/>
                </a:lnTo>
                <a:lnTo>
                  <a:pt x="850" y="300"/>
                </a:lnTo>
                <a:lnTo>
                  <a:pt x="855" y="313"/>
                </a:lnTo>
                <a:lnTo>
                  <a:pt x="858" y="328"/>
                </a:lnTo>
                <a:lnTo>
                  <a:pt x="863" y="342"/>
                </a:lnTo>
                <a:lnTo>
                  <a:pt x="860" y="353"/>
                </a:lnTo>
                <a:lnTo>
                  <a:pt x="853" y="361"/>
                </a:lnTo>
                <a:lnTo>
                  <a:pt x="845" y="368"/>
                </a:lnTo>
                <a:lnTo>
                  <a:pt x="835" y="372"/>
                </a:lnTo>
                <a:lnTo>
                  <a:pt x="818" y="373"/>
                </a:lnTo>
                <a:lnTo>
                  <a:pt x="803" y="370"/>
                </a:lnTo>
                <a:lnTo>
                  <a:pt x="788" y="363"/>
                </a:lnTo>
                <a:lnTo>
                  <a:pt x="774" y="356"/>
                </a:lnTo>
                <a:lnTo>
                  <a:pt x="760" y="348"/>
                </a:lnTo>
                <a:lnTo>
                  <a:pt x="746" y="343"/>
                </a:lnTo>
                <a:lnTo>
                  <a:pt x="728" y="341"/>
                </a:lnTo>
                <a:lnTo>
                  <a:pt x="710" y="343"/>
                </a:lnTo>
                <a:lnTo>
                  <a:pt x="702" y="346"/>
                </a:lnTo>
                <a:lnTo>
                  <a:pt x="693" y="349"/>
                </a:lnTo>
                <a:lnTo>
                  <a:pt x="684" y="353"/>
                </a:lnTo>
                <a:lnTo>
                  <a:pt x="678" y="357"/>
                </a:lnTo>
                <a:lnTo>
                  <a:pt x="669" y="363"/>
                </a:lnTo>
                <a:lnTo>
                  <a:pt x="664" y="370"/>
                </a:lnTo>
                <a:lnTo>
                  <a:pt x="659" y="378"/>
                </a:lnTo>
                <a:lnTo>
                  <a:pt x="656" y="386"/>
                </a:lnTo>
                <a:lnTo>
                  <a:pt x="644" y="417"/>
                </a:lnTo>
                <a:lnTo>
                  <a:pt x="644" y="449"/>
                </a:lnTo>
                <a:lnTo>
                  <a:pt x="651" y="483"/>
                </a:lnTo>
                <a:lnTo>
                  <a:pt x="663" y="515"/>
                </a:lnTo>
                <a:lnTo>
                  <a:pt x="678" y="532"/>
                </a:lnTo>
                <a:lnTo>
                  <a:pt x="694" y="548"/>
                </a:lnTo>
                <a:lnTo>
                  <a:pt x="710" y="562"/>
                </a:lnTo>
                <a:lnTo>
                  <a:pt x="728" y="575"/>
                </a:lnTo>
                <a:lnTo>
                  <a:pt x="748" y="584"/>
                </a:lnTo>
                <a:lnTo>
                  <a:pt x="769" y="591"/>
                </a:lnTo>
                <a:lnTo>
                  <a:pt x="790" y="593"/>
                </a:lnTo>
                <a:lnTo>
                  <a:pt x="815" y="591"/>
                </a:lnTo>
                <a:lnTo>
                  <a:pt x="830" y="587"/>
                </a:lnTo>
                <a:lnTo>
                  <a:pt x="842" y="578"/>
                </a:lnTo>
                <a:lnTo>
                  <a:pt x="854" y="569"/>
                </a:lnTo>
                <a:lnTo>
                  <a:pt x="865" y="559"/>
                </a:lnTo>
                <a:lnTo>
                  <a:pt x="875" y="547"/>
                </a:lnTo>
                <a:lnTo>
                  <a:pt x="884" y="535"/>
                </a:lnTo>
                <a:lnTo>
                  <a:pt x="893" y="522"/>
                </a:lnTo>
                <a:lnTo>
                  <a:pt x="902" y="510"/>
                </a:lnTo>
                <a:lnTo>
                  <a:pt x="907" y="512"/>
                </a:lnTo>
                <a:lnTo>
                  <a:pt x="910" y="510"/>
                </a:lnTo>
                <a:lnTo>
                  <a:pt x="914" y="507"/>
                </a:lnTo>
                <a:lnTo>
                  <a:pt x="915" y="504"/>
                </a:lnTo>
                <a:lnTo>
                  <a:pt x="939" y="504"/>
                </a:lnTo>
                <a:lnTo>
                  <a:pt x="959" y="510"/>
                </a:lnTo>
                <a:lnTo>
                  <a:pt x="976" y="522"/>
                </a:lnTo>
                <a:lnTo>
                  <a:pt x="991" y="537"/>
                </a:lnTo>
                <a:lnTo>
                  <a:pt x="1004" y="555"/>
                </a:lnTo>
                <a:lnTo>
                  <a:pt x="1015" y="575"/>
                </a:lnTo>
                <a:lnTo>
                  <a:pt x="1027" y="595"/>
                </a:lnTo>
                <a:lnTo>
                  <a:pt x="1038" y="612"/>
                </a:lnTo>
                <a:lnTo>
                  <a:pt x="1042" y="623"/>
                </a:lnTo>
                <a:lnTo>
                  <a:pt x="1047" y="634"/>
                </a:lnTo>
                <a:lnTo>
                  <a:pt x="1053" y="645"/>
                </a:lnTo>
                <a:lnTo>
                  <a:pt x="1060" y="656"/>
                </a:lnTo>
                <a:lnTo>
                  <a:pt x="1066" y="666"/>
                </a:lnTo>
                <a:lnTo>
                  <a:pt x="1073" y="676"/>
                </a:lnTo>
                <a:lnTo>
                  <a:pt x="1077" y="688"/>
                </a:lnTo>
                <a:lnTo>
                  <a:pt x="1080" y="699"/>
                </a:lnTo>
                <a:lnTo>
                  <a:pt x="1067" y="703"/>
                </a:lnTo>
                <a:lnTo>
                  <a:pt x="1054" y="707"/>
                </a:lnTo>
                <a:lnTo>
                  <a:pt x="1043" y="713"/>
                </a:lnTo>
                <a:lnTo>
                  <a:pt x="1031" y="719"/>
                </a:lnTo>
                <a:lnTo>
                  <a:pt x="1020" y="726"/>
                </a:lnTo>
                <a:lnTo>
                  <a:pt x="1008" y="732"/>
                </a:lnTo>
                <a:lnTo>
                  <a:pt x="996" y="737"/>
                </a:lnTo>
                <a:lnTo>
                  <a:pt x="984" y="743"/>
                </a:lnTo>
                <a:lnTo>
                  <a:pt x="964" y="754"/>
                </a:lnTo>
                <a:lnTo>
                  <a:pt x="944" y="765"/>
                </a:lnTo>
                <a:lnTo>
                  <a:pt x="924" y="778"/>
                </a:lnTo>
                <a:lnTo>
                  <a:pt x="904" y="788"/>
                </a:lnTo>
                <a:lnTo>
                  <a:pt x="884" y="800"/>
                </a:lnTo>
                <a:lnTo>
                  <a:pt x="864" y="809"/>
                </a:lnTo>
                <a:lnTo>
                  <a:pt x="842" y="818"/>
                </a:lnTo>
                <a:lnTo>
                  <a:pt x="820" y="824"/>
                </a:lnTo>
                <a:lnTo>
                  <a:pt x="812" y="823"/>
                </a:lnTo>
                <a:lnTo>
                  <a:pt x="805" y="822"/>
                </a:lnTo>
                <a:lnTo>
                  <a:pt x="799" y="819"/>
                </a:lnTo>
                <a:lnTo>
                  <a:pt x="794" y="812"/>
                </a:lnTo>
                <a:lnTo>
                  <a:pt x="797" y="805"/>
                </a:lnTo>
                <a:lnTo>
                  <a:pt x="797" y="799"/>
                </a:lnTo>
                <a:lnTo>
                  <a:pt x="796" y="792"/>
                </a:lnTo>
                <a:lnTo>
                  <a:pt x="799" y="785"/>
                </a:lnTo>
                <a:lnTo>
                  <a:pt x="804" y="773"/>
                </a:lnTo>
                <a:lnTo>
                  <a:pt x="809" y="760"/>
                </a:lnTo>
                <a:lnTo>
                  <a:pt x="810" y="748"/>
                </a:lnTo>
                <a:lnTo>
                  <a:pt x="805" y="735"/>
                </a:lnTo>
                <a:lnTo>
                  <a:pt x="803" y="728"/>
                </a:lnTo>
                <a:lnTo>
                  <a:pt x="799" y="720"/>
                </a:lnTo>
                <a:lnTo>
                  <a:pt x="794" y="714"/>
                </a:lnTo>
                <a:lnTo>
                  <a:pt x="788" y="707"/>
                </a:lnTo>
                <a:lnTo>
                  <a:pt x="781" y="703"/>
                </a:lnTo>
                <a:lnTo>
                  <a:pt x="774" y="698"/>
                </a:lnTo>
                <a:lnTo>
                  <a:pt x="766" y="695"/>
                </a:lnTo>
                <a:lnTo>
                  <a:pt x="759" y="693"/>
                </a:lnTo>
                <a:lnTo>
                  <a:pt x="749" y="687"/>
                </a:lnTo>
                <a:lnTo>
                  <a:pt x="739" y="684"/>
                </a:lnTo>
                <a:lnTo>
                  <a:pt x="727" y="682"/>
                </a:lnTo>
                <a:lnTo>
                  <a:pt x="716" y="682"/>
                </a:lnTo>
                <a:lnTo>
                  <a:pt x="703" y="683"/>
                </a:lnTo>
                <a:lnTo>
                  <a:pt x="691" y="683"/>
                </a:lnTo>
                <a:lnTo>
                  <a:pt x="679" y="684"/>
                </a:lnTo>
                <a:lnTo>
                  <a:pt x="666" y="686"/>
                </a:lnTo>
                <a:lnTo>
                  <a:pt x="642" y="693"/>
                </a:lnTo>
                <a:lnTo>
                  <a:pt x="619" y="701"/>
                </a:lnTo>
                <a:lnTo>
                  <a:pt x="596" y="710"/>
                </a:lnTo>
                <a:lnTo>
                  <a:pt x="573" y="721"/>
                </a:lnTo>
                <a:lnTo>
                  <a:pt x="551" y="734"/>
                </a:lnTo>
                <a:lnTo>
                  <a:pt x="531" y="750"/>
                </a:lnTo>
                <a:lnTo>
                  <a:pt x="513" y="767"/>
                </a:lnTo>
                <a:lnTo>
                  <a:pt x="497" y="787"/>
                </a:lnTo>
                <a:lnTo>
                  <a:pt x="493" y="809"/>
                </a:lnTo>
                <a:lnTo>
                  <a:pt x="495" y="832"/>
                </a:lnTo>
                <a:lnTo>
                  <a:pt x="502" y="855"/>
                </a:lnTo>
                <a:lnTo>
                  <a:pt x="514" y="875"/>
                </a:lnTo>
                <a:lnTo>
                  <a:pt x="551" y="906"/>
                </a:lnTo>
                <a:lnTo>
                  <a:pt x="546" y="916"/>
                </a:lnTo>
                <a:lnTo>
                  <a:pt x="542" y="925"/>
                </a:lnTo>
                <a:lnTo>
                  <a:pt x="534" y="933"/>
                </a:lnTo>
                <a:lnTo>
                  <a:pt x="524" y="939"/>
                </a:lnTo>
                <a:lnTo>
                  <a:pt x="513" y="948"/>
                </a:lnTo>
                <a:lnTo>
                  <a:pt x="499" y="958"/>
                </a:lnTo>
                <a:lnTo>
                  <a:pt x="485" y="966"/>
                </a:lnTo>
                <a:lnTo>
                  <a:pt x="471" y="972"/>
                </a:lnTo>
                <a:lnTo>
                  <a:pt x="456" y="979"/>
                </a:lnTo>
                <a:lnTo>
                  <a:pt x="443" y="987"/>
                </a:lnTo>
                <a:lnTo>
                  <a:pt x="429" y="996"/>
                </a:lnTo>
                <a:lnTo>
                  <a:pt x="415" y="1005"/>
                </a:lnTo>
                <a:lnTo>
                  <a:pt x="407" y="1005"/>
                </a:lnTo>
                <a:lnTo>
                  <a:pt x="396" y="987"/>
                </a:lnTo>
                <a:lnTo>
                  <a:pt x="387" y="971"/>
                </a:lnTo>
                <a:lnTo>
                  <a:pt x="378" y="954"/>
                </a:lnTo>
                <a:lnTo>
                  <a:pt x="370" y="936"/>
                </a:lnTo>
                <a:lnTo>
                  <a:pt x="362" y="918"/>
                </a:lnTo>
                <a:lnTo>
                  <a:pt x="355" y="901"/>
                </a:lnTo>
                <a:lnTo>
                  <a:pt x="348" y="883"/>
                </a:lnTo>
                <a:lnTo>
                  <a:pt x="342" y="864"/>
                </a:lnTo>
                <a:lnTo>
                  <a:pt x="337" y="854"/>
                </a:lnTo>
                <a:lnTo>
                  <a:pt x="332" y="843"/>
                </a:lnTo>
                <a:lnTo>
                  <a:pt x="325" y="833"/>
                </a:lnTo>
                <a:lnTo>
                  <a:pt x="319" y="823"/>
                </a:lnTo>
                <a:lnTo>
                  <a:pt x="311" y="813"/>
                </a:lnTo>
                <a:lnTo>
                  <a:pt x="302" y="807"/>
                </a:lnTo>
                <a:lnTo>
                  <a:pt x="292" y="801"/>
                </a:lnTo>
                <a:lnTo>
                  <a:pt x="279" y="797"/>
                </a:lnTo>
                <a:lnTo>
                  <a:pt x="272" y="796"/>
                </a:lnTo>
                <a:lnTo>
                  <a:pt x="264" y="796"/>
                </a:lnTo>
                <a:lnTo>
                  <a:pt x="256" y="796"/>
                </a:lnTo>
                <a:lnTo>
                  <a:pt x="248" y="796"/>
                </a:lnTo>
                <a:lnTo>
                  <a:pt x="240" y="797"/>
                </a:lnTo>
                <a:lnTo>
                  <a:pt x="233" y="800"/>
                </a:lnTo>
                <a:lnTo>
                  <a:pt x="227" y="804"/>
                </a:lnTo>
                <a:lnTo>
                  <a:pt x="221" y="810"/>
                </a:lnTo>
                <a:lnTo>
                  <a:pt x="214" y="820"/>
                </a:lnTo>
                <a:lnTo>
                  <a:pt x="209" y="833"/>
                </a:lnTo>
                <a:lnTo>
                  <a:pt x="205" y="846"/>
                </a:lnTo>
                <a:lnTo>
                  <a:pt x="202" y="857"/>
                </a:lnTo>
                <a:lnTo>
                  <a:pt x="198" y="870"/>
                </a:lnTo>
                <a:lnTo>
                  <a:pt x="191" y="879"/>
                </a:lnTo>
                <a:lnTo>
                  <a:pt x="182" y="887"/>
                </a:lnTo>
                <a:lnTo>
                  <a:pt x="168" y="892"/>
                </a:lnTo>
                <a:lnTo>
                  <a:pt x="148" y="888"/>
                </a:lnTo>
                <a:lnTo>
                  <a:pt x="127" y="883"/>
                </a:lnTo>
                <a:lnTo>
                  <a:pt x="108" y="875"/>
                </a:lnTo>
                <a:lnTo>
                  <a:pt x="90" y="864"/>
                </a:lnTo>
                <a:lnTo>
                  <a:pt x="72" y="852"/>
                </a:lnTo>
                <a:lnTo>
                  <a:pt x="55" y="838"/>
                </a:lnTo>
                <a:lnTo>
                  <a:pt x="42" y="823"/>
                </a:lnTo>
                <a:lnTo>
                  <a:pt x="28" y="807"/>
                </a:lnTo>
                <a:lnTo>
                  <a:pt x="19" y="789"/>
                </a:lnTo>
                <a:lnTo>
                  <a:pt x="12" y="772"/>
                </a:lnTo>
                <a:lnTo>
                  <a:pt x="5" y="754"/>
                </a:lnTo>
                <a:lnTo>
                  <a:pt x="1" y="735"/>
                </a:lnTo>
                <a:lnTo>
                  <a:pt x="0" y="717"/>
                </a:lnTo>
                <a:lnTo>
                  <a:pt x="2" y="697"/>
                </a:lnTo>
                <a:lnTo>
                  <a:pt x="8" y="680"/>
                </a:lnTo>
                <a:lnTo>
                  <a:pt x="17" y="661"/>
                </a:lnTo>
                <a:lnTo>
                  <a:pt x="34" y="648"/>
                </a:lnTo>
                <a:lnTo>
                  <a:pt x="50" y="641"/>
                </a:lnTo>
                <a:lnTo>
                  <a:pt x="67" y="641"/>
                </a:lnTo>
                <a:lnTo>
                  <a:pt x="85" y="644"/>
                </a:lnTo>
                <a:lnTo>
                  <a:pt x="103" y="649"/>
                </a:lnTo>
                <a:lnTo>
                  <a:pt x="121" y="651"/>
                </a:lnTo>
                <a:lnTo>
                  <a:pt x="139" y="649"/>
                </a:lnTo>
                <a:lnTo>
                  <a:pt x="157" y="640"/>
                </a:lnTo>
                <a:lnTo>
                  <a:pt x="172" y="616"/>
                </a:lnTo>
                <a:lnTo>
                  <a:pt x="178" y="591"/>
                </a:lnTo>
                <a:lnTo>
                  <a:pt x="176" y="563"/>
                </a:lnTo>
                <a:lnTo>
                  <a:pt x="172" y="539"/>
                </a:lnTo>
                <a:lnTo>
                  <a:pt x="167" y="528"/>
                </a:lnTo>
                <a:lnTo>
                  <a:pt x="163" y="516"/>
                </a:lnTo>
                <a:lnTo>
                  <a:pt x="157" y="505"/>
                </a:lnTo>
                <a:lnTo>
                  <a:pt x="152" y="493"/>
                </a:lnTo>
                <a:lnTo>
                  <a:pt x="146" y="482"/>
                </a:lnTo>
                <a:lnTo>
                  <a:pt x="139" y="470"/>
                </a:lnTo>
                <a:lnTo>
                  <a:pt x="133" y="459"/>
                </a:lnTo>
                <a:lnTo>
                  <a:pt x="126" y="448"/>
                </a:lnTo>
                <a:lnTo>
                  <a:pt x="119" y="441"/>
                </a:lnTo>
                <a:lnTo>
                  <a:pt x="115" y="432"/>
                </a:lnTo>
                <a:lnTo>
                  <a:pt x="112" y="423"/>
                </a:lnTo>
                <a:lnTo>
                  <a:pt x="105" y="415"/>
                </a:lnTo>
                <a:lnTo>
                  <a:pt x="101" y="399"/>
                </a:lnTo>
                <a:lnTo>
                  <a:pt x="114" y="392"/>
                </a:lnTo>
                <a:lnTo>
                  <a:pt x="128" y="386"/>
                </a:lnTo>
                <a:lnTo>
                  <a:pt x="141" y="379"/>
                </a:lnTo>
                <a:lnTo>
                  <a:pt x="153" y="372"/>
                </a:lnTo>
                <a:lnTo>
                  <a:pt x="167" y="365"/>
                </a:lnTo>
                <a:lnTo>
                  <a:pt x="180" y="358"/>
                </a:lnTo>
                <a:lnTo>
                  <a:pt x="194" y="351"/>
                </a:lnTo>
                <a:lnTo>
                  <a:pt x="206" y="345"/>
                </a:lnTo>
                <a:lnTo>
                  <a:pt x="220" y="338"/>
                </a:lnTo>
                <a:lnTo>
                  <a:pt x="233" y="331"/>
                </a:lnTo>
                <a:lnTo>
                  <a:pt x="247" y="324"/>
                </a:lnTo>
                <a:lnTo>
                  <a:pt x="260" y="316"/>
                </a:lnTo>
                <a:lnTo>
                  <a:pt x="273" y="309"/>
                </a:lnTo>
                <a:lnTo>
                  <a:pt x="287" y="302"/>
                </a:lnTo>
                <a:lnTo>
                  <a:pt x="300" y="295"/>
                </a:lnTo>
                <a:lnTo>
                  <a:pt x="313" y="288"/>
                </a:lnTo>
                <a:lnTo>
                  <a:pt x="325" y="278"/>
                </a:lnTo>
                <a:lnTo>
                  <a:pt x="332" y="265"/>
                </a:lnTo>
                <a:lnTo>
                  <a:pt x="334" y="251"/>
                </a:lnTo>
                <a:lnTo>
                  <a:pt x="335" y="237"/>
                </a:lnTo>
                <a:lnTo>
                  <a:pt x="328" y="226"/>
                </a:lnTo>
                <a:lnTo>
                  <a:pt x="320" y="213"/>
                </a:lnTo>
                <a:lnTo>
                  <a:pt x="312" y="203"/>
                </a:lnTo>
                <a:lnTo>
                  <a:pt x="303" y="191"/>
                </a:lnTo>
                <a:lnTo>
                  <a:pt x="292" y="183"/>
                </a:lnTo>
                <a:lnTo>
                  <a:pt x="280" y="176"/>
                </a:lnTo>
                <a:lnTo>
                  <a:pt x="267" y="172"/>
                </a:lnTo>
                <a:lnTo>
                  <a:pt x="252" y="171"/>
                </a:lnTo>
                <a:lnTo>
                  <a:pt x="243" y="160"/>
                </a:lnTo>
                <a:lnTo>
                  <a:pt x="235" y="148"/>
                </a:lnTo>
                <a:lnTo>
                  <a:pt x="232" y="133"/>
                </a:lnTo>
                <a:lnTo>
                  <a:pt x="234" y="116"/>
                </a:lnTo>
                <a:lnTo>
                  <a:pt x="242" y="104"/>
                </a:lnTo>
                <a:lnTo>
                  <a:pt x="250" y="91"/>
                </a:lnTo>
                <a:lnTo>
                  <a:pt x="259" y="78"/>
                </a:lnTo>
                <a:lnTo>
                  <a:pt x="269" y="68"/>
                </a:lnTo>
                <a:lnTo>
                  <a:pt x="280" y="58"/>
                </a:lnTo>
                <a:lnTo>
                  <a:pt x="290" y="48"/>
                </a:lnTo>
                <a:lnTo>
                  <a:pt x="303" y="39"/>
                </a:lnTo>
                <a:lnTo>
                  <a:pt x="315" y="32"/>
                </a:lnTo>
                <a:lnTo>
                  <a:pt x="328" y="25"/>
                </a:lnTo>
                <a:lnTo>
                  <a:pt x="341" y="19"/>
                </a:lnTo>
                <a:lnTo>
                  <a:pt x="355" y="14"/>
                </a:lnTo>
                <a:lnTo>
                  <a:pt x="370" y="9"/>
                </a:lnTo>
                <a:lnTo>
                  <a:pt x="384" y="6"/>
                </a:lnTo>
                <a:lnTo>
                  <a:pt x="399" y="2"/>
                </a:lnTo>
                <a:lnTo>
                  <a:pt x="415" y="1"/>
                </a:lnTo>
                <a:lnTo>
                  <a:pt x="430" y="0"/>
                </a:lnTo>
                <a:lnTo>
                  <a:pt x="438" y="0"/>
                </a:lnTo>
                <a:lnTo>
                  <a:pt x="446" y="1"/>
                </a:lnTo>
                <a:lnTo>
                  <a:pt x="455" y="4"/>
                </a:lnTo>
                <a:lnTo>
                  <a:pt x="463" y="5"/>
                </a:lnTo>
                <a:lnTo>
                  <a:pt x="471" y="8"/>
                </a:lnTo>
                <a:lnTo>
                  <a:pt x="479" y="10"/>
                </a:lnTo>
                <a:lnTo>
                  <a:pt x="487" y="14"/>
                </a:lnTo>
                <a:lnTo>
                  <a:pt x="495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788080" y="2644920"/>
            <a:ext cx="14400" cy="9360"/>
          </a:xfrm>
          <a:custGeom>
            <a:avLst/>
            <a:gdLst/>
            <a:ahLst/>
            <a:rect l="l" t="t" r="r" b="b"/>
            <a:pathLst>
              <a:path w="65" h="40">
                <a:moveTo>
                  <a:pt x="65" y="25"/>
                </a:moveTo>
                <a:lnTo>
                  <a:pt x="62" y="30"/>
                </a:lnTo>
                <a:lnTo>
                  <a:pt x="60" y="35"/>
                </a:lnTo>
                <a:lnTo>
                  <a:pt x="57" y="37"/>
                </a:lnTo>
                <a:lnTo>
                  <a:pt x="52" y="40"/>
                </a:lnTo>
                <a:lnTo>
                  <a:pt x="44" y="38"/>
                </a:lnTo>
                <a:lnTo>
                  <a:pt x="36" y="35"/>
                </a:lnTo>
                <a:lnTo>
                  <a:pt x="27" y="32"/>
                </a:lnTo>
                <a:lnTo>
                  <a:pt x="19" y="29"/>
                </a:lnTo>
                <a:lnTo>
                  <a:pt x="11" y="24"/>
                </a:lnTo>
                <a:lnTo>
                  <a:pt x="5" y="18"/>
                </a:lnTo>
                <a:lnTo>
                  <a:pt x="1" y="10"/>
                </a:lnTo>
                <a:lnTo>
                  <a:pt x="0" y="0"/>
                </a:lnTo>
                <a:lnTo>
                  <a:pt x="7" y="6"/>
                </a:lnTo>
                <a:lnTo>
                  <a:pt x="14" y="10"/>
                </a:lnTo>
                <a:lnTo>
                  <a:pt x="22" y="14"/>
                </a:lnTo>
                <a:lnTo>
                  <a:pt x="31" y="16"/>
                </a:lnTo>
                <a:lnTo>
                  <a:pt x="39" y="18"/>
                </a:lnTo>
                <a:lnTo>
                  <a:pt x="47" y="20"/>
                </a:lnTo>
                <a:lnTo>
                  <a:pt x="57" y="22"/>
                </a:lnTo>
                <a:lnTo>
                  <a:pt x="65" y="2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832360" y="2646360"/>
            <a:ext cx="1800" cy="1440"/>
          </a:xfrm>
          <a:custGeom>
            <a:avLst/>
            <a:gdLst/>
            <a:ahLst/>
            <a:rect l="l" t="t" r="r" b="b"/>
            <a:pathLst>
              <a:path w="7" h="3">
                <a:moveTo>
                  <a:pt x="7" y="3"/>
                </a:moveTo>
                <a:lnTo>
                  <a:pt x="0" y="0"/>
                </a:lnTo>
                <a:lnTo>
                  <a:pt x="4" y="0"/>
                </a:lnTo>
                <a:lnTo>
                  <a:pt x="7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848200" y="2647800"/>
            <a:ext cx="5040" cy="3240"/>
          </a:xfrm>
          <a:custGeom>
            <a:avLst/>
            <a:gdLst/>
            <a:ahLst/>
            <a:rect l="l" t="t" r="r" b="b"/>
            <a:pathLst>
              <a:path w="23" h="12">
                <a:moveTo>
                  <a:pt x="23" y="5"/>
                </a:moveTo>
                <a:lnTo>
                  <a:pt x="19" y="7"/>
                </a:lnTo>
                <a:lnTo>
                  <a:pt x="14" y="9"/>
                </a:lnTo>
                <a:lnTo>
                  <a:pt x="8" y="10"/>
                </a:lnTo>
                <a:lnTo>
                  <a:pt x="2" y="12"/>
                </a:lnTo>
                <a:lnTo>
                  <a:pt x="0" y="8"/>
                </a:lnTo>
                <a:lnTo>
                  <a:pt x="1" y="3"/>
                </a:lnTo>
                <a:lnTo>
                  <a:pt x="4" y="1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21" y="1"/>
                </a:lnTo>
                <a:lnTo>
                  <a:pt x="23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870520" y="2647800"/>
            <a:ext cx="19080" cy="5040"/>
          </a:xfrm>
          <a:custGeom>
            <a:avLst/>
            <a:gdLst/>
            <a:ahLst/>
            <a:rect l="l" t="t" r="r" b="b"/>
            <a:pathLst>
              <a:path w="82" h="18">
                <a:moveTo>
                  <a:pt x="82" y="5"/>
                </a:moveTo>
                <a:lnTo>
                  <a:pt x="82" y="7"/>
                </a:lnTo>
                <a:lnTo>
                  <a:pt x="82" y="9"/>
                </a:lnTo>
                <a:lnTo>
                  <a:pt x="80" y="13"/>
                </a:lnTo>
                <a:lnTo>
                  <a:pt x="78" y="15"/>
                </a:lnTo>
                <a:lnTo>
                  <a:pt x="7" y="18"/>
                </a:lnTo>
                <a:lnTo>
                  <a:pt x="3" y="15"/>
                </a:lnTo>
                <a:lnTo>
                  <a:pt x="0" y="9"/>
                </a:lnTo>
                <a:lnTo>
                  <a:pt x="0" y="5"/>
                </a:lnTo>
                <a:lnTo>
                  <a:pt x="3" y="0"/>
                </a:lnTo>
                <a:lnTo>
                  <a:pt x="12" y="1"/>
                </a:lnTo>
                <a:lnTo>
                  <a:pt x="22" y="1"/>
                </a:lnTo>
                <a:lnTo>
                  <a:pt x="33" y="1"/>
                </a:lnTo>
                <a:lnTo>
                  <a:pt x="43" y="0"/>
                </a:lnTo>
                <a:lnTo>
                  <a:pt x="53" y="0"/>
                </a:lnTo>
                <a:lnTo>
                  <a:pt x="64" y="0"/>
                </a:lnTo>
                <a:lnTo>
                  <a:pt x="73" y="1"/>
                </a:lnTo>
                <a:lnTo>
                  <a:pt x="82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824440" y="2649600"/>
            <a:ext cx="3240" cy="324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0"/>
                </a:moveTo>
                <a:lnTo>
                  <a:pt x="14" y="5"/>
                </a:lnTo>
                <a:lnTo>
                  <a:pt x="11" y="7"/>
                </a:lnTo>
                <a:lnTo>
                  <a:pt x="5" y="8"/>
                </a:lnTo>
                <a:lnTo>
                  <a:pt x="0" y="8"/>
                </a:lnTo>
                <a:lnTo>
                  <a:pt x="1" y="4"/>
                </a:lnTo>
                <a:lnTo>
                  <a:pt x="6" y="1"/>
                </a:lnTo>
                <a:lnTo>
                  <a:pt x="12" y="0"/>
                </a:lnTo>
                <a:lnTo>
                  <a:pt x="16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37400" y="2654280"/>
            <a:ext cx="2880" cy="3240"/>
          </a:xfrm>
          <a:custGeom>
            <a:avLst/>
            <a:gdLst/>
            <a:ahLst/>
            <a:rect l="l" t="t" r="r" b="b"/>
            <a:pathLst>
              <a:path w="15" h="13">
                <a:moveTo>
                  <a:pt x="14" y="0"/>
                </a:moveTo>
                <a:lnTo>
                  <a:pt x="15" y="5"/>
                </a:lnTo>
                <a:lnTo>
                  <a:pt x="13" y="8"/>
                </a:lnTo>
                <a:lnTo>
                  <a:pt x="10" y="10"/>
                </a:lnTo>
                <a:lnTo>
                  <a:pt x="6" y="13"/>
                </a:lnTo>
                <a:lnTo>
                  <a:pt x="0" y="7"/>
                </a:lnTo>
                <a:lnTo>
                  <a:pt x="1" y="2"/>
                </a:lnTo>
                <a:lnTo>
                  <a:pt x="6" y="0"/>
                </a:lnTo>
                <a:lnTo>
                  <a:pt x="11" y="0"/>
                </a:lnTo>
                <a:lnTo>
                  <a:pt x="1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813280" y="2654280"/>
            <a:ext cx="5040" cy="3240"/>
          </a:xfrm>
          <a:custGeom>
            <a:avLst/>
            <a:gdLst/>
            <a:ahLst/>
            <a:rect l="l" t="t" r="r" b="b"/>
            <a:pathLst>
              <a:path w="17" h="13">
                <a:moveTo>
                  <a:pt x="16" y="0"/>
                </a:moveTo>
                <a:lnTo>
                  <a:pt x="17" y="5"/>
                </a:lnTo>
                <a:lnTo>
                  <a:pt x="15" y="8"/>
                </a:lnTo>
                <a:lnTo>
                  <a:pt x="13" y="10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2" y="11"/>
                </a:lnTo>
                <a:lnTo>
                  <a:pt x="0" y="10"/>
                </a:lnTo>
                <a:lnTo>
                  <a:pt x="3" y="7"/>
                </a:lnTo>
                <a:lnTo>
                  <a:pt x="7" y="3"/>
                </a:lnTo>
                <a:lnTo>
                  <a:pt x="11" y="1"/>
                </a:lnTo>
                <a:lnTo>
                  <a:pt x="16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870520" y="2655720"/>
            <a:ext cx="23760" cy="5040"/>
          </a:xfrm>
          <a:custGeom>
            <a:avLst/>
            <a:gdLst/>
            <a:ahLst/>
            <a:rect l="l" t="t" r="r" b="b"/>
            <a:pathLst>
              <a:path w="98" h="21">
                <a:moveTo>
                  <a:pt x="98" y="9"/>
                </a:moveTo>
                <a:lnTo>
                  <a:pt x="97" y="14"/>
                </a:lnTo>
                <a:lnTo>
                  <a:pt x="94" y="16"/>
                </a:lnTo>
                <a:lnTo>
                  <a:pt x="88" y="16"/>
                </a:lnTo>
                <a:lnTo>
                  <a:pt x="82" y="16"/>
                </a:lnTo>
                <a:lnTo>
                  <a:pt x="73" y="17"/>
                </a:lnTo>
                <a:lnTo>
                  <a:pt x="63" y="18"/>
                </a:lnTo>
                <a:lnTo>
                  <a:pt x="53" y="18"/>
                </a:lnTo>
                <a:lnTo>
                  <a:pt x="45" y="18"/>
                </a:lnTo>
                <a:lnTo>
                  <a:pt x="36" y="18"/>
                </a:lnTo>
                <a:lnTo>
                  <a:pt x="27" y="18"/>
                </a:lnTo>
                <a:lnTo>
                  <a:pt x="17" y="20"/>
                </a:lnTo>
                <a:lnTo>
                  <a:pt x="7" y="21"/>
                </a:lnTo>
                <a:lnTo>
                  <a:pt x="4" y="17"/>
                </a:lnTo>
                <a:lnTo>
                  <a:pt x="2" y="13"/>
                </a:lnTo>
                <a:lnTo>
                  <a:pt x="0" y="8"/>
                </a:lnTo>
                <a:lnTo>
                  <a:pt x="3" y="5"/>
                </a:lnTo>
                <a:lnTo>
                  <a:pt x="12" y="5"/>
                </a:lnTo>
                <a:lnTo>
                  <a:pt x="22" y="3"/>
                </a:lnTo>
                <a:lnTo>
                  <a:pt x="32" y="2"/>
                </a:lnTo>
                <a:lnTo>
                  <a:pt x="42" y="1"/>
                </a:lnTo>
                <a:lnTo>
                  <a:pt x="51" y="0"/>
                </a:lnTo>
                <a:lnTo>
                  <a:pt x="61" y="0"/>
                </a:lnTo>
                <a:lnTo>
                  <a:pt x="71" y="2"/>
                </a:lnTo>
                <a:lnTo>
                  <a:pt x="81" y="6"/>
                </a:lnTo>
                <a:lnTo>
                  <a:pt x="86" y="6"/>
                </a:lnTo>
                <a:lnTo>
                  <a:pt x="89" y="6"/>
                </a:lnTo>
                <a:lnTo>
                  <a:pt x="94" y="7"/>
                </a:lnTo>
                <a:lnTo>
                  <a:pt x="98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807160" y="2658960"/>
            <a:ext cx="3240" cy="180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3"/>
                </a:moveTo>
                <a:lnTo>
                  <a:pt x="9" y="6"/>
                </a:lnTo>
                <a:lnTo>
                  <a:pt x="7" y="8"/>
                </a:lnTo>
                <a:lnTo>
                  <a:pt x="3" y="10"/>
                </a:lnTo>
                <a:lnTo>
                  <a:pt x="0" y="11"/>
                </a:lnTo>
                <a:lnTo>
                  <a:pt x="0" y="7"/>
                </a:lnTo>
                <a:lnTo>
                  <a:pt x="1" y="5"/>
                </a:lnTo>
                <a:lnTo>
                  <a:pt x="5" y="4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0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827680" y="2658960"/>
            <a:ext cx="3240" cy="1800"/>
          </a:xfrm>
          <a:custGeom>
            <a:avLst/>
            <a:gdLst/>
            <a:ahLst/>
            <a:rect l="l" t="t" r="r" b="b"/>
            <a:pathLst>
              <a:path w="11" h="8">
                <a:moveTo>
                  <a:pt x="8" y="0"/>
                </a:moveTo>
                <a:lnTo>
                  <a:pt x="8" y="1"/>
                </a:lnTo>
                <a:lnTo>
                  <a:pt x="8" y="2"/>
                </a:lnTo>
                <a:lnTo>
                  <a:pt x="10" y="3"/>
                </a:lnTo>
                <a:lnTo>
                  <a:pt x="11" y="3"/>
                </a:lnTo>
                <a:lnTo>
                  <a:pt x="8" y="5"/>
                </a:lnTo>
                <a:lnTo>
                  <a:pt x="6" y="5"/>
                </a:lnTo>
                <a:lnTo>
                  <a:pt x="3" y="7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840280" y="2662200"/>
            <a:ext cx="6480" cy="3240"/>
          </a:xfrm>
          <a:custGeom>
            <a:avLst/>
            <a:gdLst/>
            <a:ahLst/>
            <a:rect l="l" t="t" r="r" b="b"/>
            <a:pathLst>
              <a:path w="21" h="13">
                <a:moveTo>
                  <a:pt x="21" y="6"/>
                </a:moveTo>
                <a:lnTo>
                  <a:pt x="18" y="10"/>
                </a:lnTo>
                <a:lnTo>
                  <a:pt x="12" y="11"/>
                </a:lnTo>
                <a:lnTo>
                  <a:pt x="7" y="11"/>
                </a:lnTo>
                <a:lnTo>
                  <a:pt x="3" y="13"/>
                </a:lnTo>
                <a:lnTo>
                  <a:pt x="0" y="6"/>
                </a:lnTo>
                <a:lnTo>
                  <a:pt x="6" y="4"/>
                </a:lnTo>
                <a:lnTo>
                  <a:pt x="13" y="0"/>
                </a:lnTo>
                <a:lnTo>
                  <a:pt x="18" y="0"/>
                </a:lnTo>
                <a:lnTo>
                  <a:pt x="2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818320" y="2664000"/>
            <a:ext cx="4680" cy="2880"/>
          </a:xfrm>
          <a:custGeom>
            <a:avLst/>
            <a:gdLst/>
            <a:ahLst/>
            <a:rect l="l" t="t" r="r" b="b"/>
            <a:pathLst>
              <a:path w="17" h="12">
                <a:moveTo>
                  <a:pt x="17" y="2"/>
                </a:moveTo>
                <a:lnTo>
                  <a:pt x="5" y="12"/>
                </a:lnTo>
                <a:lnTo>
                  <a:pt x="0" y="8"/>
                </a:lnTo>
                <a:lnTo>
                  <a:pt x="3" y="5"/>
                </a:lnTo>
                <a:lnTo>
                  <a:pt x="7" y="1"/>
                </a:lnTo>
                <a:lnTo>
                  <a:pt x="13" y="0"/>
                </a:lnTo>
                <a:lnTo>
                  <a:pt x="17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869080" y="2666880"/>
            <a:ext cx="20520" cy="3240"/>
          </a:xfrm>
          <a:custGeom>
            <a:avLst/>
            <a:gdLst/>
            <a:ahLst/>
            <a:rect l="l" t="t" r="r" b="b"/>
            <a:pathLst>
              <a:path w="91" h="15">
                <a:moveTo>
                  <a:pt x="91" y="4"/>
                </a:moveTo>
                <a:lnTo>
                  <a:pt x="91" y="11"/>
                </a:lnTo>
                <a:lnTo>
                  <a:pt x="80" y="12"/>
                </a:lnTo>
                <a:lnTo>
                  <a:pt x="68" y="14"/>
                </a:lnTo>
                <a:lnTo>
                  <a:pt x="57" y="14"/>
                </a:lnTo>
                <a:lnTo>
                  <a:pt x="45" y="15"/>
                </a:lnTo>
                <a:lnTo>
                  <a:pt x="34" y="15"/>
                </a:lnTo>
                <a:lnTo>
                  <a:pt x="23" y="15"/>
                </a:lnTo>
                <a:lnTo>
                  <a:pt x="12" y="15"/>
                </a:lnTo>
                <a:lnTo>
                  <a:pt x="1" y="14"/>
                </a:lnTo>
                <a:lnTo>
                  <a:pt x="0" y="10"/>
                </a:lnTo>
                <a:lnTo>
                  <a:pt x="3" y="5"/>
                </a:lnTo>
                <a:lnTo>
                  <a:pt x="7" y="1"/>
                </a:lnTo>
                <a:lnTo>
                  <a:pt x="12" y="0"/>
                </a:lnTo>
                <a:lnTo>
                  <a:pt x="22" y="0"/>
                </a:lnTo>
                <a:lnTo>
                  <a:pt x="32" y="0"/>
                </a:lnTo>
                <a:lnTo>
                  <a:pt x="43" y="0"/>
                </a:lnTo>
                <a:lnTo>
                  <a:pt x="53" y="0"/>
                </a:lnTo>
                <a:lnTo>
                  <a:pt x="62" y="0"/>
                </a:lnTo>
                <a:lnTo>
                  <a:pt x="73" y="0"/>
                </a:lnTo>
                <a:lnTo>
                  <a:pt x="82" y="1"/>
                </a:lnTo>
                <a:lnTo>
                  <a:pt x="9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830920" y="2666880"/>
            <a:ext cx="4680" cy="5040"/>
          </a:xfrm>
          <a:custGeom>
            <a:avLst/>
            <a:gdLst/>
            <a:ahLst/>
            <a:rect l="l" t="t" r="r" b="b"/>
            <a:pathLst>
              <a:path w="16" h="14">
                <a:moveTo>
                  <a:pt x="16" y="8"/>
                </a:moveTo>
                <a:lnTo>
                  <a:pt x="12" y="9"/>
                </a:lnTo>
                <a:lnTo>
                  <a:pt x="8" y="11"/>
                </a:lnTo>
                <a:lnTo>
                  <a:pt x="5" y="14"/>
                </a:lnTo>
                <a:lnTo>
                  <a:pt x="0" y="12"/>
                </a:lnTo>
                <a:lnTo>
                  <a:pt x="13" y="0"/>
                </a:lnTo>
                <a:lnTo>
                  <a:pt x="14" y="2"/>
                </a:lnTo>
                <a:lnTo>
                  <a:pt x="16" y="3"/>
                </a:lnTo>
                <a:lnTo>
                  <a:pt x="16" y="6"/>
                </a:lnTo>
                <a:lnTo>
                  <a:pt x="16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810400" y="2668680"/>
            <a:ext cx="2880" cy="1440"/>
          </a:xfrm>
          <a:custGeom>
            <a:avLst/>
            <a:gdLst/>
            <a:ahLst/>
            <a:rect l="l" t="t" r="r" b="b"/>
            <a:pathLst>
              <a:path w="19" h="10">
                <a:moveTo>
                  <a:pt x="19" y="2"/>
                </a:moveTo>
                <a:lnTo>
                  <a:pt x="15" y="6"/>
                </a:lnTo>
                <a:lnTo>
                  <a:pt x="12" y="8"/>
                </a:lnTo>
                <a:lnTo>
                  <a:pt x="7" y="9"/>
                </a:lnTo>
                <a:lnTo>
                  <a:pt x="4" y="10"/>
                </a:lnTo>
                <a:lnTo>
                  <a:pt x="0" y="8"/>
                </a:lnTo>
                <a:lnTo>
                  <a:pt x="4" y="6"/>
                </a:lnTo>
                <a:lnTo>
                  <a:pt x="8" y="1"/>
                </a:lnTo>
                <a:lnTo>
                  <a:pt x="13" y="0"/>
                </a:lnTo>
                <a:lnTo>
                  <a:pt x="19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935680" y="2673360"/>
            <a:ext cx="17280" cy="4680"/>
          </a:xfrm>
          <a:custGeom>
            <a:avLst/>
            <a:gdLst/>
            <a:ahLst/>
            <a:rect l="l" t="t" r="r" b="b"/>
            <a:pathLst>
              <a:path w="73" h="17">
                <a:moveTo>
                  <a:pt x="73" y="13"/>
                </a:moveTo>
                <a:lnTo>
                  <a:pt x="64" y="15"/>
                </a:lnTo>
                <a:lnTo>
                  <a:pt x="54" y="16"/>
                </a:lnTo>
                <a:lnTo>
                  <a:pt x="45" y="17"/>
                </a:lnTo>
                <a:lnTo>
                  <a:pt x="36" y="17"/>
                </a:lnTo>
                <a:lnTo>
                  <a:pt x="27" y="17"/>
                </a:lnTo>
                <a:lnTo>
                  <a:pt x="18" y="16"/>
                </a:lnTo>
                <a:lnTo>
                  <a:pt x="8" y="13"/>
                </a:lnTo>
                <a:lnTo>
                  <a:pt x="0" y="9"/>
                </a:lnTo>
                <a:lnTo>
                  <a:pt x="0" y="2"/>
                </a:lnTo>
                <a:lnTo>
                  <a:pt x="8" y="1"/>
                </a:lnTo>
                <a:lnTo>
                  <a:pt x="16" y="0"/>
                </a:lnTo>
                <a:lnTo>
                  <a:pt x="25" y="0"/>
                </a:lnTo>
                <a:lnTo>
                  <a:pt x="33" y="1"/>
                </a:lnTo>
                <a:lnTo>
                  <a:pt x="41" y="2"/>
                </a:lnTo>
                <a:lnTo>
                  <a:pt x="49" y="4"/>
                </a:lnTo>
                <a:lnTo>
                  <a:pt x="57" y="5"/>
                </a:lnTo>
                <a:lnTo>
                  <a:pt x="65" y="5"/>
                </a:lnTo>
                <a:lnTo>
                  <a:pt x="73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800680" y="2673360"/>
            <a:ext cx="4680" cy="468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17"/>
                </a:moveTo>
                <a:lnTo>
                  <a:pt x="2" y="16"/>
                </a:lnTo>
                <a:lnTo>
                  <a:pt x="1" y="13"/>
                </a:lnTo>
                <a:lnTo>
                  <a:pt x="0" y="11"/>
                </a:lnTo>
                <a:lnTo>
                  <a:pt x="2" y="7"/>
                </a:lnTo>
                <a:lnTo>
                  <a:pt x="5" y="6"/>
                </a:lnTo>
                <a:lnTo>
                  <a:pt x="9" y="5"/>
                </a:lnTo>
                <a:lnTo>
                  <a:pt x="14" y="2"/>
                </a:lnTo>
                <a:lnTo>
                  <a:pt x="17" y="0"/>
                </a:lnTo>
                <a:lnTo>
                  <a:pt x="3" y="1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823000" y="2673360"/>
            <a:ext cx="3240" cy="3240"/>
          </a:xfrm>
          <a:custGeom>
            <a:avLst/>
            <a:gdLst/>
            <a:ahLst/>
            <a:rect l="l" t="t" r="r" b="b"/>
            <a:pathLst>
              <a:path w="16" h="13">
                <a:moveTo>
                  <a:pt x="16" y="2"/>
                </a:moveTo>
                <a:lnTo>
                  <a:pt x="15" y="6"/>
                </a:lnTo>
                <a:lnTo>
                  <a:pt x="11" y="9"/>
                </a:lnTo>
                <a:lnTo>
                  <a:pt x="6" y="12"/>
                </a:lnTo>
                <a:lnTo>
                  <a:pt x="2" y="13"/>
                </a:lnTo>
                <a:lnTo>
                  <a:pt x="0" y="8"/>
                </a:lnTo>
                <a:lnTo>
                  <a:pt x="2" y="6"/>
                </a:lnTo>
                <a:lnTo>
                  <a:pt x="8" y="4"/>
                </a:lnTo>
                <a:lnTo>
                  <a:pt x="12" y="0"/>
                </a:lnTo>
                <a:lnTo>
                  <a:pt x="13" y="0"/>
                </a:lnTo>
                <a:lnTo>
                  <a:pt x="15" y="1"/>
                </a:lnTo>
                <a:lnTo>
                  <a:pt x="15" y="1"/>
                </a:lnTo>
                <a:lnTo>
                  <a:pt x="16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46760" y="2674800"/>
            <a:ext cx="1440" cy="1800"/>
          </a:xfrm>
          <a:custGeom>
            <a:avLst/>
            <a:gdLst/>
            <a:ahLst/>
            <a:rect l="l" t="t" r="r" b="b"/>
            <a:pathLst>
              <a:path w="14" h="8">
                <a:moveTo>
                  <a:pt x="14" y="2"/>
                </a:moveTo>
                <a:lnTo>
                  <a:pt x="12" y="6"/>
                </a:lnTo>
                <a:lnTo>
                  <a:pt x="8" y="8"/>
                </a:lnTo>
                <a:lnTo>
                  <a:pt x="5" y="8"/>
                </a:lnTo>
                <a:lnTo>
                  <a:pt x="0" y="8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  <a:lnTo>
                  <a:pt x="10" y="0"/>
                </a:lnTo>
                <a:lnTo>
                  <a:pt x="1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872320" y="2674800"/>
            <a:ext cx="10800" cy="5040"/>
          </a:xfrm>
          <a:custGeom>
            <a:avLst/>
            <a:gdLst/>
            <a:ahLst/>
            <a:rect l="l" t="t" r="r" b="b"/>
            <a:pathLst>
              <a:path w="49" h="15">
                <a:moveTo>
                  <a:pt x="49" y="4"/>
                </a:moveTo>
                <a:lnTo>
                  <a:pt x="49" y="11"/>
                </a:lnTo>
                <a:lnTo>
                  <a:pt x="42" y="11"/>
                </a:lnTo>
                <a:lnTo>
                  <a:pt x="35" y="12"/>
                </a:lnTo>
                <a:lnTo>
                  <a:pt x="28" y="13"/>
                </a:lnTo>
                <a:lnTo>
                  <a:pt x="21" y="15"/>
                </a:lnTo>
                <a:lnTo>
                  <a:pt x="14" y="15"/>
                </a:lnTo>
                <a:lnTo>
                  <a:pt x="8" y="13"/>
                </a:lnTo>
                <a:lnTo>
                  <a:pt x="4" y="10"/>
                </a:lnTo>
                <a:lnTo>
                  <a:pt x="0" y="4"/>
                </a:lnTo>
                <a:lnTo>
                  <a:pt x="6" y="4"/>
                </a:lnTo>
                <a:lnTo>
                  <a:pt x="13" y="3"/>
                </a:lnTo>
                <a:lnTo>
                  <a:pt x="19" y="2"/>
                </a:lnTo>
                <a:lnTo>
                  <a:pt x="26" y="1"/>
                </a:lnTo>
                <a:lnTo>
                  <a:pt x="31" y="0"/>
                </a:lnTo>
                <a:lnTo>
                  <a:pt x="37" y="1"/>
                </a:lnTo>
                <a:lnTo>
                  <a:pt x="43" y="2"/>
                </a:lnTo>
                <a:lnTo>
                  <a:pt x="49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813280" y="2678040"/>
            <a:ext cx="5040" cy="3240"/>
          </a:xfrm>
          <a:custGeom>
            <a:avLst/>
            <a:gdLst/>
            <a:ahLst/>
            <a:rect l="l" t="t" r="r" b="b"/>
            <a:pathLst>
              <a:path w="24" h="12">
                <a:moveTo>
                  <a:pt x="24" y="0"/>
                </a:moveTo>
                <a:lnTo>
                  <a:pt x="20" y="4"/>
                </a:lnTo>
                <a:lnTo>
                  <a:pt x="14" y="8"/>
                </a:lnTo>
                <a:lnTo>
                  <a:pt x="7" y="11"/>
                </a:lnTo>
                <a:lnTo>
                  <a:pt x="0" y="12"/>
                </a:lnTo>
                <a:lnTo>
                  <a:pt x="5" y="8"/>
                </a:lnTo>
                <a:lnTo>
                  <a:pt x="11" y="3"/>
                </a:lnTo>
                <a:lnTo>
                  <a:pt x="18" y="1"/>
                </a:lnTo>
                <a:lnTo>
                  <a:pt x="2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837400" y="2678040"/>
            <a:ext cx="2880" cy="32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6" y="2"/>
                </a:moveTo>
                <a:lnTo>
                  <a:pt x="14" y="6"/>
                </a:lnTo>
                <a:lnTo>
                  <a:pt x="10" y="8"/>
                </a:lnTo>
                <a:lnTo>
                  <a:pt x="6" y="9"/>
                </a:lnTo>
                <a:lnTo>
                  <a:pt x="2" y="10"/>
                </a:lnTo>
                <a:lnTo>
                  <a:pt x="0" y="3"/>
                </a:lnTo>
                <a:lnTo>
                  <a:pt x="5" y="2"/>
                </a:lnTo>
                <a:lnTo>
                  <a:pt x="8" y="0"/>
                </a:lnTo>
                <a:lnTo>
                  <a:pt x="12" y="0"/>
                </a:lnTo>
                <a:lnTo>
                  <a:pt x="16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10120" y="2679840"/>
            <a:ext cx="7920" cy="4680"/>
          </a:xfrm>
          <a:custGeom>
            <a:avLst/>
            <a:gdLst/>
            <a:ahLst/>
            <a:rect l="l" t="t" r="r" b="b"/>
            <a:pathLst>
              <a:path w="31" h="16">
                <a:moveTo>
                  <a:pt x="31" y="6"/>
                </a:moveTo>
                <a:lnTo>
                  <a:pt x="23" y="8"/>
                </a:lnTo>
                <a:lnTo>
                  <a:pt x="15" y="11"/>
                </a:lnTo>
                <a:lnTo>
                  <a:pt x="8" y="16"/>
                </a:lnTo>
                <a:lnTo>
                  <a:pt x="0" y="15"/>
                </a:lnTo>
                <a:lnTo>
                  <a:pt x="6" y="8"/>
                </a:lnTo>
                <a:lnTo>
                  <a:pt x="14" y="3"/>
                </a:lnTo>
                <a:lnTo>
                  <a:pt x="22" y="1"/>
                </a:lnTo>
                <a:lnTo>
                  <a:pt x="31" y="0"/>
                </a:lnTo>
                <a:lnTo>
                  <a:pt x="3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826240" y="2682720"/>
            <a:ext cx="6120" cy="3240"/>
          </a:xfrm>
          <a:custGeom>
            <a:avLst/>
            <a:gdLst/>
            <a:ahLst/>
            <a:rect l="l" t="t" r="r" b="b"/>
            <a:pathLst>
              <a:path w="23" h="11">
                <a:moveTo>
                  <a:pt x="23" y="2"/>
                </a:moveTo>
                <a:lnTo>
                  <a:pt x="18" y="6"/>
                </a:lnTo>
                <a:lnTo>
                  <a:pt x="14" y="9"/>
                </a:lnTo>
                <a:lnTo>
                  <a:pt x="8" y="11"/>
                </a:lnTo>
                <a:lnTo>
                  <a:pt x="2" y="11"/>
                </a:lnTo>
                <a:lnTo>
                  <a:pt x="2" y="10"/>
                </a:lnTo>
                <a:lnTo>
                  <a:pt x="2" y="9"/>
                </a:lnTo>
                <a:lnTo>
                  <a:pt x="1" y="8"/>
                </a:lnTo>
                <a:lnTo>
                  <a:pt x="0" y="7"/>
                </a:lnTo>
                <a:lnTo>
                  <a:pt x="5" y="3"/>
                </a:lnTo>
                <a:lnTo>
                  <a:pt x="11" y="1"/>
                </a:lnTo>
                <a:lnTo>
                  <a:pt x="17" y="0"/>
                </a:lnTo>
                <a:lnTo>
                  <a:pt x="23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942160" y="2682720"/>
            <a:ext cx="17280" cy="5040"/>
          </a:xfrm>
          <a:custGeom>
            <a:avLst/>
            <a:gdLst/>
            <a:ahLst/>
            <a:rect l="l" t="t" r="r" b="b"/>
            <a:pathLst>
              <a:path w="71" h="18">
                <a:moveTo>
                  <a:pt x="65" y="2"/>
                </a:moveTo>
                <a:lnTo>
                  <a:pt x="68" y="4"/>
                </a:lnTo>
                <a:lnTo>
                  <a:pt x="70" y="6"/>
                </a:lnTo>
                <a:lnTo>
                  <a:pt x="70" y="10"/>
                </a:lnTo>
                <a:lnTo>
                  <a:pt x="71" y="12"/>
                </a:lnTo>
                <a:lnTo>
                  <a:pt x="62" y="13"/>
                </a:lnTo>
                <a:lnTo>
                  <a:pt x="53" y="16"/>
                </a:lnTo>
                <a:lnTo>
                  <a:pt x="44" y="17"/>
                </a:lnTo>
                <a:lnTo>
                  <a:pt x="33" y="18"/>
                </a:lnTo>
                <a:lnTo>
                  <a:pt x="24" y="18"/>
                </a:lnTo>
                <a:lnTo>
                  <a:pt x="16" y="18"/>
                </a:lnTo>
                <a:lnTo>
                  <a:pt x="8" y="16"/>
                </a:lnTo>
                <a:lnTo>
                  <a:pt x="1" y="12"/>
                </a:lnTo>
                <a:lnTo>
                  <a:pt x="0" y="8"/>
                </a:lnTo>
                <a:lnTo>
                  <a:pt x="2" y="4"/>
                </a:lnTo>
                <a:lnTo>
                  <a:pt x="6" y="2"/>
                </a:lnTo>
                <a:lnTo>
                  <a:pt x="9" y="0"/>
                </a:lnTo>
                <a:lnTo>
                  <a:pt x="16" y="0"/>
                </a:lnTo>
                <a:lnTo>
                  <a:pt x="23" y="1"/>
                </a:lnTo>
                <a:lnTo>
                  <a:pt x="30" y="2"/>
                </a:lnTo>
                <a:lnTo>
                  <a:pt x="37" y="2"/>
                </a:lnTo>
                <a:lnTo>
                  <a:pt x="44" y="3"/>
                </a:lnTo>
                <a:lnTo>
                  <a:pt x="51" y="3"/>
                </a:lnTo>
                <a:lnTo>
                  <a:pt x="59" y="3"/>
                </a:lnTo>
                <a:lnTo>
                  <a:pt x="65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899320" y="2685960"/>
            <a:ext cx="7920" cy="4680"/>
          </a:xfrm>
          <a:custGeom>
            <a:avLst/>
            <a:gdLst/>
            <a:ahLst/>
            <a:rect l="l" t="t" r="r" b="b"/>
            <a:pathLst>
              <a:path w="38" h="19">
                <a:moveTo>
                  <a:pt x="8" y="18"/>
                </a:moveTo>
                <a:lnTo>
                  <a:pt x="5" y="18"/>
                </a:lnTo>
                <a:lnTo>
                  <a:pt x="3" y="19"/>
                </a:lnTo>
                <a:lnTo>
                  <a:pt x="1" y="18"/>
                </a:lnTo>
                <a:lnTo>
                  <a:pt x="0" y="17"/>
                </a:lnTo>
                <a:lnTo>
                  <a:pt x="3" y="13"/>
                </a:lnTo>
                <a:lnTo>
                  <a:pt x="8" y="10"/>
                </a:lnTo>
                <a:lnTo>
                  <a:pt x="12" y="7"/>
                </a:lnTo>
                <a:lnTo>
                  <a:pt x="18" y="5"/>
                </a:lnTo>
                <a:lnTo>
                  <a:pt x="23" y="3"/>
                </a:lnTo>
                <a:lnTo>
                  <a:pt x="28" y="2"/>
                </a:lnTo>
                <a:lnTo>
                  <a:pt x="33" y="0"/>
                </a:lnTo>
                <a:lnTo>
                  <a:pt x="38" y="0"/>
                </a:lnTo>
                <a:lnTo>
                  <a:pt x="34" y="8"/>
                </a:lnTo>
                <a:lnTo>
                  <a:pt x="26" y="12"/>
                </a:lnTo>
                <a:lnTo>
                  <a:pt x="16" y="14"/>
                </a:lnTo>
                <a:lnTo>
                  <a:pt x="8" y="1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848200" y="2684520"/>
            <a:ext cx="6480" cy="3240"/>
          </a:xfrm>
          <a:custGeom>
            <a:avLst/>
            <a:gdLst/>
            <a:ahLst/>
            <a:rect l="l" t="t" r="r" b="b"/>
            <a:pathLst>
              <a:path w="24" h="8">
                <a:moveTo>
                  <a:pt x="24" y="1"/>
                </a:moveTo>
                <a:lnTo>
                  <a:pt x="20" y="5"/>
                </a:lnTo>
                <a:lnTo>
                  <a:pt x="15" y="6"/>
                </a:lnTo>
                <a:lnTo>
                  <a:pt x="8" y="7"/>
                </a:lnTo>
                <a:lnTo>
                  <a:pt x="2" y="8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5" y="4"/>
                </a:lnTo>
                <a:lnTo>
                  <a:pt x="11" y="1"/>
                </a:lnTo>
                <a:lnTo>
                  <a:pt x="17" y="0"/>
                </a:lnTo>
                <a:lnTo>
                  <a:pt x="24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92760" y="2687760"/>
            <a:ext cx="11160" cy="936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37"/>
                </a:moveTo>
                <a:lnTo>
                  <a:pt x="44" y="41"/>
                </a:lnTo>
                <a:lnTo>
                  <a:pt x="38" y="42"/>
                </a:lnTo>
                <a:lnTo>
                  <a:pt x="33" y="42"/>
                </a:lnTo>
                <a:lnTo>
                  <a:pt x="28" y="42"/>
                </a:lnTo>
                <a:lnTo>
                  <a:pt x="23" y="41"/>
                </a:lnTo>
                <a:lnTo>
                  <a:pt x="17" y="39"/>
                </a:lnTo>
                <a:lnTo>
                  <a:pt x="12" y="39"/>
                </a:lnTo>
                <a:lnTo>
                  <a:pt x="6" y="41"/>
                </a:lnTo>
                <a:lnTo>
                  <a:pt x="2" y="31"/>
                </a:lnTo>
                <a:lnTo>
                  <a:pt x="0" y="22"/>
                </a:lnTo>
                <a:lnTo>
                  <a:pt x="0" y="11"/>
                </a:lnTo>
                <a:lnTo>
                  <a:pt x="2" y="0"/>
                </a:lnTo>
                <a:lnTo>
                  <a:pt x="10" y="2"/>
                </a:lnTo>
                <a:lnTo>
                  <a:pt x="16" y="7"/>
                </a:lnTo>
                <a:lnTo>
                  <a:pt x="21" y="13"/>
                </a:lnTo>
                <a:lnTo>
                  <a:pt x="24" y="20"/>
                </a:lnTo>
                <a:lnTo>
                  <a:pt x="28" y="27"/>
                </a:lnTo>
                <a:lnTo>
                  <a:pt x="32" y="32"/>
                </a:lnTo>
                <a:lnTo>
                  <a:pt x="39" y="37"/>
                </a:lnTo>
                <a:lnTo>
                  <a:pt x="48" y="3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821200" y="2687760"/>
            <a:ext cx="1800" cy="144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4"/>
                </a:moveTo>
                <a:lnTo>
                  <a:pt x="9" y="6"/>
                </a:lnTo>
                <a:lnTo>
                  <a:pt x="8" y="7"/>
                </a:lnTo>
                <a:lnTo>
                  <a:pt x="5" y="10"/>
                </a:lnTo>
                <a:lnTo>
                  <a:pt x="3" y="11"/>
                </a:lnTo>
                <a:lnTo>
                  <a:pt x="1" y="10"/>
                </a:lnTo>
                <a:lnTo>
                  <a:pt x="0" y="7"/>
                </a:lnTo>
                <a:lnTo>
                  <a:pt x="0" y="4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1"/>
                </a:lnTo>
                <a:lnTo>
                  <a:pt x="10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840280" y="2687760"/>
            <a:ext cx="6480" cy="2880"/>
          </a:xfrm>
          <a:custGeom>
            <a:avLst/>
            <a:gdLst/>
            <a:ahLst/>
            <a:rect l="l" t="t" r="r" b="b"/>
            <a:pathLst>
              <a:path w="20" h="10">
                <a:moveTo>
                  <a:pt x="20" y="0"/>
                </a:moveTo>
                <a:lnTo>
                  <a:pt x="18" y="3"/>
                </a:lnTo>
                <a:lnTo>
                  <a:pt x="14" y="7"/>
                </a:lnTo>
                <a:lnTo>
                  <a:pt x="10" y="9"/>
                </a:lnTo>
                <a:lnTo>
                  <a:pt x="5" y="10"/>
                </a:lnTo>
                <a:lnTo>
                  <a:pt x="0" y="10"/>
                </a:lnTo>
                <a:lnTo>
                  <a:pt x="3" y="6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884920" y="2690640"/>
            <a:ext cx="9360" cy="5040"/>
          </a:xfrm>
          <a:custGeom>
            <a:avLst/>
            <a:gdLst/>
            <a:ahLst/>
            <a:rect l="l" t="t" r="r" b="b"/>
            <a:pathLst>
              <a:path w="40" h="21">
                <a:moveTo>
                  <a:pt x="40" y="8"/>
                </a:moveTo>
                <a:lnTo>
                  <a:pt x="35" y="10"/>
                </a:lnTo>
                <a:lnTo>
                  <a:pt x="31" y="11"/>
                </a:lnTo>
                <a:lnTo>
                  <a:pt x="27" y="14"/>
                </a:lnTo>
                <a:lnTo>
                  <a:pt x="23" y="16"/>
                </a:lnTo>
                <a:lnTo>
                  <a:pt x="18" y="18"/>
                </a:lnTo>
                <a:lnTo>
                  <a:pt x="13" y="19"/>
                </a:lnTo>
                <a:lnTo>
                  <a:pt x="8" y="21"/>
                </a:lnTo>
                <a:lnTo>
                  <a:pt x="3" y="21"/>
                </a:lnTo>
                <a:lnTo>
                  <a:pt x="0" y="13"/>
                </a:lnTo>
                <a:lnTo>
                  <a:pt x="5" y="10"/>
                </a:lnTo>
                <a:lnTo>
                  <a:pt x="11" y="8"/>
                </a:lnTo>
                <a:lnTo>
                  <a:pt x="18" y="4"/>
                </a:lnTo>
                <a:lnTo>
                  <a:pt x="24" y="1"/>
                </a:lnTo>
                <a:lnTo>
                  <a:pt x="30" y="0"/>
                </a:lnTo>
                <a:lnTo>
                  <a:pt x="34" y="0"/>
                </a:lnTo>
                <a:lnTo>
                  <a:pt x="38" y="2"/>
                </a:lnTo>
                <a:lnTo>
                  <a:pt x="40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13360" y="2690640"/>
            <a:ext cx="9720" cy="5040"/>
          </a:xfrm>
          <a:custGeom>
            <a:avLst/>
            <a:gdLst/>
            <a:ahLst/>
            <a:rect l="l" t="t" r="r" b="b"/>
            <a:pathLst>
              <a:path w="40" h="22">
                <a:moveTo>
                  <a:pt x="39" y="6"/>
                </a:moveTo>
                <a:lnTo>
                  <a:pt x="40" y="10"/>
                </a:lnTo>
                <a:lnTo>
                  <a:pt x="38" y="14"/>
                </a:lnTo>
                <a:lnTo>
                  <a:pt x="36" y="17"/>
                </a:lnTo>
                <a:lnTo>
                  <a:pt x="32" y="18"/>
                </a:lnTo>
                <a:lnTo>
                  <a:pt x="22" y="17"/>
                </a:lnTo>
                <a:lnTo>
                  <a:pt x="12" y="21"/>
                </a:lnTo>
                <a:lnTo>
                  <a:pt x="4" y="22"/>
                </a:lnTo>
                <a:lnTo>
                  <a:pt x="0" y="13"/>
                </a:lnTo>
                <a:lnTo>
                  <a:pt x="6" y="10"/>
                </a:lnTo>
                <a:lnTo>
                  <a:pt x="11" y="7"/>
                </a:lnTo>
                <a:lnTo>
                  <a:pt x="16" y="3"/>
                </a:lnTo>
                <a:lnTo>
                  <a:pt x="21" y="1"/>
                </a:lnTo>
                <a:lnTo>
                  <a:pt x="26" y="0"/>
                </a:lnTo>
                <a:lnTo>
                  <a:pt x="30" y="0"/>
                </a:lnTo>
                <a:lnTo>
                  <a:pt x="35" y="2"/>
                </a:lnTo>
                <a:lnTo>
                  <a:pt x="39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859360" y="2692440"/>
            <a:ext cx="5040" cy="3240"/>
          </a:xfrm>
          <a:custGeom>
            <a:avLst/>
            <a:gdLst/>
            <a:ahLst/>
            <a:rect l="l" t="t" r="r" b="b"/>
            <a:pathLst>
              <a:path w="17" h="11">
                <a:moveTo>
                  <a:pt x="17" y="2"/>
                </a:moveTo>
                <a:lnTo>
                  <a:pt x="16" y="8"/>
                </a:lnTo>
                <a:lnTo>
                  <a:pt x="12" y="9"/>
                </a:lnTo>
                <a:lnTo>
                  <a:pt x="7" y="9"/>
                </a:lnTo>
                <a:lnTo>
                  <a:pt x="2" y="11"/>
                </a:lnTo>
                <a:lnTo>
                  <a:pt x="0" y="9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  <a:lnTo>
                  <a:pt x="4" y="2"/>
                </a:lnTo>
                <a:lnTo>
                  <a:pt x="9" y="1"/>
                </a:lnTo>
                <a:lnTo>
                  <a:pt x="12" y="0"/>
                </a:lnTo>
                <a:lnTo>
                  <a:pt x="17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32360" y="2692440"/>
            <a:ext cx="5040" cy="3240"/>
          </a:xfrm>
          <a:custGeom>
            <a:avLst/>
            <a:gdLst/>
            <a:ahLst/>
            <a:rect l="l" t="t" r="r" b="b"/>
            <a:pathLst>
              <a:path w="22" h="15">
                <a:moveTo>
                  <a:pt x="22" y="0"/>
                </a:moveTo>
                <a:lnTo>
                  <a:pt x="19" y="5"/>
                </a:lnTo>
                <a:lnTo>
                  <a:pt x="14" y="8"/>
                </a:lnTo>
                <a:lnTo>
                  <a:pt x="9" y="11"/>
                </a:lnTo>
                <a:lnTo>
                  <a:pt x="3" y="15"/>
                </a:lnTo>
                <a:lnTo>
                  <a:pt x="0" y="13"/>
                </a:lnTo>
                <a:lnTo>
                  <a:pt x="5" y="8"/>
                </a:lnTo>
                <a:lnTo>
                  <a:pt x="10" y="5"/>
                </a:lnTo>
                <a:lnTo>
                  <a:pt x="15" y="1"/>
                </a:lnTo>
                <a:lnTo>
                  <a:pt x="22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02200" y="2693880"/>
            <a:ext cx="9720" cy="7920"/>
          </a:xfrm>
          <a:custGeom>
            <a:avLst/>
            <a:gdLst/>
            <a:ahLst/>
            <a:rect l="l" t="t" r="r" b="b"/>
            <a:pathLst>
              <a:path w="40" h="28">
                <a:moveTo>
                  <a:pt x="40" y="7"/>
                </a:moveTo>
                <a:lnTo>
                  <a:pt x="40" y="13"/>
                </a:lnTo>
                <a:lnTo>
                  <a:pt x="2" y="28"/>
                </a:lnTo>
                <a:lnTo>
                  <a:pt x="0" y="20"/>
                </a:lnTo>
                <a:lnTo>
                  <a:pt x="1" y="15"/>
                </a:lnTo>
                <a:lnTo>
                  <a:pt x="5" y="13"/>
                </a:lnTo>
                <a:lnTo>
                  <a:pt x="10" y="10"/>
                </a:lnTo>
                <a:lnTo>
                  <a:pt x="17" y="9"/>
                </a:lnTo>
                <a:lnTo>
                  <a:pt x="23" y="8"/>
                </a:lnTo>
                <a:lnTo>
                  <a:pt x="29" y="6"/>
                </a:lnTo>
                <a:lnTo>
                  <a:pt x="33" y="1"/>
                </a:lnTo>
                <a:lnTo>
                  <a:pt x="37" y="0"/>
                </a:lnTo>
                <a:lnTo>
                  <a:pt x="38" y="2"/>
                </a:lnTo>
                <a:lnTo>
                  <a:pt x="39" y="5"/>
                </a:lnTo>
                <a:lnTo>
                  <a:pt x="40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873760" y="2695680"/>
            <a:ext cx="9360" cy="4680"/>
          </a:xfrm>
          <a:custGeom>
            <a:avLst/>
            <a:gdLst/>
            <a:ahLst/>
            <a:rect l="l" t="t" r="r" b="b"/>
            <a:pathLst>
              <a:path w="38" h="17">
                <a:moveTo>
                  <a:pt x="38" y="5"/>
                </a:moveTo>
                <a:lnTo>
                  <a:pt x="34" y="7"/>
                </a:lnTo>
                <a:lnTo>
                  <a:pt x="29" y="10"/>
                </a:lnTo>
                <a:lnTo>
                  <a:pt x="24" y="12"/>
                </a:lnTo>
                <a:lnTo>
                  <a:pt x="20" y="14"/>
                </a:lnTo>
                <a:lnTo>
                  <a:pt x="15" y="15"/>
                </a:lnTo>
                <a:lnTo>
                  <a:pt x="9" y="17"/>
                </a:lnTo>
                <a:lnTo>
                  <a:pt x="5" y="17"/>
                </a:lnTo>
                <a:lnTo>
                  <a:pt x="0" y="15"/>
                </a:lnTo>
                <a:lnTo>
                  <a:pt x="4" y="12"/>
                </a:lnTo>
                <a:lnTo>
                  <a:pt x="8" y="10"/>
                </a:lnTo>
                <a:lnTo>
                  <a:pt x="13" y="6"/>
                </a:lnTo>
                <a:lnTo>
                  <a:pt x="19" y="3"/>
                </a:lnTo>
                <a:lnTo>
                  <a:pt x="24" y="2"/>
                </a:lnTo>
                <a:lnTo>
                  <a:pt x="29" y="0"/>
                </a:lnTo>
                <a:lnTo>
                  <a:pt x="35" y="2"/>
                </a:lnTo>
                <a:lnTo>
                  <a:pt x="38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948280" y="2695680"/>
            <a:ext cx="15840" cy="4680"/>
          </a:xfrm>
          <a:custGeom>
            <a:avLst/>
            <a:gdLst/>
            <a:ahLst/>
            <a:rect l="l" t="t" r="r" b="b"/>
            <a:pathLst>
              <a:path w="64" h="18">
                <a:moveTo>
                  <a:pt x="62" y="7"/>
                </a:moveTo>
                <a:lnTo>
                  <a:pt x="64" y="11"/>
                </a:lnTo>
                <a:lnTo>
                  <a:pt x="61" y="13"/>
                </a:lnTo>
                <a:lnTo>
                  <a:pt x="57" y="16"/>
                </a:lnTo>
                <a:lnTo>
                  <a:pt x="52" y="17"/>
                </a:lnTo>
                <a:lnTo>
                  <a:pt x="0" y="18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1"/>
                </a:lnTo>
                <a:lnTo>
                  <a:pt x="32" y="2"/>
                </a:lnTo>
                <a:lnTo>
                  <a:pt x="39" y="4"/>
                </a:lnTo>
                <a:lnTo>
                  <a:pt x="47" y="5"/>
                </a:lnTo>
                <a:lnTo>
                  <a:pt x="54" y="7"/>
                </a:lnTo>
                <a:lnTo>
                  <a:pt x="62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46760" y="2698920"/>
            <a:ext cx="3240" cy="28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7" y="0"/>
                </a:moveTo>
                <a:lnTo>
                  <a:pt x="15" y="3"/>
                </a:lnTo>
                <a:lnTo>
                  <a:pt x="12" y="6"/>
                </a:lnTo>
                <a:lnTo>
                  <a:pt x="6" y="7"/>
                </a:lnTo>
                <a:lnTo>
                  <a:pt x="1" y="10"/>
                </a:lnTo>
                <a:lnTo>
                  <a:pt x="0" y="8"/>
                </a:lnTo>
                <a:lnTo>
                  <a:pt x="4" y="5"/>
                </a:lnTo>
                <a:lnTo>
                  <a:pt x="7" y="2"/>
                </a:lnTo>
                <a:lnTo>
                  <a:pt x="13" y="1"/>
                </a:lnTo>
                <a:lnTo>
                  <a:pt x="1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88080" y="2698920"/>
            <a:ext cx="142920" cy="71280"/>
          </a:xfrm>
          <a:custGeom>
            <a:avLst/>
            <a:gdLst/>
            <a:ahLst/>
            <a:rect l="l" t="t" r="r" b="b"/>
            <a:pathLst>
              <a:path w="588" h="265">
                <a:moveTo>
                  <a:pt x="588" y="2"/>
                </a:moveTo>
                <a:lnTo>
                  <a:pt x="586" y="8"/>
                </a:lnTo>
                <a:lnTo>
                  <a:pt x="583" y="13"/>
                </a:lnTo>
                <a:lnTo>
                  <a:pt x="576" y="15"/>
                </a:lnTo>
                <a:lnTo>
                  <a:pt x="570" y="17"/>
                </a:lnTo>
                <a:lnTo>
                  <a:pt x="547" y="25"/>
                </a:lnTo>
                <a:lnTo>
                  <a:pt x="525" y="33"/>
                </a:lnTo>
                <a:lnTo>
                  <a:pt x="502" y="43"/>
                </a:lnTo>
                <a:lnTo>
                  <a:pt x="480" y="52"/>
                </a:lnTo>
                <a:lnTo>
                  <a:pt x="459" y="61"/>
                </a:lnTo>
                <a:lnTo>
                  <a:pt x="437" y="71"/>
                </a:lnTo>
                <a:lnTo>
                  <a:pt x="415" y="82"/>
                </a:lnTo>
                <a:lnTo>
                  <a:pt x="394" y="92"/>
                </a:lnTo>
                <a:lnTo>
                  <a:pt x="372" y="103"/>
                </a:lnTo>
                <a:lnTo>
                  <a:pt x="350" y="113"/>
                </a:lnTo>
                <a:lnTo>
                  <a:pt x="328" y="123"/>
                </a:lnTo>
                <a:lnTo>
                  <a:pt x="306" y="134"/>
                </a:lnTo>
                <a:lnTo>
                  <a:pt x="285" y="143"/>
                </a:lnTo>
                <a:lnTo>
                  <a:pt x="263" y="152"/>
                </a:lnTo>
                <a:lnTo>
                  <a:pt x="241" y="161"/>
                </a:lnTo>
                <a:lnTo>
                  <a:pt x="218" y="169"/>
                </a:lnTo>
                <a:lnTo>
                  <a:pt x="197" y="179"/>
                </a:lnTo>
                <a:lnTo>
                  <a:pt x="176" y="187"/>
                </a:lnTo>
                <a:lnTo>
                  <a:pt x="156" y="196"/>
                </a:lnTo>
                <a:lnTo>
                  <a:pt x="135" y="204"/>
                </a:lnTo>
                <a:lnTo>
                  <a:pt x="114" y="213"/>
                </a:lnTo>
                <a:lnTo>
                  <a:pt x="94" y="222"/>
                </a:lnTo>
                <a:lnTo>
                  <a:pt x="74" y="232"/>
                </a:lnTo>
                <a:lnTo>
                  <a:pt x="54" y="242"/>
                </a:lnTo>
                <a:lnTo>
                  <a:pt x="53" y="242"/>
                </a:lnTo>
                <a:lnTo>
                  <a:pt x="53" y="242"/>
                </a:lnTo>
                <a:lnTo>
                  <a:pt x="52" y="241"/>
                </a:lnTo>
                <a:lnTo>
                  <a:pt x="51" y="240"/>
                </a:lnTo>
                <a:lnTo>
                  <a:pt x="46" y="245"/>
                </a:lnTo>
                <a:lnTo>
                  <a:pt x="41" y="250"/>
                </a:lnTo>
                <a:lnTo>
                  <a:pt x="36" y="255"/>
                </a:lnTo>
                <a:lnTo>
                  <a:pt x="29" y="257"/>
                </a:lnTo>
                <a:lnTo>
                  <a:pt x="22" y="260"/>
                </a:lnTo>
                <a:lnTo>
                  <a:pt x="15" y="263"/>
                </a:lnTo>
                <a:lnTo>
                  <a:pt x="7" y="264"/>
                </a:lnTo>
                <a:lnTo>
                  <a:pt x="0" y="265"/>
                </a:lnTo>
                <a:lnTo>
                  <a:pt x="2" y="256"/>
                </a:lnTo>
                <a:lnTo>
                  <a:pt x="9" y="253"/>
                </a:lnTo>
                <a:lnTo>
                  <a:pt x="18" y="252"/>
                </a:lnTo>
                <a:lnTo>
                  <a:pt x="25" y="247"/>
                </a:lnTo>
                <a:lnTo>
                  <a:pt x="38" y="241"/>
                </a:lnTo>
                <a:lnTo>
                  <a:pt x="52" y="235"/>
                </a:lnTo>
                <a:lnTo>
                  <a:pt x="65" y="229"/>
                </a:lnTo>
                <a:lnTo>
                  <a:pt x="78" y="223"/>
                </a:lnTo>
                <a:lnTo>
                  <a:pt x="91" y="218"/>
                </a:lnTo>
                <a:lnTo>
                  <a:pt x="104" y="211"/>
                </a:lnTo>
                <a:lnTo>
                  <a:pt x="118" y="205"/>
                </a:lnTo>
                <a:lnTo>
                  <a:pt x="130" y="199"/>
                </a:lnTo>
                <a:lnTo>
                  <a:pt x="143" y="194"/>
                </a:lnTo>
                <a:lnTo>
                  <a:pt x="157" y="188"/>
                </a:lnTo>
                <a:lnTo>
                  <a:pt x="169" y="182"/>
                </a:lnTo>
                <a:lnTo>
                  <a:pt x="182" y="176"/>
                </a:lnTo>
                <a:lnTo>
                  <a:pt x="196" y="172"/>
                </a:lnTo>
                <a:lnTo>
                  <a:pt x="209" y="166"/>
                </a:lnTo>
                <a:lnTo>
                  <a:pt x="222" y="161"/>
                </a:lnTo>
                <a:lnTo>
                  <a:pt x="235" y="157"/>
                </a:lnTo>
                <a:lnTo>
                  <a:pt x="242" y="152"/>
                </a:lnTo>
                <a:lnTo>
                  <a:pt x="249" y="149"/>
                </a:lnTo>
                <a:lnTo>
                  <a:pt x="257" y="144"/>
                </a:lnTo>
                <a:lnTo>
                  <a:pt x="265" y="141"/>
                </a:lnTo>
                <a:lnTo>
                  <a:pt x="273" y="138"/>
                </a:lnTo>
                <a:lnTo>
                  <a:pt x="281" y="135"/>
                </a:lnTo>
                <a:lnTo>
                  <a:pt x="289" y="131"/>
                </a:lnTo>
                <a:lnTo>
                  <a:pt x="297" y="128"/>
                </a:lnTo>
                <a:lnTo>
                  <a:pt x="315" y="119"/>
                </a:lnTo>
                <a:lnTo>
                  <a:pt x="333" y="111"/>
                </a:lnTo>
                <a:lnTo>
                  <a:pt x="350" y="101"/>
                </a:lnTo>
                <a:lnTo>
                  <a:pt x="368" y="92"/>
                </a:lnTo>
                <a:lnTo>
                  <a:pt x="386" y="84"/>
                </a:lnTo>
                <a:lnTo>
                  <a:pt x="403" y="75"/>
                </a:lnTo>
                <a:lnTo>
                  <a:pt x="421" y="66"/>
                </a:lnTo>
                <a:lnTo>
                  <a:pt x="439" y="58"/>
                </a:lnTo>
                <a:lnTo>
                  <a:pt x="456" y="50"/>
                </a:lnTo>
                <a:lnTo>
                  <a:pt x="475" y="41"/>
                </a:lnTo>
                <a:lnTo>
                  <a:pt x="493" y="33"/>
                </a:lnTo>
                <a:lnTo>
                  <a:pt x="510" y="25"/>
                </a:lnTo>
                <a:lnTo>
                  <a:pt x="529" y="18"/>
                </a:lnTo>
                <a:lnTo>
                  <a:pt x="547" y="11"/>
                </a:lnTo>
                <a:lnTo>
                  <a:pt x="567" y="6"/>
                </a:lnTo>
                <a:lnTo>
                  <a:pt x="585" y="0"/>
                </a:lnTo>
                <a:lnTo>
                  <a:pt x="588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864400" y="2700360"/>
            <a:ext cx="36360" cy="15840"/>
          </a:xfrm>
          <a:custGeom>
            <a:avLst/>
            <a:gdLst/>
            <a:ahLst/>
            <a:rect l="l" t="t" r="r" b="b"/>
            <a:pathLst>
              <a:path w="152" h="60">
                <a:moveTo>
                  <a:pt x="152" y="7"/>
                </a:moveTo>
                <a:lnTo>
                  <a:pt x="135" y="17"/>
                </a:lnTo>
                <a:lnTo>
                  <a:pt x="117" y="25"/>
                </a:lnTo>
                <a:lnTo>
                  <a:pt x="97" y="31"/>
                </a:lnTo>
                <a:lnTo>
                  <a:pt x="77" y="34"/>
                </a:lnTo>
                <a:lnTo>
                  <a:pt x="57" y="39"/>
                </a:lnTo>
                <a:lnTo>
                  <a:pt x="37" y="45"/>
                </a:lnTo>
                <a:lnTo>
                  <a:pt x="19" y="51"/>
                </a:lnTo>
                <a:lnTo>
                  <a:pt x="0" y="60"/>
                </a:lnTo>
                <a:lnTo>
                  <a:pt x="4" y="55"/>
                </a:lnTo>
                <a:lnTo>
                  <a:pt x="8" y="52"/>
                </a:lnTo>
                <a:lnTo>
                  <a:pt x="14" y="48"/>
                </a:lnTo>
                <a:lnTo>
                  <a:pt x="20" y="46"/>
                </a:lnTo>
                <a:lnTo>
                  <a:pt x="26" y="44"/>
                </a:lnTo>
                <a:lnTo>
                  <a:pt x="32" y="41"/>
                </a:lnTo>
                <a:lnTo>
                  <a:pt x="38" y="39"/>
                </a:lnTo>
                <a:lnTo>
                  <a:pt x="44" y="37"/>
                </a:lnTo>
                <a:lnTo>
                  <a:pt x="51" y="36"/>
                </a:lnTo>
                <a:lnTo>
                  <a:pt x="58" y="33"/>
                </a:lnTo>
                <a:lnTo>
                  <a:pt x="64" y="31"/>
                </a:lnTo>
                <a:lnTo>
                  <a:pt x="71" y="29"/>
                </a:lnTo>
                <a:lnTo>
                  <a:pt x="77" y="26"/>
                </a:lnTo>
                <a:lnTo>
                  <a:pt x="83" y="25"/>
                </a:lnTo>
                <a:lnTo>
                  <a:pt x="90" y="25"/>
                </a:lnTo>
                <a:lnTo>
                  <a:pt x="97" y="26"/>
                </a:lnTo>
                <a:lnTo>
                  <a:pt x="102" y="21"/>
                </a:lnTo>
                <a:lnTo>
                  <a:pt x="106" y="16"/>
                </a:lnTo>
                <a:lnTo>
                  <a:pt x="113" y="13"/>
                </a:lnTo>
                <a:lnTo>
                  <a:pt x="120" y="10"/>
                </a:lnTo>
                <a:lnTo>
                  <a:pt x="127" y="8"/>
                </a:lnTo>
                <a:lnTo>
                  <a:pt x="134" y="6"/>
                </a:lnTo>
                <a:lnTo>
                  <a:pt x="141" y="3"/>
                </a:lnTo>
                <a:lnTo>
                  <a:pt x="147" y="0"/>
                </a:lnTo>
                <a:lnTo>
                  <a:pt x="152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61160" y="2701800"/>
            <a:ext cx="7920" cy="504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7"/>
                </a:moveTo>
                <a:lnTo>
                  <a:pt x="31" y="8"/>
                </a:lnTo>
                <a:lnTo>
                  <a:pt x="27" y="10"/>
                </a:lnTo>
                <a:lnTo>
                  <a:pt x="22" y="12"/>
                </a:lnTo>
                <a:lnTo>
                  <a:pt x="19" y="13"/>
                </a:lnTo>
                <a:lnTo>
                  <a:pt x="14" y="14"/>
                </a:lnTo>
                <a:lnTo>
                  <a:pt x="9" y="16"/>
                </a:lnTo>
                <a:lnTo>
                  <a:pt x="5" y="18"/>
                </a:lnTo>
                <a:lnTo>
                  <a:pt x="0" y="19"/>
                </a:lnTo>
                <a:lnTo>
                  <a:pt x="5" y="12"/>
                </a:lnTo>
                <a:lnTo>
                  <a:pt x="12" y="8"/>
                </a:lnTo>
                <a:lnTo>
                  <a:pt x="20" y="5"/>
                </a:lnTo>
                <a:lnTo>
                  <a:pt x="27" y="0"/>
                </a:lnTo>
                <a:lnTo>
                  <a:pt x="36" y="0"/>
                </a:lnTo>
                <a:lnTo>
                  <a:pt x="36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834160" y="2703600"/>
            <a:ext cx="7920" cy="324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2"/>
                </a:moveTo>
                <a:lnTo>
                  <a:pt x="22" y="7"/>
                </a:lnTo>
                <a:lnTo>
                  <a:pt x="15" y="10"/>
                </a:lnTo>
                <a:lnTo>
                  <a:pt x="7" y="14"/>
                </a:lnTo>
                <a:lnTo>
                  <a:pt x="0" y="13"/>
                </a:lnTo>
                <a:lnTo>
                  <a:pt x="6" y="8"/>
                </a:lnTo>
                <a:lnTo>
                  <a:pt x="14" y="4"/>
                </a:lnTo>
                <a:lnTo>
                  <a:pt x="21" y="0"/>
                </a:lnTo>
                <a:lnTo>
                  <a:pt x="28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848200" y="2706840"/>
            <a:ext cx="7920" cy="4680"/>
          </a:xfrm>
          <a:custGeom>
            <a:avLst/>
            <a:gdLst/>
            <a:ahLst/>
            <a:rect l="l" t="t" r="r" b="b"/>
            <a:pathLst>
              <a:path w="29" h="15">
                <a:moveTo>
                  <a:pt x="29" y="3"/>
                </a:moveTo>
                <a:lnTo>
                  <a:pt x="23" y="7"/>
                </a:lnTo>
                <a:lnTo>
                  <a:pt x="16" y="12"/>
                </a:lnTo>
                <a:lnTo>
                  <a:pt x="8" y="15"/>
                </a:lnTo>
                <a:lnTo>
                  <a:pt x="0" y="15"/>
                </a:lnTo>
                <a:lnTo>
                  <a:pt x="4" y="11"/>
                </a:lnTo>
                <a:lnTo>
                  <a:pt x="11" y="5"/>
                </a:lnTo>
                <a:lnTo>
                  <a:pt x="19" y="2"/>
                </a:lnTo>
                <a:lnTo>
                  <a:pt x="28" y="0"/>
                </a:lnTo>
                <a:lnTo>
                  <a:pt x="29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952960" y="2706840"/>
            <a:ext cx="19080" cy="7920"/>
          </a:xfrm>
          <a:custGeom>
            <a:avLst/>
            <a:gdLst/>
            <a:ahLst/>
            <a:rect l="l" t="t" r="r" b="b"/>
            <a:pathLst>
              <a:path w="81" h="23">
                <a:moveTo>
                  <a:pt x="81" y="13"/>
                </a:moveTo>
                <a:lnTo>
                  <a:pt x="73" y="14"/>
                </a:lnTo>
                <a:lnTo>
                  <a:pt x="64" y="15"/>
                </a:lnTo>
                <a:lnTo>
                  <a:pt x="56" y="15"/>
                </a:lnTo>
                <a:lnTo>
                  <a:pt x="47" y="17"/>
                </a:lnTo>
                <a:lnTo>
                  <a:pt x="38" y="18"/>
                </a:lnTo>
                <a:lnTo>
                  <a:pt x="29" y="19"/>
                </a:lnTo>
                <a:lnTo>
                  <a:pt x="21" y="21"/>
                </a:lnTo>
                <a:lnTo>
                  <a:pt x="13" y="23"/>
                </a:lnTo>
                <a:lnTo>
                  <a:pt x="11" y="22"/>
                </a:lnTo>
                <a:lnTo>
                  <a:pt x="6" y="20"/>
                </a:lnTo>
                <a:lnTo>
                  <a:pt x="3" y="18"/>
                </a:lnTo>
                <a:lnTo>
                  <a:pt x="0" y="13"/>
                </a:lnTo>
                <a:lnTo>
                  <a:pt x="0" y="8"/>
                </a:lnTo>
                <a:lnTo>
                  <a:pt x="3" y="5"/>
                </a:lnTo>
                <a:lnTo>
                  <a:pt x="5" y="2"/>
                </a:lnTo>
                <a:lnTo>
                  <a:pt x="9" y="0"/>
                </a:lnTo>
                <a:lnTo>
                  <a:pt x="81" y="6"/>
                </a:lnTo>
                <a:lnTo>
                  <a:pt x="81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788080" y="2708280"/>
            <a:ext cx="147600" cy="76320"/>
          </a:xfrm>
          <a:custGeom>
            <a:avLst/>
            <a:gdLst/>
            <a:ahLst/>
            <a:rect l="l" t="t" r="r" b="b"/>
            <a:pathLst>
              <a:path w="613" h="285">
                <a:moveTo>
                  <a:pt x="611" y="14"/>
                </a:moveTo>
                <a:lnTo>
                  <a:pt x="606" y="16"/>
                </a:lnTo>
                <a:lnTo>
                  <a:pt x="602" y="17"/>
                </a:lnTo>
                <a:lnTo>
                  <a:pt x="597" y="17"/>
                </a:lnTo>
                <a:lnTo>
                  <a:pt x="594" y="18"/>
                </a:lnTo>
                <a:lnTo>
                  <a:pt x="589" y="19"/>
                </a:lnTo>
                <a:lnTo>
                  <a:pt x="584" y="19"/>
                </a:lnTo>
                <a:lnTo>
                  <a:pt x="580" y="20"/>
                </a:lnTo>
                <a:lnTo>
                  <a:pt x="575" y="23"/>
                </a:lnTo>
                <a:lnTo>
                  <a:pt x="552" y="34"/>
                </a:lnTo>
                <a:lnTo>
                  <a:pt x="529" y="45"/>
                </a:lnTo>
                <a:lnTo>
                  <a:pt x="506" y="55"/>
                </a:lnTo>
                <a:lnTo>
                  <a:pt x="483" y="64"/>
                </a:lnTo>
                <a:lnTo>
                  <a:pt x="460" y="75"/>
                </a:lnTo>
                <a:lnTo>
                  <a:pt x="437" y="84"/>
                </a:lnTo>
                <a:lnTo>
                  <a:pt x="415" y="95"/>
                </a:lnTo>
                <a:lnTo>
                  <a:pt x="393" y="107"/>
                </a:lnTo>
                <a:lnTo>
                  <a:pt x="369" y="118"/>
                </a:lnTo>
                <a:lnTo>
                  <a:pt x="345" y="130"/>
                </a:lnTo>
                <a:lnTo>
                  <a:pt x="321" y="141"/>
                </a:lnTo>
                <a:lnTo>
                  <a:pt x="296" y="152"/>
                </a:lnTo>
                <a:lnTo>
                  <a:pt x="272" y="163"/>
                </a:lnTo>
                <a:lnTo>
                  <a:pt x="247" y="175"/>
                </a:lnTo>
                <a:lnTo>
                  <a:pt x="223" y="185"/>
                </a:lnTo>
                <a:lnTo>
                  <a:pt x="198" y="196"/>
                </a:lnTo>
                <a:lnTo>
                  <a:pt x="174" y="207"/>
                </a:lnTo>
                <a:lnTo>
                  <a:pt x="150" y="217"/>
                </a:lnTo>
                <a:lnTo>
                  <a:pt x="126" y="229"/>
                </a:lnTo>
                <a:lnTo>
                  <a:pt x="102" y="240"/>
                </a:lnTo>
                <a:lnTo>
                  <a:pt x="77" y="251"/>
                </a:lnTo>
                <a:lnTo>
                  <a:pt x="53" y="262"/>
                </a:lnTo>
                <a:lnTo>
                  <a:pt x="29" y="274"/>
                </a:lnTo>
                <a:lnTo>
                  <a:pt x="5" y="285"/>
                </a:lnTo>
                <a:lnTo>
                  <a:pt x="3" y="283"/>
                </a:lnTo>
                <a:lnTo>
                  <a:pt x="1" y="282"/>
                </a:lnTo>
                <a:lnTo>
                  <a:pt x="0" y="280"/>
                </a:lnTo>
                <a:lnTo>
                  <a:pt x="0" y="277"/>
                </a:lnTo>
                <a:lnTo>
                  <a:pt x="21" y="268"/>
                </a:lnTo>
                <a:lnTo>
                  <a:pt x="41" y="259"/>
                </a:lnTo>
                <a:lnTo>
                  <a:pt x="61" y="250"/>
                </a:lnTo>
                <a:lnTo>
                  <a:pt x="82" y="240"/>
                </a:lnTo>
                <a:lnTo>
                  <a:pt x="102" y="230"/>
                </a:lnTo>
                <a:lnTo>
                  <a:pt x="122" y="221"/>
                </a:lnTo>
                <a:lnTo>
                  <a:pt x="142" y="211"/>
                </a:lnTo>
                <a:lnTo>
                  <a:pt x="163" y="200"/>
                </a:lnTo>
                <a:lnTo>
                  <a:pt x="182" y="191"/>
                </a:lnTo>
                <a:lnTo>
                  <a:pt x="203" y="182"/>
                </a:lnTo>
                <a:lnTo>
                  <a:pt x="224" y="171"/>
                </a:lnTo>
                <a:lnTo>
                  <a:pt x="243" y="162"/>
                </a:lnTo>
                <a:lnTo>
                  <a:pt x="264" y="153"/>
                </a:lnTo>
                <a:lnTo>
                  <a:pt x="285" y="145"/>
                </a:lnTo>
                <a:lnTo>
                  <a:pt x="306" y="136"/>
                </a:lnTo>
                <a:lnTo>
                  <a:pt x="326" y="128"/>
                </a:lnTo>
                <a:lnTo>
                  <a:pt x="344" y="118"/>
                </a:lnTo>
                <a:lnTo>
                  <a:pt x="361" y="110"/>
                </a:lnTo>
                <a:lnTo>
                  <a:pt x="378" y="101"/>
                </a:lnTo>
                <a:lnTo>
                  <a:pt x="395" y="93"/>
                </a:lnTo>
                <a:lnTo>
                  <a:pt x="413" y="84"/>
                </a:lnTo>
                <a:lnTo>
                  <a:pt x="430" y="76"/>
                </a:lnTo>
                <a:lnTo>
                  <a:pt x="447" y="67"/>
                </a:lnTo>
                <a:lnTo>
                  <a:pt x="465" y="58"/>
                </a:lnTo>
                <a:lnTo>
                  <a:pt x="482" y="50"/>
                </a:lnTo>
                <a:lnTo>
                  <a:pt x="499" y="42"/>
                </a:lnTo>
                <a:lnTo>
                  <a:pt x="516" y="34"/>
                </a:lnTo>
                <a:lnTo>
                  <a:pt x="534" y="27"/>
                </a:lnTo>
                <a:lnTo>
                  <a:pt x="552" y="19"/>
                </a:lnTo>
                <a:lnTo>
                  <a:pt x="569" y="12"/>
                </a:lnTo>
                <a:lnTo>
                  <a:pt x="588" y="5"/>
                </a:lnTo>
                <a:lnTo>
                  <a:pt x="606" y="0"/>
                </a:lnTo>
                <a:lnTo>
                  <a:pt x="610" y="3"/>
                </a:lnTo>
                <a:lnTo>
                  <a:pt x="612" y="7"/>
                </a:lnTo>
                <a:lnTo>
                  <a:pt x="613" y="10"/>
                </a:lnTo>
                <a:lnTo>
                  <a:pt x="611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826240" y="2708280"/>
            <a:ext cx="3240" cy="3240"/>
          </a:xfrm>
          <a:custGeom>
            <a:avLst/>
            <a:gdLst/>
            <a:ahLst/>
            <a:rect l="l" t="t" r="r" b="b"/>
            <a:pathLst>
              <a:path w="12" h="11">
                <a:moveTo>
                  <a:pt x="12" y="0"/>
                </a:moveTo>
                <a:lnTo>
                  <a:pt x="12" y="5"/>
                </a:lnTo>
                <a:lnTo>
                  <a:pt x="8" y="7"/>
                </a:lnTo>
                <a:lnTo>
                  <a:pt x="3" y="8"/>
                </a:lnTo>
                <a:lnTo>
                  <a:pt x="0" y="11"/>
                </a:lnTo>
                <a:lnTo>
                  <a:pt x="0" y="6"/>
                </a:lnTo>
                <a:lnTo>
                  <a:pt x="2" y="2"/>
                </a:lnTo>
                <a:lnTo>
                  <a:pt x="7" y="0"/>
                </a:lnTo>
                <a:lnTo>
                  <a:pt x="12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838840" y="2711520"/>
            <a:ext cx="6480" cy="4680"/>
          </a:xfrm>
          <a:custGeom>
            <a:avLst/>
            <a:gdLst/>
            <a:ahLst/>
            <a:rect l="l" t="t" r="r" b="b"/>
            <a:pathLst>
              <a:path w="28" h="19">
                <a:moveTo>
                  <a:pt x="27" y="11"/>
                </a:moveTo>
                <a:lnTo>
                  <a:pt x="21" y="13"/>
                </a:lnTo>
                <a:lnTo>
                  <a:pt x="14" y="16"/>
                </a:lnTo>
                <a:lnTo>
                  <a:pt x="7" y="19"/>
                </a:lnTo>
                <a:lnTo>
                  <a:pt x="0" y="16"/>
                </a:lnTo>
                <a:lnTo>
                  <a:pt x="4" y="11"/>
                </a:lnTo>
                <a:lnTo>
                  <a:pt x="10" y="6"/>
                </a:lnTo>
                <a:lnTo>
                  <a:pt x="17" y="4"/>
                </a:lnTo>
                <a:lnTo>
                  <a:pt x="23" y="0"/>
                </a:lnTo>
                <a:lnTo>
                  <a:pt x="25" y="2"/>
                </a:lnTo>
                <a:lnTo>
                  <a:pt x="27" y="4"/>
                </a:lnTo>
                <a:lnTo>
                  <a:pt x="28" y="7"/>
                </a:lnTo>
                <a:lnTo>
                  <a:pt x="27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23080" y="2716200"/>
            <a:ext cx="17280" cy="11160"/>
          </a:xfrm>
          <a:custGeom>
            <a:avLst/>
            <a:gdLst/>
            <a:ahLst/>
            <a:rect l="l" t="t" r="r" b="b"/>
            <a:pathLst>
              <a:path w="76" h="38">
                <a:moveTo>
                  <a:pt x="74" y="10"/>
                </a:moveTo>
                <a:lnTo>
                  <a:pt x="64" y="15"/>
                </a:lnTo>
                <a:lnTo>
                  <a:pt x="55" y="19"/>
                </a:lnTo>
                <a:lnTo>
                  <a:pt x="46" y="24"/>
                </a:lnTo>
                <a:lnTo>
                  <a:pt x="37" y="30"/>
                </a:lnTo>
                <a:lnTo>
                  <a:pt x="29" y="33"/>
                </a:lnTo>
                <a:lnTo>
                  <a:pt x="19" y="37"/>
                </a:lnTo>
                <a:lnTo>
                  <a:pt x="10" y="38"/>
                </a:lnTo>
                <a:lnTo>
                  <a:pt x="0" y="37"/>
                </a:lnTo>
                <a:lnTo>
                  <a:pt x="0" y="31"/>
                </a:lnTo>
                <a:lnTo>
                  <a:pt x="8" y="26"/>
                </a:lnTo>
                <a:lnTo>
                  <a:pt x="17" y="22"/>
                </a:lnTo>
                <a:lnTo>
                  <a:pt x="25" y="17"/>
                </a:lnTo>
                <a:lnTo>
                  <a:pt x="34" y="14"/>
                </a:lnTo>
                <a:lnTo>
                  <a:pt x="44" y="10"/>
                </a:lnTo>
                <a:lnTo>
                  <a:pt x="53" y="7"/>
                </a:lnTo>
                <a:lnTo>
                  <a:pt x="62" y="3"/>
                </a:lnTo>
                <a:lnTo>
                  <a:pt x="71" y="0"/>
                </a:lnTo>
                <a:lnTo>
                  <a:pt x="74" y="1"/>
                </a:lnTo>
                <a:lnTo>
                  <a:pt x="75" y="4"/>
                </a:lnTo>
                <a:lnTo>
                  <a:pt x="76" y="7"/>
                </a:lnTo>
                <a:lnTo>
                  <a:pt x="74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829480" y="2717640"/>
            <a:ext cx="4680" cy="324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3"/>
                </a:moveTo>
                <a:lnTo>
                  <a:pt x="18" y="6"/>
                </a:lnTo>
                <a:lnTo>
                  <a:pt x="17" y="8"/>
                </a:lnTo>
                <a:lnTo>
                  <a:pt x="13" y="9"/>
                </a:lnTo>
                <a:lnTo>
                  <a:pt x="11" y="12"/>
                </a:lnTo>
                <a:lnTo>
                  <a:pt x="8" y="12"/>
                </a:lnTo>
                <a:lnTo>
                  <a:pt x="5" y="12"/>
                </a:lnTo>
                <a:lnTo>
                  <a:pt x="3" y="11"/>
                </a:lnTo>
                <a:lnTo>
                  <a:pt x="0" y="9"/>
                </a:lnTo>
                <a:lnTo>
                  <a:pt x="4" y="6"/>
                </a:lnTo>
                <a:lnTo>
                  <a:pt x="7" y="3"/>
                </a:lnTo>
                <a:lnTo>
                  <a:pt x="13" y="0"/>
                </a:lnTo>
                <a:lnTo>
                  <a:pt x="18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842080" y="2717640"/>
            <a:ext cx="19080" cy="11160"/>
          </a:xfrm>
          <a:custGeom>
            <a:avLst/>
            <a:gdLst/>
            <a:ahLst/>
            <a:rect l="l" t="t" r="r" b="b"/>
            <a:pathLst>
              <a:path w="77" h="40">
                <a:moveTo>
                  <a:pt x="77" y="0"/>
                </a:moveTo>
                <a:lnTo>
                  <a:pt x="74" y="3"/>
                </a:lnTo>
                <a:lnTo>
                  <a:pt x="69" y="6"/>
                </a:lnTo>
                <a:lnTo>
                  <a:pt x="65" y="9"/>
                </a:lnTo>
                <a:lnTo>
                  <a:pt x="60" y="11"/>
                </a:lnTo>
                <a:lnTo>
                  <a:pt x="55" y="15"/>
                </a:lnTo>
                <a:lnTo>
                  <a:pt x="51" y="17"/>
                </a:lnTo>
                <a:lnTo>
                  <a:pt x="45" y="18"/>
                </a:lnTo>
                <a:lnTo>
                  <a:pt x="40" y="20"/>
                </a:lnTo>
                <a:lnTo>
                  <a:pt x="38" y="20"/>
                </a:lnTo>
                <a:lnTo>
                  <a:pt x="37" y="20"/>
                </a:lnTo>
                <a:lnTo>
                  <a:pt x="36" y="19"/>
                </a:lnTo>
                <a:lnTo>
                  <a:pt x="36" y="19"/>
                </a:lnTo>
                <a:lnTo>
                  <a:pt x="32" y="23"/>
                </a:lnTo>
                <a:lnTo>
                  <a:pt x="29" y="26"/>
                </a:lnTo>
                <a:lnTo>
                  <a:pt x="24" y="30"/>
                </a:lnTo>
                <a:lnTo>
                  <a:pt x="20" y="32"/>
                </a:lnTo>
                <a:lnTo>
                  <a:pt x="15" y="34"/>
                </a:lnTo>
                <a:lnTo>
                  <a:pt x="10" y="36"/>
                </a:lnTo>
                <a:lnTo>
                  <a:pt x="5" y="38"/>
                </a:lnTo>
                <a:lnTo>
                  <a:pt x="0" y="40"/>
                </a:lnTo>
                <a:lnTo>
                  <a:pt x="6" y="32"/>
                </a:lnTo>
                <a:lnTo>
                  <a:pt x="14" y="25"/>
                </a:lnTo>
                <a:lnTo>
                  <a:pt x="23" y="21"/>
                </a:lnTo>
                <a:lnTo>
                  <a:pt x="32" y="20"/>
                </a:lnTo>
                <a:lnTo>
                  <a:pt x="37" y="17"/>
                </a:lnTo>
                <a:lnTo>
                  <a:pt x="42" y="12"/>
                </a:lnTo>
                <a:lnTo>
                  <a:pt x="47" y="9"/>
                </a:lnTo>
                <a:lnTo>
                  <a:pt x="53" y="5"/>
                </a:lnTo>
                <a:lnTo>
                  <a:pt x="59" y="3"/>
                </a:lnTo>
                <a:lnTo>
                  <a:pt x="65" y="1"/>
                </a:lnTo>
                <a:lnTo>
                  <a:pt x="71" y="0"/>
                </a:lnTo>
                <a:lnTo>
                  <a:pt x="7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958000" y="2719440"/>
            <a:ext cx="21960" cy="4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92" y="11"/>
                </a:moveTo>
                <a:lnTo>
                  <a:pt x="81" y="12"/>
                </a:lnTo>
                <a:lnTo>
                  <a:pt x="70" y="14"/>
                </a:lnTo>
                <a:lnTo>
                  <a:pt x="58" y="15"/>
                </a:lnTo>
                <a:lnTo>
                  <a:pt x="46" y="15"/>
                </a:lnTo>
                <a:lnTo>
                  <a:pt x="35" y="17"/>
                </a:lnTo>
                <a:lnTo>
                  <a:pt x="23" y="17"/>
                </a:lnTo>
                <a:lnTo>
                  <a:pt x="13" y="15"/>
                </a:lnTo>
                <a:lnTo>
                  <a:pt x="2" y="14"/>
                </a:lnTo>
                <a:lnTo>
                  <a:pt x="0" y="13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7" y="0"/>
                </a:lnTo>
                <a:lnTo>
                  <a:pt x="92" y="4"/>
                </a:lnTo>
                <a:lnTo>
                  <a:pt x="92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816520" y="2722680"/>
            <a:ext cx="7920" cy="4680"/>
          </a:xfrm>
          <a:custGeom>
            <a:avLst/>
            <a:gdLst/>
            <a:ahLst/>
            <a:rect l="l" t="t" r="r" b="b"/>
            <a:pathLst>
              <a:path w="31" h="14">
                <a:moveTo>
                  <a:pt x="31" y="1"/>
                </a:moveTo>
                <a:lnTo>
                  <a:pt x="24" y="6"/>
                </a:lnTo>
                <a:lnTo>
                  <a:pt x="18" y="10"/>
                </a:lnTo>
                <a:lnTo>
                  <a:pt x="8" y="14"/>
                </a:lnTo>
                <a:lnTo>
                  <a:pt x="0" y="13"/>
                </a:lnTo>
                <a:lnTo>
                  <a:pt x="8" y="9"/>
                </a:lnTo>
                <a:lnTo>
                  <a:pt x="15" y="3"/>
                </a:lnTo>
                <a:lnTo>
                  <a:pt x="23" y="0"/>
                </a:lnTo>
                <a:lnTo>
                  <a:pt x="31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937120" y="2727360"/>
            <a:ext cx="6480" cy="6480"/>
          </a:xfrm>
          <a:custGeom>
            <a:avLst/>
            <a:gdLst/>
            <a:ahLst/>
            <a:rect l="l" t="t" r="r" b="b"/>
            <a:pathLst>
              <a:path w="24" h="22">
                <a:moveTo>
                  <a:pt x="24" y="11"/>
                </a:moveTo>
                <a:lnTo>
                  <a:pt x="20" y="15"/>
                </a:lnTo>
                <a:lnTo>
                  <a:pt x="16" y="19"/>
                </a:lnTo>
                <a:lnTo>
                  <a:pt x="10" y="22"/>
                </a:lnTo>
                <a:lnTo>
                  <a:pt x="3" y="21"/>
                </a:lnTo>
                <a:lnTo>
                  <a:pt x="0" y="16"/>
                </a:lnTo>
                <a:lnTo>
                  <a:pt x="5" y="9"/>
                </a:lnTo>
                <a:lnTo>
                  <a:pt x="14" y="3"/>
                </a:lnTo>
                <a:lnTo>
                  <a:pt x="22" y="0"/>
                </a:lnTo>
                <a:lnTo>
                  <a:pt x="24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0400" y="2728800"/>
            <a:ext cx="29880" cy="15840"/>
          </a:xfrm>
          <a:custGeom>
            <a:avLst/>
            <a:gdLst/>
            <a:ahLst/>
            <a:rect l="l" t="t" r="r" b="b"/>
            <a:pathLst>
              <a:path w="120" h="61">
                <a:moveTo>
                  <a:pt x="120" y="3"/>
                </a:moveTo>
                <a:lnTo>
                  <a:pt x="106" y="12"/>
                </a:lnTo>
                <a:lnTo>
                  <a:pt x="92" y="18"/>
                </a:lnTo>
                <a:lnTo>
                  <a:pt x="77" y="27"/>
                </a:lnTo>
                <a:lnTo>
                  <a:pt x="62" y="33"/>
                </a:lnTo>
                <a:lnTo>
                  <a:pt x="47" y="40"/>
                </a:lnTo>
                <a:lnTo>
                  <a:pt x="32" y="47"/>
                </a:lnTo>
                <a:lnTo>
                  <a:pt x="17" y="54"/>
                </a:lnTo>
                <a:lnTo>
                  <a:pt x="2" y="61"/>
                </a:lnTo>
                <a:lnTo>
                  <a:pt x="0" y="60"/>
                </a:lnTo>
                <a:lnTo>
                  <a:pt x="14" y="51"/>
                </a:lnTo>
                <a:lnTo>
                  <a:pt x="28" y="43"/>
                </a:lnTo>
                <a:lnTo>
                  <a:pt x="43" y="35"/>
                </a:lnTo>
                <a:lnTo>
                  <a:pt x="57" y="27"/>
                </a:lnTo>
                <a:lnTo>
                  <a:pt x="72" y="20"/>
                </a:lnTo>
                <a:lnTo>
                  <a:pt x="87" y="13"/>
                </a:lnTo>
                <a:lnTo>
                  <a:pt x="102" y="6"/>
                </a:lnTo>
                <a:lnTo>
                  <a:pt x="117" y="0"/>
                </a:lnTo>
                <a:lnTo>
                  <a:pt x="120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803920" y="2730600"/>
            <a:ext cx="6480" cy="3240"/>
          </a:xfrm>
          <a:custGeom>
            <a:avLst/>
            <a:gdLst/>
            <a:ahLst/>
            <a:rect l="l" t="t" r="r" b="b"/>
            <a:pathLst>
              <a:path w="25" h="13">
                <a:moveTo>
                  <a:pt x="25" y="0"/>
                </a:moveTo>
                <a:lnTo>
                  <a:pt x="20" y="5"/>
                </a:lnTo>
                <a:lnTo>
                  <a:pt x="16" y="8"/>
                </a:lnTo>
                <a:lnTo>
                  <a:pt x="9" y="10"/>
                </a:lnTo>
                <a:lnTo>
                  <a:pt x="3" y="13"/>
                </a:lnTo>
                <a:lnTo>
                  <a:pt x="0" y="10"/>
                </a:lnTo>
                <a:lnTo>
                  <a:pt x="5" y="6"/>
                </a:lnTo>
                <a:lnTo>
                  <a:pt x="12" y="2"/>
                </a:lnTo>
                <a:lnTo>
                  <a:pt x="18" y="0"/>
                </a:lnTo>
                <a:lnTo>
                  <a:pt x="25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959440" y="2732040"/>
            <a:ext cx="22320" cy="4680"/>
          </a:xfrm>
          <a:custGeom>
            <a:avLst/>
            <a:gdLst/>
            <a:ahLst/>
            <a:rect l="l" t="t" r="r" b="b"/>
            <a:pathLst>
              <a:path w="91" h="20">
                <a:moveTo>
                  <a:pt x="91" y="4"/>
                </a:moveTo>
                <a:lnTo>
                  <a:pt x="91" y="10"/>
                </a:lnTo>
                <a:lnTo>
                  <a:pt x="79" y="12"/>
                </a:lnTo>
                <a:lnTo>
                  <a:pt x="69" y="13"/>
                </a:lnTo>
                <a:lnTo>
                  <a:pt x="57" y="13"/>
                </a:lnTo>
                <a:lnTo>
                  <a:pt x="47" y="14"/>
                </a:lnTo>
                <a:lnTo>
                  <a:pt x="37" y="15"/>
                </a:lnTo>
                <a:lnTo>
                  <a:pt x="26" y="17"/>
                </a:lnTo>
                <a:lnTo>
                  <a:pt x="16" y="18"/>
                </a:lnTo>
                <a:lnTo>
                  <a:pt x="4" y="20"/>
                </a:lnTo>
                <a:lnTo>
                  <a:pt x="1" y="18"/>
                </a:lnTo>
                <a:lnTo>
                  <a:pt x="0" y="13"/>
                </a:lnTo>
                <a:lnTo>
                  <a:pt x="0" y="8"/>
                </a:lnTo>
                <a:lnTo>
                  <a:pt x="0" y="4"/>
                </a:lnTo>
                <a:lnTo>
                  <a:pt x="4" y="0"/>
                </a:lnTo>
                <a:lnTo>
                  <a:pt x="15" y="0"/>
                </a:lnTo>
                <a:lnTo>
                  <a:pt x="26" y="0"/>
                </a:lnTo>
                <a:lnTo>
                  <a:pt x="37" y="0"/>
                </a:lnTo>
                <a:lnTo>
                  <a:pt x="48" y="0"/>
                </a:lnTo>
                <a:lnTo>
                  <a:pt x="58" y="2"/>
                </a:lnTo>
                <a:lnTo>
                  <a:pt x="70" y="2"/>
                </a:lnTo>
                <a:lnTo>
                  <a:pt x="80" y="3"/>
                </a:lnTo>
                <a:lnTo>
                  <a:pt x="9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791320" y="2736720"/>
            <a:ext cx="7920" cy="6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34" y="2"/>
                </a:moveTo>
                <a:lnTo>
                  <a:pt x="31" y="8"/>
                </a:lnTo>
                <a:lnTo>
                  <a:pt x="27" y="14"/>
                </a:lnTo>
                <a:lnTo>
                  <a:pt x="20" y="17"/>
                </a:lnTo>
                <a:lnTo>
                  <a:pt x="13" y="21"/>
                </a:lnTo>
                <a:lnTo>
                  <a:pt x="10" y="21"/>
                </a:lnTo>
                <a:lnTo>
                  <a:pt x="6" y="20"/>
                </a:lnTo>
                <a:lnTo>
                  <a:pt x="3" y="18"/>
                </a:lnTo>
                <a:lnTo>
                  <a:pt x="0" y="16"/>
                </a:lnTo>
                <a:lnTo>
                  <a:pt x="8" y="12"/>
                </a:lnTo>
                <a:lnTo>
                  <a:pt x="17" y="7"/>
                </a:lnTo>
                <a:lnTo>
                  <a:pt x="25" y="2"/>
                </a:lnTo>
                <a:lnTo>
                  <a:pt x="33" y="0"/>
                </a:lnTo>
                <a:lnTo>
                  <a:pt x="3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788080" y="2741760"/>
            <a:ext cx="106200" cy="56880"/>
          </a:xfrm>
          <a:custGeom>
            <a:avLst/>
            <a:gdLst/>
            <a:ahLst/>
            <a:rect l="l" t="t" r="r" b="b"/>
            <a:pathLst>
              <a:path w="439" h="211">
                <a:moveTo>
                  <a:pt x="438" y="8"/>
                </a:moveTo>
                <a:lnTo>
                  <a:pt x="410" y="20"/>
                </a:lnTo>
                <a:lnTo>
                  <a:pt x="383" y="33"/>
                </a:lnTo>
                <a:lnTo>
                  <a:pt x="355" y="44"/>
                </a:lnTo>
                <a:lnTo>
                  <a:pt x="327" y="57"/>
                </a:lnTo>
                <a:lnTo>
                  <a:pt x="300" y="70"/>
                </a:lnTo>
                <a:lnTo>
                  <a:pt x="272" y="82"/>
                </a:lnTo>
                <a:lnTo>
                  <a:pt x="244" y="95"/>
                </a:lnTo>
                <a:lnTo>
                  <a:pt x="218" y="108"/>
                </a:lnTo>
                <a:lnTo>
                  <a:pt x="190" y="121"/>
                </a:lnTo>
                <a:lnTo>
                  <a:pt x="164" y="134"/>
                </a:lnTo>
                <a:lnTo>
                  <a:pt x="136" y="147"/>
                </a:lnTo>
                <a:lnTo>
                  <a:pt x="109" y="161"/>
                </a:lnTo>
                <a:lnTo>
                  <a:pt x="82" y="173"/>
                </a:lnTo>
                <a:lnTo>
                  <a:pt x="54" y="186"/>
                </a:lnTo>
                <a:lnTo>
                  <a:pt x="28" y="199"/>
                </a:lnTo>
                <a:lnTo>
                  <a:pt x="0" y="211"/>
                </a:lnTo>
                <a:lnTo>
                  <a:pt x="0" y="206"/>
                </a:lnTo>
                <a:lnTo>
                  <a:pt x="27" y="193"/>
                </a:lnTo>
                <a:lnTo>
                  <a:pt x="53" y="180"/>
                </a:lnTo>
                <a:lnTo>
                  <a:pt x="80" y="167"/>
                </a:lnTo>
                <a:lnTo>
                  <a:pt x="105" y="155"/>
                </a:lnTo>
                <a:lnTo>
                  <a:pt x="131" y="142"/>
                </a:lnTo>
                <a:lnTo>
                  <a:pt x="158" y="128"/>
                </a:lnTo>
                <a:lnTo>
                  <a:pt x="183" y="116"/>
                </a:lnTo>
                <a:lnTo>
                  <a:pt x="210" y="102"/>
                </a:lnTo>
                <a:lnTo>
                  <a:pt x="236" y="89"/>
                </a:lnTo>
                <a:lnTo>
                  <a:pt x="263" y="76"/>
                </a:lnTo>
                <a:lnTo>
                  <a:pt x="288" y="64"/>
                </a:lnTo>
                <a:lnTo>
                  <a:pt x="315" y="51"/>
                </a:lnTo>
                <a:lnTo>
                  <a:pt x="342" y="40"/>
                </a:lnTo>
                <a:lnTo>
                  <a:pt x="369" y="28"/>
                </a:lnTo>
                <a:lnTo>
                  <a:pt x="395" y="18"/>
                </a:lnTo>
                <a:lnTo>
                  <a:pt x="423" y="7"/>
                </a:lnTo>
                <a:lnTo>
                  <a:pt x="425" y="4"/>
                </a:lnTo>
                <a:lnTo>
                  <a:pt x="429" y="2"/>
                </a:lnTo>
                <a:lnTo>
                  <a:pt x="433" y="0"/>
                </a:lnTo>
                <a:lnTo>
                  <a:pt x="439" y="2"/>
                </a:lnTo>
                <a:lnTo>
                  <a:pt x="438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952960" y="2744640"/>
            <a:ext cx="20880" cy="3240"/>
          </a:xfrm>
          <a:custGeom>
            <a:avLst/>
            <a:gdLst/>
            <a:ahLst/>
            <a:rect l="l" t="t" r="r" b="b"/>
            <a:pathLst>
              <a:path w="87" h="17">
                <a:moveTo>
                  <a:pt x="87" y="0"/>
                </a:moveTo>
                <a:lnTo>
                  <a:pt x="83" y="9"/>
                </a:lnTo>
                <a:lnTo>
                  <a:pt x="75" y="11"/>
                </a:lnTo>
                <a:lnTo>
                  <a:pt x="65" y="12"/>
                </a:lnTo>
                <a:lnTo>
                  <a:pt x="57" y="14"/>
                </a:lnTo>
                <a:lnTo>
                  <a:pt x="49" y="13"/>
                </a:lnTo>
                <a:lnTo>
                  <a:pt x="40" y="13"/>
                </a:lnTo>
                <a:lnTo>
                  <a:pt x="32" y="14"/>
                </a:lnTo>
                <a:lnTo>
                  <a:pt x="25" y="15"/>
                </a:lnTo>
                <a:lnTo>
                  <a:pt x="19" y="17"/>
                </a:lnTo>
                <a:lnTo>
                  <a:pt x="13" y="17"/>
                </a:lnTo>
                <a:lnTo>
                  <a:pt x="6" y="15"/>
                </a:lnTo>
                <a:lnTo>
                  <a:pt x="0" y="12"/>
                </a:lnTo>
                <a:lnTo>
                  <a:pt x="1" y="5"/>
                </a:lnTo>
                <a:lnTo>
                  <a:pt x="6" y="2"/>
                </a:lnTo>
                <a:lnTo>
                  <a:pt x="12" y="0"/>
                </a:lnTo>
                <a:lnTo>
                  <a:pt x="16" y="0"/>
                </a:lnTo>
                <a:lnTo>
                  <a:pt x="24" y="0"/>
                </a:lnTo>
                <a:lnTo>
                  <a:pt x="34" y="0"/>
                </a:lnTo>
                <a:lnTo>
                  <a:pt x="42" y="0"/>
                </a:lnTo>
                <a:lnTo>
                  <a:pt x="52" y="0"/>
                </a:lnTo>
                <a:lnTo>
                  <a:pt x="61" y="0"/>
                </a:lnTo>
                <a:lnTo>
                  <a:pt x="69" y="0"/>
                </a:lnTo>
                <a:lnTo>
                  <a:pt x="78" y="0"/>
                </a:lnTo>
                <a:lnTo>
                  <a:pt x="8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99240" y="2747880"/>
            <a:ext cx="6120" cy="3240"/>
          </a:xfrm>
          <a:custGeom>
            <a:avLst/>
            <a:gdLst/>
            <a:ahLst/>
            <a:rect l="l" t="t" r="r" b="b"/>
            <a:pathLst>
              <a:path w="26" h="15">
                <a:moveTo>
                  <a:pt x="26" y="5"/>
                </a:moveTo>
                <a:lnTo>
                  <a:pt x="20" y="9"/>
                </a:lnTo>
                <a:lnTo>
                  <a:pt x="15" y="13"/>
                </a:lnTo>
                <a:lnTo>
                  <a:pt x="8" y="15"/>
                </a:lnTo>
                <a:lnTo>
                  <a:pt x="1" y="15"/>
                </a:lnTo>
                <a:lnTo>
                  <a:pt x="1" y="14"/>
                </a:lnTo>
                <a:lnTo>
                  <a:pt x="1" y="13"/>
                </a:lnTo>
                <a:lnTo>
                  <a:pt x="0" y="13"/>
                </a:lnTo>
                <a:lnTo>
                  <a:pt x="0" y="12"/>
                </a:lnTo>
                <a:lnTo>
                  <a:pt x="5" y="7"/>
                </a:lnTo>
                <a:lnTo>
                  <a:pt x="13" y="2"/>
                </a:lnTo>
                <a:lnTo>
                  <a:pt x="20" y="0"/>
                </a:lnTo>
                <a:lnTo>
                  <a:pt x="26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788080" y="2754360"/>
            <a:ext cx="4680" cy="3240"/>
          </a:xfrm>
          <a:custGeom>
            <a:avLst/>
            <a:gdLst/>
            <a:ahLst/>
            <a:rect l="l" t="t" r="r" b="b"/>
            <a:pathLst>
              <a:path w="19" h="13">
                <a:moveTo>
                  <a:pt x="19" y="3"/>
                </a:moveTo>
                <a:lnTo>
                  <a:pt x="16" y="7"/>
                </a:lnTo>
                <a:lnTo>
                  <a:pt x="11" y="9"/>
                </a:lnTo>
                <a:lnTo>
                  <a:pt x="5" y="11"/>
                </a:lnTo>
                <a:lnTo>
                  <a:pt x="1" y="13"/>
                </a:lnTo>
                <a:lnTo>
                  <a:pt x="0" y="7"/>
                </a:lnTo>
                <a:lnTo>
                  <a:pt x="3" y="5"/>
                </a:lnTo>
                <a:lnTo>
                  <a:pt x="8" y="4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9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945040" y="2754360"/>
            <a:ext cx="16200" cy="4680"/>
          </a:xfrm>
          <a:custGeom>
            <a:avLst/>
            <a:gdLst/>
            <a:ahLst/>
            <a:rect l="l" t="t" r="r" b="b"/>
            <a:pathLst>
              <a:path w="61" h="17">
                <a:moveTo>
                  <a:pt x="59" y="15"/>
                </a:moveTo>
                <a:lnTo>
                  <a:pt x="51" y="14"/>
                </a:lnTo>
                <a:lnTo>
                  <a:pt x="43" y="15"/>
                </a:lnTo>
                <a:lnTo>
                  <a:pt x="35" y="15"/>
                </a:lnTo>
                <a:lnTo>
                  <a:pt x="28" y="16"/>
                </a:lnTo>
                <a:lnTo>
                  <a:pt x="22" y="17"/>
                </a:lnTo>
                <a:lnTo>
                  <a:pt x="15" y="17"/>
                </a:lnTo>
                <a:lnTo>
                  <a:pt x="7" y="16"/>
                </a:lnTo>
                <a:lnTo>
                  <a:pt x="0" y="13"/>
                </a:lnTo>
                <a:lnTo>
                  <a:pt x="5" y="8"/>
                </a:lnTo>
                <a:lnTo>
                  <a:pt x="11" y="5"/>
                </a:lnTo>
                <a:lnTo>
                  <a:pt x="18" y="1"/>
                </a:lnTo>
                <a:lnTo>
                  <a:pt x="25" y="0"/>
                </a:lnTo>
                <a:lnTo>
                  <a:pt x="29" y="4"/>
                </a:lnTo>
                <a:lnTo>
                  <a:pt x="36" y="5"/>
                </a:lnTo>
                <a:lnTo>
                  <a:pt x="43" y="5"/>
                </a:lnTo>
                <a:lnTo>
                  <a:pt x="51" y="4"/>
                </a:lnTo>
                <a:lnTo>
                  <a:pt x="57" y="3"/>
                </a:lnTo>
                <a:lnTo>
                  <a:pt x="60" y="4"/>
                </a:lnTo>
                <a:lnTo>
                  <a:pt x="61" y="7"/>
                </a:lnTo>
                <a:lnTo>
                  <a:pt x="59" y="1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13360" y="2755800"/>
            <a:ext cx="11160" cy="5040"/>
          </a:xfrm>
          <a:custGeom>
            <a:avLst/>
            <a:gdLst/>
            <a:ahLst/>
            <a:rect l="l" t="t" r="r" b="b"/>
            <a:pathLst>
              <a:path w="49" h="19">
                <a:moveTo>
                  <a:pt x="49" y="19"/>
                </a:moveTo>
                <a:lnTo>
                  <a:pt x="43" y="16"/>
                </a:lnTo>
                <a:lnTo>
                  <a:pt x="38" y="16"/>
                </a:lnTo>
                <a:lnTo>
                  <a:pt x="32" y="16"/>
                </a:lnTo>
                <a:lnTo>
                  <a:pt x="25" y="17"/>
                </a:lnTo>
                <a:lnTo>
                  <a:pt x="19" y="19"/>
                </a:lnTo>
                <a:lnTo>
                  <a:pt x="12" y="19"/>
                </a:lnTo>
                <a:lnTo>
                  <a:pt x="5" y="19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lnTo>
                  <a:pt x="2" y="4"/>
                </a:lnTo>
                <a:lnTo>
                  <a:pt x="5" y="0"/>
                </a:lnTo>
                <a:lnTo>
                  <a:pt x="11" y="4"/>
                </a:lnTo>
                <a:lnTo>
                  <a:pt x="18" y="4"/>
                </a:lnTo>
                <a:lnTo>
                  <a:pt x="26" y="4"/>
                </a:lnTo>
                <a:lnTo>
                  <a:pt x="34" y="4"/>
                </a:lnTo>
                <a:lnTo>
                  <a:pt x="41" y="4"/>
                </a:lnTo>
                <a:lnTo>
                  <a:pt x="47" y="6"/>
                </a:lnTo>
                <a:lnTo>
                  <a:pt x="49" y="10"/>
                </a:lnTo>
                <a:lnTo>
                  <a:pt x="49" y="1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45240" y="2757600"/>
            <a:ext cx="147600" cy="81000"/>
          </a:xfrm>
          <a:custGeom>
            <a:avLst/>
            <a:gdLst/>
            <a:ahLst/>
            <a:rect l="l" t="t" r="r" b="b"/>
            <a:pathLst>
              <a:path w="604" h="297">
                <a:moveTo>
                  <a:pt x="604" y="2"/>
                </a:moveTo>
                <a:lnTo>
                  <a:pt x="604" y="7"/>
                </a:lnTo>
                <a:lnTo>
                  <a:pt x="587" y="15"/>
                </a:lnTo>
                <a:lnTo>
                  <a:pt x="569" y="22"/>
                </a:lnTo>
                <a:lnTo>
                  <a:pt x="551" y="30"/>
                </a:lnTo>
                <a:lnTo>
                  <a:pt x="534" y="38"/>
                </a:lnTo>
                <a:lnTo>
                  <a:pt x="517" y="46"/>
                </a:lnTo>
                <a:lnTo>
                  <a:pt x="500" y="55"/>
                </a:lnTo>
                <a:lnTo>
                  <a:pt x="482" y="65"/>
                </a:lnTo>
                <a:lnTo>
                  <a:pt x="465" y="74"/>
                </a:lnTo>
                <a:lnTo>
                  <a:pt x="458" y="74"/>
                </a:lnTo>
                <a:lnTo>
                  <a:pt x="452" y="75"/>
                </a:lnTo>
                <a:lnTo>
                  <a:pt x="447" y="77"/>
                </a:lnTo>
                <a:lnTo>
                  <a:pt x="441" y="81"/>
                </a:lnTo>
                <a:lnTo>
                  <a:pt x="435" y="84"/>
                </a:lnTo>
                <a:lnTo>
                  <a:pt x="429" y="88"/>
                </a:lnTo>
                <a:lnTo>
                  <a:pt x="424" y="90"/>
                </a:lnTo>
                <a:lnTo>
                  <a:pt x="418" y="92"/>
                </a:lnTo>
                <a:lnTo>
                  <a:pt x="396" y="104"/>
                </a:lnTo>
                <a:lnTo>
                  <a:pt x="375" y="115"/>
                </a:lnTo>
                <a:lnTo>
                  <a:pt x="353" y="126"/>
                </a:lnTo>
                <a:lnTo>
                  <a:pt x="331" y="135"/>
                </a:lnTo>
                <a:lnTo>
                  <a:pt x="308" y="145"/>
                </a:lnTo>
                <a:lnTo>
                  <a:pt x="286" y="155"/>
                </a:lnTo>
                <a:lnTo>
                  <a:pt x="265" y="164"/>
                </a:lnTo>
                <a:lnTo>
                  <a:pt x="243" y="173"/>
                </a:lnTo>
                <a:lnTo>
                  <a:pt x="220" y="182"/>
                </a:lnTo>
                <a:lnTo>
                  <a:pt x="198" y="191"/>
                </a:lnTo>
                <a:lnTo>
                  <a:pt x="176" y="201"/>
                </a:lnTo>
                <a:lnTo>
                  <a:pt x="154" y="211"/>
                </a:lnTo>
                <a:lnTo>
                  <a:pt x="132" y="221"/>
                </a:lnTo>
                <a:lnTo>
                  <a:pt x="111" y="233"/>
                </a:lnTo>
                <a:lnTo>
                  <a:pt x="91" y="244"/>
                </a:lnTo>
                <a:lnTo>
                  <a:pt x="70" y="257"/>
                </a:lnTo>
                <a:lnTo>
                  <a:pt x="61" y="261"/>
                </a:lnTo>
                <a:lnTo>
                  <a:pt x="51" y="264"/>
                </a:lnTo>
                <a:lnTo>
                  <a:pt x="43" y="267"/>
                </a:lnTo>
                <a:lnTo>
                  <a:pt x="34" y="273"/>
                </a:lnTo>
                <a:lnTo>
                  <a:pt x="26" y="278"/>
                </a:lnTo>
                <a:lnTo>
                  <a:pt x="19" y="285"/>
                </a:lnTo>
                <a:lnTo>
                  <a:pt x="12" y="291"/>
                </a:lnTo>
                <a:lnTo>
                  <a:pt x="5" y="297"/>
                </a:lnTo>
                <a:lnTo>
                  <a:pt x="0" y="297"/>
                </a:lnTo>
                <a:lnTo>
                  <a:pt x="0" y="292"/>
                </a:lnTo>
                <a:lnTo>
                  <a:pt x="1" y="287"/>
                </a:lnTo>
                <a:lnTo>
                  <a:pt x="4" y="284"/>
                </a:lnTo>
                <a:lnTo>
                  <a:pt x="8" y="280"/>
                </a:lnTo>
                <a:lnTo>
                  <a:pt x="15" y="278"/>
                </a:lnTo>
                <a:lnTo>
                  <a:pt x="21" y="274"/>
                </a:lnTo>
                <a:lnTo>
                  <a:pt x="28" y="271"/>
                </a:lnTo>
                <a:lnTo>
                  <a:pt x="34" y="270"/>
                </a:lnTo>
                <a:lnTo>
                  <a:pt x="60" y="256"/>
                </a:lnTo>
                <a:lnTo>
                  <a:pt x="85" y="242"/>
                </a:lnTo>
                <a:lnTo>
                  <a:pt x="110" y="229"/>
                </a:lnTo>
                <a:lnTo>
                  <a:pt x="136" y="216"/>
                </a:lnTo>
                <a:lnTo>
                  <a:pt x="161" y="203"/>
                </a:lnTo>
                <a:lnTo>
                  <a:pt x="186" y="190"/>
                </a:lnTo>
                <a:lnTo>
                  <a:pt x="212" y="178"/>
                </a:lnTo>
                <a:lnTo>
                  <a:pt x="238" y="165"/>
                </a:lnTo>
                <a:lnTo>
                  <a:pt x="263" y="153"/>
                </a:lnTo>
                <a:lnTo>
                  <a:pt x="289" y="141"/>
                </a:lnTo>
                <a:lnTo>
                  <a:pt x="315" y="128"/>
                </a:lnTo>
                <a:lnTo>
                  <a:pt x="341" y="117"/>
                </a:lnTo>
                <a:lnTo>
                  <a:pt x="367" y="105"/>
                </a:lnTo>
                <a:lnTo>
                  <a:pt x="392" y="92"/>
                </a:lnTo>
                <a:lnTo>
                  <a:pt x="419" y="81"/>
                </a:lnTo>
                <a:lnTo>
                  <a:pt x="444" y="69"/>
                </a:lnTo>
                <a:lnTo>
                  <a:pt x="463" y="59"/>
                </a:lnTo>
                <a:lnTo>
                  <a:pt x="481" y="49"/>
                </a:lnTo>
                <a:lnTo>
                  <a:pt x="501" y="39"/>
                </a:lnTo>
                <a:lnTo>
                  <a:pt x="520" y="31"/>
                </a:lnTo>
                <a:lnTo>
                  <a:pt x="541" y="23"/>
                </a:lnTo>
                <a:lnTo>
                  <a:pt x="561" y="15"/>
                </a:lnTo>
                <a:lnTo>
                  <a:pt x="581" y="8"/>
                </a:lnTo>
                <a:lnTo>
                  <a:pt x="601" y="0"/>
                </a:lnTo>
                <a:lnTo>
                  <a:pt x="60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764320" y="2760840"/>
            <a:ext cx="12600" cy="33120"/>
          </a:xfrm>
          <a:custGeom>
            <a:avLst/>
            <a:gdLst/>
            <a:ahLst/>
            <a:rect l="l" t="t" r="r" b="b"/>
            <a:pathLst>
              <a:path w="55" h="124">
                <a:moveTo>
                  <a:pt x="55" y="124"/>
                </a:moveTo>
                <a:lnTo>
                  <a:pt x="47" y="110"/>
                </a:lnTo>
                <a:lnTo>
                  <a:pt x="37" y="95"/>
                </a:lnTo>
                <a:lnTo>
                  <a:pt x="28" y="81"/>
                </a:lnTo>
                <a:lnTo>
                  <a:pt x="17" y="66"/>
                </a:lnTo>
                <a:lnTo>
                  <a:pt x="9" y="51"/>
                </a:lnTo>
                <a:lnTo>
                  <a:pt x="4" y="35"/>
                </a:lnTo>
                <a:lnTo>
                  <a:pt x="0" y="18"/>
                </a:lnTo>
                <a:lnTo>
                  <a:pt x="0" y="0"/>
                </a:lnTo>
                <a:lnTo>
                  <a:pt x="9" y="14"/>
                </a:lnTo>
                <a:lnTo>
                  <a:pt x="19" y="29"/>
                </a:lnTo>
                <a:lnTo>
                  <a:pt x="27" y="44"/>
                </a:lnTo>
                <a:lnTo>
                  <a:pt x="35" y="59"/>
                </a:lnTo>
                <a:lnTo>
                  <a:pt x="40" y="75"/>
                </a:lnTo>
                <a:lnTo>
                  <a:pt x="46" y="90"/>
                </a:lnTo>
                <a:lnTo>
                  <a:pt x="52" y="107"/>
                </a:lnTo>
                <a:lnTo>
                  <a:pt x="55" y="12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910120" y="2765520"/>
            <a:ext cx="30240" cy="4680"/>
          </a:xfrm>
          <a:custGeom>
            <a:avLst/>
            <a:gdLst/>
            <a:ahLst/>
            <a:rect l="l" t="t" r="r" b="b"/>
            <a:pathLst>
              <a:path w="119" h="19">
                <a:moveTo>
                  <a:pt x="119" y="4"/>
                </a:moveTo>
                <a:lnTo>
                  <a:pt x="117" y="12"/>
                </a:lnTo>
                <a:lnTo>
                  <a:pt x="103" y="14"/>
                </a:lnTo>
                <a:lnTo>
                  <a:pt x="88" y="15"/>
                </a:lnTo>
                <a:lnTo>
                  <a:pt x="74" y="16"/>
                </a:lnTo>
                <a:lnTo>
                  <a:pt x="59" y="16"/>
                </a:lnTo>
                <a:lnTo>
                  <a:pt x="45" y="17"/>
                </a:lnTo>
                <a:lnTo>
                  <a:pt x="31" y="18"/>
                </a:lnTo>
                <a:lnTo>
                  <a:pt x="19" y="18"/>
                </a:lnTo>
                <a:lnTo>
                  <a:pt x="6" y="19"/>
                </a:lnTo>
                <a:lnTo>
                  <a:pt x="0" y="9"/>
                </a:lnTo>
                <a:lnTo>
                  <a:pt x="4" y="3"/>
                </a:lnTo>
                <a:lnTo>
                  <a:pt x="8" y="1"/>
                </a:lnTo>
                <a:lnTo>
                  <a:pt x="14" y="0"/>
                </a:lnTo>
                <a:lnTo>
                  <a:pt x="20" y="1"/>
                </a:lnTo>
                <a:lnTo>
                  <a:pt x="26" y="2"/>
                </a:lnTo>
                <a:lnTo>
                  <a:pt x="33" y="3"/>
                </a:lnTo>
                <a:lnTo>
                  <a:pt x="38" y="3"/>
                </a:lnTo>
                <a:lnTo>
                  <a:pt x="43" y="2"/>
                </a:lnTo>
                <a:lnTo>
                  <a:pt x="119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781600" y="2770200"/>
            <a:ext cx="4680" cy="3240"/>
          </a:xfrm>
          <a:custGeom>
            <a:avLst/>
            <a:gdLst/>
            <a:ahLst/>
            <a:rect l="l" t="t" r="r" b="b"/>
            <a:pathLst>
              <a:path w="23" h="14">
                <a:moveTo>
                  <a:pt x="23" y="1"/>
                </a:moveTo>
                <a:lnTo>
                  <a:pt x="23" y="6"/>
                </a:lnTo>
                <a:lnTo>
                  <a:pt x="19" y="9"/>
                </a:lnTo>
                <a:lnTo>
                  <a:pt x="16" y="12"/>
                </a:lnTo>
                <a:lnTo>
                  <a:pt x="13" y="14"/>
                </a:lnTo>
                <a:lnTo>
                  <a:pt x="9" y="14"/>
                </a:lnTo>
                <a:lnTo>
                  <a:pt x="6" y="14"/>
                </a:lnTo>
                <a:lnTo>
                  <a:pt x="2" y="13"/>
                </a:lnTo>
                <a:lnTo>
                  <a:pt x="0" y="9"/>
                </a:lnTo>
                <a:lnTo>
                  <a:pt x="2" y="4"/>
                </a:lnTo>
                <a:lnTo>
                  <a:pt x="8" y="6"/>
                </a:lnTo>
                <a:lnTo>
                  <a:pt x="13" y="4"/>
                </a:lnTo>
                <a:lnTo>
                  <a:pt x="18" y="0"/>
                </a:lnTo>
                <a:lnTo>
                  <a:pt x="23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746680" y="2771640"/>
            <a:ext cx="142920" cy="76320"/>
          </a:xfrm>
          <a:custGeom>
            <a:avLst/>
            <a:gdLst/>
            <a:ahLst/>
            <a:rect l="l" t="t" r="r" b="b"/>
            <a:pathLst>
              <a:path w="586" h="289">
                <a:moveTo>
                  <a:pt x="586" y="14"/>
                </a:moveTo>
                <a:lnTo>
                  <a:pt x="580" y="20"/>
                </a:lnTo>
                <a:lnTo>
                  <a:pt x="572" y="22"/>
                </a:lnTo>
                <a:lnTo>
                  <a:pt x="563" y="22"/>
                </a:lnTo>
                <a:lnTo>
                  <a:pt x="555" y="25"/>
                </a:lnTo>
                <a:lnTo>
                  <a:pt x="411" y="94"/>
                </a:lnTo>
                <a:lnTo>
                  <a:pt x="387" y="99"/>
                </a:lnTo>
                <a:lnTo>
                  <a:pt x="376" y="105"/>
                </a:lnTo>
                <a:lnTo>
                  <a:pt x="364" y="110"/>
                </a:lnTo>
                <a:lnTo>
                  <a:pt x="352" y="116"/>
                </a:lnTo>
                <a:lnTo>
                  <a:pt x="340" y="122"/>
                </a:lnTo>
                <a:lnTo>
                  <a:pt x="329" y="128"/>
                </a:lnTo>
                <a:lnTo>
                  <a:pt x="316" y="133"/>
                </a:lnTo>
                <a:lnTo>
                  <a:pt x="305" y="139"/>
                </a:lnTo>
                <a:lnTo>
                  <a:pt x="293" y="145"/>
                </a:lnTo>
                <a:lnTo>
                  <a:pt x="280" y="151"/>
                </a:lnTo>
                <a:lnTo>
                  <a:pt x="269" y="158"/>
                </a:lnTo>
                <a:lnTo>
                  <a:pt x="257" y="163"/>
                </a:lnTo>
                <a:lnTo>
                  <a:pt x="246" y="169"/>
                </a:lnTo>
                <a:lnTo>
                  <a:pt x="234" y="176"/>
                </a:lnTo>
                <a:lnTo>
                  <a:pt x="223" y="183"/>
                </a:lnTo>
                <a:lnTo>
                  <a:pt x="211" y="190"/>
                </a:lnTo>
                <a:lnTo>
                  <a:pt x="200" y="197"/>
                </a:lnTo>
                <a:lnTo>
                  <a:pt x="188" y="197"/>
                </a:lnTo>
                <a:lnTo>
                  <a:pt x="177" y="199"/>
                </a:lnTo>
                <a:lnTo>
                  <a:pt x="165" y="204"/>
                </a:lnTo>
                <a:lnTo>
                  <a:pt x="155" y="208"/>
                </a:lnTo>
                <a:lnTo>
                  <a:pt x="143" y="213"/>
                </a:lnTo>
                <a:lnTo>
                  <a:pt x="133" y="219"/>
                </a:lnTo>
                <a:lnTo>
                  <a:pt x="121" y="224"/>
                </a:lnTo>
                <a:lnTo>
                  <a:pt x="111" y="230"/>
                </a:lnTo>
                <a:lnTo>
                  <a:pt x="105" y="238"/>
                </a:lnTo>
                <a:lnTo>
                  <a:pt x="97" y="241"/>
                </a:lnTo>
                <a:lnTo>
                  <a:pt x="87" y="244"/>
                </a:lnTo>
                <a:lnTo>
                  <a:pt x="79" y="249"/>
                </a:lnTo>
                <a:lnTo>
                  <a:pt x="69" y="254"/>
                </a:lnTo>
                <a:lnTo>
                  <a:pt x="60" y="260"/>
                </a:lnTo>
                <a:lnTo>
                  <a:pt x="51" y="266"/>
                </a:lnTo>
                <a:lnTo>
                  <a:pt x="42" y="272"/>
                </a:lnTo>
                <a:lnTo>
                  <a:pt x="33" y="276"/>
                </a:lnTo>
                <a:lnTo>
                  <a:pt x="22" y="282"/>
                </a:lnTo>
                <a:lnTo>
                  <a:pt x="13" y="285"/>
                </a:lnTo>
                <a:lnTo>
                  <a:pt x="3" y="289"/>
                </a:lnTo>
                <a:lnTo>
                  <a:pt x="0" y="282"/>
                </a:lnTo>
                <a:lnTo>
                  <a:pt x="3" y="277"/>
                </a:lnTo>
                <a:lnTo>
                  <a:pt x="6" y="274"/>
                </a:lnTo>
                <a:lnTo>
                  <a:pt x="11" y="272"/>
                </a:lnTo>
                <a:lnTo>
                  <a:pt x="16" y="269"/>
                </a:lnTo>
                <a:lnTo>
                  <a:pt x="22" y="267"/>
                </a:lnTo>
                <a:lnTo>
                  <a:pt x="28" y="264"/>
                </a:lnTo>
                <a:lnTo>
                  <a:pt x="31" y="259"/>
                </a:lnTo>
                <a:lnTo>
                  <a:pt x="63" y="244"/>
                </a:lnTo>
                <a:lnTo>
                  <a:pt x="93" y="229"/>
                </a:lnTo>
                <a:lnTo>
                  <a:pt x="124" y="214"/>
                </a:lnTo>
                <a:lnTo>
                  <a:pt x="155" y="199"/>
                </a:lnTo>
                <a:lnTo>
                  <a:pt x="186" y="184"/>
                </a:lnTo>
                <a:lnTo>
                  <a:pt x="217" y="169"/>
                </a:lnTo>
                <a:lnTo>
                  <a:pt x="248" y="155"/>
                </a:lnTo>
                <a:lnTo>
                  <a:pt x="279" y="140"/>
                </a:lnTo>
                <a:lnTo>
                  <a:pt x="310" y="126"/>
                </a:lnTo>
                <a:lnTo>
                  <a:pt x="341" y="113"/>
                </a:lnTo>
                <a:lnTo>
                  <a:pt x="372" y="98"/>
                </a:lnTo>
                <a:lnTo>
                  <a:pt x="404" y="84"/>
                </a:lnTo>
                <a:lnTo>
                  <a:pt x="435" y="70"/>
                </a:lnTo>
                <a:lnTo>
                  <a:pt x="467" y="56"/>
                </a:lnTo>
                <a:lnTo>
                  <a:pt x="498" y="42"/>
                </a:lnTo>
                <a:lnTo>
                  <a:pt x="529" y="29"/>
                </a:lnTo>
                <a:lnTo>
                  <a:pt x="535" y="23"/>
                </a:lnTo>
                <a:lnTo>
                  <a:pt x="541" y="19"/>
                </a:lnTo>
                <a:lnTo>
                  <a:pt x="548" y="17"/>
                </a:lnTo>
                <a:lnTo>
                  <a:pt x="555" y="14"/>
                </a:lnTo>
                <a:lnTo>
                  <a:pt x="560" y="11"/>
                </a:lnTo>
                <a:lnTo>
                  <a:pt x="567" y="9"/>
                </a:lnTo>
                <a:lnTo>
                  <a:pt x="573" y="5"/>
                </a:lnTo>
                <a:lnTo>
                  <a:pt x="578" y="0"/>
                </a:lnTo>
                <a:lnTo>
                  <a:pt x="580" y="2"/>
                </a:lnTo>
                <a:lnTo>
                  <a:pt x="583" y="5"/>
                </a:lnTo>
                <a:lnTo>
                  <a:pt x="586" y="9"/>
                </a:lnTo>
                <a:lnTo>
                  <a:pt x="586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913360" y="2776680"/>
            <a:ext cx="25560" cy="4680"/>
          </a:xfrm>
          <a:custGeom>
            <a:avLst/>
            <a:gdLst/>
            <a:ahLst/>
            <a:rect l="l" t="t" r="r" b="b"/>
            <a:pathLst>
              <a:path w="106" h="20">
                <a:moveTo>
                  <a:pt x="102" y="3"/>
                </a:moveTo>
                <a:lnTo>
                  <a:pt x="105" y="6"/>
                </a:lnTo>
                <a:lnTo>
                  <a:pt x="106" y="9"/>
                </a:lnTo>
                <a:lnTo>
                  <a:pt x="106" y="13"/>
                </a:lnTo>
                <a:lnTo>
                  <a:pt x="103" y="15"/>
                </a:lnTo>
                <a:lnTo>
                  <a:pt x="91" y="15"/>
                </a:lnTo>
                <a:lnTo>
                  <a:pt x="77" y="16"/>
                </a:lnTo>
                <a:lnTo>
                  <a:pt x="63" y="17"/>
                </a:lnTo>
                <a:lnTo>
                  <a:pt x="50" y="18"/>
                </a:lnTo>
                <a:lnTo>
                  <a:pt x="37" y="20"/>
                </a:lnTo>
                <a:lnTo>
                  <a:pt x="24" y="18"/>
                </a:lnTo>
                <a:lnTo>
                  <a:pt x="11" y="17"/>
                </a:lnTo>
                <a:lnTo>
                  <a:pt x="0" y="15"/>
                </a:lnTo>
                <a:lnTo>
                  <a:pt x="1" y="0"/>
                </a:lnTo>
                <a:lnTo>
                  <a:pt x="102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958000" y="2781360"/>
            <a:ext cx="14040" cy="7920"/>
          </a:xfrm>
          <a:custGeom>
            <a:avLst/>
            <a:gdLst/>
            <a:ahLst/>
            <a:rect l="l" t="t" r="r" b="b"/>
            <a:pathLst>
              <a:path w="59" h="34">
                <a:moveTo>
                  <a:pt x="57" y="14"/>
                </a:moveTo>
                <a:lnTo>
                  <a:pt x="49" y="14"/>
                </a:lnTo>
                <a:lnTo>
                  <a:pt x="42" y="17"/>
                </a:lnTo>
                <a:lnTo>
                  <a:pt x="35" y="20"/>
                </a:lnTo>
                <a:lnTo>
                  <a:pt x="28" y="25"/>
                </a:lnTo>
                <a:lnTo>
                  <a:pt x="21" y="29"/>
                </a:lnTo>
                <a:lnTo>
                  <a:pt x="14" y="33"/>
                </a:lnTo>
                <a:lnTo>
                  <a:pt x="7" y="34"/>
                </a:lnTo>
                <a:lnTo>
                  <a:pt x="0" y="33"/>
                </a:lnTo>
                <a:lnTo>
                  <a:pt x="4" y="25"/>
                </a:lnTo>
                <a:lnTo>
                  <a:pt x="8" y="19"/>
                </a:lnTo>
                <a:lnTo>
                  <a:pt x="14" y="15"/>
                </a:lnTo>
                <a:lnTo>
                  <a:pt x="22" y="12"/>
                </a:lnTo>
                <a:lnTo>
                  <a:pt x="29" y="10"/>
                </a:lnTo>
                <a:lnTo>
                  <a:pt x="37" y="7"/>
                </a:lnTo>
                <a:lnTo>
                  <a:pt x="44" y="5"/>
                </a:lnTo>
                <a:lnTo>
                  <a:pt x="50" y="0"/>
                </a:lnTo>
                <a:lnTo>
                  <a:pt x="54" y="2"/>
                </a:lnTo>
                <a:lnTo>
                  <a:pt x="58" y="5"/>
                </a:lnTo>
                <a:lnTo>
                  <a:pt x="59" y="10"/>
                </a:lnTo>
                <a:lnTo>
                  <a:pt x="57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751360" y="2781360"/>
            <a:ext cx="146160" cy="76320"/>
          </a:xfrm>
          <a:custGeom>
            <a:avLst/>
            <a:gdLst/>
            <a:ahLst/>
            <a:rect l="l" t="t" r="r" b="b"/>
            <a:pathLst>
              <a:path w="603" h="282">
                <a:moveTo>
                  <a:pt x="601" y="13"/>
                </a:moveTo>
                <a:lnTo>
                  <a:pt x="582" y="21"/>
                </a:lnTo>
                <a:lnTo>
                  <a:pt x="562" y="29"/>
                </a:lnTo>
                <a:lnTo>
                  <a:pt x="544" y="37"/>
                </a:lnTo>
                <a:lnTo>
                  <a:pt x="524" y="45"/>
                </a:lnTo>
                <a:lnTo>
                  <a:pt x="506" y="53"/>
                </a:lnTo>
                <a:lnTo>
                  <a:pt x="487" y="62"/>
                </a:lnTo>
                <a:lnTo>
                  <a:pt x="469" y="71"/>
                </a:lnTo>
                <a:lnTo>
                  <a:pt x="450" y="82"/>
                </a:lnTo>
                <a:lnTo>
                  <a:pt x="423" y="93"/>
                </a:lnTo>
                <a:lnTo>
                  <a:pt x="394" y="106"/>
                </a:lnTo>
                <a:lnTo>
                  <a:pt x="366" y="119"/>
                </a:lnTo>
                <a:lnTo>
                  <a:pt x="339" y="131"/>
                </a:lnTo>
                <a:lnTo>
                  <a:pt x="311" y="144"/>
                </a:lnTo>
                <a:lnTo>
                  <a:pt x="283" y="158"/>
                </a:lnTo>
                <a:lnTo>
                  <a:pt x="256" y="171"/>
                </a:lnTo>
                <a:lnTo>
                  <a:pt x="228" y="183"/>
                </a:lnTo>
                <a:lnTo>
                  <a:pt x="199" y="197"/>
                </a:lnTo>
                <a:lnTo>
                  <a:pt x="171" y="210"/>
                </a:lnTo>
                <a:lnTo>
                  <a:pt x="144" y="222"/>
                </a:lnTo>
                <a:lnTo>
                  <a:pt x="116" y="235"/>
                </a:lnTo>
                <a:lnTo>
                  <a:pt x="88" y="248"/>
                </a:lnTo>
                <a:lnTo>
                  <a:pt x="61" y="259"/>
                </a:lnTo>
                <a:lnTo>
                  <a:pt x="32" y="271"/>
                </a:lnTo>
                <a:lnTo>
                  <a:pt x="4" y="282"/>
                </a:lnTo>
                <a:lnTo>
                  <a:pt x="1" y="280"/>
                </a:lnTo>
                <a:lnTo>
                  <a:pt x="1" y="277"/>
                </a:lnTo>
                <a:lnTo>
                  <a:pt x="0" y="273"/>
                </a:lnTo>
                <a:lnTo>
                  <a:pt x="0" y="270"/>
                </a:lnTo>
                <a:lnTo>
                  <a:pt x="26" y="259"/>
                </a:lnTo>
                <a:lnTo>
                  <a:pt x="53" y="249"/>
                </a:lnTo>
                <a:lnTo>
                  <a:pt x="79" y="237"/>
                </a:lnTo>
                <a:lnTo>
                  <a:pt x="106" y="226"/>
                </a:lnTo>
                <a:lnTo>
                  <a:pt x="131" y="214"/>
                </a:lnTo>
                <a:lnTo>
                  <a:pt x="158" y="202"/>
                </a:lnTo>
                <a:lnTo>
                  <a:pt x="183" y="190"/>
                </a:lnTo>
                <a:lnTo>
                  <a:pt x="209" y="177"/>
                </a:lnTo>
                <a:lnTo>
                  <a:pt x="236" y="166"/>
                </a:lnTo>
                <a:lnTo>
                  <a:pt x="261" y="153"/>
                </a:lnTo>
                <a:lnTo>
                  <a:pt x="288" y="141"/>
                </a:lnTo>
                <a:lnTo>
                  <a:pt x="313" y="129"/>
                </a:lnTo>
                <a:lnTo>
                  <a:pt x="340" y="118"/>
                </a:lnTo>
                <a:lnTo>
                  <a:pt x="366" y="106"/>
                </a:lnTo>
                <a:lnTo>
                  <a:pt x="393" y="95"/>
                </a:lnTo>
                <a:lnTo>
                  <a:pt x="419" y="84"/>
                </a:lnTo>
                <a:lnTo>
                  <a:pt x="424" y="77"/>
                </a:lnTo>
                <a:lnTo>
                  <a:pt x="444" y="68"/>
                </a:lnTo>
                <a:lnTo>
                  <a:pt x="466" y="59"/>
                </a:lnTo>
                <a:lnTo>
                  <a:pt x="487" y="50"/>
                </a:lnTo>
                <a:lnTo>
                  <a:pt x="508" y="39"/>
                </a:lnTo>
                <a:lnTo>
                  <a:pt x="530" y="29"/>
                </a:lnTo>
                <a:lnTo>
                  <a:pt x="550" y="18"/>
                </a:lnTo>
                <a:lnTo>
                  <a:pt x="572" y="9"/>
                </a:lnTo>
                <a:lnTo>
                  <a:pt x="594" y="0"/>
                </a:lnTo>
                <a:lnTo>
                  <a:pt x="599" y="1"/>
                </a:lnTo>
                <a:lnTo>
                  <a:pt x="602" y="5"/>
                </a:lnTo>
                <a:lnTo>
                  <a:pt x="603" y="8"/>
                </a:lnTo>
                <a:lnTo>
                  <a:pt x="601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994360" y="2782800"/>
            <a:ext cx="6480" cy="3240"/>
          </a:xfrm>
          <a:custGeom>
            <a:avLst/>
            <a:gdLst/>
            <a:ahLst/>
            <a:rect l="l" t="t" r="r" b="b"/>
            <a:pathLst>
              <a:path w="26" h="12">
                <a:moveTo>
                  <a:pt x="26" y="10"/>
                </a:moveTo>
                <a:lnTo>
                  <a:pt x="21" y="12"/>
                </a:lnTo>
                <a:lnTo>
                  <a:pt x="14" y="11"/>
                </a:lnTo>
                <a:lnTo>
                  <a:pt x="7" y="9"/>
                </a:lnTo>
                <a:lnTo>
                  <a:pt x="0" y="5"/>
                </a:lnTo>
                <a:lnTo>
                  <a:pt x="0" y="0"/>
                </a:lnTo>
                <a:lnTo>
                  <a:pt x="8" y="2"/>
                </a:lnTo>
                <a:lnTo>
                  <a:pt x="17" y="1"/>
                </a:lnTo>
                <a:lnTo>
                  <a:pt x="24" y="2"/>
                </a:lnTo>
                <a:lnTo>
                  <a:pt x="26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927760" y="2784600"/>
            <a:ext cx="4680" cy="4680"/>
          </a:xfrm>
          <a:custGeom>
            <a:avLst/>
            <a:gdLst/>
            <a:ahLst/>
            <a:rect l="l" t="t" r="r" b="b"/>
            <a:pathLst>
              <a:path w="20" h="15">
                <a:moveTo>
                  <a:pt x="20" y="12"/>
                </a:moveTo>
                <a:lnTo>
                  <a:pt x="15" y="15"/>
                </a:lnTo>
                <a:lnTo>
                  <a:pt x="11" y="14"/>
                </a:lnTo>
                <a:lnTo>
                  <a:pt x="5" y="11"/>
                </a:lnTo>
                <a:lnTo>
                  <a:pt x="0" y="10"/>
                </a:lnTo>
                <a:lnTo>
                  <a:pt x="1" y="5"/>
                </a:lnTo>
                <a:lnTo>
                  <a:pt x="5" y="3"/>
                </a:lnTo>
                <a:lnTo>
                  <a:pt x="10" y="2"/>
                </a:lnTo>
                <a:lnTo>
                  <a:pt x="14" y="0"/>
                </a:lnTo>
                <a:lnTo>
                  <a:pt x="20" y="0"/>
                </a:lnTo>
                <a:lnTo>
                  <a:pt x="20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919840" y="2789280"/>
            <a:ext cx="58680" cy="28440"/>
          </a:xfrm>
          <a:custGeom>
            <a:avLst/>
            <a:gdLst/>
            <a:ahLst/>
            <a:rect l="l" t="t" r="r" b="b"/>
            <a:pathLst>
              <a:path w="241" h="106">
                <a:moveTo>
                  <a:pt x="241" y="6"/>
                </a:moveTo>
                <a:lnTo>
                  <a:pt x="239" y="12"/>
                </a:lnTo>
                <a:lnTo>
                  <a:pt x="235" y="16"/>
                </a:lnTo>
                <a:lnTo>
                  <a:pt x="231" y="17"/>
                </a:lnTo>
                <a:lnTo>
                  <a:pt x="226" y="18"/>
                </a:lnTo>
                <a:lnTo>
                  <a:pt x="220" y="20"/>
                </a:lnTo>
                <a:lnTo>
                  <a:pt x="214" y="21"/>
                </a:lnTo>
                <a:lnTo>
                  <a:pt x="210" y="22"/>
                </a:lnTo>
                <a:lnTo>
                  <a:pt x="205" y="24"/>
                </a:lnTo>
                <a:lnTo>
                  <a:pt x="190" y="30"/>
                </a:lnTo>
                <a:lnTo>
                  <a:pt x="176" y="37"/>
                </a:lnTo>
                <a:lnTo>
                  <a:pt x="163" y="44"/>
                </a:lnTo>
                <a:lnTo>
                  <a:pt x="148" y="51"/>
                </a:lnTo>
                <a:lnTo>
                  <a:pt x="134" y="58"/>
                </a:lnTo>
                <a:lnTo>
                  <a:pt x="120" y="65"/>
                </a:lnTo>
                <a:lnTo>
                  <a:pt x="105" y="70"/>
                </a:lnTo>
                <a:lnTo>
                  <a:pt x="90" y="75"/>
                </a:lnTo>
                <a:lnTo>
                  <a:pt x="79" y="80"/>
                </a:lnTo>
                <a:lnTo>
                  <a:pt x="68" y="84"/>
                </a:lnTo>
                <a:lnTo>
                  <a:pt x="57" y="89"/>
                </a:lnTo>
                <a:lnTo>
                  <a:pt x="45" y="93"/>
                </a:lnTo>
                <a:lnTo>
                  <a:pt x="35" y="98"/>
                </a:lnTo>
                <a:lnTo>
                  <a:pt x="23" y="101"/>
                </a:lnTo>
                <a:lnTo>
                  <a:pt x="12" y="105"/>
                </a:lnTo>
                <a:lnTo>
                  <a:pt x="0" y="106"/>
                </a:lnTo>
                <a:lnTo>
                  <a:pt x="4" y="103"/>
                </a:lnTo>
                <a:lnTo>
                  <a:pt x="7" y="99"/>
                </a:lnTo>
                <a:lnTo>
                  <a:pt x="12" y="96"/>
                </a:lnTo>
                <a:lnTo>
                  <a:pt x="16" y="93"/>
                </a:lnTo>
                <a:lnTo>
                  <a:pt x="21" y="91"/>
                </a:lnTo>
                <a:lnTo>
                  <a:pt x="26" y="89"/>
                </a:lnTo>
                <a:lnTo>
                  <a:pt x="31" y="88"/>
                </a:lnTo>
                <a:lnTo>
                  <a:pt x="36" y="86"/>
                </a:lnTo>
                <a:lnTo>
                  <a:pt x="49" y="81"/>
                </a:lnTo>
                <a:lnTo>
                  <a:pt x="60" y="75"/>
                </a:lnTo>
                <a:lnTo>
                  <a:pt x="73" y="69"/>
                </a:lnTo>
                <a:lnTo>
                  <a:pt x="84" y="63"/>
                </a:lnTo>
                <a:lnTo>
                  <a:pt x="97" y="58"/>
                </a:lnTo>
                <a:lnTo>
                  <a:pt x="110" y="52"/>
                </a:lnTo>
                <a:lnTo>
                  <a:pt x="121" y="46"/>
                </a:lnTo>
                <a:lnTo>
                  <a:pt x="134" y="40"/>
                </a:lnTo>
                <a:lnTo>
                  <a:pt x="147" y="36"/>
                </a:lnTo>
                <a:lnTo>
                  <a:pt x="159" y="30"/>
                </a:lnTo>
                <a:lnTo>
                  <a:pt x="172" y="25"/>
                </a:lnTo>
                <a:lnTo>
                  <a:pt x="185" y="20"/>
                </a:lnTo>
                <a:lnTo>
                  <a:pt x="196" y="15"/>
                </a:lnTo>
                <a:lnTo>
                  <a:pt x="209" y="9"/>
                </a:lnTo>
                <a:lnTo>
                  <a:pt x="221" y="5"/>
                </a:lnTo>
                <a:lnTo>
                  <a:pt x="234" y="0"/>
                </a:lnTo>
                <a:lnTo>
                  <a:pt x="24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762520" y="2790720"/>
            <a:ext cx="141480" cy="76320"/>
          </a:xfrm>
          <a:custGeom>
            <a:avLst/>
            <a:gdLst/>
            <a:ahLst/>
            <a:rect l="l" t="t" r="r" b="b"/>
            <a:pathLst>
              <a:path w="579" h="284">
                <a:moveTo>
                  <a:pt x="577" y="0"/>
                </a:moveTo>
                <a:lnTo>
                  <a:pt x="579" y="3"/>
                </a:lnTo>
                <a:lnTo>
                  <a:pt x="579" y="7"/>
                </a:lnTo>
                <a:lnTo>
                  <a:pt x="576" y="11"/>
                </a:lnTo>
                <a:lnTo>
                  <a:pt x="574" y="15"/>
                </a:lnTo>
                <a:lnTo>
                  <a:pt x="556" y="21"/>
                </a:lnTo>
                <a:lnTo>
                  <a:pt x="538" y="27"/>
                </a:lnTo>
                <a:lnTo>
                  <a:pt x="521" y="34"/>
                </a:lnTo>
                <a:lnTo>
                  <a:pt x="503" y="41"/>
                </a:lnTo>
                <a:lnTo>
                  <a:pt x="486" y="48"/>
                </a:lnTo>
                <a:lnTo>
                  <a:pt x="469" y="56"/>
                </a:lnTo>
                <a:lnTo>
                  <a:pt x="451" y="64"/>
                </a:lnTo>
                <a:lnTo>
                  <a:pt x="435" y="72"/>
                </a:lnTo>
                <a:lnTo>
                  <a:pt x="418" y="80"/>
                </a:lnTo>
                <a:lnTo>
                  <a:pt x="401" y="90"/>
                </a:lnTo>
                <a:lnTo>
                  <a:pt x="384" y="98"/>
                </a:lnTo>
                <a:lnTo>
                  <a:pt x="366" y="106"/>
                </a:lnTo>
                <a:lnTo>
                  <a:pt x="349" y="114"/>
                </a:lnTo>
                <a:lnTo>
                  <a:pt x="332" y="121"/>
                </a:lnTo>
                <a:lnTo>
                  <a:pt x="313" y="129"/>
                </a:lnTo>
                <a:lnTo>
                  <a:pt x="296" y="136"/>
                </a:lnTo>
                <a:lnTo>
                  <a:pt x="274" y="147"/>
                </a:lnTo>
                <a:lnTo>
                  <a:pt x="252" y="159"/>
                </a:lnTo>
                <a:lnTo>
                  <a:pt x="230" y="169"/>
                </a:lnTo>
                <a:lnTo>
                  <a:pt x="208" y="180"/>
                </a:lnTo>
                <a:lnTo>
                  <a:pt x="188" y="191"/>
                </a:lnTo>
                <a:lnTo>
                  <a:pt x="166" y="201"/>
                </a:lnTo>
                <a:lnTo>
                  <a:pt x="145" y="214"/>
                </a:lnTo>
                <a:lnTo>
                  <a:pt x="124" y="227"/>
                </a:lnTo>
                <a:lnTo>
                  <a:pt x="110" y="233"/>
                </a:lnTo>
                <a:lnTo>
                  <a:pt x="97" y="238"/>
                </a:lnTo>
                <a:lnTo>
                  <a:pt x="84" y="245"/>
                </a:lnTo>
                <a:lnTo>
                  <a:pt x="70" y="252"/>
                </a:lnTo>
                <a:lnTo>
                  <a:pt x="57" y="260"/>
                </a:lnTo>
                <a:lnTo>
                  <a:pt x="45" y="268"/>
                </a:lnTo>
                <a:lnTo>
                  <a:pt x="32" y="275"/>
                </a:lnTo>
                <a:lnTo>
                  <a:pt x="19" y="283"/>
                </a:lnTo>
                <a:lnTo>
                  <a:pt x="14" y="283"/>
                </a:lnTo>
                <a:lnTo>
                  <a:pt x="7" y="284"/>
                </a:lnTo>
                <a:lnTo>
                  <a:pt x="2" y="283"/>
                </a:lnTo>
                <a:lnTo>
                  <a:pt x="0" y="277"/>
                </a:lnTo>
                <a:lnTo>
                  <a:pt x="0" y="272"/>
                </a:lnTo>
                <a:lnTo>
                  <a:pt x="11" y="265"/>
                </a:lnTo>
                <a:lnTo>
                  <a:pt x="24" y="258"/>
                </a:lnTo>
                <a:lnTo>
                  <a:pt x="37" y="252"/>
                </a:lnTo>
                <a:lnTo>
                  <a:pt x="49" y="247"/>
                </a:lnTo>
                <a:lnTo>
                  <a:pt x="62" y="242"/>
                </a:lnTo>
                <a:lnTo>
                  <a:pt x="75" y="236"/>
                </a:lnTo>
                <a:lnTo>
                  <a:pt x="87" y="229"/>
                </a:lnTo>
                <a:lnTo>
                  <a:pt x="99" y="221"/>
                </a:lnTo>
                <a:lnTo>
                  <a:pt x="124" y="208"/>
                </a:lnTo>
                <a:lnTo>
                  <a:pt x="148" y="196"/>
                </a:lnTo>
                <a:lnTo>
                  <a:pt x="174" y="183"/>
                </a:lnTo>
                <a:lnTo>
                  <a:pt x="199" y="170"/>
                </a:lnTo>
                <a:lnTo>
                  <a:pt x="225" y="158"/>
                </a:lnTo>
                <a:lnTo>
                  <a:pt x="249" y="146"/>
                </a:lnTo>
                <a:lnTo>
                  <a:pt x="274" y="133"/>
                </a:lnTo>
                <a:lnTo>
                  <a:pt x="299" y="122"/>
                </a:lnTo>
                <a:lnTo>
                  <a:pt x="325" y="109"/>
                </a:lnTo>
                <a:lnTo>
                  <a:pt x="350" y="98"/>
                </a:lnTo>
                <a:lnTo>
                  <a:pt x="375" y="86"/>
                </a:lnTo>
                <a:lnTo>
                  <a:pt x="401" y="74"/>
                </a:lnTo>
                <a:lnTo>
                  <a:pt x="426" y="62"/>
                </a:lnTo>
                <a:lnTo>
                  <a:pt x="451" y="49"/>
                </a:lnTo>
                <a:lnTo>
                  <a:pt x="477" y="38"/>
                </a:lnTo>
                <a:lnTo>
                  <a:pt x="502" y="25"/>
                </a:lnTo>
                <a:lnTo>
                  <a:pt x="511" y="22"/>
                </a:lnTo>
                <a:lnTo>
                  <a:pt x="521" y="18"/>
                </a:lnTo>
                <a:lnTo>
                  <a:pt x="530" y="15"/>
                </a:lnTo>
                <a:lnTo>
                  <a:pt x="540" y="12"/>
                </a:lnTo>
                <a:lnTo>
                  <a:pt x="549" y="9"/>
                </a:lnTo>
                <a:lnTo>
                  <a:pt x="559" y="6"/>
                </a:lnTo>
                <a:lnTo>
                  <a:pt x="568" y="3"/>
                </a:lnTo>
                <a:lnTo>
                  <a:pt x="57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997600" y="2793960"/>
            <a:ext cx="12600" cy="4680"/>
          </a:xfrm>
          <a:custGeom>
            <a:avLst/>
            <a:gdLst/>
            <a:ahLst/>
            <a:rect l="l" t="t" r="r" b="b"/>
            <a:pathLst>
              <a:path w="47" h="16">
                <a:moveTo>
                  <a:pt x="47" y="12"/>
                </a:moveTo>
                <a:lnTo>
                  <a:pt x="47" y="16"/>
                </a:lnTo>
                <a:lnTo>
                  <a:pt x="41" y="15"/>
                </a:lnTo>
                <a:lnTo>
                  <a:pt x="34" y="16"/>
                </a:lnTo>
                <a:lnTo>
                  <a:pt x="27" y="16"/>
                </a:lnTo>
                <a:lnTo>
                  <a:pt x="21" y="16"/>
                </a:lnTo>
                <a:lnTo>
                  <a:pt x="14" y="16"/>
                </a:lnTo>
                <a:lnTo>
                  <a:pt x="8" y="15"/>
                </a:lnTo>
                <a:lnTo>
                  <a:pt x="3" y="12"/>
                </a:lnTo>
                <a:lnTo>
                  <a:pt x="0" y="6"/>
                </a:lnTo>
                <a:lnTo>
                  <a:pt x="4" y="3"/>
                </a:lnTo>
                <a:lnTo>
                  <a:pt x="10" y="2"/>
                </a:lnTo>
                <a:lnTo>
                  <a:pt x="16" y="1"/>
                </a:lnTo>
                <a:lnTo>
                  <a:pt x="22" y="0"/>
                </a:lnTo>
                <a:lnTo>
                  <a:pt x="27" y="1"/>
                </a:lnTo>
                <a:lnTo>
                  <a:pt x="33" y="2"/>
                </a:lnTo>
                <a:lnTo>
                  <a:pt x="39" y="3"/>
                </a:lnTo>
                <a:lnTo>
                  <a:pt x="45" y="6"/>
                </a:lnTo>
                <a:lnTo>
                  <a:pt x="47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813280" y="2797200"/>
            <a:ext cx="98640" cy="54000"/>
          </a:xfrm>
          <a:custGeom>
            <a:avLst/>
            <a:gdLst/>
            <a:ahLst/>
            <a:rect l="l" t="t" r="r" b="b"/>
            <a:pathLst>
              <a:path w="404" h="200">
                <a:moveTo>
                  <a:pt x="402" y="15"/>
                </a:moveTo>
                <a:lnTo>
                  <a:pt x="396" y="16"/>
                </a:lnTo>
                <a:lnTo>
                  <a:pt x="390" y="17"/>
                </a:lnTo>
                <a:lnTo>
                  <a:pt x="385" y="19"/>
                </a:lnTo>
                <a:lnTo>
                  <a:pt x="379" y="21"/>
                </a:lnTo>
                <a:lnTo>
                  <a:pt x="373" y="22"/>
                </a:lnTo>
                <a:lnTo>
                  <a:pt x="367" y="24"/>
                </a:lnTo>
                <a:lnTo>
                  <a:pt x="363" y="27"/>
                </a:lnTo>
                <a:lnTo>
                  <a:pt x="358" y="31"/>
                </a:lnTo>
                <a:lnTo>
                  <a:pt x="342" y="37"/>
                </a:lnTo>
                <a:lnTo>
                  <a:pt x="326" y="44"/>
                </a:lnTo>
                <a:lnTo>
                  <a:pt x="310" y="51"/>
                </a:lnTo>
                <a:lnTo>
                  <a:pt x="293" y="57"/>
                </a:lnTo>
                <a:lnTo>
                  <a:pt x="277" y="64"/>
                </a:lnTo>
                <a:lnTo>
                  <a:pt x="262" y="71"/>
                </a:lnTo>
                <a:lnTo>
                  <a:pt x="246" y="79"/>
                </a:lnTo>
                <a:lnTo>
                  <a:pt x="231" y="87"/>
                </a:lnTo>
                <a:lnTo>
                  <a:pt x="217" y="94"/>
                </a:lnTo>
                <a:lnTo>
                  <a:pt x="202" y="101"/>
                </a:lnTo>
                <a:lnTo>
                  <a:pt x="189" y="109"/>
                </a:lnTo>
                <a:lnTo>
                  <a:pt x="175" y="116"/>
                </a:lnTo>
                <a:lnTo>
                  <a:pt x="160" y="123"/>
                </a:lnTo>
                <a:lnTo>
                  <a:pt x="146" y="130"/>
                </a:lnTo>
                <a:lnTo>
                  <a:pt x="132" y="138"/>
                </a:lnTo>
                <a:lnTo>
                  <a:pt x="117" y="145"/>
                </a:lnTo>
                <a:lnTo>
                  <a:pt x="103" y="152"/>
                </a:lnTo>
                <a:lnTo>
                  <a:pt x="90" y="159"/>
                </a:lnTo>
                <a:lnTo>
                  <a:pt x="75" y="166"/>
                </a:lnTo>
                <a:lnTo>
                  <a:pt x="61" y="173"/>
                </a:lnTo>
                <a:lnTo>
                  <a:pt x="46" y="180"/>
                </a:lnTo>
                <a:lnTo>
                  <a:pt x="32" y="186"/>
                </a:lnTo>
                <a:lnTo>
                  <a:pt x="18" y="193"/>
                </a:lnTo>
                <a:lnTo>
                  <a:pt x="3" y="200"/>
                </a:lnTo>
                <a:lnTo>
                  <a:pt x="1" y="198"/>
                </a:lnTo>
                <a:lnTo>
                  <a:pt x="0" y="196"/>
                </a:lnTo>
                <a:lnTo>
                  <a:pt x="0" y="192"/>
                </a:lnTo>
                <a:lnTo>
                  <a:pt x="0" y="190"/>
                </a:lnTo>
                <a:lnTo>
                  <a:pt x="23" y="178"/>
                </a:lnTo>
                <a:lnTo>
                  <a:pt x="47" y="167"/>
                </a:lnTo>
                <a:lnTo>
                  <a:pt x="70" y="154"/>
                </a:lnTo>
                <a:lnTo>
                  <a:pt x="93" y="143"/>
                </a:lnTo>
                <a:lnTo>
                  <a:pt x="117" y="131"/>
                </a:lnTo>
                <a:lnTo>
                  <a:pt x="140" y="118"/>
                </a:lnTo>
                <a:lnTo>
                  <a:pt x="163" y="107"/>
                </a:lnTo>
                <a:lnTo>
                  <a:pt x="187" y="95"/>
                </a:lnTo>
                <a:lnTo>
                  <a:pt x="211" y="84"/>
                </a:lnTo>
                <a:lnTo>
                  <a:pt x="235" y="71"/>
                </a:lnTo>
                <a:lnTo>
                  <a:pt x="258" y="60"/>
                </a:lnTo>
                <a:lnTo>
                  <a:pt x="282" y="48"/>
                </a:lnTo>
                <a:lnTo>
                  <a:pt x="305" y="37"/>
                </a:lnTo>
                <a:lnTo>
                  <a:pt x="329" y="25"/>
                </a:lnTo>
                <a:lnTo>
                  <a:pt x="352" y="15"/>
                </a:lnTo>
                <a:lnTo>
                  <a:pt x="376" y="3"/>
                </a:lnTo>
                <a:lnTo>
                  <a:pt x="381" y="2"/>
                </a:lnTo>
                <a:lnTo>
                  <a:pt x="387" y="1"/>
                </a:lnTo>
                <a:lnTo>
                  <a:pt x="391" y="0"/>
                </a:lnTo>
                <a:lnTo>
                  <a:pt x="397" y="0"/>
                </a:lnTo>
                <a:lnTo>
                  <a:pt x="401" y="1"/>
                </a:lnTo>
                <a:lnTo>
                  <a:pt x="403" y="3"/>
                </a:lnTo>
                <a:lnTo>
                  <a:pt x="404" y="8"/>
                </a:lnTo>
                <a:lnTo>
                  <a:pt x="402" y="1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934240" y="2798640"/>
            <a:ext cx="50760" cy="27000"/>
          </a:xfrm>
          <a:custGeom>
            <a:avLst/>
            <a:gdLst/>
            <a:ahLst/>
            <a:rect l="l" t="t" r="r" b="b"/>
            <a:pathLst>
              <a:path w="209" h="105">
                <a:moveTo>
                  <a:pt x="207" y="21"/>
                </a:moveTo>
                <a:lnTo>
                  <a:pt x="201" y="24"/>
                </a:lnTo>
                <a:lnTo>
                  <a:pt x="194" y="24"/>
                </a:lnTo>
                <a:lnTo>
                  <a:pt x="187" y="22"/>
                </a:lnTo>
                <a:lnTo>
                  <a:pt x="182" y="24"/>
                </a:lnTo>
                <a:lnTo>
                  <a:pt x="166" y="31"/>
                </a:lnTo>
                <a:lnTo>
                  <a:pt x="148" y="39"/>
                </a:lnTo>
                <a:lnTo>
                  <a:pt x="132" y="46"/>
                </a:lnTo>
                <a:lnTo>
                  <a:pt x="115" y="53"/>
                </a:lnTo>
                <a:lnTo>
                  <a:pt x="99" y="60"/>
                </a:lnTo>
                <a:lnTo>
                  <a:pt x="83" y="67"/>
                </a:lnTo>
                <a:lnTo>
                  <a:pt x="66" y="74"/>
                </a:lnTo>
                <a:lnTo>
                  <a:pt x="50" y="81"/>
                </a:lnTo>
                <a:lnTo>
                  <a:pt x="9" y="105"/>
                </a:lnTo>
                <a:lnTo>
                  <a:pt x="4" y="102"/>
                </a:lnTo>
                <a:lnTo>
                  <a:pt x="1" y="96"/>
                </a:lnTo>
                <a:lnTo>
                  <a:pt x="0" y="90"/>
                </a:lnTo>
                <a:lnTo>
                  <a:pt x="5" y="85"/>
                </a:lnTo>
                <a:lnTo>
                  <a:pt x="18" y="78"/>
                </a:lnTo>
                <a:lnTo>
                  <a:pt x="32" y="72"/>
                </a:lnTo>
                <a:lnTo>
                  <a:pt x="45" y="66"/>
                </a:lnTo>
                <a:lnTo>
                  <a:pt x="58" y="60"/>
                </a:lnTo>
                <a:lnTo>
                  <a:pt x="72" y="54"/>
                </a:lnTo>
                <a:lnTo>
                  <a:pt x="86" y="49"/>
                </a:lnTo>
                <a:lnTo>
                  <a:pt x="99" y="43"/>
                </a:lnTo>
                <a:lnTo>
                  <a:pt x="113" y="37"/>
                </a:lnTo>
                <a:lnTo>
                  <a:pt x="123" y="32"/>
                </a:lnTo>
                <a:lnTo>
                  <a:pt x="132" y="28"/>
                </a:lnTo>
                <a:lnTo>
                  <a:pt x="144" y="23"/>
                </a:lnTo>
                <a:lnTo>
                  <a:pt x="154" y="20"/>
                </a:lnTo>
                <a:lnTo>
                  <a:pt x="166" y="16"/>
                </a:lnTo>
                <a:lnTo>
                  <a:pt x="176" y="12"/>
                </a:lnTo>
                <a:lnTo>
                  <a:pt x="186" y="6"/>
                </a:lnTo>
                <a:lnTo>
                  <a:pt x="197" y="0"/>
                </a:lnTo>
                <a:lnTo>
                  <a:pt x="202" y="2"/>
                </a:lnTo>
                <a:lnTo>
                  <a:pt x="207" y="7"/>
                </a:lnTo>
                <a:lnTo>
                  <a:pt x="209" y="14"/>
                </a:lnTo>
                <a:lnTo>
                  <a:pt x="207" y="2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886360" y="2803680"/>
            <a:ext cx="41400" cy="18720"/>
          </a:xfrm>
          <a:custGeom>
            <a:avLst/>
            <a:gdLst/>
            <a:ahLst/>
            <a:rect l="l" t="t" r="r" b="b"/>
            <a:pathLst>
              <a:path w="172" h="71">
                <a:moveTo>
                  <a:pt x="172" y="5"/>
                </a:moveTo>
                <a:lnTo>
                  <a:pt x="150" y="13"/>
                </a:lnTo>
                <a:lnTo>
                  <a:pt x="129" y="23"/>
                </a:lnTo>
                <a:lnTo>
                  <a:pt x="107" y="32"/>
                </a:lnTo>
                <a:lnTo>
                  <a:pt x="87" y="40"/>
                </a:lnTo>
                <a:lnTo>
                  <a:pt x="65" y="49"/>
                </a:lnTo>
                <a:lnTo>
                  <a:pt x="44" y="57"/>
                </a:lnTo>
                <a:lnTo>
                  <a:pt x="22" y="64"/>
                </a:lnTo>
                <a:lnTo>
                  <a:pt x="0" y="71"/>
                </a:lnTo>
                <a:lnTo>
                  <a:pt x="0" y="66"/>
                </a:lnTo>
                <a:lnTo>
                  <a:pt x="21" y="55"/>
                </a:lnTo>
                <a:lnTo>
                  <a:pt x="42" y="44"/>
                </a:lnTo>
                <a:lnTo>
                  <a:pt x="63" y="34"/>
                </a:lnTo>
                <a:lnTo>
                  <a:pt x="84" y="25"/>
                </a:lnTo>
                <a:lnTo>
                  <a:pt x="106" y="17"/>
                </a:lnTo>
                <a:lnTo>
                  <a:pt x="128" y="9"/>
                </a:lnTo>
                <a:lnTo>
                  <a:pt x="150" y="3"/>
                </a:lnTo>
                <a:lnTo>
                  <a:pt x="172" y="0"/>
                </a:lnTo>
                <a:lnTo>
                  <a:pt x="172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002280" y="2805120"/>
            <a:ext cx="12600" cy="4680"/>
          </a:xfrm>
          <a:custGeom>
            <a:avLst/>
            <a:gdLst/>
            <a:ahLst/>
            <a:rect l="l" t="t" r="r" b="b"/>
            <a:pathLst>
              <a:path w="51" h="17">
                <a:moveTo>
                  <a:pt x="51" y="4"/>
                </a:moveTo>
                <a:lnTo>
                  <a:pt x="48" y="10"/>
                </a:lnTo>
                <a:lnTo>
                  <a:pt x="43" y="13"/>
                </a:lnTo>
                <a:lnTo>
                  <a:pt x="37" y="16"/>
                </a:lnTo>
                <a:lnTo>
                  <a:pt x="30" y="17"/>
                </a:lnTo>
                <a:lnTo>
                  <a:pt x="22" y="17"/>
                </a:lnTo>
                <a:lnTo>
                  <a:pt x="15" y="17"/>
                </a:lnTo>
                <a:lnTo>
                  <a:pt x="8" y="17"/>
                </a:lnTo>
                <a:lnTo>
                  <a:pt x="3" y="17"/>
                </a:lnTo>
                <a:lnTo>
                  <a:pt x="0" y="12"/>
                </a:lnTo>
                <a:lnTo>
                  <a:pt x="0" y="8"/>
                </a:lnTo>
                <a:lnTo>
                  <a:pt x="3" y="3"/>
                </a:lnTo>
                <a:lnTo>
                  <a:pt x="5" y="0"/>
                </a:lnTo>
                <a:lnTo>
                  <a:pt x="11" y="0"/>
                </a:lnTo>
                <a:lnTo>
                  <a:pt x="17" y="0"/>
                </a:lnTo>
                <a:lnTo>
                  <a:pt x="22" y="1"/>
                </a:lnTo>
                <a:lnTo>
                  <a:pt x="29" y="1"/>
                </a:lnTo>
                <a:lnTo>
                  <a:pt x="35" y="2"/>
                </a:lnTo>
                <a:lnTo>
                  <a:pt x="41" y="3"/>
                </a:lnTo>
                <a:lnTo>
                  <a:pt x="46" y="3"/>
                </a:lnTo>
                <a:lnTo>
                  <a:pt x="5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938920" y="2809800"/>
            <a:ext cx="48960" cy="25560"/>
          </a:xfrm>
          <a:custGeom>
            <a:avLst/>
            <a:gdLst/>
            <a:ahLst/>
            <a:rect l="l" t="t" r="r" b="b"/>
            <a:pathLst>
              <a:path w="201" h="96">
                <a:moveTo>
                  <a:pt x="198" y="18"/>
                </a:moveTo>
                <a:lnTo>
                  <a:pt x="192" y="20"/>
                </a:lnTo>
                <a:lnTo>
                  <a:pt x="187" y="20"/>
                </a:lnTo>
                <a:lnTo>
                  <a:pt x="183" y="19"/>
                </a:lnTo>
                <a:lnTo>
                  <a:pt x="177" y="18"/>
                </a:lnTo>
                <a:lnTo>
                  <a:pt x="159" y="31"/>
                </a:lnTo>
                <a:lnTo>
                  <a:pt x="139" y="41"/>
                </a:lnTo>
                <a:lnTo>
                  <a:pt x="120" y="50"/>
                </a:lnTo>
                <a:lnTo>
                  <a:pt x="100" y="60"/>
                </a:lnTo>
                <a:lnTo>
                  <a:pt x="80" y="68"/>
                </a:lnTo>
                <a:lnTo>
                  <a:pt x="60" y="76"/>
                </a:lnTo>
                <a:lnTo>
                  <a:pt x="40" y="85"/>
                </a:lnTo>
                <a:lnTo>
                  <a:pt x="20" y="95"/>
                </a:lnTo>
                <a:lnTo>
                  <a:pt x="14" y="96"/>
                </a:lnTo>
                <a:lnTo>
                  <a:pt x="7" y="94"/>
                </a:lnTo>
                <a:lnTo>
                  <a:pt x="1" y="89"/>
                </a:lnTo>
                <a:lnTo>
                  <a:pt x="0" y="81"/>
                </a:lnTo>
                <a:lnTo>
                  <a:pt x="0" y="77"/>
                </a:lnTo>
                <a:lnTo>
                  <a:pt x="22" y="68"/>
                </a:lnTo>
                <a:lnTo>
                  <a:pt x="43" y="58"/>
                </a:lnTo>
                <a:lnTo>
                  <a:pt x="64" y="49"/>
                </a:lnTo>
                <a:lnTo>
                  <a:pt x="85" y="39"/>
                </a:lnTo>
                <a:lnTo>
                  <a:pt x="107" y="30"/>
                </a:lnTo>
                <a:lnTo>
                  <a:pt x="129" y="20"/>
                </a:lnTo>
                <a:lnTo>
                  <a:pt x="151" y="12"/>
                </a:lnTo>
                <a:lnTo>
                  <a:pt x="174" y="7"/>
                </a:lnTo>
                <a:lnTo>
                  <a:pt x="178" y="3"/>
                </a:lnTo>
                <a:lnTo>
                  <a:pt x="183" y="1"/>
                </a:lnTo>
                <a:lnTo>
                  <a:pt x="190" y="0"/>
                </a:lnTo>
                <a:lnTo>
                  <a:pt x="194" y="0"/>
                </a:lnTo>
                <a:lnTo>
                  <a:pt x="199" y="2"/>
                </a:lnTo>
                <a:lnTo>
                  <a:pt x="201" y="5"/>
                </a:lnTo>
                <a:lnTo>
                  <a:pt x="201" y="10"/>
                </a:lnTo>
                <a:lnTo>
                  <a:pt x="198" y="1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08760" y="2814480"/>
            <a:ext cx="11160" cy="5040"/>
          </a:xfrm>
          <a:custGeom>
            <a:avLst/>
            <a:gdLst/>
            <a:ahLst/>
            <a:rect l="l" t="t" r="r" b="b"/>
            <a:pathLst>
              <a:path w="44" h="14">
                <a:moveTo>
                  <a:pt x="44" y="3"/>
                </a:moveTo>
                <a:lnTo>
                  <a:pt x="41" y="9"/>
                </a:lnTo>
                <a:lnTo>
                  <a:pt x="38" y="12"/>
                </a:lnTo>
                <a:lnTo>
                  <a:pt x="32" y="14"/>
                </a:lnTo>
                <a:lnTo>
                  <a:pt x="26" y="14"/>
                </a:lnTo>
                <a:lnTo>
                  <a:pt x="20" y="13"/>
                </a:lnTo>
                <a:lnTo>
                  <a:pt x="14" y="13"/>
                </a:lnTo>
                <a:lnTo>
                  <a:pt x="8" y="12"/>
                </a:lnTo>
                <a:lnTo>
                  <a:pt x="2" y="13"/>
                </a:lnTo>
                <a:lnTo>
                  <a:pt x="0" y="7"/>
                </a:lnTo>
                <a:lnTo>
                  <a:pt x="4" y="4"/>
                </a:lnTo>
                <a:lnTo>
                  <a:pt x="10" y="2"/>
                </a:lnTo>
                <a:lnTo>
                  <a:pt x="16" y="2"/>
                </a:lnTo>
                <a:lnTo>
                  <a:pt x="22" y="0"/>
                </a:lnTo>
                <a:lnTo>
                  <a:pt x="27" y="0"/>
                </a:lnTo>
                <a:lnTo>
                  <a:pt x="33" y="2"/>
                </a:lnTo>
                <a:lnTo>
                  <a:pt x="39" y="3"/>
                </a:lnTo>
                <a:lnTo>
                  <a:pt x="44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745240" y="2817720"/>
            <a:ext cx="12600" cy="9720"/>
          </a:xfrm>
          <a:custGeom>
            <a:avLst/>
            <a:gdLst/>
            <a:ahLst/>
            <a:rect l="l" t="t" r="r" b="b"/>
            <a:pathLst>
              <a:path w="52" h="33">
                <a:moveTo>
                  <a:pt x="52" y="2"/>
                </a:moveTo>
                <a:lnTo>
                  <a:pt x="52" y="8"/>
                </a:lnTo>
                <a:lnTo>
                  <a:pt x="45" y="10"/>
                </a:lnTo>
                <a:lnTo>
                  <a:pt x="39" y="12"/>
                </a:lnTo>
                <a:lnTo>
                  <a:pt x="32" y="14"/>
                </a:lnTo>
                <a:lnTo>
                  <a:pt x="25" y="17"/>
                </a:lnTo>
                <a:lnTo>
                  <a:pt x="20" y="19"/>
                </a:lnTo>
                <a:lnTo>
                  <a:pt x="14" y="23"/>
                </a:lnTo>
                <a:lnTo>
                  <a:pt x="9" y="27"/>
                </a:lnTo>
                <a:lnTo>
                  <a:pt x="5" y="33"/>
                </a:lnTo>
                <a:lnTo>
                  <a:pt x="0" y="33"/>
                </a:lnTo>
                <a:lnTo>
                  <a:pt x="2" y="24"/>
                </a:lnTo>
                <a:lnTo>
                  <a:pt x="6" y="18"/>
                </a:lnTo>
                <a:lnTo>
                  <a:pt x="12" y="14"/>
                </a:lnTo>
                <a:lnTo>
                  <a:pt x="20" y="10"/>
                </a:lnTo>
                <a:lnTo>
                  <a:pt x="28" y="8"/>
                </a:lnTo>
                <a:lnTo>
                  <a:pt x="36" y="5"/>
                </a:lnTo>
                <a:lnTo>
                  <a:pt x="43" y="3"/>
                </a:lnTo>
                <a:lnTo>
                  <a:pt x="50" y="0"/>
                </a:lnTo>
                <a:lnTo>
                  <a:pt x="52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938920" y="2819520"/>
            <a:ext cx="54000" cy="31680"/>
          </a:xfrm>
          <a:custGeom>
            <a:avLst/>
            <a:gdLst/>
            <a:ahLst/>
            <a:rect l="l" t="t" r="r" b="b"/>
            <a:pathLst>
              <a:path w="223" h="120">
                <a:moveTo>
                  <a:pt x="223" y="6"/>
                </a:moveTo>
                <a:lnTo>
                  <a:pt x="222" y="13"/>
                </a:lnTo>
                <a:lnTo>
                  <a:pt x="219" y="19"/>
                </a:lnTo>
                <a:lnTo>
                  <a:pt x="214" y="22"/>
                </a:lnTo>
                <a:lnTo>
                  <a:pt x="208" y="26"/>
                </a:lnTo>
                <a:lnTo>
                  <a:pt x="202" y="28"/>
                </a:lnTo>
                <a:lnTo>
                  <a:pt x="197" y="30"/>
                </a:lnTo>
                <a:lnTo>
                  <a:pt x="191" y="34"/>
                </a:lnTo>
                <a:lnTo>
                  <a:pt x="186" y="38"/>
                </a:lnTo>
                <a:lnTo>
                  <a:pt x="164" y="49"/>
                </a:lnTo>
                <a:lnTo>
                  <a:pt x="143" y="59"/>
                </a:lnTo>
                <a:lnTo>
                  <a:pt x="121" y="70"/>
                </a:lnTo>
                <a:lnTo>
                  <a:pt x="100" y="79"/>
                </a:lnTo>
                <a:lnTo>
                  <a:pt x="78" y="89"/>
                </a:lnTo>
                <a:lnTo>
                  <a:pt x="56" y="100"/>
                </a:lnTo>
                <a:lnTo>
                  <a:pt x="34" y="110"/>
                </a:lnTo>
                <a:lnTo>
                  <a:pt x="12" y="120"/>
                </a:lnTo>
                <a:lnTo>
                  <a:pt x="8" y="118"/>
                </a:lnTo>
                <a:lnTo>
                  <a:pt x="4" y="117"/>
                </a:lnTo>
                <a:lnTo>
                  <a:pt x="2" y="113"/>
                </a:lnTo>
                <a:lnTo>
                  <a:pt x="0" y="110"/>
                </a:lnTo>
                <a:lnTo>
                  <a:pt x="12" y="100"/>
                </a:lnTo>
                <a:lnTo>
                  <a:pt x="25" y="90"/>
                </a:lnTo>
                <a:lnTo>
                  <a:pt x="39" y="81"/>
                </a:lnTo>
                <a:lnTo>
                  <a:pt x="53" y="73"/>
                </a:lnTo>
                <a:lnTo>
                  <a:pt x="67" y="66"/>
                </a:lnTo>
                <a:lnTo>
                  <a:pt x="80" y="58"/>
                </a:lnTo>
                <a:lnTo>
                  <a:pt x="94" y="51"/>
                </a:lnTo>
                <a:lnTo>
                  <a:pt x="108" y="43"/>
                </a:lnTo>
                <a:lnTo>
                  <a:pt x="115" y="38"/>
                </a:lnTo>
                <a:lnTo>
                  <a:pt x="122" y="35"/>
                </a:lnTo>
                <a:lnTo>
                  <a:pt x="129" y="33"/>
                </a:lnTo>
                <a:lnTo>
                  <a:pt x="137" y="30"/>
                </a:lnTo>
                <a:lnTo>
                  <a:pt x="145" y="29"/>
                </a:lnTo>
                <a:lnTo>
                  <a:pt x="152" y="27"/>
                </a:lnTo>
                <a:lnTo>
                  <a:pt x="158" y="22"/>
                </a:lnTo>
                <a:lnTo>
                  <a:pt x="163" y="18"/>
                </a:lnTo>
                <a:lnTo>
                  <a:pt x="170" y="18"/>
                </a:lnTo>
                <a:lnTo>
                  <a:pt x="177" y="15"/>
                </a:lnTo>
                <a:lnTo>
                  <a:pt x="185" y="11"/>
                </a:lnTo>
                <a:lnTo>
                  <a:pt x="193" y="6"/>
                </a:lnTo>
                <a:lnTo>
                  <a:pt x="200" y="3"/>
                </a:lnTo>
                <a:lnTo>
                  <a:pt x="208" y="0"/>
                </a:lnTo>
                <a:lnTo>
                  <a:pt x="216" y="0"/>
                </a:lnTo>
                <a:lnTo>
                  <a:pt x="223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010200" y="2827440"/>
            <a:ext cx="11160" cy="3240"/>
          </a:xfrm>
          <a:custGeom>
            <a:avLst/>
            <a:gdLst/>
            <a:ahLst/>
            <a:rect l="l" t="t" r="r" b="b"/>
            <a:pathLst>
              <a:path w="45" h="15">
                <a:moveTo>
                  <a:pt x="45" y="5"/>
                </a:moveTo>
                <a:lnTo>
                  <a:pt x="41" y="9"/>
                </a:lnTo>
                <a:lnTo>
                  <a:pt x="36" y="12"/>
                </a:lnTo>
                <a:lnTo>
                  <a:pt x="32" y="14"/>
                </a:lnTo>
                <a:lnTo>
                  <a:pt x="26" y="15"/>
                </a:lnTo>
                <a:lnTo>
                  <a:pt x="20" y="15"/>
                </a:lnTo>
                <a:lnTo>
                  <a:pt x="14" y="15"/>
                </a:lnTo>
                <a:lnTo>
                  <a:pt x="7" y="14"/>
                </a:lnTo>
                <a:lnTo>
                  <a:pt x="2" y="13"/>
                </a:lnTo>
                <a:lnTo>
                  <a:pt x="0" y="7"/>
                </a:lnTo>
                <a:lnTo>
                  <a:pt x="4" y="4"/>
                </a:lnTo>
                <a:lnTo>
                  <a:pt x="7" y="1"/>
                </a:lnTo>
                <a:lnTo>
                  <a:pt x="12" y="0"/>
                </a:lnTo>
                <a:lnTo>
                  <a:pt x="21" y="0"/>
                </a:lnTo>
                <a:lnTo>
                  <a:pt x="30" y="0"/>
                </a:lnTo>
                <a:lnTo>
                  <a:pt x="39" y="1"/>
                </a:lnTo>
                <a:lnTo>
                  <a:pt x="45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888160" y="2832120"/>
            <a:ext cx="39600" cy="7920"/>
          </a:xfrm>
          <a:custGeom>
            <a:avLst/>
            <a:gdLst/>
            <a:ahLst/>
            <a:rect l="l" t="t" r="r" b="b"/>
            <a:pathLst>
              <a:path w="164" h="27">
                <a:moveTo>
                  <a:pt x="164" y="25"/>
                </a:moveTo>
                <a:lnTo>
                  <a:pt x="163" y="27"/>
                </a:lnTo>
                <a:lnTo>
                  <a:pt x="153" y="23"/>
                </a:lnTo>
                <a:lnTo>
                  <a:pt x="141" y="19"/>
                </a:lnTo>
                <a:lnTo>
                  <a:pt x="130" y="17"/>
                </a:lnTo>
                <a:lnTo>
                  <a:pt x="118" y="16"/>
                </a:lnTo>
                <a:lnTo>
                  <a:pt x="107" y="15"/>
                </a:lnTo>
                <a:lnTo>
                  <a:pt x="94" y="15"/>
                </a:lnTo>
                <a:lnTo>
                  <a:pt x="81" y="13"/>
                </a:lnTo>
                <a:lnTo>
                  <a:pt x="69" y="12"/>
                </a:lnTo>
                <a:lnTo>
                  <a:pt x="61" y="13"/>
                </a:lnTo>
                <a:lnTo>
                  <a:pt x="51" y="16"/>
                </a:lnTo>
                <a:lnTo>
                  <a:pt x="43" y="17"/>
                </a:lnTo>
                <a:lnTo>
                  <a:pt x="34" y="19"/>
                </a:lnTo>
                <a:lnTo>
                  <a:pt x="26" y="20"/>
                </a:lnTo>
                <a:lnTo>
                  <a:pt x="17" y="23"/>
                </a:lnTo>
                <a:lnTo>
                  <a:pt x="9" y="24"/>
                </a:lnTo>
                <a:lnTo>
                  <a:pt x="0" y="25"/>
                </a:lnTo>
                <a:lnTo>
                  <a:pt x="17" y="17"/>
                </a:lnTo>
                <a:lnTo>
                  <a:pt x="36" y="10"/>
                </a:lnTo>
                <a:lnTo>
                  <a:pt x="56" y="4"/>
                </a:lnTo>
                <a:lnTo>
                  <a:pt x="77" y="1"/>
                </a:lnTo>
                <a:lnTo>
                  <a:pt x="97" y="0"/>
                </a:lnTo>
                <a:lnTo>
                  <a:pt x="117" y="1"/>
                </a:lnTo>
                <a:lnTo>
                  <a:pt x="137" y="5"/>
                </a:lnTo>
                <a:lnTo>
                  <a:pt x="154" y="12"/>
                </a:lnTo>
                <a:lnTo>
                  <a:pt x="164" y="2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824440" y="2836800"/>
            <a:ext cx="34920" cy="20880"/>
          </a:xfrm>
          <a:custGeom>
            <a:avLst/>
            <a:gdLst/>
            <a:ahLst/>
            <a:rect l="l" t="t" r="r" b="b"/>
            <a:pathLst>
              <a:path w="146" h="78">
                <a:moveTo>
                  <a:pt x="146" y="6"/>
                </a:moveTo>
                <a:lnTo>
                  <a:pt x="143" y="13"/>
                </a:lnTo>
                <a:lnTo>
                  <a:pt x="126" y="21"/>
                </a:lnTo>
                <a:lnTo>
                  <a:pt x="107" y="30"/>
                </a:lnTo>
                <a:lnTo>
                  <a:pt x="90" y="38"/>
                </a:lnTo>
                <a:lnTo>
                  <a:pt x="72" y="47"/>
                </a:lnTo>
                <a:lnTo>
                  <a:pt x="54" y="55"/>
                </a:lnTo>
                <a:lnTo>
                  <a:pt x="36" y="64"/>
                </a:lnTo>
                <a:lnTo>
                  <a:pt x="19" y="72"/>
                </a:lnTo>
                <a:lnTo>
                  <a:pt x="0" y="78"/>
                </a:lnTo>
                <a:lnTo>
                  <a:pt x="0" y="72"/>
                </a:lnTo>
                <a:lnTo>
                  <a:pt x="17" y="62"/>
                </a:lnTo>
                <a:lnTo>
                  <a:pt x="36" y="52"/>
                </a:lnTo>
                <a:lnTo>
                  <a:pt x="53" y="43"/>
                </a:lnTo>
                <a:lnTo>
                  <a:pt x="70" y="34"/>
                </a:lnTo>
                <a:lnTo>
                  <a:pt x="89" y="24"/>
                </a:lnTo>
                <a:lnTo>
                  <a:pt x="106" y="16"/>
                </a:lnTo>
                <a:lnTo>
                  <a:pt x="125" y="8"/>
                </a:lnTo>
                <a:lnTo>
                  <a:pt x="143" y="0"/>
                </a:lnTo>
                <a:lnTo>
                  <a:pt x="146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10200" y="2838600"/>
            <a:ext cx="6480" cy="2880"/>
          </a:xfrm>
          <a:custGeom>
            <a:avLst/>
            <a:gdLst/>
            <a:ahLst/>
            <a:rect l="l" t="t" r="r" b="b"/>
            <a:pathLst>
              <a:path w="28" h="15">
                <a:moveTo>
                  <a:pt x="28" y="9"/>
                </a:moveTo>
                <a:lnTo>
                  <a:pt x="28" y="12"/>
                </a:lnTo>
                <a:lnTo>
                  <a:pt x="22" y="15"/>
                </a:lnTo>
                <a:lnTo>
                  <a:pt x="15" y="15"/>
                </a:lnTo>
                <a:lnTo>
                  <a:pt x="8" y="15"/>
                </a:lnTo>
                <a:lnTo>
                  <a:pt x="1" y="15"/>
                </a:lnTo>
                <a:lnTo>
                  <a:pt x="0" y="10"/>
                </a:lnTo>
                <a:lnTo>
                  <a:pt x="4" y="5"/>
                </a:lnTo>
                <a:lnTo>
                  <a:pt x="7" y="2"/>
                </a:lnTo>
                <a:lnTo>
                  <a:pt x="12" y="0"/>
                </a:lnTo>
                <a:lnTo>
                  <a:pt x="16" y="2"/>
                </a:lnTo>
                <a:lnTo>
                  <a:pt x="21" y="3"/>
                </a:lnTo>
                <a:lnTo>
                  <a:pt x="24" y="5"/>
                </a:lnTo>
                <a:lnTo>
                  <a:pt x="28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905440" y="2846520"/>
            <a:ext cx="14400" cy="2880"/>
          </a:xfrm>
          <a:custGeom>
            <a:avLst/>
            <a:gdLst/>
            <a:ahLst/>
            <a:rect l="l" t="t" r="r" b="b"/>
            <a:pathLst>
              <a:path w="56" h="15">
                <a:moveTo>
                  <a:pt x="56" y="9"/>
                </a:moveTo>
                <a:lnTo>
                  <a:pt x="48" y="15"/>
                </a:lnTo>
                <a:lnTo>
                  <a:pt x="42" y="15"/>
                </a:lnTo>
                <a:lnTo>
                  <a:pt x="35" y="15"/>
                </a:lnTo>
                <a:lnTo>
                  <a:pt x="30" y="15"/>
                </a:lnTo>
                <a:lnTo>
                  <a:pt x="24" y="15"/>
                </a:lnTo>
                <a:lnTo>
                  <a:pt x="18" y="14"/>
                </a:lnTo>
                <a:lnTo>
                  <a:pt x="12" y="12"/>
                </a:lnTo>
                <a:lnTo>
                  <a:pt x="6" y="11"/>
                </a:lnTo>
                <a:lnTo>
                  <a:pt x="0" y="9"/>
                </a:lnTo>
                <a:lnTo>
                  <a:pt x="6" y="4"/>
                </a:lnTo>
                <a:lnTo>
                  <a:pt x="11" y="1"/>
                </a:lnTo>
                <a:lnTo>
                  <a:pt x="19" y="0"/>
                </a:lnTo>
                <a:lnTo>
                  <a:pt x="26" y="0"/>
                </a:lnTo>
                <a:lnTo>
                  <a:pt x="33" y="0"/>
                </a:lnTo>
                <a:lnTo>
                  <a:pt x="41" y="1"/>
                </a:lnTo>
                <a:lnTo>
                  <a:pt x="48" y="1"/>
                </a:lnTo>
                <a:lnTo>
                  <a:pt x="55" y="2"/>
                </a:lnTo>
                <a:lnTo>
                  <a:pt x="56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889600" y="2852640"/>
            <a:ext cx="14400" cy="3240"/>
          </a:xfrm>
          <a:custGeom>
            <a:avLst/>
            <a:gdLst/>
            <a:ahLst/>
            <a:rect l="l" t="t" r="r" b="b"/>
            <a:pathLst>
              <a:path w="63" h="14">
                <a:moveTo>
                  <a:pt x="63" y="7"/>
                </a:moveTo>
                <a:lnTo>
                  <a:pt x="63" y="14"/>
                </a:lnTo>
                <a:lnTo>
                  <a:pt x="54" y="14"/>
                </a:lnTo>
                <a:lnTo>
                  <a:pt x="46" y="14"/>
                </a:lnTo>
                <a:lnTo>
                  <a:pt x="38" y="14"/>
                </a:lnTo>
                <a:lnTo>
                  <a:pt x="30" y="14"/>
                </a:lnTo>
                <a:lnTo>
                  <a:pt x="23" y="14"/>
                </a:lnTo>
                <a:lnTo>
                  <a:pt x="15" y="12"/>
                </a:lnTo>
                <a:lnTo>
                  <a:pt x="8" y="11"/>
                </a:lnTo>
                <a:lnTo>
                  <a:pt x="0" y="9"/>
                </a:lnTo>
                <a:lnTo>
                  <a:pt x="4" y="0"/>
                </a:lnTo>
                <a:lnTo>
                  <a:pt x="12" y="2"/>
                </a:lnTo>
                <a:lnTo>
                  <a:pt x="19" y="2"/>
                </a:lnTo>
                <a:lnTo>
                  <a:pt x="27" y="2"/>
                </a:lnTo>
                <a:lnTo>
                  <a:pt x="34" y="2"/>
                </a:lnTo>
                <a:lnTo>
                  <a:pt x="41" y="2"/>
                </a:lnTo>
                <a:lnTo>
                  <a:pt x="48" y="3"/>
                </a:lnTo>
                <a:lnTo>
                  <a:pt x="56" y="4"/>
                </a:lnTo>
                <a:lnTo>
                  <a:pt x="63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826240" y="2855880"/>
            <a:ext cx="27000" cy="14400"/>
          </a:xfrm>
          <a:custGeom>
            <a:avLst/>
            <a:gdLst/>
            <a:ahLst/>
            <a:rect l="l" t="t" r="r" b="b"/>
            <a:pathLst>
              <a:path w="106" h="57">
                <a:moveTo>
                  <a:pt x="106" y="4"/>
                </a:moveTo>
                <a:lnTo>
                  <a:pt x="104" y="14"/>
                </a:lnTo>
                <a:lnTo>
                  <a:pt x="92" y="20"/>
                </a:lnTo>
                <a:lnTo>
                  <a:pt x="80" y="24"/>
                </a:lnTo>
                <a:lnTo>
                  <a:pt x="68" y="29"/>
                </a:lnTo>
                <a:lnTo>
                  <a:pt x="56" y="34"/>
                </a:lnTo>
                <a:lnTo>
                  <a:pt x="43" y="38"/>
                </a:lnTo>
                <a:lnTo>
                  <a:pt x="32" y="43"/>
                </a:lnTo>
                <a:lnTo>
                  <a:pt x="20" y="50"/>
                </a:lnTo>
                <a:lnTo>
                  <a:pt x="10" y="57"/>
                </a:lnTo>
                <a:lnTo>
                  <a:pt x="5" y="57"/>
                </a:lnTo>
                <a:lnTo>
                  <a:pt x="3" y="55"/>
                </a:lnTo>
                <a:lnTo>
                  <a:pt x="1" y="54"/>
                </a:lnTo>
                <a:lnTo>
                  <a:pt x="0" y="51"/>
                </a:lnTo>
                <a:lnTo>
                  <a:pt x="3" y="43"/>
                </a:lnTo>
                <a:lnTo>
                  <a:pt x="8" y="37"/>
                </a:lnTo>
                <a:lnTo>
                  <a:pt x="13" y="34"/>
                </a:lnTo>
                <a:lnTo>
                  <a:pt x="21" y="31"/>
                </a:lnTo>
                <a:lnTo>
                  <a:pt x="28" y="29"/>
                </a:lnTo>
                <a:lnTo>
                  <a:pt x="36" y="27"/>
                </a:lnTo>
                <a:lnTo>
                  <a:pt x="43" y="23"/>
                </a:lnTo>
                <a:lnTo>
                  <a:pt x="49" y="17"/>
                </a:lnTo>
                <a:lnTo>
                  <a:pt x="57" y="16"/>
                </a:lnTo>
                <a:lnTo>
                  <a:pt x="64" y="13"/>
                </a:lnTo>
                <a:lnTo>
                  <a:pt x="71" y="9"/>
                </a:lnTo>
                <a:lnTo>
                  <a:pt x="78" y="5"/>
                </a:lnTo>
                <a:lnTo>
                  <a:pt x="84" y="2"/>
                </a:lnTo>
                <a:lnTo>
                  <a:pt x="91" y="0"/>
                </a:lnTo>
                <a:lnTo>
                  <a:pt x="97" y="0"/>
                </a:lnTo>
                <a:lnTo>
                  <a:pt x="106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875200" y="2862360"/>
            <a:ext cx="20880" cy="4680"/>
          </a:xfrm>
          <a:custGeom>
            <a:avLst/>
            <a:gdLst/>
            <a:ahLst/>
            <a:rect l="l" t="t" r="r" b="b"/>
            <a:pathLst>
              <a:path w="85" h="19">
                <a:moveTo>
                  <a:pt x="85" y="19"/>
                </a:moveTo>
                <a:lnTo>
                  <a:pt x="76" y="18"/>
                </a:lnTo>
                <a:lnTo>
                  <a:pt x="66" y="18"/>
                </a:lnTo>
                <a:lnTo>
                  <a:pt x="55" y="16"/>
                </a:lnTo>
                <a:lnTo>
                  <a:pt x="44" y="15"/>
                </a:lnTo>
                <a:lnTo>
                  <a:pt x="33" y="15"/>
                </a:lnTo>
                <a:lnTo>
                  <a:pt x="22" y="14"/>
                </a:lnTo>
                <a:lnTo>
                  <a:pt x="10" y="15"/>
                </a:lnTo>
                <a:lnTo>
                  <a:pt x="0" y="16"/>
                </a:lnTo>
                <a:lnTo>
                  <a:pt x="0" y="12"/>
                </a:lnTo>
                <a:lnTo>
                  <a:pt x="1" y="6"/>
                </a:lnTo>
                <a:lnTo>
                  <a:pt x="5" y="3"/>
                </a:lnTo>
                <a:lnTo>
                  <a:pt x="10" y="0"/>
                </a:lnTo>
                <a:lnTo>
                  <a:pt x="20" y="1"/>
                </a:lnTo>
                <a:lnTo>
                  <a:pt x="31" y="0"/>
                </a:lnTo>
                <a:lnTo>
                  <a:pt x="43" y="0"/>
                </a:lnTo>
                <a:lnTo>
                  <a:pt x="54" y="0"/>
                </a:lnTo>
                <a:lnTo>
                  <a:pt x="65" y="1"/>
                </a:lnTo>
                <a:lnTo>
                  <a:pt x="74" y="4"/>
                </a:lnTo>
                <a:lnTo>
                  <a:pt x="81" y="10"/>
                </a:lnTo>
                <a:lnTo>
                  <a:pt x="85" y="1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27760" y="2863800"/>
            <a:ext cx="12600" cy="7920"/>
          </a:xfrm>
          <a:custGeom>
            <a:avLst/>
            <a:gdLst/>
            <a:ahLst/>
            <a:rect l="l" t="t" r="r" b="b"/>
            <a:pathLst>
              <a:path w="49" h="31">
                <a:moveTo>
                  <a:pt x="7" y="4"/>
                </a:moveTo>
                <a:lnTo>
                  <a:pt x="8" y="13"/>
                </a:lnTo>
                <a:lnTo>
                  <a:pt x="15" y="18"/>
                </a:lnTo>
                <a:lnTo>
                  <a:pt x="24" y="20"/>
                </a:lnTo>
                <a:lnTo>
                  <a:pt x="31" y="25"/>
                </a:lnTo>
                <a:lnTo>
                  <a:pt x="37" y="28"/>
                </a:lnTo>
                <a:lnTo>
                  <a:pt x="42" y="25"/>
                </a:lnTo>
                <a:lnTo>
                  <a:pt x="47" y="22"/>
                </a:lnTo>
                <a:lnTo>
                  <a:pt x="49" y="29"/>
                </a:lnTo>
                <a:lnTo>
                  <a:pt x="42" y="30"/>
                </a:lnTo>
                <a:lnTo>
                  <a:pt x="37" y="31"/>
                </a:lnTo>
                <a:lnTo>
                  <a:pt x="30" y="31"/>
                </a:lnTo>
                <a:lnTo>
                  <a:pt x="23" y="31"/>
                </a:lnTo>
                <a:lnTo>
                  <a:pt x="17" y="30"/>
                </a:lnTo>
                <a:lnTo>
                  <a:pt x="11" y="28"/>
                </a:lnTo>
                <a:lnTo>
                  <a:pt x="6" y="26"/>
                </a:lnTo>
                <a:lnTo>
                  <a:pt x="0" y="23"/>
                </a:ln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6" y="3"/>
                </a:lnTo>
                <a:lnTo>
                  <a:pt x="7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773680" y="2865600"/>
            <a:ext cx="11160" cy="9360"/>
          </a:xfrm>
          <a:custGeom>
            <a:avLst/>
            <a:gdLst/>
            <a:ahLst/>
            <a:rect l="l" t="t" r="r" b="b"/>
            <a:pathLst>
              <a:path w="45" h="34">
                <a:moveTo>
                  <a:pt x="45" y="12"/>
                </a:moveTo>
                <a:lnTo>
                  <a:pt x="39" y="14"/>
                </a:lnTo>
                <a:lnTo>
                  <a:pt x="33" y="17"/>
                </a:lnTo>
                <a:lnTo>
                  <a:pt x="28" y="22"/>
                </a:lnTo>
                <a:lnTo>
                  <a:pt x="22" y="27"/>
                </a:lnTo>
                <a:lnTo>
                  <a:pt x="16" y="31"/>
                </a:lnTo>
                <a:lnTo>
                  <a:pt x="11" y="34"/>
                </a:lnTo>
                <a:lnTo>
                  <a:pt x="6" y="34"/>
                </a:lnTo>
                <a:lnTo>
                  <a:pt x="0" y="30"/>
                </a:lnTo>
                <a:lnTo>
                  <a:pt x="0" y="22"/>
                </a:lnTo>
                <a:lnTo>
                  <a:pt x="2" y="17"/>
                </a:lnTo>
                <a:lnTo>
                  <a:pt x="7" y="14"/>
                </a:lnTo>
                <a:lnTo>
                  <a:pt x="13" y="12"/>
                </a:lnTo>
                <a:lnTo>
                  <a:pt x="18" y="9"/>
                </a:lnTo>
                <a:lnTo>
                  <a:pt x="25" y="8"/>
                </a:lnTo>
                <a:lnTo>
                  <a:pt x="30" y="5"/>
                </a:lnTo>
                <a:lnTo>
                  <a:pt x="35" y="1"/>
                </a:lnTo>
                <a:lnTo>
                  <a:pt x="39" y="0"/>
                </a:lnTo>
                <a:lnTo>
                  <a:pt x="41" y="2"/>
                </a:lnTo>
                <a:lnTo>
                  <a:pt x="43" y="7"/>
                </a:lnTo>
                <a:lnTo>
                  <a:pt x="45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829480" y="2867040"/>
            <a:ext cx="25200" cy="14400"/>
          </a:xfrm>
          <a:custGeom>
            <a:avLst/>
            <a:gdLst/>
            <a:ahLst/>
            <a:rect l="l" t="t" r="r" b="b"/>
            <a:pathLst>
              <a:path w="105" h="54">
                <a:moveTo>
                  <a:pt x="105" y="8"/>
                </a:moveTo>
                <a:lnTo>
                  <a:pt x="100" y="12"/>
                </a:lnTo>
                <a:lnTo>
                  <a:pt x="96" y="15"/>
                </a:lnTo>
                <a:lnTo>
                  <a:pt x="90" y="17"/>
                </a:lnTo>
                <a:lnTo>
                  <a:pt x="84" y="20"/>
                </a:lnTo>
                <a:lnTo>
                  <a:pt x="77" y="22"/>
                </a:lnTo>
                <a:lnTo>
                  <a:pt x="72" y="24"/>
                </a:lnTo>
                <a:lnTo>
                  <a:pt x="65" y="25"/>
                </a:lnTo>
                <a:lnTo>
                  <a:pt x="59" y="27"/>
                </a:lnTo>
                <a:lnTo>
                  <a:pt x="53" y="31"/>
                </a:lnTo>
                <a:lnTo>
                  <a:pt x="46" y="35"/>
                </a:lnTo>
                <a:lnTo>
                  <a:pt x="40" y="38"/>
                </a:lnTo>
                <a:lnTo>
                  <a:pt x="33" y="42"/>
                </a:lnTo>
                <a:lnTo>
                  <a:pt x="28" y="45"/>
                </a:lnTo>
                <a:lnTo>
                  <a:pt x="21" y="48"/>
                </a:lnTo>
                <a:lnTo>
                  <a:pt x="14" y="52"/>
                </a:lnTo>
                <a:lnTo>
                  <a:pt x="7" y="54"/>
                </a:lnTo>
                <a:lnTo>
                  <a:pt x="0" y="36"/>
                </a:lnTo>
                <a:lnTo>
                  <a:pt x="12" y="32"/>
                </a:lnTo>
                <a:lnTo>
                  <a:pt x="23" y="28"/>
                </a:lnTo>
                <a:lnTo>
                  <a:pt x="33" y="23"/>
                </a:lnTo>
                <a:lnTo>
                  <a:pt x="45" y="17"/>
                </a:lnTo>
                <a:lnTo>
                  <a:pt x="57" y="13"/>
                </a:lnTo>
                <a:lnTo>
                  <a:pt x="68" y="8"/>
                </a:lnTo>
                <a:lnTo>
                  <a:pt x="78" y="4"/>
                </a:lnTo>
                <a:lnTo>
                  <a:pt x="90" y="0"/>
                </a:lnTo>
                <a:lnTo>
                  <a:pt x="95" y="1"/>
                </a:lnTo>
                <a:lnTo>
                  <a:pt x="99" y="2"/>
                </a:lnTo>
                <a:lnTo>
                  <a:pt x="103" y="4"/>
                </a:lnTo>
                <a:lnTo>
                  <a:pt x="105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877000" y="2870280"/>
            <a:ext cx="19080" cy="6120"/>
          </a:xfrm>
          <a:custGeom>
            <a:avLst/>
            <a:gdLst/>
            <a:ahLst/>
            <a:rect l="l" t="t" r="r" b="b"/>
            <a:pathLst>
              <a:path w="78" h="17">
                <a:moveTo>
                  <a:pt x="78" y="7"/>
                </a:moveTo>
                <a:lnTo>
                  <a:pt x="78" y="10"/>
                </a:lnTo>
                <a:lnTo>
                  <a:pt x="76" y="13"/>
                </a:lnTo>
                <a:lnTo>
                  <a:pt x="75" y="15"/>
                </a:lnTo>
                <a:lnTo>
                  <a:pt x="73" y="17"/>
                </a:lnTo>
                <a:lnTo>
                  <a:pt x="6" y="15"/>
                </a:lnTo>
                <a:lnTo>
                  <a:pt x="4" y="13"/>
                </a:lnTo>
                <a:lnTo>
                  <a:pt x="2" y="10"/>
                </a:lnTo>
                <a:lnTo>
                  <a:pt x="0" y="7"/>
                </a:lnTo>
                <a:lnTo>
                  <a:pt x="0" y="2"/>
                </a:lnTo>
                <a:lnTo>
                  <a:pt x="10" y="1"/>
                </a:lnTo>
                <a:lnTo>
                  <a:pt x="19" y="0"/>
                </a:lnTo>
                <a:lnTo>
                  <a:pt x="28" y="0"/>
                </a:lnTo>
                <a:lnTo>
                  <a:pt x="38" y="1"/>
                </a:lnTo>
                <a:lnTo>
                  <a:pt x="49" y="2"/>
                </a:lnTo>
                <a:lnTo>
                  <a:pt x="58" y="3"/>
                </a:lnTo>
                <a:lnTo>
                  <a:pt x="68" y="6"/>
                </a:lnTo>
                <a:lnTo>
                  <a:pt x="78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751360" y="2871720"/>
            <a:ext cx="1800" cy="18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6"/>
                </a:moveTo>
                <a:lnTo>
                  <a:pt x="7" y="8"/>
                </a:lnTo>
                <a:lnTo>
                  <a:pt x="0" y="0"/>
                </a:lnTo>
                <a:lnTo>
                  <a:pt x="2" y="3"/>
                </a:lnTo>
                <a:lnTo>
                  <a:pt x="6" y="6"/>
                </a:lnTo>
                <a:lnTo>
                  <a:pt x="8" y="7"/>
                </a:lnTo>
                <a:lnTo>
                  <a:pt x="8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560920" y="2371680"/>
            <a:ext cx="46188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494320" y="2517840"/>
            <a:ext cx="26352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rot="2826600">
            <a:off x="5702760" y="2578680"/>
            <a:ext cx="98280" cy="1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703840" y="2631960"/>
            <a:ext cx="3286080" cy="304920"/>
          </a:xfrm>
          <a:prstGeom prst="rect">
            <a:avLst/>
          </a:prstGeom>
          <a:noFill/>
          <a:ln w="190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551720" y="2090880"/>
            <a:ext cx="14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333399"/>
                </a:solidFill>
                <a:latin typeface="Arial"/>
              </a:rPr>
              <a:t>knowledg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931000" y="2276640"/>
            <a:ext cx="3227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Knowledge of the owner’s prof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716440" y="2143080"/>
            <a:ext cx="3286440" cy="420840"/>
          </a:xfrm>
          <a:prstGeom prst="rect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807160" y="2297160"/>
            <a:ext cx="135000" cy="20304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400800" y="1630440"/>
            <a:ext cx="2598840" cy="406440"/>
          </a:xfrm>
          <a:prstGeom prst="rect">
            <a:avLst/>
          </a:prstGeom>
          <a:noFill/>
          <a:ln w="190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654440" y="1577880"/>
            <a:ext cx="4381560" cy="507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592520" y="1776240"/>
            <a:ext cx="10008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5C8A-7B46-43EF-9025-C9D973E716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-36360" y="25200"/>
            <a:ext cx="91440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e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blème: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facilite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mais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contrôle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l’accès aux profils utilisate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rtefeuille électronique: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interface sémantique d’accès unifié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ssertions statiques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x. nom, centres d’intérêt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ègles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’assertion dynamique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x. définition, exce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550"/>
              </a:spcBef>
              <a:buClr>
                <a:srgbClr val="99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Règles d’invocation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de services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ur obtenir des connaissances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extuelles    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x. agenda, G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10000"/>
              </a:lnSpc>
              <a:spcBef>
                <a:spcPts val="550"/>
              </a:spcBef>
              <a:buClr>
                <a:srgbClr val="99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Règles de privauté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utorisations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t ajustements    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x. locali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mplantation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O.W.L.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+ extensions pour règles et requê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uches =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typag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, chaînage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avant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chaînage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arriè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xtension pour RDFS en cours de recommandation au W3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© Carnegie Mellon University - Sadehl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482760" y="71280"/>
            <a:ext cx="806400" cy="419400"/>
            <a:chOff x="482760" y="71280"/>
            <a:chExt cx="806400" cy="419400"/>
          </a:xfrm>
        </p:grpSpPr>
        <p:sp>
          <p:nvSpPr>
            <p:cNvPr id="816" name=""/>
            <p:cNvSpPr/>
            <p:nvPr/>
          </p:nvSpPr>
          <p:spPr>
            <a:xfrm>
              <a:off x="482760" y="71280"/>
              <a:ext cx="806400" cy="419400"/>
            </a:xfrm>
            <a:custGeom>
              <a:avLst/>
              <a:gdLst/>
              <a:ahLst/>
              <a:rect l="l" t="t" r="r" b="b"/>
              <a:pathLst>
                <a:path w="3422" h="1611">
                  <a:moveTo>
                    <a:pt x="31" y="1022"/>
                  </a:moveTo>
                  <a:lnTo>
                    <a:pt x="27" y="981"/>
                  </a:lnTo>
                  <a:lnTo>
                    <a:pt x="19" y="929"/>
                  </a:lnTo>
                  <a:lnTo>
                    <a:pt x="7" y="867"/>
                  </a:lnTo>
                  <a:lnTo>
                    <a:pt x="0" y="801"/>
                  </a:lnTo>
                  <a:lnTo>
                    <a:pt x="1" y="732"/>
                  </a:lnTo>
                  <a:lnTo>
                    <a:pt x="18" y="665"/>
                  </a:lnTo>
                  <a:lnTo>
                    <a:pt x="55" y="602"/>
                  </a:lnTo>
                  <a:lnTo>
                    <a:pt x="118" y="550"/>
                  </a:lnTo>
                  <a:lnTo>
                    <a:pt x="202" y="523"/>
                  </a:lnTo>
                  <a:lnTo>
                    <a:pt x="417" y="462"/>
                  </a:lnTo>
                  <a:lnTo>
                    <a:pt x="720" y="374"/>
                  </a:lnTo>
                  <a:lnTo>
                    <a:pt x="1067" y="275"/>
                  </a:lnTo>
                  <a:lnTo>
                    <a:pt x="1412" y="175"/>
                  </a:lnTo>
                  <a:lnTo>
                    <a:pt x="1714" y="87"/>
                  </a:lnTo>
                  <a:lnTo>
                    <a:pt x="1927" y="25"/>
                  </a:lnTo>
                  <a:lnTo>
                    <a:pt x="2008" y="0"/>
                  </a:lnTo>
                  <a:lnTo>
                    <a:pt x="3370" y="208"/>
                  </a:lnTo>
                  <a:lnTo>
                    <a:pt x="3399" y="261"/>
                  </a:lnTo>
                  <a:lnTo>
                    <a:pt x="3417" y="322"/>
                  </a:lnTo>
                  <a:lnTo>
                    <a:pt x="3422" y="385"/>
                  </a:lnTo>
                  <a:lnTo>
                    <a:pt x="3421" y="445"/>
                  </a:lnTo>
                  <a:lnTo>
                    <a:pt x="3410" y="496"/>
                  </a:lnTo>
                  <a:lnTo>
                    <a:pt x="3396" y="534"/>
                  </a:lnTo>
                  <a:lnTo>
                    <a:pt x="3381" y="556"/>
                  </a:lnTo>
                  <a:lnTo>
                    <a:pt x="3366" y="559"/>
                  </a:lnTo>
                  <a:lnTo>
                    <a:pt x="3343" y="569"/>
                  </a:lnTo>
                  <a:lnTo>
                    <a:pt x="3290" y="602"/>
                  </a:lnTo>
                  <a:lnTo>
                    <a:pt x="3217" y="650"/>
                  </a:lnTo>
                  <a:lnTo>
                    <a:pt x="3136" y="706"/>
                  </a:lnTo>
                  <a:lnTo>
                    <a:pt x="3053" y="760"/>
                  </a:lnTo>
                  <a:lnTo>
                    <a:pt x="2983" y="808"/>
                  </a:lnTo>
                  <a:lnTo>
                    <a:pt x="2932" y="839"/>
                  </a:lnTo>
                  <a:lnTo>
                    <a:pt x="2914" y="852"/>
                  </a:lnTo>
                  <a:lnTo>
                    <a:pt x="2912" y="850"/>
                  </a:lnTo>
                  <a:lnTo>
                    <a:pt x="2910" y="859"/>
                  </a:lnTo>
                  <a:lnTo>
                    <a:pt x="2906" y="871"/>
                  </a:lnTo>
                  <a:lnTo>
                    <a:pt x="2903" y="887"/>
                  </a:lnTo>
                  <a:lnTo>
                    <a:pt x="2899" y="904"/>
                  </a:lnTo>
                  <a:lnTo>
                    <a:pt x="2896" y="923"/>
                  </a:lnTo>
                  <a:lnTo>
                    <a:pt x="2893" y="938"/>
                  </a:lnTo>
                  <a:lnTo>
                    <a:pt x="2895" y="952"/>
                  </a:lnTo>
                  <a:lnTo>
                    <a:pt x="2661" y="1128"/>
                  </a:lnTo>
                  <a:lnTo>
                    <a:pt x="2588" y="1121"/>
                  </a:lnTo>
                  <a:lnTo>
                    <a:pt x="1793" y="1611"/>
                  </a:lnTo>
                  <a:lnTo>
                    <a:pt x="1545" y="1529"/>
                  </a:lnTo>
                  <a:lnTo>
                    <a:pt x="1266" y="1437"/>
                  </a:lnTo>
                  <a:lnTo>
                    <a:pt x="972" y="1338"/>
                  </a:lnTo>
                  <a:lnTo>
                    <a:pt x="687" y="1244"/>
                  </a:lnTo>
                  <a:lnTo>
                    <a:pt x="428" y="1158"/>
                  </a:lnTo>
                  <a:lnTo>
                    <a:pt x="219" y="1088"/>
                  </a:lnTo>
                  <a:lnTo>
                    <a:pt x="79" y="1038"/>
                  </a:lnTo>
                  <a:lnTo>
                    <a:pt x="31" y="10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7520" y="292320"/>
              <a:ext cx="428040" cy="179640"/>
            </a:xfrm>
            <a:custGeom>
              <a:avLst/>
              <a:gdLst/>
              <a:ahLst/>
              <a:rect l="l" t="t" r="r" b="b"/>
              <a:pathLst>
                <a:path w="1818" h="689">
                  <a:moveTo>
                    <a:pt x="1704" y="689"/>
                  </a:moveTo>
                  <a:lnTo>
                    <a:pt x="1710" y="688"/>
                  </a:lnTo>
                  <a:lnTo>
                    <a:pt x="1723" y="686"/>
                  </a:lnTo>
                  <a:lnTo>
                    <a:pt x="1741" y="682"/>
                  </a:lnTo>
                  <a:lnTo>
                    <a:pt x="1763" y="678"/>
                  </a:lnTo>
                  <a:lnTo>
                    <a:pt x="1783" y="670"/>
                  </a:lnTo>
                  <a:lnTo>
                    <a:pt x="1802" y="660"/>
                  </a:lnTo>
                  <a:lnTo>
                    <a:pt x="1813" y="646"/>
                  </a:lnTo>
                  <a:lnTo>
                    <a:pt x="1818" y="630"/>
                  </a:lnTo>
                  <a:lnTo>
                    <a:pt x="1814" y="609"/>
                  </a:lnTo>
                  <a:lnTo>
                    <a:pt x="1807" y="590"/>
                  </a:lnTo>
                  <a:lnTo>
                    <a:pt x="1794" y="569"/>
                  </a:lnTo>
                  <a:lnTo>
                    <a:pt x="1777" y="550"/>
                  </a:lnTo>
                  <a:lnTo>
                    <a:pt x="1751" y="531"/>
                  </a:lnTo>
                  <a:lnTo>
                    <a:pt x="1718" y="515"/>
                  </a:lnTo>
                  <a:lnTo>
                    <a:pt x="1674" y="498"/>
                  </a:lnTo>
                  <a:lnTo>
                    <a:pt x="1622" y="484"/>
                  </a:lnTo>
                  <a:lnTo>
                    <a:pt x="1506" y="453"/>
                  </a:lnTo>
                  <a:lnTo>
                    <a:pt x="1306" y="394"/>
                  </a:lnTo>
                  <a:lnTo>
                    <a:pt x="1046" y="314"/>
                  </a:lnTo>
                  <a:lnTo>
                    <a:pt x="763" y="229"/>
                  </a:lnTo>
                  <a:lnTo>
                    <a:pt x="485" y="144"/>
                  </a:lnTo>
                  <a:lnTo>
                    <a:pt x="248" y="71"/>
                  </a:lnTo>
                  <a:lnTo>
                    <a:pt x="80" y="19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13"/>
                  </a:lnTo>
                  <a:lnTo>
                    <a:pt x="0" y="32"/>
                  </a:lnTo>
                  <a:lnTo>
                    <a:pt x="2" y="56"/>
                  </a:lnTo>
                  <a:lnTo>
                    <a:pt x="7" y="81"/>
                  </a:lnTo>
                  <a:lnTo>
                    <a:pt x="21" y="107"/>
                  </a:lnTo>
                  <a:lnTo>
                    <a:pt x="46" y="131"/>
                  </a:lnTo>
                  <a:lnTo>
                    <a:pt x="84" y="155"/>
                  </a:lnTo>
                  <a:lnTo>
                    <a:pt x="180" y="190"/>
                  </a:lnTo>
                  <a:lnTo>
                    <a:pt x="367" y="258"/>
                  </a:lnTo>
                  <a:lnTo>
                    <a:pt x="612" y="344"/>
                  </a:lnTo>
                  <a:lnTo>
                    <a:pt x="888" y="439"/>
                  </a:lnTo>
                  <a:lnTo>
                    <a:pt x="1163" y="530"/>
                  </a:lnTo>
                  <a:lnTo>
                    <a:pt x="1410" y="609"/>
                  </a:lnTo>
                  <a:lnTo>
                    <a:pt x="1600" y="666"/>
                  </a:lnTo>
                  <a:lnTo>
                    <a:pt x="1704" y="689"/>
                  </a:lnTo>
                  <a:close/>
                </a:path>
              </a:pathLst>
            </a:custGeom>
            <a:solidFill>
              <a:srgbClr val="ba6e6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4640" y="243000"/>
              <a:ext cx="432360" cy="170280"/>
            </a:xfrm>
            <a:custGeom>
              <a:avLst/>
              <a:gdLst/>
              <a:ahLst/>
              <a:rect l="l" t="t" r="r" b="b"/>
              <a:pathLst>
                <a:path w="1836" h="654">
                  <a:moveTo>
                    <a:pt x="28" y="116"/>
                  </a:moveTo>
                  <a:lnTo>
                    <a:pt x="20" y="106"/>
                  </a:lnTo>
                  <a:lnTo>
                    <a:pt x="11" y="94"/>
                  </a:lnTo>
                  <a:lnTo>
                    <a:pt x="3" y="77"/>
                  </a:lnTo>
                  <a:lnTo>
                    <a:pt x="0" y="62"/>
                  </a:lnTo>
                  <a:lnTo>
                    <a:pt x="2" y="43"/>
                  </a:lnTo>
                  <a:lnTo>
                    <a:pt x="13" y="26"/>
                  </a:lnTo>
                  <a:lnTo>
                    <a:pt x="33" y="11"/>
                  </a:lnTo>
                  <a:lnTo>
                    <a:pt x="68" y="0"/>
                  </a:lnTo>
                  <a:lnTo>
                    <a:pt x="164" y="10"/>
                  </a:lnTo>
                  <a:lnTo>
                    <a:pt x="355" y="55"/>
                  </a:lnTo>
                  <a:lnTo>
                    <a:pt x="606" y="125"/>
                  </a:lnTo>
                  <a:lnTo>
                    <a:pt x="889" y="209"/>
                  </a:lnTo>
                  <a:lnTo>
                    <a:pt x="1171" y="294"/>
                  </a:lnTo>
                  <a:lnTo>
                    <a:pt x="1423" y="374"/>
                  </a:lnTo>
                  <a:lnTo>
                    <a:pt x="1612" y="436"/>
                  </a:lnTo>
                  <a:lnTo>
                    <a:pt x="1711" y="469"/>
                  </a:lnTo>
                  <a:lnTo>
                    <a:pt x="1750" y="487"/>
                  </a:lnTo>
                  <a:lnTo>
                    <a:pt x="1784" y="513"/>
                  </a:lnTo>
                  <a:lnTo>
                    <a:pt x="1810" y="543"/>
                  </a:lnTo>
                  <a:lnTo>
                    <a:pt x="1829" y="576"/>
                  </a:lnTo>
                  <a:lnTo>
                    <a:pt x="1836" y="605"/>
                  </a:lnTo>
                  <a:lnTo>
                    <a:pt x="1831" y="631"/>
                  </a:lnTo>
                  <a:lnTo>
                    <a:pt x="1809" y="647"/>
                  </a:lnTo>
                  <a:lnTo>
                    <a:pt x="1770" y="654"/>
                  </a:lnTo>
                  <a:lnTo>
                    <a:pt x="1659" y="631"/>
                  </a:lnTo>
                  <a:lnTo>
                    <a:pt x="1450" y="576"/>
                  </a:lnTo>
                  <a:lnTo>
                    <a:pt x="1175" y="498"/>
                  </a:lnTo>
                  <a:lnTo>
                    <a:pt x="872" y="407"/>
                  </a:lnTo>
                  <a:lnTo>
                    <a:pt x="569" y="312"/>
                  </a:lnTo>
                  <a:lnTo>
                    <a:pt x="306" y="226"/>
                  </a:lnTo>
                  <a:lnTo>
                    <a:pt x="113" y="156"/>
                  </a:lnTo>
                  <a:lnTo>
                    <a:pt x="28" y="116"/>
                  </a:lnTo>
                  <a:close/>
                </a:path>
              </a:pathLst>
            </a:custGeom>
            <a:solidFill>
              <a:srgbClr val="ba6e6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30640" y="80640"/>
              <a:ext cx="740520" cy="318600"/>
            </a:xfrm>
            <a:custGeom>
              <a:avLst/>
              <a:gdLst/>
              <a:ahLst/>
              <a:rect l="l" t="t" r="r" b="b"/>
              <a:pathLst>
                <a:path w="3143" h="1223">
                  <a:moveTo>
                    <a:pt x="1749" y="1223"/>
                  </a:moveTo>
                  <a:lnTo>
                    <a:pt x="1776" y="1208"/>
                  </a:lnTo>
                  <a:lnTo>
                    <a:pt x="1848" y="1168"/>
                  </a:lnTo>
                  <a:lnTo>
                    <a:pt x="1953" y="1109"/>
                  </a:lnTo>
                  <a:lnTo>
                    <a:pt x="2072" y="1042"/>
                  </a:lnTo>
                  <a:lnTo>
                    <a:pt x="2190" y="973"/>
                  </a:lnTo>
                  <a:lnTo>
                    <a:pt x="2294" y="913"/>
                  </a:lnTo>
                  <a:lnTo>
                    <a:pt x="2364" y="870"/>
                  </a:lnTo>
                  <a:lnTo>
                    <a:pt x="2390" y="854"/>
                  </a:lnTo>
                  <a:lnTo>
                    <a:pt x="2386" y="845"/>
                  </a:lnTo>
                  <a:lnTo>
                    <a:pt x="2387" y="829"/>
                  </a:lnTo>
                  <a:lnTo>
                    <a:pt x="2384" y="804"/>
                  </a:lnTo>
                  <a:lnTo>
                    <a:pt x="2376" y="775"/>
                  </a:lnTo>
                  <a:lnTo>
                    <a:pt x="2351" y="743"/>
                  </a:lnTo>
                  <a:lnTo>
                    <a:pt x="2310" y="708"/>
                  </a:lnTo>
                  <a:lnTo>
                    <a:pt x="2244" y="674"/>
                  </a:lnTo>
                  <a:lnTo>
                    <a:pt x="2151" y="644"/>
                  </a:lnTo>
                  <a:lnTo>
                    <a:pt x="2028" y="611"/>
                  </a:lnTo>
                  <a:lnTo>
                    <a:pt x="1901" y="578"/>
                  </a:lnTo>
                  <a:lnTo>
                    <a:pt x="1770" y="545"/>
                  </a:lnTo>
                  <a:lnTo>
                    <a:pt x="1648" y="513"/>
                  </a:lnTo>
                  <a:lnTo>
                    <a:pt x="1535" y="483"/>
                  </a:lnTo>
                  <a:lnTo>
                    <a:pt x="1443" y="458"/>
                  </a:lnTo>
                  <a:lnTo>
                    <a:pt x="1376" y="439"/>
                  </a:lnTo>
                  <a:lnTo>
                    <a:pt x="1341" y="428"/>
                  </a:lnTo>
                  <a:lnTo>
                    <a:pt x="1329" y="412"/>
                  </a:lnTo>
                  <a:lnTo>
                    <a:pt x="1341" y="390"/>
                  </a:lnTo>
                  <a:lnTo>
                    <a:pt x="1374" y="366"/>
                  </a:lnTo>
                  <a:lnTo>
                    <a:pt x="1425" y="343"/>
                  </a:lnTo>
                  <a:lnTo>
                    <a:pt x="1486" y="320"/>
                  </a:lnTo>
                  <a:lnTo>
                    <a:pt x="1556" y="306"/>
                  </a:lnTo>
                  <a:lnTo>
                    <a:pt x="1629" y="298"/>
                  </a:lnTo>
                  <a:lnTo>
                    <a:pt x="1703" y="303"/>
                  </a:lnTo>
                  <a:lnTo>
                    <a:pt x="1793" y="318"/>
                  </a:lnTo>
                  <a:lnTo>
                    <a:pt x="1917" y="343"/>
                  </a:lnTo>
                  <a:lnTo>
                    <a:pt x="2056" y="373"/>
                  </a:lnTo>
                  <a:lnTo>
                    <a:pt x="2197" y="405"/>
                  </a:lnTo>
                  <a:lnTo>
                    <a:pt x="2325" y="434"/>
                  </a:lnTo>
                  <a:lnTo>
                    <a:pt x="2427" y="460"/>
                  </a:lnTo>
                  <a:lnTo>
                    <a:pt x="2486" y="476"/>
                  </a:lnTo>
                  <a:lnTo>
                    <a:pt x="2490" y="483"/>
                  </a:lnTo>
                  <a:lnTo>
                    <a:pt x="2486" y="482"/>
                  </a:lnTo>
                  <a:lnTo>
                    <a:pt x="2498" y="484"/>
                  </a:lnTo>
                  <a:lnTo>
                    <a:pt x="2519" y="488"/>
                  </a:lnTo>
                  <a:lnTo>
                    <a:pt x="2549" y="498"/>
                  </a:lnTo>
                  <a:lnTo>
                    <a:pt x="2581" y="510"/>
                  </a:lnTo>
                  <a:lnTo>
                    <a:pt x="2614" y="527"/>
                  </a:lnTo>
                  <a:lnTo>
                    <a:pt x="2641" y="549"/>
                  </a:lnTo>
                  <a:lnTo>
                    <a:pt x="2663" y="579"/>
                  </a:lnTo>
                  <a:lnTo>
                    <a:pt x="2673" y="604"/>
                  </a:lnTo>
                  <a:lnTo>
                    <a:pt x="2680" y="624"/>
                  </a:lnTo>
                  <a:lnTo>
                    <a:pt x="2681" y="638"/>
                  </a:lnTo>
                  <a:lnTo>
                    <a:pt x="2680" y="648"/>
                  </a:lnTo>
                  <a:lnTo>
                    <a:pt x="2673" y="655"/>
                  </a:lnTo>
                  <a:lnTo>
                    <a:pt x="2669" y="652"/>
                  </a:lnTo>
                  <a:lnTo>
                    <a:pt x="2686" y="635"/>
                  </a:lnTo>
                  <a:lnTo>
                    <a:pt x="2737" y="602"/>
                  </a:lnTo>
                  <a:lnTo>
                    <a:pt x="2809" y="557"/>
                  </a:lnTo>
                  <a:lnTo>
                    <a:pt x="2893" y="505"/>
                  </a:lnTo>
                  <a:lnTo>
                    <a:pt x="2975" y="451"/>
                  </a:lnTo>
                  <a:lnTo>
                    <a:pt x="3048" y="407"/>
                  </a:lnTo>
                  <a:lnTo>
                    <a:pt x="3100" y="373"/>
                  </a:lnTo>
                  <a:lnTo>
                    <a:pt x="3122" y="359"/>
                  </a:lnTo>
                  <a:lnTo>
                    <a:pt x="3125" y="351"/>
                  </a:lnTo>
                  <a:lnTo>
                    <a:pt x="3132" y="339"/>
                  </a:lnTo>
                  <a:lnTo>
                    <a:pt x="3137" y="322"/>
                  </a:lnTo>
                  <a:lnTo>
                    <a:pt x="3143" y="303"/>
                  </a:lnTo>
                  <a:lnTo>
                    <a:pt x="3140" y="278"/>
                  </a:lnTo>
                  <a:lnTo>
                    <a:pt x="3130" y="255"/>
                  </a:lnTo>
                  <a:lnTo>
                    <a:pt x="3108" y="229"/>
                  </a:lnTo>
                  <a:lnTo>
                    <a:pt x="3075" y="204"/>
                  </a:lnTo>
                  <a:lnTo>
                    <a:pt x="2987" y="174"/>
                  </a:lnTo>
                  <a:lnTo>
                    <a:pt x="2828" y="142"/>
                  </a:lnTo>
                  <a:lnTo>
                    <a:pt x="2623" y="108"/>
                  </a:lnTo>
                  <a:lnTo>
                    <a:pt x="2401" y="76"/>
                  </a:lnTo>
                  <a:lnTo>
                    <a:pt x="2181" y="46"/>
                  </a:lnTo>
                  <a:lnTo>
                    <a:pt x="1993" y="23"/>
                  </a:lnTo>
                  <a:lnTo>
                    <a:pt x="1861" y="5"/>
                  </a:lnTo>
                  <a:lnTo>
                    <a:pt x="1813" y="0"/>
                  </a:lnTo>
                  <a:lnTo>
                    <a:pt x="0" y="552"/>
                  </a:lnTo>
                  <a:lnTo>
                    <a:pt x="246" y="626"/>
                  </a:lnTo>
                  <a:lnTo>
                    <a:pt x="529" y="704"/>
                  </a:lnTo>
                  <a:lnTo>
                    <a:pt x="828" y="784"/>
                  </a:lnTo>
                  <a:lnTo>
                    <a:pt x="1119" y="866"/>
                  </a:lnTo>
                  <a:lnTo>
                    <a:pt x="1377" y="950"/>
                  </a:lnTo>
                  <a:lnTo>
                    <a:pt x="1585" y="1038"/>
                  </a:lnTo>
                  <a:lnTo>
                    <a:pt x="1715" y="1128"/>
                  </a:lnTo>
                  <a:lnTo>
                    <a:pt x="1749" y="1223"/>
                  </a:lnTo>
                  <a:close/>
                </a:path>
              </a:pathLst>
            </a:custGeom>
            <a:solidFill>
              <a:srgbClr val="ba6e6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929160" y="318960"/>
              <a:ext cx="172800" cy="136440"/>
            </a:xfrm>
            <a:custGeom>
              <a:avLst/>
              <a:gdLst/>
              <a:ahLst/>
              <a:rect l="l" t="t" r="r" b="b"/>
              <a:pathLst>
                <a:path w="737" h="525">
                  <a:moveTo>
                    <a:pt x="0" y="403"/>
                  </a:moveTo>
                  <a:lnTo>
                    <a:pt x="3" y="403"/>
                  </a:lnTo>
                  <a:lnTo>
                    <a:pt x="11" y="407"/>
                  </a:lnTo>
                  <a:lnTo>
                    <a:pt x="21" y="411"/>
                  </a:lnTo>
                  <a:lnTo>
                    <a:pt x="32" y="419"/>
                  </a:lnTo>
                  <a:lnTo>
                    <a:pt x="42" y="426"/>
                  </a:lnTo>
                  <a:lnTo>
                    <a:pt x="50" y="435"/>
                  </a:lnTo>
                  <a:lnTo>
                    <a:pt x="54" y="448"/>
                  </a:lnTo>
                  <a:lnTo>
                    <a:pt x="55" y="462"/>
                  </a:lnTo>
                  <a:lnTo>
                    <a:pt x="51" y="474"/>
                  </a:lnTo>
                  <a:lnTo>
                    <a:pt x="47" y="486"/>
                  </a:lnTo>
                  <a:lnTo>
                    <a:pt x="44" y="497"/>
                  </a:lnTo>
                  <a:lnTo>
                    <a:pt x="43" y="507"/>
                  </a:lnTo>
                  <a:lnTo>
                    <a:pt x="40" y="514"/>
                  </a:lnTo>
                  <a:lnTo>
                    <a:pt x="39" y="521"/>
                  </a:lnTo>
                  <a:lnTo>
                    <a:pt x="36" y="523"/>
                  </a:lnTo>
                  <a:lnTo>
                    <a:pt x="36" y="525"/>
                  </a:lnTo>
                  <a:lnTo>
                    <a:pt x="712" y="105"/>
                  </a:lnTo>
                  <a:lnTo>
                    <a:pt x="720" y="83"/>
                  </a:lnTo>
                  <a:lnTo>
                    <a:pt x="729" y="61"/>
                  </a:lnTo>
                  <a:lnTo>
                    <a:pt x="734" y="39"/>
                  </a:lnTo>
                  <a:lnTo>
                    <a:pt x="737" y="21"/>
                  </a:lnTo>
                  <a:lnTo>
                    <a:pt x="730" y="6"/>
                  </a:lnTo>
                  <a:lnTo>
                    <a:pt x="716" y="0"/>
                  </a:lnTo>
                  <a:lnTo>
                    <a:pt x="690" y="4"/>
                  </a:lnTo>
                  <a:lnTo>
                    <a:pt x="653" y="22"/>
                  </a:lnTo>
                  <a:lnTo>
                    <a:pt x="595" y="51"/>
                  </a:lnTo>
                  <a:lnTo>
                    <a:pt x="522" y="92"/>
                  </a:lnTo>
                  <a:lnTo>
                    <a:pt x="437" y="140"/>
                  </a:lnTo>
                  <a:lnTo>
                    <a:pt x="345" y="195"/>
                  </a:lnTo>
                  <a:lnTo>
                    <a:pt x="249" y="250"/>
                  </a:lnTo>
                  <a:lnTo>
                    <a:pt x="157" y="306"/>
                  </a:lnTo>
                  <a:lnTo>
                    <a:pt x="72" y="357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ba6e6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168200" y="180720"/>
              <a:ext cx="109440" cy="97560"/>
            </a:xfrm>
            <a:custGeom>
              <a:avLst/>
              <a:gdLst/>
              <a:ahLst/>
              <a:rect l="l" t="t" r="r" b="b"/>
              <a:pathLst>
                <a:path w="465" h="373">
                  <a:moveTo>
                    <a:pt x="6" y="286"/>
                  </a:moveTo>
                  <a:lnTo>
                    <a:pt x="2" y="290"/>
                  </a:lnTo>
                  <a:lnTo>
                    <a:pt x="0" y="301"/>
                  </a:lnTo>
                  <a:lnTo>
                    <a:pt x="0" y="316"/>
                  </a:lnTo>
                  <a:lnTo>
                    <a:pt x="2" y="334"/>
                  </a:lnTo>
                  <a:lnTo>
                    <a:pt x="2" y="349"/>
                  </a:lnTo>
                  <a:lnTo>
                    <a:pt x="3" y="363"/>
                  </a:lnTo>
                  <a:lnTo>
                    <a:pt x="4" y="370"/>
                  </a:lnTo>
                  <a:lnTo>
                    <a:pt x="6" y="373"/>
                  </a:lnTo>
                  <a:lnTo>
                    <a:pt x="24" y="356"/>
                  </a:lnTo>
                  <a:lnTo>
                    <a:pt x="76" y="320"/>
                  </a:lnTo>
                  <a:lnTo>
                    <a:pt x="149" y="272"/>
                  </a:lnTo>
                  <a:lnTo>
                    <a:pt x="233" y="220"/>
                  </a:lnTo>
                  <a:lnTo>
                    <a:pt x="315" y="165"/>
                  </a:lnTo>
                  <a:lnTo>
                    <a:pt x="386" y="120"/>
                  </a:lnTo>
                  <a:lnTo>
                    <a:pt x="436" y="88"/>
                  </a:lnTo>
                  <a:lnTo>
                    <a:pt x="454" y="79"/>
                  </a:lnTo>
                  <a:lnTo>
                    <a:pt x="452" y="75"/>
                  </a:lnTo>
                  <a:lnTo>
                    <a:pt x="455" y="64"/>
                  </a:lnTo>
                  <a:lnTo>
                    <a:pt x="459" y="47"/>
                  </a:lnTo>
                  <a:lnTo>
                    <a:pt x="465" y="31"/>
                  </a:lnTo>
                  <a:lnTo>
                    <a:pt x="463" y="14"/>
                  </a:lnTo>
                  <a:lnTo>
                    <a:pt x="459" y="3"/>
                  </a:lnTo>
                  <a:lnTo>
                    <a:pt x="447" y="0"/>
                  </a:lnTo>
                  <a:lnTo>
                    <a:pt x="426" y="11"/>
                  </a:lnTo>
                  <a:lnTo>
                    <a:pt x="391" y="31"/>
                  </a:lnTo>
                  <a:lnTo>
                    <a:pt x="345" y="60"/>
                  </a:lnTo>
                  <a:lnTo>
                    <a:pt x="290" y="94"/>
                  </a:lnTo>
                  <a:lnTo>
                    <a:pt x="231" y="134"/>
                  </a:lnTo>
                  <a:lnTo>
                    <a:pt x="169" y="173"/>
                  </a:lnTo>
                  <a:lnTo>
                    <a:pt x="109" y="215"/>
                  </a:lnTo>
                  <a:lnTo>
                    <a:pt x="53" y="252"/>
                  </a:lnTo>
                  <a:lnTo>
                    <a:pt x="6" y="286"/>
                  </a:lnTo>
                  <a:close/>
                </a:path>
              </a:pathLst>
            </a:custGeom>
            <a:solidFill>
              <a:srgbClr val="ba6e6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57160" y="164160"/>
              <a:ext cx="301680" cy="180360"/>
            </a:xfrm>
            <a:custGeom>
              <a:avLst/>
              <a:gdLst/>
              <a:ahLst/>
              <a:rect l="l" t="t" r="r" b="b"/>
              <a:pathLst>
                <a:path w="1282" h="694">
                  <a:moveTo>
                    <a:pt x="1076" y="694"/>
                  </a:moveTo>
                  <a:lnTo>
                    <a:pt x="1078" y="681"/>
                  </a:lnTo>
                  <a:lnTo>
                    <a:pt x="1084" y="648"/>
                  </a:lnTo>
                  <a:lnTo>
                    <a:pt x="1090" y="601"/>
                  </a:lnTo>
                  <a:lnTo>
                    <a:pt x="1095" y="547"/>
                  </a:lnTo>
                  <a:lnTo>
                    <a:pt x="1093" y="490"/>
                  </a:lnTo>
                  <a:lnTo>
                    <a:pt x="1083" y="438"/>
                  </a:lnTo>
                  <a:lnTo>
                    <a:pt x="1061" y="394"/>
                  </a:lnTo>
                  <a:lnTo>
                    <a:pt x="1027" y="365"/>
                  </a:lnTo>
                  <a:lnTo>
                    <a:pt x="948" y="337"/>
                  </a:lnTo>
                  <a:lnTo>
                    <a:pt x="818" y="300"/>
                  </a:lnTo>
                  <a:lnTo>
                    <a:pt x="653" y="258"/>
                  </a:lnTo>
                  <a:lnTo>
                    <a:pt x="476" y="214"/>
                  </a:lnTo>
                  <a:lnTo>
                    <a:pt x="301" y="168"/>
                  </a:lnTo>
                  <a:lnTo>
                    <a:pt x="151" y="130"/>
                  </a:lnTo>
                  <a:lnTo>
                    <a:pt x="44" y="100"/>
                  </a:lnTo>
                  <a:lnTo>
                    <a:pt x="0" y="83"/>
                  </a:lnTo>
                  <a:lnTo>
                    <a:pt x="3" y="70"/>
                  </a:lnTo>
                  <a:lnTo>
                    <a:pt x="26" y="56"/>
                  </a:lnTo>
                  <a:lnTo>
                    <a:pt x="64" y="39"/>
                  </a:lnTo>
                  <a:lnTo>
                    <a:pt x="112" y="24"/>
                  </a:lnTo>
                  <a:lnTo>
                    <a:pt x="164" y="11"/>
                  </a:lnTo>
                  <a:lnTo>
                    <a:pt x="220" y="2"/>
                  </a:lnTo>
                  <a:lnTo>
                    <a:pt x="274" y="0"/>
                  </a:lnTo>
                  <a:lnTo>
                    <a:pt x="322" y="6"/>
                  </a:lnTo>
                  <a:lnTo>
                    <a:pt x="389" y="20"/>
                  </a:lnTo>
                  <a:lnTo>
                    <a:pt x="502" y="42"/>
                  </a:lnTo>
                  <a:lnTo>
                    <a:pt x="642" y="70"/>
                  </a:lnTo>
                  <a:lnTo>
                    <a:pt x="796" y="104"/>
                  </a:lnTo>
                  <a:lnTo>
                    <a:pt x="946" y="140"/>
                  </a:lnTo>
                  <a:lnTo>
                    <a:pt x="1080" y="179"/>
                  </a:lnTo>
                  <a:lnTo>
                    <a:pt x="1181" y="221"/>
                  </a:lnTo>
                  <a:lnTo>
                    <a:pt x="1237" y="263"/>
                  </a:lnTo>
                  <a:lnTo>
                    <a:pt x="1258" y="307"/>
                  </a:lnTo>
                  <a:lnTo>
                    <a:pt x="1271" y="355"/>
                  </a:lnTo>
                  <a:lnTo>
                    <a:pt x="1278" y="403"/>
                  </a:lnTo>
                  <a:lnTo>
                    <a:pt x="1282" y="451"/>
                  </a:lnTo>
                  <a:lnTo>
                    <a:pt x="1282" y="493"/>
                  </a:lnTo>
                  <a:lnTo>
                    <a:pt x="1281" y="527"/>
                  </a:lnTo>
                  <a:lnTo>
                    <a:pt x="1278" y="550"/>
                  </a:lnTo>
                  <a:lnTo>
                    <a:pt x="1278" y="561"/>
                  </a:lnTo>
                  <a:lnTo>
                    <a:pt x="1076" y="694"/>
                  </a:lnTo>
                  <a:close/>
                </a:path>
              </a:pathLst>
            </a:custGeom>
            <a:solidFill>
              <a:srgbClr val="ba6e6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60160" y="166320"/>
              <a:ext cx="410400" cy="177120"/>
            </a:xfrm>
            <a:custGeom>
              <a:avLst/>
              <a:gdLst/>
              <a:ahLst/>
              <a:rect l="l" t="t" r="r" b="b"/>
              <a:pathLst>
                <a:path w="1743" h="683">
                  <a:moveTo>
                    <a:pt x="0" y="228"/>
                  </a:moveTo>
                  <a:lnTo>
                    <a:pt x="796" y="0"/>
                  </a:lnTo>
                  <a:lnTo>
                    <a:pt x="239" y="228"/>
                  </a:lnTo>
                  <a:lnTo>
                    <a:pt x="892" y="39"/>
                  </a:lnTo>
                  <a:lnTo>
                    <a:pt x="385" y="264"/>
                  </a:lnTo>
                  <a:lnTo>
                    <a:pt x="966" y="78"/>
                  </a:lnTo>
                  <a:lnTo>
                    <a:pt x="484" y="306"/>
                  </a:lnTo>
                  <a:lnTo>
                    <a:pt x="1061" y="113"/>
                  </a:lnTo>
                  <a:lnTo>
                    <a:pt x="637" y="342"/>
                  </a:lnTo>
                  <a:lnTo>
                    <a:pt x="1108" y="162"/>
                  </a:lnTo>
                  <a:lnTo>
                    <a:pt x="768" y="360"/>
                  </a:lnTo>
                  <a:lnTo>
                    <a:pt x="1177" y="188"/>
                  </a:lnTo>
                  <a:lnTo>
                    <a:pt x="873" y="400"/>
                  </a:lnTo>
                  <a:lnTo>
                    <a:pt x="1226" y="223"/>
                  </a:lnTo>
                  <a:lnTo>
                    <a:pt x="961" y="429"/>
                  </a:lnTo>
                  <a:lnTo>
                    <a:pt x="1299" y="260"/>
                  </a:lnTo>
                  <a:lnTo>
                    <a:pt x="1043" y="451"/>
                  </a:lnTo>
                  <a:lnTo>
                    <a:pt x="1354" y="306"/>
                  </a:lnTo>
                  <a:lnTo>
                    <a:pt x="1163" y="484"/>
                  </a:lnTo>
                  <a:lnTo>
                    <a:pt x="1451" y="342"/>
                  </a:lnTo>
                  <a:lnTo>
                    <a:pt x="1277" y="507"/>
                  </a:lnTo>
                  <a:lnTo>
                    <a:pt x="1534" y="412"/>
                  </a:lnTo>
                  <a:lnTo>
                    <a:pt x="1359" y="549"/>
                  </a:lnTo>
                  <a:lnTo>
                    <a:pt x="1605" y="451"/>
                  </a:lnTo>
                  <a:lnTo>
                    <a:pt x="1436" y="588"/>
                  </a:lnTo>
                  <a:lnTo>
                    <a:pt x="1664" y="507"/>
                  </a:lnTo>
                  <a:lnTo>
                    <a:pt x="1534" y="619"/>
                  </a:lnTo>
                  <a:lnTo>
                    <a:pt x="1743" y="560"/>
                  </a:lnTo>
                  <a:lnTo>
                    <a:pt x="1565" y="683"/>
                  </a:lnTo>
                  <a:lnTo>
                    <a:pt x="1378" y="613"/>
                  </a:lnTo>
                  <a:lnTo>
                    <a:pt x="1189" y="547"/>
                  </a:lnTo>
                  <a:lnTo>
                    <a:pt x="998" y="484"/>
                  </a:lnTo>
                  <a:lnTo>
                    <a:pt x="806" y="424"/>
                  </a:lnTo>
                  <a:lnTo>
                    <a:pt x="608" y="368"/>
                  </a:lnTo>
                  <a:lnTo>
                    <a:pt x="408" y="317"/>
                  </a:lnTo>
                  <a:lnTo>
                    <a:pt x="205" y="271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2c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43120" y="86040"/>
              <a:ext cx="399960" cy="110880"/>
            </a:xfrm>
            <a:custGeom>
              <a:avLst/>
              <a:gdLst/>
              <a:ahLst/>
              <a:rect l="l" t="t" r="r" b="b"/>
              <a:pathLst>
                <a:path w="1700" h="427">
                  <a:moveTo>
                    <a:pt x="0" y="169"/>
                  </a:moveTo>
                  <a:lnTo>
                    <a:pt x="461" y="0"/>
                  </a:lnTo>
                  <a:lnTo>
                    <a:pt x="619" y="15"/>
                  </a:lnTo>
                  <a:lnTo>
                    <a:pt x="779" y="34"/>
                  </a:lnTo>
                  <a:lnTo>
                    <a:pt x="935" y="54"/>
                  </a:lnTo>
                  <a:lnTo>
                    <a:pt x="1092" y="77"/>
                  </a:lnTo>
                  <a:lnTo>
                    <a:pt x="1244" y="100"/>
                  </a:lnTo>
                  <a:lnTo>
                    <a:pt x="1398" y="129"/>
                  </a:lnTo>
                  <a:lnTo>
                    <a:pt x="1549" y="158"/>
                  </a:lnTo>
                  <a:lnTo>
                    <a:pt x="1700" y="192"/>
                  </a:lnTo>
                  <a:lnTo>
                    <a:pt x="1402" y="427"/>
                  </a:lnTo>
                  <a:lnTo>
                    <a:pt x="1560" y="234"/>
                  </a:lnTo>
                  <a:lnTo>
                    <a:pt x="1284" y="411"/>
                  </a:lnTo>
                  <a:lnTo>
                    <a:pt x="1500" y="212"/>
                  </a:lnTo>
                  <a:lnTo>
                    <a:pt x="1161" y="387"/>
                  </a:lnTo>
                  <a:lnTo>
                    <a:pt x="1406" y="187"/>
                  </a:lnTo>
                  <a:lnTo>
                    <a:pt x="1064" y="352"/>
                  </a:lnTo>
                  <a:lnTo>
                    <a:pt x="1308" y="173"/>
                  </a:lnTo>
                  <a:lnTo>
                    <a:pt x="954" y="328"/>
                  </a:lnTo>
                  <a:lnTo>
                    <a:pt x="1210" y="159"/>
                  </a:lnTo>
                  <a:lnTo>
                    <a:pt x="831" y="305"/>
                  </a:lnTo>
                  <a:lnTo>
                    <a:pt x="1082" y="136"/>
                  </a:lnTo>
                  <a:lnTo>
                    <a:pt x="740" y="297"/>
                  </a:lnTo>
                  <a:lnTo>
                    <a:pt x="972" y="128"/>
                  </a:lnTo>
                  <a:lnTo>
                    <a:pt x="615" y="286"/>
                  </a:lnTo>
                  <a:lnTo>
                    <a:pt x="877" y="121"/>
                  </a:lnTo>
                  <a:lnTo>
                    <a:pt x="550" y="239"/>
                  </a:lnTo>
                  <a:lnTo>
                    <a:pt x="762" y="105"/>
                  </a:lnTo>
                  <a:lnTo>
                    <a:pt x="445" y="220"/>
                  </a:lnTo>
                  <a:lnTo>
                    <a:pt x="662" y="81"/>
                  </a:lnTo>
                  <a:lnTo>
                    <a:pt x="332" y="191"/>
                  </a:lnTo>
                  <a:lnTo>
                    <a:pt x="544" y="73"/>
                  </a:lnTo>
                  <a:lnTo>
                    <a:pt x="174" y="179"/>
                  </a:lnTo>
                  <a:lnTo>
                    <a:pt x="461" y="55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963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31320" y="274320"/>
              <a:ext cx="151920" cy="110160"/>
            </a:xfrm>
            <a:custGeom>
              <a:avLst/>
              <a:gdLst/>
              <a:ahLst/>
              <a:rect l="l" t="t" r="r" b="b"/>
              <a:pathLst>
                <a:path w="647" h="424">
                  <a:moveTo>
                    <a:pt x="0" y="303"/>
                  </a:moveTo>
                  <a:lnTo>
                    <a:pt x="0" y="302"/>
                  </a:lnTo>
                  <a:lnTo>
                    <a:pt x="5" y="303"/>
                  </a:lnTo>
                  <a:lnTo>
                    <a:pt x="12" y="307"/>
                  </a:lnTo>
                  <a:lnTo>
                    <a:pt x="23" y="313"/>
                  </a:lnTo>
                  <a:lnTo>
                    <a:pt x="34" y="320"/>
                  </a:lnTo>
                  <a:lnTo>
                    <a:pt x="45" y="331"/>
                  </a:lnTo>
                  <a:lnTo>
                    <a:pt x="55" y="343"/>
                  </a:lnTo>
                  <a:lnTo>
                    <a:pt x="63" y="361"/>
                  </a:lnTo>
                  <a:lnTo>
                    <a:pt x="67" y="376"/>
                  </a:lnTo>
                  <a:lnTo>
                    <a:pt x="72" y="390"/>
                  </a:lnTo>
                  <a:lnTo>
                    <a:pt x="77" y="402"/>
                  </a:lnTo>
                  <a:lnTo>
                    <a:pt x="81" y="412"/>
                  </a:lnTo>
                  <a:lnTo>
                    <a:pt x="82" y="417"/>
                  </a:lnTo>
                  <a:lnTo>
                    <a:pt x="83" y="423"/>
                  </a:lnTo>
                  <a:lnTo>
                    <a:pt x="82" y="424"/>
                  </a:lnTo>
                  <a:lnTo>
                    <a:pt x="103" y="406"/>
                  </a:lnTo>
                  <a:lnTo>
                    <a:pt x="166" y="367"/>
                  </a:lnTo>
                  <a:lnTo>
                    <a:pt x="255" y="312"/>
                  </a:lnTo>
                  <a:lnTo>
                    <a:pt x="361" y="250"/>
                  </a:lnTo>
                  <a:lnTo>
                    <a:pt x="464" y="187"/>
                  </a:lnTo>
                  <a:lnTo>
                    <a:pt x="556" y="133"/>
                  </a:lnTo>
                  <a:lnTo>
                    <a:pt x="621" y="93"/>
                  </a:lnTo>
                  <a:lnTo>
                    <a:pt x="647" y="80"/>
                  </a:lnTo>
                  <a:lnTo>
                    <a:pt x="647" y="71"/>
                  </a:lnTo>
                  <a:lnTo>
                    <a:pt x="647" y="63"/>
                  </a:lnTo>
                  <a:lnTo>
                    <a:pt x="647" y="53"/>
                  </a:lnTo>
                  <a:lnTo>
                    <a:pt x="647" y="44"/>
                  </a:lnTo>
                  <a:lnTo>
                    <a:pt x="641" y="33"/>
                  </a:lnTo>
                  <a:lnTo>
                    <a:pt x="636" y="22"/>
                  </a:lnTo>
                  <a:lnTo>
                    <a:pt x="625" y="9"/>
                  </a:lnTo>
                  <a:lnTo>
                    <a:pt x="611" y="0"/>
                  </a:lnTo>
                  <a:lnTo>
                    <a:pt x="571" y="3"/>
                  </a:lnTo>
                  <a:lnTo>
                    <a:pt x="497" y="34"/>
                  </a:lnTo>
                  <a:lnTo>
                    <a:pt x="399" y="82"/>
                  </a:lnTo>
                  <a:lnTo>
                    <a:pt x="292" y="143"/>
                  </a:lnTo>
                  <a:lnTo>
                    <a:pt x="185" y="203"/>
                  </a:lnTo>
                  <a:lnTo>
                    <a:pt x="93" y="255"/>
                  </a:lnTo>
                  <a:lnTo>
                    <a:pt x="26" y="291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963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60640" y="146880"/>
              <a:ext cx="105840" cy="86760"/>
            </a:xfrm>
            <a:custGeom>
              <a:avLst/>
              <a:gdLst/>
              <a:ahLst/>
              <a:rect l="l" t="t" r="r" b="b"/>
              <a:pathLst>
                <a:path w="448" h="335">
                  <a:moveTo>
                    <a:pt x="27" y="335"/>
                  </a:moveTo>
                  <a:lnTo>
                    <a:pt x="24" y="331"/>
                  </a:lnTo>
                  <a:lnTo>
                    <a:pt x="24" y="324"/>
                  </a:lnTo>
                  <a:lnTo>
                    <a:pt x="23" y="314"/>
                  </a:lnTo>
                  <a:lnTo>
                    <a:pt x="23" y="304"/>
                  </a:lnTo>
                  <a:lnTo>
                    <a:pt x="19" y="293"/>
                  </a:lnTo>
                  <a:lnTo>
                    <a:pt x="15" y="283"/>
                  </a:lnTo>
                  <a:lnTo>
                    <a:pt x="8" y="272"/>
                  </a:lnTo>
                  <a:lnTo>
                    <a:pt x="0" y="265"/>
                  </a:lnTo>
                  <a:lnTo>
                    <a:pt x="5" y="247"/>
                  </a:lnTo>
                  <a:lnTo>
                    <a:pt x="42" y="217"/>
                  </a:lnTo>
                  <a:lnTo>
                    <a:pt x="100" y="175"/>
                  </a:lnTo>
                  <a:lnTo>
                    <a:pt x="171" y="130"/>
                  </a:lnTo>
                  <a:lnTo>
                    <a:pt x="244" y="83"/>
                  </a:lnTo>
                  <a:lnTo>
                    <a:pt x="314" y="44"/>
                  </a:lnTo>
                  <a:lnTo>
                    <a:pt x="368" y="13"/>
                  </a:lnTo>
                  <a:lnTo>
                    <a:pt x="398" y="1"/>
                  </a:lnTo>
                  <a:lnTo>
                    <a:pt x="411" y="0"/>
                  </a:lnTo>
                  <a:lnTo>
                    <a:pt x="424" y="4"/>
                  </a:lnTo>
                  <a:lnTo>
                    <a:pt x="435" y="12"/>
                  </a:lnTo>
                  <a:lnTo>
                    <a:pt x="445" y="26"/>
                  </a:lnTo>
                  <a:lnTo>
                    <a:pt x="448" y="41"/>
                  </a:lnTo>
                  <a:lnTo>
                    <a:pt x="445" y="59"/>
                  </a:lnTo>
                  <a:lnTo>
                    <a:pt x="435" y="78"/>
                  </a:lnTo>
                  <a:lnTo>
                    <a:pt x="417" y="98"/>
                  </a:lnTo>
                  <a:lnTo>
                    <a:pt x="380" y="122"/>
                  </a:lnTo>
                  <a:lnTo>
                    <a:pt x="328" y="155"/>
                  </a:lnTo>
                  <a:lnTo>
                    <a:pt x="264" y="193"/>
                  </a:lnTo>
                  <a:lnTo>
                    <a:pt x="198" y="233"/>
                  </a:lnTo>
                  <a:lnTo>
                    <a:pt x="133" y="270"/>
                  </a:lnTo>
                  <a:lnTo>
                    <a:pt x="79" y="302"/>
                  </a:lnTo>
                  <a:lnTo>
                    <a:pt x="41" y="324"/>
                  </a:lnTo>
                  <a:lnTo>
                    <a:pt x="27" y="335"/>
                  </a:lnTo>
                  <a:close/>
                </a:path>
              </a:pathLst>
            </a:custGeom>
            <a:solidFill>
              <a:srgbClr val="963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946440" y="329760"/>
              <a:ext cx="147600" cy="107640"/>
            </a:xfrm>
            <a:custGeom>
              <a:avLst/>
              <a:gdLst/>
              <a:ahLst/>
              <a:rect l="l" t="t" r="r" b="b"/>
              <a:pathLst>
                <a:path w="628" h="413">
                  <a:moveTo>
                    <a:pt x="0" y="364"/>
                  </a:moveTo>
                  <a:lnTo>
                    <a:pt x="82" y="313"/>
                  </a:lnTo>
                  <a:lnTo>
                    <a:pt x="177" y="260"/>
                  </a:lnTo>
                  <a:lnTo>
                    <a:pt x="275" y="202"/>
                  </a:lnTo>
                  <a:lnTo>
                    <a:pt x="371" y="147"/>
                  </a:lnTo>
                  <a:lnTo>
                    <a:pt x="457" y="95"/>
                  </a:lnTo>
                  <a:lnTo>
                    <a:pt x="533" y="52"/>
                  </a:lnTo>
                  <a:lnTo>
                    <a:pt x="585" y="21"/>
                  </a:lnTo>
                  <a:lnTo>
                    <a:pt x="613" y="6"/>
                  </a:lnTo>
                  <a:lnTo>
                    <a:pt x="621" y="0"/>
                  </a:lnTo>
                  <a:lnTo>
                    <a:pt x="628" y="1"/>
                  </a:lnTo>
                  <a:lnTo>
                    <a:pt x="628" y="7"/>
                  </a:lnTo>
                  <a:lnTo>
                    <a:pt x="626" y="17"/>
                  </a:lnTo>
                  <a:lnTo>
                    <a:pt x="618" y="28"/>
                  </a:lnTo>
                  <a:lnTo>
                    <a:pt x="607" y="41"/>
                  </a:lnTo>
                  <a:lnTo>
                    <a:pt x="591" y="55"/>
                  </a:lnTo>
                  <a:lnTo>
                    <a:pt x="571" y="70"/>
                  </a:lnTo>
                  <a:lnTo>
                    <a:pt x="534" y="89"/>
                  </a:lnTo>
                  <a:lnTo>
                    <a:pt x="479" y="122"/>
                  </a:lnTo>
                  <a:lnTo>
                    <a:pt x="406" y="165"/>
                  </a:lnTo>
                  <a:lnTo>
                    <a:pt x="325" y="216"/>
                  </a:lnTo>
                  <a:lnTo>
                    <a:pt x="238" y="268"/>
                  </a:lnTo>
                  <a:lnTo>
                    <a:pt x="151" y="320"/>
                  </a:lnTo>
                  <a:lnTo>
                    <a:pt x="69" y="370"/>
                  </a:lnTo>
                  <a:lnTo>
                    <a:pt x="0" y="413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963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173240" y="191520"/>
              <a:ext cx="95400" cy="74160"/>
            </a:xfrm>
            <a:custGeom>
              <a:avLst/>
              <a:gdLst/>
              <a:ahLst/>
              <a:rect l="l" t="t" r="r" b="b"/>
              <a:pathLst>
                <a:path w="406" h="285">
                  <a:moveTo>
                    <a:pt x="0" y="262"/>
                  </a:moveTo>
                  <a:lnTo>
                    <a:pt x="17" y="248"/>
                  </a:lnTo>
                  <a:lnTo>
                    <a:pt x="64" y="218"/>
                  </a:lnTo>
                  <a:lnTo>
                    <a:pt x="128" y="175"/>
                  </a:lnTo>
                  <a:lnTo>
                    <a:pt x="204" y="129"/>
                  </a:lnTo>
                  <a:lnTo>
                    <a:pt x="278" y="81"/>
                  </a:lnTo>
                  <a:lnTo>
                    <a:pt x="342" y="39"/>
                  </a:lnTo>
                  <a:lnTo>
                    <a:pt x="388" y="9"/>
                  </a:lnTo>
                  <a:lnTo>
                    <a:pt x="406" y="0"/>
                  </a:lnTo>
                  <a:lnTo>
                    <a:pt x="396" y="37"/>
                  </a:lnTo>
                  <a:lnTo>
                    <a:pt x="4" y="285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63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17440" y="235080"/>
              <a:ext cx="34560" cy="92880"/>
            </a:xfrm>
            <a:custGeom>
              <a:avLst/>
              <a:gdLst/>
              <a:ahLst/>
              <a:rect l="l" t="t" r="r" b="b"/>
              <a:pathLst>
                <a:path w="148" h="357">
                  <a:moveTo>
                    <a:pt x="17" y="357"/>
                  </a:moveTo>
                  <a:lnTo>
                    <a:pt x="17" y="349"/>
                  </a:lnTo>
                  <a:lnTo>
                    <a:pt x="20" y="332"/>
                  </a:lnTo>
                  <a:lnTo>
                    <a:pt x="23" y="307"/>
                  </a:lnTo>
                  <a:lnTo>
                    <a:pt x="24" y="279"/>
                  </a:lnTo>
                  <a:lnTo>
                    <a:pt x="23" y="244"/>
                  </a:lnTo>
                  <a:lnTo>
                    <a:pt x="20" y="210"/>
                  </a:lnTo>
                  <a:lnTo>
                    <a:pt x="15" y="173"/>
                  </a:lnTo>
                  <a:lnTo>
                    <a:pt x="7" y="141"/>
                  </a:lnTo>
                  <a:lnTo>
                    <a:pt x="0" y="108"/>
                  </a:lnTo>
                  <a:lnTo>
                    <a:pt x="7" y="75"/>
                  </a:lnTo>
                  <a:lnTo>
                    <a:pt x="22" y="47"/>
                  </a:lnTo>
                  <a:lnTo>
                    <a:pt x="44" y="23"/>
                  </a:lnTo>
                  <a:lnTo>
                    <a:pt x="67" y="5"/>
                  </a:lnTo>
                  <a:lnTo>
                    <a:pt x="90" y="0"/>
                  </a:lnTo>
                  <a:lnTo>
                    <a:pt x="110" y="7"/>
                  </a:lnTo>
                  <a:lnTo>
                    <a:pt x="123" y="30"/>
                  </a:lnTo>
                  <a:lnTo>
                    <a:pt x="129" y="63"/>
                  </a:lnTo>
                  <a:lnTo>
                    <a:pt x="134" y="103"/>
                  </a:lnTo>
                  <a:lnTo>
                    <a:pt x="138" y="144"/>
                  </a:lnTo>
                  <a:lnTo>
                    <a:pt x="143" y="187"/>
                  </a:lnTo>
                  <a:lnTo>
                    <a:pt x="144" y="224"/>
                  </a:lnTo>
                  <a:lnTo>
                    <a:pt x="147" y="254"/>
                  </a:lnTo>
                  <a:lnTo>
                    <a:pt x="147" y="272"/>
                  </a:lnTo>
                  <a:lnTo>
                    <a:pt x="148" y="277"/>
                  </a:lnTo>
                  <a:lnTo>
                    <a:pt x="141" y="276"/>
                  </a:lnTo>
                  <a:lnTo>
                    <a:pt x="127" y="284"/>
                  </a:lnTo>
                  <a:lnTo>
                    <a:pt x="107" y="298"/>
                  </a:lnTo>
                  <a:lnTo>
                    <a:pt x="83" y="314"/>
                  </a:lnTo>
                  <a:lnTo>
                    <a:pt x="59" y="329"/>
                  </a:lnTo>
                  <a:lnTo>
                    <a:pt x="38" y="345"/>
                  </a:lnTo>
                  <a:lnTo>
                    <a:pt x="23" y="354"/>
                  </a:lnTo>
                  <a:lnTo>
                    <a:pt x="17" y="357"/>
                  </a:lnTo>
                  <a:close/>
                </a:path>
              </a:pathLst>
            </a:custGeom>
            <a:solidFill>
              <a:srgbClr val="963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03640" y="248400"/>
              <a:ext cx="411840" cy="141120"/>
            </a:xfrm>
            <a:custGeom>
              <a:avLst/>
              <a:gdLst/>
              <a:ahLst/>
              <a:rect l="l" t="t" r="r" b="b"/>
              <a:pathLst>
                <a:path w="1749" h="543">
                  <a:moveTo>
                    <a:pt x="48" y="0"/>
                  </a:moveTo>
                  <a:lnTo>
                    <a:pt x="118" y="18"/>
                  </a:lnTo>
                  <a:lnTo>
                    <a:pt x="299" y="70"/>
                  </a:lnTo>
                  <a:lnTo>
                    <a:pt x="556" y="143"/>
                  </a:lnTo>
                  <a:lnTo>
                    <a:pt x="852" y="228"/>
                  </a:lnTo>
                  <a:lnTo>
                    <a:pt x="1147" y="313"/>
                  </a:lnTo>
                  <a:lnTo>
                    <a:pt x="1410" y="390"/>
                  </a:lnTo>
                  <a:lnTo>
                    <a:pt x="1599" y="447"/>
                  </a:lnTo>
                  <a:lnTo>
                    <a:pt x="1682" y="476"/>
                  </a:lnTo>
                  <a:lnTo>
                    <a:pt x="1697" y="484"/>
                  </a:lnTo>
                  <a:lnTo>
                    <a:pt x="1715" y="496"/>
                  </a:lnTo>
                  <a:lnTo>
                    <a:pt x="1731" y="508"/>
                  </a:lnTo>
                  <a:lnTo>
                    <a:pt x="1744" y="522"/>
                  </a:lnTo>
                  <a:lnTo>
                    <a:pt x="1749" y="532"/>
                  </a:lnTo>
                  <a:lnTo>
                    <a:pt x="1748" y="540"/>
                  </a:lnTo>
                  <a:lnTo>
                    <a:pt x="1737" y="543"/>
                  </a:lnTo>
                  <a:lnTo>
                    <a:pt x="1715" y="541"/>
                  </a:lnTo>
                  <a:lnTo>
                    <a:pt x="1617" y="515"/>
                  </a:lnTo>
                  <a:lnTo>
                    <a:pt x="1415" y="456"/>
                  </a:lnTo>
                  <a:lnTo>
                    <a:pt x="1143" y="377"/>
                  </a:lnTo>
                  <a:lnTo>
                    <a:pt x="839" y="287"/>
                  </a:lnTo>
                  <a:lnTo>
                    <a:pt x="536" y="197"/>
                  </a:lnTo>
                  <a:lnTo>
                    <a:pt x="273" y="120"/>
                  </a:lnTo>
                  <a:lnTo>
                    <a:pt x="87" y="62"/>
                  </a:lnTo>
                  <a:lnTo>
                    <a:pt x="14" y="39"/>
                  </a:lnTo>
                  <a:lnTo>
                    <a:pt x="3" y="28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5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c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02560" y="299160"/>
              <a:ext cx="409680" cy="151200"/>
            </a:xfrm>
            <a:custGeom>
              <a:avLst/>
              <a:gdLst/>
              <a:ahLst/>
              <a:rect l="l" t="t" r="r" b="b"/>
              <a:pathLst>
                <a:path w="1739" h="583">
                  <a:moveTo>
                    <a:pt x="20" y="46"/>
                  </a:moveTo>
                  <a:lnTo>
                    <a:pt x="16" y="42"/>
                  </a:lnTo>
                  <a:lnTo>
                    <a:pt x="11" y="37"/>
                  </a:lnTo>
                  <a:lnTo>
                    <a:pt x="6" y="28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3" y="5"/>
                  </a:lnTo>
                  <a:lnTo>
                    <a:pt x="10" y="0"/>
                  </a:lnTo>
                  <a:lnTo>
                    <a:pt x="24" y="0"/>
                  </a:lnTo>
                  <a:lnTo>
                    <a:pt x="102" y="20"/>
                  </a:lnTo>
                  <a:lnTo>
                    <a:pt x="288" y="75"/>
                  </a:lnTo>
                  <a:lnTo>
                    <a:pt x="542" y="153"/>
                  </a:lnTo>
                  <a:lnTo>
                    <a:pt x="834" y="245"/>
                  </a:lnTo>
                  <a:lnTo>
                    <a:pt x="1127" y="336"/>
                  </a:lnTo>
                  <a:lnTo>
                    <a:pt x="1388" y="420"/>
                  </a:lnTo>
                  <a:lnTo>
                    <a:pt x="1581" y="480"/>
                  </a:lnTo>
                  <a:lnTo>
                    <a:pt x="1674" y="509"/>
                  </a:lnTo>
                  <a:lnTo>
                    <a:pt x="1699" y="519"/>
                  </a:lnTo>
                  <a:lnTo>
                    <a:pt x="1719" y="534"/>
                  </a:lnTo>
                  <a:lnTo>
                    <a:pt x="1732" y="549"/>
                  </a:lnTo>
                  <a:lnTo>
                    <a:pt x="1739" y="564"/>
                  </a:lnTo>
                  <a:lnTo>
                    <a:pt x="1734" y="575"/>
                  </a:lnTo>
                  <a:lnTo>
                    <a:pt x="1722" y="582"/>
                  </a:lnTo>
                  <a:lnTo>
                    <a:pt x="1700" y="583"/>
                  </a:lnTo>
                  <a:lnTo>
                    <a:pt x="1670" y="576"/>
                  </a:lnTo>
                  <a:lnTo>
                    <a:pt x="1571" y="543"/>
                  </a:lnTo>
                  <a:lnTo>
                    <a:pt x="1379" y="483"/>
                  </a:lnTo>
                  <a:lnTo>
                    <a:pt x="1120" y="402"/>
                  </a:lnTo>
                  <a:lnTo>
                    <a:pt x="833" y="313"/>
                  </a:lnTo>
                  <a:lnTo>
                    <a:pt x="545" y="221"/>
                  </a:lnTo>
                  <a:lnTo>
                    <a:pt x="292" y="140"/>
                  </a:lnTo>
                  <a:lnTo>
                    <a:pt x="105" y="78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f2c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78400" y="167400"/>
              <a:ext cx="93600" cy="34200"/>
            </a:xfrm>
            <a:custGeom>
              <a:avLst/>
              <a:gdLst/>
              <a:ahLst/>
              <a:rect l="l" t="t" r="r" b="b"/>
              <a:pathLst>
                <a:path w="399" h="133">
                  <a:moveTo>
                    <a:pt x="170" y="133"/>
                  </a:moveTo>
                  <a:lnTo>
                    <a:pt x="116" y="125"/>
                  </a:lnTo>
                  <a:lnTo>
                    <a:pt x="68" y="109"/>
                  </a:lnTo>
                  <a:lnTo>
                    <a:pt x="28" y="88"/>
                  </a:lnTo>
                  <a:lnTo>
                    <a:pt x="5" y="65"/>
                  </a:lnTo>
                  <a:lnTo>
                    <a:pt x="0" y="40"/>
                  </a:lnTo>
                  <a:lnTo>
                    <a:pt x="23" y="21"/>
                  </a:lnTo>
                  <a:lnTo>
                    <a:pt x="77" y="6"/>
                  </a:lnTo>
                  <a:lnTo>
                    <a:pt x="170" y="0"/>
                  </a:lnTo>
                  <a:lnTo>
                    <a:pt x="268" y="4"/>
                  </a:lnTo>
                  <a:lnTo>
                    <a:pt x="340" y="19"/>
                  </a:lnTo>
                  <a:lnTo>
                    <a:pt x="383" y="41"/>
                  </a:lnTo>
                  <a:lnTo>
                    <a:pt x="399" y="69"/>
                  </a:lnTo>
                  <a:lnTo>
                    <a:pt x="386" y="94"/>
                  </a:lnTo>
                  <a:lnTo>
                    <a:pt x="343" y="116"/>
                  </a:lnTo>
                  <a:lnTo>
                    <a:pt x="272" y="129"/>
                  </a:lnTo>
                  <a:lnTo>
                    <a:pt x="170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86680" y="163440"/>
              <a:ext cx="80280" cy="28800"/>
            </a:xfrm>
            <a:custGeom>
              <a:avLst/>
              <a:gdLst/>
              <a:ahLst/>
              <a:rect l="l" t="t" r="r" b="b"/>
              <a:pathLst>
                <a:path w="340" h="111">
                  <a:moveTo>
                    <a:pt x="147" y="111"/>
                  </a:moveTo>
                  <a:lnTo>
                    <a:pt x="100" y="104"/>
                  </a:lnTo>
                  <a:lnTo>
                    <a:pt x="59" y="92"/>
                  </a:lnTo>
                  <a:lnTo>
                    <a:pt x="24" y="74"/>
                  </a:lnTo>
                  <a:lnTo>
                    <a:pt x="5" y="55"/>
                  </a:lnTo>
                  <a:lnTo>
                    <a:pt x="0" y="34"/>
                  </a:lnTo>
                  <a:lnTo>
                    <a:pt x="20" y="18"/>
                  </a:lnTo>
                  <a:lnTo>
                    <a:pt x="67" y="4"/>
                  </a:lnTo>
                  <a:lnTo>
                    <a:pt x="147" y="0"/>
                  </a:lnTo>
                  <a:lnTo>
                    <a:pt x="229" y="3"/>
                  </a:lnTo>
                  <a:lnTo>
                    <a:pt x="291" y="16"/>
                  </a:lnTo>
                  <a:lnTo>
                    <a:pt x="328" y="35"/>
                  </a:lnTo>
                  <a:lnTo>
                    <a:pt x="340" y="59"/>
                  </a:lnTo>
                  <a:lnTo>
                    <a:pt x="328" y="79"/>
                  </a:lnTo>
                  <a:lnTo>
                    <a:pt x="292" y="99"/>
                  </a:lnTo>
                  <a:lnTo>
                    <a:pt x="232" y="108"/>
                  </a:lnTo>
                  <a:lnTo>
                    <a:pt x="147" y="111"/>
                  </a:lnTo>
                  <a:close/>
                </a:path>
              </a:pathLst>
            </a:custGeom>
            <a:solidFill>
              <a:srgbClr val="b3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93160" y="164160"/>
              <a:ext cx="69120" cy="17640"/>
            </a:xfrm>
            <a:custGeom>
              <a:avLst/>
              <a:gdLst/>
              <a:ahLst/>
              <a:rect l="l" t="t" r="r" b="b"/>
              <a:pathLst>
                <a:path w="294" h="69">
                  <a:moveTo>
                    <a:pt x="125" y="69"/>
                  </a:moveTo>
                  <a:lnTo>
                    <a:pt x="85" y="63"/>
                  </a:lnTo>
                  <a:lnTo>
                    <a:pt x="51" y="55"/>
                  </a:lnTo>
                  <a:lnTo>
                    <a:pt x="21" y="44"/>
                  </a:lnTo>
                  <a:lnTo>
                    <a:pt x="4" y="33"/>
                  </a:lnTo>
                  <a:lnTo>
                    <a:pt x="0" y="21"/>
                  </a:lnTo>
                  <a:lnTo>
                    <a:pt x="17" y="10"/>
                  </a:lnTo>
                  <a:lnTo>
                    <a:pt x="57" y="3"/>
                  </a:lnTo>
                  <a:lnTo>
                    <a:pt x="125" y="0"/>
                  </a:lnTo>
                  <a:lnTo>
                    <a:pt x="198" y="2"/>
                  </a:lnTo>
                  <a:lnTo>
                    <a:pt x="250" y="10"/>
                  </a:lnTo>
                  <a:lnTo>
                    <a:pt x="282" y="21"/>
                  </a:lnTo>
                  <a:lnTo>
                    <a:pt x="294" y="36"/>
                  </a:lnTo>
                  <a:lnTo>
                    <a:pt x="283" y="48"/>
                  </a:lnTo>
                  <a:lnTo>
                    <a:pt x="253" y="59"/>
                  </a:lnTo>
                  <a:lnTo>
                    <a:pt x="199" y="66"/>
                  </a:lnTo>
                  <a:lnTo>
                    <a:pt x="125" y="69"/>
                  </a:lnTo>
                  <a:close/>
                </a:path>
              </a:pathLst>
            </a:cu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5653080" y="1801800"/>
            <a:ext cx="2305080" cy="23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84840" y="2016000"/>
            <a:ext cx="2106720" cy="21052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08840" y="2340000"/>
            <a:ext cx="1460520" cy="145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34280" y="2662200"/>
            <a:ext cx="811080" cy="81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364440" y="2030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500" spc="-1" strike="noStrike">
                <a:solidFill>
                  <a:srgbClr val="000000"/>
                </a:solidFill>
                <a:latin typeface="Arial"/>
              </a:rPr>
              <a:t>privau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222960" y="2373480"/>
            <a:ext cx="1228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224760" y="2639880"/>
            <a:ext cx="122868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500" spc="-1" strike="noStrike">
                <a:solidFill>
                  <a:srgbClr val="000000"/>
                </a:solidFill>
                <a:latin typeface="Arial"/>
              </a:rPr>
              <a:t>coeu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500" spc="-1" strike="noStrike">
                <a:solidFill>
                  <a:srgbClr val="000000"/>
                </a:solidFill>
                <a:latin typeface="Arial"/>
              </a:rPr>
              <a:t>asser-</a:t>
            </a:r>
            <a:br>
              <a:rPr sz="1500"/>
            </a:br>
            <a:r>
              <a:rPr b="1" i="1" lang="fr-FR" sz="1500" spc="-1" strike="noStrike">
                <a:solidFill>
                  <a:srgbClr val="000000"/>
                </a:solidFill>
                <a:latin typeface="Arial"/>
              </a:rPr>
              <a:t>tionn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881840" y="3166920"/>
            <a:ext cx="80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7810200" y="2922480"/>
            <a:ext cx="81108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975440" y="2606760"/>
            <a:ext cx="7970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905600" y="3132000"/>
            <a:ext cx="973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165800" y="2924280"/>
            <a:ext cx="505080" cy="244440"/>
          </a:xfrm>
          <a:custGeom>
            <a:avLst/>
            <a:gdLst>
              <a:gd name="textAreaLeft" fmla="*/ 148320 w 505080"/>
              <a:gd name="textAreaRight" fmla="*/ 505440 w 505080"/>
              <a:gd name="textAreaTop" fmla="*/ 10080 h 244440"/>
              <a:gd name="textAreaBottom" fmla="*/ 234360 h 24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694640" y="3166920"/>
            <a:ext cx="192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7654680" y="2922120"/>
            <a:ext cx="215640" cy="1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7297200" y="2938320"/>
            <a:ext cx="87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413480" y="3168720"/>
            <a:ext cx="87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165800" y="3037680"/>
            <a:ext cx="0" cy="87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576760" y="174132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99"/>
                </a:solidFill>
                <a:latin typeface="Arial"/>
              </a:rPr>
              <a:t>moteur d’infé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0230-40CA-4374-8E64-C6D05F5751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-36360" y="25200"/>
            <a:ext cx="91440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5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CoMMA projet IST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tos-Origin, CSELT Telecom Italia, CSTB, INRIA, LIRMM, T-Nova Deutsche Telekom, Université Parme</a:t>
            </a:r>
            <a:br>
              <a:rPr sz="2200"/>
            </a:b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2 évaluations avec utilisateurs finaux, journée porte ouverte et démo</a:t>
            </a:r>
            <a:br>
              <a:rPr sz="2200"/>
            </a:b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+ évaluations de performances</a:t>
            </a:r>
            <a:br>
              <a:rPr sz="2200"/>
            </a:b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5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990000"/>
                </a:solidFill>
                <a:latin typeface="Arial"/>
              </a:rPr>
              <a:t>my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Campu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projet DARPA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(chef de projet)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MU, Air Force, BBN, IBM, HP, Symbol, Boeing</a:t>
            </a:r>
            <a:br>
              <a:rPr sz="2200"/>
            </a:b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expérience à CMU sur 3 jours avec 11 utilisa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D503-8F18-4C84-9940-645534AEE7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-36360" y="25200"/>
            <a:ext cx="91440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Vision du fut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A distribuée pour assister le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cycle de vie des connaiss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llecticiels pour émergence &amp; maintien consensus ontolog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férences distribuées &amp; bibliothèques de protocoles d’inter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férences pour maximiser la maintenance automat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Interactions dans/entre Webs sémantiqu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(extranets, Web ouver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diations entre différentes ont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écouverte (existence, modalités) et composition de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rôle de la sécurité, de l’accès, de la visibilité et de la privau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rôle de la qualité (contenu, serv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Interfac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homme-système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intelligentes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asquant la complex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exte d’accès aux connaissances et services en ligne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wareness, dimension sociale (communautés, rôles), mobil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xploiter les structures sémantiques pour inférences d’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opérations nécessaires: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international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(ex. IST),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industriell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(ex. RNTL),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organismes de standardisation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(ex. W3C, OA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260F-6256-4798-A92C-E93E66B054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-36360" y="25200"/>
            <a:ext cx="91440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Complémentarité des domaines de recher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286080" y="2449440"/>
            <a:ext cx="2631960" cy="2376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270880" y="4408560"/>
            <a:ext cx="4651560" cy="351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88" y="2945"/>
                </a:moveTo>
                <a:arcTo wR="10800" hR="10800" stAng="-8000319" swAng="5104674"/>
                <a:lnTo>
                  <a:pt x="10800" y="10800"/>
                </a:lnTo>
                <a:close/>
              </a:path>
              <a:path fill="none" w="21600" h="21600">
                <a:moveTo>
                  <a:pt x="3388" y="2945"/>
                </a:moveTo>
                <a:arcTo wR="10800" hR="10800" stAng="-8000319" swAng="5104674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 flipV="1" rot="20221200">
            <a:off x="4604400" y="-1594800"/>
            <a:ext cx="7013160" cy="706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59" y="4214"/>
                </a:moveTo>
                <a:arcTo wR="10800" hR="10800" stAng="-2254623" swAng="3891010"/>
                <a:lnTo>
                  <a:pt x="10800" y="10800"/>
                </a:lnTo>
                <a:close/>
              </a:path>
              <a:path fill="none" w="21600" h="21600">
                <a:moveTo>
                  <a:pt x="19359" y="4214"/>
                </a:moveTo>
                <a:arcTo wR="10800" hR="10800" stAng="-2254623" swAng="389101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 rot="1378800">
            <a:off x="-2426040" y="-1590120"/>
            <a:ext cx="7013160" cy="706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59" y="4214"/>
                </a:moveTo>
                <a:arcTo wR="10800" hR="10800" stAng="-2254623" swAng="3891010"/>
                <a:lnTo>
                  <a:pt x="10800" y="10800"/>
                </a:lnTo>
                <a:close/>
              </a:path>
              <a:path fill="none" w="21600" h="21600">
                <a:moveTo>
                  <a:pt x="19359" y="4214"/>
                </a:moveTo>
                <a:arcTo wR="10800" hR="10800" stAng="-2254623" swAng="389101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2828880" y="4656240"/>
            <a:ext cx="168480" cy="34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431960" y="1654200"/>
            <a:ext cx="168120" cy="34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194520" y="4657680"/>
            <a:ext cx="185760" cy="371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013440" y="4970520"/>
            <a:ext cx="369720" cy="30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816280" y="4976280"/>
            <a:ext cx="352440" cy="32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479760" y="981000"/>
            <a:ext cx="22431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I Distribuée &amp; Services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46680" y="4754520"/>
            <a:ext cx="30733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ntologie &amp;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présentation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connaiss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50920" y="4653000"/>
            <a:ext cx="30240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eb Séman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&amp; Knowled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4612680" y="4480200"/>
            <a:ext cx="1401480" cy="1091520"/>
            <a:chOff x="4612680" y="4480200"/>
            <a:chExt cx="1401480" cy="1091520"/>
          </a:xfrm>
        </p:grpSpPr>
        <p:sp>
          <p:nvSpPr>
            <p:cNvPr id="871" name=""/>
            <p:cNvSpPr/>
            <p:nvPr/>
          </p:nvSpPr>
          <p:spPr>
            <a:xfrm flipH="1" flipV="1" rot="6316800">
              <a:off x="4916160" y="4407840"/>
              <a:ext cx="793800" cy="12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1" y="8114"/>
                  </a:moveTo>
                  <a:arcTo wR="10800" hR="10800" stAng="-864056" swAng="2500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1" y="8114"/>
                  </a:moveTo>
                  <a:arcTo wR="10800" hR="10800" stAng="-864056" swAng="2500443"/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499360" y="4769280"/>
              <a:ext cx="193680" cy="241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4570560" y="4815000"/>
            <a:ext cx="13572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formalismes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3081960" y="4505760"/>
            <a:ext cx="1419480" cy="1096920"/>
            <a:chOff x="3081960" y="4505760"/>
            <a:chExt cx="1419480" cy="1096920"/>
          </a:xfrm>
        </p:grpSpPr>
        <p:sp>
          <p:nvSpPr>
            <p:cNvPr id="875" name=""/>
            <p:cNvSpPr/>
            <p:nvPr/>
          </p:nvSpPr>
          <p:spPr>
            <a:xfrm flipV="1" rot="15283200">
              <a:off x="3394440" y="4426560"/>
              <a:ext cx="794520" cy="125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1" y="8114"/>
                  </a:moveTo>
                  <a:arcTo wR="10800" hR="10800" stAng="-864056" swAng="2500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1" y="8114"/>
                  </a:moveTo>
                  <a:arcTo wR="10800" hR="10800" stAng="-864056" swAng="2500443"/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08840" y="4798800"/>
              <a:ext cx="195480" cy="226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3346560" y="4808520"/>
            <a:ext cx="1358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méthodes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sché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4561200" y="1683360"/>
            <a:ext cx="1219320" cy="1467360"/>
            <a:chOff x="4561200" y="1683360"/>
            <a:chExt cx="1219320" cy="1467360"/>
          </a:xfrm>
        </p:grpSpPr>
        <p:sp>
          <p:nvSpPr>
            <p:cNvPr id="879" name=""/>
            <p:cNvSpPr/>
            <p:nvPr/>
          </p:nvSpPr>
          <p:spPr>
            <a:xfrm flipH="1" flipV="1" rot="20221200">
              <a:off x="4775040" y="1787760"/>
              <a:ext cx="790920" cy="12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1" y="8114"/>
                  </a:moveTo>
                  <a:arcTo wR="10800" hR="10800" stAng="-864056" swAng="2500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1" y="8114"/>
                  </a:moveTo>
                  <a:arcTo wR="10800" hR="10800" stAng="-864056" swAng="2500443"/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35440" y="2273400"/>
              <a:ext cx="138240" cy="1396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4943520" y="2109960"/>
            <a:ext cx="297324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formalism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référence sémantique p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inférences &amp;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5242680" y="3282840"/>
            <a:ext cx="1399320" cy="1461960"/>
            <a:chOff x="5242680" y="3282840"/>
            <a:chExt cx="1399320" cy="1461960"/>
          </a:xfrm>
        </p:grpSpPr>
        <p:sp>
          <p:nvSpPr>
            <p:cNvPr id="883" name=""/>
            <p:cNvSpPr/>
            <p:nvPr/>
          </p:nvSpPr>
          <p:spPr>
            <a:xfrm flipH="1" rot="19242000">
              <a:off x="5545080" y="3394080"/>
              <a:ext cx="793800" cy="12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1" y="8114"/>
                  </a:moveTo>
                  <a:arcTo wR="10800" hR="10800" stAng="-864056" swAng="2500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1" y="8114"/>
                  </a:moveTo>
                  <a:arcTo wR="10800" hR="10800" stAng="-864056" swAng="2500443"/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5805720" y="4278960"/>
              <a:ext cx="57240" cy="187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5722920" y="3917880"/>
            <a:ext cx="24591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plates-formes logicielles</a:t>
            </a:r>
            <a:br>
              <a:rPr sz="1600"/>
            </a:b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    pour cycle de v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3429720" y="1687680"/>
            <a:ext cx="1217520" cy="1462320"/>
            <a:chOff x="3429720" y="1687680"/>
            <a:chExt cx="1217520" cy="1462320"/>
          </a:xfrm>
        </p:grpSpPr>
        <p:sp>
          <p:nvSpPr>
            <p:cNvPr id="887" name=""/>
            <p:cNvSpPr/>
            <p:nvPr/>
          </p:nvSpPr>
          <p:spPr>
            <a:xfrm flipV="1" rot="1378800">
              <a:off x="3642840" y="1792440"/>
              <a:ext cx="790920" cy="125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1" y="8114"/>
                  </a:moveTo>
                  <a:arcTo wR="10800" hR="10800" stAng="-864056" swAng="2500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1" y="8114"/>
                  </a:moveTo>
                  <a:arcTo wR="10800" hR="10800" stAng="-864056" swAng="2500443"/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335480" y="2276640"/>
              <a:ext cx="138240" cy="138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2163600" y="2133720"/>
            <a:ext cx="213228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formalism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mondes annoté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méthodes,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485080" y="3339720"/>
            <a:ext cx="1400040" cy="1462680"/>
            <a:chOff x="2485080" y="3339720"/>
            <a:chExt cx="1400040" cy="1462680"/>
          </a:xfrm>
        </p:grpSpPr>
        <p:sp>
          <p:nvSpPr>
            <p:cNvPr id="891" name=""/>
            <p:cNvSpPr/>
            <p:nvPr/>
          </p:nvSpPr>
          <p:spPr>
            <a:xfrm rot="2358000">
              <a:off x="2787480" y="3450960"/>
              <a:ext cx="794520" cy="123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1" y="8114"/>
                  </a:moveTo>
                  <a:arcTo wR="10800" hR="10800" stAng="-864056" swAng="2500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1" y="8114"/>
                  </a:moveTo>
                  <a:arcTo wR="10800" hR="10800" stAng="-864056" swAng="2500443"/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3264840" y="4336200"/>
              <a:ext cx="57240" cy="187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568440" y="3986280"/>
            <a:ext cx="28512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architectures logicielles,</a:t>
            </a:r>
            <a:br>
              <a:rPr sz="1600"/>
            </a:b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plates-formes de déploi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594320" y="1654200"/>
            <a:ext cx="168120" cy="34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6226-5E76-4B24-BD22-9C3AB465AA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22:31:39Z</dcterms:created>
  <dc:creator>Fabien Gandon</dc:creator>
  <dc:description/>
  <dc:language>en-US</dc:language>
  <cp:lastModifiedBy>fgandon</cp:lastModifiedBy>
  <cp:lastPrinted>2003-05-21T19:05:02Z</cp:lastPrinted>
  <dcterms:modified xsi:type="dcterms:W3CDTF">2003-05-21T19:05:20Z</dcterms:modified>
  <cp:revision>272</cp:revision>
  <dc:subject/>
  <dc:title>Diapositive 1</dc:title>
</cp:coreProperties>
</file>