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13.png" ContentType="image/png"/>
  <Override PartName="/ppt/media/image5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292-FA87-4FF9-9799-2D840976F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DDD2-6201-48A8-929C-D7CF96A04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216-9800-4020-92D8-6DCA9DC3A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142A-09A0-42F8-8FF2-0980EF1DD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191A-2330-46E1-A310-2BC1885F4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C34D-E3C1-4672-85C2-2469D4AC5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288B-950F-4353-8889-DDF420AD3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7C4A-85B6-4043-BCA1-C9A89E4D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9EDA-8BBB-4F31-BB24-78CC62F05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C9CF-0823-4EF1-808A-DF61B418B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shows the CTR of ads on a commercial search engine for a typical day (Image by courtesy of Zeyuan Zh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7D70-6AED-48DD-8EBE-237DE7AE2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63C6-85C8-4320-8565-AAFCDC9F9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692-1227-444B-8B16-36C46511B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58A-7A91-4F2A-B136-4DF433695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DFC5-6458-4D5C-AE9E-A1DCBC14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C9AD-6EB3-4AAA-AE29-04A3CDE9A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A05D-7AA1-47AC-99B8-700DAC4C5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2E36-82D8-481B-A33B-32DDA825C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199-187C-4CE1-B49F-A509F01B4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164B-EEF1-42E3-8F32-9B17FF294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E31-5070-431C-A56B-BCF0929F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378-25AA-48A3-9E10-246DAC74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5B3-4B34-4D22-8B15-1E8336E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CFA-B9E8-4F01-83AC-BFD40DC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95C0-A8BF-4518-B5F8-A2130792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47DE-AC48-42DE-AA2F-86D28F5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D99-A464-4D68-83CA-F32AE62D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6FBC-A360-4B65-813A-52CE7582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E950-819D-4D80-8976-42248FA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B745-C196-487E-8640-A23B316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7439-F6DD-46FD-AFAA-39BC35E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EEE-ACFA-4478-B111-530C8F3A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13E6-1920-4A13-8170-CC26F615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6D44-0ADE-4634-9861-60BED40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758F-B966-4F56-8F40-EB9C1C3B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6279-8D91-47CC-8E27-1E998160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EBD-4209-4C37-9AB1-4AB6DC74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6002-6B55-44C4-867E-3504D09F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0445-AD0B-4415-BAD5-3F827096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2EA8-9E00-4B27-BC03-E17A7F0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48D7-F889-4DA7-8970-239AF3C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7900-57C1-4311-B2B4-20A2789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B15-52E1-442C-B570-BD64BF1F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3B9C-F7D6-4C5A-AB82-F8370A6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EEC3-5489-4DFA-9452-489D2E9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6F38-0D21-4EDF-927A-FDB576F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163E-2D80-41C8-91D0-037089C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6B20-7863-43B6-ADC1-E468DEFC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E99F-547C-47A4-AD51-B0EA11C4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9309-83C1-486A-961D-34FE00B9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C806-5678-4D01-AE96-90897C78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228F-D5DA-4109-8F5C-36883536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3524-EC1F-4196-B0B9-E6F11C8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2C3-1C0A-4604-9019-AB87A4F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38AE-DF0B-41C8-A318-7B3E6BA4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6F36-27C0-4836-9D4D-64B9F3B3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31AD-3BB2-4D96-87C3-99CDD4B1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6860-1448-4609-9CF3-FF5910FE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3EF1-AAEF-4EA5-A8B7-B2AC5C7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9315-07AA-4CCB-B383-57E91FD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D57D-7E3C-4AB6-AFD2-0F8EA3A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E16C-8A69-410B-A3AA-B7832A15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E857-8A1B-4584-A5D9-7550CEEB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FAE3-BE19-4623-ADE3-80D49C40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57B-A1A0-4855-8425-6ABAF164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0F92-1BD5-4E9F-BF19-30E5FA6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9072C-3ECA-4B70-8B20-D0F68A25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0663-3CD2-4689-8F8F-B2028DE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96CE-E793-41E0-B25A-FC485F46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0D0C-3843-4406-BDEC-BB04904A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C5B45-AF26-4787-8705-9651C79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3B0E-D8DF-4393-A1FD-AF2DD2D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4220-D74A-4336-9F2C-D442AEC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8BDE-3965-4773-A3C5-59A2B8D0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57FFB-44AC-4CD8-B22D-BCE1BE48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040-8273-4DFE-87C2-00B2178F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08B9-4601-411E-9CBD-7C781CA4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EE94-0300-40B5-9B43-F8A92FB2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AECC-A4D2-4DA6-BE59-DD6F15C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33A2-3E07-45AC-87FD-3168B03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70A1-1546-4C94-AFA3-F9CA32C6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ADD3-E3EF-4ADD-98B2-407F8B9F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C145-8953-4996-BB74-3B6EBBCF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52C8-192F-4D46-8837-FC6A281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7E1A-0525-4565-9286-0104F68B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C89D-F2DD-4831-A677-C6C502D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1F6-0890-4FE4-9BA4-239DABE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5C03-A2FF-46E0-A042-9DD8A1B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50C9-6DE4-424A-A15F-5C62DD1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1CF4-475B-46FF-9CB5-E79BDA2E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513B-BC05-41C0-A18D-40649A5F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6E35-2D5A-41A1-B563-27CD015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E416-52DD-41E9-A555-F65BBFA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77AD-52B9-467F-AD28-29B1E9B2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B3814-CAC3-4146-9C56-B83875B0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9707-6F7B-440E-A32B-E8971143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13E4-64F8-4974-A089-C96D006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0DE-8667-4DE9-BFAF-C5033F4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39A2-FB5D-4CFC-8F09-DDFE0806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D20F-1001-4789-A02C-FA2CD6A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E4EB2-66A3-46E4-8EBA-C77B9B3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2087-6679-4BF7-A994-78F898DF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17A8C-77FF-4740-8215-F1BA578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272-BF4B-4675-9AFB-D77670A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0FB5-FDB6-48BD-807F-903E0B37A3E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E7C7-D548-4560-AB8F-6262034F23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5C0-830D-4736-ACF5-920476E7B513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788-74E5-40E8-982F-62774AE2B8A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339-AE4E-48EC-86FC-9D8277840D9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87E1-DB1A-48E6-932F-38882C275E8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5C0-C795-41C1-8F28-2051E98484C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38A9-40B2-4C1B-91AE-E49CBA9D6B2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308-BED6-4C62-B9C5-2E8AF5EF626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11B-F490-4F52-B94F-5C8A0719D0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0B7B-AB49-485D-9A15-1D85FAA8E48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BCB-BDE5-4AE9-923B-5BD31C4C12E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1DF3-1F5F-4BBC-97BF-BD18D99E3EF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52CF-3183-45C2-891B-84B269EB3FA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b search click lo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erpret clicks as relevance feedba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ing statistical models for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pplications of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6FB3-7D49-4631-8822-79CEE1922C6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9CBE-D885-4708-903B-C4B624D36A1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87692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igher positions receive more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user attention (eye fixation)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 click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an lower posi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is true even in the extreme setting where the order of positions is 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reverse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s are informative but biased”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EA50-2585-4672-AE5F-FAFE1C3FBFA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Date Placeholder 8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1611-E76B-45E0-A05C-302F21DAAB3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Footer Placeholder 9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TextBox 12"/>
          <p:cNvSpPr/>
          <p:nvPr/>
        </p:nvSpPr>
        <p:spPr>
          <a:xfrm>
            <a:off x="6705720" y="571500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[Joachims+07]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79"/>
          <p:cNvGrpSpPr/>
          <p:nvPr/>
        </p:nvGrpSpPr>
        <p:grpSpPr>
          <a:xfrm>
            <a:off x="685800" y="1295280"/>
            <a:ext cx="3657600" cy="2721240"/>
            <a:chOff x="685800" y="1295280"/>
            <a:chExt cx="3657600" cy="2721240"/>
          </a:xfrm>
        </p:grpSpPr>
        <p:grpSp>
          <p:nvGrpSpPr>
            <p:cNvPr id="385" name="Group 77"/>
            <p:cNvGrpSpPr/>
            <p:nvPr/>
          </p:nvGrpSpPr>
          <p:grpSpPr>
            <a:xfrm>
              <a:off x="685800" y="1752120"/>
              <a:ext cx="3657600" cy="2264400"/>
              <a:chOff x="685800" y="1752120"/>
              <a:chExt cx="3657600" cy="2264400"/>
            </a:xfrm>
          </p:grpSpPr>
          <p:pic>
            <p:nvPicPr>
              <p:cNvPr id="386" name="Picture 1" descr=""/>
              <p:cNvPicPr/>
              <p:nvPr/>
            </p:nvPicPr>
            <p:blipFill>
              <a:blip r:embed="rId2"/>
              <a:stretch/>
            </p:blipFill>
            <p:spPr>
              <a:xfrm>
                <a:off x="855360" y="1871280"/>
                <a:ext cx="3261960" cy="181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Box 11"/>
              <p:cNvSpPr/>
              <p:nvPr/>
            </p:nvSpPr>
            <p:spPr>
              <a:xfrm>
                <a:off x="1755000" y="3659040"/>
                <a:ext cx="19130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Normal Position</a:t>
                </a:r>
                <a:endParaRPr b="0" lang="en-US" sz="15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388" name="Rectangle 13"/>
              <p:cNvSpPr/>
              <p:nvPr/>
            </p:nvSpPr>
            <p:spPr>
              <a:xfrm>
                <a:off x="685800" y="1752120"/>
                <a:ext cx="3657600" cy="226440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389" name="Group 85"/>
              <p:cNvGrpSpPr/>
              <p:nvPr/>
            </p:nvGrpSpPr>
            <p:grpSpPr>
              <a:xfrm>
                <a:off x="1416600" y="2765160"/>
                <a:ext cx="2645640" cy="655560"/>
                <a:chOff x="1416600" y="2765160"/>
                <a:chExt cx="2645640" cy="655560"/>
              </a:xfrm>
            </p:grpSpPr>
            <p:sp>
              <p:nvSpPr>
                <p:cNvPr id="390" name="Straight Connector 17"/>
                <p:cNvSpPr/>
                <p:nvPr/>
              </p:nvSpPr>
              <p:spPr>
                <a:xfrm>
                  <a:off x="1416600" y="2765160"/>
                  <a:ext cx="281160" cy="4770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1" name="Straight Connector 19"/>
                <p:cNvSpPr/>
                <p:nvPr/>
              </p:nvSpPr>
              <p:spPr>
                <a:xfrm>
                  <a:off x="1698480" y="3242160"/>
                  <a:ext cx="281160" cy="594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2" name="Straight Connector 20"/>
                <p:cNvSpPr/>
                <p:nvPr/>
              </p:nvSpPr>
              <p:spPr>
                <a:xfrm>
                  <a:off x="1980000" y="3301560"/>
                  <a:ext cx="281160" cy="594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3" name="Straight Connector 21"/>
                <p:cNvSpPr/>
                <p:nvPr/>
              </p:nvSpPr>
              <p:spPr>
                <a:xfrm>
                  <a:off x="3161880" y="3420720"/>
                  <a:ext cx="281160" cy="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4" name="Straight Connector 22"/>
                <p:cNvSpPr/>
                <p:nvPr/>
              </p:nvSpPr>
              <p:spPr>
                <a:xfrm flipV="1">
                  <a:off x="2599200" y="3368880"/>
                  <a:ext cx="281160" cy="72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5" name="Straight Connector 23"/>
                <p:cNvSpPr/>
                <p:nvPr/>
              </p:nvSpPr>
              <p:spPr>
                <a:xfrm>
                  <a:off x="2880360" y="3361320"/>
                  <a:ext cx="281160" cy="594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6" name="Straight Connector 24"/>
                <p:cNvSpPr/>
                <p:nvPr/>
              </p:nvSpPr>
              <p:spPr>
                <a:xfrm>
                  <a:off x="2261520" y="3361320"/>
                  <a:ext cx="337680" cy="1476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7" name="Straight Connector 25"/>
                <p:cNvSpPr/>
                <p:nvPr/>
              </p:nvSpPr>
              <p:spPr>
                <a:xfrm>
                  <a:off x="3443400" y="3420720"/>
                  <a:ext cx="281160" cy="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398" name="Straight Connector 54"/>
                <p:cNvSpPr/>
                <p:nvPr/>
              </p:nvSpPr>
              <p:spPr>
                <a:xfrm>
                  <a:off x="3724560" y="3420720"/>
                  <a:ext cx="337680" cy="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grpSp>
            <p:nvGrpSpPr>
              <p:cNvPr id="399" name="Group 52"/>
              <p:cNvGrpSpPr/>
              <p:nvPr/>
            </p:nvGrpSpPr>
            <p:grpSpPr>
              <a:xfrm>
                <a:off x="1270800" y="2193840"/>
                <a:ext cx="2624400" cy="987480"/>
                <a:chOff x="1270800" y="2193840"/>
                <a:chExt cx="2624400" cy="987480"/>
              </a:xfrm>
            </p:grpSpPr>
            <p:sp>
              <p:nvSpPr>
                <p:cNvPr id="400" name="Straight Connector 34"/>
                <p:cNvSpPr/>
                <p:nvPr/>
              </p:nvSpPr>
              <p:spPr>
                <a:xfrm>
                  <a:off x="1270800" y="2193840"/>
                  <a:ext cx="274320" cy="15516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1" name="Straight Connector 37"/>
                <p:cNvSpPr/>
                <p:nvPr/>
              </p:nvSpPr>
              <p:spPr>
                <a:xfrm>
                  <a:off x="1545120" y="2349000"/>
                  <a:ext cx="304560" cy="19188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2" name="Straight Connector 44"/>
                <p:cNvSpPr/>
                <p:nvPr/>
              </p:nvSpPr>
              <p:spPr>
                <a:xfrm>
                  <a:off x="1846800" y="2541240"/>
                  <a:ext cx="292320" cy="26496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3" name="Straight Connector 45"/>
                <p:cNvSpPr/>
                <p:nvPr/>
              </p:nvSpPr>
              <p:spPr>
                <a:xfrm>
                  <a:off x="2139480" y="2806560"/>
                  <a:ext cx="292320" cy="8208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4" name="Straight Connector 46"/>
                <p:cNvSpPr/>
                <p:nvPr/>
              </p:nvSpPr>
              <p:spPr>
                <a:xfrm>
                  <a:off x="2432160" y="2888640"/>
                  <a:ext cx="292320" cy="14616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5" name="Straight Connector 47"/>
                <p:cNvSpPr/>
                <p:nvPr/>
              </p:nvSpPr>
              <p:spPr>
                <a:xfrm>
                  <a:off x="2724840" y="3035160"/>
                  <a:ext cx="292320" cy="11880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6" name="Straight Connector 48"/>
                <p:cNvSpPr/>
                <p:nvPr/>
              </p:nvSpPr>
              <p:spPr>
                <a:xfrm>
                  <a:off x="3017520" y="3153960"/>
                  <a:ext cx="292320" cy="2736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7" name="Straight Connector 49"/>
                <p:cNvSpPr/>
                <p:nvPr/>
              </p:nvSpPr>
              <p:spPr>
                <a:xfrm flipV="1">
                  <a:off x="3310200" y="3135240"/>
                  <a:ext cx="292320" cy="4572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08" name="Straight Connector 51"/>
                <p:cNvSpPr/>
                <p:nvPr/>
              </p:nvSpPr>
              <p:spPr>
                <a:xfrm>
                  <a:off x="3602880" y="3135600"/>
                  <a:ext cx="292320" cy="36360"/>
                </a:xfrm>
                <a:prstGeom prst="line">
                  <a:avLst/>
                </a:prstGeom>
                <a:ln cap="rnd" w="381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  <p:sp>
          <p:nvSpPr>
            <p:cNvPr id="409" name="TextBox 75"/>
            <p:cNvSpPr/>
            <p:nvPr/>
          </p:nvSpPr>
          <p:spPr>
            <a:xfrm rot="16200000">
              <a:off x="-109440" y="2090520"/>
              <a:ext cx="1913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Percentage</a:t>
              </a:r>
              <a:endParaRPr b="0" lang="en-US" sz="1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10" name="Group 80"/>
          <p:cNvGrpSpPr/>
          <p:nvPr/>
        </p:nvGrpSpPr>
        <p:grpSpPr>
          <a:xfrm>
            <a:off x="685800" y="3657600"/>
            <a:ext cx="3657600" cy="2743200"/>
            <a:chOff x="685800" y="3657600"/>
            <a:chExt cx="3657600" cy="2743200"/>
          </a:xfrm>
        </p:grpSpPr>
        <p:grpSp>
          <p:nvGrpSpPr>
            <p:cNvPr id="411" name="Group 78"/>
            <p:cNvGrpSpPr/>
            <p:nvPr/>
          </p:nvGrpSpPr>
          <p:grpSpPr>
            <a:xfrm>
              <a:off x="685800" y="4136040"/>
              <a:ext cx="3657600" cy="2264760"/>
              <a:chOff x="685800" y="4136040"/>
              <a:chExt cx="3657600" cy="2264760"/>
            </a:xfrm>
          </p:grpSpPr>
          <p:pic>
            <p:nvPicPr>
              <p:cNvPr id="412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8600" y="4195440"/>
                <a:ext cx="3264480" cy="181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Box 12"/>
              <p:cNvSpPr/>
              <p:nvPr/>
            </p:nvSpPr>
            <p:spPr>
              <a:xfrm>
                <a:off x="1642320" y="6043320"/>
                <a:ext cx="19130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7030a0"/>
                    </a:solidFill>
                    <a:latin typeface="Calibri"/>
                  </a:rPr>
                  <a:t>Reversed Impression</a:t>
                </a:r>
                <a:endParaRPr b="0" lang="en-US" sz="15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14" name="Rectangle 15"/>
              <p:cNvSpPr/>
              <p:nvPr/>
            </p:nvSpPr>
            <p:spPr>
              <a:xfrm>
                <a:off x="685800" y="4136040"/>
                <a:ext cx="3657600" cy="2264760"/>
              </a:xfrm>
              <a:prstGeom prst="rect">
                <a:avLst/>
              </a:prstGeom>
              <a:noFill/>
              <a:ln w="47880">
                <a:solidFill>
                  <a:srgbClr val="b07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415" name="Group 86"/>
              <p:cNvGrpSpPr/>
              <p:nvPr/>
            </p:nvGrpSpPr>
            <p:grpSpPr>
              <a:xfrm>
                <a:off x="1417320" y="5506920"/>
                <a:ext cx="2644920" cy="238320"/>
                <a:chOff x="1417320" y="5506920"/>
                <a:chExt cx="2644920" cy="238320"/>
              </a:xfrm>
            </p:grpSpPr>
            <p:sp>
              <p:nvSpPr>
                <p:cNvPr id="416" name="Straight Connector 62"/>
                <p:cNvSpPr/>
                <p:nvPr/>
              </p:nvSpPr>
              <p:spPr>
                <a:xfrm flipV="1">
                  <a:off x="1417320" y="5513760"/>
                  <a:ext cx="281160" cy="522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17" name="Straight Connector 63"/>
                <p:cNvSpPr/>
                <p:nvPr/>
              </p:nvSpPr>
              <p:spPr>
                <a:xfrm>
                  <a:off x="1698480" y="5506920"/>
                  <a:ext cx="281160" cy="11916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18" name="Straight Connector 64"/>
                <p:cNvSpPr/>
                <p:nvPr/>
              </p:nvSpPr>
              <p:spPr>
                <a:xfrm>
                  <a:off x="1980000" y="5626080"/>
                  <a:ext cx="337680" cy="594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19" name="Straight Connector 65"/>
                <p:cNvSpPr/>
                <p:nvPr/>
              </p:nvSpPr>
              <p:spPr>
                <a:xfrm flipV="1">
                  <a:off x="3161880" y="5685480"/>
                  <a:ext cx="281160" cy="594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20" name="Straight Connector 66"/>
                <p:cNvSpPr/>
                <p:nvPr/>
              </p:nvSpPr>
              <p:spPr>
                <a:xfrm>
                  <a:off x="2599200" y="5685840"/>
                  <a:ext cx="281160" cy="72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21" name="Straight Connector 67"/>
                <p:cNvSpPr/>
                <p:nvPr/>
              </p:nvSpPr>
              <p:spPr>
                <a:xfrm>
                  <a:off x="2880360" y="5685840"/>
                  <a:ext cx="281160" cy="594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22" name="Straight Connector 68"/>
                <p:cNvSpPr/>
                <p:nvPr/>
              </p:nvSpPr>
              <p:spPr>
                <a:xfrm>
                  <a:off x="2317680" y="5685840"/>
                  <a:ext cx="281160" cy="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23" name="Straight Connector 69"/>
                <p:cNvSpPr/>
                <p:nvPr/>
              </p:nvSpPr>
              <p:spPr>
                <a:xfrm>
                  <a:off x="3443400" y="5685840"/>
                  <a:ext cx="281160" cy="432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424" name="Straight Connector 70"/>
                <p:cNvSpPr/>
                <p:nvPr/>
              </p:nvSpPr>
              <p:spPr>
                <a:xfrm flipV="1">
                  <a:off x="3724560" y="5685840"/>
                  <a:ext cx="337680" cy="43200"/>
                </a:xfrm>
                <a:prstGeom prst="line">
                  <a:avLst/>
                </a:prstGeom>
                <a:ln cap="rnd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425" name="Straight Connector 53"/>
              <p:cNvSpPr/>
              <p:nvPr/>
            </p:nvSpPr>
            <p:spPr>
              <a:xfrm>
                <a:off x="1261800" y="4568760"/>
                <a:ext cx="274320" cy="10944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26" name="Straight Connector 55"/>
              <p:cNvSpPr/>
              <p:nvPr/>
            </p:nvSpPr>
            <p:spPr>
              <a:xfrm>
                <a:off x="1536120" y="4681440"/>
                <a:ext cx="304560" cy="21924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27" name="Straight Connector 56"/>
              <p:cNvSpPr/>
              <p:nvPr/>
            </p:nvSpPr>
            <p:spPr>
              <a:xfrm>
                <a:off x="1837800" y="4901040"/>
                <a:ext cx="292320" cy="8208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28" name="Straight Connector 57"/>
              <p:cNvSpPr/>
              <p:nvPr/>
            </p:nvSpPr>
            <p:spPr>
              <a:xfrm>
                <a:off x="2130480" y="4983120"/>
                <a:ext cx="292320" cy="8208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29" name="Straight Connector 58"/>
              <p:cNvSpPr/>
              <p:nvPr/>
            </p:nvSpPr>
            <p:spPr>
              <a:xfrm>
                <a:off x="2423160" y="5065560"/>
                <a:ext cx="292320" cy="21924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30" name="Straight Connector 59"/>
              <p:cNvSpPr/>
              <p:nvPr/>
            </p:nvSpPr>
            <p:spPr>
              <a:xfrm>
                <a:off x="2715840" y="5285160"/>
                <a:ext cx="292320" cy="3636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31" name="Straight Connector 60"/>
              <p:cNvSpPr/>
              <p:nvPr/>
            </p:nvSpPr>
            <p:spPr>
              <a:xfrm>
                <a:off x="3008520" y="5321520"/>
                <a:ext cx="292320" cy="6372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32" name="Straight Connector 61"/>
              <p:cNvSpPr/>
              <p:nvPr/>
            </p:nvSpPr>
            <p:spPr>
              <a:xfrm flipV="1">
                <a:off x="3301200" y="5357880"/>
                <a:ext cx="292320" cy="3636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33" name="Straight Connector 71"/>
              <p:cNvSpPr/>
              <p:nvPr/>
            </p:nvSpPr>
            <p:spPr>
              <a:xfrm>
                <a:off x="3602880" y="5358240"/>
                <a:ext cx="292320" cy="45720"/>
              </a:xfrm>
              <a:prstGeom prst="line">
                <a:avLst/>
              </a:prstGeom>
              <a:ln cap="rnd"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434" name="TextBox 76"/>
            <p:cNvSpPr/>
            <p:nvPr/>
          </p:nvSpPr>
          <p:spPr>
            <a:xfrm rot="16200000">
              <a:off x="-105480" y="4448880"/>
              <a:ext cx="1905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Percentage</a:t>
              </a:r>
              <a:endParaRPr b="0" lang="en-US" sz="1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ed &gt; Skipped Above”  [Joachims02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E985-6587-494B-9257-D64F2F1539B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D6C-22EB-4949-9420-24C620806F9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3276720" cy="3797280"/>
          </a:xfrm>
          <a:prstGeom prst="rect">
            <a:avLst/>
          </a:prstGeom>
          <a:ln w="0">
            <a:noFill/>
          </a:ln>
        </p:spPr>
      </p:pic>
      <p:sp>
        <p:nvSpPr>
          <p:cNvPr id="441" name="Content Placeholder 2"/>
          <p:cNvSpPr/>
          <p:nvPr/>
        </p:nvSpPr>
        <p:spPr>
          <a:xfrm>
            <a:off x="4648320" y="2438280"/>
            <a:ext cx="4267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eference pai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#5&gt;#2, #5&gt;#3, #5&gt;#4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</a:t>
            </a:r>
            <a:r>
              <a:rPr b="0" lang="en-US" sz="2600" spc="-1" strike="noStrike">
                <a:solidFill>
                  <a:srgbClr val="7030a0"/>
                </a:solidFill>
                <a:latin typeface="Corbel"/>
              </a:rPr>
              <a:t>Rank SV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to optimize the retrieval function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imitatio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fidence of judgm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ittle implication to user model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TextBox 8"/>
          <p:cNvSpPr/>
          <p:nvPr/>
        </p:nvSpPr>
        <p:spPr>
          <a:xfrm>
            <a:off x="609480" y="2666880"/>
            <a:ext cx="10670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b search click lo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erpret clicks as relevance feedba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ing statistical models for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pplications of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42C9-A20F-4C9A-9DEE-F11B3F9D1E6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B4D-6421-4B2A-8AAB-A424C131FBA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33520" y="344808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ven a set of web search click log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spcAft>
                <a:spcPts val="400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Predict clicks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tput the probabi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of click vectors given a new order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UR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1FC5-BC9D-4F84-8938-E1CEF6609E5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CDD-DABB-4C19-B831-06A08CBFC1F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7467480" y="2133720"/>
            <a:ext cx="12956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7"/>
          <p:cNvGrpSpPr/>
          <p:nvPr/>
        </p:nvGrpSpPr>
        <p:grpSpPr>
          <a:xfrm>
            <a:off x="1219320" y="4114800"/>
            <a:ext cx="1904760" cy="1905120"/>
            <a:chOff x="1219320" y="4114800"/>
            <a:chExt cx="1904760" cy="1905120"/>
          </a:xfrm>
        </p:grpSpPr>
        <p:pic>
          <p:nvPicPr>
            <p:cNvPr id="456" name="Picture 1" descr=""/>
            <p:cNvPicPr/>
            <p:nvPr/>
          </p:nvPicPr>
          <p:blipFill>
            <a:blip r:embed="rId3"/>
            <a:stretch/>
          </p:blipFill>
          <p:spPr>
            <a:xfrm>
              <a:off x="1219320" y="4114800"/>
              <a:ext cx="152208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1" descr=""/>
            <p:cNvPicPr/>
            <p:nvPr/>
          </p:nvPicPr>
          <p:blipFill>
            <a:blip r:embed="rId4"/>
            <a:stretch/>
          </p:blipFill>
          <p:spPr>
            <a:xfrm>
              <a:off x="1410480" y="4324320"/>
              <a:ext cx="152208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" descr=""/>
            <p:cNvPicPr/>
            <p:nvPr/>
          </p:nvPicPr>
          <p:blipFill>
            <a:blip r:embed="rId5"/>
            <a:stretch/>
          </p:blipFill>
          <p:spPr>
            <a:xfrm>
              <a:off x="1602000" y="4533840"/>
              <a:ext cx="1522080" cy="1486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9" name="Picture 2" descr=""/>
          <p:cNvPicPr/>
          <p:nvPr/>
        </p:nvPicPr>
        <p:blipFill>
          <a:blip r:embed="rId6"/>
          <a:stretch/>
        </p:blipFill>
        <p:spPr>
          <a:xfrm>
            <a:off x="4952880" y="4075200"/>
            <a:ext cx="3270240" cy="20206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2"/>
          <p:cNvSpPr/>
          <p:nvPr/>
        </p:nvSpPr>
        <p:spPr>
          <a:xfrm>
            <a:off x="7238880" y="51055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2000" spc="-1" strike="noStrike" baseline="30000">
                <a:solidFill>
                  <a:srgbClr val="7030a0"/>
                </a:solidFill>
                <a:latin typeface="Corbel"/>
              </a:rPr>
              <a:t>10</a:t>
            </a:r>
            <a:r>
              <a:rPr b="0" lang="en-US" sz="2000" spc="-1" strike="noStrike">
                <a:solidFill>
                  <a:srgbClr val="7030a0"/>
                </a:solidFill>
                <a:latin typeface="Corbel"/>
              </a:rPr>
              <a:t> possibilities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Right Arrow 13"/>
          <p:cNvSpPr/>
          <p:nvPr/>
        </p:nvSpPr>
        <p:spPr>
          <a:xfrm>
            <a:off x="3657600" y="4876920"/>
            <a:ext cx="762120" cy="5331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ven a set of web search click log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Estimate relevanc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es ho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od a URL is with regard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ormation need of the query/us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507-89DB-492E-916C-4311DCBEF89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E19-7EC4-4824-9C4A-02E231E7124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6" name="Group 13"/>
          <p:cNvGrpSpPr/>
          <p:nvPr/>
        </p:nvGrpSpPr>
        <p:grpSpPr>
          <a:xfrm>
            <a:off x="1219320" y="4114800"/>
            <a:ext cx="1904760" cy="1905120"/>
            <a:chOff x="1219320" y="4114800"/>
            <a:chExt cx="1904760" cy="1905120"/>
          </a:xfrm>
        </p:grpSpPr>
        <p:pic>
          <p:nvPicPr>
            <p:cNvPr id="467" name="Picture 1" descr=""/>
            <p:cNvPicPr/>
            <p:nvPr/>
          </p:nvPicPr>
          <p:blipFill>
            <a:blip r:embed="rId2"/>
            <a:stretch/>
          </p:blipFill>
          <p:spPr>
            <a:xfrm>
              <a:off x="1219320" y="4114800"/>
              <a:ext cx="152208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" descr=""/>
            <p:cNvPicPr/>
            <p:nvPr/>
          </p:nvPicPr>
          <p:blipFill>
            <a:blip r:embed="rId3"/>
            <a:stretch/>
          </p:blipFill>
          <p:spPr>
            <a:xfrm>
              <a:off x="1410480" y="4324320"/>
              <a:ext cx="152208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" descr=""/>
            <p:cNvPicPr/>
            <p:nvPr/>
          </p:nvPicPr>
          <p:blipFill>
            <a:blip r:embed="rId4"/>
            <a:stretch/>
          </p:blipFill>
          <p:spPr>
            <a:xfrm>
              <a:off x="1602000" y="4533840"/>
              <a:ext cx="152208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Right Arrow 15"/>
          <p:cNvSpPr/>
          <p:nvPr/>
        </p:nvSpPr>
        <p:spPr>
          <a:xfrm>
            <a:off x="3657600" y="4876920"/>
            <a:ext cx="762120" cy="5331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5"/>
          <a:stretch/>
        </p:blipFill>
        <p:spPr>
          <a:xfrm>
            <a:off x="4724280" y="4724280"/>
            <a:ext cx="289584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6"/>
          <a:stretch/>
        </p:blipFill>
        <p:spPr>
          <a:xfrm>
            <a:off x="7467480" y="2590920"/>
            <a:ext cx="1357560" cy="1218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16"/>
          <p:cNvSpPr/>
          <p:nvPr/>
        </p:nvSpPr>
        <p:spPr>
          <a:xfrm>
            <a:off x="4737240" y="5194440"/>
            <a:ext cx="2869920" cy="368280"/>
          </a:xfrm>
          <a:prstGeom prst="rect">
            <a:avLst/>
          </a:prstGeom>
          <a:noFill/>
          <a:ln w="19080">
            <a:solidFill>
              <a:srgbClr val="9d9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rbel"/>
              </a:rPr>
              <a:t>Relevance score = 0.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Footer Placeholder 1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probability of a click if the document appears at the top posi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levance score = 0.5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dicates that on average, the document will be clicked once per 2 sess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Bayesian click model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ize relevance using a probability distrib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E1FE-5CD0-43F6-9318-1812A2577C8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56B-9079-473B-8607-A3C791C72F4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9" name="Group 21"/>
          <p:cNvGrpSpPr/>
          <p:nvPr/>
        </p:nvGrpSpPr>
        <p:grpSpPr>
          <a:xfrm>
            <a:off x="1752480" y="4724280"/>
            <a:ext cx="2819520" cy="1981080"/>
            <a:chOff x="1752480" y="4724280"/>
            <a:chExt cx="2819520" cy="1981080"/>
          </a:xfrm>
        </p:grpSpPr>
        <p:pic>
          <p:nvPicPr>
            <p:cNvPr id="480" name="Picture 5" descr=""/>
            <p:cNvPicPr/>
            <p:nvPr/>
          </p:nvPicPr>
          <p:blipFill>
            <a:blip r:embed="rId2"/>
            <a:stretch/>
          </p:blipFill>
          <p:spPr>
            <a:xfrm>
              <a:off x="2057040" y="4800240"/>
              <a:ext cx="2133720" cy="16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Box 23"/>
            <p:cNvSpPr/>
            <p:nvPr/>
          </p:nvSpPr>
          <p:spPr>
            <a:xfrm>
              <a:off x="2514600" y="6413400"/>
              <a:ext cx="2057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rbel"/>
                </a:rPr>
                <a:t>Relevance score</a:t>
              </a:r>
              <a:endParaRPr b="0" lang="en-US" sz="13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82" name="TextBox 24"/>
            <p:cNvSpPr/>
            <p:nvPr/>
          </p:nvSpPr>
          <p:spPr>
            <a:xfrm rot="16200000">
              <a:off x="1136160" y="5340240"/>
              <a:ext cx="1524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rbel"/>
                </a:rPr>
                <a:t>Density function</a:t>
              </a:r>
              <a:endParaRPr b="0" lang="en-US" sz="13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83" name="Right Arrow 25"/>
          <p:cNvSpPr/>
          <p:nvPr/>
        </p:nvSpPr>
        <p:spPr>
          <a:xfrm>
            <a:off x="4724280" y="548640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d25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3"/>
          <a:stretch/>
        </p:blipFill>
        <p:spPr>
          <a:xfrm>
            <a:off x="5867280" y="5486400"/>
            <a:ext cx="2667240" cy="2826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4"/>
          <a:stretch/>
        </p:blipFill>
        <p:spPr>
          <a:xfrm>
            <a:off x="4724280" y="4876920"/>
            <a:ext cx="795600" cy="581040"/>
          </a:xfrm>
          <a:prstGeom prst="rect">
            <a:avLst/>
          </a:prstGeom>
          <a:ln w="0">
            <a:noFill/>
          </a:ln>
        </p:spPr>
      </p:pic>
      <p:sp>
        <p:nvSpPr>
          <p:cNvPr id="486" name="Footer Placeholder 1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itle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2621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Effectiv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aware of the position-bias and address it proper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calab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linear complexity for both time and space, easy to parall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Incrementa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flexible for model update based on new da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B195-6FAF-4391-BD11-9AB43F610A6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BE0-8539-4030-A325-8B871EC9716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b search click lo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erpret clicks as relevance feedba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ing statistical models for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pplications of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A0DB-245F-44DA-81B8-4EB154432AC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022-2C07-48A2-AF06-AA73A9AD926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31560" cy="32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ptimizing the retrieval func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nking alternation based on clicks [Liu+09b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078E-33B6-4AFB-A18E-60EA49A27D6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9FD9-54FB-43D9-97ED-B3049CECDB4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4114800" cy="3063960"/>
          </a:xfrm>
          <a:prstGeom prst="rect">
            <a:avLst/>
          </a:prstGeom>
          <a:ln w="9360">
            <a:solidFill>
              <a:srgbClr val="9d9da2"/>
            </a:solidFill>
            <a:miter/>
          </a:ln>
        </p:spPr>
      </p:pic>
      <p:sp>
        <p:nvSpPr>
          <p:cNvPr id="504" name="Rounded Rectangle 7"/>
          <p:cNvSpPr/>
          <p:nvPr/>
        </p:nvSpPr>
        <p:spPr>
          <a:xfrm>
            <a:off x="2819520" y="5334120"/>
            <a:ext cx="3200400" cy="380880"/>
          </a:xfrm>
          <a:prstGeom prst="roundRect">
            <a:avLst>
              <a:gd name="adj" fmla="val 16667"/>
            </a:avLst>
          </a:prstGeom>
          <a:solidFill>
            <a:srgbClr val="9a3130">
              <a:alpha val="41000"/>
            </a:srgbClr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Curved Left Arrow 8"/>
          <p:cNvSpPr/>
          <p:nvPr/>
        </p:nvSpPr>
        <p:spPr>
          <a:xfrm flipV="1">
            <a:off x="6019920" y="2971800"/>
            <a:ext cx="914400" cy="2666880"/>
          </a:xfrm>
          <a:custGeom>
            <a:avLst/>
            <a:gdLst>
              <a:gd name="textAreaLeft" fmla="*/ 122400 w 914400"/>
              <a:gd name="textAreaRight" fmla="*/ 792000 w 914400"/>
              <a:gd name="textAreaTop" fmla="*/ 581400 h 2666880"/>
              <a:gd name="textAreaBottom" fmla="*/ 19720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2" stAng="-5400000" swAng="5400000"/>
                <a:lnTo>
                  <a:pt x="21600" y="11263"/>
                </a:lnTo>
                <a:arcTo wR="21600" hR="9412" stAng="0" swAng="3560984"/>
                <a:lnTo>
                  <a:pt x="5400" y="21301"/>
                </a:lnTo>
                <a:lnTo>
                  <a:pt x="0" y="19749"/>
                </a:lnTo>
                <a:lnTo>
                  <a:pt x="5400" y="17598"/>
                </a:lnTo>
                <a:lnTo>
                  <a:pt x="5400" y="18524"/>
                </a:lnTo>
                <a:arcTo wR="21600" hR="9412" stAng="3560984" swAng="-3413060"/>
                <a:lnTo>
                  <a:pt x="21495" y="10337"/>
                </a:lnTo>
                <a:arcTo wR="21600" hR="9412" stAng="-147924" swAng="-5252076"/>
                <a:close/>
              </a:path>
              <a:path fill="darkenLess" w="21600" h="21600">
                <a:moveTo>
                  <a:pt x="0" y="0"/>
                </a:moveTo>
                <a:arcTo wR="21600" hR="9412" stAng="-5400000" swAng="5400000"/>
                <a:lnTo>
                  <a:pt x="21600" y="11263"/>
                </a:lnTo>
                <a:arcTo wR="21600" hR="9412" stAng="0" swAng="-147924"/>
                <a:lnTo>
                  <a:pt x="21495" y="10337"/>
                </a:lnTo>
                <a:arcTo wR="21600" hR="9412" stAng="-147924" swAng="-5252076"/>
                <a:close/>
              </a:path>
            </a:pathLst>
          </a:custGeom>
          <a:solidFill>
            <a:srgbClr val="bac0cc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6" name="Group 15"/>
          <p:cNvGrpSpPr/>
          <p:nvPr/>
        </p:nvGrpSpPr>
        <p:grpSpPr>
          <a:xfrm>
            <a:off x="6095880" y="3429000"/>
            <a:ext cx="609840" cy="2750040"/>
            <a:chOff x="6095880" y="3429000"/>
            <a:chExt cx="609840" cy="2750040"/>
          </a:xfrm>
        </p:grpSpPr>
        <p:sp>
          <p:nvSpPr>
            <p:cNvPr id="507" name="TextBox 9"/>
            <p:cNvSpPr/>
            <p:nvPr/>
          </p:nvSpPr>
          <p:spPr>
            <a:xfrm>
              <a:off x="6095880" y="5377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0.90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8" name="TextBox 10"/>
            <p:cNvSpPr/>
            <p:nvPr/>
          </p:nvSpPr>
          <p:spPr>
            <a:xfrm>
              <a:off x="6095880" y="58107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9" name="TextBox 11"/>
            <p:cNvSpPr/>
            <p:nvPr/>
          </p:nvSpPr>
          <p:spPr>
            <a:xfrm>
              <a:off x="6095880" y="48726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0.08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0" name="TextBox 12"/>
            <p:cNvSpPr/>
            <p:nvPr/>
          </p:nvSpPr>
          <p:spPr>
            <a:xfrm>
              <a:off x="6095880" y="44395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1" name="TextBox 13"/>
            <p:cNvSpPr/>
            <p:nvPr/>
          </p:nvSpPr>
          <p:spPr>
            <a:xfrm>
              <a:off x="6095880" y="40064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2" name="TextBox 14"/>
            <p:cNvSpPr/>
            <p:nvPr/>
          </p:nvSpPr>
          <p:spPr>
            <a:xfrm>
              <a:off x="6095880" y="34290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0.7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ptimizing the retrieval func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nking alternation based on clic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a feature to a learning-to-rank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(e.g., RankNet [Burges+05] 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6DCE-7E66-4D3C-AE10-FD00B11FAAD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FA84-4E87-496A-8854-BC1FA2A26E4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-throug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rowser 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welling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icit judg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age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19C-E241-4279-8389-52D495151B8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14E5-B950-4561-9248-4A82401BC9E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2743200" cy="409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52480" cy="465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1752480" cy="377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5"/>
          <a:stretch/>
        </p:blipFill>
        <p:spPr>
          <a:xfrm>
            <a:off x="6477120" y="3962520"/>
            <a:ext cx="742680" cy="237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6"/>
          <a:stretch/>
        </p:blipFill>
        <p:spPr>
          <a:xfrm>
            <a:off x="3657600" y="3200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7"/>
          <a:stretch/>
        </p:blipFill>
        <p:spPr>
          <a:xfrm>
            <a:off x="4800600" y="449568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nline advertising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r model for sponsored search auc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EA6-054A-4257-942E-1FD9152FEA2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E4C2-9D27-466A-AB6E-0A112EBCA09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6215040" cy="2635200"/>
          </a:xfrm>
          <a:prstGeom prst="rect">
            <a:avLst/>
          </a:prstGeom>
          <a:ln w="9360">
            <a:solidFill>
              <a:srgbClr val="bac0cc"/>
            </a:solidFill>
            <a:miter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6934320" cy="2643120"/>
          </a:xfrm>
          <a:prstGeom prst="rect">
            <a:avLst/>
          </a:prstGeom>
          <a:ln w="9360">
            <a:solidFill>
              <a:srgbClr val="bac0cc"/>
            </a:solidFill>
            <a:miter/>
          </a:ln>
        </p:spPr>
      </p:pic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6840" y="1774800"/>
            <a:ext cx="84582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nline advertising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r model for sponsored search auc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hrough rate (CTR) prediction [Zhu+10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E5B0-73D9-48A4-9180-EE5689D7B7F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22D-0511-4E2E-A0FB-E48DA06EF5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5697360" cy="2209680"/>
          </a:xfrm>
          <a:prstGeom prst="rect">
            <a:avLst/>
          </a:prstGeom>
          <a:ln w="9360">
            <a:solidFill>
              <a:srgbClr val="9d9da2"/>
            </a:solidFill>
            <a:miter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6840" y="1774800"/>
            <a:ext cx="84582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earch engine eval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skip [Wang+09]: </a:t>
            </a:r>
            <a:br>
              <a:rPr sz="32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-through-rate above last clicks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welling time features could also be incorporated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B55-D415-41D0-9E83-79D01B93F67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EA57-07B9-4EBB-B316-315058DE527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2057400" y="3962520"/>
            <a:ext cx="42577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456840" y="1774800"/>
            <a:ext cx="84582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earch engine eval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skip [Wang+09]: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-through-rate above last clicks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arch relevance score [Guo+09c]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verage relevance score weighted by chance of examin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4644-7D8A-4B61-9E3E-BC83B997B0A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54E1-0984-46F9-A794-C564C855173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3200400" cy="2520720"/>
          </a:xfrm>
          <a:prstGeom prst="rect">
            <a:avLst/>
          </a:prstGeom>
          <a:ln w="9360">
            <a:solidFill>
              <a:srgbClr val="9d9da2"/>
            </a:solidFill>
            <a:miter/>
          </a:ln>
        </p:spPr>
      </p:pic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r behavior analys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eliminary work showing different user behavior patterns for navigational and informational queri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[Guo+09c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14B-5DD5-48B3-AEDC-814BCAA13BF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5F2-3B49-497D-9B30-B5B9DAB2B0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8500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52352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o-generated data keeping important information about search activi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46E-69B3-4D5A-BCD5-EFE6F73CB3D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B3DC-CFD7-4AFB-85E6-A9A3C28B00E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2971800"/>
          <a:ext cx="8001000" cy="3382920"/>
        </p:xfrm>
        <a:graphic>
          <a:graphicData uri="http://schemas.openxmlformats.org/drawingml/2006/table">
            <a:tbl>
              <a:tblPr/>
              <a:tblGrid>
                <a:gridCol w="1447560"/>
                <a:gridCol w="5867640"/>
                <a:gridCol w="685800"/>
              </a:tblGrid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C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30000"/>
                      </a:srgbClr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Arial"/>
                        </a:rPr>
                        <a:t>cikm2008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org/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fc.ul.pt/cikm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Arial"/>
                        </a:rPr>
                        <a:t>www.comp.polyu.edu.hk/conference/cikm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ikmconference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r.iit.edu/cikm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informatik.uni-trier.de/~ley/db/conf/cikm/index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tzi.de/CIKM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ww.cikm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33520" y="2666880"/>
          <a:ext cx="8001000" cy="314280"/>
        </p:xfrm>
        <a:graphic>
          <a:graphicData uri="http://schemas.openxmlformats.org/drawingml/2006/table">
            <a:tbl>
              <a:tblPr/>
              <a:tblGrid>
                <a:gridCol w="1447560"/>
                <a:gridCol w="2521080"/>
                <a:gridCol w="1347840"/>
                <a:gridCol w="2684520"/>
              </a:tblGrid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Qu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i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Session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25d">
                        <a:alpha val="8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851c5af178384d12f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25d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real world exam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0FDB-689C-44BB-9C26-05C17B1A08B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0861-0266-46A2-80E3-8B98E5342D9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5086080" cy="40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ow large is the click log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arch logs: </a:t>
            </a: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10+ TB/day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existing publicat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Craswell+08]: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108k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sess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Dupret+08] :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 4.5M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ssions (21 subsets * 216k session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Guo +09a] :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8.8M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sessions from 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110k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unique que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Guo+09b]: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8.8M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sessions from 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110k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unique que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Chapelle+09]: </a:t>
            </a: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58M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sessions from 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682k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unique que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Liu+09a]: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0.26PB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data from </a:t>
            </a:r>
            <a:r>
              <a:rPr b="0" lang="en-US" sz="2400" spc="-1" strike="noStrike">
                <a:solidFill>
                  <a:srgbClr val="7030a0"/>
                </a:solidFill>
                <a:latin typeface="Corbel"/>
              </a:rPr>
              <a:t>103M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unique que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F04-1363-412A-BCEB-3228B535A1A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6B2-C82F-4E48-96AC-BD390734E1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5" descr="bing.jpg"/>
          <p:cNvPicPr/>
          <p:nvPr/>
        </p:nvPicPr>
        <p:blipFill>
          <a:blip r:embed="rId2"/>
          <a:srcRect l="5200" t="32902" r="1995" b="24333"/>
          <a:stretch/>
        </p:blipFill>
        <p:spPr>
          <a:xfrm>
            <a:off x="1219320" y="2514600"/>
            <a:ext cx="1218960" cy="420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1523880" cy="101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4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4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4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2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4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6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4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4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large is one                                    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912E-08D6-4DA5-9813-0C8421FF3C3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C596-F789-45DF-9CE5-A23098BAB96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5128920" cy="3429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2776680" cy="43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b search click lo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erpret clicks as relevance feedback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ing statistical models for click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pplications of click mode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Designing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Bayesia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Selected topics on click mode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a0b2"/>
                </a:solidFill>
                <a:latin typeface="Corbe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48AF-2B52-4349-B480-21B1A35479D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8C7-BA51-40C9-A30D-AA45589D6EB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533520" y="292572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495680" y="1774800"/>
            <a:ext cx="41911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s are good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spcAft>
                <a:spcPts val="10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re these two clicks equally “good”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n-clicks may have excus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t releva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t examin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071-DCAD-4940-A233-3291C4FCEB6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CB1-D2F6-4306-A65D-B11D7321DA1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4681800"/>
          </a:xfrm>
          <a:prstGeom prst="rect">
            <a:avLst/>
          </a:prstGeom>
          <a:ln w="9360">
            <a:solidFill>
              <a:srgbClr val="b07e00"/>
            </a:solidFill>
            <a:miter/>
          </a:ln>
        </p:spPr>
      </p:pic>
      <p:sp>
        <p:nvSpPr>
          <p:cNvPr id="366" name="Rounded Rectangle 7"/>
          <p:cNvSpPr/>
          <p:nvPr/>
        </p:nvSpPr>
        <p:spPr>
          <a:xfrm>
            <a:off x="533520" y="1752480"/>
            <a:ext cx="373356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Rounded Rectangle 8"/>
          <p:cNvSpPr/>
          <p:nvPr/>
        </p:nvSpPr>
        <p:spPr>
          <a:xfrm>
            <a:off x="533520" y="4114800"/>
            <a:ext cx="3733560" cy="533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19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114480" cy="181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4-4.png"/>
          <p:cNvPicPr/>
          <p:nvPr/>
        </p:nvPicPr>
        <p:blipFill>
          <a:blip r:embed="rId4"/>
          <a:stretch/>
        </p:blipFill>
        <p:spPr>
          <a:xfrm>
            <a:off x="7543800" y="4427640"/>
            <a:ext cx="568440" cy="533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4-5.jpg"/>
          <p:cNvPicPr/>
          <p:nvPr/>
        </p:nvPicPr>
        <p:blipFill>
          <a:blip r:embed="rId5"/>
          <a:stretch/>
        </p:blipFill>
        <p:spPr>
          <a:xfrm>
            <a:off x="7574040" y="5037120"/>
            <a:ext cx="533160" cy="40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4.81481E-006 C 0.00225 0.02546 4.44444E-006 -0.00394 4.44444E-006 0.04884 C 4.44444E-006 0.0662 0.00121 0.08425 0.00295 0.10115 C 0.00451 0.13564 0.00642 0.1706 0.0184 0.20023 C 0.02083 0.21273 0.01718 0.19537 0.02343 0.21481 C 0.02465 0.21805 0.02482 0.22129 0.02569 0.22476 C 0.02586 0.22638 0.02673 0.22962 0.02673 0.22986 C 0.02795 0.24143 0.02986 0.25393 0.02777 0.26574 C 0.02673 0.28796 0.02517 0.31018 0.02343 0.33217 C 0.02326 0.33611 0.02291 0.34004 0.02257 0.34375 C 0.02222 0.34861 0.02152 0.35856 0.02152 0.35879 C 0.02222 0.38587 0.02187 0.4155 0.02465 0.44305 C 0.02708 0.46736 0.03194 0.49097 0.03593 0.51481 C 0.03836 0.52962 0.03993 0.54421 0.04305 0.55856 C 0.04444 0.57592 0.04375 0.59259 0.0401 0.60925 C 0.04132 0.62291 0.04114 0.61689 0.04114 0.62731 E">
                                      <p:cBhvr>
                                        <p:cTn id="150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72" name="Content Placeholder 9" descr="2.BMP"/>
          <p:cNvPicPr/>
          <p:nvPr/>
        </p:nvPicPr>
        <p:blipFill>
          <a:blip r:embed="rId2"/>
          <a:stretch/>
        </p:blipFill>
        <p:spPr>
          <a:xfrm>
            <a:off x="457200" y="3962520"/>
            <a:ext cx="3124080" cy="2057400"/>
          </a:xfrm>
          <a:prstGeom prst="rect">
            <a:avLst/>
          </a:prstGeom>
          <a:ln w="9360">
            <a:solidFill>
              <a:srgbClr val="b07e00"/>
            </a:solidFill>
            <a:miter/>
          </a:ln>
        </p:spPr>
      </p:pic>
      <p:sp>
        <p:nvSpPr>
          <p:cNvPr id="37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B73-DB88-4CC5-BD86-6148632C6E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124080" cy="2084400"/>
          </a:xfrm>
          <a:prstGeom prst="rect">
            <a:avLst/>
          </a:prstGeom>
          <a:ln w="0">
            <a:noFill/>
          </a:ln>
        </p:spPr>
      </p:pic>
      <p:sp>
        <p:nvSpPr>
          <p:cNvPr id="375" name="Date Placeholder 7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2A18-4E3D-4FC9-9B05-AFDCDAC111D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4"/>
          <a:stretch/>
        </p:blipFill>
        <p:spPr>
          <a:xfrm>
            <a:off x="4343400" y="1600200"/>
            <a:ext cx="4495680" cy="4464000"/>
          </a:xfrm>
          <a:prstGeom prst="rect">
            <a:avLst/>
          </a:prstGeom>
          <a:ln w="9360">
            <a:solidFill>
              <a:srgbClr val="b07e00"/>
            </a:solidFill>
            <a:miter/>
          </a:ln>
        </p:spPr>
      </p:pic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 Guo</dc:creator>
  <dc:description/>
  <dc:language>en-US</dc:language>
  <cp:lastModifiedBy>fanguo</cp:lastModifiedBy>
  <dcterms:modified xsi:type="dcterms:W3CDTF">2009-11-02T16:50:50Z</dcterms:modified>
  <cp:revision>303</cp:revision>
  <dc:subject/>
  <dc:title>Statistical Models for Web Search Click Log Analysis</dc:title>
</cp:coreProperties>
</file>