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1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4.png" ContentType="image/png"/>
  <Override PartName="/ppt/media/image66.png" ContentType="image/png"/>
  <Override PartName="/ppt/media/image29.png" ContentType="image/png"/>
  <Override PartName="/ppt/media/image63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23.png" ContentType="image/png"/>
  <Override PartName="/ppt/media/image60.png" ContentType="image/png"/>
  <Override PartName="/ppt/media/image18.png" ContentType="image/png"/>
  <Override PartName="/ppt/media/image6.jpeg" ContentType="image/jpe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16.png" ContentType="image/png"/>
  <Override PartName="/ppt/media/image4.png" ContentType="image/png"/>
  <Override PartName="/ppt/media/image34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5.wmf" ContentType="image/x-wmf"/>
  <Override PartName="/ppt/media/image8.png" ContentType="image/png"/>
  <Override PartName="/ppt/media/image38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947B-B4DD-4830-A73B-40768FF8E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3628-C05A-400D-847F-6365D322E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5B18-8277-4E1C-BB23-95B8F34B6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8E59-CECD-4DC2-9671-C38B9E243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1041-4007-4A36-B55D-207445B3F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7E02-4FF0-43B8-981F-4730F7602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559F-B1EA-4BE0-A00E-7D29F8252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683D-C970-4941-9716-BE4A83B4D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E0F5-FE55-4F42-963B-5CD0A1B76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07D1-D03A-4785-902E-5E02C42C7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7D99-886A-43EB-BD4D-AA1DED924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1C60-99B5-48C1-B39C-1395DC71B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A69-A1C9-4D66-9C86-38CCF22B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696-74F6-4BF3-A034-9D6016D9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537-8E4D-4CFC-AB71-2A58D784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557-84BD-42B6-9AC3-42FE50CB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9C0F-11B3-475F-8AD1-6F8ADF9E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C9E4-7EBD-4E99-B577-EDFA0DFC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F8E8-0B0B-49A7-9DEE-125C7503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3D9B-DFA9-4788-86AE-3271C3CE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D60E-B61C-44B4-8B1A-B7722AD5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F7C1-E3F6-4FE6-BD0F-2C5CF950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91AA-40E8-41FF-850F-7D00681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765-B9BB-40FA-BEF2-03B44ACC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6E56-98EE-4709-9FE6-38FC2E5A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E32A-D445-4D65-A576-856AF10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62A9-F581-4B83-ADC4-4DFCAB9B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706A-7A62-4833-9CEC-DF26A2E1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0CF9-9FD3-48D3-9C58-5261866A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59F11-74FA-4D45-979F-5919A2EB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F831-B4AA-4C31-AA82-8A4836D4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2E40-D670-4405-9142-51B10C5B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5AB3-4F4D-41C7-99D1-32EFDE9E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4B527-3C97-4357-BCC0-6906BC5A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AD0-D4B2-4D8C-A0C1-EAAD018D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0A60-1509-42C4-9F4C-DCE34B08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72B5-1F23-42D7-9AA2-F29C927D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ADAC-409D-4162-8C44-764F129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8C48-33D6-4EB2-97A0-80AD900F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4C9E-0B71-4EFE-B033-034C4E6D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8037-AF90-4E66-9F6C-2D9CF42B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F97A-676A-4527-899B-3BD7A5DC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28A7-0862-434C-B362-1387A7A1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1505-9CAB-458E-8B00-0DCDE1C6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705E-C951-4EF3-BDC6-C3218D81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5CD-DAF3-422B-844B-58723DB4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D78E-3F02-4F0B-9FF8-A51720BD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05962-378F-4643-905C-34B297C8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94866-0581-45E3-8A1A-7A49BB7F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246F-EC1A-4716-BBD5-69281F0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4C760-7C2F-4324-A38F-84736E2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EFC32-B8CF-41BC-9014-965CA6CC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26750-AE4D-403B-ABDE-B61E2C7E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C2DE-720C-495A-862E-7BB0CBDA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A9C98-37DB-41A2-AB32-17DECBB1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F9BB5-80D9-4793-A692-A9E82452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5DB-0DDE-4C15-948E-00FC9A4B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09A78-BE39-4293-8BEE-1729B86A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1ED2B-EFA8-491A-842B-86B94FA1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2248-3300-4906-8E81-2C83EF97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80037-4F23-4870-9B0B-1C57F713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8ACA1-C028-469F-A36B-3CA165A9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9398C-1CA1-49CA-B3E9-5C15906C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0328F-7D63-432C-B698-BC78745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1ACC9-7C93-45DD-A60C-C1855652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624A3-1E4E-4453-9E37-C4BA24A2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B47BF-2343-4641-8A36-17D8E632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A8A-B4DC-4A32-BCA5-256A94A2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4E1B-1B23-47DD-B4E3-57E59DF3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5AFFC-24FC-41CA-B2A6-2D090F61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BEAF7-4BCA-4E4C-B593-0C64CE8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205A5-94D0-43EB-8FC7-5A1B46DE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85D49-583A-4EA9-AB25-3C22AE74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C4950-0481-4B09-B9D7-03524F93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C1E99-7035-4E5B-A046-291F070E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4706F-F974-40AC-80A1-E4CFC0D2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D1003-8D07-4992-B387-192617FA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A785B-2D27-46D1-8587-AA542F82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C45-44E5-4272-B18C-0B75E359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2C0BB-4515-4A02-9B7F-1A8DD706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9622-8D0F-41AF-A8A9-5D75EF78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299F1-B26F-4886-B2E3-180C3306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E0154-BCF8-40DC-9F81-AD066B7A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FEE8B-7CF2-4DC4-B8B4-09DD711C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05466-9189-4E76-B357-BDBF48F8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AE54E-C1E0-4C61-AF79-C6675B7F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85A36-9DF5-4433-93DD-9B73B416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260DD-82A6-4043-8082-1DC755CD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B3FB6-1B3B-482E-90A3-2711B11B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D8B-7D47-4C8A-BCBC-C6FF5257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359BA-1A8C-4A66-8186-AECE44BD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0EBA8-EAF1-4BB8-A8EF-6A6EB5B8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37EC3-BCD5-4D89-88E0-D7B2E335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A6C36-8321-46CE-8255-D8D4AAC0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BE9BB-2979-41A3-8AA7-D935A598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319-43E8-441B-BC8B-57B9584D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F989-6562-42A5-B38F-E80646E24FB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1F50-8057-4103-8168-AA051B0CB2F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E2F5-967E-4EAA-8B46-20D1656ADF9B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08CD-D9F8-4503-ADC5-18D296D0D31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CC5D-5C4B-4EB6-8A7C-043A5752B3F0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F308-E60E-4565-97DD-186D94B559A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6065-F25D-414A-8175-B6A09693740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798B-7F9A-4017-99CA-81C5A5C7A18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E8E0-F4C3-4B47-BAF4-06DFFB1270A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84BE-5F90-4349-93B9-7C8CC291009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158D-3A17-4B91-B3AA-5FAD7833F34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cbcbc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B02F-8B08-449B-8E8C-A1C252F9EDB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B347-6E4D-4D62-87DE-85862BEF971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2166-726E-45DB-914B-D9C47C1AB19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Designing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Bayesian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yesian framework and the rational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yesian Browsing Model: a case stud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Chain Model in a nutsh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Selected topics o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7D61-1CB9-4F89-8A97-A86CF752F95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1ADE-AF5A-4EFB-83F4-BE4010A037F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503280" y="3402000"/>
            <a:ext cx="331920" cy="3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456840" y="1774800"/>
            <a:ext cx="79246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Key problems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9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Which is the right factor to update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9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How to estimate all the coefficients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D134-8FEF-4FCC-A0EE-72883879BC4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FF69-C4C4-4392-BAC8-B87CF2FF2CC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7748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Modeling Benefits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nfidenc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for the URL relevance estima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Relative judgment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probability of URL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is more relevant to the query than URL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Easy to interpre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coefficients in linear factors </a:t>
            </a:r>
            <a:r>
              <a:rPr b="0" lang="en-US" sz="2800" spc="-1" strike="noStrike">
                <a:solidFill>
                  <a:srgbClr val="7030a0"/>
                </a:solidFill>
                <a:latin typeface="Corbel"/>
              </a:rPr>
              <a:t>reflect position-bias and user browsing patter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omputational Benefits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Single-pass, linea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gorithms; no itera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Parallele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version is easy to impl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AA48-4C3C-4637-B2F3-F8383BEED88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C127-51BC-4FE6-991B-F6AC7767D18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0" name="Picture 1" descr=""/>
          <p:cNvPicPr/>
          <p:nvPr/>
        </p:nvPicPr>
        <p:blipFill>
          <a:blip r:embed="rId2"/>
          <a:stretch/>
        </p:blipFill>
        <p:spPr>
          <a:xfrm>
            <a:off x="7620120" y="2286000"/>
            <a:ext cx="120168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Designing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Bayesian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yesian framework and the rational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yesian Browsing Model: a case stud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Chain Model in a nutsh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Selected topics o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5318-5292-47ED-BAC8-CBB912AD3F9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910-2047-4995-BE78-7A855DA9716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2"/>
          <a:stretch/>
        </p:blipFill>
        <p:spPr>
          <a:xfrm>
            <a:off x="503280" y="3962520"/>
            <a:ext cx="331920" cy="32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r a specific query session, le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here  1 ≤ </a:t>
            </a:r>
            <a:r>
              <a:rPr b="0" i="1" lang="en-US" sz="30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≤ M=10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B38E-2353-4B65-AE8B-6E025057C61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FD87-A3A6-4AC2-8D8D-357A6B0B827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1" name="Group 55"/>
          <p:cNvGrpSpPr/>
          <p:nvPr/>
        </p:nvGrpSpPr>
        <p:grpSpPr>
          <a:xfrm>
            <a:off x="2057400" y="4419720"/>
            <a:ext cx="5025960" cy="549000"/>
            <a:chOff x="2057400" y="4419720"/>
            <a:chExt cx="5025960" cy="549000"/>
          </a:xfrm>
        </p:grpSpPr>
        <p:sp>
          <p:nvSpPr>
            <p:cNvPr id="502" name="Oval 38"/>
            <p:cNvSpPr/>
            <p:nvPr/>
          </p:nvSpPr>
          <p:spPr>
            <a:xfrm>
              <a:off x="2057400" y="4419720"/>
              <a:ext cx="547560" cy="54900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3" name="Oval 39"/>
            <p:cNvSpPr/>
            <p:nvPr/>
          </p:nvSpPr>
          <p:spPr>
            <a:xfrm>
              <a:off x="3333600" y="4419720"/>
              <a:ext cx="549000" cy="54900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4" name="Oval 40"/>
            <p:cNvSpPr/>
            <p:nvPr/>
          </p:nvSpPr>
          <p:spPr>
            <a:xfrm>
              <a:off x="4613400" y="4419720"/>
              <a:ext cx="549000" cy="54900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5" name="Oval 41"/>
            <p:cNvSpPr/>
            <p:nvPr/>
          </p:nvSpPr>
          <p:spPr>
            <a:xfrm>
              <a:off x="6534360" y="4419720"/>
              <a:ext cx="549000" cy="54900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orbe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6" name="TextBox 42"/>
            <p:cNvSpPr/>
            <p:nvPr/>
          </p:nvSpPr>
          <p:spPr>
            <a:xfrm>
              <a:off x="5638680" y="4419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rbe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507" name="Group 56"/>
          <p:cNvGrpSpPr/>
          <p:nvPr/>
        </p:nvGrpSpPr>
        <p:grpSpPr>
          <a:xfrm>
            <a:off x="2057400" y="5059440"/>
            <a:ext cx="5127480" cy="563400"/>
            <a:chOff x="2057400" y="5059440"/>
            <a:chExt cx="5127480" cy="563400"/>
          </a:xfrm>
        </p:grpSpPr>
        <p:sp>
          <p:nvSpPr>
            <p:cNvPr id="508" name="Oval 43"/>
            <p:cNvSpPr/>
            <p:nvPr/>
          </p:nvSpPr>
          <p:spPr>
            <a:xfrm>
              <a:off x="2057400" y="5075280"/>
              <a:ext cx="549000" cy="54756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9" name="Oval 44"/>
            <p:cNvSpPr/>
            <p:nvPr/>
          </p:nvSpPr>
          <p:spPr>
            <a:xfrm>
              <a:off x="3338280" y="5075280"/>
              <a:ext cx="547560" cy="54756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0" name="Oval 45"/>
            <p:cNvSpPr/>
            <p:nvPr/>
          </p:nvSpPr>
          <p:spPr>
            <a:xfrm>
              <a:off x="4618080" y="5075280"/>
              <a:ext cx="549000" cy="54756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E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Corbe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1" name="Oval 46"/>
            <p:cNvSpPr/>
            <p:nvPr/>
          </p:nvSpPr>
          <p:spPr>
            <a:xfrm>
              <a:off x="6539040" y="5075280"/>
              <a:ext cx="547560" cy="54756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orbe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2" name="TextBox 47"/>
            <p:cNvSpPr/>
            <p:nvPr/>
          </p:nvSpPr>
          <p:spPr>
            <a:xfrm>
              <a:off x="6804000" y="5238720"/>
              <a:ext cx="3808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3" name="TextBox 48"/>
            <p:cNvSpPr/>
            <p:nvPr/>
          </p:nvSpPr>
          <p:spPr>
            <a:xfrm>
              <a:off x="5638680" y="50594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rbe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514" name="Group 57"/>
          <p:cNvGrpSpPr/>
          <p:nvPr/>
        </p:nvGrpSpPr>
        <p:grpSpPr>
          <a:xfrm>
            <a:off x="2057400" y="5727600"/>
            <a:ext cx="5029200" cy="549360"/>
            <a:chOff x="2057400" y="5727600"/>
            <a:chExt cx="5029200" cy="549360"/>
          </a:xfrm>
        </p:grpSpPr>
        <p:sp>
          <p:nvSpPr>
            <p:cNvPr id="515" name="Oval 49"/>
            <p:cNvSpPr/>
            <p:nvPr/>
          </p:nvSpPr>
          <p:spPr>
            <a:xfrm>
              <a:off x="2057400" y="5727600"/>
              <a:ext cx="549000" cy="549360"/>
            </a:xfrm>
            <a:prstGeom prst="ellipse">
              <a:avLst/>
            </a:prstGeom>
            <a:solidFill>
              <a:srgbClr val="bac0cc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6" name="Oval 50"/>
            <p:cNvSpPr/>
            <p:nvPr/>
          </p:nvSpPr>
          <p:spPr>
            <a:xfrm>
              <a:off x="3338280" y="5727600"/>
              <a:ext cx="547560" cy="549360"/>
            </a:xfrm>
            <a:prstGeom prst="ellipse">
              <a:avLst/>
            </a:prstGeom>
            <a:solidFill>
              <a:srgbClr val="bac0cc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7" name="Oval 51"/>
            <p:cNvSpPr/>
            <p:nvPr/>
          </p:nvSpPr>
          <p:spPr>
            <a:xfrm>
              <a:off x="4618080" y="5727600"/>
              <a:ext cx="549000" cy="549360"/>
            </a:xfrm>
            <a:prstGeom prst="ellipse">
              <a:avLst/>
            </a:prstGeom>
            <a:solidFill>
              <a:srgbClr val="bac0cc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Corbe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8" name="Oval 52"/>
            <p:cNvSpPr/>
            <p:nvPr/>
          </p:nvSpPr>
          <p:spPr>
            <a:xfrm>
              <a:off x="6539040" y="5727600"/>
              <a:ext cx="547560" cy="549360"/>
            </a:xfrm>
            <a:prstGeom prst="ellipse">
              <a:avLst/>
            </a:prstGeom>
            <a:solidFill>
              <a:srgbClr val="bac0cc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Corbe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9" name="TextBox 53"/>
            <p:cNvSpPr/>
            <p:nvPr/>
          </p:nvSpPr>
          <p:spPr>
            <a:xfrm>
              <a:off x="4892760" y="5892480"/>
              <a:ext cx="38088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0" name="TextBox 54"/>
            <p:cNvSpPr/>
            <p:nvPr/>
          </p:nvSpPr>
          <p:spPr>
            <a:xfrm>
              <a:off x="5639040" y="5727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rbe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21" name="Footer Placeholder 2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6629400" cy="4017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3"/>
          <a:stretch/>
        </p:blipFill>
        <p:spPr>
          <a:xfrm>
            <a:off x="1066680" y="2895480"/>
            <a:ext cx="7239240" cy="3859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4"/>
          <a:stretch/>
        </p:blipFill>
        <p:spPr>
          <a:xfrm>
            <a:off x="1066680" y="3352680"/>
            <a:ext cx="6248520" cy="3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2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07BD-9F4C-4133-8193-08EA7234430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396F-64D3-42A4-AE43-B84775F64B1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8339040" y="3760920"/>
            <a:ext cx="3812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TextBox 21"/>
          <p:cNvSpPr/>
          <p:nvPr/>
        </p:nvSpPr>
        <p:spPr>
          <a:xfrm>
            <a:off x="6427800" y="5041800"/>
            <a:ext cx="3808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30" name="Group 45"/>
          <p:cNvGrpSpPr/>
          <p:nvPr/>
        </p:nvGrpSpPr>
        <p:grpSpPr>
          <a:xfrm>
            <a:off x="4059720" y="4063680"/>
            <a:ext cx="4095720" cy="893880"/>
            <a:chOff x="4059720" y="4063680"/>
            <a:chExt cx="4095720" cy="893880"/>
          </a:xfrm>
        </p:grpSpPr>
        <p:cxnSp>
          <p:nvCxnSpPr>
            <p:cNvPr id="531" name="Straight Arrow Connector 22"/>
            <p:cNvCxnSpPr/>
            <p:nvPr/>
          </p:nvCxnSpPr>
          <p:spPr>
            <a:xfrm flipV="1">
              <a:off x="4059720" y="4064760"/>
              <a:ext cx="2174040" cy="89316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grpSp>
          <p:nvGrpSpPr>
            <p:cNvPr id="532" name="Group 41"/>
            <p:cNvGrpSpPr/>
            <p:nvPr/>
          </p:nvGrpSpPr>
          <p:grpSpPr>
            <a:xfrm>
              <a:off x="4061160" y="4063680"/>
              <a:ext cx="4094280" cy="893880"/>
              <a:chOff x="4061160" y="4063680"/>
              <a:chExt cx="4094280" cy="893880"/>
            </a:xfrm>
          </p:grpSpPr>
          <p:cxnSp>
            <p:nvCxnSpPr>
              <p:cNvPr id="533" name="Straight Arrow Connector 17"/>
              <p:cNvCxnSpPr>
                <a:stCxn id="534" idx="7"/>
                <a:endCxn id="535" idx="3"/>
              </p:cNvCxnSpPr>
              <p:nvPr/>
            </p:nvCxnSpPr>
            <p:spPr>
              <a:xfrm flipV="1">
                <a:off x="4061160" y="4063680"/>
                <a:ext cx="892800" cy="894240"/>
              </a:xfrm>
              <a:prstGeom prst="straightConnector1">
                <a:avLst/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  <p:cxnSp>
            <p:nvCxnSpPr>
              <p:cNvPr id="536" name="Straight Arrow Connector 18"/>
              <p:cNvCxnSpPr>
                <a:stCxn id="537" idx="7"/>
                <a:endCxn id="538" idx="3"/>
              </p:cNvCxnSpPr>
              <p:nvPr/>
            </p:nvCxnSpPr>
            <p:spPr>
              <a:xfrm flipV="1">
                <a:off x="5340600" y="4063680"/>
                <a:ext cx="894240" cy="894240"/>
              </a:xfrm>
              <a:prstGeom prst="straightConnector1">
                <a:avLst/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  <p:cxnSp>
            <p:nvCxnSpPr>
              <p:cNvPr id="539" name="Straight Arrow Connector 19"/>
              <p:cNvCxnSpPr>
                <a:stCxn id="540" idx="7"/>
                <a:endCxn id="541" idx="3"/>
              </p:cNvCxnSpPr>
              <p:nvPr/>
            </p:nvCxnSpPr>
            <p:spPr>
              <a:xfrm flipV="1">
                <a:off x="6622200" y="4063680"/>
                <a:ext cx="1532520" cy="894240"/>
              </a:xfrm>
              <a:prstGeom prst="straightConnector1">
                <a:avLst/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  <p:cxnSp>
            <p:nvCxnSpPr>
              <p:cNvPr id="542" name="Straight Arrow Connector 23"/>
              <p:cNvCxnSpPr>
                <a:stCxn id="534" idx="7"/>
                <a:endCxn id="541" idx="3"/>
              </p:cNvCxnSpPr>
              <p:nvPr/>
            </p:nvCxnSpPr>
            <p:spPr>
              <a:xfrm flipV="1">
                <a:off x="4061160" y="4063680"/>
                <a:ext cx="4094640" cy="894240"/>
              </a:xfrm>
              <a:prstGeom prst="straightConnector1">
                <a:avLst/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  <p:cxnSp>
            <p:nvCxnSpPr>
              <p:cNvPr id="543" name="Straight Arrow Connector 24"/>
              <p:cNvCxnSpPr>
                <a:stCxn id="537" idx="7"/>
                <a:endCxn id="541" idx="3"/>
              </p:cNvCxnSpPr>
              <p:nvPr/>
            </p:nvCxnSpPr>
            <p:spPr>
              <a:xfrm flipV="1">
                <a:off x="5340600" y="4063680"/>
                <a:ext cx="2815200" cy="894240"/>
              </a:xfrm>
              <a:prstGeom prst="straightConnector1">
                <a:avLst/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</p:grpSp>
      </p:grpSp>
      <p:grpSp>
        <p:nvGrpSpPr>
          <p:cNvPr id="544" name="Group 39"/>
          <p:cNvGrpSpPr/>
          <p:nvPr/>
        </p:nvGrpSpPr>
        <p:grpSpPr>
          <a:xfrm>
            <a:off x="3351960" y="2559600"/>
            <a:ext cx="4996800" cy="2591280"/>
            <a:chOff x="3351960" y="2559600"/>
            <a:chExt cx="4996800" cy="2591280"/>
          </a:xfrm>
        </p:grpSpPr>
        <p:cxnSp>
          <p:nvCxnSpPr>
            <p:cNvPr id="545" name="Straight Arrow Connector 13"/>
            <p:cNvCxnSpPr>
              <a:stCxn id="546" idx="4"/>
              <a:endCxn id="534" idx="0"/>
            </p:cNvCxnSpPr>
            <p:nvPr/>
          </p:nvCxnSpPr>
          <p:spPr>
            <a:xfrm flipH="1">
              <a:off x="3866400" y="4144680"/>
              <a:ext cx="2160" cy="73260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547" name="Straight Arrow Connector 14"/>
            <p:cNvCxnSpPr>
              <a:stCxn id="535" idx="4"/>
              <a:endCxn id="537" idx="0"/>
            </p:cNvCxnSpPr>
            <p:nvPr/>
          </p:nvCxnSpPr>
          <p:spPr>
            <a:xfrm flipH="1">
              <a:off x="5146200" y="4144680"/>
              <a:ext cx="2160" cy="73260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548" name="Straight Arrow Connector 15"/>
            <p:cNvCxnSpPr>
              <a:stCxn id="538" idx="4"/>
              <a:endCxn id="540" idx="0"/>
            </p:cNvCxnSpPr>
            <p:nvPr/>
          </p:nvCxnSpPr>
          <p:spPr>
            <a:xfrm flipH="1">
              <a:off x="6427440" y="4144680"/>
              <a:ext cx="2160" cy="73260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549" name="Straight Arrow Connector 16"/>
            <p:cNvCxnSpPr>
              <a:stCxn id="541" idx="4"/>
              <a:endCxn id="550" idx="0"/>
            </p:cNvCxnSpPr>
            <p:nvPr/>
          </p:nvCxnSpPr>
          <p:spPr>
            <a:xfrm flipH="1">
              <a:off x="8346960" y="4144680"/>
              <a:ext cx="2160" cy="73260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551" name="Elbow Connector 29"/>
            <p:cNvCxnSpPr>
              <a:stCxn id="552" idx="2"/>
              <a:endCxn id="534" idx="2"/>
            </p:cNvCxnSpPr>
            <p:nvPr/>
          </p:nvCxnSpPr>
          <p:spPr>
            <a:xfrm flipH="1" flipV="1" rot="10800000">
              <a:off x="3580920" y="2559600"/>
              <a:ext cx="11520" cy="2591640"/>
            </a:xfrm>
            <a:prstGeom prst="bentConnector3">
              <a:avLst>
                <a:gd name="adj1" fmla="val -2054838"/>
              </a:avLst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553" name="Elbow Connector 30"/>
            <p:cNvCxnSpPr>
              <a:stCxn id="554" idx="2"/>
              <a:endCxn id="537" idx="2"/>
            </p:cNvCxnSpPr>
            <p:nvPr/>
          </p:nvCxnSpPr>
          <p:spPr>
            <a:xfrm flipH="1" flipV="1" rot="10800000">
              <a:off x="4857120" y="2559600"/>
              <a:ext cx="16560" cy="2591640"/>
            </a:xfrm>
            <a:prstGeom prst="bentConnector3">
              <a:avLst>
                <a:gd name="adj1" fmla="val -1440000"/>
              </a:avLst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555" name="Elbow Connector 31"/>
            <p:cNvCxnSpPr>
              <a:stCxn id="556" idx="2"/>
              <a:endCxn id="540" idx="2"/>
            </p:cNvCxnSpPr>
            <p:nvPr/>
          </p:nvCxnSpPr>
          <p:spPr>
            <a:xfrm flipH="1" flipV="1" rot="10800000">
              <a:off x="6136920" y="2559600"/>
              <a:ext cx="16560" cy="2591640"/>
            </a:xfrm>
            <a:prstGeom prst="bentConnector3">
              <a:avLst>
                <a:gd name="adj1" fmla="val -1440000"/>
              </a:avLst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557" name="Elbow Connector 32"/>
            <p:cNvCxnSpPr>
              <a:stCxn id="558" idx="2"/>
              <a:endCxn id="550" idx="2"/>
            </p:cNvCxnSpPr>
            <p:nvPr/>
          </p:nvCxnSpPr>
          <p:spPr>
            <a:xfrm flipH="1" flipV="1" rot="10800000">
              <a:off x="8057880" y="2559600"/>
              <a:ext cx="16560" cy="2591640"/>
            </a:xfrm>
            <a:prstGeom prst="bentConnector3">
              <a:avLst>
                <a:gd name="adj1" fmla="val -1440000"/>
              </a:avLst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</p:grpSp>
      <p:grpSp>
        <p:nvGrpSpPr>
          <p:cNvPr id="559" name="Group 36"/>
          <p:cNvGrpSpPr/>
          <p:nvPr/>
        </p:nvGrpSpPr>
        <p:grpSpPr>
          <a:xfrm>
            <a:off x="3581280" y="2286000"/>
            <a:ext cx="5026320" cy="549360"/>
            <a:chOff x="3581280" y="2286000"/>
            <a:chExt cx="5026320" cy="549360"/>
          </a:xfrm>
        </p:grpSpPr>
        <p:sp>
          <p:nvSpPr>
            <p:cNvPr id="552" name="Oval 25"/>
            <p:cNvSpPr/>
            <p:nvPr/>
          </p:nvSpPr>
          <p:spPr>
            <a:xfrm>
              <a:off x="3581280" y="2286000"/>
              <a:ext cx="547560" cy="54936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54" name="Oval 26"/>
            <p:cNvSpPr/>
            <p:nvPr/>
          </p:nvSpPr>
          <p:spPr>
            <a:xfrm>
              <a:off x="4857480" y="2286000"/>
              <a:ext cx="549000" cy="54936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56" name="Oval 27"/>
            <p:cNvSpPr/>
            <p:nvPr/>
          </p:nvSpPr>
          <p:spPr>
            <a:xfrm>
              <a:off x="6137280" y="2286000"/>
              <a:ext cx="549000" cy="54936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58" name="Oval 28"/>
            <p:cNvSpPr/>
            <p:nvPr/>
          </p:nvSpPr>
          <p:spPr>
            <a:xfrm>
              <a:off x="8058600" y="2286000"/>
              <a:ext cx="549000" cy="54936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orbe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60" name="TextBox 33"/>
            <p:cNvSpPr/>
            <p:nvPr/>
          </p:nvSpPr>
          <p:spPr>
            <a:xfrm>
              <a:off x="7067880" y="22860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rbe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561" name="Group 37"/>
          <p:cNvGrpSpPr/>
          <p:nvPr/>
        </p:nvGrpSpPr>
        <p:grpSpPr>
          <a:xfrm>
            <a:off x="3592440" y="3581280"/>
            <a:ext cx="5029200" cy="563760"/>
            <a:chOff x="3592440" y="3581280"/>
            <a:chExt cx="5029200" cy="563760"/>
          </a:xfrm>
        </p:grpSpPr>
        <p:sp>
          <p:nvSpPr>
            <p:cNvPr id="546" name="Oval 5"/>
            <p:cNvSpPr/>
            <p:nvPr/>
          </p:nvSpPr>
          <p:spPr>
            <a:xfrm>
              <a:off x="3592440" y="3597120"/>
              <a:ext cx="549000" cy="54792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5" name="Oval 6"/>
            <p:cNvSpPr/>
            <p:nvPr/>
          </p:nvSpPr>
          <p:spPr>
            <a:xfrm>
              <a:off x="4873320" y="3597120"/>
              <a:ext cx="547560" cy="54792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8" name="Oval 7"/>
            <p:cNvSpPr/>
            <p:nvPr/>
          </p:nvSpPr>
          <p:spPr>
            <a:xfrm>
              <a:off x="6153120" y="3597120"/>
              <a:ext cx="549000" cy="54792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8074080" y="3597120"/>
              <a:ext cx="547560" cy="54792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orbe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62" name="TextBox 34"/>
            <p:cNvSpPr/>
            <p:nvPr/>
          </p:nvSpPr>
          <p:spPr>
            <a:xfrm>
              <a:off x="7067520" y="35812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rbe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563" name="Group 38"/>
          <p:cNvGrpSpPr/>
          <p:nvPr/>
        </p:nvGrpSpPr>
        <p:grpSpPr>
          <a:xfrm>
            <a:off x="3592440" y="4876920"/>
            <a:ext cx="5029200" cy="549000"/>
            <a:chOff x="3592440" y="4876920"/>
            <a:chExt cx="5029200" cy="549000"/>
          </a:xfrm>
        </p:grpSpPr>
        <p:sp>
          <p:nvSpPr>
            <p:cNvPr id="534" name="Oval 9"/>
            <p:cNvSpPr/>
            <p:nvPr/>
          </p:nvSpPr>
          <p:spPr>
            <a:xfrm>
              <a:off x="3592440" y="4876920"/>
              <a:ext cx="549000" cy="549000"/>
            </a:xfrm>
            <a:prstGeom prst="ellipse">
              <a:avLst/>
            </a:prstGeom>
            <a:solidFill>
              <a:srgbClr val="bac0cc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7" name="Oval 10"/>
            <p:cNvSpPr/>
            <p:nvPr/>
          </p:nvSpPr>
          <p:spPr>
            <a:xfrm>
              <a:off x="4873320" y="4876920"/>
              <a:ext cx="547560" cy="549000"/>
            </a:xfrm>
            <a:prstGeom prst="ellipse">
              <a:avLst/>
            </a:prstGeom>
            <a:solidFill>
              <a:srgbClr val="bac0cc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0" name="Oval 11"/>
            <p:cNvSpPr/>
            <p:nvPr/>
          </p:nvSpPr>
          <p:spPr>
            <a:xfrm>
              <a:off x="6153120" y="4876920"/>
              <a:ext cx="549000" cy="549000"/>
            </a:xfrm>
            <a:prstGeom prst="ellipse">
              <a:avLst/>
            </a:prstGeom>
            <a:solidFill>
              <a:srgbClr val="bac0cc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50" name="Oval 12"/>
            <p:cNvSpPr/>
            <p:nvPr/>
          </p:nvSpPr>
          <p:spPr>
            <a:xfrm>
              <a:off x="8074080" y="4876920"/>
              <a:ext cx="547560" cy="549000"/>
            </a:xfrm>
            <a:prstGeom prst="ellipse">
              <a:avLst/>
            </a:prstGeom>
            <a:solidFill>
              <a:srgbClr val="bac0cc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Corbe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64" name="TextBox 35"/>
            <p:cNvSpPr/>
            <p:nvPr/>
          </p:nvSpPr>
          <p:spPr>
            <a:xfrm>
              <a:off x="7067520" y="48769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rbe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65" name="TextBox 42"/>
          <p:cNvSpPr/>
          <p:nvPr/>
        </p:nvSpPr>
        <p:spPr>
          <a:xfrm>
            <a:off x="60948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lev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6" name="TextBox 43"/>
          <p:cNvSpPr/>
          <p:nvPr/>
        </p:nvSpPr>
        <p:spPr>
          <a:xfrm>
            <a:off x="6094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TextBox 44"/>
          <p:cNvSpPr/>
          <p:nvPr/>
        </p:nvSpPr>
        <p:spPr>
          <a:xfrm>
            <a:off x="625320" y="4876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8" name="Picture 9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514600" cy="4762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0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2633760" cy="4842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"/>
          <p:cNvPicPr/>
          <p:nvPr/>
        </p:nvPicPr>
        <p:blipFill>
          <a:blip r:embed="rId4"/>
          <a:stretch/>
        </p:blipFill>
        <p:spPr>
          <a:xfrm>
            <a:off x="685800" y="2743200"/>
            <a:ext cx="2209680" cy="423720"/>
          </a:xfrm>
          <a:prstGeom prst="rect">
            <a:avLst/>
          </a:prstGeom>
          <a:ln w="0">
            <a:noFill/>
          </a:ln>
        </p:spPr>
      </p:pic>
      <p:sp>
        <p:nvSpPr>
          <p:cNvPr id="571" name="Footer Placeholder 48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9" descr=""/>
          <p:cNvPicPr/>
          <p:nvPr/>
        </p:nvPicPr>
        <p:blipFill>
          <a:blip r:embed="rId1"/>
          <a:stretch/>
        </p:blipFill>
        <p:spPr>
          <a:xfrm>
            <a:off x="2743200" y="4419720"/>
            <a:ext cx="5246640" cy="888840"/>
          </a:xfrm>
          <a:prstGeom prst="rect">
            <a:avLst/>
          </a:prstGeom>
          <a:ln w="0">
            <a:noFill/>
          </a:ln>
        </p:spPr>
      </p:pic>
      <p:pic>
        <p:nvPicPr>
          <p:cNvPr id="573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e the posterior distribu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ditional independence relationship induced from the graphical mode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1E3F-7163-4B6A-92E7-05BECA233C4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3FD7-DB11-4BF2-8623-7CCAFC30543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77" name="Group 34"/>
          <p:cNvGrpSpPr/>
          <p:nvPr/>
        </p:nvGrpSpPr>
        <p:grpSpPr>
          <a:xfrm>
            <a:off x="1066680" y="4419720"/>
            <a:ext cx="3048120" cy="2029680"/>
            <a:chOff x="1066680" y="4419720"/>
            <a:chExt cx="3048120" cy="2029680"/>
          </a:xfrm>
        </p:grpSpPr>
        <p:sp>
          <p:nvSpPr>
            <p:cNvPr id="578" name="Oval 10"/>
            <p:cNvSpPr/>
            <p:nvPr/>
          </p:nvSpPr>
          <p:spPr>
            <a:xfrm>
              <a:off x="3810240" y="4419720"/>
              <a:ext cx="304560" cy="457200"/>
            </a:xfrm>
            <a:prstGeom prst="ellipse">
              <a:avLst/>
            </a:prstGeom>
            <a:noFill/>
            <a:ln w="478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79" name="Straight Connector 11"/>
            <p:cNvSpPr/>
            <p:nvPr/>
          </p:nvSpPr>
          <p:spPr>
            <a:xfrm flipH="1">
              <a:off x="2514600" y="4876920"/>
              <a:ext cx="1447920" cy="762120"/>
            </a:xfrm>
            <a:prstGeom prst="line">
              <a:avLst/>
            </a:prstGeom>
            <a:ln cap="rnd"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80" name="TextBox 10"/>
            <p:cNvSpPr/>
            <p:nvPr/>
          </p:nvSpPr>
          <p:spPr>
            <a:xfrm>
              <a:off x="1066680" y="5639040"/>
              <a:ext cx="2895840" cy="81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How many times the URL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Book Antiqua"/>
                </a:rPr>
                <a:t> j </a:t>
              </a: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was clicked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581" name="Group 33"/>
          <p:cNvGrpSpPr/>
          <p:nvPr/>
        </p:nvGrpSpPr>
        <p:grpSpPr>
          <a:xfrm>
            <a:off x="4648320" y="4343400"/>
            <a:ext cx="3962160" cy="2448360"/>
            <a:chOff x="4648320" y="4343400"/>
            <a:chExt cx="3962160" cy="2448360"/>
          </a:xfrm>
        </p:grpSpPr>
        <p:sp>
          <p:nvSpPr>
            <p:cNvPr id="582" name="TextBox 13"/>
            <p:cNvSpPr/>
            <p:nvPr/>
          </p:nvSpPr>
          <p:spPr>
            <a:xfrm>
              <a:off x="4648320" y="5563080"/>
              <a:ext cx="3962160" cy="1228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How many times UR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j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was not clicked when it is at position (r + d)  with the preceding click at position r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>
              <a:off x="7391520" y="4343400"/>
              <a:ext cx="685800" cy="380880"/>
            </a:xfrm>
            <a:prstGeom prst="ellipse">
              <a:avLst/>
            </a:prstGeom>
            <a:noFill/>
            <a:ln w="478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84" name="Straight Connector 23"/>
            <p:cNvSpPr/>
            <p:nvPr/>
          </p:nvSpPr>
          <p:spPr>
            <a:xfrm flipH="1">
              <a:off x="6629040" y="4724280"/>
              <a:ext cx="1104840" cy="838440"/>
            </a:xfrm>
            <a:prstGeom prst="line">
              <a:avLst/>
            </a:prstGeom>
            <a:ln cap="rnd"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5" name="Footer Placeholder 2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6" name="Picture 6" descr=""/>
          <p:cNvPicPr/>
          <p:nvPr/>
        </p:nvPicPr>
        <p:blipFill>
          <a:blip r:embed="rId3"/>
          <a:stretch/>
        </p:blipFill>
        <p:spPr>
          <a:xfrm>
            <a:off x="6858000" y="1905120"/>
            <a:ext cx="1287360" cy="4572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"/>
          <p:cNvPicPr/>
          <p:nvPr/>
        </p:nvPicPr>
        <p:blipFill>
          <a:blip r:embed="rId4"/>
          <a:stretch/>
        </p:blipFill>
        <p:spPr>
          <a:xfrm>
            <a:off x="1219320" y="3581280"/>
            <a:ext cx="3719520" cy="76212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7"/>
          <p:cNvSpPr/>
          <p:nvPr/>
        </p:nvSpPr>
        <p:spPr>
          <a:xfrm>
            <a:off x="7924680" y="0"/>
            <a:ext cx="1219320" cy="38088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90" name="Slide Number Placeholder 3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8CA6-1BCC-4CF5-B929-0D86FAED4E6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Date Placeholder 3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C30-2778-436A-A172-C6A617595DB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ly top M=3 positions are shown, 3 query sessions and 4 distinct URL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93" name="Group 58"/>
          <p:cNvGrpSpPr/>
          <p:nvPr/>
        </p:nvGrpSpPr>
        <p:grpSpPr>
          <a:xfrm>
            <a:off x="1676520" y="3048120"/>
            <a:ext cx="5410080" cy="3400560"/>
            <a:chOff x="1676520" y="3048120"/>
            <a:chExt cx="5410080" cy="3400560"/>
          </a:xfrm>
        </p:grpSpPr>
        <p:grpSp>
          <p:nvGrpSpPr>
            <p:cNvPr id="594" name="Group 31"/>
            <p:cNvGrpSpPr/>
            <p:nvPr/>
          </p:nvGrpSpPr>
          <p:grpSpPr>
            <a:xfrm>
              <a:off x="4724640" y="3962520"/>
              <a:ext cx="2090520" cy="2057400"/>
              <a:chOff x="4724640" y="3962520"/>
              <a:chExt cx="2090520" cy="2057400"/>
            </a:xfrm>
          </p:grpSpPr>
          <p:sp>
            <p:nvSpPr>
              <p:cNvPr id="595" name="Oval 21"/>
              <p:cNvSpPr/>
              <p:nvPr/>
            </p:nvSpPr>
            <p:spPr>
              <a:xfrm>
                <a:off x="6264360" y="5467680"/>
                <a:ext cx="546120" cy="552240"/>
              </a:xfrm>
              <a:prstGeom prst="ellipse">
                <a:avLst/>
              </a:prstGeom>
              <a:solidFill>
                <a:srgbClr val="434a5a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96" name="Oval 22"/>
              <p:cNvSpPr/>
              <p:nvPr/>
            </p:nvSpPr>
            <p:spPr>
              <a:xfrm>
                <a:off x="5510160" y="5467680"/>
                <a:ext cx="546120" cy="552240"/>
              </a:xfrm>
              <a:prstGeom prst="ellipse">
                <a:avLst/>
              </a:prstGeom>
              <a:solidFill>
                <a:srgbClr val="434a5a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97" name="Oval 23"/>
              <p:cNvSpPr/>
              <p:nvPr/>
            </p:nvSpPr>
            <p:spPr>
              <a:xfrm>
                <a:off x="5504040" y="4705560"/>
                <a:ext cx="547560" cy="552240"/>
              </a:xfrm>
              <a:prstGeom prst="ellipse">
                <a:avLst/>
              </a:prstGeom>
              <a:solidFill>
                <a:srgbClr val="434a5a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98" name="Oval 24"/>
              <p:cNvSpPr/>
              <p:nvPr/>
            </p:nvSpPr>
            <p:spPr>
              <a:xfrm>
                <a:off x="6264360" y="3962520"/>
                <a:ext cx="546120" cy="552240"/>
              </a:xfrm>
              <a:prstGeom prst="ellipse">
                <a:avLst/>
              </a:prstGeom>
              <a:solidFill>
                <a:srgbClr val="434a5a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99" name="Oval 25"/>
              <p:cNvSpPr/>
              <p:nvPr/>
            </p:nvSpPr>
            <p:spPr>
              <a:xfrm>
                <a:off x="4724640" y="3962520"/>
                <a:ext cx="546120" cy="552240"/>
              </a:xfrm>
              <a:prstGeom prst="ellipse">
                <a:avLst/>
              </a:prstGeom>
              <a:solidFill>
                <a:srgbClr val="434a5a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0" name="Oval 26"/>
              <p:cNvSpPr/>
              <p:nvPr/>
            </p:nvSpPr>
            <p:spPr>
              <a:xfrm>
                <a:off x="6269040" y="5467680"/>
                <a:ext cx="546120" cy="55224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1" name="Oval 27"/>
              <p:cNvSpPr/>
              <p:nvPr/>
            </p:nvSpPr>
            <p:spPr>
              <a:xfrm>
                <a:off x="4735440" y="5467680"/>
                <a:ext cx="546120" cy="55224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2" name="Oval 28"/>
              <p:cNvSpPr/>
              <p:nvPr/>
            </p:nvSpPr>
            <p:spPr>
              <a:xfrm>
                <a:off x="6259680" y="4705560"/>
                <a:ext cx="546120" cy="55224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3" name="Oval 29"/>
              <p:cNvSpPr/>
              <p:nvPr/>
            </p:nvSpPr>
            <p:spPr>
              <a:xfrm>
                <a:off x="5510160" y="5467680"/>
                <a:ext cx="546120" cy="55224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4" name="Oval 30"/>
              <p:cNvSpPr/>
              <p:nvPr/>
            </p:nvSpPr>
            <p:spPr>
              <a:xfrm>
                <a:off x="4724640" y="4724640"/>
                <a:ext cx="546120" cy="55224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5" name="Oval 34"/>
              <p:cNvSpPr/>
              <p:nvPr/>
            </p:nvSpPr>
            <p:spPr>
              <a:xfrm>
                <a:off x="5510160" y="4724640"/>
                <a:ext cx="546120" cy="55224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6" name="Oval 35"/>
              <p:cNvSpPr/>
              <p:nvPr/>
            </p:nvSpPr>
            <p:spPr>
              <a:xfrm>
                <a:off x="6259680" y="3962520"/>
                <a:ext cx="546120" cy="55224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7" name="Oval 36"/>
              <p:cNvSpPr/>
              <p:nvPr/>
            </p:nvSpPr>
            <p:spPr>
              <a:xfrm>
                <a:off x="4724640" y="3962520"/>
                <a:ext cx="546120" cy="55224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8" name="Oval 12"/>
              <p:cNvSpPr/>
              <p:nvPr/>
            </p:nvSpPr>
            <p:spPr>
              <a:xfrm>
                <a:off x="5499360" y="3962520"/>
                <a:ext cx="546120" cy="552240"/>
              </a:xfrm>
              <a:prstGeom prst="ellipse">
                <a:avLst/>
              </a:prstGeom>
              <a:solidFill>
                <a:srgbClr val="dddfe5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609" name="TextBox 41"/>
            <p:cNvSpPr/>
            <p:nvPr/>
          </p:nvSpPr>
          <p:spPr>
            <a:xfrm>
              <a:off x="2438280" y="3124080"/>
              <a:ext cx="44197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Position            </a:t>
              </a:r>
              <a:r>
                <a:rPr b="0" lang="en-US" sz="3400" spc="-1" strike="noStrike">
                  <a:solidFill>
                    <a:srgbClr val="000000"/>
                  </a:solidFill>
                  <a:latin typeface="Corbel"/>
                </a:rPr>
                <a:t>1       2       3 </a:t>
              </a:r>
              <a:endParaRPr b="0" lang="en-US" sz="3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10" name="TextBox 39"/>
            <p:cNvSpPr/>
            <p:nvPr/>
          </p:nvSpPr>
          <p:spPr>
            <a:xfrm>
              <a:off x="1676520" y="5562720"/>
              <a:ext cx="26985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rbel"/>
                </a:rPr>
                <a:t>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Corbel"/>
                </a:rPr>
                <a:t>Query Session 3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11" name="Rectangle 41"/>
            <p:cNvSpPr/>
            <p:nvPr/>
          </p:nvSpPr>
          <p:spPr>
            <a:xfrm>
              <a:off x="1905120" y="3048120"/>
              <a:ext cx="5181480" cy="3124080"/>
            </a:xfrm>
            <a:prstGeom prst="rect">
              <a:avLst/>
            </a:prstGeom>
            <a:noFill/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12" name="Straight Connector 45"/>
            <p:cNvSpPr/>
            <p:nvPr/>
          </p:nvSpPr>
          <p:spPr>
            <a:xfrm>
              <a:off x="4419720" y="3048120"/>
              <a:ext cx="0" cy="3124080"/>
            </a:xfrm>
            <a:prstGeom prst="line">
              <a:avLst/>
            </a:prstGeom>
            <a:ln cap="rnd" w="19080">
              <a:solidFill>
                <a:srgbClr val="f0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13" name="Group 42"/>
            <p:cNvGrpSpPr/>
            <p:nvPr/>
          </p:nvGrpSpPr>
          <p:grpSpPr>
            <a:xfrm>
              <a:off x="1904400" y="3809880"/>
              <a:ext cx="5182200" cy="1569600"/>
              <a:chOff x="1904400" y="3809880"/>
              <a:chExt cx="5182200" cy="1569600"/>
            </a:xfrm>
          </p:grpSpPr>
          <p:sp>
            <p:nvSpPr>
              <p:cNvPr id="614" name="Straight Connector 43"/>
              <p:cNvSpPr/>
              <p:nvPr/>
            </p:nvSpPr>
            <p:spPr>
              <a:xfrm>
                <a:off x="1905120" y="3809880"/>
                <a:ext cx="5181480" cy="0"/>
              </a:xfrm>
              <a:prstGeom prst="line">
                <a:avLst/>
              </a:prstGeom>
              <a:ln cap="rnd" w="19080">
                <a:solidFill>
                  <a:srgbClr val="f0a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15" name="Straight Connector 47"/>
              <p:cNvSpPr/>
              <p:nvPr/>
            </p:nvSpPr>
            <p:spPr>
              <a:xfrm>
                <a:off x="1904400" y="4609800"/>
                <a:ext cx="5181480" cy="0"/>
              </a:xfrm>
              <a:prstGeom prst="line">
                <a:avLst/>
              </a:prstGeom>
              <a:ln cap="rnd" w="19080">
                <a:solidFill>
                  <a:srgbClr val="f0a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16" name="Straight Connector 48"/>
              <p:cNvSpPr/>
              <p:nvPr/>
            </p:nvSpPr>
            <p:spPr>
              <a:xfrm>
                <a:off x="1905120" y="5379480"/>
                <a:ext cx="5181480" cy="0"/>
              </a:xfrm>
              <a:prstGeom prst="line">
                <a:avLst/>
              </a:prstGeom>
              <a:ln cap="rnd" w="19080">
                <a:solidFill>
                  <a:srgbClr val="f0a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617" name="TextBox 39"/>
            <p:cNvSpPr/>
            <p:nvPr/>
          </p:nvSpPr>
          <p:spPr>
            <a:xfrm>
              <a:off x="1676520" y="4724640"/>
              <a:ext cx="26985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rbel"/>
                </a:rPr>
                <a:t>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Corbel"/>
                </a:rPr>
                <a:t>Query Session 2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18" name="TextBox 39"/>
            <p:cNvSpPr/>
            <p:nvPr/>
          </p:nvSpPr>
          <p:spPr>
            <a:xfrm>
              <a:off x="1676520" y="3962520"/>
              <a:ext cx="26985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rbel"/>
                </a:rPr>
                <a:t>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Corbel"/>
                </a:rPr>
                <a:t>Query Session 1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19" name="Footer Placeholder 59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21" name="Slide Number Placeholder 3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ADE9-2BE6-46BD-B48B-1D1AFC09899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Date Placeholder 3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0AB7-4CAD-4ED3-BA07-65F8EA1464B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itializ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M(M+1)/2+1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counts for each UR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838080" y="2514600"/>
          <a:ext cx="7391520" cy="115884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1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1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2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625" name="Footer Placeholder 70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27" name="Slide Number Placeholder 3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D036-D3B4-4A3C-A2A6-943692CFE6A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Date Placeholder 3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E057-C4A1-44E0-BAE3-0ECE7C8E998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华文楷体"/>
              </a:rPr>
              <a:t>Update counts for URL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not impressed, do nothing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clicked, increment “clicks” by 1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therwise, locate the right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to increme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838080" y="5334120"/>
          <a:ext cx="7391520" cy="115884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1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1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2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631" name="Picture 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3886200" cy="1214640"/>
          </a:xfrm>
          <a:prstGeom prst="rect">
            <a:avLst/>
          </a:prstGeom>
          <a:ln w="0">
            <a:noFill/>
          </a:ln>
        </p:spPr>
      </p:pic>
      <p:sp>
        <p:nvSpPr>
          <p:cNvPr id="632" name="Footer Placeholder 8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34" name="Slide Number Placeholder 3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E84D-F4F0-45FD-8D07-E6FAA238055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5" name="Date Placeholder 3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0F18-111A-494F-A95C-8F2E1A8219F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华文楷体"/>
              </a:rPr>
              <a:t>Update counts for URL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not impressed, do nothing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clicked, increment “clicks” by 1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therwise, locate the right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to increme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838080" y="5334120"/>
          <a:ext cx="7391520" cy="115884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1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1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2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638" name="Picture 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3886200" cy="1214640"/>
          </a:xfrm>
          <a:prstGeom prst="rect">
            <a:avLst/>
          </a:prstGeom>
          <a:ln w="0">
            <a:noFill/>
          </a:ln>
        </p:spPr>
      </p:pic>
      <p:sp>
        <p:nvSpPr>
          <p:cNvPr id="639" name="Footer Placeholder 8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510760" cy="11588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C:\Program Files\Microsoft Office\MEDIA\CAGCAT10\j0301252.wmf"/>
          <p:cNvPicPr/>
          <p:nvPr/>
        </p:nvPicPr>
        <p:blipFill>
          <a:blip r:embed="rId2"/>
          <a:stretch/>
        </p:blipFill>
        <p:spPr>
          <a:xfrm flipH="1">
            <a:off x="456840" y="3649680"/>
            <a:ext cx="2001960" cy="1655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1" descr="coin_toss.jpg"/>
          <p:cNvPicPr/>
          <p:nvPr/>
        </p:nvPicPr>
        <p:blipFill>
          <a:blip r:embed="rId3"/>
          <a:stretch/>
        </p:blipFill>
        <p:spPr>
          <a:xfrm>
            <a:off x="4343400" y="5029200"/>
            <a:ext cx="789120" cy="1200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2" descr="bayes.jpg"/>
          <p:cNvPicPr/>
          <p:nvPr/>
        </p:nvPicPr>
        <p:blipFill>
          <a:blip r:embed="rId4"/>
          <a:stretch/>
        </p:blipFill>
        <p:spPr>
          <a:xfrm>
            <a:off x="7086600" y="3505320"/>
            <a:ext cx="1646280" cy="170316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58"/>
          <p:cNvGrpSpPr/>
          <p:nvPr/>
        </p:nvGrpSpPr>
        <p:grpSpPr>
          <a:xfrm>
            <a:off x="2720880" y="4043520"/>
            <a:ext cx="4084560" cy="668160"/>
            <a:chOff x="2720880" y="4043520"/>
            <a:chExt cx="4084560" cy="668160"/>
          </a:xfrm>
        </p:grpSpPr>
        <p:pic>
          <p:nvPicPr>
            <p:cNvPr id="321" name="Picture 43" descr="head.gif"/>
            <p:cNvPicPr/>
            <p:nvPr/>
          </p:nvPicPr>
          <p:blipFill>
            <a:blip r:embed="rId5"/>
            <a:stretch/>
          </p:blipFill>
          <p:spPr>
            <a:xfrm>
              <a:off x="2720880" y="4043520"/>
              <a:ext cx="65556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44" descr="head.gif"/>
            <p:cNvPicPr/>
            <p:nvPr/>
          </p:nvPicPr>
          <p:blipFill>
            <a:blip r:embed="rId6"/>
            <a:stretch/>
          </p:blipFill>
          <p:spPr>
            <a:xfrm>
              <a:off x="3612240" y="4046400"/>
              <a:ext cx="65556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45" descr="head.gif"/>
            <p:cNvPicPr/>
            <p:nvPr/>
          </p:nvPicPr>
          <p:blipFill>
            <a:blip r:embed="rId7"/>
            <a:stretch/>
          </p:blipFill>
          <p:spPr>
            <a:xfrm>
              <a:off x="4435200" y="4046400"/>
              <a:ext cx="65556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46" descr="head.gif"/>
            <p:cNvPicPr/>
            <p:nvPr/>
          </p:nvPicPr>
          <p:blipFill>
            <a:blip r:embed="rId8"/>
            <a:stretch/>
          </p:blipFill>
          <p:spPr>
            <a:xfrm>
              <a:off x="6149880" y="4046400"/>
              <a:ext cx="65556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47" descr="tail.gif"/>
            <p:cNvPicPr/>
            <p:nvPr/>
          </p:nvPicPr>
          <p:blipFill>
            <a:blip r:embed="rId9"/>
            <a:stretch/>
          </p:blipFill>
          <p:spPr>
            <a:xfrm>
              <a:off x="5324760" y="4046400"/>
              <a:ext cx="645840" cy="63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Oval Callout 48"/>
          <p:cNvSpPr/>
          <p:nvPr/>
        </p:nvSpPr>
        <p:spPr>
          <a:xfrm>
            <a:off x="228600" y="2209680"/>
            <a:ext cx="3505320" cy="1043280"/>
          </a:xfrm>
          <a:prstGeom prst="wedgeEllipseCallout">
            <a:avLst>
              <a:gd name="adj1" fmla="val -21115"/>
              <a:gd name="adj2" fmla="val 101921"/>
            </a:avLst>
          </a:prstGeom>
          <a:solidFill>
            <a:srgbClr val="f0a7b1"/>
          </a:solidFill>
          <a:ln w="47880">
            <a:solidFill>
              <a:srgbClr val="f0a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p(H)=0.8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51"/>
          <p:cNvSpPr/>
          <p:nvPr/>
        </p:nvSpPr>
        <p:spPr>
          <a:xfrm>
            <a:off x="731880" y="5372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requentis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52"/>
          <p:cNvSpPr/>
          <p:nvPr/>
        </p:nvSpPr>
        <p:spPr>
          <a:xfrm>
            <a:off x="7246800" y="5305320"/>
            <a:ext cx="12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Bayesia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9" name="Group 59"/>
          <p:cNvGrpSpPr/>
          <p:nvPr/>
        </p:nvGrpSpPr>
        <p:grpSpPr>
          <a:xfrm>
            <a:off x="4160880" y="1142640"/>
            <a:ext cx="4525920" cy="2176920"/>
            <a:chOff x="4160880" y="1142640"/>
            <a:chExt cx="4525920" cy="2176920"/>
          </a:xfrm>
        </p:grpSpPr>
        <p:sp>
          <p:nvSpPr>
            <p:cNvPr id="330" name="Cloud Callout 49"/>
            <p:cNvSpPr/>
            <p:nvPr/>
          </p:nvSpPr>
          <p:spPr>
            <a:xfrm>
              <a:off x="4160880" y="1531080"/>
              <a:ext cx="4525920" cy="1788480"/>
            </a:xfrm>
            <a:prstGeom prst="cloudCallout">
              <a:avLst>
                <a:gd name="adj1" fmla="val 21833"/>
                <a:gd name="adj2" fmla="val 69166"/>
              </a:avLst>
            </a:prstGeom>
            <a:solidFill>
              <a:srgbClr val="f0a7b1"/>
            </a:solidFill>
            <a:ln w="47880">
              <a:solidFill>
                <a:srgbClr val="f0a7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331" name="Group 47"/>
            <p:cNvGrpSpPr/>
            <p:nvPr/>
          </p:nvGrpSpPr>
          <p:grpSpPr>
            <a:xfrm>
              <a:off x="5096160" y="1142640"/>
              <a:ext cx="2767680" cy="1969560"/>
              <a:chOff x="5096160" y="1142640"/>
              <a:chExt cx="2767680" cy="1969560"/>
            </a:xfrm>
          </p:grpSpPr>
          <p:grpSp>
            <p:nvGrpSpPr>
              <p:cNvPr id="332" name="Group 43"/>
              <p:cNvGrpSpPr/>
              <p:nvPr/>
            </p:nvGrpSpPr>
            <p:grpSpPr>
              <a:xfrm>
                <a:off x="5096160" y="1142640"/>
                <a:ext cx="1037880" cy="1969560"/>
                <a:chOff x="5096160" y="1142640"/>
                <a:chExt cx="1037880" cy="1969560"/>
              </a:xfrm>
            </p:grpSpPr>
            <p:sp>
              <p:nvSpPr>
                <p:cNvPr id="333" name="Text Box 31"/>
                <p:cNvSpPr/>
                <p:nvPr/>
              </p:nvSpPr>
              <p:spPr>
                <a:xfrm>
                  <a:off x="5096160" y="2743920"/>
                  <a:ext cx="30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rbel"/>
                      <a:ea typeface="华文楷体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grpSp>
              <p:nvGrpSpPr>
                <p:cNvPr id="334" name="Group 10"/>
                <p:cNvGrpSpPr/>
                <p:nvPr/>
              </p:nvGrpSpPr>
              <p:grpSpPr>
                <a:xfrm>
                  <a:off x="5258520" y="1142640"/>
                  <a:ext cx="875520" cy="1674720"/>
                  <a:chOff x="5258520" y="1142640"/>
                  <a:chExt cx="875520" cy="1674720"/>
                </a:xfrm>
              </p:grpSpPr>
              <p:sp>
                <p:nvSpPr>
                  <p:cNvPr id="335" name="Line 8"/>
                  <p:cNvSpPr/>
                  <p:nvPr/>
                </p:nvSpPr>
                <p:spPr>
                  <a:xfrm>
                    <a:off x="5258520" y="2817360"/>
                    <a:ext cx="875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336" name="Line 9"/>
                  <p:cNvSpPr/>
                  <p:nvPr/>
                </p:nvSpPr>
                <p:spPr>
                  <a:xfrm flipV="1">
                    <a:off x="5271120" y="1142640"/>
                    <a:ext cx="0" cy="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</p:grpSp>
            <p:sp>
              <p:nvSpPr>
                <p:cNvPr id="337" name="Line 11"/>
                <p:cNvSpPr/>
                <p:nvPr/>
              </p:nvSpPr>
              <p:spPr>
                <a:xfrm>
                  <a:off x="5257800" y="2492280"/>
                  <a:ext cx="669960" cy="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338" name="Line 12"/>
                <p:cNvSpPr/>
                <p:nvPr/>
              </p:nvSpPr>
              <p:spPr>
                <a:xfrm>
                  <a:off x="5928120" y="2492280"/>
                  <a:ext cx="0" cy="32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339" name="Text Box 32"/>
                <p:cNvSpPr/>
                <p:nvPr/>
              </p:nvSpPr>
              <p:spPr>
                <a:xfrm>
                  <a:off x="5791680" y="2743920"/>
                  <a:ext cx="30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rbel"/>
                      <a:ea typeface="华文楷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grpSp>
            <p:nvGrpSpPr>
              <p:cNvPr id="340" name="Group 134"/>
              <p:cNvGrpSpPr/>
              <p:nvPr/>
            </p:nvGrpSpPr>
            <p:grpSpPr>
              <a:xfrm>
                <a:off x="6986160" y="1994760"/>
                <a:ext cx="877680" cy="830880"/>
                <a:chOff x="6986160" y="1994760"/>
                <a:chExt cx="877680" cy="830880"/>
              </a:xfrm>
            </p:grpSpPr>
            <p:grpSp>
              <p:nvGrpSpPr>
                <p:cNvPr id="341" name="Group 46"/>
                <p:cNvGrpSpPr/>
                <p:nvPr/>
              </p:nvGrpSpPr>
              <p:grpSpPr>
                <a:xfrm>
                  <a:off x="6986160" y="1994760"/>
                  <a:ext cx="877680" cy="830880"/>
                  <a:chOff x="6986160" y="1994760"/>
                  <a:chExt cx="877680" cy="830880"/>
                </a:xfrm>
              </p:grpSpPr>
              <p:sp>
                <p:nvSpPr>
                  <p:cNvPr id="342" name="Line 47"/>
                  <p:cNvSpPr/>
                  <p:nvPr/>
                </p:nvSpPr>
                <p:spPr>
                  <a:xfrm>
                    <a:off x="6986160" y="2825640"/>
                    <a:ext cx="877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343" name="Line 48"/>
                  <p:cNvSpPr/>
                  <p:nvPr/>
                </p:nvSpPr>
                <p:spPr>
                  <a:xfrm flipV="1">
                    <a:off x="6986160" y="1994760"/>
                    <a:ext cx="0" cy="83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</p:grpSp>
            <p:sp>
              <p:nvSpPr>
                <p:cNvPr id="344" name="Freeform 54"/>
                <p:cNvSpPr/>
                <p:nvPr/>
              </p:nvSpPr>
              <p:spPr>
                <a:xfrm>
                  <a:off x="6986160" y="2213640"/>
                  <a:ext cx="658080" cy="612000"/>
                </a:xfrm>
                <a:custGeom>
                  <a:avLst/>
                  <a:gdLst>
                    <a:gd name="textAreaLeft" fmla="*/ 0 w 658080"/>
                    <a:gd name="textAreaRight" fmla="*/ 658440 w 658080"/>
                    <a:gd name="textAreaTop" fmla="*/ 0 h 612000"/>
                    <a:gd name="textAreaBottom" fmla="*/ 612360 h 612000"/>
                  </a:gdLst>
                  <a:ahLst/>
                  <a:rect l="textAreaLeft" t="textAreaTop" r="textAreaRight" b="textAreaBottom"/>
                  <a:pathLst>
                    <a:path w="768" h="384">
                      <a:moveTo>
                        <a:pt x="0" y="376"/>
                      </a:moveTo>
                      <a:cubicBezTo>
                        <a:pt x="100" y="380"/>
                        <a:pt x="200" y="384"/>
                        <a:pt x="288" y="328"/>
                      </a:cubicBezTo>
                      <a:cubicBezTo>
                        <a:pt x="376" y="272"/>
                        <a:pt x="464" y="80"/>
                        <a:pt x="528" y="40"/>
                      </a:cubicBezTo>
                      <a:cubicBezTo>
                        <a:pt x="592" y="0"/>
                        <a:pt x="632" y="32"/>
                        <a:pt x="672" y="88"/>
                      </a:cubicBezTo>
                      <a:cubicBezTo>
                        <a:pt x="712" y="144"/>
                        <a:pt x="752" y="328"/>
                        <a:pt x="768" y="376"/>
                      </a:cubicBezTo>
                    </a:path>
                  </a:pathLst>
                </a:custGeom>
                <a:noFill/>
                <a:ln w="316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sp>
            <p:nvSpPr>
              <p:cNvPr id="345" name="Right Arrow 57"/>
              <p:cNvSpPr/>
              <p:nvPr/>
            </p:nvSpPr>
            <p:spPr>
              <a:xfrm>
                <a:off x="6053400" y="2260080"/>
                <a:ext cx="822960" cy="331200"/>
              </a:xfrm>
              <a:prstGeom prst="rightArrow">
                <a:avLst>
                  <a:gd name="adj1" fmla="val 50000"/>
                  <a:gd name="adj2" fmla="val 51766"/>
                </a:avLst>
              </a:prstGeom>
              <a:solidFill>
                <a:srgbClr val="ff0000"/>
              </a:solidFill>
              <a:ln w="478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346" name="TextBox 53"/>
            <p:cNvSpPr/>
            <p:nvPr/>
          </p:nvSpPr>
          <p:spPr>
            <a:xfrm>
              <a:off x="5257800" y="1673640"/>
              <a:ext cx="95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Prior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47" name="TextBox 54"/>
            <p:cNvSpPr/>
            <p:nvPr/>
          </p:nvSpPr>
          <p:spPr>
            <a:xfrm>
              <a:off x="6903720" y="1673640"/>
              <a:ext cx="117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Posterior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48" name="Line 48"/>
            <p:cNvSpPr/>
            <p:nvPr/>
          </p:nvSpPr>
          <p:spPr>
            <a:xfrm flipV="1">
              <a:off x="5257800" y="1994400"/>
              <a:ext cx="0" cy="83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49" name="Text Box 32"/>
            <p:cNvSpPr/>
            <p:nvPr/>
          </p:nvSpPr>
          <p:spPr>
            <a:xfrm>
              <a:off x="7543800" y="2743920"/>
              <a:ext cx="3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50" name="Text Box 31"/>
            <p:cNvSpPr/>
            <p:nvPr/>
          </p:nvSpPr>
          <p:spPr>
            <a:xfrm>
              <a:off x="6858000" y="2743920"/>
              <a:ext cx="3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51" name="Date Placeholder 50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2DE4-28F0-4C70-8E61-93E314B97DF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Slide Number Placeholder 5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67B9-03EE-4E9B-9D52-CEEA69D38CB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Footer Placeholder 5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60"/>
          <p:cNvSpPr/>
          <p:nvPr/>
        </p:nvSpPr>
        <p:spPr>
          <a:xfrm>
            <a:off x="53341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(H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Rectangle 61"/>
          <p:cNvSpPr/>
          <p:nvPr/>
        </p:nvSpPr>
        <p:spPr>
          <a:xfrm>
            <a:off x="7072200" y="274320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(H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TextBox 66"/>
          <p:cNvSpPr/>
          <p:nvPr/>
        </p:nvSpPr>
        <p:spPr>
          <a:xfrm>
            <a:off x="2438280" y="1676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robability” of p(H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41" name="Slide Number Placeholder 3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659B-783B-4DE4-8904-B13827F98AE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Date Placeholder 3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F161-4B4B-41BC-911C-F53DBF61B0F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华文楷体"/>
              </a:rPr>
              <a:t>Update counts for URL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not impressed, do nothing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clicked, increment “clicks” by 1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therwise, locate the right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to increme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838080" y="5334120"/>
          <a:ext cx="7391520" cy="115884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1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1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2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645" name="Picture 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3886200" cy="1214640"/>
          </a:xfrm>
          <a:prstGeom prst="rect">
            <a:avLst/>
          </a:prstGeom>
          <a:ln w="0">
            <a:noFill/>
          </a:ln>
        </p:spPr>
      </p:pic>
      <p:sp>
        <p:nvSpPr>
          <p:cNvPr id="646" name="Footer Placeholder 8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48" name="Slide Number Placeholder 3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B540-6018-42C9-A349-60ED258D070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Date Placeholder 3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6BEF-FC9F-4F80-8518-F738474321C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华文楷体"/>
              </a:rPr>
              <a:t>The posterior for URL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华文楷体"/>
              </a:rPr>
              <a:t>Interpretation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华文楷体"/>
              </a:rPr>
              <a:t>The larger the probability of examination, the stronger the penalty for a non-clic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914400" y="2590920"/>
          <a:ext cx="7391520" cy="1158840"/>
        </p:xfrm>
        <a:graphic>
          <a:graphicData uri="http://schemas.openxmlformats.org/drawingml/2006/table">
            <a:tbl>
              <a:tblPr/>
              <a:tblGrid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1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1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=2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652" name="Footer Placeholder 8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53" name="Picture 4" descr=""/>
          <p:cNvPicPr/>
          <p:nvPr/>
        </p:nvPicPr>
        <p:blipFill>
          <a:blip r:embed="rId2"/>
          <a:stretch/>
        </p:blipFill>
        <p:spPr>
          <a:xfrm>
            <a:off x="2057400" y="3962520"/>
            <a:ext cx="4495680" cy="63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eep 2 counts for each parameter (one for click, and the other one for non-click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77DD-D319-4B2B-BE21-FA68D3D9039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F236-06A5-469D-B4AE-816BFA83996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838080" y="4267080"/>
          <a:ext cx="7467840" cy="1925640"/>
        </p:xfrm>
        <a:graphic>
          <a:graphicData uri="http://schemas.openxmlformats.org/drawingml/2006/table">
            <a:tbl>
              <a:tblPr/>
              <a:tblGrid>
                <a:gridCol w="1244880"/>
                <a:gridCol w="1193760"/>
                <a:gridCol w="1295280"/>
                <a:gridCol w="1295280"/>
                <a:gridCol w="1193760"/>
                <a:gridCol w="12448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n-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ar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n-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 each position in a query session, locate the right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o increme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4ADB-EA2E-4C0A-B68A-38088ACD7EB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9C70-C65B-4A34-A5BE-60D8E946E18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838080" y="4267080"/>
          <a:ext cx="7467840" cy="1925640"/>
        </p:xfrm>
        <a:graphic>
          <a:graphicData uri="http://schemas.openxmlformats.org/drawingml/2006/table">
            <a:tbl>
              <a:tblPr/>
              <a:tblGrid>
                <a:gridCol w="1244880"/>
                <a:gridCol w="1193760"/>
                <a:gridCol w="1295280"/>
                <a:gridCol w="1295280"/>
                <a:gridCol w="1193760"/>
                <a:gridCol w="12448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n-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ar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n-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666" name="Picture 3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3886200" cy="1214280"/>
          </a:xfrm>
          <a:prstGeom prst="rect">
            <a:avLst/>
          </a:prstGeom>
          <a:ln w="0">
            <a:noFill/>
          </a:ln>
        </p:spPr>
      </p:pic>
      <p:cxnSp>
        <p:nvCxnSpPr>
          <p:cNvPr id="667" name="Straight Arrow Connector 9"/>
          <p:cNvCxnSpPr/>
          <p:nvPr/>
        </p:nvCxnSpPr>
        <p:spPr>
          <a:xfrm flipH="1">
            <a:off x="3199680" y="4113720"/>
            <a:ext cx="1677240" cy="76284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668" name="Straight Arrow Connector 10"/>
          <p:cNvCxnSpPr/>
          <p:nvPr/>
        </p:nvCxnSpPr>
        <p:spPr>
          <a:xfrm>
            <a:off x="5486040" y="4114440"/>
            <a:ext cx="1677240" cy="76284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669" name="Straight Arrow Connector 15"/>
          <p:cNvCxnSpPr/>
          <p:nvPr/>
        </p:nvCxnSpPr>
        <p:spPr>
          <a:xfrm>
            <a:off x="6018840" y="4114440"/>
            <a:ext cx="1143720" cy="122004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tailEnd len="lg" type="stealth" w="lg"/>
          </a:ln>
        </p:spPr>
      </p:cxnSp>
    </p:spTree>
  </p:cSld>
  <p:transition>
    <p:fad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 each position in a query session, locate the right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o increme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32EF-AB15-400D-AB2D-08BEB321CE4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5DBC-8692-4929-9BE2-B9A7D5DD764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838080" y="4267080"/>
          <a:ext cx="7467840" cy="1925640"/>
        </p:xfrm>
        <a:graphic>
          <a:graphicData uri="http://schemas.openxmlformats.org/drawingml/2006/table">
            <a:tbl>
              <a:tblPr/>
              <a:tblGrid>
                <a:gridCol w="1244880"/>
                <a:gridCol w="1193760"/>
                <a:gridCol w="1295280"/>
                <a:gridCol w="1295280"/>
                <a:gridCol w="1193760"/>
                <a:gridCol w="12448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n-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ar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n-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676" name="Picture 3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3886200" cy="121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 each position in a query session, locate the right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o increme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4137-F293-48EB-9A71-9F3472C9580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8939-555C-442B-829A-821132BFBD0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838080" y="4267080"/>
          <a:ext cx="7467840" cy="1925640"/>
        </p:xfrm>
        <a:graphic>
          <a:graphicData uri="http://schemas.openxmlformats.org/drawingml/2006/table">
            <a:tbl>
              <a:tblPr/>
              <a:tblGrid>
                <a:gridCol w="1244880"/>
                <a:gridCol w="1193760"/>
                <a:gridCol w="1295280"/>
                <a:gridCol w="1295280"/>
                <a:gridCol w="1193760"/>
                <a:gridCol w="12448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n-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ar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n-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683" name="Picture 3" descr=""/>
          <p:cNvPicPr/>
          <p:nvPr/>
        </p:nvPicPr>
        <p:blipFill>
          <a:blip r:embed="rId2"/>
          <a:stretch/>
        </p:blipFill>
        <p:spPr>
          <a:xfrm>
            <a:off x="2590920" y="2986200"/>
            <a:ext cx="3886200" cy="11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ximum-Likelihood Estimat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3A52-A0BE-4665-B538-C70A0F36E66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748B-B3B3-4288-8952-4BD87101C92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838080" y="4267080"/>
          <a:ext cx="7467840" cy="1925640"/>
        </p:xfrm>
        <a:graphic>
          <a:graphicData uri="http://schemas.openxmlformats.org/drawingml/2006/table">
            <a:tbl>
              <a:tblPr/>
              <a:tblGrid>
                <a:gridCol w="1244880"/>
                <a:gridCol w="1193760"/>
                <a:gridCol w="1295280"/>
                <a:gridCol w="1295280"/>
                <a:gridCol w="1193760"/>
                <a:gridCol w="12448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n-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ar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n-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β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690" name="Picture 3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4038480" cy="106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itializing and updating the count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ime:                      Space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92" name="Picture 6" descr=""/>
          <p:cNvPicPr/>
          <p:nvPr/>
        </p:nvPicPr>
        <p:blipFill>
          <a:blip r:embed="rId1"/>
          <a:stretch/>
        </p:blipFill>
        <p:spPr>
          <a:xfrm>
            <a:off x="2286000" y="4114800"/>
            <a:ext cx="685800" cy="3967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7" descr=""/>
          <p:cNvPicPr/>
          <p:nvPr/>
        </p:nvPicPr>
        <p:blipFill>
          <a:blip r:embed="rId2"/>
          <a:stretch/>
        </p:blipFill>
        <p:spPr>
          <a:xfrm>
            <a:off x="4800600" y="4114800"/>
            <a:ext cx="762120" cy="398520"/>
          </a:xfrm>
          <a:prstGeom prst="rect">
            <a:avLst/>
          </a:prstGeom>
          <a:ln w="0">
            <a:noFill/>
          </a:ln>
        </p:spPr>
      </p:pic>
      <p:pic>
        <p:nvPicPr>
          <p:cNvPr id="694" name="Title 1" descr=""/>
          <p:cNvPicPr/>
          <p:nvPr/>
        </p:nvPicPr>
        <p:blipFill>
          <a:blip r:embed="rId3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9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50EE-B8A8-41C4-A9CC-556739B19D5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CA2A-38BA-4A93-A54E-E273E7C57EE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97" name="Group 34"/>
          <p:cNvGrpSpPr/>
          <p:nvPr/>
        </p:nvGrpSpPr>
        <p:grpSpPr>
          <a:xfrm>
            <a:off x="1219320" y="4038480"/>
            <a:ext cx="2590560" cy="2410560"/>
            <a:chOff x="1219320" y="4038480"/>
            <a:chExt cx="2590560" cy="2410560"/>
          </a:xfrm>
        </p:grpSpPr>
        <p:sp>
          <p:nvSpPr>
            <p:cNvPr id="698" name="Oval 11"/>
            <p:cNvSpPr/>
            <p:nvPr/>
          </p:nvSpPr>
          <p:spPr>
            <a:xfrm>
              <a:off x="2536920" y="4038480"/>
              <a:ext cx="434880" cy="501480"/>
            </a:xfrm>
            <a:prstGeom prst="ellipse">
              <a:avLst/>
            </a:prstGeom>
            <a:noFill/>
            <a:ln w="478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99" name="Straight Connector 12"/>
            <p:cNvSpPr/>
            <p:nvPr/>
          </p:nvSpPr>
          <p:spPr>
            <a:xfrm flipH="1">
              <a:off x="2514240" y="4539960"/>
              <a:ext cx="239400" cy="717480"/>
            </a:xfrm>
            <a:prstGeom prst="line">
              <a:avLst/>
            </a:prstGeom>
            <a:ln cap="rnd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00" name="TextBox 10"/>
            <p:cNvSpPr/>
            <p:nvPr/>
          </p:nvSpPr>
          <p:spPr>
            <a:xfrm>
              <a:off x="1219320" y="5257800"/>
              <a:ext cx="2590560" cy="1191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Book Antiqua"/>
                </a:rPr>
                <a:t>Linear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to the size of the click log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701" name="Group 23"/>
          <p:cNvGrpSpPr/>
          <p:nvPr/>
        </p:nvGrpSpPr>
        <p:grpSpPr>
          <a:xfrm>
            <a:off x="4495680" y="4038480"/>
            <a:ext cx="2590920" cy="2410200"/>
            <a:chOff x="4495680" y="4038480"/>
            <a:chExt cx="2590920" cy="2410200"/>
          </a:xfrm>
        </p:grpSpPr>
        <p:sp>
          <p:nvSpPr>
            <p:cNvPr id="702" name="TextBox 10"/>
            <p:cNvSpPr/>
            <p:nvPr/>
          </p:nvSpPr>
          <p:spPr>
            <a:xfrm>
              <a:off x="4495680" y="5257440"/>
              <a:ext cx="2590920" cy="1191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Book Antiqua"/>
                </a:rPr>
                <a:t>Almost constant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torage required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03" name="Oval 20"/>
            <p:cNvSpPr/>
            <p:nvPr/>
          </p:nvSpPr>
          <p:spPr>
            <a:xfrm>
              <a:off x="5105160" y="4038480"/>
              <a:ext cx="457200" cy="499680"/>
            </a:xfrm>
            <a:prstGeom prst="ellipse">
              <a:avLst/>
            </a:prstGeom>
            <a:noFill/>
            <a:ln w="478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04" name="Straight Connector 21"/>
            <p:cNvSpPr/>
            <p:nvPr/>
          </p:nvSpPr>
          <p:spPr>
            <a:xfrm>
              <a:off x="5333760" y="4538160"/>
              <a:ext cx="457200" cy="718920"/>
            </a:xfrm>
            <a:prstGeom prst="line">
              <a:avLst/>
            </a:prstGeom>
            <a:ln cap="rnd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05" name="Footer Placeholder 18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06" name="Picture 8" descr=""/>
          <p:cNvPicPr/>
          <p:nvPr/>
        </p:nvPicPr>
        <p:blipFill>
          <a:blip r:embed="rId4"/>
          <a:stretch/>
        </p:blipFill>
        <p:spPr>
          <a:xfrm>
            <a:off x="1676520" y="1752480"/>
            <a:ext cx="7010280" cy="181152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17"/>
          <p:cNvSpPr/>
          <p:nvPr/>
        </p:nvSpPr>
        <p:spPr>
          <a:xfrm>
            <a:off x="7924680" y="0"/>
            <a:ext cx="1219320" cy="38088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itializing and updating the count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ime:                      Space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uting relevance scores using numerical integration wi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bins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ime:                      Spac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46B5-3250-485F-9BD8-DDF566AB606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1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32D3-1ADC-4093-92EC-7FB5FAC8622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2" name="Footer Placeholder 18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13" name="Picture 8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7010280" cy="18115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" descr=""/>
          <p:cNvPicPr/>
          <p:nvPr/>
        </p:nvPicPr>
        <p:blipFill>
          <a:blip r:embed="rId3"/>
          <a:stretch/>
        </p:blipFill>
        <p:spPr>
          <a:xfrm>
            <a:off x="2209680" y="5562720"/>
            <a:ext cx="914400" cy="3715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8" descr=""/>
          <p:cNvPicPr/>
          <p:nvPr/>
        </p:nvPicPr>
        <p:blipFill>
          <a:blip r:embed="rId4"/>
          <a:stretch/>
        </p:blipFill>
        <p:spPr>
          <a:xfrm>
            <a:off x="4876920" y="5562720"/>
            <a:ext cx="711000" cy="3808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" descr=""/>
          <p:cNvPicPr/>
          <p:nvPr/>
        </p:nvPicPr>
        <p:blipFill>
          <a:blip r:embed="rId5"/>
          <a:stretch/>
        </p:blipFill>
        <p:spPr>
          <a:xfrm>
            <a:off x="2286000" y="4114800"/>
            <a:ext cx="685800" cy="39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7" descr=""/>
          <p:cNvPicPr/>
          <p:nvPr/>
        </p:nvPicPr>
        <p:blipFill>
          <a:blip r:embed="rId6"/>
          <a:stretch/>
        </p:blipFill>
        <p:spPr>
          <a:xfrm>
            <a:off x="4800600" y="4114800"/>
            <a:ext cx="762120" cy="39852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11"/>
          <p:cNvSpPr/>
          <p:nvPr/>
        </p:nvSpPr>
        <p:spPr>
          <a:xfrm>
            <a:off x="7924680" y="0"/>
            <a:ext cx="1219320" cy="38088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ep 1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itialize counting statistics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ep 2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can through the click log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onc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nd update the counts for both inference and estim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ep 3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e parameter values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ep 4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numerical integration to obtain relevance scor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ep 2 also applies for (linear) incremental computation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56BB-D1C4-411E-8828-76EE7173F81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7E41-DCD6-48C5-80D8-3A957B90747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3" name="Footer Placeholder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510760" cy="1158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1" descr="coin_toss.jpg"/>
          <p:cNvPicPr/>
          <p:nvPr/>
        </p:nvPicPr>
        <p:blipFill>
          <a:blip r:embed="rId2"/>
          <a:stretch/>
        </p:blipFill>
        <p:spPr>
          <a:xfrm>
            <a:off x="457200" y="1828800"/>
            <a:ext cx="852480" cy="12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3" descr="head.gif"/>
          <p:cNvPicPr/>
          <p:nvPr/>
        </p:nvPicPr>
        <p:blipFill>
          <a:blip r:embed="rId3"/>
          <a:stretch/>
        </p:blipFill>
        <p:spPr>
          <a:xfrm>
            <a:off x="1981080" y="2057400"/>
            <a:ext cx="816120" cy="826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4" descr="head.gif"/>
          <p:cNvPicPr/>
          <p:nvPr/>
        </p:nvPicPr>
        <p:blipFill>
          <a:blip r:embed="rId4"/>
          <a:stretch/>
        </p:blipFill>
        <p:spPr>
          <a:xfrm>
            <a:off x="3505320" y="2057400"/>
            <a:ext cx="815760" cy="826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5" descr="head.gif"/>
          <p:cNvPicPr/>
          <p:nvPr/>
        </p:nvPicPr>
        <p:blipFill>
          <a:blip r:embed="rId5"/>
          <a:stretch/>
        </p:blipFill>
        <p:spPr>
          <a:xfrm>
            <a:off x="4876920" y="2057400"/>
            <a:ext cx="815760" cy="826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6" descr="head.gif"/>
          <p:cNvPicPr/>
          <p:nvPr/>
        </p:nvPicPr>
        <p:blipFill>
          <a:blip r:embed="rId6"/>
          <a:stretch/>
        </p:blipFill>
        <p:spPr>
          <a:xfrm>
            <a:off x="7772400" y="2057400"/>
            <a:ext cx="816120" cy="826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7" descr="tail.gif"/>
          <p:cNvPicPr/>
          <p:nvPr/>
        </p:nvPicPr>
        <p:blipFill>
          <a:blip r:embed="rId7"/>
          <a:stretch/>
        </p:blipFill>
        <p:spPr>
          <a:xfrm>
            <a:off x="6324480" y="2057400"/>
            <a:ext cx="803520" cy="7873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3"/>
          <p:cNvSpPr/>
          <p:nvPr/>
        </p:nvSpPr>
        <p:spPr>
          <a:xfrm>
            <a:off x="609480" y="449568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8"/>
          <a:stretch/>
        </p:blipFill>
        <p:spPr>
          <a:xfrm>
            <a:off x="304920" y="3352680"/>
            <a:ext cx="1257120" cy="1006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0" descr="1.bmp"/>
          <p:cNvPicPr/>
          <p:nvPr/>
        </p:nvPicPr>
        <p:blipFill>
          <a:blip r:embed="rId9"/>
          <a:stretch/>
        </p:blipFill>
        <p:spPr>
          <a:xfrm>
            <a:off x="1752480" y="3352680"/>
            <a:ext cx="1257480" cy="1006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5" descr="1.bmp"/>
          <p:cNvPicPr/>
          <p:nvPr/>
        </p:nvPicPr>
        <p:blipFill>
          <a:blip r:embed="rId10"/>
          <a:stretch/>
        </p:blipFill>
        <p:spPr>
          <a:xfrm>
            <a:off x="3200400" y="3352680"/>
            <a:ext cx="1257480" cy="1006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11"/>
          <a:stretch/>
        </p:blipFill>
        <p:spPr>
          <a:xfrm>
            <a:off x="4648320" y="3352680"/>
            <a:ext cx="1257120" cy="1006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8" descr="1.bmp"/>
          <p:cNvPicPr/>
          <p:nvPr/>
        </p:nvPicPr>
        <p:blipFill>
          <a:blip r:embed="rId12"/>
          <a:stretch/>
        </p:blipFill>
        <p:spPr>
          <a:xfrm>
            <a:off x="6095880" y="3352680"/>
            <a:ext cx="1257480" cy="10065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9" descr="1.bmp"/>
          <p:cNvPicPr/>
          <p:nvPr/>
        </p:nvPicPr>
        <p:blipFill>
          <a:blip r:embed="rId13"/>
          <a:stretch/>
        </p:blipFill>
        <p:spPr>
          <a:xfrm>
            <a:off x="7543800" y="3352680"/>
            <a:ext cx="1257480" cy="10065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60"/>
          <p:cNvSpPr/>
          <p:nvPr/>
        </p:nvSpPr>
        <p:spPr>
          <a:xfrm>
            <a:off x="7696080" y="4419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Date Placeholder 7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06AD-5221-4101-BF62-5CBC7553BFB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Slide Number Placeholder 7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9359-6C4F-40BB-B39F-A0E188D80BA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Footer Placeholder 7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75" name="Group 21"/>
          <p:cNvGrpSpPr/>
          <p:nvPr/>
        </p:nvGrpSpPr>
        <p:grpSpPr>
          <a:xfrm>
            <a:off x="182520" y="5075280"/>
            <a:ext cx="8656560" cy="871560"/>
            <a:chOff x="182520" y="5075280"/>
            <a:chExt cx="8656560" cy="871560"/>
          </a:xfrm>
        </p:grpSpPr>
        <p:sp>
          <p:nvSpPr>
            <p:cNvPr id="376" name="TextBox 77"/>
            <p:cNvSpPr/>
            <p:nvPr/>
          </p:nvSpPr>
          <p:spPr>
            <a:xfrm>
              <a:off x="182520" y="5075280"/>
              <a:ext cx="2209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Density Function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(not normalized)</a:t>
              </a:r>
              <a:br>
                <a:rPr sz="1700"/>
              </a:br>
              <a:endParaRPr b="0" lang="en-US" sz="17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77" name="TextBox 78"/>
            <p:cNvSpPr/>
            <p:nvPr/>
          </p:nvSpPr>
          <p:spPr>
            <a:xfrm>
              <a:off x="1904400" y="5102640"/>
              <a:ext cx="693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rbel"/>
                </a:rPr>
                <a:t>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rbel"/>
                </a:rPr>
                <a:t>x                         x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rbe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rbel"/>
                </a:rPr>
                <a:t>                        x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rbel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rbel"/>
                </a:rPr>
                <a:t>                      x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rbel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rbel"/>
                </a:rPr>
                <a:t>(1-x)               x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rbel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rbel"/>
                </a:rPr>
                <a:t>(1-x)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Designing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Bayesian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yesian framework and the rational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yesian Browsing Model: a case stud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Chain Model in a nutsh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Selected topics o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552B-F304-4E7B-9A13-D30EF74BEF0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FD6C-F49A-4242-B5A8-3E98C0873AB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29" name="Picture 2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331920" cy="3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user behavior mode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5F32-40F8-433F-88A8-42F061A6852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9BD1-A765-43ED-9FFE-B0D8C83FA19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5802480" cy="365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aphical mode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4C35-E654-4AAA-B17B-6490760C71D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59F1-1256-4B23-9D2C-53B2103AC90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41" name="Group 52"/>
          <p:cNvGrpSpPr/>
          <p:nvPr/>
        </p:nvGrpSpPr>
        <p:grpSpPr>
          <a:xfrm>
            <a:off x="304920" y="2514600"/>
            <a:ext cx="2851200" cy="3354480"/>
            <a:chOff x="304920" y="2514600"/>
            <a:chExt cx="2851200" cy="3354480"/>
          </a:xfrm>
        </p:grpSpPr>
        <p:sp>
          <p:nvSpPr>
            <p:cNvPr id="742" name="TextBox 7"/>
            <p:cNvSpPr/>
            <p:nvPr/>
          </p:nvSpPr>
          <p:spPr>
            <a:xfrm>
              <a:off x="304920" y="25146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rbel"/>
                </a:rPr>
                <a:t>Relevance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43" name="TextBox 8"/>
            <p:cNvSpPr/>
            <p:nvPr/>
          </p:nvSpPr>
          <p:spPr>
            <a:xfrm>
              <a:off x="304920" y="350532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rbel"/>
                </a:rPr>
                <a:t>Examination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44" name="TextBox 9"/>
            <p:cNvSpPr/>
            <p:nvPr/>
          </p:nvSpPr>
          <p:spPr>
            <a:xfrm>
              <a:off x="304920" y="510588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rbel"/>
                </a:rPr>
                <a:t>Click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pic>
          <p:nvPicPr>
            <p:cNvPr id="745" name="Picture 4" descr=""/>
            <p:cNvPicPr/>
            <p:nvPr/>
          </p:nvPicPr>
          <p:blipFill>
            <a:blip r:embed="rId2"/>
            <a:stretch/>
          </p:blipFill>
          <p:spPr>
            <a:xfrm>
              <a:off x="609480" y="2971800"/>
              <a:ext cx="190476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6" descr=""/>
            <p:cNvPicPr/>
            <p:nvPr/>
          </p:nvPicPr>
          <p:blipFill>
            <a:blip r:embed="rId3"/>
            <a:stretch/>
          </p:blipFill>
          <p:spPr>
            <a:xfrm>
              <a:off x="533160" y="3962520"/>
              <a:ext cx="26229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7" descr=""/>
            <p:cNvPicPr/>
            <p:nvPr/>
          </p:nvPicPr>
          <p:blipFill>
            <a:blip r:embed="rId4"/>
            <a:stretch/>
          </p:blipFill>
          <p:spPr>
            <a:xfrm>
              <a:off x="533160" y="5563080"/>
              <a:ext cx="2438280" cy="30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8" name="Group 51"/>
          <p:cNvGrpSpPr/>
          <p:nvPr/>
        </p:nvGrpSpPr>
        <p:grpSpPr>
          <a:xfrm>
            <a:off x="3428280" y="2743200"/>
            <a:ext cx="5269680" cy="3139920"/>
            <a:chOff x="3428280" y="2743200"/>
            <a:chExt cx="5269680" cy="3139920"/>
          </a:xfrm>
        </p:grpSpPr>
        <p:sp>
          <p:nvSpPr>
            <p:cNvPr id="749" name="TextBox 14"/>
            <p:cNvSpPr/>
            <p:nvPr/>
          </p:nvSpPr>
          <p:spPr>
            <a:xfrm>
              <a:off x="6504120" y="5499000"/>
              <a:ext cx="38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750" name="Straight Arrow Connector 16"/>
            <p:cNvCxnSpPr/>
            <p:nvPr/>
          </p:nvCxnSpPr>
          <p:spPr>
            <a:xfrm>
              <a:off x="4217400" y="4328280"/>
              <a:ext cx="732600" cy="216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751" name="Straight Arrow Connector 18"/>
            <p:cNvCxnSpPr/>
            <p:nvPr/>
          </p:nvCxnSpPr>
          <p:spPr>
            <a:xfrm flipV="1">
              <a:off x="4136760" y="4520880"/>
              <a:ext cx="892800" cy="8942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752" name="Straight Arrow Connector 19"/>
            <p:cNvCxnSpPr/>
            <p:nvPr/>
          </p:nvCxnSpPr>
          <p:spPr>
            <a:xfrm flipV="1">
              <a:off x="5416560" y="4520880"/>
              <a:ext cx="894240" cy="8942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753" name="Straight Arrow Connector 21"/>
            <p:cNvCxnSpPr/>
            <p:nvPr/>
          </p:nvCxnSpPr>
          <p:spPr>
            <a:xfrm>
              <a:off x="5497200" y="4328280"/>
              <a:ext cx="732600" cy="216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grpSp>
          <p:nvGrpSpPr>
            <p:cNvPr id="754" name="Group 39"/>
            <p:cNvGrpSpPr/>
            <p:nvPr/>
          </p:nvGrpSpPr>
          <p:grpSpPr>
            <a:xfrm>
              <a:off x="3428280" y="3016440"/>
              <a:ext cx="4996800" cy="2591280"/>
              <a:chOff x="3428280" y="3016440"/>
              <a:chExt cx="4996800" cy="2591280"/>
            </a:xfrm>
          </p:grpSpPr>
          <p:cxnSp>
            <p:nvCxnSpPr>
              <p:cNvPr id="755" name="Straight Arrow Connector 24"/>
              <p:cNvCxnSpPr>
                <a:stCxn id="756" idx="4"/>
                <a:endCxn id="757" idx="0"/>
              </p:cNvCxnSpPr>
              <p:nvPr/>
            </p:nvCxnSpPr>
            <p:spPr>
              <a:xfrm flipH="1">
                <a:off x="3942000" y="4602240"/>
                <a:ext cx="2160" cy="732600"/>
              </a:xfrm>
              <a:prstGeom prst="straightConnector1">
                <a:avLst/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  <p:cxnSp>
            <p:nvCxnSpPr>
              <p:cNvPr id="758" name="Straight Arrow Connector 25"/>
              <p:cNvCxnSpPr>
                <a:stCxn id="759" idx="4"/>
                <a:endCxn id="760" idx="0"/>
              </p:cNvCxnSpPr>
              <p:nvPr/>
            </p:nvCxnSpPr>
            <p:spPr>
              <a:xfrm flipH="1">
                <a:off x="5222520" y="4602240"/>
                <a:ext cx="2160" cy="732600"/>
              </a:xfrm>
              <a:prstGeom prst="straightConnector1">
                <a:avLst/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  <p:cxnSp>
            <p:nvCxnSpPr>
              <p:cNvPr id="761" name="Straight Arrow Connector 26"/>
              <p:cNvCxnSpPr>
                <a:stCxn id="762" idx="4"/>
                <a:endCxn id="763" idx="0"/>
              </p:cNvCxnSpPr>
              <p:nvPr/>
            </p:nvCxnSpPr>
            <p:spPr>
              <a:xfrm flipH="1">
                <a:off x="6503040" y="4602240"/>
                <a:ext cx="2160" cy="732600"/>
              </a:xfrm>
              <a:prstGeom prst="straightConnector1">
                <a:avLst/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  <p:cxnSp>
            <p:nvCxnSpPr>
              <p:cNvPr id="764" name="Straight Arrow Connector 27"/>
              <p:cNvCxnSpPr>
                <a:stCxn id="765" idx="4"/>
                <a:endCxn id="766" idx="0"/>
              </p:cNvCxnSpPr>
              <p:nvPr/>
            </p:nvCxnSpPr>
            <p:spPr>
              <a:xfrm flipH="1">
                <a:off x="8423280" y="4602240"/>
                <a:ext cx="2160" cy="732600"/>
              </a:xfrm>
              <a:prstGeom prst="straightConnector1">
                <a:avLst/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  <p:cxnSp>
            <p:nvCxnSpPr>
              <p:cNvPr id="767" name="Elbow Connector 28"/>
              <p:cNvCxnSpPr>
                <a:stCxn id="768" idx="2"/>
                <a:endCxn id="757" idx="2"/>
              </p:cNvCxnSpPr>
              <p:nvPr/>
            </p:nvCxnSpPr>
            <p:spPr>
              <a:xfrm flipH="1" flipV="1" rot="10800000">
                <a:off x="3657240" y="3016440"/>
                <a:ext cx="11520" cy="2591640"/>
              </a:xfrm>
              <a:prstGeom prst="bentConnector3">
                <a:avLst>
                  <a:gd name="adj1" fmla="val -2054838"/>
                </a:avLst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  <p:cxnSp>
            <p:nvCxnSpPr>
              <p:cNvPr id="769" name="Elbow Connector 29"/>
              <p:cNvCxnSpPr>
                <a:stCxn id="770" idx="2"/>
                <a:endCxn id="760" idx="2"/>
              </p:cNvCxnSpPr>
              <p:nvPr/>
            </p:nvCxnSpPr>
            <p:spPr>
              <a:xfrm flipH="1" flipV="1" rot="10800000">
                <a:off x="4933440" y="3016440"/>
                <a:ext cx="16560" cy="2591640"/>
              </a:xfrm>
              <a:prstGeom prst="bentConnector3">
                <a:avLst>
                  <a:gd name="adj1" fmla="val -1440000"/>
                </a:avLst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  <p:cxnSp>
            <p:nvCxnSpPr>
              <p:cNvPr id="771" name="Elbow Connector 30"/>
              <p:cNvCxnSpPr>
                <a:stCxn id="772" idx="2"/>
                <a:endCxn id="763" idx="2"/>
              </p:cNvCxnSpPr>
              <p:nvPr/>
            </p:nvCxnSpPr>
            <p:spPr>
              <a:xfrm flipH="1" flipV="1" rot="10800000">
                <a:off x="6213240" y="3016440"/>
                <a:ext cx="16560" cy="2591640"/>
              </a:xfrm>
              <a:prstGeom prst="bentConnector3">
                <a:avLst>
                  <a:gd name="adj1" fmla="val -1440000"/>
                </a:avLst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  <p:cxnSp>
            <p:nvCxnSpPr>
              <p:cNvPr id="773" name="Elbow Connector 31"/>
              <p:cNvCxnSpPr>
                <a:stCxn id="774" idx="2"/>
                <a:endCxn id="766" idx="2"/>
              </p:cNvCxnSpPr>
              <p:nvPr/>
            </p:nvCxnSpPr>
            <p:spPr>
              <a:xfrm flipH="1" flipV="1" rot="10800000">
                <a:off x="8134200" y="3016440"/>
                <a:ext cx="16560" cy="2591640"/>
              </a:xfrm>
              <a:prstGeom prst="bentConnector3">
                <a:avLst>
                  <a:gd name="adj1" fmla="val -1440000"/>
                </a:avLst>
              </a:prstGeom>
              <a:ln cap="rnd" w="12600">
                <a:solidFill>
                  <a:srgbClr val="f0ac00"/>
                </a:solidFill>
                <a:miter/>
                <a:tailEnd len="lg" type="stealth" w="med"/>
              </a:ln>
            </p:spPr>
          </p:cxnSp>
        </p:grpSp>
        <p:grpSp>
          <p:nvGrpSpPr>
            <p:cNvPr id="775" name="Group 36"/>
            <p:cNvGrpSpPr/>
            <p:nvPr/>
          </p:nvGrpSpPr>
          <p:grpSpPr>
            <a:xfrm>
              <a:off x="3657600" y="2743200"/>
              <a:ext cx="5026320" cy="549000"/>
              <a:chOff x="3657600" y="2743200"/>
              <a:chExt cx="5026320" cy="549000"/>
            </a:xfrm>
          </p:grpSpPr>
          <p:sp>
            <p:nvSpPr>
              <p:cNvPr id="768" name="Oval 33"/>
              <p:cNvSpPr/>
              <p:nvPr/>
            </p:nvSpPr>
            <p:spPr>
              <a:xfrm>
                <a:off x="3657600" y="2743200"/>
                <a:ext cx="547560" cy="549000"/>
              </a:xfrm>
              <a:prstGeom prst="ellipse">
                <a:avLst/>
              </a:prstGeom>
              <a:solidFill>
                <a:srgbClr val="ffffff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rbel"/>
                  </a:rPr>
                  <a:t>S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Corbe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70" name="Oval 34"/>
              <p:cNvSpPr/>
              <p:nvPr/>
            </p:nvSpPr>
            <p:spPr>
              <a:xfrm>
                <a:off x="4933800" y="2743200"/>
                <a:ext cx="549000" cy="549000"/>
              </a:xfrm>
              <a:prstGeom prst="ellipse">
                <a:avLst/>
              </a:prstGeom>
              <a:solidFill>
                <a:srgbClr val="ffffff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rbel"/>
                  </a:rPr>
                  <a:t>S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Corbe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72" name="Oval 35"/>
              <p:cNvSpPr/>
              <p:nvPr/>
            </p:nvSpPr>
            <p:spPr>
              <a:xfrm>
                <a:off x="6213600" y="2743200"/>
                <a:ext cx="549000" cy="549000"/>
              </a:xfrm>
              <a:prstGeom prst="ellipse">
                <a:avLst/>
              </a:prstGeom>
              <a:solidFill>
                <a:srgbClr val="ffffff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rbel"/>
                  </a:rPr>
                  <a:t>S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Corbe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74" name="Oval 36"/>
              <p:cNvSpPr/>
              <p:nvPr/>
            </p:nvSpPr>
            <p:spPr>
              <a:xfrm>
                <a:off x="8134920" y="2743200"/>
                <a:ext cx="549000" cy="549000"/>
              </a:xfrm>
              <a:prstGeom prst="ellipse">
                <a:avLst/>
              </a:prstGeom>
              <a:solidFill>
                <a:srgbClr val="ffffff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Corbel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Corbe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76" name="TextBox 33"/>
              <p:cNvSpPr/>
              <p:nvPr/>
            </p:nvSpPr>
            <p:spPr>
              <a:xfrm>
                <a:off x="7144200" y="274320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rbel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77" name="Group 37"/>
            <p:cNvGrpSpPr/>
            <p:nvPr/>
          </p:nvGrpSpPr>
          <p:grpSpPr>
            <a:xfrm>
              <a:off x="3668400" y="4038480"/>
              <a:ext cx="5029560" cy="563400"/>
              <a:chOff x="3668400" y="4038480"/>
              <a:chExt cx="5029560" cy="563400"/>
            </a:xfrm>
          </p:grpSpPr>
          <p:sp>
            <p:nvSpPr>
              <p:cNvPr id="756" name="Oval 5"/>
              <p:cNvSpPr/>
              <p:nvPr/>
            </p:nvSpPr>
            <p:spPr>
              <a:xfrm>
                <a:off x="3668400" y="4054320"/>
                <a:ext cx="549000" cy="547560"/>
              </a:xfrm>
              <a:prstGeom prst="ellipse">
                <a:avLst/>
              </a:prstGeom>
              <a:solidFill>
                <a:srgbClr val="ffffff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rbel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Corbe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59" name="Oval 40"/>
              <p:cNvSpPr/>
              <p:nvPr/>
            </p:nvSpPr>
            <p:spPr>
              <a:xfrm>
                <a:off x="4949640" y="4054320"/>
                <a:ext cx="547560" cy="547560"/>
              </a:xfrm>
              <a:prstGeom prst="ellipse">
                <a:avLst/>
              </a:prstGeom>
              <a:solidFill>
                <a:srgbClr val="ffffff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rbel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Corbe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62" name="Oval 41"/>
              <p:cNvSpPr/>
              <p:nvPr/>
            </p:nvSpPr>
            <p:spPr>
              <a:xfrm>
                <a:off x="6229080" y="4054320"/>
                <a:ext cx="549000" cy="547560"/>
              </a:xfrm>
              <a:prstGeom prst="ellipse">
                <a:avLst/>
              </a:prstGeom>
              <a:solidFill>
                <a:srgbClr val="ffffff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rbel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Corbe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65" name="Oval 42"/>
              <p:cNvSpPr/>
              <p:nvPr/>
            </p:nvSpPr>
            <p:spPr>
              <a:xfrm>
                <a:off x="8150400" y="4054320"/>
                <a:ext cx="547560" cy="547560"/>
              </a:xfrm>
              <a:prstGeom prst="ellipse">
                <a:avLst/>
              </a:prstGeom>
              <a:solidFill>
                <a:srgbClr val="ffffff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Corbel"/>
                  </a:rPr>
                  <a:t>E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Corbe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78" name="TextBox 34"/>
              <p:cNvSpPr/>
              <p:nvPr/>
            </p:nvSpPr>
            <p:spPr>
              <a:xfrm>
                <a:off x="7143840" y="403848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rbel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79" name="Group 38"/>
            <p:cNvGrpSpPr/>
            <p:nvPr/>
          </p:nvGrpSpPr>
          <p:grpSpPr>
            <a:xfrm>
              <a:off x="3668400" y="5334120"/>
              <a:ext cx="5029560" cy="549000"/>
              <a:chOff x="3668400" y="5334120"/>
              <a:chExt cx="5029560" cy="549000"/>
            </a:xfrm>
          </p:grpSpPr>
          <p:sp>
            <p:nvSpPr>
              <p:cNvPr id="757" name="Oval 45"/>
              <p:cNvSpPr/>
              <p:nvPr/>
            </p:nvSpPr>
            <p:spPr>
              <a:xfrm>
                <a:off x="3668400" y="5334120"/>
                <a:ext cx="549000" cy="549000"/>
              </a:xfrm>
              <a:prstGeom prst="ellipse">
                <a:avLst/>
              </a:prstGeom>
              <a:solidFill>
                <a:srgbClr val="bac0cc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rbel"/>
                  </a:rPr>
                  <a:t>C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Corbe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60" name="Oval 46"/>
              <p:cNvSpPr/>
              <p:nvPr/>
            </p:nvSpPr>
            <p:spPr>
              <a:xfrm>
                <a:off x="4949640" y="5334120"/>
                <a:ext cx="547560" cy="549000"/>
              </a:xfrm>
              <a:prstGeom prst="ellipse">
                <a:avLst/>
              </a:prstGeom>
              <a:solidFill>
                <a:srgbClr val="bac0cc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Corbe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Corbe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63" name="Oval 47"/>
              <p:cNvSpPr/>
              <p:nvPr/>
            </p:nvSpPr>
            <p:spPr>
              <a:xfrm>
                <a:off x="6229080" y="5334120"/>
                <a:ext cx="549000" cy="549000"/>
              </a:xfrm>
              <a:prstGeom prst="ellipse">
                <a:avLst/>
              </a:prstGeom>
              <a:solidFill>
                <a:srgbClr val="bac0cc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rbel"/>
                  </a:rPr>
                  <a:t>C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Corbe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66" name="Oval 48"/>
              <p:cNvSpPr/>
              <p:nvPr/>
            </p:nvSpPr>
            <p:spPr>
              <a:xfrm>
                <a:off x="8150400" y="5334120"/>
                <a:ext cx="547560" cy="549000"/>
              </a:xfrm>
              <a:prstGeom prst="ellipse">
                <a:avLst/>
              </a:prstGeom>
              <a:solidFill>
                <a:srgbClr val="bac0cc">
                  <a:alpha val="55000"/>
                </a:srgbClr>
              </a:solidFill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Corbel"/>
                  </a:rPr>
                  <a:t>C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Corbe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80" name="TextBox 35"/>
              <p:cNvSpPr/>
              <p:nvPr/>
            </p:nvSpPr>
            <p:spPr>
              <a:xfrm>
                <a:off x="7143840" y="533412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rbel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cxnSp>
          <p:nvCxnSpPr>
            <p:cNvPr id="781" name="Straight Arrow Connector 50"/>
            <p:cNvCxnSpPr>
              <a:stCxn id="768" idx="5"/>
              <a:endCxn id="759" idx="1"/>
            </p:cNvCxnSpPr>
            <p:nvPr/>
          </p:nvCxnSpPr>
          <p:spPr>
            <a:xfrm>
              <a:off x="4123800" y="3211560"/>
              <a:ext cx="905400" cy="92340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782" name="Straight Arrow Connector 53"/>
            <p:cNvCxnSpPr>
              <a:stCxn id="770" idx="5"/>
              <a:endCxn id="762" idx="1"/>
            </p:cNvCxnSpPr>
            <p:nvPr/>
          </p:nvCxnSpPr>
          <p:spPr>
            <a:xfrm>
              <a:off x="5401800" y="3211560"/>
              <a:ext cx="907560" cy="92340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783" name="Straight Arrow Connector 56"/>
            <p:cNvCxnSpPr>
              <a:endCxn id="765" idx="3"/>
            </p:cNvCxnSpPr>
            <p:nvPr/>
          </p:nvCxnSpPr>
          <p:spPr>
            <a:xfrm flipV="1">
              <a:off x="7776360" y="4521240"/>
              <a:ext cx="454680" cy="4316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784" name="Straight Arrow Connector 57"/>
            <p:cNvCxnSpPr>
              <a:endCxn id="765" idx="2"/>
            </p:cNvCxnSpPr>
            <p:nvPr/>
          </p:nvCxnSpPr>
          <p:spPr>
            <a:xfrm flipV="1">
              <a:off x="7772040" y="4327560"/>
              <a:ext cx="378360" cy="108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785" name="Straight Arrow Connector 58"/>
            <p:cNvCxnSpPr>
              <a:endCxn id="765" idx="1"/>
            </p:cNvCxnSpPr>
            <p:nvPr/>
          </p:nvCxnSpPr>
          <p:spPr>
            <a:xfrm>
              <a:off x="7772400" y="3657240"/>
              <a:ext cx="458640" cy="47772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</p:grpSp>
    </p:spTree>
  </p:cSld>
  <p:transition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sp>
        <p:nvSpPr>
          <p:cNvPr id="78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7363-EE4B-44FF-B35E-33BE84892CB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85F7-01FB-4C60-9B31-B0E56058BDC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91" name="Picture 3" descr=""/>
          <p:cNvPicPr/>
          <p:nvPr/>
        </p:nvPicPr>
        <p:blipFill>
          <a:blip r:embed="rId3"/>
          <a:stretch/>
        </p:blipFill>
        <p:spPr>
          <a:xfrm>
            <a:off x="1676520" y="1828800"/>
            <a:ext cx="5333760" cy="467028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7"/>
          <p:cNvSpPr/>
          <p:nvPr/>
        </p:nvSpPr>
        <p:spPr>
          <a:xfrm>
            <a:off x="7924680" y="0"/>
            <a:ext cx="1219320" cy="38088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umber of user behavior parame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umber of distinct factors for (query, URL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umber of counts needed for parame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5079-9981-41FB-AC42-296D92CBD5A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8A9F-2770-4F8A-B670-FAEC29C844E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66880" y="2362320"/>
          <a:ext cx="3581640" cy="974520"/>
        </p:xfrm>
        <a:graphic>
          <a:graphicData uri="http://schemas.openxmlformats.org/drawingml/2006/table">
            <a:tbl>
              <a:tblPr/>
              <a:tblGrid>
                <a:gridCol w="1791000"/>
                <a:gridCol w="179064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C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UB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2666880" y="3886200"/>
          <a:ext cx="3581640" cy="974880"/>
        </p:xfrm>
        <a:graphic>
          <a:graphicData uri="http://schemas.openxmlformats.org/drawingml/2006/table">
            <a:tbl>
              <a:tblPr/>
              <a:tblGrid>
                <a:gridCol w="1791000"/>
                <a:gridCol w="179064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C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UB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5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2666880" y="5410080"/>
          <a:ext cx="3581640" cy="974880"/>
        </p:xfrm>
        <a:graphic>
          <a:graphicData uri="http://schemas.openxmlformats.org/drawingml/2006/table">
            <a:tbl>
              <a:tblPr/>
              <a:tblGrid>
                <a:gridCol w="1791000"/>
                <a:gridCol w="179064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C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UB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5107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1" descr="coin_toss.jpg"/>
          <p:cNvPicPr/>
          <p:nvPr/>
        </p:nvPicPr>
        <p:blipFill>
          <a:blip r:embed="rId2"/>
          <a:stretch/>
        </p:blipFill>
        <p:spPr>
          <a:xfrm>
            <a:off x="457200" y="1828800"/>
            <a:ext cx="852480" cy="1295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3" descr="head.gif"/>
          <p:cNvPicPr/>
          <p:nvPr/>
        </p:nvPicPr>
        <p:blipFill>
          <a:blip r:embed="rId3"/>
          <a:stretch/>
        </p:blipFill>
        <p:spPr>
          <a:xfrm>
            <a:off x="1981080" y="2057400"/>
            <a:ext cx="816120" cy="826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4" descr="head.gif"/>
          <p:cNvPicPr/>
          <p:nvPr/>
        </p:nvPicPr>
        <p:blipFill>
          <a:blip r:embed="rId4"/>
          <a:stretch/>
        </p:blipFill>
        <p:spPr>
          <a:xfrm>
            <a:off x="3505320" y="2057400"/>
            <a:ext cx="815760" cy="826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5" descr="head.gif"/>
          <p:cNvPicPr/>
          <p:nvPr/>
        </p:nvPicPr>
        <p:blipFill>
          <a:blip r:embed="rId5"/>
          <a:stretch/>
        </p:blipFill>
        <p:spPr>
          <a:xfrm>
            <a:off x="4876920" y="2057400"/>
            <a:ext cx="815760" cy="826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6" descr="head.gif"/>
          <p:cNvPicPr/>
          <p:nvPr/>
        </p:nvPicPr>
        <p:blipFill>
          <a:blip r:embed="rId6"/>
          <a:stretch/>
        </p:blipFill>
        <p:spPr>
          <a:xfrm>
            <a:off x="7772400" y="2057400"/>
            <a:ext cx="816120" cy="826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7" descr="tail.gif"/>
          <p:cNvPicPr/>
          <p:nvPr/>
        </p:nvPicPr>
        <p:blipFill>
          <a:blip r:embed="rId7"/>
          <a:stretch/>
        </p:blipFill>
        <p:spPr>
          <a:xfrm>
            <a:off x="6324480" y="2057400"/>
            <a:ext cx="803520" cy="7873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53"/>
          <p:cNvSpPr/>
          <p:nvPr/>
        </p:nvSpPr>
        <p:spPr>
          <a:xfrm>
            <a:off x="609480" y="449568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8"/>
          <a:stretch/>
        </p:blipFill>
        <p:spPr>
          <a:xfrm>
            <a:off x="304920" y="3352680"/>
            <a:ext cx="125712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0" descr="1.bmp"/>
          <p:cNvPicPr/>
          <p:nvPr/>
        </p:nvPicPr>
        <p:blipFill>
          <a:blip r:embed="rId9"/>
          <a:stretch/>
        </p:blipFill>
        <p:spPr>
          <a:xfrm>
            <a:off x="1752480" y="3352680"/>
            <a:ext cx="1257480" cy="1006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5" descr="1.bmp"/>
          <p:cNvPicPr/>
          <p:nvPr/>
        </p:nvPicPr>
        <p:blipFill>
          <a:blip r:embed="rId10"/>
          <a:stretch/>
        </p:blipFill>
        <p:spPr>
          <a:xfrm>
            <a:off x="3200400" y="3352680"/>
            <a:ext cx="1257480" cy="1006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11"/>
          <a:stretch/>
        </p:blipFill>
        <p:spPr>
          <a:xfrm>
            <a:off x="4648320" y="3352680"/>
            <a:ext cx="1257120" cy="1006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8" descr="1.bmp"/>
          <p:cNvPicPr/>
          <p:nvPr/>
        </p:nvPicPr>
        <p:blipFill>
          <a:blip r:embed="rId12"/>
          <a:stretch/>
        </p:blipFill>
        <p:spPr>
          <a:xfrm>
            <a:off x="6095880" y="3352680"/>
            <a:ext cx="1257480" cy="1006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9" descr="1.bmp"/>
          <p:cNvPicPr/>
          <p:nvPr/>
        </p:nvPicPr>
        <p:blipFill>
          <a:blip r:embed="rId13"/>
          <a:stretch/>
        </p:blipFill>
        <p:spPr>
          <a:xfrm>
            <a:off x="7543800" y="3352680"/>
            <a:ext cx="1257480" cy="10065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0"/>
          <p:cNvSpPr/>
          <p:nvPr/>
        </p:nvSpPr>
        <p:spPr>
          <a:xfrm>
            <a:off x="7696080" y="4419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Date Placeholder 7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0570-0CC3-413A-8B43-CCE2537FAFB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Slide Number Placeholder 7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783D-4D03-40F5-AA0E-064333AAF91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Footer Placeholder 7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TextBox 77"/>
          <p:cNvSpPr/>
          <p:nvPr/>
        </p:nvSpPr>
        <p:spPr>
          <a:xfrm>
            <a:off x="182520" y="5075280"/>
            <a:ext cx="2209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Density Functio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(not normalized)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TextBox 78"/>
          <p:cNvSpPr/>
          <p:nvPr/>
        </p:nvSpPr>
        <p:spPr>
          <a:xfrm>
            <a:off x="1905120" y="510552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x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x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0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x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x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1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x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raphical model for coin-to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CCE6-835E-4BDF-91E4-90D442F6D9F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48DF-0F70-4998-90A0-5FE92E6F643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4114800" y="2666880"/>
            <a:ext cx="547560" cy="549360"/>
          </a:xfrm>
          <a:prstGeom prst="ellipse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04" name="Group 21"/>
          <p:cNvGrpSpPr/>
          <p:nvPr/>
        </p:nvGrpSpPr>
        <p:grpSpPr>
          <a:xfrm>
            <a:off x="1828800" y="3215880"/>
            <a:ext cx="5119560" cy="1067040"/>
            <a:chOff x="1828800" y="3215880"/>
            <a:chExt cx="5119560" cy="1067040"/>
          </a:xfrm>
        </p:grpSpPr>
        <p:sp>
          <p:nvSpPr>
            <p:cNvPr id="405" name="Oval 7"/>
            <p:cNvSpPr/>
            <p:nvPr/>
          </p:nvSpPr>
          <p:spPr>
            <a:xfrm>
              <a:off x="1828800" y="3733560"/>
              <a:ext cx="547560" cy="549360"/>
            </a:xfrm>
            <a:prstGeom prst="ellipse">
              <a:avLst/>
            </a:prstGeom>
            <a:solidFill>
              <a:srgbClr val="a6a6a6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6" name="Oval 8"/>
            <p:cNvSpPr/>
            <p:nvPr/>
          </p:nvSpPr>
          <p:spPr>
            <a:xfrm>
              <a:off x="2971800" y="3733560"/>
              <a:ext cx="547560" cy="549360"/>
            </a:xfrm>
            <a:prstGeom prst="ellipse">
              <a:avLst/>
            </a:prstGeom>
            <a:solidFill>
              <a:srgbClr val="a6a6a6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7" name="Oval 9"/>
            <p:cNvSpPr/>
            <p:nvPr/>
          </p:nvSpPr>
          <p:spPr>
            <a:xfrm>
              <a:off x="4114800" y="3733560"/>
              <a:ext cx="547560" cy="549360"/>
            </a:xfrm>
            <a:prstGeom prst="ellipse">
              <a:avLst/>
            </a:prstGeom>
            <a:solidFill>
              <a:srgbClr val="a6a6a6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rbe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8" name="Oval 10"/>
            <p:cNvSpPr/>
            <p:nvPr/>
          </p:nvSpPr>
          <p:spPr>
            <a:xfrm>
              <a:off x="5257800" y="3733560"/>
              <a:ext cx="547560" cy="549360"/>
            </a:xfrm>
            <a:prstGeom prst="ellipse">
              <a:avLst/>
            </a:prstGeom>
            <a:solidFill>
              <a:srgbClr val="d9d9d9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rbe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9" name="Oval 11"/>
            <p:cNvSpPr/>
            <p:nvPr/>
          </p:nvSpPr>
          <p:spPr>
            <a:xfrm>
              <a:off x="6400800" y="3733560"/>
              <a:ext cx="547560" cy="549360"/>
            </a:xfrm>
            <a:prstGeom prst="ellipse">
              <a:avLst/>
            </a:prstGeom>
            <a:solidFill>
              <a:srgbClr val="a6a6a6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rbe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410" name="Straight Arrow Connector 12"/>
            <p:cNvCxnSpPr>
              <a:stCxn id="403" idx="4"/>
              <a:endCxn id="405" idx="0"/>
            </p:cNvCxnSpPr>
            <p:nvPr/>
          </p:nvCxnSpPr>
          <p:spPr>
            <a:xfrm flipH="1">
              <a:off x="2102040" y="3215880"/>
              <a:ext cx="2286720" cy="5180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411" name="Straight Arrow Connector 16"/>
            <p:cNvCxnSpPr>
              <a:stCxn id="403" idx="4"/>
              <a:endCxn id="406" idx="0"/>
            </p:cNvCxnSpPr>
            <p:nvPr/>
          </p:nvCxnSpPr>
          <p:spPr>
            <a:xfrm flipH="1">
              <a:off x="3244680" y="3215880"/>
              <a:ext cx="1143720" cy="5180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412" name="Straight Arrow Connector 19"/>
            <p:cNvCxnSpPr>
              <a:stCxn id="403" idx="4"/>
              <a:endCxn id="407" idx="0"/>
            </p:cNvCxnSpPr>
            <p:nvPr/>
          </p:nvCxnSpPr>
          <p:spPr>
            <a:xfrm flipH="1">
              <a:off x="4387320" y="3216600"/>
              <a:ext cx="2160" cy="5180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413" name="Straight Arrow Connector 22"/>
            <p:cNvCxnSpPr>
              <a:stCxn id="403" idx="4"/>
              <a:endCxn id="408" idx="0"/>
            </p:cNvCxnSpPr>
            <p:nvPr/>
          </p:nvCxnSpPr>
          <p:spPr>
            <a:xfrm>
              <a:off x="4387680" y="3215880"/>
              <a:ext cx="1143720" cy="5180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414" name="Straight Arrow Connector 25"/>
            <p:cNvCxnSpPr>
              <a:stCxn id="403" idx="4"/>
              <a:endCxn id="409" idx="0"/>
            </p:cNvCxnSpPr>
            <p:nvPr/>
          </p:nvCxnSpPr>
          <p:spPr>
            <a:xfrm>
              <a:off x="4388760" y="3215880"/>
              <a:ext cx="2286720" cy="5180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</p:grpSp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7553520" cy="762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3"/>
          <a:stretch/>
        </p:blipFill>
        <p:spPr>
          <a:xfrm>
            <a:off x="1676520" y="4724280"/>
            <a:ext cx="5624280" cy="4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raphical model for coin-to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3562-EDD1-4A8A-BD79-A077CC8E132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9D7B-15E7-4B72-9CF5-EC4CA67BF76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Oval 6"/>
          <p:cNvSpPr/>
          <p:nvPr/>
        </p:nvSpPr>
        <p:spPr>
          <a:xfrm>
            <a:off x="4114800" y="2666880"/>
            <a:ext cx="547560" cy="549360"/>
          </a:xfrm>
          <a:prstGeom prst="ellipse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23" name="Group 21"/>
          <p:cNvGrpSpPr/>
          <p:nvPr/>
        </p:nvGrpSpPr>
        <p:grpSpPr>
          <a:xfrm>
            <a:off x="1828800" y="3215880"/>
            <a:ext cx="5119560" cy="1067040"/>
            <a:chOff x="1828800" y="3215880"/>
            <a:chExt cx="5119560" cy="1067040"/>
          </a:xfrm>
        </p:grpSpPr>
        <p:sp>
          <p:nvSpPr>
            <p:cNvPr id="424" name="Oval 7"/>
            <p:cNvSpPr/>
            <p:nvPr/>
          </p:nvSpPr>
          <p:spPr>
            <a:xfrm>
              <a:off x="1828800" y="3733560"/>
              <a:ext cx="547560" cy="549360"/>
            </a:xfrm>
            <a:prstGeom prst="ellipse">
              <a:avLst/>
            </a:prstGeom>
            <a:solidFill>
              <a:srgbClr val="a6a6a6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rbe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25" name="Oval 8"/>
            <p:cNvSpPr/>
            <p:nvPr/>
          </p:nvSpPr>
          <p:spPr>
            <a:xfrm>
              <a:off x="2971800" y="3733560"/>
              <a:ext cx="547560" cy="549360"/>
            </a:xfrm>
            <a:prstGeom prst="ellipse">
              <a:avLst/>
            </a:prstGeom>
            <a:solidFill>
              <a:srgbClr val="a6a6a6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26" name="Oval 9"/>
            <p:cNvSpPr/>
            <p:nvPr/>
          </p:nvSpPr>
          <p:spPr>
            <a:xfrm>
              <a:off x="4114800" y="3733560"/>
              <a:ext cx="547560" cy="549360"/>
            </a:xfrm>
            <a:prstGeom prst="ellipse">
              <a:avLst/>
            </a:prstGeom>
            <a:solidFill>
              <a:srgbClr val="a6a6a6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rbe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27" name="Oval 10"/>
            <p:cNvSpPr/>
            <p:nvPr/>
          </p:nvSpPr>
          <p:spPr>
            <a:xfrm>
              <a:off x="5257800" y="3733560"/>
              <a:ext cx="547560" cy="549360"/>
            </a:xfrm>
            <a:prstGeom prst="ellipse">
              <a:avLst/>
            </a:prstGeom>
            <a:solidFill>
              <a:srgbClr val="d9d9d9">
                <a:alpha val="55000"/>
              </a:srgbClr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rbe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28" name="Oval 11"/>
            <p:cNvSpPr/>
            <p:nvPr/>
          </p:nvSpPr>
          <p:spPr>
            <a:xfrm>
              <a:off x="6400800" y="3733560"/>
              <a:ext cx="547560" cy="549360"/>
            </a:xfrm>
            <a:prstGeom prst="ellipse">
              <a:avLst/>
            </a:prstGeom>
            <a:solidFill>
              <a:srgbClr val="a6a6a6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orbe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429" name="Straight Arrow Connector 12"/>
            <p:cNvCxnSpPr>
              <a:stCxn id="422" idx="4"/>
              <a:endCxn id="424" idx="0"/>
            </p:cNvCxnSpPr>
            <p:nvPr/>
          </p:nvCxnSpPr>
          <p:spPr>
            <a:xfrm flipH="1">
              <a:off x="2102040" y="3215880"/>
              <a:ext cx="2286720" cy="5180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430" name="Straight Arrow Connector 16"/>
            <p:cNvCxnSpPr>
              <a:stCxn id="422" idx="4"/>
              <a:endCxn id="425" idx="0"/>
            </p:cNvCxnSpPr>
            <p:nvPr/>
          </p:nvCxnSpPr>
          <p:spPr>
            <a:xfrm flipH="1">
              <a:off x="3244680" y="3215880"/>
              <a:ext cx="1143720" cy="5180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431" name="Straight Arrow Connector 19"/>
            <p:cNvCxnSpPr>
              <a:stCxn id="422" idx="4"/>
              <a:endCxn id="426" idx="0"/>
            </p:cNvCxnSpPr>
            <p:nvPr/>
          </p:nvCxnSpPr>
          <p:spPr>
            <a:xfrm flipH="1">
              <a:off x="4387320" y="3216600"/>
              <a:ext cx="2160" cy="5180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432" name="Straight Arrow Connector 22"/>
            <p:cNvCxnSpPr>
              <a:stCxn id="422" idx="4"/>
              <a:endCxn id="427" idx="0"/>
            </p:cNvCxnSpPr>
            <p:nvPr/>
          </p:nvCxnSpPr>
          <p:spPr>
            <a:xfrm>
              <a:off x="4387680" y="3215880"/>
              <a:ext cx="1143720" cy="5180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  <p:cxnSp>
          <p:nvCxnSpPr>
            <p:cNvPr id="433" name="Straight Arrow Connector 25"/>
            <p:cNvCxnSpPr>
              <a:stCxn id="422" idx="4"/>
              <a:endCxn id="428" idx="0"/>
            </p:cNvCxnSpPr>
            <p:nvPr/>
          </p:nvCxnSpPr>
          <p:spPr>
            <a:xfrm>
              <a:off x="4388760" y="3215880"/>
              <a:ext cx="2286720" cy="518040"/>
            </a:xfrm>
            <a:prstGeom prst="straightConnector1">
              <a:avLst/>
            </a:prstGeom>
            <a:ln cap="rnd" w="12600">
              <a:solidFill>
                <a:srgbClr val="f0ac00"/>
              </a:solidFill>
              <a:miter/>
              <a:tailEnd len="lg" type="stealth" w="med"/>
            </a:ln>
          </p:spPr>
        </p:cxnSp>
      </p:grpSp>
      <p:pic>
        <p:nvPicPr>
          <p:cNvPr id="434" name="Picture 6" descr=""/>
          <p:cNvPicPr/>
          <p:nvPr/>
        </p:nvPicPr>
        <p:blipFill>
          <a:blip r:embed="rId2"/>
          <a:stretch/>
        </p:blipFill>
        <p:spPr>
          <a:xfrm>
            <a:off x="1676520" y="4724280"/>
            <a:ext cx="5624280" cy="4701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866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5D48-FC06-49B0-BDB2-7388FDAF26A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0E31-0067-4FC7-AA83-84BFDF3EAD8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1218960" cy="1413000"/>
          </a:xfrm>
          <a:prstGeom prst="rect">
            <a:avLst/>
          </a:prstGeom>
          <a:ln w="9360">
            <a:solidFill>
              <a:srgbClr val="b07e00"/>
            </a:solidFill>
            <a:miter/>
          </a:ln>
        </p:spPr>
      </p:pic>
      <p:pic>
        <p:nvPicPr>
          <p:cNvPr id="441" name="Picture 7" descr="13-1.JPG"/>
          <p:cNvPicPr/>
          <p:nvPr/>
        </p:nvPicPr>
        <p:blipFill>
          <a:blip r:embed="rId3"/>
          <a:stretch/>
        </p:blipFill>
        <p:spPr>
          <a:xfrm>
            <a:off x="2057400" y="2286000"/>
            <a:ext cx="685800" cy="3603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13-1.JPG"/>
          <p:cNvPicPr/>
          <p:nvPr/>
        </p:nvPicPr>
        <p:blipFill>
          <a:blip r:embed="rId4"/>
          <a:stretch/>
        </p:blipFill>
        <p:spPr>
          <a:xfrm>
            <a:off x="4952880" y="2286000"/>
            <a:ext cx="685800" cy="360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13-1.JPG"/>
          <p:cNvPicPr/>
          <p:nvPr/>
        </p:nvPicPr>
        <p:blipFill>
          <a:blip r:embed="rId5"/>
          <a:stretch/>
        </p:blipFill>
        <p:spPr>
          <a:xfrm>
            <a:off x="6400800" y="2286000"/>
            <a:ext cx="685800" cy="36036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28"/>
          <p:cNvGrpSpPr/>
          <p:nvPr/>
        </p:nvGrpSpPr>
        <p:grpSpPr>
          <a:xfrm>
            <a:off x="3505320" y="2133720"/>
            <a:ext cx="685800" cy="685800"/>
            <a:chOff x="3505320" y="2133720"/>
            <a:chExt cx="685800" cy="685800"/>
          </a:xfrm>
        </p:grpSpPr>
        <p:pic>
          <p:nvPicPr>
            <p:cNvPr id="445" name="Picture 9" descr="13-1.JPG"/>
            <p:cNvPicPr/>
            <p:nvPr/>
          </p:nvPicPr>
          <p:blipFill>
            <a:blip r:embed="rId6"/>
            <a:stretch/>
          </p:blipFill>
          <p:spPr>
            <a:xfrm>
              <a:off x="3505320" y="2286000"/>
              <a:ext cx="685800" cy="3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Multiply 12"/>
            <p:cNvSpPr/>
            <p:nvPr/>
          </p:nvSpPr>
          <p:spPr>
            <a:xfrm>
              <a:off x="3505320" y="2133720"/>
              <a:ext cx="685800" cy="685800"/>
            </a:xfrm>
            <a:custGeom>
              <a:avLst/>
              <a:gdLst>
                <a:gd name="textAreaLeft" fmla="*/ 161640 w 685800"/>
                <a:gd name="textAreaRight" fmla="*/ 524160 w 685800"/>
                <a:gd name="textAreaTop" fmla="*/ 161640 h 685800"/>
                <a:gd name="textAreaBottom" fmla="*/ 524160 h 685800"/>
              </a:gdLst>
              <a:ahLst/>
              <a:rect l="textAreaLeft" t="textAreaTop" r="textAreaRight" b="textAreaBottom"/>
              <a:pathLst>
                <a:path w="685800" h="685800">
                  <a:moveTo>
                    <a:pt x="161565" y="167859"/>
                  </a:moveTo>
                  <a:lnTo>
                    <a:pt x="167859" y="161565"/>
                  </a:lnTo>
                  <a:lnTo>
                    <a:pt x="342900" y="336606"/>
                  </a:lnTo>
                  <a:lnTo>
                    <a:pt x="517941" y="161565"/>
                  </a:lnTo>
                  <a:lnTo>
                    <a:pt x="524235" y="167859"/>
                  </a:lnTo>
                  <a:lnTo>
                    <a:pt x="349194" y="342900"/>
                  </a:lnTo>
                  <a:lnTo>
                    <a:pt x="524235" y="517941"/>
                  </a:lnTo>
                  <a:lnTo>
                    <a:pt x="517941" y="524235"/>
                  </a:lnTo>
                  <a:lnTo>
                    <a:pt x="342900" y="349194"/>
                  </a:lnTo>
                  <a:lnTo>
                    <a:pt x="167859" y="524235"/>
                  </a:lnTo>
                  <a:lnTo>
                    <a:pt x="161565" y="517941"/>
                  </a:lnTo>
                  <a:lnTo>
                    <a:pt x="336606" y="342900"/>
                  </a:lnTo>
                  <a:close/>
                </a:path>
              </a:pathLst>
            </a:custGeom>
            <a:solidFill>
              <a:srgbClr val="000000"/>
            </a:solidFill>
            <a:ln w="478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47" name="Group 29"/>
          <p:cNvGrpSpPr/>
          <p:nvPr/>
        </p:nvGrpSpPr>
        <p:grpSpPr>
          <a:xfrm>
            <a:off x="7848720" y="2133720"/>
            <a:ext cx="685800" cy="685800"/>
            <a:chOff x="7848720" y="2133720"/>
            <a:chExt cx="685800" cy="685800"/>
          </a:xfrm>
        </p:grpSpPr>
        <p:pic>
          <p:nvPicPr>
            <p:cNvPr id="448" name="Picture 11" descr="13-1.JPG"/>
            <p:cNvPicPr/>
            <p:nvPr/>
          </p:nvPicPr>
          <p:blipFill>
            <a:blip r:embed="rId7"/>
            <a:stretch/>
          </p:blipFill>
          <p:spPr>
            <a:xfrm>
              <a:off x="7848720" y="2286000"/>
              <a:ext cx="685800" cy="3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Multiply 13"/>
            <p:cNvSpPr/>
            <p:nvPr/>
          </p:nvSpPr>
          <p:spPr>
            <a:xfrm>
              <a:off x="7848720" y="2133720"/>
              <a:ext cx="685800" cy="685800"/>
            </a:xfrm>
            <a:custGeom>
              <a:avLst/>
              <a:gdLst>
                <a:gd name="textAreaLeft" fmla="*/ 161640 w 685800"/>
                <a:gd name="textAreaRight" fmla="*/ 524160 w 685800"/>
                <a:gd name="textAreaTop" fmla="*/ 161640 h 685800"/>
                <a:gd name="textAreaBottom" fmla="*/ 524160 h 685800"/>
              </a:gdLst>
              <a:ahLst/>
              <a:rect l="textAreaLeft" t="textAreaTop" r="textAreaRight" b="textAreaBottom"/>
              <a:pathLst>
                <a:path w="685800" h="685800">
                  <a:moveTo>
                    <a:pt x="161565" y="167859"/>
                  </a:moveTo>
                  <a:lnTo>
                    <a:pt x="167859" y="161565"/>
                  </a:lnTo>
                  <a:lnTo>
                    <a:pt x="342900" y="336606"/>
                  </a:lnTo>
                  <a:lnTo>
                    <a:pt x="517941" y="161565"/>
                  </a:lnTo>
                  <a:lnTo>
                    <a:pt x="524235" y="167859"/>
                  </a:lnTo>
                  <a:lnTo>
                    <a:pt x="349194" y="342900"/>
                  </a:lnTo>
                  <a:lnTo>
                    <a:pt x="524235" y="517941"/>
                  </a:lnTo>
                  <a:lnTo>
                    <a:pt x="517941" y="524235"/>
                  </a:lnTo>
                  <a:lnTo>
                    <a:pt x="342900" y="349194"/>
                  </a:lnTo>
                  <a:lnTo>
                    <a:pt x="167859" y="524235"/>
                  </a:lnTo>
                  <a:lnTo>
                    <a:pt x="161565" y="517941"/>
                  </a:lnTo>
                  <a:lnTo>
                    <a:pt x="336606" y="342900"/>
                  </a:lnTo>
                  <a:close/>
                </a:path>
              </a:pathLst>
            </a:custGeom>
            <a:solidFill>
              <a:srgbClr val="000000"/>
            </a:solidFill>
            <a:ln w="478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50" name="TextBox 14"/>
          <p:cNvSpPr/>
          <p:nvPr/>
        </p:nvSpPr>
        <p:spPr>
          <a:xfrm>
            <a:off x="609480" y="449568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8"/>
          <a:stretch/>
        </p:blipFill>
        <p:spPr>
          <a:xfrm>
            <a:off x="304920" y="3352680"/>
            <a:ext cx="1257120" cy="10065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6" descr="1.bmp"/>
          <p:cNvPicPr/>
          <p:nvPr/>
        </p:nvPicPr>
        <p:blipFill>
          <a:blip r:embed="rId9"/>
          <a:stretch/>
        </p:blipFill>
        <p:spPr>
          <a:xfrm>
            <a:off x="1752480" y="3352680"/>
            <a:ext cx="1257480" cy="1006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7" descr="1.bmp"/>
          <p:cNvPicPr/>
          <p:nvPr/>
        </p:nvPicPr>
        <p:blipFill>
          <a:blip r:embed="rId10"/>
          <a:stretch/>
        </p:blipFill>
        <p:spPr>
          <a:xfrm>
            <a:off x="3200400" y="3352680"/>
            <a:ext cx="1257480" cy="10065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11"/>
          <a:stretch/>
        </p:blipFill>
        <p:spPr>
          <a:xfrm>
            <a:off x="4648320" y="3352680"/>
            <a:ext cx="1257120" cy="10065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9" descr="1.bmp"/>
          <p:cNvPicPr/>
          <p:nvPr/>
        </p:nvPicPr>
        <p:blipFill>
          <a:blip r:embed="rId12"/>
          <a:stretch/>
        </p:blipFill>
        <p:spPr>
          <a:xfrm>
            <a:off x="6095880" y="3352680"/>
            <a:ext cx="1257480" cy="1006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0" descr="1.bmp"/>
          <p:cNvPicPr/>
          <p:nvPr/>
        </p:nvPicPr>
        <p:blipFill>
          <a:blip r:embed="rId13"/>
          <a:stretch/>
        </p:blipFill>
        <p:spPr>
          <a:xfrm>
            <a:off x="7543800" y="3352680"/>
            <a:ext cx="1257480" cy="1006560"/>
          </a:xfrm>
          <a:prstGeom prst="rect">
            <a:avLst/>
          </a:prstGeom>
          <a:ln w="0">
            <a:noFill/>
          </a:ln>
        </p:spPr>
      </p:pic>
      <p:sp>
        <p:nvSpPr>
          <p:cNvPr id="457" name="TextBox 22"/>
          <p:cNvSpPr/>
          <p:nvPr/>
        </p:nvSpPr>
        <p:spPr>
          <a:xfrm>
            <a:off x="182520" y="5075280"/>
            <a:ext cx="2209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Density Functio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(not normalized)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TextBox 23"/>
          <p:cNvSpPr/>
          <p:nvPr/>
        </p:nvSpPr>
        <p:spPr>
          <a:xfrm>
            <a:off x="1905120" y="4419720"/>
            <a:ext cx="129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6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+0.3x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5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2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TextBox 24"/>
          <p:cNvSpPr/>
          <p:nvPr/>
        </p:nvSpPr>
        <p:spPr>
          <a:xfrm>
            <a:off x="3276720" y="4419720"/>
            <a:ext cx="129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x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6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+0.3x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5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2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TextBox 25"/>
          <p:cNvSpPr/>
          <p:nvPr/>
        </p:nvSpPr>
        <p:spPr>
          <a:xfrm>
            <a:off x="4724280" y="4419720"/>
            <a:ext cx="129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x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6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+0.3x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5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2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TextBox 26"/>
          <p:cNvSpPr/>
          <p:nvPr/>
        </p:nvSpPr>
        <p:spPr>
          <a:xfrm>
            <a:off x="6095880" y="4419720"/>
            <a:ext cx="129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x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6x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+0.3x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5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2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TextBox 27"/>
          <p:cNvSpPr/>
          <p:nvPr/>
        </p:nvSpPr>
        <p:spPr>
          <a:xfrm>
            <a:off x="7620120" y="4419720"/>
            <a:ext cx="129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x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6x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+0.3x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5x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-0.2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457200" y="1774800"/>
            <a:ext cx="5486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on of releva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probability distribution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 [0,1] for each (query, URL) pai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ensity function is in a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polynomial form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ver a small set of linear fact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coefficients of such linear factors are shared between different (query, URL) pai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06F9-C5BE-482C-A995-CD72C9275AF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84CF-C394-4796-B1C9-791462E72F8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8" name="Picture 7" descr="1.bmp"/>
          <p:cNvPicPr/>
          <p:nvPr/>
        </p:nvPicPr>
        <p:blipFill>
          <a:blip r:embed="rId2"/>
          <a:stretch/>
        </p:blipFill>
        <p:spPr>
          <a:xfrm>
            <a:off x="6477120" y="1828800"/>
            <a:ext cx="1942920" cy="15541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8"/>
          <p:cNvSpPr/>
          <p:nvPr/>
        </p:nvSpPr>
        <p:spPr>
          <a:xfrm>
            <a:off x="6781680" y="3657600"/>
            <a:ext cx="1295640" cy="2228400"/>
          </a:xfrm>
          <a:prstGeom prst="rect">
            <a:avLst/>
          </a:prstGeom>
          <a:noFill/>
          <a:ln w="316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</a:t>
            </a:r>
            <a:r>
              <a:rPr b="0" lang="en-US" sz="2000" spc="-1" strike="noStrike">
                <a:solidFill>
                  <a:srgbClr val="0000ff"/>
                </a:solidFill>
                <a:latin typeface="Corbe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</a:t>
            </a:r>
            <a:r>
              <a:rPr b="0" lang="en-US" sz="2000" spc="-1" strike="noStrike">
                <a:solidFill>
                  <a:srgbClr val="0000ff"/>
                </a:solidFill>
                <a:latin typeface="Corbel"/>
              </a:rPr>
              <a:t>-0.6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</a:t>
            </a:r>
            <a:r>
              <a:rPr b="0" lang="en-US" sz="2000" spc="-1" strike="noStrike">
                <a:solidFill>
                  <a:srgbClr val="0000ff"/>
                </a:solidFill>
                <a:latin typeface="Corbel"/>
              </a:rPr>
              <a:t>+0.3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</a:t>
            </a:r>
            <a:r>
              <a:rPr b="0" lang="en-US" sz="2000" spc="-1" strike="noStrike">
                <a:solidFill>
                  <a:srgbClr val="0000ff"/>
                </a:solidFill>
                <a:latin typeface="Corbel"/>
              </a:rPr>
              <a:t>-0.5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</a:t>
            </a:r>
            <a:r>
              <a:rPr b="0" lang="en-US" sz="2000" spc="-1" strike="noStrike">
                <a:solidFill>
                  <a:srgbClr val="0000ff"/>
                </a:solidFill>
                <a:latin typeface="Corbel"/>
              </a:rPr>
              <a:t>-0.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rbe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57200" y="1774800"/>
            <a:ext cx="68580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ferenc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o over each query session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onc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update the exponents for corresponding (query, URL) pair impresse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Analytical or numerical integration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y be needed to compute the normalization consta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6D95-0660-41D4-9841-B7B9EAEE705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4FB6-E8A2-4878-8A7D-D6ED2DB3AF9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0" y="6488280"/>
            <a:ext cx="86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Corbe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Footnote: by virtue of the Bayes theorem and conditional independence relationship/assumptio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6" name="Picture 3" descr=""/>
          <p:cNvPicPr/>
          <p:nvPr/>
        </p:nvPicPr>
        <p:blipFill>
          <a:blip r:embed="rId2"/>
          <a:stretch/>
        </p:blipFill>
        <p:spPr>
          <a:xfrm>
            <a:off x="7466040" y="3886200"/>
            <a:ext cx="1469880" cy="91440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11"/>
          <p:cNvGrpSpPr/>
          <p:nvPr/>
        </p:nvGrpSpPr>
        <p:grpSpPr>
          <a:xfrm>
            <a:off x="7391520" y="2192400"/>
            <a:ext cx="1657440" cy="1312920"/>
            <a:chOff x="7391520" y="2192400"/>
            <a:chExt cx="1657440" cy="1312920"/>
          </a:xfrm>
        </p:grpSpPr>
        <p:pic>
          <p:nvPicPr>
            <p:cNvPr id="478" name="Picture 2" descr=""/>
            <p:cNvPicPr/>
            <p:nvPr/>
          </p:nvPicPr>
          <p:blipFill>
            <a:blip r:embed="rId3"/>
            <a:stretch/>
          </p:blipFill>
          <p:spPr>
            <a:xfrm>
              <a:off x="7391520" y="2458440"/>
              <a:ext cx="1426320" cy="104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Notched Right Arrow 10"/>
            <p:cNvSpPr/>
            <p:nvPr/>
          </p:nvSpPr>
          <p:spPr>
            <a:xfrm rot="18978000">
              <a:off x="8410320" y="2295000"/>
              <a:ext cx="519480" cy="552600"/>
            </a:xfrm>
            <a:custGeom>
              <a:avLst/>
              <a:gdLst>
                <a:gd name="textAreaLeft" fmla="*/ 129960 w 519480"/>
                <a:gd name="textAreaRight" fmla="*/ 389880 w 519480"/>
                <a:gd name="textAreaTop" fmla="*/ 138240 h 552600"/>
                <a:gd name="textAreaBottom" fmla="*/ 414720 h 55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0" y="16200"/>
                  </a:lnTo>
                  <a:lnTo>
                    <a:pt x="54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0ad00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n Guo</dc:creator>
  <dc:description/>
  <dc:language>en-US</dc:language>
  <cp:lastModifiedBy>fanguo</cp:lastModifiedBy>
  <dcterms:modified xsi:type="dcterms:W3CDTF">2009-11-02T16:54:45Z</dcterms:modified>
  <cp:revision>472</cp:revision>
  <dc:subject/>
  <dc:title>Statistical Models for Web Search Click Log Analysis</dc:title>
</cp:coreProperties>
</file>