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20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97F-4FA6-4301-8CBD-39DCF1379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C55-2A21-4CAF-A19F-4A1A5C1EB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DDB-4FB5-4C3D-B579-CFC46856F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EBB-09F8-4A61-8D10-AA8B46C51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669-FD8B-4950-A264-0E035B452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326-53B0-42BA-9138-4D7387093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4998-5882-46BF-BE69-AC57679B7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1D4-6AEB-452B-9664-C8C1E499C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6CB3-D708-4DF3-B0AC-57C76B42B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2D7A-0043-495C-BFEA-2BF59F102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0F25-141B-4E8E-8E40-8CFD03AC2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727C-22B2-4BBC-91D2-11FFA1359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DE17-A3EE-4C7F-846C-57ECD8D8F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957-A950-4012-9BCD-FBA07FB9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8E9-408C-4C71-9C3F-E7ECDCA8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949-099C-480F-906F-FB5C353C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106-0593-40C5-9F36-FCE5108C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D32-412E-4763-B5B1-A7FDEAD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1CD-5F68-4451-A462-4D4A81B2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B81-2267-4547-9F0C-099C270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92C-E32D-4CB5-A0E2-29169C4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C0EC-A0D1-4804-AEC6-17F569F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D9B-E49D-4A14-95B6-00868DF0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E70-5B2D-4455-8988-1B84CA8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71D-2429-4718-A6F2-E9B1029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8B5-3A4F-4C2D-AB3E-C4EAAEA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4F35-BBCF-4A8B-8AE2-5CA45B0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7905-BA4B-4DE8-BC2A-33D22F2A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91E-F53F-4733-8E5E-4506CEF1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1BB7-0A6A-4A25-AD93-0DBC64DD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F05B-1F54-43EE-81A4-1D7B8795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AFF2-EF43-48D6-91A6-3319FB4C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0AF8-8998-4D3B-862D-142DB190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B214-BE6C-402E-95F4-CB3A8C00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38C3-0609-4AB2-B8C7-4231407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84E-5982-483A-BD42-36BD172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D02F-3639-41F4-9C3E-C23E193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45CD-72BC-4374-A060-406E949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3C14-C76E-4B09-AA15-6976E7A3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E314-A4B6-4BA9-944A-C86BF99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2C75-0300-40E6-92FC-E5CF7650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4B5D-A6BA-485B-9E7B-0DD856C0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162D-E922-445D-A633-11C600DD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1111-5B67-47A3-9003-DA6F4F1B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DB0B-1BBC-4906-851F-BA7CE301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081B-999E-4893-999C-51AF49A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63B-2999-4BFE-BBC3-7ABC6E57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7848-239E-46B2-81CF-A959DAE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91C1-9BF2-42B7-979F-D06A98FF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0196-0447-4DE2-B841-82227E2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84BE-2195-4F1E-A2BF-BEDC47A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8C89-3C2F-4990-A3E9-D740766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FF74-D69F-49AB-B082-163E414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AE6B-C221-4D79-8F71-DC5D3650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A329-ED39-499E-B73A-836ED206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C681-DD93-403C-B261-0937EEB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1788-F493-4C4E-A52D-135524CA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83A-1D79-469C-9EC7-D2EA09D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096C2-7133-444F-B2CD-BD811D00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B574-26AB-4B5F-B870-CF68AC1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6C4A-5C73-4E05-BC76-504DC24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2BE7-B147-4CE5-86B7-2CEB12B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ED7B-AF04-4C3E-A1F8-030B4A47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590B-5D4F-45AD-A67F-B73208B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E855-FB4A-419E-8415-3D6F104C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911E-FA1F-4358-927F-8713573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4B5C-544F-433B-924B-0D6731E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33FA-71F5-42A6-AB83-5AD5A5E1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8FE-FA29-4D18-8F8C-01267952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64E56-4B25-4927-9516-64D8E75D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7B76-D21E-41EC-9B2E-D2196C51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C379-0E2F-45B8-8117-14DF1A6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E50D-1EB6-4833-999E-4F70A1A6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6547-548B-4938-B01A-51651961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E4A2-6375-44D8-8FED-58553406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A844-669B-4DED-A0EC-7D1810B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B2F1-CF79-4854-9841-C80DF1DC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2796-EECB-4F59-86F5-B7FFC53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CD3A-1B03-4FF7-B399-D50FD8E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A2F-533F-4E43-9FDB-16B0510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86B5-8F86-4689-9559-330D7C0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0B93-2E3A-42B2-B5E8-B098A5AF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12262-B718-4B3C-9697-F0FBC0E9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332D-2186-4036-B198-4C72331C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0579-D599-46C6-BA8D-AD01130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36BC-99C4-4CC8-BAB5-330316B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5DC8-43D9-43B9-8CAE-18E571CB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A6D7A-890B-42C7-A5E9-BE9730A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E204-2A4C-47DE-A53D-6C85DBA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E766-C4E0-4DC2-AFDB-4A06B9F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09D-C3CE-4D71-BFF0-E9AE3D8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B998-5CFF-444D-91BE-0F2C798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DE557-48D0-406B-9A16-74ACD2D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69EC-F4B0-4211-8A5C-98B2593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780F-1D96-4655-AB7A-D301BF8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5C4A-665B-4E8E-B493-C7C226C5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177-C41F-4171-BE19-1571875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8B8F-6843-49C5-AD76-AB6A3F0678E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A3E3-AFDF-48E2-9DD7-50718392A15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B5EA-CA83-42E3-B523-131D2F5B17A3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494-30A3-4F54-88C1-64F386CF6B9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E5D-3209-4522-B936-22C5EFAF685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848-3A2E-4D3D-AEB5-BEF38717384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8A6-A256-4946-9ED3-7BFBB351DE1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B06-AC5A-41C3-A164-DEE19CBDEDF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298-433F-4240-9E79-EDFC65F5A4A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9F9-F073-400E-BB81-1F1493046CD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7E7C-0B22-4314-8269-1E8333C7A71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518-B1E6-4B39-B353-5CCDD4B1F77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44E-FD52-4896-8CD2-306D70E54D3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4B7-3153-4311-971B-713EE622B36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ing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ic user hypothes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ing the first cli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ending to multiple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mmary of model desig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A8E4-6B9B-4E59-8D7D-A5FC1996834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BA9-C5B2-4E65-96A6-E0B26B0343B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331560" cy="32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684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rst click in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lick Chain Mode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[Guo+09b] as well a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Dynamic Bayesian Network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odel [Chapelle+09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0FD-04AE-4AAB-8D65-5D745C2E53C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EF7-84D4-4829-9635-432F74C3D79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TextBox 37"/>
          <p:cNvSpPr/>
          <p:nvPr/>
        </p:nvSpPr>
        <p:spPr>
          <a:xfrm>
            <a:off x="6400800" y="5562720"/>
            <a:ext cx="2286000" cy="1739880"/>
          </a:xfrm>
          <a:prstGeom prst="rect">
            <a:avLst/>
          </a:prstGeom>
          <a:solidFill>
            <a:srgbClr val="ffffff"/>
          </a:solidFill>
          <a:ln w="478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chance that user may immediately abandon examination w/o a click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Flowchart: Process 7"/>
          <p:cNvSpPr/>
          <p:nvPr/>
        </p:nvSpPr>
        <p:spPr>
          <a:xfrm>
            <a:off x="1106640" y="2971800"/>
            <a:ext cx="1981080" cy="685800"/>
          </a:xfrm>
          <a:prstGeom prst="flowChartProcess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amine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UR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Flowchart: Decision 8"/>
          <p:cNvSpPr/>
          <p:nvPr/>
        </p:nvSpPr>
        <p:spPr>
          <a:xfrm>
            <a:off x="914400" y="4419720"/>
            <a:ext cx="2362320" cy="76176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lick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1" name="Straight Arrow Connector 9"/>
          <p:cNvCxnSpPr>
            <a:stCxn id="419" idx="2"/>
            <a:endCxn id="420" idx="0"/>
          </p:cNvCxnSpPr>
          <p:nvPr/>
        </p:nvCxnSpPr>
        <p:spPr>
          <a:xfrm flipH="1">
            <a:off x="2095200" y="3657240"/>
            <a:ext cx="2160" cy="76284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22" name="Straight Arrow Connector 10"/>
          <p:cNvCxnSpPr>
            <a:stCxn id="420" idx="2"/>
          </p:cNvCxnSpPr>
          <p:nvPr/>
        </p:nvCxnSpPr>
        <p:spPr>
          <a:xfrm>
            <a:off x="2095560" y="5181480"/>
            <a:ext cx="2160" cy="64836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23" name="Straight Arrow Connector 11"/>
          <p:cNvCxnSpPr>
            <a:stCxn id="420" idx="3"/>
            <a:endCxn id="424" idx="1"/>
          </p:cNvCxnSpPr>
          <p:nvPr/>
        </p:nvCxnSpPr>
        <p:spPr>
          <a:xfrm flipV="1">
            <a:off x="3276720" y="4799880"/>
            <a:ext cx="1031040" cy="108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25" name="Elbow Connector 12"/>
          <p:cNvCxnSpPr>
            <a:stCxn id="424" idx="3"/>
            <a:endCxn id="419" idx="3"/>
          </p:cNvCxnSpPr>
          <p:nvPr/>
        </p:nvCxnSpPr>
        <p:spPr>
          <a:xfrm flipH="1" flipV="1">
            <a:off x="3087000" y="3314160"/>
            <a:ext cx="3810600" cy="1486440"/>
          </a:xfrm>
          <a:prstGeom prst="bentConnector3">
            <a:avLst>
              <a:gd name="adj1" fmla="val -16931"/>
            </a:avLst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sp>
        <p:nvSpPr>
          <p:cNvPr id="426" name="TextBox 13"/>
          <p:cNvSpPr/>
          <p:nvPr/>
        </p:nvSpPr>
        <p:spPr>
          <a:xfrm>
            <a:off x="1563840" y="5334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346860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059520" y="4915080"/>
            <a:ext cx="53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Flowchart: Decision 18"/>
          <p:cNvSpPr/>
          <p:nvPr/>
        </p:nvSpPr>
        <p:spPr>
          <a:xfrm>
            <a:off x="4307040" y="4438800"/>
            <a:ext cx="2590560" cy="72360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ee Next URL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719360" y="57420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TextBox 20"/>
          <p:cNvSpPr/>
          <p:nvPr/>
        </p:nvSpPr>
        <p:spPr>
          <a:xfrm>
            <a:off x="6973920" y="4419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31" name="Straight Arrow Connector 23"/>
          <p:cNvCxnSpPr>
            <a:stCxn id="424" idx="2"/>
          </p:cNvCxnSpPr>
          <p:nvPr/>
        </p:nvCxnSpPr>
        <p:spPr>
          <a:xfrm flipH="1">
            <a:off x="5600520" y="5164200"/>
            <a:ext cx="2160" cy="70524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sp>
        <p:nvSpPr>
          <p:cNvPr id="432" name="TextBox 32"/>
          <p:cNvSpPr/>
          <p:nvPr/>
        </p:nvSpPr>
        <p:spPr>
          <a:xfrm>
            <a:off x="5257800" y="579132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5105520" y="5334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34" name="Straight Arrow Connector 38"/>
          <p:cNvCxnSpPr>
            <a:stCxn id="418" idx="1"/>
          </p:cNvCxnSpPr>
          <p:nvPr/>
        </p:nvCxnSpPr>
        <p:spPr>
          <a:xfrm flipH="1" flipV="1">
            <a:off x="5943240" y="5714640"/>
            <a:ext cx="457920" cy="448560"/>
          </a:xfrm>
          <a:prstGeom prst="straightConnector1">
            <a:avLst/>
          </a:prstGeom>
          <a:ln cap="rnd" w="25560">
            <a:solidFill>
              <a:srgbClr val="00b0f0"/>
            </a:solidFill>
            <a:miter/>
            <a:tailEnd len="lg" type="stealth" w="lg"/>
          </a:ln>
        </p:spPr>
      </p:cxnSp>
      <p:pic>
        <p:nvPicPr>
          <p:cNvPr id="435" name="Picture 6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495360" cy="28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2209680" y="5486400"/>
            <a:ext cx="189000" cy="247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4"/>
          <a:stretch/>
        </p:blipFill>
        <p:spPr>
          <a:xfrm>
            <a:off x="5715000" y="5459400"/>
            <a:ext cx="457200" cy="169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"/>
          <p:cNvPicPr/>
          <p:nvPr/>
        </p:nvPicPr>
        <p:blipFill>
          <a:blip r:embed="rId5"/>
          <a:stretch/>
        </p:blipFill>
        <p:spPr>
          <a:xfrm>
            <a:off x="7162920" y="4876920"/>
            <a:ext cx="152280" cy="11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684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rst click in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User Browsing Mode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[Dupret+08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D03-52F3-4D6F-A192-EB98AFE820C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5D5C-DB8E-43F7-8691-44471AD8584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Flowchart: Process 7"/>
          <p:cNvSpPr/>
          <p:nvPr/>
        </p:nvSpPr>
        <p:spPr>
          <a:xfrm>
            <a:off x="1106640" y="2971800"/>
            <a:ext cx="1981080" cy="685800"/>
          </a:xfrm>
          <a:prstGeom prst="flowChartProcess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amine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UR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Flowchart: Decision 8"/>
          <p:cNvSpPr/>
          <p:nvPr/>
        </p:nvSpPr>
        <p:spPr>
          <a:xfrm>
            <a:off x="914400" y="4419720"/>
            <a:ext cx="2362320" cy="76176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lick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46" name="Straight Arrow Connector 9"/>
          <p:cNvCxnSpPr>
            <a:stCxn id="444" idx="2"/>
            <a:endCxn id="445" idx="0"/>
          </p:cNvCxnSpPr>
          <p:nvPr/>
        </p:nvCxnSpPr>
        <p:spPr>
          <a:xfrm flipH="1">
            <a:off x="2095200" y="3657240"/>
            <a:ext cx="2160" cy="76284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47" name="Straight Arrow Connector 10"/>
          <p:cNvCxnSpPr>
            <a:stCxn id="445" idx="2"/>
          </p:cNvCxnSpPr>
          <p:nvPr/>
        </p:nvCxnSpPr>
        <p:spPr>
          <a:xfrm>
            <a:off x="2095560" y="5181480"/>
            <a:ext cx="2160" cy="64836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48" name="Straight Arrow Connector 11"/>
          <p:cNvCxnSpPr>
            <a:stCxn id="445" idx="3"/>
            <a:endCxn id="449" idx="1"/>
          </p:cNvCxnSpPr>
          <p:nvPr/>
        </p:nvCxnSpPr>
        <p:spPr>
          <a:xfrm flipV="1">
            <a:off x="3276720" y="4799880"/>
            <a:ext cx="1031040" cy="108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50" name="Elbow Connector 12"/>
          <p:cNvCxnSpPr>
            <a:stCxn id="449" idx="3"/>
            <a:endCxn id="444" idx="3"/>
          </p:cNvCxnSpPr>
          <p:nvPr/>
        </p:nvCxnSpPr>
        <p:spPr>
          <a:xfrm flipH="1" flipV="1">
            <a:off x="3087000" y="3314160"/>
            <a:ext cx="3810600" cy="1486440"/>
          </a:xfrm>
          <a:prstGeom prst="bentConnector3">
            <a:avLst>
              <a:gd name="adj1" fmla="val -16931"/>
            </a:avLst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sp>
        <p:nvSpPr>
          <p:cNvPr id="451" name="TextBox 13"/>
          <p:cNvSpPr/>
          <p:nvPr/>
        </p:nvSpPr>
        <p:spPr>
          <a:xfrm>
            <a:off x="1563840" y="5334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346860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Box 25"/>
          <p:cNvSpPr/>
          <p:nvPr/>
        </p:nvSpPr>
        <p:spPr>
          <a:xfrm>
            <a:off x="6059520" y="4915080"/>
            <a:ext cx="53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Box 19"/>
          <p:cNvSpPr/>
          <p:nvPr/>
        </p:nvSpPr>
        <p:spPr>
          <a:xfrm>
            <a:off x="1719360" y="57420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6973920" y="4419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TextBox 33"/>
          <p:cNvSpPr/>
          <p:nvPr/>
        </p:nvSpPr>
        <p:spPr>
          <a:xfrm>
            <a:off x="4343400" y="5257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←i+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Flowchart: Decision 18"/>
          <p:cNvSpPr/>
          <p:nvPr/>
        </p:nvSpPr>
        <p:spPr>
          <a:xfrm>
            <a:off x="4307040" y="4438800"/>
            <a:ext cx="2590560" cy="72360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ee Next URL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Oval 29"/>
          <p:cNvSpPr/>
          <p:nvPr/>
        </p:nvSpPr>
        <p:spPr>
          <a:xfrm>
            <a:off x="5202360" y="5175360"/>
            <a:ext cx="761760" cy="761760"/>
          </a:xfrm>
          <a:prstGeom prst="ellipse">
            <a:avLst/>
          </a:prstGeom>
          <a:noFill/>
          <a:ln cap="rnd" w="19080">
            <a:solidFill>
              <a:srgbClr val="f0a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5486400" y="5148360"/>
            <a:ext cx="123840" cy="759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5"/>
          <p:cNvSpPr/>
          <p:nvPr/>
        </p:nvSpPr>
        <p:spPr>
          <a:xfrm>
            <a:off x="6705720" y="5715000"/>
            <a:ext cx="2286000" cy="916920"/>
          </a:xfrm>
          <a:prstGeom prst="rect">
            <a:avLst/>
          </a:prstGeom>
          <a:solidFill>
            <a:srgbClr val="ffffff"/>
          </a:solidFill>
          <a:ln w="478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sition-dependent paramet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60" name="Straight Arrow Connector 36"/>
          <p:cNvCxnSpPr>
            <a:stCxn id="459" idx="0"/>
          </p:cNvCxnSpPr>
          <p:nvPr/>
        </p:nvCxnSpPr>
        <p:spPr>
          <a:xfrm flipH="1" flipV="1">
            <a:off x="7314840" y="5104800"/>
            <a:ext cx="534240" cy="610200"/>
          </a:xfrm>
          <a:prstGeom prst="straightConnector1">
            <a:avLst/>
          </a:prstGeom>
          <a:ln cap="rnd" w="25560">
            <a:solidFill>
              <a:srgbClr val="00b0f0"/>
            </a:solidFill>
            <a:miter/>
            <a:tailEnd len="lg" type="stealth" w="lg"/>
          </a:ln>
        </p:spPr>
      </p:cxnSp>
      <p:pic>
        <p:nvPicPr>
          <p:cNvPr id="461" name="Picture 6" descr=""/>
          <p:cNvPicPr/>
          <p:nvPr/>
        </p:nvPicPr>
        <p:blipFill>
          <a:blip r:embed="rId3"/>
          <a:stretch/>
        </p:blipFill>
        <p:spPr>
          <a:xfrm>
            <a:off x="3505320" y="4952880"/>
            <a:ext cx="495360" cy="28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4"/>
          <a:stretch/>
        </p:blipFill>
        <p:spPr>
          <a:xfrm>
            <a:off x="2209680" y="5486400"/>
            <a:ext cx="189000" cy="247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495360" cy="233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6"/>
          <a:stretch/>
        </p:blipFill>
        <p:spPr>
          <a:xfrm>
            <a:off x="7162920" y="4919760"/>
            <a:ext cx="190440" cy="18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ing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ic user hypothes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ing the first cli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ending to multiple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mmary of model desig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7498-B9E0-4579-AA4D-E9DCFFD977D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B5A-EFB0-43B9-A45E-F563E2DD720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33520" y="385920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ize the cascade model to 1+ click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 = 0,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u</a:t>
            </a:r>
            <a:r>
              <a:rPr b="0" lang="en-US" sz="2800" spc="-1" strike="noStrike" baseline="-40000">
                <a:solidFill>
                  <a:srgbClr val="000000"/>
                </a:solidFill>
                <a:latin typeface="Corbe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) =1, 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 =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=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rbel"/>
              </a:rPr>
              <a:t>i+1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=1,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=1)=</a:t>
            </a:r>
            <a:r>
              <a:rPr b="0" lang="el-GR" sz="2800" spc="-1" strike="noStrike">
                <a:solidFill>
                  <a:srgbClr val="ff0000"/>
                </a:solidFill>
                <a:latin typeface="Corbel"/>
              </a:rPr>
              <a:t> λ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AABD-05EB-4FB1-8BFC-10394CE4B7A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4B92-3885-447A-9004-40A750DB1BD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6" name="Picture 65" descr="Picture1.tif"/>
          <p:cNvPicPr/>
          <p:nvPr/>
        </p:nvPicPr>
        <p:blipFill>
          <a:blip r:embed="rId2"/>
          <a:stretch/>
        </p:blipFill>
        <p:spPr>
          <a:xfrm>
            <a:off x="1066680" y="4952880"/>
            <a:ext cx="7086600" cy="9367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1"/>
          <p:cNvSpPr/>
          <p:nvPr/>
        </p:nvSpPr>
        <p:spPr>
          <a:xfrm>
            <a:off x="5105520" y="3886200"/>
            <a:ext cx="3504960" cy="916920"/>
          </a:xfrm>
          <a:prstGeom prst="rect">
            <a:avLst/>
          </a:prstGeom>
          <a:solidFill>
            <a:srgbClr val="ffffff"/>
          </a:solidFill>
          <a:ln w="478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rbe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:global parameters characterizing user browsing behav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78" name="Straight Arrow Connector 12"/>
          <p:cNvCxnSpPr>
            <a:stCxn id="477" idx="1"/>
          </p:cNvCxnSpPr>
          <p:nvPr/>
        </p:nvCxnSpPr>
        <p:spPr>
          <a:xfrm flipH="1" flipV="1">
            <a:off x="4419000" y="4209480"/>
            <a:ext cx="686520" cy="1080"/>
          </a:xfrm>
          <a:prstGeom prst="straightConnector1">
            <a:avLst/>
          </a:prstGeom>
          <a:ln cap="rnd" w="25560">
            <a:solidFill>
              <a:srgbClr val="00b0f0"/>
            </a:solidFill>
            <a:miter/>
            <a:tailEnd len="lg" type="stealth" w="lg"/>
          </a:ln>
        </p:spPr>
      </p:cxn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ize the cascade model to 1+ click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DF0-41F0-447C-B622-DEED497124D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7C2-0F99-476B-8E82-1E169BF94A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2517840" y="2514600"/>
            <a:ext cx="3575160" cy="36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CM Algorithms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put: for each query session, the query term, with (URL, clicked) tuple for all top-10 posi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utput: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levanc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each (query, URL) pair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lobal parameter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user behavi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thod: approximate* maximum-likelihood estim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C2F8-724B-4740-AEEB-43544DAD08E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1611-0566-46D2-B79B-1F2FE3A8C07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0" y="648828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*Footnote: the algorithm maximizes a lower bound of log-likelihood func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F8AF-244B-4801-9EB9-1FF5B5B9A57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173-4160-4CB0-B865-FE130769C3C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133720" y="2514600"/>
          <a:ext cx="6629400" cy="38988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r.iit.edu/cikm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informatik.uni-trier.de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tzi.de/CIKM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c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96" name="Rounded Rectangle 7"/>
          <p:cNvSpPr/>
          <p:nvPr/>
        </p:nvSpPr>
        <p:spPr>
          <a:xfrm>
            <a:off x="2133720" y="4343400"/>
            <a:ext cx="6629400" cy="36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228600" y="3581280"/>
            <a:ext cx="13716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Last clicked position 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8" name="Straight Arrow Connector 11"/>
          <p:cNvCxnSpPr>
            <a:endCxn id="496" idx="1"/>
          </p:cNvCxnSpPr>
          <p:nvPr/>
        </p:nvCxnSpPr>
        <p:spPr>
          <a:xfrm>
            <a:off x="1371240" y="4282560"/>
            <a:ext cx="762840" cy="24372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499" name=""/>
          <p:cNvGraphicFramePr/>
          <p:nvPr/>
        </p:nvGraphicFramePr>
        <p:xfrm>
          <a:off x="2133720" y="1600200"/>
          <a:ext cx="6629400" cy="873000"/>
        </p:xfrm>
        <a:graphic>
          <a:graphicData uri="http://schemas.openxmlformats.org/drawingml/2006/table">
            <a:tbl>
              <a:tblPr/>
              <a:tblGrid>
                <a:gridCol w="3244680"/>
                <a:gridCol w="338472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i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Sess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851c5af178384d12f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2256-DD23-46D1-B824-0516AD9FAE9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33F-1B67-4774-BA81-0EBA4FA96EB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133720" y="2514600"/>
          <a:ext cx="6629400" cy="38988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r.iit.edu/cikm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informatik.uni-trier.de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tzi.de/CIKM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c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Rounded Rectangle 7"/>
          <p:cNvSpPr/>
          <p:nvPr/>
        </p:nvSpPr>
        <p:spPr>
          <a:xfrm>
            <a:off x="2133720" y="5715000"/>
            <a:ext cx="6629400" cy="36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228600" y="3581280"/>
            <a:ext cx="13716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Last clicked position 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507" name="Straight Arrow Connector 11"/>
          <p:cNvCxnSpPr>
            <a:endCxn id="505" idx="1"/>
          </p:cNvCxnSpPr>
          <p:nvPr/>
        </p:nvCxnSpPr>
        <p:spPr>
          <a:xfrm>
            <a:off x="914040" y="4876560"/>
            <a:ext cx="1220040" cy="102132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508" name=""/>
          <p:cNvGraphicFramePr/>
          <p:nvPr/>
        </p:nvGraphicFramePr>
        <p:xfrm>
          <a:off x="2133720" y="1600200"/>
          <a:ext cx="6629400" cy="873000"/>
        </p:xfrm>
        <a:graphic>
          <a:graphicData uri="http://schemas.openxmlformats.org/drawingml/2006/table">
            <a:tbl>
              <a:tblPr/>
              <a:tblGrid>
                <a:gridCol w="3244680"/>
                <a:gridCol w="338472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i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Sess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b8dee4c4dd21e6aaf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stimation formula for relevanc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empirical CTR measured before last clicked posi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stimation formula for global (user behavior) parameter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empirical probability of “clicked-but-not-last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859-E915-4BE7-9616-5264594A873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7FB-92C9-4E9A-828B-43EE020A99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1379520" y="2468520"/>
            <a:ext cx="6681960" cy="658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"/>
          <p:cNvPicPr/>
          <p:nvPr/>
        </p:nvPicPr>
        <p:blipFill>
          <a:blip r:embed="rId3"/>
          <a:stretch/>
        </p:blipFill>
        <p:spPr>
          <a:xfrm>
            <a:off x="1295280" y="4873680"/>
            <a:ext cx="709956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ep 3 counts for each (query, URL) pa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612-3D9F-485D-ABCC-9F54D1E82E0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849-B734-4193-A5C7-43D91E5C71C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1" name="Group 18"/>
          <p:cNvGrpSpPr/>
          <p:nvPr/>
        </p:nvGrpSpPr>
        <p:grpSpPr>
          <a:xfrm>
            <a:off x="1143000" y="2459160"/>
            <a:ext cx="6248520" cy="2262240"/>
            <a:chOff x="1143000" y="2459160"/>
            <a:chExt cx="6248520" cy="2262240"/>
          </a:xfrm>
        </p:grpSpPr>
        <p:pic>
          <p:nvPicPr>
            <p:cNvPr id="522" name="Picture 2" descr=""/>
            <p:cNvPicPr/>
            <p:nvPr/>
          </p:nvPicPr>
          <p:blipFill>
            <a:blip r:embed="rId2"/>
            <a:stretch/>
          </p:blipFill>
          <p:spPr>
            <a:xfrm>
              <a:off x="1143000" y="2459160"/>
              <a:ext cx="624852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Straight Connector 8"/>
            <p:cNvSpPr/>
            <p:nvPr/>
          </p:nvSpPr>
          <p:spPr>
            <a:xfrm>
              <a:off x="2057400" y="3011040"/>
              <a:ext cx="609480" cy="0"/>
            </a:xfrm>
            <a:prstGeom prst="line">
              <a:avLst/>
            </a:prstGeom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4" name="Straight Connector 9"/>
            <p:cNvSpPr/>
            <p:nvPr/>
          </p:nvSpPr>
          <p:spPr>
            <a:xfrm>
              <a:off x="2331720" y="3843360"/>
              <a:ext cx="609480" cy="0"/>
            </a:xfrm>
            <a:prstGeom prst="line">
              <a:avLst/>
            </a:prstGeom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5" name="Straight Connector 10"/>
            <p:cNvSpPr/>
            <p:nvPr/>
          </p:nvSpPr>
          <p:spPr>
            <a:xfrm>
              <a:off x="2340720" y="4721400"/>
              <a:ext cx="2971800" cy="0"/>
            </a:xfrm>
            <a:prstGeom prst="line">
              <a:avLst/>
            </a:prstGeom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6" name="Straight Connector 12"/>
            <p:cNvSpPr/>
            <p:nvPr/>
          </p:nvSpPr>
          <p:spPr>
            <a:xfrm>
              <a:off x="5867640" y="2992680"/>
              <a:ext cx="1432440" cy="0"/>
            </a:xfrm>
            <a:prstGeom prst="line">
              <a:avLst/>
            </a:prstGeom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7" name="Straight Connector 15"/>
            <p:cNvSpPr/>
            <p:nvPr/>
          </p:nvSpPr>
          <p:spPr>
            <a:xfrm>
              <a:off x="6248520" y="3831120"/>
              <a:ext cx="990360" cy="0"/>
            </a:xfrm>
            <a:prstGeom prst="line">
              <a:avLst/>
            </a:prstGeom>
            <a:ln cap="rnd"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1371600" y="5440320"/>
            <a:ext cx="2305080" cy="58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4495680" y="5410080"/>
            <a:ext cx="1600200" cy="646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5"/>
          <a:stretch/>
        </p:blipFill>
        <p:spPr>
          <a:xfrm>
            <a:off x="6324480" y="5605560"/>
            <a:ext cx="1447920" cy="27612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6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6840" y="1774800"/>
            <a:ext cx="84582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document must be examined before a clic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(conditional) probability of click upon examination depends on document relev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DF5F-865C-431F-BAD0-FFC2241B264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1DF-696C-4442-8B6B-CE2252966EC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685800" cy="852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3"/>
          <a:stretch/>
        </p:blipFill>
        <p:spPr>
          <a:xfrm>
            <a:off x="3276720" y="2666880"/>
            <a:ext cx="396720" cy="397080"/>
          </a:xfrm>
          <a:prstGeom prst="rect">
            <a:avLst/>
          </a:prstGeom>
          <a:ln w="0">
            <a:noFill/>
          </a:ln>
        </p:spPr>
      </p:pic>
      <p:sp>
        <p:nvSpPr>
          <p:cNvPr id="323" name="Right Arrow 8"/>
          <p:cNvSpPr/>
          <p:nvPr/>
        </p:nvSpPr>
        <p:spPr>
          <a:xfrm>
            <a:off x="4038480" y="2666880"/>
            <a:ext cx="533520" cy="3812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9" descr="13-1.JPG"/>
          <p:cNvPicPr/>
          <p:nvPr/>
        </p:nvPicPr>
        <p:blipFill>
          <a:blip r:embed="rId4"/>
          <a:stretch/>
        </p:blipFill>
        <p:spPr>
          <a:xfrm>
            <a:off x="4876920" y="2666880"/>
            <a:ext cx="930240" cy="489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"/>
          <p:cNvPicPr/>
          <p:nvPr/>
        </p:nvPicPr>
        <p:blipFill>
          <a:blip r:embed="rId5"/>
          <a:stretch/>
        </p:blipFill>
        <p:spPr>
          <a:xfrm>
            <a:off x="6019920" y="266688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685800" cy="852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"/>
          <p:cNvPicPr/>
          <p:nvPr/>
        </p:nvPicPr>
        <p:blipFill>
          <a:blip r:embed="rId7"/>
          <a:stretch/>
        </p:blipFill>
        <p:spPr>
          <a:xfrm>
            <a:off x="3352680" y="5184720"/>
            <a:ext cx="397080" cy="390600"/>
          </a:xfrm>
          <a:prstGeom prst="rect">
            <a:avLst/>
          </a:prstGeom>
          <a:ln w="0">
            <a:noFill/>
          </a:ln>
        </p:spPr>
      </p:pic>
      <p:sp>
        <p:nvSpPr>
          <p:cNvPr id="328" name="Right Arrow 17"/>
          <p:cNvSpPr/>
          <p:nvPr/>
        </p:nvSpPr>
        <p:spPr>
          <a:xfrm>
            <a:off x="4114800" y="5181480"/>
            <a:ext cx="533520" cy="3812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8" descr="13-1.JPG"/>
          <p:cNvPicPr/>
          <p:nvPr/>
        </p:nvPicPr>
        <p:blipFill>
          <a:blip r:embed="rId8"/>
          <a:stretch/>
        </p:blipFill>
        <p:spPr>
          <a:xfrm>
            <a:off x="4952880" y="5181480"/>
            <a:ext cx="930240" cy="489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coin_toss.jpg"/>
          <p:cNvPicPr/>
          <p:nvPr/>
        </p:nvPicPr>
        <p:blipFill>
          <a:blip r:embed="rId9"/>
          <a:stretch/>
        </p:blipFill>
        <p:spPr>
          <a:xfrm>
            <a:off x="4114800" y="563868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"/>
          <p:cNvPicPr/>
          <p:nvPr/>
        </p:nvPicPr>
        <p:blipFill>
          <a:blip r:embed="rId10"/>
          <a:stretch/>
        </p:blipFill>
        <p:spPr>
          <a:xfrm>
            <a:off x="6095880" y="5257800"/>
            <a:ext cx="39708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the relevance of the URL click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01A-FEC6-471D-BD50-3F585A4F9BE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CFC-A7DF-45C3-97C4-09551DCD12E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457200" y="4656240"/>
            <a:ext cx="5557680" cy="12189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5562720" cy="1020960"/>
          </a:xfrm>
          <a:prstGeom prst="rect">
            <a:avLst/>
          </a:prstGeom>
          <a:ln w="0">
            <a:noFill/>
          </a:ln>
        </p:spPr>
      </p:pic>
      <p:sp>
        <p:nvSpPr>
          <p:cNvPr id="539" name="Cloud Callout 10"/>
          <p:cNvSpPr/>
          <p:nvPr/>
        </p:nvSpPr>
        <p:spPr>
          <a:xfrm>
            <a:off x="6095880" y="2895480"/>
            <a:ext cx="2819520" cy="1295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Not what I want, go to examine the nex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Cloud Callout 11"/>
          <p:cNvSpPr/>
          <p:nvPr/>
        </p:nvSpPr>
        <p:spPr>
          <a:xfrm>
            <a:off x="6095880" y="4495680"/>
            <a:ext cx="2819520" cy="1295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Aha, this is the right one, and I’m done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the relevance of the URL click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P(E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i+1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=1|E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=1, C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=1)=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 α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(1-r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u</a:t>
            </a:r>
            <a:r>
              <a:rPr b="0" lang="en-US" sz="1700" spc="-1" strike="noStrike" baseline="-50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)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+ 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α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u</a:t>
            </a:r>
            <a:r>
              <a:rPr b="0" lang="en-US" sz="1900" spc="-1" strike="noStrike" baseline="-50000">
                <a:solidFill>
                  <a:srgbClr val="ff0000"/>
                </a:solidFill>
                <a:latin typeface="Corbel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30000"/>
              </a:lnSpc>
              <a:spcBef>
                <a:spcPts val="751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,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0)=</a:t>
            </a: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 α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ere 0 &lt;</a:t>
            </a: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 α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≤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1,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0 ≤ 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α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&lt; 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α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≤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769-D19B-4DD4-93C2-9B1DE9F513F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87F-88D3-461A-806B-8403C3DC6D6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ull pictu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F66-F9FB-4AB7-B71D-2D316DA77D4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E0E-AF58-428A-9795-E5E98D3C8A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6324480" cy="38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is a subtle difference between the relevance of the URL snippet and the landing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761-29D8-4BEC-BB8D-8447FFAE82F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F99-CF13-4F7E-ABF4-D10EBA66E1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5257800" cy="714240"/>
          </a:xfrm>
          <a:prstGeom prst="rect">
            <a:avLst/>
          </a:prstGeom>
          <a:ln w="0">
            <a:noFill/>
          </a:ln>
        </p:spPr>
      </p:pic>
      <p:sp>
        <p:nvSpPr>
          <p:cNvPr id="558" name="Cloud Callout 7"/>
          <p:cNvSpPr/>
          <p:nvPr/>
        </p:nvSpPr>
        <p:spPr>
          <a:xfrm>
            <a:off x="6019920" y="2819520"/>
            <a:ext cx="2666880" cy="8380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hmmm…, this looks pretty n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5160960" cy="1295280"/>
          </a:xfrm>
          <a:prstGeom prst="rect">
            <a:avLst/>
          </a:prstGeom>
          <a:ln w="0">
            <a:noFill/>
          </a:ln>
        </p:spPr>
      </p:pic>
      <p:sp>
        <p:nvSpPr>
          <p:cNvPr id="560" name="Cloud Callout 10"/>
          <p:cNvSpPr/>
          <p:nvPr/>
        </p:nvSpPr>
        <p:spPr>
          <a:xfrm>
            <a:off x="6095880" y="4114800"/>
            <a:ext cx="2667240" cy="8380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errr…, it’s way out of d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TextBox 12"/>
          <p:cNvSpPr/>
          <p:nvPr/>
        </p:nvSpPr>
        <p:spPr>
          <a:xfrm>
            <a:off x="762120" y="54864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onclusion: attractive, but not satisfactor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161640" cy="20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the “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atisfaction sco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2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,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)=</a:t>
            </a: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 γ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(1-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u</a:t>
            </a:r>
            <a:r>
              <a:rPr b="0" lang="en-US" sz="1700" spc="-1" strike="noStrike" baseline="-50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) + 0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orbel"/>
              </a:rPr>
              <a:t>u</a:t>
            </a:r>
            <a:r>
              <a:rPr b="0" lang="en-US" sz="1700" spc="-1" strike="noStrike" baseline="-50000">
                <a:solidFill>
                  <a:srgbClr val="ff0000"/>
                </a:solidFill>
                <a:latin typeface="Corbe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30000"/>
              </a:lnSpc>
              <a:spcBef>
                <a:spcPts val="751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1,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0)=</a:t>
            </a: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 γ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0 &lt;</a:t>
            </a:r>
            <a:r>
              <a:rPr b="0" lang="el-GR" sz="3000" spc="-1" strike="noStrike">
                <a:solidFill>
                  <a:srgbClr val="ff0000"/>
                </a:solidFill>
                <a:latin typeface="Corbel"/>
              </a:rPr>
              <a:t> γ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 ≤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lick probability is associated with “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ttractiveness sco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)=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orbel"/>
              </a:rPr>
              <a:t>a</a:t>
            </a:r>
            <a:r>
              <a:rPr b="0" lang="en-US" sz="2800" spc="-1" strike="noStrike" baseline="-25000">
                <a:solidFill>
                  <a:srgbClr val="7030a0"/>
                </a:solidFill>
                <a:latin typeface="Corbel"/>
              </a:rPr>
              <a:t>u</a:t>
            </a:r>
            <a:r>
              <a:rPr b="0" lang="en-US" sz="1600" spc="-1" strike="noStrike" baseline="-50000">
                <a:solidFill>
                  <a:srgbClr val="7030a0"/>
                </a:solidFill>
                <a:latin typeface="Corbe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ED1-2371-4C58-8930-9D30CBE5948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D85F-911F-43CD-B4F0-EA9F319441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ull pictu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7908-8BC3-4BD3-9DE7-E51ED2726B0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7813-76DE-4937-956D-6D16005270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2"/>
          <a:stretch/>
        </p:blipFill>
        <p:spPr>
          <a:xfrm>
            <a:off x="1220760" y="2438280"/>
            <a:ext cx="6397560" cy="38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B65B-14D9-4830-B648-4F656C5E947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A97F-0413-4921-99C7-92C7325242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609480" y="3733920"/>
            <a:ext cx="838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r =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d = 1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905120" y="3581280"/>
          <a:ext cx="6629400" cy="28656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D5A-1C94-45FB-B9AC-D455E51217F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3EF-09B9-40AD-B919-72C4569084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TextBox 7"/>
          <p:cNvSpPr/>
          <p:nvPr/>
        </p:nvSpPr>
        <p:spPr>
          <a:xfrm>
            <a:off x="609480" y="4114800"/>
            <a:ext cx="838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r =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d = 2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905120" y="3581280"/>
          <a:ext cx="6629400" cy="28656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331560" cy="32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10A-34C4-41A6-9D77-28AE6003E77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1279-66B9-4F2C-886E-FFF3504D9F5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609480" y="4419720"/>
            <a:ext cx="838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r = 2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d = 1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3581280"/>
          <a:ext cx="6629400" cy="28656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331560" cy="328680"/>
          </a:xfrm>
          <a:prstGeom prst="rect">
            <a:avLst/>
          </a:prstGeom>
          <a:ln w="0">
            <a:noFill/>
          </a:ln>
        </p:spPr>
      </p:pic>
      <p:sp>
        <p:nvSpPr>
          <p:cNvPr id="598" name="Smiley Face 9"/>
          <p:cNvSpPr/>
          <p:nvPr/>
        </p:nvSpPr>
        <p:spPr>
          <a:xfrm>
            <a:off x="152280" y="4648320"/>
            <a:ext cx="457200" cy="457200"/>
          </a:xfrm>
          <a:prstGeom prst="smileyFace">
            <a:avLst>
              <a:gd name="adj" fmla="val 65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BB7-A0F6-456B-AB67-0526C99326C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5B6-91A7-4413-8E00-3C18391D49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609480" y="4800600"/>
            <a:ext cx="838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r = 2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d = 2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905120" y="3581280"/>
          <a:ext cx="6629400" cy="28656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31560" cy="328320"/>
          </a:xfrm>
          <a:prstGeom prst="rect">
            <a:avLst/>
          </a:prstGeom>
          <a:ln w="0">
            <a:noFill/>
          </a:ln>
        </p:spPr>
      </p:pic>
      <p:sp>
        <p:nvSpPr>
          <p:cNvPr id="607" name="Smiley Face 9"/>
          <p:cNvSpPr/>
          <p:nvPr/>
        </p:nvSpPr>
        <p:spPr>
          <a:xfrm>
            <a:off x="152280" y="5029200"/>
            <a:ext cx="457200" cy="457200"/>
          </a:xfrm>
          <a:prstGeom prst="smileyFace">
            <a:avLst>
              <a:gd name="adj" fmla="val -1346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7706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lick probability could be decompos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lobal component: the examination probability </a:t>
            </a:r>
            <a:r>
              <a:rPr b="0" lang="en-US" sz="2800" spc="-1" strike="noStrike">
                <a:solidFill>
                  <a:srgbClr val="7030a0"/>
                </a:solidFill>
                <a:latin typeface="Corbel"/>
              </a:rPr>
              <a:t>which reflects the position-bi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cal component: depends on the (query, URL) pair </a:t>
            </a:r>
            <a:r>
              <a:rPr b="0" lang="en-US" sz="2800" spc="-1" strike="noStrike">
                <a:solidFill>
                  <a:srgbClr val="7030a0"/>
                </a:solidFill>
                <a:latin typeface="Corbel"/>
              </a:rPr>
              <a:t>on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building block for every existing model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50F-655D-4618-BF2F-88AF90F41BC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B090-7AB4-45F2-84AA-AC782014FA7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6781680" y="5715000"/>
            <a:ext cx="1798920" cy="8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BA5-1CC0-451C-9F0E-C31BDF93E27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9F6B-1546-4988-921B-93A9F5E037B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609480" y="5105520"/>
            <a:ext cx="838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r = 2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d = 3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905120" y="3581280"/>
          <a:ext cx="6629400" cy="2865600"/>
        </p:xfrm>
        <a:graphic>
          <a:graphicData uri="http://schemas.openxmlformats.org/drawingml/2006/table">
            <a:tbl>
              <a:tblPr/>
              <a:tblGrid>
                <a:gridCol w="1511280"/>
                <a:gridCol w="3838320"/>
                <a:gridCol w="1279800"/>
              </a:tblGrid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omp.polyu.edu.hk/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1447920" y="5410080"/>
            <a:ext cx="331560" cy="328680"/>
          </a:xfrm>
          <a:prstGeom prst="rect">
            <a:avLst/>
          </a:prstGeom>
          <a:ln w="0">
            <a:noFill/>
          </a:ln>
        </p:spPr>
      </p:pic>
      <p:sp>
        <p:nvSpPr>
          <p:cNvPr id="616" name="Smiley Face 9"/>
          <p:cNvSpPr/>
          <p:nvPr/>
        </p:nvSpPr>
        <p:spPr>
          <a:xfrm>
            <a:off x="152280" y="533412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rs would lose patience when they browse through without issuing a 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robability monotonically drops a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ncreases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mains the s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217-F74D-46A4-A308-44BB18E1BAE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C4F9-7441-4DAC-8766-521CABFB1D4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xamine-next probability depends on both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e preceding clicked position </a:t>
            </a:r>
            <a:r>
              <a:rPr b="0" i="1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distance to this position </a:t>
            </a:r>
            <a:r>
              <a:rPr b="0" i="1" lang="en-US" sz="32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1:i-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=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r</a:t>
            </a:r>
            <a:r>
              <a:rPr b="0" lang="en-US" sz="1600" spc="-1" strike="noStrike" baseline="-50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,d</a:t>
            </a:r>
            <a:r>
              <a:rPr b="0" lang="en-US" sz="1400" spc="-1" strike="noStrike" baseline="-50000">
                <a:solidFill>
                  <a:srgbClr val="000000"/>
                </a:solidFill>
                <a:latin typeface="Corbel"/>
              </a:rPr>
              <a:t>i </a:t>
            </a:r>
            <a:br>
              <a:rPr sz="1400"/>
            </a:br>
            <a:br>
              <a:rPr sz="1400"/>
            </a:br>
            <a:r>
              <a:rPr b="0" lang="en-US" sz="1400" spc="-1" strike="noStrike" baseline="-50000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55 parameters are needed for top-10 posi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0≤r&lt;r+d≤10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scade hypothesis is not assum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798-5158-4F3F-A6C4-2CA7ED0A224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6494-583F-4A5A-9D19-B980E89DF4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1143000" y="38098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rbe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 = max{j| j &lt;i ,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rbe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=1},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d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Corbel"/>
              </a:rPr>
              <a:t>i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 = i - r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Corbe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ull pictu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C37F-D6C2-4A24-865B-6ABD8DA26D9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512-4C0F-4F07-9070-348002DB41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086600" cy="37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ing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ic user hypothes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ing the first cli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ending to multiple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mmary of model desig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10C-FBA2-4D27-88B0-BD46603049C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51E-8F01-451C-9610-CD603E2B714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ability of examine the first UR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536-A5B4-4D23-A14F-5FD96D9D0FE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EC61-176B-480A-93BB-702055C98AD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143000" y="2590920"/>
          <a:ext cx="5257800" cy="34290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(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30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30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β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0,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7"/>
          <p:cNvSpPr/>
          <p:nvPr/>
        </p:nvSpPr>
        <p:spPr>
          <a:xfrm>
            <a:off x="0" y="648828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ootnote: it is flexible to add another parameter to specify this probabilit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2133720" cy="107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ability of click upon examin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CCD-E0FD-41DE-9537-B2F1BD6B82F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A76-100D-44F2-ABDA-DBA00F773B4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143000" y="2590920"/>
          <a:ext cx="5257800" cy="34290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(C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|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54" name="TextBox 7"/>
          <p:cNvSpPr/>
          <p:nvPr/>
        </p:nvSpPr>
        <p:spPr>
          <a:xfrm>
            <a:off x="0" y="648828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ootnote:  the mean of the relevance distribution, detailed in the next par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23812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ability of examine-next w/o a cli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F6C-09A2-44DF-AC3A-A78AB48684E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F61-309A-44BF-99DB-15F680834B1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990720" y="2590920"/>
          <a:ext cx="6324480" cy="3436920"/>
        </p:xfrm>
        <a:graphic>
          <a:graphicData uri="http://schemas.openxmlformats.org/drawingml/2006/table">
            <a:tbl>
              <a:tblPr/>
              <a:tblGrid>
                <a:gridCol w="3162240"/>
                <a:gridCol w="31622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(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+1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|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,C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0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β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16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+1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,d</a:t>
                      </a:r>
                      <a:r>
                        <a:rPr b="0" lang="en-US" sz="16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+1</a:t>
                      </a:r>
                      <a:r>
                        <a:rPr b="0" lang="en-US" sz="12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30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62" name="TextBox 7"/>
          <p:cNvSpPr/>
          <p:nvPr/>
        </p:nvSpPr>
        <p:spPr>
          <a:xfrm>
            <a:off x="0" y="6488280"/>
            <a:ext cx="86104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ootnote:  the probability does not depend 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ability of examine-next after a cli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02E-31CF-4F1B-9EB6-91CDDB3B305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2CB-9306-45E4-AAAB-B49D613C01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990720" y="2590920"/>
          <a:ext cx="6324480" cy="3436920"/>
        </p:xfrm>
        <a:graphic>
          <a:graphicData uri="http://schemas.openxmlformats.org/drawingml/2006/table">
            <a:tbl>
              <a:tblPr/>
              <a:tblGrid>
                <a:gridCol w="3162240"/>
                <a:gridCol w="31622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(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+1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|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,C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-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-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 </a:t>
                      </a: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9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-s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β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i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ability of examine-next after a cli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A7A1-F72A-4D2E-B6C0-737151DE801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08E-DE05-4185-A02E-9D8C7953698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990720" y="2590920"/>
          <a:ext cx="6324480" cy="3436920"/>
        </p:xfrm>
        <a:graphic>
          <a:graphicData uri="http://schemas.openxmlformats.org/drawingml/2006/table">
            <a:tbl>
              <a:tblPr/>
              <a:tblGrid>
                <a:gridCol w="3162240"/>
                <a:gridCol w="31622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(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+1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|E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,C</a:t>
                      </a:r>
                      <a:r>
                        <a:rPr b="1" lang="en-US" sz="3000" spc="-1" strike="noStrike" baseline="-25000">
                          <a:solidFill>
                            <a:srgbClr val="ffffff"/>
                          </a:solidFill>
                          <a:latin typeface="Corbel"/>
                        </a:rPr>
                        <a:t>i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1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-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-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 </a:t>
                      </a: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α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9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-s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r>
                        <a:rPr b="0" lang="en-US" sz="1700" spc="-1" strike="noStrike" baseline="-50000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β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i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8520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irst document is always exami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-order Markov propert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ination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(i+1)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pends on examination and click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ination follows a strict linear order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457-7F74-4B4F-97EB-856918B0D0F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AC3-127D-43AF-AC95-0D0B8C8D154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685800" cy="852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"/>
          <p:cNvPicPr/>
          <p:nvPr/>
        </p:nvPicPr>
        <p:blipFill>
          <a:blip r:embed="rId3"/>
          <a:stretch/>
        </p:blipFill>
        <p:spPr>
          <a:xfrm>
            <a:off x="3200400" y="55627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8"/>
          <p:cNvSpPr/>
          <p:nvPr/>
        </p:nvSpPr>
        <p:spPr>
          <a:xfrm>
            <a:off x="3962520" y="5562720"/>
            <a:ext cx="533160" cy="3808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1"/>
          <p:cNvSpPr/>
          <p:nvPr/>
        </p:nvSpPr>
        <p:spPr>
          <a:xfrm>
            <a:off x="2438280" y="6172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sition i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4800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sition (i+1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5"/>
          <a:stretch/>
        </p:blipFill>
        <p:spPr>
          <a:xfrm>
            <a:off x="4800600" y="5334120"/>
            <a:ext cx="685800" cy="8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ze of parameter se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484-D2E7-4CAF-94DF-27904D5A23D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8D5-60C9-4E8B-8988-33B916393C8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990720" y="2590920"/>
          <a:ext cx="6629400" cy="343692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# of global para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ca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erence and estimation algorith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7176-7C14-40B6-ACF3-69B6778420C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871-DDE4-454B-B2A7-46F945266D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990720" y="2438280"/>
          <a:ext cx="7315200" cy="373392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3733920"/>
              </a:tblGrid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ingle-Pa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tail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ximizing a lower bound of LL, fas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o iteration needed, thanks to the Bayesian fra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M-based, iterative algorith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M-based, usually takes ~30 iterations to conv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pic>
        <p:nvPicPr>
          <p:cNvPr id="687" name="Picture 9" descr=""/>
          <p:cNvPicPr/>
          <p:nvPr/>
        </p:nvPicPr>
        <p:blipFill>
          <a:blip r:embed="rId2"/>
          <a:stretch/>
        </p:blipFill>
        <p:spPr>
          <a:xfrm>
            <a:off x="3203640" y="3352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"/>
          <p:cNvPicPr/>
          <p:nvPr/>
        </p:nvPicPr>
        <p:blipFill>
          <a:blip r:embed="rId3"/>
          <a:stretch/>
        </p:blipFill>
        <p:spPr>
          <a:xfrm>
            <a:off x="3200400" y="4119480"/>
            <a:ext cx="390600" cy="3812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"/>
          <p:cNvPicPr/>
          <p:nvPr/>
        </p:nvPicPr>
        <p:blipFill>
          <a:blip r:embed="rId4"/>
          <a:stretch/>
        </p:blipFill>
        <p:spPr>
          <a:xfrm>
            <a:off x="3200400" y="487692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5"/>
          <a:stretch/>
        </p:blipFill>
        <p:spPr>
          <a:xfrm>
            <a:off x="3200400" y="5638680"/>
            <a:ext cx="401760" cy="4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erence and estimation algorith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9BC0-B024-4C27-9801-1F711608336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060-0487-4745-A433-DD3043A39C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990720" y="2438280"/>
          <a:ext cx="7315200" cy="373392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3733920"/>
              </a:tblGrid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ode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ingle-Pa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tail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ximizing a lower bound of LL, fas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CC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No iteration needed, thanks to the Bayesian fra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B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M-based, iterative algorith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B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M-based, usually takes ~30 iterations to conv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pic>
        <p:nvPicPr>
          <p:cNvPr id="697" name="Picture 9" descr=""/>
          <p:cNvPicPr/>
          <p:nvPr/>
        </p:nvPicPr>
        <p:blipFill>
          <a:blip r:embed="rId2"/>
          <a:stretch/>
        </p:blipFill>
        <p:spPr>
          <a:xfrm>
            <a:off x="3203640" y="3352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9" descr=""/>
          <p:cNvPicPr/>
          <p:nvPr/>
        </p:nvPicPr>
        <p:blipFill>
          <a:blip r:embed="rId3"/>
          <a:stretch/>
        </p:blipFill>
        <p:spPr>
          <a:xfrm>
            <a:off x="3200400" y="4119480"/>
            <a:ext cx="390600" cy="381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"/>
          <p:cNvPicPr/>
          <p:nvPr/>
        </p:nvPicPr>
        <p:blipFill>
          <a:blip r:embed="rId4"/>
          <a:stretch/>
        </p:blipFill>
        <p:spPr>
          <a:xfrm>
            <a:off x="3200400" y="487692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5"/>
          <a:stretch/>
        </p:blipFill>
        <p:spPr>
          <a:xfrm>
            <a:off x="3200400" y="5638680"/>
            <a:ext cx="401760" cy="4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8520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irst document is always exami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-order Markov propert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ination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(i+1)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pends on examination and click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ination follows a strict linear order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56A-22CF-465D-9776-B9BEB7350D2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28B8-7BDD-4E18-BAF0-12060555F96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685800" cy="852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3"/>
          <a:stretch/>
        </p:blipFill>
        <p:spPr>
          <a:xfrm>
            <a:off x="3200400" y="55627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357" name="Right Arrow 8"/>
          <p:cNvSpPr/>
          <p:nvPr/>
        </p:nvSpPr>
        <p:spPr>
          <a:xfrm>
            <a:off x="3962520" y="5562720"/>
            <a:ext cx="533160" cy="3808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1"/>
          <p:cNvSpPr/>
          <p:nvPr/>
        </p:nvSpPr>
        <p:spPr>
          <a:xfrm>
            <a:off x="2438280" y="6172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sition i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4800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sition (i+1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5"/>
          <a:stretch/>
        </p:blipFill>
        <p:spPr>
          <a:xfrm>
            <a:off x="4800600" y="5334120"/>
            <a:ext cx="685800" cy="852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6"/>
          <a:stretch/>
        </p:blipFill>
        <p:spPr>
          <a:xfrm>
            <a:off x="2590920" y="1828800"/>
            <a:ext cx="358128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848520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4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mitation: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amination/click rate monotonically decreases with rank, which is not always tru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ome models do not follow this hypothesis (e.g., UBM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4D4-3A11-4E8B-BE93-C1413816B07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9A4-F5BE-43D9-9A0F-134D86434E1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990720" y="2743200"/>
            <a:ext cx="7696080" cy="3200400"/>
            <a:chOff x="990720" y="2743200"/>
            <a:chExt cx="7696080" cy="3200400"/>
          </a:xfrm>
        </p:grpSpPr>
        <p:pic>
          <p:nvPicPr>
            <p:cNvPr id="369" name="Picture 2" descr=""/>
            <p:cNvPicPr/>
            <p:nvPr/>
          </p:nvPicPr>
          <p:blipFill>
            <a:blip r:embed="rId2"/>
            <a:stretch/>
          </p:blipFill>
          <p:spPr>
            <a:xfrm>
              <a:off x="1214640" y="2819160"/>
              <a:ext cx="3027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3" descr=""/>
            <p:cNvPicPr/>
            <p:nvPr/>
          </p:nvPicPr>
          <p:blipFill>
            <a:blip r:embed="rId3"/>
            <a:stretch/>
          </p:blipFill>
          <p:spPr>
            <a:xfrm>
              <a:off x="4651920" y="2895480"/>
              <a:ext cx="3511800" cy="258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Box 8"/>
            <p:cNvSpPr/>
            <p:nvPr/>
          </p:nvSpPr>
          <p:spPr>
            <a:xfrm>
              <a:off x="1588320" y="5562720"/>
              <a:ext cx="31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rbel"/>
                </a:rPr>
                <a:t>Web search data in [Guo+09a]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2" name="TextBox 9"/>
            <p:cNvSpPr/>
            <p:nvPr/>
          </p:nvSpPr>
          <p:spPr>
            <a:xfrm>
              <a:off x="5548680" y="5562720"/>
              <a:ext cx="31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rbel"/>
                </a:rPr>
                <a:t>Ads click data in [Zhu+10]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990720" y="2743200"/>
              <a:ext cx="7397280" cy="3200400"/>
            </a:xfrm>
            <a:prstGeom prst="rect">
              <a:avLst/>
            </a:prstGeom>
            <a:noFill/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signing click mod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ic user hypothes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ing the first cli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ending to multiple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mmary of model desig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E932-CA8B-407A-9C4F-1F60BD715EF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251-0D6B-4DC9-8808-EC098065340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t together two hypothes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mal model specific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 = 0,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u</a:t>
            </a:r>
            <a:r>
              <a:rPr b="0" lang="en-US" sz="2800" spc="-1" strike="noStrike" baseline="-40000">
                <a:solidFill>
                  <a:srgbClr val="000000"/>
                </a:solidFill>
                <a:latin typeface="Corbe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) =1, 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 =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|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1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0)=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A84-0F0E-437F-ADA8-970E178CD2B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131-22D9-4E92-BE93-18D086DD1E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302520" y="2460600"/>
            <a:ext cx="1012680" cy="1260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974880" cy="1212840"/>
          </a:xfrm>
          <a:prstGeom prst="rect">
            <a:avLst/>
          </a:prstGeom>
          <a:ln w="0">
            <a:noFill/>
          </a:ln>
        </p:spPr>
      </p:pic>
      <p:sp>
        <p:nvSpPr>
          <p:cNvPr id="387" name="Plus 8"/>
          <p:cNvSpPr/>
          <p:nvPr/>
        </p:nvSpPr>
        <p:spPr>
          <a:xfrm>
            <a:off x="5462640" y="2811600"/>
            <a:ext cx="560160" cy="560160"/>
          </a:xfrm>
          <a:custGeom>
            <a:avLst/>
            <a:gdLst>
              <a:gd name="textAreaLeft" fmla="*/ 74160 w 560160"/>
              <a:gd name="textAreaRight" fmla="*/ 486000 w 560160"/>
              <a:gd name="textAreaTop" fmla="*/ 214200 h 560160"/>
              <a:gd name="textAreaBottom" fmla="*/ 345960 h 560160"/>
            </a:gdLst>
            <a:ahLst/>
            <a:rect l="textAreaLeft" t="textAreaTop" r="textAreaRight" b="textAreaBottom"/>
            <a:pathLst>
              <a:path w="559607" h="559607">
                <a:moveTo>
                  <a:pt x="74176" y="213994"/>
                </a:moveTo>
                <a:lnTo>
                  <a:pt x="213994" y="213994"/>
                </a:lnTo>
                <a:lnTo>
                  <a:pt x="213994" y="74176"/>
                </a:lnTo>
                <a:lnTo>
                  <a:pt x="345613" y="74176"/>
                </a:lnTo>
                <a:lnTo>
                  <a:pt x="345613" y="213994"/>
                </a:lnTo>
                <a:lnTo>
                  <a:pt x="485431" y="213994"/>
                </a:lnTo>
                <a:lnTo>
                  <a:pt x="485431" y="345613"/>
                </a:lnTo>
                <a:lnTo>
                  <a:pt x="345613" y="345613"/>
                </a:lnTo>
                <a:lnTo>
                  <a:pt x="345613" y="485431"/>
                </a:lnTo>
                <a:lnTo>
                  <a:pt x="213994" y="485431"/>
                </a:lnTo>
                <a:lnTo>
                  <a:pt x="213994" y="345613"/>
                </a:lnTo>
                <a:lnTo>
                  <a:pt x="74176" y="345613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1066680" y="2743200"/>
            <a:ext cx="3124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ascade Model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Craswell+08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43"/>
          <p:cNvSpPr/>
          <p:nvPr/>
        </p:nvSpPr>
        <p:spPr>
          <a:xfrm>
            <a:off x="6095880" y="4800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rbel"/>
              </a:rPr>
              <a:t>examination hypothe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TextBox 44"/>
          <p:cNvSpPr/>
          <p:nvPr/>
        </p:nvSpPr>
        <p:spPr>
          <a:xfrm>
            <a:off x="6095880" y="5257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rbel"/>
              </a:rPr>
              <a:t>cascade hypothe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TextBox 46"/>
          <p:cNvSpPr/>
          <p:nvPr/>
        </p:nvSpPr>
        <p:spPr>
          <a:xfrm>
            <a:off x="6095880" y="5791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rbel"/>
              </a:rPr>
              <a:t>modeling a single click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2209680" y="5029200"/>
            <a:ext cx="239760" cy="304920"/>
          </a:xfrm>
          <a:prstGeom prst="rect">
            <a:avLst/>
          </a:prstGeom>
          <a:ln w="0">
            <a:noFill/>
          </a:ln>
        </p:spPr>
      </p:pic>
      <p:pic>
        <p:nvPicPr>
          <p:cNvPr id="393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user behavior char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6E8-75D9-48CA-9153-C5FAA7E37D4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C3E-0C38-4CCA-A0B9-D8F5C44E8C7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Flowchart: Process 13"/>
          <p:cNvSpPr/>
          <p:nvPr/>
        </p:nvSpPr>
        <p:spPr>
          <a:xfrm>
            <a:off x="1106640" y="2590920"/>
            <a:ext cx="1981080" cy="685800"/>
          </a:xfrm>
          <a:prstGeom prst="flowChartProcess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Examine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UR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Flowchart: Decision 14"/>
          <p:cNvSpPr/>
          <p:nvPr/>
        </p:nvSpPr>
        <p:spPr>
          <a:xfrm>
            <a:off x="914400" y="4038480"/>
            <a:ext cx="2362320" cy="76212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Click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00" name="Straight Arrow Connector 15"/>
          <p:cNvCxnSpPr>
            <a:stCxn id="398" idx="2"/>
            <a:endCxn id="399" idx="0"/>
          </p:cNvCxnSpPr>
          <p:nvPr/>
        </p:nvCxnSpPr>
        <p:spPr>
          <a:xfrm flipH="1">
            <a:off x="2095200" y="3276720"/>
            <a:ext cx="2160" cy="76248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01" name="Straight Arrow Connector 16"/>
          <p:cNvCxnSpPr>
            <a:stCxn id="399" idx="2"/>
          </p:cNvCxnSpPr>
          <p:nvPr/>
        </p:nvCxnSpPr>
        <p:spPr>
          <a:xfrm>
            <a:off x="2095560" y="4800240"/>
            <a:ext cx="2160" cy="64836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02" name="Straight Arrow Connector 17"/>
          <p:cNvCxnSpPr>
            <a:stCxn id="399" idx="3"/>
            <a:endCxn id="403" idx="1"/>
          </p:cNvCxnSpPr>
          <p:nvPr/>
        </p:nvCxnSpPr>
        <p:spPr>
          <a:xfrm flipV="1">
            <a:off x="3276720" y="4419000"/>
            <a:ext cx="1031040" cy="108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cxnSp>
        <p:nvCxnSpPr>
          <p:cNvPr id="404" name="Elbow Connector 18"/>
          <p:cNvCxnSpPr>
            <a:stCxn id="403" idx="3"/>
            <a:endCxn id="398" idx="3"/>
          </p:cNvCxnSpPr>
          <p:nvPr/>
        </p:nvCxnSpPr>
        <p:spPr>
          <a:xfrm flipH="1" flipV="1">
            <a:off x="3087000" y="2933280"/>
            <a:ext cx="3810600" cy="1486800"/>
          </a:xfrm>
          <a:prstGeom prst="bentConnector3">
            <a:avLst>
              <a:gd name="adj1" fmla="val -16931"/>
            </a:avLst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sp>
        <p:nvSpPr>
          <p:cNvPr id="405" name="TextBox 19"/>
          <p:cNvSpPr/>
          <p:nvPr/>
        </p:nvSpPr>
        <p:spPr>
          <a:xfrm>
            <a:off x="1563840" y="4952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TextBox 20"/>
          <p:cNvSpPr/>
          <p:nvPr/>
        </p:nvSpPr>
        <p:spPr>
          <a:xfrm>
            <a:off x="3468600" y="4038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Flowchart: Decision 24"/>
          <p:cNvSpPr/>
          <p:nvPr/>
        </p:nvSpPr>
        <p:spPr>
          <a:xfrm>
            <a:off x="4307040" y="4057560"/>
            <a:ext cx="2590560" cy="723960"/>
          </a:xfrm>
          <a:prstGeom prst="flowChartDecision">
            <a:avLst/>
          </a:prstGeom>
          <a:noFill/>
          <a:ln w="1260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ee Next URL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1716120" y="541008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TextBox 26"/>
          <p:cNvSpPr/>
          <p:nvPr/>
        </p:nvSpPr>
        <p:spPr>
          <a:xfrm>
            <a:off x="697392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Oval 27"/>
          <p:cNvSpPr/>
          <p:nvPr/>
        </p:nvSpPr>
        <p:spPr>
          <a:xfrm>
            <a:off x="2266920" y="5121360"/>
            <a:ext cx="228600" cy="228600"/>
          </a:xfrm>
          <a:prstGeom prst="ellipse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10" name="Straight Arrow Connector 29"/>
          <p:cNvCxnSpPr>
            <a:endCxn id="409" idx="5"/>
          </p:cNvCxnSpPr>
          <p:nvPr/>
        </p:nvCxnSpPr>
        <p:spPr>
          <a:xfrm flipH="1" flipV="1">
            <a:off x="2461680" y="5315760"/>
            <a:ext cx="510480" cy="322920"/>
          </a:xfrm>
          <a:prstGeom prst="straightConnector1">
            <a:avLst/>
          </a:prstGeom>
          <a:ln cap="rnd" w="19080">
            <a:solidFill>
              <a:srgbClr val="f0ac00"/>
            </a:solidFill>
            <a:miter/>
            <a:tailEnd len="lg" type="stealth" w="med"/>
          </a:ln>
        </p:spPr>
      </p:cxnSp>
      <p:sp>
        <p:nvSpPr>
          <p:cNvPr id="411" name="TextBox 31"/>
          <p:cNvSpPr/>
          <p:nvPr/>
        </p:nvSpPr>
        <p:spPr>
          <a:xfrm>
            <a:off x="2895480" y="5562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Index for URL at position i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533520" cy="30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6:52:45Z</dcterms:modified>
  <cp:revision>387</cp:revision>
  <dc:subject/>
  <dc:title>Statistical Models for Web Search Click Log Analysis</dc:title>
</cp:coreProperties>
</file>