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F5BD-CCDC-4DFD-8536-99472216E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05E6-DFA5-4754-BD48-97C2DA6C4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BB34-0AE5-4E64-B125-2A6B46F04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009-D6B7-49FA-BBE1-6CC140594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1B8C-0614-45F3-AF12-9E33FBE3F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C30D-1547-4926-8A48-207C963E9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37B-E051-4800-BD54-ACDA7E92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8BA-56CF-46A8-9497-1C2A127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FEE-E6B4-4D03-99A0-E7610B81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062-BF6A-46A3-8434-42882EBE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2376-877E-4A42-BF37-654FFCF8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E836-4854-4854-A153-0DADD95F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DD6E-9AA7-44ED-8CF2-08DCE812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5BE0-5D79-4E9D-8E0C-327CCEF8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6B3F-05AC-432A-8888-6CFCA923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3ED3-846E-4FEF-8302-FB7EE772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D2FC-7CC3-4F28-BB76-FFB72642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3E8-4A1A-4C0C-B078-69AFC221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8C34-5B41-48FD-80C1-3A826EF8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8029-2533-4ECA-BD8F-24689DF3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B200-21D4-41D2-8038-5629E092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8FB2-CC26-4B77-AE35-2461D7D4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3258-5B45-48FC-B273-B464694D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122E-BC33-4B33-8ED5-223B69F8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09EF-2ADE-4DB6-ACA5-FF943F8F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D6AE-9967-4ACA-BA6F-DE576D63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CEF4-56F1-486F-B97A-AC2AE1FE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3919-4225-4B78-BE12-89153422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860-6FC2-4496-838E-3ADA55A7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DE2C-E79A-46A9-BC18-2C2F0A33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5ECB-A724-4B51-8E33-4749D27F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7BB3-99FF-4A60-B93F-7DB6F59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37B0-DFA9-4241-BB5C-EBB50FC8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D228-4815-4AAD-9B1A-7D4A7F8C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039D-FF45-4DD9-840A-EA7B9F8A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FBBF-3FC6-42C6-A465-5C1EE2D4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7189B-EF5B-4C3F-918F-39CE739A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442F-8C1B-4B3A-AC7C-0E206E94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35356-6D3A-4F2B-A323-072574F0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1E7-A0A2-4E3F-AA0C-188381A9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6B56-CB44-43B5-8FAF-99141F32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63F6-11F0-4835-B3BC-AB317147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24F22-38DF-4AA8-847C-39B5333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ACE6C-CD2C-4F7A-91A7-6C7D59BD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8E4DE-881D-4BC9-83BF-8642325E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E622A-DC41-44D6-9A2D-F9FC873D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56D6-91E3-41DB-8A90-F33476CE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C739-B0FC-4E64-9EA9-77CE3509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3FC9-519E-4757-926D-31279C82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E8D2C-5E83-49B5-B8C5-FB9309EB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90D-41A3-43B2-B645-5BC7B28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81F8-46B9-4E21-BEA5-E82BFF32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C80DC-AF1F-4F46-8F72-84A5736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FE11D-26F2-4071-8429-25D59B1C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2D1C-1566-49F9-9E6C-B8684A5C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6970-CED5-4BB7-85DD-0E6B0831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72345-BF12-4DB9-B022-245CC1CB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F7AE7-869C-4912-A943-8DAF73AD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5D626-14C2-4A30-8584-48475A87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B1881-7CED-4557-AB8D-2530E890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4A77C-28AA-44DE-927A-73246493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DC2-9E13-4B93-AEFD-A12C74AC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4BE61-5143-4020-808D-1B1FBB47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6832-96AA-4A43-A31D-F46A9844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EC3C3-424D-41B4-8582-205CC023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B9FFF-3B59-4A4F-A097-CF8D2F7B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E348C-2FAB-4341-85FA-D744773A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5712-5E13-4EED-BEE4-1B8A4B65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C4E58-BDCA-40C6-8CDE-80C0DD79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A9188-C07F-4827-A288-1FFFA47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D556F-5D2F-4CCC-AFA7-A78B1C82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19C2A-CF70-4966-9756-08B6CB7F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6B6-84C9-467F-A915-9E19750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2D885-E702-46E7-8411-2034907D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D0132-F3B4-406D-AE6F-015A2332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B0B2A-E40D-470A-80FA-1B6CA338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6CBE2-2310-4C0A-AB1A-DD1F3B19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5CF65-9BD9-426F-A95C-E5531500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237D6-151C-4B59-81B9-FAD7CF53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8B9E9-90D2-4F89-8C81-8A8FDE26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18A4F-C3EB-43F9-8254-3006BB9E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477DB-32B1-49C2-AB3B-9745494B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2947-A256-42BB-8B97-B89830F1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E92-A539-48B6-98A3-00F82049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E925E-1F46-4F6A-955F-437F7C9C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7E46A-01D6-49E3-90E0-7EA9A35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B40A5-989A-467C-A20C-9DD50421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32951-3194-4D16-92DD-B3E0B5F7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4673F-BDD9-4D9E-9F52-09E158D4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323-6F41-49EB-ACB7-2687A9F2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0EAF-C6D4-4C6A-A786-474C5C43DF58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87F9-F79C-4157-8FC8-DF40DBD6674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9E0A-9A86-4177-BF5D-A596897F443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D54E-59E2-422B-BB58-773AD5B657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9413-6C44-4537-9903-2E852CD1580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9EA9-C2EB-4520-848C-110E132600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F5A1-2F70-48DE-8D54-14179A34151D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E9E4-DB70-42A6-9F69-7D00B216957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F11D-FE9E-408C-82AC-8DC7B64867D2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8F7D-65BF-4491-820F-24BAAE33429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E8C6-04EB-453F-A66B-E6630B39EACB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cbcbc"/>
                </a:solidFill>
                <a:latin typeface="Times New Roman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A6A3-426E-49BC-A44F-ED3D06E1FD3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9A04-B55B-48C0-9534-912279954451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80A6-52E4-479A-888B-A41FA2C8A58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33440" y="3176640"/>
            <a:ext cx="8418600" cy="1859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62120" y="5181480"/>
            <a:ext cx="807696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an Guo                    Chao Liu</a:t>
            </a:r>
            <a:br>
              <a:rPr sz="2400"/>
            </a:b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Carnegie Mellon University         Microsoft Research-Redmond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6218280" y="2670120"/>
            <a:ext cx="2647800" cy="4132440"/>
          </a:xfrm>
          <a:prstGeom prst="rect">
            <a:avLst/>
          </a:prstGeom>
          <a:ln w="0">
            <a:noFill/>
          </a:ln>
        </p:spPr>
      </p:pic>
      <p:pic>
        <p:nvPicPr>
          <p:cNvPr id="313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arch Results for “CIKM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3"/>
          <a:stretch/>
        </p:blipFill>
        <p:spPr>
          <a:xfrm>
            <a:off x="1066680" y="2438280"/>
            <a:ext cx="5257800" cy="3913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316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0306-4777-4F55-9F1D-1F0871BD267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2E22-EE25-47BE-93AB-137AF4368AE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Footer Placeholder 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324480" y="2405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rbel"/>
              </a:rPr>
              <a:t># of clicks receiv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6218280" y="2670120"/>
            <a:ext cx="2647800" cy="4132440"/>
          </a:xfrm>
          <a:prstGeom prst="rect">
            <a:avLst/>
          </a:prstGeom>
          <a:ln w="0">
            <a:noFill/>
          </a:ln>
        </p:spPr>
      </p:pic>
      <p:pic>
        <p:nvPicPr>
          <p:cNvPr id="321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dapt ranking to user click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1066680" y="2438280"/>
            <a:ext cx="5257800" cy="3913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324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5CA5-0880-4F20-A8C4-C33B6A268D6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BD11-BB9A-4E48-AD7A-3C9537F7194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Footer Placeholder 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6324480" y="2405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rbel"/>
              </a:rPr>
              <a:t># of clicks receiv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Rounded Rectangle 9"/>
          <p:cNvSpPr/>
          <p:nvPr/>
        </p:nvSpPr>
        <p:spPr>
          <a:xfrm>
            <a:off x="2209680" y="5105520"/>
            <a:ext cx="3886200" cy="609480"/>
          </a:xfrm>
          <a:prstGeom prst="roundRect">
            <a:avLst>
              <a:gd name="adj" fmla="val 16667"/>
            </a:avLst>
          </a:prstGeom>
          <a:noFill/>
          <a:ln w="478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Freeform 35"/>
          <p:cNvSpPr/>
          <p:nvPr/>
        </p:nvSpPr>
        <p:spPr>
          <a:xfrm>
            <a:off x="1930320" y="2602080"/>
            <a:ext cx="343080" cy="2503440"/>
          </a:xfrm>
          <a:custGeom>
            <a:avLst/>
            <a:gdLst/>
            <a:ahLst/>
            <a:rect l="l" t="t" r="r" b="b"/>
            <a:pathLst>
              <a:path w="341790" h="2503503">
                <a:moveTo>
                  <a:pt x="315157" y="2503503"/>
                </a:moveTo>
                <a:cubicBezTo>
                  <a:pt x="157578" y="2046303"/>
                  <a:pt x="0" y="1589103"/>
                  <a:pt x="4439" y="1171853"/>
                </a:cubicBezTo>
                <a:cubicBezTo>
                  <a:pt x="8878" y="754603"/>
                  <a:pt x="175334" y="377301"/>
                  <a:pt x="341790" y="0"/>
                </a:cubicBezTo>
              </a:path>
            </a:pathLst>
          </a:custGeom>
          <a:noFill/>
          <a:ln cap="rnd" w="22320">
            <a:solidFill>
              <a:srgbClr val="7030a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Oval 36"/>
          <p:cNvSpPr/>
          <p:nvPr/>
        </p:nvSpPr>
        <p:spPr>
          <a:xfrm>
            <a:off x="8292960" y="5303880"/>
            <a:ext cx="360360" cy="304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6218280" y="2670120"/>
            <a:ext cx="2647800" cy="4132440"/>
          </a:xfrm>
          <a:prstGeom prst="rect">
            <a:avLst/>
          </a:prstGeom>
          <a:ln w="0">
            <a:noFill/>
          </a:ln>
        </p:spPr>
      </p:pic>
      <p:pic>
        <p:nvPicPr>
          <p:cNvPr id="332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ols needed for non-trivial ca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1066680" y="2438280"/>
            <a:ext cx="5257800" cy="3913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335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5662-40E2-4779-84F2-0723929170A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FA7D-1D10-4FEC-B1FD-5ADB4557DF0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Footer Placeholder 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6324480" y="2405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rbel"/>
              </a:rPr>
              <a:t># of clicks receiv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Rounded Rectangle 9"/>
          <p:cNvSpPr/>
          <p:nvPr/>
        </p:nvSpPr>
        <p:spPr>
          <a:xfrm>
            <a:off x="2209680" y="5105520"/>
            <a:ext cx="3886200" cy="609480"/>
          </a:xfrm>
          <a:prstGeom prst="roundRect">
            <a:avLst>
              <a:gd name="adj" fmla="val 16667"/>
            </a:avLst>
          </a:prstGeom>
          <a:noFill/>
          <a:ln w="478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Freeform 35"/>
          <p:cNvSpPr/>
          <p:nvPr/>
        </p:nvSpPr>
        <p:spPr>
          <a:xfrm>
            <a:off x="1930320" y="2602080"/>
            <a:ext cx="343080" cy="2503440"/>
          </a:xfrm>
          <a:custGeom>
            <a:avLst/>
            <a:gdLst/>
            <a:ahLst/>
            <a:rect l="l" t="t" r="r" b="b"/>
            <a:pathLst>
              <a:path w="341790" h="2503503">
                <a:moveTo>
                  <a:pt x="315157" y="2503503"/>
                </a:moveTo>
                <a:cubicBezTo>
                  <a:pt x="157578" y="2046303"/>
                  <a:pt x="0" y="1589103"/>
                  <a:pt x="4439" y="1171853"/>
                </a:cubicBezTo>
                <a:cubicBezTo>
                  <a:pt x="8878" y="754603"/>
                  <a:pt x="175334" y="377301"/>
                  <a:pt x="341790" y="0"/>
                </a:cubicBezTo>
              </a:path>
            </a:pathLst>
          </a:custGeom>
          <a:noFill/>
          <a:ln cap="rnd" w="22320">
            <a:solidFill>
              <a:srgbClr val="7030a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4"/>
          <a:stretch/>
        </p:blipFill>
        <p:spPr>
          <a:xfrm>
            <a:off x="1447920" y="3886200"/>
            <a:ext cx="419040" cy="7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77860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One of the most extensive (yet indirect) surveys of user experienc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r researchers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Help understand human interaction with IR resul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64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sign and calibrate novel models and hypothes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r practitioners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easure, monitor and improve search engine performanc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ttract more page views and clicks, boost profit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52E2-26AD-4640-BC19-B51D5FB7A9E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FA08-B38D-46B7-9B58-FD07C6AA2E8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7848720" y="5715000"/>
            <a:ext cx="33012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troduce problems and applications in web search click modeling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resent latest development of click models in web search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rovide examples and discuss trade-offs for model design, implementation and evaluation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5EB7-B4B5-4093-AE2E-8C414F50322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5ECD-C743-4EA7-B58F-9475EBA83B1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547920" cy="533520"/>
          </a:xfrm>
          <a:prstGeom prst="rect">
            <a:avLst/>
          </a:prstGeom>
          <a:ln w="0">
            <a:noFill/>
          </a:ln>
        </p:spPr>
      </p:pic>
      <p:pic>
        <p:nvPicPr>
          <p:cNvPr id="354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1822-46DA-4C50-964D-61BC34430AA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CADA-7E0B-4C99-AC50-41931A64AD3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612720" y="1728720"/>
            <a:ext cx="2820960" cy="3684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88584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h.D. Student (exp. 2011), Computer Science Department, Carnegie Mellon Univers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dvisor: Christos Falouts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ssertation topic: graph mining for large bioinformatics image databas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008, M.S., CM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005, B.E., Tsinghua University, Beijing, Chi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0" name="Group 11"/>
          <p:cNvGrpSpPr/>
          <p:nvPr/>
        </p:nvGrpSpPr>
        <p:grpSpPr>
          <a:xfrm>
            <a:off x="914400" y="5562720"/>
            <a:ext cx="2014560" cy="457200"/>
            <a:chOff x="914400" y="5562720"/>
            <a:chExt cx="2014560" cy="457200"/>
          </a:xfrm>
        </p:grpSpPr>
        <p:pic>
          <p:nvPicPr>
            <p:cNvPr id="361" name="Picture 8" descr="title.gif"/>
            <p:cNvPicPr/>
            <p:nvPr/>
          </p:nvPicPr>
          <p:blipFill>
            <a:blip r:embed="rId4"/>
            <a:stretch/>
          </p:blipFill>
          <p:spPr>
            <a:xfrm>
              <a:off x="1347120" y="5562720"/>
              <a:ext cx="1581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9" descr="scslogo.gif"/>
            <p:cNvPicPr/>
            <p:nvPr/>
          </p:nvPicPr>
          <p:blipFill>
            <a:blip r:embed="rId5"/>
            <a:stretch/>
          </p:blipFill>
          <p:spPr>
            <a:xfrm>
              <a:off x="914400" y="5562720"/>
              <a:ext cx="432720" cy="45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Picture 6" descr=""/>
          <p:cNvPicPr/>
          <p:nvPr/>
        </p:nvPicPr>
        <p:blipFill>
          <a:blip r:embed="rId6"/>
          <a:stretch/>
        </p:blipFill>
        <p:spPr>
          <a:xfrm>
            <a:off x="8381880" y="4952880"/>
            <a:ext cx="57312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88584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Researcher, Internet Services Research Center (ISRC), MSR-Redmon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Research focus: large-scale search/browsing log analysis for effective Web information acces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2007, Ph.D., UIU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2005, M.S., UIUC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dvisor: Jiawei Ha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issertation on statistical debugging and automated failure analys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2003, B.S., Peking University, China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53F6-F1B3-4E0C-BD54-6D016F22193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35D7-0AE1-4178-BA50-EF658407EA7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609480" y="1728720"/>
            <a:ext cx="2824200" cy="3681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MicrosoftResearch.jpg"/>
          <p:cNvPicPr/>
          <p:nvPr/>
        </p:nvPicPr>
        <p:blipFill>
          <a:blip r:embed="rId3"/>
          <a:stretch/>
        </p:blipFill>
        <p:spPr>
          <a:xfrm>
            <a:off x="990720" y="5562720"/>
            <a:ext cx="1904760" cy="433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UIUC logo.png"/>
          <p:cNvPicPr/>
          <p:nvPr/>
        </p:nvPicPr>
        <p:blipFill>
          <a:blip r:embed="rId4"/>
          <a:stretch/>
        </p:blipFill>
        <p:spPr>
          <a:xfrm>
            <a:off x="6629400" y="3962520"/>
            <a:ext cx="411120" cy="533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Peking_University.png"/>
          <p:cNvPicPr/>
          <p:nvPr/>
        </p:nvPicPr>
        <p:blipFill>
          <a:blip r:embed="rId5"/>
          <a:stretch/>
        </p:blipFill>
        <p:spPr>
          <a:xfrm>
            <a:off x="8458200" y="5638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igning click mod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yesian click mod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lected topics on click mod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86E3-2D33-4037-9DA1-84903428CFE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Corbel"/>
              </a:rPr>
              <a:t>CIKM'09 Tutorial, Hong Kong, Chin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38CC-1618-4C19-84A2-3B09C2B1702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n Guo</dc:creator>
  <dc:description/>
  <dc:language>en-US</dc:language>
  <cp:lastModifiedBy>fanguo</cp:lastModifiedBy>
  <dcterms:modified xsi:type="dcterms:W3CDTF">2009-11-02T16:48:28Z</dcterms:modified>
  <cp:revision>111</cp:revision>
  <dc:subject/>
  <dc:title>Statistical Models for Web Search Click Log Analysis</dc:title>
</cp:coreProperties>
</file>