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3839-EE09-4950-BF5F-91D37624A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91FA-B578-419A-BA62-82E9CD699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6B0A-53F2-4B15-B3D7-33C25C839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8ED-ECDE-47CE-868B-8DC44915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C26-5866-484F-A52C-13930A1E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A47-8160-4731-853D-EA75FB43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6A9-2CBA-431E-951B-B75B02F7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0309-64EA-433B-B05B-131754DB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298B-2288-472A-9905-40993E3E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BE8B-AD14-47ED-9F5C-19AA651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F249-1239-43E3-98FF-AB83FB29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4CE2-2F1B-4795-8466-0BC4C007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8264-AC54-412A-857E-2A7D0914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E294-96EA-4B40-B52A-A921E964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07A-625B-4365-B2D1-1FCCB285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C87F-C657-4F9F-B752-15F9B0FA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2F6E-E22A-46B2-B963-605F779E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FB81-8E8B-4AD9-ADE4-783C336A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8E95-9F9D-4D01-B302-2F2F63AA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F9F2-015E-454A-BFB5-34F24D91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AFB4-5817-4D65-8538-B377EE98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75B8-9F1E-46D5-AF36-E870309A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AC97-9FD1-447D-9A45-D279D31E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2887-0757-40C6-B5C8-F0B968E7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804C-53B9-4455-A798-F0BFB758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612-25E7-42CF-B23A-D5CD8351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C58A-11A9-4B55-A063-FD71F090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BFA4-7677-40D6-AEB0-29098B76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9899-8F0A-400E-8474-8CB16A84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3DD23-07B6-47D4-9B11-152A1874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9496-5929-4465-8308-12E2FA1E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6B63-AE26-442B-ADAC-1A86C91B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4E7A-3E88-4D91-9DAF-40084817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042A-E76E-4664-8A02-2457EA22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061DA-F355-488E-BA5D-CC358D73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477CB-BCA5-449D-AC2E-98ACCA13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BAD-6CAD-49A7-9625-D768A196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9F9E9-0291-457C-8CF7-68D72D8F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10F46-C3D4-41B0-9BCD-D844E512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5E74C-E674-4802-AD10-3742FA1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32E8D-AD2B-4D24-B074-66EE7F5F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0E694-E57A-49F6-8E0A-8D96909B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671D5-8653-4A9F-B8FD-BD3B67C2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26F7C-27A4-413E-8225-D9F49D14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55465-59D8-4E75-9142-6059A358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7694-43DC-4B12-8EC2-8F00C6CC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16F9-7DB4-4662-A719-3B8F9518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BE0-ABC4-4139-8F77-7CF53AE3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8B78B-04A2-4E08-AE87-C29FBAB6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8DFAA-694F-48A3-957A-5A75AB84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CBEE5-D8DF-423B-89D6-D1FA3A19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8BB9B-712F-4A48-A378-BC11A040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C2965-0E7A-4399-9C96-D46E74BD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34E0F-BD88-44E4-9C1E-672E855E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FB28E-A521-46D6-BC05-2C1B26BD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D861B-4130-4C8F-A826-E1A4D2A3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B3411-60F4-48FA-B13A-35680FA3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B01A1-E142-4400-A2EF-FC8C1220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B5A-3B66-4DF5-9CAF-78725A37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FB2DC-3710-4D5D-BCEF-CE3BEA97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5FF44-A599-44A2-8238-E05BEBBE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6106B-50EE-4049-B77B-904FF63F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29304-EC72-481F-BFED-CDB2EFFB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14008-2454-4786-8DAD-C3A3C9E9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108DB-8C86-4E90-BCE5-6BCB48F9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BC25F-4A61-4996-B2D8-84D8FFCB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1454B-46DD-47FC-BCFF-E2C6E376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FC3F3-66F9-446D-8EBF-0B34DB34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7959F-6BD2-4A08-86EC-1E423434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3CC-82F1-4436-ACAB-C30BE631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F42F8-2185-4E09-AA0B-5BA68CED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9F50B-0B12-454A-A418-A3D559BE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B7718-52E4-4391-8D57-B114487B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107EA-B377-488F-9F9B-BED38D38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A824D-2C68-4D1F-82B5-0FAC6441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6EFFE-528D-410B-8A82-1B7FD03B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DFBA7-DAC4-421A-B0AC-CDAC3CBF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89E8F-4D5E-467F-B17B-D1E7FEFE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D2FDF-F059-4202-A39F-60B8CBD7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D1D6F-D525-47B8-92BE-E51A6E5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943-8ACB-4735-A63E-87D9BAC3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A080A-A27F-4FF1-A102-ED5D8CDB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3C018-0026-42FC-B1D8-0F74CAEB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BB613-AFB9-4F1E-8B7A-3DFB6F81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9B8D0-AADC-4898-8298-5CAD25C3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73E0E-B21A-4ACC-ADCC-37EE19E8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C09-21E9-4F43-92DB-C28611DA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5CBF-E84A-4B24-A010-23C73FEA2B6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AAA0-0DD7-4D1A-A3FB-C016FB45CF3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CC00-83D0-43A8-B3C7-2EE2A109FE22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036C-53F5-4B4E-96D1-E3AB0793C22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C43-2E10-40D2-BA21-148E9B1AFC34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BDD8-E45F-4414-B7B7-B2ACC73946A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60BE-DB82-4249-BA7D-362AC587D4F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B36B-0E63-49D9-AFEF-F954C9BB8E2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B53D-077C-4D5C-BE09-A586E0AD2DF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D55B-698F-4ACE-861B-331D02D266B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B03E-D001-4C46-8B82-2BDB624CB63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cbcbc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85CE-F24B-4E70-8901-8DE3379AB0B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8C7C-4820-45BB-9273-2CA354209BF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B69E-1D84-426B-8E9D-4204C868132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a0b2"/>
                </a:solidFill>
                <a:latin typeface="Corbe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a0b2"/>
                </a:solidFill>
                <a:latin typeface="Corbel"/>
              </a:rPr>
              <a:t>Designing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a0b2"/>
                </a:solidFill>
                <a:latin typeface="Corbel"/>
              </a:rPr>
              <a:t>Bayesian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a0b2"/>
                </a:solidFill>
                <a:latin typeface="Corbel"/>
              </a:rPr>
              <a:t>Selected topics on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76CD-7EC4-4C1E-82F3-0E42C716AF3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F9AE-B07C-45D3-9B5A-C56A9AC0BF7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228600" y="4068720"/>
            <a:ext cx="331920" cy="3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5EF9-35FE-47EB-B31C-4A92EC896B1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6DBE-9176-4782-9993-25037A9F69B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5103720" y="2435400"/>
            <a:ext cx="3830760" cy="19810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0"/>
          <p:cNvSpPr/>
          <p:nvPr/>
        </p:nvSpPr>
        <p:spPr>
          <a:xfrm>
            <a:off x="4952880" y="4416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-Min Wa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TextBox 15"/>
          <p:cNvSpPr/>
          <p:nvPr/>
        </p:nvSpPr>
        <p:spPr>
          <a:xfrm>
            <a:off x="6172200" y="47214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orbel"/>
              </a:rPr>
              <a:t>MSR, ISRC-Redmon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1" descr=""/>
          <p:cNvPicPr/>
          <p:nvPr/>
        </p:nvPicPr>
        <p:blipFill>
          <a:blip r:embed="rId3"/>
          <a:stretch/>
        </p:blipFill>
        <p:spPr>
          <a:xfrm>
            <a:off x="228600" y="2282760"/>
            <a:ext cx="203976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Box 17"/>
          <p:cNvSpPr/>
          <p:nvPr/>
        </p:nvSpPr>
        <p:spPr>
          <a:xfrm>
            <a:off x="609480" y="4950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orbel"/>
              </a:rPr>
              <a:t>MSR, Cambridg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TextBox 9"/>
          <p:cNvSpPr/>
          <p:nvPr/>
        </p:nvSpPr>
        <p:spPr>
          <a:xfrm>
            <a:off x="533520" y="4645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ke Taylo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4"/>
          <a:stretch/>
        </p:blipFill>
        <p:spPr>
          <a:xfrm>
            <a:off x="2895480" y="2282760"/>
            <a:ext cx="1830600" cy="24670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7"/>
          <p:cNvSpPr/>
          <p:nvPr/>
        </p:nvSpPr>
        <p:spPr>
          <a:xfrm>
            <a:off x="2971800" y="502596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orbel"/>
              </a:rPr>
              <a:t>MSR, ISRC-Redmon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9"/>
          <p:cNvSpPr/>
          <p:nvPr/>
        </p:nvSpPr>
        <p:spPr>
          <a:xfrm>
            <a:off x="3200400" y="4721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an T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sp>
        <p:nvSpPr>
          <p:cNvPr id="38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C613-6792-422C-89C8-0C8F732CF7B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1985-4121-488E-A9E9-526392A6C3E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1" descr=""/>
          <p:cNvPicPr/>
          <p:nvPr/>
        </p:nvPicPr>
        <p:blipFill>
          <a:blip r:embed="rId3"/>
          <a:stretch/>
        </p:blipFill>
        <p:spPr>
          <a:xfrm>
            <a:off x="3048120" y="2743200"/>
            <a:ext cx="2438280" cy="224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mod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tatistical tool to leverage valuable user implicit feedback in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terabyte/petabyt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search log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vide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lick prediction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s well as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relevance estimat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pplication domains include learning to rank, measuring search performance, online advertising, user behavior analysis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BF71-9193-4559-BC73-A50BC58494A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937F-D738-41D7-AD11-A0D456D0443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mod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fferent model designs reflect various assumption of user behaviors to explain the position-bi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modeling choice may depend on the application scenari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42B2-8BDA-4F8A-881C-A6FD2F3D668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AA44-A35A-451C-9FC7-912FBE722CE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mod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Efficient, single-pass, parallelizable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gorithms are desired in real-world applica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Bayesian framework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uld be applied to click models for both modeling benefits and computational benefi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Chain Model and Bayesian Browsing Model represent state-of-the-art examp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C89F-9CB3-4F58-A5E0-8710A11EC74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7EB3-80D6-47CF-A1DB-5C72721DE4B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igger Contex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Query reformula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sonaliz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icher inpu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niversal sear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verse user feedb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model v.s. Human judg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2438-6DD5-4261-B5DD-28DDD6C7DFF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CB5B-9F2B-4654-8854-E93B1FB6B80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7772400" y="4714920"/>
            <a:ext cx="633240" cy="533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3"/>
          <a:stretch/>
        </p:blipFill>
        <p:spPr>
          <a:xfrm>
            <a:off x="5486400" y="4714920"/>
            <a:ext cx="2286000" cy="571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"/>
          <p:cNvPicPr/>
          <p:nvPr/>
        </p:nvPicPr>
        <p:blipFill>
          <a:blip r:embed="rId4"/>
          <a:stretch/>
        </p:blipFill>
        <p:spPr>
          <a:xfrm>
            <a:off x="5486400" y="3886200"/>
            <a:ext cx="2514600" cy="782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"/>
          <p:cNvPicPr/>
          <p:nvPr/>
        </p:nvPicPr>
        <p:blipFill>
          <a:blip r:embed="rId5"/>
          <a:stretch/>
        </p:blipFill>
        <p:spPr>
          <a:xfrm>
            <a:off x="7010280" y="5486400"/>
            <a:ext cx="140652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Burges+05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C. Burges, T. Shaked, E. Renshaw, A. Lazier, M. Deeds, N. Hamilton, and G. Hullender. Learning to rank using gradient descent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ICML’05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Chapelle+09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O. Chapelle and Y. Zhang.  A dynamic Bayesian network click model for web search ranking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WWW’09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Craswell+08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N. Craswell, O. Zoeter, M. Taylor, and B. Ramsey. An experimental comparison of click position-bias models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WSDM ’08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Dean+04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J. Dean and S. Ghemawat. MapReduce: Simplified data processing on large clusters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OSDI’04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Dupret+08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G. Dupret and B. Piwowarski. A user browsing model to predict search engine click data from past observations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SIGIR’08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585C-9F5D-4E51-BC27-355DF16D5F0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D027-0707-4B21-89D5-E65EA3E6C74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Guo+09a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F. Guo, C. Liu, and Y.-M. Wang. Efficient multiple-click models in web search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WSDM’09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Guo+09b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F. Guo, C. Liu, A. Kannan, T. Minka, M. Taylor, Y.-M. Wang, and C. Faloutsos.  Click chain model in web search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WWW’09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Guo+09c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F. Guo, L. Li, and C. Faloutsos. Tailoring click models to user goals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WSCD’09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Joachims02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T. Joachims. Optimizing search engines using clickthrough data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KDD’02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Joachims+07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T. Joachims, L. Granka, B. Pan, H. Hembrooke, F. Radlinski, and G. Gay. Accurately interpreting clickthrough data as implicit feedback,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ACM</a:t>
            </a:r>
            <a:r>
              <a:rPr b="0" i="1" lang="zh-CN" sz="2200" spc="-1" strike="noStrike">
                <a:solidFill>
                  <a:srgbClr val="000000"/>
                </a:solidFill>
                <a:latin typeface="Corbel"/>
                <a:ea typeface="华文楷体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  <a:ea typeface="华文楷体"/>
              </a:rPr>
              <a:t>TOIS, 25(2), 2007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  <a:ea typeface="华文楷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9B3B-70E5-4C14-BA20-5C157E985A3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8EDB-B6F5-4C02-9F62-DE0E5BF71DC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Lee+05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U. Lee, Z. Liu, and J. Cho. Automatic identification ofuser goals in web search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WWW’05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Liu+09a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C. Liu, F. Guo, and C. Faloutsos. BBM: Deriving click models from petabyte-scale data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KDD’09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Liu+09b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. Liu, M. Li, and Y.-M. Wang. Post-rank reordering: resolving preference misalignments between search engines and end users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CIKM’09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Richardson+07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. Richardson, E. Dominowska, and R. Ragno. Predicting clicks: estimating the click-through rate for new ads.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WWW’07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[Zhu+10]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lang="en-US" sz="2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Z. Zhu, W. Chen, T. Minka, C. Zhu and Z. Chen. A novel click model and its applications to online advertising. To appear in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WSDM’10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7F76-5C88-4134-A742-4B23978DFFE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E725-BE47-4D63-BEE6-6D4CD1B5E12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FF3A-D7BC-447B-B1A6-CA9D2E5657F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0614-6723-485B-B312-8A8E39D9AA3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1640160" cy="22129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19"/>
          <p:cNvSpPr/>
          <p:nvPr/>
        </p:nvSpPr>
        <p:spPr>
          <a:xfrm>
            <a:off x="3200400" y="5257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orbel"/>
              </a:rPr>
              <a:t>MSR, Search Lab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TextBox 9"/>
          <p:cNvSpPr/>
          <p:nvPr/>
        </p:nvSpPr>
        <p:spPr>
          <a:xfrm>
            <a:off x="2895480" y="4952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itha Kann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5373720" y="4343400"/>
            <a:ext cx="1560600" cy="20574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8"/>
          <p:cNvSpPr/>
          <p:nvPr/>
        </p:nvSpPr>
        <p:spPr>
          <a:xfrm>
            <a:off x="7162920" y="50292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orbel"/>
              </a:rPr>
              <a:t>MSR, Cambridg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9"/>
          <p:cNvSpPr/>
          <p:nvPr/>
        </p:nvSpPr>
        <p:spPr>
          <a:xfrm>
            <a:off x="708660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m Mink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4"/>
          <a:stretch/>
        </p:blipFill>
        <p:spPr>
          <a:xfrm>
            <a:off x="3657600" y="1676520"/>
            <a:ext cx="2514600" cy="16351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6"/>
          <p:cNvSpPr/>
          <p:nvPr/>
        </p:nvSpPr>
        <p:spPr>
          <a:xfrm>
            <a:off x="3809880" y="3657600"/>
            <a:ext cx="211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orbe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TextBox 10"/>
          <p:cNvSpPr/>
          <p:nvPr/>
        </p:nvSpPr>
        <p:spPr>
          <a:xfrm>
            <a:off x="3657600" y="335268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istos Falouts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5"/>
          <a:stretch/>
        </p:blipFill>
        <p:spPr>
          <a:xfrm>
            <a:off x="6781680" y="1600200"/>
            <a:ext cx="1752840" cy="17733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0"/>
          <p:cNvSpPr/>
          <p:nvPr/>
        </p:nvSpPr>
        <p:spPr>
          <a:xfrm>
            <a:off x="6962760" y="334980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-Wei H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TextBox 16"/>
          <p:cNvSpPr/>
          <p:nvPr/>
        </p:nvSpPr>
        <p:spPr>
          <a:xfrm>
            <a:off x="6886440" y="3654360"/>
            <a:ext cx="211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orbel"/>
              </a:rPr>
              <a:t>MSR, ISRC-Redmon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6"/>
          <a:stretch/>
        </p:blipFill>
        <p:spPr>
          <a:xfrm>
            <a:off x="762120" y="1676520"/>
            <a:ext cx="2190600" cy="171900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6"/>
          <p:cNvSpPr/>
          <p:nvPr/>
        </p:nvSpPr>
        <p:spPr>
          <a:xfrm>
            <a:off x="1236600" y="365760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orbel"/>
              </a:rPr>
              <a:t>MSR, Cambridg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TextBox 10"/>
          <p:cNvSpPr/>
          <p:nvPr/>
        </p:nvSpPr>
        <p:spPr>
          <a:xfrm>
            <a:off x="990720" y="335268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ck Craswel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n Guo</dc:creator>
  <dc:description/>
  <dc:language>en-US</dc:language>
  <cp:lastModifiedBy>fanguo</cp:lastModifiedBy>
  <dcterms:modified xsi:type="dcterms:W3CDTF">2009-11-02T17:00:06Z</dcterms:modified>
  <cp:revision>483</cp:revision>
  <dc:subject/>
  <dc:title>Statistical Models for Web Search Click Log Analysis</dc:title>
</cp:coreProperties>
</file>