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4.xml.rels" ContentType="application/vnd.openxmlformats-package.relationships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9.png" ContentType="image/png"/>
  <Override PartName="/ppt/media/image32.wmf" ContentType="image/x-wmf"/>
  <Override PartName="/ppt/media/image27.png" ContentType="image/png"/>
  <Override PartName="/ppt/media/image30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18.wmf" ContentType="image/x-wmf"/>
  <Override PartName="/ppt/media/image26.png" ContentType="image/png"/>
  <Override PartName="/ppt/media/image6.jpeg" ContentType="image/jpeg"/>
  <Override PartName="/ppt/media/image28.wmf" ContentType="image/x-wmf"/>
  <Override PartName="/ppt/media/image10.png" ContentType="image/png"/>
  <Override PartName="/ppt/media/image35.jpeg" ContentType="image/jpeg"/>
  <Override PartName="/ppt/media/image34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8.jpeg" ContentType="image/jpeg"/>
  <Override PartName="/ppt/media/image38.png" ContentType="image/png"/>
  <Override PartName="/ppt/media/image13.png" ContentType="image/png"/>
  <Override PartName="/ppt/media/image9.jpeg" ContentType="image/jpeg"/>
  <Override PartName="/ppt/media/image48.png" ContentType="image/png"/>
  <Override PartName="/ppt/media/image11.png" ContentType="image/png"/>
  <Override PartName="/ppt/media/image7.jpeg" ContentType="image/jpeg"/>
  <Override PartName="/ppt/media/image5.jpeg" ContentType="image/jpeg"/>
  <Override PartName="/ppt/media/image2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16000" y="4570560"/>
            <a:ext cx="508968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57480" y="729360"/>
            <a:ext cx="4799880" cy="360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asically our main contribution: “wake up, you *can* do dimensionality reduction incrementally, in real-tim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0F5-6947-4F10-87C3-8A81C5E9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CDB-0A8B-4B33-A643-3B8D3E54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8B8-7932-43FB-8290-E3B23DAF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601-2439-44B2-9AD7-012EB9F0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F73-1D36-4B78-9321-DDF74D87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C35-13A1-4129-AC32-A89877C7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0C0-9EE3-4EC1-81E7-B4FEAFE6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748-A22C-4C23-9521-CA18F0FE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D97-D740-4E2A-8E3C-241ED791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325-D21E-4D7E-BBE2-A0359B6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AF5-13C5-498A-BE21-A67EBD7B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52B-208D-4D3D-BFC1-648546A4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69D93AB-4C25-4B62-A141-F85F7DDF7CE4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44280" y="0"/>
          <a:ext cx="5223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0"/>
                    <a:ext cx="522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685440" y="1800"/>
            <a:ext cx="9385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http://www.cs.cmu.edu/~christos" TargetMode="External"/><Relationship Id="rId2" Type="http://schemas.openxmlformats.org/officeDocument/2006/relationships/hyperlink" Target="http://www.db.cs.cmu.edu/" TargetMode="External"/><Relationship Id="rId3" Type="http://schemas.openxmlformats.org/officeDocument/2006/relationships/hyperlink" Target="http://www.db.cs.cmu.edu/" TargetMode="External"/><Relationship Id="rId4" Type="http://schemas.openxmlformats.org/officeDocument/2006/relationships/hyperlink" Target="http://www.db.cs.cmu.edu/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967040"/>
            <a:ext cx="8569440" cy="2001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500" spc="-1" strike="noStrike">
                <a:solidFill>
                  <a:srgbClr val="a50021"/>
                </a:solidFill>
                <a:latin typeface="Times New Roman"/>
              </a:rPr>
              <a:t>Finding patterns in large, real networks</a:t>
            </a:r>
            <a:endParaRPr b="0" lang="en-US" sz="5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3280" y="4268520"/>
            <a:ext cx="8610480" cy="197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hristos Faloutsos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Laws – degree distributions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g degree is ~2 - what is the most probable degre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16000" y="3359160"/>
            <a:ext cx="2855880" cy="2016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84480" y="4367160"/>
            <a:ext cx="2603520" cy="952560"/>
          </a:xfrm>
          <a:custGeom>
            <a:avLst/>
            <a:gdLst/>
            <a:ahLst/>
            <a:rect l="l" t="t" r="r" b="b"/>
            <a:pathLst>
              <a:path w="1488" h="544">
                <a:moveTo>
                  <a:pt x="0" y="528"/>
                </a:moveTo>
                <a:cubicBezTo>
                  <a:pt x="136" y="536"/>
                  <a:pt x="272" y="544"/>
                  <a:pt x="384" y="480"/>
                </a:cubicBezTo>
                <a:cubicBezTo>
                  <a:pt x="496" y="416"/>
                  <a:pt x="584" y="224"/>
                  <a:pt x="672" y="144"/>
                </a:cubicBezTo>
                <a:cubicBezTo>
                  <a:pt x="760" y="64"/>
                  <a:pt x="840" y="0"/>
                  <a:pt x="912" y="0"/>
                </a:cubicBezTo>
                <a:cubicBezTo>
                  <a:pt x="984" y="0"/>
                  <a:pt x="1048" y="72"/>
                  <a:pt x="1104" y="144"/>
                </a:cubicBezTo>
                <a:cubicBezTo>
                  <a:pt x="1160" y="216"/>
                  <a:pt x="1184" y="368"/>
                  <a:pt x="1248" y="432"/>
                </a:cubicBezTo>
                <a:cubicBezTo>
                  <a:pt x="1312" y="496"/>
                  <a:pt x="1400" y="512"/>
                  <a:pt x="1488" y="52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33040" y="5589720"/>
            <a:ext cx="1083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3960" y="3236760"/>
            <a:ext cx="938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8560" y="3321000"/>
            <a:ext cx="495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?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95760" y="5291280"/>
            <a:ext cx="0" cy="168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44840" y="5627520"/>
            <a:ext cx="587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86B-F8EC-4463-BD4D-FF6D357A0F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Aiello+, '00] William Aiello, Fan R. K. Chung, Linyuan Lu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A random graph model for massive graph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STOC 2000: 171-180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Albert+] Reka Albert, Hawoong Jeong, and Albert-Laszlo Barabasi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Diameter of the World Wide Web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Nature 401 130-131 (1999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Barabasi, '03] Albert-Laszlo Barabasi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inked: How Everything Is Connected to Everything Else and What It Mean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(Plume, 2003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17A-D8D1-40DC-B30E-1BD3AC597619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Barabasi+, '99] Albert-Laszlo Barabasi and Reka Albert.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Emergence of scaling in random network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Science, 286:509--512, 1999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Broder+, '00] Andrei Broder, Ravi Kumar, Farzin Maghoul, Prabhakar Raghavan, Sridhar Rajagopalan, Raymie Stata, Andrew Tomkins, and Janet Wiener.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Graph structure in the web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WWW, 2000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245-520D-4FD2-B26C-DDC05F37A457}" type="slidenum">
              <a:t>10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Chakrabarti+, ‘04]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 RMAT: A recursive graph generator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D. Chakrabarti, Y. Zhan, C. Faloutsos, SIAM-DM 2004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Dill+, '01] Stephen Dill, Ravi Kumar, Kevin S. McCurley, Sridhar Rajagopalan, D. Sivakumar, Andrew Tomkins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Self-similarity in the Web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VLDB 2001: 69-7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AC2-03E8-4FCB-8E10-06690DCA8B41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Fabrikant+, '02] A. Fabrikant, E. Koutsoupias, and C.H. Papadimitriou. 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Heuristically Optimized Trade-offs: A New Paradigm for Power Laws in the Internet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ICALP, Malaga, Spain, July 200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FFF, 99] M. Faloutsos, P. Faloutsos, and C. Faloutsos, "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On power-law relationships of the Internet topology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" in SIGCOMM, 1999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0FD-F6BB-4D85-BF4E-676B8FA7B341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Leskovec+05a] Jure Leskovec, Jon Kleinberg and Christos Faloutsos  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Graphs over Time: Densification Laws, Shrinking Diameters and Possible Explanation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  KDD 2005, Chicago, I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Best research paper award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Leskovec+05b] Jure Leskovec, Deepayan Chakrabarti, Jon Kleinberg and Christos Faloutsos,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Realistic, Mathematically Tractable Graph Generation and Evolution, Using Kronecker Multiplication,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CML/PKDD 2005, Porto, Portugal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26F-85A9-45BD-A3F0-CE848F77194B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Jovanovic+, '01] M. Jovanovic, F.S. Annexstein, and K.A. Berman. 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odeling Peer-to-Peer Network Topologies through "Small-World" Models and Power Law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In TELFOR, Belgrade, Yugoslavia, November, 200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Kumar+ '99] Ravi Kumar, Prabhakar Raghavan, Sridhar Rajagopalan, Andrew Tomkins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Extracting Large-Scale Knowledge Bases from the Web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 VLDB 1999: 639-650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09A-0334-457A-929C-59AD298C9EFB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Leland+, '94] W. E. Leland, M.S. Taqqu,  W. Willinger, D.V. Wilson, 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On the Self-Similar Nature of Ethernet Traffic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IEEE Transactions on Networking, 2, 1, pp 1-15, Feb. 1994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Mihail+, '02] Milena Mihail, Christos H. Papadimitriou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On the Eigenvalue Power Law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RANDOM 2002: 254-26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7D4-2F00-4BF3-BBF5-FD9B082B473E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Milgram '67] Stanley Milgram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The Small World Problem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Psychology Today 1(1), 60-67 (1967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Montgomery+, ‘01] Alan L. Montgomery, Christos Faloutsos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Identifying Web Browsing Trends and Pattern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IEEE Computer  34(7): 94-95 (2001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FC2-138F-4372-A521-E72787AB4CE5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Palmer+, ‘01] Chris Palmer, Georgos Siganos, Michalis Faloutsos, Christos Faloutsos and Phil Gibbons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The connectivity and fault-tolerance of the Internet topology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(NRDM 2001), Santa Barbara, CA, May 25, 200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Papadimitriou+,’05] Spiros Papadimitriou, Jimeng Sun and Christos Faloutsos 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Streaming Pattern Discovery in Multiple Time-Serie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 VLDB 2005, Trondheim, Norwa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359-B0C2-48AF-9A19-175F1FB7B802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Pennock+, '02] David M. Pennock, Gary William Flake, Steve Lawrence, Eric J. Glover, C. Lee Giles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Winners don't take all: Characterizing the competition for links on the web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Proc. Natl. Acad. Sci. USA 99(8): 5207-5211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(2002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Schroeder, ‘91] Manfred Schroeder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Fractals, Chaos, Power Laws: Minutes from an Infinite Paradise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 H Freeman &amp; Co., 1991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excellent book on fractal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0880" y="41148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90C-BC37-433E-B1D6-5E7B73D75E8E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Laws – degree distributions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g degree is ~2 - what is the most probable degre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33600" y="5543640"/>
            <a:ext cx="1083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03960" y="2435400"/>
            <a:ext cx="8270280" cy="3690360"/>
            <a:chOff x="903960" y="2435400"/>
            <a:chExt cx="8270280" cy="3690360"/>
          </a:xfrm>
        </p:grpSpPr>
        <p:grpSp>
          <p:nvGrpSpPr>
            <p:cNvPr id="94" name=""/>
            <p:cNvGrpSpPr/>
            <p:nvPr/>
          </p:nvGrpSpPr>
          <p:grpSpPr>
            <a:xfrm>
              <a:off x="903960" y="3236760"/>
              <a:ext cx="4611600" cy="2889000"/>
              <a:chOff x="903960" y="3236760"/>
              <a:chExt cx="4611600" cy="2889000"/>
            </a:xfrm>
          </p:grpSpPr>
          <p:sp>
            <p:nvSpPr>
              <p:cNvPr id="95" name=""/>
              <p:cNvSpPr/>
              <p:nvPr/>
            </p:nvSpPr>
            <p:spPr>
              <a:xfrm>
                <a:off x="2016000" y="3359160"/>
                <a:ext cx="2856240" cy="201708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83760" y="4367880"/>
                <a:ext cx="2604240" cy="952560"/>
              </a:xfrm>
              <a:custGeom>
                <a:avLst/>
                <a:gdLst/>
                <a:ahLst/>
                <a:rect l="l" t="t" r="r" b="b"/>
                <a:pathLst>
                  <a:path w="1488" h="544">
                    <a:moveTo>
                      <a:pt x="0" y="528"/>
                    </a:moveTo>
                    <a:cubicBezTo>
                      <a:pt x="136" y="536"/>
                      <a:pt x="272" y="544"/>
                      <a:pt x="384" y="480"/>
                    </a:cubicBezTo>
                    <a:cubicBezTo>
                      <a:pt x="496" y="416"/>
                      <a:pt x="584" y="224"/>
                      <a:pt x="672" y="144"/>
                    </a:cubicBezTo>
                    <a:cubicBezTo>
                      <a:pt x="760" y="64"/>
                      <a:pt x="840" y="0"/>
                      <a:pt x="912" y="0"/>
                    </a:cubicBezTo>
                    <a:cubicBezTo>
                      <a:pt x="984" y="0"/>
                      <a:pt x="1048" y="72"/>
                      <a:pt x="1104" y="144"/>
                    </a:cubicBezTo>
                    <a:cubicBezTo>
                      <a:pt x="1160" y="216"/>
                      <a:pt x="1184" y="368"/>
                      <a:pt x="1248" y="432"/>
                    </a:cubicBezTo>
                    <a:cubicBezTo>
                      <a:pt x="1312" y="496"/>
                      <a:pt x="1400" y="512"/>
                      <a:pt x="1488" y="52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2320" y="5590080"/>
                <a:ext cx="108324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degree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3960" y="3236760"/>
                <a:ext cx="93852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count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509280" y="3320640"/>
                <a:ext cx="4950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??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696120" y="5292360"/>
                <a:ext cx="0" cy="167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444120" y="5628600"/>
                <a:ext cx="5878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318360" y="3314880"/>
              <a:ext cx="2855880" cy="20160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9960" y="3505320"/>
              <a:ext cx="2570040" cy="1741320"/>
            </a:xfrm>
            <a:custGeom>
              <a:avLst/>
              <a:gdLst/>
              <a:ahLst/>
              <a:rect l="l" t="t" r="r" b="b"/>
              <a:pathLst>
                <a:path w="1469" h="995">
                  <a:moveTo>
                    <a:pt x="0" y="0"/>
                  </a:moveTo>
                  <a:cubicBezTo>
                    <a:pt x="62" y="121"/>
                    <a:pt x="234" y="561"/>
                    <a:pt x="374" y="717"/>
                  </a:cubicBezTo>
                  <a:cubicBezTo>
                    <a:pt x="514" y="873"/>
                    <a:pt x="706" y="891"/>
                    <a:pt x="841" y="935"/>
                  </a:cubicBezTo>
                  <a:cubicBezTo>
                    <a:pt x="976" y="979"/>
                    <a:pt x="1079" y="972"/>
                    <a:pt x="1184" y="982"/>
                  </a:cubicBezTo>
                  <a:cubicBezTo>
                    <a:pt x="1289" y="992"/>
                    <a:pt x="1410" y="992"/>
                    <a:pt x="1469" y="99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07040" y="3192480"/>
              <a:ext cx="9385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count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97760" y="5246640"/>
              <a:ext cx="0" cy="168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45400" y="5581800"/>
              <a:ext cx="5889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016000" y="2435400"/>
              <a:ext cx="2855880" cy="20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WRONG 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644-E669-4BA9-B51B-314986B34C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Siganos+, '03] G. Siganos, M. Faloutsos, P. Faloutsos, C. Faloutsos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Power-Laws and the AS-level Internet Topology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Transactions on Networking, August 2003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Wang+03] Yang Wang, Deepayan Chakrabarti, Chenxi Wang and Christos Faloutsos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Epidemic Spreading in Real Networks: an Eigenvalue Viewpoint,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SRDS 2003, Florence, Italy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59D-6F0B-4004-AB95-50736CD912E0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Watts+ Strogatz, '98] D. J. Watts and S. H. Strogatz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Collective dynamics of 'small-world' network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Nature, 393:440-442 (1998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 algn="ctr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Watts, '03] Duncan J. Watts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Six Degrees: The Science of a Connected Age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W.W. Norton &amp; Company; (February 2003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447-58FD-4367-9CAA-42205BC85384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hank you!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732120" y="2184480"/>
            <a:ext cx="5592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cs.cmu.edu/~christo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www.</a:t>
            </a:r>
            <a:r>
              <a:rPr b="0" lang="en-US" sz="35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db</a:t>
            </a:r>
            <a:r>
              <a:rPr b="0" lang="en-US" sz="3500" spc="-1" strike="noStrike" u="sng">
                <a:solidFill>
                  <a:srgbClr val="3366ff"/>
                </a:solidFill>
                <a:uFillTx/>
                <a:latin typeface="Times New Roman"/>
                <a:hlinkClick r:id="rId4"/>
              </a:rPr>
              <a:t>.cs.cmu.edu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1422360" y="2286000"/>
          <a:ext cx="162576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2360" y="2286000"/>
                    <a:ext cx="1625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C15-386F-4D3E-9264-4FCC41693A68}" type="slidenum">
              <a:t>1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3960" y="420840"/>
            <a:ext cx="902988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I.Power-law: outdegree </a:t>
            </a:r>
            <a:r>
              <a:rPr b="0" i="1" lang="en-US" sz="4900" spc="-1" strike="noStrike">
                <a:solidFill>
                  <a:srgbClr val="a50021"/>
                </a:solidFill>
                <a:latin typeface="Times New Roman"/>
              </a:rPr>
              <a:t>O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1720" y="5708160"/>
            <a:ext cx="7872120" cy="768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56000"/>
          </a:bodyPr>
          <a:p>
            <a:pPr marL="2116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 plot is linear in log-log</a:t>
            </a:r>
            <a:r>
              <a:rPr b="0" lang="en-GB" sz="3500" spc="-1" strike="noStrike">
                <a:solidFill>
                  <a:srgbClr val="000066"/>
                </a:solidFill>
                <a:latin typeface="Times New Roman"/>
              </a:rPr>
              <a:t> scale [FFF’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21168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GB" sz="3500" spc="-1" strike="noStrike">
                <a:solidFill>
                  <a:srgbClr val="000066"/>
                </a:solidFill>
                <a:latin typeface="Times New Roman"/>
              </a:rPr>
              <a:t>freq = degree </a:t>
            </a:r>
            <a:r>
              <a:rPr b="0" i="1" lang="en-GB" sz="3500" spc="-1" strike="noStrike" baseline="30000">
                <a:solidFill>
                  <a:srgbClr val="ff0000"/>
                </a:solidFill>
                <a:latin typeface="Times New Roman"/>
              </a:rPr>
              <a:t>(-2.15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03680" y="2154240"/>
            <a:ext cx="4473360" cy="3251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79600" y="2948040"/>
            <a:ext cx="151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O = -2.15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90360" y="2440080"/>
            <a:ext cx="252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xponent = slop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75120" y="5232240"/>
            <a:ext cx="158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Out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28160" y="2271600"/>
            <a:ext cx="159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requenc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75080" y="4554360"/>
            <a:ext cx="1215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Nov’97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59480" y="3701880"/>
            <a:ext cx="1143000" cy="0"/>
          </a:xfrm>
          <a:prstGeom prst="line">
            <a:avLst/>
          </a:prstGeom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59480" y="3701880"/>
            <a:ext cx="838080" cy="687600"/>
          </a:xfrm>
          <a:prstGeom prst="line">
            <a:avLst/>
          </a:prstGeom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967640" y="3395520"/>
            <a:ext cx="30096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7960" y="3693960"/>
            <a:ext cx="925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-2.1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4BF-3008-456B-A878-D1777F9BD5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II.Power-law: rank </a:t>
            </a:r>
            <a:r>
              <a:rPr b="0" i="1" lang="en-US" sz="4500" spc="-1" strike="noStrike">
                <a:solidFill>
                  <a:srgbClr val="a50021"/>
                </a:solidFill>
                <a:latin typeface="Times New Roman"/>
              </a:rPr>
              <a:t>R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12320" y="5869080"/>
            <a:ext cx="8566200" cy="114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 plot is a line in log-log</a:t>
            </a: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 scale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4330800"/>
            <a:ext cx="14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 rot="9554400">
            <a:off x="5767560" y="3793680"/>
            <a:ext cx="1067400" cy="231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44" y="280"/>
                </a:moveTo>
                <a:arcTo wR="10800" hR="10800" stAng="-4615204" swAng="2036049"/>
                <a:lnTo>
                  <a:pt x="10800" y="10800"/>
                </a:lnTo>
                <a:close/>
              </a:path>
              <a:path fill="none" w="21600" h="21600">
                <a:moveTo>
                  <a:pt x="13244" y="280"/>
                </a:moveTo>
                <a:arcTo wR="10800" hR="10800" stAng="-4615204" swAng="2036049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59440" y="3735360"/>
            <a:ext cx="405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75720" y="5311800"/>
            <a:ext cx="6515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marL="503280" indent="-5032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ank: </a:t>
            </a:r>
            <a:r>
              <a:rPr b="0" lang="en-GB" sz="2600" spc="-1" strike="noStrike">
                <a:solidFill>
                  <a:srgbClr val="000066"/>
                </a:solidFill>
                <a:latin typeface="Times New Roman"/>
              </a:rPr>
              <a:t>nodes  in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creasing degree orde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98120" y="2438280"/>
            <a:ext cx="1342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April’9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35160" y="1782720"/>
            <a:ext cx="7399080" cy="3322440"/>
            <a:chOff x="1235160" y="1782720"/>
            <a:chExt cx="7399080" cy="3322440"/>
          </a:xfrm>
        </p:grpSpPr>
        <p:sp>
          <p:nvSpPr>
            <p:cNvPr id="128" name=""/>
            <p:cNvSpPr/>
            <p:nvPr/>
          </p:nvSpPr>
          <p:spPr>
            <a:xfrm>
              <a:off x="2841840" y="2143440"/>
              <a:ext cx="4445280" cy="29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2841840" y="2143440"/>
              <a:ext cx="4445280" cy="29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1840" y="2143440"/>
              <a:ext cx="4445280" cy="29617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6640" y="444852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og(rank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5160" y="22676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og(degree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435120" y="2358360"/>
              <a:ext cx="3258360" cy="1899360"/>
              <a:chOff x="3435120" y="2358360"/>
              <a:chExt cx="3258360" cy="1899360"/>
            </a:xfrm>
          </p:grpSpPr>
          <p:sp>
            <p:nvSpPr>
              <p:cNvPr id="134" name=""/>
              <p:cNvSpPr/>
              <p:nvPr/>
            </p:nvSpPr>
            <p:spPr>
              <a:xfrm flipH="1" flipV="1">
                <a:off x="3435120" y="2358360"/>
                <a:ext cx="3186000" cy="18993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42720" y="3132000"/>
                <a:ext cx="5187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82160" y="3203640"/>
                <a:ext cx="111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-0.8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3567600" y="2143440"/>
              <a:ext cx="304920" cy="101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00840" y="1782720"/>
              <a:ext cx="131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att.com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63040" y="2551320"/>
              <a:ext cx="304920" cy="407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45000" y="300636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ibm.com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8EC-C42A-435E-8F89-6C605985EB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III.Power-law: eigen </a:t>
            </a:r>
            <a:r>
              <a:rPr b="0" i="1" lang="en-US" sz="4900" spc="-1" strike="noStrike">
                <a:solidFill>
                  <a:srgbClr val="a50021"/>
                </a:solidFill>
                <a:latin typeface="Times New Roman"/>
              </a:rPr>
              <a:t>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5240" y="5837040"/>
            <a:ext cx="8564760" cy="974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3000"/>
          </a:bodyPr>
          <a:p>
            <a:pPr marL="284400" indent="-284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igenvalues in decreasing order (first 20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[Mihail+, 02]:   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R = 2 * E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22480" y="2154240"/>
            <a:ext cx="4233960" cy="3251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544160" y="3152880"/>
            <a:ext cx="1482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E = -0.4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90360" y="2470320"/>
            <a:ext cx="252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xponent = slop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04760" y="1987560"/>
            <a:ext cx="1691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igenvalu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87840" y="5389560"/>
            <a:ext cx="4269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ank of decreasing eigenvalu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61520" y="4145040"/>
            <a:ext cx="117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c’9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1C1-56E5-4CBF-B202-1B9AE4DE81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539-DBDE-484C-9C40-FE7DD7632E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Yes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mall 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ix degrees of separation / ‘Kevin Bacon’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mall worlds [Watts and Strogatz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BA3-8B82-494A-A250-2D30954EFD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39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Bow-tie, for the web [Kumar+ ‘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, SCC, OUT, ‘tendrils’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onnected components</a:t>
            </a:r>
            <a:br>
              <a:rPr sz="3500"/>
            </a:b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86400" y="3205080"/>
            <a:ext cx="4516560" cy="340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DA7-40D7-4FA4-B941-513CC9B678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39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s in communities (bi-partite cores) [Kumar+, ‘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16880" y="3659040"/>
            <a:ext cx="3045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16880" y="4541760"/>
            <a:ext cx="304560" cy="2714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1280" y="4084560"/>
            <a:ext cx="3063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1280" y="4998960"/>
            <a:ext cx="3063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1280" y="3354480"/>
            <a:ext cx="306360" cy="27288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8" idx="7"/>
            <a:endCxn id="162" idx="2"/>
          </p:cNvCxnSpPr>
          <p:nvPr/>
        </p:nvCxnSpPr>
        <p:spPr>
          <a:xfrm flipV="1">
            <a:off x="6977160" y="3490200"/>
            <a:ext cx="635760" cy="18972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8" idx="6"/>
            <a:endCxn id="160" idx="2"/>
          </p:cNvCxnSpPr>
          <p:nvPr/>
        </p:nvCxnSpPr>
        <p:spPr>
          <a:xfrm>
            <a:off x="7040520" y="3795480"/>
            <a:ext cx="572400" cy="42588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4"/>
            <a:endCxn id="161" idx="1"/>
          </p:cNvCxnSpPr>
          <p:nvPr/>
        </p:nvCxnSpPr>
        <p:spPr>
          <a:xfrm>
            <a:off x="6869160" y="3951360"/>
            <a:ext cx="807120" cy="106920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9" idx="7"/>
            <a:endCxn id="162" idx="3"/>
          </p:cNvCxnSpPr>
          <p:nvPr/>
        </p:nvCxnSpPr>
        <p:spPr>
          <a:xfrm flipV="1">
            <a:off x="6977160" y="3606120"/>
            <a:ext cx="699120" cy="95652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9" idx="6"/>
            <a:endCxn id="160" idx="3"/>
          </p:cNvCxnSpPr>
          <p:nvPr/>
        </p:nvCxnSpPr>
        <p:spPr>
          <a:xfrm flipV="1">
            <a:off x="7040520" y="4336560"/>
            <a:ext cx="635760" cy="34200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9" idx="5"/>
            <a:endCxn id="161" idx="2"/>
          </p:cNvCxnSpPr>
          <p:nvPr/>
        </p:nvCxnSpPr>
        <p:spPr>
          <a:xfrm>
            <a:off x="6977160" y="4792680"/>
            <a:ext cx="635760" cy="34344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378120" y="5475240"/>
            <a:ext cx="189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:3 cor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m:n cor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82760" y="3780000"/>
            <a:ext cx="4570200" cy="2438280"/>
          </a:xfrm>
          <a:prstGeom prst="rect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90920" y="6237360"/>
            <a:ext cx="142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og(m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440" y="313992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og(count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97160" y="4084560"/>
            <a:ext cx="2971800" cy="129564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43080" y="4465800"/>
            <a:ext cx="2975040" cy="1295280"/>
          </a:xfrm>
          <a:prstGeom prst="line">
            <a:avLst/>
          </a:prstGeom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92240" y="4770360"/>
            <a:ext cx="2970360" cy="1295640"/>
          </a:xfrm>
          <a:prstGeom prst="line">
            <a:avLst/>
          </a:prstGeom>
          <a:ln cap="sq"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93360" y="379872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: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98320" y="541008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n: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05920" y="538020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Times New Roman"/>
              </a:rPr>
              <a:t>n:3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738-086F-43FE-9C25-606F7823A9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More Power law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lso hold for other web graphs [Barabasi+, ‘99], [Kumar+, ‘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itation graphs (see later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d many mor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FEB-5A20-4167-BE4C-CAC24A2533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hanks to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44200" y="2103480"/>
            <a:ext cx="6115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Deepayan Chakrabarti (CMU/Yahoo)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Michalis Faloutsos (UCR)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piros Papadimitriou (CMU/IBM)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George Siganos (UCR)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772400" y="1722600"/>
            <a:ext cx="1203480" cy="133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6080" y="2760840"/>
            <a:ext cx="1323720" cy="1338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68360" y="5303880"/>
            <a:ext cx="1135080" cy="1401840"/>
          </a:xfrm>
          <a:prstGeom prst="rect">
            <a:avLst/>
          </a:prstGeom>
          <a:ln w="0">
            <a:noFill/>
          </a:ln>
        </p:spPr>
      </p:pic>
      <p:pic>
        <p:nvPicPr>
          <p:cNvPr id="55" name="spiros" descr=""/>
          <p:cNvPicPr/>
          <p:nvPr/>
        </p:nvPicPr>
        <p:blipFill>
          <a:blip r:embed="rId4"/>
          <a:stretch/>
        </p:blipFill>
        <p:spPr>
          <a:xfrm>
            <a:off x="7848720" y="3962520"/>
            <a:ext cx="1044360" cy="11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A7E-F63C-456A-8691-CBC3F6935B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2040" y="3548160"/>
            <a:ext cx="457200" cy="384120"/>
          </a:xfrm>
          <a:prstGeom prst="rightArrow">
            <a:avLst>
              <a:gd name="adj1" fmla="val 50000"/>
              <a:gd name="adj2" fmla="val 29756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C62-AC0B-4578-BE08-B06B2F0042C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How do graphs evolve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BE8-CA82-459A-99AB-CA1FB0D2C0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ime Evolution: rank </a:t>
            </a:r>
            <a:r>
              <a:rPr b="0" i="1" lang="en-US" sz="4900" spc="-1" strike="noStrike">
                <a:solidFill>
                  <a:srgbClr val="a50021"/>
                </a:solidFill>
                <a:latin typeface="Times New Roman"/>
              </a:rPr>
              <a:t>R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461960" y="2287440"/>
          <a:ext cx="6442200" cy="34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2287440"/>
                    <a:ext cx="644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09480" y="6058080"/>
            <a:ext cx="8610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he rank exponent has not changed! [Siganos+, ‘03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840" y="2824200"/>
            <a:ext cx="13071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Domai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level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03520" y="5502240"/>
            <a:ext cx="3695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#days since Nov. ‘97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483960" y="298080"/>
            <a:ext cx="3405960" cy="1850040"/>
            <a:chOff x="6483960" y="298080"/>
            <a:chExt cx="3405960" cy="1850040"/>
          </a:xfrm>
        </p:grpSpPr>
        <p:sp>
          <p:nvSpPr>
            <p:cNvPr id="193" name=""/>
            <p:cNvSpPr/>
            <p:nvPr/>
          </p:nvSpPr>
          <p:spPr>
            <a:xfrm>
              <a:off x="7477200" y="304920"/>
              <a:ext cx="238428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7477200" y="304920"/>
              <a:ext cx="23842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477200" y="304920"/>
              <a:ext cx="2384280" cy="1358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953200" y="18108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log(rank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83960" y="29808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log(degree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7794360" y="402840"/>
              <a:ext cx="1748160" cy="871560"/>
              <a:chOff x="7794360" y="402840"/>
              <a:chExt cx="1748160" cy="871560"/>
            </a:xfrm>
          </p:grpSpPr>
          <p:sp>
            <p:nvSpPr>
              <p:cNvPr id="199" name=""/>
              <p:cNvSpPr/>
              <p:nvPr/>
            </p:nvSpPr>
            <p:spPr>
              <a:xfrm flipH="1" flipV="1">
                <a:off x="7794360" y="402840"/>
                <a:ext cx="1709640" cy="871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550000" y="758160"/>
                <a:ext cx="27828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45280" y="790560"/>
                <a:ext cx="59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FF7-C220-4DA2-B745-8EBBDDA36BE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How do graphs evolve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egree-exponent seems constant - anything els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BAC-70F2-4ABF-90F1-0E4BD4F78F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volution of diameter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ior analysis, on power-law-like graphs, hints th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log(N))     o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 log(log(N))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.e.., slowly increasing with network siz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happening, in realit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776-BD4C-401B-B670-94ECF33FE5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volution of diameter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ior analysis, on power-law-like graphs, hints th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log(N))     o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 log(log(N))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.e.., slowly increasing with network siz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happening, in realit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It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hrinks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(!!), towards a constant valu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210-E2C1-44D8-B215-4934169AA9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Leskovec+05a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itations among physics papers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11yrs; @ 2003: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9,555 pap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52,807 cit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or each month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create a graph of all citations up to month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118120" y="2719440"/>
            <a:ext cx="4206960" cy="3465360"/>
            <a:chOff x="5118120" y="2719440"/>
            <a:chExt cx="4206960" cy="346536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5118120" y="2719440"/>
              <a:ext cx="4206960" cy="34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5118120" y="2719440"/>
              <a:ext cx="4206960" cy="346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00800" rIns="100800" tIns="50400" bIns="50400" anchor="t">
              <a:normAutofit/>
            </a:bodyPr>
            <a:p>
              <a:pPr marL="378000" indent="-378000">
                <a:lnSpc>
                  <a:spcPct val="90000"/>
                </a:lnSpc>
                <a:spcBef>
                  <a:spcPts val="550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519680" y="636984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73360" y="202644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71B-8DC5-4CEE-BCE3-4E8A28E5D6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118120" y="2651040"/>
            <a:ext cx="4206960" cy="36021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71400" y="1763640"/>
            <a:ext cx="36133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hors &amp; publica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2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18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72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002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0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20,000 autho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38,000 pape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33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C9D-6EF2-4474-9B9C-3518CA0954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0" r="1226" b="0"/>
          <a:stretch/>
        </p:blipFill>
        <p:spPr>
          <a:xfrm>
            <a:off x="5118120" y="2735280"/>
            <a:ext cx="4156200" cy="3433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04720" y="1847880"/>
            <a:ext cx="37800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Patents &amp; cita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75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34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76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9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.9 million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6.5 million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ach year is a datapoint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C49-A462-445E-A092-F84F2C86EE7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1226" b="0"/>
          <a:stretch/>
        </p:blipFill>
        <p:spPr>
          <a:xfrm>
            <a:off x="5118120" y="2743200"/>
            <a:ext cx="4156200" cy="3416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20840" y="1847880"/>
            <a:ext cx="36115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onomous system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7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0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000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6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One graph per day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82480" y="614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68440" y="225504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E51-27C1-4A16-BD24-9A3CD6CDF0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Introduction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1440" y="1730520"/>
            <a:ext cx="2290680" cy="1720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95760" y="1536840"/>
            <a:ext cx="2517840" cy="1887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056360" y="1549440"/>
            <a:ext cx="1808280" cy="180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988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rnet Map [lumeta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4812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od Web [Martinez ’9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9760" y="3359160"/>
            <a:ext cx="2773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tein Interactions [genomebiology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6180120"/>
            <a:ext cx="2436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iendship Network [Moody ’0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56080" y="5068800"/>
            <a:ext cx="4480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Times New Roman"/>
              </a:rPr>
              <a:t>Graphs are everywhere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14520" y="4368960"/>
            <a:ext cx="2511360" cy="187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DBA-A1EC-4C0A-A7A3-58C987D1C6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2184480"/>
            <a:ext cx="6940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) nodes; E(t) edges at time 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uppose that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+1) = 2 * N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your guess for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(t+1) =? 2 * E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E91-3913-4B3B-A9B9-336B712501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2184480"/>
            <a:ext cx="6940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) nodes; E(t) edges at time 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uppose that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+1) = 2 * N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your guess for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(t+1) =? 2 * E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over-doubled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76800" y="4809960"/>
            <a:ext cx="534960" cy="570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A40-1A0B-4117-8A83-E8BE36AB15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7710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over-doubled - but obeying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E(t) ~ N(t)</a:t>
            </a:r>
            <a:r>
              <a:rPr b="0" i="1" lang="en-US" sz="3500" spc="-1" strike="noStrike" baseline="30000">
                <a:solidFill>
                  <a:srgbClr val="000066"/>
                </a:solidFill>
                <a:latin typeface="Times New Roman"/>
              </a:rPr>
              <a:t>a   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all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 t</a:t>
            </a:r>
            <a:r>
              <a:rPr b="0" i="1" lang="en-US" sz="3500" spc="-1" strike="noStrike" baseline="30000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0">
              <a:spcBef>
                <a:spcPts val="8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where 1&lt;</a:t>
            </a:r>
            <a:r>
              <a:rPr b="0" i="1" lang="en-US" sz="3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&lt;2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2789280"/>
            <a:ext cx="5180040" cy="685800"/>
          </a:xfrm>
          <a:prstGeom prst="rect">
            <a:avLst/>
          </a:prstGeom>
          <a:noFill/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C4F-A3FC-493D-A908-9C1A229DE4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40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3AB-81AA-439C-AF85-CD521FCA510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48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7021440" y="3780000"/>
            <a:ext cx="2057400" cy="12952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4080" y="43038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ree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850240" y="4008600"/>
            <a:ext cx="4572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280440" y="34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4EE-E9D1-4876-932F-5C86DAEBD58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60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V="1">
            <a:off x="6259680" y="2636640"/>
            <a:ext cx="1523880" cy="20574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6360" y="2560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lique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2840" y="3400560"/>
            <a:ext cx="4572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8972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8B8-2A5B-48A2-9639-DD91C4B1FB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U.S. Patents, citing each other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18120" y="2838600"/>
            <a:ext cx="4206960" cy="3227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542360" y="4268880"/>
            <a:ext cx="83952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99560" y="37339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6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72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A2A-56E4-4857-AFCC-35639D979F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onomous System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0" t="0" r="1241" b="0"/>
          <a:stretch/>
        </p:blipFill>
        <p:spPr>
          <a:xfrm>
            <a:off x="5118120" y="2637000"/>
            <a:ext cx="4206960" cy="3628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542360" y="4038480"/>
            <a:ext cx="91584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1400" y="352116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18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80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ACD-2B8F-4FBB-B065-EAA33ED3BD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rXiv: authors &amp; pape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118120" y="2809800"/>
            <a:ext cx="4206960" cy="3284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467480" y="4191120"/>
            <a:ext cx="83844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75880" y="365760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15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88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433-C21F-4A69-9747-ABA6445D28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ummary of ‘laws’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for degree distribut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…………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... for eigenvalues, bi-partite cor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mall &amp;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hrinking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iameter (‘6 degrees’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Bow-tie’ for web; ‘jelly-fish’ for interne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``Densification Power Law’’, over tim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5A4-5FCC-4839-A7E9-F3E9213404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0C6-C6CB-48D9-991D-B681EBA45A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ther power law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ractals &amp; self-similarity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ase study: Kronecker graph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2040" y="3780000"/>
            <a:ext cx="457200" cy="382320"/>
          </a:xfrm>
          <a:prstGeom prst="rightArrow">
            <a:avLst>
              <a:gd name="adj1" fmla="val 50000"/>
              <a:gd name="adj2" fmla="val 29896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B52-C8B0-4FFB-896D-6DAFCE5A50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Power law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Many more power laws, in diverse setting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E2E-E262-4C51-BCFE-409861D532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 famous power law: Zipf’s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40360" y="2940120"/>
            <a:ext cx="4368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04720" y="2184480"/>
            <a:ext cx="4788000" cy="3357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796000" y="2603520"/>
            <a:ext cx="37814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206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Bible - 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rank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vs 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frequency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(log-log)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50560" y="5846040"/>
            <a:ext cx="16668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og(rank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4440" y="1679400"/>
            <a:ext cx="16012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og(freq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7960" y="2435040"/>
            <a:ext cx="7282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”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44600" y="3359160"/>
            <a:ext cx="1176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he”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512720" y="2519280"/>
            <a:ext cx="0" cy="757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176480" y="2519280"/>
            <a:ext cx="168120" cy="168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44600" y="2435400"/>
            <a:ext cx="3024360" cy="2016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5CE-AE22-4DAC-B973-81F6E821661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Power laws, cont’e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ength of  file transfers [Bestavros+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eb hit counts [Huberman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magnitude of earthquakes (Guttenberg-Richter law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zes of lakes/islands (Korcak’s law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come distribution (Pareto’s law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DB8-D272-4E3C-BBC4-82E67495BD2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he Peer-to-Peer Topology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184480" y="1511280"/>
            <a:ext cx="4124160" cy="4202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04720" y="5799240"/>
            <a:ext cx="9068040" cy="117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requency versus degree 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Number of adjacent peers follows a power-law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52800" y="4875120"/>
            <a:ext cx="1950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Jovanovic+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FAC-583E-4244-81BA-B31C2A0066D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914480" y="755640"/>
            <a:ext cx="203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6000" y="4929480"/>
            <a:ext cx="2023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03760" y="923760"/>
            <a:ext cx="4595760" cy="3351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rcRect l="0" t="9300" r="0" b="9300"/>
          <a:stretch/>
        </p:blipFill>
        <p:spPr>
          <a:xfrm>
            <a:off x="4830840" y="3882960"/>
            <a:ext cx="4373640" cy="2833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982120" y="1095120"/>
            <a:ext cx="2421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Web Site Traffic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53520" y="3279600"/>
            <a:ext cx="1377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freq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143100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6000" y="1847880"/>
            <a:ext cx="923760" cy="11764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87840" y="1851480"/>
            <a:ext cx="772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ipf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9520" y="167760"/>
            <a:ext cx="85690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lick-stream data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21120" y="1853640"/>
            <a:ext cx="3139920" cy="2695680"/>
            <a:chOff x="321120" y="1853640"/>
            <a:chExt cx="3139920" cy="2695680"/>
          </a:xfrm>
        </p:grpSpPr>
        <p:sp>
          <p:nvSpPr>
            <p:cNvPr id="325" name=""/>
            <p:cNvSpPr/>
            <p:nvPr/>
          </p:nvSpPr>
          <p:spPr>
            <a:xfrm>
              <a:off x="321120" y="1853640"/>
              <a:ext cx="14104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4000" spc="-1" strike="noStrike">
                  <a:solidFill>
                    <a:srgbClr val="000066"/>
                  </a:solidFill>
                  <a:latin typeface="Times New Roman"/>
                  <a:ea typeface="新細明體"/>
                </a:rPr>
                <a:t>u-id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03240" y="266652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11880" y="298152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21240" y="3676320"/>
              <a:ext cx="16560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26800" y="269316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19600" y="439560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19600" y="302904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28240" y="368676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25000" y="334404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05080" y="1863360"/>
              <a:ext cx="11559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4000" spc="-1" strike="noStrike">
                  <a:solidFill>
                    <a:srgbClr val="000066"/>
                  </a:solidFill>
                  <a:latin typeface="Times New Roman"/>
                  <a:ea typeface="新細明體"/>
                </a:rPr>
                <a:t>url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35" name=""/>
            <p:cNvCxnSpPr>
              <a:stCxn id="326" idx="6"/>
              <a:endCxn id="329" idx="2"/>
            </p:cNvCxnSpPr>
            <p:nvPr/>
          </p:nvCxnSpPr>
          <p:spPr>
            <a:xfrm>
              <a:off x="1090080" y="2743200"/>
              <a:ext cx="1815480" cy="270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336" name=""/>
            <p:cNvCxnSpPr>
              <a:stCxn id="326" idx="6"/>
            </p:cNvCxnSpPr>
            <p:nvPr/>
          </p:nvCxnSpPr>
          <p:spPr>
            <a:xfrm>
              <a:off x="1090080" y="2743200"/>
              <a:ext cx="1806840" cy="3315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337" name=""/>
            <p:cNvCxnSpPr/>
            <p:nvPr/>
          </p:nvCxnSpPr>
          <p:spPr>
            <a:xfrm>
              <a:off x="1097280" y="2743560"/>
              <a:ext cx="1811880" cy="63792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338" name=""/>
            <p:cNvCxnSpPr>
              <a:stCxn id="327" idx="6"/>
            </p:cNvCxnSpPr>
            <p:nvPr/>
          </p:nvCxnSpPr>
          <p:spPr>
            <a:xfrm flipV="1">
              <a:off x="1099080" y="2794320"/>
              <a:ext cx="1810440" cy="2646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339" name=""/>
            <p:cNvCxnSpPr>
              <a:stCxn id="328" idx="6"/>
              <a:endCxn id="331" idx="2"/>
            </p:cNvCxnSpPr>
            <p:nvPr/>
          </p:nvCxnSpPr>
          <p:spPr>
            <a:xfrm flipV="1">
              <a:off x="1108080" y="3105360"/>
              <a:ext cx="1791360" cy="6480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</p:grpSp>
      <p:sp>
        <p:nvSpPr>
          <p:cNvPr id="340" name=""/>
          <p:cNvSpPr/>
          <p:nvPr/>
        </p:nvSpPr>
        <p:spPr>
          <a:xfrm>
            <a:off x="7261200" y="5372280"/>
            <a:ext cx="484200" cy="971280"/>
          </a:xfrm>
          <a:prstGeom prst="line">
            <a:avLst/>
          </a:prstGeom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17160" y="6030000"/>
            <a:ext cx="1377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freq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6880" y="430740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95920" y="2630160"/>
            <a:ext cx="1232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‘</a:t>
            </a: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yahoo’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875360" y="3133800"/>
            <a:ext cx="301320" cy="573120"/>
          </a:xfrm>
          <a:prstGeom prst="line">
            <a:avLst/>
          </a:prstGeom>
          <a:ln cap="sq" w="1260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30480" y="5174280"/>
            <a:ext cx="2017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‘</a:t>
            </a: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super-surfer’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839000" y="5821200"/>
            <a:ext cx="300240" cy="573120"/>
          </a:xfrm>
          <a:prstGeom prst="line">
            <a:avLst/>
          </a:prstGeom>
          <a:ln cap="sq" w="1260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CFE-A3DD-4396-85F8-FCD8041A212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Lotka’s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9520" y="2099880"/>
            <a:ext cx="85690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(Lotka’s law of publication count); and citation counts: (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citeseer.nj.nec.com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6/2001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521080" y="3695760"/>
            <a:ext cx="4282920" cy="2871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155000" y="6218640"/>
            <a:ext cx="213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#citation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7360" y="403452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57360" y="5124600"/>
            <a:ext cx="14871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J. Ullma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384960" y="5796000"/>
            <a:ext cx="84240" cy="419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92B-7D0B-4853-850C-87C4CA207D4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124600" y="2100240"/>
            <a:ext cx="4368600" cy="3537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545880" y="-63360"/>
            <a:ext cx="33800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wedish sex-web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59480" y="671400"/>
            <a:ext cx="45226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Node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people (Females; Male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Link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 sexual relationship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720" y="7056360"/>
            <a:ext cx="3699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ljeros et al.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ature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200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53840" y="5880240"/>
            <a:ext cx="30812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4781 Swedes; 18-74;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59% response rat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93600"/>
            <a:ext cx="507672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lbert Laszlo Barabasi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http://www.nd.edu/~network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Publication%20Categorie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04%20Talks/2005-norway-3hours.pp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54760" y="4160880"/>
            <a:ext cx="144792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A10-5F19-4042-A258-D425AB8FBD81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124600" y="2100240"/>
            <a:ext cx="4368600" cy="3537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545880" y="-63360"/>
            <a:ext cx="33800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wedish sex-web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59480" y="671400"/>
            <a:ext cx="45226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Node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people (Females; Male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Link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 sexual relationship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72720" y="7056360"/>
            <a:ext cx="3699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ljeros et al.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ature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200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153840" y="5880240"/>
            <a:ext cx="30812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4781 Swedes; 18-74;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59% response rat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993600"/>
            <a:ext cx="507672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lbert Laszlo Barabasi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http://www.nd.edu/~network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Publication%20Categorie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04%20Talks/2005-norway-3hours.pp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4A6-421A-4C64-B5B8-EF530BC8AE35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Power law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y so many power law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1: self-similarity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2: ‘rich-get-richer’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01A-FF67-4AF0-B568-95B02CC2EE5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Motivating ques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1: What do real graphs look lik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2: How to generate realistic graph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615-E2F1-4926-A6FF-B491D02AC9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igression: intro to fractal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ractals: sets of points that are self simila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304920"/>
            <a:ext cx="990720" cy="6933960"/>
          </a:xfrm>
          <a:custGeom>
            <a:avLst/>
            <a:gdLst>
              <a:gd name="textAreaLeft" fmla="*/ 291240 w 990720"/>
              <a:gd name="textAreaRight" fmla="*/ 991080 w 990720"/>
              <a:gd name="textAreaTop" fmla="*/ 288720 h 6933960"/>
              <a:gd name="textAreaBottom" fmla="*/ 6645240 h 693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189-8BD5-43AB-BAA7-FE5429BB8DC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 famous fractal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9880" y="2435040"/>
            <a:ext cx="88200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.g., Sierpinski triangle: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rcRect l="154" t="381" r="0" b="0"/>
          <a:stretch/>
        </p:blipFill>
        <p:spPr>
          <a:xfrm>
            <a:off x="596880" y="3117960"/>
            <a:ext cx="6699240" cy="2593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972480" y="3780000"/>
            <a:ext cx="731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12000" y="3611520"/>
            <a:ext cx="2016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zero area;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infinite length!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61440" y="4116240"/>
            <a:ext cx="250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81000" y="5837400"/>
            <a:ext cx="340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mensionality = ?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E2D-9D82-46B1-8EC9-3D6806F3CE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 famous fractal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9880" y="2435040"/>
            <a:ext cx="88200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.g., Sierpinski triangle: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154" t="381" r="0" b="0"/>
          <a:stretch/>
        </p:blipFill>
        <p:spPr>
          <a:xfrm>
            <a:off x="596880" y="3117960"/>
            <a:ext cx="6699240" cy="2593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972480" y="3780000"/>
            <a:ext cx="731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12000" y="3611520"/>
            <a:ext cx="2016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zero area;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infinite length!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61440" y="4116240"/>
            <a:ext cx="250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73800" y="5837400"/>
            <a:ext cx="6296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mensionality = log(3)/log(2) = 1.58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038-0FC4-4A28-871B-1BE51012AFD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 famous fractal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9880" y="2435040"/>
            <a:ext cx="88200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quivalent graph: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35000" y="3780000"/>
            <a:ext cx="2003760" cy="1935360"/>
            <a:chOff x="1035000" y="3780000"/>
            <a:chExt cx="2003760" cy="1935360"/>
          </a:xfrm>
        </p:grpSpPr>
        <p:sp>
          <p:nvSpPr>
            <p:cNvPr id="389" name=""/>
            <p:cNvSpPr/>
            <p:nvPr/>
          </p:nvSpPr>
          <p:spPr>
            <a:xfrm>
              <a:off x="1035000" y="5083560"/>
              <a:ext cx="550440" cy="61380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56800" y="3780000"/>
              <a:ext cx="550440" cy="61524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88320" y="5100120"/>
              <a:ext cx="550440" cy="61524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92" name=""/>
            <p:cNvCxnSpPr>
              <a:stCxn id="389" idx="6"/>
              <a:endCxn id="391" idx="2"/>
            </p:cNvCxnSpPr>
            <p:nvPr/>
          </p:nvCxnSpPr>
          <p:spPr>
            <a:xfrm>
              <a:off x="1651680" y="5392800"/>
              <a:ext cx="771120" cy="1728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393" name=""/>
            <p:cNvCxnSpPr>
              <a:stCxn id="389" idx="7"/>
              <a:endCxn id="390" idx="3"/>
            </p:cNvCxnSpPr>
            <p:nvPr/>
          </p:nvCxnSpPr>
          <p:spPr>
            <a:xfrm flipV="1">
              <a:off x="1502640" y="4371840"/>
              <a:ext cx="336600" cy="73368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394" name=""/>
            <p:cNvCxnSpPr>
              <a:stCxn id="390" idx="5"/>
              <a:endCxn id="391" idx="1"/>
            </p:cNvCxnSpPr>
            <p:nvPr/>
          </p:nvCxnSpPr>
          <p:spPr>
            <a:xfrm>
              <a:off x="2224800" y="4371840"/>
              <a:ext cx="346320" cy="75132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</p:grpSp>
      <p:grpSp>
        <p:nvGrpSpPr>
          <p:cNvPr id="395" name=""/>
          <p:cNvGrpSpPr/>
          <p:nvPr/>
        </p:nvGrpSpPr>
        <p:grpSpPr>
          <a:xfrm>
            <a:off x="3481560" y="3767040"/>
            <a:ext cx="2140560" cy="1864800"/>
            <a:chOff x="3481560" y="3767040"/>
            <a:chExt cx="2140560" cy="1864800"/>
          </a:xfrm>
        </p:grpSpPr>
        <p:grpSp>
          <p:nvGrpSpPr>
            <p:cNvPr id="396" name=""/>
            <p:cNvGrpSpPr/>
            <p:nvPr/>
          </p:nvGrpSpPr>
          <p:grpSpPr>
            <a:xfrm>
              <a:off x="3481560" y="4550040"/>
              <a:ext cx="1230120" cy="1077480"/>
              <a:chOff x="3481560" y="4550040"/>
              <a:chExt cx="1230120" cy="1077480"/>
            </a:xfrm>
          </p:grpSpPr>
          <p:sp>
            <p:nvSpPr>
              <p:cNvPr id="397" name=""/>
              <p:cNvSpPr/>
              <p:nvPr/>
            </p:nvSpPr>
            <p:spPr>
              <a:xfrm>
                <a:off x="3481560" y="5275800"/>
                <a:ext cx="338040" cy="34164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24360" y="4550040"/>
                <a:ext cx="338040" cy="34236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73640" y="5285160"/>
                <a:ext cx="338040" cy="34236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00" name=""/>
              <p:cNvCxnSpPr>
                <a:stCxn id="397" idx="6"/>
                <a:endCxn id="399" idx="2"/>
              </p:cNvCxnSpPr>
              <p:nvPr/>
            </p:nvCxnSpPr>
            <p:spPr>
              <a:xfrm>
                <a:off x="3859560" y="5447880"/>
                <a:ext cx="473400" cy="97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01" name=""/>
              <p:cNvCxnSpPr>
                <a:stCxn id="397" idx="7"/>
                <a:endCxn id="398" idx="3"/>
              </p:cNvCxnSpPr>
              <p:nvPr/>
            </p:nvCxnSpPr>
            <p:spPr>
              <a:xfrm flipV="1">
                <a:off x="3768840" y="4879080"/>
                <a:ext cx="206640" cy="40860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02" name=""/>
              <p:cNvCxnSpPr>
                <a:stCxn id="398" idx="5"/>
                <a:endCxn id="399" idx="1"/>
              </p:cNvCxnSpPr>
              <p:nvPr/>
            </p:nvCxnSpPr>
            <p:spPr>
              <a:xfrm>
                <a:off x="4211640" y="4879440"/>
                <a:ext cx="212760" cy="4186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</p:grpSp>
        <p:sp>
          <p:nvSpPr>
            <p:cNvPr id="403" name=""/>
            <p:cNvSpPr/>
            <p:nvPr/>
          </p:nvSpPr>
          <p:spPr>
            <a:xfrm>
              <a:off x="4371120" y="3767040"/>
              <a:ext cx="338040" cy="342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34440" y="4552920"/>
              <a:ext cx="338040" cy="342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84080" y="5289120"/>
              <a:ext cx="338040" cy="342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406" name=""/>
            <p:cNvCxnSpPr>
              <a:stCxn id="404" idx="5"/>
              <a:endCxn id="405" idx="1"/>
            </p:cNvCxnSpPr>
            <p:nvPr/>
          </p:nvCxnSpPr>
          <p:spPr>
            <a:xfrm>
              <a:off x="5122080" y="4882680"/>
              <a:ext cx="213840" cy="41940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407" name=""/>
            <p:cNvCxnSpPr>
              <a:stCxn id="405" idx="2"/>
              <a:endCxn id="399" idx="6"/>
            </p:cNvCxnSpPr>
            <p:nvPr/>
          </p:nvCxnSpPr>
          <p:spPr>
            <a:xfrm flipH="1" flipV="1">
              <a:off x="4752360" y="5457960"/>
              <a:ext cx="491400" cy="396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408" name=""/>
            <p:cNvCxnSpPr>
              <a:stCxn id="404" idx="3"/>
              <a:endCxn id="399" idx="7"/>
            </p:cNvCxnSpPr>
            <p:nvPr/>
          </p:nvCxnSpPr>
          <p:spPr>
            <a:xfrm flipH="1">
              <a:off x="4661640" y="4882680"/>
              <a:ext cx="223920" cy="41580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409" name=""/>
            <p:cNvCxnSpPr>
              <a:stCxn id="403" idx="3"/>
              <a:endCxn id="398" idx="7"/>
            </p:cNvCxnSpPr>
            <p:nvPr/>
          </p:nvCxnSpPr>
          <p:spPr>
            <a:xfrm flipH="1">
              <a:off x="4211640" y="4096800"/>
              <a:ext cx="209880" cy="46620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410" name=""/>
            <p:cNvCxnSpPr>
              <a:stCxn id="404" idx="1"/>
              <a:endCxn id="403" idx="5"/>
            </p:cNvCxnSpPr>
            <p:nvPr/>
          </p:nvCxnSpPr>
          <p:spPr>
            <a:xfrm flipH="1" flipV="1">
              <a:off x="4658400" y="4096440"/>
              <a:ext cx="226800" cy="46908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411" name=""/>
            <p:cNvCxnSpPr>
              <a:stCxn id="398" idx="6"/>
              <a:endCxn id="404" idx="2"/>
            </p:cNvCxnSpPr>
            <p:nvPr/>
          </p:nvCxnSpPr>
          <p:spPr>
            <a:xfrm>
              <a:off x="4303440" y="4722120"/>
              <a:ext cx="490680" cy="396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</p:grpSp>
      <p:grpSp>
        <p:nvGrpSpPr>
          <p:cNvPr id="412" name=""/>
          <p:cNvGrpSpPr/>
          <p:nvPr/>
        </p:nvGrpSpPr>
        <p:grpSpPr>
          <a:xfrm>
            <a:off x="6253200" y="3773520"/>
            <a:ext cx="2265840" cy="1823040"/>
            <a:chOff x="6253200" y="3773520"/>
            <a:chExt cx="2265840" cy="1823040"/>
          </a:xfrm>
        </p:grpSpPr>
        <p:grpSp>
          <p:nvGrpSpPr>
            <p:cNvPr id="413" name=""/>
            <p:cNvGrpSpPr/>
            <p:nvPr/>
          </p:nvGrpSpPr>
          <p:grpSpPr>
            <a:xfrm>
              <a:off x="7301160" y="4590000"/>
              <a:ext cx="1217880" cy="1005480"/>
              <a:chOff x="7301160" y="4590000"/>
              <a:chExt cx="1217880" cy="100548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7301160" y="5012280"/>
                <a:ext cx="699840" cy="581040"/>
                <a:chOff x="7301160" y="5012280"/>
                <a:chExt cx="699840" cy="5810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7301160" y="5403600"/>
                  <a:ext cx="192240" cy="18432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553160" y="501228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08760" y="540864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18" name=""/>
                <p:cNvCxnSpPr>
                  <a:stCxn id="415" idx="6"/>
                  <a:endCxn id="417" idx="2"/>
                </p:cNvCxnSpPr>
                <p:nvPr/>
              </p:nvCxnSpPr>
              <p:spPr>
                <a:xfrm>
                  <a:off x="7516080" y="5496120"/>
                  <a:ext cx="269640" cy="540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19" name=""/>
                <p:cNvCxnSpPr>
                  <a:stCxn id="415" idx="7"/>
                  <a:endCxn id="416" idx="3"/>
                </p:cNvCxnSpPr>
                <p:nvPr/>
              </p:nvCxnSpPr>
              <p:spPr>
                <a:xfrm flipV="1">
                  <a:off x="7464240" y="5189400"/>
                  <a:ext cx="117720" cy="2206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20" name=""/>
                <p:cNvCxnSpPr>
                  <a:stCxn id="416" idx="5"/>
                  <a:endCxn id="417" idx="1"/>
                </p:cNvCxnSpPr>
                <p:nvPr/>
              </p:nvCxnSpPr>
              <p:spPr>
                <a:xfrm>
                  <a:off x="7716240" y="5190120"/>
                  <a:ext cx="121320" cy="2260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</p:grpSp>
          <p:sp>
            <p:nvSpPr>
              <p:cNvPr id="421" name=""/>
              <p:cNvSpPr/>
              <p:nvPr/>
            </p:nvSpPr>
            <p:spPr>
              <a:xfrm>
                <a:off x="7807320" y="459000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070840" y="501372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326800" y="541080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24" name=""/>
              <p:cNvCxnSpPr>
                <a:stCxn id="422" idx="5"/>
                <a:endCxn id="423" idx="1"/>
              </p:cNvCxnSpPr>
              <p:nvPr/>
            </p:nvCxnSpPr>
            <p:spPr>
              <a:xfrm>
                <a:off x="8234280" y="5191560"/>
                <a:ext cx="122040" cy="22644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25" name=""/>
              <p:cNvCxnSpPr>
                <a:stCxn id="423" idx="2"/>
                <a:endCxn id="417" idx="6"/>
              </p:cNvCxnSpPr>
              <p:nvPr/>
            </p:nvCxnSpPr>
            <p:spPr>
              <a:xfrm flipH="1" flipV="1">
                <a:off x="8024040" y="5501520"/>
                <a:ext cx="27972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26" name=""/>
              <p:cNvCxnSpPr>
                <a:stCxn id="422" idx="3"/>
                <a:endCxn id="417" idx="7"/>
              </p:cNvCxnSpPr>
              <p:nvPr/>
            </p:nvCxnSpPr>
            <p:spPr>
              <a:xfrm flipH="1">
                <a:off x="7972200" y="5191560"/>
                <a:ext cx="127440" cy="2242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27" name=""/>
              <p:cNvCxnSpPr>
                <a:stCxn id="421" idx="3"/>
                <a:endCxn id="416" idx="7"/>
              </p:cNvCxnSpPr>
              <p:nvPr/>
            </p:nvCxnSpPr>
            <p:spPr>
              <a:xfrm flipH="1">
                <a:off x="7716600" y="4767480"/>
                <a:ext cx="119520" cy="25164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28" name=""/>
              <p:cNvCxnSpPr>
                <a:stCxn id="422" idx="1"/>
                <a:endCxn id="421" idx="5"/>
              </p:cNvCxnSpPr>
              <p:nvPr/>
            </p:nvCxnSpPr>
            <p:spPr>
              <a:xfrm flipH="1" flipV="1">
                <a:off x="7970400" y="4767120"/>
                <a:ext cx="129240" cy="2530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29" name=""/>
              <p:cNvCxnSpPr>
                <a:stCxn id="416" idx="6"/>
                <a:endCxn id="422" idx="2"/>
              </p:cNvCxnSpPr>
              <p:nvPr/>
            </p:nvCxnSpPr>
            <p:spPr>
              <a:xfrm>
                <a:off x="7768800" y="5104800"/>
                <a:ext cx="27936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430" name=""/>
            <p:cNvGrpSpPr/>
            <p:nvPr/>
          </p:nvGrpSpPr>
          <p:grpSpPr>
            <a:xfrm>
              <a:off x="6769440" y="3773520"/>
              <a:ext cx="1217520" cy="1005480"/>
              <a:chOff x="6769440" y="3773520"/>
              <a:chExt cx="1217520" cy="100548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6769440" y="4195800"/>
                <a:ext cx="699840" cy="581040"/>
                <a:chOff x="6769440" y="4195800"/>
                <a:chExt cx="699840" cy="581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769440" y="4587120"/>
                  <a:ext cx="192240" cy="18432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021440" y="419580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77040" y="459216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35" name=""/>
                <p:cNvCxnSpPr>
                  <a:stCxn id="432" idx="6"/>
                  <a:endCxn id="434" idx="2"/>
                </p:cNvCxnSpPr>
                <p:nvPr/>
              </p:nvCxnSpPr>
              <p:spPr>
                <a:xfrm>
                  <a:off x="6984360" y="4679640"/>
                  <a:ext cx="269640" cy="540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36" name=""/>
                <p:cNvCxnSpPr>
                  <a:stCxn id="432" idx="7"/>
                  <a:endCxn id="433" idx="3"/>
                </p:cNvCxnSpPr>
                <p:nvPr/>
              </p:nvCxnSpPr>
              <p:spPr>
                <a:xfrm flipV="1">
                  <a:off x="6932520" y="4372920"/>
                  <a:ext cx="117720" cy="2206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37" name=""/>
                <p:cNvCxnSpPr>
                  <a:stCxn id="433" idx="5"/>
                  <a:endCxn id="434" idx="1"/>
                </p:cNvCxnSpPr>
                <p:nvPr/>
              </p:nvCxnSpPr>
              <p:spPr>
                <a:xfrm>
                  <a:off x="7184520" y="4373640"/>
                  <a:ext cx="121320" cy="2260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</p:grpSp>
          <p:sp>
            <p:nvSpPr>
              <p:cNvPr id="438" name=""/>
              <p:cNvSpPr/>
              <p:nvPr/>
            </p:nvSpPr>
            <p:spPr>
              <a:xfrm>
                <a:off x="7275240" y="377352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39120" y="419724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794720" y="459432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41" name=""/>
              <p:cNvCxnSpPr>
                <a:stCxn id="439" idx="5"/>
                <a:endCxn id="440" idx="1"/>
              </p:cNvCxnSpPr>
              <p:nvPr/>
            </p:nvCxnSpPr>
            <p:spPr>
              <a:xfrm>
                <a:off x="7702560" y="4375080"/>
                <a:ext cx="121680" cy="22644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2" name=""/>
              <p:cNvCxnSpPr>
                <a:stCxn id="440" idx="2"/>
                <a:endCxn id="434" idx="6"/>
              </p:cNvCxnSpPr>
              <p:nvPr/>
            </p:nvCxnSpPr>
            <p:spPr>
              <a:xfrm flipH="1" flipV="1">
                <a:off x="7491960" y="4685040"/>
                <a:ext cx="27972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3" name=""/>
              <p:cNvCxnSpPr>
                <a:stCxn id="439" idx="3"/>
                <a:endCxn id="434" idx="7"/>
              </p:cNvCxnSpPr>
              <p:nvPr/>
            </p:nvCxnSpPr>
            <p:spPr>
              <a:xfrm flipH="1">
                <a:off x="7440480" y="4375080"/>
                <a:ext cx="127440" cy="2242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4" name=""/>
              <p:cNvCxnSpPr>
                <a:stCxn id="438" idx="3"/>
                <a:endCxn id="433" idx="7"/>
              </p:cNvCxnSpPr>
              <p:nvPr/>
            </p:nvCxnSpPr>
            <p:spPr>
              <a:xfrm flipH="1">
                <a:off x="7184880" y="3951000"/>
                <a:ext cx="119520" cy="25164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5" name=""/>
              <p:cNvCxnSpPr>
                <a:stCxn id="439" idx="1"/>
                <a:endCxn id="438" idx="5"/>
              </p:cNvCxnSpPr>
              <p:nvPr/>
            </p:nvCxnSpPr>
            <p:spPr>
              <a:xfrm flipH="1" flipV="1">
                <a:off x="7438320" y="3950640"/>
                <a:ext cx="129240" cy="2530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6" name=""/>
              <p:cNvCxnSpPr>
                <a:stCxn id="433" idx="6"/>
                <a:endCxn id="439" idx="2"/>
              </p:cNvCxnSpPr>
              <p:nvPr/>
            </p:nvCxnSpPr>
            <p:spPr>
              <a:xfrm>
                <a:off x="7237080" y="4288320"/>
                <a:ext cx="27936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447" name=""/>
            <p:cNvGrpSpPr/>
            <p:nvPr/>
          </p:nvGrpSpPr>
          <p:grpSpPr>
            <a:xfrm>
              <a:off x="6253200" y="4591800"/>
              <a:ext cx="1217520" cy="1004760"/>
              <a:chOff x="6253200" y="4591800"/>
              <a:chExt cx="1217520" cy="100476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253200" y="5013720"/>
                <a:ext cx="699840" cy="580680"/>
                <a:chOff x="6253200" y="5013720"/>
                <a:chExt cx="699840" cy="5806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53200" y="5404680"/>
                  <a:ext cx="192240" cy="18432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505200" y="501372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760800" y="540972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52" name=""/>
                <p:cNvCxnSpPr>
                  <a:stCxn id="449" idx="6"/>
                  <a:endCxn id="451" idx="2"/>
                </p:cNvCxnSpPr>
                <p:nvPr/>
              </p:nvCxnSpPr>
              <p:spPr>
                <a:xfrm>
                  <a:off x="6468120" y="5497560"/>
                  <a:ext cx="269640" cy="540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53" name=""/>
                <p:cNvCxnSpPr>
                  <a:stCxn id="449" idx="7"/>
                  <a:endCxn id="450" idx="3"/>
                </p:cNvCxnSpPr>
                <p:nvPr/>
              </p:nvCxnSpPr>
              <p:spPr>
                <a:xfrm flipV="1">
                  <a:off x="6416280" y="5190480"/>
                  <a:ext cx="117720" cy="2206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54" name=""/>
                <p:cNvCxnSpPr>
                  <a:stCxn id="450" idx="5"/>
                  <a:endCxn id="451" idx="1"/>
                </p:cNvCxnSpPr>
                <p:nvPr/>
              </p:nvCxnSpPr>
              <p:spPr>
                <a:xfrm>
                  <a:off x="6668280" y="5191200"/>
                  <a:ext cx="121320" cy="2260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</p:grpSp>
          <p:sp>
            <p:nvSpPr>
              <p:cNvPr id="455" name=""/>
              <p:cNvSpPr/>
              <p:nvPr/>
            </p:nvSpPr>
            <p:spPr>
              <a:xfrm>
                <a:off x="6759000" y="459180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22880" y="501516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78480" y="541188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58" name=""/>
              <p:cNvCxnSpPr>
                <a:stCxn id="456" idx="5"/>
                <a:endCxn id="457" idx="1"/>
              </p:cNvCxnSpPr>
              <p:nvPr/>
            </p:nvCxnSpPr>
            <p:spPr>
              <a:xfrm>
                <a:off x="7186320" y="5193000"/>
                <a:ext cx="121680" cy="2260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59" name=""/>
              <p:cNvCxnSpPr>
                <a:stCxn id="457" idx="2"/>
                <a:endCxn id="451" idx="6"/>
              </p:cNvCxnSpPr>
              <p:nvPr/>
            </p:nvCxnSpPr>
            <p:spPr>
              <a:xfrm flipH="1" flipV="1">
                <a:off x="6975720" y="5502600"/>
                <a:ext cx="27972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60" name=""/>
              <p:cNvCxnSpPr>
                <a:stCxn id="456" idx="3"/>
                <a:endCxn id="451" idx="7"/>
              </p:cNvCxnSpPr>
              <p:nvPr/>
            </p:nvCxnSpPr>
            <p:spPr>
              <a:xfrm flipH="1">
                <a:off x="6924240" y="5192640"/>
                <a:ext cx="127440" cy="2242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61" name=""/>
              <p:cNvCxnSpPr>
                <a:stCxn id="455" idx="3"/>
                <a:endCxn id="450" idx="7"/>
              </p:cNvCxnSpPr>
              <p:nvPr/>
            </p:nvCxnSpPr>
            <p:spPr>
              <a:xfrm flipH="1">
                <a:off x="6668640" y="4769280"/>
                <a:ext cx="119520" cy="25164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62" name=""/>
              <p:cNvCxnSpPr>
                <a:stCxn id="456" idx="1"/>
                <a:endCxn id="455" idx="5"/>
              </p:cNvCxnSpPr>
              <p:nvPr/>
            </p:nvCxnSpPr>
            <p:spPr>
              <a:xfrm flipH="1" flipV="1">
                <a:off x="6922080" y="4768920"/>
                <a:ext cx="129240" cy="2530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63" name=""/>
              <p:cNvCxnSpPr>
                <a:stCxn id="450" idx="6"/>
                <a:endCxn id="456" idx="2"/>
              </p:cNvCxnSpPr>
              <p:nvPr/>
            </p:nvCxnSpPr>
            <p:spPr>
              <a:xfrm>
                <a:off x="6720840" y="5106240"/>
                <a:ext cx="27936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15C-172D-4AAC-B009-97611541C8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Intrinsic (‘fractal’) dimension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640" y="2184120"/>
            <a:ext cx="8569440" cy="2268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How to estimate it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332-B1AC-4026-900E-26B61FA07B0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Intrinsic (‘fractal’) dimension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55640" y="2184120"/>
            <a:ext cx="4200480" cy="184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Q: fractal dimension of a line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: nn ( &lt;= r ) ~ r^</a:t>
            </a:r>
            <a:r>
              <a:rPr b="0" lang="en-US" sz="31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(‘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power law’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: y=x^</a:t>
            </a:r>
            <a:r>
              <a:rPr b="0" lang="en-US" sz="31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24600" y="2184120"/>
            <a:ext cx="4200480" cy="1679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1000"/>
          </a:bodyPr>
          <a:p>
            <a:pPr marL="343800" indent="-3438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Q: fd of a plane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800" indent="-3438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A: nn ( &lt;= r ) ~ r^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8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d== slope of (log(nn) vs log(r) 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8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176480" y="4367160"/>
            <a:ext cx="3192120" cy="2268360"/>
            <a:chOff x="1176480" y="4367160"/>
            <a:chExt cx="3192120" cy="2268360"/>
          </a:xfrm>
        </p:grpSpPr>
        <p:sp>
          <p:nvSpPr>
            <p:cNvPr id="470" name=""/>
            <p:cNvSpPr/>
            <p:nvPr/>
          </p:nvSpPr>
          <p:spPr>
            <a:xfrm>
              <a:off x="1176480" y="4367160"/>
              <a:ext cx="3192120" cy="226836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36480" y="5123160"/>
              <a:ext cx="672120" cy="6717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16360" y="4702680"/>
              <a:ext cx="1512000" cy="15123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04600" y="5291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72360" y="5459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940480" y="5627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08600" y="5795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6720" y="5963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44480" y="6131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32480" y="4619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00600" y="478692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68360" y="4955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36480" y="5123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08480" y="4367160"/>
            <a:ext cx="3192120" cy="2268360"/>
            <a:chOff x="5208480" y="4367160"/>
            <a:chExt cx="3192120" cy="2268360"/>
          </a:xfrm>
        </p:grpSpPr>
        <p:sp>
          <p:nvSpPr>
            <p:cNvPr id="484" name=""/>
            <p:cNvSpPr/>
            <p:nvPr/>
          </p:nvSpPr>
          <p:spPr>
            <a:xfrm>
              <a:off x="6468480" y="5038920"/>
              <a:ext cx="672120" cy="6717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48360" y="4619160"/>
              <a:ext cx="1512000" cy="15123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08480" y="4367160"/>
              <a:ext cx="3192120" cy="226836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44360" y="4786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4360" y="5207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80600" y="5123160"/>
              <a:ext cx="8352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880600" y="4871160"/>
              <a:ext cx="8352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16480" y="5459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80600" y="571104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52360" y="5795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20480" y="5963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88600" y="6131520"/>
              <a:ext cx="8352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44360" y="4534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56360" y="6299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880600" y="6047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16480" y="5123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16480" y="621540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68480" y="5291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552360" y="621540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04360" y="5627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72480" y="5795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40600" y="596304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08720" y="6131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32600" y="453492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00360" y="47026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12480" y="6047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28600" y="5543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04360" y="5375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24480" y="4955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40600" y="5543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12480" y="621540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76480" y="5879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44360" y="5795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68480" y="4534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148600" y="5543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80480" y="6383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20480" y="4786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88600" y="495504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08720" y="4619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24480" y="5291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2600" y="545904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00360" y="5711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28480" y="5795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896600" y="596304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60720" y="6299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12720" y="4619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04360" y="4534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80480" y="5291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28480" y="5038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68480" y="4955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64480" y="6383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44600" y="5375160"/>
              <a:ext cx="8352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04360" y="5207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64720" y="4871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48600" y="5879520"/>
              <a:ext cx="8352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2449440" y="545616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88280" y="5303880"/>
            <a:ext cx="228600" cy="230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9C8-48F6-4B5B-BAD7-AD0809C54B6F}" type="slidenum">
              <a:t>5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ierpinsky triangl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45640" y="2603160"/>
            <a:ext cx="6797880" cy="4208040"/>
            <a:chOff x="845640" y="2603160"/>
            <a:chExt cx="6797880" cy="4208040"/>
          </a:xfrm>
        </p:grpSpPr>
        <p:sp>
          <p:nvSpPr>
            <p:cNvPr id="543" name=""/>
            <p:cNvSpPr/>
            <p:nvPr/>
          </p:nvSpPr>
          <p:spPr>
            <a:xfrm>
              <a:off x="2939400" y="6131880"/>
              <a:ext cx="47041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2400" rIns="122400" tIns="-61200" bIns="-61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939400" y="2603160"/>
              <a:ext cx="0" cy="3528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2400" rIns="122400" tIns="61200" bIns="61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23640" y="3443040"/>
              <a:ext cx="4619880" cy="2100240"/>
            </a:xfrm>
            <a:custGeom>
              <a:avLst/>
              <a:gdLst/>
              <a:ahLst/>
              <a:rect l="l" t="t" r="r" b="b"/>
              <a:pathLst>
                <a:path w="2640" h="1200">
                  <a:moveTo>
                    <a:pt x="0" y="1200"/>
                  </a:moveTo>
                  <a:lnTo>
                    <a:pt x="432" y="1200"/>
                  </a:lnTo>
                  <a:lnTo>
                    <a:pt x="624" y="1152"/>
                  </a:lnTo>
                  <a:lnTo>
                    <a:pt x="768" y="1104"/>
                  </a:lnTo>
                  <a:lnTo>
                    <a:pt x="1776" y="192"/>
                  </a:lnTo>
                  <a:lnTo>
                    <a:pt x="1872" y="144"/>
                  </a:lnTo>
                  <a:lnTo>
                    <a:pt x="2016" y="48"/>
                  </a:lnTo>
                  <a:lnTo>
                    <a:pt x="2640" y="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06840" y="6292440"/>
              <a:ext cx="1162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sp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log( r )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5640" y="2650320"/>
              <a:ext cx="1847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sp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log(#pairs 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within &lt;=r )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91640" y="4535640"/>
              <a:ext cx="50364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400" rIns="122400" tIns="-61200" bIns="-61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96240" y="4108320"/>
              <a:ext cx="826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sp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ff3300"/>
                  </a:solidFill>
                  <a:latin typeface="Times New Roman"/>
                </a:rPr>
                <a:t>1.58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452840" y="2100240"/>
            <a:ext cx="5166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a50021"/>
                </a:solidFill>
                <a:latin typeface="Times New Roman"/>
              </a:rPr>
              <a:t>== ‘correlation integral’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a50021"/>
                </a:solidFill>
                <a:latin typeface="Times New Roman"/>
              </a:rPr>
              <a:t>= CDF of pairwise distance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860400" y="4649760"/>
            <a:ext cx="1548000" cy="14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2B8-AB11-4888-B4C3-1FC60F97B47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Fractals and power law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y are related concept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ractals &lt;=&gt;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lf-similarity &lt;=&gt;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cale-free &lt;=&gt;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( y= x</a:t>
            </a:r>
            <a:r>
              <a:rPr b="0" lang="en-US" sz="3500" spc="-1" strike="noStrike" baseline="30000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 = C r</a:t>
            </a:r>
            <a:r>
              <a:rPr b="0" lang="en-US" sz="3100" spc="-1" strike="noStrike" baseline="30000">
                <a:solidFill>
                  <a:srgbClr val="000066"/>
                </a:solidFill>
                <a:latin typeface="Times New Roman"/>
              </a:rPr>
              <a:t>(-2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vs y=e</a:t>
            </a:r>
            <a:r>
              <a:rPr b="0" lang="en-US" sz="3100" spc="-1" strike="noStrike" baseline="30000">
                <a:solidFill>
                  <a:srgbClr val="000066"/>
                </a:solidFill>
                <a:latin typeface="Times New Roman"/>
              </a:rPr>
              <a:t>-ax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7240680" y="4330800"/>
            <a:ext cx="1546200" cy="14857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7238880" y="4452840"/>
            <a:ext cx="1733760" cy="156060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580160" y="4495680"/>
            <a:ext cx="938520" cy="793800"/>
          </a:xfrm>
          <a:prstGeom prst="ellipse">
            <a:avLst/>
          </a:prstGeom>
          <a:noFill/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B95-4BA7-4C44-985E-ACEC3181146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Fractals and power law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and fractals are closely related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d fractals appear in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MANY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as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ast-lines: 1.1-1.5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brain-surface: 2.6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rain-patches: 1.3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ree-bark: ~2.1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ock prices / random walks: 1.5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... [see Mandelbrot; or Schroeder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8839080" y="304920"/>
            <a:ext cx="990720" cy="6933960"/>
          </a:xfrm>
          <a:custGeom>
            <a:avLst/>
            <a:gdLst>
              <a:gd name="textAreaLeft" fmla="*/ 291240 w 990720"/>
              <a:gd name="textAreaRight" fmla="*/ 991080 w 990720"/>
              <a:gd name="textAreaTop" fmla="*/ 288720 h 6933960"/>
              <a:gd name="textAreaBottom" fmla="*/ 6645240 h 693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514-82AE-4CC0-A207-B9EB0C3F7D9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ther power law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ractals &amp; self-similarity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ase study: Kronecker graph generator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2040" y="507348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4C7-E0F7-4830-8AE3-68701084B82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Virus propagation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3: How do viruses/rumors propagat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4: Who is the best person/computer to immunize against a viru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32C-8ECA-4003-A9B5-0A36293E31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elf-similarity at work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2: How to generate a realistic graph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(Q2’) and how to grow it over tim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26C-BFF0-4FA1-8DE4-480E2FCB58C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Wish list for a generator: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in- and out-degre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scree plo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hrinking/constant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ensification Power Law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munities-within-communiti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how to achieve all of them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BF1-CCB6-42A7-982A-5DA8B82E9E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Wish list for a generator: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in- and out-degre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scree plo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hrinking/constant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ensification Power Law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munities-within-communiti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how to achieve all of them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Kronecker matrix product [Leskovec+05b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60B-EB72-400D-B43D-500DD7DA954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Kronecker product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rcRect l="11658" t="11096" r="29144" b="41610"/>
          <a:stretch/>
        </p:blipFill>
        <p:spPr>
          <a:xfrm>
            <a:off x="268200" y="2448000"/>
            <a:ext cx="9180720" cy="342252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943600" y="2057400"/>
            <a:ext cx="3429000" cy="41148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CC8-17C2-4433-8FCD-E8B482020FD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Kronecker product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rcRect l="11658" t="11096" r="29144" b="41610"/>
          <a:stretch/>
        </p:blipFill>
        <p:spPr>
          <a:xfrm>
            <a:off x="268200" y="2448000"/>
            <a:ext cx="9180720" cy="34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152-F051-4D64-9738-ACF3B07CB9CC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Kronecker product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80880" y="1754280"/>
            <a:ext cx="9699840" cy="452592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600200" y="6324480"/>
            <a:ext cx="1143000" cy="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20160" y="6340320"/>
            <a:ext cx="477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54160" y="6354720"/>
            <a:ext cx="97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*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562720" y="6248520"/>
            <a:ext cx="1144440" cy="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086600" y="6248520"/>
            <a:ext cx="1143000" cy="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20800" y="6324480"/>
            <a:ext cx="109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**4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17E-B047-4D82-97F0-4C49601DBDDE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Properties of Kronecker graphs: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in- and out-degre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scree plo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constant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erfect Densification Power Law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munities-within-communiti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3280" y="263700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3280" y="454176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3280" y="393228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73280" y="324648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73280" y="195120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69D-FDE5-4B6D-832C-6BEFACC5EE0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Properties of Kronecker graphs: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in- and out-degre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scree plo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constant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erfect Densification Power Law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munities-within-communiti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nd we can </a:t>
            </a:r>
            <a:r>
              <a:rPr b="1" lang="en-US" sz="3500" spc="-1" strike="noStrike" u="sng">
                <a:solidFill>
                  <a:srgbClr val="000066"/>
                </a:solidFill>
                <a:uFillTx/>
                <a:latin typeface="Times New Roman"/>
              </a:rPr>
              <a:t>prove all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 of the abov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rst and only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enerator that does that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3280" y="263700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73280" y="454176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3280" y="393228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3280" y="324648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3280" y="195120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164-01D7-498F-A447-63753995C5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Kronecker - patent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2212920"/>
            <a:ext cx="8991720" cy="40910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294200" y="5715000"/>
            <a:ext cx="136152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99680" y="5638680"/>
            <a:ext cx="10890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cre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04080" y="5715000"/>
            <a:ext cx="169992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085520" y="5638680"/>
            <a:ext cx="12582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.P.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249-0BEC-419C-940A-AB288F8E1BAD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virus propagation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onnection subgraph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ross-association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2040" y="434340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585-5EEA-499B-9402-FE15C212CE8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clustering &amp;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5: which edges/nodes are ‘abnormal’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6: split a graph in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‘natural’ communities - but how to determine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137-C419-40AE-9763-8F8C61ECC4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Virus propagation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3: How do viruses/rumors propagat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4: Who is the best person/computer to immunize against a viru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589-E95E-46F5-9418-50F01D86F6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marL="119160"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he model: SI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56944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lu’ like: Susceptible-Infected-Susceptibl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Virus ‘strength’ s= 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703760" y="5207040"/>
            <a:ext cx="673200" cy="58896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69200" y="6048360"/>
            <a:ext cx="671400" cy="587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03520" y="5207040"/>
            <a:ext cx="673200" cy="588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384960" y="4200480"/>
            <a:ext cx="671400" cy="5875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76720" y="5543640"/>
            <a:ext cx="14270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292720" y="4619520"/>
            <a:ext cx="1176480" cy="6717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92720" y="5711760"/>
            <a:ext cx="1176480" cy="503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100240" y="5880240"/>
            <a:ext cx="1679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Infected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88240" y="3780000"/>
            <a:ext cx="1847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Health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88000" y="5207040"/>
            <a:ext cx="3366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03520" y="5207040"/>
            <a:ext cx="673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N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69200" y="6048360"/>
            <a:ext cx="671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N3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84960" y="4200480"/>
            <a:ext cx="671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N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03760" y="5207040"/>
            <a:ext cx="673200" cy="5889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276720" y="4703760"/>
            <a:ext cx="3726720" cy="1355040"/>
            <a:chOff x="3276720" y="4703760"/>
            <a:chExt cx="3726720" cy="1355040"/>
          </a:xfrm>
        </p:grpSpPr>
        <p:sp>
          <p:nvSpPr>
            <p:cNvPr id="624" name=""/>
            <p:cNvSpPr/>
            <p:nvPr/>
          </p:nvSpPr>
          <p:spPr>
            <a:xfrm>
              <a:off x="3612600" y="5207760"/>
              <a:ext cx="923760" cy="167760"/>
            </a:xfrm>
            <a:prstGeom prst="rightArrow">
              <a:avLst>
                <a:gd name="adj1" fmla="val 50000"/>
                <a:gd name="adj2" fmla="val 137661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880" rIns="110880" tIns="28800" bIns="28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2187800">
              <a:off x="5459760" y="5711760"/>
              <a:ext cx="924120" cy="167760"/>
            </a:xfrm>
            <a:prstGeom prst="rightArrow">
              <a:avLst>
                <a:gd name="adj1" fmla="val 50000"/>
                <a:gd name="adj2" fmla="val 137715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880" rIns="110880" tIns="28800" bIns="28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76720" y="4703760"/>
              <a:ext cx="142776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5440" bIns="5544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l-GR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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236000">
              <a:off x="5542920" y="5375520"/>
              <a:ext cx="142776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5440" bIns="5544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l-GR" sz="22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β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200480" y="4200480"/>
            <a:ext cx="1344240" cy="923400"/>
            <a:chOff x="4200480" y="4200480"/>
            <a:chExt cx="1344240" cy="923400"/>
          </a:xfrm>
        </p:grpSpPr>
        <p:grpSp>
          <p:nvGrpSpPr>
            <p:cNvPr id="629" name=""/>
            <p:cNvGrpSpPr/>
            <p:nvPr/>
          </p:nvGrpSpPr>
          <p:grpSpPr>
            <a:xfrm>
              <a:off x="4704480" y="4704480"/>
              <a:ext cx="419760" cy="419400"/>
              <a:chOff x="4704480" y="4704480"/>
              <a:chExt cx="419760" cy="419400"/>
            </a:xfrm>
          </p:grpSpPr>
          <p:sp>
            <p:nvSpPr>
              <p:cNvPr id="630" name=""/>
              <p:cNvSpPr/>
              <p:nvPr/>
            </p:nvSpPr>
            <p:spPr>
              <a:xfrm>
                <a:off x="4872240" y="4704480"/>
                <a:ext cx="83880" cy="419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50040" bIns="500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704480" y="4872240"/>
                <a:ext cx="419760" cy="83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33840" bIns="338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704480" y="4704480"/>
                <a:ext cx="419760" cy="41940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50040" bIns="500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4200480" y="4200480"/>
              <a:ext cx="13442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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4A6-FCB8-4682-8C7F-540ADC2B76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pidemic threshold </a:t>
            </a:r>
            <a:r>
              <a:rPr b="0" lang="en-US" sz="4900" spc="-1" strike="noStrike">
                <a:solidFill>
                  <a:srgbClr val="a50021"/>
                </a:solidFill>
                <a:latin typeface="Symbol"/>
                <a:ea typeface="Symbol"/>
              </a:rPr>
              <a:t>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of a graph: the value of </a:t>
            </a:r>
            <a:r>
              <a:rPr b="0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, such th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f   strength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s = 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 / 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 &lt;  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 epidemic can not happe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us,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iven a graph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pute its epidemic threshold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E03-9036-4855-8C9C-F7C369E6036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pidemic threshold </a:t>
            </a:r>
            <a:r>
              <a:rPr b="0" lang="en-US" sz="4900" spc="-1" strike="noStrike">
                <a:solidFill>
                  <a:srgbClr val="a50021"/>
                </a:solidFill>
                <a:latin typeface="Symbol"/>
                <a:ea typeface="Symbol"/>
              </a:rPr>
              <a:t>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5690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hat should </a:t>
            </a:r>
            <a:r>
              <a:rPr b="0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epend on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vg. degree? and/or highest degree?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d/or variance of degre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d/or third moment of degre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d/or diameter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63880" y="5124600"/>
            <a:ext cx="1512720" cy="1426680"/>
            <a:chOff x="3863880" y="5124600"/>
            <a:chExt cx="1512720" cy="1426680"/>
          </a:xfrm>
        </p:grpSpPr>
        <p:sp>
          <p:nvSpPr>
            <p:cNvPr id="639" name=""/>
            <p:cNvSpPr/>
            <p:nvPr/>
          </p:nvSpPr>
          <p:spPr>
            <a:xfrm>
              <a:off x="4367880" y="5796000"/>
              <a:ext cx="167760" cy="1681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36000" y="5376240"/>
              <a:ext cx="16776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04120" y="6131880"/>
              <a:ext cx="16812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72240" y="5712120"/>
              <a:ext cx="16776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43" name=""/>
            <p:cNvCxnSpPr>
              <a:stCxn id="642" idx="1"/>
              <a:endCxn id="640" idx="5"/>
            </p:cNvCxnSpPr>
            <p:nvPr/>
          </p:nvCxnSpPr>
          <p:spPr>
            <a:xfrm flipH="1" flipV="1">
              <a:off x="4679280" y="5533200"/>
              <a:ext cx="217440" cy="18936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644" name=""/>
            <p:cNvCxnSpPr>
              <a:stCxn id="641" idx="0"/>
              <a:endCxn id="642" idx="3"/>
            </p:cNvCxnSpPr>
            <p:nvPr/>
          </p:nvCxnSpPr>
          <p:spPr>
            <a:xfrm flipV="1">
              <a:off x="4788000" y="5869080"/>
              <a:ext cx="109080" cy="24876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645" name=""/>
            <p:cNvCxnSpPr>
              <a:stCxn id="639" idx="5"/>
              <a:endCxn id="641" idx="0"/>
            </p:cNvCxnSpPr>
            <p:nvPr/>
          </p:nvCxnSpPr>
          <p:spPr>
            <a:xfrm>
              <a:off x="4511520" y="5952960"/>
              <a:ext cx="277200" cy="16524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646" name=""/>
            <p:cNvSpPr/>
            <p:nvPr/>
          </p:nvSpPr>
          <p:spPr>
            <a:xfrm>
              <a:off x="3863880" y="5124600"/>
              <a:ext cx="1512720" cy="14266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553080" y="5040360"/>
            <a:ext cx="1510920" cy="1426680"/>
            <a:chOff x="6553080" y="5040360"/>
            <a:chExt cx="1510920" cy="1426680"/>
          </a:xfrm>
        </p:grpSpPr>
        <p:sp>
          <p:nvSpPr>
            <p:cNvPr id="648" name=""/>
            <p:cNvSpPr/>
            <p:nvPr/>
          </p:nvSpPr>
          <p:spPr>
            <a:xfrm>
              <a:off x="6804720" y="5627880"/>
              <a:ext cx="167760" cy="16740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44240" y="5795640"/>
              <a:ext cx="16812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40240" y="5375880"/>
              <a:ext cx="168120" cy="16740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08360" y="6131520"/>
              <a:ext cx="167760" cy="16740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52" name=""/>
            <p:cNvCxnSpPr>
              <a:stCxn id="650" idx="1"/>
              <a:endCxn id="648" idx="7"/>
            </p:cNvCxnSpPr>
            <p:nvPr/>
          </p:nvCxnSpPr>
          <p:spPr>
            <a:xfrm flipH="1">
              <a:off x="6947640" y="5385960"/>
              <a:ext cx="217440" cy="25236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653" name=""/>
            <p:cNvCxnSpPr>
              <a:stCxn id="650" idx="5"/>
              <a:endCxn id="649" idx="1"/>
            </p:cNvCxnSpPr>
            <p:nvPr/>
          </p:nvCxnSpPr>
          <p:spPr>
            <a:xfrm>
              <a:off x="7283880" y="5533200"/>
              <a:ext cx="385200" cy="27324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654" name=""/>
            <p:cNvCxnSpPr>
              <a:stCxn id="650" idx="4"/>
              <a:endCxn id="651" idx="1"/>
            </p:cNvCxnSpPr>
            <p:nvPr/>
          </p:nvCxnSpPr>
          <p:spPr>
            <a:xfrm>
              <a:off x="7224480" y="5557680"/>
              <a:ext cx="108720" cy="58392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655" name=""/>
            <p:cNvCxnSpPr>
              <a:stCxn id="648" idx="5"/>
              <a:endCxn id="651" idx="1"/>
            </p:cNvCxnSpPr>
            <p:nvPr/>
          </p:nvCxnSpPr>
          <p:spPr>
            <a:xfrm>
              <a:off x="6948000" y="5785200"/>
              <a:ext cx="385200" cy="35712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656" name=""/>
            <p:cNvSpPr/>
            <p:nvPr/>
          </p:nvSpPr>
          <p:spPr>
            <a:xfrm>
              <a:off x="6553080" y="5040360"/>
              <a:ext cx="1510920" cy="14266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176480" y="5207040"/>
            <a:ext cx="1510920" cy="1428480"/>
            <a:chOff x="1176480" y="5207040"/>
            <a:chExt cx="1510920" cy="1428480"/>
          </a:xfrm>
        </p:grpSpPr>
        <p:sp>
          <p:nvSpPr>
            <p:cNvPr id="658" name=""/>
            <p:cNvSpPr/>
            <p:nvPr/>
          </p:nvSpPr>
          <p:spPr>
            <a:xfrm>
              <a:off x="1428120" y="5627160"/>
              <a:ext cx="168120" cy="1681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68000" y="5879160"/>
              <a:ext cx="167760" cy="1681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96240" y="6047640"/>
              <a:ext cx="16776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16000" y="5543280"/>
              <a:ext cx="16776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76480" y="5207040"/>
              <a:ext cx="1510920" cy="14284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154-944C-4B0C-A2D8-FE297EE612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71400" y="2100240"/>
            <a:ext cx="8988480" cy="2100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[Theorem] We have no epidemic, if 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29080" y="3611520"/>
            <a:ext cx="4114800" cy="1260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52360" y="3860640"/>
            <a:ext cx="355212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β/δ &lt;</a:t>
            </a:r>
            <a:r>
              <a:rPr b="0" i="1" lang="el-GR" sz="4400" spc="-1" strike="noStrike">
                <a:solidFill>
                  <a:srgbClr val="000066"/>
                </a:solidFill>
                <a:latin typeface="Times New Roman"/>
              </a:rPr>
              <a:t>τ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1/ λ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Times New Roman"/>
              </a:rPr>
              <a:t>1,</a:t>
            </a:r>
            <a:r>
              <a:rPr b="1" i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5D3-E9C3-44E8-9034-870F79896FA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71400" y="2100240"/>
            <a:ext cx="8988480" cy="2100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[Theorem] We have no epidemic, if 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529080" y="3611520"/>
            <a:ext cx="4114800" cy="1260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52360" y="3860640"/>
            <a:ext cx="355212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β/δ &lt;</a:t>
            </a:r>
            <a:r>
              <a:rPr b="0" i="1" lang="el-GR" sz="4400" spc="-1" strike="noStrike">
                <a:solidFill>
                  <a:srgbClr val="000066"/>
                </a:solidFill>
                <a:latin typeface="Times New Roman"/>
              </a:rPr>
              <a:t>τ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1/ λ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Times New Roman"/>
              </a:rPr>
              <a:t>1,</a:t>
            </a:r>
            <a:r>
              <a:rPr b="1" i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86240" y="4944960"/>
            <a:ext cx="305820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Times New Roman"/>
              </a:rPr>
              <a:t>largest eigenvalue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Times New Roman"/>
              </a:rPr>
              <a:t>of adj. matrix </a:t>
            </a:r>
            <a:r>
              <a:rPr b="1" i="1" lang="en-US" sz="31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543320" y="5067360"/>
            <a:ext cx="20631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ttack prob.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71400" y="3108240"/>
            <a:ext cx="26892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recovery prob.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444840" y="4619160"/>
            <a:ext cx="335160" cy="755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44840" y="3346560"/>
            <a:ext cx="1008000" cy="601560"/>
          </a:xfrm>
          <a:custGeom>
            <a:avLst/>
            <a:gdLst/>
            <a:ahLst/>
            <a:rect l="l" t="t" r="r" b="b"/>
            <a:pathLst>
              <a:path w="576" h="344">
                <a:moveTo>
                  <a:pt x="0" y="8"/>
                </a:moveTo>
                <a:cubicBezTo>
                  <a:pt x="168" y="4"/>
                  <a:pt x="336" y="0"/>
                  <a:pt x="432" y="56"/>
                </a:cubicBezTo>
                <a:cubicBezTo>
                  <a:pt x="528" y="112"/>
                  <a:pt x="552" y="228"/>
                  <a:pt x="576" y="344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553080" y="4535640"/>
            <a:ext cx="82800" cy="5047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83640" y="2844720"/>
            <a:ext cx="32108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292360" y="3443400"/>
            <a:ext cx="168120" cy="67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1280" y="5900760"/>
            <a:ext cx="34804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oof: [Wang+03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9E7-6945-4227-869E-1DFFEE38F47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55640" y="6383160"/>
            <a:ext cx="882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55640" y="25200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xperiments (Oregon)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71400" y="1344600"/>
          <a:ext cx="6469200" cy="54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344600"/>
                    <a:ext cx="646920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 flipH="1">
            <a:off x="5796000" y="2519280"/>
            <a:ext cx="1681200" cy="201636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392960" y="2016000"/>
            <a:ext cx="31924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l-GR" sz="26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/</a:t>
            </a:r>
            <a:r>
              <a:rPr b="1" lang="el-GR" sz="2600" spc="-1" strike="noStrike">
                <a:solidFill>
                  <a:srgbClr val="a50021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&gt; </a:t>
            </a:r>
            <a:r>
              <a:rPr b="1" lang="el-GR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τ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above threshold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795640" y="4649760"/>
            <a:ext cx="1444680" cy="7254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240680" y="4200480"/>
            <a:ext cx="30924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l-GR" sz="26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r>
              <a:rPr b="1" lang="el-GR" sz="2600" spc="-1" strike="noStrike">
                <a:solidFill>
                  <a:srgbClr val="008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= </a:t>
            </a:r>
            <a:r>
              <a:rPr b="1" lang="el-GR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τ</a:t>
            </a:r>
            <a:r>
              <a:rPr b="1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at the threshold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5796000" y="5711760"/>
            <a:ext cx="1596960" cy="503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08720" y="5711760"/>
            <a:ext cx="31924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l-GR" sz="26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1" lang="el-GR" sz="26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&lt; </a:t>
            </a:r>
            <a:r>
              <a:rPr b="1" lang="el-GR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τ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below threshold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E3B-1265-4759-841C-39F2769AC09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Our result: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Holds for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ny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graph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cludes older results as special cas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3A4-9E6D-4780-ACE6-86A9F772AD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Virus propagation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3: How do viruses/rumors propagat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4: Who is the best person/computer to immunize against a viru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4: the one that causes the highest decrease in  </a:t>
            </a:r>
            <a:r>
              <a:rPr b="0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14400" y="2133720"/>
            <a:ext cx="30492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888-8ABB-4A95-886D-B76B29EBF30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virus propagation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onnection subgraph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ross-association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2040" y="533232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4DC-738C-4786-A1CE-0B58C1E12F5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2040" y="286380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8C4-3C8B-424A-9037-D47620B7C9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/>
          <a:srcRect l="-1420" t="44850" r="0" b="38184"/>
          <a:stretch/>
        </p:blipFill>
        <p:spPr>
          <a:xfrm>
            <a:off x="468360" y="3489480"/>
            <a:ext cx="8991720" cy="28936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741240" y="939960"/>
            <a:ext cx="86090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(A-A) Kidman-Diaz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hat are the best paths between ‘Kidman’ and ‘Diaz’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703680"/>
            <a:ext cx="1219320" cy="42552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097760" y="3780000"/>
            <a:ext cx="1219320" cy="4251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3430440"/>
            <a:ext cx="1219320" cy="42552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78040" y="6097680"/>
            <a:ext cx="1219320" cy="42552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144880" y="4160880"/>
            <a:ext cx="685800" cy="380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440160" y="3703320"/>
            <a:ext cx="1131840" cy="1522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92640" y="393228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5421240" y="4084560"/>
            <a:ext cx="1828800" cy="533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440160" y="5074920"/>
            <a:ext cx="1523880" cy="10666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3E7-3D56-4560-988A-7EB4564D5E7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rcRect l="-1420" t="44850" r="0" b="38184"/>
          <a:stretch/>
        </p:blipFill>
        <p:spPr>
          <a:xfrm>
            <a:off x="468360" y="3489480"/>
            <a:ext cx="8991720" cy="28936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741240" y="939960"/>
            <a:ext cx="86090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(A-A) Kidman-Diaz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506840" y="5684400"/>
            <a:ext cx="15264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52800" y="6008760"/>
            <a:ext cx="3138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rong, direct lin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hat are the best paths between ‘Kidman’ and ‘Diaz’? [KDD’04, w/ McCurley+Tomkins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942-F7AE-4BCB-BB30-1DC920C3955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virus propagation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onnection subgraph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ross-association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2040" y="578952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147-E4FB-44C4-89E3-7A9A9765AAF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clustering &amp;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5: which edges/nodes are ‘abnormal’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6: split a graph in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‘natural’ communities - but how to determine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A1E-75C3-4CEF-AAF6-594BB2F6280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partitio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78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ocument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term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ustom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produc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Us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web-sit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553080" y="30243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53080" y="3359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553080" y="3695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53080" y="5375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5711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6048360"/>
            <a:ext cx="250920" cy="2509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148600" y="277164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148600" y="310824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148600" y="4619520"/>
            <a:ext cx="252360" cy="252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148600" y="504036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148600" y="428292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35" name=""/>
          <p:cNvCxnSpPr>
            <a:stCxn id="724" idx="6"/>
            <a:endCxn id="730" idx="2"/>
          </p:cNvCxnSpPr>
          <p:nvPr/>
        </p:nvCxnSpPr>
        <p:spPr>
          <a:xfrm flipV="1">
            <a:off x="6822720" y="289800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36" name=""/>
          <p:cNvCxnSpPr>
            <a:stCxn id="724" idx="6"/>
            <a:endCxn id="731" idx="2"/>
          </p:cNvCxnSpPr>
          <p:nvPr/>
        </p:nvCxnSpPr>
        <p:spPr>
          <a:xfrm>
            <a:off x="6822720" y="3151080"/>
            <a:ext cx="1307160" cy="835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37" name=""/>
          <p:cNvCxnSpPr>
            <a:stCxn id="725" idx="6"/>
            <a:endCxn id="730" idx="2"/>
          </p:cNvCxnSpPr>
          <p:nvPr/>
        </p:nvCxnSpPr>
        <p:spPr>
          <a:xfrm flipV="1">
            <a:off x="6822720" y="2898360"/>
            <a:ext cx="1307160" cy="5882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38" name=""/>
          <p:cNvCxnSpPr>
            <a:stCxn id="726" idx="6"/>
            <a:endCxn id="731" idx="2"/>
          </p:cNvCxnSpPr>
          <p:nvPr/>
        </p:nvCxnSpPr>
        <p:spPr>
          <a:xfrm flipV="1">
            <a:off x="6822720" y="3233520"/>
            <a:ext cx="1307160" cy="589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39" name=""/>
          <p:cNvCxnSpPr>
            <a:stCxn id="725" idx="6"/>
            <a:endCxn id="731" idx="2"/>
          </p:cNvCxnSpPr>
          <p:nvPr/>
        </p:nvCxnSpPr>
        <p:spPr>
          <a:xfrm flipV="1">
            <a:off x="6822720" y="323316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0" name=""/>
          <p:cNvCxnSpPr>
            <a:stCxn id="727" idx="6"/>
            <a:endCxn id="734" idx="2"/>
          </p:cNvCxnSpPr>
          <p:nvPr/>
        </p:nvCxnSpPr>
        <p:spPr>
          <a:xfrm flipV="1">
            <a:off x="6822720" y="440964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1" name=""/>
          <p:cNvCxnSpPr>
            <a:stCxn id="728" idx="6"/>
            <a:endCxn id="734" idx="2"/>
          </p:cNvCxnSpPr>
          <p:nvPr/>
        </p:nvCxnSpPr>
        <p:spPr>
          <a:xfrm flipV="1">
            <a:off x="6822720" y="4409280"/>
            <a:ext cx="1307160" cy="1429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2" name=""/>
          <p:cNvCxnSpPr>
            <a:stCxn id="729" idx="6"/>
            <a:endCxn id="733" idx="2"/>
          </p:cNvCxnSpPr>
          <p:nvPr/>
        </p:nvCxnSpPr>
        <p:spPr>
          <a:xfrm flipV="1">
            <a:off x="6822720" y="5165280"/>
            <a:ext cx="1307160" cy="1008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3" name=""/>
          <p:cNvCxnSpPr>
            <a:stCxn id="732" idx="2"/>
            <a:endCxn id="728" idx="6"/>
          </p:cNvCxnSpPr>
          <p:nvPr/>
        </p:nvCxnSpPr>
        <p:spPr>
          <a:xfrm flipH="1">
            <a:off x="6822360" y="474660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4" name=""/>
          <p:cNvCxnSpPr>
            <a:stCxn id="727" idx="6"/>
            <a:endCxn id="733" idx="2"/>
          </p:cNvCxnSpPr>
          <p:nvPr/>
        </p:nvCxnSpPr>
        <p:spPr>
          <a:xfrm flipV="1">
            <a:off x="6822720" y="5164920"/>
            <a:ext cx="1307160" cy="337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45" name=""/>
          <p:cNvSpPr/>
          <p:nvPr/>
        </p:nvSpPr>
        <p:spPr>
          <a:xfrm>
            <a:off x="6553080" y="4367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53080" y="4703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45" idx="6"/>
            <a:endCxn id="731" idx="2"/>
          </p:cNvCxnSpPr>
          <p:nvPr/>
        </p:nvCxnSpPr>
        <p:spPr>
          <a:xfrm flipV="1">
            <a:off x="6822720" y="3233160"/>
            <a:ext cx="1307160" cy="126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8" name=""/>
          <p:cNvCxnSpPr>
            <a:stCxn id="745" idx="6"/>
            <a:endCxn id="734" idx="2"/>
          </p:cNvCxnSpPr>
          <p:nvPr/>
        </p:nvCxnSpPr>
        <p:spPr>
          <a:xfrm flipV="1">
            <a:off x="6822720" y="4409640"/>
            <a:ext cx="1307160" cy="84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9" name=""/>
          <p:cNvCxnSpPr>
            <a:stCxn id="746" idx="6"/>
            <a:endCxn id="730" idx="2"/>
          </p:cNvCxnSpPr>
          <p:nvPr/>
        </p:nvCxnSpPr>
        <p:spPr>
          <a:xfrm flipV="1">
            <a:off x="6822720" y="2898000"/>
            <a:ext cx="1307160" cy="193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50" name=""/>
          <p:cNvCxnSpPr>
            <a:stCxn id="746" idx="5"/>
            <a:endCxn id="734" idx="2"/>
          </p:cNvCxnSpPr>
          <p:nvPr/>
        </p:nvCxnSpPr>
        <p:spPr>
          <a:xfrm flipV="1">
            <a:off x="6767280" y="4409640"/>
            <a:ext cx="1362600" cy="529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6048360" y="2771640"/>
            <a:ext cx="1176480" cy="13446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48360" y="5124600"/>
            <a:ext cx="1176480" cy="13428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643880" y="411624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728120" y="235260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216480" y="4200480"/>
            <a:ext cx="839880" cy="83988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D24-F800-4FEA-8E32-A0F108FF391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partitio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78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ocument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term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ustom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produc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Us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web-sit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a50021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Times New Roman"/>
              </a:rPr>
              <a:t>Q: HOW MANY PIECE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553080" y="30243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553080" y="3359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553080" y="3695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5375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553080" y="5711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553080" y="6048360"/>
            <a:ext cx="250920" cy="2509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48600" y="277164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148600" y="310824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148600" y="4619520"/>
            <a:ext cx="252360" cy="252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148600" y="504036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148600" y="428292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69" name=""/>
          <p:cNvCxnSpPr>
            <a:stCxn id="758" idx="6"/>
            <a:endCxn id="764" idx="2"/>
          </p:cNvCxnSpPr>
          <p:nvPr/>
        </p:nvCxnSpPr>
        <p:spPr>
          <a:xfrm flipV="1">
            <a:off x="6822720" y="289800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0" name=""/>
          <p:cNvCxnSpPr>
            <a:stCxn id="758" idx="6"/>
            <a:endCxn id="765" idx="2"/>
          </p:cNvCxnSpPr>
          <p:nvPr/>
        </p:nvCxnSpPr>
        <p:spPr>
          <a:xfrm>
            <a:off x="6822720" y="3151080"/>
            <a:ext cx="1307160" cy="835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1" name=""/>
          <p:cNvCxnSpPr>
            <a:stCxn id="759" idx="6"/>
            <a:endCxn id="764" idx="2"/>
          </p:cNvCxnSpPr>
          <p:nvPr/>
        </p:nvCxnSpPr>
        <p:spPr>
          <a:xfrm flipV="1">
            <a:off x="6822720" y="2898360"/>
            <a:ext cx="1307160" cy="5882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2" name=""/>
          <p:cNvCxnSpPr>
            <a:stCxn id="760" idx="6"/>
            <a:endCxn id="765" idx="2"/>
          </p:cNvCxnSpPr>
          <p:nvPr/>
        </p:nvCxnSpPr>
        <p:spPr>
          <a:xfrm flipV="1">
            <a:off x="6822720" y="3233520"/>
            <a:ext cx="1307160" cy="589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3" name=""/>
          <p:cNvCxnSpPr>
            <a:stCxn id="759" idx="6"/>
            <a:endCxn id="765" idx="2"/>
          </p:cNvCxnSpPr>
          <p:nvPr/>
        </p:nvCxnSpPr>
        <p:spPr>
          <a:xfrm flipV="1">
            <a:off x="6822720" y="323316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4" name=""/>
          <p:cNvCxnSpPr>
            <a:stCxn id="761" idx="6"/>
            <a:endCxn id="768" idx="2"/>
          </p:cNvCxnSpPr>
          <p:nvPr/>
        </p:nvCxnSpPr>
        <p:spPr>
          <a:xfrm flipV="1">
            <a:off x="6822720" y="440964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5" name=""/>
          <p:cNvCxnSpPr>
            <a:stCxn id="762" idx="6"/>
            <a:endCxn id="768" idx="2"/>
          </p:cNvCxnSpPr>
          <p:nvPr/>
        </p:nvCxnSpPr>
        <p:spPr>
          <a:xfrm flipV="1">
            <a:off x="6822720" y="4409280"/>
            <a:ext cx="1307160" cy="1429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6" name=""/>
          <p:cNvCxnSpPr>
            <a:stCxn id="763" idx="6"/>
            <a:endCxn id="767" idx="2"/>
          </p:cNvCxnSpPr>
          <p:nvPr/>
        </p:nvCxnSpPr>
        <p:spPr>
          <a:xfrm flipV="1">
            <a:off x="6822720" y="5165280"/>
            <a:ext cx="1307160" cy="1008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7" name=""/>
          <p:cNvCxnSpPr>
            <a:stCxn id="766" idx="2"/>
            <a:endCxn id="762" idx="6"/>
          </p:cNvCxnSpPr>
          <p:nvPr/>
        </p:nvCxnSpPr>
        <p:spPr>
          <a:xfrm flipH="1">
            <a:off x="6822360" y="474660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8" name=""/>
          <p:cNvCxnSpPr>
            <a:stCxn id="761" idx="6"/>
            <a:endCxn id="767" idx="2"/>
          </p:cNvCxnSpPr>
          <p:nvPr/>
        </p:nvCxnSpPr>
        <p:spPr>
          <a:xfrm flipV="1">
            <a:off x="6822720" y="5164920"/>
            <a:ext cx="1307160" cy="337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79" name=""/>
          <p:cNvSpPr/>
          <p:nvPr/>
        </p:nvSpPr>
        <p:spPr>
          <a:xfrm>
            <a:off x="6553080" y="4367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53080" y="4703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81" name=""/>
          <p:cNvCxnSpPr>
            <a:stCxn id="779" idx="6"/>
            <a:endCxn id="765" idx="2"/>
          </p:cNvCxnSpPr>
          <p:nvPr/>
        </p:nvCxnSpPr>
        <p:spPr>
          <a:xfrm flipV="1">
            <a:off x="6822720" y="3233160"/>
            <a:ext cx="1307160" cy="126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82" name=""/>
          <p:cNvCxnSpPr>
            <a:stCxn id="779" idx="6"/>
            <a:endCxn id="768" idx="2"/>
          </p:cNvCxnSpPr>
          <p:nvPr/>
        </p:nvCxnSpPr>
        <p:spPr>
          <a:xfrm flipV="1">
            <a:off x="6822720" y="4409640"/>
            <a:ext cx="1307160" cy="84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83" name=""/>
          <p:cNvCxnSpPr>
            <a:stCxn id="780" idx="6"/>
            <a:endCxn id="764" idx="2"/>
          </p:cNvCxnSpPr>
          <p:nvPr/>
        </p:nvCxnSpPr>
        <p:spPr>
          <a:xfrm flipV="1">
            <a:off x="6822720" y="2898000"/>
            <a:ext cx="1307160" cy="193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84" name=""/>
          <p:cNvCxnSpPr>
            <a:stCxn id="780" idx="5"/>
            <a:endCxn id="768" idx="2"/>
          </p:cNvCxnSpPr>
          <p:nvPr/>
        </p:nvCxnSpPr>
        <p:spPr>
          <a:xfrm flipV="1">
            <a:off x="6767280" y="4409640"/>
            <a:ext cx="1362600" cy="529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6048360" y="2771640"/>
            <a:ext cx="1176480" cy="13446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048360" y="5124600"/>
            <a:ext cx="1176480" cy="13428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43880" y="411624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728120" y="235260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216480" y="4200480"/>
            <a:ext cx="839880" cy="83988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59A-32BD-4B7D-9A87-815D4034CDF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partitio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78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ocument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term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ustom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produc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Us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web-sit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a50021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Times New Roman"/>
              </a:rPr>
              <a:t>Q: HOW MANY PIECE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MDL/ compre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553080" y="30243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553080" y="3359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553080" y="3695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553080" y="5375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553080" y="5711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553080" y="6048360"/>
            <a:ext cx="250920" cy="2509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148600" y="277164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148600" y="310824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148600" y="4619520"/>
            <a:ext cx="252360" cy="252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148600" y="504036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148600" y="428292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792" idx="6"/>
            <a:endCxn id="798" idx="2"/>
          </p:cNvCxnSpPr>
          <p:nvPr/>
        </p:nvCxnSpPr>
        <p:spPr>
          <a:xfrm flipV="1">
            <a:off x="6822720" y="289800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4" name=""/>
          <p:cNvCxnSpPr>
            <a:stCxn id="792" idx="6"/>
            <a:endCxn id="799" idx="2"/>
          </p:cNvCxnSpPr>
          <p:nvPr/>
        </p:nvCxnSpPr>
        <p:spPr>
          <a:xfrm>
            <a:off x="6822720" y="3151080"/>
            <a:ext cx="1307160" cy="835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5" name=""/>
          <p:cNvCxnSpPr>
            <a:stCxn id="793" idx="6"/>
            <a:endCxn id="798" idx="2"/>
          </p:cNvCxnSpPr>
          <p:nvPr/>
        </p:nvCxnSpPr>
        <p:spPr>
          <a:xfrm flipV="1">
            <a:off x="6822720" y="2898360"/>
            <a:ext cx="1307160" cy="5882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6" name=""/>
          <p:cNvCxnSpPr>
            <a:stCxn id="794" idx="6"/>
            <a:endCxn id="799" idx="2"/>
          </p:cNvCxnSpPr>
          <p:nvPr/>
        </p:nvCxnSpPr>
        <p:spPr>
          <a:xfrm flipV="1">
            <a:off x="6822720" y="3233520"/>
            <a:ext cx="1307160" cy="589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7" name=""/>
          <p:cNvCxnSpPr>
            <a:stCxn id="793" idx="6"/>
            <a:endCxn id="799" idx="2"/>
          </p:cNvCxnSpPr>
          <p:nvPr/>
        </p:nvCxnSpPr>
        <p:spPr>
          <a:xfrm flipV="1">
            <a:off x="6822720" y="323316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8" name=""/>
          <p:cNvCxnSpPr>
            <a:stCxn id="795" idx="6"/>
            <a:endCxn id="802" idx="2"/>
          </p:cNvCxnSpPr>
          <p:nvPr/>
        </p:nvCxnSpPr>
        <p:spPr>
          <a:xfrm flipV="1">
            <a:off x="6822720" y="440964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9" name=""/>
          <p:cNvCxnSpPr>
            <a:stCxn id="796" idx="6"/>
            <a:endCxn id="802" idx="2"/>
          </p:cNvCxnSpPr>
          <p:nvPr/>
        </p:nvCxnSpPr>
        <p:spPr>
          <a:xfrm flipV="1">
            <a:off x="6822720" y="4409280"/>
            <a:ext cx="1307160" cy="1429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0" name=""/>
          <p:cNvCxnSpPr>
            <a:stCxn id="797" idx="6"/>
            <a:endCxn id="801" idx="2"/>
          </p:cNvCxnSpPr>
          <p:nvPr/>
        </p:nvCxnSpPr>
        <p:spPr>
          <a:xfrm flipV="1">
            <a:off x="6822720" y="5165280"/>
            <a:ext cx="1307160" cy="1008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1" name=""/>
          <p:cNvCxnSpPr>
            <a:stCxn id="800" idx="2"/>
            <a:endCxn id="796" idx="6"/>
          </p:cNvCxnSpPr>
          <p:nvPr/>
        </p:nvCxnSpPr>
        <p:spPr>
          <a:xfrm flipH="1">
            <a:off x="6822360" y="474660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2" name=""/>
          <p:cNvCxnSpPr>
            <a:stCxn id="795" idx="6"/>
            <a:endCxn id="801" idx="2"/>
          </p:cNvCxnSpPr>
          <p:nvPr/>
        </p:nvCxnSpPr>
        <p:spPr>
          <a:xfrm flipV="1">
            <a:off x="6822720" y="5164920"/>
            <a:ext cx="1307160" cy="337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813" name=""/>
          <p:cNvSpPr/>
          <p:nvPr/>
        </p:nvSpPr>
        <p:spPr>
          <a:xfrm>
            <a:off x="6553080" y="4367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53080" y="4703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815" name=""/>
          <p:cNvCxnSpPr>
            <a:stCxn id="813" idx="6"/>
            <a:endCxn id="799" idx="2"/>
          </p:cNvCxnSpPr>
          <p:nvPr/>
        </p:nvCxnSpPr>
        <p:spPr>
          <a:xfrm flipV="1">
            <a:off x="6822720" y="3233160"/>
            <a:ext cx="1307160" cy="126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6" name=""/>
          <p:cNvCxnSpPr>
            <a:stCxn id="813" idx="6"/>
            <a:endCxn id="802" idx="2"/>
          </p:cNvCxnSpPr>
          <p:nvPr/>
        </p:nvCxnSpPr>
        <p:spPr>
          <a:xfrm flipV="1">
            <a:off x="6822720" y="4409640"/>
            <a:ext cx="1307160" cy="84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7" name=""/>
          <p:cNvCxnSpPr>
            <a:stCxn id="814" idx="6"/>
            <a:endCxn id="798" idx="2"/>
          </p:cNvCxnSpPr>
          <p:nvPr/>
        </p:nvCxnSpPr>
        <p:spPr>
          <a:xfrm flipV="1">
            <a:off x="6822720" y="2898000"/>
            <a:ext cx="1307160" cy="193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8" name=""/>
          <p:cNvCxnSpPr>
            <a:stCxn id="814" idx="5"/>
            <a:endCxn id="802" idx="2"/>
          </p:cNvCxnSpPr>
          <p:nvPr/>
        </p:nvCxnSpPr>
        <p:spPr>
          <a:xfrm flipV="1">
            <a:off x="6767280" y="4409640"/>
            <a:ext cx="1362600" cy="529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819" name=""/>
          <p:cNvSpPr/>
          <p:nvPr/>
        </p:nvSpPr>
        <p:spPr>
          <a:xfrm>
            <a:off x="6048360" y="2771640"/>
            <a:ext cx="1176480" cy="13446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48360" y="5124600"/>
            <a:ext cx="1176480" cy="13428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43880" y="411624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8120" y="235260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216480" y="4200480"/>
            <a:ext cx="839880" cy="83988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0BF-EB3C-453E-8FD2-D04954C67A5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998640" y="3193920"/>
          <a:ext cx="29019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3193920"/>
                    <a:ext cx="29019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"/>
          <p:cNvGraphicFramePr/>
          <p:nvPr/>
        </p:nvGraphicFramePr>
        <p:xfrm>
          <a:off x="3603600" y="3192480"/>
          <a:ext cx="2901960" cy="25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3600" y="3192480"/>
                    <a:ext cx="29019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6300720" y="3154320"/>
          <a:ext cx="2901960" cy="25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3154320"/>
                    <a:ext cx="290196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4521600" y="6093000"/>
            <a:ext cx="70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1x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378560" y="5924520"/>
            <a:ext cx="70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2x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63640" y="3170160"/>
            <a:ext cx="1524240" cy="3049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68560" y="3094200"/>
            <a:ext cx="609480" cy="38088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97160" y="2941560"/>
            <a:ext cx="762120" cy="5335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163440" y="4694400"/>
            <a:ext cx="152424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33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16200000">
            <a:off x="582480" y="4656240"/>
            <a:ext cx="609840" cy="38088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rot="16200000">
            <a:off x="277560" y="4579920"/>
            <a:ext cx="1067040" cy="5331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DF2-13F6-4175-BBE8-33AF65324FBE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671400" y="3192480"/>
          <a:ext cx="29019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3192480"/>
                    <a:ext cx="29019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"/>
          <p:cNvGraphicFramePr/>
          <p:nvPr/>
        </p:nvGraphicFramePr>
        <p:xfrm>
          <a:off x="3529080" y="3192480"/>
          <a:ext cx="2900160" cy="25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9080" y="3192480"/>
                    <a:ext cx="29001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6384960" y="3192480"/>
          <a:ext cx="2900160" cy="25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4960" y="3192480"/>
                    <a:ext cx="29001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1497600" y="5924520"/>
            <a:ext cx="70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2x3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773960" y="5842080"/>
            <a:ext cx="70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3x3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545960" y="5757840"/>
            <a:ext cx="70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3x4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15C-0D8C-4A50-A948-C64F0E79B6FE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1092240" y="2911320"/>
          <a:ext cx="288288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2911320"/>
                    <a:ext cx="28828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3695760" y="2913120"/>
          <a:ext cx="2882880" cy="25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5760" y="2913120"/>
                    <a:ext cx="28828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6300720" y="2905200"/>
          <a:ext cx="2892600" cy="25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2905200"/>
                    <a:ext cx="289260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154-6F07-449D-A927-8CE4A0D1A0FD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opology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134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1: How does the Internet look like? Any rule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87480" y="3024360"/>
            <a:ext cx="3054240" cy="3358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71880" y="3678840"/>
            <a:ext cx="46720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(Looks random – right?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78E-C4E7-42F6-B12A-1AED8F46A6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6300720" y="2905200"/>
          <a:ext cx="2892600" cy="25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2905200"/>
                    <a:ext cx="289260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533520" y="2895480"/>
          <a:ext cx="2901960" cy="25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95480"/>
                    <a:ext cx="29019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3429000" y="4038480"/>
          <a:ext cx="2901960" cy="25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038480"/>
                    <a:ext cx="29019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 rot="772200">
            <a:off x="3123720" y="55627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20395800">
            <a:off x="6400800" y="5638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12F-F5F4-4CE8-924E-BC66E85B78B4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clustering &amp;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5: which edges/nodes are ‘abnormal’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6: split a graph in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‘natural’ communities - but how to determine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6: choose the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that leads to best overall compression (= MDL = Minimum Description Language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080" y="3352680"/>
            <a:ext cx="30492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214-D374-4041-B4F5-D69CEE8A248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1092240" y="2911320"/>
          <a:ext cx="288288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2911320"/>
                    <a:ext cx="28828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3695760" y="2913120"/>
          <a:ext cx="2882880" cy="25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5760" y="2913120"/>
                    <a:ext cx="28828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6300720" y="2905200"/>
          <a:ext cx="2892600" cy="25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2905200"/>
                    <a:ext cx="289260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"/>
          <p:cNvSpPr/>
          <p:nvPr/>
        </p:nvSpPr>
        <p:spPr>
          <a:xfrm>
            <a:off x="7859880" y="3703680"/>
            <a:ext cx="228600" cy="2286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8012160" y="2712960"/>
            <a:ext cx="304920" cy="99072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402680" y="2103480"/>
            <a:ext cx="18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outlier ed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361280" y="3627360"/>
            <a:ext cx="228600" cy="22860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 flipV="1">
            <a:off x="6183000" y="2560320"/>
            <a:ext cx="1143000" cy="114300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800600" y="195120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issing ed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607-67EF-47FA-B578-64E0700B2119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other related projec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4920" y="495288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60A-E7B2-4F71-B0D7-571792F3C760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tream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-96840" y="1595520"/>
            <a:ext cx="4213080" cy="349560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501840" y="5040360"/>
            <a:ext cx="3390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water distribution networ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5727600" y="1595520"/>
            <a:ext cx="6200640" cy="3863520"/>
            <a:chOff x="5727600" y="1595520"/>
            <a:chExt cx="6200640" cy="3863520"/>
          </a:xfrm>
        </p:grpSpPr>
        <p:grpSp>
          <p:nvGrpSpPr>
            <p:cNvPr id="888" name=""/>
            <p:cNvGrpSpPr/>
            <p:nvPr/>
          </p:nvGrpSpPr>
          <p:grpSpPr>
            <a:xfrm>
              <a:off x="5727600" y="1595520"/>
              <a:ext cx="6116040" cy="3817800"/>
              <a:chOff x="5727600" y="1595520"/>
              <a:chExt cx="6116040" cy="381780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5879880" y="1595520"/>
                <a:ext cx="5963760" cy="3817800"/>
                <a:chOff x="5879880" y="1595520"/>
                <a:chExt cx="5963760" cy="3817800"/>
              </a:xfrm>
            </p:grpSpPr>
            <p:pic>
              <p:nvPicPr>
                <p:cNvPr id="89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79880" y="1595520"/>
                  <a:ext cx="4695120" cy="3817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91" name=""/>
                <p:cNvGrpSpPr/>
                <p:nvPr/>
              </p:nvGrpSpPr>
              <p:grpSpPr>
                <a:xfrm>
                  <a:off x="6690600" y="1595520"/>
                  <a:ext cx="3533400" cy="329400"/>
                  <a:chOff x="6690600" y="1595520"/>
                  <a:chExt cx="3533400" cy="329400"/>
                </a:xfrm>
              </p:grpSpPr>
              <p:sp>
                <p:nvSpPr>
                  <p:cNvPr id="892" name=""/>
                  <p:cNvSpPr/>
                  <p:nvPr/>
                </p:nvSpPr>
                <p:spPr>
                  <a:xfrm>
                    <a:off x="6690600" y="1595520"/>
                    <a:ext cx="9309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800" rIns="100800" tIns="50400" bIns="504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008000"/>
                        <a:tab algn="l" pos="2016000"/>
                        <a:tab algn="l" pos="3024360"/>
                        <a:tab algn="l" pos="4032360"/>
                        <a:tab algn="l" pos="5040360"/>
                        <a:tab algn="l" pos="6048360"/>
                        <a:tab algn="l" pos="7056360"/>
                        <a:tab algn="l" pos="8064360"/>
                        <a:tab algn="l" pos="9072720"/>
                        <a:tab algn="l" pos="10080720"/>
                      </a:tabLst>
                    </a:pPr>
                    <a:r>
                      <a:rPr b="1" lang="en-US" sz="1500" spc="-1" strike="noStrike">
                        <a:solidFill>
                          <a:srgbClr val="006600"/>
                        </a:solidFill>
                        <a:latin typeface="Verdana"/>
                      </a:rPr>
                      <a:t>Phase 1</a:t>
                    </a:r>
                    <a:endParaRPr b="0" lang="en-US" sz="15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8034480" y="1595520"/>
                    <a:ext cx="9309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800" rIns="100800" tIns="50400" bIns="504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008000"/>
                        <a:tab algn="l" pos="2016000"/>
                        <a:tab algn="l" pos="3024360"/>
                        <a:tab algn="l" pos="4032360"/>
                        <a:tab algn="l" pos="5040360"/>
                        <a:tab algn="l" pos="6048360"/>
                        <a:tab algn="l" pos="7056360"/>
                        <a:tab algn="l" pos="8064360"/>
                        <a:tab algn="l" pos="9072720"/>
                        <a:tab algn="l" pos="10080720"/>
                      </a:tabLst>
                    </a:pPr>
                    <a:r>
                      <a:rPr b="1" lang="en-US" sz="1500" spc="-1" strike="noStrike">
                        <a:solidFill>
                          <a:srgbClr val="cc3300"/>
                        </a:solidFill>
                        <a:latin typeface="Verdana"/>
                      </a:rPr>
                      <a:t>Phase 2</a:t>
                    </a:r>
                    <a:endParaRPr b="0" lang="en-US" sz="15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9293040" y="1595520"/>
                    <a:ext cx="9309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800" rIns="100800" tIns="50400" bIns="504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008000"/>
                        <a:tab algn="l" pos="2016000"/>
                        <a:tab algn="l" pos="3024360"/>
                        <a:tab algn="l" pos="4032360"/>
                        <a:tab algn="l" pos="5040360"/>
                        <a:tab algn="l" pos="6048360"/>
                        <a:tab algn="l" pos="7056360"/>
                        <a:tab algn="l" pos="8064360"/>
                        <a:tab algn="l" pos="9072720"/>
                        <a:tab algn="l" pos="10080720"/>
                      </a:tabLst>
                    </a:pPr>
                    <a:r>
                      <a:rPr b="1" lang="en-US" sz="1500" spc="-1" strike="noStrike">
                        <a:solidFill>
                          <a:srgbClr val="006600"/>
                        </a:solidFill>
                        <a:latin typeface="Verdana"/>
                      </a:rPr>
                      <a:t>Phase 3</a:t>
                    </a:r>
                    <a:endParaRPr b="0" lang="en-US" sz="15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6329520" y="1894680"/>
                  <a:ext cx="4251600" cy="3416040"/>
                  <a:chOff x="6329520" y="1894680"/>
                  <a:chExt cx="4251600" cy="3416040"/>
                </a:xfrm>
              </p:grpSpPr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6336360" y="1894680"/>
                    <a:ext cx="4244760" cy="1617480"/>
                    <a:chOff x="6336360" y="1894680"/>
                    <a:chExt cx="4244760" cy="1617480"/>
                  </a:xfrm>
                </p:grpSpPr>
                <p:grpSp>
                  <p:nvGrpSpPr>
                    <p:cNvPr id="897" name=""/>
                    <p:cNvGrpSpPr/>
                    <p:nvPr/>
                  </p:nvGrpSpPr>
                  <p:grpSpPr>
                    <a:xfrm>
                      <a:off x="6336360" y="1894680"/>
                      <a:ext cx="4237920" cy="666000"/>
                      <a:chOff x="6336360" y="1894680"/>
                      <a:chExt cx="4237920" cy="666000"/>
                    </a:xfrm>
                  </p:grpSpPr>
                  <p:pic>
                    <p:nvPicPr>
                      <p:cNvPr id="898" name="" descr=""/>
                      <p:cNvPicPr/>
                      <p:nvPr/>
                    </p:nvPicPr>
                    <p:blipFill>
                      <a:blip r:embed="rId3"/>
                      <a:srcRect l="9739" t="7880" r="0" b="63042"/>
                      <a:stretch/>
                    </p:blipFill>
                    <p:spPr>
                      <a:xfrm>
                        <a:off x="6336360" y="1894680"/>
                        <a:ext cx="4237920" cy="66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99" name=""/>
                      <p:cNvSpPr/>
                      <p:nvPr/>
                    </p:nvSpPr>
                    <p:spPr>
                      <a:xfrm>
                        <a:off x="6362280" y="1903320"/>
                        <a:ext cx="4080960" cy="657360"/>
                      </a:xfrm>
                      <a:prstGeom prst="rect">
                        <a:avLst/>
                      </a:prstGeom>
                      <a:noFill/>
                      <a:ln w="19080">
                        <a:solidFill>
                          <a:srgbClr val="1111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00" name=""/>
                    <p:cNvGrpSpPr/>
                    <p:nvPr/>
                  </p:nvGrpSpPr>
                  <p:grpSpPr>
                    <a:xfrm>
                      <a:off x="6342840" y="2846160"/>
                      <a:ext cx="4238280" cy="666000"/>
                      <a:chOff x="6342840" y="2846160"/>
                      <a:chExt cx="4238280" cy="666000"/>
                    </a:xfrm>
                  </p:grpSpPr>
                  <p:pic>
                    <p:nvPicPr>
                      <p:cNvPr id="901" name="" descr=""/>
                      <p:cNvPicPr/>
                      <p:nvPr/>
                    </p:nvPicPr>
                    <p:blipFill>
                      <a:blip r:embed="rId4"/>
                      <a:srcRect l="9739" t="7880" r="0" b="63042"/>
                      <a:stretch/>
                    </p:blipFill>
                    <p:spPr>
                      <a:xfrm>
                        <a:off x="6342840" y="2846160"/>
                        <a:ext cx="4238280" cy="66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02" name=""/>
                      <p:cNvSpPr/>
                      <p:nvPr/>
                    </p:nvSpPr>
                    <p:spPr>
                      <a:xfrm>
                        <a:off x="6368760" y="2854800"/>
                        <a:ext cx="4080960" cy="657360"/>
                      </a:xfrm>
                      <a:prstGeom prst="rect">
                        <a:avLst/>
                      </a:prstGeom>
                      <a:noFill/>
                      <a:ln w="19080">
                        <a:solidFill>
                          <a:srgbClr val="1111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6362280" y="2553840"/>
                      <a:ext cx="4080600" cy="30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200" spc="-1" strike="noStrike">
                          <a:solidFill>
                            <a:srgbClr val="111111"/>
                          </a:solidFill>
                          <a:latin typeface="Verdana"/>
                        </a:rPr>
                        <a:t>:  :          :  :           :  :</a:t>
                      </a:r>
                      <a:endParaRPr b="0" lang="en-US" sz="2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6329520" y="3728160"/>
                    <a:ext cx="4237560" cy="1582560"/>
                    <a:chOff x="6329520" y="3728160"/>
                    <a:chExt cx="4237560" cy="1582560"/>
                  </a:xfrm>
                </p:grpSpPr>
                <p:grpSp>
                  <p:nvGrpSpPr>
                    <p:cNvPr id="905" name=""/>
                    <p:cNvGrpSpPr/>
                    <p:nvPr/>
                  </p:nvGrpSpPr>
                  <p:grpSpPr>
                    <a:xfrm>
                      <a:off x="6329520" y="3728160"/>
                      <a:ext cx="4237560" cy="659160"/>
                      <a:chOff x="6329520" y="3728160"/>
                      <a:chExt cx="4237560" cy="659160"/>
                    </a:xfrm>
                  </p:grpSpPr>
                  <p:pic>
                    <p:nvPicPr>
                      <p:cNvPr id="906" name="" descr=""/>
                      <p:cNvPicPr/>
                      <p:nvPr/>
                    </p:nvPicPr>
                    <p:blipFill>
                      <a:blip r:embed="rId5"/>
                      <a:srcRect l="9739" t="55163" r="0" b="27579"/>
                      <a:stretch/>
                    </p:blipFill>
                    <p:spPr>
                      <a:xfrm>
                        <a:off x="6329520" y="3728160"/>
                        <a:ext cx="4237560" cy="65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07" name=""/>
                      <p:cNvSpPr/>
                      <p:nvPr/>
                    </p:nvSpPr>
                    <p:spPr>
                      <a:xfrm>
                        <a:off x="6362640" y="3729960"/>
                        <a:ext cx="4080240" cy="657360"/>
                      </a:xfrm>
                      <a:prstGeom prst="rect">
                        <a:avLst/>
                      </a:prstGeom>
                      <a:noFill/>
                      <a:ln w="19080">
                        <a:solidFill>
                          <a:srgbClr val="1111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08" name=""/>
                    <p:cNvGrpSpPr/>
                    <p:nvPr/>
                  </p:nvGrpSpPr>
                  <p:grpSpPr>
                    <a:xfrm>
                      <a:off x="6329520" y="4651560"/>
                      <a:ext cx="4237560" cy="659160"/>
                      <a:chOff x="6329520" y="4651560"/>
                      <a:chExt cx="4237560" cy="659160"/>
                    </a:xfrm>
                  </p:grpSpPr>
                  <p:pic>
                    <p:nvPicPr>
                      <p:cNvPr id="909" name="" descr=""/>
                      <p:cNvPicPr/>
                      <p:nvPr/>
                    </p:nvPicPr>
                    <p:blipFill>
                      <a:blip r:embed="rId6"/>
                      <a:srcRect l="9739" t="55163" r="0" b="27579"/>
                      <a:stretch/>
                    </p:blipFill>
                    <p:spPr>
                      <a:xfrm>
                        <a:off x="6329520" y="4651560"/>
                        <a:ext cx="4237560" cy="65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10" name=""/>
                      <p:cNvSpPr/>
                      <p:nvPr/>
                    </p:nvSpPr>
                    <p:spPr>
                      <a:xfrm>
                        <a:off x="6362640" y="4653360"/>
                        <a:ext cx="4080240" cy="657360"/>
                      </a:xfrm>
                      <a:prstGeom prst="rect">
                        <a:avLst/>
                      </a:prstGeom>
                      <a:noFill/>
                      <a:ln w="19080">
                        <a:solidFill>
                          <a:srgbClr val="1111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6362640" y="4359600"/>
                      <a:ext cx="4080600" cy="30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200" spc="-1" strike="noStrike">
                          <a:solidFill>
                            <a:srgbClr val="111111"/>
                          </a:solidFill>
                          <a:latin typeface="Verdana"/>
                        </a:rPr>
                        <a:t>:  :          :  :           :  :</a:t>
                      </a:r>
                      <a:endParaRPr b="0" lang="en-US" sz="2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12" name=""/>
                <p:cNvSpPr/>
                <p:nvPr/>
              </p:nvSpPr>
              <p:spPr>
                <a:xfrm>
                  <a:off x="6131880" y="3611160"/>
                  <a:ext cx="571176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3" name=""/>
              <p:cNvSpPr/>
              <p:nvPr/>
            </p:nvSpPr>
            <p:spPr>
              <a:xfrm rot="16200000">
                <a:off x="4419720" y="3290760"/>
                <a:ext cx="3021840" cy="40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Verdana"/>
                  </a:rPr>
                  <a:t>chlorine concentrations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812000" y="1595520"/>
              <a:ext cx="4116240" cy="38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 rot="16200000">
            <a:off x="6971400" y="4870800"/>
            <a:ext cx="252360" cy="1428840"/>
          </a:xfrm>
          <a:custGeom>
            <a:avLst/>
            <a:gdLst>
              <a:gd name="textAreaLeft" fmla="*/ 161280 w 252360"/>
              <a:gd name="textAreaRight" fmla="*/ 252720 w 252360"/>
              <a:gd name="textAreaTop" fmla="*/ 37080 h 1428840"/>
              <a:gd name="textAreaBottom" fmla="*/ 139176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D8F-491D-4110-80F8-A99FCF083288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tream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293120" y="5257800"/>
            <a:ext cx="2962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actual measurement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stream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87720" y="5334120"/>
            <a:ext cx="2826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hidden variable(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01160" y="6095880"/>
            <a:ext cx="66214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e would like to discover a few “hidde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(latent) variables” that summarize the key trend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9360" y="1595520"/>
            <a:ext cx="5198760" cy="3863520"/>
            <a:chOff x="9360" y="1595520"/>
            <a:chExt cx="5198760" cy="3863520"/>
          </a:xfrm>
        </p:grpSpPr>
        <p:sp>
          <p:nvSpPr>
            <p:cNvPr id="921" name=""/>
            <p:cNvSpPr/>
            <p:nvPr/>
          </p:nvSpPr>
          <p:spPr>
            <a:xfrm>
              <a:off x="943560" y="1600560"/>
              <a:ext cx="822600" cy="3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Times New Roman"/>
                </a:rPr>
                <a:t>Phase 1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716400" y="1911960"/>
              <a:ext cx="4250880" cy="3416040"/>
              <a:chOff x="716400" y="1911960"/>
              <a:chExt cx="4250880" cy="3416040"/>
            </a:xfrm>
          </p:grpSpPr>
          <p:grpSp>
            <p:nvGrpSpPr>
              <p:cNvPr id="923" name=""/>
              <p:cNvGrpSpPr/>
              <p:nvPr/>
            </p:nvGrpSpPr>
            <p:grpSpPr>
              <a:xfrm>
                <a:off x="723240" y="1911960"/>
                <a:ext cx="4244040" cy="1617840"/>
                <a:chOff x="723240" y="1911960"/>
                <a:chExt cx="4244040" cy="1617840"/>
              </a:xfrm>
            </p:grpSpPr>
            <p:grpSp>
              <p:nvGrpSpPr>
                <p:cNvPr id="924" name=""/>
                <p:cNvGrpSpPr/>
                <p:nvPr/>
              </p:nvGrpSpPr>
              <p:grpSpPr>
                <a:xfrm>
                  <a:off x="723240" y="1911960"/>
                  <a:ext cx="4237200" cy="666000"/>
                  <a:chOff x="723240" y="1911960"/>
                  <a:chExt cx="4237200" cy="666000"/>
                </a:xfrm>
              </p:grpSpPr>
              <p:pic>
                <p:nvPicPr>
                  <p:cNvPr id="925" name="" descr=""/>
                  <p:cNvPicPr/>
                  <p:nvPr/>
                </p:nvPicPr>
                <p:blipFill>
                  <a:blip r:embed="rId1"/>
                  <a:srcRect l="9739" t="7880" r="0" b="63042"/>
                  <a:stretch/>
                </p:blipFill>
                <p:spPr>
                  <a:xfrm>
                    <a:off x="723240" y="1911960"/>
                    <a:ext cx="4237200" cy="6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6" name=""/>
                  <p:cNvSpPr/>
                  <p:nvPr/>
                </p:nvSpPr>
                <p:spPr>
                  <a:xfrm>
                    <a:off x="749160" y="1920600"/>
                    <a:ext cx="4080240" cy="657360"/>
                  </a:xfrm>
                  <a:prstGeom prst="rect">
                    <a:avLst/>
                  </a:prstGeom>
                  <a:noFill/>
                  <a:ln w="19080">
                    <a:solidFill>
                      <a:srgbClr val="1111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7" name=""/>
                <p:cNvGrpSpPr/>
                <p:nvPr/>
              </p:nvGrpSpPr>
              <p:grpSpPr>
                <a:xfrm>
                  <a:off x="729720" y="2863800"/>
                  <a:ext cx="4237560" cy="666000"/>
                  <a:chOff x="729720" y="2863800"/>
                  <a:chExt cx="4237560" cy="666000"/>
                </a:xfrm>
              </p:grpSpPr>
              <p:pic>
                <p:nvPicPr>
                  <p:cNvPr id="928" name="" descr=""/>
                  <p:cNvPicPr/>
                  <p:nvPr/>
                </p:nvPicPr>
                <p:blipFill>
                  <a:blip r:embed="rId2"/>
                  <a:srcRect l="9739" t="7880" r="0" b="63042"/>
                  <a:stretch/>
                </p:blipFill>
                <p:spPr>
                  <a:xfrm>
                    <a:off x="729720" y="2863800"/>
                    <a:ext cx="4237560" cy="6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9" name=""/>
                  <p:cNvSpPr/>
                  <p:nvPr/>
                </p:nvSpPr>
                <p:spPr>
                  <a:xfrm>
                    <a:off x="755640" y="2872440"/>
                    <a:ext cx="4080240" cy="657360"/>
                  </a:xfrm>
                  <a:prstGeom prst="rect">
                    <a:avLst/>
                  </a:prstGeom>
                  <a:noFill/>
                  <a:ln w="19080">
                    <a:solidFill>
                      <a:srgbClr val="1111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0" name=""/>
                <p:cNvSpPr/>
                <p:nvPr/>
              </p:nvSpPr>
              <p:spPr>
                <a:xfrm>
                  <a:off x="749160" y="2571120"/>
                  <a:ext cx="4079880" cy="300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0800" rIns="100800" tIns="50400" bIns="50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008000"/>
                      <a:tab algn="l" pos="2016000"/>
                      <a:tab algn="l" pos="3024360"/>
                      <a:tab algn="l" pos="4032360"/>
                      <a:tab algn="l" pos="5040360"/>
                      <a:tab algn="l" pos="6048360"/>
                      <a:tab algn="l" pos="7056360"/>
                      <a:tab algn="l" pos="8064360"/>
                      <a:tab algn="l" pos="9072720"/>
                      <a:tab algn="l" pos="10080720"/>
                    </a:tabLst>
                  </a:pPr>
                  <a:r>
                    <a:rPr b="1" lang="en-US" sz="2200" spc="-1" strike="noStrike">
                      <a:solidFill>
                        <a:srgbClr val="111111"/>
                      </a:solidFill>
                      <a:latin typeface="Verdana"/>
                    </a:rPr>
                    <a:t>:  :          :  :           :  :</a:t>
                  </a:r>
                  <a:endParaRPr b="0" lang="en-US" sz="22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716400" y="3745440"/>
                <a:ext cx="4236840" cy="1582560"/>
                <a:chOff x="716400" y="3745440"/>
                <a:chExt cx="4236840" cy="1582560"/>
              </a:xfrm>
            </p:grpSpPr>
            <p:grpSp>
              <p:nvGrpSpPr>
                <p:cNvPr id="932" name=""/>
                <p:cNvGrpSpPr/>
                <p:nvPr/>
              </p:nvGrpSpPr>
              <p:grpSpPr>
                <a:xfrm>
                  <a:off x="716400" y="3745440"/>
                  <a:ext cx="4236840" cy="659160"/>
                  <a:chOff x="716400" y="3745440"/>
                  <a:chExt cx="4236840" cy="659160"/>
                </a:xfrm>
              </p:grpSpPr>
              <p:pic>
                <p:nvPicPr>
                  <p:cNvPr id="933" name="" descr=""/>
                  <p:cNvPicPr/>
                  <p:nvPr/>
                </p:nvPicPr>
                <p:blipFill>
                  <a:blip r:embed="rId3"/>
                  <a:srcRect l="9739" t="55163" r="0" b="27579"/>
                  <a:stretch/>
                </p:blipFill>
                <p:spPr>
                  <a:xfrm>
                    <a:off x="716400" y="3745440"/>
                    <a:ext cx="4236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4" name=""/>
                  <p:cNvSpPr/>
                  <p:nvPr/>
                </p:nvSpPr>
                <p:spPr>
                  <a:xfrm>
                    <a:off x="749520" y="3747240"/>
                    <a:ext cx="4079520" cy="657360"/>
                  </a:xfrm>
                  <a:prstGeom prst="rect">
                    <a:avLst/>
                  </a:prstGeom>
                  <a:noFill/>
                  <a:ln w="19080">
                    <a:solidFill>
                      <a:srgbClr val="1111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716400" y="4668840"/>
                  <a:ext cx="4236840" cy="659160"/>
                  <a:chOff x="716400" y="4668840"/>
                  <a:chExt cx="4236840" cy="659160"/>
                </a:xfrm>
              </p:grpSpPr>
              <p:pic>
                <p:nvPicPr>
                  <p:cNvPr id="936" name="" descr=""/>
                  <p:cNvPicPr/>
                  <p:nvPr/>
                </p:nvPicPr>
                <p:blipFill>
                  <a:blip r:embed="rId4"/>
                  <a:srcRect l="9739" t="55163" r="0" b="27579"/>
                  <a:stretch/>
                </p:blipFill>
                <p:spPr>
                  <a:xfrm>
                    <a:off x="716400" y="4668840"/>
                    <a:ext cx="4236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7" name=""/>
                  <p:cNvSpPr/>
                  <p:nvPr/>
                </p:nvSpPr>
                <p:spPr>
                  <a:xfrm>
                    <a:off x="749520" y="4670640"/>
                    <a:ext cx="4079520" cy="657360"/>
                  </a:xfrm>
                  <a:prstGeom prst="rect">
                    <a:avLst/>
                  </a:prstGeom>
                  <a:noFill/>
                  <a:ln w="19080">
                    <a:solidFill>
                      <a:srgbClr val="1111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8" name=""/>
                <p:cNvSpPr/>
                <p:nvPr/>
              </p:nvSpPr>
              <p:spPr>
                <a:xfrm>
                  <a:off x="749520" y="4376880"/>
                  <a:ext cx="4079880" cy="300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0800" rIns="100800" tIns="50400" bIns="50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008000"/>
                      <a:tab algn="l" pos="2016000"/>
                      <a:tab algn="l" pos="3024360"/>
                      <a:tab algn="l" pos="4032360"/>
                      <a:tab algn="l" pos="5040360"/>
                      <a:tab algn="l" pos="6048360"/>
                      <a:tab algn="l" pos="7056360"/>
                      <a:tab algn="l" pos="8064360"/>
                      <a:tab algn="l" pos="9072720"/>
                      <a:tab algn="l" pos="10080720"/>
                    </a:tabLst>
                  </a:pPr>
                  <a:r>
                    <a:rPr b="1" lang="en-US" sz="2200" spc="-1" strike="noStrike">
                      <a:solidFill>
                        <a:srgbClr val="111111"/>
                      </a:solidFill>
                      <a:latin typeface="Verdana"/>
                    </a:rPr>
                    <a:t>:  :          :  :           :  :</a:t>
                  </a:r>
                  <a:endParaRPr b="0" lang="en-US" sz="22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9" name=""/>
            <p:cNvSpPr/>
            <p:nvPr/>
          </p:nvSpPr>
          <p:spPr>
            <a:xfrm rot="16200000">
              <a:off x="-1081080" y="3668400"/>
              <a:ext cx="2587320" cy="40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chlorine concentrati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68360" y="1595520"/>
              <a:ext cx="2939760" cy="38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0480" y="3611520"/>
              <a:ext cx="18478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5040360" y="1595520"/>
            <a:ext cx="4955760" cy="3863520"/>
            <a:chOff x="5040360" y="1595520"/>
            <a:chExt cx="4955760" cy="3863520"/>
          </a:xfrm>
        </p:grpSpPr>
        <p:pic>
          <p:nvPicPr>
            <p:cNvPr id="943" name="" descr=""/>
            <p:cNvPicPr/>
            <p:nvPr/>
          </p:nvPicPr>
          <p:blipFill>
            <a:blip r:embed="rId5"/>
            <a:stretch/>
          </p:blipFill>
          <p:spPr>
            <a:xfrm>
              <a:off x="5040360" y="1595520"/>
              <a:ext cx="4705920" cy="38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>
              <a:off x="5733360" y="1600560"/>
              <a:ext cx="822600" cy="3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Times New Roman"/>
                </a:rPr>
                <a:t>Phase 1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56360" y="1595520"/>
              <a:ext cx="2939760" cy="38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92360" y="3779280"/>
              <a:ext cx="2520000" cy="167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812560" y="3779280"/>
              <a:ext cx="9950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i="1" lang="en-US" sz="31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r>
                <a:rPr b="0" lang="en-US" sz="3100" spc="-1" strike="noStrike">
                  <a:solidFill>
                    <a:srgbClr val="000066"/>
                  </a:solidFill>
                  <a:latin typeface="Times New Roman"/>
                </a:rPr>
                <a:t> = 1</a:t>
              </a:r>
              <a:endParaRPr b="0" lang="en-US" sz="3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956120" y="2100240"/>
            <a:ext cx="252360" cy="294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2184480" y="2855520"/>
            <a:ext cx="3276360" cy="18478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184480" y="2603520"/>
            <a:ext cx="327636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D5F-A6BA-4259-BE58-A252390E92DA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2.83237E-006 L -3.33333E-006 2.83237E-006 E">
                                      <p:cBhvr>
                                        <p:cTn id="16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tream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olution: SPIRIT [VLDB’05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incremental, on-line PCA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57E-9246-4558-B226-86271448D04D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other related projec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0880" y="403848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F15-2DC9-4319-91E9-43AF91879624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Future step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nnection sub-graphs on multi-graphs [Tong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raffic matrix, evolving over time [Sun+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influence propagation on blogs [Leskovec+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omatic web site classification [Leskovec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22C-82A9-4209-9B90-D8D2B3BA1845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&amp; self similarity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xcellent tools, for real datasets,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ere Gaussian, uniform etc assumptions fai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dditional tool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Kronecker, for graph generato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igenvalues for virus propagation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MDL/compression for graph partitioning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369-C817-4AD7-B04D-7F56F6C98A1C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s Faloutsos</dc:creator>
  <dc:description/>
  <dc:language>en-US</dc:language>
  <cp:lastModifiedBy>christos faloutsos</cp:lastModifiedBy>
  <dcterms:modified xsi:type="dcterms:W3CDTF">2005-11-09T06:32:19Z</dcterms:modified>
  <cp:revision>204</cp:revision>
  <dc:subject/>
  <dc:title>yahoo 2005</dc:title>
</cp:coreProperties>
</file>