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7.xml" ContentType="application/vnd.openxmlformats-officedocument.presentationml.notesSlide+xml"/>
  <Override PartName="/ppt/notesSlides/_rels/notesSlide77.xml.rels" ContentType="application/vnd.openxmlformats-package.relationships+xml"/>
  <Override PartName="/ppt/notesSlides/_rels/notesSlide27.xml.rels" ContentType="application/vnd.openxmlformats-package.relationships+xml"/>
  <Override PartName="/ppt/notesSlides/notesSlide7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29.png" ContentType="image/png"/>
  <Override PartName="/ppt/media/image32.wmf" ContentType="image/x-wmf"/>
  <Override PartName="/ppt/media/image27.png" ContentType="image/png"/>
  <Override PartName="/ppt/media/image30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56.wmf" ContentType="image/x-wmf"/>
  <Override PartName="/ppt/media/image15.wmf" ContentType="image/x-wmf"/>
  <Override PartName="/ppt/media/image54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18.png" ContentType="image/png"/>
  <Override PartName="/ppt/media/image6.jpeg" ContentType="image/jpeg"/>
  <Override PartName="/ppt/media/image46.png" ContentType="image/png"/>
  <Override PartName="/ppt/media/image37.png" ContentType="image/png"/>
  <Override PartName="/ppt/media/image49.png" ContentType="image/png"/>
  <Override PartName="/ppt/media/image51.png" ContentType="image/png"/>
  <Override PartName="/ppt/media/image34.wmf" ContentType="image/x-wmf"/>
  <Override PartName="/ppt/media/image52.png" ContentType="image/png"/>
  <Override PartName="/ppt/media/image53.png" ContentType="image/png"/>
  <Override PartName="/ppt/media/image36.wmf" ContentType="image/x-wmf"/>
  <Override PartName="/ppt/media/image43.png" ContentType="image/png"/>
  <Override PartName="/ppt/media/image55.png" ContentType="image/png"/>
  <Override PartName="/ppt/media/image35.png" ContentType="image/png"/>
  <Override PartName="/ppt/media/image33.wmf" ContentType="image/x-wmf"/>
  <Override PartName="/ppt/media/image12.jpeg" ContentType="image/jpeg"/>
  <Override PartName="/ppt/media/image13.png" ContentType="image/png"/>
  <Override PartName="/ppt/media/image10.png" ContentType="image/png"/>
  <Override PartName="/ppt/media/image47.png" ContentType="image/png"/>
  <Override PartName="/ppt/media/image48.png" ContentType="image/png"/>
  <Override PartName="/ppt/media/image9.jpeg" ContentType="image/jpeg"/>
  <Override PartName="/ppt/media/image38.png" ContentType="image/png"/>
  <Override PartName="/ppt/media/image8.jpeg" ContentType="image/jpeg"/>
  <Override PartName="/ppt/media/image31.wmf" ContentType="image/x-wmf"/>
  <Override PartName="/ppt/media/image7.jpeg" ContentType="image/jpeg"/>
  <Override PartName="/ppt/media/image2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11040" y="1023840"/>
            <a:ext cx="4676760" cy="350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082160" y="4871520"/>
            <a:ext cx="494028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6022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opes of the exponents is different! We can distinguish graph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several different networks- from social media, academic citations, and computer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F66F2-7B9C-4873-A298-CB698B61B81E}" type="slidenum">
              <a:rPr b="0" lang="en-US" sz="1300" spc="-1" strike="noStrike">
                <a:solidFill>
                  <a:srgbClr val="000066"/>
                </a:solidFill>
                <a:latin typeface="Arial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D858-A50A-4CB7-BE40-E37A380F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099C-BD8D-42B1-8AFF-1A5CB308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588-1EF7-4C2A-B970-A50DB3E9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14C-ED70-480B-A2B5-0A18736E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3797-E381-45E9-B3CF-052628F0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ED87-89FD-4D06-8FC3-4005A480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AB71-F0C1-45F5-A03E-8CF6D02A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EF1F-3B65-471A-9388-0757305D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A693-C12F-45BD-8F2E-02ABB695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5640" y="671400"/>
            <a:ext cx="85694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9DA7-D0BE-4493-A012-786B191B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B565-07D7-4EF9-9039-A49C1769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DF6F-2A29-4E47-AF26-61A6BC29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2E1B-1D54-45B8-91F5-8242F3C4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18C1-A20D-41CB-B697-09AA2ADB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694E-0152-4C19-89A8-51A00BFA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5806-2863-4AB0-8F7E-EAED44F7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4EC0-AAD7-4F3F-9AE9-136325F0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28F08-B357-4B2E-BFE8-DDA16AA9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BB71B-768F-4EF2-9C2C-B83165D5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2E66A-F0D6-41F8-BBED-7E05ED1D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D7107-152C-4B97-9F71-7CBBD148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D40FF-9F6E-44A7-A864-8730BB03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B18-B8A6-46AB-9477-197B0A3E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55640" y="671400"/>
            <a:ext cx="85694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B4664-31CF-4AF4-A748-7AC2493A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24B25-184D-4B40-85F7-050C446F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642E0-555E-48F2-8B21-312AD8C8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EE184-2640-49FF-8EC3-581B2414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06399-A6C9-4BC8-ADC7-D5A3E41E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97075-5713-47BF-AF99-11AE9E1C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9F319-9604-4C85-8825-4E94C528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9273E-BAAC-464B-9675-BFA89C20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55A9D-14D1-4C7D-A1D1-8DF666CF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C12C6-B64C-4C9A-B071-57F53175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0521-63C5-4BDD-B8A0-5746262C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2D84E-F910-437A-82E9-2C296214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DDD6E-5949-4762-9AC8-E45AC7B0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55640" y="671400"/>
            <a:ext cx="85694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B86CA-696E-44EE-A138-85747AC7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2E809-9525-4541-8538-EA13A19A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C4779-BDE5-4291-858D-705FE8C1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ED48F-3004-4719-B8D3-E53788BB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38F54-9494-44F7-AD14-11041378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E723E-400F-4CAA-BD3A-5C89AA0D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DD50E-A385-401F-98F0-6EB75914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205-2AA0-4DD8-A213-0B9BE314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5640" y="671400"/>
            <a:ext cx="85694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712-C5C3-4838-853F-894C9BD1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4DE-82FA-46C5-9592-53DDABD4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4EC-96A7-46D9-AC8B-114CDE26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88E2-B21A-48D9-B0F9-8AC49AB6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2" marL="1260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3" marL="176364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4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5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6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F80D779D-24C0-481F-A7E1-A027C8F32DE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44280" y="0"/>
          <a:ext cx="52236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0"/>
                    <a:ext cx="522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85440" y="1800"/>
            <a:ext cx="9385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3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7"/>
          <p:cNvGraphicFramePr/>
          <p:nvPr/>
        </p:nvGraphicFramePr>
        <p:xfrm>
          <a:off x="44280" y="0"/>
          <a:ext cx="52236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0"/>
                    <a:ext cx="522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8"/>
          <p:cNvSpPr/>
          <p:nvPr/>
        </p:nvSpPr>
        <p:spPr>
          <a:xfrm>
            <a:off x="685440" y="1800"/>
            <a:ext cx="9385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3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2" marL="1260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3" marL="176364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4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5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6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58769D39-39C9-41E2-80A1-91E071A52AC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7"/>
          <p:cNvGraphicFramePr/>
          <p:nvPr/>
        </p:nvGraphicFramePr>
        <p:xfrm>
          <a:off x="44280" y="0"/>
          <a:ext cx="52236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0"/>
                    <a:ext cx="522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8"/>
          <p:cNvSpPr/>
          <p:nvPr/>
        </p:nvSpPr>
        <p:spPr>
          <a:xfrm>
            <a:off x="685440" y="1800"/>
            <a:ext cx="9385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3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2" marL="1260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3" marL="176364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4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5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6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A5330743-22D8-46DA-94CB-47EC1901B0E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7"/>
          <p:cNvGraphicFramePr/>
          <p:nvPr/>
        </p:nvGraphicFramePr>
        <p:xfrm>
          <a:off x="44280" y="0"/>
          <a:ext cx="52236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0"/>
                    <a:ext cx="522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8"/>
          <p:cNvSpPr/>
          <p:nvPr/>
        </p:nvSpPr>
        <p:spPr>
          <a:xfrm>
            <a:off x="685440" y="1800"/>
            <a:ext cx="9385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3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2" marL="1260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3" marL="176364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4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5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6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452C9DC9-2578-4251-9EB5-5F6F2CA25430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http://www.cs.cmu.edu/~christos/courses/826-resources/PAPERS+BOOK/Statistical_mechanics_of_complex_networks.pdf" TargetMode="External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hyperlink" Target="http://www.cs.cmu.edu/%7Ejure/pubs/kronFit-icml07.pdf" TargetMode="External"/><Relationship Id="rId2" Type="http://schemas.openxmlformats.org/officeDocument/2006/relationships/hyperlink" Target="http://oregonstate.edu/conferences/icml2007/" TargetMode="External"/><Relationship Id="rId3" Type="http://schemas.openxmlformats.org/officeDocument/2006/relationships/hyperlink" Target="http://www.cs.cmu.edu/~jure/pubs/microEvol-kdd08.pdf" TargetMode="External"/><Relationship Id="rId4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www.cs.cmu.edu/~jure/pubs/microEvol-kdd08.pdf" TargetMode="External"/><Relationship Id="rId2" Type="http://schemas.openxmlformats.org/officeDocument/2006/relationships/hyperlink" Target="http://www.kdd2008.com/" TargetMode="External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hyperlink" Target="http://arxiv.org/abs/cond-mat/0412004v3" TargetMode="External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1680" y="1967040"/>
            <a:ext cx="9448920" cy="2001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4900"/>
            </a:b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Patterns, Tools and Case Studie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25560" y="4268520"/>
            <a:ext cx="8153280" cy="197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Christos Faloutso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Hanghang Tong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1B239F06-4D7D-4F35-B1C3-54DA3086E6F3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Why should we care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56" name="Picture 3" descr="Picture3"/>
          <p:cNvPicPr/>
          <p:nvPr/>
        </p:nvPicPr>
        <p:blipFill>
          <a:blip r:embed="rId1"/>
          <a:stretch/>
        </p:blipFill>
        <p:spPr>
          <a:xfrm>
            <a:off x="541440" y="1730520"/>
            <a:ext cx="2290680" cy="1720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food_web"/>
          <p:cNvPicPr/>
          <p:nvPr/>
        </p:nvPicPr>
        <p:blipFill>
          <a:blip r:embed="rId2"/>
          <a:stretch/>
        </p:blipFill>
        <p:spPr>
          <a:xfrm>
            <a:off x="3695760" y="1617840"/>
            <a:ext cx="2411280" cy="1806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protein_interaction"/>
          <p:cNvPicPr/>
          <p:nvPr/>
        </p:nvPicPr>
        <p:blipFill>
          <a:blip r:embed="rId3"/>
          <a:stretch/>
        </p:blipFill>
        <p:spPr>
          <a:xfrm>
            <a:off x="7056360" y="1569960"/>
            <a:ext cx="1787760" cy="17892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839880" y="3443400"/>
            <a:ext cx="2268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ternet Map [lumeta.com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3948120" y="3443400"/>
            <a:ext cx="2268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od Web [Martinez ’91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6719760" y="3359160"/>
            <a:ext cx="27734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tein Interactions [genomebiology.com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755640" y="6180120"/>
            <a:ext cx="2436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riendship Network [Moody ’01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3" name="Picture 11" descr="Picture4"/>
          <p:cNvPicPr/>
          <p:nvPr/>
        </p:nvPicPr>
        <p:blipFill>
          <a:blip r:embed="rId4"/>
          <a:stretch/>
        </p:blipFill>
        <p:spPr>
          <a:xfrm>
            <a:off x="614520" y="4368960"/>
            <a:ext cx="2511360" cy="1874520"/>
          </a:xfrm>
          <a:prstGeom prst="rect">
            <a:avLst/>
          </a:prstGeom>
          <a:ln w="0">
            <a:noFill/>
          </a:ln>
        </p:spPr>
      </p:pic>
      <p:sp>
        <p:nvSpPr>
          <p:cNvPr id="264" name="Slide Number Placeholder 13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0BD58C0F-D043-4093-A43A-EE7454252AF2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ther resource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3628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Visualization - graph algo’s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62880" indent="-3628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raphviz: http://www.graphviz.org/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62880" indent="-3628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ajek: http://vlado.fmf.uni-lj.si/pub/networks/pajek/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6288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628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Kevin Bacon web site:        http://www.cs.virginia.edu/oracle/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22085B1F-CAF7-4254-9D0E-74BA65E750E5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imes New Roman"/>
              </a:rPr>
              <a:t>[Aiello+, '00] William Aiello, Fan R. K. Chung, Linyuan Lu: </a:t>
            </a:r>
            <a:r>
              <a:rPr b="0" i="1" lang="en-US" sz="2500" spc="-1" strike="noStrike">
                <a:solidFill>
                  <a:srgbClr val="000066"/>
                </a:solidFill>
                <a:latin typeface="Times New Roman"/>
              </a:rPr>
              <a:t>A random graph model for massive graphs</a:t>
            </a:r>
            <a:r>
              <a:rPr b="0" lang="en-US" sz="2500" spc="-1" strike="noStrike">
                <a:solidFill>
                  <a:srgbClr val="000066"/>
                </a:solidFill>
                <a:latin typeface="Times New Roman"/>
              </a:rPr>
              <a:t>. STOC 2000: 171-180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imes New Roman"/>
              </a:rPr>
              <a:t>[Albert+] Reka Albert, Hawoong Jeong, and Albert-Laszlo Barabasi: </a:t>
            </a:r>
            <a:r>
              <a:rPr b="0" i="1" lang="en-US" sz="2500" spc="-1" strike="noStrike">
                <a:solidFill>
                  <a:srgbClr val="000066"/>
                </a:solidFill>
                <a:latin typeface="Times New Roman"/>
              </a:rPr>
              <a:t>Diameter of the World Wide Web</a:t>
            </a:r>
            <a:r>
              <a:rPr b="0" lang="en-US" sz="2500" spc="-1" strike="noStrike">
                <a:solidFill>
                  <a:srgbClr val="000066"/>
                </a:solidFill>
                <a:latin typeface="Times New Roman"/>
              </a:rPr>
              <a:t>, Nature 401 130-131 (1999)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425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imes New Roman"/>
              </a:rPr>
              <a:t>Réka Albert and Albert-László Barabási </a:t>
            </a:r>
            <a:r>
              <a:rPr b="0" lang="en-US" sz="25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Statistical mechanics of complex networks</a:t>
            </a:r>
            <a:r>
              <a:rPr b="0" lang="en-US" sz="2500" spc="-1" strike="noStrike">
                <a:solidFill>
                  <a:srgbClr val="000066"/>
                </a:solidFill>
                <a:latin typeface="Times New Roman"/>
              </a:rPr>
              <a:t>, Reviews of Modern Physics, 74, 47 (2002). </a:t>
            </a: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imes New Roman"/>
              </a:rPr>
              <a:t>[Barabasi, '03] Albert-Laszlo Barabasi </a:t>
            </a:r>
            <a:r>
              <a:rPr b="0" i="1" lang="en-US" sz="2500" spc="-1" strike="noStrike">
                <a:solidFill>
                  <a:srgbClr val="000066"/>
                </a:solidFill>
                <a:latin typeface="Times New Roman"/>
              </a:rPr>
              <a:t>Linked: How Everything Is Connected to Everything Else and What It Means</a:t>
            </a:r>
            <a:r>
              <a:rPr b="0" lang="en-US" sz="2500" spc="-1" strike="noStrike">
                <a:solidFill>
                  <a:srgbClr val="000066"/>
                </a:solidFill>
                <a:latin typeface="Times New Roman"/>
              </a:rPr>
              <a:t> (Plume, 2003)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1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3765C460-ED86-4157-A528-22A2FA2A40AD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Barabasi+, '99] Albert-Laszlo Barabasi and Reka Albert.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Emergence of scaling in random networks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. Science, 286:509--512, 1999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Broder+, '00] Andrei Broder, Ravi Kumar, Farzin Maghoul, Prabhakar Raghavan, Sridhar Rajagopalan, Raymie Stata, Andrew Tomkins, and Janet Wiener.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Graph structure in the web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, WWW, 2000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15D50C4D-6CF1-4F28-B75E-8CC678FD4B91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Chakrabarti+, ‘04]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 RMAT: A recursive graph generator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, D. Chakrabarti, Y. Zhan, C. Faloutsos, SIAM-DM 2004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D. Chakrabarti and C. Faloutsos,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Graph Mining: Laws, Generators and Algorithms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, in ACM Computing Surveys, 38(1), 2006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Dill+, '01] Stephen Dill, Ravi Kumar, Kevin S. McCurley, Sridhar Rajagopalan, D. Sivakumar, Andrew Tomkins: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Self-similarity in the Web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. VLDB 2001: 69-78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1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240DFB9C-79BD-4DB5-A33A-99481A35A14D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50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Times New Roman"/>
              </a:rPr>
              <a:t>[Fabrikant+, '02] A. Fabrikant, E. Koutsoupias, and C.H. Papadimitriou.  </a:t>
            </a:r>
            <a:r>
              <a:rPr b="0" i="1" lang="en-US" sz="3400" spc="-1" strike="noStrike">
                <a:solidFill>
                  <a:srgbClr val="000066"/>
                </a:solidFill>
                <a:latin typeface="Times New Roman"/>
              </a:rPr>
              <a:t>Heuristically Optimized Trade-offs: A New Paradigm for Power Laws in the Internet</a:t>
            </a:r>
            <a:r>
              <a:rPr b="0" lang="en-US" sz="3400" spc="-1" strike="noStrike">
                <a:solidFill>
                  <a:srgbClr val="000066"/>
                </a:solidFill>
                <a:latin typeface="Times New Roman"/>
              </a:rPr>
              <a:t>. ICALP, Malaga, Spain, July 2002</a:t>
            </a:r>
            <a:endParaRPr b="0" lang="en-US" sz="34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50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Times New Roman"/>
              </a:rPr>
              <a:t>[FFF, 99] M. Faloutsos, P. Faloutsos, and C. Faloutsos, "</a:t>
            </a:r>
            <a:r>
              <a:rPr b="0" i="1" lang="en-US" sz="3400" spc="-1" strike="noStrike">
                <a:solidFill>
                  <a:srgbClr val="000066"/>
                </a:solidFill>
                <a:latin typeface="Times New Roman"/>
              </a:rPr>
              <a:t>On power-law relationships of the Internet topology</a:t>
            </a:r>
            <a:r>
              <a:rPr b="0" lang="en-US" sz="3400" spc="-1" strike="noStrike">
                <a:solidFill>
                  <a:srgbClr val="000066"/>
                </a:solidFill>
                <a:latin typeface="Times New Roman"/>
              </a:rPr>
              <a:t>," in SIGCOMM, 1999.</a:t>
            </a:r>
            <a:endParaRPr b="0" lang="en-US" sz="34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99C8E350-7C6A-4160-9A46-921BC00B31DD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Jovanovic+, '01] M. Jovanovic, F.S. Annexstein, and K.A. Berman. 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Modeling Peer-to-Peer Network Topologies through "Small-World" Models and Power Laws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. In TELFOR, Belgrade, Yugoslavia, November, 2001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Kumar+ '99] Ravi Kumar, Prabhakar Raghavan, Sridhar Rajagopalan, Andrew Tomkins: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Extracting Large-Scale Knowledge Bases from the Web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.  VLDB 1999: 639-650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1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6302EEEC-EC4F-4C03-93A4-3ED677B9DE24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Leland+, '94] W. E. Leland, M.S. Taqqu,  W. Willinger, D.V. Wilson, 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On the Self-Similar Nature of Ethernet Traffic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, IEEE Transactions on Networking, 2, 1, pp 1-15, Feb. 1994.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Leskovec+05a] Jure Leskovec, Jon Kleinberg, Christos Faloutsos,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Graphs over Time: Densification Laws, Shrinking Diameters and Possible Explanations 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(KDD 2005)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587C02F1-4C3C-46A4-B504-214A6A580AA2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755640" y="456840"/>
            <a:ext cx="856944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75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Leskovec+05b] Jure Leskovec, Deepayan Chakrabarti, Jon Kleinberg, Christos Faloutsos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Realistic, Mathematically Tractable Graph Generation and Evolution, Using Kronecker Multiplication 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(ECML/PKDD 2005), Porto, Portugal, 2005.</a:t>
            </a:r>
            <a:r>
              <a:rPr b="0" lang="en-US" sz="39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1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BAF86506-7A4B-412C-84AD-E1073FB99221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755640" y="456840"/>
            <a:ext cx="856944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 marL="340200" indent="-3402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Leskovec+07] Jure Leskovec and Christos Faloutsos, </a:t>
            </a:r>
            <a:r>
              <a:rPr b="0" lang="en-US" sz="30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Scalable Modeling of Real Graphs using Kronecker Multiplication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US" sz="30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ICML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 2007. 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40200" indent="-3402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[Leskovec+ 08]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Jure Leskovec, Lars Backstrom, Ravi Kumar, Andrew Tomkins. </a:t>
            </a:r>
            <a:r>
              <a:rPr b="0" lang="en-US" sz="3100" spc="-1" strike="noStrike" u="sng">
                <a:solidFill>
                  <a:srgbClr val="3366ff"/>
                </a:solidFill>
                <a:uFillTx/>
                <a:latin typeface="Times New Roman"/>
                <a:hlinkClick r:id="rId3"/>
              </a:rPr>
              <a:t>Microscopic Evolution of Social Networks</a:t>
            </a: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KDD, 2008. 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0200" indent="-3402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McGlohon+ ’08] M. McGlohon, L. Akoglu, and C. Faloutsos.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Weighted Graphs and Disconnected Components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: Patterns and a Generator. KDD 2008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7A976C91-8A14-4253-A763-D3B4696B4442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Mihail+, '02] Milena Mihail, Christos H. Papadimitriou: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On the Eigenvalue Power Law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. RANDOM 2002: 254-262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Milgram '67] Stanley Milgram: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The Small World Problem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, Psychology Today 1(1), 60-67 (1967)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Montgomery+, ‘01] Alan L. Montgomery, Christos Faloutsos: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Identifying Web Browsing Trends and Patterns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. IEEE Computer  34(7): 94-95 (2001)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5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1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B44D8D27-4F42-49CA-85A1-6A9173DA0916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Why should we care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A1: extrapolations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: how will the Internet/Web look like next year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A2: algorithm design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: what is a realistic network topology,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51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to try a new routing protocol? 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51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to study virus/rumor propagation, and immunization?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6C8440B4-DFC1-4063-B692-A3C4804BE749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755640" y="18748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3000"/>
          </a:bodyPr>
          <a:p>
            <a:pPr marL="351360" indent="-35136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Palmer+, ‘01] Chris Palmer, Georgos Siganos, Michalis Faloutsos, Christos Faloutsos and Phil Gibbons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The connectivity and fault-tolerance of the Internet topology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 (NRDM 2001), Santa Barbara, CA, May 25, 2001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51360" indent="-35136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Pennock+, '02] David M. Pennock, Gary William Flake, Steve Lawrence, Eric J. Glover, C. Lee Giles: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Winners don't take all: Characterizing the competition for links on the web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 Proc. Natl. Acad. Sci. USA 99(8): 5207-5211</a:t>
            </a:r>
            <a:r>
              <a:rPr b="0" lang="en-US" sz="39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(2002)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51360" indent="0">
              <a:spcBef>
                <a:spcPts val="75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9C280D81-DB09-4104-9D23-86754CFAACA2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Schroeder, ‘91] Manfred Schroeder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Fractals, Chaos, Power Laws: Minutes from an Infinite Paradise 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W H Freeman &amp; Co., 1991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1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F33E673B-4072-4C4E-81B1-3C54D06EB84B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755640" y="1798200"/>
            <a:ext cx="856944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-35892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Siganos+, '03] G. Siganos, M. Faloutsos, P. Faloutsos, C. Faloutsos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Power-Laws and the AS-level Internet Topology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, Transactions on Networking, August 2003.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58920" indent="-35892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Watts+ Strogatz, '98] D. J. Watts and S. H. Strogatz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Collective dynamics of 'small-world' networks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, Nature, 393:440-442 (1998)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58920" indent="-35892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[Watts, '03] Duncan J. Watts </a:t>
            </a:r>
            <a:r>
              <a:rPr b="0" i="1" lang="en-US" sz="3000" spc="-1" strike="noStrike">
                <a:solidFill>
                  <a:srgbClr val="000066"/>
                </a:solidFill>
                <a:latin typeface="Times New Roman"/>
              </a:rPr>
              <a:t>Six Degrees: The Science of a Connected Age</a:t>
            </a: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 W.W. Norton &amp; Company; (February 2003)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A1EE63AB-C650-4F79-961F-B5ED6D87EEEF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Why should we care? (cont’d)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A3: Sampling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: How to get a ‘good’ sample of a network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A4: Abnormalities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: is this sub-graph / sub-community / sub-network ‘normal’? (what </a:t>
            </a: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is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normal?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4" name="Group 1051"/>
          <p:cNvGrpSpPr/>
          <p:nvPr/>
        </p:nvGrpSpPr>
        <p:grpSpPr>
          <a:xfrm>
            <a:off x="2525760" y="5180040"/>
            <a:ext cx="4367160" cy="1343160"/>
            <a:chOff x="2525760" y="5180040"/>
            <a:chExt cx="4367160" cy="1343160"/>
          </a:xfrm>
        </p:grpSpPr>
        <p:grpSp>
          <p:nvGrpSpPr>
            <p:cNvPr id="275" name="Group 1050"/>
            <p:cNvGrpSpPr/>
            <p:nvPr/>
          </p:nvGrpSpPr>
          <p:grpSpPr>
            <a:xfrm>
              <a:off x="2525760" y="5180040"/>
              <a:ext cx="2857320" cy="1343160"/>
              <a:chOff x="2525760" y="5180040"/>
              <a:chExt cx="2857320" cy="1343160"/>
            </a:xfrm>
          </p:grpSpPr>
          <p:sp>
            <p:nvSpPr>
              <p:cNvPr id="276" name="Oval 1029"/>
              <p:cNvSpPr/>
              <p:nvPr/>
            </p:nvSpPr>
            <p:spPr>
              <a:xfrm>
                <a:off x="2693880" y="6103800"/>
                <a:ext cx="252360" cy="250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Oval 1030"/>
              <p:cNvSpPr/>
              <p:nvPr/>
            </p:nvSpPr>
            <p:spPr>
              <a:xfrm>
                <a:off x="4375080" y="5348160"/>
                <a:ext cx="252360" cy="250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Oval 1031"/>
              <p:cNvSpPr/>
              <p:nvPr/>
            </p:nvSpPr>
            <p:spPr>
              <a:xfrm>
                <a:off x="3618000" y="5264280"/>
                <a:ext cx="252360" cy="25236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Oval 1032"/>
              <p:cNvSpPr/>
              <p:nvPr/>
            </p:nvSpPr>
            <p:spPr>
              <a:xfrm>
                <a:off x="4794120" y="6270480"/>
                <a:ext cx="252720" cy="2527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Oval 1033"/>
              <p:cNvSpPr/>
              <p:nvPr/>
            </p:nvSpPr>
            <p:spPr>
              <a:xfrm>
                <a:off x="5130720" y="5180040"/>
                <a:ext cx="252360" cy="25236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Oval 1034"/>
              <p:cNvSpPr/>
              <p:nvPr/>
            </p:nvSpPr>
            <p:spPr>
              <a:xfrm>
                <a:off x="3701880" y="6270480"/>
                <a:ext cx="252720" cy="2527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" name="Oval 1035"/>
              <p:cNvSpPr/>
              <p:nvPr/>
            </p:nvSpPr>
            <p:spPr>
              <a:xfrm>
                <a:off x="2525760" y="5348160"/>
                <a:ext cx="252360" cy="250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283" name="AutoShape 1036"/>
              <p:cNvCxnSpPr>
                <a:stCxn id="278" idx="6"/>
                <a:endCxn id="277" idx="2"/>
              </p:cNvCxnSpPr>
              <p:nvPr/>
            </p:nvCxnSpPr>
            <p:spPr>
              <a:xfrm>
                <a:off x="3879720" y="5389560"/>
                <a:ext cx="486720" cy="8496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</a:ln>
            </p:spPr>
          </p:cxnSp>
          <p:cxnSp>
            <p:nvCxnSpPr>
              <p:cNvPr id="284" name="AutoShape 1037"/>
              <p:cNvCxnSpPr>
                <a:stCxn id="281" idx="6"/>
                <a:endCxn id="277" idx="3"/>
              </p:cNvCxnSpPr>
              <p:nvPr/>
            </p:nvCxnSpPr>
            <p:spPr>
              <a:xfrm flipV="1">
                <a:off x="3963960" y="5571360"/>
                <a:ext cx="448560" cy="82620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</a:ln>
            </p:spPr>
          </p:cxnSp>
          <p:cxnSp>
            <p:nvCxnSpPr>
              <p:cNvPr id="285" name="AutoShape 1038"/>
              <p:cNvCxnSpPr>
                <a:stCxn id="281" idx="6"/>
                <a:endCxn id="279" idx="2"/>
              </p:cNvCxnSpPr>
              <p:nvPr/>
            </p:nvCxnSpPr>
            <p:spPr>
              <a:xfrm>
                <a:off x="3963960" y="6397200"/>
                <a:ext cx="822960" cy="108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</a:ln>
            </p:spPr>
          </p:cxnSp>
          <p:cxnSp>
            <p:nvCxnSpPr>
              <p:cNvPr id="286" name="AutoShape 1039"/>
              <p:cNvCxnSpPr>
                <a:stCxn id="277" idx="6"/>
                <a:endCxn id="280" idx="2"/>
              </p:cNvCxnSpPr>
              <p:nvPr/>
            </p:nvCxnSpPr>
            <p:spPr>
              <a:xfrm flipV="1">
                <a:off x="4635360" y="5304960"/>
                <a:ext cx="488160" cy="16920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</a:ln>
            </p:spPr>
          </p:cxnSp>
          <p:cxnSp>
            <p:nvCxnSpPr>
              <p:cNvPr id="287" name="AutoShape 1040"/>
              <p:cNvCxnSpPr>
                <a:stCxn id="282" idx="6"/>
                <a:endCxn id="278" idx="2"/>
              </p:cNvCxnSpPr>
              <p:nvPr/>
            </p:nvCxnSpPr>
            <p:spPr>
              <a:xfrm flipV="1">
                <a:off x="2785680" y="5389200"/>
                <a:ext cx="824760" cy="8496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</a:ln>
            </p:spPr>
          </p:cxnSp>
          <p:cxnSp>
            <p:nvCxnSpPr>
              <p:cNvPr id="288" name="AutoShape 1041"/>
              <p:cNvCxnSpPr>
                <a:stCxn id="276" idx="7"/>
                <a:endCxn id="278" idx="3"/>
              </p:cNvCxnSpPr>
              <p:nvPr/>
            </p:nvCxnSpPr>
            <p:spPr>
              <a:xfrm flipV="1">
                <a:off x="2909880" y="5487840"/>
                <a:ext cx="745200" cy="64332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</a:ln>
            </p:spPr>
          </p:cxnSp>
          <p:cxnSp>
            <p:nvCxnSpPr>
              <p:cNvPr id="289" name="AutoShape 1042"/>
              <p:cNvCxnSpPr>
                <a:stCxn id="281" idx="0"/>
                <a:endCxn id="278" idx="4"/>
              </p:cNvCxnSpPr>
              <p:nvPr/>
            </p:nvCxnSpPr>
            <p:spPr>
              <a:xfrm flipH="1" flipV="1">
                <a:off x="3744360" y="5524200"/>
                <a:ext cx="84600" cy="738720"/>
              </a:xfrm>
              <a:prstGeom prst="straightConnector1">
                <a:avLst/>
              </a:prstGeom>
              <a:ln w="12600">
                <a:solidFill>
                  <a:srgbClr val="000066"/>
                </a:solidFill>
                <a:miter/>
              </a:ln>
            </p:spPr>
          </p:cxnSp>
        </p:grpSp>
        <p:sp>
          <p:nvSpPr>
            <p:cNvPr id="290" name="Oval 1043"/>
            <p:cNvSpPr/>
            <p:nvPr/>
          </p:nvSpPr>
          <p:spPr>
            <a:xfrm>
              <a:off x="5421240" y="6270480"/>
              <a:ext cx="252360" cy="2527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Oval 1044"/>
            <p:cNvSpPr/>
            <p:nvPr/>
          </p:nvSpPr>
          <p:spPr>
            <a:xfrm>
              <a:off x="6640560" y="6270480"/>
              <a:ext cx="252360" cy="2527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Oval 1045"/>
            <p:cNvSpPr/>
            <p:nvPr/>
          </p:nvSpPr>
          <p:spPr>
            <a:xfrm>
              <a:off x="6031080" y="6270480"/>
              <a:ext cx="252360" cy="2527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293" name="AutoShape 1046"/>
            <p:cNvCxnSpPr>
              <a:stCxn id="279" idx="6"/>
              <a:endCxn id="290" idx="2"/>
            </p:cNvCxnSpPr>
            <p:nvPr/>
          </p:nvCxnSpPr>
          <p:spPr>
            <a:xfrm>
              <a:off x="5054760" y="6397200"/>
              <a:ext cx="358920" cy="1080"/>
            </a:xfrm>
            <a:prstGeom prst="straightConnector1">
              <a:avLst/>
            </a:prstGeom>
            <a:ln cap="sq" w="9360">
              <a:solidFill>
                <a:srgbClr val="000066"/>
              </a:solidFill>
              <a:miter/>
            </a:ln>
          </p:spPr>
        </p:cxnSp>
        <p:cxnSp>
          <p:nvCxnSpPr>
            <p:cNvPr id="294" name="AutoShape 1047"/>
            <p:cNvCxnSpPr>
              <a:stCxn id="290" idx="6"/>
              <a:endCxn id="292" idx="2"/>
            </p:cNvCxnSpPr>
            <p:nvPr/>
          </p:nvCxnSpPr>
          <p:spPr>
            <a:xfrm>
              <a:off x="5681520" y="6397200"/>
              <a:ext cx="342000" cy="1080"/>
            </a:xfrm>
            <a:prstGeom prst="straightConnector1">
              <a:avLst/>
            </a:prstGeom>
            <a:ln cap="sq" w="9360">
              <a:solidFill>
                <a:srgbClr val="000066"/>
              </a:solidFill>
              <a:miter/>
            </a:ln>
          </p:spPr>
        </p:cxnSp>
        <p:cxnSp>
          <p:nvCxnSpPr>
            <p:cNvPr id="295" name="AutoShape 1048"/>
            <p:cNvCxnSpPr>
              <a:stCxn id="292" idx="6"/>
              <a:endCxn id="291" idx="2"/>
            </p:cNvCxnSpPr>
            <p:nvPr/>
          </p:nvCxnSpPr>
          <p:spPr>
            <a:xfrm>
              <a:off x="6291360" y="6397200"/>
              <a:ext cx="342000" cy="1080"/>
            </a:xfrm>
            <a:prstGeom prst="straightConnector1">
              <a:avLst/>
            </a:prstGeom>
            <a:ln cap="sq" w="9360">
              <a:solidFill>
                <a:srgbClr val="000066"/>
              </a:solidFill>
              <a:miter/>
            </a:ln>
          </p:spPr>
        </p:cxnSp>
      </p:grpSp>
      <p:sp>
        <p:nvSpPr>
          <p:cNvPr id="296" name="Oval 1049"/>
          <p:cNvSpPr/>
          <p:nvPr/>
        </p:nvSpPr>
        <p:spPr>
          <a:xfrm>
            <a:off x="4430880" y="5989680"/>
            <a:ext cx="3047760" cy="762120"/>
          </a:xfrm>
          <a:prstGeom prst="ellipse">
            <a:avLst/>
          </a:prstGeom>
          <a:noFill/>
          <a:ln cap="sq"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Slide Number Placeholder 29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36B75C3B-B05C-49B2-A2E4-8783EE288F98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pology &amp;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’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tatic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volving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eighted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enerator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scussion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316080" y="233208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7586C698-5675-434F-BF5A-F990647ABB84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opology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134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How does the Internet look like? Any rule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08" name="Picture 4" descr="0iterations"/>
          <p:cNvPicPr/>
          <p:nvPr/>
        </p:nvPicPr>
        <p:blipFill>
          <a:blip r:embed="rId1"/>
          <a:stretch/>
        </p:blipFill>
        <p:spPr>
          <a:xfrm>
            <a:off x="987480" y="3024360"/>
            <a:ext cx="3054240" cy="33588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4871880" y="3678840"/>
            <a:ext cx="46720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(Looks random – right?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7615D902-7B95-426B-B513-03F16F0468E7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5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Footer Placeholder 6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Are real graphs random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84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random (Erdos-Renyi) graph – 100 nodes, avg degree = 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before layou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after layou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No obvious pattern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(generated with: pajek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62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http://vlado.fmf.uni-lj.si/pub/networks/pajek/ </a:t>
            </a:r>
            <a:r>
              <a:rPr b="0" lang="en-US" sz="25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5" name="Picture 1028" descr="random100-circular"/>
          <p:cNvPicPr/>
          <p:nvPr/>
        </p:nvPicPr>
        <p:blipFill>
          <a:blip r:embed="rId1"/>
          <a:stretch/>
        </p:blipFill>
        <p:spPr>
          <a:xfrm>
            <a:off x="5195880" y="2198520"/>
            <a:ext cx="4048200" cy="2162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30" descr="random100"/>
          <p:cNvPicPr/>
          <p:nvPr/>
        </p:nvPicPr>
        <p:blipFill>
          <a:blip r:embed="rId2"/>
          <a:stretch/>
        </p:blipFill>
        <p:spPr>
          <a:xfrm>
            <a:off x="5195880" y="4541760"/>
            <a:ext cx="4048200" cy="2162160"/>
          </a:xfrm>
          <a:prstGeom prst="rect">
            <a:avLst/>
          </a:prstGeom>
          <a:ln w="0">
            <a:noFill/>
          </a:ln>
        </p:spPr>
      </p:pic>
      <p:sp>
        <p:nvSpPr>
          <p:cNvPr id="317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5771B3A5-333B-406D-8BC0-94388A124667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Laws and pattern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Real graphs are NOT random!!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amete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n- and out- degree distribution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other (surprising) pattern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6391D734-0E24-41FA-B8A4-EF587614C759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Laws – degree distribution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avg degree is ~2 - what is the most probable degre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16000" y="3359160"/>
            <a:ext cx="2855880" cy="2016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Freeform 5"/>
          <p:cNvSpPr/>
          <p:nvPr/>
        </p:nvSpPr>
        <p:spPr>
          <a:xfrm>
            <a:off x="2184480" y="4367160"/>
            <a:ext cx="2603520" cy="9525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4433040" y="5589720"/>
            <a:ext cx="1083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egre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903960" y="3236760"/>
            <a:ext cx="938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oun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3508560" y="3321000"/>
            <a:ext cx="4950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?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9"/>
          <p:cNvSpPr/>
          <p:nvPr/>
        </p:nvSpPr>
        <p:spPr>
          <a:xfrm>
            <a:off x="3695760" y="5291280"/>
            <a:ext cx="0" cy="168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3444840" y="5627520"/>
            <a:ext cx="587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Slide Number Placeholder 13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1D973589-B7A5-4E6C-AAEC-9B3FBCB560E9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Laws – degree distribution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55640" y="1758600"/>
            <a:ext cx="856944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avg degree is ~3 - what is the most probable degre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8733600" y="5543640"/>
            <a:ext cx="1083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egre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0" name="Group 19"/>
          <p:cNvGrpSpPr/>
          <p:nvPr/>
        </p:nvGrpSpPr>
        <p:grpSpPr>
          <a:xfrm>
            <a:off x="903960" y="2435400"/>
            <a:ext cx="8270280" cy="3690360"/>
            <a:chOff x="903960" y="2435400"/>
            <a:chExt cx="8270280" cy="3690360"/>
          </a:xfrm>
        </p:grpSpPr>
        <p:grpSp>
          <p:nvGrpSpPr>
            <p:cNvPr id="341" name="Group 4"/>
            <p:cNvGrpSpPr/>
            <p:nvPr/>
          </p:nvGrpSpPr>
          <p:grpSpPr>
            <a:xfrm>
              <a:off x="903960" y="3236760"/>
              <a:ext cx="4611600" cy="2889000"/>
              <a:chOff x="903960" y="3236760"/>
              <a:chExt cx="4611600" cy="2889000"/>
            </a:xfrm>
          </p:grpSpPr>
          <p:sp>
            <p:nvSpPr>
              <p:cNvPr id="342" name="Rectangle 5"/>
              <p:cNvSpPr/>
              <p:nvPr/>
            </p:nvSpPr>
            <p:spPr>
              <a:xfrm>
                <a:off x="2016000" y="3359160"/>
                <a:ext cx="2856240" cy="2017080"/>
              </a:xfrm>
              <a:prstGeom prst="rect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Freeform 6"/>
              <p:cNvSpPr/>
              <p:nvPr/>
            </p:nvSpPr>
            <p:spPr>
              <a:xfrm>
                <a:off x="2183760" y="4367880"/>
                <a:ext cx="2604240" cy="95256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4" name="Text Box 7"/>
              <p:cNvSpPr/>
              <p:nvPr/>
            </p:nvSpPr>
            <p:spPr>
              <a:xfrm>
                <a:off x="4432320" y="5590080"/>
                <a:ext cx="108324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t">
                <a:spAutoFit/>
              </a:bodyPr>
              <a:p>
                <a:pPr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2600" spc="-1" strike="noStrike">
                    <a:solidFill>
                      <a:srgbClr val="000066"/>
                    </a:solidFill>
                    <a:latin typeface="Times New Roman"/>
                  </a:rPr>
                  <a:t>degree</a:t>
                </a:r>
                <a:endParaRPr b="0" lang="en-US" sz="2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Text Box 8"/>
              <p:cNvSpPr/>
              <p:nvPr/>
            </p:nvSpPr>
            <p:spPr>
              <a:xfrm>
                <a:off x="903960" y="3236760"/>
                <a:ext cx="93852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t">
                <a:spAutoFit/>
              </a:bodyPr>
              <a:p>
                <a:pPr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2600" spc="-1" strike="noStrike">
                    <a:solidFill>
                      <a:srgbClr val="000066"/>
                    </a:solidFill>
                    <a:latin typeface="Times New Roman"/>
                  </a:rPr>
                  <a:t>count</a:t>
                </a:r>
                <a:endParaRPr b="0" lang="en-US" sz="2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Text Box 9"/>
              <p:cNvSpPr/>
              <p:nvPr/>
            </p:nvSpPr>
            <p:spPr>
              <a:xfrm>
                <a:off x="3509280" y="3320640"/>
                <a:ext cx="49500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t">
                <a:spAutoFit/>
              </a:bodyPr>
              <a:p>
                <a:pPr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2600" spc="-1" strike="noStrike">
                    <a:solidFill>
                      <a:srgbClr val="000066"/>
                    </a:solidFill>
                    <a:latin typeface="Times New Roman"/>
                  </a:rPr>
                  <a:t>??</a:t>
                </a:r>
                <a:endParaRPr b="0" lang="en-US" sz="2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7" name="Line 10"/>
              <p:cNvSpPr/>
              <p:nvPr/>
            </p:nvSpPr>
            <p:spPr>
              <a:xfrm>
                <a:off x="3696120" y="5292360"/>
                <a:ext cx="0" cy="1677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8" name="Text Box 11"/>
              <p:cNvSpPr/>
              <p:nvPr/>
            </p:nvSpPr>
            <p:spPr>
              <a:xfrm>
                <a:off x="3444120" y="5628600"/>
                <a:ext cx="5878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26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9" name="Rectangle 12"/>
            <p:cNvSpPr/>
            <p:nvPr/>
          </p:nvSpPr>
          <p:spPr>
            <a:xfrm>
              <a:off x="6318360" y="3314880"/>
              <a:ext cx="2855880" cy="20160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Freeform 13"/>
            <p:cNvSpPr/>
            <p:nvPr/>
          </p:nvSpPr>
          <p:spPr>
            <a:xfrm>
              <a:off x="6519960" y="3505320"/>
              <a:ext cx="2570040" cy="174132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Text Box 15"/>
            <p:cNvSpPr/>
            <p:nvPr/>
          </p:nvSpPr>
          <p:spPr>
            <a:xfrm>
              <a:off x="5207040" y="3192480"/>
              <a:ext cx="93852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</a:rPr>
                <a:t>count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16"/>
            <p:cNvSpPr/>
            <p:nvPr/>
          </p:nvSpPr>
          <p:spPr>
            <a:xfrm>
              <a:off x="7997760" y="5246640"/>
              <a:ext cx="0" cy="168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Text Box 17"/>
            <p:cNvSpPr/>
            <p:nvPr/>
          </p:nvSpPr>
          <p:spPr>
            <a:xfrm>
              <a:off x="7745400" y="5581800"/>
              <a:ext cx="58896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WordArt 18"/>
            <p:cNvSpPr txBox="1"/>
            <p:nvPr/>
          </p:nvSpPr>
          <p:spPr>
            <a:xfrm>
              <a:off x="2016000" y="2435400"/>
              <a:ext cx="2855880" cy="20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WRONG !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355" name="Slide Number Placeholder 22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3BDAE3C1-474B-4FCD-9496-619E57A4D1FF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3960" y="420840"/>
            <a:ext cx="902988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I.Power-law: outdegree </a:t>
            </a:r>
            <a:r>
              <a:rPr b="1" i="1" lang="en-US" sz="4900" spc="-1" strike="noStrike">
                <a:solidFill>
                  <a:srgbClr val="a50021"/>
                </a:solidFill>
                <a:latin typeface="Times New Roman"/>
              </a:rPr>
              <a:t>O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1720" y="5708160"/>
            <a:ext cx="7872120" cy="768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56000"/>
          </a:bodyPr>
          <a:p>
            <a:pPr marL="2116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e plot is linear in log-log scale [FFF’99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21168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freq = degree </a:t>
            </a:r>
            <a:r>
              <a:rPr b="0" i="1" lang="en-US" sz="3500" spc="-1" strike="noStrike" baseline="30000">
                <a:solidFill>
                  <a:srgbClr val="ff0000"/>
                </a:solidFill>
                <a:latin typeface="Times New Roman"/>
              </a:rPr>
              <a:t>(-2.15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60" name="Picture 4" descr="971108"/>
          <p:cNvPicPr/>
          <p:nvPr/>
        </p:nvPicPr>
        <p:blipFill>
          <a:blip r:embed="rId1"/>
          <a:stretch/>
        </p:blipFill>
        <p:spPr>
          <a:xfrm>
            <a:off x="2803680" y="2154240"/>
            <a:ext cx="4473360" cy="325116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5"/>
          <p:cNvSpPr/>
          <p:nvPr/>
        </p:nvSpPr>
        <p:spPr>
          <a:xfrm>
            <a:off x="7779600" y="2948040"/>
            <a:ext cx="151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O = -2.15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7290360" y="2440080"/>
            <a:ext cx="252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Exponent = slop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3975120" y="5232240"/>
            <a:ext cx="158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Outdegre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1028160" y="2271600"/>
            <a:ext cx="159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Frequency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7975080" y="4554360"/>
            <a:ext cx="1215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Nov’97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Line 10"/>
          <p:cNvSpPr/>
          <p:nvPr/>
        </p:nvSpPr>
        <p:spPr>
          <a:xfrm>
            <a:off x="4659480" y="3701880"/>
            <a:ext cx="1143000" cy="0"/>
          </a:xfrm>
          <a:prstGeom prst="line">
            <a:avLst/>
          </a:prstGeom>
          <a:ln cap="sq"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Line 11"/>
          <p:cNvSpPr/>
          <p:nvPr/>
        </p:nvSpPr>
        <p:spPr>
          <a:xfrm>
            <a:off x="4659480" y="3701880"/>
            <a:ext cx="838080" cy="687600"/>
          </a:xfrm>
          <a:prstGeom prst="line">
            <a:avLst/>
          </a:prstGeom>
          <a:ln cap="sq"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Arc 12"/>
          <p:cNvSpPr/>
          <p:nvPr/>
        </p:nvSpPr>
        <p:spPr>
          <a:xfrm flipV="1">
            <a:off x="5118120" y="3701880"/>
            <a:ext cx="150840" cy="306720"/>
          </a:xfrm>
          <a:prstGeom prst="pie">
            <a:avLst/>
          </a:prstGeom>
          <a:noFill/>
          <a:ln cap="sq" w="1260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5187960" y="3693960"/>
            <a:ext cx="925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-2.1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Slide Number Placeholder 1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1232860D-1DEA-4CE8-97E3-8A6004F447C4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5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Footer Placeholder 6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hank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72388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Deepayan Chakrabarti (CMU -&gt; Yahoo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Michalis Faloutsos (UCR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George Siganos (UCR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9" name="Picture 1028" descr="face-deepay"/>
          <p:cNvPicPr/>
          <p:nvPr/>
        </p:nvPicPr>
        <p:blipFill>
          <a:blip r:embed="rId1"/>
          <a:stretch/>
        </p:blipFill>
        <p:spPr>
          <a:xfrm>
            <a:off x="8153280" y="1839960"/>
            <a:ext cx="1135080" cy="1254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29" descr="Fal-michalis-face"/>
          <p:cNvPicPr/>
          <p:nvPr/>
        </p:nvPicPr>
        <p:blipFill>
          <a:blip r:embed="rId2"/>
          <a:stretch/>
        </p:blipFill>
        <p:spPr>
          <a:xfrm>
            <a:off x="8153280" y="3398760"/>
            <a:ext cx="1098720" cy="1109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siganos-face"/>
          <p:cNvPicPr/>
          <p:nvPr/>
        </p:nvPicPr>
        <p:blipFill>
          <a:blip r:embed="rId3"/>
          <a:stretch/>
        </p:blipFill>
        <p:spPr>
          <a:xfrm>
            <a:off x="8153280" y="4618080"/>
            <a:ext cx="1016280" cy="1219320"/>
          </a:xfrm>
          <a:prstGeom prst="rect">
            <a:avLst/>
          </a:prstGeom>
          <a:ln w="0">
            <a:noFill/>
          </a:ln>
        </p:spPr>
      </p:pic>
      <p:sp>
        <p:nvSpPr>
          <p:cNvPr id="192" name="Slide Number Placeholder 10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5FFC8512-CF0C-473E-926A-989FDE8E8185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II.Power-law: rank </a:t>
            </a:r>
            <a:r>
              <a:rPr b="1" i="1" lang="en-US" sz="4900" spc="-1" strike="noStrike">
                <a:solidFill>
                  <a:srgbClr val="a50021"/>
                </a:solidFill>
                <a:latin typeface="Times New Roman"/>
              </a:rPr>
              <a:t>R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12320" y="5869080"/>
            <a:ext cx="8566200" cy="114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75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e plot is a line in log-log</a:t>
            </a:r>
            <a:r>
              <a:rPr b="0" lang="en-US" sz="3900" spc="-1" strike="noStrike">
                <a:solidFill>
                  <a:srgbClr val="000066"/>
                </a:solidFill>
                <a:latin typeface="Times New Roman"/>
              </a:rPr>
              <a:t> scale</a:t>
            </a:r>
            <a:endParaRPr b="0" lang="en-US" sz="3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7218720" y="2303640"/>
            <a:ext cx="25218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Exponent = slop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R = -0.74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6" name="Picture 5" descr="981205"/>
          <p:cNvPicPr/>
          <p:nvPr/>
        </p:nvPicPr>
        <p:blipFill>
          <a:blip r:embed="rId1"/>
          <a:stretch/>
        </p:blipFill>
        <p:spPr>
          <a:xfrm>
            <a:off x="2803680" y="2154240"/>
            <a:ext cx="4473360" cy="3251160"/>
          </a:xfrm>
          <a:prstGeom prst="rect">
            <a:avLst/>
          </a:prstGeom>
          <a:ln w="0">
            <a:noFill/>
          </a:ln>
        </p:spPr>
      </p:pic>
      <p:sp>
        <p:nvSpPr>
          <p:cNvPr id="377" name="Line 6"/>
          <p:cNvSpPr/>
          <p:nvPr/>
        </p:nvSpPr>
        <p:spPr>
          <a:xfrm>
            <a:off x="5119560" y="4330800"/>
            <a:ext cx="14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Arc 7"/>
          <p:cNvSpPr/>
          <p:nvPr/>
        </p:nvSpPr>
        <p:spPr>
          <a:xfrm flipV="1" rot="9554400">
            <a:off x="5723640" y="3929400"/>
            <a:ext cx="390960" cy="112572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5059440" y="3735360"/>
            <a:ext cx="4050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1344600" y="2255760"/>
            <a:ext cx="1506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outdegre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2475000" y="5311800"/>
            <a:ext cx="6939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marL="503280" indent="-5032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Rank: nodes  in decreasing outdegree order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7739280" y="4365720"/>
            <a:ext cx="1176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ec’98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Slide Number Placeholder 14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761C2ACC-1F3B-4960-AD46-7C9808052947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III. Eigenvalue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et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be the adjacency matrix of graph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e eigenvalue </a:t>
            </a:r>
            <a:r>
              <a:rPr b="0" i="1" lang="en-US" sz="35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s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0" i="1" lang="en-US" sz="3100" spc="-1" strike="noStrike" u="sng">
                <a:solidFill>
                  <a:srgbClr val="000066"/>
                </a:solidFill>
                <a:uFillTx/>
                <a:latin typeface="Times New Roman"/>
              </a:rPr>
              <a:t>v</a:t>
            </a: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i="1" lang="en-US" sz="3100" spc="-1" strike="noStrike" u="sng">
                <a:solidFill>
                  <a:srgbClr val="000066"/>
                </a:solidFill>
                <a:uFillTx/>
                <a:latin typeface="Times New Roman"/>
              </a:rPr>
              <a:t>v</a:t>
            </a: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,    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here</a:t>
            </a: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100" spc="-1" strike="noStrike" u="sng">
                <a:solidFill>
                  <a:srgbClr val="000066"/>
                </a:solidFill>
                <a:uFillTx/>
                <a:latin typeface="Times New Roman"/>
              </a:rPr>
              <a:t>v</a:t>
            </a: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ome vector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Eigenvalues are strongly related to graph topology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8" name="Group 1028"/>
          <p:cNvGrpSpPr/>
          <p:nvPr/>
        </p:nvGrpSpPr>
        <p:grpSpPr>
          <a:xfrm>
            <a:off x="1131840" y="5213520"/>
            <a:ext cx="1852200" cy="1841760"/>
            <a:chOff x="1131840" y="5213520"/>
            <a:chExt cx="1852200" cy="1841760"/>
          </a:xfrm>
        </p:grpSpPr>
        <p:sp>
          <p:nvSpPr>
            <p:cNvPr id="389" name="Oval 1029"/>
            <p:cNvSpPr/>
            <p:nvPr/>
          </p:nvSpPr>
          <p:spPr>
            <a:xfrm>
              <a:off x="1571400" y="6595920"/>
              <a:ext cx="168120" cy="1684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Oval 1030"/>
            <p:cNvSpPr/>
            <p:nvPr/>
          </p:nvSpPr>
          <p:spPr>
            <a:xfrm>
              <a:off x="1990440" y="5840280"/>
              <a:ext cx="168120" cy="1684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Oval 1031"/>
            <p:cNvSpPr/>
            <p:nvPr/>
          </p:nvSpPr>
          <p:spPr>
            <a:xfrm>
              <a:off x="1487520" y="6093000"/>
              <a:ext cx="167760" cy="1681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Oval 1032"/>
            <p:cNvSpPr/>
            <p:nvPr/>
          </p:nvSpPr>
          <p:spPr>
            <a:xfrm>
              <a:off x="2663640" y="5840280"/>
              <a:ext cx="168120" cy="1684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93" name="AutoShape 1033"/>
            <p:cNvCxnSpPr>
              <a:stCxn id="391" idx="7"/>
              <a:endCxn id="390" idx="2"/>
            </p:cNvCxnSpPr>
            <p:nvPr/>
          </p:nvCxnSpPr>
          <p:spPr>
            <a:xfrm flipV="1">
              <a:off x="1630080" y="5923800"/>
              <a:ext cx="342000" cy="17532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394" name="AutoShape 1034"/>
            <p:cNvCxnSpPr>
              <a:stCxn id="390" idx="6"/>
              <a:endCxn id="392" idx="2"/>
            </p:cNvCxnSpPr>
            <p:nvPr/>
          </p:nvCxnSpPr>
          <p:spPr>
            <a:xfrm>
              <a:off x="2177640" y="5924160"/>
              <a:ext cx="466920" cy="108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395" name="AutoShape 1035"/>
            <p:cNvCxnSpPr>
              <a:stCxn id="390" idx="4"/>
              <a:endCxn id="389" idx="7"/>
            </p:cNvCxnSpPr>
            <p:nvPr/>
          </p:nvCxnSpPr>
          <p:spPr>
            <a:xfrm flipH="1">
              <a:off x="1713960" y="6027840"/>
              <a:ext cx="360720" cy="57528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sp>
          <p:nvSpPr>
            <p:cNvPr id="396" name="Text Box 1036"/>
            <p:cNvSpPr/>
            <p:nvPr/>
          </p:nvSpPr>
          <p:spPr>
            <a:xfrm>
              <a:off x="1131840" y="5549760"/>
              <a:ext cx="44172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Text Box 1037"/>
            <p:cNvSpPr/>
            <p:nvPr/>
          </p:nvSpPr>
          <p:spPr>
            <a:xfrm>
              <a:off x="1803600" y="5213520"/>
              <a:ext cx="42336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Text Box 1038"/>
            <p:cNvSpPr/>
            <p:nvPr/>
          </p:nvSpPr>
          <p:spPr>
            <a:xfrm>
              <a:off x="2560680" y="5213520"/>
              <a:ext cx="42336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Text Box 1039"/>
            <p:cNvSpPr/>
            <p:nvPr/>
          </p:nvSpPr>
          <p:spPr>
            <a:xfrm>
              <a:off x="1971360" y="6558120"/>
              <a:ext cx="44172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400" name="Object 1024"/>
          <p:cNvGraphicFramePr/>
          <p:nvPr/>
        </p:nvGraphicFramePr>
        <p:xfrm>
          <a:off x="4619520" y="4871880"/>
          <a:ext cx="3270240" cy="200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9520" y="4871880"/>
                    <a:ext cx="32702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Slide Number Placeholder 19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F15FD1C8-5F56-431F-9845-EE3F78E7F4FF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III.Power-law: eigen </a:t>
            </a:r>
            <a:r>
              <a:rPr b="1" i="1" lang="en-US" sz="4900" spc="-1" strike="noStrike">
                <a:solidFill>
                  <a:srgbClr val="a50021"/>
                </a:solidFill>
                <a:latin typeface="Times New Roman"/>
              </a:rPr>
              <a:t>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55240" y="5837040"/>
            <a:ext cx="8564760" cy="974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3000"/>
          </a:bodyPr>
          <a:p>
            <a:pPr marL="284400" indent="-2844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igenvalues in decreasing order (first 20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[Mihail+, 02]:   </a:t>
            </a: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R = 2 * E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07" name="Picture 4" descr="981205"/>
          <p:cNvPicPr/>
          <p:nvPr/>
        </p:nvPicPr>
        <p:blipFill>
          <a:blip r:embed="rId1"/>
          <a:stretch/>
        </p:blipFill>
        <p:spPr>
          <a:xfrm>
            <a:off x="2922480" y="2154240"/>
            <a:ext cx="4233960" cy="325116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7544160" y="3152880"/>
            <a:ext cx="1482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E = -0.48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7290360" y="2470320"/>
            <a:ext cx="252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Exponent = slop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1004760" y="1987560"/>
            <a:ext cx="1691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Eigenvalu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3687840" y="5389560"/>
            <a:ext cx="4269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Rank of decreasing eigenvalu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7661520" y="4145040"/>
            <a:ext cx="1176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ec’98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Slide Number Placeholder 12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4F1FADF2-11A6-4A83-834D-E25B644C0D80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39960" y="420840"/>
            <a:ext cx="88041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IV. The Node Neighborhood</a:t>
            </a:r>
            <a:endParaRPr b="1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N(h)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= # of pairs of nodes within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h 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hop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08A6079F-8E56-46C8-BC4C-1DF41E561131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39960" y="420840"/>
            <a:ext cx="88041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IV. The Node Neighborhood</a:t>
            </a:r>
            <a:endParaRPr b="1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average degree = 3 - how many neighbors should I expect within 1,2,…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hop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0440" indent="-37044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tential answer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 hop -&gt; 3 neighbor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2 hops -&gt; 3 * 3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 hops -&gt; 3</a:t>
            </a:r>
            <a:r>
              <a:rPr b="0" i="1" lang="en-US" sz="3100" spc="-1" strike="noStrike" baseline="30000">
                <a:solidFill>
                  <a:srgbClr val="000066"/>
                </a:solidFill>
                <a:latin typeface="Times New Roman"/>
              </a:rPr>
              <a:t>h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3" name="Group 4"/>
          <p:cNvGrpSpPr/>
          <p:nvPr/>
        </p:nvGrpSpPr>
        <p:grpSpPr>
          <a:xfrm>
            <a:off x="5545080" y="3780000"/>
            <a:ext cx="2939400" cy="1681920"/>
            <a:chOff x="5545080" y="3780000"/>
            <a:chExt cx="2939400" cy="1681920"/>
          </a:xfrm>
        </p:grpSpPr>
        <p:sp>
          <p:nvSpPr>
            <p:cNvPr id="424" name="Oval 5"/>
            <p:cNvSpPr/>
            <p:nvPr/>
          </p:nvSpPr>
          <p:spPr>
            <a:xfrm>
              <a:off x="6888960" y="3780000"/>
              <a:ext cx="167760" cy="16776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6"/>
            <p:cNvSpPr/>
            <p:nvPr/>
          </p:nvSpPr>
          <p:spPr>
            <a:xfrm>
              <a:off x="5880960" y="4535280"/>
              <a:ext cx="167760" cy="16776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7"/>
            <p:cNvSpPr/>
            <p:nvPr/>
          </p:nvSpPr>
          <p:spPr>
            <a:xfrm>
              <a:off x="6888960" y="4535280"/>
              <a:ext cx="167760" cy="16776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8"/>
            <p:cNvSpPr/>
            <p:nvPr/>
          </p:nvSpPr>
          <p:spPr>
            <a:xfrm>
              <a:off x="7980840" y="4535280"/>
              <a:ext cx="168120" cy="16776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428" name="AutoShape 9"/>
            <p:cNvCxnSpPr>
              <a:stCxn id="424" idx="3"/>
              <a:endCxn id="425" idx="0"/>
            </p:cNvCxnSpPr>
            <p:nvPr/>
          </p:nvCxnSpPr>
          <p:spPr>
            <a:xfrm flipH="1">
              <a:off x="5964480" y="3944160"/>
              <a:ext cx="948960" cy="5706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429" name="AutoShape 10"/>
            <p:cNvCxnSpPr>
              <a:stCxn id="424" idx="4"/>
              <a:endCxn id="426" idx="0"/>
            </p:cNvCxnSpPr>
            <p:nvPr/>
          </p:nvCxnSpPr>
          <p:spPr>
            <a:xfrm>
              <a:off x="6972480" y="3968640"/>
              <a:ext cx="1080" cy="54648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430" name="AutoShape 11"/>
            <p:cNvCxnSpPr>
              <a:stCxn id="424" idx="5"/>
              <a:endCxn id="427" idx="1"/>
            </p:cNvCxnSpPr>
            <p:nvPr/>
          </p:nvCxnSpPr>
          <p:spPr>
            <a:xfrm>
              <a:off x="7031880" y="3944160"/>
              <a:ext cx="973800" cy="59508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grpSp>
          <p:nvGrpSpPr>
            <p:cNvPr id="431" name="Group 12"/>
            <p:cNvGrpSpPr/>
            <p:nvPr/>
          </p:nvGrpSpPr>
          <p:grpSpPr>
            <a:xfrm>
              <a:off x="6553080" y="4703040"/>
              <a:ext cx="839520" cy="758880"/>
              <a:chOff x="6553080" y="4703040"/>
              <a:chExt cx="839520" cy="758880"/>
            </a:xfrm>
          </p:grpSpPr>
          <p:sp>
            <p:nvSpPr>
              <p:cNvPr id="432" name="Oval 13"/>
              <p:cNvSpPr/>
              <p:nvPr/>
            </p:nvSpPr>
            <p:spPr>
              <a:xfrm>
                <a:off x="6553080" y="5294160"/>
                <a:ext cx="16776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Oval 14"/>
              <p:cNvSpPr/>
              <p:nvPr/>
            </p:nvSpPr>
            <p:spPr>
              <a:xfrm>
                <a:off x="6888960" y="5294160"/>
                <a:ext cx="16776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Oval 15"/>
              <p:cNvSpPr/>
              <p:nvPr/>
            </p:nvSpPr>
            <p:spPr>
              <a:xfrm>
                <a:off x="7224480" y="5294160"/>
                <a:ext cx="16812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435" name="AutoShape 16"/>
              <p:cNvCxnSpPr>
                <a:endCxn id="432" idx="0"/>
              </p:cNvCxnSpPr>
              <p:nvPr/>
            </p:nvCxnSpPr>
            <p:spPr>
              <a:xfrm flipH="1">
                <a:off x="6636600" y="4703040"/>
                <a:ext cx="276480" cy="5706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36" name="AutoShape 17"/>
              <p:cNvCxnSpPr>
                <a:endCxn id="433" idx="0"/>
              </p:cNvCxnSpPr>
              <p:nvPr/>
            </p:nvCxnSpPr>
            <p:spPr>
              <a:xfrm>
                <a:off x="6972120" y="4727520"/>
                <a:ext cx="1080" cy="5464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37" name="AutoShape 18"/>
              <p:cNvCxnSpPr>
                <a:endCxn id="434" idx="1"/>
              </p:cNvCxnSpPr>
              <p:nvPr/>
            </p:nvCxnSpPr>
            <p:spPr>
              <a:xfrm>
                <a:off x="7032240" y="4703040"/>
                <a:ext cx="217440" cy="595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438" name="Group 19"/>
            <p:cNvGrpSpPr/>
            <p:nvPr/>
          </p:nvGrpSpPr>
          <p:grpSpPr>
            <a:xfrm>
              <a:off x="7645320" y="4703040"/>
              <a:ext cx="839160" cy="758880"/>
              <a:chOff x="7645320" y="4703040"/>
              <a:chExt cx="839160" cy="758880"/>
            </a:xfrm>
          </p:grpSpPr>
          <p:sp>
            <p:nvSpPr>
              <p:cNvPr id="439" name="Oval 20"/>
              <p:cNvSpPr/>
              <p:nvPr/>
            </p:nvSpPr>
            <p:spPr>
              <a:xfrm>
                <a:off x="7645320" y="5294160"/>
                <a:ext cx="16740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Oval 21"/>
              <p:cNvSpPr/>
              <p:nvPr/>
            </p:nvSpPr>
            <p:spPr>
              <a:xfrm>
                <a:off x="7980840" y="5294160"/>
                <a:ext cx="16740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Oval 22"/>
              <p:cNvSpPr/>
              <p:nvPr/>
            </p:nvSpPr>
            <p:spPr>
              <a:xfrm>
                <a:off x="8316360" y="5294160"/>
                <a:ext cx="16812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442" name="AutoShape 23"/>
              <p:cNvCxnSpPr>
                <a:endCxn id="439" idx="0"/>
              </p:cNvCxnSpPr>
              <p:nvPr/>
            </p:nvCxnSpPr>
            <p:spPr>
              <a:xfrm flipH="1">
                <a:off x="7728840" y="4703040"/>
                <a:ext cx="276480" cy="5706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43" name="AutoShape 24"/>
              <p:cNvCxnSpPr>
                <a:endCxn id="440" idx="0"/>
              </p:cNvCxnSpPr>
              <p:nvPr/>
            </p:nvCxnSpPr>
            <p:spPr>
              <a:xfrm>
                <a:off x="8064360" y="4727520"/>
                <a:ext cx="1080" cy="5464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44" name="AutoShape 25"/>
              <p:cNvCxnSpPr>
                <a:endCxn id="441" idx="1"/>
              </p:cNvCxnSpPr>
              <p:nvPr/>
            </p:nvCxnSpPr>
            <p:spPr>
              <a:xfrm>
                <a:off x="8124120" y="4703040"/>
                <a:ext cx="217440" cy="595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445" name="Group 26"/>
            <p:cNvGrpSpPr/>
            <p:nvPr/>
          </p:nvGrpSpPr>
          <p:grpSpPr>
            <a:xfrm>
              <a:off x="5545080" y="4703040"/>
              <a:ext cx="839520" cy="758880"/>
              <a:chOff x="5545080" y="4703040"/>
              <a:chExt cx="839520" cy="758880"/>
            </a:xfrm>
          </p:grpSpPr>
          <p:sp>
            <p:nvSpPr>
              <p:cNvPr id="446" name="Oval 27"/>
              <p:cNvSpPr/>
              <p:nvPr/>
            </p:nvSpPr>
            <p:spPr>
              <a:xfrm>
                <a:off x="5545080" y="5294160"/>
                <a:ext cx="16776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7" name="Oval 28"/>
              <p:cNvSpPr/>
              <p:nvPr/>
            </p:nvSpPr>
            <p:spPr>
              <a:xfrm>
                <a:off x="5880960" y="5294160"/>
                <a:ext cx="16776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8" name="Oval 29"/>
              <p:cNvSpPr/>
              <p:nvPr/>
            </p:nvSpPr>
            <p:spPr>
              <a:xfrm>
                <a:off x="6216480" y="5294160"/>
                <a:ext cx="16812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449" name="AutoShape 30"/>
              <p:cNvCxnSpPr>
                <a:endCxn id="446" idx="0"/>
              </p:cNvCxnSpPr>
              <p:nvPr/>
            </p:nvCxnSpPr>
            <p:spPr>
              <a:xfrm flipH="1">
                <a:off x="5628600" y="4703040"/>
                <a:ext cx="276480" cy="5706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50" name="AutoShape 31"/>
              <p:cNvCxnSpPr>
                <a:endCxn id="447" idx="0"/>
              </p:cNvCxnSpPr>
              <p:nvPr/>
            </p:nvCxnSpPr>
            <p:spPr>
              <a:xfrm>
                <a:off x="5964120" y="4727520"/>
                <a:ext cx="1080" cy="5464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51" name="AutoShape 32"/>
              <p:cNvCxnSpPr>
                <a:endCxn id="448" idx="1"/>
              </p:cNvCxnSpPr>
              <p:nvPr/>
            </p:nvCxnSpPr>
            <p:spPr>
              <a:xfrm>
                <a:off x="6024240" y="4703040"/>
                <a:ext cx="217440" cy="595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</p:grpSp>
      </p:grpSp>
      <p:sp>
        <p:nvSpPr>
          <p:cNvPr id="452" name="Slide Number Placeholder 35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97E00C60-E160-41D8-90F2-9FA2799F8D4B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39960" y="420840"/>
            <a:ext cx="88041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IV. The Node Neighborhood</a:t>
            </a:r>
            <a:endParaRPr b="1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average degree = 3 - how many neighbors should I expect within 1,2,…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hop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0440" indent="-37044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tential answer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 hop -&gt; 3 neighbor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2 hops -&gt; 3 * 3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h hops -&gt; 3</a:t>
            </a:r>
            <a:r>
              <a:rPr b="0" lang="en-US" sz="3100" spc="-1" strike="noStrike" baseline="30000">
                <a:solidFill>
                  <a:srgbClr val="000066"/>
                </a:solidFill>
                <a:latin typeface="Times New Roman"/>
              </a:rPr>
              <a:t>h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WordArt 4"/>
          <p:cNvSpPr txBox="1"/>
          <p:nvPr/>
        </p:nvSpPr>
        <p:spPr>
          <a:xfrm>
            <a:off x="4116240" y="3443400"/>
            <a:ext cx="2268720" cy="12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RONG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4194360" y="5711760"/>
            <a:ext cx="4120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WE HAVE DUPLICATES!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Oval 6"/>
          <p:cNvSpPr/>
          <p:nvPr/>
        </p:nvSpPr>
        <p:spPr>
          <a:xfrm>
            <a:off x="6888240" y="378000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5880240" y="453564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Oval 8"/>
          <p:cNvSpPr/>
          <p:nvPr/>
        </p:nvSpPr>
        <p:spPr>
          <a:xfrm>
            <a:off x="6888240" y="453564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Oval 9"/>
          <p:cNvSpPr/>
          <p:nvPr/>
        </p:nvSpPr>
        <p:spPr>
          <a:xfrm>
            <a:off x="7980480" y="453564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63" name="AutoShape 10"/>
          <p:cNvCxnSpPr>
            <a:stCxn id="459" idx="3"/>
            <a:endCxn id="460" idx="0"/>
          </p:cNvCxnSpPr>
          <p:nvPr/>
        </p:nvCxnSpPr>
        <p:spPr>
          <a:xfrm flipH="1">
            <a:off x="5963400" y="3941280"/>
            <a:ext cx="950040" cy="57564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64" name="AutoShape 11"/>
          <p:cNvCxnSpPr>
            <a:stCxn id="459" idx="4"/>
            <a:endCxn id="461" idx="0"/>
          </p:cNvCxnSpPr>
          <p:nvPr/>
        </p:nvCxnSpPr>
        <p:spPr>
          <a:xfrm>
            <a:off x="6972120" y="3967200"/>
            <a:ext cx="1080" cy="55008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65" name="AutoShape 12"/>
          <p:cNvCxnSpPr>
            <a:stCxn id="459" idx="5"/>
            <a:endCxn id="462" idx="1"/>
          </p:cNvCxnSpPr>
          <p:nvPr/>
        </p:nvCxnSpPr>
        <p:spPr>
          <a:xfrm>
            <a:off x="7030800" y="3941280"/>
            <a:ext cx="975240" cy="60084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sp>
        <p:nvSpPr>
          <p:cNvPr id="466" name="Oval 13"/>
          <p:cNvSpPr/>
          <p:nvPr/>
        </p:nvSpPr>
        <p:spPr>
          <a:xfrm>
            <a:off x="6888240" y="5295960"/>
            <a:ext cx="16812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67" name="AutoShape 14"/>
          <p:cNvCxnSpPr>
            <a:stCxn id="461" idx="3"/>
            <a:endCxn id="468" idx="7"/>
          </p:cNvCxnSpPr>
          <p:nvPr/>
        </p:nvCxnSpPr>
        <p:spPr>
          <a:xfrm flipH="1">
            <a:off x="6358680" y="4697280"/>
            <a:ext cx="554760" cy="6037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69" name="AutoShape 15"/>
          <p:cNvCxnSpPr>
            <a:stCxn id="461" idx="4"/>
            <a:endCxn id="466" idx="0"/>
          </p:cNvCxnSpPr>
          <p:nvPr/>
        </p:nvCxnSpPr>
        <p:spPr>
          <a:xfrm>
            <a:off x="6972120" y="4722480"/>
            <a:ext cx="1080" cy="55476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sp>
        <p:nvSpPr>
          <p:cNvPr id="470" name="Oval 16"/>
          <p:cNvSpPr/>
          <p:nvPr/>
        </p:nvSpPr>
        <p:spPr>
          <a:xfrm>
            <a:off x="7643880" y="5295960"/>
            <a:ext cx="168120" cy="1666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Oval 17"/>
          <p:cNvSpPr/>
          <p:nvPr/>
        </p:nvSpPr>
        <p:spPr>
          <a:xfrm>
            <a:off x="7980480" y="5295960"/>
            <a:ext cx="16812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Oval 18"/>
          <p:cNvSpPr/>
          <p:nvPr/>
        </p:nvSpPr>
        <p:spPr>
          <a:xfrm>
            <a:off x="8317080" y="5295960"/>
            <a:ext cx="16812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73" name="AutoShape 19"/>
          <p:cNvCxnSpPr>
            <a:stCxn id="462" idx="3"/>
            <a:endCxn id="470" idx="0"/>
          </p:cNvCxnSpPr>
          <p:nvPr/>
        </p:nvCxnSpPr>
        <p:spPr>
          <a:xfrm flipH="1">
            <a:off x="7727400" y="4697280"/>
            <a:ext cx="278280" cy="5803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74" name="AutoShape 20"/>
          <p:cNvCxnSpPr>
            <a:stCxn id="462" idx="4"/>
            <a:endCxn id="471" idx="0"/>
          </p:cNvCxnSpPr>
          <p:nvPr/>
        </p:nvCxnSpPr>
        <p:spPr>
          <a:xfrm>
            <a:off x="8064000" y="4722480"/>
            <a:ext cx="1080" cy="55476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75" name="AutoShape 21"/>
          <p:cNvCxnSpPr>
            <a:stCxn id="462" idx="5"/>
            <a:endCxn id="472" idx="1"/>
          </p:cNvCxnSpPr>
          <p:nvPr/>
        </p:nvCxnSpPr>
        <p:spPr>
          <a:xfrm>
            <a:off x="8123400" y="4697280"/>
            <a:ext cx="219600" cy="6037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sp>
        <p:nvSpPr>
          <p:cNvPr id="476" name="Oval 22"/>
          <p:cNvSpPr/>
          <p:nvPr/>
        </p:nvSpPr>
        <p:spPr>
          <a:xfrm>
            <a:off x="5545080" y="5295960"/>
            <a:ext cx="16668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Oval 23"/>
          <p:cNvSpPr/>
          <p:nvPr/>
        </p:nvSpPr>
        <p:spPr>
          <a:xfrm>
            <a:off x="5880240" y="5295960"/>
            <a:ext cx="16812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Oval 24"/>
          <p:cNvSpPr/>
          <p:nvPr/>
        </p:nvSpPr>
        <p:spPr>
          <a:xfrm>
            <a:off x="6216480" y="5295960"/>
            <a:ext cx="168480" cy="1666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78" name="AutoShape 25"/>
          <p:cNvCxnSpPr>
            <a:stCxn id="460" idx="3"/>
            <a:endCxn id="476" idx="0"/>
          </p:cNvCxnSpPr>
          <p:nvPr/>
        </p:nvCxnSpPr>
        <p:spPr>
          <a:xfrm flipH="1">
            <a:off x="5628600" y="4697280"/>
            <a:ext cx="276840" cy="5803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79" name="AutoShape 26"/>
          <p:cNvCxnSpPr>
            <a:stCxn id="460" idx="4"/>
            <a:endCxn id="477" idx="0"/>
          </p:cNvCxnSpPr>
          <p:nvPr/>
        </p:nvCxnSpPr>
        <p:spPr>
          <a:xfrm>
            <a:off x="5963760" y="4722480"/>
            <a:ext cx="1080" cy="55476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80" name="AutoShape 27"/>
          <p:cNvCxnSpPr>
            <a:stCxn id="460" idx="5"/>
            <a:endCxn id="468" idx="1"/>
          </p:cNvCxnSpPr>
          <p:nvPr/>
        </p:nvCxnSpPr>
        <p:spPr>
          <a:xfrm>
            <a:off x="6022440" y="4697280"/>
            <a:ext cx="219960" cy="6037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81" name="AutoShape 28"/>
          <p:cNvCxnSpPr>
            <a:stCxn id="461" idx="5"/>
            <a:endCxn id="470" idx="1"/>
          </p:cNvCxnSpPr>
          <p:nvPr/>
        </p:nvCxnSpPr>
        <p:spPr>
          <a:xfrm>
            <a:off x="7031160" y="4697280"/>
            <a:ext cx="638280" cy="6037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sp>
        <p:nvSpPr>
          <p:cNvPr id="482" name="Slide Number Placeholder 31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CEFF3041-D205-42C3-8CAA-088482C28A62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39960" y="420840"/>
            <a:ext cx="88041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IV. The Node Neighborhood</a:t>
            </a:r>
            <a:endParaRPr b="1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average degree = 3 - how many neighbors should I expect within 1,2,…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hop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0440" indent="-37044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tential answer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 hop -&gt; 3 neighbor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2 hops -&gt; 3 * 3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02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h hops -&gt; 3</a:t>
            </a:r>
            <a:r>
              <a:rPr b="0" lang="en-US" sz="3100" spc="-1" strike="noStrike" baseline="30000">
                <a:solidFill>
                  <a:srgbClr val="000066"/>
                </a:solidFill>
                <a:latin typeface="Times New Roman"/>
              </a:rPr>
              <a:t>h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WordArt 1028"/>
          <p:cNvSpPr txBox="1"/>
          <p:nvPr/>
        </p:nvSpPr>
        <p:spPr>
          <a:xfrm>
            <a:off x="4116240" y="3443400"/>
            <a:ext cx="2268720" cy="12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RONG x 2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88" name="Text Box 1029"/>
          <p:cNvSpPr/>
          <p:nvPr/>
        </p:nvSpPr>
        <p:spPr>
          <a:xfrm>
            <a:off x="4195800" y="5711760"/>
            <a:ext cx="3948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‘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avg’ degree: meaningless!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Oval 1030"/>
          <p:cNvSpPr/>
          <p:nvPr/>
        </p:nvSpPr>
        <p:spPr>
          <a:xfrm>
            <a:off x="6888240" y="378000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Oval 1031"/>
          <p:cNvSpPr/>
          <p:nvPr/>
        </p:nvSpPr>
        <p:spPr>
          <a:xfrm>
            <a:off x="5880240" y="453564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Oval 1032"/>
          <p:cNvSpPr/>
          <p:nvPr/>
        </p:nvSpPr>
        <p:spPr>
          <a:xfrm>
            <a:off x="6888240" y="453564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Oval 1033"/>
          <p:cNvSpPr/>
          <p:nvPr/>
        </p:nvSpPr>
        <p:spPr>
          <a:xfrm>
            <a:off x="7980480" y="453564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93" name="AutoShape 1034"/>
          <p:cNvCxnSpPr>
            <a:stCxn id="489" idx="3"/>
            <a:endCxn id="490" idx="0"/>
          </p:cNvCxnSpPr>
          <p:nvPr/>
        </p:nvCxnSpPr>
        <p:spPr>
          <a:xfrm flipH="1">
            <a:off x="5963400" y="3941280"/>
            <a:ext cx="950040" cy="57564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94" name="AutoShape 1035"/>
          <p:cNvCxnSpPr>
            <a:stCxn id="489" idx="4"/>
            <a:endCxn id="491" idx="0"/>
          </p:cNvCxnSpPr>
          <p:nvPr/>
        </p:nvCxnSpPr>
        <p:spPr>
          <a:xfrm>
            <a:off x="6972120" y="3967200"/>
            <a:ext cx="1080" cy="55008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95" name="AutoShape 1036"/>
          <p:cNvCxnSpPr>
            <a:stCxn id="489" idx="5"/>
            <a:endCxn id="492" idx="1"/>
          </p:cNvCxnSpPr>
          <p:nvPr/>
        </p:nvCxnSpPr>
        <p:spPr>
          <a:xfrm>
            <a:off x="7030800" y="3941280"/>
            <a:ext cx="975240" cy="60084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sp>
        <p:nvSpPr>
          <p:cNvPr id="496" name="Oval 1037"/>
          <p:cNvSpPr/>
          <p:nvPr/>
        </p:nvSpPr>
        <p:spPr>
          <a:xfrm>
            <a:off x="6888240" y="5295960"/>
            <a:ext cx="16812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97" name="AutoShape 1038"/>
          <p:cNvCxnSpPr>
            <a:stCxn id="491" idx="3"/>
            <a:endCxn id="498" idx="7"/>
          </p:cNvCxnSpPr>
          <p:nvPr/>
        </p:nvCxnSpPr>
        <p:spPr>
          <a:xfrm flipH="1">
            <a:off x="6358680" y="4697280"/>
            <a:ext cx="554760" cy="6037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499" name="AutoShape 1039"/>
          <p:cNvCxnSpPr>
            <a:stCxn id="491" idx="4"/>
            <a:endCxn id="496" idx="0"/>
          </p:cNvCxnSpPr>
          <p:nvPr/>
        </p:nvCxnSpPr>
        <p:spPr>
          <a:xfrm>
            <a:off x="6972120" y="4722480"/>
            <a:ext cx="1080" cy="55476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sp>
        <p:nvSpPr>
          <p:cNvPr id="500" name="Oval 1040"/>
          <p:cNvSpPr/>
          <p:nvPr/>
        </p:nvSpPr>
        <p:spPr>
          <a:xfrm>
            <a:off x="7643880" y="5295960"/>
            <a:ext cx="168120" cy="1666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Oval 1041"/>
          <p:cNvSpPr/>
          <p:nvPr/>
        </p:nvSpPr>
        <p:spPr>
          <a:xfrm>
            <a:off x="7980480" y="5295960"/>
            <a:ext cx="16812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Oval 1042"/>
          <p:cNvSpPr/>
          <p:nvPr/>
        </p:nvSpPr>
        <p:spPr>
          <a:xfrm>
            <a:off x="8317080" y="5295960"/>
            <a:ext cx="16812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03" name="AutoShape 1043"/>
          <p:cNvCxnSpPr>
            <a:stCxn id="492" idx="3"/>
            <a:endCxn id="500" idx="0"/>
          </p:cNvCxnSpPr>
          <p:nvPr/>
        </p:nvCxnSpPr>
        <p:spPr>
          <a:xfrm flipH="1">
            <a:off x="7727400" y="4697280"/>
            <a:ext cx="278280" cy="5803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504" name="AutoShape 1044"/>
          <p:cNvCxnSpPr>
            <a:stCxn id="492" idx="4"/>
            <a:endCxn id="501" idx="0"/>
          </p:cNvCxnSpPr>
          <p:nvPr/>
        </p:nvCxnSpPr>
        <p:spPr>
          <a:xfrm>
            <a:off x="8064000" y="4722480"/>
            <a:ext cx="1080" cy="55476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505" name="AutoShape 1045"/>
          <p:cNvCxnSpPr>
            <a:stCxn id="492" idx="5"/>
            <a:endCxn id="502" idx="1"/>
          </p:cNvCxnSpPr>
          <p:nvPr/>
        </p:nvCxnSpPr>
        <p:spPr>
          <a:xfrm>
            <a:off x="8123400" y="4697280"/>
            <a:ext cx="219600" cy="6037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sp>
        <p:nvSpPr>
          <p:cNvPr id="506" name="Oval 1046"/>
          <p:cNvSpPr/>
          <p:nvPr/>
        </p:nvSpPr>
        <p:spPr>
          <a:xfrm>
            <a:off x="5545080" y="5295960"/>
            <a:ext cx="16668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Oval 1047"/>
          <p:cNvSpPr/>
          <p:nvPr/>
        </p:nvSpPr>
        <p:spPr>
          <a:xfrm>
            <a:off x="5880240" y="5295960"/>
            <a:ext cx="16812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Oval 1048"/>
          <p:cNvSpPr/>
          <p:nvPr/>
        </p:nvSpPr>
        <p:spPr>
          <a:xfrm>
            <a:off x="6216480" y="5295960"/>
            <a:ext cx="168480" cy="1666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08" name="AutoShape 1049"/>
          <p:cNvCxnSpPr>
            <a:stCxn id="490" idx="3"/>
            <a:endCxn id="506" idx="0"/>
          </p:cNvCxnSpPr>
          <p:nvPr/>
        </p:nvCxnSpPr>
        <p:spPr>
          <a:xfrm flipH="1">
            <a:off x="5628600" y="4697280"/>
            <a:ext cx="276840" cy="5803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509" name="AutoShape 1050"/>
          <p:cNvCxnSpPr>
            <a:stCxn id="490" idx="4"/>
            <a:endCxn id="507" idx="0"/>
          </p:cNvCxnSpPr>
          <p:nvPr/>
        </p:nvCxnSpPr>
        <p:spPr>
          <a:xfrm>
            <a:off x="5963760" y="4722480"/>
            <a:ext cx="1080" cy="55476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510" name="AutoShape 1051"/>
          <p:cNvCxnSpPr>
            <a:stCxn id="490" idx="5"/>
            <a:endCxn id="498" idx="1"/>
          </p:cNvCxnSpPr>
          <p:nvPr/>
        </p:nvCxnSpPr>
        <p:spPr>
          <a:xfrm>
            <a:off x="6022440" y="4697280"/>
            <a:ext cx="219960" cy="6037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511" name="AutoShape 1052"/>
          <p:cNvCxnSpPr>
            <a:stCxn id="491" idx="5"/>
            <a:endCxn id="500" idx="1"/>
          </p:cNvCxnSpPr>
          <p:nvPr/>
        </p:nvCxnSpPr>
        <p:spPr>
          <a:xfrm>
            <a:off x="7031160" y="4697280"/>
            <a:ext cx="638280" cy="60372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sp>
        <p:nvSpPr>
          <p:cNvPr id="512" name="Slide Number Placeholder 31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3220ACFB-B8A2-408E-A70C-84A221292518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IV. Power-law: hopplot </a:t>
            </a:r>
            <a:r>
              <a:rPr b="1" i="1" lang="en-US" sz="4900" spc="-1" strike="noStrike">
                <a:solidFill>
                  <a:srgbClr val="a50021"/>
                </a:solidFill>
                <a:latin typeface="Times New Roman"/>
              </a:rPr>
              <a:t>H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48880" y="5914800"/>
            <a:ext cx="8913960" cy="685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airs of nodes as a function of hops  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N(h)= h</a:t>
            </a:r>
            <a:r>
              <a:rPr b="0" i="1" lang="en-US" sz="3500" spc="-1" strike="noStrike" baseline="30000">
                <a:solidFill>
                  <a:srgbClr val="000066"/>
                </a:solidFill>
                <a:latin typeface="Times New Roman"/>
              </a:rPr>
              <a:t>H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3465720" y="1989000"/>
            <a:ext cx="14094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H = 4.86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3916800" y="5514840"/>
            <a:ext cx="1231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ec 98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19" name="Picture 6" descr="981205"/>
          <p:cNvPicPr/>
          <p:nvPr/>
        </p:nvPicPr>
        <p:blipFill>
          <a:blip r:embed="rId1"/>
          <a:stretch/>
        </p:blipFill>
        <p:spPr>
          <a:xfrm>
            <a:off x="1004760" y="2468520"/>
            <a:ext cx="4140360" cy="29844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7"/>
          <p:cNvSpPr/>
          <p:nvPr/>
        </p:nvSpPr>
        <p:spPr>
          <a:xfrm>
            <a:off x="2322720" y="5530680"/>
            <a:ext cx="79200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Hop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954000" y="1955880"/>
            <a:ext cx="1273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# of Pair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22" name="Picture 9" descr="routes"/>
          <p:cNvPicPr/>
          <p:nvPr/>
        </p:nvPicPr>
        <p:blipFill>
          <a:blip r:embed="rId2"/>
          <a:stretch/>
        </p:blipFill>
        <p:spPr>
          <a:xfrm>
            <a:off x="5548320" y="2440080"/>
            <a:ext cx="4263840" cy="304776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10"/>
          <p:cNvSpPr/>
          <p:nvPr/>
        </p:nvSpPr>
        <p:spPr>
          <a:xfrm>
            <a:off x="5420160" y="1998720"/>
            <a:ext cx="1273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# of Pair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6585480" y="5510160"/>
            <a:ext cx="302940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Hops      Router level ’95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7858440" y="1951200"/>
            <a:ext cx="14094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H = 2.83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Slide Number Placeholder 15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E5FD8275-B561-4D6C-A00B-87AC2653633F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bservation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36600" y="1595520"/>
            <a:ext cx="9323280" cy="520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Intuition behind ‘hop exponent’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: ‘intrinsic=fractal dimensionality’ of the network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Oval 1028"/>
          <p:cNvSpPr/>
          <p:nvPr/>
        </p:nvSpPr>
        <p:spPr>
          <a:xfrm>
            <a:off x="1008000" y="4535640"/>
            <a:ext cx="16848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Oval 1029"/>
          <p:cNvSpPr/>
          <p:nvPr/>
        </p:nvSpPr>
        <p:spPr>
          <a:xfrm>
            <a:off x="1512720" y="4871880"/>
            <a:ext cx="166680" cy="1684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Oval 1030"/>
          <p:cNvSpPr/>
          <p:nvPr/>
        </p:nvSpPr>
        <p:spPr>
          <a:xfrm>
            <a:off x="2100240" y="478800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Oval 1031"/>
          <p:cNvSpPr/>
          <p:nvPr/>
        </p:nvSpPr>
        <p:spPr>
          <a:xfrm>
            <a:off x="2352600" y="4200480"/>
            <a:ext cx="168480" cy="166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Oval 1032"/>
          <p:cNvSpPr/>
          <p:nvPr/>
        </p:nvSpPr>
        <p:spPr>
          <a:xfrm>
            <a:off x="1932120" y="369576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Oval 1033"/>
          <p:cNvSpPr/>
          <p:nvPr/>
        </p:nvSpPr>
        <p:spPr>
          <a:xfrm>
            <a:off x="1176480" y="3780000"/>
            <a:ext cx="168120" cy="1681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37" name="AutoShape 1034"/>
          <p:cNvCxnSpPr>
            <a:stCxn id="536" idx="3"/>
            <a:endCxn id="531" idx="0"/>
          </p:cNvCxnSpPr>
          <p:nvPr/>
        </p:nvCxnSpPr>
        <p:spPr>
          <a:xfrm flipH="1">
            <a:off x="1091880" y="3941280"/>
            <a:ext cx="110160" cy="57564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538" name="AutoShape 1035"/>
          <p:cNvCxnSpPr>
            <a:stCxn id="536" idx="6"/>
            <a:endCxn id="535" idx="2"/>
          </p:cNvCxnSpPr>
          <p:nvPr/>
        </p:nvCxnSpPr>
        <p:spPr>
          <a:xfrm flipV="1">
            <a:off x="1363680" y="3779280"/>
            <a:ext cx="550080" cy="8460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539" name="AutoShape 1036"/>
          <p:cNvCxnSpPr>
            <a:stCxn id="535" idx="5"/>
            <a:endCxn id="534" idx="1"/>
          </p:cNvCxnSpPr>
          <p:nvPr/>
        </p:nvCxnSpPr>
        <p:spPr>
          <a:xfrm>
            <a:off x="2075040" y="3857400"/>
            <a:ext cx="303840" cy="34776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540" name="AutoShape 1037"/>
          <p:cNvCxnSpPr>
            <a:stCxn id="534" idx="3"/>
            <a:endCxn id="533" idx="7"/>
          </p:cNvCxnSpPr>
          <p:nvPr/>
        </p:nvCxnSpPr>
        <p:spPr>
          <a:xfrm flipH="1">
            <a:off x="2242440" y="4362120"/>
            <a:ext cx="135720" cy="43236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541" name="AutoShape 1038"/>
          <p:cNvCxnSpPr>
            <a:stCxn id="533" idx="2"/>
            <a:endCxn id="532" idx="6"/>
          </p:cNvCxnSpPr>
          <p:nvPr/>
        </p:nvCxnSpPr>
        <p:spPr>
          <a:xfrm flipH="1">
            <a:off x="1697760" y="4871880"/>
            <a:ext cx="383400" cy="8496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cxnSp>
        <p:nvCxnSpPr>
          <p:cNvPr id="542" name="AutoShape 1039"/>
          <p:cNvCxnSpPr>
            <a:stCxn id="532" idx="2"/>
            <a:endCxn id="531" idx="5"/>
          </p:cNvCxnSpPr>
          <p:nvPr/>
        </p:nvCxnSpPr>
        <p:spPr>
          <a:xfrm flipH="1" flipV="1">
            <a:off x="1150200" y="4696560"/>
            <a:ext cx="343800" cy="259560"/>
          </a:xfrm>
          <a:prstGeom prst="straightConnector1">
            <a:avLst/>
          </a:prstGeom>
          <a:ln w="38160">
            <a:solidFill>
              <a:srgbClr val="000066"/>
            </a:solidFill>
            <a:miter/>
          </a:ln>
        </p:spPr>
      </p:cxnSp>
      <p:sp>
        <p:nvSpPr>
          <p:cNvPr id="543" name="Text Box 1040"/>
          <p:cNvSpPr/>
          <p:nvPr/>
        </p:nvSpPr>
        <p:spPr>
          <a:xfrm>
            <a:off x="994680" y="5842080"/>
            <a:ext cx="1431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N(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) ~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en-US" sz="2600" spc="-1" strike="noStrike" baseline="30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4" name="Group 1041"/>
          <p:cNvGrpSpPr/>
          <p:nvPr/>
        </p:nvGrpSpPr>
        <p:grpSpPr>
          <a:xfrm>
            <a:off x="5292720" y="3073320"/>
            <a:ext cx="2687040" cy="2687040"/>
            <a:chOff x="5292720" y="3073320"/>
            <a:chExt cx="2687040" cy="2687040"/>
          </a:xfrm>
        </p:grpSpPr>
        <p:grpSp>
          <p:nvGrpSpPr>
            <p:cNvPr id="545" name="Group 1042"/>
            <p:cNvGrpSpPr/>
            <p:nvPr/>
          </p:nvGrpSpPr>
          <p:grpSpPr>
            <a:xfrm>
              <a:off x="5292720" y="3073320"/>
              <a:ext cx="1007280" cy="1007280"/>
              <a:chOff x="5292720" y="3073320"/>
              <a:chExt cx="1007280" cy="1007280"/>
            </a:xfrm>
          </p:grpSpPr>
          <p:sp>
            <p:nvSpPr>
              <p:cNvPr id="546" name="Oval 1043"/>
              <p:cNvSpPr/>
              <p:nvPr/>
            </p:nvSpPr>
            <p:spPr>
              <a:xfrm>
                <a:off x="5292720" y="3912480"/>
                <a:ext cx="16776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" name="Oval 1044"/>
              <p:cNvSpPr/>
              <p:nvPr/>
            </p:nvSpPr>
            <p:spPr>
              <a:xfrm>
                <a:off x="6131880" y="3912480"/>
                <a:ext cx="16812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8" name="Oval 1045"/>
              <p:cNvSpPr/>
              <p:nvPr/>
            </p:nvSpPr>
            <p:spPr>
              <a:xfrm>
                <a:off x="6131880" y="3073320"/>
                <a:ext cx="16812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Oval 1046"/>
              <p:cNvSpPr/>
              <p:nvPr/>
            </p:nvSpPr>
            <p:spPr>
              <a:xfrm>
                <a:off x="5292720" y="3073320"/>
                <a:ext cx="16776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550" name="AutoShape 1047"/>
              <p:cNvCxnSpPr>
                <a:stCxn id="549" idx="6"/>
                <a:endCxn id="548" idx="2"/>
              </p:cNvCxnSpPr>
              <p:nvPr/>
            </p:nvCxnSpPr>
            <p:spPr>
              <a:xfrm>
                <a:off x="5481360" y="3156480"/>
                <a:ext cx="630000" cy="1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51" name="AutoShape 1048"/>
              <p:cNvCxnSpPr>
                <a:stCxn id="549" idx="4"/>
                <a:endCxn id="546" idx="0"/>
              </p:cNvCxnSpPr>
              <p:nvPr/>
            </p:nvCxnSpPr>
            <p:spPr>
              <a:xfrm>
                <a:off x="5375880" y="3261960"/>
                <a:ext cx="1080" cy="6300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52" name="AutoShape 1049"/>
              <p:cNvCxnSpPr>
                <a:stCxn id="547" idx="0"/>
                <a:endCxn id="548" idx="4"/>
              </p:cNvCxnSpPr>
              <p:nvPr/>
            </p:nvCxnSpPr>
            <p:spPr>
              <a:xfrm flipV="1">
                <a:off x="6215760" y="3261600"/>
                <a:ext cx="1080" cy="6300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53" name="AutoShape 1050"/>
              <p:cNvCxnSpPr>
                <a:stCxn id="546" idx="6"/>
                <a:endCxn id="547" idx="2"/>
              </p:cNvCxnSpPr>
              <p:nvPr/>
            </p:nvCxnSpPr>
            <p:spPr>
              <a:xfrm>
                <a:off x="5481360" y="3996360"/>
                <a:ext cx="630000" cy="1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554" name="Group 1051"/>
            <p:cNvGrpSpPr/>
            <p:nvPr/>
          </p:nvGrpSpPr>
          <p:grpSpPr>
            <a:xfrm>
              <a:off x="5292720" y="4753080"/>
              <a:ext cx="1007280" cy="1007280"/>
              <a:chOff x="5292720" y="4753080"/>
              <a:chExt cx="1007280" cy="1007280"/>
            </a:xfrm>
          </p:grpSpPr>
          <p:sp>
            <p:nvSpPr>
              <p:cNvPr id="555" name="Oval 1052"/>
              <p:cNvSpPr/>
              <p:nvPr/>
            </p:nvSpPr>
            <p:spPr>
              <a:xfrm>
                <a:off x="5292720" y="5592240"/>
                <a:ext cx="16776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Oval 1053"/>
              <p:cNvSpPr/>
              <p:nvPr/>
            </p:nvSpPr>
            <p:spPr>
              <a:xfrm>
                <a:off x="6131880" y="5592240"/>
                <a:ext cx="16812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Oval 1054"/>
              <p:cNvSpPr/>
              <p:nvPr/>
            </p:nvSpPr>
            <p:spPr>
              <a:xfrm>
                <a:off x="6131880" y="4753080"/>
                <a:ext cx="16812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Oval 1055"/>
              <p:cNvSpPr/>
              <p:nvPr/>
            </p:nvSpPr>
            <p:spPr>
              <a:xfrm>
                <a:off x="5292720" y="4753080"/>
                <a:ext cx="16776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559" name="AutoShape 1056"/>
              <p:cNvCxnSpPr>
                <a:stCxn id="558" idx="6"/>
                <a:endCxn id="557" idx="2"/>
              </p:cNvCxnSpPr>
              <p:nvPr/>
            </p:nvCxnSpPr>
            <p:spPr>
              <a:xfrm>
                <a:off x="5481360" y="4836240"/>
                <a:ext cx="630000" cy="1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60" name="AutoShape 1057"/>
              <p:cNvCxnSpPr>
                <a:stCxn id="558" idx="4"/>
                <a:endCxn id="555" idx="0"/>
              </p:cNvCxnSpPr>
              <p:nvPr/>
            </p:nvCxnSpPr>
            <p:spPr>
              <a:xfrm>
                <a:off x="5375880" y="4941720"/>
                <a:ext cx="1080" cy="6300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61" name="AutoShape 1058"/>
              <p:cNvCxnSpPr>
                <a:stCxn id="556" idx="0"/>
                <a:endCxn id="557" idx="4"/>
              </p:cNvCxnSpPr>
              <p:nvPr/>
            </p:nvCxnSpPr>
            <p:spPr>
              <a:xfrm flipV="1">
                <a:off x="6215760" y="4941360"/>
                <a:ext cx="1080" cy="6300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62" name="AutoShape 1059"/>
              <p:cNvCxnSpPr>
                <a:stCxn id="555" idx="6"/>
                <a:endCxn id="556" idx="2"/>
              </p:cNvCxnSpPr>
              <p:nvPr/>
            </p:nvCxnSpPr>
            <p:spPr>
              <a:xfrm>
                <a:off x="5481360" y="5676120"/>
                <a:ext cx="630000" cy="1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563" name="Group 1060"/>
            <p:cNvGrpSpPr/>
            <p:nvPr/>
          </p:nvGrpSpPr>
          <p:grpSpPr>
            <a:xfrm>
              <a:off x="6972480" y="3073320"/>
              <a:ext cx="1007280" cy="1007280"/>
              <a:chOff x="6972480" y="3073320"/>
              <a:chExt cx="1007280" cy="1007280"/>
            </a:xfrm>
          </p:grpSpPr>
          <p:sp>
            <p:nvSpPr>
              <p:cNvPr id="564" name="Oval 1061"/>
              <p:cNvSpPr/>
              <p:nvPr/>
            </p:nvSpPr>
            <p:spPr>
              <a:xfrm>
                <a:off x="6972480" y="3912480"/>
                <a:ext cx="16776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Oval 1062"/>
              <p:cNvSpPr/>
              <p:nvPr/>
            </p:nvSpPr>
            <p:spPr>
              <a:xfrm>
                <a:off x="7811640" y="3912480"/>
                <a:ext cx="16812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Oval 1063"/>
              <p:cNvSpPr/>
              <p:nvPr/>
            </p:nvSpPr>
            <p:spPr>
              <a:xfrm>
                <a:off x="7811640" y="3073320"/>
                <a:ext cx="16812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Oval 1064"/>
              <p:cNvSpPr/>
              <p:nvPr/>
            </p:nvSpPr>
            <p:spPr>
              <a:xfrm>
                <a:off x="6972480" y="3073320"/>
                <a:ext cx="16776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568" name="AutoShape 1065"/>
              <p:cNvCxnSpPr>
                <a:stCxn id="567" idx="6"/>
                <a:endCxn id="566" idx="2"/>
              </p:cNvCxnSpPr>
              <p:nvPr/>
            </p:nvCxnSpPr>
            <p:spPr>
              <a:xfrm>
                <a:off x="7161120" y="3156480"/>
                <a:ext cx="630000" cy="1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69" name="AutoShape 1066"/>
              <p:cNvCxnSpPr>
                <a:stCxn id="567" idx="4"/>
                <a:endCxn id="564" idx="0"/>
              </p:cNvCxnSpPr>
              <p:nvPr/>
            </p:nvCxnSpPr>
            <p:spPr>
              <a:xfrm>
                <a:off x="7055640" y="3261960"/>
                <a:ext cx="1080" cy="6300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70" name="AutoShape 1067"/>
              <p:cNvCxnSpPr>
                <a:stCxn id="565" idx="0"/>
                <a:endCxn id="566" idx="4"/>
              </p:cNvCxnSpPr>
              <p:nvPr/>
            </p:nvCxnSpPr>
            <p:spPr>
              <a:xfrm flipV="1">
                <a:off x="7895520" y="3261600"/>
                <a:ext cx="1080" cy="6300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71" name="AutoShape 1068"/>
              <p:cNvCxnSpPr>
                <a:stCxn id="564" idx="6"/>
                <a:endCxn id="565" idx="2"/>
              </p:cNvCxnSpPr>
              <p:nvPr/>
            </p:nvCxnSpPr>
            <p:spPr>
              <a:xfrm>
                <a:off x="7161120" y="3996360"/>
                <a:ext cx="630000" cy="1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572" name="Group 1069"/>
            <p:cNvGrpSpPr/>
            <p:nvPr/>
          </p:nvGrpSpPr>
          <p:grpSpPr>
            <a:xfrm>
              <a:off x="6972480" y="4753080"/>
              <a:ext cx="1007280" cy="1007280"/>
              <a:chOff x="6972480" y="4753080"/>
              <a:chExt cx="1007280" cy="1007280"/>
            </a:xfrm>
          </p:grpSpPr>
          <p:sp>
            <p:nvSpPr>
              <p:cNvPr id="573" name="Oval 1070"/>
              <p:cNvSpPr/>
              <p:nvPr/>
            </p:nvSpPr>
            <p:spPr>
              <a:xfrm>
                <a:off x="6972480" y="5592240"/>
                <a:ext cx="16776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" name="Oval 1071"/>
              <p:cNvSpPr/>
              <p:nvPr/>
            </p:nvSpPr>
            <p:spPr>
              <a:xfrm>
                <a:off x="7811640" y="5592240"/>
                <a:ext cx="16812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" name="Oval 1072"/>
              <p:cNvSpPr/>
              <p:nvPr/>
            </p:nvSpPr>
            <p:spPr>
              <a:xfrm>
                <a:off x="7811640" y="4753080"/>
                <a:ext cx="16812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Oval 1073"/>
              <p:cNvSpPr/>
              <p:nvPr/>
            </p:nvSpPr>
            <p:spPr>
              <a:xfrm>
                <a:off x="6972480" y="4753080"/>
                <a:ext cx="167760" cy="16776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577" name="AutoShape 1074"/>
              <p:cNvCxnSpPr>
                <a:stCxn id="576" idx="6"/>
                <a:endCxn id="575" idx="2"/>
              </p:cNvCxnSpPr>
              <p:nvPr/>
            </p:nvCxnSpPr>
            <p:spPr>
              <a:xfrm>
                <a:off x="7161120" y="4836240"/>
                <a:ext cx="630000" cy="1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78" name="AutoShape 1075"/>
              <p:cNvCxnSpPr>
                <a:stCxn id="576" idx="4"/>
                <a:endCxn id="573" idx="0"/>
              </p:cNvCxnSpPr>
              <p:nvPr/>
            </p:nvCxnSpPr>
            <p:spPr>
              <a:xfrm>
                <a:off x="7055640" y="4941720"/>
                <a:ext cx="1080" cy="6300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79" name="AutoShape 1076"/>
              <p:cNvCxnSpPr>
                <a:stCxn id="574" idx="0"/>
                <a:endCxn id="575" idx="4"/>
              </p:cNvCxnSpPr>
              <p:nvPr/>
            </p:nvCxnSpPr>
            <p:spPr>
              <a:xfrm flipV="1">
                <a:off x="7895520" y="4941360"/>
                <a:ext cx="1080" cy="6300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580" name="AutoShape 1077"/>
              <p:cNvCxnSpPr>
                <a:stCxn id="573" idx="6"/>
                <a:endCxn id="574" idx="2"/>
              </p:cNvCxnSpPr>
              <p:nvPr/>
            </p:nvCxnSpPr>
            <p:spPr>
              <a:xfrm>
                <a:off x="7161120" y="5676120"/>
                <a:ext cx="630000" cy="108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</a:ln>
            </p:spPr>
          </p:cxnSp>
        </p:grpSp>
        <p:cxnSp>
          <p:nvCxnSpPr>
            <p:cNvPr id="581" name="AutoShape 1078"/>
            <p:cNvCxnSpPr>
              <a:stCxn id="548" idx="6"/>
              <a:endCxn id="567" idx="2"/>
            </p:cNvCxnSpPr>
            <p:nvPr/>
          </p:nvCxnSpPr>
          <p:spPr>
            <a:xfrm>
              <a:off x="6321240" y="3156480"/>
              <a:ext cx="630360" cy="108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582" name="AutoShape 1079"/>
            <p:cNvCxnSpPr>
              <a:stCxn id="547" idx="6"/>
              <a:endCxn id="564" idx="2"/>
            </p:cNvCxnSpPr>
            <p:nvPr/>
          </p:nvCxnSpPr>
          <p:spPr>
            <a:xfrm>
              <a:off x="6321240" y="3996720"/>
              <a:ext cx="630360" cy="108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583" name="AutoShape 1080"/>
            <p:cNvCxnSpPr>
              <a:stCxn id="557" idx="6"/>
              <a:endCxn id="576" idx="2"/>
            </p:cNvCxnSpPr>
            <p:nvPr/>
          </p:nvCxnSpPr>
          <p:spPr>
            <a:xfrm>
              <a:off x="6321240" y="4836600"/>
              <a:ext cx="630360" cy="108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584" name="AutoShape 1081"/>
            <p:cNvCxnSpPr>
              <a:stCxn id="556" idx="6"/>
              <a:endCxn id="573" idx="2"/>
            </p:cNvCxnSpPr>
            <p:nvPr/>
          </p:nvCxnSpPr>
          <p:spPr>
            <a:xfrm>
              <a:off x="6321240" y="5676480"/>
              <a:ext cx="630360" cy="108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585" name="AutoShape 1082"/>
            <p:cNvCxnSpPr>
              <a:stCxn id="558" idx="0"/>
              <a:endCxn id="546" idx="4"/>
            </p:cNvCxnSpPr>
            <p:nvPr/>
          </p:nvCxnSpPr>
          <p:spPr>
            <a:xfrm flipV="1">
              <a:off x="5375880" y="4101480"/>
              <a:ext cx="1080" cy="6303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586" name="AutoShape 1083"/>
            <p:cNvCxnSpPr>
              <a:stCxn id="557" idx="0"/>
              <a:endCxn id="547" idx="4"/>
            </p:cNvCxnSpPr>
            <p:nvPr/>
          </p:nvCxnSpPr>
          <p:spPr>
            <a:xfrm flipV="1">
              <a:off x="6216120" y="4101480"/>
              <a:ext cx="1080" cy="6303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587" name="AutoShape 1084"/>
            <p:cNvCxnSpPr>
              <a:stCxn id="576" idx="0"/>
              <a:endCxn id="564" idx="4"/>
            </p:cNvCxnSpPr>
            <p:nvPr/>
          </p:nvCxnSpPr>
          <p:spPr>
            <a:xfrm flipV="1">
              <a:off x="7056000" y="4101480"/>
              <a:ext cx="1080" cy="6303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  <p:cxnSp>
          <p:nvCxnSpPr>
            <p:cNvPr id="588" name="AutoShape 1085"/>
            <p:cNvCxnSpPr>
              <a:stCxn id="575" idx="0"/>
              <a:endCxn id="565" idx="4"/>
            </p:cNvCxnSpPr>
            <p:nvPr/>
          </p:nvCxnSpPr>
          <p:spPr>
            <a:xfrm flipV="1">
              <a:off x="7895880" y="4101480"/>
              <a:ext cx="1080" cy="6303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</a:ln>
          </p:spPr>
        </p:cxnSp>
      </p:grpSp>
      <p:sp>
        <p:nvSpPr>
          <p:cNvPr id="589" name="Text Box 1086"/>
          <p:cNvSpPr/>
          <p:nvPr/>
        </p:nvSpPr>
        <p:spPr>
          <a:xfrm>
            <a:off x="5800680" y="5880240"/>
            <a:ext cx="1431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N(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) ~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en-US" sz="2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0" name="Group 1097"/>
          <p:cNvGrpSpPr/>
          <p:nvPr/>
        </p:nvGrpSpPr>
        <p:grpSpPr>
          <a:xfrm>
            <a:off x="696960" y="5303880"/>
            <a:ext cx="2318400" cy="579240"/>
            <a:chOff x="696960" y="5303880"/>
            <a:chExt cx="2318400" cy="579240"/>
          </a:xfrm>
        </p:grpSpPr>
        <p:grpSp>
          <p:nvGrpSpPr>
            <p:cNvPr id="591" name="Group 1089"/>
            <p:cNvGrpSpPr/>
            <p:nvPr/>
          </p:nvGrpSpPr>
          <p:grpSpPr>
            <a:xfrm>
              <a:off x="696960" y="5497560"/>
              <a:ext cx="625680" cy="168120"/>
              <a:chOff x="696960" y="5497560"/>
              <a:chExt cx="625680" cy="168120"/>
            </a:xfrm>
          </p:grpSpPr>
          <p:sp>
            <p:nvSpPr>
              <p:cNvPr id="592" name="Oval 1087"/>
              <p:cNvSpPr/>
              <p:nvPr/>
            </p:nvSpPr>
            <p:spPr>
              <a:xfrm>
                <a:off x="696960" y="5497560"/>
                <a:ext cx="16848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3" name="Line 1088"/>
              <p:cNvSpPr/>
              <p:nvPr/>
            </p:nvSpPr>
            <p:spPr>
              <a:xfrm>
                <a:off x="865440" y="5589720"/>
                <a:ext cx="457200" cy="0"/>
              </a:xfrm>
              <a:prstGeom prst="line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Group 1090"/>
            <p:cNvGrpSpPr/>
            <p:nvPr/>
          </p:nvGrpSpPr>
          <p:grpSpPr>
            <a:xfrm>
              <a:off x="1306440" y="5513400"/>
              <a:ext cx="625680" cy="168120"/>
              <a:chOff x="1306440" y="5513400"/>
              <a:chExt cx="625680" cy="168120"/>
            </a:xfrm>
          </p:grpSpPr>
          <p:sp>
            <p:nvSpPr>
              <p:cNvPr id="595" name="Oval 1091"/>
              <p:cNvSpPr/>
              <p:nvPr/>
            </p:nvSpPr>
            <p:spPr>
              <a:xfrm>
                <a:off x="1306440" y="5513400"/>
                <a:ext cx="16848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" name="Line 1092"/>
              <p:cNvSpPr/>
              <p:nvPr/>
            </p:nvSpPr>
            <p:spPr>
              <a:xfrm>
                <a:off x="1474920" y="5605560"/>
                <a:ext cx="457200" cy="0"/>
              </a:xfrm>
              <a:prstGeom prst="line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Group 1093"/>
            <p:cNvGrpSpPr/>
            <p:nvPr/>
          </p:nvGrpSpPr>
          <p:grpSpPr>
            <a:xfrm>
              <a:off x="1932120" y="5513400"/>
              <a:ext cx="624960" cy="168120"/>
              <a:chOff x="1932120" y="5513400"/>
              <a:chExt cx="624960" cy="168120"/>
            </a:xfrm>
          </p:grpSpPr>
          <p:sp>
            <p:nvSpPr>
              <p:cNvPr id="598" name="Oval 1094"/>
              <p:cNvSpPr/>
              <p:nvPr/>
            </p:nvSpPr>
            <p:spPr>
              <a:xfrm>
                <a:off x="1932120" y="5513400"/>
                <a:ext cx="168120" cy="168120"/>
              </a:xfrm>
              <a:prstGeom prst="ellipse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9" name="Line 1095"/>
              <p:cNvSpPr/>
              <p:nvPr/>
            </p:nvSpPr>
            <p:spPr>
              <a:xfrm>
                <a:off x="2100240" y="5605560"/>
                <a:ext cx="456840" cy="0"/>
              </a:xfrm>
              <a:prstGeom prst="line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0" name="Text Box 1096"/>
            <p:cNvSpPr/>
            <p:nvPr/>
          </p:nvSpPr>
          <p:spPr>
            <a:xfrm>
              <a:off x="2525400" y="5303880"/>
              <a:ext cx="489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01" name="Slide Number Placeholder 7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188BE660-6F1D-43E5-A74B-CF181C531A2D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riangle ‘Laws’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55640" y="25210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Real social networks have a lot of triangles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4" name="Group 5"/>
          <p:cNvGrpSpPr/>
          <p:nvPr/>
        </p:nvGrpSpPr>
        <p:grpSpPr>
          <a:xfrm>
            <a:off x="7643880" y="1427040"/>
            <a:ext cx="841320" cy="1008360"/>
            <a:chOff x="7643880" y="1427040"/>
            <a:chExt cx="841320" cy="1008360"/>
          </a:xfrm>
        </p:grpSpPr>
        <p:sp>
          <p:nvSpPr>
            <p:cNvPr id="605" name="Oval 4"/>
            <p:cNvSpPr/>
            <p:nvPr/>
          </p:nvSpPr>
          <p:spPr>
            <a:xfrm>
              <a:off x="7643880" y="2014560"/>
              <a:ext cx="168120" cy="16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Oval 5"/>
            <p:cNvSpPr/>
            <p:nvPr/>
          </p:nvSpPr>
          <p:spPr>
            <a:xfrm>
              <a:off x="8317080" y="2266920"/>
              <a:ext cx="168120" cy="168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Oval 6"/>
            <p:cNvSpPr/>
            <p:nvPr/>
          </p:nvSpPr>
          <p:spPr>
            <a:xfrm>
              <a:off x="8148600" y="1427040"/>
              <a:ext cx="168480" cy="168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08" name="AutoShape 7"/>
            <p:cNvCxnSpPr>
              <a:stCxn id="605" idx="7"/>
              <a:endCxn id="607" idx="3"/>
            </p:cNvCxnSpPr>
            <p:nvPr/>
          </p:nvCxnSpPr>
          <p:spPr>
            <a:xfrm flipV="1">
              <a:off x="7787880" y="1569240"/>
              <a:ext cx="384840" cy="470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609" name="AutoShape 8"/>
            <p:cNvCxnSpPr>
              <a:stCxn id="605" idx="5"/>
              <a:endCxn id="606" idx="2"/>
            </p:cNvCxnSpPr>
            <p:nvPr/>
          </p:nvCxnSpPr>
          <p:spPr>
            <a:xfrm>
              <a:off x="7787880" y="2158920"/>
              <a:ext cx="529200" cy="192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sp>
        <p:nvSpPr>
          <p:cNvPr id="610" name="Date Placeholder 9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Slide Number Placeholder 10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1DE5B409-C71E-49C7-9BF8-5E28E7F26524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Footer Placeholder 11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Introduction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96" name="Picture 1027" descr="Picture3"/>
          <p:cNvPicPr/>
          <p:nvPr/>
        </p:nvPicPr>
        <p:blipFill>
          <a:blip r:embed="rId1"/>
          <a:stretch/>
        </p:blipFill>
        <p:spPr>
          <a:xfrm>
            <a:off x="541440" y="1730520"/>
            <a:ext cx="2290680" cy="1720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28" descr="food_web"/>
          <p:cNvPicPr/>
          <p:nvPr/>
        </p:nvPicPr>
        <p:blipFill>
          <a:blip r:embed="rId2"/>
          <a:stretch/>
        </p:blipFill>
        <p:spPr>
          <a:xfrm>
            <a:off x="3695760" y="1536840"/>
            <a:ext cx="2517840" cy="1887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29" descr="protein_interaction"/>
          <p:cNvPicPr/>
          <p:nvPr/>
        </p:nvPicPr>
        <p:blipFill>
          <a:blip r:embed="rId3"/>
          <a:stretch/>
        </p:blipFill>
        <p:spPr>
          <a:xfrm>
            <a:off x="7056360" y="1549440"/>
            <a:ext cx="1808280" cy="1809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30"/>
          <p:cNvSpPr/>
          <p:nvPr/>
        </p:nvSpPr>
        <p:spPr>
          <a:xfrm>
            <a:off x="839880" y="3443400"/>
            <a:ext cx="2268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ternet Map [lumeta.com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1031"/>
          <p:cNvSpPr/>
          <p:nvPr/>
        </p:nvSpPr>
        <p:spPr>
          <a:xfrm>
            <a:off x="3948120" y="3443400"/>
            <a:ext cx="2268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od Web [Martinez ’91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1032"/>
          <p:cNvSpPr/>
          <p:nvPr/>
        </p:nvSpPr>
        <p:spPr>
          <a:xfrm>
            <a:off x="6719760" y="3359160"/>
            <a:ext cx="27734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tein Interactions [genomebiology.com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1033"/>
          <p:cNvSpPr/>
          <p:nvPr/>
        </p:nvSpPr>
        <p:spPr>
          <a:xfrm>
            <a:off x="755640" y="6180120"/>
            <a:ext cx="2436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riendship Network [Moody ’01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1034"/>
          <p:cNvSpPr/>
          <p:nvPr/>
        </p:nvSpPr>
        <p:spPr>
          <a:xfrm>
            <a:off x="4456440" y="5068800"/>
            <a:ext cx="44802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Times New Roman"/>
              </a:rPr>
              <a:t>Graphs are everywhere!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4" name="Picture 1035" descr="Picture4"/>
          <p:cNvPicPr/>
          <p:nvPr/>
        </p:nvPicPr>
        <p:blipFill>
          <a:blip r:embed="rId4"/>
          <a:stretch/>
        </p:blipFill>
        <p:spPr>
          <a:xfrm>
            <a:off x="614520" y="4368960"/>
            <a:ext cx="2511360" cy="187452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14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58BC6B0E-D6B7-4072-B389-FD408BDC3FF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riangle ‘Laws’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55640" y="25210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Real social networks have a lot of triangl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riends of friends are friends 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ny pattern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Group 24"/>
          <p:cNvGrpSpPr/>
          <p:nvPr/>
        </p:nvGrpSpPr>
        <p:grpSpPr>
          <a:xfrm>
            <a:off x="7643880" y="1427040"/>
            <a:ext cx="841320" cy="1008360"/>
            <a:chOff x="7643880" y="1427040"/>
            <a:chExt cx="841320" cy="1008360"/>
          </a:xfrm>
        </p:grpSpPr>
        <p:sp>
          <p:nvSpPr>
            <p:cNvPr id="616" name="Oval 4"/>
            <p:cNvSpPr/>
            <p:nvPr/>
          </p:nvSpPr>
          <p:spPr>
            <a:xfrm>
              <a:off x="7643880" y="2014560"/>
              <a:ext cx="168120" cy="16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Oval 5"/>
            <p:cNvSpPr/>
            <p:nvPr/>
          </p:nvSpPr>
          <p:spPr>
            <a:xfrm>
              <a:off x="8317080" y="2266920"/>
              <a:ext cx="168120" cy="168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Oval 6"/>
            <p:cNvSpPr/>
            <p:nvPr/>
          </p:nvSpPr>
          <p:spPr>
            <a:xfrm>
              <a:off x="8148600" y="1427040"/>
              <a:ext cx="168480" cy="168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19" name="AutoShape 7"/>
            <p:cNvCxnSpPr>
              <a:stCxn id="616" idx="7"/>
              <a:endCxn id="618" idx="3"/>
            </p:cNvCxnSpPr>
            <p:nvPr/>
          </p:nvCxnSpPr>
          <p:spPr>
            <a:xfrm flipV="1">
              <a:off x="7787880" y="1569240"/>
              <a:ext cx="384840" cy="470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620" name="AutoShape 8"/>
            <p:cNvCxnSpPr>
              <a:stCxn id="616" idx="5"/>
              <a:endCxn id="617" idx="2"/>
            </p:cNvCxnSpPr>
            <p:nvPr/>
          </p:nvCxnSpPr>
          <p:spPr>
            <a:xfrm>
              <a:off x="7787880" y="2158920"/>
              <a:ext cx="529200" cy="192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621" name="AutoShape 23"/>
            <p:cNvCxnSpPr>
              <a:stCxn id="617" idx="0"/>
              <a:endCxn id="618" idx="4"/>
            </p:cNvCxnSpPr>
            <p:nvPr/>
          </p:nvCxnSpPr>
          <p:spPr>
            <a:xfrm flipH="1" flipV="1">
              <a:off x="8232120" y="1594800"/>
              <a:ext cx="168840" cy="672120"/>
            </a:xfrm>
            <a:prstGeom prst="straightConnector1">
              <a:avLst/>
            </a:prstGeom>
            <a:ln w="12600">
              <a:solidFill>
                <a:srgbClr val="000066"/>
              </a:solidFill>
              <a:miter/>
            </a:ln>
          </p:spPr>
        </p:cxnSp>
      </p:grpSp>
      <p:sp>
        <p:nvSpPr>
          <p:cNvPr id="622" name="Date Placeholder 10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Slide Number Placeholder 11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A7C85539-8332-4391-B0C0-2966CC29E5E5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Footer Placeholder 1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Triangles</a:t>
            </a:r>
            <a:endParaRPr b="1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Naïve algo: 3-way join (slow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[Tsourakakis’08]: # triangles ~ sum of cubes of eigenvalu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us, super-fast computation of #triangles (100x - 25,000x faster than naïve; &gt;95% accuracy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Date Placeholder 12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IKM, 2008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Slide Number Placeholder 13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-</a:t>
            </a:r>
            <a:fld id="{76D13E9C-A820-4939-8BA2-B0DF82DE7699}" type="slidenum"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Footer Placeholder 1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8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Date Placeholder 6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29F14FD1-9C42-49CF-A1FE-354AF60AA831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Footer Placeholder 8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Triangles</a:t>
            </a:r>
            <a:endParaRPr b="1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Easy to implement on ``hadoop’’: it only needs eigenvalues (e.g., with Lanczos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Date Placeholder 5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IKM, 2008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-</a:t>
            </a:r>
            <a:fld id="{F65B87B7-FE6E-4434-80CD-A54972017762}" type="slidenum"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Footer Placeholder 7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8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Date Placeholder 6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69A04C9D-B3AE-425E-9F49-3CBE9EF60A8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Footer Placeholder 8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riangle Law: #1 </a:t>
            </a:r>
            <a:br>
              <a:rPr sz="49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[Tsourakakis ICDM 2008]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2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A5C48B71-31E2-441E-B068-D1EA3930F16C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43" name="Picture 2" descr=""/>
          <p:cNvPicPr/>
          <p:nvPr/>
        </p:nvPicPr>
        <p:blipFill>
          <a:blip r:embed="rId1"/>
          <a:srcRect l="0" t="4385" r="0" b="0"/>
          <a:stretch/>
        </p:blipFill>
        <p:spPr>
          <a:xfrm>
            <a:off x="1359000" y="2027160"/>
            <a:ext cx="3757680" cy="23907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"/>
          <p:cNvPicPr/>
          <p:nvPr/>
        </p:nvPicPr>
        <p:blipFill>
          <a:blip r:embed="rId2"/>
          <a:srcRect l="0" t="2808" r="0" b="0"/>
          <a:stretch/>
        </p:blipFill>
        <p:spPr>
          <a:xfrm>
            <a:off x="5421240" y="2027160"/>
            <a:ext cx="3714840" cy="23749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"/>
          <p:cNvPicPr/>
          <p:nvPr/>
        </p:nvPicPr>
        <p:blipFill>
          <a:blip r:embed="rId3"/>
          <a:srcRect l="0" t="5395" r="0" b="0"/>
          <a:stretch/>
        </p:blipFill>
        <p:spPr>
          <a:xfrm>
            <a:off x="1359000" y="4786200"/>
            <a:ext cx="3757680" cy="2405160"/>
          </a:xfrm>
          <a:prstGeom prst="rect">
            <a:avLst/>
          </a:prstGeom>
          <a:ln w="0">
            <a:noFill/>
          </a:ln>
        </p:spPr>
      </p:pic>
      <p:sp>
        <p:nvSpPr>
          <p:cNvPr id="646" name="TextBox 10"/>
          <p:cNvSpPr/>
          <p:nvPr/>
        </p:nvSpPr>
        <p:spPr>
          <a:xfrm>
            <a:off x="9069840" y="248436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S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TextBox 11"/>
          <p:cNvSpPr/>
          <p:nvPr/>
        </p:nvSpPr>
        <p:spPr>
          <a:xfrm>
            <a:off x="7200" y="24843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EP-T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TextBox 12"/>
          <p:cNvSpPr/>
          <p:nvPr/>
        </p:nvSpPr>
        <p:spPr>
          <a:xfrm>
            <a:off x="-23760" y="52275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pin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TextBox 13"/>
          <p:cNvSpPr/>
          <p:nvPr/>
        </p:nvSpPr>
        <p:spPr>
          <a:xfrm>
            <a:off x="5350680" y="5075280"/>
            <a:ext cx="473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X-axis: # of Triangl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 node participates i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-axis: count of such nod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Rectangle 14"/>
          <p:cNvSpPr/>
          <p:nvPr/>
        </p:nvSpPr>
        <p:spPr>
          <a:xfrm>
            <a:off x="2754360" y="423720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Rectangle 15"/>
          <p:cNvSpPr/>
          <p:nvPr/>
        </p:nvSpPr>
        <p:spPr>
          <a:xfrm>
            <a:off x="2754360" y="7056360"/>
            <a:ext cx="9907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52" name="Picture 14" descr="tsourakakis"/>
          <p:cNvPicPr/>
          <p:nvPr/>
        </p:nvPicPr>
        <p:blipFill>
          <a:blip r:embed="rId4"/>
          <a:srcRect l="16844" t="8422" r="16844" b="16844"/>
          <a:stretch/>
        </p:blipFill>
        <p:spPr>
          <a:xfrm>
            <a:off x="8393040" y="503280"/>
            <a:ext cx="1352520" cy="1523880"/>
          </a:xfrm>
          <a:prstGeom prst="rect">
            <a:avLst/>
          </a:prstGeom>
          <a:ln w="0">
            <a:noFill/>
          </a:ln>
        </p:spPr>
      </p:pic>
      <p:sp>
        <p:nvSpPr>
          <p:cNvPr id="653" name="Date Placeholder 1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Footer Placeholder 1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riangle Law: #2 </a:t>
            </a:r>
            <a:br>
              <a:rPr sz="49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[Tsourakakis ICDM 2008]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56" name="Slide Number Placeholder 6"/>
          <p:cNvSpPr/>
          <p:nvPr/>
        </p:nvSpPr>
        <p:spPr>
          <a:xfrm>
            <a:off x="7224840" y="701028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2908B052-0004-4E46-B653-C5D543D6CBB8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TextBox 10"/>
          <p:cNvSpPr/>
          <p:nvPr/>
        </p:nvSpPr>
        <p:spPr>
          <a:xfrm>
            <a:off x="9068400" y="248436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TextBox 11"/>
          <p:cNvSpPr/>
          <p:nvPr/>
        </p:nvSpPr>
        <p:spPr>
          <a:xfrm>
            <a:off x="6840" y="248436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ute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TextBox 12"/>
          <p:cNvSpPr/>
          <p:nvPr/>
        </p:nvSpPr>
        <p:spPr>
          <a:xfrm>
            <a:off x="-23760" y="52275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pin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TextBox 13"/>
          <p:cNvSpPr/>
          <p:nvPr/>
        </p:nvSpPr>
        <p:spPr>
          <a:xfrm>
            <a:off x="5708160" y="4987800"/>
            <a:ext cx="417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X-axis: degre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-axis: mean # triangl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otice: slope ~ degre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ponent (inset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14"/>
          <p:cNvSpPr/>
          <p:nvPr/>
        </p:nvSpPr>
        <p:spPr>
          <a:xfrm>
            <a:off x="2754360" y="423720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15"/>
          <p:cNvSpPr/>
          <p:nvPr/>
        </p:nvSpPr>
        <p:spPr>
          <a:xfrm>
            <a:off x="2754360" y="7056360"/>
            <a:ext cx="9907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63" name="Content Placeholder 3" descr="dtlpEpinions.png"/>
          <p:cNvPicPr/>
          <p:nvPr/>
        </p:nvPicPr>
        <p:blipFill>
          <a:blip r:embed="rId1"/>
          <a:stretch/>
        </p:blipFill>
        <p:spPr>
          <a:xfrm>
            <a:off x="1521000" y="4618080"/>
            <a:ext cx="3367080" cy="2500200"/>
          </a:xfrm>
          <a:prstGeom prst="rect">
            <a:avLst/>
          </a:prstGeom>
          <a:ln w="0">
            <a:noFill/>
          </a:ln>
        </p:spPr>
      </p:pic>
      <p:pic>
        <p:nvPicPr>
          <p:cNvPr id="664" name="Content Placeholder 3" descr="dtplReuters.png"/>
          <p:cNvPicPr/>
          <p:nvPr/>
        </p:nvPicPr>
        <p:blipFill>
          <a:blip r:embed="rId2"/>
          <a:stretch/>
        </p:blipFill>
        <p:spPr>
          <a:xfrm>
            <a:off x="1514520" y="2117880"/>
            <a:ext cx="3378240" cy="2500200"/>
          </a:xfrm>
          <a:prstGeom prst="rect">
            <a:avLst/>
          </a:prstGeom>
          <a:ln w="0">
            <a:noFill/>
          </a:ln>
        </p:spPr>
      </p:pic>
      <p:pic>
        <p:nvPicPr>
          <p:cNvPr id="665" name="Content Placeholder 3" descr="dtlpFlickr2.png"/>
          <p:cNvPicPr/>
          <p:nvPr/>
        </p:nvPicPr>
        <p:blipFill>
          <a:blip r:embed="rId3"/>
          <a:stretch/>
        </p:blipFill>
        <p:spPr>
          <a:xfrm>
            <a:off x="5497560" y="2125800"/>
            <a:ext cx="3375000" cy="2492280"/>
          </a:xfrm>
          <a:prstGeom prst="rect">
            <a:avLst/>
          </a:prstGeom>
          <a:ln w="0">
            <a:noFill/>
          </a:ln>
        </p:spPr>
      </p:pic>
      <p:sp>
        <p:nvSpPr>
          <p:cNvPr id="666" name="Date Placeholder 4"/>
          <p:cNvSpPr/>
          <p:nvPr/>
        </p:nvSpPr>
        <p:spPr>
          <a:xfrm>
            <a:off x="755640" y="701028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Footer Placeholder 5"/>
          <p:cNvSpPr/>
          <p:nvPr/>
        </p:nvSpPr>
        <p:spPr>
          <a:xfrm>
            <a:off x="3444840" y="701028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9330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Triangle Law: Computations </a:t>
            </a:r>
            <a:br>
              <a:rPr sz="54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[Tsourakakis ICDM 2008]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9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5540D9D2-0202-42C4-8A3D-A5FBD5FE4ED7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Rectangle 14"/>
          <p:cNvSpPr/>
          <p:nvPr/>
        </p:nvSpPr>
        <p:spPr>
          <a:xfrm>
            <a:off x="2754360" y="423720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375120" y="2738520"/>
            <a:ext cx="747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But: triangles are expensive to comput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(3-way join; several approx. algos)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Q: Can we do that quickly?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Footer Placeholder 6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9330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Triangle Law: Computations </a:t>
            </a:r>
            <a:br>
              <a:rPr sz="54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[Tsourakakis ICDM 2008]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75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BD64AF38-FDF4-4FCC-8A51-B0A5EEF7837F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Rectangle 14"/>
          <p:cNvSpPr/>
          <p:nvPr/>
        </p:nvSpPr>
        <p:spPr>
          <a:xfrm>
            <a:off x="2754360" y="423720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IKM’08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71520" y="2738520"/>
            <a:ext cx="9317160" cy="45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But: triangles are expensive to comput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(3-way join; several approx. algos)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Q: Can we do that quickly?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: Yes!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#triangles = 1/6 Sum ( </a:t>
            </a:r>
            <a:r>
              <a:rPr b="1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en-US" sz="3600" spc="-1" strike="noStrike" baseline="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)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(and, because of skewness, we only need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he top few eigenvalues!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Date Placeholder 6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D3BF1AD1-8029-4E47-82F2-C3833E48BE70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Footer Placeholder 8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9330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Triangle Law: Computations </a:t>
            </a:r>
            <a:br>
              <a:rPr sz="54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[Tsourakakis ICDM 2008]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3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0F614BD2-DEC2-4DF0-BA79-CA0F7639EF01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Rectangle 14"/>
          <p:cNvSpPr/>
          <p:nvPr/>
        </p:nvSpPr>
        <p:spPr>
          <a:xfrm>
            <a:off x="2754360" y="423720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85" name="Content Placeholder 3" descr="wikipedia_2006_11_04.png"/>
          <p:cNvPicPr/>
          <p:nvPr/>
        </p:nvPicPr>
        <p:blipFill>
          <a:blip r:embed="rId1"/>
          <a:stretch/>
        </p:blipFill>
        <p:spPr>
          <a:xfrm>
            <a:off x="1801800" y="1920960"/>
            <a:ext cx="6210360" cy="4525920"/>
          </a:xfrm>
          <a:prstGeom prst="rect">
            <a:avLst/>
          </a:prstGeom>
          <a:ln w="0">
            <a:noFill/>
          </a:ln>
        </p:spPr>
      </p:pic>
      <p:sp>
        <p:nvSpPr>
          <p:cNvPr id="686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IKM’08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2516760" y="6435720"/>
            <a:ext cx="549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000x+ speed-up, high accurac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Date Placeholder 7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82EF615B-0C7E-4F68-AFCF-F109292B26B6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Footer Placeholder 9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But: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1: How about graphs from other domain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2: How about temporal evolution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1B8AC296-25E8-419A-BBAB-42D8B25BA78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55640" y="579240"/>
            <a:ext cx="856944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he Peer-to-Peer Topology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699" name="Picture 3" descr=""/>
          <p:cNvPicPr/>
          <p:nvPr/>
        </p:nvPicPr>
        <p:blipFill>
          <a:blip r:embed="rId1"/>
          <a:stretch/>
        </p:blipFill>
        <p:spPr>
          <a:xfrm>
            <a:off x="2184480" y="1511280"/>
            <a:ext cx="4124160" cy="420228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4360" y="5798880"/>
            <a:ext cx="9068040" cy="117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requency versus degree 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Number of adjacent peers follows a power-law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6652800" y="4875120"/>
            <a:ext cx="1950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Jovanovic+]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DDEB006A-4446-4989-A6B9-833AB9C8D923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Graph structure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hysical network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hysical Interne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elephone lin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ommodity distribution network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F4664678-3E96-4467-A477-EB9A60C8659C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More Power law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lso hold for other web graphs [Barabasi+, ‘99], [Kumar+, ‘99] with additional ‘rules’ (bi-partite cores follow power laws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6C1EE709-669A-4311-AC84-428A8D24D801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ime Evolution: rank </a:t>
            </a:r>
            <a:r>
              <a:rPr b="1" i="1" lang="en-US" sz="4900" spc="-1" strike="noStrike">
                <a:solidFill>
                  <a:srgbClr val="a50021"/>
                </a:solidFill>
                <a:latin typeface="Times New Roman"/>
              </a:rPr>
              <a:t>R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711" name="Object 1024"/>
          <p:cNvGraphicFramePr/>
          <p:nvPr/>
        </p:nvGraphicFramePr>
        <p:xfrm>
          <a:off x="1461960" y="2287440"/>
          <a:ext cx="6442200" cy="34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2287440"/>
                    <a:ext cx="64422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Rectangle 4"/>
          <p:cNvSpPr/>
          <p:nvPr/>
        </p:nvSpPr>
        <p:spPr>
          <a:xfrm>
            <a:off x="609480" y="6058080"/>
            <a:ext cx="8610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he rank exponent has not changed! [Siganos+, ‘03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8385840" y="2824200"/>
            <a:ext cx="13071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</a:rPr>
              <a:t>Domain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</a:rPr>
              <a:t>level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4404960" y="5501520"/>
            <a:ext cx="36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#days since Nov. ‘97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Slide Number Placeholder 9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FD403F63-6507-4DCF-8B61-9D570BB2071D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pology &amp;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’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tatic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volving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eighted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enerator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scussion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AutoShape 4"/>
          <p:cNvSpPr/>
          <p:nvPr/>
        </p:nvSpPr>
        <p:spPr>
          <a:xfrm>
            <a:off x="316080" y="28656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4B6DE29D-5A4F-4E61-B118-E658D5FBEC9F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Any other ‘laws’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Yes!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5500711B-CEED-4877-A781-CEE19F422652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Any other ‘laws’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Yes!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mall diameter (~ constant!) –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ix degrees of separation / ‘Kevin Bacon’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mall worlds [Watts and Strogatz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D5B5B404-9987-4E46-91C2-2BB10C24F156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Any other ‘laws’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3940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Bow-tie, for the web [Kumar+ ‘99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N, SCC, OUT, ‘tendrils’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sconnected components</a:t>
            </a:r>
            <a:br>
              <a:rPr sz="3500"/>
            </a:b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37" name="Picture 1028" descr="bowtie"/>
          <p:cNvPicPr/>
          <p:nvPr/>
        </p:nvPicPr>
        <p:blipFill>
          <a:blip r:embed="rId1"/>
          <a:stretch/>
        </p:blipFill>
        <p:spPr>
          <a:xfrm>
            <a:off x="5486400" y="3205080"/>
            <a:ext cx="4518000" cy="3408480"/>
          </a:xfrm>
          <a:prstGeom prst="rect">
            <a:avLst/>
          </a:prstGeom>
          <a:ln w="0">
            <a:noFill/>
          </a:ln>
        </p:spPr>
      </p:pic>
      <p:sp>
        <p:nvSpPr>
          <p:cNvPr id="738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45253430-74B7-44F0-A609-13EA20AD3480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Any other ‘laws’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3940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-laws in communities (bi-partite cores) [Kumar+, ‘99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Oval 5"/>
          <p:cNvSpPr/>
          <p:nvPr/>
        </p:nvSpPr>
        <p:spPr>
          <a:xfrm>
            <a:off x="6716880" y="3659040"/>
            <a:ext cx="304560" cy="27324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Oval 6"/>
          <p:cNvSpPr/>
          <p:nvPr/>
        </p:nvSpPr>
        <p:spPr>
          <a:xfrm>
            <a:off x="6716880" y="4541760"/>
            <a:ext cx="304560" cy="27144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Oval 11"/>
          <p:cNvSpPr/>
          <p:nvPr/>
        </p:nvSpPr>
        <p:spPr>
          <a:xfrm>
            <a:off x="7631280" y="4084560"/>
            <a:ext cx="306360" cy="27324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Oval 12"/>
          <p:cNvSpPr/>
          <p:nvPr/>
        </p:nvSpPr>
        <p:spPr>
          <a:xfrm>
            <a:off x="7631280" y="4998960"/>
            <a:ext cx="306360" cy="27324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Oval 13"/>
          <p:cNvSpPr/>
          <p:nvPr/>
        </p:nvSpPr>
        <p:spPr>
          <a:xfrm>
            <a:off x="7631280" y="3354480"/>
            <a:ext cx="306360" cy="27288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748" name="AutoShape 14"/>
          <p:cNvCxnSpPr>
            <a:stCxn id="743" idx="7"/>
            <a:endCxn id="747" idx="2"/>
          </p:cNvCxnSpPr>
          <p:nvPr/>
        </p:nvCxnSpPr>
        <p:spPr>
          <a:xfrm flipV="1">
            <a:off x="6977160" y="3490200"/>
            <a:ext cx="635760" cy="18972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749" name="AutoShape 15"/>
          <p:cNvCxnSpPr>
            <a:stCxn id="743" idx="6"/>
            <a:endCxn id="745" idx="2"/>
          </p:cNvCxnSpPr>
          <p:nvPr/>
        </p:nvCxnSpPr>
        <p:spPr>
          <a:xfrm>
            <a:off x="7040520" y="3795480"/>
            <a:ext cx="572400" cy="42588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750" name="AutoShape 16"/>
          <p:cNvCxnSpPr>
            <a:stCxn id="743" idx="4"/>
            <a:endCxn id="746" idx="1"/>
          </p:cNvCxnSpPr>
          <p:nvPr/>
        </p:nvCxnSpPr>
        <p:spPr>
          <a:xfrm>
            <a:off x="6869160" y="3951360"/>
            <a:ext cx="807120" cy="106920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751" name="AutoShape 17"/>
          <p:cNvCxnSpPr>
            <a:stCxn id="744" idx="7"/>
            <a:endCxn id="747" idx="3"/>
          </p:cNvCxnSpPr>
          <p:nvPr/>
        </p:nvCxnSpPr>
        <p:spPr>
          <a:xfrm flipV="1">
            <a:off x="6977160" y="3606120"/>
            <a:ext cx="699120" cy="95652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752" name="AutoShape 18"/>
          <p:cNvCxnSpPr>
            <a:stCxn id="744" idx="6"/>
            <a:endCxn id="745" idx="3"/>
          </p:cNvCxnSpPr>
          <p:nvPr/>
        </p:nvCxnSpPr>
        <p:spPr>
          <a:xfrm flipV="1">
            <a:off x="7040520" y="4336560"/>
            <a:ext cx="635760" cy="34200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753" name="AutoShape 19"/>
          <p:cNvCxnSpPr>
            <a:stCxn id="744" idx="5"/>
            <a:endCxn id="746" idx="2"/>
          </p:cNvCxnSpPr>
          <p:nvPr/>
        </p:nvCxnSpPr>
        <p:spPr>
          <a:xfrm>
            <a:off x="6977160" y="4792680"/>
            <a:ext cx="635760" cy="34344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754" name="Text Box 20"/>
          <p:cNvSpPr/>
          <p:nvPr/>
        </p:nvSpPr>
        <p:spPr>
          <a:xfrm>
            <a:off x="6378840" y="5475240"/>
            <a:ext cx="1893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:3 cor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m:n core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Rectangle 21"/>
          <p:cNvSpPr/>
          <p:nvPr/>
        </p:nvSpPr>
        <p:spPr>
          <a:xfrm>
            <a:off x="1382760" y="3780000"/>
            <a:ext cx="4570200" cy="2438280"/>
          </a:xfrm>
          <a:prstGeom prst="rect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Text Box 22"/>
          <p:cNvSpPr/>
          <p:nvPr/>
        </p:nvSpPr>
        <p:spPr>
          <a:xfrm>
            <a:off x="3491640" y="6237360"/>
            <a:ext cx="1428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og(m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23"/>
          <p:cNvSpPr/>
          <p:nvPr/>
        </p:nvSpPr>
        <p:spPr>
          <a:xfrm>
            <a:off x="388440" y="3139920"/>
            <a:ext cx="201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og(count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Line 24"/>
          <p:cNvSpPr/>
          <p:nvPr/>
        </p:nvSpPr>
        <p:spPr>
          <a:xfrm>
            <a:off x="2297160" y="4084560"/>
            <a:ext cx="2971800" cy="129564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Line 25"/>
          <p:cNvSpPr/>
          <p:nvPr/>
        </p:nvSpPr>
        <p:spPr>
          <a:xfrm>
            <a:off x="2143080" y="4465800"/>
            <a:ext cx="2975040" cy="1295280"/>
          </a:xfrm>
          <a:prstGeom prst="line">
            <a:avLst/>
          </a:prstGeom>
          <a:ln cap="sq"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Line 26"/>
          <p:cNvSpPr/>
          <p:nvPr/>
        </p:nvSpPr>
        <p:spPr>
          <a:xfrm>
            <a:off x="1992240" y="4770360"/>
            <a:ext cx="2970360" cy="1295640"/>
          </a:xfrm>
          <a:prstGeom prst="line">
            <a:avLst/>
          </a:prstGeom>
          <a:ln cap="sq"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Text Box 27"/>
          <p:cNvSpPr/>
          <p:nvPr/>
        </p:nvSpPr>
        <p:spPr>
          <a:xfrm>
            <a:off x="3393360" y="3798720"/>
            <a:ext cx="70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: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Text Box 28"/>
          <p:cNvSpPr/>
          <p:nvPr/>
        </p:nvSpPr>
        <p:spPr>
          <a:xfrm>
            <a:off x="5098320" y="5410080"/>
            <a:ext cx="70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n:2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Text Box 29"/>
          <p:cNvSpPr/>
          <p:nvPr/>
        </p:nvSpPr>
        <p:spPr>
          <a:xfrm>
            <a:off x="2905920" y="5380200"/>
            <a:ext cx="70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Times New Roman"/>
              </a:rPr>
              <a:t>n:3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Slide Number Placeholder 2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2ABDF404-A1CC-47F8-AC51-DEE8C96CE142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Any other ‘laws’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3940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Jellyfish” for Internet [Tauro+ ’01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ore: ~cliqu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~5 concentric layer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many 1-degree nod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Oval 1029"/>
          <p:cNvSpPr/>
          <p:nvPr/>
        </p:nvSpPr>
        <p:spPr>
          <a:xfrm>
            <a:off x="5711760" y="3024360"/>
            <a:ext cx="3863880" cy="327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Oval 1030"/>
          <p:cNvSpPr/>
          <p:nvPr/>
        </p:nvSpPr>
        <p:spPr>
          <a:xfrm>
            <a:off x="6048360" y="3443400"/>
            <a:ext cx="250920" cy="25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Oval 1031"/>
          <p:cNvSpPr/>
          <p:nvPr/>
        </p:nvSpPr>
        <p:spPr>
          <a:xfrm>
            <a:off x="8483760" y="3192480"/>
            <a:ext cx="252360" cy="250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Oval 1032"/>
          <p:cNvSpPr/>
          <p:nvPr/>
        </p:nvSpPr>
        <p:spPr>
          <a:xfrm>
            <a:off x="9407520" y="4956120"/>
            <a:ext cx="252360" cy="250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Oval 1033"/>
          <p:cNvSpPr/>
          <p:nvPr/>
        </p:nvSpPr>
        <p:spPr>
          <a:xfrm>
            <a:off x="8820000" y="5796000"/>
            <a:ext cx="252720" cy="250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Oval 1034"/>
          <p:cNvSpPr/>
          <p:nvPr/>
        </p:nvSpPr>
        <p:spPr>
          <a:xfrm>
            <a:off x="7391520" y="6215040"/>
            <a:ext cx="252360" cy="25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Oval 1035"/>
          <p:cNvSpPr/>
          <p:nvPr/>
        </p:nvSpPr>
        <p:spPr>
          <a:xfrm>
            <a:off x="5964120" y="5459400"/>
            <a:ext cx="250920" cy="25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Oval 1036"/>
          <p:cNvSpPr/>
          <p:nvPr/>
        </p:nvSpPr>
        <p:spPr>
          <a:xfrm>
            <a:off x="6383160" y="3611520"/>
            <a:ext cx="2521080" cy="2100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Oval 1037"/>
          <p:cNvSpPr/>
          <p:nvPr/>
        </p:nvSpPr>
        <p:spPr>
          <a:xfrm>
            <a:off x="7056360" y="5543640"/>
            <a:ext cx="250920" cy="25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Oval 1038"/>
          <p:cNvSpPr/>
          <p:nvPr/>
        </p:nvSpPr>
        <p:spPr>
          <a:xfrm>
            <a:off x="6299280" y="4200480"/>
            <a:ext cx="252360" cy="250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Oval 1039"/>
          <p:cNvSpPr/>
          <p:nvPr/>
        </p:nvSpPr>
        <p:spPr>
          <a:xfrm>
            <a:off x="7980480" y="3611520"/>
            <a:ext cx="250560" cy="25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Oval 1040"/>
          <p:cNvSpPr/>
          <p:nvPr/>
        </p:nvSpPr>
        <p:spPr>
          <a:xfrm>
            <a:off x="8483760" y="5207040"/>
            <a:ext cx="252360" cy="25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Oval 1041"/>
          <p:cNvSpPr/>
          <p:nvPr/>
        </p:nvSpPr>
        <p:spPr>
          <a:xfrm>
            <a:off x="7140600" y="4200480"/>
            <a:ext cx="1008000" cy="839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Oval 1042"/>
          <p:cNvSpPr/>
          <p:nvPr/>
        </p:nvSpPr>
        <p:spPr>
          <a:xfrm>
            <a:off x="7559640" y="4116240"/>
            <a:ext cx="252360" cy="250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Oval 1043"/>
          <p:cNvSpPr/>
          <p:nvPr/>
        </p:nvSpPr>
        <p:spPr>
          <a:xfrm>
            <a:off x="7812000" y="4871880"/>
            <a:ext cx="252360" cy="252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Oval 1044"/>
          <p:cNvSpPr/>
          <p:nvPr/>
        </p:nvSpPr>
        <p:spPr>
          <a:xfrm>
            <a:off x="7140600" y="4788000"/>
            <a:ext cx="250920" cy="25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Line 1045"/>
          <p:cNvSpPr/>
          <p:nvPr/>
        </p:nvSpPr>
        <p:spPr>
          <a:xfrm flipV="1">
            <a:off x="7643880" y="3695760"/>
            <a:ext cx="504720" cy="504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Line 1046"/>
          <p:cNvSpPr/>
          <p:nvPr/>
        </p:nvSpPr>
        <p:spPr>
          <a:xfrm flipH="1">
            <a:off x="6467400" y="4200480"/>
            <a:ext cx="1176480" cy="82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Line 1047"/>
          <p:cNvSpPr/>
          <p:nvPr/>
        </p:nvSpPr>
        <p:spPr>
          <a:xfrm flipH="1">
            <a:off x="7140240" y="4956120"/>
            <a:ext cx="82440" cy="755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Line 1048"/>
          <p:cNvSpPr/>
          <p:nvPr/>
        </p:nvSpPr>
        <p:spPr>
          <a:xfrm>
            <a:off x="7980480" y="5040360"/>
            <a:ext cx="587160" cy="250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Line 1049"/>
          <p:cNvSpPr/>
          <p:nvPr/>
        </p:nvSpPr>
        <p:spPr>
          <a:xfrm>
            <a:off x="8651880" y="5375160"/>
            <a:ext cx="336600" cy="5889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Line 1050"/>
          <p:cNvSpPr/>
          <p:nvPr/>
        </p:nvSpPr>
        <p:spPr>
          <a:xfrm flipV="1">
            <a:off x="8651880" y="5124600"/>
            <a:ext cx="839880" cy="250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Line 1051"/>
          <p:cNvSpPr/>
          <p:nvPr/>
        </p:nvSpPr>
        <p:spPr>
          <a:xfrm flipV="1">
            <a:off x="8148600" y="3360240"/>
            <a:ext cx="419040" cy="250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Line 1052"/>
          <p:cNvSpPr/>
          <p:nvPr/>
        </p:nvSpPr>
        <p:spPr>
          <a:xfrm flipH="1" flipV="1">
            <a:off x="7391160" y="3108240"/>
            <a:ext cx="672840" cy="503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Line 1053"/>
          <p:cNvSpPr/>
          <p:nvPr/>
        </p:nvSpPr>
        <p:spPr>
          <a:xfrm flipH="1" flipV="1">
            <a:off x="6214680" y="3695400"/>
            <a:ext cx="252360" cy="6714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Line 1054"/>
          <p:cNvSpPr/>
          <p:nvPr/>
        </p:nvSpPr>
        <p:spPr>
          <a:xfrm>
            <a:off x="7140600" y="5711760"/>
            <a:ext cx="334800" cy="5875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Line 1055"/>
          <p:cNvSpPr/>
          <p:nvPr/>
        </p:nvSpPr>
        <p:spPr>
          <a:xfrm flipH="1" flipV="1">
            <a:off x="6132600" y="5543280"/>
            <a:ext cx="923760" cy="168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Oval 1056"/>
          <p:cNvSpPr/>
          <p:nvPr/>
        </p:nvSpPr>
        <p:spPr>
          <a:xfrm>
            <a:off x="7223040" y="2940120"/>
            <a:ext cx="252360" cy="25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797" name="AutoShape 1058"/>
          <p:cNvCxnSpPr>
            <a:stCxn id="784" idx="0"/>
            <a:endCxn id="782" idx="4"/>
          </p:cNvCxnSpPr>
          <p:nvPr/>
        </p:nvCxnSpPr>
        <p:spPr>
          <a:xfrm flipV="1">
            <a:off x="7265520" y="4366440"/>
            <a:ext cx="421560" cy="42156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</a:ln>
        </p:spPr>
      </p:cxnSp>
      <p:cxnSp>
        <p:nvCxnSpPr>
          <p:cNvPr id="798" name="AutoShape 1059"/>
          <p:cNvCxnSpPr>
            <a:stCxn id="782" idx="4"/>
            <a:endCxn id="783" idx="0"/>
          </p:cNvCxnSpPr>
          <p:nvPr/>
        </p:nvCxnSpPr>
        <p:spPr>
          <a:xfrm>
            <a:off x="7686360" y="4367160"/>
            <a:ext cx="253080" cy="50544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</a:ln>
        </p:spPr>
      </p:cxnSp>
      <p:cxnSp>
        <p:nvCxnSpPr>
          <p:cNvPr id="799" name="AutoShape 1060"/>
          <p:cNvCxnSpPr>
            <a:stCxn id="784" idx="6"/>
            <a:endCxn id="783" idx="2"/>
          </p:cNvCxnSpPr>
          <p:nvPr/>
        </p:nvCxnSpPr>
        <p:spPr>
          <a:xfrm>
            <a:off x="7391520" y="4914720"/>
            <a:ext cx="421200" cy="8460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</a:ln>
        </p:spPr>
      </p:cxnSp>
      <p:sp>
        <p:nvSpPr>
          <p:cNvPr id="800" name="Slide Number Placeholder 3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2F527BAF-5EFE-4A1E-9EA7-C594E2FA9A6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Summary of ‘laws’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 laws for degree distribution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…………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... for eigenvalues, bi-partite cor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riangle law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mall diameter (‘6 degrees’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Bow-tie’ for web; ‘jelly-fish’ for interne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DEE72FF2-423A-47A9-9338-E858C0D7BADB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pology &amp;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’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tatic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volving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eighted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enerator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scussion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AutoShape 4"/>
          <p:cNvSpPr/>
          <p:nvPr/>
        </p:nvSpPr>
        <p:spPr>
          <a:xfrm>
            <a:off x="316080" y="347508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A96B97A6-9EA7-45FA-BAFB-79C7FBECFFA3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Networks derived from "behavior"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elephone call pattern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Email, Blogs, Web, Databases, XM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nguage processing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Web of trust, epinion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6179EBDB-F161-42AE-9A8F-DACA1B13D6CF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Evolution of diameter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rior analysis, on power-law-like graphs, hints tha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ameter ~ O(log(N))     o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ameter ~ O( log(log(N))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.e.., slowly increasing with network siz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What is happening, in reality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61A924DE-5A59-4BD0-9F7E-D260F13D77AA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Evolution of diameter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rior analysis, on power-law-like graphs, hints tha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ameter ~ O(log(N))     o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ameter ~ O( log(log(N))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.e.., slowly increasing with network siz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What is happening, in reality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: It </a:t>
            </a: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shrinks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(!!), towards a constant valu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AutoShape 4"/>
          <p:cNvSpPr/>
          <p:nvPr/>
        </p:nvSpPr>
        <p:spPr>
          <a:xfrm>
            <a:off x="4278240" y="3398760"/>
            <a:ext cx="2210040" cy="1981440"/>
          </a:xfrm>
          <a:prstGeom prst="pie">
            <a:avLst/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BB3BA4CC-FF3D-4E36-8D08-DB29286F5E48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Shrinking diameter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Leskovec+05a]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itations among physics papers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11yrs; @ 2003: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9,555 pap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52,807 cita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For each month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, create a graph of all citations up to month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27" name="Picture 4" descr=""/>
          <p:cNvPicPr/>
          <p:nvPr/>
        </p:nvPicPr>
        <p:blipFill>
          <a:blip r:embed="rId1"/>
          <a:stretch/>
        </p:blipFill>
        <p:spPr>
          <a:xfrm>
            <a:off x="5118120" y="2719440"/>
            <a:ext cx="4206960" cy="346536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5"/>
          <p:cNvSpPr/>
          <p:nvPr/>
        </p:nvSpPr>
        <p:spPr>
          <a:xfrm>
            <a:off x="7519680" y="636984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4473360" y="202644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Slide Number Placeholder 9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FF9964A2-3019-4565-8F6A-3CBA9D3D9E4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Shrinking diameter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1"/>
          <a:stretch/>
        </p:blipFill>
        <p:spPr>
          <a:xfrm>
            <a:off x="5118120" y="2651040"/>
            <a:ext cx="4206960" cy="360216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4"/>
          <p:cNvSpPr/>
          <p:nvPr/>
        </p:nvSpPr>
        <p:spPr>
          <a:xfrm>
            <a:off x="671400" y="1763640"/>
            <a:ext cx="36133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uthors &amp; publication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992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318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272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2002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60,000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2" marL="1260360" indent="-25236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20,000 author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2" marL="1260360" indent="-25236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38,000 paper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133,000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D6848007-6A12-49CB-A86D-C9523DD7254A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Shrinking diameter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40" name="Picture 3" descr=""/>
          <p:cNvPicPr/>
          <p:nvPr/>
        </p:nvPicPr>
        <p:blipFill>
          <a:blip r:embed="rId1"/>
          <a:srcRect l="0" t="0" r="1227" b="0"/>
          <a:stretch/>
        </p:blipFill>
        <p:spPr>
          <a:xfrm>
            <a:off x="5118120" y="2735280"/>
            <a:ext cx="4156200" cy="3433680"/>
          </a:xfrm>
          <a:prstGeom prst="rect">
            <a:avLst/>
          </a:prstGeom>
          <a:ln w="0">
            <a:noFill/>
          </a:ln>
        </p:spPr>
      </p:pic>
      <p:sp>
        <p:nvSpPr>
          <p:cNvPr id="841" name="Rectangle 4"/>
          <p:cNvSpPr/>
          <p:nvPr/>
        </p:nvSpPr>
        <p:spPr>
          <a:xfrm>
            <a:off x="504720" y="1847880"/>
            <a:ext cx="378000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Patents &amp; citation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975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334,000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676,000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999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2.9 million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16.5 million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ach year is a datapoint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DDDC5E5B-7A97-4483-98E1-181CC7D403B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Shrinking diameter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46" name="Picture 3" descr=""/>
          <p:cNvPicPr/>
          <p:nvPr/>
        </p:nvPicPr>
        <p:blipFill>
          <a:blip r:embed="rId1"/>
          <a:srcRect l="0" t="0" r="1227" b="0"/>
          <a:stretch/>
        </p:blipFill>
        <p:spPr>
          <a:xfrm>
            <a:off x="5118120" y="2743200"/>
            <a:ext cx="4156200" cy="3416400"/>
          </a:xfrm>
          <a:prstGeom prst="rect">
            <a:avLst/>
          </a:prstGeom>
          <a:ln w="0">
            <a:noFill/>
          </a:ln>
        </p:spPr>
      </p:pic>
      <p:sp>
        <p:nvSpPr>
          <p:cNvPr id="847" name="Rectangle 4"/>
          <p:cNvSpPr/>
          <p:nvPr/>
        </p:nvSpPr>
        <p:spPr>
          <a:xfrm>
            <a:off x="420840" y="1847880"/>
            <a:ext cx="361152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utonomous system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997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3,000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10,000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2000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6,000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26,000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One graph per day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Text Box 5"/>
          <p:cNvSpPr/>
          <p:nvPr/>
        </p:nvSpPr>
        <p:spPr>
          <a:xfrm>
            <a:off x="7782480" y="614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Text Box 6"/>
          <p:cNvSpPr/>
          <p:nvPr/>
        </p:nvSpPr>
        <p:spPr>
          <a:xfrm>
            <a:off x="4168440" y="225504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Slide Number Placeholder 9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861D4D12-82C6-40FB-873E-AD468D4702F9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emporal evolution of graph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755280" y="2184480"/>
            <a:ext cx="6940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N(t) nodes; E(t) edges at time 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uppose that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N(t+1) = 2 * N(t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what is your guess for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E(t+1) =? 2 * E(t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6CBCE932-9EB7-4325-8795-9F8C3F4B3EB8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emporal evolution of graph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755280" y="2184480"/>
            <a:ext cx="6940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N(t) nodes; E(t) edges at time 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uppose that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N(t+1) = 2 * N(t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what is your guess for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E(t+1) =? 2 * E(t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: over-doubled!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WordArt 4"/>
          <p:cNvSpPr txBox="1"/>
          <p:nvPr/>
        </p:nvSpPr>
        <p:spPr>
          <a:xfrm>
            <a:off x="4276800" y="4809960"/>
            <a:ext cx="534960" cy="5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x</a:t>
            </a:r>
            <a:endParaRPr b="0" lang="en-US" sz="3200" spc="1" strike="noStrike">
              <a:ln cap="sq"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</p:txBody>
      </p:sp>
      <p:sp>
        <p:nvSpPr>
          <p:cNvPr id="861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ABD5BDC6-C275-4FC4-B1A6-FFC0B6FC3206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Temporal evolution of graph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7710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: over-doubled - but obeying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E(t) ~ N(t)</a:t>
            </a:r>
            <a:r>
              <a:rPr b="0" i="1" lang="en-US" sz="3500" spc="-1" strike="noStrike" baseline="30000">
                <a:solidFill>
                  <a:srgbClr val="000066"/>
                </a:solidFill>
                <a:latin typeface="Times New Roman"/>
              </a:rPr>
              <a:t>a      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r all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 t</a:t>
            </a:r>
            <a:r>
              <a:rPr b="0" i="1" lang="en-US" sz="3500" spc="-1" strike="noStrike" baseline="30000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0">
              <a:spcBef>
                <a:spcPts val="8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Times New Roman"/>
              </a:rPr>
              <a:t>where 1&lt;</a:t>
            </a:r>
            <a:r>
              <a:rPr b="0" i="1" lang="en-US" sz="34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400" spc="-1" strike="noStrike">
                <a:solidFill>
                  <a:srgbClr val="000066"/>
                </a:solidFill>
                <a:latin typeface="Times New Roman"/>
              </a:rPr>
              <a:t>&lt;2</a:t>
            </a:r>
            <a:endParaRPr b="0" lang="en-US" sz="3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Rectangle 4"/>
          <p:cNvSpPr/>
          <p:nvPr/>
        </p:nvSpPr>
        <p:spPr>
          <a:xfrm>
            <a:off x="2362320" y="2789280"/>
            <a:ext cx="5180040" cy="685800"/>
          </a:xfrm>
          <a:prstGeom prst="rect">
            <a:avLst/>
          </a:prstGeom>
          <a:noFill/>
          <a:ln cap="sq"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D47820BE-C1FB-4FC1-8FD8-F9542CA443E7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71" name="Picture 3" descr=""/>
          <p:cNvPicPr/>
          <p:nvPr/>
        </p:nvPicPr>
        <p:blipFill>
          <a:blip r:embed="rId1"/>
          <a:srcRect l="0" t="0" r="1249" b="0"/>
          <a:stretch/>
        </p:blipFill>
        <p:spPr>
          <a:xfrm>
            <a:off x="5118120" y="2575080"/>
            <a:ext cx="4206960" cy="3755880"/>
          </a:xfrm>
          <a:prstGeom prst="rect">
            <a:avLst/>
          </a:prstGeom>
          <a:ln w="0">
            <a:noFill/>
          </a:ln>
        </p:spPr>
      </p:pic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rXiv: Physics pape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their cit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Line 5"/>
          <p:cNvSpPr/>
          <p:nvPr/>
        </p:nvSpPr>
        <p:spPr>
          <a:xfrm>
            <a:off x="7542360" y="4114800"/>
            <a:ext cx="76356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Text Box 6"/>
          <p:cNvSpPr/>
          <p:nvPr/>
        </p:nvSpPr>
        <p:spPr>
          <a:xfrm>
            <a:off x="7704360" y="359712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69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75" name="Group 7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876" name="Text Box 8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Text Box 9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78" name="Slide Number Placeholder 12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0916328E-F4F8-4C81-82E5-3C971E5BA824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art 1: Patter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art 2: Matrix and Tensor Tool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art 3: Proximity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art 4: Case Studi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316080" y="24084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8A0D7CC6-88D9-48D7-8E9C-BC48B833CDEF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82" name="Picture 3" descr=""/>
          <p:cNvPicPr/>
          <p:nvPr/>
        </p:nvPicPr>
        <p:blipFill>
          <a:blip r:embed="rId1"/>
          <a:srcRect l="0" t="0" r="1249" b="0"/>
          <a:stretch/>
        </p:blipFill>
        <p:spPr>
          <a:xfrm>
            <a:off x="5118120" y="2575080"/>
            <a:ext cx="4206960" cy="3755880"/>
          </a:xfrm>
          <a:prstGeom prst="rect">
            <a:avLst/>
          </a:prstGeom>
          <a:ln w="0">
            <a:noFill/>
          </a:ln>
        </p:spPr>
      </p:pic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rXiv: Physics pape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their cit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Line 5"/>
          <p:cNvSpPr/>
          <p:nvPr/>
        </p:nvSpPr>
        <p:spPr>
          <a:xfrm>
            <a:off x="7542360" y="4114800"/>
            <a:ext cx="76356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 Box 6"/>
          <p:cNvSpPr/>
          <p:nvPr/>
        </p:nvSpPr>
        <p:spPr>
          <a:xfrm>
            <a:off x="7704360" y="359712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69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86" name="Group 7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887" name="Text Box 8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Text Box 9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9" name="Line 10"/>
          <p:cNvSpPr/>
          <p:nvPr/>
        </p:nvSpPr>
        <p:spPr>
          <a:xfrm flipV="1">
            <a:off x="7021440" y="3780000"/>
            <a:ext cx="2057400" cy="12952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Text Box 11"/>
          <p:cNvSpPr/>
          <p:nvPr/>
        </p:nvSpPr>
        <p:spPr>
          <a:xfrm>
            <a:off x="8074080" y="43038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ree’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Line 12"/>
          <p:cNvSpPr/>
          <p:nvPr/>
        </p:nvSpPr>
        <p:spPr>
          <a:xfrm>
            <a:off x="8850240" y="4008600"/>
            <a:ext cx="457200" cy="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Text Box 13"/>
          <p:cNvSpPr/>
          <p:nvPr/>
        </p:nvSpPr>
        <p:spPr>
          <a:xfrm>
            <a:off x="9280440" y="346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Slide Number Placeholder 1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DD584B80-66F8-4D79-8F79-AE46056505D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97" name="Picture 3" descr=""/>
          <p:cNvPicPr/>
          <p:nvPr/>
        </p:nvPicPr>
        <p:blipFill>
          <a:blip r:embed="rId1"/>
          <a:srcRect l="0" t="0" r="1249" b="0"/>
          <a:stretch/>
        </p:blipFill>
        <p:spPr>
          <a:xfrm>
            <a:off x="5118120" y="2575080"/>
            <a:ext cx="4206960" cy="375588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rXiv: Physics pape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their cit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Line 5"/>
          <p:cNvSpPr/>
          <p:nvPr/>
        </p:nvSpPr>
        <p:spPr>
          <a:xfrm>
            <a:off x="7542360" y="4114800"/>
            <a:ext cx="76356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Text Box 6"/>
          <p:cNvSpPr/>
          <p:nvPr/>
        </p:nvSpPr>
        <p:spPr>
          <a:xfrm>
            <a:off x="7704360" y="359712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69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01" name="Group 7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902" name="Text Box 8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Text Box 9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04" name="Line 10"/>
          <p:cNvSpPr/>
          <p:nvPr/>
        </p:nvSpPr>
        <p:spPr>
          <a:xfrm flipV="1">
            <a:off x="6259680" y="2636640"/>
            <a:ext cx="1523880" cy="205740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Text Box 11"/>
          <p:cNvSpPr/>
          <p:nvPr/>
        </p:nvSpPr>
        <p:spPr>
          <a:xfrm>
            <a:off x="6246360" y="2560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lique’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Line 12"/>
          <p:cNvSpPr/>
          <p:nvPr/>
        </p:nvSpPr>
        <p:spPr>
          <a:xfrm>
            <a:off x="6792840" y="3400560"/>
            <a:ext cx="457200" cy="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Text Box 13"/>
          <p:cNvSpPr/>
          <p:nvPr/>
        </p:nvSpPr>
        <p:spPr>
          <a:xfrm>
            <a:off x="6489720" y="3430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Slide Number Placeholder 1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C0F7D9BF-95AA-4242-8F1B-5181A26F214B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U.S. Patents, citing each other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13" name="Picture 4" descr=""/>
          <p:cNvPicPr/>
          <p:nvPr/>
        </p:nvPicPr>
        <p:blipFill>
          <a:blip r:embed="rId1"/>
          <a:stretch/>
        </p:blipFill>
        <p:spPr>
          <a:xfrm>
            <a:off x="5118120" y="2838600"/>
            <a:ext cx="4206960" cy="3227400"/>
          </a:xfrm>
          <a:prstGeom prst="rect">
            <a:avLst/>
          </a:prstGeom>
          <a:ln w="0">
            <a:noFill/>
          </a:ln>
        </p:spPr>
      </p:pic>
      <p:sp>
        <p:nvSpPr>
          <p:cNvPr id="914" name="Line 5"/>
          <p:cNvSpPr/>
          <p:nvPr/>
        </p:nvSpPr>
        <p:spPr>
          <a:xfrm>
            <a:off x="7542360" y="4268880"/>
            <a:ext cx="83952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Text Box 6"/>
          <p:cNvSpPr/>
          <p:nvPr/>
        </p:nvSpPr>
        <p:spPr>
          <a:xfrm>
            <a:off x="7999560" y="373392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66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6" name="Group 7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917" name="Text Box 8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Text Box 9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9" name="Slide Number Placeholder 12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BEBDA553-2CE3-4C2E-9D82-B0F6B3F9C01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utonomous System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24" name="Picture 4" descr=""/>
          <p:cNvPicPr/>
          <p:nvPr/>
        </p:nvPicPr>
        <p:blipFill>
          <a:blip r:embed="rId1"/>
          <a:srcRect l="0" t="0" r="1242" b="0"/>
          <a:stretch/>
        </p:blipFill>
        <p:spPr>
          <a:xfrm>
            <a:off x="5118120" y="2637000"/>
            <a:ext cx="4206960" cy="3628800"/>
          </a:xfrm>
          <a:prstGeom prst="rect">
            <a:avLst/>
          </a:prstGeom>
          <a:ln w="0">
            <a:noFill/>
          </a:ln>
        </p:spPr>
      </p:pic>
      <p:sp>
        <p:nvSpPr>
          <p:cNvPr id="925" name="Line 5"/>
          <p:cNvSpPr/>
          <p:nvPr/>
        </p:nvSpPr>
        <p:spPr>
          <a:xfrm>
            <a:off x="7542360" y="4038480"/>
            <a:ext cx="91584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Text Box 6"/>
          <p:cNvSpPr/>
          <p:nvPr/>
        </p:nvSpPr>
        <p:spPr>
          <a:xfrm>
            <a:off x="7781400" y="352116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18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7" name="Group 7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928" name="Text Box 8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Text Box 9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0" name="Slide Number Placeholder 12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C55B5788-BBE7-4040-B4E7-1A3CFE579D63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Date Placeholder 4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Footer Placeholder 5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rXiv: authors &amp; paper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35" name="Picture 4" descr=""/>
          <p:cNvPicPr/>
          <p:nvPr/>
        </p:nvPicPr>
        <p:blipFill>
          <a:blip r:embed="rId1"/>
          <a:stretch/>
        </p:blipFill>
        <p:spPr>
          <a:xfrm>
            <a:off x="5118120" y="2809800"/>
            <a:ext cx="4206960" cy="3284640"/>
          </a:xfrm>
          <a:prstGeom prst="rect">
            <a:avLst/>
          </a:prstGeom>
          <a:ln w="0">
            <a:noFill/>
          </a:ln>
        </p:spPr>
      </p:pic>
      <p:sp>
        <p:nvSpPr>
          <p:cNvPr id="936" name="Line 5"/>
          <p:cNvSpPr/>
          <p:nvPr/>
        </p:nvSpPr>
        <p:spPr>
          <a:xfrm>
            <a:off x="7467480" y="4191120"/>
            <a:ext cx="83844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Text Box 6"/>
          <p:cNvSpPr/>
          <p:nvPr/>
        </p:nvSpPr>
        <p:spPr>
          <a:xfrm>
            <a:off x="8075880" y="365760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15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38" name="Group 7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939" name="Text Box 8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Text Box 9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1" name="Slide Number Placeholder 12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FA96C630-4EAF-4D9A-BEBB-6019AA1E624D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pology &amp;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’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tatic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volving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eighted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enerator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scussion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AutoShape 4"/>
          <p:cNvSpPr/>
          <p:nvPr/>
        </p:nvSpPr>
        <p:spPr>
          <a:xfrm>
            <a:off x="620640" y="35514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DEC745DB-D57A-4639-86A9-EDF88FE34DD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More on Time-evolving</a:t>
            </a:r>
            <a:r>
              <a:rPr b="1" lang="en-US" sz="4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graph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50" name="Picture 5" descr=""/>
          <p:cNvPicPr/>
          <p:nvPr/>
        </p:nvPicPr>
        <p:blipFill>
          <a:blip r:embed="rId1"/>
          <a:srcRect l="10348" t="14426" r="6902" b="0"/>
          <a:stretch/>
        </p:blipFill>
        <p:spPr>
          <a:xfrm>
            <a:off x="3211560" y="2027160"/>
            <a:ext cx="1676520" cy="165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6" descr=""/>
          <p:cNvPicPr/>
          <p:nvPr/>
        </p:nvPicPr>
        <p:blipFill>
          <a:blip r:embed="rId2"/>
          <a:stretch/>
        </p:blipFill>
        <p:spPr>
          <a:xfrm>
            <a:off x="1077840" y="2103480"/>
            <a:ext cx="1600200" cy="1569960"/>
          </a:xfrm>
          <a:prstGeom prst="rect">
            <a:avLst/>
          </a:prstGeom>
          <a:ln w="0">
            <a:noFill/>
          </a:ln>
        </p:spPr>
      </p:pic>
      <p:sp>
        <p:nvSpPr>
          <p:cNvPr id="952" name="Slide Number Placeholder 18"/>
          <p:cNvSpPr/>
          <p:nvPr/>
        </p:nvSpPr>
        <p:spPr>
          <a:xfrm>
            <a:off x="7224840" y="685800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507146C0-EBAE-4A41-B826-FC2EFEB641D4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Text Box 15"/>
          <p:cNvSpPr/>
          <p:nvPr/>
        </p:nvSpPr>
        <p:spPr>
          <a:xfrm>
            <a:off x="620640" y="4313160"/>
            <a:ext cx="7532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. McGlohon, L. Akoglu, and C. Faloutsos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Weighted Graphs and Disconnected Components: Patterns and a Generator.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IG-KD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2008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bservation 1: Gelling Point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0">
              <a:spcBef>
                <a:spcPts val="950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3800" spc="-1" strike="noStrike">
                <a:solidFill>
                  <a:srgbClr val="000066"/>
                </a:solidFill>
                <a:latin typeface="Times New Roman"/>
              </a:rPr>
              <a:t>Q1: How does the GCC emerge?</a:t>
            </a:r>
            <a:endParaRPr b="0" lang="en-US" sz="3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564C2E0F-1DC9-4285-87F9-9DCA3E19E052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bservation 1: Gelling Point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755640" y="1798200"/>
            <a:ext cx="856944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ost real graphs display a gelling poi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92040" indent="-29376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fter gelling point, they exhibit typical behavior.  This is marked by a spike in diameter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64" name="Picture 10" descr="imdb-diam.pdf"/>
          <p:cNvPicPr/>
          <p:nvPr/>
        </p:nvPicPr>
        <p:blipFill>
          <a:blip r:embed="rId1"/>
          <a:srcRect l="12031" t="4572" r="8593" b="16002"/>
          <a:stretch/>
        </p:blipFill>
        <p:spPr>
          <a:xfrm>
            <a:off x="1459080" y="3855960"/>
            <a:ext cx="3060360" cy="2303640"/>
          </a:xfrm>
          <a:prstGeom prst="rect">
            <a:avLst/>
          </a:prstGeom>
          <a:ln w="0">
            <a:noFill/>
          </a:ln>
        </p:spPr>
      </p:pic>
      <p:sp>
        <p:nvSpPr>
          <p:cNvPr id="965" name="TextBox 12"/>
          <p:cNvSpPr/>
          <p:nvPr/>
        </p:nvSpPr>
        <p:spPr>
          <a:xfrm>
            <a:off x="3823920" y="6294600"/>
            <a:ext cx="93852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Tim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TextBox 14"/>
          <p:cNvSpPr/>
          <p:nvPr/>
        </p:nvSpPr>
        <p:spPr>
          <a:xfrm>
            <a:off x="-47160" y="4714920"/>
            <a:ext cx="154512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Diameter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TextBox 16"/>
          <p:cNvSpPr/>
          <p:nvPr/>
        </p:nvSpPr>
        <p:spPr>
          <a:xfrm>
            <a:off x="3818520" y="3322800"/>
            <a:ext cx="104832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IMDB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TextBox 18"/>
          <p:cNvSpPr/>
          <p:nvPr/>
        </p:nvSpPr>
        <p:spPr>
          <a:xfrm>
            <a:off x="3108240" y="4282920"/>
            <a:ext cx="988560" cy="40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MS PGothic"/>
              </a:rPr>
              <a:t>t=191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69" name="Picture 5" descr="blog_1500.png"/>
          <p:cNvPicPr/>
          <p:nvPr/>
        </p:nvPicPr>
        <p:blipFill>
          <a:blip r:embed="rId2"/>
          <a:srcRect l="64267" t="5086" r="0" b="52543"/>
          <a:stretch/>
        </p:blipFill>
        <p:spPr>
          <a:xfrm>
            <a:off x="5796000" y="4367160"/>
            <a:ext cx="1512720" cy="18892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blog_1500.png"/>
          <p:cNvPicPr/>
          <p:nvPr/>
        </p:nvPicPr>
        <p:blipFill>
          <a:blip r:embed="rId3"/>
          <a:srcRect l="35592" t="26819" r="16955" b="0"/>
          <a:stretch/>
        </p:blipFill>
        <p:spPr>
          <a:xfrm>
            <a:off x="7980480" y="4094280"/>
            <a:ext cx="1533240" cy="2246040"/>
          </a:xfrm>
          <a:prstGeom prst="rect">
            <a:avLst/>
          </a:prstGeom>
          <a:ln w="0">
            <a:noFill/>
          </a:ln>
        </p:spPr>
      </p:pic>
      <p:cxnSp>
        <p:nvCxnSpPr>
          <p:cNvPr id="971" name="Straight Arrow Connector 19"/>
          <p:cNvCxnSpPr/>
          <p:nvPr/>
        </p:nvCxnSpPr>
        <p:spPr>
          <a:xfrm>
            <a:off x="7326000" y="4846680"/>
            <a:ext cx="610200" cy="21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972" name="Straight Connector 14"/>
          <p:cNvSpPr/>
          <p:nvPr/>
        </p:nvSpPr>
        <p:spPr>
          <a:xfrm>
            <a:off x="1611360" y="6292800"/>
            <a:ext cx="609480" cy="18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Straight Connector 16"/>
          <p:cNvSpPr/>
          <p:nvPr/>
        </p:nvSpPr>
        <p:spPr>
          <a:xfrm>
            <a:off x="2297160" y="6292800"/>
            <a:ext cx="190512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Rectangle 20"/>
          <p:cNvSpPr/>
          <p:nvPr/>
        </p:nvSpPr>
        <p:spPr>
          <a:xfrm>
            <a:off x="5796000" y="4282920"/>
            <a:ext cx="1428840" cy="2016360"/>
          </a:xfrm>
          <a:prstGeom prst="rect">
            <a:avLst/>
          </a:pr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Rectangle 21"/>
          <p:cNvSpPr/>
          <p:nvPr/>
        </p:nvSpPr>
        <p:spPr>
          <a:xfrm>
            <a:off x="7980480" y="3863880"/>
            <a:ext cx="1763640" cy="2687760"/>
          </a:xfrm>
          <a:prstGeom prst="rect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Slide Number Placeholder 20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4727BD07-2EFF-4FC9-947A-90DAED4428AA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bservation 2: NLCC behavior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84360" indent="-260640">
              <a:spcBef>
                <a:spcPts val="876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Q2: How do NLCC’s emerge and join with the GCC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684360" indent="-260640">
              <a:spcBef>
                <a:spcPts val="876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684360" indent="-260640">
              <a:spcBef>
                <a:spcPts val="774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(``NLCC’’ = non-largest conn. components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684360" indent="-26064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o they continue to grow in siz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684360" indent="-26064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or do they shrink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684360" indent="-26064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or stabiliz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2B834589-50A9-4451-8738-EDBBBFC756A1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pology &amp;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’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enerators (summary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scussion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Motivating questions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8A113EDC-E801-4D51-8681-8D2593D078FB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bservation 2: NLCC behavior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4360" y="1722600"/>
            <a:ext cx="9069480" cy="54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fter the gelling point, the GCC takes off, but NLCC’s remain ~constant (actually, oscillate).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86" name="Picture 8" descr="imdb-cc23"/>
          <p:cNvPicPr/>
          <p:nvPr/>
        </p:nvPicPr>
        <p:blipFill>
          <a:blip r:embed="rId1"/>
          <a:stretch/>
        </p:blipFill>
        <p:spPr>
          <a:xfrm>
            <a:off x="2940120" y="3611520"/>
            <a:ext cx="3863880" cy="2905200"/>
          </a:xfrm>
          <a:prstGeom prst="rect">
            <a:avLst/>
          </a:prstGeom>
          <a:ln w="0">
            <a:noFill/>
          </a:ln>
        </p:spPr>
      </p:pic>
      <p:sp>
        <p:nvSpPr>
          <p:cNvPr id="987" name="TextBox 8"/>
          <p:cNvSpPr/>
          <p:nvPr/>
        </p:nvSpPr>
        <p:spPr>
          <a:xfrm>
            <a:off x="4203360" y="6299280"/>
            <a:ext cx="93852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Tim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TextBox 10"/>
          <p:cNvSpPr/>
          <p:nvPr/>
        </p:nvSpPr>
        <p:spPr>
          <a:xfrm>
            <a:off x="4547880" y="3276720"/>
            <a:ext cx="104832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IMDB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TextBox 14"/>
          <p:cNvSpPr/>
          <p:nvPr/>
        </p:nvSpPr>
        <p:spPr>
          <a:xfrm>
            <a:off x="2366640" y="4619520"/>
            <a:ext cx="136224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CC siz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Slide Number Placeholder 12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D34A80CC-C82D-4CE9-B288-44806551C038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2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How do new edges appear?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856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97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300" spc="-1" strike="noStrike">
                <a:solidFill>
                  <a:srgbClr val="000066"/>
                </a:solidFill>
                <a:latin typeface="Times New Roman"/>
              </a:rPr>
              <a:t>[LBKT’08] </a:t>
            </a:r>
            <a:r>
              <a:rPr b="0" lang="en-US" sz="43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Microscopic Evolution of Social Networks</a:t>
            </a:r>
            <a:r>
              <a:rPr b="0" lang="en-US" sz="43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4300"/>
            </a:br>
            <a:r>
              <a:rPr b="0" lang="en-US" sz="4300" spc="-1" strike="noStrike">
                <a:solidFill>
                  <a:srgbClr val="000066"/>
                </a:solidFill>
                <a:latin typeface="Times New Roman"/>
              </a:rPr>
              <a:t>Jure Leskovec, Lars Backstrom, Ravi Kumar, Andrew Tomkins. </a:t>
            </a:r>
            <a:br>
              <a:rPr sz="4300"/>
            </a:br>
            <a:r>
              <a:rPr b="0" i="1" lang="en-US" sz="43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lang="en-US" sz="43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ACM KDD</a:t>
            </a:r>
            <a:r>
              <a:rPr b="0" i="1" lang="en-US" sz="43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4300" spc="-1" strike="noStrike">
                <a:solidFill>
                  <a:srgbClr val="000066"/>
                </a:solidFill>
                <a:latin typeface="Times New Roman"/>
              </a:rPr>
              <a:t>, 2008.</a:t>
            </a:r>
            <a:r>
              <a:rPr b="0" lang="en-US" sz="39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CDCF6EF4-FD1B-4CC5-B273-C66C98C80CAA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6635880" y="1763640"/>
            <a:ext cx="3108240" cy="260352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38120" indent="-31896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66"/>
                </a:solidFill>
                <a:latin typeface="Times New Roman"/>
              </a:rPr>
              <a:t>Edge gap </a:t>
            </a:r>
            <a:r>
              <a:rPr b="1" lang="el-GR" sz="3300" spc="-1" strike="noStrike">
                <a:solidFill>
                  <a:srgbClr val="000066"/>
                </a:solidFill>
                <a:latin typeface="Times New Roman"/>
              </a:rPr>
              <a:t>δ</a:t>
            </a:r>
            <a:r>
              <a:rPr b="1" lang="en-US" sz="3300" spc="-1" strike="noStrike">
                <a:solidFill>
                  <a:srgbClr val="000066"/>
                </a:solidFill>
                <a:latin typeface="Times New Roman"/>
              </a:rPr>
              <a:t>(d)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: inter-arrival time between </a:t>
            </a:r>
            <a:r>
              <a:rPr b="0" i="1" lang="en-US" sz="33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i="1" lang="en-US" sz="3300" spc="-1" strike="noStrike" baseline="30000">
                <a:solidFill>
                  <a:srgbClr val="000066"/>
                </a:solidFill>
                <a:latin typeface="Times New Roman"/>
              </a:rPr>
              <a:t>th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0" i="1" lang="en-US" sz="3300" spc="-1" strike="noStrike">
                <a:solidFill>
                  <a:srgbClr val="000066"/>
                </a:solidFill>
                <a:latin typeface="Times New Roman"/>
              </a:rPr>
              <a:t>d+1</a:t>
            </a:r>
            <a:r>
              <a:rPr b="0" i="1" lang="en-US" sz="3300" spc="-1" strike="noStrike" baseline="30000">
                <a:solidFill>
                  <a:srgbClr val="000066"/>
                </a:solidFill>
                <a:latin typeface="Times New Roman"/>
              </a:rPr>
              <a:t>st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 edge</a:t>
            </a:r>
            <a:endParaRPr b="0" lang="en-US" sz="3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Slide Number Placeholder 12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E3F56A42-48FD-4826-8584-5D5F3B2C487D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856944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How do edges appear in time?</a:t>
            </a:r>
            <a:br>
              <a:rPr sz="4500"/>
            </a:b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[LBKT’08]</a:t>
            </a:r>
            <a:endParaRPr b="1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01" name="Line 12"/>
          <p:cNvSpPr/>
          <p:nvPr/>
        </p:nvSpPr>
        <p:spPr>
          <a:xfrm>
            <a:off x="696960" y="4541760"/>
            <a:ext cx="58672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AutoShape 13"/>
          <p:cNvSpPr/>
          <p:nvPr/>
        </p:nvSpPr>
        <p:spPr>
          <a:xfrm>
            <a:off x="1154160" y="4084560"/>
            <a:ext cx="380880" cy="457200"/>
          </a:xfrm>
          <a:prstGeom prst="lightningBolt">
            <a:avLst/>
          </a:prstGeom>
          <a:solidFill>
            <a:srgbClr val="ffff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AutoShape 14"/>
          <p:cNvSpPr/>
          <p:nvPr/>
        </p:nvSpPr>
        <p:spPr>
          <a:xfrm>
            <a:off x="1535040" y="4084560"/>
            <a:ext cx="381240" cy="457200"/>
          </a:xfrm>
          <a:prstGeom prst="lightningBolt">
            <a:avLst/>
          </a:prstGeom>
          <a:solidFill>
            <a:srgbClr val="ffff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AutoShape 15"/>
          <p:cNvSpPr/>
          <p:nvPr/>
        </p:nvSpPr>
        <p:spPr>
          <a:xfrm>
            <a:off x="4354560" y="4084560"/>
            <a:ext cx="380880" cy="457200"/>
          </a:xfrm>
          <a:prstGeom prst="lightningBolt">
            <a:avLst/>
          </a:prstGeom>
          <a:solidFill>
            <a:srgbClr val="ffff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AutoShape 16"/>
          <p:cNvSpPr/>
          <p:nvPr/>
        </p:nvSpPr>
        <p:spPr>
          <a:xfrm>
            <a:off x="5040360" y="4084560"/>
            <a:ext cx="380880" cy="457200"/>
          </a:xfrm>
          <a:prstGeom prst="lightningBolt">
            <a:avLst/>
          </a:prstGeom>
          <a:solidFill>
            <a:srgbClr val="ffff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Line 17"/>
          <p:cNvSpPr/>
          <p:nvPr/>
        </p:nvSpPr>
        <p:spPr>
          <a:xfrm>
            <a:off x="4735440" y="4770360"/>
            <a:ext cx="6858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7" name="Text Box 18"/>
          <p:cNvSpPr/>
          <p:nvPr/>
        </p:nvSpPr>
        <p:spPr>
          <a:xfrm>
            <a:off x="4772160" y="485784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Text Box 19"/>
          <p:cNvSpPr/>
          <p:nvPr/>
        </p:nvSpPr>
        <p:spPr>
          <a:xfrm>
            <a:off x="514080" y="5524560"/>
            <a:ext cx="381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at is the PDF of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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sson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Footer Placeholder 16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12" name="Picture 3" descr=""/>
          <p:cNvPicPr/>
          <p:nvPr/>
        </p:nvPicPr>
        <p:blipFill>
          <a:blip r:embed="rId1"/>
          <a:stretch/>
        </p:blipFill>
        <p:spPr>
          <a:xfrm>
            <a:off x="168120" y="1730520"/>
            <a:ext cx="6301080" cy="4652640"/>
          </a:xfrm>
          <a:prstGeom prst="rect">
            <a:avLst/>
          </a:prstGeom>
          <a:ln w="0">
            <a:noFill/>
          </a:ln>
        </p:spPr>
      </p:pic>
      <p:sp>
        <p:nvSpPr>
          <p:cNvPr id="1013" name="Rounded Rectangle 8"/>
          <p:cNvSpPr/>
          <p:nvPr/>
        </p:nvSpPr>
        <p:spPr>
          <a:xfrm>
            <a:off x="839880" y="6383160"/>
            <a:ext cx="8569080" cy="10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78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4" name="Object 2"/>
              <p:cNvSpPr txBox="1"/>
              <p:nvPr/>
            </p:nvSpPr>
            <p:spPr>
              <a:xfrm>
                <a:off x="1473120" y="6407280"/>
                <a:ext cx="7443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δ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15" name=""/>
          <p:cNvSpPr txBox="1"/>
          <p:nvPr/>
        </p:nvSpPr>
        <p:spPr>
          <a:xfrm>
            <a:off x="6635880" y="1763640"/>
            <a:ext cx="3108240" cy="260352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38120" indent="-31896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66"/>
                </a:solidFill>
                <a:latin typeface="Times New Roman"/>
              </a:rPr>
              <a:t>Edge gap </a:t>
            </a:r>
            <a:r>
              <a:rPr b="1" lang="el-GR" sz="3300" spc="-1" strike="noStrike">
                <a:solidFill>
                  <a:srgbClr val="000066"/>
                </a:solidFill>
                <a:latin typeface="Times New Roman"/>
              </a:rPr>
              <a:t>δ</a:t>
            </a:r>
            <a:r>
              <a:rPr b="1" lang="en-US" sz="3300" spc="-1" strike="noStrike">
                <a:solidFill>
                  <a:srgbClr val="000066"/>
                </a:solidFill>
                <a:latin typeface="Times New Roman"/>
              </a:rPr>
              <a:t>(d)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: inter-arrival time between </a:t>
            </a:r>
            <a:r>
              <a:rPr b="0" i="1" lang="en-US" sz="33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i="1" lang="en-US" sz="3300" spc="-1" strike="noStrike" baseline="30000">
                <a:solidFill>
                  <a:srgbClr val="000066"/>
                </a:solidFill>
                <a:latin typeface="Times New Roman"/>
              </a:rPr>
              <a:t>th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0" i="1" lang="en-US" sz="3300" spc="-1" strike="noStrike">
                <a:solidFill>
                  <a:srgbClr val="000066"/>
                </a:solidFill>
                <a:latin typeface="Times New Roman"/>
              </a:rPr>
              <a:t>d+1</a:t>
            </a:r>
            <a:r>
              <a:rPr b="0" i="1" lang="en-US" sz="3300" spc="-1" strike="noStrike" baseline="30000">
                <a:solidFill>
                  <a:srgbClr val="000066"/>
                </a:solidFill>
                <a:latin typeface="Times New Roman"/>
              </a:rPr>
              <a:t>st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 edge</a:t>
            </a:r>
            <a:endParaRPr b="0" lang="en-US" sz="3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TextBox 10"/>
          <p:cNvSpPr/>
          <p:nvPr/>
        </p:nvSpPr>
        <p:spPr>
          <a:xfrm>
            <a:off x="3808440" y="2090880"/>
            <a:ext cx="17035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rbel"/>
              </a:rPr>
              <a:t>LinkedIn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856944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How do edges appear in time?</a:t>
            </a:r>
            <a:br>
              <a:rPr sz="4500"/>
            </a:b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[LBKT’08]</a:t>
            </a:r>
            <a:endParaRPr b="1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755640" y="2184480"/>
            <a:ext cx="8569440" cy="45352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2" descr=""/>
          <p:cNvPicPr/>
          <p:nvPr/>
        </p:nvPicPr>
        <p:blipFill>
          <a:blip r:embed="rId2"/>
          <a:stretch/>
        </p:blipFill>
        <p:spPr>
          <a:xfrm>
            <a:off x="117360" y="1460520"/>
            <a:ext cx="6602400" cy="52419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3" descr=""/>
          <p:cNvPicPr/>
          <p:nvPr/>
        </p:nvPicPr>
        <p:blipFill>
          <a:blip r:embed="rId3"/>
          <a:stretch/>
        </p:blipFill>
        <p:spPr>
          <a:xfrm>
            <a:off x="6692760" y="1341360"/>
            <a:ext cx="3219480" cy="27558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4" descr=""/>
          <p:cNvPicPr/>
          <p:nvPr/>
        </p:nvPicPr>
        <p:blipFill>
          <a:blip r:embed="rId4"/>
          <a:stretch/>
        </p:blipFill>
        <p:spPr>
          <a:xfrm>
            <a:off x="6635880" y="4100400"/>
            <a:ext cx="3171600" cy="2684520"/>
          </a:xfrm>
          <a:prstGeom prst="rect">
            <a:avLst/>
          </a:prstGeom>
          <a:ln w="0">
            <a:noFill/>
          </a:ln>
        </p:spPr>
      </p:pic>
      <p:sp>
        <p:nvSpPr>
          <p:cNvPr id="1024" name="Slide Number Placeholder 9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78F4E564-C4CD-4913-BA36-BBBD78E2CB4B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96960" y="350640"/>
            <a:ext cx="856944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Edge locality – closing triangles</a:t>
            </a:r>
            <a:br>
              <a:rPr sz="4500"/>
            </a:br>
            <a:r>
              <a:rPr b="1" lang="en-US" sz="4500" spc="-1" strike="noStrike">
                <a:solidFill>
                  <a:srgbClr val="a50021"/>
                </a:solidFill>
                <a:latin typeface="Times New Roman"/>
              </a:rPr>
              <a:t>[LBKT’08]</a:t>
            </a:r>
            <a:endParaRPr b="1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pology &amp;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’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tatic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volving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eighted graph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enerator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scussion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AutoShape 4"/>
          <p:cNvSpPr/>
          <p:nvPr/>
        </p:nvSpPr>
        <p:spPr>
          <a:xfrm>
            <a:off x="620640" y="408456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30491FEF-8CA0-4633-BC95-535C325DCD67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Slide Number Placeholder 8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45E55DDF-E5C6-44B1-98C1-96327EF60897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Weighted</a:t>
            </a:r>
            <a:r>
              <a:rPr b="1" lang="en-US" sz="4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graph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5" name="Text Box 15"/>
          <p:cNvSpPr/>
          <p:nvPr/>
        </p:nvSpPr>
        <p:spPr>
          <a:xfrm>
            <a:off x="838800" y="2941560"/>
            <a:ext cx="846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. McGlohon, L. Akoglu, and C. Faloutsos.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Weighted Graphs and Disconnected Components: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Patterns and a Generator.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KDD 2008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Slide Number Placeholder 18"/>
          <p:cNvSpPr/>
          <p:nvPr/>
        </p:nvSpPr>
        <p:spPr>
          <a:xfrm>
            <a:off x="7224840" y="685800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5AA78A0D-1250-48E0-A176-0FC0739B95E2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96960" y="350640"/>
            <a:ext cx="8569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Networks use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587160" y="1344600"/>
            <a:ext cx="6048360" cy="57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ostne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Posts in blogs, hyperlinks betwee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92040" indent="-29376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ogn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ggregated Postnet, repeated edg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92040" indent="-29376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atent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tent cit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92040" indent="-29376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NIP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Academic cit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92040" indent="-29376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rxiv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Academic cit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92040" indent="-29376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NetTraffic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ck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peated edg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92040" indent="-29376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Autonomous Systems 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S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ck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peated edg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82640" indent="0">
              <a:spcBef>
                <a:spcPts val="700"/>
              </a:spcBef>
              <a:buNone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92040" indent="0">
              <a:spcBef>
                <a:spcPts val="700"/>
              </a:spcBef>
              <a:buNone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42" name="Group 19"/>
          <p:cNvGrpSpPr/>
          <p:nvPr/>
        </p:nvGrpSpPr>
        <p:grpSpPr>
          <a:xfrm>
            <a:off x="6888240" y="3780000"/>
            <a:ext cx="2697120" cy="3009600"/>
            <a:chOff x="6888240" y="3780000"/>
            <a:chExt cx="2697120" cy="3009600"/>
          </a:xfrm>
        </p:grpSpPr>
        <p:sp>
          <p:nvSpPr>
            <p:cNvPr id="1043" name="Oval 5"/>
            <p:cNvSpPr/>
            <p:nvPr/>
          </p:nvSpPr>
          <p:spPr>
            <a:xfrm>
              <a:off x="7476120" y="3780000"/>
              <a:ext cx="433800" cy="42516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r>
                <a:rPr b="0" lang="en-US" sz="15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n</a:t>
              </a:r>
              <a:r>
                <a:rPr b="0" lang="en-US" sz="1500" spc="-1" strike="noStrike" baseline="-6000">
                  <a:solidFill>
                    <a:srgbClr val="000066"/>
                  </a:solidFill>
                  <a:latin typeface="Arial"/>
                  <a:ea typeface="MS PGothic"/>
                </a:rPr>
                <a:t>1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4" name="Oval 6"/>
            <p:cNvSpPr/>
            <p:nvPr/>
          </p:nvSpPr>
          <p:spPr>
            <a:xfrm>
              <a:off x="7471080" y="4430880"/>
              <a:ext cx="433800" cy="42696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r>
                <a:rPr b="0" lang="en-US" sz="15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n</a:t>
              </a:r>
              <a:r>
                <a:rPr b="0" lang="en-US" sz="1500" spc="-1" strike="noStrike" baseline="-6000">
                  <a:solidFill>
                    <a:srgbClr val="000066"/>
                  </a:solidFill>
                  <a:latin typeface="Arial"/>
                  <a:ea typeface="MS PGothic"/>
                </a:rPr>
                <a:t>2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5" name="Oval 7"/>
            <p:cNvSpPr/>
            <p:nvPr/>
          </p:nvSpPr>
          <p:spPr>
            <a:xfrm>
              <a:off x="9151560" y="4094640"/>
              <a:ext cx="433800" cy="42696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r>
                <a:rPr b="0" lang="en-US" sz="15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n</a:t>
              </a:r>
              <a:r>
                <a:rPr b="0" lang="en-US" sz="1500" spc="-1" strike="noStrike" baseline="-6000">
                  <a:solidFill>
                    <a:srgbClr val="000066"/>
                  </a:solidFill>
                  <a:latin typeface="Arial"/>
                  <a:ea typeface="MS PGothic"/>
                </a:rPr>
                <a:t>3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6" name="Oval 8"/>
            <p:cNvSpPr/>
            <p:nvPr/>
          </p:nvSpPr>
          <p:spPr>
            <a:xfrm>
              <a:off x="7806960" y="5270760"/>
              <a:ext cx="433800" cy="42696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r>
                <a:rPr b="0" lang="en-US" sz="15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n</a:t>
              </a:r>
              <a:r>
                <a:rPr b="0" lang="en-US" sz="1500" spc="-1" strike="noStrike" baseline="-6000">
                  <a:solidFill>
                    <a:srgbClr val="000066"/>
                  </a:solidFill>
                  <a:latin typeface="Arial"/>
                  <a:ea typeface="MS PGothic"/>
                </a:rPr>
                <a:t>4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7" name="Line 12"/>
            <p:cNvSpPr/>
            <p:nvPr/>
          </p:nvSpPr>
          <p:spPr>
            <a:xfrm>
              <a:off x="7891200" y="4010760"/>
              <a:ext cx="1240920" cy="236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8" name="Line 13"/>
            <p:cNvSpPr/>
            <p:nvPr/>
          </p:nvSpPr>
          <p:spPr>
            <a:xfrm>
              <a:off x="7891200" y="4682880"/>
              <a:ext cx="167760" cy="587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9" name="Line 13"/>
            <p:cNvSpPr/>
            <p:nvPr/>
          </p:nvSpPr>
          <p:spPr>
            <a:xfrm flipV="1">
              <a:off x="7891200" y="4346280"/>
              <a:ext cx="1239120" cy="29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0" name="Oval 8"/>
            <p:cNvSpPr/>
            <p:nvPr/>
          </p:nvSpPr>
          <p:spPr>
            <a:xfrm>
              <a:off x="8143200" y="5774760"/>
              <a:ext cx="433800" cy="42696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r>
                <a:rPr b="0" lang="en-US" sz="15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n</a:t>
              </a:r>
              <a:r>
                <a:rPr b="0" lang="en-US" sz="1500" spc="-1" strike="noStrike" baseline="-6000">
                  <a:solidFill>
                    <a:srgbClr val="000066"/>
                  </a:solidFill>
                  <a:latin typeface="Arial"/>
                  <a:ea typeface="MS PGothic"/>
                </a:rPr>
                <a:t>5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1" name="Line 13"/>
            <p:cNvSpPr/>
            <p:nvPr/>
          </p:nvSpPr>
          <p:spPr>
            <a:xfrm flipV="1">
              <a:off x="8311320" y="4346640"/>
              <a:ext cx="819000" cy="1427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2" name="Line 13"/>
            <p:cNvSpPr/>
            <p:nvPr/>
          </p:nvSpPr>
          <p:spPr>
            <a:xfrm flipV="1">
              <a:off x="8143200" y="4346640"/>
              <a:ext cx="1008000" cy="967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3" name="Oval 5"/>
            <p:cNvSpPr/>
            <p:nvPr/>
          </p:nvSpPr>
          <p:spPr>
            <a:xfrm>
              <a:off x="6888240" y="6047640"/>
              <a:ext cx="433800" cy="42516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r>
                <a:rPr b="0" lang="en-US" sz="15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n</a:t>
              </a:r>
              <a:r>
                <a:rPr b="0" lang="en-US" sz="1500" spc="-1" strike="noStrike" baseline="-6000">
                  <a:solidFill>
                    <a:srgbClr val="000066"/>
                  </a:solidFill>
                  <a:latin typeface="Arial"/>
                  <a:ea typeface="MS PGothic"/>
                </a:rPr>
                <a:t>6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4" name="Oval 7"/>
            <p:cNvSpPr/>
            <p:nvPr/>
          </p:nvSpPr>
          <p:spPr>
            <a:xfrm>
              <a:off x="8563320" y="6362640"/>
              <a:ext cx="433800" cy="42696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r>
                <a:rPr b="0" lang="en-US" sz="15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n</a:t>
              </a:r>
              <a:r>
                <a:rPr b="0" lang="en-US" sz="1500" spc="-1" strike="noStrike" baseline="-6000">
                  <a:solidFill>
                    <a:srgbClr val="000066"/>
                  </a:solidFill>
                  <a:latin typeface="Arial"/>
                  <a:ea typeface="MS PGothic"/>
                </a:rPr>
                <a:t>7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5" name="Line 12"/>
            <p:cNvSpPr/>
            <p:nvPr/>
          </p:nvSpPr>
          <p:spPr>
            <a:xfrm>
              <a:off x="7302960" y="6278760"/>
              <a:ext cx="1240920" cy="236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6" name="Line 12"/>
            <p:cNvSpPr/>
            <p:nvPr/>
          </p:nvSpPr>
          <p:spPr>
            <a:xfrm flipV="1">
              <a:off x="7302960" y="5606280"/>
              <a:ext cx="504000" cy="587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57" name="TextBox 21"/>
          <p:cNvSpPr/>
          <p:nvPr/>
        </p:nvSpPr>
        <p:spPr>
          <a:xfrm>
            <a:off x="8484120" y="3527280"/>
            <a:ext cx="5709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  <a:ea typeface="MS PGothic"/>
              </a:rPr>
              <a:t>10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TextBox 22"/>
          <p:cNvSpPr/>
          <p:nvPr/>
        </p:nvSpPr>
        <p:spPr>
          <a:xfrm>
            <a:off x="7895160" y="4116240"/>
            <a:ext cx="6624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  <a:ea typeface="MS PGothic"/>
              </a:rPr>
              <a:t>1.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TextBox 23"/>
          <p:cNvSpPr/>
          <p:nvPr/>
        </p:nvSpPr>
        <p:spPr>
          <a:xfrm>
            <a:off x="8568360" y="4956120"/>
            <a:ext cx="6624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  <a:ea typeface="MS PGothic"/>
              </a:rPr>
              <a:t>8.3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TextBox 24"/>
          <p:cNvSpPr/>
          <p:nvPr/>
        </p:nvSpPr>
        <p:spPr>
          <a:xfrm>
            <a:off x="7560360" y="6048360"/>
            <a:ext cx="386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  <a:ea typeface="MS PGothic"/>
              </a:rPr>
              <a:t>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TextBox 25"/>
          <p:cNvSpPr/>
          <p:nvPr/>
        </p:nvSpPr>
        <p:spPr>
          <a:xfrm>
            <a:off x="7223760" y="5459400"/>
            <a:ext cx="386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  <a:ea typeface="MS PGothic"/>
              </a:rPr>
              <a:t>6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TextBox 26"/>
          <p:cNvSpPr/>
          <p:nvPr/>
        </p:nvSpPr>
        <p:spPr>
          <a:xfrm>
            <a:off x="8232840" y="4619520"/>
            <a:ext cx="392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  <a:ea typeface="MS PGothic"/>
              </a:rPr>
              <a:t>1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Slide Number Placeholder 2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F45DB405-91CA-450D-A925-B4219206BC46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bservation 1: Fortification Effect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$  = C*  # checks 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67" name="Picture 8" descr="com2cand-scat.pdf"/>
          <p:cNvPicPr/>
          <p:nvPr/>
        </p:nvPicPr>
        <p:blipFill>
          <a:blip r:embed="rId1"/>
          <a:stretch/>
        </p:blipFill>
        <p:spPr>
          <a:xfrm>
            <a:off x="5964120" y="3733920"/>
            <a:ext cx="3583080" cy="2773080"/>
          </a:xfrm>
          <a:prstGeom prst="rect">
            <a:avLst/>
          </a:prstGeom>
          <a:ln w="0">
            <a:noFill/>
          </a:ln>
        </p:spPr>
      </p:pic>
      <p:sp>
        <p:nvSpPr>
          <p:cNvPr id="1068" name="TextBox 9"/>
          <p:cNvSpPr/>
          <p:nvPr/>
        </p:nvSpPr>
        <p:spPr>
          <a:xfrm>
            <a:off x="7240680" y="6254640"/>
            <a:ext cx="147960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|Checks|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TextBox 12"/>
          <p:cNvSpPr/>
          <p:nvPr/>
        </p:nvSpPr>
        <p:spPr>
          <a:xfrm>
            <a:off x="6417720" y="3398760"/>
            <a:ext cx="287100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Orgs-Candidate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Right Triangle 12"/>
          <p:cNvSpPr/>
          <p:nvPr/>
        </p:nvSpPr>
        <p:spPr>
          <a:xfrm rot="16200000">
            <a:off x="6960240" y="3915360"/>
            <a:ext cx="1789200" cy="2771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TextBox 9"/>
          <p:cNvSpPr/>
          <p:nvPr/>
        </p:nvSpPr>
        <p:spPr>
          <a:xfrm>
            <a:off x="5969520" y="4657680"/>
            <a:ext cx="55728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|$|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TextBox 14"/>
          <p:cNvSpPr/>
          <p:nvPr/>
        </p:nvSpPr>
        <p:spPr>
          <a:xfrm>
            <a:off x="6888600" y="5415120"/>
            <a:ext cx="7693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PGothic"/>
              </a:rPr>
              <a:t>198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TextBox 15"/>
          <p:cNvSpPr/>
          <p:nvPr/>
        </p:nvSpPr>
        <p:spPr>
          <a:xfrm>
            <a:off x="9156960" y="3986280"/>
            <a:ext cx="7693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PGothic"/>
              </a:rPr>
              <a:t>200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Slide Number Placeholder 18"/>
          <p:cNvSpPr/>
          <p:nvPr/>
        </p:nvSpPr>
        <p:spPr>
          <a:xfrm>
            <a:off x="7224840" y="685800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A58A0E14-4E6F-48AB-9F95-343060B5AF74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bservation 1: Fortification Effect – Weight P.L. (WPL)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88080" indent="-2905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eight additions follow a power law with respect to the number of edge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74720" indent="0">
              <a:spcBef>
                <a:spcPts val="700"/>
              </a:spcBef>
              <a:buNone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74720" indent="0">
              <a:spcBef>
                <a:spcPts val="700"/>
              </a:spcBef>
              <a:buNone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74720" indent="-2574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W(t)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otal weight of graph at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74720" indent="-2574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E(t)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total edges of graph at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74720" indent="-2574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s PL expon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74720" indent="-2574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.01 &lt; w &lt; 1.5 = super-linear!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74720" indent="-2574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more checks, even more $)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80" name="Picture 8" descr="com2cand-scat.pdf"/>
          <p:cNvPicPr/>
          <p:nvPr/>
        </p:nvPicPr>
        <p:blipFill>
          <a:blip r:embed="rId1"/>
          <a:stretch/>
        </p:blipFill>
        <p:spPr>
          <a:xfrm>
            <a:off x="6029280" y="3809880"/>
            <a:ext cx="3583080" cy="2773440"/>
          </a:xfrm>
          <a:prstGeom prst="rect">
            <a:avLst/>
          </a:prstGeom>
          <a:ln w="0">
            <a:noFill/>
          </a:ln>
        </p:spPr>
      </p:pic>
      <p:sp>
        <p:nvSpPr>
          <p:cNvPr id="1081" name="TextBox 9"/>
          <p:cNvSpPr/>
          <p:nvPr/>
        </p:nvSpPr>
        <p:spPr>
          <a:xfrm>
            <a:off x="7113600" y="6599160"/>
            <a:ext cx="147960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|Checks|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TextBox 12"/>
          <p:cNvSpPr/>
          <p:nvPr/>
        </p:nvSpPr>
        <p:spPr>
          <a:xfrm>
            <a:off x="6492240" y="3475080"/>
            <a:ext cx="287100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Orgs-Candidate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TextBox 9"/>
          <p:cNvSpPr/>
          <p:nvPr/>
        </p:nvSpPr>
        <p:spPr>
          <a:xfrm>
            <a:off x="6044400" y="4734000"/>
            <a:ext cx="55728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|$|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TextBox 14"/>
          <p:cNvSpPr/>
          <p:nvPr/>
        </p:nvSpPr>
        <p:spPr>
          <a:xfrm>
            <a:off x="6791040" y="6294600"/>
            <a:ext cx="7693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PGothic"/>
              </a:rPr>
              <a:t>198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TextBox 15"/>
          <p:cNvSpPr/>
          <p:nvPr/>
        </p:nvSpPr>
        <p:spPr>
          <a:xfrm>
            <a:off x="9156960" y="4535640"/>
            <a:ext cx="7693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MS PGothic"/>
              </a:rPr>
              <a:t>200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86" name="Picture 19" descr="image-71.pdf"/>
          <p:cNvPicPr/>
          <p:nvPr/>
        </p:nvPicPr>
        <p:blipFill>
          <a:blip r:embed="rId2"/>
          <a:stretch/>
        </p:blipFill>
        <p:spPr>
          <a:xfrm>
            <a:off x="2982960" y="3400560"/>
            <a:ext cx="2971800" cy="507960"/>
          </a:xfrm>
          <a:prstGeom prst="rect">
            <a:avLst/>
          </a:prstGeom>
          <a:ln w="0">
            <a:noFill/>
          </a:ln>
        </p:spPr>
      </p:pic>
      <p:sp>
        <p:nvSpPr>
          <p:cNvPr id="1087" name="Slide Number Placeholder 16"/>
          <p:cNvSpPr/>
          <p:nvPr/>
        </p:nvSpPr>
        <p:spPr>
          <a:xfrm>
            <a:off x="7326360" y="690408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9270FB9A-859B-4CB9-90E7-DA9EFB6A4614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Rectangle 18"/>
          <p:cNvSpPr/>
          <p:nvPr/>
        </p:nvSpPr>
        <p:spPr>
          <a:xfrm>
            <a:off x="6945480" y="5989680"/>
            <a:ext cx="91440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Rectangle 19"/>
          <p:cNvSpPr/>
          <p:nvPr/>
        </p:nvSpPr>
        <p:spPr>
          <a:xfrm>
            <a:off x="7326360" y="5608800"/>
            <a:ext cx="76212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Rectangle 20"/>
          <p:cNvSpPr/>
          <p:nvPr/>
        </p:nvSpPr>
        <p:spPr>
          <a:xfrm>
            <a:off x="8012160" y="5532480"/>
            <a:ext cx="76212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Rectangle 21"/>
          <p:cNvSpPr/>
          <p:nvPr/>
        </p:nvSpPr>
        <p:spPr>
          <a:xfrm>
            <a:off x="8545680" y="5456160"/>
            <a:ext cx="76176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Rectangle 22"/>
          <p:cNvSpPr/>
          <p:nvPr/>
        </p:nvSpPr>
        <p:spPr>
          <a:xfrm>
            <a:off x="8164440" y="5151600"/>
            <a:ext cx="76212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Rectangle 23"/>
          <p:cNvSpPr/>
          <p:nvPr/>
        </p:nvSpPr>
        <p:spPr>
          <a:xfrm>
            <a:off x="8621640" y="4846680"/>
            <a:ext cx="76212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Motivating question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What do real graphs look lik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hat properties of nodes, edges are important to model?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hat local and global properties are important to measure?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How to generate realistic graph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60C29A15-037C-4A5B-9744-7FE7657F61EB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bservation 2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82640" indent="-260280">
              <a:spcBef>
                <a:spcPts val="1074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4300" spc="-1" strike="noStrike">
                <a:solidFill>
                  <a:srgbClr val="000066"/>
                </a:solidFill>
                <a:latin typeface="Times New Roman"/>
              </a:rPr>
              <a:t>Q2: How do the weights </a:t>
            </a:r>
            <a:endParaRPr b="0" lang="en-US" sz="4300" spc="-1" strike="noStrike">
              <a:solidFill>
                <a:srgbClr val="000066"/>
              </a:solidFill>
              <a:latin typeface="Times New Roman"/>
            </a:endParaRPr>
          </a:p>
          <a:p>
            <a:pPr lvl="1" marL="782640" indent="-260280">
              <a:spcBef>
                <a:spcPts val="1074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4300" spc="-1" strike="noStrike">
                <a:solidFill>
                  <a:srgbClr val="000066"/>
                </a:solidFill>
                <a:latin typeface="Times New Roman"/>
              </a:rPr>
              <a:t>of nodes relate to degree?</a:t>
            </a:r>
            <a:endParaRPr b="0" lang="en-US" sz="4300" spc="-1" strike="noStrike">
              <a:solidFill>
                <a:srgbClr val="000066"/>
              </a:solidFill>
              <a:latin typeface="Times New Roman"/>
            </a:endParaRPr>
          </a:p>
          <a:p>
            <a:pPr lvl="1" marL="782640" indent="-260280">
              <a:spcBef>
                <a:spcPts val="1074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4300" spc="-1" strike="noStrike">
              <a:solidFill>
                <a:srgbClr val="000066"/>
              </a:solidFill>
              <a:latin typeface="Times New Roman"/>
            </a:endParaRPr>
          </a:p>
          <a:p>
            <a:pPr lvl="1" marL="782640" indent="-260280">
              <a:spcBef>
                <a:spcPts val="1074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4300" spc="-1" strike="noStrike">
              <a:solidFill>
                <a:srgbClr val="000066"/>
              </a:solidFill>
              <a:latin typeface="Times New Roman"/>
            </a:endParaRPr>
          </a:p>
          <a:p>
            <a:pPr marL="392040" indent="-293760">
              <a:spcBef>
                <a:spcPts val="1074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4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6D6CB20E-3401-4E82-908C-F6D01DC2AFDC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755640" y="502920"/>
            <a:ext cx="8569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bservation 2:</a:t>
            </a:r>
            <a:br>
              <a:rPr sz="4900"/>
            </a:b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Snapshot Power Law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04360" y="1798200"/>
            <a:ext cx="9069480" cy="54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At any time, total incoming weight of a node is proportional to in-degree with PL exponent ‘iw’: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lvl="1" marL="833400" indent="-29376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i.e.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1.01 &lt;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iw &lt; 1.26,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super-linear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92040" indent="-293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re donors, even more $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03" name="Picture 6" descr="com2cand-in3.pdf"/>
          <p:cNvPicPr/>
          <p:nvPr/>
        </p:nvPicPr>
        <p:blipFill>
          <a:blip r:embed="rId1"/>
          <a:stretch/>
        </p:blipFill>
        <p:spPr>
          <a:xfrm>
            <a:off x="3948120" y="3959280"/>
            <a:ext cx="3171960" cy="2593800"/>
          </a:xfrm>
          <a:prstGeom prst="rect">
            <a:avLst/>
          </a:prstGeom>
          <a:ln w="0">
            <a:noFill/>
          </a:ln>
        </p:spPr>
      </p:pic>
      <p:sp>
        <p:nvSpPr>
          <p:cNvPr id="1104" name="TextBox 8"/>
          <p:cNvSpPr/>
          <p:nvPr/>
        </p:nvSpPr>
        <p:spPr>
          <a:xfrm>
            <a:off x="4736520" y="6394320"/>
            <a:ext cx="274284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Edges (# donors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TextBox 9"/>
          <p:cNvSpPr/>
          <p:nvPr/>
        </p:nvSpPr>
        <p:spPr>
          <a:xfrm>
            <a:off x="2268360" y="4883040"/>
            <a:ext cx="1847880" cy="89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In-weight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($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TextBox 12"/>
          <p:cNvSpPr/>
          <p:nvPr/>
        </p:nvSpPr>
        <p:spPr>
          <a:xfrm>
            <a:off x="5987520" y="3398760"/>
            <a:ext cx="287100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  <a:ea typeface="MS PGothic"/>
              </a:rPr>
              <a:t>Orgs-Candidate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07" name="Straight Arrow Connector 14"/>
          <p:cNvCxnSpPr/>
          <p:nvPr/>
        </p:nvCxnSpPr>
        <p:spPr>
          <a:xfrm flipH="1" flipV="1">
            <a:off x="5562360" y="3962160"/>
            <a:ext cx="1372320" cy="21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108" name="Oval 17"/>
          <p:cNvSpPr/>
          <p:nvPr/>
        </p:nvSpPr>
        <p:spPr>
          <a:xfrm>
            <a:off x="5964120" y="4282920"/>
            <a:ext cx="168480" cy="1684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TextBox 18"/>
          <p:cNvSpPr/>
          <p:nvPr/>
        </p:nvSpPr>
        <p:spPr>
          <a:xfrm>
            <a:off x="7145640" y="4896000"/>
            <a:ext cx="26301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  <a:ea typeface="MS PGothic"/>
              </a:rPr>
              <a:t>e.g. John Kerry,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  <a:ea typeface="MS PGothic"/>
              </a:rPr>
              <a:t>$10M received,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  <a:ea typeface="MS PGothic"/>
              </a:rPr>
              <a:t>from 1K donor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Slide Number Placeholder 14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02BA6AD5-7299-4E60-952D-9D50AAF659B1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2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Summary of ‘laws’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Power laws for degree distribution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…………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... for eigenvalues, bi-partite core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riangle 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mall diameter (‘6 degrees’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Bow-tie’ for web; ‘jelly-fish’ for internet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Oscillating NLCC’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PL (weight grows superlinearly to degree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~Power-law between edge generation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5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01C599F6-A836-4E50-925C-999EBBFE1FB3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pology &amp;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’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enerator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scussion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0"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0" name="AutoShape 4"/>
          <p:cNvSpPr/>
          <p:nvPr/>
        </p:nvSpPr>
        <p:spPr>
          <a:xfrm>
            <a:off x="316080" y="294156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01AE33FE-2BA9-4A70-AD9E-60D95A9938C0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Generators (Summary)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referential attachment [Barabasi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Variations + extensions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copying model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riad-closing [Leskovec+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Butterfly model [McGlohon+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Recursion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–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Kronecker graphs [Leskovec+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6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8E719273-23F3-45C4-95E2-6AA6E6144FE7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Rectangle 2"/>
          <p:cNvSpPr/>
          <p:nvPr/>
        </p:nvSpPr>
        <p:spPr>
          <a:xfrm>
            <a:off x="544680" y="5913360"/>
            <a:ext cx="856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More Details Off-line!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9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pology &amp;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’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enerator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scussion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2" name="AutoShape 4"/>
          <p:cNvSpPr/>
          <p:nvPr/>
        </p:nvSpPr>
        <p:spPr>
          <a:xfrm>
            <a:off x="316080" y="362736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3" name="Slide Number Placeholder 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208F521B-A59B-453B-B0C8-E18C3AEA4096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5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Power law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1: Why so many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1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8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5972D9E7-4D89-4241-9709-A21E540BAD02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0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Power law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1: Why so many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1: self-similarity; ‘rich-get-richer’, etc - see Newman’s paper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0" lang="en-US" sz="2300" spc="-1" strike="noStrike" u="sng">
                <a:solidFill>
                  <a:srgbClr val="3366ff"/>
                </a:solidFill>
                <a:uFillTx/>
                <a:latin typeface="Courier New"/>
                <a:hlinkClick r:id="rId1"/>
              </a:rPr>
              <a:t>http://arxiv.org/abs/cond-mat/0412004v3</a:t>
            </a:r>
            <a:r>
              <a:rPr b="1" lang="en-US" sz="23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Other settings with power law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A6F96956-35CB-4E1B-A39B-C8F7E5246C79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2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5" name="Footer Placeholder 3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A famous power law: Zipf’s law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7" name="Rectangle 3"/>
          <p:cNvSpPr/>
          <p:nvPr/>
        </p:nvSpPr>
        <p:spPr>
          <a:xfrm>
            <a:off x="5040360" y="2940120"/>
            <a:ext cx="43686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48" name="Picture 4" descr=""/>
          <p:cNvPicPr/>
          <p:nvPr/>
        </p:nvPicPr>
        <p:blipFill>
          <a:blip r:embed="rId1"/>
          <a:stretch/>
        </p:blipFill>
        <p:spPr>
          <a:xfrm>
            <a:off x="504720" y="2184480"/>
            <a:ext cx="4788000" cy="3357360"/>
          </a:xfrm>
          <a:prstGeom prst="rect">
            <a:avLst/>
          </a:prstGeom>
          <a:ln w="0">
            <a:noFill/>
          </a:ln>
        </p:spPr>
      </p:pic>
      <p:sp>
        <p:nvSpPr>
          <p:cNvPr id="1149" name="Text Box 5"/>
          <p:cNvSpPr/>
          <p:nvPr/>
        </p:nvSpPr>
        <p:spPr>
          <a:xfrm>
            <a:off x="5796000" y="2603520"/>
            <a:ext cx="378144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206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Bible - </a:t>
            </a:r>
            <a:r>
              <a:rPr b="1" lang="en-US" sz="3300" spc="-1" strike="noStrike">
                <a:solidFill>
                  <a:srgbClr val="000066"/>
                </a:solidFill>
                <a:latin typeface="Times New Roman"/>
              </a:rPr>
              <a:t>rank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 vs </a:t>
            </a:r>
            <a:r>
              <a:rPr b="1" lang="en-US" sz="3300" spc="-1" strike="noStrike">
                <a:solidFill>
                  <a:srgbClr val="000066"/>
                </a:solidFill>
                <a:latin typeface="Times New Roman"/>
              </a:rPr>
              <a:t>frequency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 (log-log)</a:t>
            </a:r>
            <a:endParaRPr b="0" lang="en-US" sz="3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0" name="Text Box 6"/>
          <p:cNvSpPr/>
          <p:nvPr/>
        </p:nvSpPr>
        <p:spPr>
          <a:xfrm>
            <a:off x="2950560" y="5846040"/>
            <a:ext cx="16668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og(rank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1" name="Text Box 7"/>
          <p:cNvSpPr/>
          <p:nvPr/>
        </p:nvSpPr>
        <p:spPr>
          <a:xfrm>
            <a:off x="334440" y="1679400"/>
            <a:ext cx="16012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og(freq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2" name="Text Box 8"/>
          <p:cNvSpPr/>
          <p:nvPr/>
        </p:nvSpPr>
        <p:spPr>
          <a:xfrm>
            <a:off x="417960" y="2435040"/>
            <a:ext cx="7282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”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3" name="Text Box 9"/>
          <p:cNvSpPr/>
          <p:nvPr/>
        </p:nvSpPr>
        <p:spPr>
          <a:xfrm>
            <a:off x="1344600" y="3359160"/>
            <a:ext cx="1176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he”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4" name="Line 10"/>
          <p:cNvSpPr/>
          <p:nvPr/>
        </p:nvSpPr>
        <p:spPr>
          <a:xfrm flipV="1">
            <a:off x="1512720" y="2519280"/>
            <a:ext cx="0" cy="757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5" name="Line 11"/>
          <p:cNvSpPr/>
          <p:nvPr/>
        </p:nvSpPr>
        <p:spPr>
          <a:xfrm flipV="1">
            <a:off x="1176480" y="2519280"/>
            <a:ext cx="168120" cy="168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6" name="Line 12"/>
          <p:cNvSpPr/>
          <p:nvPr/>
        </p:nvSpPr>
        <p:spPr>
          <a:xfrm>
            <a:off x="1344600" y="2435400"/>
            <a:ext cx="3024360" cy="20160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7" name="Slide Number Placeholder 15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70F700DF-2CA4-4707-A06F-62B4921CB270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Power laws, cont’ed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web hit counts [Huberman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lick-stream data [Montgomery+01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2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E153FD01-A90E-4490-ADA8-85DB8B0BE716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Motivating question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932120"/>
            <a:ext cx="848520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iven a graph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587520" y="4032360"/>
            <a:ext cx="2856960" cy="1342440"/>
            <a:chOff x="587520" y="4032360"/>
            <a:chExt cx="2856960" cy="1342440"/>
          </a:xfrm>
        </p:grpSpPr>
        <p:sp>
          <p:nvSpPr>
            <p:cNvPr id="237" name="Oval 5"/>
            <p:cNvSpPr/>
            <p:nvPr/>
          </p:nvSpPr>
          <p:spPr>
            <a:xfrm>
              <a:off x="755280" y="4955400"/>
              <a:ext cx="252000" cy="251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Oval 6"/>
            <p:cNvSpPr/>
            <p:nvPr/>
          </p:nvSpPr>
          <p:spPr>
            <a:xfrm>
              <a:off x="2436120" y="4199760"/>
              <a:ext cx="252000" cy="251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Oval 7"/>
            <p:cNvSpPr/>
            <p:nvPr/>
          </p:nvSpPr>
          <p:spPr>
            <a:xfrm>
              <a:off x="1679760" y="4115880"/>
              <a:ext cx="252000" cy="251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Oval 8"/>
            <p:cNvSpPr/>
            <p:nvPr/>
          </p:nvSpPr>
          <p:spPr>
            <a:xfrm>
              <a:off x="2856240" y="5123160"/>
              <a:ext cx="252000" cy="251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Oval 9"/>
            <p:cNvSpPr/>
            <p:nvPr/>
          </p:nvSpPr>
          <p:spPr>
            <a:xfrm>
              <a:off x="3192480" y="4032360"/>
              <a:ext cx="252000" cy="251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Oval 10"/>
            <p:cNvSpPr/>
            <p:nvPr/>
          </p:nvSpPr>
          <p:spPr>
            <a:xfrm>
              <a:off x="1763640" y="5123160"/>
              <a:ext cx="252000" cy="251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Oval 11"/>
            <p:cNvSpPr/>
            <p:nvPr/>
          </p:nvSpPr>
          <p:spPr>
            <a:xfrm>
              <a:off x="587520" y="4199760"/>
              <a:ext cx="252000" cy="251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244" name="AutoShape 12"/>
            <p:cNvCxnSpPr>
              <a:stCxn id="239" idx="6"/>
              <a:endCxn id="238" idx="2"/>
            </p:cNvCxnSpPr>
            <p:nvPr/>
          </p:nvCxnSpPr>
          <p:spPr>
            <a:xfrm>
              <a:off x="1940760" y="4241520"/>
              <a:ext cx="487080" cy="8460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</a:ln>
          </p:spPr>
        </p:cxnSp>
        <p:cxnSp>
          <p:nvCxnSpPr>
            <p:cNvPr id="245" name="AutoShape 13"/>
            <p:cNvCxnSpPr>
              <a:stCxn id="242" idx="6"/>
              <a:endCxn id="238" idx="3"/>
            </p:cNvCxnSpPr>
            <p:nvPr/>
          </p:nvCxnSpPr>
          <p:spPr>
            <a:xfrm flipV="1">
              <a:off x="2024280" y="4422960"/>
              <a:ext cx="448920" cy="82620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</a:ln>
          </p:spPr>
        </p:cxnSp>
        <p:cxnSp>
          <p:nvCxnSpPr>
            <p:cNvPr id="246" name="AutoShape 14"/>
            <p:cNvCxnSpPr>
              <a:stCxn id="242" idx="6"/>
              <a:endCxn id="240" idx="2"/>
            </p:cNvCxnSpPr>
            <p:nvPr/>
          </p:nvCxnSpPr>
          <p:spPr>
            <a:xfrm>
              <a:off x="2024640" y="5248800"/>
              <a:ext cx="823680" cy="108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</a:ln>
          </p:spPr>
        </p:cxnSp>
        <p:cxnSp>
          <p:nvCxnSpPr>
            <p:cNvPr id="247" name="AutoShape 15"/>
            <p:cNvCxnSpPr>
              <a:stCxn id="238" idx="6"/>
              <a:endCxn id="241" idx="2"/>
            </p:cNvCxnSpPr>
            <p:nvPr/>
          </p:nvCxnSpPr>
          <p:spPr>
            <a:xfrm flipV="1">
              <a:off x="2697120" y="4157280"/>
              <a:ext cx="487080" cy="1688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</a:ln>
          </p:spPr>
        </p:cxnSp>
        <p:cxnSp>
          <p:nvCxnSpPr>
            <p:cNvPr id="248" name="AutoShape 16"/>
            <p:cNvCxnSpPr>
              <a:stCxn id="243" idx="6"/>
              <a:endCxn id="239" idx="2"/>
            </p:cNvCxnSpPr>
            <p:nvPr/>
          </p:nvCxnSpPr>
          <p:spPr>
            <a:xfrm flipV="1">
              <a:off x="848160" y="4241160"/>
              <a:ext cx="823680" cy="8460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</a:ln>
          </p:spPr>
        </p:cxnSp>
        <p:cxnSp>
          <p:nvCxnSpPr>
            <p:cNvPr id="249" name="AutoShape 17"/>
            <p:cNvCxnSpPr>
              <a:stCxn id="237" idx="7"/>
              <a:endCxn id="239" idx="3"/>
            </p:cNvCxnSpPr>
            <p:nvPr/>
          </p:nvCxnSpPr>
          <p:spPr>
            <a:xfrm flipV="1">
              <a:off x="970560" y="4339080"/>
              <a:ext cx="746280" cy="6440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</a:ln>
          </p:spPr>
        </p:cxnSp>
        <p:cxnSp>
          <p:nvCxnSpPr>
            <p:cNvPr id="250" name="AutoShape 18"/>
            <p:cNvCxnSpPr>
              <a:stCxn id="242" idx="0"/>
              <a:endCxn id="239" idx="4"/>
            </p:cNvCxnSpPr>
            <p:nvPr/>
          </p:nvCxnSpPr>
          <p:spPr>
            <a:xfrm flipH="1" flipV="1">
              <a:off x="1805040" y="4376160"/>
              <a:ext cx="84600" cy="738720"/>
            </a:xfrm>
            <a:prstGeom prst="straightConnector1">
              <a:avLst/>
            </a:prstGeom>
            <a:ln w="12600">
              <a:solidFill>
                <a:srgbClr val="000066"/>
              </a:solidFill>
              <a:miter/>
            </a:ln>
          </p:spPr>
        </p:cxnSp>
      </p:grpSp>
      <p:sp>
        <p:nvSpPr>
          <p:cNvPr id="251" name="Text Box 19"/>
          <p:cNvSpPr/>
          <p:nvPr/>
        </p:nvSpPr>
        <p:spPr>
          <a:xfrm>
            <a:off x="4284720" y="2940120"/>
            <a:ext cx="5208480" cy="27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93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re there un-natural sub-graphs? (criminals’ rings  or terrorist cells)?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93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How do P2P networks evolve?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Slide Number Placeholder 22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DBA1A241-AC8C-41D8-9E20-FB6DF9CBA527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4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5" name="Text Box 2"/>
          <p:cNvSpPr/>
          <p:nvPr/>
        </p:nvSpPr>
        <p:spPr>
          <a:xfrm>
            <a:off x="1914480" y="755640"/>
            <a:ext cx="203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6" name="Text Box 3"/>
          <p:cNvSpPr/>
          <p:nvPr/>
        </p:nvSpPr>
        <p:spPr>
          <a:xfrm>
            <a:off x="486000" y="4929480"/>
            <a:ext cx="2023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67" name="Picture 4" descr=""/>
          <p:cNvPicPr/>
          <p:nvPr/>
        </p:nvPicPr>
        <p:blipFill>
          <a:blip r:embed="rId1"/>
          <a:stretch/>
        </p:blipFill>
        <p:spPr>
          <a:xfrm>
            <a:off x="4703760" y="923760"/>
            <a:ext cx="4595760" cy="335124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5" descr=""/>
          <p:cNvPicPr/>
          <p:nvPr/>
        </p:nvPicPr>
        <p:blipFill>
          <a:blip r:embed="rId2"/>
          <a:srcRect l="0" t="9300" r="0" b="9300"/>
          <a:stretch/>
        </p:blipFill>
        <p:spPr>
          <a:xfrm>
            <a:off x="4830840" y="3882960"/>
            <a:ext cx="4373640" cy="2833920"/>
          </a:xfrm>
          <a:prstGeom prst="rect">
            <a:avLst/>
          </a:prstGeom>
          <a:ln w="0">
            <a:noFill/>
          </a:ln>
        </p:spPr>
      </p:pic>
      <p:sp>
        <p:nvSpPr>
          <p:cNvPr id="1169" name="Text Box 6"/>
          <p:cNvSpPr/>
          <p:nvPr/>
        </p:nvSpPr>
        <p:spPr>
          <a:xfrm>
            <a:off x="5982120" y="1095120"/>
            <a:ext cx="2421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PMingLiU"/>
              </a:rPr>
              <a:t>Web Site Traffic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0" name="Text Box 7"/>
          <p:cNvSpPr/>
          <p:nvPr/>
        </p:nvSpPr>
        <p:spPr>
          <a:xfrm>
            <a:off x="8453520" y="3279600"/>
            <a:ext cx="1377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PMingLiU"/>
              </a:rPr>
              <a:t>log(freq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1" name="Text Box 8"/>
          <p:cNvSpPr/>
          <p:nvPr/>
        </p:nvSpPr>
        <p:spPr>
          <a:xfrm>
            <a:off x="3905640" y="1431000"/>
            <a:ext cx="1581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PMingLiU"/>
              </a:rPr>
              <a:t>log(count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2" name="Line 9"/>
          <p:cNvSpPr/>
          <p:nvPr/>
        </p:nvSpPr>
        <p:spPr>
          <a:xfrm>
            <a:off x="5796000" y="1847880"/>
            <a:ext cx="923760" cy="117648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3" name="Text Box 10"/>
          <p:cNvSpPr/>
          <p:nvPr/>
        </p:nvSpPr>
        <p:spPr>
          <a:xfrm>
            <a:off x="6388560" y="1851480"/>
            <a:ext cx="772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PMingLiU"/>
              </a:rPr>
              <a:t>Zipf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9520" y="167760"/>
            <a:ext cx="856908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lick-stream data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1175" name="Group 12"/>
          <p:cNvGrpSpPr/>
          <p:nvPr/>
        </p:nvGrpSpPr>
        <p:grpSpPr>
          <a:xfrm>
            <a:off x="320760" y="1853640"/>
            <a:ext cx="3125880" cy="2695680"/>
            <a:chOff x="320760" y="1853640"/>
            <a:chExt cx="3125880" cy="2695680"/>
          </a:xfrm>
        </p:grpSpPr>
        <p:sp>
          <p:nvSpPr>
            <p:cNvPr id="1176" name="Text Box 13"/>
            <p:cNvSpPr/>
            <p:nvPr/>
          </p:nvSpPr>
          <p:spPr>
            <a:xfrm>
              <a:off x="320760" y="1853640"/>
              <a:ext cx="14104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ctr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4000" spc="-1" strike="noStrike">
                  <a:solidFill>
                    <a:srgbClr val="000066"/>
                  </a:solidFill>
                  <a:latin typeface="Times New Roman"/>
                  <a:ea typeface="PMingLiU"/>
                </a:rPr>
                <a:t>u-id’s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7" name="Oval 14"/>
            <p:cNvSpPr/>
            <p:nvPr/>
          </p:nvSpPr>
          <p:spPr>
            <a:xfrm>
              <a:off x="903240" y="266652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8" name="Oval 15"/>
            <p:cNvSpPr/>
            <p:nvPr/>
          </p:nvSpPr>
          <p:spPr>
            <a:xfrm>
              <a:off x="911880" y="298152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9" name="Oval 16"/>
            <p:cNvSpPr/>
            <p:nvPr/>
          </p:nvSpPr>
          <p:spPr>
            <a:xfrm>
              <a:off x="920880" y="3676320"/>
              <a:ext cx="16560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0" name="Oval 17"/>
            <p:cNvSpPr/>
            <p:nvPr/>
          </p:nvSpPr>
          <p:spPr>
            <a:xfrm>
              <a:off x="2926440" y="269316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1" name="Oval 18"/>
            <p:cNvSpPr/>
            <p:nvPr/>
          </p:nvSpPr>
          <p:spPr>
            <a:xfrm>
              <a:off x="2919240" y="439560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2" name="Oval 19"/>
            <p:cNvSpPr/>
            <p:nvPr/>
          </p:nvSpPr>
          <p:spPr>
            <a:xfrm>
              <a:off x="2919240" y="302904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3" name="Oval 20"/>
            <p:cNvSpPr/>
            <p:nvPr/>
          </p:nvSpPr>
          <p:spPr>
            <a:xfrm>
              <a:off x="2927880" y="368676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4" name="Oval 21"/>
            <p:cNvSpPr/>
            <p:nvPr/>
          </p:nvSpPr>
          <p:spPr>
            <a:xfrm>
              <a:off x="2925000" y="334404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5" name="Text Box 22"/>
            <p:cNvSpPr/>
            <p:nvPr/>
          </p:nvSpPr>
          <p:spPr>
            <a:xfrm>
              <a:off x="2290680" y="1862280"/>
              <a:ext cx="11559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ctr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4000" spc="-1" strike="noStrike">
                  <a:solidFill>
                    <a:srgbClr val="000066"/>
                  </a:solidFill>
                  <a:latin typeface="Times New Roman"/>
                  <a:ea typeface="PMingLiU"/>
                </a:rPr>
                <a:t>url’s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186" name="AutoShape 23"/>
            <p:cNvCxnSpPr>
              <a:stCxn id="1177" idx="6"/>
              <a:endCxn id="1180" idx="2"/>
            </p:cNvCxnSpPr>
            <p:nvPr/>
          </p:nvCxnSpPr>
          <p:spPr>
            <a:xfrm>
              <a:off x="1090080" y="2743200"/>
              <a:ext cx="1815480" cy="2700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sm" type="triangle" w="sm"/>
            </a:ln>
          </p:spPr>
        </p:cxnSp>
        <p:cxnSp>
          <p:nvCxnSpPr>
            <p:cNvPr id="1187" name="AutoShape 24"/>
            <p:cNvCxnSpPr>
              <a:stCxn id="1177" idx="6"/>
            </p:cNvCxnSpPr>
            <p:nvPr/>
          </p:nvCxnSpPr>
          <p:spPr>
            <a:xfrm>
              <a:off x="1090080" y="2743200"/>
              <a:ext cx="1806840" cy="33156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sm" type="triangle" w="sm"/>
            </a:ln>
          </p:spPr>
        </p:cxnSp>
        <p:cxnSp>
          <p:nvCxnSpPr>
            <p:cNvPr id="1188" name="AutoShape 25"/>
            <p:cNvCxnSpPr/>
            <p:nvPr/>
          </p:nvCxnSpPr>
          <p:spPr>
            <a:xfrm>
              <a:off x="1097280" y="2743560"/>
              <a:ext cx="1811880" cy="63792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sm" type="triangle" w="sm"/>
            </a:ln>
          </p:spPr>
        </p:cxnSp>
        <p:cxnSp>
          <p:nvCxnSpPr>
            <p:cNvPr id="1189" name="AutoShape 26"/>
            <p:cNvCxnSpPr>
              <a:stCxn id="1178" idx="6"/>
            </p:cNvCxnSpPr>
            <p:nvPr/>
          </p:nvCxnSpPr>
          <p:spPr>
            <a:xfrm flipV="1">
              <a:off x="1098720" y="2794320"/>
              <a:ext cx="1810440" cy="26460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sm" type="triangle" w="sm"/>
            </a:ln>
          </p:spPr>
        </p:cxnSp>
        <p:cxnSp>
          <p:nvCxnSpPr>
            <p:cNvPr id="1190" name="AutoShape 27"/>
            <p:cNvCxnSpPr>
              <a:stCxn id="1179" idx="6"/>
              <a:endCxn id="1182" idx="2"/>
            </p:cNvCxnSpPr>
            <p:nvPr/>
          </p:nvCxnSpPr>
          <p:spPr>
            <a:xfrm flipV="1">
              <a:off x="1108080" y="3105360"/>
              <a:ext cx="1791360" cy="64800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sm" type="triangle" w="sm"/>
            </a:ln>
          </p:spPr>
        </p:cxnSp>
      </p:grpSp>
      <p:sp>
        <p:nvSpPr>
          <p:cNvPr id="1191" name="Line 28"/>
          <p:cNvSpPr/>
          <p:nvPr/>
        </p:nvSpPr>
        <p:spPr>
          <a:xfrm>
            <a:off x="7261200" y="5372280"/>
            <a:ext cx="484200" cy="971280"/>
          </a:xfrm>
          <a:prstGeom prst="line">
            <a:avLst/>
          </a:prstGeom>
          <a:ln cap="sq"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2" name="Text Box 29"/>
          <p:cNvSpPr/>
          <p:nvPr/>
        </p:nvSpPr>
        <p:spPr>
          <a:xfrm>
            <a:off x="8417160" y="6030000"/>
            <a:ext cx="1377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PMingLiU"/>
              </a:rPr>
              <a:t>log(freq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3" name="Text Box 30"/>
          <p:cNvSpPr/>
          <p:nvPr/>
        </p:nvSpPr>
        <p:spPr>
          <a:xfrm>
            <a:off x="3837600" y="4308120"/>
            <a:ext cx="1581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PMingLiU"/>
              </a:rPr>
              <a:t>log(count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4" name="Text Box 31"/>
          <p:cNvSpPr/>
          <p:nvPr/>
        </p:nvSpPr>
        <p:spPr>
          <a:xfrm>
            <a:off x="7495920" y="2630160"/>
            <a:ext cx="1232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‘</a:t>
            </a: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yahoo’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5" name="Line 32"/>
          <p:cNvSpPr/>
          <p:nvPr/>
        </p:nvSpPr>
        <p:spPr>
          <a:xfrm flipH="1">
            <a:off x="7875360" y="3133800"/>
            <a:ext cx="301320" cy="573120"/>
          </a:xfrm>
          <a:prstGeom prst="line">
            <a:avLst/>
          </a:prstGeom>
          <a:ln cap="sq" w="12600">
            <a:solidFill>
              <a:srgbClr val="0066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6" name="Text Box 33"/>
          <p:cNvSpPr/>
          <p:nvPr/>
        </p:nvSpPr>
        <p:spPr>
          <a:xfrm>
            <a:off x="7530480" y="5174280"/>
            <a:ext cx="20174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‘</a:t>
            </a: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super-surfer’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7" name="Line 34"/>
          <p:cNvSpPr/>
          <p:nvPr/>
        </p:nvSpPr>
        <p:spPr>
          <a:xfrm flipH="1">
            <a:off x="7839000" y="5821200"/>
            <a:ext cx="300240" cy="573120"/>
          </a:xfrm>
          <a:prstGeom prst="line">
            <a:avLst/>
          </a:prstGeom>
          <a:ln cap="sq" w="12600">
            <a:solidFill>
              <a:srgbClr val="0066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8" name="Slide Number Placeholder 37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15709249-22A4-49D0-9C94-E87EC701CF90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Date Placeholder 1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0" name="Footer Placeholder 2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01" name="Picture 2" descr="fig1b-nature01a"/>
          <p:cNvPicPr/>
          <p:nvPr/>
        </p:nvPicPr>
        <p:blipFill>
          <a:blip r:embed="rId1"/>
          <a:stretch/>
        </p:blipFill>
        <p:spPr>
          <a:xfrm>
            <a:off x="5124600" y="2100240"/>
            <a:ext cx="4368600" cy="3537000"/>
          </a:xfrm>
          <a:prstGeom prst="rect">
            <a:avLst/>
          </a:prstGeom>
          <a:ln w="0">
            <a:noFill/>
          </a:ln>
        </p:spPr>
      </p:pic>
      <p:sp>
        <p:nvSpPr>
          <p:cNvPr id="1202" name="Text Box 3"/>
          <p:cNvSpPr/>
          <p:nvPr/>
        </p:nvSpPr>
        <p:spPr>
          <a:xfrm>
            <a:off x="6545880" y="-63360"/>
            <a:ext cx="338004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Swedish sex-web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3" name="Text Box 4"/>
          <p:cNvSpPr/>
          <p:nvPr/>
        </p:nvSpPr>
        <p:spPr>
          <a:xfrm>
            <a:off x="5559480" y="671400"/>
            <a:ext cx="45226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Nodes: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people (Females; Males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Links: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 sexual relationship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4" name="Text Box 5"/>
          <p:cNvSpPr/>
          <p:nvPr/>
        </p:nvSpPr>
        <p:spPr>
          <a:xfrm>
            <a:off x="6372720" y="7056360"/>
            <a:ext cx="3699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Liljeros et al.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Nature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2001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5" name="Text Box 6"/>
          <p:cNvSpPr/>
          <p:nvPr/>
        </p:nvSpPr>
        <p:spPr>
          <a:xfrm>
            <a:off x="6153840" y="5880240"/>
            <a:ext cx="308124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4781 Swedes; 18-74;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59% response rate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6" name="Text Box 7"/>
          <p:cNvSpPr/>
          <p:nvPr/>
        </p:nvSpPr>
        <p:spPr>
          <a:xfrm>
            <a:off x="0" y="993600"/>
            <a:ext cx="507672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Albert Laszlo Barabasi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http://www.nd.edu/~networks/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Publication%20Categories/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04%20Talks/2005-norway-3hours.pp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7" name="Slide Number Placeholder 10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AADE0AD6-AC93-4AB5-A5BA-B6BEE336AF4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9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Lotka’s law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839520" y="2099880"/>
            <a:ext cx="85690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(Lotka’s law of publication count); and citation counts: (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citeseer.nj.nec.com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6/2001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12" name="Picture 4" descr="cited-pdf2-pv"/>
          <p:cNvPicPr/>
          <p:nvPr/>
        </p:nvPicPr>
        <p:blipFill>
          <a:blip r:embed="rId1"/>
          <a:stretch/>
        </p:blipFill>
        <p:spPr>
          <a:xfrm>
            <a:off x="2521080" y="3695760"/>
            <a:ext cx="4282920" cy="2871720"/>
          </a:xfrm>
          <a:prstGeom prst="rect">
            <a:avLst/>
          </a:prstGeom>
          <a:ln w="0">
            <a:noFill/>
          </a:ln>
        </p:spPr>
      </p:pic>
      <p:sp>
        <p:nvSpPr>
          <p:cNvPr id="1213" name="Text Box 5"/>
          <p:cNvSpPr/>
          <p:nvPr/>
        </p:nvSpPr>
        <p:spPr>
          <a:xfrm>
            <a:off x="7155000" y="6218640"/>
            <a:ext cx="213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PMingLiU"/>
              </a:rPr>
              <a:t>log(#citations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4" name="Text Box 6"/>
          <p:cNvSpPr/>
          <p:nvPr/>
        </p:nvSpPr>
        <p:spPr>
          <a:xfrm>
            <a:off x="388080" y="4035240"/>
            <a:ext cx="1581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PMingLiU"/>
              </a:rPr>
              <a:t>log(count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5" name="Text Box 7"/>
          <p:cNvSpPr/>
          <p:nvPr/>
        </p:nvSpPr>
        <p:spPr>
          <a:xfrm>
            <a:off x="6058800" y="5124600"/>
            <a:ext cx="14871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PMingLiU"/>
              </a:rPr>
              <a:t>J. Ullman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6" name="Line 8"/>
          <p:cNvSpPr/>
          <p:nvPr/>
        </p:nvSpPr>
        <p:spPr>
          <a:xfrm flipH="1">
            <a:off x="6384960" y="5796000"/>
            <a:ext cx="84240" cy="419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7" name="Slide Number Placeholder 11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73E1AED3-519E-4718-B3AE-41E82A6CADB9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9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onclusions - Law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667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’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and patterns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Power laws for degrees, eigenvalues, </a:t>
            </a:r>
            <a:r>
              <a:rPr b="0" lang="en-US" sz="3100" spc="-1" strike="noStrike">
                <a:solidFill>
                  <a:srgbClr val="000066"/>
                </a:solidFill>
                <a:latin typeface="Courier New"/>
              </a:rPr>
              <a:t>‘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communities</a:t>
            </a:r>
            <a:r>
              <a:rPr b="0" lang="en-US" sz="3100" spc="-1" strike="noStrike">
                <a:solidFill>
                  <a:srgbClr val="000066"/>
                </a:solidFill>
                <a:latin typeface="Courier New"/>
              </a:rPr>
              <a:t>’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/core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mall diameter and shrinking diameter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Bow-tie; jelly-fish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densification power law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2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E9A21579-4B71-43EF-BF42-E7CB0EC20387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Summary- Generator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referential attachment (Barabasi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Variations + extensions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copying model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riad-closing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Butterfly model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Recursion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–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Kronecker graph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7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35A47FC1-1137-41DE-A876-FF6D1C109765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9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onclusions - Tool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 laws </a:t>
            </a:r>
            <a:r>
              <a:rPr b="0" lang="en-US" sz="3500" spc="-1" strike="noStrike">
                <a:solidFill>
                  <a:srgbClr val="000066"/>
                </a:solidFill>
                <a:latin typeface="Courier New"/>
              </a:rPr>
              <a:t>–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rank/frequency plots ~ log-log NCDF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og-log PDF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lf-similarity / recursion / fractal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08508ADF-4912-4913-A303-16B016FB3082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onclusions - Tools (cont’d)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Real settings/graphs: skewed distribution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mean’ is meaningles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lope of power law, instead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7" name="Rectangle 4"/>
          <p:cNvSpPr/>
          <p:nvPr/>
        </p:nvSpPr>
        <p:spPr>
          <a:xfrm>
            <a:off x="1644480" y="5106960"/>
            <a:ext cx="1733760" cy="12193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8" name="Freeform 5"/>
          <p:cNvSpPr/>
          <p:nvPr/>
        </p:nvSpPr>
        <p:spPr>
          <a:xfrm>
            <a:off x="1746360" y="5716440"/>
            <a:ext cx="1581120" cy="576360"/>
          </a:xfrm>
          <a:prstGeom prst="pie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9" name="Text Box 6"/>
          <p:cNvSpPr/>
          <p:nvPr/>
        </p:nvSpPr>
        <p:spPr>
          <a:xfrm>
            <a:off x="3104280" y="6454800"/>
            <a:ext cx="120384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degree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0" name="Text Box 7"/>
          <p:cNvSpPr/>
          <p:nvPr/>
        </p:nvSpPr>
        <p:spPr>
          <a:xfrm>
            <a:off x="965520" y="5030640"/>
            <a:ext cx="104076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count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1" name="Text Box 8"/>
          <p:cNvSpPr/>
          <p:nvPr/>
        </p:nvSpPr>
        <p:spPr>
          <a:xfrm>
            <a:off x="2548440" y="5081760"/>
            <a:ext cx="54864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??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2" name="Line 9"/>
          <p:cNvSpPr/>
          <p:nvPr/>
        </p:nvSpPr>
        <p:spPr>
          <a:xfrm>
            <a:off x="2664000" y="6275520"/>
            <a:ext cx="0" cy="101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3" name="Text Box 10"/>
          <p:cNvSpPr/>
          <p:nvPr/>
        </p:nvSpPr>
        <p:spPr>
          <a:xfrm>
            <a:off x="2511360" y="6480000"/>
            <a:ext cx="35892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880" rIns="110880" tIns="55440" bIns="5544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4" name="Rectangle 11"/>
          <p:cNvSpPr/>
          <p:nvPr/>
        </p:nvSpPr>
        <p:spPr>
          <a:xfrm>
            <a:off x="4254480" y="5078520"/>
            <a:ext cx="1731960" cy="12207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5" name="Freeform 12"/>
          <p:cNvSpPr/>
          <p:nvPr/>
        </p:nvSpPr>
        <p:spPr>
          <a:xfrm>
            <a:off x="4376880" y="5194440"/>
            <a:ext cx="1558800" cy="1052280"/>
          </a:xfrm>
          <a:prstGeom prst="pie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6" name="Text Box 13"/>
          <p:cNvSpPr/>
          <p:nvPr/>
        </p:nvSpPr>
        <p:spPr>
          <a:xfrm>
            <a:off x="3575520" y="5003640"/>
            <a:ext cx="104076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count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7" name="Line 14"/>
          <p:cNvSpPr/>
          <p:nvPr/>
        </p:nvSpPr>
        <p:spPr>
          <a:xfrm>
            <a:off x="5273640" y="6246720"/>
            <a:ext cx="0" cy="1033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8" name="Text Box 15"/>
          <p:cNvSpPr/>
          <p:nvPr/>
        </p:nvSpPr>
        <p:spPr>
          <a:xfrm>
            <a:off x="5121360" y="6450120"/>
            <a:ext cx="35712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880" rIns="110880" tIns="55440" bIns="5544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9" name="WordArt 16"/>
          <p:cNvSpPr txBox="1"/>
          <p:nvPr/>
        </p:nvSpPr>
        <p:spPr>
          <a:xfrm>
            <a:off x="1644480" y="4546440"/>
            <a:ext cx="1733760" cy="12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RONG 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0" name="Slide Number Placeholder 19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AEE87D43-42DE-4927-9273-34EFAACED76E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2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onclusions - Tools (cont’d)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Real settings/graphs: skewed distribution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mean’ is meaningles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lope of power law, instead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5" name="Rectangle 4"/>
          <p:cNvSpPr/>
          <p:nvPr/>
        </p:nvSpPr>
        <p:spPr>
          <a:xfrm>
            <a:off x="1644480" y="5106960"/>
            <a:ext cx="1733760" cy="12193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6" name="Freeform 5"/>
          <p:cNvSpPr/>
          <p:nvPr/>
        </p:nvSpPr>
        <p:spPr>
          <a:xfrm>
            <a:off x="1746360" y="5716440"/>
            <a:ext cx="1581120" cy="576360"/>
          </a:xfrm>
          <a:prstGeom prst="pie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7" name="Text Box 6"/>
          <p:cNvSpPr/>
          <p:nvPr/>
        </p:nvSpPr>
        <p:spPr>
          <a:xfrm>
            <a:off x="3104280" y="6454800"/>
            <a:ext cx="120384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degree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8" name="Text Box 7"/>
          <p:cNvSpPr/>
          <p:nvPr/>
        </p:nvSpPr>
        <p:spPr>
          <a:xfrm>
            <a:off x="965520" y="5030640"/>
            <a:ext cx="104076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count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9" name="Text Box 8"/>
          <p:cNvSpPr/>
          <p:nvPr/>
        </p:nvSpPr>
        <p:spPr>
          <a:xfrm>
            <a:off x="2548440" y="5081760"/>
            <a:ext cx="54864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??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0" name="Line 9"/>
          <p:cNvSpPr/>
          <p:nvPr/>
        </p:nvSpPr>
        <p:spPr>
          <a:xfrm>
            <a:off x="2664000" y="6275520"/>
            <a:ext cx="0" cy="101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1" name="Text Box 10"/>
          <p:cNvSpPr/>
          <p:nvPr/>
        </p:nvSpPr>
        <p:spPr>
          <a:xfrm>
            <a:off x="2511360" y="6480000"/>
            <a:ext cx="35892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880" rIns="110880" tIns="55440" bIns="5544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2" name="Rectangle 11"/>
          <p:cNvSpPr/>
          <p:nvPr/>
        </p:nvSpPr>
        <p:spPr>
          <a:xfrm>
            <a:off x="4254480" y="5078520"/>
            <a:ext cx="1731960" cy="12207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3" name="Freeform 12"/>
          <p:cNvSpPr/>
          <p:nvPr/>
        </p:nvSpPr>
        <p:spPr>
          <a:xfrm>
            <a:off x="4376880" y="5194440"/>
            <a:ext cx="1558800" cy="1052280"/>
          </a:xfrm>
          <a:prstGeom prst="pie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4" name="Text Box 13"/>
          <p:cNvSpPr/>
          <p:nvPr/>
        </p:nvSpPr>
        <p:spPr>
          <a:xfrm>
            <a:off x="3575520" y="5003640"/>
            <a:ext cx="104076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count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5" name="Line 14"/>
          <p:cNvSpPr/>
          <p:nvPr/>
        </p:nvSpPr>
        <p:spPr>
          <a:xfrm>
            <a:off x="5273640" y="6246720"/>
            <a:ext cx="0" cy="1033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6" name="Text Box 15"/>
          <p:cNvSpPr/>
          <p:nvPr/>
        </p:nvSpPr>
        <p:spPr>
          <a:xfrm>
            <a:off x="5121360" y="6450120"/>
            <a:ext cx="35712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880" rIns="110880" tIns="55440" bIns="5544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7" name="WordArt 16"/>
          <p:cNvSpPr txBox="1"/>
          <p:nvPr/>
        </p:nvSpPr>
        <p:spPr>
          <a:xfrm>
            <a:off x="1644480" y="4546440"/>
            <a:ext cx="1733760" cy="12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RONG 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68" name="Rectangle 17"/>
          <p:cNvSpPr/>
          <p:nvPr/>
        </p:nvSpPr>
        <p:spPr>
          <a:xfrm>
            <a:off x="7415280" y="5073480"/>
            <a:ext cx="1731960" cy="12211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9" name="Text Box 18"/>
          <p:cNvSpPr/>
          <p:nvPr/>
        </p:nvSpPr>
        <p:spPr>
          <a:xfrm>
            <a:off x="7992000" y="6402240"/>
            <a:ext cx="19216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Times New Roman"/>
              </a:rPr>
              <a:t>log</a:t>
            </a: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(degree)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0" name="Text Box 19"/>
          <p:cNvSpPr/>
          <p:nvPr/>
        </p:nvSpPr>
        <p:spPr>
          <a:xfrm>
            <a:off x="7076520" y="4383000"/>
            <a:ext cx="175860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Times New Roman"/>
              </a:rPr>
              <a:t>log</a:t>
            </a:r>
            <a:r>
              <a:rPr b="0" lang="en-US" sz="2900" spc="-1" strike="noStrike">
                <a:solidFill>
                  <a:srgbClr val="000066"/>
                </a:solidFill>
                <a:latin typeface="Times New Roman"/>
              </a:rPr>
              <a:t>(count)</a:t>
            </a:r>
            <a:endParaRPr b="0" lang="en-US" sz="2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1" name="Line 20"/>
          <p:cNvSpPr/>
          <p:nvPr/>
        </p:nvSpPr>
        <p:spPr>
          <a:xfrm>
            <a:off x="7746840" y="5281560"/>
            <a:ext cx="1144800" cy="795240"/>
          </a:xfrm>
          <a:prstGeom prst="line">
            <a:avLst/>
          </a:prstGeom>
          <a:ln cap="sq"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2" name="Slide Number Placeholder 23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1A44416E-17F1-4D0A-A2E2-AEDAD77B295D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4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Conclusions - Tools (cont’d)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Recursion/self-similarity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May reveal non-obvious patterns (e.g., bow-ties within bow-ties within bow-ties) [Dill+, ‘01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77" name="Group 4"/>
          <p:cNvGrpSpPr/>
          <p:nvPr/>
        </p:nvGrpSpPr>
        <p:grpSpPr>
          <a:xfrm>
            <a:off x="2824200" y="4268880"/>
            <a:ext cx="3196440" cy="988560"/>
            <a:chOff x="2824200" y="4268880"/>
            <a:chExt cx="3196440" cy="988560"/>
          </a:xfrm>
        </p:grpSpPr>
        <p:sp>
          <p:nvSpPr>
            <p:cNvPr id="1278" name="Oval 5"/>
            <p:cNvSpPr/>
            <p:nvPr/>
          </p:nvSpPr>
          <p:spPr>
            <a:xfrm>
              <a:off x="3865320" y="4312800"/>
              <a:ext cx="1149480" cy="9169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9" name="Freeform 6"/>
            <p:cNvSpPr/>
            <p:nvPr/>
          </p:nvSpPr>
          <p:spPr>
            <a:xfrm>
              <a:off x="2824200" y="4268880"/>
              <a:ext cx="1007640" cy="967680"/>
            </a:xfrm>
            <a:prstGeom prst="pie">
              <a:avLst/>
            </a:prstGeom>
            <a:noFill/>
            <a:ln cap="sq"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0" name="Freeform 7"/>
            <p:cNvSpPr/>
            <p:nvPr/>
          </p:nvSpPr>
          <p:spPr>
            <a:xfrm flipH="1">
              <a:off x="5012640" y="4289760"/>
              <a:ext cx="1007640" cy="967680"/>
            </a:xfrm>
            <a:prstGeom prst="pie">
              <a:avLst/>
            </a:prstGeom>
            <a:noFill/>
            <a:ln cap="sq"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81" name="Group 8"/>
          <p:cNvGrpSpPr/>
          <p:nvPr/>
        </p:nvGrpSpPr>
        <p:grpSpPr>
          <a:xfrm>
            <a:off x="3184560" y="4584600"/>
            <a:ext cx="2445840" cy="303120"/>
            <a:chOff x="3184560" y="4584600"/>
            <a:chExt cx="2445840" cy="303120"/>
          </a:xfrm>
        </p:grpSpPr>
        <p:sp>
          <p:nvSpPr>
            <p:cNvPr id="1282" name="Oval 9"/>
            <p:cNvSpPr/>
            <p:nvPr/>
          </p:nvSpPr>
          <p:spPr>
            <a:xfrm>
              <a:off x="3981240" y="4597920"/>
              <a:ext cx="879480" cy="2815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3" name="Freeform 10"/>
            <p:cNvSpPr/>
            <p:nvPr/>
          </p:nvSpPr>
          <p:spPr>
            <a:xfrm>
              <a:off x="3184560" y="4584600"/>
              <a:ext cx="771120" cy="297000"/>
            </a:xfrm>
            <a:prstGeom prst="pie">
              <a:avLst/>
            </a:prstGeom>
            <a:noFill/>
            <a:ln cap="sq"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4" name="Freeform 11"/>
            <p:cNvSpPr/>
            <p:nvPr/>
          </p:nvSpPr>
          <p:spPr>
            <a:xfrm flipH="1">
              <a:off x="4859280" y="4590720"/>
              <a:ext cx="771120" cy="297000"/>
            </a:xfrm>
            <a:prstGeom prst="pie">
              <a:avLst/>
            </a:prstGeom>
            <a:noFill/>
            <a:ln cap="sq"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85" name="Text Box 12"/>
          <p:cNvSpPr/>
          <p:nvPr/>
        </p:nvSpPr>
        <p:spPr>
          <a:xfrm>
            <a:off x="843120" y="5727960"/>
            <a:ext cx="858492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 iterate is human, to recurse is divine”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6" name="Slide Number Placeholder 15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AB73288F-DA88-46B3-A3D1-E023CE2D6DD3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Date Placeholder 3"/>
          <p:cNvSpPr/>
          <p:nvPr/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8" name="Footer Placeholder 4"/>
          <p:cNvSpPr/>
          <p:nvPr/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a50021"/>
                </a:solidFill>
                <a:latin typeface="Times New Roman"/>
              </a:rPr>
              <a:t>Resources</a:t>
            </a:r>
            <a:endParaRPr b="1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755280" y="2184480"/>
            <a:ext cx="89218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enerators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Kronecker (christos@cs.cmu.edu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BRITE  http://www.cs.bu.edu/brite/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NET: http://topology.eecs.umich.edu/ine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1" name="Slide Number Placeholder 6"/>
          <p:cNvSpPr/>
          <p:nvPr/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1-</a:t>
            </a:r>
            <a:fld id="{AD20F985-14A4-4DDC-AC09-1F1E3ACDDC73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os Faloutsos</dc:creator>
  <dc:description/>
  <dc:language>en-US</dc:language>
  <cp:lastModifiedBy>Hanghang Tong</cp:lastModifiedBy>
  <cp:lastPrinted>2006-04-11T04:11:47Z</cp:lastPrinted>
  <dcterms:modified xsi:type="dcterms:W3CDTF">2009-02-19T03:31:26Z</dcterms:modified>
  <cp:revision>175</cp:revision>
  <dc:subject/>
  <dc:title>graph mining - part1</dc:title>
</cp:coreProperties>
</file>