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26.png" ContentType="image/png"/>
  <Override PartName="/ppt/media/image13.wmf" ContentType="image/x-wmf"/>
  <Override PartName="/ppt/media/image14.png" ContentType="image/png"/>
  <Override PartName="/ppt/media/image34.wmf" ContentType="image/x-wmf"/>
  <Override PartName="/ppt/media/image42.jpeg" ContentType="image/jpeg"/>
  <Override PartName="/ppt/media/image9.wmf" ContentType="image/x-wmf"/>
  <Override PartName="/ppt/media/image39.wmf" ContentType="image/x-wmf"/>
  <Override PartName="/ppt/media/image41.png" ContentType="image/png"/>
  <Override PartName="/ppt/media/image31.wmf" ContentType="image/x-wmf"/>
  <Override PartName="/ppt/media/image11.png" ContentType="image/png"/>
  <Override PartName="/ppt/media/image29.wmf" ContentType="image/x-wmf"/>
  <Override PartName="/ppt/media/image32.wmf" ContentType="image/x-wmf"/>
  <Override PartName="/ppt/media/image33.wmf" ContentType="image/x-wmf"/>
  <Override PartName="/ppt/media/image30.wmf" ContentType="image/x-wmf"/>
  <Override PartName="/ppt/media/image28.wmf" ContentType="image/x-wmf"/>
  <Override PartName="/ppt/media/image43.png" ContentType="image/png"/>
  <Override PartName="/ppt/media/image8.wmf" ContentType="image/x-wmf"/>
  <Override PartName="/ppt/media/image40.png" ContentType="image/png"/>
  <Override PartName="/ppt/media/image3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</p:sldIdLst>
  <p:sldSz cx="9144000" cy="6858000"/>
  <p:notesSz cx="6858000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096-9383-4100-AC4F-00276990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5A2-B914-4799-B8A7-1AEE99DB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B84-65AB-474B-A0A7-82F8DB9F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906-871A-4327-821F-6D5AE3E4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124-3D4B-4B6F-B3DF-16FC24B2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2CA-30CD-4C10-8ABD-0FE8E974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CCB-7B94-4376-8658-2D8FBB5E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64E-C196-43A5-B163-234923D7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B2A-4474-47C4-A971-3B1B63FF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A28-D27A-468E-9320-396A3A9B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EE4-FF18-4FCA-8E09-EC19098B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013-7472-4DEE-9650-0F1B572D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CB1D-BA94-4CBA-BAE5-6A9482D2DCCB}" type="slidenum"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MU_CS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0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8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0.wmf"/><Relationship Id="rId5" Type="http://schemas.openxmlformats.org/officeDocument/2006/relationships/image" Target="../media/image26.png"/><Relationship Id="rId6" Type="http://schemas.openxmlformats.org/officeDocument/2006/relationships/package" Target="../embeddings/oleObject3.docx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4.wmf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6.wmf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34.wmf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8.wmf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9.wmf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Next Generation Data Mining Tools: SVD and Fractal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C. Faloutso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outlin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nterpretation; more propert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pplications - success stor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2860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9B70-D3FC-4EA0-A59D-F340521FF5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Case studi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pplications - success stor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ulti-lingual IR; LSI queries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ompression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CA - ‘ratio rules’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Karhunen-Lowe transform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Kleinberg/google algorithm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33520" y="4267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588-4115-4DFA-A2F4-6DBD0A0DB88A}" type="slidenum">
              <a:t>10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K-L transform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609480" y="2133720"/>
            <a:ext cx="3047760" cy="2599920"/>
            <a:chOff x="609480" y="2133720"/>
            <a:chExt cx="3047760" cy="2599920"/>
          </a:xfrm>
        </p:grpSpPr>
        <p:pic>
          <p:nvPicPr>
            <p:cNvPr id="1425" name="img52" descr=""/>
            <p:cNvPicPr/>
            <p:nvPr/>
          </p:nvPicPr>
          <p:blipFill>
            <a:blip r:embed="rId1"/>
            <a:stretch/>
          </p:blipFill>
          <p:spPr>
            <a:xfrm>
              <a:off x="745920" y="2267640"/>
              <a:ext cx="2638440" cy="24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6" name=""/>
            <p:cNvSpPr/>
            <p:nvPr/>
          </p:nvSpPr>
          <p:spPr>
            <a:xfrm>
              <a:off x="836640" y="4415400"/>
              <a:ext cx="282060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09480" y="2133720"/>
              <a:ext cx="363600" cy="2326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428" name=""/>
          <p:cNvSpPr/>
          <p:nvPr/>
        </p:nvSpPr>
        <p:spPr>
          <a:xfrm>
            <a:off x="1143000" y="5334120"/>
            <a:ext cx="350532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1143000" y="1904760"/>
            <a:ext cx="0" cy="34290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726800" y="1889280"/>
            <a:ext cx="41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[Duda &amp; Hart]; [Fukunaga]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A subtle point: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VD will give vectors tha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go through the origin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1143000" y="2209320"/>
            <a:ext cx="1523880" cy="312444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1143000" y="4571640"/>
            <a:ext cx="380880" cy="762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636200" y="45410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238-F3D1-4748-87A2-8EDBB47B3BFA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K-L transform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grpSp>
        <p:nvGrpSpPr>
          <p:cNvPr id="1435" name=""/>
          <p:cNvGrpSpPr/>
          <p:nvPr/>
        </p:nvGrpSpPr>
        <p:grpSpPr>
          <a:xfrm>
            <a:off x="609480" y="2133720"/>
            <a:ext cx="3047760" cy="2599920"/>
            <a:chOff x="609480" y="2133720"/>
            <a:chExt cx="3047760" cy="2599920"/>
          </a:xfrm>
        </p:grpSpPr>
        <p:pic>
          <p:nvPicPr>
            <p:cNvPr id="1436" name="img52" descr=""/>
            <p:cNvPicPr/>
            <p:nvPr/>
          </p:nvPicPr>
          <p:blipFill>
            <a:blip r:embed="rId1"/>
            <a:stretch/>
          </p:blipFill>
          <p:spPr>
            <a:xfrm>
              <a:off x="745920" y="2267640"/>
              <a:ext cx="2638440" cy="24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7" name=""/>
            <p:cNvSpPr/>
            <p:nvPr/>
          </p:nvSpPr>
          <p:spPr>
            <a:xfrm>
              <a:off x="836640" y="4415400"/>
              <a:ext cx="282060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09480" y="2133720"/>
              <a:ext cx="363600" cy="2326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1143000" y="5334120"/>
            <a:ext cx="350532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1143000" y="1904760"/>
            <a:ext cx="0" cy="34290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802040" y="1815120"/>
            <a:ext cx="39708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A subtle point: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VD will give vectors tha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go through the origin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Q: how to find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1143000" y="2209320"/>
            <a:ext cx="1523880" cy="3124440"/>
          </a:xfrm>
          <a:prstGeom prst="line">
            <a:avLst/>
          </a:prstGeom>
          <a:ln cap="rnd" w="158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1143000" y="4571640"/>
            <a:ext cx="380880" cy="762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636200" y="45410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143000" y="4419720"/>
            <a:ext cx="91440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1981080" y="2895480"/>
            <a:ext cx="685800" cy="533520"/>
          </a:xfrm>
          <a:prstGeom prst="line">
            <a:avLst/>
          </a:prstGeom>
          <a:ln w="7632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1218960" y="2209680"/>
            <a:ext cx="2361960" cy="1828800"/>
          </a:xfrm>
          <a:prstGeom prst="line">
            <a:avLst/>
          </a:prstGeom>
          <a:ln w="158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757960" y="2911320"/>
            <a:ext cx="58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B9D-6A55-4151-96F3-7D2A12B13193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K-L transform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609480" y="2133720"/>
            <a:ext cx="3047760" cy="2599920"/>
            <a:chOff x="609480" y="2133720"/>
            <a:chExt cx="3047760" cy="2599920"/>
          </a:xfrm>
        </p:grpSpPr>
        <p:pic>
          <p:nvPicPr>
            <p:cNvPr id="1451" name="img52" descr=""/>
            <p:cNvPicPr/>
            <p:nvPr/>
          </p:nvPicPr>
          <p:blipFill>
            <a:blip r:embed="rId1"/>
            <a:stretch/>
          </p:blipFill>
          <p:spPr>
            <a:xfrm>
              <a:off x="745920" y="2267640"/>
              <a:ext cx="2638440" cy="24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2" name=""/>
            <p:cNvSpPr/>
            <p:nvPr/>
          </p:nvSpPr>
          <p:spPr>
            <a:xfrm>
              <a:off x="836640" y="4415400"/>
              <a:ext cx="282060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09480" y="2133720"/>
              <a:ext cx="363600" cy="2326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1143000" y="5334120"/>
            <a:ext cx="350532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1143000" y="1904760"/>
            <a:ext cx="0" cy="342900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946040" y="1571400"/>
            <a:ext cx="419652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A subtle point: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VD will give vectors tha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go through the origin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Q: how to find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A: ‘centered’ PCA, ie.,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ove the origin to center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of gravity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1143000" y="2209320"/>
            <a:ext cx="1523880" cy="3124440"/>
          </a:xfrm>
          <a:prstGeom prst="line">
            <a:avLst/>
          </a:prstGeom>
          <a:ln cap="rnd" w="158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1143000" y="4571640"/>
            <a:ext cx="380880" cy="762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636200" y="45410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143000" y="4419720"/>
            <a:ext cx="91440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1981080" y="2895480"/>
            <a:ext cx="685800" cy="533520"/>
          </a:xfrm>
          <a:prstGeom prst="line">
            <a:avLst/>
          </a:prstGeom>
          <a:ln w="7632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>
            <a:off x="1218960" y="2209680"/>
            <a:ext cx="2361960" cy="1828800"/>
          </a:xfrm>
          <a:prstGeom prst="line">
            <a:avLst/>
          </a:prstGeom>
          <a:ln w="158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757960" y="2911320"/>
            <a:ext cx="58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E86-4952-4171-9646-2F21438E5584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K-L transform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609480" y="2133720"/>
            <a:ext cx="3047760" cy="2599920"/>
            <a:chOff x="609480" y="2133720"/>
            <a:chExt cx="3047760" cy="2599920"/>
          </a:xfrm>
        </p:grpSpPr>
        <p:pic>
          <p:nvPicPr>
            <p:cNvPr id="1466" name="img52" descr=""/>
            <p:cNvPicPr/>
            <p:nvPr/>
          </p:nvPicPr>
          <p:blipFill>
            <a:blip r:embed="rId1"/>
            <a:stretch/>
          </p:blipFill>
          <p:spPr>
            <a:xfrm>
              <a:off x="745920" y="2267640"/>
              <a:ext cx="2638440" cy="24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7" name=""/>
            <p:cNvSpPr/>
            <p:nvPr/>
          </p:nvSpPr>
          <p:spPr>
            <a:xfrm>
              <a:off x="836640" y="4415400"/>
              <a:ext cx="2820600" cy="3132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09480" y="2133720"/>
              <a:ext cx="363600" cy="2326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469" name=""/>
          <p:cNvSpPr/>
          <p:nvPr/>
        </p:nvSpPr>
        <p:spPr>
          <a:xfrm>
            <a:off x="1143000" y="5334120"/>
            <a:ext cx="3505320" cy="0"/>
          </a:xfrm>
          <a:prstGeom prst="line">
            <a:avLst/>
          </a:prstGeom>
          <a:ln cap="rnd" w="38160">
            <a:solidFill>
              <a:srgbClr val="0066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1143000" y="1904760"/>
            <a:ext cx="0" cy="3429000"/>
          </a:xfrm>
          <a:prstGeom prst="line">
            <a:avLst/>
          </a:prstGeom>
          <a:ln cap="rnd" w="38160">
            <a:solidFill>
              <a:srgbClr val="0066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946040" y="1359000"/>
            <a:ext cx="419652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A subtle point: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VD will give vectors tha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go through the origin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Q: how to find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A: ‘centered’ PCA, ie.,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ove the origin to center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of gravity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and THEN do SVD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1981080" y="2895480"/>
            <a:ext cx="685800" cy="533520"/>
          </a:xfrm>
          <a:prstGeom prst="line">
            <a:avLst/>
          </a:prstGeom>
          <a:ln w="7632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1218960" y="2209680"/>
            <a:ext cx="2361960" cy="1828800"/>
          </a:xfrm>
          <a:prstGeom prst="line">
            <a:avLst/>
          </a:prstGeom>
          <a:ln w="158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757960" y="2911320"/>
            <a:ext cx="58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981080" y="3429000"/>
            <a:ext cx="251460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1981080" y="1066680"/>
            <a:ext cx="0" cy="23623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AA5D-8154-458F-B758-11BB4419DA61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outlin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pplications - success stor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04920" y="38862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603-6BE9-4675-893E-94B6D41BA4C9}" type="slidenum">
              <a:t>10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Case studi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pplications - success stor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ulti-lingual IR; LSI queries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ompression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CA - ‘ratio rules’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Karhunen-Lowe transform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Kleinberg/google algorithm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09480" y="47242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FCA-AC32-4F8A-8FC8-BD37E0A3BFC9}" type="slidenum">
              <a:t>10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Kleinberg’s algorithm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roblem dfn: given the web and a query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find the most ‘authoritative’ web pages for this query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tep 0: find all pages containing the query term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tep 1: expand by one move forward and backward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56E-E30D-48F8-B012-D5A43FBA4060}" type="slidenum">
              <a:t>10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Kleinberg’s algorithm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tep 1: expand by one move forward and backward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295280" y="4800600"/>
            <a:ext cx="228600" cy="22860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819520" y="4114800"/>
            <a:ext cx="228600" cy="228600"/>
          </a:xfrm>
          <a:prstGeom prst="ellipse">
            <a:avLst/>
          </a:prstGeom>
          <a:solidFill>
            <a:srgbClr val="0066ff"/>
          </a:solidFill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133720" y="4038480"/>
            <a:ext cx="228600" cy="228600"/>
          </a:xfrm>
          <a:prstGeom prst="ellipse">
            <a:avLst/>
          </a:prstGeom>
          <a:solidFill>
            <a:srgbClr val="0066ff"/>
          </a:solidFill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200400" y="4952880"/>
            <a:ext cx="228600" cy="22860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505320" y="3962520"/>
            <a:ext cx="228600" cy="22860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209680" y="4952880"/>
            <a:ext cx="228600" cy="228600"/>
          </a:xfrm>
          <a:prstGeom prst="ellipse">
            <a:avLst/>
          </a:prstGeom>
          <a:solidFill>
            <a:srgbClr val="0066ff"/>
          </a:solidFill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143000" y="4114800"/>
            <a:ext cx="228600" cy="22860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cxnSp>
        <p:nvCxnSpPr>
          <p:cNvPr id="1494" name=""/>
          <p:cNvCxnSpPr>
            <a:stCxn id="1489" idx="6"/>
            <a:endCxn id="1488" idx="2"/>
          </p:cNvCxnSpPr>
          <p:nvPr/>
        </p:nvCxnSpPr>
        <p:spPr>
          <a:xfrm>
            <a:off x="2370240" y="4152960"/>
            <a:ext cx="442080" cy="76680"/>
          </a:xfrm>
          <a:prstGeom prst="straightConnector1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495" name=""/>
          <p:cNvCxnSpPr>
            <a:stCxn id="1492" idx="6"/>
            <a:endCxn id="1488" idx="3"/>
          </p:cNvCxnSpPr>
          <p:nvPr/>
        </p:nvCxnSpPr>
        <p:spPr>
          <a:xfrm flipV="1">
            <a:off x="2445840" y="4317480"/>
            <a:ext cx="407160" cy="750240"/>
          </a:xfrm>
          <a:prstGeom prst="straightConnector1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496" name=""/>
          <p:cNvCxnSpPr>
            <a:stCxn id="1492" idx="6"/>
            <a:endCxn id="1490" idx="2"/>
          </p:cNvCxnSpPr>
          <p:nvPr/>
        </p:nvCxnSpPr>
        <p:spPr>
          <a:xfrm>
            <a:off x="2445840" y="5067000"/>
            <a:ext cx="747000" cy="1080"/>
          </a:xfrm>
          <a:prstGeom prst="straightConnector1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497" name=""/>
          <p:cNvCxnSpPr>
            <a:stCxn id="1488" idx="6"/>
            <a:endCxn id="1491" idx="2"/>
          </p:cNvCxnSpPr>
          <p:nvPr/>
        </p:nvCxnSpPr>
        <p:spPr>
          <a:xfrm flipV="1">
            <a:off x="3056040" y="4076280"/>
            <a:ext cx="442080" cy="153360"/>
          </a:xfrm>
          <a:prstGeom prst="straightConnector1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498" name=""/>
          <p:cNvCxnSpPr>
            <a:stCxn id="1493" idx="6"/>
            <a:endCxn id="1489" idx="2"/>
          </p:cNvCxnSpPr>
          <p:nvPr/>
        </p:nvCxnSpPr>
        <p:spPr>
          <a:xfrm flipV="1">
            <a:off x="1379160" y="4152960"/>
            <a:ext cx="747000" cy="76680"/>
          </a:xfrm>
          <a:prstGeom prst="straightConnector1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499" name=""/>
          <p:cNvCxnSpPr>
            <a:stCxn id="1487" idx="7"/>
            <a:endCxn id="1489" idx="3"/>
          </p:cNvCxnSpPr>
          <p:nvPr/>
        </p:nvCxnSpPr>
        <p:spPr>
          <a:xfrm flipV="1">
            <a:off x="1490760" y="4241160"/>
            <a:ext cx="676800" cy="585000"/>
          </a:xfrm>
          <a:prstGeom prst="straightConnector1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500" name=""/>
          <p:cNvSpPr/>
          <p:nvPr/>
        </p:nvSpPr>
        <p:spPr>
          <a:xfrm>
            <a:off x="1981080" y="3429000"/>
            <a:ext cx="1143000" cy="205740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F1D-74CD-4FE4-B108-68C5C5BAA583}" type="slidenum">
              <a:t>10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Kleinberg’s algorithm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on the resulting graph, give high score (= ‘authorities’) to nodes that many important nodes point to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give high importance score (‘hubs’) to nodes that point to good ‘authorities’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1066680" y="4800600"/>
            <a:ext cx="1828800" cy="914040"/>
            <a:chOff x="1066680" y="4800600"/>
            <a:chExt cx="1828800" cy="914040"/>
          </a:xfrm>
        </p:grpSpPr>
        <p:sp>
          <p:nvSpPr>
            <p:cNvPr id="1504" name=""/>
            <p:cNvSpPr/>
            <p:nvPr/>
          </p:nvSpPr>
          <p:spPr>
            <a:xfrm>
              <a:off x="1173960" y="5429160"/>
              <a:ext cx="161280" cy="171360"/>
            </a:xfrm>
            <a:prstGeom prst="ellipse">
              <a:avLst/>
            </a:prstGeom>
            <a:noFill/>
            <a:ln w="158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250000" y="4914720"/>
              <a:ext cx="161280" cy="171360"/>
            </a:xfrm>
            <a:prstGeom prst="ellipse">
              <a:avLst/>
            </a:prstGeom>
            <a:solidFill>
              <a:srgbClr val="0066ff"/>
            </a:solidFill>
            <a:ln w="158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765800" y="4857480"/>
              <a:ext cx="161280" cy="171360"/>
            </a:xfrm>
            <a:prstGeom prst="ellipse">
              <a:avLst/>
            </a:prstGeom>
            <a:solidFill>
              <a:srgbClr val="0066ff"/>
            </a:solidFill>
            <a:ln w="158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518920" y="5543280"/>
              <a:ext cx="161280" cy="171360"/>
            </a:xfrm>
            <a:prstGeom prst="ellipse">
              <a:avLst/>
            </a:prstGeom>
            <a:noFill/>
            <a:ln w="158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734200" y="4800600"/>
              <a:ext cx="161280" cy="171360"/>
            </a:xfrm>
            <a:prstGeom prst="ellipse">
              <a:avLst/>
            </a:prstGeom>
            <a:noFill/>
            <a:ln w="158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819440" y="5543280"/>
              <a:ext cx="161280" cy="171360"/>
            </a:xfrm>
            <a:prstGeom prst="ellipse">
              <a:avLst/>
            </a:prstGeom>
            <a:solidFill>
              <a:srgbClr val="0066ff"/>
            </a:solidFill>
            <a:ln w="158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066680" y="4914720"/>
              <a:ext cx="161280" cy="171360"/>
            </a:xfrm>
            <a:prstGeom prst="ellipse">
              <a:avLst/>
            </a:prstGeom>
            <a:noFill/>
            <a:ln w="158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cxnSp>
          <p:nvCxnSpPr>
            <p:cNvPr id="1511" name=""/>
            <p:cNvCxnSpPr>
              <a:stCxn id="1506" idx="6"/>
              <a:endCxn id="1505" idx="2"/>
            </p:cNvCxnSpPr>
            <p:nvPr/>
          </p:nvCxnSpPr>
          <p:spPr>
            <a:xfrm>
              <a:off x="1932480" y="4942800"/>
              <a:ext cx="311760" cy="57960"/>
            </a:xfrm>
            <a:prstGeom prst="straightConnector1">
              <a:avLst/>
            </a:prstGeom>
            <a:ln w="1584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1512" name=""/>
            <p:cNvCxnSpPr>
              <a:stCxn id="1509" idx="6"/>
              <a:endCxn id="1505" idx="3"/>
            </p:cNvCxnSpPr>
            <p:nvPr/>
          </p:nvCxnSpPr>
          <p:spPr>
            <a:xfrm flipV="1">
              <a:off x="1986480" y="5066280"/>
              <a:ext cx="286920" cy="562680"/>
            </a:xfrm>
            <a:prstGeom prst="straightConnector1">
              <a:avLst/>
            </a:prstGeom>
            <a:ln w="1584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1513" name=""/>
            <p:cNvCxnSpPr>
              <a:stCxn id="1509" idx="6"/>
              <a:endCxn id="1507" idx="2"/>
            </p:cNvCxnSpPr>
            <p:nvPr/>
          </p:nvCxnSpPr>
          <p:spPr>
            <a:xfrm>
              <a:off x="1986120" y="5628960"/>
              <a:ext cx="527400" cy="1080"/>
            </a:xfrm>
            <a:prstGeom prst="straightConnector1">
              <a:avLst/>
            </a:prstGeom>
            <a:ln w="1584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1514" name=""/>
            <p:cNvCxnSpPr>
              <a:stCxn id="1505" idx="6"/>
              <a:endCxn id="1508" idx="2"/>
            </p:cNvCxnSpPr>
            <p:nvPr/>
          </p:nvCxnSpPr>
          <p:spPr>
            <a:xfrm flipV="1">
              <a:off x="2416680" y="4885560"/>
              <a:ext cx="311760" cy="115200"/>
            </a:xfrm>
            <a:prstGeom prst="straightConnector1">
              <a:avLst/>
            </a:prstGeom>
            <a:ln w="1584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1515" name=""/>
            <p:cNvCxnSpPr>
              <a:stCxn id="1510" idx="6"/>
              <a:endCxn id="1506" idx="2"/>
            </p:cNvCxnSpPr>
            <p:nvPr/>
          </p:nvCxnSpPr>
          <p:spPr>
            <a:xfrm flipV="1">
              <a:off x="1233000" y="4942440"/>
              <a:ext cx="527400" cy="57960"/>
            </a:xfrm>
            <a:prstGeom prst="straightConnector1">
              <a:avLst/>
            </a:prstGeom>
            <a:ln w="15840">
              <a:solidFill>
                <a:srgbClr val="0066ff"/>
              </a:solidFill>
              <a:miter/>
              <a:tailEnd len="med" type="triangle" w="med"/>
            </a:ln>
          </p:spPr>
        </p:cxnSp>
        <p:cxnSp>
          <p:nvCxnSpPr>
            <p:cNvPr id="1516" name=""/>
            <p:cNvCxnSpPr>
              <a:stCxn id="1504" idx="7"/>
              <a:endCxn id="1506" idx="3"/>
            </p:cNvCxnSpPr>
            <p:nvPr/>
          </p:nvCxnSpPr>
          <p:spPr>
            <a:xfrm flipV="1">
              <a:off x="1311480" y="5009400"/>
              <a:ext cx="477720" cy="438840"/>
            </a:xfrm>
            <a:prstGeom prst="straightConnector1">
              <a:avLst/>
            </a:prstGeom>
            <a:ln w="15840">
              <a:solidFill>
                <a:srgbClr val="0066ff"/>
              </a:solidFill>
              <a:miter/>
              <a:tailEnd len="med" type="triangle" w="med"/>
            </a:ln>
          </p:spPr>
        </p:cxnSp>
      </p:grpSp>
      <p:sp>
        <p:nvSpPr>
          <p:cNvPr id="1517" name=""/>
          <p:cNvSpPr/>
          <p:nvPr/>
        </p:nvSpPr>
        <p:spPr>
          <a:xfrm>
            <a:off x="4419720" y="5334120"/>
            <a:ext cx="160200" cy="17136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181480" y="5334120"/>
            <a:ext cx="162000" cy="17136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181480" y="4800600"/>
            <a:ext cx="162000" cy="17136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105520" y="5791320"/>
            <a:ext cx="160200" cy="17136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419720" y="5715000"/>
            <a:ext cx="161640" cy="17136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343400" y="4915080"/>
            <a:ext cx="162000" cy="17136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cxnSp>
        <p:nvCxnSpPr>
          <p:cNvPr id="1523" name=""/>
          <p:cNvCxnSpPr>
            <a:stCxn id="1517" idx="6"/>
            <a:endCxn id="1518" idx="2"/>
          </p:cNvCxnSpPr>
          <p:nvPr/>
        </p:nvCxnSpPr>
        <p:spPr>
          <a:xfrm>
            <a:off x="4587480" y="5419440"/>
            <a:ext cx="586440" cy="1080"/>
          </a:xfrm>
          <a:prstGeom prst="straightConnector1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524" name=""/>
          <p:cNvCxnSpPr>
            <a:stCxn id="1521" idx="6"/>
            <a:endCxn id="1518" idx="3"/>
          </p:cNvCxnSpPr>
          <p:nvPr/>
        </p:nvCxnSpPr>
        <p:spPr>
          <a:xfrm flipV="1">
            <a:off x="4589640" y="5487120"/>
            <a:ext cx="615960" cy="313560"/>
          </a:xfrm>
          <a:prstGeom prst="straightConnector1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525" name=""/>
          <p:cNvCxnSpPr>
            <a:stCxn id="1521" idx="6"/>
            <a:endCxn id="1520" idx="2"/>
          </p:cNvCxnSpPr>
          <p:nvPr/>
        </p:nvCxnSpPr>
        <p:spPr>
          <a:xfrm>
            <a:off x="4589280" y="5800680"/>
            <a:ext cx="508680" cy="76680"/>
          </a:xfrm>
          <a:prstGeom prst="straightConnector1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526" name=""/>
          <p:cNvCxnSpPr>
            <a:stCxn id="1522" idx="6"/>
            <a:endCxn id="1519" idx="2"/>
          </p:cNvCxnSpPr>
          <p:nvPr/>
        </p:nvCxnSpPr>
        <p:spPr>
          <a:xfrm flipV="1">
            <a:off x="4513320" y="4885920"/>
            <a:ext cx="660600" cy="115200"/>
          </a:xfrm>
          <a:prstGeom prst="straightConnector1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527" name=""/>
          <p:cNvCxnSpPr>
            <a:stCxn id="1517" idx="7"/>
            <a:endCxn id="1519" idx="3"/>
          </p:cNvCxnSpPr>
          <p:nvPr/>
        </p:nvCxnSpPr>
        <p:spPr>
          <a:xfrm flipV="1">
            <a:off x="4555800" y="4954320"/>
            <a:ext cx="649800" cy="397440"/>
          </a:xfrm>
          <a:prstGeom prst="straightConnector1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528" name=""/>
          <p:cNvSpPr/>
          <p:nvPr/>
        </p:nvSpPr>
        <p:spPr>
          <a:xfrm>
            <a:off x="3383640" y="530316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hub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410080" y="530316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authoritie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3200400" y="4648320"/>
            <a:ext cx="0" cy="167616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2B9-0F69-423D-B923-4F0E897D70A0}" type="slidenum">
              <a:t>10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Definition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73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76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0555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69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5EC-D438-4F17-9348-7947DE1768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Kleinberg’s algorithm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recursive definition!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ach node (say, ‘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’-th node) has both an authoritativeness score 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and a hubness score 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CEF-214D-4F92-8C21-93CDE8D11F61}" type="slidenum">
              <a:t>1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Kleinberg’s algorithm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Let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be the adjacency matrix: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he (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i,j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) entry is 1 if the edge from 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exist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Let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be  [n x 1] vectors with the ‘hubness’ and ‘authoritativiness’ scores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Then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4B1-626C-4A7F-B07B-87E57ADC2F5F}" type="slidenum">
              <a:t>1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Kleinberg’s algorithm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Then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 = h</a:t>
            </a:r>
            <a:r>
              <a:rPr b="0" i="1" lang="en-US" sz="3200" spc="-1" strike="noStrike" baseline="-25000">
                <a:solidFill>
                  <a:srgbClr val="0066ff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 + h</a:t>
            </a:r>
            <a:r>
              <a:rPr b="0" i="1" lang="en-US" sz="3200" spc="-1" strike="noStrike" baseline="-25000">
                <a:solidFill>
                  <a:srgbClr val="0066ff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 + h</a:t>
            </a:r>
            <a:r>
              <a:rPr b="0" i="1" lang="en-US" sz="3200" spc="-1" strike="noStrike" baseline="-25000">
                <a:solidFill>
                  <a:srgbClr val="0066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that i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Sum (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66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)     over all 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that (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j,i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) edge exist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174680" y="3676680"/>
            <a:ext cx="160560" cy="17136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765440" y="3105000"/>
            <a:ext cx="161640" cy="17172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990720" y="2743200"/>
            <a:ext cx="161640" cy="17136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066680" y="3162240"/>
            <a:ext cx="162000" cy="17136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cxnSp>
        <p:nvCxnSpPr>
          <p:cNvPr id="1541" name=""/>
          <p:cNvCxnSpPr>
            <a:stCxn id="1540" idx="6"/>
            <a:endCxn id="1538" idx="2"/>
          </p:cNvCxnSpPr>
          <p:nvPr/>
        </p:nvCxnSpPr>
        <p:spPr>
          <a:xfrm flipV="1">
            <a:off x="1233360" y="3190680"/>
            <a:ext cx="527760" cy="57600"/>
          </a:xfrm>
          <a:prstGeom prst="straightConnector1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542" name=""/>
          <p:cNvCxnSpPr>
            <a:stCxn id="1537" idx="7"/>
            <a:endCxn id="1538" idx="3"/>
          </p:cNvCxnSpPr>
          <p:nvPr/>
        </p:nvCxnSpPr>
        <p:spPr>
          <a:xfrm flipV="1">
            <a:off x="1312560" y="3256920"/>
            <a:ext cx="477000" cy="438840"/>
          </a:xfrm>
          <a:prstGeom prst="straightConnector1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543" name=""/>
          <p:cNvCxnSpPr>
            <a:stCxn id="1539" idx="5"/>
            <a:endCxn id="1538" idx="1"/>
          </p:cNvCxnSpPr>
          <p:nvPr/>
        </p:nvCxnSpPr>
        <p:spPr>
          <a:xfrm>
            <a:off x="1128240" y="2897280"/>
            <a:ext cx="661320" cy="226080"/>
          </a:xfrm>
          <a:prstGeom prst="straightConnector1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1544" name=""/>
          <p:cNvSpPr/>
          <p:nvPr/>
        </p:nvSpPr>
        <p:spPr>
          <a:xfrm>
            <a:off x="353880" y="2636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17160" y="31694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9840" y="37029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070000" y="30171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B42-BAD8-4007-99A4-F609A757A7D7}" type="slidenum">
              <a:t>1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Kleinberg’s algorithm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ymmetrically, for the ‘hubness’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 = a</a:t>
            </a:r>
            <a:r>
              <a:rPr b="0" i="1" lang="en-US" sz="3200" spc="-1" strike="noStrike" baseline="-25000">
                <a:solidFill>
                  <a:srgbClr val="0066ff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 + a</a:t>
            </a:r>
            <a:r>
              <a:rPr b="0" i="1" lang="en-US" sz="3200" spc="-1" strike="noStrike" baseline="-25000">
                <a:solidFill>
                  <a:srgbClr val="0066ff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 + a</a:t>
            </a:r>
            <a:r>
              <a:rPr b="0" i="1" lang="en-US" sz="3200" spc="-1" strike="noStrike" baseline="-25000">
                <a:solidFill>
                  <a:srgbClr val="0066ff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that i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Sum (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66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)     over all 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that (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i,j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) edge exist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600200" y="3733920"/>
            <a:ext cx="160200" cy="17136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765440" y="3105000"/>
            <a:ext cx="161640" cy="17172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990720" y="2743200"/>
            <a:ext cx="161640" cy="17136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600200" y="2209680"/>
            <a:ext cx="162000" cy="17172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211120" y="2742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019240" y="213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108160" y="3733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82320" y="2133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cxnSp>
        <p:nvCxnSpPr>
          <p:cNvPr id="1558" name=""/>
          <p:cNvCxnSpPr>
            <a:stCxn id="1552" idx="7"/>
            <a:endCxn id="1553" idx="2"/>
          </p:cNvCxnSpPr>
          <p:nvPr/>
        </p:nvCxnSpPr>
        <p:spPr>
          <a:xfrm flipV="1">
            <a:off x="1128600" y="2294640"/>
            <a:ext cx="464400" cy="466200"/>
          </a:xfrm>
          <a:prstGeom prst="straightConnector1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559" name=""/>
          <p:cNvCxnSpPr>
            <a:stCxn id="1552" idx="6"/>
            <a:endCxn id="1551" idx="2"/>
          </p:cNvCxnSpPr>
          <p:nvPr/>
        </p:nvCxnSpPr>
        <p:spPr>
          <a:xfrm>
            <a:off x="1160640" y="2828880"/>
            <a:ext cx="597600" cy="362520"/>
          </a:xfrm>
          <a:prstGeom prst="straightConnector1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1560" name=""/>
          <p:cNvCxnSpPr>
            <a:stCxn id="1552" idx="4"/>
            <a:endCxn id="1550" idx="1"/>
          </p:cNvCxnSpPr>
          <p:nvPr/>
        </p:nvCxnSpPr>
        <p:spPr>
          <a:xfrm>
            <a:off x="1071720" y="2922480"/>
            <a:ext cx="552960" cy="829440"/>
          </a:xfrm>
          <a:prstGeom prst="straightConnector1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04C-CFA7-4F65-9EDC-31AFD37F96EC}" type="slidenum">
              <a:t>1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Kleinberg’s algorithm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n conclusion, we want vectors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such that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That is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 a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9A48-A948-443D-9D0A-D4F525BB7281}" type="slidenum">
              <a:t>1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Kleinberg’s algorithm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is a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right- eigenvector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of the adjacency matrix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by dfn!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tarting from random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’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nd iterating, we’ll eventually converge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Q: to which of all the eigenvectors? why?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993-7E91-41F5-ACE4-1B9FE1DA8894}" type="slidenum">
              <a:t>1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Kleinberg’s algorithm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Q: to which of all the eigenvectors? why?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: to the one of the strongest eigenvalue, because of [Property 2]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k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’ ~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constant)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317-6118-4440-9165-68A55E89A08D}" type="slidenum">
              <a:t>1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Kleinberg’s algorithm - result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g., for the query ‘java’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0.328 www.gamelan.com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0.251 java.sun.com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0.190 www.digitalfocus.com (“the java developer”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BD9-43A0-4009-9589-CBC748C18CC2}" type="slidenum">
              <a:t>1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Kleinberg’s algorithm - discussion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uthority’ score can be used to find ‘similar pages’ (how?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losely related to ‘citation analysis’, social networks / ‘small world’ phenomena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1CC-B700-4510-B372-BCAFC7439C84}" type="slidenum">
              <a:t>1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google/page-rank algorithm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losely related: imagine a particle randomly moving along the edges (*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mpute its steady-state probabilit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*) with occasional random jump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2DB-D920-44AD-A60C-F0D96C009273}" type="slidenum">
              <a:t>1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Definition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93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96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0555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69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2116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5943600"/>
            <a:ext cx="990720" cy="165240"/>
          </a:xfrm>
          <a:custGeom>
            <a:avLst/>
            <a:gdLst/>
            <a:ahLst/>
            <a:rect l="l" t="t" r="r" b="b"/>
            <a:pathLst>
              <a:path w="624" h="104">
                <a:moveTo>
                  <a:pt x="0" y="0"/>
                </a:moveTo>
                <a:cubicBezTo>
                  <a:pt x="92" y="44"/>
                  <a:pt x="184" y="88"/>
                  <a:pt x="288" y="96"/>
                </a:cubicBezTo>
                <a:cubicBezTo>
                  <a:pt x="392" y="104"/>
                  <a:pt x="508" y="76"/>
                  <a:pt x="624" y="48"/>
                </a:cubicBezTo>
              </a:path>
            </a:pathLst>
          </a:custGeom>
          <a:noFill/>
          <a:ln w="15840">
            <a:solidFill>
              <a:srgbClr val="0066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397480"/>
            <a:ext cx="3276360" cy="241200"/>
          </a:xfrm>
          <a:custGeom>
            <a:avLst/>
            <a:gdLst/>
            <a:ahLst/>
            <a:rect l="l" t="t" r="r" b="b"/>
            <a:pathLst>
              <a:path w="2064" h="152">
                <a:moveTo>
                  <a:pt x="0" y="104"/>
                </a:moveTo>
                <a:cubicBezTo>
                  <a:pt x="500" y="52"/>
                  <a:pt x="1000" y="0"/>
                  <a:pt x="1344" y="8"/>
                </a:cubicBezTo>
                <a:cubicBezTo>
                  <a:pt x="1688" y="16"/>
                  <a:pt x="1876" y="84"/>
                  <a:pt x="2064" y="152"/>
                </a:cubicBezTo>
              </a:path>
            </a:pathLst>
          </a:custGeom>
          <a:noFill/>
          <a:ln w="15840">
            <a:solidFill>
              <a:srgbClr val="0066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6019920"/>
            <a:ext cx="1371600" cy="75960"/>
          </a:xfrm>
          <a:custGeom>
            <a:avLst/>
            <a:gdLst/>
            <a:ahLst/>
            <a:rect l="l" t="t" r="r" b="b"/>
            <a:pathLst>
              <a:path w="864" h="48">
                <a:moveTo>
                  <a:pt x="0" y="0"/>
                </a:moveTo>
                <a:cubicBezTo>
                  <a:pt x="192" y="24"/>
                  <a:pt x="384" y="48"/>
                  <a:pt x="528" y="48"/>
                </a:cubicBezTo>
                <a:cubicBezTo>
                  <a:pt x="672" y="48"/>
                  <a:pt x="768" y="24"/>
                  <a:pt x="864" y="0"/>
                </a:cubicBezTo>
              </a:path>
            </a:pathLst>
          </a:custGeom>
          <a:noFill/>
          <a:ln w="15840">
            <a:solidFill>
              <a:srgbClr val="0066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8DE-D46B-4672-91B3-A6C0CF699B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outlin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pplications - success stor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04920" y="44197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916-8D0F-46F2-818A-47F0D9B0692E}" type="slidenum">
              <a:t>1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conclusion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VD: a </a:t>
            </a: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valuable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tool -  two major properties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A) it gives the 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optimal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low-rank approximation (= least squares best hyper-plane)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it finds ‘concepts’ = principal components = features; (linear) correlation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dim. reduction; visualization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(solves over- and under-constraint problems)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879-E0F8-479F-B737-9F45FC4B2ABC}" type="slidenum">
              <a:t>1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conclusions - cont’d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B) eigenvectors: fixed point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 v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teady-state prob. in Markov Chains / graph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hubs/authoritie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6C2-1B2F-4F97-AC9F-D85EF2EEDA76}" type="slidenum">
              <a:t>1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onclusions  - in detail: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given a (document-term) matrix, it finds ‘concepts’ (LSI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... and can reduce dimensionality (KL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... and can find rules (PCA; RatioRules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077-CD33-4F59-8CB4-B51E7D00D0ED}" type="slidenum">
              <a:t>1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onclusions cont’d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... and can find fixed-points or steady-state probabilities (Kleinberg / google/  Markov Chains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... and can solve optimally over- and under-constraint linear systems - see Appendix, (Eq. C1) - Moore/Penrose pseudo-inverse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39F-E79D-466C-999E-F43CDD47C979}" type="slidenum">
              <a:t>1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Berry, Michael: http://www.cs.utk.edu/~lsi/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Brin, S. and L. Page (1998). 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Anatomy of a Large-Scale Hypertextual Web Search Engine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 7th Intl World Wide Web Conf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hen, C. M. and N. Roussopoulos (May 1994). 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Adaptive Selectivity Estimation Using Query Feedback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 Proc. of the ACM-SIGMOD , Minneapolis, MN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0BEF-01CD-4180-B6BF-7B876648F4B0}" type="slidenum">
              <a:t>1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Duda, R. O. and P. E. Hart (1973). 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Pattern Classification and Scene Analysis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 New York, Wiley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Faloutsos, C. (1996). 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Searching Multimedia Databases by Conten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, Kluwer Academic Inc.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Foltz, P. W. and S. T. Dumais (Dec. 1992). "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Personalized Information Delivery: An Analysis of Information Filtering Methods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" Comm. of ACM (CACM) 35(12): 51-60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9F8-D84F-45A8-9122-243131790623}" type="slidenum">
              <a:t>1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References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Fukunaga, K. (1990). 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Introduction to Statistical Pattern Recognition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, Academic Press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Jolliffe, I. T. (1986). 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Principal Component  Analysis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, Springer Verlag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Kleinberg, J. (1998). 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Authoritative sources in a hyperlinked environmen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 Proc. 9th ACM-SIAM Symposium on Discrete Algorithms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A18-2305-4478-A7F4-1CC950B46F79}" type="slidenum">
              <a:t>1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References</a:t>
            </a:r>
            <a:endParaRPr b="0" lang="en-US" sz="36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Korn, F., H. V. Jagadish, et al. (May 13-15, 1997). 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Efficiently Supporting Ad Hoc Queries in Large Datasets of Time Sequences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 ACM SIGMOD, Tucson, AZ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Korn, F., A. Labrinidis, et al. (1998). 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Ratio Rules: A New Paradigm for Fast, Quantifiable Data Mining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 VLDB, New York, NY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D7FC-5100-41D0-99A9-16A567FFF5F9}" type="slidenum">
              <a:t>1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References</a:t>
            </a:r>
            <a:endParaRPr b="0" lang="en-US" sz="40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Korn, F., A. Labrinidis, et al. (2000). "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Quantifiable Data Mining Using Ratio Rules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" VLDB Journal 8(3-4): 254-266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ress, W. H., S. A. Teukolsky, et al. (1992). 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Numerical Recipes in C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, Cambridge University Press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trang, G. (1980). 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Linear Algebra and Its Applications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, Academic Press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509-04EF-44CF-9DA3-AA4CBC4D5C84}" type="slidenum">
              <a:t>1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Definition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117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120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0555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69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2116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5943600"/>
            <a:ext cx="990720" cy="165240"/>
          </a:xfrm>
          <a:custGeom>
            <a:avLst/>
            <a:gdLst/>
            <a:ahLst/>
            <a:rect l="l" t="t" r="r" b="b"/>
            <a:pathLst>
              <a:path w="624" h="104">
                <a:moveTo>
                  <a:pt x="0" y="0"/>
                </a:moveTo>
                <a:cubicBezTo>
                  <a:pt x="92" y="44"/>
                  <a:pt x="184" y="88"/>
                  <a:pt x="288" y="96"/>
                </a:cubicBezTo>
                <a:cubicBezTo>
                  <a:pt x="392" y="104"/>
                  <a:pt x="508" y="76"/>
                  <a:pt x="624" y="48"/>
                </a:cubicBezTo>
              </a:path>
            </a:pathLst>
          </a:custGeom>
          <a:noFill/>
          <a:ln w="15840">
            <a:solidFill>
              <a:srgbClr val="0066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5397480"/>
            <a:ext cx="3276360" cy="241200"/>
          </a:xfrm>
          <a:custGeom>
            <a:avLst/>
            <a:gdLst/>
            <a:ahLst/>
            <a:rect l="l" t="t" r="r" b="b"/>
            <a:pathLst>
              <a:path w="2064" h="152">
                <a:moveTo>
                  <a:pt x="0" y="104"/>
                </a:moveTo>
                <a:cubicBezTo>
                  <a:pt x="500" y="52"/>
                  <a:pt x="1000" y="0"/>
                  <a:pt x="1344" y="8"/>
                </a:cubicBezTo>
                <a:cubicBezTo>
                  <a:pt x="1688" y="16"/>
                  <a:pt x="1876" y="84"/>
                  <a:pt x="2064" y="152"/>
                </a:cubicBezTo>
              </a:path>
            </a:pathLst>
          </a:custGeom>
          <a:noFill/>
          <a:ln w="15840">
            <a:solidFill>
              <a:srgbClr val="0066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6019920"/>
            <a:ext cx="1371600" cy="75960"/>
          </a:xfrm>
          <a:custGeom>
            <a:avLst/>
            <a:gdLst/>
            <a:ahLst/>
            <a:rect l="l" t="t" r="r" b="b"/>
            <a:pathLst>
              <a:path w="864" h="48">
                <a:moveTo>
                  <a:pt x="0" y="0"/>
                </a:moveTo>
                <a:cubicBezTo>
                  <a:pt x="192" y="24"/>
                  <a:pt x="384" y="48"/>
                  <a:pt x="528" y="48"/>
                </a:cubicBezTo>
                <a:cubicBezTo>
                  <a:pt x="672" y="48"/>
                  <a:pt x="768" y="24"/>
                  <a:pt x="864" y="0"/>
                </a:cubicBezTo>
              </a:path>
            </a:pathLst>
          </a:custGeom>
          <a:noFill/>
          <a:ln w="15840">
            <a:solidFill>
              <a:srgbClr val="0066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581280"/>
            <a:ext cx="1828800" cy="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258-E3F0-4093-9920-A4F9FE3251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Appendix: SVD properti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A): obviou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B): less obviou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C): least obvious (and most powerful!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758-72BB-4280-B75E-5A86311F7B0B}" type="slidenum">
              <a:t>1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Properties - by defn.: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(1)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r x n]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n x r ]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r x r ]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identity matrix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(2)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r x n]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n x r ]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r x r ]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(3):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diag(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, ...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) (k: ANY real number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(4)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V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U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62120" y="2438280"/>
            <a:ext cx="7086600" cy="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35E-82E3-47AF-8FD2-583610889D9E}" type="slidenum">
              <a:t>1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Less obvious properti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(1)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m x n]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 ?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838080" y="2514600"/>
            <a:ext cx="6934320" cy="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005-3960-4E05-9448-634B4C4404BF}" type="slidenum">
              <a:t>1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Less obvious properti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(1)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m x n]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ymmetric; Intuition?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F28-8119-4838-AC57-2156BAB3C80B}" type="slidenum">
              <a:t>1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Less obvious properti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(1)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m x n]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ymmetric; Intuition?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document-to-document’ similarity matri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(2): symmetrically, for ‘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’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m x n]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66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Intuition?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F5C-5238-409B-90E9-F7AB5DD97549}" type="slidenum">
              <a:t>1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Less obvious properti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: term-to-term similarity matrix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(3): (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m x n]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k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(4): (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~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k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for k&gt;&gt;1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: [m x 1] first column (eigenvector) of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: strongest eigenvalue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03E-E0A3-4CB7-A2C4-1435ABF9E7E6}" type="slidenum">
              <a:t>1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Less obvious properti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(4): (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~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k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for k&gt;&gt;1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(5): (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k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’ ~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constant)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e., for (almost) any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’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, it converges to a vector parallel to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Thus, useful to compute first eigenvector/value (as well as the next ones, too...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04920" y="2209680"/>
            <a:ext cx="6858000" cy="685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D42-ABC1-4113-9967-BFA9FB3ACA54}" type="slidenum">
              <a:t>1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Less obvious properties - repeated: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(1)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m x n]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(2):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m x n]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(3): (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m x n]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k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(4): (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~ 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k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(5): (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k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’ ~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constant)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169-DCE7-44B9-9993-E16D99E3BF1C}" type="slidenum">
              <a:t>1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Least obvious properti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(1)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m x 1]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b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1]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let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(-1)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if under-specified,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gives ‘shortest’ solution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if over-specified, it gives the ‘solution’ with the smallest least squares error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(see Num. Recipes, p. 62)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80880" y="2971800"/>
            <a:ext cx="8153640" cy="2438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1A9-8C26-4B7F-B6A5-86643D75B721}" type="slidenum">
              <a:t>1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Least obvious properti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llustration: under-specified, eg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[1 2] [w z] 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4  (ie, 1 w + 2 z = 4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1219320" y="3200400"/>
            <a:ext cx="2666880" cy="1905120"/>
            <a:chOff x="1219320" y="3200400"/>
            <a:chExt cx="2666880" cy="1905120"/>
          </a:xfrm>
        </p:grpSpPr>
        <p:sp>
          <p:nvSpPr>
            <p:cNvPr id="1619" name=""/>
            <p:cNvSpPr/>
            <p:nvPr/>
          </p:nvSpPr>
          <p:spPr>
            <a:xfrm>
              <a:off x="1219320" y="5105520"/>
              <a:ext cx="2666880" cy="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V="1">
              <a:off x="1219320" y="3200400"/>
              <a:ext cx="0" cy="190512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621" name=""/>
          <p:cNvSpPr/>
          <p:nvPr/>
        </p:nvSpPr>
        <p:spPr>
          <a:xfrm>
            <a:off x="1525320" y="5180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011320" y="521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620800" y="521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078000" y="521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82480" y="461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30200" y="3931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H="1" flipV="1">
            <a:off x="1066320" y="4114440"/>
            <a:ext cx="221004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892960" y="37332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ll possible solution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2286000" y="4267080"/>
            <a:ext cx="457200" cy="30492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1219320" y="4419360"/>
            <a:ext cx="380880" cy="68580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523880" y="4343400"/>
            <a:ext cx="152640" cy="76320"/>
          </a:xfrm>
          <a:prstGeom prst="ellipse">
            <a:avLst/>
          </a:prstGeom>
          <a:solidFill>
            <a:srgbClr val="339933"/>
          </a:soli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1292760" y="35971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3399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744000" y="5226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94000" y="30934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901880" y="3123360"/>
            <a:ext cx="35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shortest-length solution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1676160" y="3657600"/>
            <a:ext cx="152280" cy="15228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46D6-AB56-4B0E-80E7-1FCFA6A08FA5}" type="slidenum">
              <a:t>1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Definition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144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147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0555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69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2116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5943600"/>
            <a:ext cx="990720" cy="165240"/>
          </a:xfrm>
          <a:custGeom>
            <a:avLst/>
            <a:gdLst/>
            <a:ahLst/>
            <a:rect l="l" t="t" r="r" b="b"/>
            <a:pathLst>
              <a:path w="624" h="104">
                <a:moveTo>
                  <a:pt x="0" y="0"/>
                </a:moveTo>
                <a:cubicBezTo>
                  <a:pt x="92" y="44"/>
                  <a:pt x="184" y="88"/>
                  <a:pt x="288" y="96"/>
                </a:cubicBezTo>
                <a:cubicBezTo>
                  <a:pt x="392" y="104"/>
                  <a:pt x="508" y="76"/>
                  <a:pt x="624" y="48"/>
                </a:cubicBezTo>
              </a:path>
            </a:pathLst>
          </a:custGeom>
          <a:noFill/>
          <a:ln w="15840">
            <a:solidFill>
              <a:srgbClr val="0066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5397480"/>
            <a:ext cx="3276360" cy="241200"/>
          </a:xfrm>
          <a:custGeom>
            <a:avLst/>
            <a:gdLst/>
            <a:ahLst/>
            <a:rect l="l" t="t" r="r" b="b"/>
            <a:pathLst>
              <a:path w="2064" h="152">
                <a:moveTo>
                  <a:pt x="0" y="104"/>
                </a:moveTo>
                <a:cubicBezTo>
                  <a:pt x="500" y="52"/>
                  <a:pt x="1000" y="0"/>
                  <a:pt x="1344" y="8"/>
                </a:cubicBezTo>
                <a:cubicBezTo>
                  <a:pt x="1688" y="16"/>
                  <a:pt x="1876" y="84"/>
                  <a:pt x="2064" y="152"/>
                </a:cubicBezTo>
              </a:path>
            </a:pathLst>
          </a:custGeom>
          <a:noFill/>
          <a:ln w="15840">
            <a:solidFill>
              <a:srgbClr val="0066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6019920"/>
            <a:ext cx="1371600" cy="75960"/>
          </a:xfrm>
          <a:custGeom>
            <a:avLst/>
            <a:gdLst/>
            <a:ahLst/>
            <a:rect l="l" t="t" r="r" b="b"/>
            <a:pathLst>
              <a:path w="864" h="48">
                <a:moveTo>
                  <a:pt x="0" y="0"/>
                </a:moveTo>
                <a:cubicBezTo>
                  <a:pt x="192" y="24"/>
                  <a:pt x="384" y="48"/>
                  <a:pt x="528" y="48"/>
                </a:cubicBezTo>
                <a:cubicBezTo>
                  <a:pt x="672" y="48"/>
                  <a:pt x="768" y="24"/>
                  <a:pt x="864" y="0"/>
                </a:cubicBezTo>
              </a:path>
            </a:pathLst>
          </a:custGeom>
          <a:noFill/>
          <a:ln w="15840">
            <a:solidFill>
              <a:srgbClr val="0066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4191120"/>
            <a:ext cx="1828800" cy="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988-5771-4AAB-BD0A-979EF178D9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Least obvious properti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llustration: over-specified, eg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[3 2]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[w] = [1 2]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(ie, 3 w = 1; 2 w = 2 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1219320" y="3200400"/>
            <a:ext cx="2666880" cy="1905120"/>
            <a:chOff x="1219320" y="3200400"/>
            <a:chExt cx="2666880" cy="1905120"/>
          </a:xfrm>
        </p:grpSpPr>
        <p:sp>
          <p:nvSpPr>
            <p:cNvPr id="1640" name=""/>
            <p:cNvSpPr/>
            <p:nvPr/>
          </p:nvSpPr>
          <p:spPr>
            <a:xfrm>
              <a:off x="1219320" y="5105520"/>
              <a:ext cx="2666880" cy="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1219320" y="3200400"/>
              <a:ext cx="0" cy="190512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642" name=""/>
          <p:cNvSpPr/>
          <p:nvPr/>
        </p:nvSpPr>
        <p:spPr>
          <a:xfrm>
            <a:off x="1525320" y="5180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011320" y="521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620800" y="521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078000" y="521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82480" y="461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30200" y="3931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600200" y="4343400"/>
            <a:ext cx="76320" cy="76320"/>
          </a:xfrm>
          <a:prstGeom prst="ellipse">
            <a:avLst/>
          </a:prstGeom>
          <a:solidFill>
            <a:srgbClr val="0066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219320" y="4343400"/>
            <a:ext cx="457200" cy="76212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lnTo>
                  <a:pt x="528" y="0"/>
                </a:lnTo>
                <a:lnTo>
                  <a:pt x="528" y="240"/>
                </a:lnTo>
              </a:path>
            </a:pathLst>
          </a:custGeom>
          <a:noFill/>
          <a:ln w="158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219320" y="4343400"/>
            <a:ext cx="1523880" cy="762120"/>
          </a:xfrm>
          <a:custGeom>
            <a:avLst/>
            <a:gdLst/>
            <a:ahLst/>
            <a:rect l="l" t="t" r="r" b="b"/>
            <a:pathLst>
              <a:path w="912" h="528">
                <a:moveTo>
                  <a:pt x="0" y="0"/>
                </a:moveTo>
                <a:lnTo>
                  <a:pt x="912" y="0"/>
                </a:lnTo>
                <a:lnTo>
                  <a:pt x="912" y="528"/>
                </a:lnTo>
              </a:path>
            </a:pathLst>
          </a:custGeom>
          <a:noFill/>
          <a:ln w="15840">
            <a:solidFill>
              <a:srgbClr val="0066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V="1">
            <a:off x="838080" y="4190760"/>
            <a:ext cx="2133720" cy="106668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049560" y="4266360"/>
            <a:ext cx="38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reachable points (3w, 2w)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295280" y="312336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desirable point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676520" y="3657600"/>
            <a:ext cx="0" cy="4572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H="1" flipV="1">
            <a:off x="2971440" y="4267080"/>
            <a:ext cx="228600" cy="7632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676520" y="4343400"/>
            <a:ext cx="228600" cy="3808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905120" y="4648320"/>
            <a:ext cx="75960" cy="152280"/>
          </a:xfrm>
          <a:prstGeom prst="ellipse">
            <a:avLst/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625-1E0F-4B32-83D7-A27144A989D8}" type="slidenum">
              <a:t>1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Least obvious properties - cont’d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(2)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m x 1]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u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1]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where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,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the first (column) vectors of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. (v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= right-eigenvector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(3): symmetrically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 =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= left-eigenvector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Therefore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474-4306-4F90-9613-FAD1D9125C87}" type="slidenum">
              <a:t>1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Least obvious properties - cont’d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(4)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v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fixed poin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- the usual dfn of eigenvector for a symmetric matrix)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04920" y="2895480"/>
            <a:ext cx="4724280" cy="6098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F8F-2D56-44EC-AB53-0FFEB690C40C}" type="slidenum">
              <a:t>1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Least obvious properties - altogether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(1)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m x 1]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b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1]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hen,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 baseline="30000">
                <a:solidFill>
                  <a:srgbClr val="0066ff"/>
                </a:solidFill>
                <a:latin typeface="Times New Roman"/>
              </a:rPr>
              <a:t>(-1)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28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b: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hortest, actual or least-squares solution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(2)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m x 1]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u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1]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(3)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 =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(4)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v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AC8-8ECD-417D-9392-31C0EC0B0A16}" type="slidenum">
              <a:t>1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Properties - conclusion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(5): (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k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’ ~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constant)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(1)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[m x 1]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b 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[n x 1]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hen,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 baseline="30000">
                <a:solidFill>
                  <a:srgbClr val="0066ff"/>
                </a:solidFill>
                <a:latin typeface="Times New Roman"/>
              </a:rPr>
              <a:t>(-1)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28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b: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hortest, actual or least-squares solution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(4)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v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80880" y="2819520"/>
            <a:ext cx="8305920" cy="29718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57F-EB09-44A1-B91E-E5DA2A6CA8F4}" type="slidenum">
              <a:t>1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Definition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171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174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012-9AB4-4ADF-B185-A675041FAD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notation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nventions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old capitals -&gt; matrix (eg.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old lower-case -&gt;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column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vector (eg.,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regular lower-case -&gt; scalars (eg.,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,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5DBD-DFC8-4B78-8C78-3086DCADED5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Definition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0066ff"/>
                </a:solidFill>
                <a:latin typeface="Times New Roman"/>
              </a:rPr>
              <a:t>[n x m]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1" lang="en-US" sz="4000" spc="-1" strike="noStrike" baseline="-25000">
                <a:solidFill>
                  <a:srgbClr val="0066ff"/>
                </a:solidFill>
                <a:latin typeface="Times New Roman"/>
              </a:rPr>
              <a:t>[n x r]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ff"/>
                </a:solidFill>
                <a:latin typeface="Symbol"/>
                <a:ea typeface="Symbol"/>
              </a:rPr>
              <a:t></a:t>
            </a:r>
            <a:r>
              <a:rPr b="1" lang="en-US" sz="40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</a:t>
            </a:r>
            <a:r>
              <a:rPr b="1" lang="en-US" sz="4000" spc="-1" strike="noStrike" baseline="-25000">
                <a:solidFill>
                  <a:srgbClr val="0066ff"/>
                </a:solidFill>
                <a:latin typeface="Times New Roman"/>
              </a:rPr>
              <a:t>r x r]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4000" spc="-1" strike="noStrike" baseline="-25000">
                <a:solidFill>
                  <a:srgbClr val="0066ff"/>
                </a:solidFill>
                <a:latin typeface="Times New Roman"/>
              </a:rPr>
              <a:t>[m x r]</a:t>
            </a: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)</a:t>
            </a:r>
            <a:r>
              <a:rPr b="0" lang="en-US" sz="40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: n x m matrix (eg., n documents, m terms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: n x r matrix (n documents, r concepts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: r x r diagonal matrix (strength of each ‘concept’) (r : rank of the matrix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: m x r matrix (m terms, r concepts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676520"/>
            <a:ext cx="7620120" cy="8380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D5A-8BF2-44BF-8FCA-9DEE23D8ED9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Definition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91" name="img740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190760" cy="3539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124080" y="4343400"/>
            <a:ext cx="304920" cy="3049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6C7-E1F5-4860-BFFA-F9157E0B80B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Properti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THEOREM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[Press+92]: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lways possible to decompose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matrix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nto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, where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,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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: unique (*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: column orthonormal (ie., columns are unit vectors, orthogonal to each other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28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;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I (I: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identity matrix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igenvalues are positive, and sorted in decreasing order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214-440C-442E-9D36-6B7C2B4C12E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Times New Roman"/>
              </a:rPr>
              <a:t>Part I:</a:t>
            </a:r>
            <a:r>
              <a:rPr b="1" lang="en-US" sz="48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Singular Value Decomposition (SVD)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= Eigenvalue decomposition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HE_TERMINAL"/>
              </a:rPr>
              <a:t>www.cs.cmu.edu/~christos/TALK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672-56D3-484E-A310-1784F2F4A0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Exampl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587-787B-40B9-993A-D57B4A30A76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Exampl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72880" y="22852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3800" y="2590200"/>
            <a:ext cx="19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D-concep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2971800"/>
            <a:ext cx="0" cy="3808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266720" y="3124080"/>
            <a:ext cx="304920" cy="22860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AF2-1667-4BD2-9FBC-EE20CB6E5F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Exampl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72880" y="22852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3800" y="2590200"/>
            <a:ext cx="19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D-concep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2971800"/>
            <a:ext cx="0" cy="38088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266720" y="3124080"/>
            <a:ext cx="304920" cy="2286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3276720"/>
            <a:ext cx="68580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1676160"/>
            <a:ext cx="25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oc-to-concept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imilarity matri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4E7-508F-4E0E-BD46-B9100E7D12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Exampl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4280" y="2437560"/>
            <a:ext cx="369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trength’ of CS-concep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62720" y="3276720"/>
            <a:ext cx="0" cy="76176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4120" y="3962520"/>
            <a:ext cx="609480" cy="5331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A68F-1455-4F89-A375-40C535DE896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Exampl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53160" y="2072880"/>
            <a:ext cx="25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erm-to-concep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imilarity matri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01680" y="327600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00600" y="3809880"/>
            <a:ext cx="380880" cy="1676520"/>
          </a:xfrm>
          <a:custGeom>
            <a:avLst/>
            <a:gdLst/>
            <a:ahLst/>
            <a:rect l="l" t="t" r="r" b="b"/>
            <a:pathLst>
              <a:path w="240" h="1056">
                <a:moveTo>
                  <a:pt x="0" y="0"/>
                </a:moveTo>
                <a:lnTo>
                  <a:pt x="0" y="1056"/>
                </a:lnTo>
                <a:lnTo>
                  <a:pt x="240" y="1056"/>
                </a:lnTo>
              </a:path>
            </a:pathLst>
          </a:custGeom>
          <a:noFill/>
          <a:ln w="1584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3276720"/>
            <a:ext cx="4495680" cy="19810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3048120"/>
            <a:ext cx="4876560" cy="22096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5D8-A680-4DAD-A31F-FA91950DC7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Exampl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53160" y="2072880"/>
            <a:ext cx="25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erm-to-concep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imilarity matri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01680" y="327600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00600" y="3809880"/>
            <a:ext cx="380880" cy="1676520"/>
          </a:xfrm>
          <a:custGeom>
            <a:avLst/>
            <a:gdLst/>
            <a:ahLst/>
            <a:rect l="l" t="t" r="r" b="b"/>
            <a:pathLst>
              <a:path w="240" h="1056">
                <a:moveTo>
                  <a:pt x="0" y="0"/>
                </a:moveTo>
                <a:lnTo>
                  <a:pt x="0" y="1056"/>
                </a:lnTo>
                <a:lnTo>
                  <a:pt x="240" y="1056"/>
                </a:lnTo>
              </a:path>
            </a:pathLst>
          </a:custGeom>
          <a:noFill/>
          <a:ln w="1584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43000" y="3276720"/>
            <a:ext cx="4495680" cy="19810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38680" y="5181480"/>
            <a:ext cx="60984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D99-498F-4B12-9669-07D91CDD2BC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outlin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nterpretation; more propert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pplications - success stor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" y="28195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E3D-57D2-498E-BADC-E31B1C1772F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1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ocuments’, ‘terms’ and ‘concepts’: [Foltz+92]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: document-to-concept similarity matrix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: term-to-concept sim. matrix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: its diagonal elements: ‘strength’ of each concept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A5A-DF02-486D-9860-B47ED0F87DA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1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ocuments’, ‘terms’ and ‘concepts’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s the document-to-term matrix, what is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Q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 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169-FD21-4484-A616-A1B4F053EC6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1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ocuments’, ‘terms’ and ‘concepts’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s the document-to-term matrix, what is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: term-to-term ([m x m]) similarity matrix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Q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 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: document-to-document ([n x n]) similarity matrix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F42-B71A-419A-A4EE-292206C713A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outlin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nterpretation; more propert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pplications - success stor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828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2AE-E02B-40A4-B031-7E8924E906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2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est axis to project on: (‘best’ = min sum of squares of projection errors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75A-5F43-4DD0-B0B8-B4515260D18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Motivation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428" name="img52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419360" cy="420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542-3D24-4F31-9F8B-DE080AAD8B8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2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581280" y="1905120"/>
            <a:ext cx="5224680" cy="3695760"/>
            <a:chOff x="3581280" y="1905120"/>
            <a:chExt cx="5224680" cy="3695760"/>
          </a:xfrm>
        </p:grpSpPr>
        <p:pic>
          <p:nvPicPr>
            <p:cNvPr id="431" name="img54" descr=""/>
            <p:cNvPicPr/>
            <p:nvPr/>
          </p:nvPicPr>
          <p:blipFill>
            <a:blip r:embed="rId1"/>
            <a:stretch/>
          </p:blipFill>
          <p:spPr>
            <a:xfrm>
              <a:off x="3581280" y="1905120"/>
              <a:ext cx="52246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 flipV="1">
              <a:off x="3886200" y="4800960"/>
              <a:ext cx="38088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5562720" y="2743200"/>
            <a:ext cx="380880" cy="3808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867280" y="3048120"/>
            <a:ext cx="152640" cy="15228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560" y="5105520"/>
            <a:ext cx="3733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inimum RMS error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8280" y="2225160"/>
            <a:ext cx="285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VD: give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best axis to projec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58680" y="43426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B3F0-3ED2-435B-875C-1E5BF1B298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2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439" name="img7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7772400" cy="29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A31-190A-4785-8956-64839A03A07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2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838080" y="3352680"/>
            <a:ext cx="7944120" cy="2917800"/>
            <a:chOff x="838080" y="3352680"/>
            <a:chExt cx="7944120" cy="2917800"/>
          </a:xfrm>
        </p:grpSpPr>
        <p:graphicFrame>
          <p:nvGraphicFramePr>
            <p:cNvPr id="443" name=""/>
            <p:cNvGraphicFramePr/>
            <p:nvPr/>
          </p:nvGraphicFramePr>
          <p:xfrm>
            <a:off x="914400" y="3429000"/>
            <a:ext cx="2065320" cy="2571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3429000"/>
                      <a:ext cx="2065320" cy="257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5" name=""/>
            <p:cNvSpPr/>
            <p:nvPr/>
          </p:nvSpPr>
          <p:spPr>
            <a:xfrm>
              <a:off x="83808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59020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graphicFrame>
          <p:nvGraphicFramePr>
            <p:cNvPr id="447" name=""/>
            <p:cNvGraphicFramePr/>
            <p:nvPr/>
          </p:nvGraphicFramePr>
          <p:xfrm>
            <a:off x="3429000" y="3352680"/>
            <a:ext cx="1244520" cy="2762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29000" y="3352680"/>
                      <a:ext cx="1244520" cy="27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9" name=""/>
            <p:cNvSpPr/>
            <p:nvPr/>
          </p:nvSpPr>
          <p:spPr>
            <a:xfrm flipH="1">
              <a:off x="4571280" y="3352680"/>
              <a:ext cx="15228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7672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97280" y="426636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graphicFrame>
          <p:nvGraphicFramePr>
            <p:cNvPr id="452" name=""/>
            <p:cNvGraphicFramePr/>
            <p:nvPr/>
          </p:nvGraphicFramePr>
          <p:xfrm>
            <a:off x="5334120" y="4114800"/>
            <a:ext cx="1218960" cy="9111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4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4120" y="4114800"/>
                      <a:ext cx="1218960" cy="91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4" name=""/>
            <p:cNvSpPr/>
            <p:nvPr/>
          </p:nvSpPr>
          <p:spPr>
            <a:xfrm>
              <a:off x="5181480" y="4038480"/>
              <a:ext cx="228600" cy="9907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400080" y="4038480"/>
              <a:ext cx="228600" cy="9907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0204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graphicFrame>
          <p:nvGraphicFramePr>
            <p:cNvPr id="457" name=""/>
            <p:cNvGraphicFramePr/>
            <p:nvPr/>
          </p:nvGraphicFramePr>
          <p:xfrm>
            <a:off x="5562720" y="5334120"/>
            <a:ext cx="3219480" cy="93636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45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5334120"/>
                      <a:ext cx="3219480" cy="93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9" name=""/>
            <p:cNvSpPr/>
            <p:nvPr/>
          </p:nvSpPr>
          <p:spPr>
            <a:xfrm>
              <a:off x="685944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62720" y="5334120"/>
              <a:ext cx="152280" cy="76176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8533800" y="5410080"/>
              <a:ext cx="152280" cy="7621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638680" y="5334120"/>
              <a:ext cx="2971800" cy="304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84720" y="47696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v1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06D-E0A4-4885-870D-A235680D5C6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2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3962520"/>
            <a:ext cx="7621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84560" y="2742480"/>
            <a:ext cx="49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variance (‘spread’) on the v1 axi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715000" y="3505320"/>
            <a:ext cx="76320" cy="3808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F38-D19D-4927-94B2-707ACAF8CE4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2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   gives the coordinates of the points in the projection axi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37B-23C5-43D9-BCA7-127C216DFF9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2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More detail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Q: how exactly is dim. reduction done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838080" y="3352680"/>
            <a:ext cx="7944120" cy="2917800"/>
            <a:chOff x="838080" y="3352680"/>
            <a:chExt cx="7944120" cy="2917800"/>
          </a:xfrm>
        </p:grpSpPr>
        <p:graphicFrame>
          <p:nvGraphicFramePr>
            <p:cNvPr id="512" name=""/>
            <p:cNvGraphicFramePr/>
            <p:nvPr/>
          </p:nvGraphicFramePr>
          <p:xfrm>
            <a:off x="914400" y="3429000"/>
            <a:ext cx="2065320" cy="2571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3429000"/>
                      <a:ext cx="2065320" cy="257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4" name=""/>
            <p:cNvSpPr/>
            <p:nvPr/>
          </p:nvSpPr>
          <p:spPr>
            <a:xfrm>
              <a:off x="83808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259020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graphicFrame>
          <p:nvGraphicFramePr>
            <p:cNvPr id="516" name=""/>
            <p:cNvGraphicFramePr/>
            <p:nvPr/>
          </p:nvGraphicFramePr>
          <p:xfrm>
            <a:off x="3429000" y="3352680"/>
            <a:ext cx="1244520" cy="2762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29000" y="3352680"/>
                      <a:ext cx="1244520" cy="27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8" name=""/>
            <p:cNvSpPr/>
            <p:nvPr/>
          </p:nvSpPr>
          <p:spPr>
            <a:xfrm flipH="1">
              <a:off x="4571280" y="3352680"/>
              <a:ext cx="15228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7672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97280" y="426636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graphicFrame>
          <p:nvGraphicFramePr>
            <p:cNvPr id="521" name=""/>
            <p:cNvGraphicFramePr/>
            <p:nvPr/>
          </p:nvGraphicFramePr>
          <p:xfrm>
            <a:off x="5334120" y="4114800"/>
            <a:ext cx="1218960" cy="9111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5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4120" y="4114800"/>
                      <a:ext cx="1218960" cy="91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3" name=""/>
            <p:cNvSpPr/>
            <p:nvPr/>
          </p:nvSpPr>
          <p:spPr>
            <a:xfrm>
              <a:off x="5181480" y="4038480"/>
              <a:ext cx="228600" cy="9907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6400080" y="4038480"/>
              <a:ext cx="228600" cy="9907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0204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graphicFrame>
          <p:nvGraphicFramePr>
            <p:cNvPr id="526" name=""/>
            <p:cNvGraphicFramePr/>
            <p:nvPr/>
          </p:nvGraphicFramePr>
          <p:xfrm>
            <a:off x="5562720" y="5334120"/>
            <a:ext cx="3219480" cy="93636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5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5334120"/>
                      <a:ext cx="3219480" cy="93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8" name=""/>
            <p:cNvSpPr/>
            <p:nvPr/>
          </p:nvSpPr>
          <p:spPr>
            <a:xfrm>
              <a:off x="685944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62720" y="5334120"/>
              <a:ext cx="152280" cy="76176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8533800" y="5410080"/>
              <a:ext cx="152280" cy="7621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EFB-5E81-4510-B28E-98116A19205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2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More detail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Q: how exactly is dim. reduction done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: set the smallest eigenvalues to zero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095880" y="4343040"/>
            <a:ext cx="53352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19920" y="4495680"/>
            <a:ext cx="6094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A4F-8BF7-4A1E-A23B-EF41724FF86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2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00520" y="426636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6095880" y="4343040"/>
            <a:ext cx="53352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19920" y="4495680"/>
            <a:ext cx="6094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3AF-79E3-4BD0-B3E6-CB6B81942C9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Motivation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roblem #1: text - LSI: find ‘concepts’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roblem #2: compression / dim. reduc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F00-6729-4493-84BE-71974F0FE5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2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00520" y="426636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6095880" y="4343040"/>
            <a:ext cx="53352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19920" y="4495680"/>
            <a:ext cx="6094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3200400"/>
            <a:ext cx="380880" cy="3048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5410080" y="5790960"/>
            <a:ext cx="335304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10080" y="5715000"/>
            <a:ext cx="327672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038480" y="3200400"/>
            <a:ext cx="381240" cy="2819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D917-84EB-4847-8E74-26334A48268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2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900520" y="426636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5334120" y="4114800"/>
          <a:ext cx="609480" cy="584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609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5562720" y="5334120"/>
          <a:ext cx="3143160" cy="9144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14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4F9-D034-493F-8AED-EE81421DB19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2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838080" y="3352680"/>
            <a:ext cx="2141640" cy="2648160"/>
            <a:chOff x="838080" y="3352680"/>
            <a:chExt cx="2141640" cy="2648160"/>
          </a:xfrm>
        </p:grpSpPr>
        <p:graphicFrame>
          <p:nvGraphicFramePr>
            <p:cNvPr id="628" name=""/>
            <p:cNvGraphicFramePr/>
            <p:nvPr/>
          </p:nvGraphicFramePr>
          <p:xfrm>
            <a:off x="914400" y="3429000"/>
            <a:ext cx="2065320" cy="2571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6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3429000"/>
                      <a:ext cx="2065320" cy="257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0" name=""/>
            <p:cNvSpPr/>
            <p:nvPr/>
          </p:nvSpPr>
          <p:spPr>
            <a:xfrm>
              <a:off x="83808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259020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2900520" y="426636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3581280" y="3276720"/>
          <a:ext cx="2065320" cy="2571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276720"/>
                    <a:ext cx="20653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3505320" y="32004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57080" y="32004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724280" y="4724280"/>
            <a:ext cx="609840" cy="990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78F-0C4E-46B2-8845-1E4BF9D6690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2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xactly equivalent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‘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spectral decomposition’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of the matrix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238880" y="228600"/>
            <a:ext cx="169560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A40-7EFD-4180-B11A-D8C5D17245E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2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xactly equivalent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pectral decomposition’ of the matrix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391200" y="43131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077000" y="43131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581280" y="3429000"/>
            <a:ext cx="0" cy="91440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4952880"/>
            <a:ext cx="0" cy="91440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67080" y="4952880"/>
            <a:ext cx="0" cy="91440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4191120" y="3429000"/>
            <a:ext cx="0" cy="91440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34120" y="400824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67280" y="446544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95520" y="4114800"/>
            <a:ext cx="381240" cy="304920"/>
            <a:chOff x="6095520" y="4114800"/>
            <a:chExt cx="381240" cy="304920"/>
          </a:xfrm>
        </p:grpSpPr>
        <p:sp>
          <p:nvSpPr>
            <p:cNvPr id="684" name=""/>
            <p:cNvSpPr/>
            <p:nvPr/>
          </p:nvSpPr>
          <p:spPr>
            <a:xfrm>
              <a:off x="6095880" y="4114800"/>
              <a:ext cx="304920" cy="304920"/>
            </a:xfrm>
            <a:prstGeom prst="ellipse">
              <a:avLst/>
            </a:prstGeom>
            <a:noFill/>
            <a:ln w="158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6095520" y="4114800"/>
              <a:ext cx="381240" cy="30492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409720" y="4648320"/>
            <a:ext cx="381240" cy="304560"/>
            <a:chOff x="5409720" y="4648320"/>
            <a:chExt cx="381240" cy="304560"/>
          </a:xfrm>
        </p:grpSpPr>
        <p:sp>
          <p:nvSpPr>
            <p:cNvPr id="687" name=""/>
            <p:cNvSpPr/>
            <p:nvPr/>
          </p:nvSpPr>
          <p:spPr>
            <a:xfrm>
              <a:off x="5410080" y="4648320"/>
              <a:ext cx="304920" cy="304560"/>
            </a:xfrm>
            <a:prstGeom prst="ellipse">
              <a:avLst/>
            </a:prstGeom>
            <a:noFill/>
            <a:ln w="158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5409720" y="4648320"/>
              <a:ext cx="381240" cy="30456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6639480" y="51512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639480" y="56847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715000" y="5486400"/>
            <a:ext cx="914400" cy="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62920" y="5486400"/>
            <a:ext cx="1295280" cy="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15000" y="5943600"/>
            <a:ext cx="838080" cy="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162920" y="5943600"/>
            <a:ext cx="1295280" cy="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30C-5C8D-4DE7-AC3F-490E696D731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2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xactly equivalent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pectral decomposition’ of the matrix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505320" y="4236840"/>
            <a:ext cx="1830960" cy="579600"/>
            <a:chOff x="3505320" y="4236840"/>
            <a:chExt cx="1830960" cy="579600"/>
          </a:xfrm>
        </p:grpSpPr>
        <p:sp>
          <p:nvSpPr>
            <p:cNvPr id="704" name=""/>
            <p:cNvSpPr/>
            <p:nvPr/>
          </p:nvSpPr>
          <p:spPr>
            <a:xfrm>
              <a:off x="4191840" y="423684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50532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74876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867280" y="4236840"/>
            <a:ext cx="1830960" cy="579600"/>
            <a:chOff x="5867280" y="4236840"/>
            <a:chExt cx="1830960" cy="579600"/>
          </a:xfrm>
        </p:grpSpPr>
        <p:sp>
          <p:nvSpPr>
            <p:cNvPr id="708" name=""/>
            <p:cNvSpPr/>
            <p:nvPr/>
          </p:nvSpPr>
          <p:spPr>
            <a:xfrm>
              <a:off x="6553800" y="423684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6728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1072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33592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641720" y="43426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+..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5280" y="45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447920" y="2864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3124080"/>
            <a:ext cx="685800" cy="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914400" y="3124080"/>
            <a:ext cx="457200" cy="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28600" y="3352320"/>
            <a:ext cx="0" cy="11430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8600" y="5105520"/>
            <a:ext cx="0" cy="9144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5F9-6E3F-4036-9439-7C2AF740544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2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xactly equivalent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pectral decomposition’ of the matrix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3505320" y="4236840"/>
            <a:ext cx="1830960" cy="579600"/>
            <a:chOff x="3505320" y="4236840"/>
            <a:chExt cx="1830960" cy="579600"/>
          </a:xfrm>
        </p:grpSpPr>
        <p:sp>
          <p:nvSpPr>
            <p:cNvPr id="728" name=""/>
            <p:cNvSpPr/>
            <p:nvPr/>
          </p:nvSpPr>
          <p:spPr>
            <a:xfrm>
              <a:off x="4191840" y="423684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0532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74876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867280" y="4236840"/>
            <a:ext cx="1830960" cy="579600"/>
            <a:chOff x="5867280" y="4236840"/>
            <a:chExt cx="1830960" cy="579600"/>
          </a:xfrm>
        </p:grpSpPr>
        <p:sp>
          <p:nvSpPr>
            <p:cNvPr id="732" name=""/>
            <p:cNvSpPr/>
            <p:nvPr/>
          </p:nvSpPr>
          <p:spPr>
            <a:xfrm>
              <a:off x="6553800" y="423684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6728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1072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533592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41720" y="43426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+..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5280" y="45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447920" y="2864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57400" y="3124080"/>
            <a:ext cx="685800" cy="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914400" y="3124080"/>
            <a:ext cx="457200" cy="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28600" y="3352320"/>
            <a:ext cx="0" cy="11430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28600" y="5105520"/>
            <a:ext cx="0" cy="9144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567240" y="5485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n x 1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114800" y="4800600"/>
            <a:ext cx="228600" cy="53352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60280" y="5561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1 x m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4876560" y="4876560"/>
            <a:ext cx="75960" cy="53316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357880" y="3398040"/>
            <a:ext cx="117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r term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3581280" y="3581280"/>
            <a:ext cx="1447920" cy="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629400" y="3581280"/>
            <a:ext cx="1752480" cy="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9E7-E318-4F81-AF9E-517DA5F98E0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2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pproximation / dim. reduction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y keeping the first few terms (Q: how many?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3505320" y="4236840"/>
            <a:ext cx="1830960" cy="579600"/>
            <a:chOff x="3505320" y="4236840"/>
            <a:chExt cx="1830960" cy="579600"/>
          </a:xfrm>
        </p:grpSpPr>
        <p:sp>
          <p:nvSpPr>
            <p:cNvPr id="759" name=""/>
            <p:cNvSpPr/>
            <p:nvPr/>
          </p:nvSpPr>
          <p:spPr>
            <a:xfrm>
              <a:off x="4191840" y="423684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0532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74876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867280" y="4236840"/>
            <a:ext cx="1830960" cy="579600"/>
            <a:chOff x="5867280" y="4236840"/>
            <a:chExt cx="1830960" cy="579600"/>
          </a:xfrm>
        </p:grpSpPr>
        <p:sp>
          <p:nvSpPr>
            <p:cNvPr id="763" name=""/>
            <p:cNvSpPr/>
            <p:nvPr/>
          </p:nvSpPr>
          <p:spPr>
            <a:xfrm>
              <a:off x="6553800" y="423684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6728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11072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533592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641720" y="43426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+..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25280" y="45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447920" y="2864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057400" y="3124080"/>
            <a:ext cx="685800" cy="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914400" y="3124080"/>
            <a:ext cx="457200" cy="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28600" y="3352320"/>
            <a:ext cx="0" cy="11430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" y="5105520"/>
            <a:ext cx="0" cy="9144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640320" y="5227560"/>
            <a:ext cx="342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assume: </a:t>
            </a:r>
            <a:r>
              <a:rPr b="0" lang="en-US" sz="28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&gt;= </a:t>
            </a:r>
            <a:r>
              <a:rPr b="0" lang="en-US" sz="28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&gt;= ..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31D-1E48-4547-87EE-DB10FC2C1ED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2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 (heuristic - [Fukunaga]): keep 80-90% of ‘energy’ (= sum of squares of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’s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3505320" y="4236840"/>
            <a:ext cx="1830960" cy="579600"/>
            <a:chOff x="3505320" y="4236840"/>
            <a:chExt cx="1830960" cy="579600"/>
          </a:xfrm>
        </p:grpSpPr>
        <p:sp>
          <p:nvSpPr>
            <p:cNvPr id="783" name=""/>
            <p:cNvSpPr/>
            <p:nvPr/>
          </p:nvSpPr>
          <p:spPr>
            <a:xfrm>
              <a:off x="4191840" y="423684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0532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74876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5867280" y="4236840"/>
            <a:ext cx="1830960" cy="579600"/>
            <a:chOff x="5867280" y="4236840"/>
            <a:chExt cx="1830960" cy="579600"/>
          </a:xfrm>
        </p:grpSpPr>
        <p:sp>
          <p:nvSpPr>
            <p:cNvPr id="787" name=""/>
            <p:cNvSpPr/>
            <p:nvPr/>
          </p:nvSpPr>
          <p:spPr>
            <a:xfrm>
              <a:off x="6553800" y="423684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6728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11072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>
            <a:off x="533592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641720" y="43426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+..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25280" y="45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447920" y="2864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057400" y="3124080"/>
            <a:ext cx="685800" cy="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914400" y="3124080"/>
            <a:ext cx="457200" cy="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28600" y="3352320"/>
            <a:ext cx="0" cy="11430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8600" y="5105520"/>
            <a:ext cx="0" cy="9144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640320" y="5227560"/>
            <a:ext cx="342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assume: </a:t>
            </a:r>
            <a:r>
              <a:rPr b="0" lang="en-US" sz="28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&gt;= </a:t>
            </a:r>
            <a:r>
              <a:rPr b="0" lang="en-US" sz="28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&gt;= ..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2441-C7C6-498E-9010-A30E7FF305C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outlin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#1: documents/terms/concept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#2: dim. reduction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#3: picking non-zero, rectangular ‘blobs’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#4: fixed points - graph interpretation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" y="42670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DBF-5470-4540-A863-5C9E56F3CFF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Motivation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roblem #1: text - LSI: find ‘concepts’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53" name="img723" descr=""/>
          <p:cNvPicPr/>
          <p:nvPr/>
        </p:nvPicPr>
        <p:blipFill>
          <a:blip r:embed="rId1"/>
          <a:stretch/>
        </p:blipFill>
        <p:spPr>
          <a:xfrm>
            <a:off x="914400" y="2554200"/>
            <a:ext cx="738648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41A-DB57-49B6-AB1D-BC90AE70E5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3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finds non-zero ‘blobs’ in  a data matrix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685800" y="3048120"/>
          <a:ext cx="2065320" cy="25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20653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"/>
          <p:cNvSpPr/>
          <p:nvPr/>
        </p:nvSpPr>
        <p:spPr>
          <a:xfrm>
            <a:off x="60948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36160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3200400" y="297180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97180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"/>
          <p:cNvSpPr/>
          <p:nvPr/>
        </p:nvSpPr>
        <p:spPr>
          <a:xfrm flipH="1">
            <a:off x="4342680" y="297180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04812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668680" y="3885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5105520" y="373392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73392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"/>
          <p:cNvSpPr/>
          <p:nvPr/>
        </p:nvSpPr>
        <p:spPr>
          <a:xfrm>
            <a:off x="49528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61714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5734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5334120" y="4952880"/>
          <a:ext cx="3219480" cy="936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4952880"/>
                    <a:ext cx="32194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0" name=""/>
          <p:cNvSpPr/>
          <p:nvPr/>
        </p:nvSpPr>
        <p:spPr>
          <a:xfrm>
            <a:off x="66308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334120" y="49528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8305200" y="502920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B50-6EFF-4C63-B3C8-1A1690AE575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3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finds non-zero ‘blobs’ in  a data matrix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685800" y="3048120"/>
          <a:ext cx="2065320" cy="25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20653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"/>
          <p:cNvSpPr/>
          <p:nvPr/>
        </p:nvSpPr>
        <p:spPr>
          <a:xfrm>
            <a:off x="60948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236160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3200400" y="297180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97180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 flipH="1">
            <a:off x="4342680" y="297180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04812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668680" y="3885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5105520" y="373392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73392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"/>
          <p:cNvSpPr/>
          <p:nvPr/>
        </p:nvSpPr>
        <p:spPr>
          <a:xfrm>
            <a:off x="49528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61714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5734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5334120" y="4952880"/>
          <a:ext cx="3219480" cy="936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4952880"/>
                    <a:ext cx="32194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"/>
          <p:cNvSpPr/>
          <p:nvPr/>
        </p:nvSpPr>
        <p:spPr>
          <a:xfrm>
            <a:off x="66308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34120" y="49528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05200" y="502920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676520" y="2971800"/>
            <a:ext cx="0" cy="26668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85800" y="4495680"/>
            <a:ext cx="1752480" cy="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A79-620E-44B0-8EA5-1006E385935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3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finds non-zero ‘blobs’ in  a data matrix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850" name=""/>
          <p:cNvGraphicFramePr/>
          <p:nvPr/>
        </p:nvGraphicFramePr>
        <p:xfrm>
          <a:off x="685800" y="3048120"/>
          <a:ext cx="2065320" cy="25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20653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2" name=""/>
          <p:cNvSpPr/>
          <p:nvPr/>
        </p:nvSpPr>
        <p:spPr>
          <a:xfrm>
            <a:off x="60948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236160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3200400" y="297180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97180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"/>
          <p:cNvSpPr/>
          <p:nvPr/>
        </p:nvSpPr>
        <p:spPr>
          <a:xfrm flipH="1">
            <a:off x="4342680" y="297180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04812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668680" y="3885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5105520" y="373392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73392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1" name=""/>
          <p:cNvSpPr/>
          <p:nvPr/>
        </p:nvSpPr>
        <p:spPr>
          <a:xfrm>
            <a:off x="49528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61714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5734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5334120" y="4952880"/>
          <a:ext cx="3219480" cy="936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4952880"/>
                    <a:ext cx="32194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6" name=""/>
          <p:cNvSpPr/>
          <p:nvPr/>
        </p:nvSpPr>
        <p:spPr>
          <a:xfrm>
            <a:off x="66308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334120" y="49528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8305200" y="502920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676520" y="2971800"/>
            <a:ext cx="0" cy="26668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85800" y="4495680"/>
            <a:ext cx="1752480" cy="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943600" y="4114800"/>
            <a:ext cx="30492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943600" y="4114800"/>
            <a:ext cx="30492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CB3-FC97-4F39-B78E-034ECAC7641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3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finds non-zero ‘blobs’ in  a data matrix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876" name=""/>
          <p:cNvGraphicFramePr/>
          <p:nvPr/>
        </p:nvGraphicFramePr>
        <p:xfrm>
          <a:off x="685800" y="3048120"/>
          <a:ext cx="2065320" cy="25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20653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8" name=""/>
          <p:cNvSpPr/>
          <p:nvPr/>
        </p:nvSpPr>
        <p:spPr>
          <a:xfrm>
            <a:off x="60948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236160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3200400" y="297180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97180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"/>
          <p:cNvSpPr/>
          <p:nvPr/>
        </p:nvSpPr>
        <p:spPr>
          <a:xfrm flipH="1">
            <a:off x="4342680" y="297180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04812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668680" y="3885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885" name=""/>
          <p:cNvGraphicFramePr/>
          <p:nvPr/>
        </p:nvGraphicFramePr>
        <p:xfrm>
          <a:off x="5105520" y="373392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73392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7" name=""/>
          <p:cNvSpPr/>
          <p:nvPr/>
        </p:nvSpPr>
        <p:spPr>
          <a:xfrm>
            <a:off x="49528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61714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5734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890" name=""/>
          <p:cNvGraphicFramePr/>
          <p:nvPr/>
        </p:nvGraphicFramePr>
        <p:xfrm>
          <a:off x="5334120" y="4952880"/>
          <a:ext cx="3219480" cy="936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4952880"/>
                    <a:ext cx="32194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2" name=""/>
          <p:cNvSpPr/>
          <p:nvPr/>
        </p:nvSpPr>
        <p:spPr>
          <a:xfrm>
            <a:off x="66308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334120" y="49528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8305200" y="502920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676520" y="2971800"/>
            <a:ext cx="0" cy="266688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4495680"/>
            <a:ext cx="1752480" cy="0"/>
          </a:xfrm>
          <a:prstGeom prst="line">
            <a:avLst/>
          </a:prstGeom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5943600" y="4114800"/>
            <a:ext cx="30492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943600" y="4114800"/>
            <a:ext cx="30492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3886200" y="2895480"/>
            <a:ext cx="304920" cy="2743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6200" y="2895480"/>
            <a:ext cx="457200" cy="2819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34120" y="5486400"/>
            <a:ext cx="32763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 flipV="1">
            <a:off x="1904760" y="4571640"/>
            <a:ext cx="53316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1828800" y="4572000"/>
            <a:ext cx="53352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D6F-96A7-4E4C-92B0-51EB0627428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4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as vector transform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07" name="img676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328920" cy="3311640"/>
          </a:xfrm>
          <a:prstGeom prst="rect">
            <a:avLst/>
          </a:prstGeom>
          <a:ln w="0">
            <a:noFill/>
          </a:ln>
        </p:spPr>
      </p:pic>
      <p:grpSp>
        <p:nvGrpSpPr>
          <p:cNvPr id="908" name=""/>
          <p:cNvGrpSpPr/>
          <p:nvPr/>
        </p:nvGrpSpPr>
        <p:grpSpPr>
          <a:xfrm>
            <a:off x="1676520" y="2818800"/>
            <a:ext cx="1433520" cy="1819800"/>
            <a:chOff x="1676520" y="2818800"/>
            <a:chExt cx="1433520" cy="1819800"/>
          </a:xfrm>
        </p:grpSpPr>
        <p:graphicFrame>
          <p:nvGraphicFramePr>
            <p:cNvPr id="909" name=""/>
            <p:cNvGraphicFramePr/>
            <p:nvPr/>
          </p:nvGraphicFramePr>
          <p:xfrm>
            <a:off x="1752840" y="3429000"/>
            <a:ext cx="1357200" cy="12096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1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840" y="3429000"/>
                      <a:ext cx="1357200" cy="120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1" name=""/>
            <p:cNvSpPr/>
            <p:nvPr/>
          </p:nvSpPr>
          <p:spPr>
            <a:xfrm>
              <a:off x="1676520" y="3429000"/>
              <a:ext cx="15264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2895120" y="3429000"/>
              <a:ext cx="15228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35880" y="2818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3505320" y="3429000"/>
            <a:ext cx="842760" cy="1238400"/>
            <a:chOff x="3505320" y="3429000"/>
            <a:chExt cx="842760" cy="1238400"/>
          </a:xfrm>
        </p:grpSpPr>
        <p:sp>
          <p:nvSpPr>
            <p:cNvPr id="915" name=""/>
            <p:cNvSpPr/>
            <p:nvPr/>
          </p:nvSpPr>
          <p:spPr>
            <a:xfrm>
              <a:off x="3505320" y="3429000"/>
              <a:ext cx="15228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4038480" y="3429000"/>
              <a:ext cx="15264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graphicFrame>
          <p:nvGraphicFramePr>
            <p:cNvPr id="917" name=""/>
            <p:cNvGraphicFramePr/>
            <p:nvPr/>
          </p:nvGraphicFramePr>
          <p:xfrm>
            <a:off x="3581280" y="3505320"/>
            <a:ext cx="766800" cy="116208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91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81280" y="3505320"/>
                      <a:ext cx="766800" cy="116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19" name=""/>
          <p:cNvSpPr/>
          <p:nvPr/>
        </p:nvSpPr>
        <p:spPr>
          <a:xfrm>
            <a:off x="6629400" y="3962520"/>
            <a:ext cx="38088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35360" y="281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7200" y="3429000"/>
            <a:ext cx="152280" cy="106668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990000" y="3429000"/>
            <a:ext cx="152280" cy="106668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533520" y="3505320"/>
          <a:ext cx="687240" cy="1218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3505320"/>
                    <a:ext cx="6872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5" name=""/>
          <p:cNvSpPr/>
          <p:nvPr/>
        </p:nvSpPr>
        <p:spPr>
          <a:xfrm>
            <a:off x="628560" y="28188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’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181160" y="385524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6629400" y="3580920"/>
            <a:ext cx="762120" cy="38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288200" y="3931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457760" y="3322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’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84D-AFF4-4572-A6BD-EC9E7F4F33D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4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s symmetric, then, by defn., its eigenvectors remain parallel to themselves (‘fixed points’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2590920" y="3656880"/>
            <a:ext cx="1433520" cy="1819800"/>
            <a:chOff x="2590920" y="3656880"/>
            <a:chExt cx="1433520" cy="1819800"/>
          </a:xfrm>
        </p:grpSpPr>
        <p:graphicFrame>
          <p:nvGraphicFramePr>
            <p:cNvPr id="933" name=""/>
            <p:cNvGraphicFramePr/>
            <p:nvPr/>
          </p:nvGraphicFramePr>
          <p:xfrm>
            <a:off x="2667240" y="4267080"/>
            <a:ext cx="1357200" cy="1209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9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7240" y="4267080"/>
                      <a:ext cx="1357200" cy="120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5" name=""/>
            <p:cNvSpPr/>
            <p:nvPr/>
          </p:nvSpPr>
          <p:spPr>
            <a:xfrm>
              <a:off x="2590920" y="4267080"/>
              <a:ext cx="15264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3809520" y="4267080"/>
              <a:ext cx="15228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050280" y="3656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4419720" y="4267080"/>
            <a:ext cx="152280" cy="106704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4952880" y="4267080"/>
            <a:ext cx="152640" cy="106704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940" name=""/>
          <p:cNvGraphicFramePr/>
          <p:nvPr/>
        </p:nvGraphicFramePr>
        <p:xfrm>
          <a:off x="4343400" y="4267080"/>
          <a:ext cx="704880" cy="1200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267080"/>
                    <a:ext cx="7048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2" name=""/>
          <p:cNvSpPr/>
          <p:nvPr/>
        </p:nvSpPr>
        <p:spPr>
          <a:xfrm>
            <a:off x="4597920" y="362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371600" y="4267080"/>
            <a:ext cx="152280" cy="106704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1904400" y="4267080"/>
            <a:ext cx="152280" cy="106704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549800" y="362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95560" y="46936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334120" y="3048120"/>
            <a:ext cx="3328920" cy="3311280"/>
            <a:chOff x="5334120" y="3048120"/>
            <a:chExt cx="3328920" cy="3311280"/>
          </a:xfrm>
        </p:grpSpPr>
        <p:pic>
          <p:nvPicPr>
            <p:cNvPr id="948" name="img676" descr=""/>
            <p:cNvPicPr/>
            <p:nvPr/>
          </p:nvPicPr>
          <p:blipFill>
            <a:blip r:embed="rId5"/>
            <a:stretch/>
          </p:blipFill>
          <p:spPr>
            <a:xfrm>
              <a:off x="5334120" y="3048120"/>
              <a:ext cx="3328920" cy="33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 flipV="1">
              <a:off x="7086600" y="4343040"/>
              <a:ext cx="228600" cy="3042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7086600" y="3429000"/>
              <a:ext cx="685800" cy="114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graphicFrame>
        <p:nvGraphicFramePr>
          <p:cNvPr id="951" name=""/>
          <p:cNvGraphicFramePr/>
          <p:nvPr/>
        </p:nvGraphicFramePr>
        <p:xfrm>
          <a:off x="1295280" y="4267080"/>
          <a:ext cx="704880" cy="1200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4267080"/>
                    <a:ext cx="7048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3" name=""/>
          <p:cNvSpPr/>
          <p:nvPr/>
        </p:nvSpPr>
        <p:spPr>
          <a:xfrm>
            <a:off x="302760" y="461736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3.62 *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70440" y="3673440"/>
            <a:ext cx="47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5EC-1BAB-4BD6-814D-C80C97E7F85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4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fixed point operation (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is symmetric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v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Times New Roman"/>
              </a:rPr>
              <a:t>i             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1,.., </a:t>
            </a: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r)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roperty 1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eg.,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: transition matrix of a Markov Chain; then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is related to the steady state probability distribution (= a particle, doing a random walk on the graph)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nvergence: for (almost) any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’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(A</a:t>
            </a:r>
            <a:r>
              <a:rPr b="1" lang="en-US" sz="28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A)</a:t>
            </a:r>
            <a:r>
              <a:rPr b="0" lang="en-US" sz="2800" spc="-1" strike="noStrike" baseline="30000">
                <a:solidFill>
                  <a:srgbClr val="0066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v’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~ (constant)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66ff"/>
                </a:solidFill>
                <a:latin typeface="Times New Roman"/>
              </a:rPr>
              <a:t>1              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roperty 2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where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: strongest ‘right’ eigenvector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295280" y="2209680"/>
            <a:ext cx="3124440" cy="6098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447920" y="4876920"/>
            <a:ext cx="4038480" cy="6094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AAB-1EC9-4E03-87FA-910D0487AE6C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4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nvergence - illustration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61" name="img676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328920" cy="3311280"/>
          </a:xfrm>
          <a:prstGeom prst="rect">
            <a:avLst/>
          </a:prstGeom>
          <a:ln w="0">
            <a:noFill/>
          </a:ln>
        </p:spPr>
      </p:pic>
      <p:sp>
        <p:nvSpPr>
          <p:cNvPr id="962" name=""/>
          <p:cNvSpPr/>
          <p:nvPr/>
        </p:nvSpPr>
        <p:spPr>
          <a:xfrm>
            <a:off x="7086600" y="4572000"/>
            <a:ext cx="38088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7467480" y="4191120"/>
            <a:ext cx="381240" cy="3808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7086600" y="4038480"/>
            <a:ext cx="1066680" cy="533520"/>
          </a:xfrm>
          <a:prstGeom prst="line">
            <a:avLst/>
          </a:prstGeom>
          <a:ln w="3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7086600" y="4419360"/>
            <a:ext cx="304920" cy="152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49F-C4A0-47AA-AA82-DDF3D54F060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4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nvergence - illustration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68" name="img676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328920" cy="331128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7086600" y="4572000"/>
            <a:ext cx="380880" cy="0"/>
          </a:xfrm>
          <a:prstGeom prst="line">
            <a:avLst/>
          </a:prstGeom>
          <a:ln w="7632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7467480" y="4191120"/>
            <a:ext cx="381240" cy="3808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7086600" y="4038480"/>
            <a:ext cx="1066680" cy="533520"/>
          </a:xfrm>
          <a:prstGeom prst="line">
            <a:avLst/>
          </a:prstGeom>
          <a:ln w="3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086600" y="4419360"/>
            <a:ext cx="304920" cy="152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7391520" y="3580920"/>
            <a:ext cx="533160" cy="838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7086600" y="3428640"/>
            <a:ext cx="990720" cy="1143000"/>
          </a:xfrm>
          <a:prstGeom prst="line">
            <a:avLst/>
          </a:prstGeom>
          <a:ln w="3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7086600" y="4343040"/>
            <a:ext cx="228600" cy="22860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8C6-1855-49F0-8F38-79F51642998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Interpretation #4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...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: ‘right’ eigenvector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ymmetrically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...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: ‘left’ eigenvectors for matrix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(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V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)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(right eigenvectors -&gt; ‘authority’ scores in Kleinberg’s algo;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left ones -&gt; ‘hub’ scores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5DF-870B-493A-88C5-CAC72FE485B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Motivation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roblem #2: compress / reduce dimensionality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84A-6A05-48D9-B977-3329985AE9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outlin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pplications - success stor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28600" y="34290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6E29-A63D-435C-861C-EAC0FF30C86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Complexity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O( n * m * m) or O( n * n * m) (whichever is less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less work, if we just want eigenvalu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...    or if we want first k eigenvector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...    or if the matrix is sparse [Berry]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mplemented: in 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linear algebra package (LINPACK, matlab, Splus, mathematica ...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D45C-B2B7-4554-8471-3342E5D5833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conclusions so far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VD: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= U 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V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: unique (*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: document-to-concept similarit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: term-to-concept similarit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</a:t>
            </a:r>
            <a:r>
              <a:rPr b="1" lang="en-US" sz="3200" spc="-1" strike="noStrike">
                <a:solidFill>
                  <a:srgbClr val="0066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: strength of each concept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DC2-58C2-44B5-82C2-326BA9A8308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conclusions so far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im. reduction: keep the first few strongest eigenvalues (80-90% of ‘energy’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VD: picks up linear correlation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VD: picks up non-zero ‘blobs’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: fixed point  (-&gt; steady-state prob.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9C1-972A-4FA7-BC90-EA39C63B406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outlin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pplications - success stor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04920" y="38862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B37-8B73-4C7D-A17E-5FC863C1DB3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Case studi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pplications - success stor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ulti-lingual IR; LSI queries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ompression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CA - ‘ratio rules’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Karhunen-Lowe transform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Kleinberg/google algorithm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8600" y="28195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219320" y="3048120"/>
            <a:ext cx="44956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219320" y="3505320"/>
            <a:ext cx="24382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C755-1FE3-4A21-B2D3-F0EE8447B83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ase study - LSI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Q1: How to do queries with LSI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Q2: multi-lingual IR (english query, on spanish text?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EC4-30E7-452F-AC6C-234E756D55E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ase study - LSI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Q1: How to do queries with LSI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roblem: Eg., find documents with ‘data’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307440" y="2818080"/>
            <a:ext cx="8396640" cy="3266280"/>
            <a:chOff x="307440" y="2818080"/>
            <a:chExt cx="8396640" cy="3266280"/>
          </a:xfrm>
        </p:grpSpPr>
        <p:graphicFrame>
          <p:nvGraphicFramePr>
            <p:cNvPr id="1001" name=""/>
            <p:cNvGraphicFramePr/>
            <p:nvPr/>
          </p:nvGraphicFramePr>
          <p:xfrm>
            <a:off x="1195560" y="3786480"/>
            <a:ext cx="1971000" cy="20800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0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95560" y="3786480"/>
                      <a:ext cx="1971000" cy="208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3" name=""/>
            <p:cNvSpPr/>
            <p:nvPr/>
          </p:nvSpPr>
          <p:spPr>
            <a:xfrm>
              <a:off x="1122840" y="3724560"/>
              <a:ext cx="218160" cy="209556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2795760" y="3724560"/>
              <a:ext cx="218160" cy="209556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997560" y="324828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474200" y="2996280"/>
              <a:ext cx="60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inf</a:t>
              </a: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749600" y="2818080"/>
              <a:ext cx="120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retrieval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122920" y="318780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brain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780640" y="306324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lung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5480" y="3293280"/>
              <a:ext cx="0" cy="24624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graphicFrame>
          <p:nvGraphicFramePr>
            <p:cNvPr id="1011" name=""/>
            <p:cNvGraphicFramePr/>
            <p:nvPr/>
          </p:nvGraphicFramePr>
          <p:xfrm>
            <a:off x="3595320" y="3724560"/>
            <a:ext cx="1187640" cy="22341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0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95320" y="3724560"/>
                      <a:ext cx="1187640" cy="223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3" name=""/>
            <p:cNvSpPr/>
            <p:nvPr/>
          </p:nvSpPr>
          <p:spPr>
            <a:xfrm flipH="1">
              <a:off x="4685400" y="3724560"/>
              <a:ext cx="145080" cy="209556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450240" y="3724560"/>
              <a:ext cx="218160" cy="209556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080160" y="44136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613800" y="3724560"/>
              <a:ext cx="0" cy="43128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81240" y="408204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CS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07440" y="5216040"/>
              <a:ext cx="75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MD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3800" y="4587840"/>
              <a:ext cx="0" cy="18468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613800" y="4957200"/>
              <a:ext cx="0" cy="36972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13800" y="5635440"/>
              <a:ext cx="0" cy="18468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graphicFrame>
          <p:nvGraphicFramePr>
            <p:cNvPr id="1022" name=""/>
            <p:cNvGraphicFramePr/>
            <p:nvPr/>
          </p:nvGraphicFramePr>
          <p:xfrm>
            <a:off x="5413680" y="4340880"/>
            <a:ext cx="1163160" cy="73692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10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13680" y="4340880"/>
                      <a:ext cx="1163160" cy="73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4" name=""/>
            <p:cNvSpPr/>
            <p:nvPr/>
          </p:nvSpPr>
          <p:spPr>
            <a:xfrm>
              <a:off x="5267880" y="4279320"/>
              <a:ext cx="218160" cy="80100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6431400" y="4279320"/>
              <a:ext cx="218160" cy="80100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897440" y="4353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graphicFrame>
          <p:nvGraphicFramePr>
            <p:cNvPr id="1027" name=""/>
            <p:cNvGraphicFramePr/>
            <p:nvPr/>
          </p:nvGraphicFramePr>
          <p:xfrm>
            <a:off x="5631840" y="5327280"/>
            <a:ext cx="3072240" cy="75708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102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31840" y="5327280"/>
                      <a:ext cx="307224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9" name=""/>
            <p:cNvSpPr/>
            <p:nvPr/>
          </p:nvSpPr>
          <p:spPr>
            <a:xfrm>
              <a:off x="6861240" y="4353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631840" y="5327280"/>
              <a:ext cx="145080" cy="61596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8467200" y="5388840"/>
              <a:ext cx="145080" cy="6163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63F-32B9-4BA5-B23F-334957FD137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ase study - LSI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Q1: How to do queries with LSI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: map query vectors into ‘concept space’ – how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307440" y="2818080"/>
            <a:ext cx="8396640" cy="3266280"/>
            <a:chOff x="307440" y="2818080"/>
            <a:chExt cx="8396640" cy="3266280"/>
          </a:xfrm>
        </p:grpSpPr>
        <p:graphicFrame>
          <p:nvGraphicFramePr>
            <p:cNvPr id="1036" name=""/>
            <p:cNvGraphicFramePr/>
            <p:nvPr/>
          </p:nvGraphicFramePr>
          <p:xfrm>
            <a:off x="1195560" y="3786480"/>
            <a:ext cx="1971000" cy="20800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0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95560" y="3786480"/>
                      <a:ext cx="1971000" cy="208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8" name=""/>
            <p:cNvSpPr/>
            <p:nvPr/>
          </p:nvSpPr>
          <p:spPr>
            <a:xfrm>
              <a:off x="1122840" y="3724560"/>
              <a:ext cx="218160" cy="209556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2795760" y="3724560"/>
              <a:ext cx="218160" cy="209556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97560" y="324828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474200" y="2996280"/>
              <a:ext cx="60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inf</a:t>
              </a: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749600" y="2818080"/>
              <a:ext cx="120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retrieval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122920" y="318780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brain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80640" y="306324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lung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995480" y="3293280"/>
              <a:ext cx="0" cy="24624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graphicFrame>
          <p:nvGraphicFramePr>
            <p:cNvPr id="1046" name=""/>
            <p:cNvGraphicFramePr/>
            <p:nvPr/>
          </p:nvGraphicFramePr>
          <p:xfrm>
            <a:off x="3595320" y="3724560"/>
            <a:ext cx="1187640" cy="22341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0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95320" y="3724560"/>
                      <a:ext cx="1187640" cy="223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8" name=""/>
            <p:cNvSpPr/>
            <p:nvPr/>
          </p:nvSpPr>
          <p:spPr>
            <a:xfrm flipH="1">
              <a:off x="4685400" y="3724560"/>
              <a:ext cx="145080" cy="209556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450240" y="3724560"/>
              <a:ext cx="218160" cy="209556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080160" y="44136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613800" y="3724560"/>
              <a:ext cx="0" cy="43128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81240" y="4082040"/>
              <a:ext cx="6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CS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07440" y="5216040"/>
              <a:ext cx="75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MD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13800" y="4587840"/>
              <a:ext cx="0" cy="18468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613800" y="4957200"/>
              <a:ext cx="0" cy="36972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13800" y="5635440"/>
              <a:ext cx="0" cy="18468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graphicFrame>
          <p:nvGraphicFramePr>
            <p:cNvPr id="1057" name=""/>
            <p:cNvGraphicFramePr/>
            <p:nvPr/>
          </p:nvGraphicFramePr>
          <p:xfrm>
            <a:off x="5413680" y="4340880"/>
            <a:ext cx="1163160" cy="73692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10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13680" y="4340880"/>
                      <a:ext cx="1163160" cy="73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9" name=""/>
            <p:cNvSpPr/>
            <p:nvPr/>
          </p:nvSpPr>
          <p:spPr>
            <a:xfrm>
              <a:off x="5267880" y="4279320"/>
              <a:ext cx="218160" cy="80100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431400" y="4279320"/>
              <a:ext cx="218160" cy="80100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97440" y="4353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graphicFrame>
          <p:nvGraphicFramePr>
            <p:cNvPr id="1062" name=""/>
            <p:cNvGraphicFramePr/>
            <p:nvPr/>
          </p:nvGraphicFramePr>
          <p:xfrm>
            <a:off x="5631840" y="5327280"/>
            <a:ext cx="3072240" cy="75708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10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31840" y="5327280"/>
                      <a:ext cx="307224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4" name=""/>
            <p:cNvSpPr/>
            <p:nvPr/>
          </p:nvSpPr>
          <p:spPr>
            <a:xfrm>
              <a:off x="6861240" y="4353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631840" y="5327280"/>
              <a:ext cx="145080" cy="61596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8467200" y="5388840"/>
              <a:ext cx="145080" cy="6163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067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196-241B-4FD8-BC53-5D7C141F00D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ase study - LSI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Q1: How to do queries with LSI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: map query vectors into ‘concept space’ – how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1066680" y="3809880"/>
          <a:ext cx="1847880" cy="147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09880"/>
                    <a:ext cx="184788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2" name=""/>
          <p:cNvSpPr/>
          <p:nvPr/>
        </p:nvSpPr>
        <p:spPr>
          <a:xfrm>
            <a:off x="1066680" y="3724200"/>
            <a:ext cx="274680" cy="61920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2795040" y="3724200"/>
            <a:ext cx="252360" cy="54288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997200" y="3248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474200" y="299664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749600" y="281844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122920" y="3188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780640" y="30628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995480" y="3292560"/>
            <a:ext cx="0" cy="24768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29600" y="37339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486400" y="3048120"/>
            <a:ext cx="2743200" cy="2057400"/>
          </a:xfrm>
          <a:prstGeom prst="rect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116480" y="54770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rm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992400" y="29624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rm2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791320" y="4038480"/>
            <a:ext cx="75960" cy="76320"/>
          </a:xfrm>
          <a:prstGeom prst="ellipse">
            <a:avLst/>
          </a:prstGeom>
          <a:solidFill>
            <a:srgbClr val="0066ff"/>
          </a:solidFill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553080" y="3657600"/>
            <a:ext cx="76320" cy="76320"/>
          </a:xfrm>
          <a:prstGeom prst="ellipse">
            <a:avLst/>
          </a:prstGeom>
          <a:solidFill>
            <a:srgbClr val="0066ff"/>
          </a:solidFill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010280" y="4419720"/>
            <a:ext cx="76320" cy="75960"/>
          </a:xfrm>
          <a:prstGeom prst="ellipse">
            <a:avLst/>
          </a:prstGeom>
          <a:solidFill>
            <a:srgbClr val="0066ff"/>
          </a:solidFill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467480" y="3886200"/>
            <a:ext cx="76320" cy="76320"/>
          </a:xfrm>
          <a:prstGeom prst="ellipse">
            <a:avLst/>
          </a:prstGeom>
          <a:solidFill>
            <a:srgbClr val="0066ff"/>
          </a:solidFill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162920" y="3352680"/>
            <a:ext cx="152280" cy="152640"/>
          </a:xfrm>
          <a:prstGeom prst="diamond">
            <a:avLst/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5486400" y="4495680"/>
            <a:ext cx="838080" cy="6098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173280" y="44956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5486400" y="3428640"/>
            <a:ext cx="1752480" cy="160020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288200" y="3038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4876560" y="4266720"/>
            <a:ext cx="609480" cy="8384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998520" y="3952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v2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B07-4904-4E3D-8B70-6298CA80A72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Problem - spec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~10**6 rows; ~10**3 columns; no updates;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mpress / extract featur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58" name="img7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248160" cy="23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696-8663-4FAC-8A6C-EB9D87BFF6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ase study - LSI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Q1: How to do queries with LSI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: map query vectors into ‘concept space’ – how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1066680" y="3809880"/>
          <a:ext cx="1847880" cy="147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09880"/>
                    <a:ext cx="184788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0" name=""/>
          <p:cNvSpPr/>
          <p:nvPr/>
        </p:nvSpPr>
        <p:spPr>
          <a:xfrm>
            <a:off x="1066680" y="3724200"/>
            <a:ext cx="274680" cy="61920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2795040" y="3724200"/>
            <a:ext cx="252360" cy="54288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997200" y="3248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474200" y="299664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749600" y="281844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122920" y="3188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780640" y="30628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95480" y="3292560"/>
            <a:ext cx="0" cy="24768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486400" y="3048120"/>
            <a:ext cx="2743200" cy="2057400"/>
          </a:xfrm>
          <a:prstGeom prst="rect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116480" y="54770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rm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992400" y="29624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rm2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791320" y="4038480"/>
            <a:ext cx="75960" cy="76320"/>
          </a:xfrm>
          <a:prstGeom prst="ellipse">
            <a:avLst/>
          </a:prstGeom>
          <a:solidFill>
            <a:srgbClr val="0066ff"/>
          </a:solidFill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553080" y="3657600"/>
            <a:ext cx="76320" cy="76320"/>
          </a:xfrm>
          <a:prstGeom prst="ellipse">
            <a:avLst/>
          </a:prstGeom>
          <a:solidFill>
            <a:srgbClr val="0066ff"/>
          </a:solidFill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010280" y="4419720"/>
            <a:ext cx="76320" cy="75960"/>
          </a:xfrm>
          <a:prstGeom prst="ellipse">
            <a:avLst/>
          </a:prstGeom>
          <a:solidFill>
            <a:srgbClr val="0066ff"/>
          </a:solidFill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467480" y="3886200"/>
            <a:ext cx="76320" cy="76320"/>
          </a:xfrm>
          <a:prstGeom prst="ellipse">
            <a:avLst/>
          </a:prstGeom>
          <a:solidFill>
            <a:srgbClr val="0066ff"/>
          </a:solidFill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162920" y="3352680"/>
            <a:ext cx="152280" cy="152640"/>
          </a:xfrm>
          <a:prstGeom prst="diamond">
            <a:avLst/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5486400" y="4495680"/>
            <a:ext cx="838080" cy="6098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173280" y="44956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5486400" y="3428640"/>
            <a:ext cx="1752480" cy="160020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288200" y="3038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 flipV="1">
            <a:off x="4876560" y="4266720"/>
            <a:ext cx="609480" cy="8384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998520" y="3952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v2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62600" y="4876920"/>
            <a:ext cx="42832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A: inner product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(cosine similarity)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with each ‘concept’ vector v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42280" y="37339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800-5C7F-4682-805C-966CFD3390E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ase study - LSI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Q1: How to do queries with LSI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: map query vectors into ‘concept space’ – how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127" name=""/>
          <p:cNvGraphicFramePr/>
          <p:nvPr/>
        </p:nvGraphicFramePr>
        <p:xfrm>
          <a:off x="1066680" y="3809880"/>
          <a:ext cx="1847880" cy="147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09880"/>
                    <a:ext cx="184788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1066680" y="3724200"/>
            <a:ext cx="274680" cy="61920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2795040" y="3724200"/>
            <a:ext cx="252360" cy="54288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997200" y="3248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474200" y="299664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749600" y="281844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122920" y="3188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780640" y="30628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995480" y="3292560"/>
            <a:ext cx="0" cy="24768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486400" y="3048120"/>
            <a:ext cx="2743200" cy="2057400"/>
          </a:xfrm>
          <a:prstGeom prst="rect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116480" y="54770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rm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992400" y="29624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rm2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791320" y="4038480"/>
            <a:ext cx="75960" cy="76320"/>
          </a:xfrm>
          <a:prstGeom prst="ellipse">
            <a:avLst/>
          </a:prstGeom>
          <a:solidFill>
            <a:srgbClr val="0066ff"/>
          </a:solidFill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553080" y="3657600"/>
            <a:ext cx="76320" cy="76320"/>
          </a:xfrm>
          <a:prstGeom prst="ellipse">
            <a:avLst/>
          </a:prstGeom>
          <a:solidFill>
            <a:srgbClr val="0066ff"/>
          </a:solidFill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010280" y="4419720"/>
            <a:ext cx="76320" cy="75960"/>
          </a:xfrm>
          <a:prstGeom prst="ellipse">
            <a:avLst/>
          </a:prstGeom>
          <a:solidFill>
            <a:srgbClr val="0066ff"/>
          </a:solidFill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467480" y="3886200"/>
            <a:ext cx="76320" cy="76320"/>
          </a:xfrm>
          <a:prstGeom prst="ellipse">
            <a:avLst/>
          </a:prstGeom>
          <a:solidFill>
            <a:srgbClr val="0066ff"/>
          </a:solidFill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162920" y="3352680"/>
            <a:ext cx="152280" cy="152640"/>
          </a:xfrm>
          <a:prstGeom prst="diamond">
            <a:avLst/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5486400" y="4495680"/>
            <a:ext cx="838080" cy="6098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173280" y="44956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5486400" y="3428640"/>
            <a:ext cx="1752480" cy="160020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288200" y="3038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 flipV="1">
            <a:off x="4876560" y="4266720"/>
            <a:ext cx="609480" cy="8384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998520" y="3952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v2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62600" y="4876920"/>
            <a:ext cx="42832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A: inner product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(cosine similarity)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with each ‘concept’ vector v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486400" y="3200400"/>
            <a:ext cx="2514600" cy="1905120"/>
          </a:xfrm>
          <a:prstGeom prst="line">
            <a:avLst/>
          </a:prstGeom>
          <a:ln w="158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238880" y="3429000"/>
            <a:ext cx="152640" cy="22860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5867280" y="4190760"/>
            <a:ext cx="1905120" cy="1447560"/>
          </a:xfrm>
          <a:prstGeom prst="line">
            <a:avLst/>
          </a:prstGeom>
          <a:ln w="15840">
            <a:solidFill>
              <a:srgbClr val="0066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109640" y="4334040"/>
            <a:ext cx="10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q 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v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42280" y="38098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F457-88C2-41BB-9F71-AC43DCE488B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ase study - LSI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mpactly, we have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q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concep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q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g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160" name=""/>
          <p:cNvGraphicFramePr/>
          <p:nvPr/>
        </p:nvGraphicFramePr>
        <p:xfrm>
          <a:off x="1547640" y="4114800"/>
          <a:ext cx="1847880" cy="147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114800"/>
                    <a:ext cx="18478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2" name=""/>
          <p:cNvGrpSpPr/>
          <p:nvPr/>
        </p:nvGrpSpPr>
        <p:grpSpPr>
          <a:xfrm>
            <a:off x="625680" y="3123000"/>
            <a:ext cx="3359160" cy="1524960"/>
            <a:chOff x="625680" y="3123000"/>
            <a:chExt cx="3359160" cy="1524960"/>
          </a:xfrm>
        </p:grpSpPr>
        <p:sp>
          <p:nvSpPr>
            <p:cNvPr id="1163" name=""/>
            <p:cNvSpPr/>
            <p:nvPr/>
          </p:nvSpPr>
          <p:spPr>
            <a:xfrm>
              <a:off x="1547640" y="4028760"/>
              <a:ext cx="274680" cy="61920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276000" y="4028760"/>
              <a:ext cx="252360" cy="54288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478160" y="355320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955160" y="3301200"/>
              <a:ext cx="60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inf</a:t>
              </a: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30560" y="3123000"/>
              <a:ext cx="120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retrieval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603880" y="349272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brain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261600" y="336744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lung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476440" y="3597120"/>
              <a:ext cx="0" cy="24768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25680" y="4038480"/>
              <a:ext cx="68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r>
                <a:rPr b="0" lang="en-US" sz="2800" spc="-1" strike="noStrike" baseline="30000">
                  <a:solidFill>
                    <a:srgbClr val="ff3300"/>
                  </a:solidFill>
                  <a:latin typeface="Times New Roman"/>
                </a:rPr>
                <a:t>T</a:t>
              </a: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4038480" y="3276720"/>
            <a:ext cx="152640" cy="205740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4419720" y="3276720"/>
          <a:ext cx="1238040" cy="2076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276720"/>
                    <a:ext cx="123804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5" name=""/>
          <p:cNvSpPr/>
          <p:nvPr/>
        </p:nvSpPr>
        <p:spPr>
          <a:xfrm flipH="1">
            <a:off x="5790600" y="3276720"/>
            <a:ext cx="152280" cy="205740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734280" y="5410080"/>
            <a:ext cx="24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rm-to-concep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imilaritie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097680" y="38862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477120" y="3809880"/>
            <a:ext cx="152280" cy="5335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179" name=""/>
          <p:cNvGraphicFramePr/>
          <p:nvPr/>
        </p:nvGraphicFramePr>
        <p:xfrm>
          <a:off x="6629400" y="3886200"/>
          <a:ext cx="1447920" cy="457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9400" y="3886200"/>
                    <a:ext cx="1447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1" name=""/>
          <p:cNvSpPr/>
          <p:nvPr/>
        </p:nvSpPr>
        <p:spPr>
          <a:xfrm flipH="1">
            <a:off x="7771680" y="3809880"/>
            <a:ext cx="152280" cy="5335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021000" y="281952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858000" y="3429000"/>
            <a:ext cx="0" cy="38088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B67-2AF8-4788-922E-E66F32F33E2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ase study - LSI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rill: how would the document (‘information’, ‘retrieval’) handled by LSI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E6DD-23C0-41D5-BE1B-D0EE1999DEE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ase study - LSI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Drill: how would the document (‘information’, ‘retrieval’) handled by LSI? A: SAME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d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066ff"/>
                </a:solidFill>
                <a:latin typeface="Times New Roman"/>
              </a:rPr>
              <a:t>concep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d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g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1676520" y="4114800"/>
          <a:ext cx="1904760" cy="43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114800"/>
                    <a:ext cx="190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2" name=""/>
          <p:cNvGrpSpPr/>
          <p:nvPr/>
        </p:nvGrpSpPr>
        <p:grpSpPr>
          <a:xfrm>
            <a:off x="616680" y="3123000"/>
            <a:ext cx="3368160" cy="1524960"/>
            <a:chOff x="616680" y="3123000"/>
            <a:chExt cx="3368160" cy="1524960"/>
          </a:xfrm>
        </p:grpSpPr>
        <p:sp>
          <p:nvSpPr>
            <p:cNvPr id="1193" name=""/>
            <p:cNvSpPr/>
            <p:nvPr/>
          </p:nvSpPr>
          <p:spPr>
            <a:xfrm>
              <a:off x="1547640" y="4028760"/>
              <a:ext cx="274680" cy="61920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3276000" y="4028760"/>
              <a:ext cx="252360" cy="54288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478160" y="355320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955160" y="3301200"/>
              <a:ext cx="60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inf</a:t>
              </a: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230560" y="3123000"/>
              <a:ext cx="120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retrieval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603880" y="349272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brain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61600" y="336744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lung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3597120"/>
              <a:ext cx="0" cy="24768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16680" y="4038480"/>
              <a:ext cx="70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r>
                <a:rPr b="0" lang="en-US" sz="2800" spc="-1" strike="noStrike" baseline="30000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4038480" y="3276720"/>
            <a:ext cx="152640" cy="205740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203" name=""/>
          <p:cNvGraphicFramePr/>
          <p:nvPr/>
        </p:nvGraphicFramePr>
        <p:xfrm>
          <a:off x="4419720" y="3276720"/>
          <a:ext cx="1238040" cy="2076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276720"/>
                    <a:ext cx="123804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5" name=""/>
          <p:cNvSpPr/>
          <p:nvPr/>
        </p:nvSpPr>
        <p:spPr>
          <a:xfrm flipH="1">
            <a:off x="5790600" y="3276720"/>
            <a:ext cx="152280" cy="205740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734280" y="5410080"/>
            <a:ext cx="24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erm-to-concep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imilaritie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097680" y="38862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477120" y="3809880"/>
            <a:ext cx="152280" cy="5335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209" name=""/>
          <p:cNvGraphicFramePr/>
          <p:nvPr/>
        </p:nvGraphicFramePr>
        <p:xfrm>
          <a:off x="6629400" y="3886200"/>
          <a:ext cx="1428840" cy="6094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9400" y="3886200"/>
                    <a:ext cx="1428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1" name=""/>
          <p:cNvSpPr/>
          <p:nvPr/>
        </p:nvSpPr>
        <p:spPr>
          <a:xfrm flipH="1">
            <a:off x="7771680" y="3809880"/>
            <a:ext cx="152280" cy="5335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21000" y="281952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858000" y="3429000"/>
            <a:ext cx="0" cy="38088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F6B-4880-46C9-88B8-FE84CDF368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ase study - LSI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Observation: document (‘information’, ‘retrieval’) will be retrieved by query (‘data’),  although it does not contain ‘data’!!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217" name=""/>
          <p:cNvGraphicFramePr/>
          <p:nvPr/>
        </p:nvGraphicFramePr>
        <p:xfrm>
          <a:off x="1676520" y="4114800"/>
          <a:ext cx="1904760" cy="43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114800"/>
                    <a:ext cx="1904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9" name=""/>
          <p:cNvGrpSpPr/>
          <p:nvPr/>
        </p:nvGrpSpPr>
        <p:grpSpPr>
          <a:xfrm>
            <a:off x="616680" y="3123000"/>
            <a:ext cx="3368160" cy="1524960"/>
            <a:chOff x="616680" y="3123000"/>
            <a:chExt cx="3368160" cy="1524960"/>
          </a:xfrm>
        </p:grpSpPr>
        <p:sp>
          <p:nvSpPr>
            <p:cNvPr id="1220" name=""/>
            <p:cNvSpPr/>
            <p:nvPr/>
          </p:nvSpPr>
          <p:spPr>
            <a:xfrm>
              <a:off x="1547640" y="4028760"/>
              <a:ext cx="274680" cy="61920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3276000" y="4028760"/>
              <a:ext cx="252360" cy="54288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478160" y="355320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955160" y="3301200"/>
              <a:ext cx="60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inf</a:t>
              </a: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230560" y="3123000"/>
              <a:ext cx="120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retrieval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603880" y="349272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brain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261600" y="336744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lung</a:t>
              </a:r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476440" y="3597120"/>
              <a:ext cx="0" cy="247680"/>
            </a:xfrm>
            <a:prstGeom prst="line">
              <a:avLst/>
            </a:prstGeom>
            <a:ln w="1584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16680" y="4038480"/>
              <a:ext cx="70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r>
                <a:rPr b="0" lang="en-US" sz="2800" spc="-1" strike="noStrike" baseline="30000">
                  <a:solidFill>
                    <a:srgbClr val="0066ff"/>
                  </a:solidFill>
                  <a:latin typeface="Times New Roman"/>
                </a:rPr>
                <a:t>T</a:t>
              </a:r>
              <a:r>
                <a:rPr b="0" lang="en-US" sz="2800" spc="-1" strike="noStrike">
                  <a:solidFill>
                    <a:srgbClr val="0066ff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229" name=""/>
          <p:cNvSpPr/>
          <p:nvPr/>
        </p:nvSpPr>
        <p:spPr>
          <a:xfrm>
            <a:off x="6477120" y="3809880"/>
            <a:ext cx="152280" cy="5335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230" name=""/>
          <p:cNvGraphicFramePr/>
          <p:nvPr/>
        </p:nvGraphicFramePr>
        <p:xfrm>
          <a:off x="6629400" y="3886200"/>
          <a:ext cx="1428840" cy="609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3886200"/>
                    <a:ext cx="1428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2" name=""/>
          <p:cNvSpPr/>
          <p:nvPr/>
        </p:nvSpPr>
        <p:spPr>
          <a:xfrm flipH="1">
            <a:off x="7771680" y="3809880"/>
            <a:ext cx="152280" cy="5335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021000" y="281952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858000" y="3429000"/>
            <a:ext cx="0" cy="38088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235" name=""/>
          <p:cNvGraphicFramePr/>
          <p:nvPr/>
        </p:nvGraphicFramePr>
        <p:xfrm>
          <a:off x="1600200" y="5029200"/>
          <a:ext cx="1847880" cy="571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029200"/>
                    <a:ext cx="18478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7" name=""/>
          <p:cNvSpPr/>
          <p:nvPr/>
        </p:nvSpPr>
        <p:spPr>
          <a:xfrm>
            <a:off x="6534000" y="4724280"/>
            <a:ext cx="152640" cy="5335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238" name=""/>
          <p:cNvGraphicFramePr/>
          <p:nvPr/>
        </p:nvGraphicFramePr>
        <p:xfrm>
          <a:off x="6686640" y="4800600"/>
          <a:ext cx="1447560" cy="457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2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86640" y="4800600"/>
                    <a:ext cx="1447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0" name=""/>
          <p:cNvSpPr/>
          <p:nvPr/>
        </p:nvSpPr>
        <p:spPr>
          <a:xfrm flipH="1">
            <a:off x="7828920" y="4724280"/>
            <a:ext cx="152280" cy="5335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471680" y="4867200"/>
            <a:ext cx="274680" cy="61920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43240" y="487692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3351960" y="4876920"/>
            <a:ext cx="274680" cy="61884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962520" y="4267080"/>
            <a:ext cx="2057400" cy="0"/>
          </a:xfrm>
          <a:prstGeom prst="line">
            <a:avLst/>
          </a:prstGeom>
          <a:ln w="1584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5029200"/>
            <a:ext cx="2057400" cy="0"/>
          </a:xfrm>
          <a:prstGeom prst="line">
            <a:avLst/>
          </a:prstGeom>
          <a:ln w="1584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B9C-0432-4DA2-9DA5-F8169384A04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ase study - LSI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Q1: How to do queries with LSI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Q2: multi-lingual IR (english query, on spanish text?)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28600" y="23623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6CE-F8C6-4951-AFAB-2ADDD63194F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ase study - LSI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given many documents, translated to both languages (eg., English and Spanish)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answer queries across language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72C-7644-4FAA-A2D5-16BB35CB47F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ase study - LSI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olution: ~ LSI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256" name=""/>
          <p:cNvGraphicFramePr/>
          <p:nvPr/>
        </p:nvGraphicFramePr>
        <p:xfrm>
          <a:off x="1195560" y="3786120"/>
          <a:ext cx="1971360" cy="207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3786120"/>
                    <a:ext cx="197136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8" name=""/>
          <p:cNvSpPr/>
          <p:nvPr/>
        </p:nvSpPr>
        <p:spPr>
          <a:xfrm>
            <a:off x="1122480" y="3724200"/>
            <a:ext cx="218880" cy="20955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>
            <a:off x="5334120" y="3733920"/>
            <a:ext cx="217440" cy="20955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997200" y="3248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474200" y="299664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749600" y="281844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122920" y="3188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780640" y="30628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95480" y="3292560"/>
            <a:ext cx="0" cy="24768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614520" y="3724200"/>
            <a:ext cx="0" cy="4320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81240" y="40824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7080" y="52156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14520" y="4587840"/>
            <a:ext cx="0" cy="18432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614520" y="4957560"/>
            <a:ext cx="0" cy="36972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14520" y="5635800"/>
            <a:ext cx="0" cy="18396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272" name=""/>
          <p:cNvGraphicFramePr/>
          <p:nvPr/>
        </p:nvGraphicFramePr>
        <p:xfrm>
          <a:off x="3581280" y="3809880"/>
          <a:ext cx="1712880" cy="213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809880"/>
                    <a:ext cx="17128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4" name=""/>
          <p:cNvSpPr/>
          <p:nvPr/>
        </p:nvSpPr>
        <p:spPr>
          <a:xfrm flipV="1">
            <a:off x="3276720" y="3581280"/>
            <a:ext cx="0" cy="2362320"/>
          </a:xfrm>
          <a:prstGeom prst="line">
            <a:avLst/>
          </a:prstGeom>
          <a:ln w="158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733920" y="3276720"/>
            <a:ext cx="0" cy="38088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353040" y="27421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datos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253320" y="24375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informacion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962520" y="2895480"/>
            <a:ext cx="0" cy="76212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7FB-BEED-4E8E-9FD5-2BAF01CAAE4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ase study - LSI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olution: ~ LSI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282" name=""/>
          <p:cNvGraphicFramePr/>
          <p:nvPr/>
        </p:nvGraphicFramePr>
        <p:xfrm>
          <a:off x="1195560" y="3786120"/>
          <a:ext cx="1971360" cy="207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3786120"/>
                    <a:ext cx="197136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4" name=""/>
          <p:cNvSpPr/>
          <p:nvPr/>
        </p:nvSpPr>
        <p:spPr>
          <a:xfrm>
            <a:off x="1122480" y="3724200"/>
            <a:ext cx="218880" cy="20955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5334120" y="3733920"/>
            <a:ext cx="217440" cy="20955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997200" y="32486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474200" y="299664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749600" y="281844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122920" y="3188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780640" y="30628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995480" y="3292560"/>
            <a:ext cx="0" cy="24768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614520" y="3724200"/>
            <a:ext cx="0" cy="4320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81240" y="40824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7080" y="52156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14520" y="4587840"/>
            <a:ext cx="0" cy="18432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614520" y="4957560"/>
            <a:ext cx="0" cy="36972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14520" y="5635800"/>
            <a:ext cx="0" cy="18396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298" name=""/>
          <p:cNvGraphicFramePr/>
          <p:nvPr/>
        </p:nvGraphicFramePr>
        <p:xfrm>
          <a:off x="3581280" y="3809880"/>
          <a:ext cx="1712880" cy="213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809880"/>
                    <a:ext cx="17128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0" name=""/>
          <p:cNvSpPr/>
          <p:nvPr/>
        </p:nvSpPr>
        <p:spPr>
          <a:xfrm flipV="1">
            <a:off x="3276720" y="3581280"/>
            <a:ext cx="0" cy="2362320"/>
          </a:xfrm>
          <a:prstGeom prst="line">
            <a:avLst/>
          </a:prstGeom>
          <a:ln w="158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733920" y="3276720"/>
            <a:ext cx="0" cy="38088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353040" y="27421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datos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253320" y="24375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informacion</a:t>
            </a:r>
            <a:endParaRPr b="0" lang="en-US" sz="2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962520" y="2895480"/>
            <a:ext cx="0" cy="76212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285-879D-42E3-886D-B7EBAB7B5C6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Motivation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60" name="img52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419360" cy="420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591-4123-499C-8791-BC42148742D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outline - Case studi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pplications - success stor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ulti-lingual IR; LSI queries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ompression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CA - ‘ratio rules’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Karhunen-Lowe transform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Kleinberg/google algorithm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80880" y="32767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AF2-3364-456A-B232-527C28015D0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ase study: compression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[Korn+97]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given a matrix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mpress it, but maintain ‘random access’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831E-B561-41F9-A9FB-4EC4513532A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Problem - spec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~10**6 rows; ~10**3 columns; no updates;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random access to any cell(s) ; small error: OK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1219320" y="3581280"/>
            <a:ext cx="6248160" cy="2381040"/>
            <a:chOff x="1219320" y="3581280"/>
            <a:chExt cx="6248160" cy="2381040"/>
          </a:xfrm>
        </p:grpSpPr>
        <p:pic>
          <p:nvPicPr>
            <p:cNvPr id="1316" name="img7" descr=""/>
            <p:cNvPicPr/>
            <p:nvPr/>
          </p:nvPicPr>
          <p:blipFill>
            <a:blip r:embed="rId1"/>
            <a:stretch/>
          </p:blipFill>
          <p:spPr>
            <a:xfrm>
              <a:off x="1219320" y="3581280"/>
              <a:ext cx="6248160" cy="23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7" name=""/>
            <p:cNvSpPr/>
            <p:nvPr/>
          </p:nvSpPr>
          <p:spPr>
            <a:xfrm>
              <a:off x="4876560" y="4647960"/>
              <a:ext cx="380520" cy="228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2743200" y="5181480"/>
            <a:ext cx="4495680" cy="228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29A5-868D-4E5D-9E4C-DFF8EC24DFB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Idea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321" name="img52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419360" cy="4200480"/>
          </a:xfrm>
          <a:prstGeom prst="rect">
            <a:avLst/>
          </a:prstGeom>
          <a:ln w="0">
            <a:noFill/>
          </a:ln>
        </p:spPr>
      </p:pic>
      <p:sp>
        <p:nvSpPr>
          <p:cNvPr id="1322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12B-A323-4B71-A4A3-6D19A5576C29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reminder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3581280" y="1905120"/>
            <a:ext cx="5224680" cy="3695760"/>
            <a:chOff x="3581280" y="1905120"/>
            <a:chExt cx="5224680" cy="3695760"/>
          </a:xfrm>
        </p:grpSpPr>
        <p:grpSp>
          <p:nvGrpSpPr>
            <p:cNvPr id="1325" name=""/>
            <p:cNvGrpSpPr/>
            <p:nvPr/>
          </p:nvGrpSpPr>
          <p:grpSpPr>
            <a:xfrm>
              <a:off x="3581280" y="1905120"/>
              <a:ext cx="5224680" cy="3695760"/>
              <a:chOff x="3581280" y="1905120"/>
              <a:chExt cx="5224680" cy="3695760"/>
            </a:xfrm>
          </p:grpSpPr>
          <p:pic>
            <p:nvPicPr>
              <p:cNvPr id="1326" name="img54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1905120"/>
                <a:ext cx="5224680" cy="369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7" name=""/>
              <p:cNvSpPr/>
              <p:nvPr/>
            </p:nvSpPr>
            <p:spPr>
              <a:xfrm flipV="1">
                <a:off x="3886200" y="4800960"/>
                <a:ext cx="380880" cy="3808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66ff"/>
                  </a:solidFill>
                  <a:latin typeface="Times New Roman"/>
                </a:endParaRPr>
              </a:p>
            </p:txBody>
          </p:sp>
        </p:grpSp>
        <p:sp>
          <p:nvSpPr>
            <p:cNvPr id="1328" name=""/>
            <p:cNvSpPr/>
            <p:nvPr/>
          </p:nvSpPr>
          <p:spPr>
            <a:xfrm>
              <a:off x="5562720" y="2743560"/>
              <a:ext cx="38088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867280" y="3048120"/>
              <a:ext cx="152640" cy="15264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pace savings: 2: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inimum RMS error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893-1E71-4683-8E6D-5ADF2D718AB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Performance - scaleup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1333" name="img88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105520" cy="4030920"/>
          </a:xfrm>
          <a:prstGeom prst="rect">
            <a:avLst/>
          </a:prstGeom>
          <a:ln w="0">
            <a:noFill/>
          </a:ln>
        </p:spPr>
      </p:pic>
      <p:sp>
        <p:nvSpPr>
          <p:cNvPr id="1334" name=""/>
          <p:cNvSpPr/>
          <p:nvPr/>
        </p:nvSpPr>
        <p:spPr>
          <a:xfrm>
            <a:off x="5974560" y="55234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289520" y="220860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6934320" y="380880"/>
            <a:ext cx="1695240" cy="9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kip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B1B-D3EF-4F1A-A9F9-33D4726B6206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 outline - Case studi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pplications - success stories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multi-lingual IR; LSI queries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compression 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CA - ‘ratio rules’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Karhunen-Lowe transform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Kleinberg/google algorithm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80880" y="38098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C15-9D4D-40E0-BD19-35E1671F2B9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PCA - ‘Ratio Rules’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[Korn+00]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Typically: ‘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Association Rules’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(eg.,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{bread, milk} -&gt; {butter}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ut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which set of rules is ‘better’?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how to reconstruct missing/corrupted values?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A1A-79A4-41C6-9145-D4CD2CD5FD2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PCA - ‘Ratio Rules’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dea: try to find ‘concepts’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igenvectors dictate rules about ratios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read:milk:butter = 2:4:3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048120" y="5410080"/>
            <a:ext cx="2286000" cy="0"/>
          </a:xfrm>
          <a:prstGeom prst="line">
            <a:avLst/>
          </a:prstGeom>
          <a:ln w="1260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3048120" y="3885840"/>
            <a:ext cx="0" cy="1523880"/>
          </a:xfrm>
          <a:prstGeom prst="line">
            <a:avLst/>
          </a:prstGeom>
          <a:ln w="1260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3048120" y="4648320"/>
            <a:ext cx="1447560" cy="761760"/>
          </a:xfrm>
          <a:prstGeom prst="line">
            <a:avLst/>
          </a:prstGeom>
          <a:ln w="1260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3048120" y="4572000"/>
            <a:ext cx="990360" cy="838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448880" y="56376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$ on bread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724280" y="46472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$ on milk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308240" y="40374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$ on butter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038480" y="4572000"/>
            <a:ext cx="0" cy="53352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3504960" y="5105520"/>
            <a:ext cx="533160" cy="30456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3657600" y="5105520"/>
            <a:ext cx="38088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971800" y="5561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048120" y="5562720"/>
            <a:ext cx="457200" cy="0"/>
          </a:xfrm>
          <a:prstGeom prst="line">
            <a:avLst/>
          </a:prstGeom>
          <a:ln w="1260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2819520" y="4876560"/>
            <a:ext cx="0" cy="533160"/>
          </a:xfrm>
          <a:prstGeom prst="line">
            <a:avLst/>
          </a:prstGeom>
          <a:ln w="1260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3047760" y="5105520"/>
            <a:ext cx="990360" cy="30456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3047760" y="4572000"/>
            <a:ext cx="990360" cy="30492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364120" y="495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4191120" y="5105520"/>
            <a:ext cx="457200" cy="304560"/>
          </a:xfrm>
          <a:prstGeom prst="line">
            <a:avLst/>
          </a:prstGeom>
          <a:ln w="1260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633920" y="5104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191120" y="4343400"/>
            <a:ext cx="75960" cy="7632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352680" y="4800600"/>
            <a:ext cx="76320" cy="7632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800600" y="3886200"/>
            <a:ext cx="76320" cy="7632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809880" y="4800600"/>
            <a:ext cx="76320" cy="7632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648320" y="4114800"/>
            <a:ext cx="75960" cy="7632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495680" y="3962520"/>
            <a:ext cx="76320" cy="75960"/>
          </a:xfrm>
          <a:prstGeom prst="ellipse">
            <a:avLst/>
          </a:prstGeom>
          <a:noFill/>
          <a:ln w="158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D68-B147-422C-B790-549154B8624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PCA - ‘Ratio Rules’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[Korn+00]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Typically: ‘</a:t>
            </a: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Association Rules’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(eg.,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{bread, milk} -&gt; {butter}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But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how to reconstruct missing/corrupted values?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which set of rules is ‘better’?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62120" y="4876920"/>
            <a:ext cx="304560" cy="30456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96"/>
                </a:moveTo>
                <a:lnTo>
                  <a:pt x="48" y="192"/>
                </a:lnTo>
                <a:lnTo>
                  <a:pt x="192" y="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838080" y="4419720"/>
            <a:ext cx="304920" cy="30456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96"/>
                </a:moveTo>
                <a:lnTo>
                  <a:pt x="48" y="192"/>
                </a:lnTo>
                <a:lnTo>
                  <a:pt x="192" y="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C7A-39D3-4AD6-805D-2D134CEF146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SVD - Motivation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pic>
        <p:nvPicPr>
          <p:cNvPr id="62" name="img52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419360" cy="4200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V="1">
            <a:off x="3048120" y="1752480"/>
            <a:ext cx="3581280" cy="33530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557-F991-4106-A643-B05E1865392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PCA - ‘Ratio Rules’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Moreover: visual data mining, for free: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86A-C628-4AC0-A4F2-311CBE5AC82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PCA - Ratio Rul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no Gaussian clusters; Zipf-like distribution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76" name="img101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315200" cy="2792520"/>
          </a:xfrm>
          <a:prstGeom prst="rect">
            <a:avLst/>
          </a:prstGeom>
          <a:ln w="0">
            <a:noFill/>
          </a:ln>
        </p:spPr>
      </p:pic>
      <p:grpSp>
        <p:nvGrpSpPr>
          <p:cNvPr id="1377" name=""/>
          <p:cNvGrpSpPr/>
          <p:nvPr/>
        </p:nvGrpSpPr>
        <p:grpSpPr>
          <a:xfrm>
            <a:off x="5867280" y="3048120"/>
            <a:ext cx="381240" cy="1981080"/>
            <a:chOff x="5867280" y="3048120"/>
            <a:chExt cx="381240" cy="1981080"/>
          </a:xfrm>
        </p:grpSpPr>
        <p:sp>
          <p:nvSpPr>
            <p:cNvPr id="1378" name=""/>
            <p:cNvSpPr/>
            <p:nvPr/>
          </p:nvSpPr>
          <p:spPr>
            <a:xfrm>
              <a:off x="6095880" y="3048120"/>
              <a:ext cx="152640" cy="1522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867280" y="4876920"/>
              <a:ext cx="152640" cy="1522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3657600" y="4952880"/>
            <a:ext cx="152280" cy="152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209680" y="5790600"/>
            <a:ext cx="17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phonecall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010640" y="556200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stock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0E62-80AE-4C02-9D93-A37361AB497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PCA - Ratio Rul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1447920" y="1676520"/>
            <a:ext cx="6084720" cy="4424400"/>
            <a:chOff x="1447920" y="1676520"/>
            <a:chExt cx="6084720" cy="4424400"/>
          </a:xfrm>
        </p:grpSpPr>
        <p:pic>
          <p:nvPicPr>
            <p:cNvPr id="1385" name="plot-nba" descr=""/>
            <p:cNvPicPr/>
            <p:nvPr/>
          </p:nvPicPr>
          <p:blipFill>
            <a:blip r:embed="rId1"/>
            <a:srcRect l="5882" t="59094" r="29412" b="4545"/>
            <a:stretch/>
          </p:blipFill>
          <p:spPr>
            <a:xfrm>
              <a:off x="1447920" y="1676520"/>
              <a:ext cx="6084720" cy="44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>
              <a:off x="6705720" y="2743200"/>
              <a:ext cx="152280" cy="1522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867280" y="5181480"/>
              <a:ext cx="152640" cy="1526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388" name=""/>
          <p:cNvSpPr/>
          <p:nvPr/>
        </p:nvSpPr>
        <p:spPr>
          <a:xfrm>
            <a:off x="314280" y="1326960"/>
            <a:ext cx="214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NBA dataset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~500 players;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~30 attributes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E34-3C2D-4912-AEAC-B58A53010560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PCA - Ratio Rul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PCA: get eigenvectors v1, v2, ..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ignore entries with small abs. value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try to interpret the rest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9E34-7369-48FB-93E6-D2D0170A4D56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PCA - Ratio Rules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839520" y="1751760"/>
            <a:ext cx="80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NBA dataset -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matrix (term to ‘concept’ similarities)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93" name="img36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5557680" cy="3102120"/>
          </a:xfrm>
          <a:prstGeom prst="rect">
            <a:avLst/>
          </a:prstGeom>
          <a:ln w="0">
            <a:noFill/>
          </a:ln>
        </p:spPr>
      </p:pic>
      <p:sp>
        <p:nvSpPr>
          <p:cNvPr id="1394" name=""/>
          <p:cNvSpPr/>
          <p:nvPr/>
        </p:nvSpPr>
        <p:spPr>
          <a:xfrm>
            <a:off x="4114800" y="3048120"/>
            <a:ext cx="838080" cy="2743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268160" y="58665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C0C-F19B-4EBA-8DF1-88458C0BB775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Ratio Rules - exampl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RR1: minutes:points = 2:1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rresponding concept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1447920" y="3048120"/>
            <a:ext cx="3581280" cy="3052800"/>
            <a:chOff x="1447920" y="3048120"/>
            <a:chExt cx="3581280" cy="3052800"/>
          </a:xfrm>
        </p:grpSpPr>
        <p:pic>
          <p:nvPicPr>
            <p:cNvPr id="1399" name="plot-nba" descr=""/>
            <p:cNvPicPr/>
            <p:nvPr/>
          </p:nvPicPr>
          <p:blipFill>
            <a:blip r:embed="rId1"/>
            <a:srcRect l="5882" t="59094" r="29412" b="4545"/>
            <a:stretch/>
          </p:blipFill>
          <p:spPr>
            <a:xfrm>
              <a:off x="1447920" y="3048120"/>
              <a:ext cx="3581280" cy="30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0" name=""/>
            <p:cNvSpPr/>
            <p:nvPr/>
          </p:nvSpPr>
          <p:spPr>
            <a:xfrm>
              <a:off x="4542480" y="3783960"/>
              <a:ext cx="89280" cy="1047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048920" y="5466600"/>
              <a:ext cx="89640" cy="1051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4800600" y="4572000"/>
            <a:ext cx="533520" cy="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751000" y="43124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714-7C15-4F0A-8809-66C72C313CDC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Ratio Rules - exampl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RR1: minutes:points = 2:1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corresponding concept?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: ‘goodness’ of player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3A42-BCF6-42F2-8011-D1ABB63EF279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Ratio Rules - exampl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RR2: points: rebounds negatively correlated(!) 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408" name="img36" descr=""/>
          <p:cNvPicPr/>
          <p:nvPr/>
        </p:nvPicPr>
        <p:blipFill>
          <a:blip r:embed="rId1"/>
          <a:stretch/>
        </p:blipFill>
        <p:spPr>
          <a:xfrm>
            <a:off x="1143000" y="2971800"/>
            <a:ext cx="5557680" cy="3102120"/>
          </a:xfrm>
          <a:prstGeom prst="rect">
            <a:avLst/>
          </a:prstGeom>
          <a:ln w="0">
            <a:noFill/>
          </a:ln>
        </p:spPr>
      </p:pic>
      <p:sp>
        <p:nvSpPr>
          <p:cNvPr id="1409" name=""/>
          <p:cNvSpPr/>
          <p:nvPr/>
        </p:nvSpPr>
        <p:spPr>
          <a:xfrm>
            <a:off x="4495680" y="3352680"/>
            <a:ext cx="1067040" cy="2743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DF6-65A0-40B2-A1C8-C4BF3408C966}" type="slidenum">
              <a:t>9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Ratio Rules - exampl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RR2: points: rebounds negatively correlated(!) - concept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1447920" y="3048120"/>
            <a:ext cx="3581280" cy="3052800"/>
            <a:chOff x="1447920" y="3048120"/>
            <a:chExt cx="3581280" cy="3052800"/>
          </a:xfrm>
        </p:grpSpPr>
        <p:pic>
          <p:nvPicPr>
            <p:cNvPr id="1413" name="plot-nba" descr=""/>
            <p:cNvPicPr/>
            <p:nvPr/>
          </p:nvPicPr>
          <p:blipFill>
            <a:blip r:embed="rId1"/>
            <a:srcRect l="5882" t="59094" r="29412" b="4545"/>
            <a:stretch/>
          </p:blipFill>
          <p:spPr>
            <a:xfrm>
              <a:off x="1447920" y="3048120"/>
              <a:ext cx="3581280" cy="30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4" name=""/>
            <p:cNvSpPr/>
            <p:nvPr/>
          </p:nvSpPr>
          <p:spPr>
            <a:xfrm>
              <a:off x="4542480" y="3783960"/>
              <a:ext cx="89280" cy="1047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048920" y="5466600"/>
              <a:ext cx="89640" cy="1051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66ff"/>
                </a:solidFill>
                <a:latin typeface="Times New Roman"/>
              </a:endParaRPr>
            </a:p>
          </p:txBody>
        </p:sp>
      </p:grpSp>
      <p:sp>
        <p:nvSpPr>
          <p:cNvPr id="1416" name=""/>
          <p:cNvSpPr/>
          <p:nvPr/>
        </p:nvSpPr>
        <p:spPr>
          <a:xfrm flipV="1">
            <a:off x="1523880" y="3809520"/>
            <a:ext cx="0" cy="685800"/>
          </a:xfrm>
          <a:prstGeom prst="line">
            <a:avLst/>
          </a:prstGeom>
          <a:ln w="158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63200" y="3656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v2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2F5-4480-444F-84A8-2EB66E75AFFB}" type="slidenum">
              <a:t>9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Ratio Rules - example</a:t>
            </a:r>
            <a:endParaRPr b="0" lang="en-US" sz="4400" spc="-1" strike="noStrike">
              <a:solidFill>
                <a:srgbClr val="ff33cc"/>
              </a:solidFill>
              <a:latin typeface="Times New Roman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RR2: points: rebounds negatively correlated(!) - concept?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: position: offensive/defensive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: C. Faloutsos (2001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253-92C3-4514-B02D-485190E9ED61}" type="slidenum">
              <a:t>9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D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04:17:22Z</dcterms:created>
  <dc:creator>Christos Faloutsos</dc:creator>
  <dc:description>icde 2001</dc:description>
  <dc:language>en-US</dc:language>
  <cp:lastModifiedBy>Christos Faloutsos</cp:lastModifiedBy>
  <cp:lastPrinted>2000-02-27T03:36:14Z</cp:lastPrinted>
  <dcterms:modified xsi:type="dcterms:W3CDTF">2001-04-01T18:46:56Z</dcterms:modified>
  <cp:revision>338</cp:revision>
  <dc:subject/>
  <dc:title>Next generation data mining to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hristos@cs.cm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INDOWS\DESKTOP\junk\salerno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