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09CC06-5C3F-44A7-BE2B-EDA7381701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240" y="187920"/>
            <a:ext cx="8534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240" y="1017360"/>
            <a:ext cx="8574120" cy="260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28240" y="3868920"/>
            <a:ext cx="8574120" cy="260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62E153-5F0D-4962-8180-B36F798CF7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240" y="187920"/>
            <a:ext cx="8534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240" y="1017360"/>
            <a:ext cx="4183920" cy="260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21680" y="1017360"/>
            <a:ext cx="4183920" cy="260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28240" y="3868920"/>
            <a:ext cx="4183920" cy="260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21680" y="3868920"/>
            <a:ext cx="4183920" cy="260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9D12D8-4D69-4E16-BA3B-ADFF5DB36F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240" y="187920"/>
            <a:ext cx="8534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240" y="1017360"/>
            <a:ext cx="2760480" cy="260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126960" y="1017360"/>
            <a:ext cx="2760480" cy="260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6040" y="1017360"/>
            <a:ext cx="2760480" cy="260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228240" y="3868920"/>
            <a:ext cx="2760480" cy="260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126960" y="3868920"/>
            <a:ext cx="2760480" cy="260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6040" y="3868920"/>
            <a:ext cx="2760480" cy="260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D47C5D-1771-400F-AE0F-CED66905A1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87920"/>
            <a:ext cx="8534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8240" y="1017360"/>
            <a:ext cx="8574120" cy="54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28240" y="187920"/>
            <a:ext cx="8534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28240" y="1017360"/>
            <a:ext cx="8574120" cy="545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240" y="187920"/>
            <a:ext cx="8534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240" y="1017360"/>
            <a:ext cx="4183920" cy="545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21680" y="1017360"/>
            <a:ext cx="4183920" cy="545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187920"/>
            <a:ext cx="8534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228240" y="228240"/>
            <a:ext cx="8534520" cy="335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87920"/>
            <a:ext cx="8534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240" y="1017360"/>
            <a:ext cx="4183920" cy="260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21680" y="1017360"/>
            <a:ext cx="4183920" cy="545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228240" y="3868920"/>
            <a:ext cx="4183920" cy="260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28240" y="187920"/>
            <a:ext cx="8534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228240" y="1017360"/>
            <a:ext cx="8574120" cy="54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9F3822-8155-4E14-8605-68E8629B9F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240" y="187920"/>
            <a:ext cx="8534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240" y="1017360"/>
            <a:ext cx="4183920" cy="545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21680" y="1017360"/>
            <a:ext cx="4183920" cy="260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21680" y="3868920"/>
            <a:ext cx="4183920" cy="260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240" y="187920"/>
            <a:ext cx="8534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240" y="1017360"/>
            <a:ext cx="4183920" cy="260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21680" y="1017360"/>
            <a:ext cx="4183920" cy="260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28240" y="3868920"/>
            <a:ext cx="8574120" cy="260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240" y="187920"/>
            <a:ext cx="8534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240" y="1017360"/>
            <a:ext cx="8574120" cy="260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228240" y="3868920"/>
            <a:ext cx="8574120" cy="260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240" y="187920"/>
            <a:ext cx="8534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240" y="1017360"/>
            <a:ext cx="4183920" cy="260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21680" y="1017360"/>
            <a:ext cx="4183920" cy="260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28240" y="3868920"/>
            <a:ext cx="4183920" cy="260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21680" y="3868920"/>
            <a:ext cx="4183920" cy="260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240" y="187920"/>
            <a:ext cx="8534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240" y="1017360"/>
            <a:ext cx="2760480" cy="260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126960" y="1017360"/>
            <a:ext cx="2760480" cy="260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6040" y="1017360"/>
            <a:ext cx="2760480" cy="260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28240" y="3868920"/>
            <a:ext cx="2760480" cy="260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126960" y="3868920"/>
            <a:ext cx="2760480" cy="260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6040" y="3868920"/>
            <a:ext cx="2760480" cy="260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240" y="187920"/>
            <a:ext cx="8534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228240" y="1017360"/>
            <a:ext cx="8574120" cy="545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331898-08AF-4E26-8AC5-370BB50950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240" y="187920"/>
            <a:ext cx="8534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240" y="1017360"/>
            <a:ext cx="4183920" cy="545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21680" y="1017360"/>
            <a:ext cx="4183920" cy="545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CD3A13-39D5-4BEA-8365-1463EC5523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240" y="187920"/>
            <a:ext cx="8534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20ECAE-FC89-48E6-8AEE-06D4EAE154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228240" y="228240"/>
            <a:ext cx="8534520" cy="335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34D80F-F9A8-41BA-B6B3-B2BFB4E647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240" y="187920"/>
            <a:ext cx="8534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240" y="1017360"/>
            <a:ext cx="4183920" cy="260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21680" y="1017360"/>
            <a:ext cx="4183920" cy="545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228240" y="3868920"/>
            <a:ext cx="4183920" cy="260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0DC906-7E2A-4A2C-B813-75296D6587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240" y="187920"/>
            <a:ext cx="8534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28240" y="1017360"/>
            <a:ext cx="4183920" cy="545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21680" y="1017360"/>
            <a:ext cx="4183920" cy="260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21680" y="3868920"/>
            <a:ext cx="4183920" cy="260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FD8DC4-E1A4-49DD-8858-48718B9E69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240" y="187920"/>
            <a:ext cx="8534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240" y="1017360"/>
            <a:ext cx="4183920" cy="260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21680" y="1017360"/>
            <a:ext cx="4183920" cy="260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240" y="3868920"/>
            <a:ext cx="8574120" cy="260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E8E88E-B188-43FD-842C-08289C8DBA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5345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66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240" y="1017360"/>
            <a:ext cx="8574120" cy="545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5029200" y="6629040"/>
            <a:ext cx="41148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A59D5-5B71-4FAC-ABF9-20D9EA05CB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14400" y="990720"/>
            <a:ext cx="77724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ahoma"/>
              </a:rPr>
              <a:t>Click to edit the title text format</a:t>
            </a:r>
            <a:endParaRPr b="1" lang="en-US" sz="6000" spc="-1" strike="noStrike">
              <a:solidFill>
                <a:srgbClr val="006600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mailto:awm@cs.cmu.edu" TargetMode="External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-1446120" y="1960560"/>
            <a:ext cx="3870000" cy="2666520"/>
            <a:chOff x="-1446120" y="1960560"/>
            <a:chExt cx="3870000" cy="2666520"/>
          </a:xfrm>
        </p:grpSpPr>
        <p:pic>
          <p:nvPicPr>
            <p:cNvPr id="78" name="" descr=""/>
            <p:cNvPicPr/>
            <p:nvPr/>
          </p:nvPicPr>
          <p:blipFill>
            <a:blip r:embed="rId1"/>
            <a:stretch/>
          </p:blipFill>
          <p:spPr>
            <a:xfrm>
              <a:off x="-1103040" y="2212200"/>
              <a:ext cx="3037680" cy="20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"/>
            <p:cNvSpPr/>
            <p:nvPr/>
          </p:nvSpPr>
          <p:spPr>
            <a:xfrm>
              <a:off x="-1446120" y="1960560"/>
              <a:ext cx="1812600" cy="25660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493280" y="2061000"/>
              <a:ext cx="930600" cy="25660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00"/>
                </a:solidFill>
                <a:latin typeface="Tahoma"/>
              </a:rPr>
              <a:t>AI</a:t>
            </a:r>
            <a:br>
              <a:rPr sz="5400"/>
            </a:br>
            <a:br>
              <a:rPr sz="2400"/>
            </a:br>
            <a:r>
              <a:rPr b="0" lang="en-US" sz="3600" spc="-1" strike="noStrike">
                <a:solidFill>
                  <a:srgbClr val="006600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6600"/>
              </a:solidFill>
              <a:latin typeface="Tahoma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1609560" y="2087640"/>
          <a:ext cx="5781600" cy="4054320"/>
        </p:xfrm>
        <a:graphic>
          <a:graphicData uri="http://schemas.openxmlformats.org/drawingml/2006/table">
            <a:tbl>
              <a:tblPr/>
              <a:tblGrid>
                <a:gridCol w="5781600"/>
              </a:tblGrid>
              <a:tr h="293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ndrew W. Moor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arnegie Mellon University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5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 u="sng">
                          <a:solidFill>
                            <a:srgbClr val="ff0000"/>
                          </a:solidFill>
                          <a:uFillTx/>
                          <a:latin typeface="Tahoma"/>
                          <a:hlinkClick r:id="rId2"/>
                        </a:rPr>
                        <a:t>awm@cs.cmu.edu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Questions welcome about anything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03320" y="365040"/>
            <a:ext cx="8937360" cy="6066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A61964-0E10-4212-8363-DD0351AF343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03320" y="139680"/>
            <a:ext cx="8915400" cy="4237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AB2FF5-C13B-44E0-9D00-6FB39742BC5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08000" y="122400"/>
            <a:ext cx="8928000" cy="52941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8B037F-374B-479E-9481-5C1578D87CE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334800" y="157320"/>
            <a:ext cx="8483760" cy="6364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515C1E-6A95-458E-881C-27EA1F2639F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09440" y="119160"/>
            <a:ext cx="8899560" cy="3809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764007-BDF9-4BC8-85D5-FA43762D664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27080" y="1362240"/>
            <a:ext cx="8791560" cy="22590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981080" y="228600"/>
            <a:ext cx="4767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9160" indent="-119160"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Arial"/>
              </a:rPr>
              <a:t>Snake-Oil  A.I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F40887-B717-42D0-8845-8B3090E402A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19160" y="135000"/>
            <a:ext cx="8880480" cy="354168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5529240" y="3073320"/>
            <a:ext cx="345456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D4095C-1E7A-4F27-8AF4-380DBB0B41C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19160" y="135000"/>
            <a:ext cx="8880480" cy="3541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B3CBD1-A642-430D-9AD4-57C5AD83B3A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47760" y="117360"/>
            <a:ext cx="8453520" cy="6488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33FA3D-7482-446C-B3AD-273417FC86C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23840" y="135000"/>
            <a:ext cx="8862840" cy="5570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47F41E-EE60-4A8E-B32B-5BF33DC5B2D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39320" y="153720"/>
            <a:ext cx="7672680" cy="5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00"/>
                </a:solidFill>
                <a:latin typeface="Tahoma"/>
              </a:rPr>
              <a:t>An AI cocktail party</a:t>
            </a:r>
            <a:endParaRPr b="0" lang="en-US" sz="4000" spc="-1" strike="noStrike">
              <a:solidFill>
                <a:srgbClr val="006600"/>
              </a:solidFill>
              <a:latin typeface="Tahoma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2139840" y="1174680"/>
            <a:ext cx="5173920" cy="5316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1C3CC7-B7A3-4990-BF07-63576C62E05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39320" y="153720"/>
            <a:ext cx="7672680" cy="5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00"/>
                </a:solidFill>
                <a:latin typeface="Tahoma"/>
              </a:rPr>
              <a:t>An AI cocktail party</a:t>
            </a:r>
            <a:endParaRPr b="0" lang="en-US" sz="4000" spc="-1" strike="noStrike">
              <a:solidFill>
                <a:srgbClr val="006600"/>
              </a:solidFill>
              <a:latin typeface="Tahoma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139840" y="1174680"/>
            <a:ext cx="5173920" cy="531648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5046840" y="5842080"/>
            <a:ext cx="2574720" cy="685800"/>
          </a:xfrm>
          <a:prstGeom prst="wedgeRectCallout">
            <a:avLst>
              <a:gd name="adj1" fmla="val -46055"/>
              <a:gd name="adj2" fmla="val -183564"/>
            </a:avLst>
          </a:prstGeom>
          <a:solidFill>
            <a:srgbClr val="ccffff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How does intelligence work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F78A59-20F7-4DA7-B265-C59F1165855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39320" y="153720"/>
            <a:ext cx="7672680" cy="5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00"/>
                </a:solidFill>
                <a:latin typeface="Tahoma"/>
              </a:rPr>
              <a:t>An AI cocktail party</a:t>
            </a:r>
            <a:endParaRPr b="0" lang="en-US" sz="4000" spc="-1" strike="noStrike">
              <a:solidFill>
                <a:srgbClr val="006600"/>
              </a:solidFill>
              <a:latin typeface="Tahoma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139840" y="1174680"/>
            <a:ext cx="5173920" cy="531648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5046840" y="5842080"/>
            <a:ext cx="2574720" cy="685800"/>
          </a:xfrm>
          <a:prstGeom prst="wedgeRectCallout">
            <a:avLst>
              <a:gd name="adj1" fmla="val -46055"/>
              <a:gd name="adj2" fmla="val -183564"/>
            </a:avLst>
          </a:prstGeom>
          <a:solidFill>
            <a:srgbClr val="ccffff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How does intelligence work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11240" y="693720"/>
            <a:ext cx="2871720" cy="1023840"/>
          </a:xfrm>
          <a:prstGeom prst="wedgeRectCallout">
            <a:avLst>
              <a:gd name="adj1" fmla="val 45189"/>
              <a:gd name="adj2" fmla="val 77129"/>
            </a:avLst>
          </a:prstGeom>
          <a:solidFill>
            <a:srgbClr val="ffadad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How can we put professional decision-makers out of work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C03A72-21E7-486E-9554-B2D73204002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39320" y="153720"/>
            <a:ext cx="7672680" cy="5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00"/>
                </a:solidFill>
                <a:latin typeface="Tahoma"/>
              </a:rPr>
              <a:t>An AI cocktail party</a:t>
            </a:r>
            <a:endParaRPr b="0" lang="en-US" sz="4000" spc="-1" strike="noStrike">
              <a:solidFill>
                <a:srgbClr val="006600"/>
              </a:solidFill>
              <a:latin typeface="Tahom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2139840" y="1174680"/>
            <a:ext cx="5173920" cy="53164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5046840" y="5842080"/>
            <a:ext cx="2574720" cy="685800"/>
          </a:xfrm>
          <a:prstGeom prst="wedgeRectCallout">
            <a:avLst>
              <a:gd name="adj1" fmla="val -46055"/>
              <a:gd name="adj2" fmla="val -183564"/>
            </a:avLst>
          </a:prstGeom>
          <a:solidFill>
            <a:srgbClr val="ccffff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How does intelligence work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11240" y="693720"/>
            <a:ext cx="2871720" cy="1023840"/>
          </a:xfrm>
          <a:prstGeom prst="wedgeRectCallout">
            <a:avLst>
              <a:gd name="adj1" fmla="val 45189"/>
              <a:gd name="adj2" fmla="val 77129"/>
            </a:avLst>
          </a:prstGeom>
          <a:solidFill>
            <a:srgbClr val="ffadad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How can we put professional decision-makers out of work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4840" y="5537160"/>
            <a:ext cx="2871720" cy="1023840"/>
          </a:xfrm>
          <a:prstGeom prst="wedgeRectCallout">
            <a:avLst>
              <a:gd name="adj1" fmla="val 68462"/>
              <a:gd name="adj2" fmla="val -63486"/>
            </a:avLst>
          </a:prstGeom>
          <a:solidFill>
            <a:srgbClr val="dcffb9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Arial"/>
              </a:rPr>
              <a:t>These people have produced some fun questions to play with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CAA84-D92D-48A5-B0F6-578250EDA93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39320" y="153720"/>
            <a:ext cx="7672680" cy="5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00"/>
                </a:solidFill>
                <a:latin typeface="Tahoma"/>
              </a:rPr>
              <a:t>An AI cocktail party</a:t>
            </a:r>
            <a:endParaRPr b="0" lang="en-US" sz="4000" spc="-1" strike="noStrike">
              <a:solidFill>
                <a:srgbClr val="006600"/>
              </a:solidFill>
              <a:latin typeface="Tahom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2139840" y="1174680"/>
            <a:ext cx="5173920" cy="531648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5046840" y="5842080"/>
            <a:ext cx="2574720" cy="685800"/>
          </a:xfrm>
          <a:prstGeom prst="wedgeRectCallout">
            <a:avLst>
              <a:gd name="adj1" fmla="val -46055"/>
              <a:gd name="adj2" fmla="val -183564"/>
            </a:avLst>
          </a:prstGeom>
          <a:solidFill>
            <a:srgbClr val="ccffff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How does intelligence work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1240" y="693720"/>
            <a:ext cx="2871720" cy="1023840"/>
          </a:xfrm>
          <a:prstGeom prst="wedgeRectCallout">
            <a:avLst>
              <a:gd name="adj1" fmla="val 45189"/>
              <a:gd name="adj2" fmla="val 77129"/>
            </a:avLst>
          </a:prstGeom>
          <a:solidFill>
            <a:srgbClr val="ffadad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How can we put professional decision-makers out of work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04840" y="5537160"/>
            <a:ext cx="2871720" cy="1023840"/>
          </a:xfrm>
          <a:prstGeom prst="wedgeRectCallout">
            <a:avLst>
              <a:gd name="adj1" fmla="val 68462"/>
              <a:gd name="adj2" fmla="val -63486"/>
            </a:avLst>
          </a:prstGeom>
          <a:solidFill>
            <a:srgbClr val="dcffb9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Arial"/>
              </a:rPr>
              <a:t>These people have produced some fun questions to play with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080120" y="906480"/>
            <a:ext cx="1838520" cy="1023840"/>
          </a:xfrm>
          <a:prstGeom prst="wedgeRectCallout">
            <a:avLst>
              <a:gd name="adj1" fmla="val -72194"/>
              <a:gd name="adj2" fmla="val 34032"/>
            </a:avLst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can we actually apply this profitabl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BA0758-65C8-4D81-8D72-D0E2BF99AE6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39320" y="153720"/>
            <a:ext cx="7672680" cy="5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00"/>
                </a:solidFill>
                <a:latin typeface="Tahoma"/>
              </a:rPr>
              <a:t>An AI cocktail party</a:t>
            </a:r>
            <a:endParaRPr b="0" lang="en-US" sz="4000" spc="-1" strike="noStrike">
              <a:solidFill>
                <a:srgbClr val="0066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139840" y="1174680"/>
            <a:ext cx="5173920" cy="531648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5046840" y="5842080"/>
            <a:ext cx="2574720" cy="685800"/>
          </a:xfrm>
          <a:prstGeom prst="wedgeRectCallout">
            <a:avLst>
              <a:gd name="adj1" fmla="val -46055"/>
              <a:gd name="adj2" fmla="val -183564"/>
            </a:avLst>
          </a:prstGeom>
          <a:solidFill>
            <a:srgbClr val="ccffff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How does intelligence work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11240" y="693720"/>
            <a:ext cx="2871720" cy="1023840"/>
          </a:xfrm>
          <a:prstGeom prst="wedgeRectCallout">
            <a:avLst>
              <a:gd name="adj1" fmla="val 45189"/>
              <a:gd name="adj2" fmla="val 77129"/>
            </a:avLst>
          </a:prstGeom>
          <a:solidFill>
            <a:srgbClr val="ffadad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How can we put professional decision-makers out of work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04840" y="5537160"/>
            <a:ext cx="2871720" cy="1023840"/>
          </a:xfrm>
          <a:prstGeom prst="wedgeRectCallout">
            <a:avLst>
              <a:gd name="adj1" fmla="val 68462"/>
              <a:gd name="adj2" fmla="val -63486"/>
            </a:avLst>
          </a:prstGeom>
          <a:solidFill>
            <a:srgbClr val="dcffb9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Arial"/>
              </a:rPr>
              <a:t>These people have produced some fun questions to play with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80120" y="906480"/>
            <a:ext cx="1838520" cy="1023840"/>
          </a:xfrm>
          <a:prstGeom prst="wedgeRectCallout">
            <a:avLst>
              <a:gd name="adj1" fmla="val -72194"/>
              <a:gd name="adj2" fmla="val 34032"/>
            </a:avLst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can we actually apply this profitabl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305840" y="2879640"/>
            <a:ext cx="1838160" cy="2894040"/>
          </a:xfrm>
          <a:prstGeom prst="wedgeRectCallout">
            <a:avLst>
              <a:gd name="adj1" fmla="val -71504"/>
              <a:gd name="adj2" fmla="val -20324"/>
            </a:avLst>
          </a:prstGeom>
          <a:solidFill>
            <a:srgbClr val="ffff99"/>
          </a:solidFill>
          <a:ln w="12600">
            <a:solidFill>
              <a:srgbClr val="ae851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e8512"/>
                </a:solidFill>
                <a:latin typeface="Arial"/>
              </a:rPr>
              <a:t>Revolution. 5 years from now. A new age dawns. Paradigm shift. The one thing they missed up to now is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CD8D6D-DCB1-4CC8-8EAD-B1EF0355750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5345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00"/>
                </a:solidFill>
                <a:latin typeface="Tahoma"/>
              </a:rPr>
              <a:t>Why do AI research?</a:t>
            </a:r>
            <a:endParaRPr b="0" lang="en-US" sz="4000" spc="-1" strike="noStrike">
              <a:solidFill>
                <a:srgbClr val="006600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240" y="1576080"/>
            <a:ext cx="8574120" cy="490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Old fashioned answer: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0000"/>
                </a:solidFill>
                <a:latin typeface="Tahoma"/>
              </a:rPr>
              <a:t>Make programs that behave like the brain behav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F714C5-A222-45EC-9A09-BF94BA8E011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5345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00"/>
                </a:solidFill>
                <a:latin typeface="Tahoma"/>
              </a:rPr>
              <a:t>Why do AI research?</a:t>
            </a:r>
            <a:endParaRPr b="0" lang="en-US" sz="4000" spc="-1" strike="noStrike">
              <a:solidFill>
                <a:srgbClr val="006600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28240" y="1576080"/>
            <a:ext cx="8574120" cy="490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New fashioned answer: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0000"/>
                </a:solidFill>
                <a:latin typeface="Tahoma"/>
              </a:rPr>
              <a:t>Make programs that behave like the brain </a:t>
            </a:r>
            <a:r>
              <a:rPr b="0" i="1" lang="en-US" sz="4400" spc="-1" strike="noStrike" u="sng">
                <a:solidFill>
                  <a:srgbClr val="ff0000"/>
                </a:solidFill>
                <a:uFillTx/>
                <a:latin typeface="Tahoma"/>
              </a:rPr>
              <a:t>should</a:t>
            </a:r>
            <a:r>
              <a:rPr b="0" i="1" lang="en-US" sz="4400" spc="-1" strike="noStrike">
                <a:solidFill>
                  <a:srgbClr val="ff0000"/>
                </a:solidFill>
                <a:latin typeface="Tahoma"/>
              </a:rPr>
              <a:t> behave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EED28E-596E-4D16-9377-985CB1845DC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26T22:52:10Z</dcterms:created>
  <dc:creator>awm</dc:creator>
  <dc:description/>
  <dc:language>en-US</dc:language>
  <cp:lastModifiedBy>awm</cp:lastModifiedBy>
  <dcterms:modified xsi:type="dcterms:W3CDTF">2004-01-12T18:02:38Z</dcterms:modified>
  <cp:revision>385</cp:revision>
  <dc:subject/>
  <dc:title>PowerPoint Presentation</dc:title>
</cp:coreProperties>
</file>