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9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move the slid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0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1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FF4B16A-B8C8-41F3-A325-640FE40323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ov in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membership in R to be a probabilis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membership in R to be a probabilis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YF: doesn’t contain all good kernels, but motivated by boosting. Property that allows a certain boosting algorithm to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is more attracted to rest of its cluster than to A’.  Before we allowed A to be more attracted to A’ if A’ didn’t want to defect.  K(..) = AVERAGE similarity (average attr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239AE91-AC26-4263-9111-AFD27113979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6F03-1BE1-4188-B2B4-7354867B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CFF8-40EF-4F46-96D6-C007E4CD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B3CD-A28B-4EC0-8CB1-71F5E223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DF5F-E3C1-4004-B12D-471CD380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C3018-FA19-4C44-A764-7BAC8EE025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6B537-4F4F-4A50-9D4F-484BC229DF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85360-4DE9-40AD-8D76-A093D20634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912E8-C788-4938-AFA6-2FA8B3EA45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11384-57C4-4B73-A0FD-D424E0A7DB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F87D0-AF5D-4ADC-A774-214C12D671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D051D-A24A-4915-8861-06E975DE83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C87D-438A-4C66-85E4-31BD916D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1DB6B-A9CC-4C96-B6E2-7DB9E4F622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59C29-B7B6-414A-A035-14BBEECD56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11189-73EC-4CAC-8E62-B63FF11AA1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421E1-2C80-4762-A253-BD2C993FA8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D0BE0-0631-4ABE-813F-2A5C085B86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2C9765-EEFF-4971-9C5D-B8201DA9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077420-26D6-4C82-99A6-8224D588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8E49D1-B7FC-47B6-9892-46C4FC01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7B817-A813-404F-A64E-5FBC73E4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2715A2-50D0-4F51-94C1-2AACB3C0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E6D7-5611-467D-B958-26C46EA3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DB1A60-EC15-417D-9230-8BFE105F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66E7D-76B9-43E8-997A-5686E423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49C9A-DC50-456F-B435-C75E0147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AD31F6-7EC0-4705-9CA8-8822C6D9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B067AD-EAB0-4140-94B6-94B9B4B6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A9F1B-C996-4CC6-928A-F869BA16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83B7A7-E707-4565-865D-0B87ACE0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1961-3F07-46B7-BD66-F488AE54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CF22-9D45-409C-BF79-2CB0E014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D97E-398B-4DF0-BF1F-00C237F8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8CA4-2E5B-4570-9EA7-32A0E49C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8CE8-6CF5-4E13-B9FB-A853EFE0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C667-79DC-4873-9223-E104895C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edit the title text format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851D-2F28-43D3-8268-F39914957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27F3-AB72-4F69-8AD8-987A077011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6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C0EA-1884-4001-80AA-A304317FC19E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2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857160" algn="ctr">
              <a:spcBef>
                <a:spcPts val="451"/>
              </a:spcBef>
              <a:buClr>
                <a:srgbClr val="ffff00"/>
              </a:buClr>
              <a:buSzPct val="65000"/>
              <a:buFont typeface="Comic Sans M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200240" algn="ctr">
              <a:spcBef>
                <a:spcPts val="451"/>
              </a:spcBef>
              <a:buClr>
                <a:srgbClr val="ffff00"/>
              </a:buClr>
              <a:buSzPct val="85000"/>
              <a:buFont typeface="Comic Sans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ffff00"/>
              </a:buClr>
              <a:buSzPct val="80000"/>
              <a:buFont typeface="Comic Sans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 a Theory of Similarity Functions for Learning and Clustering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Avrim Blu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95680"/>
            <a:ext cx="60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[Includes work joint with Nina Balcan, Nati Srebro, and Santosh Vempal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-360" y="11430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but there’s something a little funn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the one hand, operationally a kernel is just a similarity measure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[-1,1]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some extra req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0" lang="en-US" sz="3200" spc="-1" strike="noStrike" u="sng">
                <a:solidFill>
                  <a:srgbClr val="cc3399"/>
                </a:solidFill>
                <a:uFillTx/>
                <a:latin typeface="Comic Sans MS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alks about margins in implicit high-dimensiona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space.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=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x)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36720" y="2738520"/>
            <a:ext cx="2335680" cy="642600"/>
            <a:chOff x="5436720" y="2738520"/>
            <a:chExt cx="2335680" cy="642600"/>
          </a:xfrm>
        </p:grpSpPr>
        <p:sp>
          <p:nvSpPr>
            <p:cNvPr id="296" name=""/>
            <p:cNvSpPr/>
            <p:nvPr/>
          </p:nvSpPr>
          <p:spPr>
            <a:xfrm>
              <a:off x="6172200" y="2819520"/>
              <a:ext cx="1143000" cy="533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15000" y="2971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15000" y="3200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36720" y="2738520"/>
              <a:ext cx="3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15200" y="3048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76320" y="152280"/>
            <a:ext cx="8991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Moreover, generalize well if good marg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20" y="380880"/>
            <a:ext cx="7696080" cy="1752840"/>
          </a:xfrm>
          <a:prstGeom prst="wedgeRoundRectCallout">
            <a:avLst>
              <a:gd name="adj1" fmla="val 52703"/>
              <a:gd name="adj2" fmla="val 9891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ant to use ML to classify protein structures and I’m trying to decide on a similarity fn to use. Any hel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482960" y="2209680"/>
            <a:ext cx="1661040" cy="3743280"/>
            <a:chOff x="7482960" y="2209680"/>
            <a:chExt cx="1661040" cy="3743280"/>
          </a:xfrm>
        </p:grpSpPr>
        <p:grpSp>
          <p:nvGrpSpPr>
            <p:cNvPr id="304" name=""/>
            <p:cNvGrpSpPr/>
            <p:nvPr/>
          </p:nvGrpSpPr>
          <p:grpSpPr>
            <a:xfrm>
              <a:off x="7544520" y="2209680"/>
              <a:ext cx="1599480" cy="3681000"/>
              <a:chOff x="7544520" y="2209680"/>
              <a:chExt cx="1599480" cy="368100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7544520" y="2209680"/>
                <a:ext cx="1599480" cy="3681000"/>
                <a:chOff x="7544520" y="2209680"/>
                <a:chExt cx="1599480" cy="368100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7544520" y="2209680"/>
                  <a:ext cx="1599480" cy="3681000"/>
                  <a:chOff x="7544520" y="2209680"/>
                  <a:chExt cx="1599480" cy="368100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8038440" y="3218400"/>
                    <a:ext cx="709200" cy="119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8563320" y="3298320"/>
                    <a:ext cx="580680" cy="12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609680" y="3218400"/>
                    <a:ext cx="843840" cy="10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8085600" y="4114440"/>
                    <a:ext cx="533880" cy="17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544520" y="4173840"/>
                    <a:ext cx="1042200" cy="13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8015760" y="2461320"/>
                    <a:ext cx="657720" cy="68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8356320" y="2209680"/>
                    <a:ext cx="644760" cy="496440"/>
                    <a:chOff x="8356320" y="2209680"/>
                    <a:chExt cx="644760" cy="49644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8573040" y="2532960"/>
                      <a:ext cx="428040" cy="17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8505720" y="2397960"/>
                      <a:ext cx="41436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8449560" y="2315520"/>
                      <a:ext cx="374760" cy="29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8356320" y="2209680"/>
                      <a:ext cx="28656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8242200" y="2507760"/>
                  <a:ext cx="146520" cy="237600"/>
                  <a:chOff x="8242200" y="2507760"/>
                  <a:chExt cx="146520" cy="23760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17313000">
                    <a:off x="8203320" y="2586600"/>
                    <a:ext cx="223920" cy="7956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720" bIns="9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17313000">
                    <a:off x="82332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8362800" y="2507760"/>
                  <a:ext cx="146160" cy="237600"/>
                  <a:chOff x="8362800" y="2507760"/>
                  <a:chExt cx="146160" cy="23760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rot="17313000">
                    <a:off x="8323560" y="2586960"/>
                    <a:ext cx="223920" cy="7884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000" bIns="9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17313000">
                    <a:off x="83538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4" name=""/>
              <p:cNvSpPr/>
              <p:nvPr/>
            </p:nvSpPr>
            <p:spPr>
              <a:xfrm flipH="1">
                <a:off x="8017920" y="2971800"/>
                <a:ext cx="314280" cy="117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6720" bIns="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 flipH="1">
              <a:off x="7976520" y="5357520"/>
              <a:ext cx="708120" cy="59544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7482600" y="5128920"/>
              <a:ext cx="746280" cy="50796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990720" y="2895480"/>
            <a:ext cx="6476760" cy="1828800"/>
          </a:xfrm>
          <a:prstGeom prst="wedgeRoundRectCallout">
            <a:avLst>
              <a:gd name="adj1" fmla="val -51814"/>
              <a:gd name="adj2" fmla="val 6475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should be pos. semidefinite, and should result in your data having a large margin separator in implicit high-diml space you probably can’t even calcu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1920" y="4389480"/>
            <a:ext cx="1265040" cy="2391840"/>
            <a:chOff x="61920" y="4389480"/>
            <a:chExt cx="1265040" cy="2391840"/>
          </a:xfrm>
        </p:grpSpPr>
        <p:grpSp>
          <p:nvGrpSpPr>
            <p:cNvPr id="329" name=""/>
            <p:cNvGrpSpPr/>
            <p:nvPr/>
          </p:nvGrpSpPr>
          <p:grpSpPr>
            <a:xfrm>
              <a:off x="285120" y="4600440"/>
              <a:ext cx="1041840" cy="2180880"/>
              <a:chOff x="285120" y="4600440"/>
              <a:chExt cx="1041840" cy="2180880"/>
            </a:xfrm>
          </p:grpSpPr>
          <p:sp>
            <p:nvSpPr>
              <p:cNvPr id="330" name=""/>
              <p:cNvSpPr/>
              <p:nvPr/>
            </p:nvSpPr>
            <p:spPr>
              <a:xfrm flipH="1">
                <a:off x="459000" y="4600440"/>
                <a:ext cx="470520" cy="45144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494280" y="5077800"/>
                <a:ext cx="544320" cy="77040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339120" y="5111280"/>
                <a:ext cx="288360" cy="83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760320" y="5063760"/>
                <a:ext cx="566280" cy="40464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285120" y="5701680"/>
                <a:ext cx="416880" cy="107964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678240" y="5697720"/>
                <a:ext cx="501840" cy="9558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 flipH="1">
              <a:off x="80280" y="4414320"/>
              <a:ext cx="900720" cy="523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1560" y="4389480"/>
              <a:ext cx="932040" cy="5637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 rot="4287000">
              <a:off x="658080" y="4732920"/>
              <a:ext cx="131040" cy="543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280" bIns="-8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rot="4287000">
              <a:off x="698400" y="4759920"/>
              <a:ext cx="75240" cy="20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1680" bIns="-31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rot="4287000">
              <a:off x="713160" y="4732920"/>
              <a:ext cx="131040" cy="54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640" bIns="-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rot="4287000">
              <a:off x="753120" y="4759920"/>
              <a:ext cx="75240" cy="205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2040" bIns="-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9120" y="4925520"/>
              <a:ext cx="215280" cy="7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04920" y="380880"/>
            <a:ext cx="7696080" cy="1752840"/>
          </a:xfrm>
          <a:prstGeom prst="wedgeRoundRectCallout">
            <a:avLst>
              <a:gd name="adj1" fmla="val 52703"/>
              <a:gd name="adj2" fmla="val 9891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mm… thanks, I gu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7482960" y="2209680"/>
            <a:ext cx="1661040" cy="3743280"/>
            <a:chOff x="7482960" y="2209680"/>
            <a:chExt cx="1661040" cy="3743280"/>
          </a:xfrm>
        </p:grpSpPr>
        <p:grpSp>
          <p:nvGrpSpPr>
            <p:cNvPr id="345" name=""/>
            <p:cNvGrpSpPr/>
            <p:nvPr/>
          </p:nvGrpSpPr>
          <p:grpSpPr>
            <a:xfrm>
              <a:off x="7544520" y="2209680"/>
              <a:ext cx="1599480" cy="3681000"/>
              <a:chOff x="7544520" y="2209680"/>
              <a:chExt cx="1599480" cy="368100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7544520" y="2209680"/>
                <a:ext cx="1599480" cy="3681000"/>
                <a:chOff x="7544520" y="2209680"/>
                <a:chExt cx="1599480" cy="3681000"/>
              </a:xfrm>
            </p:grpSpPr>
            <p:grpSp>
              <p:nvGrpSpPr>
                <p:cNvPr id="347" name=""/>
                <p:cNvGrpSpPr/>
                <p:nvPr/>
              </p:nvGrpSpPr>
              <p:grpSpPr>
                <a:xfrm>
                  <a:off x="7544520" y="2209680"/>
                  <a:ext cx="1599480" cy="3681000"/>
                  <a:chOff x="7544520" y="2209680"/>
                  <a:chExt cx="1599480" cy="368100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8038440" y="3218400"/>
                    <a:ext cx="709200" cy="119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8563320" y="3298320"/>
                    <a:ext cx="580680" cy="12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7609680" y="3218400"/>
                    <a:ext cx="843840" cy="10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8085600" y="4114440"/>
                    <a:ext cx="533880" cy="17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7544520" y="4173840"/>
                    <a:ext cx="1042200" cy="13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015760" y="2461320"/>
                    <a:ext cx="657720" cy="68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8356320" y="2209680"/>
                    <a:ext cx="644760" cy="496440"/>
                    <a:chOff x="8356320" y="2209680"/>
                    <a:chExt cx="644760" cy="49644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8573040" y="2532960"/>
                      <a:ext cx="428040" cy="17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8505720" y="2397960"/>
                      <a:ext cx="41436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8449560" y="2315520"/>
                      <a:ext cx="374760" cy="29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8356320" y="2209680"/>
                      <a:ext cx="28656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8242200" y="2507760"/>
                  <a:ext cx="146520" cy="237600"/>
                  <a:chOff x="8242200" y="2507760"/>
                  <a:chExt cx="146520" cy="23760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rot="17313000">
                    <a:off x="8203320" y="2586600"/>
                    <a:ext cx="223920" cy="7956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720" bIns="9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rot="17313000">
                    <a:off x="82332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8362800" y="2507760"/>
                  <a:ext cx="146160" cy="237600"/>
                  <a:chOff x="8362800" y="2507760"/>
                  <a:chExt cx="146160" cy="23760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rot="17313000">
                    <a:off x="8323560" y="2586960"/>
                    <a:ext cx="223920" cy="7884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000" bIns="9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rot="17313000">
                    <a:off x="83538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5" name=""/>
              <p:cNvSpPr/>
              <p:nvPr/>
            </p:nvSpPr>
            <p:spPr>
              <a:xfrm flipH="1">
                <a:off x="8017920" y="2971800"/>
                <a:ext cx="314280" cy="117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6720" bIns="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 flipH="1">
              <a:off x="7976520" y="5357520"/>
              <a:ext cx="708120" cy="59544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482600" y="5128920"/>
              <a:ext cx="746280" cy="50796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990720" y="2895480"/>
            <a:ext cx="6476760" cy="1828800"/>
          </a:xfrm>
          <a:prstGeom prst="wedgeRoundRectCallout">
            <a:avLst>
              <a:gd name="adj1" fmla="val -51814"/>
              <a:gd name="adj2" fmla="val 6475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should be pos. semidefinite, and should result in your data having a large margin separator in implicit high-diml space you probably can’t even calcu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1920" y="4389480"/>
            <a:ext cx="1265040" cy="2391840"/>
            <a:chOff x="61920" y="4389480"/>
            <a:chExt cx="1265040" cy="2391840"/>
          </a:xfrm>
        </p:grpSpPr>
        <p:grpSp>
          <p:nvGrpSpPr>
            <p:cNvPr id="370" name=""/>
            <p:cNvGrpSpPr/>
            <p:nvPr/>
          </p:nvGrpSpPr>
          <p:grpSpPr>
            <a:xfrm>
              <a:off x="285120" y="4600440"/>
              <a:ext cx="1041840" cy="2180880"/>
              <a:chOff x="285120" y="4600440"/>
              <a:chExt cx="1041840" cy="2180880"/>
            </a:xfrm>
          </p:grpSpPr>
          <p:sp>
            <p:nvSpPr>
              <p:cNvPr id="371" name=""/>
              <p:cNvSpPr/>
              <p:nvPr/>
            </p:nvSpPr>
            <p:spPr>
              <a:xfrm flipH="1">
                <a:off x="459000" y="4600440"/>
                <a:ext cx="470520" cy="45144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494280" y="5077800"/>
                <a:ext cx="544320" cy="77040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339120" y="5111280"/>
                <a:ext cx="288360" cy="83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760320" y="5063760"/>
                <a:ext cx="566280" cy="40464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285120" y="5701680"/>
                <a:ext cx="416880" cy="107964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678240" y="5697720"/>
                <a:ext cx="501840" cy="9558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 flipH="1">
              <a:off x="80280" y="4414320"/>
              <a:ext cx="900720" cy="523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61560" y="4389480"/>
              <a:ext cx="932040" cy="5637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rot="4287000">
              <a:off x="658080" y="4732920"/>
              <a:ext cx="131040" cy="543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280" bIns="-8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rot="4287000">
              <a:off x="698400" y="4759920"/>
              <a:ext cx="75240" cy="20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1680" bIns="-31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rot="4287000">
              <a:off x="713160" y="4732920"/>
              <a:ext cx="131040" cy="54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640" bIns="-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rot="4287000">
              <a:off x="753120" y="4759920"/>
              <a:ext cx="75240" cy="205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2040" bIns="-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699120" y="4925520"/>
              <a:ext cx="215280" cy="7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Moreover, generalize well if good margin</a:t>
            </a:r>
            <a:endParaRPr b="0" lang="en-US" sz="32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but there’s something a little funn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the one hand, operationally a kernel is just a similarity function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[-1,1]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some extra req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0" lang="en-US" sz="3200" spc="-1" strike="noStrike" u="sng">
                <a:solidFill>
                  <a:srgbClr val="cc3399"/>
                </a:solidFill>
                <a:uFillTx/>
                <a:latin typeface="Comic Sans MS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alks about margins in implicit high-dimensiona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space.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=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x)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Can we bridge the gap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Standard theory has a something-for-nothing feel to it. “All the power of the high-dim’l implicit space without having to pay for it”.  More prosaic explana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343120" y="2482920"/>
            <a:ext cx="2335680" cy="642600"/>
            <a:chOff x="5343120" y="2482920"/>
            <a:chExt cx="2335680" cy="642600"/>
          </a:xfrm>
        </p:grpSpPr>
        <p:sp>
          <p:nvSpPr>
            <p:cNvPr id="387" name=""/>
            <p:cNvSpPr/>
            <p:nvPr/>
          </p:nvSpPr>
          <p:spPr>
            <a:xfrm>
              <a:off x="6078600" y="2563920"/>
              <a:ext cx="1143000" cy="533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21400" y="271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21400" y="2944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43120" y="2482920"/>
              <a:ext cx="3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21600" y="2792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32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Question: do we need the notion of an implicit space to understand what makes a kernel helpful for learning?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Goal: notion of “good similarity function”  for a learning problem that…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lks in terms of more intuitive properties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(no implicit high-diml spaces, no requirement of positive-semidefiniteness, etc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natural properties of weighted graph induced b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atisfies these properties for our given problem, then has implications to learning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broad: includes usual notion of “good kernel” (one that induces a large margin separator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space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76320" y="1371600"/>
            <a:ext cx="380880" cy="2743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2743200"/>
              <a:gd name="textAreaBottom" fmla="*/ 2724840 h 2743200"/>
            </a:gdLst>
            <a:ahLst/>
            <a:rect l="textAreaLeft" t="textAreaTop" r="textAreaRight" b="textAreaBottom"/>
            <a:pathLst>
              <a:path w="21600" h="155442">
                <a:moveTo>
                  <a:pt x="3600" y="0"/>
                </a:moveTo>
                <a:arcTo wR="3600" hR="3600" stAng="16200000" swAng="-5400000"/>
                <a:lnTo>
                  <a:pt x="0" y="151842"/>
                </a:lnTo>
                <a:arcTo wR="3600" hR="3600" stAng="10800000" swAng="-5400000"/>
                <a:lnTo>
                  <a:pt x="18000" y="1554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Defn satisfying (1) and (2):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067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have a learning problem P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(distribu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over examples labeled by unknown targ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 fn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K:(x,y)</a:t>
            </a:r>
            <a:r>
              <a:rPr b="0" lang="en-US" sz="3200" spc="-1" strike="noStrike">
                <a:solidFill>
                  <a:srgbClr val="6600cc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[-1,1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)-goo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P if 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ction of examples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76320" y="335268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43434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ost x are on average more similar to points y of their own type than to points y of the other typ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Defn satisfying (1) and (2):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067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have a learning problem P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(distribu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over examples labeled by unknown targ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 fn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K:(x,y)</a:t>
            </a:r>
            <a:r>
              <a:rPr b="0" lang="en-US" sz="3200" spc="-1" strike="noStrike">
                <a:solidFill>
                  <a:srgbClr val="6600cc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[-1,1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)-goo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P if 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ction of examples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76320" y="335268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2280" y="4343400"/>
            <a:ext cx="8915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ote: it’s possible to satisfy this and not even be a valid ker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K(x,y) = 0.2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ithi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ch class, uniform random in {-1,1}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etwe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las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Defn satisfying (1) and (2):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067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have a learning problem P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(distribu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over examples labeled by unknown targ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 fn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K:(x,y)</a:t>
            </a:r>
            <a:r>
              <a:rPr b="0" lang="en-US" sz="3200" spc="-1" strike="noStrike">
                <a:solidFill>
                  <a:srgbClr val="6600cc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[-1,1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)-goo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P if 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ction of examples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76320" y="335268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30400" y="4952880"/>
            <a:ext cx="470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Comic Sans MS"/>
              </a:rPr>
              <a:t>How can we use i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How to use it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b mass of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152280" y="2362320"/>
            <a:ext cx="8991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O(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l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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positiv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O(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l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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negativ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if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based on which gives bett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effding: for an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iv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“good x”, prob of error over draw of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mo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, at mo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hance our draw is bad on more th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action of “good x”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prob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error rate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2-minute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pose we are given a set of images              , and want to learn a rule to distinguish men from women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blem: pixel representation not so go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werful technique for such settings is             to u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a special kind of pairwise              function 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(    ,    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choose K to be good measure of similarity, but theory in terms of implicit mapping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781680" y="533520"/>
            <a:ext cx="1218960" cy="685800"/>
            <a:chOff x="6781680" y="533520"/>
            <a:chExt cx="1218960" cy="685800"/>
          </a:xfrm>
        </p:grpSpPr>
        <p:pic>
          <p:nvPicPr>
            <p:cNvPr id="137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6781680" y="533520"/>
              <a:ext cx="5018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7498440" y="533520"/>
              <a:ext cx="5022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152280" y="4648320"/>
            <a:ext cx="883944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an we bridge the gap?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ory that just views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s a measure of similarity? Ideally, make it easier t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ig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ood functions, &amp; be more general t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438280" y="2971800"/>
            <a:ext cx="1066680" cy="609480"/>
            <a:chOff x="2438280" y="2971800"/>
            <a:chExt cx="1066680" cy="609480"/>
          </a:xfrm>
        </p:grpSpPr>
        <p:pic>
          <p:nvPicPr>
            <p:cNvPr id="141" name="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2438280" y="297180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3065760" y="2971800"/>
              <a:ext cx="439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ut not broad enough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160" y="43430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x,y)=x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has good separator but doesn’t satisfy defn. 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(half of positives are more similar to negs that to typical po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286000" y="1295280"/>
            <a:ext cx="4495680" cy="2895480"/>
            <a:chOff x="2286000" y="1295280"/>
            <a:chExt cx="4495680" cy="2895480"/>
          </a:xfrm>
        </p:grpSpPr>
        <p:sp>
          <p:nvSpPr>
            <p:cNvPr id="414" name=""/>
            <p:cNvSpPr/>
            <p:nvPr/>
          </p:nvSpPr>
          <p:spPr>
            <a:xfrm>
              <a:off x="5562720" y="320004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627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8120" y="1295280"/>
              <a:ext cx="3047760" cy="2895480"/>
            </a:xfrm>
            <a:prstGeom prst="ellipse">
              <a:avLst/>
            </a:prstGeom>
            <a:noFill/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2742840"/>
              <a:ext cx="449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086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214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77560" y="3001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4648320" y="1981080"/>
              <a:ext cx="1218960" cy="761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6400800" y="838080"/>
            <a:ext cx="2590920" cy="1067040"/>
          </a:xfrm>
          <a:prstGeom prst="wedgeRoundRectCallout">
            <a:avLst>
              <a:gd name="adj1" fmla="val -61458"/>
              <a:gd name="adj2" fmla="val 38541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g simil to negs is 0.5, but to pos is only 0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5105520" y="990720"/>
            <a:ext cx="1447560" cy="33526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ut not broad enough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Idea: would work if we didn’t pick y’s from top-left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Broaden to say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K if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arge region R s.t. most x are on average more similar to y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 of same label than to y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 of other label.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even if don’t know R in advanc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2286000" y="1295280"/>
            <a:ext cx="4495680" cy="2895480"/>
            <a:chOff x="2286000" y="1295280"/>
            <a:chExt cx="4495680" cy="2895480"/>
          </a:xfrm>
        </p:grpSpPr>
        <p:sp>
          <p:nvSpPr>
            <p:cNvPr id="428" name=""/>
            <p:cNvSpPr/>
            <p:nvPr/>
          </p:nvSpPr>
          <p:spPr>
            <a:xfrm>
              <a:off x="5562720" y="320004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627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481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8120" y="1295280"/>
              <a:ext cx="3047760" cy="2895480"/>
            </a:xfrm>
            <a:prstGeom prst="ellipse">
              <a:avLst/>
            </a:prstGeom>
            <a:noFill/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86000" y="2742840"/>
              <a:ext cx="449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086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214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77560" y="3001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4648320" y="1981080"/>
              <a:ext cx="1218960" cy="761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roader defn…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9067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k that exists a set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“reasonable”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ow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abilist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most a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tisf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"/>
          <p:cNvSpPr/>
          <p:nvPr/>
        </p:nvSpPr>
        <p:spPr>
          <a:xfrm>
            <a:off x="76320" y="3124080"/>
            <a:ext cx="9067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at lea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bability mass of reasonable positives/negat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now, how can we use for learning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320" y="228600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roader defn…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9067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k that exists a set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“reasonable”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ow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abilist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most a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tisf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76320" y="3124080"/>
            <a:ext cx="9067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S = {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…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},  n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/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ew as “landmarks”, use to map new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(x) = [K(x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…,K(x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p, 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parator of good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argin in this space: 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w=[0,0,1/n</a:t>
            </a:r>
            <a:r>
              <a:rPr b="0" lang="en-US" sz="3200" spc="-1" strike="noStrike" baseline="-25000">
                <a:solidFill>
                  <a:srgbClr val="66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,1/n</a:t>
            </a:r>
            <a:r>
              <a:rPr b="0" lang="en-US" sz="3200" spc="-1" strike="noStrike" baseline="-25000">
                <a:solidFill>
                  <a:srgbClr val="66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,0,0,0,-1/n</a:t>
            </a:r>
            <a:r>
              <a:rPr b="0" lang="en-US" sz="3200" spc="-1" strike="noStrike" baseline="-25000">
                <a:solidFill>
                  <a:srgbClr val="6600cc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,0,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So, 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take new set of examples, project to this space, and run good L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 alg (Winnow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320" y="228600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3276720"/>
            <a:ext cx="2133360" cy="304560"/>
          </a:xfrm>
          <a:prstGeom prst="wedgeRoundRectCallout">
            <a:avLst>
              <a:gd name="adj1" fmla="val -67037"/>
              <a:gd name="adj2" fmla="val -22393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uld be unlabe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And furthermor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9067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defn is broad enough to include all large margin kernels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(some loss in parameters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good margi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px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-good he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But now, we don’t need to think about implicit spaces or require kernel to even have the implicit space interpret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PSD, can also show reverse to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good here &amp; PSD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good marg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And furthermor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9067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fact, can even show a separ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a class C of n pairwise uncorrelated functions over n examples (unif distrib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show that for any kernel K, expected margin for random f in C would be O(1/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, can define a similarity function wit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1, P(R)=1/n.  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[K(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,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)=f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(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)f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(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)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technically, easier using slight variant on de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2133720" y="5486400"/>
            <a:ext cx="45720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 |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Summary: part 1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an develop sufficient conditions for a  similarity fn to be useful for learning that don’t require implicit spac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erty includes usual notion of “good kernels” modulo the loss in some parame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Can apply to similarity fns that aren’t positive-semidefinite (or even symmetric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819520" y="4495680"/>
            <a:ext cx="3047760" cy="1828800"/>
            <a:chOff x="2819520" y="4495680"/>
            <a:chExt cx="3047760" cy="1828800"/>
          </a:xfrm>
        </p:grpSpPr>
        <p:sp>
          <p:nvSpPr>
            <p:cNvPr id="454" name=""/>
            <p:cNvSpPr/>
            <p:nvPr/>
          </p:nvSpPr>
          <p:spPr>
            <a:xfrm>
              <a:off x="2819520" y="4495680"/>
              <a:ext cx="3047760" cy="1828800"/>
            </a:xfrm>
            <a:prstGeom prst="ellipse">
              <a:avLst/>
            </a:prstGeom>
            <a:solidFill>
              <a:srgbClr val="00ff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29000" y="5100480"/>
              <a:ext cx="2286000" cy="617760"/>
            </a:xfrm>
            <a:prstGeom prst="ellipse">
              <a:avLst/>
            </a:prstGeom>
            <a:solidFill>
              <a:srgbClr val="ccccff">
                <a:alpha val="5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48120" y="4876920"/>
              <a:ext cx="1066680" cy="990360"/>
            </a:xfrm>
            <a:prstGeom prst="ellipse">
              <a:avLst/>
            </a:prstGeom>
            <a:solidFill>
              <a:srgbClr val="ffcccc">
                <a:alpha val="4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88040" y="502920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sto MT"/>
                </a:rPr>
                <a:t>ker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67280" y="510552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sto MT"/>
                </a:rPr>
                <a:t>defn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776760" y="449568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sto MT"/>
                </a:rPr>
                <a:t>defn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Summary: part 1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067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tentially other interesting sufficient conditions too. E.g.,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[WangYangFeng07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tivated by boost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ly, these more intuitive conditions can help guide the design of similarity fns for a given applicatio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838080" y="2057400"/>
            <a:ext cx="7359840" cy="2165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rt 2: 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an we use this angle to help think about cluster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the following sett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data s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bjec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some (unknown) “ground truth” clustering. Each x has true label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{1,…,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: produce hypothes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low error up to isomorphism of label na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But, we are given a pairwise similarity fn 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465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468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5312160" y="194940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documen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web page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669720" y="31240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topi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82840" y="4800600"/>
            <a:ext cx="761832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only have unlabeled dat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Can we use this angle to help think about cluster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2-minute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pose we are given a set of images              , and want to learn a rule to distinguish men from women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blem: pixel representation not so go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werful technique for such settings is             to u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a special kind of pairwise              function 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(    ,    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choose K to be good measure of similarity, but theory in terms of implicit mapping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781680" y="533520"/>
            <a:ext cx="1218960" cy="685800"/>
            <a:chOff x="6781680" y="533520"/>
            <a:chExt cx="1218960" cy="685800"/>
          </a:xfrm>
        </p:grpSpPr>
        <p:pic>
          <p:nvPicPr>
            <p:cNvPr id="146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6781680" y="533520"/>
              <a:ext cx="5018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7498440" y="533520"/>
              <a:ext cx="5022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>
            <a:off x="152280" y="4648320"/>
            <a:ext cx="883944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: What if we only have unlabeled data (i.e., clustering)?  Can we develop a theory of properties that are sufficient to be able t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ell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38280" y="2971800"/>
            <a:ext cx="1066680" cy="609480"/>
            <a:chOff x="2438280" y="2971800"/>
            <a:chExt cx="1066680" cy="609480"/>
          </a:xfrm>
        </p:grpSpPr>
        <p:pic>
          <p:nvPicPr>
            <p:cNvPr id="150" name="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2438280" y="297180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3065760" y="2971800"/>
              <a:ext cx="439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the following sett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data s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bjec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some (unknown) “ground truth” clustering. Each x has true label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{1,…,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: produce hypothes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low error up to isomorphism of label na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But, we are given a pairwise similarity fn 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484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487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312160" y="194940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documen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web page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69720" y="31240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topi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2840" y="4800600"/>
            <a:ext cx="761832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only have unlabeled dat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80880" y="3886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e common algorithmic approach: view weighted graph induced by K as ground truth; try to optimize various objectiv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, we view target as ground truth.  Ask: how should K be related to let us get at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503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506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28600" y="2819520"/>
            <a:ext cx="845820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lead to something like a PAC model for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380880" y="3886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say you want alg to cluster docs the way *you* would.  How closely related does K have to be to what’s in your head?  Or, given a property you think K has, what algs does that sugges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520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523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8600" y="2819520"/>
            <a:ext cx="845820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lead to something like a PAC model for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Here is a condition that trivially works: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ppose K has property tha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K(x,y) &gt; 0 for all x,y such that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x) =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K(x,y) &lt; 0 for all x,y such that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x) </a:t>
            </a:r>
            <a:r>
              <a:rPr b="0" lang="en-US" sz="3200" spc="-1" strike="noStrike">
                <a:solidFill>
                  <a:srgbClr val="6600cc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have such a K, then clustering is eas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let’s try to make this condition a little weaker…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2438280" y="4876920"/>
            <a:ext cx="2286000" cy="1371600"/>
            <a:chOff x="2438280" y="4876920"/>
            <a:chExt cx="2286000" cy="1371600"/>
          </a:xfrm>
        </p:grpSpPr>
        <p:sp>
          <p:nvSpPr>
            <p:cNvPr id="539" name=""/>
            <p:cNvSpPr/>
            <p:nvPr/>
          </p:nvSpPr>
          <p:spPr>
            <a:xfrm>
              <a:off x="4114800" y="56386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14800" y="49528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438280" y="4876920"/>
              <a:ext cx="83844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2047320" y="4800600"/>
            <a:ext cx="17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19960" y="6095880"/>
            <a:ext cx="19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ket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ppose K has property that all x are more similar to points y in their own cluster than to any y’ in other cluster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Still a very strong con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the same K can satisfy for two very different clusterings of the same data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2438280" y="4724280"/>
            <a:ext cx="2362320" cy="1752840"/>
            <a:chOff x="2438280" y="4724280"/>
            <a:chExt cx="2362320" cy="1752840"/>
          </a:xfrm>
        </p:grpSpPr>
        <p:sp>
          <p:nvSpPr>
            <p:cNvPr id="547" name=""/>
            <p:cNvSpPr/>
            <p:nvPr/>
          </p:nvSpPr>
          <p:spPr>
            <a:xfrm>
              <a:off x="2590920" y="51055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590920" y="57913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91120" y="5813280"/>
              <a:ext cx="45864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438280" y="4724280"/>
              <a:ext cx="2362320" cy="17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89320" y="5105520"/>
              <a:ext cx="45900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3709800" y="4815000"/>
            <a:ext cx="1653120" cy="1587240"/>
            <a:chOff x="3709800" y="4815000"/>
            <a:chExt cx="1653120" cy="1587240"/>
          </a:xfrm>
        </p:grpSpPr>
        <p:sp>
          <p:nvSpPr>
            <p:cNvPr id="553" name=""/>
            <p:cNvSpPr/>
            <p:nvPr/>
          </p:nvSpPr>
          <p:spPr>
            <a:xfrm>
              <a:off x="3749400" y="4815000"/>
              <a:ext cx="14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M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709800" y="6033960"/>
              <a:ext cx="16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Phys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"/>
          <p:cNvGrpSpPr/>
          <p:nvPr/>
        </p:nvGrpSpPr>
        <p:grpSpPr>
          <a:xfrm>
            <a:off x="2514600" y="4876920"/>
            <a:ext cx="2286000" cy="1371600"/>
            <a:chOff x="2514600" y="4876920"/>
            <a:chExt cx="2286000" cy="1371600"/>
          </a:xfrm>
        </p:grpSpPr>
        <p:sp>
          <p:nvSpPr>
            <p:cNvPr id="556" name=""/>
            <p:cNvSpPr/>
            <p:nvPr/>
          </p:nvSpPr>
          <p:spPr>
            <a:xfrm>
              <a:off x="2514600" y="56386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514600" y="49528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62520" y="4876920"/>
              <a:ext cx="83808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ppose K has property that all x are more similar to points y in their own cluster than to any y’ in other cluster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Still a very strong con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the same K can satisfy for two very different clusterings of the same data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105520" y="4923000"/>
            <a:ext cx="3809880" cy="1556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nlike learning, you can’t even test your hypothes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2438280" y="4724280"/>
            <a:ext cx="2362320" cy="1752840"/>
            <a:chOff x="2438280" y="4724280"/>
            <a:chExt cx="2362320" cy="1752840"/>
          </a:xfrm>
        </p:grpSpPr>
        <p:sp>
          <p:nvSpPr>
            <p:cNvPr id="563" name=""/>
            <p:cNvSpPr/>
            <p:nvPr/>
          </p:nvSpPr>
          <p:spPr>
            <a:xfrm>
              <a:off x="2590920" y="51055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90920" y="57913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191120" y="5813280"/>
              <a:ext cx="45864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38280" y="4724280"/>
              <a:ext cx="2362320" cy="17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189320" y="5105520"/>
              <a:ext cx="45900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2047320" y="4800600"/>
            <a:ext cx="17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19960" y="6095880"/>
            <a:ext cx="19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ket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749400" y="4815000"/>
            <a:ext cx="142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M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09800" y="6033960"/>
            <a:ext cx="16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Let’s weaken our goals a bit…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K to produce a hierarchical clustering (tree) such that correct answer is apx some pruning of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in case from last slid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K to output a small # of clusterings such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t least o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s low error.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(won’t talk about this one he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5753880" y="1905120"/>
            <a:ext cx="3342960" cy="1752480"/>
            <a:chOff x="5753880" y="1905120"/>
            <a:chExt cx="3342960" cy="1752480"/>
          </a:xfrm>
        </p:grpSpPr>
        <p:sp>
          <p:nvSpPr>
            <p:cNvPr id="575" name=""/>
            <p:cNvSpPr/>
            <p:nvPr/>
          </p:nvSpPr>
          <p:spPr>
            <a:xfrm>
              <a:off x="6172200" y="2057400"/>
              <a:ext cx="83808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96080" y="2057400"/>
              <a:ext cx="83844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6172200" y="1905120"/>
              <a:ext cx="2362320" cy="1752480"/>
              <a:chOff x="6172200" y="1905120"/>
              <a:chExt cx="2362320" cy="1752480"/>
            </a:xfrm>
          </p:grpSpPr>
          <p:sp>
            <p:nvSpPr>
              <p:cNvPr id="578" name=""/>
              <p:cNvSpPr/>
              <p:nvPr/>
            </p:nvSpPr>
            <p:spPr>
              <a:xfrm>
                <a:off x="6324840" y="2286000"/>
                <a:ext cx="460080" cy="28368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324840" y="2971800"/>
                <a:ext cx="460080" cy="28368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925040" y="2993760"/>
                <a:ext cx="458640" cy="28224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172200" y="1905120"/>
                <a:ext cx="2362320" cy="1752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923240" y="2286000"/>
                <a:ext cx="459000" cy="28224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5781240" y="1981080"/>
              <a:ext cx="176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baseb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753880" y="3276720"/>
              <a:ext cx="196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basketb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83320" y="1995480"/>
              <a:ext cx="14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M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43720" y="3214800"/>
              <a:ext cx="16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Phys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326600" y="2895480"/>
            <a:ext cx="4419000" cy="1130400"/>
            <a:chOff x="1326600" y="2895480"/>
            <a:chExt cx="4419000" cy="1130400"/>
          </a:xfrm>
        </p:grpSpPr>
        <p:sp>
          <p:nvSpPr>
            <p:cNvPr id="588" name=""/>
            <p:cNvSpPr/>
            <p:nvPr/>
          </p:nvSpPr>
          <p:spPr>
            <a:xfrm>
              <a:off x="3260880" y="30942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26600" y="3657600"/>
              <a:ext cx="441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baseball   basketball         math   phys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288160" y="320040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sports                      sc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62000" y="2895480"/>
              <a:ext cx="16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all docu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971800" y="3200400"/>
              <a:ext cx="4572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1981080" y="3581280"/>
              <a:ext cx="45720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4419720" y="3581280"/>
              <a:ext cx="30456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3200400"/>
              <a:ext cx="4572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743200" y="3581280"/>
              <a:ext cx="3808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52880" y="3581280"/>
              <a:ext cx="3049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Then you can start getting somewhere….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sufficient to get hierarchical clustering such that target is some pruning of tree. </a:t>
            </a: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(Kruskal’s / single-linkage work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152280" y="28954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eaker condition: ground truth is “stable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" y="3581280"/>
            <a:ext cx="670572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ll clusters C, C’, for all A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, A’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’: A and A’ are not both more similar to each other than to rest of their own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6644520" y="3292200"/>
            <a:ext cx="2255040" cy="1746360"/>
            <a:chOff x="6644520" y="3292200"/>
            <a:chExt cx="2255040" cy="1746360"/>
          </a:xfrm>
        </p:grpSpPr>
        <p:sp>
          <p:nvSpPr>
            <p:cNvPr id="603" name=""/>
            <p:cNvSpPr/>
            <p:nvPr/>
          </p:nvSpPr>
          <p:spPr>
            <a:xfrm rot="1078200">
              <a:off x="7783920" y="348516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078200">
              <a:off x="6845400" y="339768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21078600">
              <a:off x="7563240" y="372420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21078600">
              <a:off x="7296480" y="399600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21078600">
              <a:off x="7782840" y="415296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21078600">
              <a:off x="8124840" y="386928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21078600">
              <a:off x="7354080" y="437256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21078600">
              <a:off x="8437680" y="38984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21078600">
              <a:off x="8420040" y="428688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21078600">
              <a:off x="7990920" y="450648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21078600">
              <a:off x="7017840" y="419292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21078600">
              <a:off x="7238520" y="36194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6869520" y="3838320"/>
            <a:ext cx="1806120" cy="1007280"/>
            <a:chOff x="6869520" y="3838320"/>
            <a:chExt cx="1806120" cy="1007280"/>
          </a:xfrm>
        </p:grpSpPr>
        <p:sp>
          <p:nvSpPr>
            <p:cNvPr id="616" name=""/>
            <p:cNvSpPr/>
            <p:nvPr/>
          </p:nvSpPr>
          <p:spPr>
            <a:xfrm rot="21081000">
              <a:off x="6934320" y="3884760"/>
              <a:ext cx="685800" cy="91440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21081000">
              <a:off x="7877880" y="4195440"/>
              <a:ext cx="7617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762120" y="914400"/>
            <a:ext cx="792468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x more similar to all y in their own cluster than to any y’ from any other clust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81680" y="4927680"/>
            <a:ext cx="1828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K(x,y) is attraction between x and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Example analysis for simpler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228600" y="838080"/>
            <a:ext cx="861048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ume for all C, C’, all A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, A’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’, we 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A,C-A) &gt; K(A,A’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say K is sym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5549040" y="1321200"/>
            <a:ext cx="2161080" cy="1625040"/>
            <a:chOff x="5549040" y="1321200"/>
            <a:chExt cx="2161080" cy="1625040"/>
          </a:xfrm>
        </p:grpSpPr>
        <p:sp>
          <p:nvSpPr>
            <p:cNvPr id="623" name=""/>
            <p:cNvSpPr/>
            <p:nvPr/>
          </p:nvSpPr>
          <p:spPr>
            <a:xfrm rot="785400">
              <a:off x="6643440" y="1413360"/>
              <a:ext cx="914400" cy="14479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785400">
              <a:off x="5700960" y="1405800"/>
              <a:ext cx="914400" cy="1447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785200">
              <a:off x="6389640" y="17049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785200">
              <a:off x="6147000" y="1998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20785200">
              <a:off x="6644880" y="21135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0785200">
              <a:off x="6961680" y="18018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20785200">
              <a:off x="6236280" y="236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20785200">
              <a:off x="7275600" y="180432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20785200">
              <a:off x="7291080" y="21927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20785200">
              <a:off x="6882480" y="2448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785200">
              <a:off x="5886360" y="221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20785200">
              <a:off x="6057360" y="1628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698080" y="1802160"/>
            <a:ext cx="1862280" cy="1050480"/>
            <a:chOff x="5698080" y="1802160"/>
            <a:chExt cx="1862280" cy="1050480"/>
          </a:xfrm>
        </p:grpSpPr>
        <p:sp>
          <p:nvSpPr>
            <p:cNvPr id="636" name=""/>
            <p:cNvSpPr/>
            <p:nvPr/>
          </p:nvSpPr>
          <p:spPr>
            <a:xfrm rot="20782800">
              <a:off x="5796000" y="1869840"/>
              <a:ext cx="685800" cy="91440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20782800">
              <a:off x="6746400" y="2095560"/>
              <a:ext cx="7617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1920" y="2895480"/>
            <a:ext cx="8991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lgorithm: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averag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ingle-link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ke Kruskal, but at each step merge pair of clusters whose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averag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milarity is highe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alysis: (all clusters made are laminar wrt targe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ilure iff merg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.t.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must exis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s.t.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-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and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-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&gt;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.  Contradic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2819520" y="2057400"/>
            <a:ext cx="2438280" cy="380880"/>
          </a:xfrm>
          <a:prstGeom prst="wedgeRoundRectCallout">
            <a:avLst>
              <a:gd name="adj1" fmla="val -82486"/>
              <a:gd name="adj2" fmla="val -770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vg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A, y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C-A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[K(x,y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28600" y="4876920"/>
            <a:ext cx="8686800" cy="1752480"/>
            <a:chOff x="228600" y="4876920"/>
            <a:chExt cx="8686800" cy="1752480"/>
          </a:xfrm>
        </p:grpSpPr>
        <p:sp>
          <p:nvSpPr>
            <p:cNvPr id="641" name=""/>
            <p:cNvSpPr/>
            <p:nvPr/>
          </p:nvSpPr>
          <p:spPr>
            <a:xfrm>
              <a:off x="228600" y="4876920"/>
              <a:ext cx="8686800" cy="175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935000" y="5334120"/>
              <a:ext cx="511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t’s getting late, let’s skip the pro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Example analysis for simpler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228600" y="838080"/>
            <a:ext cx="861048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ume for all C, C’, all A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, A’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’, we 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A,C-A) &gt; K(A,A’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say K is sym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5549040" y="1321200"/>
            <a:ext cx="2161080" cy="1625040"/>
            <a:chOff x="5549040" y="1321200"/>
            <a:chExt cx="2161080" cy="1625040"/>
          </a:xfrm>
        </p:grpSpPr>
        <p:sp>
          <p:nvSpPr>
            <p:cNvPr id="646" name=""/>
            <p:cNvSpPr/>
            <p:nvPr/>
          </p:nvSpPr>
          <p:spPr>
            <a:xfrm rot="785400">
              <a:off x="6643440" y="1413360"/>
              <a:ext cx="914400" cy="14479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785400">
              <a:off x="5700960" y="1405800"/>
              <a:ext cx="914400" cy="1447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20785200">
              <a:off x="6389640" y="17049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20785200">
              <a:off x="6147000" y="1998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20785200">
              <a:off x="6644880" y="21135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0785200">
              <a:off x="6961680" y="18018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20785200">
              <a:off x="6236280" y="236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20785200">
              <a:off x="7275600" y="180432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20785200">
              <a:off x="7291080" y="21927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20785200">
              <a:off x="6882480" y="2448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20785200">
              <a:off x="5886360" y="221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20785200">
              <a:off x="6057360" y="1628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5698080" y="1802160"/>
            <a:ext cx="1862280" cy="1050480"/>
            <a:chOff x="5698080" y="1802160"/>
            <a:chExt cx="1862280" cy="1050480"/>
          </a:xfrm>
        </p:grpSpPr>
        <p:sp>
          <p:nvSpPr>
            <p:cNvPr id="659" name=""/>
            <p:cNvSpPr/>
            <p:nvPr/>
          </p:nvSpPr>
          <p:spPr>
            <a:xfrm rot="20782800">
              <a:off x="5796000" y="1869840"/>
              <a:ext cx="685800" cy="91440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20782800">
              <a:off x="6746400" y="2095560"/>
              <a:ext cx="7617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0" y="29714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lgorithm breaks down if K is not symmetric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nstead, run “Boruvka-inspired” algorithm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ach current cluster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points t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g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50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rge directed cycles.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not all componen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914560" y="3387600"/>
            <a:ext cx="3028680" cy="1878840"/>
            <a:chOff x="2914560" y="3387600"/>
            <a:chExt cx="3028680" cy="1878840"/>
          </a:xfrm>
        </p:grpSpPr>
        <p:sp>
          <p:nvSpPr>
            <p:cNvPr id="663" name=""/>
            <p:cNvSpPr/>
            <p:nvPr/>
          </p:nvSpPr>
          <p:spPr>
            <a:xfrm rot="785400">
              <a:off x="4876560" y="37339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785400">
              <a:off x="3630240" y="372600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20782800">
              <a:off x="3720600" y="4530600"/>
              <a:ext cx="5619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20782800">
              <a:off x="3873240" y="3997440"/>
              <a:ext cx="493560" cy="41904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237200" y="3554280"/>
              <a:ext cx="941400" cy="393840"/>
            </a:xfrm>
            <a:custGeom>
              <a:avLst/>
              <a:gdLst/>
              <a:ahLst/>
              <a:rect l="l" t="t" r="r" b="b"/>
              <a:pathLst>
                <a:path w="593" h="248">
                  <a:moveTo>
                    <a:pt x="593" y="183"/>
                  </a:moveTo>
                  <a:cubicBezTo>
                    <a:pt x="541" y="154"/>
                    <a:pt x="377" y="0"/>
                    <a:pt x="278" y="11"/>
                  </a:cubicBezTo>
                  <a:cubicBezTo>
                    <a:pt x="179" y="22"/>
                    <a:pt x="58" y="199"/>
                    <a:pt x="0" y="2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96280" y="338760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343400" y="41911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83080" y="380988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479760" y="4267080"/>
              <a:ext cx="406440" cy="381240"/>
            </a:xfrm>
            <a:custGeom>
              <a:avLst/>
              <a:gdLst/>
              <a:ahLst/>
              <a:rect l="l" t="t" r="r" b="b"/>
              <a:pathLst>
                <a:path w="256" h="240">
                  <a:moveTo>
                    <a:pt x="256" y="0"/>
                  </a:moveTo>
                  <a:cubicBezTo>
                    <a:pt x="144" y="28"/>
                    <a:pt x="32" y="56"/>
                    <a:pt x="16" y="96"/>
                  </a:cubicBezTo>
                  <a:cubicBezTo>
                    <a:pt x="0" y="136"/>
                    <a:pt x="80" y="188"/>
                    <a:pt x="160" y="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14560" y="42670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304920" y="2666880"/>
            <a:ext cx="457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2914560" y="3387600"/>
            <a:ext cx="3028680" cy="1878840"/>
            <a:chOff x="2914560" y="3387600"/>
            <a:chExt cx="3028680" cy="1878840"/>
          </a:xfrm>
        </p:grpSpPr>
        <p:sp>
          <p:nvSpPr>
            <p:cNvPr id="675" name=""/>
            <p:cNvSpPr/>
            <p:nvPr/>
          </p:nvSpPr>
          <p:spPr>
            <a:xfrm rot="785400">
              <a:off x="4876560" y="37339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785400">
              <a:off x="3630240" y="372600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20782800">
              <a:off x="3720960" y="4530600"/>
              <a:ext cx="5619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20782800">
              <a:off x="3873240" y="3997440"/>
              <a:ext cx="493560" cy="41904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37200" y="3554280"/>
              <a:ext cx="941400" cy="393840"/>
            </a:xfrm>
            <a:custGeom>
              <a:avLst/>
              <a:gdLst/>
              <a:ahLst/>
              <a:rect l="l" t="t" r="r" b="b"/>
              <a:pathLst>
                <a:path w="593" h="248">
                  <a:moveTo>
                    <a:pt x="593" y="183"/>
                  </a:moveTo>
                  <a:cubicBezTo>
                    <a:pt x="541" y="154"/>
                    <a:pt x="377" y="0"/>
                    <a:pt x="278" y="11"/>
                  </a:cubicBezTo>
                  <a:cubicBezTo>
                    <a:pt x="179" y="22"/>
                    <a:pt x="58" y="199"/>
                    <a:pt x="0" y="2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96280" y="338760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479760" y="4267080"/>
              <a:ext cx="406440" cy="381240"/>
            </a:xfrm>
            <a:custGeom>
              <a:avLst/>
              <a:gdLst/>
              <a:ahLst/>
              <a:rect l="l" t="t" r="r" b="b"/>
              <a:pathLst>
                <a:path w="256" h="240">
                  <a:moveTo>
                    <a:pt x="256" y="0"/>
                  </a:moveTo>
                  <a:cubicBezTo>
                    <a:pt x="144" y="28"/>
                    <a:pt x="32" y="56"/>
                    <a:pt x="16" y="96"/>
                  </a:cubicBezTo>
                  <a:cubicBezTo>
                    <a:pt x="0" y="136"/>
                    <a:pt x="80" y="188"/>
                    <a:pt x="160" y="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4560" y="42670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685800" y="1981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[Think of K as “attraction”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19520" y="2057400"/>
            <a:ext cx="2438280" cy="380880"/>
          </a:xfrm>
          <a:prstGeom prst="wedgeRoundRectCallout">
            <a:avLst>
              <a:gd name="adj1" fmla="val -82486"/>
              <a:gd name="adj2" fmla="val -770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vg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A, y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C-A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[K(x,y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2-minute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pose we are given a set of images              , and want to learn a rule to distinguish men from women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blem: pixel representation not so go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werful technique for such settings is             to u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a special kind of pairwise              function 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(    ,    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choose K to be good measure of similarity, but theory in terms of implicit mapping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781680" y="533520"/>
            <a:ext cx="1218960" cy="685800"/>
            <a:chOff x="6781680" y="533520"/>
            <a:chExt cx="1218960" cy="68580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rcRect l="9469" t="0" r="57459" b="38540"/>
            <a:stretch/>
          </p:blipFill>
          <p:spPr>
            <a:xfrm>
              <a:off x="6781680" y="533520"/>
              <a:ext cx="5018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rcRect l="42561" t="18882" r="24347" b="18213"/>
            <a:stretch/>
          </p:blipFill>
          <p:spPr>
            <a:xfrm>
              <a:off x="7498440" y="533520"/>
              <a:ext cx="5022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152280" y="4648320"/>
            <a:ext cx="883944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 a kind o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AC model for cluster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438280" y="2971800"/>
            <a:ext cx="1066680" cy="609480"/>
            <a:chOff x="2438280" y="2971800"/>
            <a:chExt cx="1066680" cy="609480"/>
          </a:xfrm>
        </p:grpSpPr>
        <p:pic>
          <p:nvPicPr>
            <p:cNvPr id="159" name="" descr=""/>
            <p:cNvPicPr/>
            <p:nvPr/>
          </p:nvPicPr>
          <p:blipFill>
            <a:blip r:embed="rId3"/>
            <a:srcRect l="9469" t="0" r="57459" b="38540"/>
            <a:stretch/>
          </p:blipFill>
          <p:spPr>
            <a:xfrm>
              <a:off x="2438280" y="297180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3065760" y="2971800"/>
              <a:ext cx="439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More general condit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f only require stability for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lar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t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ssume all true clusters are large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, take example satisfying                 stability for all sets but add noi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ght cause bottom-up algorithms to fai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920280" y="1473840"/>
            <a:ext cx="2161080" cy="1624320"/>
            <a:chOff x="6920280" y="1473840"/>
            <a:chExt cx="2161080" cy="1624320"/>
          </a:xfrm>
        </p:grpSpPr>
        <p:grpSp>
          <p:nvGrpSpPr>
            <p:cNvPr id="688" name=""/>
            <p:cNvGrpSpPr/>
            <p:nvPr/>
          </p:nvGrpSpPr>
          <p:grpSpPr>
            <a:xfrm>
              <a:off x="6920280" y="1473840"/>
              <a:ext cx="2161080" cy="1624320"/>
              <a:chOff x="6920280" y="1473840"/>
              <a:chExt cx="2161080" cy="1624320"/>
            </a:xfrm>
          </p:grpSpPr>
          <p:sp>
            <p:nvSpPr>
              <p:cNvPr id="689" name=""/>
              <p:cNvSpPr/>
              <p:nvPr/>
            </p:nvSpPr>
            <p:spPr>
              <a:xfrm rot="785400">
                <a:off x="8014680" y="1565640"/>
                <a:ext cx="914400" cy="144756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785400">
                <a:off x="7072200" y="1558440"/>
                <a:ext cx="914400" cy="14475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20785200">
                <a:off x="7761240" y="185724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20785200">
                <a:off x="7518240" y="215100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20785200">
                <a:off x="8016480" y="226584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785200">
                <a:off x="8332920" y="195408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20785200">
                <a:off x="7607880" y="252108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20785200">
                <a:off x="8647200" y="19566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20785200">
                <a:off x="8662680" y="234504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20785200">
                <a:off x="8254080" y="260028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20785200">
                <a:off x="7257600" y="237060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20785200">
                <a:off x="7428960" y="178056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7070040" y="1954440"/>
              <a:ext cx="1861920" cy="1050120"/>
              <a:chOff x="7070040" y="1954440"/>
              <a:chExt cx="1861920" cy="1050120"/>
            </a:xfrm>
          </p:grpSpPr>
          <p:sp>
            <p:nvSpPr>
              <p:cNvPr id="702" name=""/>
              <p:cNvSpPr/>
              <p:nvPr/>
            </p:nvSpPr>
            <p:spPr>
              <a:xfrm rot="20782800">
                <a:off x="7167960" y="2022480"/>
                <a:ext cx="685800" cy="914040"/>
              </a:xfrm>
              <a:prstGeom prst="ellipse">
                <a:avLst/>
              </a:prstGeom>
              <a:solidFill>
                <a:srgbClr val="000000">
                  <a:alpha val="1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20782800">
                <a:off x="8118000" y="2247480"/>
                <a:ext cx="761760" cy="533160"/>
              </a:xfrm>
              <a:prstGeom prst="ellipse">
                <a:avLst/>
              </a:prstGeom>
              <a:solidFill>
                <a:srgbClr val="000000">
                  <a:alpha val="1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4" name=""/>
          <p:cNvSpPr/>
          <p:nvPr/>
        </p:nvSpPr>
        <p:spPr>
          <a:xfrm>
            <a:off x="304920" y="3505320"/>
            <a:ext cx="8610480" cy="3200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tead, can pick some points at random, guess their labels, and use to cluster the rest. Produces big list of candid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n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esting step to hook up clusters into a tree.  Running time not great though. (exponential in # topic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Other properti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Can also relate to implicit assumptions made by approx algorithms for standard objectives like k-medi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,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assume that any apx k-median solution must be close to the target, this implies that most points satisfy simple ordering con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Like a PAC model for clustering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C learning model: basic object of study is the concept class (a set of functions).  Look at which are learnable and by what al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ur case, basic object of study is 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roper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like a collection of (target, similarity function) pairs.  Want to know which allow clustering and by what al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Conclus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properties of a similarity function are sufficient for it to be useful for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cluster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iew as unlabeled-data multiclass learning prob. (Target fn as ground truth rather than graph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o get interesting theory, need to relax what we mean by “useful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n view as a kind of 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PAC model for clustering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ot of interesting directions to explor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Conclus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0" y="3733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ot of interesting directions to explor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"/>
          <p:cNvSpPr/>
          <p:nvPr/>
        </p:nvSpPr>
        <p:spPr>
          <a:xfrm>
            <a:off x="304920" y="838080"/>
            <a:ext cx="8839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Natural properties (relations between sim fn and target) that motivate spectral metho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Efficient algorithms for other properties?  E.g., “stability of large subse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Other notions of “useful”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Produce a small DAG instead of a t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Others based on different kinds of feedba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22222E-006 L 0.00347 -0.4993 E">
                                      <p:cBhvr>
                                        <p:cTn id="592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Overall Conclus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oretical approach to question: what are minimal conditions that allow a similarity to be useful for learning/cluster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learning, formal way of analyzing kernels as similarity function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oesn’t require reference to implicit spaces or PSD properti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clustering, “reverses” the usual view.  Can think of as a PAC model for clustering.  Property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cept cla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t of interesting directions to explo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38080" y="2057400"/>
            <a:ext cx="7359840" cy="1556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rt 1: On similarit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unctions for lear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Kernel functions and Learning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ck to our generic classification problem.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E.g., given a set of images           , labeled by gender, learn a rule to distinguish men from women.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[Goal: do well on new data]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Problem: our best algorithms learn linear separators, but might not be good for data in its natural represent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ld approach: use a more complex class of func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w approach: use a kerne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715000" y="1447920"/>
            <a:ext cx="1142640" cy="609480"/>
            <a:chOff x="5715000" y="1447920"/>
            <a:chExt cx="1142640" cy="609480"/>
          </a:xfrm>
        </p:grpSpPr>
        <p:pic>
          <p:nvPicPr>
            <p:cNvPr id="165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5715000" y="1447920"/>
              <a:ext cx="47016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6387120" y="1447920"/>
              <a:ext cx="47052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6400800" y="4648320"/>
            <a:ext cx="2209680" cy="1983600"/>
            <a:chOff x="6400800" y="4648320"/>
            <a:chExt cx="2209680" cy="1983600"/>
          </a:xfrm>
        </p:grpSpPr>
        <p:sp>
          <p:nvSpPr>
            <p:cNvPr id="168" name=""/>
            <p:cNvSpPr/>
            <p:nvPr/>
          </p:nvSpPr>
          <p:spPr>
            <a:xfrm flipV="1">
              <a:off x="6400800" y="4648320"/>
              <a:ext cx="220968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87560" y="4876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29920" y="5639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77720" y="4876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01760" y="51818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25440" y="5486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49040" y="5867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49040" y="6172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63440" y="53341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87120" y="5943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358320" y="4724280"/>
            <a:ext cx="2340360" cy="1755000"/>
            <a:chOff x="6358320" y="4724280"/>
            <a:chExt cx="2340360" cy="1755000"/>
          </a:xfrm>
        </p:grpSpPr>
        <p:sp>
          <p:nvSpPr>
            <p:cNvPr id="179" name=""/>
            <p:cNvSpPr/>
            <p:nvPr/>
          </p:nvSpPr>
          <p:spPr>
            <a:xfrm>
              <a:off x="7615800" y="5410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39400" y="5181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63520" y="5181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34920" y="53337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06320" y="5486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82200" y="6019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20440" y="6019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44120" y="47242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58320" y="5257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81680" y="5257800"/>
              <a:ext cx="1600200" cy="761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415720" y="5638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06240" y="4876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What’s a kernel?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kerne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is a legal def of dot-product: fn s.t. there exists an implicit mapp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such tha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   )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  )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  )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.g.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x,y) = (x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+ 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(n-diml space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diml space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mic Sans MS"/>
              </a:rPr>
              <a:t>Point is: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many learning algs can be written so only interact with data via dot-produ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replace x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with K(x,y), it acts implicitly as if data was in higher-dimensiona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spa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752480" y="1981080"/>
            <a:ext cx="1066680" cy="609840"/>
            <a:chOff x="1752480" y="1981080"/>
            <a:chExt cx="1066680" cy="609840"/>
          </a:xfrm>
        </p:grpSpPr>
        <p:pic>
          <p:nvPicPr>
            <p:cNvPr id="194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1752480" y="198108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2379960" y="1981080"/>
              <a:ext cx="43920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6" name="" descr="">
            <a:hlinkClick r:id="rId5"/>
          </p:cNvPr>
          <p:cNvPicPr/>
          <p:nvPr/>
        </p:nvPicPr>
        <p:blipFill>
          <a:blip r:embed="rId6"/>
          <a:srcRect l="9469" t="0" r="57459" b="38540"/>
          <a:stretch/>
        </p:blipFill>
        <p:spPr>
          <a:xfrm>
            <a:off x="3809880" y="1981080"/>
            <a:ext cx="470160" cy="595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7"/>
          </p:cNvPr>
          <p:cNvPicPr/>
          <p:nvPr/>
        </p:nvPicPr>
        <p:blipFill>
          <a:blip r:embed="rId8"/>
          <a:srcRect l="42561" t="18882" r="24347" b="18213"/>
          <a:stretch/>
        </p:blipFill>
        <p:spPr>
          <a:xfrm>
            <a:off x="5181480" y="1981080"/>
            <a:ext cx="470160" cy="609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553080" y="2133720"/>
            <a:ext cx="2286000" cy="1066680"/>
          </a:xfrm>
          <a:prstGeom prst="wedgeRoundRectCallout">
            <a:avLst>
              <a:gd name="adj1" fmla="val -67986"/>
              <a:gd name="adj2" fmla="val -42856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rnel should be pos. semi-definite (PS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for the case o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=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=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kernel K(x,y) = (1 + x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rresponds to the mapp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09480" y="2362320"/>
            <a:ext cx="8229600" cy="3963960"/>
            <a:chOff x="609480" y="2362320"/>
            <a:chExt cx="8229600" cy="3963960"/>
          </a:xfrm>
        </p:grpSpPr>
        <p:grpSp>
          <p:nvGrpSpPr>
            <p:cNvPr id="201" name=""/>
            <p:cNvGrpSpPr/>
            <p:nvPr/>
          </p:nvGrpSpPr>
          <p:grpSpPr>
            <a:xfrm>
              <a:off x="609480" y="2660760"/>
              <a:ext cx="3885840" cy="3665520"/>
              <a:chOff x="609480" y="2660760"/>
              <a:chExt cx="3885840" cy="3665520"/>
            </a:xfrm>
          </p:grpSpPr>
          <p:sp>
            <p:nvSpPr>
              <p:cNvPr id="202" name=""/>
              <p:cNvSpPr/>
              <p:nvPr/>
            </p:nvSpPr>
            <p:spPr>
              <a:xfrm flipV="1">
                <a:off x="2435400" y="2904480"/>
                <a:ext cx="0" cy="342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09480" y="4653360"/>
                <a:ext cx="3651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08480" y="2660760"/>
                <a:ext cx="451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43520" y="4181040"/>
                <a:ext cx="451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66480" y="3817080"/>
                <a:ext cx="2337120" cy="15966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2520" y="396756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415160" y="431928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399400" y="427320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94600" y="389124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131280" y="424152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26000" y="500004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583360" y="469908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985480" y="480708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10920" y="38912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049040" y="40896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87160" y="3509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414440" y="2906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801160" y="33289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153240" y="35571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37520" y="4013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66200" y="3023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21400" y="3058200"/>
                <a:ext cx="347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55000" y="5988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153240" y="545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666240" y="4807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666240" y="5912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56760" y="53820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033200" y="5112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87160" y="53820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79480" y="5912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74520" y="5684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086440" y="2611440"/>
              <a:ext cx="3752640" cy="3714840"/>
              <a:chOff x="5086440" y="2611440"/>
              <a:chExt cx="3752640" cy="3714840"/>
            </a:xfrm>
          </p:grpSpPr>
          <p:sp>
            <p:nvSpPr>
              <p:cNvPr id="234" name=""/>
              <p:cNvSpPr/>
              <p:nvPr/>
            </p:nvSpPr>
            <p:spPr>
              <a:xfrm>
                <a:off x="6536880" y="2611440"/>
                <a:ext cx="388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6477480" y="2856240"/>
                <a:ext cx="0" cy="1880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62000" y="4752720"/>
                <a:ext cx="190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5426640" y="4754520"/>
                <a:ext cx="1051560" cy="133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457840" y="4409640"/>
                <a:ext cx="381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241960" y="5603760"/>
                <a:ext cx="380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919120" y="4465800"/>
                <a:ext cx="86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747760" y="477000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59160" y="414864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536880" y="4012920"/>
                <a:ext cx="86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170040" y="532548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478920" y="4911840"/>
                <a:ext cx="864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170040" y="366408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662880" y="4396680"/>
                <a:ext cx="865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273000" y="4424040"/>
                <a:ext cx="865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8340200">
                <a:off x="5204520" y="3925800"/>
                <a:ext cx="2526480" cy="1587240"/>
              </a:xfrm>
              <a:prstGeom prst="parallelogram">
                <a:avLst>
                  <a:gd name="adj" fmla="val 39794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081560" y="3110400"/>
                <a:ext cx="334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518240" y="31791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456320" y="34995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960680" y="3593520"/>
                <a:ext cx="331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279920" y="33181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529040" y="43261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156080" y="3844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344720" y="57405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1950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603200" y="49795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22600" y="4148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220520" y="53254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087760" y="4843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837200" y="5988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897320" y="52560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84972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704720" y="56023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849720" y="3525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3200400" y="3278160"/>
              <a:ext cx="3505320" cy="1752480"/>
            </a:xfrm>
            <a:custGeom>
              <a:avLst/>
              <a:gdLst>
                <a:gd name="textAreaLeft" fmla="*/ 0 w 3505320"/>
                <a:gd name="textAreaRight" fmla="*/ 3505680 w 3505320"/>
                <a:gd name="textAreaTop" fmla="*/ 0 h 1752480"/>
                <a:gd name="textAreaBottom" fmla="*/ 175284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88" y="19150"/>
                  </a:moveTo>
                  <a:arcTo wR="-8749" hR="-8749" stAng="6442108" swAng="-3495405"/>
                  <a:lnTo>
                    <a:pt x="3730" y="2635"/>
                  </a:lnTo>
                  <a:arcTo wR="10800" hR="10800" stAng="-7853297" swAng="3495405"/>
                  <a:lnTo>
                    <a:pt x="14830" y="-2084"/>
                  </a:lnTo>
                  <a:lnTo>
                    <a:pt x="17273" y="2583"/>
                  </a:lnTo>
                  <a:lnTo>
                    <a:pt x="12606" y="5027"/>
                  </a:lnTo>
                  <a:close/>
                </a:path>
              </a:pathLst>
            </a:custGeom>
            <a:solidFill>
              <a:srgbClr val="e9e6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2209680" y="2362320"/>
              <a:ext cx="4419720" cy="35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Exampl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Moreover, generalize well if good margin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320" y="4343400"/>
            <a:ext cx="8991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rnels found to be useful in practice for dealing with many, many different kinds of dat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914400"/>
            <a:ext cx="64771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data is lin. separable by marg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-space, then need sample size onl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Õ(1/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to get confidence in general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03120" y="3048120"/>
            <a:ext cx="35751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Assum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|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98360" y="1600200"/>
            <a:ext cx="2431080" cy="2258640"/>
            <a:chOff x="6498360" y="1600200"/>
            <a:chExt cx="2431080" cy="2258640"/>
          </a:xfrm>
        </p:grpSpPr>
        <p:sp>
          <p:nvSpPr>
            <p:cNvPr id="276" name=""/>
            <p:cNvSpPr/>
            <p:nvPr/>
          </p:nvSpPr>
          <p:spPr>
            <a:xfrm flipH="1" flipV="1">
              <a:off x="6789240" y="1962000"/>
              <a:ext cx="1760760" cy="173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64240" y="2325600"/>
              <a:ext cx="1436760" cy="14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62920" y="1676160"/>
              <a:ext cx="154764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25360" y="1600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26760" y="2178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46080" y="2035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46040" y="2612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86560" y="2468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88040" y="1600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98360" y="254160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89600" y="3119400"/>
              <a:ext cx="35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78600" y="26845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77840" y="333828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96840" y="29779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934320" y="2057040"/>
              <a:ext cx="609480" cy="60948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39640" y="21225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36280" y="1828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6324480" y="1523880"/>
            <a:ext cx="2667240" cy="2590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rim Blum</cp:lastModifiedBy>
  <dcterms:modified xsi:type="dcterms:W3CDTF">2008-02-21T13:27:04Z</dcterms:modified>
  <cp:revision>270</cp:revision>
  <dc:subject/>
  <dc:title>PowerPoint Presentation</dc:title>
</cp:coreProperties>
</file>