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FED312-80B6-4384-AC6A-B64E799CE2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ov in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F: doesn’t contain all good kernels, but motivated by boosting. Property that allows a certain boosting algorithm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s more attracted to rest of its cluster than to A’.  Before we allowed A to be more attracted to A’ if A’ didn’t want to defect.  K(..) = AVERAGE similarity (average attr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5BD8BC-09C4-471B-A525-5123AA9EF5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71F-965B-441A-B39C-906F4C40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1FE-6887-42F6-A3D0-D4F2568A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43D-3BF3-4842-A57A-48E95346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DE2-BE86-40F9-ADB1-F04861CB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63464-A402-447B-A8C4-00A040E8A9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D36A6-EF2F-4484-9D6C-5657CB1F89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22635-51CA-486F-8A21-A56D5AD008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3939C-9AAA-4FA1-A5D0-5146F2A595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CC5CC-E1DC-408E-BEAB-E868707480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AFED8-691C-4175-AF26-2B91DDB235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644C6-19B6-4816-9675-AAC75BF843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80F-91F3-4683-BDE4-A1124CA8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60CB1-D12E-4962-84F3-30148AD40B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80166-4A47-4798-87DB-2F8D52E2BB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0A514-3535-46EC-A267-0C17DD7D14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22CFE-1C57-4A71-9170-1CA0D22FF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31F29-0414-4FFF-9058-580774F305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0CE83-FEF9-4056-88F1-B009B22E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19065-1F2D-4A24-8AAA-0EFCDD44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28633-EECF-4FCE-B347-FB2E33B6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87D58-F320-4829-B412-411CC2B5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96B9D-DA04-41E4-81AB-060BBC67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75E-AA87-454F-A92D-05FD29C7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CB464-137F-4DE4-AFF9-C8BA06A9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60E57-7474-4D3D-8BA2-AF143C71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16D1B-B8C2-44AA-B96D-3AD47C0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EDE18-C349-4A64-9B3A-6A2604D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D1276-7796-4A3D-992C-F90125AB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7852F-6120-43E2-82CF-A9E52565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E49E0-C06F-4728-8121-670EE6E6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223-9403-459B-9986-D7465A94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1BC-820C-49D3-A539-43C673D3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1AB-CFD5-4196-ACF5-40011120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FA8-E229-41EC-B314-99667162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EEC-5933-4F17-9823-FCF3EDA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802-5854-4460-B1EE-2654C932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07AB-E438-4D94-963F-4EA1E9DDB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729C-CEC7-46F7-99F0-7119E470DE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F123-B72E-4F75-83B1-CEA3C9CCF0FB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 Theory of Similarity Functions for Learning and Clustering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vrim B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[Includes work joint with Nina Balcan, Nati Srebro, and Santosh Vempa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measur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36720" y="2738520"/>
            <a:ext cx="2335680" cy="642600"/>
            <a:chOff x="5436720" y="2738520"/>
            <a:chExt cx="2335680" cy="642600"/>
          </a:xfrm>
        </p:grpSpPr>
        <p:sp>
          <p:nvSpPr>
            <p:cNvPr id="296" name=""/>
            <p:cNvSpPr/>
            <p:nvPr/>
          </p:nvSpPr>
          <p:spPr>
            <a:xfrm>
              <a:off x="6172200" y="28195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500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6720" y="27385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320" y="1522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to use ML to classify protein structures and I’m trying to decide on a similarity fn to use. Any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04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29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m… thanks, I gu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45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70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func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an we bridge the g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tandard theory has a something-for-nothing feel to it. “All the power of the high-dim’l implicit space without having to pay for it”.  More prosaic explan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43120" y="2482920"/>
            <a:ext cx="2335680" cy="642600"/>
            <a:chOff x="5343120" y="2482920"/>
            <a:chExt cx="2335680" cy="642600"/>
          </a:xfrm>
        </p:grpSpPr>
        <p:sp>
          <p:nvSpPr>
            <p:cNvPr id="387" name=""/>
            <p:cNvSpPr/>
            <p:nvPr/>
          </p:nvSpPr>
          <p:spPr>
            <a:xfrm>
              <a:off x="6078600" y="25639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1400" y="271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1400" y="29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120" y="24829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1600" y="27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: do we need the notion of an implicit space to understand what makes a kernel helpful for learning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Goal: notion of “good similarity function”  for a learning problem that…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s in terms of more intuitive properties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(no implicit high-diml spaces, no requirement of positive-semidefiniteness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natural properties of weighted graph induc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tisfies these properties for our given problem, then has implications to learning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road: includes usual notion of “good kernel” (one that induces a large margin separator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371600"/>
            <a:ext cx="380880" cy="2743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743200"/>
              <a:gd name="textAreaBottom" fmla="*/ 2724840 h 2743200"/>
            </a:gdLst>
            <a:ahLst/>
            <a:rect l="textAreaLeft" t="textAreaTop" r="textAreaRight" b="textAreaBottom"/>
            <a:pathLst>
              <a:path w="21600" h="155442">
                <a:moveTo>
                  <a:pt x="3600" y="0"/>
                </a:moveTo>
                <a:arcTo wR="3600" hR="3600" stAng="16200000" swAng="-5400000"/>
                <a:lnTo>
                  <a:pt x="0" y="151842"/>
                </a:lnTo>
                <a:arcTo wR="3600" hR="3600" stAng="10800000" swAng="-5400000"/>
                <a:lnTo>
                  <a:pt x="18000" y="155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343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st x are on average more similar to points y of their own type than to points y of the other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34340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: it’s possible to satisfy this and not even be a valid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K(x,y) = 0.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lass, uniform random in {-1,1}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0" y="49528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How can we use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ow to use i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 mass of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3623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osi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nega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based on which gives bet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effding: for an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good x”, prob of error over draw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ance our draw is bad on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ction of “good x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rob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rror rate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37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an we bridge the gap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ory that just view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a measure of similarity? Ideally, make it easier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od functions, &amp; be more general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41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=x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has good separator but doesn’t satisfy defn.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(half of positives are more similar to negs that to typical p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14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400800" y="838080"/>
            <a:ext cx="2590920" cy="1067040"/>
          </a:xfrm>
          <a:prstGeom prst="wedgeRoundRectCallout">
            <a:avLst>
              <a:gd name="adj1" fmla="val -61458"/>
              <a:gd name="adj2" fmla="val 3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 simil to negs is 0.5, but to pos is only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05520" y="990720"/>
            <a:ext cx="1447560" cy="3352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Idea: would work if we didn’t pick y’s from top-lef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roaden to say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K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 region R s.t. most x are on average more similar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same label than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other label.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even if don’t know R in adv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28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3124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ability mass of reasonable positives/neg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now, how can we use for learn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312408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 =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,  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as “landmarks”, use to map new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(x) = [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…,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p,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parator of goo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rgin in this space: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w=[0,0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,0,-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So,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take new set of examples, project to this space, and run good L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alg (Winn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276720"/>
            <a:ext cx="2133360" cy="304560"/>
          </a:xfrm>
          <a:prstGeom prst="wedgeRoundRectCallout">
            <a:avLst>
              <a:gd name="adj1" fmla="val -67037"/>
              <a:gd name="adj2" fmla="val -2239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be unlabe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defn is broad enough to include all large margin kernel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(some loss in parameter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x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-goo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t now, we don’t need to think about implicit spaces or require kernel to even have the implicit space interpre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PSD, can also show reverse to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here &amp; PSD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act, can even show a sepa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 class C of n pairwise uncorrelated functions over n examples (unif distri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how that for any kernel K, expected margin for random f in C would be O(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can define a similarity function wi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, P(R)=1/n. 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[K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,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=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echnically, easier using slight variant on de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486400"/>
            <a:ext cx="4572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 |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n develop sufficient conditions for a  similarity fn to be useful for learning that don’t require implicit spac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includes usual notion of “good kernels” modulo the loss in some parame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Can apply to similarity fns that aren’t positive-semidefinite (or even symmetri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4495680"/>
            <a:ext cx="3047760" cy="1828800"/>
            <a:chOff x="2819520" y="4495680"/>
            <a:chExt cx="3047760" cy="1828800"/>
          </a:xfrm>
        </p:grpSpPr>
        <p:sp>
          <p:nvSpPr>
            <p:cNvPr id="454" name=""/>
            <p:cNvSpPr/>
            <p:nvPr/>
          </p:nvSpPr>
          <p:spPr>
            <a:xfrm>
              <a:off x="2819520" y="4495680"/>
              <a:ext cx="3047760" cy="1828800"/>
            </a:xfrm>
            <a:prstGeom prst="ellipse">
              <a:avLst/>
            </a:prstGeom>
            <a:solidFill>
              <a:srgbClr val="00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5100480"/>
              <a:ext cx="2286000" cy="617760"/>
            </a:xfrm>
            <a:prstGeom prst="ellipse">
              <a:avLst/>
            </a:prstGeom>
            <a:solidFill>
              <a:srgbClr val="ccccff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876920"/>
              <a:ext cx="1066680" cy="990360"/>
            </a:xfrm>
            <a:prstGeom prst="ellipse">
              <a:avLst/>
            </a:prstGeom>
            <a:solidFill>
              <a:srgbClr val="ffcccc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88040" y="5029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7280" y="51055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6760" y="4495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ly other interesting sufficient conditions too. E.g.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[WangYangFeng07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d by boos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these more intuitive conditions can help guide the design of similarity fns for a given applic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2057400"/>
            <a:ext cx="7359840" cy="216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2: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n we use this angle to help think about clus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65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68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Can we use this angle to help think about clust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46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What if we only have unlabeled data (i.e., clustering)?  Can we develop a theory of properties that are sufficient to be able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e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0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84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87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common algorithmic approach: view weighted graph induced by K as ground truth; try to optimize various objectiv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we view target as ground truth.  Ask: how should K be related to let us get a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03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06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say you want alg to cluster docs the way *you* would.  How closely related does K have to be to what’s in your head?  Or, given a property you think K has, what algs does that sugge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20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23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Here is a condition that trivially works: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g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=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l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have such a K, then clustering is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let’s try to make this condition a little weaker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2438280" y="4876920"/>
            <a:ext cx="2286000" cy="1371600"/>
            <a:chOff x="2438280" y="4876920"/>
            <a:chExt cx="2286000" cy="1371600"/>
          </a:xfrm>
        </p:grpSpPr>
        <p:sp>
          <p:nvSpPr>
            <p:cNvPr id="539" name=""/>
            <p:cNvSpPr/>
            <p:nvPr/>
          </p:nvSpPr>
          <p:spPr>
            <a:xfrm>
              <a:off x="41148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8280" y="487692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47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09800" y="4815000"/>
            <a:ext cx="1653120" cy="1587240"/>
            <a:chOff x="3709800" y="4815000"/>
            <a:chExt cx="1653120" cy="1587240"/>
          </a:xfrm>
        </p:grpSpPr>
        <p:sp>
          <p:nvSpPr>
            <p:cNvPr id="553" name=""/>
            <p:cNvSpPr/>
            <p:nvPr/>
          </p:nvSpPr>
          <p:spPr>
            <a:xfrm>
              <a:off x="3749400" y="481500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09800" y="6033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514600" y="4876920"/>
            <a:ext cx="2286000" cy="1371600"/>
            <a:chOff x="2514600" y="4876920"/>
            <a:chExt cx="2286000" cy="1371600"/>
          </a:xfrm>
        </p:grpSpPr>
        <p:sp>
          <p:nvSpPr>
            <p:cNvPr id="556" name=""/>
            <p:cNvSpPr/>
            <p:nvPr/>
          </p:nvSpPr>
          <p:spPr>
            <a:xfrm>
              <a:off x="25146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2520" y="487692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923000"/>
            <a:ext cx="380988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learning, you can’t even test your hypothe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63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9400" y="4815000"/>
            <a:ext cx="14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9800" y="603396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et’s weaken our goals a bit…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produce a hierarchical clustering (tree) such that correct answer is apx some pruning of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in case from last sl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output a small # of clusterings such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low error.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(won’t talk about this one 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53880" y="1905120"/>
            <a:ext cx="3342960" cy="1752480"/>
            <a:chOff x="5753880" y="1905120"/>
            <a:chExt cx="3342960" cy="1752480"/>
          </a:xfrm>
        </p:grpSpPr>
        <p:sp>
          <p:nvSpPr>
            <p:cNvPr id="575" name=""/>
            <p:cNvSpPr/>
            <p:nvPr/>
          </p:nvSpPr>
          <p:spPr>
            <a:xfrm>
              <a:off x="6172200" y="205740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6080" y="205740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72200" y="1905120"/>
              <a:ext cx="2362320" cy="1752480"/>
              <a:chOff x="6172200" y="1905120"/>
              <a:chExt cx="2362320" cy="1752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4840" y="22860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24840" y="29718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5040" y="2993760"/>
                <a:ext cx="45864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1905120"/>
                <a:ext cx="236232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3240" y="2286000"/>
                <a:ext cx="45900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81240" y="1981080"/>
              <a:ext cx="176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3880" y="3276720"/>
              <a:ext cx="196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ket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3320" y="199548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43720" y="321480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26600" y="2895480"/>
            <a:ext cx="4419000" cy="1130400"/>
            <a:chOff x="1326600" y="2895480"/>
            <a:chExt cx="4419000" cy="1130400"/>
          </a:xfrm>
        </p:grpSpPr>
        <p:sp>
          <p:nvSpPr>
            <p:cNvPr id="588" name=""/>
            <p:cNvSpPr/>
            <p:nvPr/>
          </p:nvSpPr>
          <p:spPr>
            <a:xfrm>
              <a:off x="3260880" y="309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6600" y="3657600"/>
              <a:ext cx="44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   basketball         math   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8160" y="32004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sports                     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62000" y="28954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all 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7180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981080" y="35812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19720" y="3581280"/>
              <a:ext cx="304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3200" y="3581280"/>
              <a:ext cx="3808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35812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Then you can start getting somewhere….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ufficient to get hierarchical clustering such that target is some pruning of tree.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(Kruskal’s / single-linkage wor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28954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aker condition: ground truth is “stabl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3581280"/>
            <a:ext cx="67057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ll clusters C, C’, for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: A and A’ are not both more similar to each other than to rest of their own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44520" y="3292200"/>
            <a:ext cx="2255040" cy="1746360"/>
            <a:chOff x="6644520" y="3292200"/>
            <a:chExt cx="2255040" cy="1746360"/>
          </a:xfrm>
        </p:grpSpPr>
        <p:sp>
          <p:nvSpPr>
            <p:cNvPr id="603" name=""/>
            <p:cNvSpPr/>
            <p:nvPr/>
          </p:nvSpPr>
          <p:spPr>
            <a:xfrm rot="1078200">
              <a:off x="7783920" y="348516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078200">
              <a:off x="6845400" y="339768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078600">
              <a:off x="7563240" y="37242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078600">
              <a:off x="7296480" y="3996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078600">
              <a:off x="7782840" y="4152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078600">
              <a:off x="8124840" y="38692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078600">
              <a:off x="7354080" y="43725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078600">
              <a:off x="8437680" y="3898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078600">
              <a:off x="8420040" y="42868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1078600">
              <a:off x="7990920" y="45064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078600">
              <a:off x="7017840" y="419292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078600">
              <a:off x="7238520" y="3619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869520" y="3838320"/>
            <a:ext cx="1806120" cy="1007280"/>
            <a:chOff x="6869520" y="3838320"/>
            <a:chExt cx="1806120" cy="1007280"/>
          </a:xfrm>
        </p:grpSpPr>
        <p:sp>
          <p:nvSpPr>
            <p:cNvPr id="616" name=""/>
            <p:cNvSpPr/>
            <p:nvPr/>
          </p:nvSpPr>
          <p:spPr>
            <a:xfrm rot="21081000">
              <a:off x="6934320" y="388476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1081000">
              <a:off x="7877880" y="419544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62120" y="914400"/>
            <a:ext cx="792468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x more similar to all y in their own cluster than to any y’ from any other clu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49276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(x,y) is attraction between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23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36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gorithm: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ingle-link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Kruskal, but at each step merge pair of clusters whose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ilarity is high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alysis: (all clusters made are laminar wrt targ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ure iff merg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.t.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ust exi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s.t.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and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&gt;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  Contrad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8600" y="4876920"/>
            <a:ext cx="8686800" cy="1752480"/>
            <a:chOff x="228600" y="4876920"/>
            <a:chExt cx="8686800" cy="1752480"/>
          </a:xfrm>
        </p:grpSpPr>
        <p:sp>
          <p:nvSpPr>
            <p:cNvPr id="641" name=""/>
            <p:cNvSpPr/>
            <p:nvPr/>
          </p:nvSpPr>
          <p:spPr>
            <a:xfrm>
              <a:off x="228600" y="4876920"/>
              <a:ext cx="8686800" cy="175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5000" y="533412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t’s getting late, let’s skip the pro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46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59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orithm breaks down if K is not symmetri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stead, run “Boruvka-inspired” algorith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ach current clust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ints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rge directed cycles.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ot all compon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63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782800">
              <a:off x="372060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4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83080" y="3809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04920" y="266688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75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782800">
              <a:off x="372096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8580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[Think of K as “attraction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a kind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C model for 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More general condit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only require stability for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ume all true clusters are larg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, take example satisfying                 stability for all sets but add noi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cause bottom-up algorithms to fa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20280" y="1473840"/>
            <a:ext cx="2161080" cy="1624320"/>
            <a:chOff x="6920280" y="1473840"/>
            <a:chExt cx="2161080" cy="1624320"/>
          </a:xfrm>
        </p:grpSpPr>
        <p:grpSp>
          <p:nvGrpSpPr>
            <p:cNvPr id="688" name=""/>
            <p:cNvGrpSpPr/>
            <p:nvPr/>
          </p:nvGrpSpPr>
          <p:grpSpPr>
            <a:xfrm>
              <a:off x="6920280" y="1473840"/>
              <a:ext cx="2161080" cy="1624320"/>
              <a:chOff x="6920280" y="1473840"/>
              <a:chExt cx="2161080" cy="1624320"/>
            </a:xfrm>
          </p:grpSpPr>
          <p:sp>
            <p:nvSpPr>
              <p:cNvPr id="689" name=""/>
              <p:cNvSpPr/>
              <p:nvPr/>
            </p:nvSpPr>
            <p:spPr>
              <a:xfrm rot="785400">
                <a:off x="8014680" y="1565640"/>
                <a:ext cx="914400" cy="14475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785400">
                <a:off x="7072200" y="1558440"/>
                <a:ext cx="914400" cy="1447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85200">
                <a:off x="7761240" y="18572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785200">
                <a:off x="7518240" y="215100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85200">
                <a:off x="8016480" y="2265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785200">
                <a:off x="8332920" y="19540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85200">
                <a:off x="7607880" y="25210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85200">
                <a:off x="8647200" y="1956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785200">
                <a:off x="8662680" y="234504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785200">
                <a:off x="8254080" y="26002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785200">
                <a:off x="7257600" y="237060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785200">
                <a:off x="7428960" y="17805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070040" y="1954440"/>
              <a:ext cx="1861920" cy="1050120"/>
              <a:chOff x="7070040" y="1954440"/>
              <a:chExt cx="1861920" cy="1050120"/>
            </a:xfrm>
          </p:grpSpPr>
          <p:sp>
            <p:nvSpPr>
              <p:cNvPr id="702" name=""/>
              <p:cNvSpPr/>
              <p:nvPr/>
            </p:nvSpPr>
            <p:spPr>
              <a:xfrm rot="20782800">
                <a:off x="7167960" y="2022480"/>
                <a:ext cx="685800" cy="91404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82800">
                <a:off x="8118000" y="2247480"/>
                <a:ext cx="761760" cy="53316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304920" y="3505320"/>
            <a:ext cx="861048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, can pick some points at random, guess their labels, and use to cluster the rest. Produces big list of candi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sting step to hook up clusters into a tree.  Running time not great though. (exponential in #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her properti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Can also relate to implicit assumptions made by approx algorithms for standard objectives like k-medi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ssume that any apx k-median solution must be close to the target, this implies that most points satisfy simple orderi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ike a PAC model for cluster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 learning model: basic object of study is the concept class (a set of functions).  Look at which are learnable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ur case, basic object of study i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ike a collection of (target, similarity function) pairs.  Want to know which allow clustering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perties of a similarity function are sufficient for it to be useful for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ew as unlabeled-data multiclass learning prob. (Target fn as ground truth rather than graph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 get interesting theory, need to relax what we mean by “useful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view as a kind of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AC model for clustering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83808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Natural properties (relations between sim fn and target) that motivate spectral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Efficient algorithms for other properties?  E.g., “stability of large subs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Other notions of “useful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Produce a small DAG instead of a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Others based on different kinds of feed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0.00347 -0.4993 E">
                                      <p:cBhvr>
                                        <p:cTn id="59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Overall 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approach to question: what are minimal conditions that allow a similarity to be useful for learning/cluste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learning, formal way of analyzing kernels as similarity func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esn’t require reference to implicit spaces or PSD proper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lustering, “reverses” the usual view.  Can think of as a PAC model for clustering.  Property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cept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 of interesting directions to expl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2057400"/>
            <a:ext cx="735984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1: On similar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ctions for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Kernel functions and Learn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to our generic classification problem.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E.g., given a set of images           , labeled by gender, learn a rule to distinguish men from women.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[Goal: do well on new data]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roblem: our best algorithms learn linear separators, but might not be good for data in its natura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approach: use a more complex class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approach: use a ker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715000" y="1447920"/>
            <a:ext cx="1142640" cy="609480"/>
            <a:chOff x="5715000" y="1447920"/>
            <a:chExt cx="1142640" cy="609480"/>
          </a:xfrm>
        </p:grpSpPr>
        <p:pic>
          <p:nvPicPr>
            <p:cNvPr id="16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5715000" y="1447920"/>
              <a:ext cx="470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6387120" y="1447920"/>
              <a:ext cx="4705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400800" y="4648320"/>
            <a:ext cx="2209680" cy="1983600"/>
            <a:chOff x="6400800" y="4648320"/>
            <a:chExt cx="2209680" cy="1983600"/>
          </a:xfrm>
        </p:grpSpPr>
        <p:sp>
          <p:nvSpPr>
            <p:cNvPr id="168" name=""/>
            <p:cNvSpPr/>
            <p:nvPr/>
          </p:nvSpPr>
          <p:spPr>
            <a:xfrm flipV="1">
              <a:off x="6400800" y="4648320"/>
              <a:ext cx="22096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756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29920" y="5639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772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1760" y="518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544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9040" y="5867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9040" y="6172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440" y="5334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87120" y="594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58320" y="4724280"/>
            <a:ext cx="2340360" cy="1755000"/>
            <a:chOff x="6358320" y="4724280"/>
            <a:chExt cx="2340360" cy="1755000"/>
          </a:xfrm>
        </p:grpSpPr>
        <p:sp>
          <p:nvSpPr>
            <p:cNvPr id="179" name=""/>
            <p:cNvSpPr/>
            <p:nvPr/>
          </p:nvSpPr>
          <p:spPr>
            <a:xfrm>
              <a:off x="7615800" y="5410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9400" y="518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3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4920" y="5333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632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220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044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44120" y="4724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8320" y="525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5257800"/>
              <a:ext cx="160020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572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240" y="4876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What’s a kernel?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kern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s a legal def of dot-product: fn s.t. there exists an implicit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   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 = 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+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(n-diml space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ml 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Point i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any learning algs can be written so only interact with data via dot-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replace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with K(x,y), it acts implicitly as if data was in 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981080"/>
            <a:ext cx="1066680" cy="609840"/>
            <a:chOff x="1752480" y="1981080"/>
            <a:chExt cx="1066680" cy="609840"/>
          </a:xfrm>
        </p:grpSpPr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1752480" y="198108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2379960" y="1981080"/>
              <a:ext cx="4392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3809880" y="1981080"/>
            <a:ext cx="47016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42561" t="18882" r="24347" b="18213"/>
          <a:stretch/>
        </p:blipFill>
        <p:spPr>
          <a:xfrm>
            <a:off x="5181480" y="1981080"/>
            <a:ext cx="470160" cy="60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133720"/>
            <a:ext cx="2286000" cy="1066680"/>
          </a:xfrm>
          <a:prstGeom prst="wedgeRoundRectCallout">
            <a:avLst>
              <a:gd name="adj1" fmla="val -67986"/>
              <a:gd name="adj2" fmla="val -42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 should be pos. semi-definite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or the cas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kernel K(x,y) = (1 +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mapp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2362320"/>
            <a:ext cx="8229600" cy="3963960"/>
            <a:chOff x="609480" y="2362320"/>
            <a:chExt cx="8229600" cy="3963960"/>
          </a:xfrm>
        </p:grpSpPr>
        <p:grpSp>
          <p:nvGrpSpPr>
            <p:cNvPr id="201" name=""/>
            <p:cNvGrpSpPr/>
            <p:nvPr/>
          </p:nvGrpSpPr>
          <p:grpSpPr>
            <a:xfrm>
              <a:off x="609480" y="2660760"/>
              <a:ext cx="3885840" cy="3665520"/>
              <a:chOff x="609480" y="2660760"/>
              <a:chExt cx="3885840" cy="366552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435400" y="2904480"/>
                <a:ext cx="0" cy="342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480" y="4653360"/>
                <a:ext cx="365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8480" y="2660760"/>
                <a:ext cx="451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3520" y="4181040"/>
                <a:ext cx="451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66480" y="3817080"/>
                <a:ext cx="2337120" cy="15966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2520" y="39675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160" y="43192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9400" y="42732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4600" y="38912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31280" y="42415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26000" y="50000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83360" y="4699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85480" y="4807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920" y="38912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49040" y="40896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7160" y="35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90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01160" y="3328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3240" y="3557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37520" y="401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66200" y="302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21400" y="3058200"/>
                <a:ext cx="34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50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53240" y="545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66240" y="4807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6624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567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33200" y="5112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1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948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4520" y="5684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086440" y="2611440"/>
              <a:ext cx="3752640" cy="3714840"/>
              <a:chOff x="5086440" y="2611440"/>
              <a:chExt cx="3752640" cy="37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536880" y="2611440"/>
                <a:ext cx="388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477480" y="2856240"/>
                <a:ext cx="0" cy="18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0" y="4752720"/>
                <a:ext cx="190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26640" y="4754520"/>
                <a:ext cx="10515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57840" y="440964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41960" y="5603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19120" y="4465800"/>
                <a:ext cx="86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7760" y="477000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59160" y="414864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36880" y="4012920"/>
                <a:ext cx="86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0040" y="53254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8920" y="4911840"/>
                <a:ext cx="8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70040" y="36640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2880" y="439668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3000" y="442404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40200">
                <a:off x="5204520" y="3925800"/>
                <a:ext cx="2526480" cy="1587240"/>
              </a:xfrm>
              <a:prstGeom prst="parallelogram">
                <a:avLst>
                  <a:gd name="adj" fmla="val 397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1560" y="3110400"/>
                <a:ext cx="33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8240" y="3179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56320" y="34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60680" y="3593520"/>
                <a:ext cx="33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9920" y="3318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9040" y="4326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6080" y="3844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4720" y="5740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950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3200" y="4979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2600" y="4148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0520" y="5325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7760" y="4843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72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7320" y="5256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972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4720" y="5602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9720" y="3525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200400" y="3278160"/>
              <a:ext cx="3505320" cy="1752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88" y="19150"/>
                  </a:moveTo>
                  <a:arcTo wR="-8749" hR="-8749" stAng="6442108" swAng="-3495405"/>
                  <a:lnTo>
                    <a:pt x="3730" y="2635"/>
                  </a:lnTo>
                  <a:arcTo wR="10800" hR="10800" stAng="-7853297" swAng="3495405"/>
                  <a:lnTo>
                    <a:pt x="14830" y="-2084"/>
                  </a:lnTo>
                  <a:lnTo>
                    <a:pt x="17273" y="2583"/>
                  </a:lnTo>
                  <a:lnTo>
                    <a:pt x="12606" y="5027"/>
                  </a:lnTo>
                  <a:close/>
                </a:path>
              </a:pathLst>
            </a:custGeom>
            <a:solidFill>
              <a:srgbClr val="e9e6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209680" y="2362320"/>
              <a:ext cx="441972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Exampl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43434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rnels found to be useful in practice for dealing with many, many different kinds of da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14400"/>
            <a:ext cx="6477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data is lin. separable by marg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space, then need sample size on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Õ(1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o get confidence in gener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3120" y="3048120"/>
            <a:ext cx="3575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|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8360" y="1600200"/>
            <a:ext cx="2431080" cy="2258640"/>
            <a:chOff x="6498360" y="1600200"/>
            <a:chExt cx="2431080" cy="2258640"/>
          </a:xfrm>
        </p:grpSpPr>
        <p:sp>
          <p:nvSpPr>
            <p:cNvPr id="276" name=""/>
            <p:cNvSpPr/>
            <p:nvPr/>
          </p:nvSpPr>
          <p:spPr>
            <a:xfrm flipH="1" flipV="1">
              <a:off x="6789240" y="1962000"/>
              <a:ext cx="1760760" cy="17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4240" y="2325600"/>
              <a:ext cx="14367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1676160"/>
              <a:ext cx="154764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536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26760" y="217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46080" y="203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6040" y="26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560" y="2468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804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8360" y="25416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9600" y="311940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26845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7840" y="33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96840" y="29779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934320" y="2057040"/>
              <a:ext cx="609480" cy="60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9640" y="2122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6280" y="18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24480" y="1523880"/>
            <a:ext cx="2667240" cy="2590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8-02-21T13:27:04Z</dcterms:modified>
  <cp:revision>270</cp:revision>
  <dc:subject/>
  <dc:title>PowerPoint Presentation</dc:title>
</cp:coreProperties>
</file>