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04964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0" y="89740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4049640" y="89740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FFB6B13-080F-43B0-AE9F-513768626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first phra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Seller modifies prices over time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Seller modifies prices over time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009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Comic Sans MS"/>
              </a:rPr>
              <a:t>&lt;footer&gt;</a:t>
            </a:r>
            <a:r>
              <a:rPr b="0" lang="en-US" sz="1200" spc="-1" strike="noStrike">
                <a:solidFill>
                  <a:srgbClr val="0000cc"/>
                </a:solidFill>
                <a:latin typeface="Comic Sans MS"/>
              </a:rPr>
              <a:t>Maria-Florina Bal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adwords.google.com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127296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Comic Sans MS"/>
              </a:rPr>
              <a:t>Machine Learning for Mechanism Design and Pricing Problems</a:t>
            </a: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335268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Avrim Blu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396252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Comic Sans MS"/>
              </a:rPr>
              <a:t>Carnegie Mellon Univers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4876920"/>
            <a:ext cx="76960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oint work with Maria-Florina Balca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son Hartline, and Yishay Mans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61280" y="6248520"/>
            <a:ext cx="237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0066"/>
                </a:solidFill>
                <a:latin typeface="Comic Sans MS"/>
              </a:rPr>
              <a:t>[Informs 2009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780080" y="399744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1600200"/>
            <a:ext cx="8686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ve developed a cool new software tool &amp; want to sell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Simple version: basic digital good auction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4038480"/>
            <a:ext cx="8686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ld ask people for their valuations and use this to set a price as before, but people will low-ball (not incentive-compatible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2057400"/>
            <a:ext cx="83822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n potential buyers.  Buyer i has valuation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Can potentially sell to </a:t>
            </a:r>
            <a:r>
              <a:rPr b="0" lang="en-US" sz="2200" spc="-1" strike="noStrike">
                <a:solidFill>
                  <a:srgbClr val="ff33cc"/>
                </a:solidFill>
                <a:latin typeface="Comic Sans MS"/>
              </a:rPr>
              <a:t>all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 of them, but buyer i will only purchase if priced below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Unfortunately, you don’t know the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600200"/>
            <a:ext cx="8686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ve developed a cool new software tool &amp; want to sell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Simple version: basic digital good auction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419720"/>
            <a:ext cx="5943600" cy="24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Ask buyers to submit bids b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Randomly partition bidders into       two sets S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, S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Find best price over bids in S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…       and use it as offer price on S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! </a:t>
            </a:r>
            <a:r>
              <a:rPr b="0" lang="en-US" sz="1400" spc="-1" strike="noStrike">
                <a:solidFill>
                  <a:srgbClr val="0000cc"/>
                </a:solidFill>
                <a:latin typeface="Comic Sans MS"/>
              </a:rPr>
              <a:t>(&amp; vice vers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3889440"/>
            <a:ext cx="8686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dom sampling au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194520" y="4537080"/>
            <a:ext cx="1987200" cy="1779120"/>
            <a:chOff x="6194520" y="4537080"/>
            <a:chExt cx="1987200" cy="1779120"/>
          </a:xfrm>
        </p:grpSpPr>
        <p:grpSp>
          <p:nvGrpSpPr>
            <p:cNvPr id="136" name=""/>
            <p:cNvGrpSpPr/>
            <p:nvPr/>
          </p:nvGrpSpPr>
          <p:grpSpPr>
            <a:xfrm>
              <a:off x="6194520" y="4537080"/>
              <a:ext cx="1987200" cy="725040"/>
              <a:chOff x="6194520" y="4537080"/>
              <a:chExt cx="1987200" cy="725040"/>
            </a:xfrm>
          </p:grpSpPr>
          <p:pic>
            <p:nvPicPr>
              <p:cNvPr id="13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194520" y="4537080"/>
                <a:ext cx="651960" cy="72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62320" y="4537080"/>
                <a:ext cx="651960" cy="72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530120" y="4537080"/>
                <a:ext cx="651600" cy="725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0" name=""/>
            <p:cNvGrpSpPr/>
            <p:nvPr/>
          </p:nvGrpSpPr>
          <p:grpSpPr>
            <a:xfrm>
              <a:off x="6194520" y="5591520"/>
              <a:ext cx="1987200" cy="724680"/>
              <a:chOff x="6194520" y="5591520"/>
              <a:chExt cx="1987200" cy="724680"/>
            </a:xfrm>
          </p:grpSpPr>
          <p:pic>
            <p:nvPicPr>
              <p:cNvPr id="14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194520" y="5591520"/>
                <a:ext cx="651960" cy="72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862320" y="5591520"/>
                <a:ext cx="651960" cy="72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530120" y="5591520"/>
                <a:ext cx="651600" cy="72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4" name=""/>
          <p:cNvGrpSpPr/>
          <p:nvPr/>
        </p:nvGrpSpPr>
        <p:grpSpPr>
          <a:xfrm>
            <a:off x="5130360" y="4156200"/>
            <a:ext cx="3813480" cy="2438280"/>
            <a:chOff x="5130360" y="4156200"/>
            <a:chExt cx="3813480" cy="2438280"/>
          </a:xfrm>
        </p:grpSpPr>
        <p:sp>
          <p:nvSpPr>
            <p:cNvPr id="145" name=""/>
            <p:cNvSpPr/>
            <p:nvPr/>
          </p:nvSpPr>
          <p:spPr>
            <a:xfrm>
              <a:off x="5585400" y="4156200"/>
              <a:ext cx="3358440" cy="2438280"/>
            </a:xfrm>
            <a:prstGeom prst="ellipse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85400" y="5276160"/>
              <a:ext cx="3358440" cy="131760"/>
            </a:xfrm>
            <a:custGeom>
              <a:avLst/>
              <a:gdLst/>
              <a:ahLst/>
              <a:rect l="l" t="t" r="r" b="b"/>
              <a:pathLst>
                <a:path w="2352" h="96">
                  <a:moveTo>
                    <a:pt x="0" y="96"/>
                  </a:moveTo>
                  <a:cubicBezTo>
                    <a:pt x="408" y="48"/>
                    <a:pt x="816" y="0"/>
                    <a:pt x="1152" y="0"/>
                  </a:cubicBezTo>
                  <a:cubicBezTo>
                    <a:pt x="1488" y="0"/>
                    <a:pt x="1816" y="96"/>
                    <a:pt x="2016" y="96"/>
                  </a:cubicBezTo>
                  <a:cubicBezTo>
                    <a:pt x="2216" y="96"/>
                    <a:pt x="2296" y="16"/>
                    <a:pt x="2352" y="0"/>
                  </a:cubicBezTo>
                </a:path>
              </a:pathLst>
            </a:custGeom>
            <a:noFill/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30360" y="4724640"/>
              <a:ext cx="528120" cy="16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80880" y="2057400"/>
            <a:ext cx="83822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n potential buyers.  Buyer i has valuation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Can potentially sell to </a:t>
            </a:r>
            <a:r>
              <a:rPr b="0" lang="en-US" sz="2200" spc="-1" strike="noStrike">
                <a:solidFill>
                  <a:srgbClr val="ff33cc"/>
                </a:solidFill>
                <a:latin typeface="Comic Sans MS"/>
              </a:rPr>
              <a:t>all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 of them, but buyer i will only purchase if priced below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Unfortunately, you don’t know the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600200"/>
            <a:ext cx="8458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re Sperizon-mobile. Want to price various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2041560"/>
            <a:ext cx="8382240" cy="17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Basic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Extra l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Data pack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TV features,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More interesting version: combinatorial a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1866960" cy="17766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52280" y="3987720"/>
            <a:ext cx="86108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eople have potentially nonlinear valuations over subs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ight also have known info about customers (current usage, demographics,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ant to perform nearly as well as best (simple) pricing function over known inf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497196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(Combinatorial Attribute Au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600200"/>
            <a:ext cx="8458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re Sperizon-mobile. Want to price various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2041560"/>
            <a:ext cx="8382240" cy="17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Basic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Extra l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Data pack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TV features,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More interesting version: combinatorial a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1866960" cy="1776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80880" y="4290840"/>
            <a:ext cx="4876920" cy="226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andom sampling au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plit randomly into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pply optimization alg A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perhaps with penalty te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 A(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and vice-ver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488920" y="4191120"/>
            <a:ext cx="3530880" cy="2286000"/>
            <a:chOff x="5488920" y="4191120"/>
            <a:chExt cx="3530880" cy="2286000"/>
          </a:xfrm>
        </p:grpSpPr>
        <p:sp>
          <p:nvSpPr>
            <p:cNvPr id="165" name=""/>
            <p:cNvSpPr/>
            <p:nvPr/>
          </p:nvSpPr>
          <p:spPr>
            <a:xfrm>
              <a:off x="5928120" y="4191120"/>
              <a:ext cx="3091680" cy="2286000"/>
            </a:xfrm>
            <a:prstGeom prst="ellipse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28120" y="5241240"/>
              <a:ext cx="3091680" cy="123480"/>
            </a:xfrm>
            <a:custGeom>
              <a:avLst/>
              <a:gdLst/>
              <a:ahLst/>
              <a:rect l="l" t="t" r="r" b="b"/>
              <a:pathLst>
                <a:path w="2352" h="96">
                  <a:moveTo>
                    <a:pt x="0" y="96"/>
                  </a:moveTo>
                  <a:cubicBezTo>
                    <a:pt x="408" y="48"/>
                    <a:pt x="816" y="0"/>
                    <a:pt x="1152" y="0"/>
                  </a:cubicBezTo>
                  <a:cubicBezTo>
                    <a:pt x="1488" y="0"/>
                    <a:pt x="1816" y="96"/>
                    <a:pt x="2016" y="96"/>
                  </a:cubicBezTo>
                  <a:cubicBezTo>
                    <a:pt x="2216" y="96"/>
                    <a:pt x="2296" y="16"/>
                    <a:pt x="2352" y="0"/>
                  </a:cubicBezTo>
                </a:path>
              </a:pathLst>
            </a:custGeom>
            <a:noFill/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88920" y="4723920"/>
              <a:ext cx="528120" cy="16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427800" y="4572000"/>
            <a:ext cx="1830240" cy="1668600"/>
            <a:chOff x="6427800" y="4572000"/>
            <a:chExt cx="1830240" cy="1668600"/>
          </a:xfrm>
        </p:grpSpPr>
        <p:grpSp>
          <p:nvGrpSpPr>
            <p:cNvPr id="169" name=""/>
            <p:cNvGrpSpPr/>
            <p:nvPr/>
          </p:nvGrpSpPr>
          <p:grpSpPr>
            <a:xfrm>
              <a:off x="6427800" y="4572000"/>
              <a:ext cx="1830240" cy="679680"/>
              <a:chOff x="6427800" y="4572000"/>
              <a:chExt cx="1830240" cy="679680"/>
            </a:xfrm>
          </p:grpSpPr>
          <p:pic>
            <p:nvPicPr>
              <p:cNvPr id="17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42780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04268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65792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3" name=""/>
            <p:cNvGrpSpPr/>
            <p:nvPr/>
          </p:nvGrpSpPr>
          <p:grpSpPr>
            <a:xfrm>
              <a:off x="6427800" y="5560920"/>
              <a:ext cx="1830240" cy="679680"/>
              <a:chOff x="6427800" y="5560920"/>
              <a:chExt cx="1830240" cy="679680"/>
            </a:xfrm>
          </p:grpSpPr>
          <p:pic>
            <p:nvPicPr>
              <p:cNvPr id="17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42780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04268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65792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1066680"/>
            <a:ext cx="8763120" cy="27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Interesting issu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quantities to use for           ,          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kind of regularization makes sen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91120" y="274320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81480" y="2590920"/>
            <a:ext cx="609840" cy="60948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427800" y="4572000"/>
            <a:ext cx="1830240" cy="1668600"/>
            <a:chOff x="6427800" y="4572000"/>
            <a:chExt cx="1830240" cy="1668600"/>
          </a:xfrm>
        </p:grpSpPr>
        <p:grpSp>
          <p:nvGrpSpPr>
            <p:cNvPr id="182" name=""/>
            <p:cNvGrpSpPr/>
            <p:nvPr/>
          </p:nvGrpSpPr>
          <p:grpSpPr>
            <a:xfrm>
              <a:off x="6427800" y="4572000"/>
              <a:ext cx="1830240" cy="679680"/>
              <a:chOff x="6427800" y="4572000"/>
              <a:chExt cx="1830240" cy="679680"/>
            </a:xfrm>
          </p:grpSpPr>
          <p:pic>
            <p:nvPicPr>
              <p:cNvPr id="18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42780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04268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65792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6" name=""/>
            <p:cNvGrpSpPr/>
            <p:nvPr/>
          </p:nvGrpSpPr>
          <p:grpSpPr>
            <a:xfrm>
              <a:off x="6427800" y="5560920"/>
              <a:ext cx="1830240" cy="679680"/>
              <a:chOff x="6427800" y="5560920"/>
              <a:chExt cx="1830240" cy="679680"/>
            </a:xfrm>
          </p:grpSpPr>
          <p:pic>
            <p:nvPicPr>
              <p:cNvPr id="18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42780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4268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65792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90" name=""/>
          <p:cNvGrpSpPr/>
          <p:nvPr/>
        </p:nvGrpSpPr>
        <p:grpSpPr>
          <a:xfrm>
            <a:off x="5488920" y="4191120"/>
            <a:ext cx="3530880" cy="2286000"/>
            <a:chOff x="5488920" y="4191120"/>
            <a:chExt cx="3530880" cy="2286000"/>
          </a:xfrm>
        </p:grpSpPr>
        <p:sp>
          <p:nvSpPr>
            <p:cNvPr id="191" name=""/>
            <p:cNvSpPr/>
            <p:nvPr/>
          </p:nvSpPr>
          <p:spPr>
            <a:xfrm>
              <a:off x="5928120" y="4191120"/>
              <a:ext cx="3091680" cy="2286000"/>
            </a:xfrm>
            <a:prstGeom prst="ellipse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28120" y="5241240"/>
              <a:ext cx="3091680" cy="123480"/>
            </a:xfrm>
            <a:custGeom>
              <a:avLst/>
              <a:gdLst/>
              <a:ahLst/>
              <a:rect l="l" t="t" r="r" b="b"/>
              <a:pathLst>
                <a:path w="2352" h="96">
                  <a:moveTo>
                    <a:pt x="0" y="96"/>
                  </a:moveTo>
                  <a:cubicBezTo>
                    <a:pt x="408" y="48"/>
                    <a:pt x="816" y="0"/>
                    <a:pt x="1152" y="0"/>
                  </a:cubicBezTo>
                  <a:cubicBezTo>
                    <a:pt x="1488" y="0"/>
                    <a:pt x="1816" y="96"/>
                    <a:pt x="2016" y="96"/>
                  </a:cubicBezTo>
                  <a:cubicBezTo>
                    <a:pt x="2216" y="96"/>
                    <a:pt x="2296" y="16"/>
                    <a:pt x="2352" y="0"/>
                  </a:cubicBezTo>
                </a:path>
              </a:pathLst>
            </a:custGeom>
            <a:noFill/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88920" y="4723920"/>
              <a:ext cx="528120" cy="16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80880" y="4290840"/>
            <a:ext cx="4876920" cy="226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andom sampling au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plit randomly into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pply optimization alg A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perhaps with penalty te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 A(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and vice-ver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28600" y="3352680"/>
            <a:ext cx="8686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eneric Setting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of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id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1905120"/>
            <a:ext cx="6705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Space of legal offers/pricing functions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 G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2874960"/>
            <a:ext cx="80010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g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s “take it or leave it” offer, so any </a:t>
            </a:r>
            <a:r>
              <a:rPr b="0" lang="en-US" sz="2200" spc="-1" strike="noStrike">
                <a:solidFill>
                  <a:srgbClr val="ff33cc"/>
                </a:solidFill>
                <a:latin typeface="Comic Sans MS"/>
              </a:rPr>
              <a:t>fixed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is I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2417760"/>
            <a:ext cx="838224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g </a:t>
            </a:r>
            <a:r>
              <a:rPr b="0" lang="en-US" sz="2200" spc="-1" strike="noStrike">
                <a:solidFill>
                  <a:srgbClr val="3333cc"/>
                </a:solidFill>
                <a:latin typeface="cmsy10"/>
              </a:rPr>
              <a:t>2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G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aps the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pub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to pricing over the outcome spa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13716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Bidder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13716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priv</a:t>
            </a:r>
            <a:r>
              <a:rPr b="0" lang="en-US" sz="23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3720" y="137160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, pub</a:t>
            </a:r>
            <a:r>
              <a:rPr b="0" lang="en-US" sz="23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1371600"/>
            <a:ext cx="1524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, bid</a:t>
            </a:r>
            <a:r>
              <a:rPr b="0" lang="en-US" sz="23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3352680"/>
            <a:ext cx="868680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Goal: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Incentive Compatible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mechanism to do nearly as well as the  best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g </a:t>
            </a:r>
            <a:r>
              <a:rPr b="0" lang="en-US" sz="2200" spc="-1" strike="noStrike">
                <a:solidFill>
                  <a:srgbClr val="3333cc"/>
                </a:solidFill>
                <a:latin typeface="cmsy10"/>
              </a:rPr>
              <a:t>2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G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ssume max profit 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per bidd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4954680"/>
            <a:ext cx="2590920" cy="934920"/>
          </a:xfrm>
          <a:prstGeom prst="rect">
            <a:avLst/>
          </a:prstGeom>
          <a:noFill/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Unlimited supp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19840" y="4973760"/>
            <a:ext cx="44316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f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: 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sum over bid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1066680"/>
            <a:ext cx="8763120" cy="27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Interesting issu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quantities to use for           ,          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kind of regularization makes sen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191120" y="274320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81480" y="2590920"/>
            <a:ext cx="609840" cy="60948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6504120" y="4495680"/>
            <a:ext cx="1830240" cy="1668600"/>
            <a:chOff x="6504120" y="4495680"/>
            <a:chExt cx="1830240" cy="1668600"/>
          </a:xfrm>
        </p:grpSpPr>
        <p:grpSp>
          <p:nvGrpSpPr>
            <p:cNvPr id="215" name=""/>
            <p:cNvGrpSpPr/>
            <p:nvPr/>
          </p:nvGrpSpPr>
          <p:grpSpPr>
            <a:xfrm>
              <a:off x="6504120" y="4495680"/>
              <a:ext cx="1830240" cy="679680"/>
              <a:chOff x="6504120" y="4495680"/>
              <a:chExt cx="1830240" cy="679680"/>
            </a:xfrm>
          </p:grpSpPr>
          <p:pic>
            <p:nvPicPr>
              <p:cNvPr id="21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4120" y="449568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119000" y="449568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734240" y="449568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9" name=""/>
            <p:cNvGrpSpPr/>
            <p:nvPr/>
          </p:nvGrpSpPr>
          <p:grpSpPr>
            <a:xfrm>
              <a:off x="6504120" y="5484600"/>
              <a:ext cx="1830240" cy="679680"/>
              <a:chOff x="6504120" y="5484600"/>
              <a:chExt cx="1830240" cy="679680"/>
            </a:xfrm>
          </p:grpSpPr>
          <p:pic>
            <p:nvPicPr>
              <p:cNvPr id="22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04120" y="54846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119000" y="54846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734240" y="54846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23" name=""/>
          <p:cNvGrpSpPr/>
          <p:nvPr/>
        </p:nvGrpSpPr>
        <p:grpSpPr>
          <a:xfrm>
            <a:off x="5565240" y="4114800"/>
            <a:ext cx="3530880" cy="2286000"/>
            <a:chOff x="5565240" y="4114800"/>
            <a:chExt cx="3530880" cy="2286000"/>
          </a:xfrm>
        </p:grpSpPr>
        <p:sp>
          <p:nvSpPr>
            <p:cNvPr id="224" name=""/>
            <p:cNvSpPr/>
            <p:nvPr/>
          </p:nvSpPr>
          <p:spPr>
            <a:xfrm>
              <a:off x="6004440" y="4114800"/>
              <a:ext cx="3091680" cy="2286000"/>
            </a:xfrm>
            <a:prstGeom prst="ellipse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04440" y="5164920"/>
              <a:ext cx="3091680" cy="123480"/>
            </a:xfrm>
            <a:custGeom>
              <a:avLst/>
              <a:gdLst/>
              <a:ahLst/>
              <a:rect l="l" t="t" r="r" b="b"/>
              <a:pathLst>
                <a:path w="2352" h="96">
                  <a:moveTo>
                    <a:pt x="0" y="96"/>
                  </a:moveTo>
                  <a:cubicBezTo>
                    <a:pt x="408" y="48"/>
                    <a:pt x="816" y="0"/>
                    <a:pt x="1152" y="0"/>
                  </a:cubicBezTo>
                  <a:cubicBezTo>
                    <a:pt x="1488" y="0"/>
                    <a:pt x="1816" y="96"/>
                    <a:pt x="2016" y="96"/>
                  </a:cubicBezTo>
                  <a:cubicBezTo>
                    <a:pt x="2216" y="96"/>
                    <a:pt x="2296" y="16"/>
                    <a:pt x="2352" y="0"/>
                  </a:cubicBezTo>
                </a:path>
              </a:pathLst>
            </a:custGeom>
            <a:noFill/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65240" y="4647600"/>
              <a:ext cx="528120" cy="16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57200" y="4214880"/>
            <a:ext cx="4876920" cy="226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andom sampling au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plit randomly into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pply optimization alg A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perhaps with penalty te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 A(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and vice-ver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2280" y="1066680"/>
            <a:ext cx="8763120" cy="29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What should be larg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bidders?  But bidders of valuation 0 don’t help very mu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stead: OPT prof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9880" y="2514600"/>
            <a:ext cx="609840" cy="3808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3581280"/>
            <a:ext cx="3124080" cy="533520"/>
          </a:xfrm>
          <a:prstGeom prst="wedgeRoundRectCallout">
            <a:avLst>
              <a:gd name="adj1" fmla="val -42125"/>
              <a:gd name="adj2" fmla="val -7856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ven if assume all valuations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1, bounds will be lo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2280" y="1066680"/>
            <a:ext cx="876312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What should be larg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bidders?  But bidders of valuation 0 don’t help very mu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stead: OPT prof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As a function of wha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09880" y="2514600"/>
            <a:ext cx="609840" cy="3808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457200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3581280"/>
            <a:ext cx="3124080" cy="533520"/>
          </a:xfrm>
          <a:prstGeom prst="wedgeRoundRectCallout">
            <a:avLst>
              <a:gd name="adj1" fmla="val -42125"/>
              <a:gd name="adj2" fmla="val -7856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ven if assume all valuations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1, bounds will be lo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1066680"/>
            <a:ext cx="876312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What should be larg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bidders?  But bidders of valuation 0 don’t help very mu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stead: (OPT profit)/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As a function of wha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09880" y="2514600"/>
            <a:ext cx="609840" cy="3808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457200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23920" y="4572000"/>
            <a:ext cx="8638920" cy="11066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44440" y="2513160"/>
            <a:ext cx="8591760" cy="160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Auctions/pri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237280" y="648972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914400" y="337824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Software, movies, information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990720"/>
            <a:ext cx="8610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esigning auction/pricing mechanisms esp for complex markets: challenging problems at the intersection of CS and Econom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463840"/>
            <a:ext cx="7391520" cy="88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Comic Sans MS"/>
              </a:rPr>
              <a:t>Auction mechanisms for selling digital go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581280" y="3244680"/>
            <a:ext cx="1285920" cy="1276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410080" y="3225960"/>
            <a:ext cx="137160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1066680"/>
            <a:ext cx="8991720" cy="51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What should be larg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bidders?  But bidders of valuation 0 don’t help very mu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stead: (OPT profit)/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As a function of wha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 the alg could possibly output over splits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09880" y="2514600"/>
            <a:ext cx="609840" cy="3808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86200" y="457200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44440" y="2513160"/>
            <a:ext cx="859176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1066680"/>
            <a:ext cx="89917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As a function of wha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 the alg could possibly output over splits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ultiplicative 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cover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86200" y="457200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2438280"/>
            <a:ext cx="8458200" cy="1915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, digital-good auction.  Algorithm uses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o choose price to  offer fo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vice-ver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discretize to powers of (1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.  Get |G| = (log h)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 use fact that alg will only output a bid value.  |G|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n+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52280" y="1066680"/>
            <a:ext cx="89917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 the alg could possibly output over splits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ultiplicative 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cover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2438280"/>
            <a:ext cx="8458200" cy="253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2590920"/>
            <a:ext cx="44956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What if hard to directly bound   # possible outpu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72520" y="3429000"/>
            <a:ext cx="631620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Use covering argument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find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’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that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covers G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show that all functions in G’ behave wel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885560" y="2438280"/>
            <a:ext cx="3817440" cy="1962000"/>
            <a:chOff x="4885560" y="2438280"/>
            <a:chExt cx="3817440" cy="1962000"/>
          </a:xfrm>
        </p:grpSpPr>
        <p:sp>
          <p:nvSpPr>
            <p:cNvPr id="272" name=""/>
            <p:cNvSpPr/>
            <p:nvPr/>
          </p:nvSpPr>
          <p:spPr>
            <a:xfrm>
              <a:off x="6186600" y="403200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ttribu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20874000">
              <a:off x="5497200" y="2919240"/>
              <a:ext cx="3189240" cy="493560"/>
            </a:xfrm>
            <a:prstGeom prst="parallelogram">
              <a:avLst>
                <a:gd name="adj" fmla="val 8831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885560" y="2753280"/>
              <a:ext cx="128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valu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85840" y="3564720"/>
              <a:ext cx="0" cy="218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521760" y="3525840"/>
              <a:ext cx="117360" cy="108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210160" y="344484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155800" y="3385440"/>
              <a:ext cx="107640" cy="108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315480" y="3575880"/>
              <a:ext cx="0" cy="355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6315480" y="3477960"/>
              <a:ext cx="0" cy="9792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6315480" y="3229920"/>
              <a:ext cx="18720" cy="29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60760" y="3188880"/>
              <a:ext cx="98280" cy="90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4760" y="362520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801480" y="3576240"/>
              <a:ext cx="107640" cy="108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7071840" y="3427200"/>
              <a:ext cx="0" cy="197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7071840" y="3229560"/>
              <a:ext cx="0" cy="19764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7071840" y="292356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17120" y="2882880"/>
              <a:ext cx="98280" cy="900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03480" y="3486960"/>
              <a:ext cx="0" cy="39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448760" y="3427560"/>
              <a:ext cx="108000" cy="108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7881840" y="3278880"/>
              <a:ext cx="0" cy="39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7881840" y="3130200"/>
              <a:ext cx="0" cy="14868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7881840" y="2972520"/>
              <a:ext cx="0" cy="157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827120" y="2932920"/>
              <a:ext cx="98280" cy="885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7665840" y="331812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7665840" y="3081240"/>
              <a:ext cx="0" cy="24660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7665840" y="2684520"/>
              <a:ext cx="0" cy="39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11480" y="2635920"/>
              <a:ext cx="98280" cy="88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937120" y="4020840"/>
              <a:ext cx="259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5937120" y="2438280"/>
              <a:ext cx="0" cy="158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477840" y="3278880"/>
              <a:ext cx="268920" cy="246600"/>
            </a:xfrm>
            <a:prstGeom prst="line">
              <a:avLst/>
            </a:prstGeom>
            <a:ln w="1908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937120" y="3525840"/>
              <a:ext cx="540360" cy="4946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62080" y="376920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846480" y="391212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032960" y="358308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92800" y="391212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488000" y="391212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179200" y="369252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871040" y="363780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643520" y="369252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52280" y="1066680"/>
            <a:ext cx="89917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 the alg could possibly output over splits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ultiplicative 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cover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8600" y="2438280"/>
            <a:ext cx="8458200" cy="253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920" y="2438280"/>
            <a:ext cx="86868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’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-covers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wrt to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if for all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exists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’ </a:t>
            </a:r>
            <a:r>
              <a:rPr b="0" lang="en-US" sz="2300" spc="-1" strike="noStrike">
                <a:solidFill>
                  <a:srgbClr val="3333cc"/>
                </a:solidFill>
                <a:latin typeface="cmsy10"/>
              </a:rPr>
              <a:t>2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 G’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s.t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Symbol"/>
                <a:ea typeface="Symbol"/>
              </a:rPr>
              <a:t></a:t>
            </a:r>
            <a:r>
              <a:rPr b="0" lang="en-US" sz="2300" spc="-1" strike="noStrike" baseline="-25000">
                <a:solidFill>
                  <a:srgbClr val="3333cc"/>
                </a:solidFill>
                <a:latin typeface="Comic Sans MS"/>
              </a:rPr>
              <a:t>i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|g(i)-g’(i)| </a:t>
            </a:r>
            <a:r>
              <a:rPr b="0" lang="en-US" sz="2300" spc="-1" strike="noStrike">
                <a:solidFill>
                  <a:srgbClr val="3333cc"/>
                </a:solidFill>
                <a:latin typeface="cmsy10"/>
              </a:rPr>
              <a:t>·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 g(S)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[g(i) </a:t>
            </a:r>
            <a:r>
              <a:rPr b="0" lang="en-US" sz="2400" spc="-1" strike="noStrike">
                <a:solidFill>
                  <a:srgbClr val="009999"/>
                </a:solidFill>
                <a:latin typeface="cmsy10"/>
              </a:rPr>
              <a:t>´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 profit made from bidder 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3800" y="3549600"/>
            <a:ext cx="2898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Theorem (roughly)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48640" y="4006800"/>
            <a:ext cx="72050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’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23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-cover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, then the previous bounds hold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with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|G|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replaced by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|G’|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320" y="19836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Attribute Auctions, Linear Pricing Functions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214200" y="1265400"/>
            <a:ext cx="22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sum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=R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431080" y="1325520"/>
            <a:ext cx="247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N= (n+1)(1/</a:t>
            </a:r>
            <a:r>
              <a:rPr b="0" lang="en-US" sz="2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) ln 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77200" y="1676520"/>
            <a:ext cx="157392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|G’| </a:t>
            </a:r>
            <a:r>
              <a:rPr b="0" lang="en-US" sz="2400" spc="-1" strike="noStrike">
                <a:solidFill>
                  <a:srgbClr val="3333cc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N</a:t>
            </a:r>
            <a:r>
              <a:rPr b="0" lang="en-US" sz="2400" spc="-1" strike="noStrike" baseline="55000">
                <a:solidFill>
                  <a:srgbClr val="3333cc"/>
                </a:solidFill>
                <a:latin typeface="Comic Sans MS"/>
              </a:rPr>
              <a:t>d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601200" y="2068560"/>
            <a:ext cx="7591320" cy="4639320"/>
            <a:chOff x="601200" y="2068560"/>
            <a:chExt cx="7591320" cy="4639320"/>
          </a:xfrm>
        </p:grpSpPr>
        <p:sp>
          <p:nvSpPr>
            <p:cNvPr id="324" name=""/>
            <p:cNvSpPr/>
            <p:nvPr/>
          </p:nvSpPr>
          <p:spPr>
            <a:xfrm>
              <a:off x="5867280" y="2068560"/>
              <a:ext cx="217080" cy="21744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20874000">
              <a:off x="1170000" y="3068280"/>
              <a:ext cx="6927480" cy="1044720"/>
            </a:xfrm>
            <a:prstGeom prst="parallelogram">
              <a:avLst>
                <a:gd name="adj" fmla="val 90623"/>
              </a:avLst>
            </a:prstGeom>
            <a:blipFill rotWithShape="0">
              <a:blip r:embed="rId1">
                <a:alphaModFix amt="30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10213800">
              <a:off x="1145520" y="3039480"/>
              <a:ext cx="7007040" cy="1066680"/>
            </a:xfrm>
            <a:prstGeom prst="parallelogram">
              <a:avLst>
                <a:gd name="adj" fmla="val 83755"/>
              </a:avLst>
            </a:prstGeom>
            <a:blipFill rotWithShape="0">
              <a:blip r:embed="rId2">
                <a:alphaModFix amt="35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4727520" y="2903760"/>
              <a:ext cx="532800" cy="1218960"/>
            </a:xfrm>
            <a:prstGeom prst="line">
              <a:avLst/>
            </a:prstGeom>
            <a:ln w="25560">
              <a:solidFill>
                <a:srgbClr val="bbe0e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853720" y="6309000"/>
              <a:ext cx="134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1200" y="2799000"/>
              <a:ext cx="140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valu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976400" y="6205680"/>
              <a:ext cx="575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1976400" y="2370240"/>
              <a:ext cx="0" cy="383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1984320" y="4503600"/>
              <a:ext cx="1218600" cy="1701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5400000">
              <a:off x="3475800" y="50972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5400000">
              <a:off x="3475800" y="4792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605200" y="4256280"/>
              <a:ext cx="0" cy="14540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541840" y="4046760"/>
              <a:ext cx="172800" cy="172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5502960" y="53258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5400000">
              <a:off x="5502960" y="50209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5400000">
              <a:off x="5502960" y="47163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5400000">
              <a:off x="5502960" y="44114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057800" y="4303800"/>
              <a:ext cx="0" cy="1050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89760" y="4046760"/>
              <a:ext cx="172440" cy="172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5400000">
              <a:off x="6950880" y="49719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5400000">
              <a:off x="6950880" y="46670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5400000">
              <a:off x="6950880" y="43621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445080" y="3803760"/>
              <a:ext cx="0" cy="1425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445080" y="3458880"/>
              <a:ext cx="0" cy="3603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445080" y="3076200"/>
              <a:ext cx="0" cy="382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480" y="2979720"/>
              <a:ext cx="217080" cy="21780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5400000">
              <a:off x="6341400" y="4835520"/>
              <a:ext cx="24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5400000">
              <a:off x="6341400" y="453060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5400000">
              <a:off x="6341400" y="422568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5400000">
              <a:off x="6341400" y="3921120"/>
              <a:ext cx="24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5400000">
              <a:off x="6341400" y="361620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5400000">
              <a:off x="6341400" y="331128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5965560" y="3850920"/>
              <a:ext cx="0" cy="1225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5965560" y="3296880"/>
              <a:ext cx="0" cy="5986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5965560" y="2338200"/>
              <a:ext cx="0" cy="958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5400000">
              <a:off x="5858640" y="46400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5400000">
              <a:off x="5858640" y="43351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5400000">
              <a:off x="5858640" y="40305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5400000">
              <a:off x="5858640" y="37256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5400000">
              <a:off x="5858640" y="34207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5400000">
              <a:off x="5858640" y="31161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5400000">
              <a:off x="5858640" y="28112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5400000">
              <a:off x="5858640" y="2506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968560" y="4496040"/>
              <a:ext cx="0" cy="1325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68560" y="425628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2968560" y="3655800"/>
              <a:ext cx="0" cy="6253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5400000">
              <a:off x="2866320" y="5386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5400000">
              <a:off x="2866320" y="50972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5400000">
              <a:off x="2866320" y="4792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5400000">
              <a:off x="2866320" y="44877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5400000">
              <a:off x="2866320" y="41828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5400000">
              <a:off x="2866320" y="386208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47960" y="3559320"/>
              <a:ext cx="217080" cy="21744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74800" y="4638960"/>
              <a:ext cx="0" cy="887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84440" y="4427640"/>
              <a:ext cx="17280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67000" y="4616640"/>
              <a:ext cx="0" cy="1189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5400000">
              <a:off x="4068000" y="54021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5400000">
              <a:off x="4068000" y="50972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5400000">
              <a:off x="4068000" y="4792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093920" y="4427640"/>
              <a:ext cx="17280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 flipV="1">
              <a:off x="4646520" y="4135320"/>
              <a:ext cx="4320" cy="1206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4646520" y="3656160"/>
              <a:ext cx="0" cy="4795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4646520" y="2903760"/>
              <a:ext cx="4320" cy="752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5400000">
              <a:off x="4542120" y="48686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5400000">
              <a:off x="4542120" y="45637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5400000">
              <a:off x="4542120" y="42591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5400000">
              <a:off x="4542120" y="39542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5400000">
              <a:off x="4542120" y="3649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5400000">
              <a:off x="4542120" y="33447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5400000">
              <a:off x="4542120" y="30398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25920" y="2818080"/>
              <a:ext cx="217080" cy="21744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939760" y="5875560"/>
              <a:ext cx="55440" cy="55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560760" y="5570640"/>
              <a:ext cx="55080" cy="55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135320" y="5819760"/>
              <a:ext cx="55080" cy="55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47960" y="5418360"/>
              <a:ext cx="55440" cy="55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83240" y="5722920"/>
              <a:ext cx="55080" cy="55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43600" y="5133960"/>
              <a:ext cx="55080" cy="55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21320" y="5265720"/>
              <a:ext cx="55080" cy="55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030800" y="5418360"/>
              <a:ext cx="55440" cy="55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52280" y="1066680"/>
            <a:ext cx="89917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 the alg could possibly output over splits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ultiplicative 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cover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28600" y="2438280"/>
            <a:ext cx="8458200" cy="256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combinatorial auctions with m items, G = class of item-pricings, to get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1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OPT, sufficient to ha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OPT = Õ(hm</a:t>
            </a:r>
            <a:r>
              <a:rPr b="0" lang="en-US" sz="2000" spc="-1" strike="noStrike" baseline="30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30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) for general valuation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OPT = Õ(hm/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30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) for unit-demand val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rst results for general case, factor m savings over GH01 for unit-demand val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52280" y="1066680"/>
            <a:ext cx="899172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Regularization/SR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an do SRM as usual, penalizing higher-complexity function clas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ut even individual functions can have different complexity level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04920" y="4572000"/>
            <a:ext cx="8762760" cy="2516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.g., digital-good auction.  Say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has 1 bid of value h and h-1 bids of value 1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o, {1,h} are both optimal prices.  But much better stats for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lows to replace “h” with “price used by OPT” in previous boun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90920" y="5160960"/>
            <a:ext cx="327636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2743200" y="5226120"/>
            <a:ext cx="2951280" cy="459720"/>
            <a:chOff x="2743200" y="5226120"/>
            <a:chExt cx="2951280" cy="459720"/>
          </a:xfrm>
        </p:grpSpPr>
        <p:sp>
          <p:nvSpPr>
            <p:cNvPr id="415" name=""/>
            <p:cNvSpPr/>
            <p:nvPr/>
          </p:nvSpPr>
          <p:spPr>
            <a:xfrm>
              <a:off x="274320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5604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36888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8136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99420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704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333399"/>
                  </a:solidFill>
                  <a:latin typeface="Comic Sans MS"/>
                </a:rPr>
                <a:t>$</a:t>
              </a:r>
              <a:r>
                <a:rPr b="1" lang="en-US" sz="2400" spc="-1" strike="noStrike" baseline="30000">
                  <a:solidFill>
                    <a:srgbClr val="333399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61988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93236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4520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Summary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Explicit connection between machine learning and mechanism design.  Use ideas of MLT to analyze when random sampling auction will do we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s application brings out interesting twists on usual ML issues.  What has to be large as a function of what?  SR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halleng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oss function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discontinuous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asymmetric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ange of valuations lar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Challenges/Future Directions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pply similar techniques to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limited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supp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omic Sans MS"/>
              </a:rPr>
              <a:t>Onlin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Sett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ow big a “focus group” do you need for other kinds of pricing/allocation/decision-making proble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Auctions/pri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856040" y="6642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71440" y="2971800"/>
            <a:ext cx="6067440" cy="3675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rot="5400000">
            <a:off x="4990680" y="4038480"/>
            <a:ext cx="2514600" cy="1676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2"/>
          </p:cNvPr>
          <p:cNvSpPr/>
          <p:nvPr/>
        </p:nvSpPr>
        <p:spPr>
          <a:xfrm>
            <a:off x="495360" y="2457360"/>
            <a:ext cx="2514600" cy="48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Comic Sans MS"/>
              </a:rPr>
              <a:t>Ad-au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990720"/>
            <a:ext cx="8610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esigning auction/pricing mechanisms esp for complex markets: challenging problems at the intersection of CS and Econom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2280" y="3276720"/>
            <a:ext cx="883944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Auctions/pri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2482920"/>
            <a:ext cx="4343400" cy="48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Comic Sans MS"/>
              </a:rPr>
              <a:t>Combinatorial Au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378240"/>
            <a:ext cx="88390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lling many different kinds of items. Buyers with complex preferences over bundl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“</a:t>
            </a: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I only want the hotel room if I get the flight too…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ome items or services that overlap, others only good if have something else too.  How should you set prices to make the most profi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990720"/>
            <a:ext cx="8610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esigning auction/pricing mechanisms esp for complex markets: challenging problems at the intersection of CS and Econom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2280" y="2590920"/>
            <a:ext cx="8839440" cy="4038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Auctions/pri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2743200"/>
            <a:ext cx="86104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Even if all customers’ preference information, how much they would be willing to pay, etc.  is known up-front, setting prices to maximize revenue can be a challenging algorithmic proble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But in addition, incentive constraints: customers won’t give you the (correct) information if (possibly) not in their best intere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990720"/>
            <a:ext cx="8610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esigning auction/pricing mechanisms esp for complex markets: challenging problems at the intersection of CS and Econom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419720" y="1905120"/>
            <a:ext cx="3733560" cy="2819160"/>
          </a:xfrm>
          <a:prstGeom prst="rect">
            <a:avLst/>
          </a:prstGeom>
          <a:solidFill>
            <a:srgbClr val="eb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1981080"/>
            <a:ext cx="3581280" cy="2819520"/>
          </a:xfrm>
          <a:prstGeom prst="rect">
            <a:avLst/>
          </a:prstGeom>
          <a:solidFill>
            <a:srgbClr val="eb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Auction/Pricing Problems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335560" y="28321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380880" y="2666880"/>
            <a:ext cx="3353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Version 1: Seller knows the true valu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2590920"/>
            <a:ext cx="4495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Version 2: values given by selfish agent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838080"/>
            <a:ext cx="8077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One Seller, Multiple Buyers with Complex Preferenc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981080"/>
            <a:ext cx="2819520" cy="4572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CS /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1981080"/>
            <a:ext cx="1752480" cy="4572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657600"/>
            <a:ext cx="3048120" cy="838080"/>
          </a:xfrm>
          <a:prstGeom prst="flowChartAlternate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373392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gorithm Design Problem (A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3581280"/>
            <a:ext cx="3504960" cy="914400"/>
          </a:xfrm>
          <a:prstGeom prst="flowChartAlternate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37339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centive Compatible Auction (I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867280"/>
            <a:ext cx="85345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vious Work on IC :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 specific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mechanisms for 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restricted setting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1371600"/>
            <a:ext cx="4343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cc"/>
                </a:solidFill>
                <a:latin typeface="Comic Sans MS"/>
              </a:rPr>
              <a:t>Seller’s Goal: maximize profi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419720" y="1905120"/>
            <a:ext cx="3733560" cy="2819160"/>
          </a:xfrm>
          <a:prstGeom prst="rect">
            <a:avLst/>
          </a:prstGeom>
          <a:solidFill>
            <a:srgbClr val="eb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1981080"/>
            <a:ext cx="3581280" cy="2819520"/>
          </a:xfrm>
          <a:prstGeom prst="rect">
            <a:avLst/>
          </a:prstGeom>
          <a:solidFill>
            <a:srgbClr val="eb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Auction/Pricing Problems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335560" y="28321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380880" y="2666880"/>
            <a:ext cx="3353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Version 1: Seller knows the true valu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2590920"/>
            <a:ext cx="4495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Version 2: values given by selfish agent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838080"/>
            <a:ext cx="8077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One Seller, Multiple Buyers with Complex Preferenc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981080"/>
            <a:ext cx="2819520" cy="4572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CS /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1981080"/>
            <a:ext cx="1752480" cy="4572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3657600"/>
            <a:ext cx="3048120" cy="838080"/>
          </a:xfrm>
          <a:prstGeom prst="flowChartAlternate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373392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gorithm Design Problem (A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19720" y="3581280"/>
            <a:ext cx="3504960" cy="914400"/>
          </a:xfrm>
          <a:prstGeom prst="flowChartAlternate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37339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centive Compatible Auction (I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5867280"/>
            <a:ext cx="83822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vious Work on IC : 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specific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mechanisms for 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restricted setting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1371600"/>
            <a:ext cx="4343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cc"/>
                </a:solidFill>
                <a:latin typeface="Comic Sans MS"/>
              </a:rPr>
              <a:t>Seller’s Goal: maximize profi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2590200" y="4532400"/>
            <a:ext cx="2057400" cy="496800"/>
          </a:xfrm>
          <a:custGeom>
            <a:avLst/>
            <a:gdLst>
              <a:gd name="textAreaLeft" fmla="*/ 359280 w 2057400"/>
              <a:gd name="textAreaRight" fmla="*/ 1492560 w 2057400"/>
              <a:gd name="textAreaTop" fmla="*/ 66600 h 496800"/>
              <a:gd name="textAreaBottom" fmla="*/ 430200 h 496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55" hR="21600" stAng="10800000" swAng="5400000"/>
                <a:lnTo>
                  <a:pt x="11897" y="0"/>
                </a:lnTo>
                <a:arcTo wR="7555" hR="21600" stAng="-5400000" swAng="2681386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77" y="14400"/>
                </a:lnTo>
                <a:arcTo wR="7555" hR="21600" stAng="-2718614" swAng="-2321959"/>
                <a:lnTo>
                  <a:pt x="9726" y="911"/>
                </a:lnTo>
                <a:arcTo wR="7555" hR="21600" stAng="-5759427" swAng="-5040573"/>
                <a:close/>
              </a:path>
              <a:path fill="darkenLess" w="21600" h="21600">
                <a:moveTo>
                  <a:pt x="0" y="21600"/>
                </a:moveTo>
                <a:arcTo wR="7555" hR="21600" stAng="10800000" swAng="5400000"/>
                <a:lnTo>
                  <a:pt x="7555" y="0"/>
                </a:lnTo>
                <a:arcTo wR="7555" hR="21600" stAng="-5400000" swAng="359427"/>
                <a:lnTo>
                  <a:pt x="9726" y="911"/>
                </a:lnTo>
                <a:arcTo wR="7555" hR="21600" stAng="-5759427" swAng="-5040573"/>
                <a:close/>
              </a:path>
            </a:pathLst>
          </a:cu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31040" y="5216400"/>
            <a:ext cx="1873800" cy="489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Comic Sans MS"/>
              </a:rPr>
              <a:t>Our Work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5226120"/>
            <a:ext cx="502920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Comic Sans MS"/>
              </a:rPr>
              <a:t>Generic Reduction using 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5105520"/>
            <a:ext cx="6858000" cy="6858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780080" y="399744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1600200"/>
            <a:ext cx="8686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ve developed a cool new software tool &amp; want to sell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057400"/>
            <a:ext cx="83822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n potential buyers.  Buyer i has valuation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Can potentially sell to </a:t>
            </a:r>
            <a:r>
              <a:rPr b="0" lang="en-US" sz="2200" spc="-1" strike="noStrike">
                <a:solidFill>
                  <a:srgbClr val="ff33cc"/>
                </a:solidFill>
                <a:latin typeface="Comic Sans MS"/>
              </a:rPr>
              <a:t>all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 of them, but buyer i will only purchase if priced below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Unfortunately, you don’t know the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581280" y="3962520"/>
            <a:ext cx="1357560" cy="2332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Simple version: basic digital good auction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780080" y="399744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600200"/>
            <a:ext cx="8686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ve developed a cool new software tool &amp; want to sell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Simple version: basic digital good auction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4038480"/>
            <a:ext cx="868680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ic econ model: buyers “types” (valuations) chosen iid from 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known distribu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.  In this case, just set sales pric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maximize expected prof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what if don’t want to assume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2057400"/>
            <a:ext cx="83822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n potential buyers.  Buyer i has valuation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Can potentially sell to </a:t>
            </a:r>
            <a:r>
              <a:rPr b="0" lang="en-US" sz="2200" spc="-1" strike="noStrike">
                <a:solidFill>
                  <a:srgbClr val="ff33cc"/>
                </a:solidFill>
                <a:latin typeface="Comic Sans MS"/>
              </a:rPr>
              <a:t>all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 of them, but buyer i will only purchase if priced below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Unfortunately, you don’t know the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2T18:13:09Z</dcterms:created>
  <dc:creator>Maria-Florina Balcan</dc:creator>
  <dc:description/>
  <dc:language>en-US</dc:language>
  <cp:lastModifiedBy>Avrim Blum</cp:lastModifiedBy>
  <dcterms:modified xsi:type="dcterms:W3CDTF">2009-10-13T18:26:21Z</dcterms:modified>
  <cp:revision>1752</cp:revision>
  <dc:subject/>
  <dc:title>Sponsored Search Acution Design Via Machine Learning</dc:title>
</cp:coreProperties>
</file>