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D254-65A4-4DEC-8DDE-A7CC5D162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sets as sharable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wrt possibl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people only move if improvement &gt; epsilon.  Then can view as better-resp in original setting so OK.  (But remember, we are not trying to come up with an algorithm, we are trying to see if system is stable.  So stability would *depend* on people not moving when they have little to 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order in byzantine model: good question.  Current bound depends on lured-players not moving until common set is emptied out.  Might be able to have bound where have a tree of sets like this and random order doesn’t help.  Not sure.  Of course, eventually the bad order would happen, so you’d want to talk about polynomial number of ste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38C-F6E4-4BFE-81A5-79E8CCF6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FD4-A6EF-4537-8AE8-03CAE58C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1B7-27AF-4C68-B2CB-100070EE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F8F-6D4F-4742-BE48-A8327BC8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0D7-3E4D-4631-841B-CC96AF5C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3BB-D020-4CBE-93B7-41E893F3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95A-1325-4268-A1E1-57646F48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006-CA96-49F4-A1B5-FFCFFD9F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836-C659-471A-B9C7-82BFEE67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D2D-017D-437F-9412-B0712C79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0C9-4765-4436-BD12-B528A640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542-5283-4D66-91F8-774321E5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7C5D-B127-4D49-A4E6-D70A4F328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457200"/>
            <a:ext cx="7086600" cy="5105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e Price of Uncertain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ia-Florina Balcan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rgia Te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vrim Blum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shay Mansour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-Aviv/Goog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242040" y="617220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CM-EC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alternatively, one or more Byzantine players who move between time ste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 begins in a low-cost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bad can things g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58588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65760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One way to look at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 graph: one node for each state.  Edge u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 if perturbation can cause BR to move from u to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the reachable                                       sets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81480" y="5330160"/>
            <a:ext cx="2527920" cy="995400"/>
            <a:chOff x="5181480" y="5330160"/>
            <a:chExt cx="2527920" cy="995400"/>
          </a:xfrm>
        </p:grpSpPr>
        <p:sp>
          <p:nvSpPr>
            <p:cNvPr id="189" name=""/>
            <p:cNvSpPr/>
            <p:nvPr/>
          </p:nvSpPr>
          <p:spPr>
            <a:xfrm>
              <a:off x="5181480" y="609588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571500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920" y="5791320"/>
              <a:ext cx="7596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91320" y="6095880"/>
              <a:ext cx="7596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1480" y="539280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257800" y="57913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86400" y="5486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57800" y="5486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867280" y="58672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486040" y="5791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2504600">
              <a:off x="7277040" y="58593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2504600">
              <a:off x="7122960" y="53434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2504600">
              <a:off x="7334280" y="62355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367400" y="5686920"/>
              <a:ext cx="27900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953400" y="5913360"/>
              <a:ext cx="30996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6346080" y="5414760"/>
              <a:ext cx="549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31040" y="5949000"/>
              <a:ext cx="2520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77320" y="5431680"/>
              <a:ext cx="12312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892560" y="5408640"/>
              <a:ext cx="212040" cy="59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2504600">
              <a:off x="7619760" y="563832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2504600">
              <a:off x="6864120" y="598140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095520" y="541008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784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5780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players (poin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sets, with cost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player chooses some set that covers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split cost with all others choosing same s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95480" y="2057400"/>
            <a:ext cx="3505320" cy="1523880"/>
            <a:chOff x="2895480" y="2057400"/>
            <a:chExt cx="3505320" cy="1523880"/>
          </a:xfrm>
        </p:grpSpPr>
        <p:sp>
          <p:nvSpPr>
            <p:cNvPr id="218" name=""/>
            <p:cNvSpPr/>
            <p:nvPr/>
          </p:nvSpPr>
          <p:spPr>
            <a:xfrm>
              <a:off x="4952880" y="228600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2133720"/>
              <a:ext cx="1447920" cy="121896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81280" y="266688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5480" y="2057400"/>
              <a:ext cx="1447920" cy="144792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2819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1280" y="2286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862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6920" y="2362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06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64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08280" y="4460760"/>
            <a:ext cx="4224960" cy="1863720"/>
            <a:chOff x="2708280" y="4460760"/>
            <a:chExt cx="4224960" cy="1863720"/>
          </a:xfrm>
        </p:grpSpPr>
        <p:grpSp>
          <p:nvGrpSpPr>
            <p:cNvPr id="229" name=""/>
            <p:cNvGrpSpPr/>
            <p:nvPr/>
          </p:nvGrpSpPr>
          <p:grpSpPr>
            <a:xfrm>
              <a:off x="2708280" y="4876920"/>
              <a:ext cx="4190760" cy="1447560"/>
              <a:chOff x="2708280" y="4876920"/>
              <a:chExt cx="4190760" cy="1447560"/>
            </a:xfrm>
          </p:grpSpPr>
          <p:sp>
            <p:nvSpPr>
              <p:cNvPr id="230" name=""/>
              <p:cNvSpPr/>
              <p:nvPr/>
            </p:nvSpPr>
            <p:spPr>
              <a:xfrm>
                <a:off x="2708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70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232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94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56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18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368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463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558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656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751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846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278388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522252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841640" y="5334120"/>
                <a:ext cx="3049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984640" y="53341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301284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232160" y="5334120"/>
                <a:ext cx="1522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54514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1372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8916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3622680" y="5334120"/>
                <a:ext cx="759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2744280" y="451332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63200" y="449568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82480" y="447840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91880" y="4460760"/>
              <a:ext cx="44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anarchy =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stability = O(log(n))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ost, cost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(n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800600" y="1143000"/>
            <a:ext cx="1905120" cy="1811160"/>
            <a:chOff x="4800600" y="1143000"/>
            <a:chExt cx="1905120" cy="1811160"/>
          </a:xfrm>
        </p:grpSpPr>
        <p:sp>
          <p:nvSpPr>
            <p:cNvPr id="259" name=""/>
            <p:cNvSpPr/>
            <p:nvPr/>
          </p:nvSpPr>
          <p:spPr>
            <a:xfrm>
              <a:off x="5105520" y="150660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67280" y="150660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412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43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28018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00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5181120" y="19638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5486040" y="196380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952880" y="196380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541008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876920" y="1963800"/>
              <a:ext cx="304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48640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019920" y="1963800"/>
              <a:ext cx="759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62320" y="11430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-</a:t>
              </a:r>
              <a:r>
                <a:rPr b="0" lang="en-US" sz="2000" spc="-1" strike="noStrike">
                  <a:solidFill>
                    <a:srgbClr val="cc3399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6440" y="1216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6095880" y="1980720"/>
              <a:ext cx="533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Set-cover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for any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 0, PoU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o, a single Byzantine player can take state from a PNE of cost O(OPT) to one of c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539280" y="4038480"/>
            <a:ext cx="77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pp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0280" y="4586400"/>
            <a:ext cx="73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w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st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“better-response” is easy to lure astray.  Can make state exponentially worse by using even an exponentially-smal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focus on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16920" y="4073400"/>
            <a:ext cx="7066800" cy="885960"/>
            <a:chOff x="916920" y="4073400"/>
            <a:chExt cx="7066800" cy="885960"/>
          </a:xfrm>
        </p:grpSpPr>
        <p:sp>
          <p:nvSpPr>
            <p:cNvPr id="282" name=""/>
            <p:cNvSpPr/>
            <p:nvPr/>
          </p:nvSpPr>
          <p:spPr>
            <a:xfrm>
              <a:off x="1371600" y="47242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0120" y="4648320"/>
              <a:ext cx="15228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6920" y="449568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11560" y="44956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1600" y="4456080"/>
              <a:ext cx="3124080" cy="268200"/>
            </a:xfrm>
            <a:custGeom>
              <a:avLst/>
              <a:gdLst/>
              <a:ahLst/>
              <a:rect l="l" t="t" r="r" b="b"/>
              <a:pathLst>
                <a:path w="1968" h="169">
                  <a:moveTo>
                    <a:pt x="0" y="169"/>
                  </a:moveTo>
                  <a:cubicBezTo>
                    <a:pt x="159" y="141"/>
                    <a:pt x="627" y="0"/>
                    <a:pt x="955" y="0"/>
                  </a:cubicBezTo>
                  <a:cubicBezTo>
                    <a:pt x="1283" y="0"/>
                    <a:pt x="1757" y="134"/>
                    <a:pt x="1968" y="16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0440" y="4073400"/>
              <a:ext cx="6230880" cy="655920"/>
            </a:xfrm>
            <a:custGeom>
              <a:avLst/>
              <a:gdLst/>
              <a:ahLst/>
              <a:rect l="l" t="t" r="r" b="b"/>
              <a:pathLst>
                <a:path w="3925" h="413">
                  <a:moveTo>
                    <a:pt x="3925" y="396"/>
                  </a:moveTo>
                  <a:cubicBezTo>
                    <a:pt x="3573" y="332"/>
                    <a:pt x="2467" y="0"/>
                    <a:pt x="1813" y="3"/>
                  </a:cubicBezTo>
                  <a:cubicBezTo>
                    <a:pt x="1159" y="6"/>
                    <a:pt x="378" y="328"/>
                    <a:pt x="0" y="4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0480" y="4419720"/>
              <a:ext cx="3149640" cy="296640"/>
            </a:xfrm>
            <a:custGeom>
              <a:avLst/>
              <a:gdLst/>
              <a:ahLst/>
              <a:rect l="l" t="t" r="r" b="b"/>
              <a:pathLst>
                <a:path w="1984" h="187">
                  <a:moveTo>
                    <a:pt x="0" y="187"/>
                  </a:moveTo>
                  <a:cubicBezTo>
                    <a:pt x="162" y="157"/>
                    <a:pt x="640" y="0"/>
                    <a:pt x="971" y="0"/>
                  </a:cubicBezTo>
                  <a:cubicBezTo>
                    <a:pt x="1302" y="0"/>
                    <a:pt x="1773" y="148"/>
                    <a:pt x="1984" y="18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3920" y="4702320"/>
              <a:ext cx="1465200" cy="23472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782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784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786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792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66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526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14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2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5780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62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67360" y="4605480"/>
              <a:ext cx="72900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5280" y="464832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any play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each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pair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n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=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m)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 then PoU = O(1) even for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for general number of play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strategy sets are bases of matroid. E.g., set-cover where must choose k se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 for fair cost-shar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GAP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response not enough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lso positive results for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-nice games, bounds for consensus, job schedu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low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Two kinds of player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of Class 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-1 of Class I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Plus one Byzantine player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es bound for case that costs can fluctuate by factor of 2.  More complicated ex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140000" y="1295280"/>
            <a:ext cx="2984760" cy="2151720"/>
            <a:chOff x="4140000" y="1295280"/>
            <a:chExt cx="2984760" cy="2151720"/>
          </a:xfrm>
        </p:grpSpPr>
        <p:sp>
          <p:nvSpPr>
            <p:cNvPr id="307" name=""/>
            <p:cNvSpPr/>
            <p:nvPr/>
          </p:nvSpPr>
          <p:spPr>
            <a:xfrm>
              <a:off x="5105520" y="1371600"/>
              <a:ext cx="38088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814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1480" y="14479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1480" y="12952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814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42960" y="19051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140000" y="2666880"/>
              <a:ext cx="2984760" cy="780120"/>
              <a:chOff x="4140000" y="2666880"/>
              <a:chExt cx="2984760" cy="780120"/>
            </a:xfrm>
          </p:grpSpPr>
          <p:sp>
            <p:nvSpPr>
              <p:cNvPr id="314" name=""/>
              <p:cNvSpPr/>
              <p:nvPr/>
            </p:nvSpPr>
            <p:spPr>
              <a:xfrm>
                <a:off x="41911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06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10080" y="266688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99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294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400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098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1936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292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782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4106160" y="4022640"/>
            <a:ext cx="3015000" cy="780120"/>
            <a:chOff x="4106160" y="4022640"/>
            <a:chExt cx="3015000" cy="780120"/>
          </a:xfrm>
        </p:grpSpPr>
        <p:sp>
          <p:nvSpPr>
            <p:cNvPr id="325" name=""/>
            <p:cNvSpPr/>
            <p:nvPr/>
          </p:nvSpPr>
          <p:spPr>
            <a:xfrm>
              <a:off x="416736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768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86320" y="402264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056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0616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7604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552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86080" y="44038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31840" y="4403880"/>
              <a:ext cx="58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7080" y="4267080"/>
              <a:ext cx="15264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769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640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057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267080" y="2895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upp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r upper bound, think of players in sets as a stack 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ew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sition in stack j as having co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i.  Load chips with value equal to init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layer moves from j to k, move top chip.  Cost of position goes up by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227720" y="2119320"/>
            <a:ext cx="1524600" cy="1050120"/>
            <a:chOff x="7227720" y="2119320"/>
            <a:chExt cx="1524600" cy="1050120"/>
          </a:xfrm>
        </p:grpSpPr>
        <p:grpSp>
          <p:nvGrpSpPr>
            <p:cNvPr id="342" name=""/>
            <p:cNvGrpSpPr/>
            <p:nvPr/>
          </p:nvGrpSpPr>
          <p:grpSpPr>
            <a:xfrm>
              <a:off x="7227720" y="2119320"/>
              <a:ext cx="381240" cy="1050120"/>
              <a:chOff x="7227720" y="2119320"/>
              <a:chExt cx="381240" cy="1050120"/>
            </a:xfrm>
          </p:grpSpPr>
          <p:sp>
            <p:nvSpPr>
              <p:cNvPr id="343" name=""/>
              <p:cNvSpPr/>
              <p:nvPr/>
            </p:nvSpPr>
            <p:spPr>
              <a:xfrm>
                <a:off x="722772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0404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04040" y="2271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04040" y="21193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0404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63720" y="2728800"/>
                <a:ext cx="340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8354880" y="2195280"/>
              <a:ext cx="397440" cy="974160"/>
              <a:chOff x="8354880" y="2195280"/>
              <a:chExt cx="397440" cy="974160"/>
            </a:xfrm>
          </p:grpSpPr>
          <p:sp>
            <p:nvSpPr>
              <p:cNvPr id="350" name=""/>
              <p:cNvSpPr/>
              <p:nvPr/>
            </p:nvSpPr>
            <p:spPr>
              <a:xfrm>
                <a:off x="835488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43120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43120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370360" y="2728800"/>
                <a:ext cx="38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7456320" y="1828800"/>
            <a:ext cx="1067040" cy="291960"/>
          </a:xfrm>
          <a:custGeom>
            <a:avLst/>
            <a:gdLst/>
            <a:ahLst/>
            <a:rect l="l" t="t" r="r" b="b"/>
            <a:pathLst>
              <a:path w="672" h="184">
                <a:moveTo>
                  <a:pt x="0" y="183"/>
                </a:moveTo>
                <a:cubicBezTo>
                  <a:pt x="57" y="153"/>
                  <a:pt x="229" y="0"/>
                  <a:pt x="341" y="0"/>
                </a:cubicBezTo>
                <a:cubicBezTo>
                  <a:pt x="453" y="0"/>
                  <a:pt x="603" y="146"/>
                  <a:pt x="672" y="18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4572000"/>
            <a:ext cx="8763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most mn different positions.   So, following the path of any chip and removing loops, cost of final set is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n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imes its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88200" y="6019920"/>
            <a:ext cx="645660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So, if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sts/payoffs are a function of players actions. No external influ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ll repeatedly play same way, get exact same payo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all players incentives are mode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286000" y="4235400"/>
            <a:ext cx="4190760" cy="2165040"/>
            <a:chOff x="2286000" y="4235400"/>
            <a:chExt cx="4190760" cy="2165040"/>
          </a:xfrm>
        </p:grpSpPr>
        <p:sp>
          <p:nvSpPr>
            <p:cNvPr id="56" name=""/>
            <p:cNvSpPr/>
            <p:nvPr/>
          </p:nvSpPr>
          <p:spPr>
            <a:xfrm>
              <a:off x="4419360" y="53337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61960" y="53337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419360" y="45716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24480" y="44956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24480" y="60195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434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 rot="20493600">
              <a:off x="5029200" y="43434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 rot="1384200">
              <a:off x="5104800" y="57909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3047760" y="47782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troid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n matroid games, can think of each player as controlling a </a:t>
            </a:r>
            <a:r>
              <a:rPr b="0" i="1" lang="en-US" sz="2800" spc="-1" strike="noStrike">
                <a:solidFill>
                  <a:srgbClr val="cc3399"/>
                </a:solidFill>
                <a:latin typeface="Comic Sans MS"/>
              </a:rPr>
              <a:t>set 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ce property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est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response in matroid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always order the move so that each individual chip is doing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previous argu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s for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ere, can get player to do kind of binary counting, bad even for exponentially-small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952880" y="2119320"/>
            <a:ext cx="3783240" cy="682560"/>
            <a:chOff x="4952880" y="2119320"/>
            <a:chExt cx="3783240" cy="682560"/>
          </a:xfrm>
        </p:grpSpPr>
        <p:sp>
          <p:nvSpPr>
            <p:cNvPr id="360" name=""/>
            <p:cNvSpPr/>
            <p:nvPr/>
          </p:nvSpPr>
          <p:spPr>
            <a:xfrm>
              <a:off x="722772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0404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04040" y="22716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4040" y="211932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404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5488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3120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43120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5288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29200" y="243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228600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92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8004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6360" y="2438280"/>
              <a:ext cx="152280" cy="15264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5636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Fair cost sharing in general graph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f many players of each type, can also show best-response dynamics can’t do bad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line of argume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d to analyze cost of state directly, instead track upper bound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= cost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hanges at most m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players of each typ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verage cost of each is low compared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hange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sm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Main focus: games with both good and bad equilibri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small fluctuations or single Byzantine player cause behavior to move from good to ba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also have cases where state can get worse even than worst equilibriu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-sharing: 2 vs log(n) even for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380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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nice games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[AAEMS-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EC08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: incentives grow stronger as cost gets above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times optimal (typically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PoA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at least can show state won’t get above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imes optimal, even with substantial perturbation or many Byzantine players (random order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2786040" y="4614840"/>
            <a:ext cx="2714760" cy="1668600"/>
          </a:xfrm>
          <a:custGeom>
            <a:avLst/>
            <a:gdLst/>
            <a:ahLst/>
            <a:rect l="l" t="t" r="r" b="b"/>
            <a:pathLst>
              <a:path w="1710" h="1051">
                <a:moveTo>
                  <a:pt x="0" y="46"/>
                </a:moveTo>
                <a:cubicBezTo>
                  <a:pt x="149" y="212"/>
                  <a:pt x="611" y="1051"/>
                  <a:pt x="896" y="1043"/>
                </a:cubicBezTo>
                <a:cubicBezTo>
                  <a:pt x="1181" y="1035"/>
                  <a:pt x="1541" y="217"/>
                  <a:pt x="171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43240" y="6093000"/>
            <a:ext cx="15264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ummary and open problem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Looking at: when can small perturbations or a few bad players lead natural dynamics astr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s it safe to turn your back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0" y="2438280"/>
            <a:ext cx="6324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per/lower bounds for a number of classes of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5053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ose gap for set-cover [1/(mn), 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case of fair cost-sharing ga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yclic order best r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73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90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07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18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32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43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igh-level ques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60" y="88560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ways this could happ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 changes cause good equilibria to disappear, only bad ones left.    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economy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behavior by a few players causes pain for all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uk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ither of above, but instead through more subtle interaction with dynamics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158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00600" y="44197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38680" y="3135240"/>
            <a:ext cx="901800" cy="52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24440" y="5486400"/>
            <a:ext cx="49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cus here on this last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556 L 3.33333E-006 -0.49943 E">
                                      <p:cBhvr>
                                        <p:cTn id="150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Focus of this work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mes with the following propert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games, best/better-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Price of Stability. 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good equilibria exis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me has good equilibria even after               perturb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 gap between potential and                              soc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ngle perturbation can’t make                           dynamics do bad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individual player can influence                        cost of others by too mu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190560" y="2895480"/>
            <a:ext cx="2705040" cy="3353040"/>
            <a:chOff x="6190560" y="2895480"/>
            <a:chExt cx="2705040" cy="3353040"/>
          </a:xfrm>
        </p:grpSpPr>
        <p:sp>
          <p:nvSpPr>
            <p:cNvPr id="171" name=""/>
            <p:cNvSpPr/>
            <p:nvPr/>
          </p:nvSpPr>
          <p:spPr>
            <a:xfrm>
              <a:off x="7321680" y="2895480"/>
              <a:ext cx="0" cy="33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45360" y="502920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45360" y="4038480"/>
              <a:ext cx="152640" cy="1526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76480" y="489420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5560" y="3962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S </a:t>
              </a:r>
              <a:r>
                <a:rPr b="0" lang="en-US" sz="20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0560" y="457200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864480" y="419076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9-07-10T14:52:2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