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70ED-5FFE-49C9-84DF-2C8BF249B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08E3-B811-4018-B897-351B91ED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2435-4C6A-477A-ABDC-F0AC14BC7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5B77-6476-46C8-9345-0C0756A02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5A81-B15A-4BD1-B753-1BAD63A6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781B-99C2-4588-A54E-1F289CCA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869C-E6F4-4869-8F57-476DD31F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1B82-802D-4605-AA1F-BCA65CC8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4681-62E7-4E66-B0FD-8449367F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F70E-3249-47A6-B4DF-3C744516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5BD0-406A-4CA7-904F-8F1289B5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645B-432B-433F-8054-62B78226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7D09-90E2-4EFE-B0B5-FCCE8DB7EE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Digital Millennium Copyright Ac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vid S. Touretz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 Science Depar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negie Mellon Un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vember, 20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4DB0-DBDE-4B77-8A81-BB52073B48E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brary Exemp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d)(1) says libraries, archives, and educational institutions may circumvent access controls…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to gain access to a work…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to decide whether to purchase it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But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D1FB-A4D7-43D6-93BB-F598CD5ECF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Librarians’ Catch-22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d)(4) says the exemption in (d)(1) cannot be used as a defense to a claim under the anti-trafficking provisions, and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braries may not manufacture, import, etc., any technology, product, service, etc., which circumvents a technological measure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how can they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cqui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tools to circumvent under (d)(1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D9C8-3B8C-4EB9-B844-7CC5EB2175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verse Engine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f) - allows circumvention of access controls to permit reverse engineering of software program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o achieve interoperabilit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ith other progra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n’t apply to hardware, such as DVD players and med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operability” does not mean bypassing another program’s access/copying contro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57A0-34E3-49D0-806D-2E05749A26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ncryption Resear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g) - cracking permissible wh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wfully obtained copy of the encrypted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 faith effort to obtain permission to cr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copyright infringement or computer ab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gained is disseminated in a manner calculated to advance state of knowled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cker has respectable credenti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pyright owner notified of res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8B75-E438-42CC-8AF7-1301E6D749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brarian of Congress Repor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al cases designated by the Librarian of Congress as exempt from 1201(a)(1)(A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Encrypted list of blocked sites used by censorware programs such as CyberPa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“Broken” access control mechanis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1201(a)(2) still applies, so providing the tools to make use of these exemptions is still illega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11C8-C273-4F5C-B962-B7A464FD8F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II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Is Code Protected Speech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52E8-EEEB-4E59-A352-6CA7FD1B9F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 Code Speech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rnstein v. U.S. Dept. of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Snuffle encryption algorithm (a “munition”) is spee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functional aspect”; maybe object code isn’t spee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nger v. Dal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cryptography textbook with code also provided on disket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VD-CCA v. Bunner et 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California DVD case:  1st Amdt. trumps trade secret la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versal City Studios v. Reimer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2600 DVD case: even object code is spee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AC86-3E08-4DF4-A496-2503422D2F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’s Special About Cod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mb-making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structio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re not a bo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cip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 LSD is not a dru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raw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 gun is not a weap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are fully protected speech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a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py or list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 computer program is a computer progr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should that make code less protec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9B6D-0A3C-42FF-BA9C-EF75AB0C8F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de is Dangerous” Argu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ftware has a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unction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spec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ftware can instantly instruct computers to do antisocial thing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makes software more dangerous than other types of speech that only instruct slow, lazy huma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8852-17A1-49ED-882F-C00F0CABE4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ut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Cod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Isn’t Dangero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 programs don’t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ything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merely expressions of idea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SS does not pirate DVD mov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s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ust insert the DVD into a drive, load DeCSS onto a digital computer, and run i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have we seen this argument befo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8B50-BCD0-4174-B5EC-D1BFB7435D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gital Millennium Copyright Ac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acted in 1998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ed new copyright regulation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Title 17, US Code) concern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ess controls/digital rights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ability limitations for IS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oadcasting music on Internet radio s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A9DF-1CE9-456E-AE4C-E9A7E422C0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uns Don’t Kill People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ople 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E8A0-703F-419F-9F30-50E377DD80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eat Software Like Gun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rictions on possession of guns and controlled substances are constitution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n’t interfere with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ression of ide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we restrict publication of software without restricting the expression of idea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8778-1187-45BE-A2D5-7AF69C9E02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“No Ideas Here” Strate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im:  some programs are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urely function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do not express ide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object code purely functiona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ss_descramble.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urely functional because it relies on long boring tables of number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ly code published in textbooks or journal articles expresses idea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F379-DD84-4753-801E-7BADABDB69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deas That Code Can Expr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” is possible: here’s an existence proof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 way of doing “X” is better than the other guy’s w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s faster / Less memory / Shorter cod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” is triv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stein &amp; Horowitz’ qrpff.pl is 472 byte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D0DD-822F-4AAA-B6F4-BC61CD52DCE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VD Decryption in Pe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!/usr/bin/per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 472-byte qrpff, Keith Winstein and Marc Horowitz &lt;sipb-iap-dvd@mit.edu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 MPEG 2 PS VOB file -&gt; descrambled output on stdou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 usage: perl -I &lt;k1&gt;:&lt;k2&gt;:&lt;k3&gt;:&lt;k4&gt;:&lt;k5&gt; qrpf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 where k1..k5 are the title key bytes in least to most-significant o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''$/=\2048;while(&lt;&gt;){G=29;R=142;if((@a=unqT="C*",_)[20]&amp;48){D=89;_=unqb24,qT,@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=map{ord qB8,unqb8,qT,_^$a[--D]}@INC;s/...$/1$&amp;/;Q=unqV,qb25,_;H=73;O=$b[4]&lt;&lt;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|256|$b[3];Q=Q&gt;&gt;8^(P=(E=255)&amp;(Q&gt;&gt;12^Q&gt;&gt;4^Q/8^Q))&lt;&lt;17,O=O&gt;&gt;8^(E&amp;(F=(S=O&gt;&gt;14&amp;7^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^S*8^S&lt;&lt;6))&lt;&lt;9,_=(map{U=_%16orE^=R^=110&amp;(S=(unqT,"\xb\ntd\xbz\x14d")[_/16%8]);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^=(72,@z=(64,72,G^=12*(U-2?0:S&amp;17)),H^=_%64?12:0,@z)[_%8]}(16..271))[_]^((D&gt;&gt;=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+=P+(~F&amp;E))for@a[128..$#a]}print+qT,@a}';s/[D-HO-U_]/\$$&amp;/g;s/q/pack+/g;ev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 is Illegal to Display This Sl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3030-ADA1-4D50-B602-D134A493177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mminent Peril” Strate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rts now accept that code is spee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speech that poses a specific and imminent threat of harm is not protec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t’s kill all the lawyers” is protec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ll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a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awyer with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gun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 is n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ld publishing computer code meet this test?  “Computers make crime too easy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0BD2-6B1A-41C3-9EB2-EC1B57921CB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RNING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You are only 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ne mouse click away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om destroying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motion picture industry!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Times New Roman"/>
              </a:rPr>
              <a:t>here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 continue..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0EBC-D163-42DD-A6F4-300B10F7A9C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unting Mouse Click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dge Kaplan enjoined 2600 from distributing the DeCSS sou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600 responded by posting links to mirror si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dge Kaplan enjoined 2600 from linking to mirror sites: only a mouse click aw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2600 published the URLs as plaintex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nd Circuit:  now it takes four mouse clic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many mouse clicks are enough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8ED8-B7E8-4C34-9303-C14D92BBBEE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Does Code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No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se an Imminent Danger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ecutable binary -- extremely dangerou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ilable source -- very dangero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reen dump (a “picture” of the code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de printed on a t-shir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 expressed in a formal language for which there is no compil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it’s not really “code”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6F39-821A-4CD1-ABD7-976B2DB3367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Is Code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No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Dangerou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 translated line-by-line into machine-generated English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es threat of reverse-trans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 expressed in colloquial English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fessor Felten, call your lawy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ure thoughts about an algorith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201(a)(1) says thou shalt not “manufacture”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B15C-AF86-4DDC-A7CA-066C1C7A10C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i-Circumvention Provi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a)(1)(A): No person shall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ircumvent a technological measu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at effectively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ontrols acces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a work protected under this tit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an’t watch encrypted DVDs at home using an unapproved (open-source) DVD play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an’t decrypt your lawfully purchased eBoo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39C4-FB4B-4A9A-A060-1FD1FCE1F0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re to Draw the Lin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rvative:  only ban binaries and compilable/interpretable sou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o easy to work around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beral:  ban anything that can potentially be turned into executable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Amendment doesn’t permit th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76DC-A8D4-466C-8FE3-9DA46B165F3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ricting only the publication of imminently dangerous “code” will prove unworkable in practi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ting mouse clicks is sil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de can take many for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rs will soon understand English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uly effective restrictions require the censorship of “dangerous ideas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486E-5800-4ED6-9028-F2FCDB3FA88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Censorship of Idea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 Intolera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E7BC-E738-46C7-B30B-FE694D34DDD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i-Trafficking Provi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a)(2):  No person shall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nufacture, import, offer to the public, provide, or otherwise traffic 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y technology, product service, device, component, or part thereof 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) is primarily designed or produced for the purpose of circumventing a technological measure that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effectively controls acce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a work protected under this titl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E647-D769-4444-970F-AB17E79726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B) has only limited commercially significant purpose or use other than to circumvent..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) is marketed by that person … for use in circumventing a technological measure that effectively controls access to a work protected under this tit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You can sell digital signal processors, but you can’t sell cable TV descrambl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BF26-0C3C-4BBC-A408-F6E3EF959A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i-Trafficking:  Copy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b)(1):  No person shall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nufacture, import, offer to the public, provide, or otherwise traffic 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y technology, product, service, device, component, or part thereof 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) is primarily designed or produced for the purpose of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rcumventing protection afforded by a technological measure that effectively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protects a right of a copyright own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nder this title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C2B4-096E-496E-8DAC-CE93678F03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scape Clause 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c)(1): Nothing in this section shall affect rights, remedies, limitations, or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fenses to copyright infringem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cluding fair u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under this title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201 isn’t about copyright infring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 if A circumvents, B can make fair use of the fruits of A’s cr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78B7-A71C-482E-8F6B-E353CB7670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scape Clause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c)(4): Nothing in this section shall enlarge or diminish any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ights of free speech or the pres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 activities using consumer electronics, telecommunications, or computing product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missed as “precatory language” (pleading) by 2nd Circuit Court of Appe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D34C-0765-45AB-BDFA-6A8D98408C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xemptions to Anti-Circumven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d) - Libr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e) - Law enforc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f) - Reverse engineering of soft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g) - Encryption re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h) - Protect minors from the 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i) - Protect personally identifying inf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j) - Security tes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1DA2-0D16-4FB8-91BD-F5AE1FC74E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00:34:09Z</dcterms:created>
  <dc:creator>Dave Touretzky</dc:creator>
  <dc:description/>
  <dc:language>en-US</dc:language>
  <cp:lastModifiedBy>Dave Touretzky</cp:lastModifiedBy>
  <cp:lastPrinted>2001-10-22T04:05:25Z</cp:lastPrinted>
  <dcterms:modified xsi:type="dcterms:W3CDTF">2001-12-01T02:59:28Z</dcterms:modified>
  <cp:revision>51</cp:revision>
  <dc:subject/>
  <dc:title>The Digital Millennium Copyright Ac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cmu.edu/~dst</vt:lpwstr>
  </property>
  <property fmtid="{D5CDD505-2E9C-101B-9397-08002B2CF9AE}" pid="9" name="LinkColor">
    <vt:r8>16711782</vt:r8>
  </property>
  <property fmtid="{D5CDD505-2E9C-101B-9397-08002B2CF9AE}" pid="10" name="MailAddress">
    <vt:lpwstr>dst@cs.cmu.edu</vt:lpwstr>
  </property>
  <property fmtid="{D5CDD505-2E9C-101B-9397-08002B2CF9AE}" pid="11" name="NavBtnPos">
    <vt:r8>3</vt:r8>
  </property>
  <property fmtid="{D5CDD505-2E9C-101B-9397-08002B2CF9AE}" pid="12" name="Other">
    <vt:lpwstr>Transparencies from "A Great Debate:  Is Computer Code Protected Speech?", November 30, 2001, Carnegie Mellon University.    </vt:lpwstr>
  </property>
  <property fmtid="{D5CDD505-2E9C-101B-9397-08002B2CF9AE}" pid="13" name="OutputDir">
    <vt:lpwstr>C:\WINNT\Profiles\dst\Personal\Debate\slides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