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C409-0ED5-477D-B132-4C617FDD2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93439-B781-4809-9F5D-ACD0D519C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A34F-E65A-4B80-819D-B34568E55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4455-D3BA-4961-B354-E0398818C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F111B-7D2B-4064-950F-A5F0F90C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B74C8-4331-4655-8203-0432F958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0422D-384F-4CFD-964A-E4797417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5D011-1579-4A23-970B-BD93BB60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BE816-1BFF-45B2-A046-BEB1D612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EAC37-A981-4DD2-8603-F3CA7329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41B62-1A18-4AC5-9950-5537126E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3C54-1A17-48F6-9F0A-F959097C7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2096A-9150-4A0D-9ACC-ACCE2855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D55C4-6A90-4293-99CF-2858D0D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CAB44-D992-4AD9-8080-EAC3447D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F022B-EF64-416E-8C0B-3D178E3F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69E34-F449-415E-87B7-67921F72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4B38-2E1E-4B56-A9D3-FAFA92761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9671-0F7E-41B5-9A8C-03263B836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0B2B-3099-4B41-AF20-C5027E098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7AA3-8FB9-4BD2-9E1B-82EF0C91C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B940-7BDA-4F81-82F2-4FE39A432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0E118-3996-4A9D-A370-E06B986CE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EEE3-5B50-4486-A5A6-683889755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25B7-EFDC-495E-951E-C2F96DB04C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1360-FE13-48B6-879A-B8DCC1BFA9CF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decision-making without regret, routing games, and convergence to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quilibri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182880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lmbold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hapire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97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 best pruning of given D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BC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haw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1+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static-optimal for list-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T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kimoto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shortest path in DA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V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mpa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elegant setting generalizing all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8640" indent="-2102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linear programming, more general online optimization (offline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Z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inkevi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convex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A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werbu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4][M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B04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KV]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,F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axm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5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[Z03]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n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yes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6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faster convergence for [MB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12303E-007 L 0.00017 -0.55736 E">
                                      <p:cBhvr>
                                        <p:cTn id="18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alai-Vempala setting and algorith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 of bound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diam(S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ound on c’s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(m)/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online shortest path,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nm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(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dit setting [AK][MB]…: What if alg is only told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not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self.  Can you still be comparable to the best path in hindsight (which you don’t even know)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: yes, though bounds are wors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838080"/>
            <a:ext cx="8001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t S of feasible points in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f bounded diameter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E.g., indicator vectors for possible pa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have oracl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fflin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           given vector c, find 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to minimize c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. Use to solv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on day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must pick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before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gi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21560" y="2743200"/>
            <a:ext cx="1217520" cy="1143000"/>
            <a:chOff x="7621560" y="2743200"/>
            <a:chExt cx="1217520" cy="1143000"/>
          </a:xfrm>
        </p:grpSpPr>
        <p:sp>
          <p:nvSpPr>
            <p:cNvPr id="157" name=""/>
            <p:cNvSpPr/>
            <p:nvPr/>
          </p:nvSpPr>
          <p:spPr>
            <a:xfrm>
              <a:off x="762156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264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78760" y="32004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560" y="33526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122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31040" y="380988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30481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0736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59640" y="32767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31040" y="2895480"/>
              <a:ext cx="7488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3840" y="37339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2648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4560" y="31240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9640" y="274320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 flipV="1">
            <a:off x="7392960" y="2819520"/>
            <a:ext cx="76320" cy="12189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68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natural generalization of our regret goal is: what if we also want that on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, we do nearly as well as the best route for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on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do nearly as well as best rout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enerally, have N “rules” (on Monday, use path P). Goal: simultaneously, for each rul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uarantee to do nearly as well as it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n the time steps in which it fir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generalization is esp natural in machine learning for combining multiple if-then ru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document classification.  Rule: “if &lt;word-X&gt; appears then predict &lt;Y&gt;”.  E.g., if h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classify 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por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if 90% of documents with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bout sports, we should have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1% on th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ecialists” or “sleeping experts” probl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udied theoretically in [B95][FSSW97][BM05]; in practice [CS’96,CS’99]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ive simple alg. (joint with Yishay Mansour).  Will describe in two ways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all setup: have N “rules” (on Monday, use path P)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consider case that rules are explicitly giv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117680" y="45100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proof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6705720" cy="2077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quivalent view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rt with all rules at weight 1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 each time step, of the rules i that fire, select one with probability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800" spc="-1" strike="noStrike" baseline="-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pdate weight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n’t fire, leave weight al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 fire, raise or lower depending on performance compared to weighted averag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ost(j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(i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o, if rule i does exactly as well as weighted average, its weight drops a little.  Weight increases if does better than weighted average by more than a (1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factor.  This ensures sum of weights doesn’t increa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sum of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ver all time steps in which rule i fir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n combine with KV too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we are given N “conditions” or “features” to pay attention to (is it snowing?, is it a Monday?, …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day satisfies some conditions and not oth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un a copy of KV on just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n view these N algorithms as “sleeping experts” and feed their suggestions as inputs into previous al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n the days satisfying that condition we do nearly as well as the best copy of KV for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to Part II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ine learning and game theor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f everyone started using no-regret alg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f changing cost function is due to other players in the system optimizing for themselve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-regret can be viewed as a nice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definitio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reasonable self-interested behavior.  So, what happens to overall system if everyone uses on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20040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zero-sum games, behavior quickly approaches minimax opti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general-sum games, does behavior quickly (or at all) approach a Nash equilibrium?  (after all, a Nash Eq is exactly a set of distributions that are no-regret wrt each o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Well, unfortunately,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bad example for general-sum gam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gmented Shapley game from [Z04]: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RPSF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st 3 rows/cols are Shapley game (rock / paper / scissors but if both do same action then both lose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“play foosball” has slight negative if other player is still doing r/p/s but positive if other player does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to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R algs will cycle among first 3 and have no regret, but do worse than only Nash Equilibrium of both playing foosbal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didn’t really expect this to work given how hard NE can be to find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at </a:t>
            </a: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we say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gorithms minimize “internal” or “swap” regret, then empirical distribution of play approaches </a:t>
            </a:r>
            <a:r>
              <a:rPr b="0" i="1" lang="en-US" sz="2800" spc="-1" strike="noStrike">
                <a:solidFill>
                  <a:srgbClr val="ffff66"/>
                </a:solidFill>
                <a:latin typeface="Comic Sans MS"/>
              </a:rPr>
              <a:t>correlat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ster &amp; Vohra, Hart &amp; Mas-Colell,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 joint with Yishay Mansour gives current best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fn of size of game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on’t worry, I’ll define CE…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some natural cases, like routing in Wardrop model, can show daily traffic actually approaches Na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rk joint with Eyal Even-Dar and Katrina Liget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st expert” or “external” regre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.  Compete with best of them in hindsigh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” or “regret with time-intervals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, k properties.  Let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set of days satisfying property i (might overlap). Want to simultaneously achieve low regret over each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” or “swap” regret:  like (2), except tha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set of days in which we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chose strategy 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 regret: (ma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Key motivation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l parties have swap regret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empirical distribution of play is a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correlated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1981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971800"/>
            <a:ext cx="8686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Suppose all parties have swap-regret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ppose a correlator chooses a random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{1,2,…,T}.  Tells each player to play the action i they played in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ut does not reveal value of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ected incentive to deviate: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r(i)(Regret|i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swap-regret of algorithm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this gives a nice distributed way to get apx correlated equilibria in multiplayer g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o achieve low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ral algorithms known (in standard setting where have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ctions, listed explicitly).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H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rt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sColell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F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ste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V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hra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 [C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esa-Bianch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S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toltz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st explicit bounds for efficient algorithm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N 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[Fo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1/log N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ce open question: can you ge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ublinea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N (ideally wan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log 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gainst oblivious adversar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sy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N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wer bound with adaptive adversary:  each day gives random cost vector in {0,1}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except that previously-tried actions have cost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sue: swap-regret has implicit penalty for trying new ac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20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lgorithm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lan: use a “best expert” algorithm A as subrouti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tiate one copy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sponsible for expected regret over times we play i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each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d to play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so all together we have matrix Q, then define p = pQ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ows us to view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 prob we chose action i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we chose algorithm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time step, if we play p=(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nd get cost vector c=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, then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gets cost-vect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Then do a few calculations to show this works. (but not now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on to the last part of the talk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graph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Each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has non-decreasing cost function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at tells latency of that edge as a function of the amount of traffic using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1 unit of traffic (infinitesimal users) wants to travel from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607720" y="2855880"/>
            <a:ext cx="3232080" cy="1664640"/>
            <a:chOff x="5607720" y="2855880"/>
            <a:chExt cx="3232080" cy="1664640"/>
          </a:xfrm>
        </p:grpSpPr>
        <p:sp>
          <p:nvSpPr>
            <p:cNvPr id="216" name=""/>
            <p:cNvSpPr/>
            <p:nvPr/>
          </p:nvSpPr>
          <p:spPr>
            <a:xfrm>
              <a:off x="5607720" y="34102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97000" y="33865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6" idx="7"/>
              <a:endCxn id="217" idx="1"/>
            </p:cNvCxnSpPr>
            <p:nvPr/>
          </p:nvCxnSpPr>
          <p:spPr>
            <a:xfrm flipH="1" flipV="1" rot="5400000">
              <a:off x="7212600" y="2283120"/>
              <a:ext cx="24840" cy="2458080"/>
            </a:xfrm>
            <a:prstGeom prst="curvedConnector5">
              <a:avLst>
                <a:gd name="adj1" fmla="val 1358823"/>
                <a:gd name="adj2" fmla="val 49992"/>
                <a:gd name="adj3" fmla="val 1358823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216" idx="5"/>
              <a:endCxn id="217" idx="3"/>
            </p:cNvCxnSpPr>
            <p:nvPr/>
          </p:nvCxnSpPr>
          <p:spPr>
            <a:xfrm flipH="1" flipV="1" rot="5400000">
              <a:off x="7212600" y="26276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6770520" y="285588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58280" y="4114800"/>
              <a:ext cx="90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2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200" y="3048120"/>
            <a:ext cx="4952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sh equilibrium is flow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uch that all paths with positive flow have the same cost, and no path is cheap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6560" y="3465360"/>
            <a:ext cx="1703160" cy="36828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ash is 2/3,1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cost of average user under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= cost of using path P given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at Nash,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*) =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17220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ppens if people use no-regret algorith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9720" y="236232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simple c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sider the following setting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410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morning, you need to pick one of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ossible routes to get to work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traffic is different each da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t clear a priori which will be best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you get there you find out how long your route took.  (And maybe others too or maybe not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91320" y="1523880"/>
            <a:ext cx="2666880" cy="1904760"/>
            <a:chOff x="5791320" y="1523880"/>
            <a:chExt cx="2666880" cy="1904760"/>
          </a:xfrm>
        </p:grpSpPr>
        <p:sp>
          <p:nvSpPr>
            <p:cNvPr id="92" name=""/>
            <p:cNvSpPr/>
            <p:nvPr/>
          </p:nvSpPr>
          <p:spPr>
            <a:xfrm>
              <a:off x="6172200" y="1599840"/>
              <a:ext cx="2209680" cy="1752840"/>
            </a:xfrm>
            <a:custGeom>
              <a:avLst/>
              <a:gdLst/>
              <a:ahLst/>
              <a:rect l="l" t="t" r="r" b="b"/>
              <a:pathLst>
                <a:path w="1392" h="1104">
                  <a:moveTo>
                    <a:pt x="0" y="720"/>
                  </a:moveTo>
                  <a:lnTo>
                    <a:pt x="336" y="1104"/>
                  </a:lnTo>
                  <a:lnTo>
                    <a:pt x="528" y="816"/>
                  </a:lnTo>
                  <a:lnTo>
                    <a:pt x="1104" y="912"/>
                  </a:lnTo>
                  <a:lnTo>
                    <a:pt x="1392" y="384"/>
                  </a:lnTo>
                  <a:lnTo>
                    <a:pt x="720" y="480"/>
                  </a:lnTo>
                  <a:lnTo>
                    <a:pt x="960" y="0"/>
                  </a:lnTo>
                  <a:lnTo>
                    <a:pt x="1392" y="384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198108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576">
                  <a:moveTo>
                    <a:pt x="0" y="480"/>
                  </a:moveTo>
                  <a:lnTo>
                    <a:pt x="336" y="0"/>
                  </a:lnTo>
                  <a:lnTo>
                    <a:pt x="720" y="240"/>
                  </a:lnTo>
                  <a:lnTo>
                    <a:pt x="528" y="576"/>
                  </a:lnTo>
                  <a:lnTo>
                    <a:pt x="0" y="480"/>
                  </a:lnTo>
                  <a:close/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66688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19047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228564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9400" y="3276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28191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48720" y="297144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05920" y="2133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152388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791320" y="2514240"/>
              <a:ext cx="2728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8534520" y="2000160"/>
            <a:ext cx="609480" cy="307080"/>
          </a:xfrm>
          <a:prstGeom prst="rect">
            <a:avLst/>
          </a:prstGeom>
          <a:solidFill>
            <a:srgbClr val="000066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854360"/>
            <a:ext cx="2289240" cy="736560"/>
          </a:xfrm>
          <a:custGeom>
            <a:avLst/>
            <a:gdLst/>
            <a:ahLst/>
            <a:rect l="l" t="t" r="r" b="b"/>
            <a:pathLst>
              <a:path w="1442" h="464">
                <a:moveTo>
                  <a:pt x="0" y="464"/>
                </a:moveTo>
                <a:cubicBezTo>
                  <a:pt x="76" y="264"/>
                  <a:pt x="152" y="64"/>
                  <a:pt x="288" y="32"/>
                </a:cubicBezTo>
                <a:cubicBezTo>
                  <a:pt x="424" y="0"/>
                  <a:pt x="624" y="254"/>
                  <a:pt x="816" y="272"/>
                </a:cubicBezTo>
                <a:cubicBezTo>
                  <a:pt x="1008" y="290"/>
                  <a:pt x="1312" y="170"/>
                  <a:pt x="1442" y="143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56600" y="2335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 m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8862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s there a strategy for picking routes so that in the long run, whatever the sequence of traffic patterns has been, you’ve done not much worse than the best fixed route in hindsight?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(In expectation, over internal randomness in the algorith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“potential games” so Nash Equilibria are not that hard to fin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fact, a number of distributed procedures are known that will approach Nash at a good rate.  These even have property tha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else is using them, you might as well do so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ybe you don’t trust {the others, the model,…}.  Can’t hur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use a no-regret algorithm instead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Motivates studying what happens if everybody is minimizing regret for themselves.  Are Nash Equilibria th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evitabl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result of users intelligently behaving in their own interes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lso further motivates “price of anarchy” resul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lobal  behavior of NR algs </a:t>
            </a: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[B-EvenDar-Ligett]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762120"/>
            <a:ext cx="8458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 day </a:t>
            </a:r>
            <a:r>
              <a:rPr b="0" lang="en-US" sz="28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hav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erage regre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by some time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we’d like to say is the time-averag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    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 even better that </a:t>
            </a:r>
            <a:r>
              <a:rPr b="0" i="1" lang="en-US" sz="2800" spc="-1" strike="noStrike">
                <a:solidFill>
                  <a:srgbClr val="66ff33"/>
                </a:solidFill>
                <a:latin typeface="Comic Sans MS"/>
              </a:rPr>
              <a:t>mos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r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problems if cost functions are too shar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834640" y="4700520"/>
            <a:ext cx="3231720" cy="2009880"/>
            <a:chOff x="2834640" y="4700520"/>
            <a:chExt cx="3231720" cy="2009880"/>
          </a:xfrm>
        </p:grpSpPr>
        <p:sp>
          <p:nvSpPr>
            <p:cNvPr id="232" name=""/>
            <p:cNvSpPr/>
            <p:nvPr/>
          </p:nvSpPr>
          <p:spPr>
            <a:xfrm>
              <a:off x="2834640" y="54313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3560" y="540684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32" idx="7"/>
              <a:endCxn id="233" idx="1"/>
            </p:cNvCxnSpPr>
            <p:nvPr/>
          </p:nvCxnSpPr>
          <p:spPr>
            <a:xfrm flipH="1" flipV="1" rot="5400000">
              <a:off x="4439160" y="430416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2" idx="5"/>
              <a:endCxn id="233" idx="3"/>
            </p:cNvCxnSpPr>
            <p:nvPr/>
          </p:nvCxnSpPr>
          <p:spPr>
            <a:xfrm flipH="1" flipV="1" rot="5400000">
              <a:off x="4439160" y="464868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36" name=""/>
            <p:cNvGrpSpPr/>
            <p:nvPr/>
          </p:nvGrpSpPr>
          <p:grpSpPr>
            <a:xfrm>
              <a:off x="4114800" y="4700520"/>
              <a:ext cx="685800" cy="480960"/>
              <a:chOff x="4114800" y="4700520"/>
              <a:chExt cx="685800" cy="480960"/>
            </a:xfrm>
          </p:grpSpPr>
          <p:sp>
            <p:nvSpPr>
              <p:cNvPr id="237" name=""/>
              <p:cNvSpPr/>
              <p:nvPr/>
            </p:nvSpPr>
            <p:spPr>
              <a:xfrm>
                <a:off x="4114800" y="472428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14800" y="470052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114800" y="624852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4800" y="622476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4600" y="51958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2920" y="57913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lobal  behavior of NR alg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762120"/>
            <a:ext cx="6248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esting case to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747760" y="1066680"/>
            <a:ext cx="3231720" cy="2009880"/>
            <a:chOff x="5747760" y="1066680"/>
            <a:chExt cx="3231720" cy="2009880"/>
          </a:xfrm>
        </p:grpSpPr>
        <p:sp>
          <p:nvSpPr>
            <p:cNvPr id="246" name=""/>
            <p:cNvSpPr/>
            <p:nvPr/>
          </p:nvSpPr>
          <p:spPr>
            <a:xfrm>
              <a:off x="5747760" y="17974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36680" y="177300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6" idx="7"/>
              <a:endCxn id="247" idx="1"/>
            </p:cNvCxnSpPr>
            <p:nvPr/>
          </p:nvCxnSpPr>
          <p:spPr>
            <a:xfrm flipH="1" flipV="1" rot="5400000">
              <a:off x="7352280" y="67032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6" idx="5"/>
              <a:endCxn id="247" idx="3"/>
            </p:cNvCxnSpPr>
            <p:nvPr/>
          </p:nvCxnSpPr>
          <p:spPr>
            <a:xfrm flipH="1" flipV="1" rot="5400000">
              <a:off x="7352280" y="10148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50" name=""/>
            <p:cNvGrpSpPr/>
            <p:nvPr/>
          </p:nvGrpSpPr>
          <p:grpSpPr>
            <a:xfrm>
              <a:off x="7027920" y="1066680"/>
              <a:ext cx="685800" cy="480960"/>
              <a:chOff x="7027920" y="1066680"/>
              <a:chExt cx="685800" cy="480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027920" y="109044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27920" y="106668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7027920" y="261468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27920" y="259092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7720" y="15620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6040" y="2157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0880" y="274320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ure greedy has cost 1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R alg: cost approaches ½ per day, which is cost of best fixed path in hind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ut none of the individual days is an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-Nash flow (a flow where only a small fraction of traffic has significant incentive to switch). Same for time-average flow 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a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show if bounded slope… 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7621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of ske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ny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ime-avg cost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low-avg cost.  So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mming over all edges, and applying the regret bound: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+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]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ich in turn is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+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means that actually, for each edge, the time-avg cost must be pretty close to the flow-avg cost, which (by the assumption of bounded slope) means the costs can’t vary too much ov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then lets you swap quantifiers (cost/avg) to get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’ +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 = O(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-slope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also get bounds for “most” 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extension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multi-commodity case (different sources/destina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case of different allowable subgraph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 each commodity is a 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’) trip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imple case of parallel links, this is “restricted machines setting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ry/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ret-minimizing algorithms esp motivated by online learning and routing-type proble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s” algorithm can handle differen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-regret related to correlated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-external-regret property sufficient to converge to Nash in Wardrop mode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me-bounds sublinear in N for achiev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wap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 “price of minimizing regret / true-anarchy /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dap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elf-interested behavior” result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fact, results of this sort have been known for a long time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lan for this talk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tory and background on these “no-regret” algorith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recent results / new direction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rrelated equilibria, Nash equilibria in some case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lk is combination of classic and new work.  Talk-version of survey chapter that Yishay Mansour and I are writing…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bit more generally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ated play of matrix game with N rows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Algorithm is row-player, rows represent different possible ac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33920" y="2057400"/>
            <a:ext cx="2329920" cy="1218960"/>
            <a:chOff x="3733920" y="2057400"/>
            <a:chExt cx="2329920" cy="1218960"/>
          </a:xfrm>
        </p:grpSpPr>
        <p:sp>
          <p:nvSpPr>
            <p:cNvPr id="112" name=""/>
            <p:cNvSpPr/>
            <p:nvPr/>
          </p:nvSpPr>
          <p:spPr>
            <a:xfrm>
              <a:off x="4001400" y="2300760"/>
              <a:ext cx="2016360" cy="975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3422160" y="2555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0480" y="205740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038480" y="2666880"/>
            <a:ext cx="1981440" cy="152640"/>
          </a:xfrm>
          <a:prstGeom prst="rect">
            <a:avLst/>
          </a:prstGeom>
          <a:solidFill>
            <a:srgbClr val="ff9966">
              <a:alpha val="38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86000"/>
            <a:ext cx="152280" cy="990720"/>
          </a:xfrm>
          <a:prstGeom prst="rect">
            <a:avLst/>
          </a:prstGeom>
          <a:solidFill>
            <a:srgbClr val="ff9966">
              <a:alpha val="49000"/>
            </a:srgbClr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733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ef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erage regre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n T time steps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alg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bes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ixed row in hindsight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We want this to go to 0 or better as T gets larg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= “no-regret” algorithm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intuition &amp; properties of no-regret algs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6172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me-average performance guaranteed to approach minimax value V of game (or better, if life isn’t adversaria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wo NR algorithms playing against  each other will have empirical distribution approach minimax optimal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istence of no-regret algs yields proof of minimax 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randomized or else it’s hopel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00800" y="1676520"/>
            <a:ext cx="2590920" cy="1523880"/>
            <a:chOff x="6400800" y="1676520"/>
            <a:chExt cx="2590920" cy="1523880"/>
          </a:xfrm>
        </p:grpSpPr>
        <p:sp>
          <p:nvSpPr>
            <p:cNvPr id="123" name=""/>
            <p:cNvSpPr/>
            <p:nvPr/>
          </p:nvSpPr>
          <p:spPr>
            <a:xfrm>
              <a:off x="6705720" y="1981080"/>
              <a:ext cx="2286000" cy="12193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6089040" y="2447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2880" y="167652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istory and development (abridge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Hannan’57, Blackwell’56]:  Alg. with regret O((N/T)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phrasing, need only T = O(N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teps to get time-average regret down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will call this quantity 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ptimal dependence on T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or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ame-theorists viewed #rows N as constant, not so important as T, so pretty much d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arning-theory 80s-90s: “combining expert advice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erform (nearly) as well as best f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C. View N as larg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ttleston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89]: Weighted-majority algorith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[cost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PT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+ (log 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PT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+(log N)/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ret O((log N)/T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ptimal as fn of N too, plus lots of work on exact constants, 2</a:t>
            </a:r>
            <a:r>
              <a:rPr b="0" lang="en-US" sz="2400" spc="-1" strike="noStrike" baseline="30000">
                <a:solidFill>
                  <a:srgbClr val="ff6699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rder terms, etc. 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CFHHSW93]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xtensions to bandit model (adds extra factor of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have only log dependence on 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conceivably can do well when N is exponential in natural problem size, if only could implement efficientl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case of path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57600" y="3429000"/>
            <a:ext cx="4648320" cy="762120"/>
            <a:chOff x="3657600" y="3429000"/>
            <a:chExt cx="4648320" cy="762120"/>
          </a:xfrm>
        </p:grpSpPr>
        <p:sp>
          <p:nvSpPr>
            <p:cNvPr id="131" name=""/>
            <p:cNvSpPr/>
            <p:nvPr/>
          </p:nvSpPr>
          <p:spPr>
            <a:xfrm>
              <a:off x="51055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56440" y="3505320"/>
              <a:ext cx="439920" cy="633240"/>
            </a:xfrm>
            <a:custGeom>
              <a:avLst/>
              <a:gdLst/>
              <a:ahLst/>
              <a:rect l="l" t="t" r="r" b="b"/>
              <a:pathLst>
                <a:path w="277" h="399">
                  <a:moveTo>
                    <a:pt x="270" y="160"/>
                  </a:moveTo>
                  <a:lnTo>
                    <a:pt x="0" y="399"/>
                  </a:lnTo>
                  <a:lnTo>
                    <a:pt x="4" y="0"/>
                  </a:lnTo>
                  <a:lnTo>
                    <a:pt x="277" y="167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07120" y="4114800"/>
              <a:ext cx="275580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5320" y="3486240"/>
              <a:ext cx="275616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7600" y="3486240"/>
              <a:ext cx="501480" cy="628560"/>
            </a:xfrm>
            <a:custGeom>
              <a:avLst/>
              <a:gdLst/>
              <a:ahLst/>
              <a:rect l="l" t="t" r="r" b="b"/>
              <a:pathLst>
                <a:path w="316" h="396">
                  <a:moveTo>
                    <a:pt x="316" y="396"/>
                  </a:moveTo>
                  <a:lnTo>
                    <a:pt x="0" y="187"/>
                  </a:lnTo>
                  <a:lnTo>
                    <a:pt x="306" y="0"/>
                  </a:lnTo>
                  <a:lnTo>
                    <a:pt x="306" y="389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4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657600" y="3505320"/>
              <a:ext cx="273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0292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08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66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866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96440" y="3581280"/>
              <a:ext cx="609480" cy="307080"/>
            </a:xfrm>
            <a:prstGeom prst="rect">
              <a:avLst/>
            </a:prstGeom>
            <a:solidFill>
              <a:srgbClr val="000066"/>
            </a:solidFill>
            <a:ln w="255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MI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6-03-14T13:24:06Z</dcterms:modified>
  <cp:revision>86</cp:revision>
  <dc:subject/>
  <dc:title>On Routing without Regr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