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0B97A-5D16-4AB3-BFCB-0724BAA1A1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1261B-C756-42EB-9713-D2B7CF63C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73087-B54E-4C1B-B350-7CEF2D941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98714-DD32-4043-BECF-EF4F8AA20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8BEE7-F7E5-4B65-9CFE-A1F6BB48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1F42F-EA7B-42EA-A5E8-AF7FDC37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BD3E9-2A78-4A67-ADBD-4590E6A5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A939D-CDE0-4377-92D5-47FF6FD7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B2BD9-C5D5-4730-B73E-A3174792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710A3-4177-4482-8882-DECE1EC3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9AB04-74D8-424B-A22D-B34807F2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D7270-F720-47CE-AAA9-8DD0EAC877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678CC-B5C8-4735-87B7-A012F096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C6ABE-7EEA-484F-894F-2EB19D62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2FCCC-564B-4CE7-BC22-5A5758A8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31EE3-BD6B-426E-A875-B02E6FD4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C037E-9B58-45D5-AA78-326DF856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F5AD4-22C2-4CC9-B6B6-12E146B92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B692B-9158-41A3-837A-B715477BD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E88F6-6FEE-4A1E-9C2A-8A07EF377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494BF-6ED4-4115-B1C5-747E5DEFB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69BE2-9E93-475A-97B5-C7F3C36D7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6BA0F-DEDC-4DA5-8167-200C270E19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B67DD-6CE7-4265-A7A8-DF24B47EB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F5D6-35E0-49D0-AC62-F904D7677D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3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FA0E-01C3-4D15-B858-1E18C8EB0EA5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857160" algn="ctr">
              <a:spcBef>
                <a:spcPts val="45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1200240" algn="ctr">
              <a:spcBef>
                <a:spcPts val="45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69640" y="1447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 decision-making without regret, routing games, and convergence to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quilibri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3047760"/>
            <a:ext cx="6662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rim Blu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Carnegie Mellon Univers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5029200"/>
            <a:ext cx="66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[Talk includes work joint with Eyal Even-Dar, Katrina Ligett, Yishay Mansour, and Brendan McMahan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182880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H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elmbold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chapire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97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 best pruning of given D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BC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hawla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la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2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1+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static-optimal for list-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T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kimoto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W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rmuth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2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nline shortest path in DA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K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la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V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empala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3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elegant setting generalizing all ab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8640" indent="-2102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nline linear programming, more general online optimization (offline 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nli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Z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inkevich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3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nline convex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A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werbuch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leinberg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4][M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cMahan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B04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KV]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band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K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leinberg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,F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laxman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K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ala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M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cMahan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5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[Z03] 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band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D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n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H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yes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6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faster convergence for [MB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4724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cent years: series of results giving efficient implementation/alternatives in various setting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fficient implicit implementation for large N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12303E-007 L 0.00017 -0.55736 E">
                                      <p:cBhvr>
                                        <p:cTn id="180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Kalai-Vempala setting and algorith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3733920"/>
            <a:ext cx="8686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m of bound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O(diam(S)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ound on c’s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g(m)/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online shortest path, 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O(nm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(n)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ndit setting [AK][MB]…: What if alg is only told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cos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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not </a:t>
            </a:r>
            <a:r>
              <a:rPr b="0" lang="en-US" sz="24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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self.  Can you still be comparable to the best path in hindsight (which you don’t even know)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s: yes, though bounds are worse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838080"/>
            <a:ext cx="8001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t S of feasible points in 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of bounded diameter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E.g., indicator vectors for possible path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sume have oracle for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ffline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:            given vector c, find x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 to minimize c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. Use to solve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nline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: on day </a:t>
            </a:r>
            <a:r>
              <a:rPr b="0" i="1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must pick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 before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giv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621560" y="2743200"/>
            <a:ext cx="1217520" cy="1143000"/>
            <a:chOff x="7621560" y="2743200"/>
            <a:chExt cx="1217520" cy="1143000"/>
          </a:xfrm>
        </p:grpSpPr>
        <p:sp>
          <p:nvSpPr>
            <p:cNvPr id="157" name=""/>
            <p:cNvSpPr/>
            <p:nvPr/>
          </p:nvSpPr>
          <p:spPr>
            <a:xfrm>
              <a:off x="7621560" y="297180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26480" y="350532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078760" y="320040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21560" y="3352680"/>
              <a:ext cx="74520" cy="7488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612280" y="350532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231040" y="380988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59640" y="304812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07360" y="350532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59640" y="327672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31040" y="2895480"/>
              <a:ext cx="74880" cy="7488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73840" y="373392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926480" y="297180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4560" y="3124080"/>
              <a:ext cx="74520" cy="7488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459640" y="274320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 flipV="1">
            <a:off x="7392960" y="2819520"/>
            <a:ext cx="76320" cy="12189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6840" y="297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natural generalization of our regret goal is: what if we also want that on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now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ays, we do nearly as well as the best route for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now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ay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on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Monday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do nearly as well as best route for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Monday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generally, have N “rules” (on Monday, use path P). Goal: simultaneously, for each rule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guarantee to do nearly as well as it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n the time steps in which it fir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ll i, want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 + O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cost</a:t>
            </a:r>
            <a:r>
              <a:rPr b="0" lang="en-US" sz="2000" spc="-1" strike="noStrike" baseline="-25000">
                <a:solidFill>
                  <a:srgbClr val="99ff33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X) = cost of X on time steps where rule i fires.  Can extend to fractional case too.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generalization is esp natural in machine learning for combining multiple if-then rul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 document classification.  Rule: “if &lt;word-X&gt; appears then predict &lt;Y&gt;”.  E.g., if has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footb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en classify as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port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if 90% of documents with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footb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bout sports, we should have error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11% on the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pecialists” or “sleeping experts” proble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udied theoretically in [B95][FSSW97][BM05]; in practice [CS’96,CS’99]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ive simple alg. (joint with Yishay Mansour).  Will describe in two ways…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call setup: have N “rules” (on Monday, use path P)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ll i, want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 + O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cost</a:t>
            </a:r>
            <a:r>
              <a:rPr b="0" lang="en-US" sz="2000" spc="-1" strike="noStrike" baseline="-25000">
                <a:solidFill>
                  <a:srgbClr val="99ff33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X) = cost of X on time steps where rule i fires.  Can extend to fractional case too.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ll consider case that rules are explicitly giv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6680" y="3581280"/>
            <a:ext cx="7925040" cy="2210040"/>
          </a:xfrm>
          <a:prstGeom prst="rect">
            <a:avLst/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orithm works as follow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fine “relaxed regret” with respect to rule i a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/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– 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 rule i weight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1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Pick with prob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W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itially, all weights are 1 and sum to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 sum of weights never increase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lude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¼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rules that can be fractionally on to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4117680" y="451008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ert proof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67480" y="1676520"/>
            <a:ext cx="1676520" cy="380880"/>
          </a:xfrm>
          <a:prstGeom prst="wedgeRoundRectCallout">
            <a:avLst>
              <a:gd name="adj1" fmla="val -64490"/>
              <a:gd name="adj2" fmla="val 25833"/>
              <a:gd name="adj3" fmla="val 16667"/>
            </a:avLst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nt </a:t>
            </a:r>
            <a:r>
              <a:rPr b="0" lang="en-US" sz="1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g 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66680" y="3581280"/>
            <a:ext cx="7925040" cy="2210040"/>
          </a:xfrm>
          <a:prstGeom prst="rect">
            <a:avLst/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orithm works as follow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fine “relaxed regret” with respect to rule i a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/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– 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 rule i weight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1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Pick with prob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W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itially, all weights are 1 and sum to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 sum of weights never increase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lude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¼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rules that can be fractionally on to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43000" y="3657600"/>
            <a:ext cx="6705720" cy="2077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467480" y="1676520"/>
            <a:ext cx="1676520" cy="380880"/>
          </a:xfrm>
          <a:prstGeom prst="wedgeRoundRectCallout">
            <a:avLst>
              <a:gd name="adj1" fmla="val -64490"/>
              <a:gd name="adj2" fmla="val 25833"/>
              <a:gd name="adj3" fmla="val 16667"/>
            </a:avLst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nt </a:t>
            </a:r>
            <a:r>
              <a:rPr b="0" lang="en-US" sz="1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g 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Equivalent view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art with all rules at weight 1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t each time step, of the rules i that fire, select one with probability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w</a:t>
            </a:r>
            <a:r>
              <a:rPr b="0" lang="en-US" sz="2800" spc="-1" strike="noStrike" baseline="-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pdate weight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idn’t fire, leave weight alo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id fire, raise or lower depending on performance compared to weighted averag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[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ost(j)]/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– cost(i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Ã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15000">
                <a:solidFill>
                  <a:srgbClr val="ffffff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So, if rule i does exactly as well as weighted average, its weight drops a little.  Weight increases if does better than weighted average by more than a (1+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 factor.  This ensures sum of weights doesn’t increas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sum of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ver all time steps in which rule i fire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an combine with KV too: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sume we are given N “conditions” or “features” to pay attention to (is it snowing?, is it a Monday?, …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day satisfies some conditions and not other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each condi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un a copy of KV on just the days satisfying that conditio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n view these N algorithms as “sleeping experts” and feed their suggestions as inputs into previous alg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each condi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on the days satisfying that condition we do nearly as well as the best copy of KV for the days satisfying that conditio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69640" y="2720880"/>
            <a:ext cx="690732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w to Part II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69640" y="1447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line learning and game theory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5280" y="3047760"/>
            <a:ext cx="6662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rim Blu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Carnegie Mellon Univers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5029200"/>
            <a:ext cx="66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[Talk includes work joint with Eyal Even-Dar, Katrina Ligett, Yishay Mansour, and Brendan McMahan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f everyone started using no-regret alg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f changing cost function is due to other players in the system optimizing for themselves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-regret can be viewed as a nice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definitio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reasonable self-interested behavior.  So, what happens to overall system if everyone uses one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3200400"/>
            <a:ext cx="8686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n zero-sum games, behavior quickly approaches minimax opti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n general-sum games, does behavior quickly (or at all) approach a Nash equilibrium?  (after all, a Nash Eq is exactly a set of distributions that are no-regret wrt each o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Well, unfortunately,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bad example for general-sum gam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ugmented Shapley game from [Z04]: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“RPSF”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rst 3 rows/cols are Shapley game (rock / paper / scissors but if both do same action then both lose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ction “play foosball” has slight negative if other player is still doing r/p/s but positive if other player does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ction too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R algs will cycle among first 3 and have no regret, but do worse than only Nash Equilibrium of both playing foosball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 didn’t really expect this to work given how hard NE can be to find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What </a:t>
            </a:r>
            <a:r>
              <a:rPr b="0" i="1" lang="en-US" sz="3600" spc="-1" strike="noStrike">
                <a:solidFill>
                  <a:srgbClr val="ffff00"/>
                </a:solidFill>
                <a:latin typeface="Comic Sans MS"/>
              </a:rPr>
              <a:t>can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we say?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algorithms minimize “internal” or “swap” regret, then empirical distribution of play approaches </a:t>
            </a:r>
            <a:r>
              <a:rPr b="0" i="1" lang="en-US" sz="2800" spc="-1" strike="noStrike">
                <a:solidFill>
                  <a:srgbClr val="ffff66"/>
                </a:solidFill>
                <a:latin typeface="Comic Sans MS"/>
              </a:rPr>
              <a:t>correlate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equilibriu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ster &amp; Vohra, Hart &amp; Mas-Colell,…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 joint with Yishay Mansour gives current best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Symbol"/>
                <a:ea typeface="Symbol"/>
              </a:rPr>
              <a:t>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 fn of size of game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don’t worry, I’ll define CE…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some natural cases, like routing in Wardrop model, can show daily traffic actually approaches Na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ork joint with Eyal Even-Dar and Katrina Liget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est expert” or “external” regre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n strategies.  Compete with best of them in hindsigh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eeping expert” or “regret with time-intervals”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n strategies, k properties.  Let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e set of days satisfying property i (might overlap). Want to simultaneously achieve low regret over each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nal” or “swap” regret:  like (2), except that 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set of days in which we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chose strategy 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the set of days I used strategy i, how much better could I have done following some other strategy j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n’t want to have regret of the form “every time I bought IBM, I should have bought Microsoft instead”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nal regret: (ma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/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wap regret: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/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Key motivation: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all parties have swap regret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then empirical distribution of play is a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correlated equilibriu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1981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the set of days I used strategy i, how much better could I have done following some other strategy j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on’t want to have regret of the form “every time I bought IBM, I should have bought Microsoft instead”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wap regret: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/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2971800"/>
            <a:ext cx="8686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Suppose all parties have swap-regret 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ppose a correlator chooses a random time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{1,2,…,T}.  Tells each player to play the action i they played in time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ut does not reveal value of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pected incentive to deviate: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Pr(i)(Regret|i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swap-regret of algorithm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this gives a nice distributed way to get apx correlated equilibria in multiplayer ga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to achieve low regret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ral algorithms known (in standard setting where have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ctions, listed explicitly). 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[H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art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M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asColell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[F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oster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V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ohra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 [C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esa-Bianchi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L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ugosi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[S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toltz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L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ugosi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…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st explicit bounds for efficient algorithm 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[BM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ansour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= O((N log N)/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.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[For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1/log N]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ice open question: can you get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ublinea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N (ideally want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log 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against oblivious adversary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sy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N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wer bound with adaptive adversary:  each day gives random cost vector in {0,1}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except that previously-tried actions have cost 1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sue: swap-regret has implicit penalty for trying new action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Arial Unicode MS"/>
              </a:rPr>
              <a:t>[BM</a:t>
            </a:r>
            <a:r>
              <a:rPr b="0" lang="en-US" sz="2000" spc="-1" strike="noStrike">
                <a:solidFill>
                  <a:srgbClr val="ff6699"/>
                </a:solidFill>
                <a:latin typeface="Arial Unicode MS"/>
              </a:rPr>
              <a:t>ansour</a:t>
            </a:r>
            <a:r>
              <a:rPr b="0" lang="en-US" sz="2800" spc="-1" strike="noStrike">
                <a:solidFill>
                  <a:srgbClr val="ff6699"/>
                </a:solidFill>
                <a:latin typeface="Arial Unicode MS"/>
              </a:rPr>
              <a:t>]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lgorithm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Plan: use a “best expert” algorithm A as subrouti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dea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antiate one copy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responsible for expected regret over times we play i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each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d to play 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so all together we have matrix Q, then define p = pQ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ows us to view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s prob we chose action i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b we chose algorithm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time step, if we play p=(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…,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and get cost vector c=(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…,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, then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gets cost-vector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Then do a few calculations to show this works. (but not now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69640" y="2720880"/>
            <a:ext cx="690732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w on to the last part of the talk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der Wardro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/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oughgarden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ardos traffic model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graph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Each edge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has non-decreasing cost function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at tells latency of that edge as a function of the amount of traffic using i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1 unit of traffic (infinitesimal users) wants to travel from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607720" y="2855880"/>
            <a:ext cx="3232080" cy="1664640"/>
            <a:chOff x="5607720" y="2855880"/>
            <a:chExt cx="3232080" cy="1664640"/>
          </a:xfrm>
        </p:grpSpPr>
        <p:sp>
          <p:nvSpPr>
            <p:cNvPr id="216" name=""/>
            <p:cNvSpPr/>
            <p:nvPr/>
          </p:nvSpPr>
          <p:spPr>
            <a:xfrm>
              <a:off x="5607720" y="341028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97000" y="338652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18" name=""/>
            <p:cNvCxnSpPr>
              <a:stCxn id="216" idx="7"/>
              <a:endCxn id="217" idx="1"/>
            </p:cNvCxnSpPr>
            <p:nvPr/>
          </p:nvCxnSpPr>
          <p:spPr>
            <a:xfrm flipH="1" flipV="1" rot="5400000">
              <a:off x="7212600" y="2283120"/>
              <a:ext cx="24840" cy="2458080"/>
            </a:xfrm>
            <a:prstGeom prst="curvedConnector5">
              <a:avLst>
                <a:gd name="adj1" fmla="val 1358823"/>
                <a:gd name="adj2" fmla="val 49992"/>
                <a:gd name="adj3" fmla="val 1358823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219" name=""/>
            <p:cNvCxnSpPr>
              <a:stCxn id="216" idx="5"/>
              <a:endCxn id="217" idx="3"/>
            </p:cNvCxnSpPr>
            <p:nvPr/>
          </p:nvCxnSpPr>
          <p:spPr>
            <a:xfrm flipH="1" flipV="1" rot="5400000">
              <a:off x="7212600" y="2627640"/>
              <a:ext cx="24480" cy="2458080"/>
            </a:xfrm>
            <a:prstGeom prst="curvedConnector5">
              <a:avLst>
                <a:gd name="adj1" fmla="val -1252238"/>
                <a:gd name="adj2" fmla="val 49992"/>
                <a:gd name="adj3" fmla="val -1252238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sp>
          <p:nvSpPr>
            <p:cNvPr id="220" name=""/>
            <p:cNvSpPr/>
            <p:nvPr/>
          </p:nvSpPr>
          <p:spPr>
            <a:xfrm>
              <a:off x="6770520" y="2855880"/>
              <a:ext cx="782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f)=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58280" y="4114800"/>
              <a:ext cx="90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f)=2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57200" y="3048120"/>
            <a:ext cx="4952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ash equilibrium is flow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f*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uch that all paths with positive flow have the same cost, and no path is cheap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06560" y="3465360"/>
            <a:ext cx="1703160" cy="368280"/>
          </a:xfrm>
          <a:prstGeom prst="rect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Nash is 2/3,1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80060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(f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cost of average user under 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= cost of using path P given 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at Nash,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(f*) = min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*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6172200"/>
            <a:ext cx="8458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a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appens if people use no-regret algorithm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9720" y="2362320"/>
            <a:ext cx="26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 simple ca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nsider the following setting…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5410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morning, you need to pick one of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ossible routes to get to work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traffic is different each day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ot clear a priori which will be best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n you get there you find out how long your route took.  (And maybe others too or maybe not.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791320" y="1523880"/>
            <a:ext cx="2666880" cy="1904760"/>
            <a:chOff x="5791320" y="1523880"/>
            <a:chExt cx="2666880" cy="1904760"/>
          </a:xfrm>
        </p:grpSpPr>
        <p:sp>
          <p:nvSpPr>
            <p:cNvPr id="92" name=""/>
            <p:cNvSpPr/>
            <p:nvPr/>
          </p:nvSpPr>
          <p:spPr>
            <a:xfrm>
              <a:off x="6172200" y="1599840"/>
              <a:ext cx="2209680" cy="1752840"/>
            </a:xfrm>
            <a:custGeom>
              <a:avLst/>
              <a:gdLst/>
              <a:ahLst/>
              <a:rect l="l" t="t" r="r" b="b"/>
              <a:pathLst>
                <a:path w="1392" h="1104">
                  <a:moveTo>
                    <a:pt x="0" y="720"/>
                  </a:moveTo>
                  <a:lnTo>
                    <a:pt x="336" y="1104"/>
                  </a:lnTo>
                  <a:lnTo>
                    <a:pt x="528" y="816"/>
                  </a:lnTo>
                  <a:lnTo>
                    <a:pt x="1104" y="912"/>
                  </a:lnTo>
                  <a:lnTo>
                    <a:pt x="1392" y="384"/>
                  </a:lnTo>
                  <a:lnTo>
                    <a:pt x="720" y="480"/>
                  </a:lnTo>
                  <a:lnTo>
                    <a:pt x="960" y="0"/>
                  </a:lnTo>
                  <a:lnTo>
                    <a:pt x="1392" y="384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72200" y="1981080"/>
              <a:ext cx="1143000" cy="914400"/>
            </a:xfrm>
            <a:custGeom>
              <a:avLst/>
              <a:gdLst/>
              <a:ahLst/>
              <a:rect l="l" t="t" r="r" b="b"/>
              <a:pathLst>
                <a:path w="720" h="576">
                  <a:moveTo>
                    <a:pt x="0" y="480"/>
                  </a:moveTo>
                  <a:lnTo>
                    <a:pt x="336" y="0"/>
                  </a:lnTo>
                  <a:lnTo>
                    <a:pt x="720" y="240"/>
                  </a:lnTo>
                  <a:lnTo>
                    <a:pt x="528" y="576"/>
                  </a:lnTo>
                  <a:lnTo>
                    <a:pt x="0" y="480"/>
                  </a:lnTo>
                  <a:close/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95880" y="266688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29400" y="19047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38880" y="228564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29400" y="32763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34320" y="28191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48720" y="2971440"/>
              <a:ext cx="15228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05920" y="21333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20120" y="152388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5791320" y="2514240"/>
              <a:ext cx="27288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"/>
          <p:cNvSpPr/>
          <p:nvPr/>
        </p:nvSpPr>
        <p:spPr>
          <a:xfrm>
            <a:off x="8534520" y="2000160"/>
            <a:ext cx="609480" cy="307080"/>
          </a:xfrm>
          <a:prstGeom prst="rect">
            <a:avLst/>
          </a:prstGeom>
          <a:solidFill>
            <a:srgbClr val="000066"/>
          </a:solid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1854360"/>
            <a:ext cx="2289240" cy="736560"/>
          </a:xfrm>
          <a:custGeom>
            <a:avLst/>
            <a:gdLst/>
            <a:ahLst/>
            <a:rect l="l" t="t" r="r" b="b"/>
            <a:pathLst>
              <a:path w="1442" h="464">
                <a:moveTo>
                  <a:pt x="0" y="464"/>
                </a:moveTo>
                <a:cubicBezTo>
                  <a:pt x="76" y="264"/>
                  <a:pt x="152" y="64"/>
                  <a:pt x="288" y="32"/>
                </a:cubicBezTo>
                <a:cubicBezTo>
                  <a:pt x="424" y="0"/>
                  <a:pt x="624" y="254"/>
                  <a:pt x="816" y="272"/>
                </a:cubicBezTo>
                <a:cubicBezTo>
                  <a:pt x="1008" y="290"/>
                  <a:pt x="1312" y="170"/>
                  <a:pt x="1442" y="143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56600" y="23353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2 m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388620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s there a strategy for picking routes so that in the long run, whatever the sequence of traffic patterns has been, you’ve done not much worse than the best fixed route in hindsight?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(In expectation, over internal randomness in the algorith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der Wardro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/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oughgarden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ardos traffic model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se are “potential games” so Nash Equilibria are not that hard to fin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fact, a number of distributed procedures are known that will approach Nash at a good rate.  These even have property that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f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veryone else is using them, you might as well do so to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maybe you don’t trust {the others, the model,…}.  Can’t hurt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 use a no-regret algorithm instead!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Motivates studying what happens if everybody is minimizing regret for themselves.  Are Nash Equilibria the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nevitable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result of users intelligently behaving in their own interes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Also further motivates “price of anarchy” result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Global  behavior of NR algs </a:t>
            </a:r>
            <a:r>
              <a:rPr b="0" lang="en-US" sz="3200" spc="-1" strike="noStrike">
                <a:solidFill>
                  <a:srgbClr val="99ff33"/>
                </a:solidFill>
                <a:latin typeface="Comic Sans MS"/>
              </a:rPr>
              <a:t>[B-EvenDar-Ligett]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762120"/>
            <a:ext cx="84582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n day </a:t>
            </a:r>
            <a:r>
              <a:rPr b="0" lang="en-US" sz="28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have flow 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erage regret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by some time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, 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[Cost(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)] </a:t>
            </a:r>
            <a:r>
              <a:rPr b="0" lang="en-US" sz="28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+ min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avg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8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(P)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we’d like to say is the time-average flow 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Nash:     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Cost(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8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+ min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800" spc="-1" strike="noStrike" baseline="-5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(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r even better that </a:t>
            </a:r>
            <a:r>
              <a:rPr b="0" i="1" lang="en-US" sz="2800" spc="-1" strike="noStrike">
                <a:solidFill>
                  <a:srgbClr val="66ff33"/>
                </a:solidFill>
                <a:latin typeface="Comic Sans MS"/>
              </a:rPr>
              <a:t>mos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r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Nas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Cost(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8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+ min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8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(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t problems if cost functions are too shar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834640" y="4700520"/>
            <a:ext cx="3231720" cy="2009880"/>
            <a:chOff x="2834640" y="4700520"/>
            <a:chExt cx="3231720" cy="2009880"/>
          </a:xfrm>
        </p:grpSpPr>
        <p:sp>
          <p:nvSpPr>
            <p:cNvPr id="232" name=""/>
            <p:cNvSpPr/>
            <p:nvPr/>
          </p:nvSpPr>
          <p:spPr>
            <a:xfrm>
              <a:off x="2834640" y="543132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23560" y="540684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4" name=""/>
            <p:cNvCxnSpPr>
              <a:stCxn id="232" idx="7"/>
              <a:endCxn id="233" idx="1"/>
            </p:cNvCxnSpPr>
            <p:nvPr/>
          </p:nvCxnSpPr>
          <p:spPr>
            <a:xfrm flipH="1" flipV="1" rot="5400000">
              <a:off x="4439160" y="4304160"/>
              <a:ext cx="24480" cy="2458080"/>
            </a:xfrm>
            <a:prstGeom prst="curvedConnector5">
              <a:avLst>
                <a:gd name="adj1" fmla="val 1359701"/>
                <a:gd name="adj2" fmla="val 49992"/>
                <a:gd name="adj3" fmla="val 1359701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>
              <a:stCxn id="232" idx="5"/>
              <a:endCxn id="233" idx="3"/>
            </p:cNvCxnSpPr>
            <p:nvPr/>
          </p:nvCxnSpPr>
          <p:spPr>
            <a:xfrm flipH="1" flipV="1" rot="5400000">
              <a:off x="4439160" y="4648680"/>
              <a:ext cx="24480" cy="2458080"/>
            </a:xfrm>
            <a:prstGeom prst="curvedConnector5">
              <a:avLst>
                <a:gd name="adj1" fmla="val -1252238"/>
                <a:gd name="adj2" fmla="val 49992"/>
                <a:gd name="adj3" fmla="val -1252238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grpSp>
          <p:nvGrpSpPr>
            <p:cNvPr id="236" name=""/>
            <p:cNvGrpSpPr/>
            <p:nvPr/>
          </p:nvGrpSpPr>
          <p:grpSpPr>
            <a:xfrm>
              <a:off x="4114800" y="4700520"/>
              <a:ext cx="685800" cy="480960"/>
              <a:chOff x="4114800" y="4700520"/>
              <a:chExt cx="685800" cy="480960"/>
            </a:xfrm>
          </p:grpSpPr>
          <p:sp>
            <p:nvSpPr>
              <p:cNvPr id="237" name=""/>
              <p:cNvSpPr/>
              <p:nvPr/>
            </p:nvSpPr>
            <p:spPr>
              <a:xfrm>
                <a:off x="4114800" y="4724280"/>
                <a:ext cx="685800" cy="457200"/>
              </a:xfrm>
              <a:prstGeom prst="rect">
                <a:avLst/>
              </a:prstGeom>
              <a:solidFill>
                <a:srgbClr val="000066"/>
              </a:solidFill>
              <a:ln w="648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14800" y="4700520"/>
                <a:ext cx="663480" cy="480960"/>
              </a:xfrm>
              <a:custGeom>
                <a:avLst/>
                <a:gdLst/>
                <a:ahLst/>
                <a:rect l="l" t="t" r="r" b="b"/>
                <a:pathLst>
                  <a:path w="418" h="303">
                    <a:moveTo>
                      <a:pt x="0" y="303"/>
                    </a:moveTo>
                    <a:lnTo>
                      <a:pt x="247" y="300"/>
                    </a:lnTo>
                    <a:lnTo>
                      <a:pt x="256" y="0"/>
                    </a:lnTo>
                    <a:lnTo>
                      <a:pt x="418" y="0"/>
                    </a:lnTo>
                  </a:path>
                </a:pathLst>
              </a:custGeom>
              <a:solidFill>
                <a:srgbClr val="000066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4114800" y="6248520"/>
              <a:ext cx="685800" cy="457200"/>
            </a:xfrm>
            <a:prstGeom prst="rect">
              <a:avLst/>
            </a:prstGeom>
            <a:solidFill>
              <a:srgbClr val="000066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14800" y="6224760"/>
              <a:ext cx="663480" cy="485640"/>
            </a:xfrm>
            <a:custGeom>
              <a:avLst/>
              <a:gdLst/>
              <a:ahLst/>
              <a:rect l="l" t="t" r="r" b="b"/>
              <a:pathLst>
                <a:path w="418" h="306">
                  <a:moveTo>
                    <a:pt x="0" y="303"/>
                  </a:moveTo>
                  <a:lnTo>
                    <a:pt x="118" y="306"/>
                  </a:lnTo>
                  <a:lnTo>
                    <a:pt x="126" y="6"/>
                  </a:lnTo>
                  <a:lnTo>
                    <a:pt x="418" y="0"/>
                  </a:lnTo>
                </a:path>
              </a:pathLst>
            </a:custGeom>
            <a:solidFill>
              <a:srgbClr val="000066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24600" y="51958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2920" y="57913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lobal  behavior of NR alg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762120"/>
            <a:ext cx="6248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esting case to consid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747760" y="1066680"/>
            <a:ext cx="3231720" cy="2009880"/>
            <a:chOff x="5747760" y="1066680"/>
            <a:chExt cx="3231720" cy="2009880"/>
          </a:xfrm>
        </p:grpSpPr>
        <p:sp>
          <p:nvSpPr>
            <p:cNvPr id="246" name=""/>
            <p:cNvSpPr/>
            <p:nvPr/>
          </p:nvSpPr>
          <p:spPr>
            <a:xfrm>
              <a:off x="5747760" y="179748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536680" y="177300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8" name=""/>
            <p:cNvCxnSpPr>
              <a:stCxn id="246" idx="7"/>
              <a:endCxn id="247" idx="1"/>
            </p:cNvCxnSpPr>
            <p:nvPr/>
          </p:nvCxnSpPr>
          <p:spPr>
            <a:xfrm flipH="1" flipV="1" rot="5400000">
              <a:off x="7352280" y="670320"/>
              <a:ext cx="24480" cy="2458080"/>
            </a:xfrm>
            <a:prstGeom prst="curvedConnector5">
              <a:avLst>
                <a:gd name="adj1" fmla="val 1359701"/>
                <a:gd name="adj2" fmla="val 49992"/>
                <a:gd name="adj3" fmla="val 1359701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6" idx="5"/>
              <a:endCxn id="247" idx="3"/>
            </p:cNvCxnSpPr>
            <p:nvPr/>
          </p:nvCxnSpPr>
          <p:spPr>
            <a:xfrm flipH="1" flipV="1" rot="5400000">
              <a:off x="7352280" y="1014840"/>
              <a:ext cx="24480" cy="2458080"/>
            </a:xfrm>
            <a:prstGeom prst="curvedConnector5">
              <a:avLst>
                <a:gd name="adj1" fmla="val -1252238"/>
                <a:gd name="adj2" fmla="val 49992"/>
                <a:gd name="adj3" fmla="val -1252238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grpSp>
          <p:nvGrpSpPr>
            <p:cNvPr id="250" name=""/>
            <p:cNvGrpSpPr/>
            <p:nvPr/>
          </p:nvGrpSpPr>
          <p:grpSpPr>
            <a:xfrm>
              <a:off x="7027920" y="1066680"/>
              <a:ext cx="685800" cy="480960"/>
              <a:chOff x="7027920" y="1066680"/>
              <a:chExt cx="685800" cy="480960"/>
            </a:xfrm>
          </p:grpSpPr>
          <p:sp>
            <p:nvSpPr>
              <p:cNvPr id="251" name=""/>
              <p:cNvSpPr/>
              <p:nvPr/>
            </p:nvSpPr>
            <p:spPr>
              <a:xfrm>
                <a:off x="7027920" y="1090440"/>
                <a:ext cx="685800" cy="457200"/>
              </a:xfrm>
              <a:prstGeom prst="rect">
                <a:avLst/>
              </a:prstGeom>
              <a:solidFill>
                <a:srgbClr val="000066"/>
              </a:solidFill>
              <a:ln w="648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027920" y="1066680"/>
                <a:ext cx="663480" cy="480960"/>
              </a:xfrm>
              <a:custGeom>
                <a:avLst/>
                <a:gdLst/>
                <a:ahLst/>
                <a:rect l="l" t="t" r="r" b="b"/>
                <a:pathLst>
                  <a:path w="418" h="303">
                    <a:moveTo>
                      <a:pt x="0" y="303"/>
                    </a:moveTo>
                    <a:lnTo>
                      <a:pt x="247" y="300"/>
                    </a:lnTo>
                    <a:lnTo>
                      <a:pt x="256" y="0"/>
                    </a:lnTo>
                    <a:lnTo>
                      <a:pt x="418" y="0"/>
                    </a:lnTo>
                  </a:path>
                </a:pathLst>
              </a:custGeom>
              <a:solidFill>
                <a:srgbClr val="000066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7027920" y="2614680"/>
              <a:ext cx="685800" cy="457200"/>
            </a:xfrm>
            <a:prstGeom prst="rect">
              <a:avLst/>
            </a:prstGeom>
            <a:solidFill>
              <a:srgbClr val="000066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27920" y="2590920"/>
              <a:ext cx="663480" cy="485640"/>
            </a:xfrm>
            <a:custGeom>
              <a:avLst/>
              <a:gdLst/>
              <a:ahLst/>
              <a:rect l="l" t="t" r="r" b="b"/>
              <a:pathLst>
                <a:path w="418" h="306">
                  <a:moveTo>
                    <a:pt x="0" y="303"/>
                  </a:moveTo>
                  <a:lnTo>
                    <a:pt x="118" y="306"/>
                  </a:lnTo>
                  <a:lnTo>
                    <a:pt x="126" y="6"/>
                  </a:lnTo>
                  <a:lnTo>
                    <a:pt x="418" y="0"/>
                  </a:lnTo>
                </a:path>
              </a:pathLst>
            </a:custGeom>
            <a:solidFill>
              <a:srgbClr val="000066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37720" y="15620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06040" y="21574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380880" y="274320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Pure greedy has cost 1 every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NR alg: cost approaches ½ per day, which is cost of best fixed path in hinds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But none of the individual days is an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-Nash flow (a flow where only a small fraction of traffic has significant incentive to switch). Same for time-average flow 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But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can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show if bounded slope… 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762120"/>
            <a:ext cx="86868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of sketc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ny edge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ime-avg cost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low-avg cost.  So,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mming over all edges, and applying the regret bound: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+min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],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ich in turn is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+ 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means that actually, for each edge, the time-avg cost must be pretty close to the flow-avg cost, which (by the assumption of bounded slope) means the costs can’t vary too much over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then lets you swap quantifiers (cost/avg) to get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’ + min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 = O(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x-slope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also get bounds for “most” 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ome extension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4582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multi-commodity case (different sources/destination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case of different allowable subgraph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 each commodity is a (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G’) tripl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simple case of parallel links, this is “restricted machines setting”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ummary/Open probl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ret-minimizing algorithms esp motivated by online learning and routing-type problem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eeping experts” algorithm can handle different 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wap-regret related to correlated equilibri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-external-regret property sufficient to converge to Nash in Wardrop model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Open problem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ime-bounds sublinear in N for achieving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swap regret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ther “price of minimizing regret / true-anarchy /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adaptiv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self-interested behavior” results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 fact, results of this sort have been known for a long time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234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Plan for this talk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istory and background on these “no-regret” algorithm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me recent results / new direction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nections to game-theoretic equilibria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rrelated equilibria, Nash equilibria in some case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lk is combination of classic and new work.  Talk-version of survey chapter that Yishay Mansour and I are writing…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-regret” algorithms for repeated gam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bit more generally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peated play of matrix game with N rows. 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(Algorithm is row-player, rows represent different possible action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 each time step, algorithm picks row, life picks colum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pays cost for action chos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gets column as feedback (or just its own cost in the “bandit” model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eed to assume some bound on max cost.  Let’s say all costs between 0 and 1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733920" y="2057400"/>
            <a:ext cx="2329920" cy="1218960"/>
            <a:chOff x="3733920" y="2057400"/>
            <a:chExt cx="2329920" cy="1218960"/>
          </a:xfrm>
        </p:grpSpPr>
        <p:sp>
          <p:nvSpPr>
            <p:cNvPr id="112" name=""/>
            <p:cNvSpPr/>
            <p:nvPr/>
          </p:nvSpPr>
          <p:spPr>
            <a:xfrm>
              <a:off x="4001400" y="2300760"/>
              <a:ext cx="2016360" cy="9756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200000">
              <a:off x="3422160" y="255564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lgorith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00480" y="2057400"/>
              <a:ext cx="186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versary – world - lif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038480" y="2666880"/>
            <a:ext cx="1981440" cy="152640"/>
          </a:xfrm>
          <a:prstGeom prst="rect">
            <a:avLst/>
          </a:prstGeom>
          <a:solidFill>
            <a:srgbClr val="ff9966">
              <a:alpha val="38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2286000"/>
            <a:ext cx="152280" cy="990720"/>
          </a:xfrm>
          <a:prstGeom prst="rect">
            <a:avLst/>
          </a:prstGeom>
          <a:solidFill>
            <a:srgbClr val="ff9966">
              <a:alpha val="49000"/>
            </a:srgbClr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-regret” algorithms for repeated gam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 each time step, algorithm picks row, life picks colum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pays cost for action chos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gets column as feedback (or just its own cost in the “bandit” model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eed to assume some bound on max cost.  Let’s say all costs between 0 and 1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373392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Define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verage regret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in T time steps 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avg per-day cost of alg)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–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avg per-day cost of best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fixed row in hindsight)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.  We want this to go to 0 or better as T gets large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[= “no-regret” algorithm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92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ome intuition &amp; properties of no-regret algs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6172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ime-average performance guaranteed to approach minimax value V of game (or better, if life isn’t adversarial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wo NR algorithms playing against  each other will have empirical distribution approach minimax optimal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istence of no-regret algs yields proof of minimax th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orithms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mus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e randomized or else it’s hopeles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400800" y="1676520"/>
            <a:ext cx="2590920" cy="1523880"/>
            <a:chOff x="6400800" y="1676520"/>
            <a:chExt cx="2590920" cy="1523880"/>
          </a:xfrm>
        </p:grpSpPr>
        <p:sp>
          <p:nvSpPr>
            <p:cNvPr id="123" name=""/>
            <p:cNvSpPr/>
            <p:nvPr/>
          </p:nvSpPr>
          <p:spPr>
            <a:xfrm>
              <a:off x="6705720" y="1981080"/>
              <a:ext cx="2286000" cy="12193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6200000">
              <a:off x="6089040" y="244764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lgorith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32880" y="1676520"/>
              <a:ext cx="186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versary – world - lif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istory and development (abridged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Hannan’57, Blackwell’56]:  Alg. with regret O((N/T)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-phrasing, need only T = O(N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teps to get time-average regret down to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(will call this quantity T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ptimal dependence on T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(or 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Game-theorists viewed #rows N as constant, not so important as T, so pretty much do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Learning-theory 80s-90s: “combining expert advice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Perform (nearly) as well as best f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C. View N as larg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[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ttleston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rmu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89]: Weighted-majority algorith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[cost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PT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+ (log N)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OPT+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+(log N)/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gret O((log N)/T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= O((log N)/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ptimal as fn of N too, plus lots of work on exact constants, 2</a:t>
            </a:r>
            <a:r>
              <a:rPr b="0" lang="en-US" sz="2400" spc="-1" strike="noStrike" baseline="30000">
                <a:solidFill>
                  <a:srgbClr val="ff6699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rder terms, etc. </a:t>
            </a: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[CFHHSW93]…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xtensions to bandit model (adds extra factor of 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unds have only log dependence on 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, conceivably can do well when N is exponential in natural problem size, if only could implement efficientl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g., case of paths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cent years: series of results giving efficient implementation/alternatives in various setting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fficient implicit implementation for large N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657600" y="3429000"/>
            <a:ext cx="4648320" cy="762120"/>
            <a:chOff x="3657600" y="3429000"/>
            <a:chExt cx="4648320" cy="762120"/>
          </a:xfrm>
        </p:grpSpPr>
        <p:sp>
          <p:nvSpPr>
            <p:cNvPr id="131" name=""/>
            <p:cNvSpPr/>
            <p:nvPr/>
          </p:nvSpPr>
          <p:spPr>
            <a:xfrm>
              <a:off x="5105520" y="3505320"/>
              <a:ext cx="1440" cy="617400"/>
            </a:xfrm>
            <a:custGeom>
              <a:avLst/>
              <a:gdLst/>
              <a:ahLst/>
              <a:rect l="l" t="t" r="r" b="b"/>
              <a:pathLst>
                <a:path w="1" h="389">
                  <a:moveTo>
                    <a:pt x="0" y="38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91320" y="3505320"/>
              <a:ext cx="1440" cy="617400"/>
            </a:xfrm>
            <a:custGeom>
              <a:avLst/>
              <a:gdLst/>
              <a:ahLst/>
              <a:rect l="l" t="t" r="r" b="b"/>
              <a:pathLst>
                <a:path w="1" h="389">
                  <a:moveTo>
                    <a:pt x="0" y="38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77120" y="3505320"/>
              <a:ext cx="1440" cy="617400"/>
            </a:xfrm>
            <a:custGeom>
              <a:avLst/>
              <a:gdLst/>
              <a:ahLst/>
              <a:rect l="l" t="t" r="r" b="b"/>
              <a:pathLst>
                <a:path w="1" h="389">
                  <a:moveTo>
                    <a:pt x="0" y="38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56440" y="3505320"/>
              <a:ext cx="439920" cy="633240"/>
            </a:xfrm>
            <a:custGeom>
              <a:avLst/>
              <a:gdLst/>
              <a:ahLst/>
              <a:rect l="l" t="t" r="r" b="b"/>
              <a:pathLst>
                <a:path w="277" h="399">
                  <a:moveTo>
                    <a:pt x="270" y="160"/>
                  </a:moveTo>
                  <a:lnTo>
                    <a:pt x="0" y="399"/>
                  </a:lnTo>
                  <a:lnTo>
                    <a:pt x="4" y="0"/>
                  </a:lnTo>
                  <a:lnTo>
                    <a:pt x="277" y="167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07120" y="4114800"/>
              <a:ext cx="2755800" cy="11160"/>
            </a:xfrm>
            <a:custGeom>
              <a:avLst/>
              <a:gdLst/>
              <a:ahLst/>
              <a:rect l="l" t="t" r="r" b="b"/>
              <a:pathLst>
                <a:path w="1736" h="7">
                  <a:moveTo>
                    <a:pt x="1736" y="7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05320" y="3486240"/>
              <a:ext cx="2756160" cy="11160"/>
            </a:xfrm>
            <a:custGeom>
              <a:avLst/>
              <a:gdLst/>
              <a:ahLst/>
              <a:rect l="l" t="t" r="r" b="b"/>
              <a:pathLst>
                <a:path w="1736" h="7">
                  <a:moveTo>
                    <a:pt x="1736" y="7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27600" y="3486240"/>
              <a:ext cx="501480" cy="628560"/>
            </a:xfrm>
            <a:custGeom>
              <a:avLst/>
              <a:gdLst/>
              <a:ahLst/>
              <a:rect l="l" t="t" r="r" b="b"/>
              <a:pathLst>
                <a:path w="316" h="396">
                  <a:moveTo>
                    <a:pt x="316" y="396"/>
                  </a:moveTo>
                  <a:lnTo>
                    <a:pt x="0" y="187"/>
                  </a:lnTo>
                  <a:lnTo>
                    <a:pt x="306" y="0"/>
                  </a:lnTo>
                  <a:lnTo>
                    <a:pt x="306" y="389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434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434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3657600" y="3505320"/>
              <a:ext cx="27324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50292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50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150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08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008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866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866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96440" y="3581280"/>
              <a:ext cx="609480" cy="307080"/>
            </a:xfrm>
            <a:prstGeom prst="rect">
              <a:avLst/>
            </a:prstGeom>
            <a:solidFill>
              <a:srgbClr val="000066"/>
            </a:solidFill>
            <a:ln w="255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MI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rim Blum</cp:lastModifiedBy>
  <dcterms:modified xsi:type="dcterms:W3CDTF">2006-03-14T13:24:06Z</dcterms:modified>
  <cp:revision>86</cp:revision>
  <dc:subject/>
  <dc:title>On Routing without Regr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