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995F-16FF-4D0D-9C56-90444A166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o be concrete...  just made up ...  count Y = 1, N = 0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097-0422-4DD8-B37A-9DC7F02B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2E7-8796-4703-A78A-BB891A79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B06-9BB0-4FFB-BBBC-02947B24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8B1-08E8-48D0-94CD-8C56BA76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2F916-F9F7-482D-A7A8-80D9711C58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C5AF0-3DE0-48BB-8AC8-80CA18786E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BCE8E-C185-4D1C-87E8-7BC74BED2C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3BA65-02EF-42D4-865F-6B28244E6E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63DEB-72E8-42CD-B85B-9D722D24B6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9542B-F464-416F-8FDB-CA3ECA3001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422CB-CB2B-46A7-B9AA-3AAE04630D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5AFD-4D62-4483-8F0E-39BCDFBC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0BBD8-096B-479D-AEA3-C49B5C8450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904E9-21C5-466C-8369-30B8F03FD6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1CC1F-9215-4526-8E88-B02CF30813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F1BF0-0E59-433D-A870-57E5E97571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997C2-B3A9-496B-831D-F768F64394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7F236-1F82-44FF-9EAB-9D48CE46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737D9-F609-4610-B60D-87EB2485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2D1BB-0444-4A39-8286-99388A0C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29B7B-8E99-4686-B6B7-5B6F1E76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B4B9B-2BFE-4ED1-A5C0-92573D0F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122-7D85-4894-9AD5-4FEC8CA5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11F2C-041B-4300-B829-9BDE10A9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285B8-1D70-4691-9E96-18ED1373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CACBF-6EF7-4EF0-8EA9-98EEDCCC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EBDE1-E115-4616-9FCE-61C3D2C5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59E9D-A623-4CE5-B7C5-97A48704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191AF-C8A8-4CD4-9D0F-F3EED6C5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AE87D-C49E-4B01-81EF-934C1A51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252-A261-4655-AF25-19BBACB3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09F-A44B-4CFB-A8FA-DF8E03AF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B4B-F0E3-4501-9B90-99F16A77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B57-1F73-4FEF-B8CB-C0970C8E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C8F-412C-4E5A-A9A0-46407978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76E-B34E-4418-9880-528CB23F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9A17-D68B-46AE-BC92-D7B80D2E2EB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631E-CF27-4A8E-A081-8EA86502B3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7815-AE5D-4C0A-9F62-D3018D061AB6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2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New Horizons in Machine Learn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vrim Blum 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343400"/>
            <a:ext cx="6248160" cy="70380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is mostly a survey, but last part is joint work with Nina Balcan and Santosh Vemp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95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Workshop on New Horizons in Computing, Kyoto 20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place log |H| with log(# ways of splitting S using functions in H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margins: how well-separated the data i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other observable properties of S and relation of S to H; other complexity measur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ow to implicitly map data into higher-dimensional space, without paying for it if algorithm can be “kernelized”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t back to this in a few minut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int is: if, say, data not linearly separable in original space, it could be in new spac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ing labeled and unlabeled data together (often unlabeled data is much more plentiful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if have beliefs about not just form of target but also its relationship to underlying distribu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-training, graph-based methods, transductive SVM,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ic strategies with excellent regret bounds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(from Hannan in 1950s to weighted-majority in 80s-90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work on strategies that can efficiently handle large implicit choice spaces. [KV][Z]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2057400"/>
            <a:ext cx="3657600" cy="6094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Could give full talk on any one of th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ocus on #2, with connection to random projection and metric embeddings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of the most natural approaches to learning is to try to learn a linear separato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what if the data is not linearly separable?  Yet you still want to use the same algorith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idea: Kernel function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523520" y="2286000"/>
            <a:ext cx="1757880" cy="1804320"/>
            <a:chOff x="1523520" y="2286000"/>
            <a:chExt cx="1757880" cy="1804320"/>
          </a:xfrm>
        </p:grpSpPr>
        <p:grpSp>
          <p:nvGrpSpPr>
            <p:cNvPr id="172" name=""/>
            <p:cNvGrpSpPr/>
            <p:nvPr/>
          </p:nvGrpSpPr>
          <p:grpSpPr>
            <a:xfrm>
              <a:off x="1523520" y="2286000"/>
              <a:ext cx="1757880" cy="1804320"/>
              <a:chOff x="1523520" y="2286000"/>
              <a:chExt cx="1757880" cy="1804320"/>
            </a:xfrm>
          </p:grpSpPr>
          <p:sp>
            <p:nvSpPr>
              <p:cNvPr id="173" name=""/>
              <p:cNvSpPr/>
              <p:nvPr/>
            </p:nvSpPr>
            <p:spPr>
              <a:xfrm flipH="1" flipV="1">
                <a:off x="1769760" y="2553480"/>
                <a:ext cx="1193040" cy="12837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3768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11280" y="2713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9080" y="2607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98000" y="3035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91800" y="2926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1856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23520" y="276624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69760" y="3409920"/>
                <a:ext cx="23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48960" y="30880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21840" y="35697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196720" y="3315240"/>
                <a:ext cx="294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523880" y="2286000"/>
              <a:ext cx="1752480" cy="17157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667400" y="2286000"/>
            <a:ext cx="1752480" cy="1804680"/>
            <a:chOff x="4667400" y="2286000"/>
            <a:chExt cx="1752480" cy="1804680"/>
          </a:xfrm>
        </p:grpSpPr>
        <p:sp>
          <p:nvSpPr>
            <p:cNvPr id="187" name=""/>
            <p:cNvSpPr/>
            <p:nvPr/>
          </p:nvSpPr>
          <p:spPr>
            <a:xfrm>
              <a:off x="528228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44120" y="3048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48680" y="2743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25720" y="312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6780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6172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96000" y="24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13280" y="3409920"/>
              <a:ext cx="23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43360" y="3048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65720" y="3570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7000" y="34434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67400" y="2286000"/>
              <a:ext cx="1752480" cy="1716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3360" y="2438280"/>
              <a:ext cx="1249200" cy="1238400"/>
            </a:xfrm>
            <a:custGeom>
              <a:avLst/>
              <a:gdLst/>
              <a:ahLst/>
              <a:rect l="l" t="t" r="r" b="b"/>
              <a:pathLst>
                <a:path w="787" h="780">
                  <a:moveTo>
                    <a:pt x="154" y="0"/>
                  </a:moveTo>
                  <a:cubicBezTo>
                    <a:pt x="78" y="280"/>
                    <a:pt x="0" y="564"/>
                    <a:pt x="106" y="672"/>
                  </a:cubicBezTo>
                  <a:cubicBezTo>
                    <a:pt x="212" y="780"/>
                    <a:pt x="645" y="652"/>
                    <a:pt x="787" y="64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Kernel Function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a function on pairs of examples, such that for som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implici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unction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o a possibly high-dimensional space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, K(x,y) = (1 + x 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y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x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55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 is easy to compute, even though you can’t even efficiently write dow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point: many linear-separator algorithms can be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kerneliz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made to use K and act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as i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heir input was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x)’s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ven a set of images:            , represented as pixels, want to distinguish men from wome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pixels not a great representation for image classificatio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  Choose K appropriate for type of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ypical application for Kernels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76920" y="914400"/>
            <a:ext cx="1295280" cy="762120"/>
            <a:chOff x="4876920" y="914400"/>
            <a:chExt cx="1295280" cy="762120"/>
          </a:xfrm>
        </p:grpSpPr>
        <p:pic>
          <p:nvPicPr>
            <p:cNvPr id="20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876920" y="9144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638680" y="9144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3581280" y="3657600"/>
            <a:ext cx="1295280" cy="762120"/>
            <a:chOff x="3581280" y="3657600"/>
            <a:chExt cx="1295280" cy="762120"/>
          </a:xfrm>
        </p:grpSpPr>
        <p:pic>
          <p:nvPicPr>
            <p:cNvPr id="208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581280" y="36576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343040" y="36576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6095880" y="367524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7467480" y="365760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about # of samples needed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n’t have to pay for dimensionality of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space if data is separable by a large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margi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 need sample size only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Õ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30000">
                <a:solidFill>
                  <a:srgbClr val="ff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about sample-complexity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81280" y="990720"/>
            <a:ext cx="1295280" cy="761760"/>
            <a:chOff x="3581280" y="990720"/>
            <a:chExt cx="1295280" cy="761760"/>
          </a:xfrm>
        </p:grpSpPr>
        <p:pic>
          <p:nvPicPr>
            <p:cNvPr id="21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581280" y="990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343040" y="990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6095880" y="100800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rcRect l="42561" t="18882" r="24347" b="18213"/>
          <a:stretch/>
        </p:blipFill>
        <p:spPr>
          <a:xfrm>
            <a:off x="7467480" y="990720"/>
            <a:ext cx="533520" cy="761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8320" y="5052960"/>
            <a:ext cx="47908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|w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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x)|/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x)|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,  |w|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962320" y="4597560"/>
            <a:ext cx="3151800" cy="1804320"/>
            <a:chOff x="5962320" y="4597560"/>
            <a:chExt cx="3151800" cy="1804320"/>
          </a:xfrm>
        </p:grpSpPr>
        <p:grpSp>
          <p:nvGrpSpPr>
            <p:cNvPr id="221" name=""/>
            <p:cNvGrpSpPr/>
            <p:nvPr/>
          </p:nvGrpSpPr>
          <p:grpSpPr>
            <a:xfrm>
              <a:off x="5962320" y="4597560"/>
              <a:ext cx="1758240" cy="1804320"/>
              <a:chOff x="5962320" y="4597560"/>
              <a:chExt cx="1758240" cy="18043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5962320" y="4597560"/>
                <a:ext cx="1758240" cy="1804320"/>
                <a:chOff x="5962320" y="4597560"/>
                <a:chExt cx="1758240" cy="1804320"/>
              </a:xfrm>
            </p:grpSpPr>
            <p:sp>
              <p:nvSpPr>
                <p:cNvPr id="223" name=""/>
                <p:cNvSpPr/>
                <p:nvPr/>
              </p:nvSpPr>
              <p:spPr>
                <a:xfrm flipH="1" flipV="1">
                  <a:off x="6208200" y="4865040"/>
                  <a:ext cx="1193400" cy="12837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57648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850440" y="5025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068240" y="4919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37160" y="53467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230960" y="52380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95736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962320" y="507780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208560" y="5721480"/>
                  <a:ext cx="23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287760" y="539964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561000" y="588132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35880" y="5626800"/>
                  <a:ext cx="294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5962680" y="4597560"/>
                <a:ext cx="1752480" cy="17157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45080" y="4759200"/>
                <a:ext cx="760680" cy="1498680"/>
              </a:xfrm>
              <a:custGeom>
                <a:avLst/>
                <a:gdLst/>
                <a:ahLst/>
                <a:rect l="l" t="t" r="r" b="b"/>
                <a:pathLst>
                  <a:path w="479" h="944">
                    <a:moveTo>
                      <a:pt x="0" y="0"/>
                    </a:moveTo>
                    <a:lnTo>
                      <a:pt x="479" y="944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093000" y="5078520"/>
                <a:ext cx="1454040" cy="869760"/>
              </a:xfrm>
              <a:custGeom>
                <a:avLst/>
                <a:gdLst/>
                <a:ahLst/>
                <a:rect l="l" t="t" r="r" b="b"/>
                <a:pathLst>
                  <a:path w="916" h="548">
                    <a:moveTo>
                      <a:pt x="0" y="0"/>
                    </a:moveTo>
                    <a:lnTo>
                      <a:pt x="916" y="548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7775280" y="510552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</a:t>
              </a:r>
              <a:r>
                <a:rPr b="0" lang="en-US" sz="2400" spc="-1" strike="noStrike">
                  <a:solidFill>
                    <a:srgbClr val="00ff00"/>
                  </a:solidFill>
                  <a:latin typeface="Arial Unicode MS"/>
                </a:rPr>
                <a:t>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o, with that background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is Machine Learning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sign of programs that adapt from experience, identify patterns in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ognize speech, faces, im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er a car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lay games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tegorize documents, info retrieval,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Goals of ML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develop models, analyze algorithmic and statistical issues involv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Question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kernels really allowing you to magically use power of implicit high-dimensiona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space without paying for i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’s going 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-space for f,D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8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ontd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&amp; access to typical input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-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g, sample 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D. Given x, define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View choosing a kernel like choosing a (distrib dependent) set of features,  rather than “magic power of implicit high dimensional space”.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ough argument needs existence of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functions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Why is this a plausible goal in principle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JL lemma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ata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247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cc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251" name="" descr=""/>
                <p:cNvPicPr/>
                <p:nvPr/>
              </p:nvPicPr>
              <p:blipFill>
                <a:blip r:embed="rId1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</p:grpSp>
        </p:grpSp>
        <p:sp>
          <p:nvSpPr>
            <p:cNvPr id="253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421960" y="395712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can view coords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262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3 methods (from simplest to best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ctually, the argument is not too hard...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4280040"/>
            <a:ext cx="64008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Key fac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275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68960" y="3713040"/>
            <a:ext cx="80787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9560" y="5603760"/>
            <a:ext cx="52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 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So....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209680"/>
            <a:ext cx="823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margin not preserved because length of target, examples not p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What if we want to preserve margin?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(mapping 2)</a:t>
            </a:r>
            <a:endParaRPr b="0" lang="en-US" sz="2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 with last mapping i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s might be highly correlated.   So, dot-product mapping doesn’t preserve margi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want to do an orthogonal projection of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□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Use this to improve dimension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 can set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small enough so that whp a sample of size O(d) is perfectly separable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we achieve that efficientl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Mapping #2, then do random projection down from that.  (using fact that mapping #2 had a marg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s us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Plan for this talk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cuss some of current challenges and “hot topics”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cus on topic of “kernel methods”, and connections to random projection, embedding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Start with a quick orientation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ower bound (on necessity of access to D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355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Open Problems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specific natural kernels, like “polynomial” kernel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(x,y) = (1 + x</a:t>
            </a:r>
            <a:r>
              <a:rPr b="0" lang="en-US" sz="28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is there an efficient analog to JL, without needing access to D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can one at least reduce the sample-complexity ? (use fewer accesses to D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would increase practicality of this approac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one extend results (e.g., mapping #1: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[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to more general similarity function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 exactly clear what theorem statement would look lik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agine you want a computer program to help you decide which email messages ar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which are importa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ght represent each message by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atures.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e.g., return address, keywords, spelling, etc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ke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f data, labeled according to whether they were/weren’t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of algorithm is to use data seen so far to produce good prediction rule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a “hypothesis”)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(x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 future data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09320" y="3048120"/>
            <a:ext cx="8669520" cy="642600"/>
            <a:chOff x="409320" y="3048120"/>
            <a:chExt cx="8669520" cy="642600"/>
          </a:xfrm>
        </p:grpSpPr>
        <p:sp>
          <p:nvSpPr>
            <p:cNvPr id="141" name=""/>
            <p:cNvSpPr/>
            <p:nvPr/>
          </p:nvSpPr>
          <p:spPr>
            <a:xfrm>
              <a:off x="7391520" y="3048120"/>
              <a:ext cx="7617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048120"/>
              <a:ext cx="55623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9320" y="3062160"/>
              <a:ext cx="112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ffffff"/>
                  </a:solidFill>
                  <a:latin typeface="cmmi7"/>
                </a:rPr>
                <a:t>examp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99080" y="3048120"/>
              <a:ext cx="77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30000">
                  <a:solidFill>
                    <a:srgbClr val="ffffff"/>
                  </a:solidFill>
                  <a:latin typeface="cmmi7"/>
                </a:rPr>
                <a:t>lab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3716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3400"/>
            <a:ext cx="914400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Given data, some reasonable rules might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unknown AND (money OR pi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money + pills – known &gt;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84200"/>
            <a:ext cx="6645240" cy="2478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Big question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ow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ight we automatically generate rules like this that do well on observed data?  [Algorithm design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What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ur real goal is to do well on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dat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kind of confidence do we have that rules that do well on sample will do well in the futur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ple complex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R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4876920"/>
            <a:ext cx="4572000" cy="990360"/>
          </a:xfrm>
          <a:prstGeom prst="wedgeRoundRectCallout">
            <a:avLst>
              <a:gd name="adj1" fmla="val -55662"/>
              <a:gd name="adj2" fmla="val 33972"/>
              <a:gd name="adj3" fmla="val 16667"/>
            </a:avLst>
          </a:prstGeom>
          <a:solidFill>
            <a:srgbClr val="000066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for a given learning alg, how much data do we nee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o be a little more formal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AC model setup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is given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 = {(x,</a:t>
            </a:r>
            <a:r>
              <a:rPr b="0" lang="en-US" sz="3200" spc="-1" strike="noStrike">
                <a:solidFill>
                  <a:srgbClr val="ff66cc"/>
                </a:solidFill>
                <a:latin typeface="cmmi7"/>
              </a:rPr>
              <a:t>l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)}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rawn from some distributi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ver examples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labele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some target functio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does optimization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produce some hypothes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 </a:t>
            </a:r>
            <a:r>
              <a:rPr b="0" lang="en-US" sz="3200" spc="-1" strike="noStrike">
                <a:solidFill>
                  <a:srgbClr val="ff66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 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e.g., H = linear separators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is fo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be close to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h(x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(x)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ow failure with small prob </a:t>
            </a:r>
            <a:r>
              <a:rPr b="0" lang="en-US" sz="3200" spc="-1" strike="noStrike">
                <a:solidFill>
                  <a:srgbClr val="ff66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to allow for chance that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not representative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uckily, simple sample-complexity bound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|S| </a:t>
            </a:r>
            <a:r>
              <a:rPr b="0" lang="en-US" sz="2800" spc="-1" strike="noStrike">
                <a:solidFill>
                  <a:srgbClr val="ff33cc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[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|H|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+ 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ink of log|H| as the number of bits to write down h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n whp (1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all h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 that agree with S have true error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fact, with extra factor of O(1/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enough so whp all have |true error – empirical error|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plica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we view cost of examples as comparable to cost of computation, then don’t have to worry about data cost since just ~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per bit outpu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, in practice, costs often wildly different, so sample-complexity issues are crucia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04:57:18Z</dcterms:created>
  <dc:creator>Avrim Blum</dc:creator>
  <dc:description/>
  <dc:language>en-US</dc:language>
  <cp:lastModifiedBy>Avrim Blum</cp:lastModifiedBy>
  <dcterms:modified xsi:type="dcterms:W3CDTF">2008-03-17T11:45:08Z</dcterms:modified>
  <cp:revision>33</cp:revision>
  <dc:subject/>
  <dc:title>New Horizons in Machine Learning</dc:title>
</cp:coreProperties>
</file>