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4964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4964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75C84B-CD8E-4D4F-9C4A-AA910BD9B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first phr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009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&lt;footer&gt;</a:t>
            </a: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Maria-Florina Bal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dwords.google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2729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Machine Learning for Mechanism Design and Pricing Problems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35268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vrim Blu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39625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Comic Sans MS"/>
              </a:rPr>
              <a:t>Carnegie Mellon Univer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876920"/>
            <a:ext cx="7696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int work with Maria-Florina Balc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son Hartline, and Yishay Mans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61280" y="6248520"/>
            <a:ext cx="23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0066"/>
                </a:solidFill>
                <a:latin typeface="Comic Sans MS"/>
              </a:rPr>
              <a:t>[Informs 2009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038480"/>
            <a:ext cx="8686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ask people for their valuations and use this to set a price as before, but people will low-ball (not incentive-compatibl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59436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Ask buyers to submit bids b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andomly partition bidders into       two sets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Find best price over bids i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…       and use it as offer price o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! </a:t>
            </a:r>
            <a:r>
              <a:rPr b="0" lang="en-US" sz="1400" spc="-1" strike="noStrike">
                <a:solidFill>
                  <a:srgbClr val="0000cc"/>
                </a:solidFill>
                <a:latin typeface="Comic Sans MS"/>
              </a:rPr>
              <a:t>(&amp; vice vers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388944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94520" y="4537080"/>
            <a:ext cx="1987200" cy="1779120"/>
            <a:chOff x="6194520" y="4537080"/>
            <a:chExt cx="1987200" cy="1779120"/>
          </a:xfrm>
        </p:grpSpPr>
        <p:grpSp>
          <p:nvGrpSpPr>
            <p:cNvPr id="136" name=""/>
            <p:cNvGrpSpPr/>
            <p:nvPr/>
          </p:nvGrpSpPr>
          <p:grpSpPr>
            <a:xfrm>
              <a:off x="6194520" y="4537080"/>
              <a:ext cx="1987200" cy="725040"/>
              <a:chOff x="6194520" y="4537080"/>
              <a:chExt cx="1987200" cy="725040"/>
            </a:xfrm>
          </p:grpSpPr>
          <p:pic>
            <p:nvPicPr>
              <p:cNvPr id="1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945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623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530120" y="4537080"/>
                <a:ext cx="651600" cy="72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"/>
            <p:cNvGrpSpPr/>
            <p:nvPr/>
          </p:nvGrpSpPr>
          <p:grpSpPr>
            <a:xfrm>
              <a:off x="6194520" y="5591520"/>
              <a:ext cx="1987200" cy="724680"/>
              <a:chOff x="6194520" y="5591520"/>
              <a:chExt cx="1987200" cy="724680"/>
            </a:xfrm>
          </p:grpSpPr>
          <p:pic>
            <p:nvPicPr>
              <p:cNvPr id="1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945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623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30120" y="5591520"/>
                <a:ext cx="651600" cy="72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4" name=""/>
          <p:cNvGrpSpPr/>
          <p:nvPr/>
        </p:nvGrpSpPr>
        <p:grpSpPr>
          <a:xfrm>
            <a:off x="5130360" y="4156200"/>
            <a:ext cx="3813480" cy="2438280"/>
            <a:chOff x="5130360" y="4156200"/>
            <a:chExt cx="3813480" cy="2438280"/>
          </a:xfrm>
        </p:grpSpPr>
        <p:sp>
          <p:nvSpPr>
            <p:cNvPr id="145" name=""/>
            <p:cNvSpPr/>
            <p:nvPr/>
          </p:nvSpPr>
          <p:spPr>
            <a:xfrm>
              <a:off x="5585400" y="4156200"/>
              <a:ext cx="3358440" cy="243828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85400" y="5276160"/>
              <a:ext cx="3358440" cy="13176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30360" y="472464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3987720"/>
            <a:ext cx="86108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ople have potentially nonlinear valuations over sub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ght also have known info about customers (current usage, demographics,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ant to perform nearly as well as best (simple) pricing function over known inf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49719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(Combinatorial Attribute A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65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69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82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6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0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91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3352680"/>
            <a:ext cx="8686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eneric Setting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05120"/>
            <a:ext cx="670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pace of legal offers/pricing functions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874960"/>
            <a:ext cx="8001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“take it or leave it” offer, so any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417760"/>
            <a:ext cx="83822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ps the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pub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o pricing over the outcome sp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Bidder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3716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priv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13716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pub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137160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bid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3352680"/>
            <a:ext cx="86868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oal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Incentive Compatibl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 to do nearly as well as the  best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sume max profit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per bid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4954680"/>
            <a:ext cx="2590920" cy="93492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Unlimited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19840" y="4973760"/>
            <a:ext cx="4431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f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: 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um over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504120" y="4495680"/>
            <a:ext cx="1830240" cy="1668600"/>
            <a:chOff x="6504120" y="4495680"/>
            <a:chExt cx="1830240" cy="1668600"/>
          </a:xfrm>
        </p:grpSpPr>
        <p:grpSp>
          <p:nvGrpSpPr>
            <p:cNvPr id="215" name=""/>
            <p:cNvGrpSpPr/>
            <p:nvPr/>
          </p:nvGrpSpPr>
          <p:grpSpPr>
            <a:xfrm>
              <a:off x="6504120" y="4495680"/>
              <a:ext cx="1830240" cy="679680"/>
              <a:chOff x="6504120" y="4495680"/>
              <a:chExt cx="1830240" cy="679680"/>
            </a:xfrm>
          </p:grpSpPr>
          <p:pic>
            <p:nvPicPr>
              <p:cNvPr id="2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412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1900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3424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" name=""/>
            <p:cNvGrpSpPr/>
            <p:nvPr/>
          </p:nvGrpSpPr>
          <p:grpSpPr>
            <a:xfrm>
              <a:off x="6504120" y="5484600"/>
              <a:ext cx="1830240" cy="679680"/>
              <a:chOff x="6504120" y="5484600"/>
              <a:chExt cx="1830240" cy="679680"/>
            </a:xfrm>
          </p:grpSpPr>
          <p:pic>
            <p:nvPicPr>
              <p:cNvPr id="2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0412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1900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73424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" name=""/>
          <p:cNvGrpSpPr/>
          <p:nvPr/>
        </p:nvGrpSpPr>
        <p:grpSpPr>
          <a:xfrm>
            <a:off x="5565240" y="4114800"/>
            <a:ext cx="3530880" cy="2286000"/>
            <a:chOff x="5565240" y="4114800"/>
            <a:chExt cx="3530880" cy="2286000"/>
          </a:xfrm>
        </p:grpSpPr>
        <p:sp>
          <p:nvSpPr>
            <p:cNvPr id="224" name=""/>
            <p:cNvSpPr/>
            <p:nvPr/>
          </p:nvSpPr>
          <p:spPr>
            <a:xfrm>
              <a:off x="6004440" y="411480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04440" y="516492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5240" y="464760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200" y="421488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066680"/>
            <a:ext cx="876312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23920" y="4572000"/>
            <a:ext cx="8638920" cy="1106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237280" y="64897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914400" y="337824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oftware, movies, information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463840"/>
            <a:ext cx="7391520" cy="8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uction mechanisms for selling digital go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1280" y="3244680"/>
            <a:ext cx="1285920" cy="127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3225960"/>
            <a:ext cx="137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1066680"/>
            <a:ext cx="8991720" cy="51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438280"/>
            <a:ext cx="8458200" cy="191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digital-good auction.  Algorithm use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choose price to  offer fo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discretize to powers of (1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  Get |G| = (log h)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use fact that alg will only output a bid value.  |G|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+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590920"/>
            <a:ext cx="4495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hat if hard to directly bound   # possible outpu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2520" y="3429000"/>
            <a:ext cx="63162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Use covering argument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ind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covers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how that all functions in G’ behave we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85560" y="2438280"/>
            <a:ext cx="3817440" cy="1962000"/>
            <a:chOff x="4885560" y="2438280"/>
            <a:chExt cx="3817440" cy="1962000"/>
          </a:xfrm>
        </p:grpSpPr>
        <p:sp>
          <p:nvSpPr>
            <p:cNvPr id="272" name=""/>
            <p:cNvSpPr/>
            <p:nvPr/>
          </p:nvSpPr>
          <p:spPr>
            <a:xfrm>
              <a:off x="6186600" y="40320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874000">
              <a:off x="5497200" y="2919240"/>
              <a:ext cx="3189240" cy="493560"/>
            </a:xfrm>
            <a:prstGeom prst="parallelogram">
              <a:avLst>
                <a:gd name="adj" fmla="val 8831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85560" y="275328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85840" y="3564720"/>
              <a:ext cx="0" cy="21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21760" y="3525840"/>
              <a:ext cx="11736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10160" y="34448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55800" y="33854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15480" y="357588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315480" y="3477960"/>
              <a:ext cx="0" cy="9792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6315480" y="3229920"/>
              <a:ext cx="18720" cy="29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60760" y="3188880"/>
              <a:ext cx="98280" cy="9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4760" y="3625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01480" y="35762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071840" y="342720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071840" y="3229560"/>
              <a:ext cx="0" cy="1976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071840" y="292356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17120" y="2882880"/>
              <a:ext cx="98280" cy="90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03480" y="348696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48760" y="3427560"/>
              <a:ext cx="10800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7881840" y="327888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7881840" y="3130200"/>
              <a:ext cx="0" cy="14868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881840" y="297252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27120" y="2932920"/>
              <a:ext cx="98280" cy="88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665840" y="3318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665840" y="3081240"/>
              <a:ext cx="0" cy="24660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665840" y="268452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11480" y="2635920"/>
              <a:ext cx="98280" cy="88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37120" y="4020840"/>
              <a:ext cx="259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937120" y="2438280"/>
              <a:ext cx="0" cy="158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477840" y="3278880"/>
              <a:ext cx="268920" cy="246600"/>
            </a:xfrm>
            <a:prstGeom prst="line">
              <a:avLst/>
            </a:prstGeom>
            <a:ln w="1908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37120" y="3525840"/>
              <a:ext cx="540360" cy="494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62080" y="37692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4648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32960" y="358308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928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880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7920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71040" y="36378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4352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438280"/>
            <a:ext cx="8686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-cover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wrt to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f for all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xist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s.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(i)-g’(i)|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(S)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[g(i) </a:t>
            </a:r>
            <a:r>
              <a:rPr b="0" lang="en-US" sz="2400" spc="-1" strike="noStrike">
                <a:solidFill>
                  <a:srgbClr val="009999"/>
                </a:solidFill>
                <a:latin typeface="cmsy10"/>
              </a:rPr>
              <a:t>´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profit made from bidder 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3800" y="3549600"/>
            <a:ext cx="2898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Theorem (roughly)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8640" y="4006800"/>
            <a:ext cx="7205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-cover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, then the previous bounds hol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replaced by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’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320" y="19836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ttribute Auctions, Linear Pricing Function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214200" y="126540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=R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31080" y="1325520"/>
            <a:ext cx="247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N= (n+1)(1/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) ln 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7200" y="1676520"/>
            <a:ext cx="15739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G’| </a:t>
            </a:r>
            <a:r>
              <a:rPr b="0" lang="en-US" sz="24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en-US" sz="2400" spc="-1" strike="noStrike" baseline="55000">
                <a:solidFill>
                  <a:srgbClr val="3333cc"/>
                </a:solidFill>
                <a:latin typeface="Comic Sans MS"/>
              </a:rPr>
              <a:t>d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01200" y="2068560"/>
            <a:ext cx="7591320" cy="4639320"/>
            <a:chOff x="601200" y="2068560"/>
            <a:chExt cx="7591320" cy="4639320"/>
          </a:xfrm>
        </p:grpSpPr>
        <p:sp>
          <p:nvSpPr>
            <p:cNvPr id="324" name=""/>
            <p:cNvSpPr/>
            <p:nvPr/>
          </p:nvSpPr>
          <p:spPr>
            <a:xfrm>
              <a:off x="5867280" y="206856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874000">
              <a:off x="1170000" y="3068280"/>
              <a:ext cx="6927480" cy="1044720"/>
            </a:xfrm>
            <a:prstGeom prst="parallelogram">
              <a:avLst>
                <a:gd name="adj" fmla="val 90623"/>
              </a:avLst>
            </a:prstGeom>
            <a:blipFill rotWithShape="0">
              <a:blip r:embed="rId1">
                <a:alphaModFix amt="3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0213800">
              <a:off x="1145520" y="3039480"/>
              <a:ext cx="7007040" cy="1066680"/>
            </a:xfrm>
            <a:prstGeom prst="parallelogram">
              <a:avLst>
                <a:gd name="adj" fmla="val 83755"/>
              </a:avLst>
            </a:prstGeom>
            <a:blipFill rotWithShape="0">
              <a:blip r:embed="rId2">
                <a:alphaModFix amt="35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727520" y="2903760"/>
              <a:ext cx="532800" cy="1218960"/>
            </a:xfrm>
            <a:prstGeom prst="line">
              <a:avLst/>
            </a:prstGeom>
            <a:ln w="255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53720" y="6309000"/>
              <a:ext cx="134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200" y="2799000"/>
              <a:ext cx="140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76400" y="6205680"/>
              <a:ext cx="575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976400" y="2370240"/>
              <a:ext cx="0" cy="383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1984320" y="4503600"/>
              <a:ext cx="1218600" cy="1701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34758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34758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05200" y="4256280"/>
              <a:ext cx="0" cy="145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1840" y="4046760"/>
              <a:ext cx="17280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5502960" y="5325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5502960" y="50209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5502960" y="47163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5502960" y="44114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57800" y="4303800"/>
              <a:ext cx="0" cy="1050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89760" y="4046760"/>
              <a:ext cx="17244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6950880" y="49719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6950880" y="4667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6950880" y="4362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445080" y="3803760"/>
              <a:ext cx="0" cy="1425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45080" y="345888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45080" y="3076200"/>
              <a:ext cx="0" cy="382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480" y="2979720"/>
              <a:ext cx="217080" cy="2178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6341400" y="48355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6341400" y="45306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6341400" y="42256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6341400" y="39211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6341400" y="36162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6341400" y="33112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965560" y="3850920"/>
              <a:ext cx="0" cy="122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965560" y="3296880"/>
              <a:ext cx="0" cy="598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965560" y="2338200"/>
              <a:ext cx="0" cy="958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5858640" y="4640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5858640" y="4335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5858640" y="40305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5858640" y="3725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5858640" y="3420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00000">
              <a:off x="5858640" y="3116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5400000">
              <a:off x="5858640" y="2811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5400000">
              <a:off x="5858640" y="250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968560" y="4496040"/>
              <a:ext cx="0" cy="1325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68560" y="425628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968560" y="365580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2866320" y="538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286632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5400000">
              <a:off x="286632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5400000">
              <a:off x="2866320" y="4487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2866320" y="4182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5400000">
              <a:off x="2866320" y="38620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47960" y="355932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74800" y="4638960"/>
              <a:ext cx="0" cy="887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8444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67000" y="4616640"/>
              <a:ext cx="0" cy="1189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00000">
              <a:off x="4068000" y="5402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40680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40680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9392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646520" y="4135320"/>
              <a:ext cx="4320" cy="1206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646520" y="3656160"/>
              <a:ext cx="0" cy="479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646520" y="2903760"/>
              <a:ext cx="4320" cy="752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5400000">
              <a:off x="4542120" y="4868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5400000">
              <a:off x="4542120" y="4563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5400000">
              <a:off x="4542120" y="4259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4542120" y="3954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542120" y="3649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4542120" y="3344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5400000">
              <a:off x="4542120" y="3039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25920" y="281808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39760" y="58755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60760" y="5570640"/>
              <a:ext cx="5508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35320" y="58197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4796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83240" y="57229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43600" y="51339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21320" y="52657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3080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" y="2438280"/>
            <a:ext cx="8458200" cy="256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combinatorial auctions with m items, G = class of item-pricings, to get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OPT, sufficient to h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general valuation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results for general case, factor m savings over GH01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1066680"/>
            <a:ext cx="89917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Regularization/SR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do SRM as usual, penalizing higher-complexity function cla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t even individual functions can have different complexity level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4572000"/>
            <a:ext cx="8762760" cy="251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.g., digital-good auction.  Say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has 1 bid of value h and h-1 bids of value 1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, {1,h} are both optimal prices.  But much better stats for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s to replace “h” with “price used by OPT” in previous bou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5160960"/>
            <a:ext cx="327636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743200" y="5226120"/>
            <a:ext cx="2951280" cy="459720"/>
            <a:chOff x="2743200" y="5226120"/>
            <a:chExt cx="2951280" cy="459720"/>
          </a:xfrm>
        </p:grpSpPr>
        <p:sp>
          <p:nvSpPr>
            <p:cNvPr id="415" name=""/>
            <p:cNvSpPr/>
            <p:nvPr/>
          </p:nvSpPr>
          <p:spPr>
            <a:xfrm>
              <a:off x="2743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56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68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81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94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7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$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19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32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45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Explicit connection between machine learning and mechanism design.  Use ideas of MLT to analyze when random sampling auction will do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application brings out interesting twists on usual ML issues.  What has to be large as a function of what?  S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llen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ss function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discontinuou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symmetri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nge of valuations l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hallenges/Future Direc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pply similar techniques to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limite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upp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Onlin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et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w big a “focus group” do you need for other kinds of pricing/allocation/decision-making probl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56040" y="6642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71440" y="2971800"/>
            <a:ext cx="6067440" cy="367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5400000">
            <a:off x="4990680" y="4038480"/>
            <a:ext cx="25146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/>
          </p:cNvPr>
          <p:cNvSpPr/>
          <p:nvPr/>
        </p:nvSpPr>
        <p:spPr>
          <a:xfrm>
            <a:off x="495360" y="2457360"/>
            <a:ext cx="25146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d-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3276720"/>
            <a:ext cx="883944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82920"/>
            <a:ext cx="43434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Combinatorial 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378240"/>
            <a:ext cx="8839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lling many different kinds of items. Buyers with complex preferences over bund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“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I only want the hotel room if I get the flight too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me items or services that overlap, others only good if have something else too.  How should you set prices to make the most prof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2590920"/>
            <a:ext cx="8839440" cy="40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74320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Even if all customers’ preference information, how much they would be willing to pay, etc.  is known up-front, setting prices to maximize revenue can be a challenging algorithmic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But in addition, incentive constraints: customers won’t give you the (correct) information if (possibly) not in their best inter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867280"/>
            <a:ext cx="8534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867280"/>
            <a:ext cx="8382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590200" y="4532400"/>
            <a:ext cx="2057400" cy="496800"/>
          </a:xfrm>
          <a:custGeom>
            <a:avLst/>
            <a:gdLst>
              <a:gd name="textAreaLeft" fmla="*/ 359280 w 2057400"/>
              <a:gd name="textAreaRight" fmla="*/ 1492560 w 2057400"/>
              <a:gd name="textAreaTop" fmla="*/ 66600 h 496800"/>
              <a:gd name="textAreaBottom" fmla="*/ 430200 h 496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5" hR="21600" stAng="10800000" swAng="5400000"/>
                <a:lnTo>
                  <a:pt x="11897" y="0"/>
                </a:lnTo>
                <a:arcTo wR="7555" hR="21600" stAng="-5400000" swAng="2681386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7" y="14400"/>
                </a:lnTo>
                <a:arcTo wR="7555" hR="21600" stAng="-2718614" swAng="-2321959"/>
                <a:lnTo>
                  <a:pt x="9726" y="911"/>
                </a:lnTo>
                <a:arcTo wR="7555" hR="21600" stAng="-5759427" swAng="-5040573"/>
                <a:close/>
              </a:path>
              <a:path fill="darkenLess" w="21600" h="21600">
                <a:moveTo>
                  <a:pt x="0" y="21600"/>
                </a:moveTo>
                <a:arcTo wR="7555" hR="21600" stAng="10800000" swAng="5400000"/>
                <a:lnTo>
                  <a:pt x="7555" y="0"/>
                </a:lnTo>
                <a:arcTo wR="7555" hR="21600" stAng="-5400000" swAng="359427"/>
                <a:lnTo>
                  <a:pt x="9726" y="911"/>
                </a:lnTo>
                <a:arcTo wR="7555" hR="21600" stAng="-5759427" swAng="-5040573"/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31040" y="5216400"/>
            <a:ext cx="1873800" cy="48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Our 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5226120"/>
            <a:ext cx="50292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Generic Reduction using 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5105520"/>
            <a:ext cx="6858000" cy="6858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1357560" cy="2332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4038480"/>
            <a:ext cx="86868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ic econ model: buyers “types” (valuations) chosen iid from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known distribu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.  In this case, just set sales pric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maximize expected prof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what if don’t want to assum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8:13:09Z</dcterms:created>
  <dc:creator>Maria-Florina Balcan</dc:creator>
  <dc:description/>
  <dc:language>en-US</dc:language>
  <cp:lastModifiedBy>Avrim Blum</cp:lastModifiedBy>
  <dcterms:modified xsi:type="dcterms:W3CDTF">2009-10-13T18:26:21Z</dcterms:modified>
  <cp:revision>1752</cp:revision>
  <dc:subject/>
  <dc:title>Sponsored Search Acution Design Via Machine Learning</dc:title>
</cp:coreProperties>
</file>