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Click to move the slid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583B-16EC-4C5A-877A-75EA7D58E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sets as sharable re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 wrt possible 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people only move if improvement &gt; epsilon.  Then can view as better-resp in original setting so OK.  (But remember, we are not trying to come up with an algorithm, we are trying to see if system is stable.  So stability would *depend* on people not moving when they have little to g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dom order in byzantine model: good question.  Current bound depends on lured-players not moving until common set is emptied out.  Might be able to have bound where have a tree of sets like this and random order doesn’t help.  Not sure.  Of course, eventually the bad order would happen, so you’d want to talk about polynomial number of ste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494E-0F91-4184-998E-D2DFFE103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D39D-906F-461C-AC78-EFB5976C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2B88-98D9-421E-A64A-709F0EAAE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E366-B355-4A30-BFD5-CF5359709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5382-F9DD-44C1-9A4C-A2A21BC5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57B0-4A56-433C-93FA-EF3745B3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06EF-A9FA-4248-82FE-549E8732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7B9A-197D-4F44-A762-B1E9F8C4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F343-99C7-458A-80A9-62E4C915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BD17-95F9-40ED-82F4-6C6877D6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FA98-A703-43F7-A0FF-E22102A7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CB85-3C68-4F30-AA98-E26AB052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Click to edit the title text format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1E80-75DE-42EC-8AB6-FD91B5A69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19320" y="457200"/>
            <a:ext cx="7086600" cy="5105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68580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he Price of Uncertain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447920" y="32004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ria-Florina Balcan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orgia Te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vrim Blum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negie Mell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ishay Mansour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l-Aviv/Goog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6242040" y="6172200"/>
            <a:ext cx="239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ACM-EC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odel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yers follow best (or better) response dynami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s of resources can fluctuate between moves: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[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(alternatively, one or more Byzantine players who move between time step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y begins in a low-cost st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bad can things ge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4876920"/>
            <a:ext cx="7391160" cy="137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mr9"/>
              </a:rPr>
              <a:t>Price-of-Uncertain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of game = maximum ratio of eventual social cost to initial c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odel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yers follow best (or better) response dynami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s of resources can fluctuate between moves: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[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4876920"/>
            <a:ext cx="7391160" cy="137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mr9"/>
              </a:rPr>
              <a:t>Price-of-Uncertain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of game = maximum ratio of eventual social cost to initial c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235" dur="1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odel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yers follow best (or better) response dynami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s of resources can fluctuate between moves: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[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585880"/>
            <a:ext cx="7391160" cy="137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mr9"/>
              </a:rPr>
              <a:t>Price-of-Uncertain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of game = maximum ratio of eventual social cost to initial c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657600"/>
            <a:ext cx="9144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One way to look at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fine graph: one node for each state.  Edge u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v if perturbation can cause BR to move from u to 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do the reachable                                       sets look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181480" y="5330160"/>
            <a:ext cx="2527920" cy="995400"/>
            <a:chOff x="5181480" y="5330160"/>
            <a:chExt cx="2527920" cy="995400"/>
          </a:xfrm>
        </p:grpSpPr>
        <p:sp>
          <p:nvSpPr>
            <p:cNvPr id="189" name=""/>
            <p:cNvSpPr/>
            <p:nvPr/>
          </p:nvSpPr>
          <p:spPr>
            <a:xfrm>
              <a:off x="5181480" y="6095880"/>
              <a:ext cx="76320" cy="7632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10080" y="5715000"/>
              <a:ext cx="76320" cy="7632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15000" y="5392800"/>
              <a:ext cx="76320" cy="7596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19920" y="5791320"/>
              <a:ext cx="75960" cy="7596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791320" y="6095880"/>
              <a:ext cx="75960" cy="7632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81480" y="5392800"/>
              <a:ext cx="76320" cy="75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257800" y="579132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486400" y="54860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91320" y="5410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57800" y="5486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867280" y="586728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5486040" y="57913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2504600">
              <a:off x="7277040" y="5859360"/>
              <a:ext cx="7632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2504600">
              <a:off x="7122960" y="5343480"/>
              <a:ext cx="7632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2504600">
              <a:off x="7334280" y="6235560"/>
              <a:ext cx="7632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7367400" y="5686920"/>
              <a:ext cx="27900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953400" y="5913360"/>
              <a:ext cx="30996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6346080" y="5414760"/>
              <a:ext cx="54972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7331040" y="5949000"/>
              <a:ext cx="25200" cy="27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77320" y="5431680"/>
              <a:ext cx="123120" cy="41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6892560" y="5408640"/>
              <a:ext cx="212040" cy="59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2504600">
              <a:off x="7619760" y="5638320"/>
              <a:ext cx="7596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2504600">
              <a:off x="6864120" y="5981400"/>
              <a:ext cx="7596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6095520" y="5410080"/>
              <a:ext cx="2286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78400" y="5392800"/>
              <a:ext cx="76320" cy="7596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257800" y="5410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Set-cover game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 players (point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 sets, with costs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…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player chooses some set that covers i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yers split cost with all others choosing same se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895480" y="2057400"/>
            <a:ext cx="3505320" cy="1523880"/>
            <a:chOff x="2895480" y="2057400"/>
            <a:chExt cx="3505320" cy="1523880"/>
          </a:xfrm>
        </p:grpSpPr>
        <p:sp>
          <p:nvSpPr>
            <p:cNvPr id="218" name=""/>
            <p:cNvSpPr/>
            <p:nvPr/>
          </p:nvSpPr>
          <p:spPr>
            <a:xfrm>
              <a:off x="4952880" y="2286000"/>
              <a:ext cx="1447920" cy="914400"/>
            </a:xfrm>
            <a:prstGeom prst="ellipse">
              <a:avLst/>
            </a:prstGeom>
            <a:solidFill>
              <a:srgbClr val="ccccff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2133720"/>
              <a:ext cx="1447920" cy="1218960"/>
            </a:xfrm>
            <a:prstGeom prst="ellipse">
              <a:avLst/>
            </a:prstGeom>
            <a:solidFill>
              <a:srgbClr val="ccccff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81280" y="2666880"/>
              <a:ext cx="1447920" cy="914400"/>
            </a:xfrm>
            <a:prstGeom prst="ellipse">
              <a:avLst/>
            </a:prstGeom>
            <a:solidFill>
              <a:srgbClr val="ccccff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95480" y="2057400"/>
              <a:ext cx="1447920" cy="1447920"/>
            </a:xfrm>
            <a:prstGeom prst="ellipse">
              <a:avLst/>
            </a:prstGeom>
            <a:solidFill>
              <a:srgbClr val="ccccff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00400" y="2819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81280" y="22860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86200" y="30481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76920" y="2362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00600" y="30481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86400" y="25909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708280" y="4460760"/>
            <a:ext cx="4224960" cy="1863720"/>
            <a:chOff x="2708280" y="4460760"/>
            <a:chExt cx="4224960" cy="1863720"/>
          </a:xfrm>
        </p:grpSpPr>
        <p:grpSp>
          <p:nvGrpSpPr>
            <p:cNvPr id="229" name=""/>
            <p:cNvGrpSpPr/>
            <p:nvPr/>
          </p:nvGrpSpPr>
          <p:grpSpPr>
            <a:xfrm>
              <a:off x="2708280" y="4876920"/>
              <a:ext cx="4190760" cy="1447560"/>
              <a:chOff x="2708280" y="4876920"/>
              <a:chExt cx="4190760" cy="1447560"/>
            </a:xfrm>
          </p:grpSpPr>
          <p:sp>
            <p:nvSpPr>
              <p:cNvPr id="230" name=""/>
              <p:cNvSpPr/>
              <p:nvPr/>
            </p:nvSpPr>
            <p:spPr>
              <a:xfrm>
                <a:off x="2708280" y="487692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470040" y="4876920"/>
                <a:ext cx="38124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232160" y="487692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994280" y="487692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756040" y="4876920"/>
                <a:ext cx="38124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518160" y="487692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936880" y="61722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546360" y="61722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155840" y="6172200"/>
                <a:ext cx="15264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765680" y="61722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375160" y="61722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984640" y="6172200"/>
                <a:ext cx="15264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 flipV="1">
                <a:off x="2783880" y="5334120"/>
                <a:ext cx="22860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flipV="1">
                <a:off x="5222520" y="5334120"/>
                <a:ext cx="22860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4841640" y="5334120"/>
                <a:ext cx="30492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5984640" y="5334120"/>
                <a:ext cx="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 flipV="1">
                <a:off x="3012840" y="5334120"/>
                <a:ext cx="53352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4232160" y="5334120"/>
                <a:ext cx="15228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5451480" y="5334120"/>
                <a:ext cx="45720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6137280" y="5334120"/>
                <a:ext cx="45720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3089160" y="5334120"/>
                <a:ext cx="53352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3622680" y="5334120"/>
                <a:ext cx="7596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2744280" y="4513320"/>
              <a:ext cx="386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c</a:t>
              </a:r>
              <a:r>
                <a:rPr b="0" lang="en-US" sz="2000" spc="-1" strike="noStrike" baseline="-25000">
                  <a:solidFill>
                    <a:srgbClr val="cc3399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63200" y="4495680"/>
              <a:ext cx="386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c</a:t>
              </a:r>
              <a:r>
                <a:rPr b="0" lang="en-US" sz="2000" spc="-1" strike="noStrike" baseline="-25000">
                  <a:solidFill>
                    <a:srgbClr val="cc3399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82480" y="4478400"/>
              <a:ext cx="386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c</a:t>
              </a:r>
              <a:r>
                <a:rPr b="0" lang="en-US" sz="2000" spc="-1" strike="noStrike" baseline="-25000">
                  <a:solidFill>
                    <a:srgbClr val="cc3399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91880" y="4460760"/>
              <a:ext cx="441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c</a:t>
              </a:r>
              <a:r>
                <a:rPr b="0" lang="en-US" sz="2000" spc="-1" strike="noStrike" baseline="-25000">
                  <a:solidFill>
                    <a:srgbClr val="cc3399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Set-cover game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ce of anarchy = 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ce of stability = O(log(n))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tentia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[cost, cost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g(n)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4800600" y="1143000"/>
            <a:ext cx="1905120" cy="1811160"/>
            <a:chOff x="4800600" y="1143000"/>
            <a:chExt cx="1905120" cy="1811160"/>
          </a:xfrm>
        </p:grpSpPr>
        <p:sp>
          <p:nvSpPr>
            <p:cNvPr id="259" name=""/>
            <p:cNvSpPr/>
            <p:nvPr/>
          </p:nvSpPr>
          <p:spPr>
            <a:xfrm>
              <a:off x="5105520" y="1506600"/>
              <a:ext cx="38088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867280" y="1506600"/>
              <a:ext cx="38124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34120" y="280188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943600" y="280188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3080" y="280188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00600" y="280188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5181120" y="1963800"/>
              <a:ext cx="2286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flipV="1">
              <a:off x="5486040" y="1963800"/>
              <a:ext cx="11430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4952880" y="1963800"/>
              <a:ext cx="9144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5410080" y="1963800"/>
              <a:ext cx="5335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4876920" y="1963800"/>
              <a:ext cx="3045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486400" y="1963800"/>
              <a:ext cx="5335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6019920" y="1963800"/>
              <a:ext cx="759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062320" y="1143000"/>
              <a:ext cx="54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n-</a:t>
              </a:r>
              <a:r>
                <a:rPr b="0" lang="en-US" sz="2000" spc="-1" strike="noStrike">
                  <a:solidFill>
                    <a:srgbClr val="cc3399"/>
                  </a:solidFill>
                  <a:latin typeface="Symbol"/>
                  <a:ea typeface="Symbol"/>
                </a:rPr>
                <a:t>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6440" y="1216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99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6095880" y="1980720"/>
              <a:ext cx="5335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ain result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Set-cover game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O(1/nm) then PoU = O(log n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ever, for any consta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&gt; 0, PoU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n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so, a single Byzantine player can take state from a PNE of cost O(OPT) to one of cos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n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T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"/>
          <p:cNvSpPr/>
          <p:nvPr/>
        </p:nvSpPr>
        <p:spPr>
          <a:xfrm>
            <a:off x="539280" y="4038480"/>
            <a:ext cx="77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Upper bounds hold even for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etter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-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0280" y="4586400"/>
            <a:ext cx="73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ower bounds hold even for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est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-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ain result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General fair-cost-sharing game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Matroid congestion game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re, “better-response” is easy to lure astray.  Can make state exponentially worse by using even an exponentially-smal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, focus on best-respon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916920" y="4073400"/>
            <a:ext cx="7066800" cy="885960"/>
            <a:chOff x="916920" y="4073400"/>
            <a:chExt cx="7066800" cy="885960"/>
          </a:xfrm>
        </p:grpSpPr>
        <p:sp>
          <p:nvSpPr>
            <p:cNvPr id="282" name=""/>
            <p:cNvSpPr/>
            <p:nvPr/>
          </p:nvSpPr>
          <p:spPr>
            <a:xfrm>
              <a:off x="1371600" y="4724280"/>
              <a:ext cx="624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20120" y="4648320"/>
              <a:ext cx="152280" cy="15228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16920" y="4495680"/>
              <a:ext cx="30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711560" y="4495680"/>
              <a:ext cx="27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371600" y="4456080"/>
              <a:ext cx="3124080" cy="268200"/>
            </a:xfrm>
            <a:custGeom>
              <a:avLst/>
              <a:gdLst/>
              <a:ahLst/>
              <a:rect l="l" t="t" r="r" b="b"/>
              <a:pathLst>
                <a:path w="1968" h="169">
                  <a:moveTo>
                    <a:pt x="0" y="169"/>
                  </a:moveTo>
                  <a:cubicBezTo>
                    <a:pt x="159" y="141"/>
                    <a:pt x="627" y="0"/>
                    <a:pt x="955" y="0"/>
                  </a:cubicBezTo>
                  <a:cubicBezTo>
                    <a:pt x="1283" y="0"/>
                    <a:pt x="1757" y="134"/>
                    <a:pt x="1968" y="16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360440" y="4073400"/>
              <a:ext cx="6230880" cy="655920"/>
            </a:xfrm>
            <a:custGeom>
              <a:avLst/>
              <a:gdLst/>
              <a:ahLst/>
              <a:rect l="l" t="t" r="r" b="b"/>
              <a:pathLst>
                <a:path w="3925" h="413">
                  <a:moveTo>
                    <a:pt x="3925" y="396"/>
                  </a:moveTo>
                  <a:cubicBezTo>
                    <a:pt x="3573" y="332"/>
                    <a:pt x="2467" y="0"/>
                    <a:pt x="1813" y="3"/>
                  </a:cubicBezTo>
                  <a:cubicBezTo>
                    <a:pt x="1159" y="6"/>
                    <a:pt x="378" y="328"/>
                    <a:pt x="0" y="41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70480" y="4419720"/>
              <a:ext cx="3149640" cy="296640"/>
            </a:xfrm>
            <a:custGeom>
              <a:avLst/>
              <a:gdLst/>
              <a:ahLst/>
              <a:rect l="l" t="t" r="r" b="b"/>
              <a:pathLst>
                <a:path w="1984" h="187">
                  <a:moveTo>
                    <a:pt x="0" y="187"/>
                  </a:moveTo>
                  <a:cubicBezTo>
                    <a:pt x="162" y="157"/>
                    <a:pt x="640" y="0"/>
                    <a:pt x="971" y="0"/>
                  </a:cubicBezTo>
                  <a:cubicBezTo>
                    <a:pt x="1302" y="0"/>
                    <a:pt x="1773" y="148"/>
                    <a:pt x="1984" y="18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93920" y="4702320"/>
              <a:ext cx="1465200" cy="234720"/>
            </a:xfrm>
            <a:custGeom>
              <a:avLst/>
              <a:gdLst/>
              <a:ahLst/>
              <a:rect l="l" t="t" r="r" b="b"/>
              <a:pathLst>
                <a:path w="923" h="148">
                  <a:moveTo>
                    <a:pt x="0" y="0"/>
                  </a:moveTo>
                  <a:cubicBezTo>
                    <a:pt x="78" y="24"/>
                    <a:pt x="312" y="146"/>
                    <a:pt x="466" y="147"/>
                  </a:cubicBezTo>
                  <a:cubicBezTo>
                    <a:pt x="620" y="148"/>
                    <a:pt x="828" y="38"/>
                    <a:pt x="923" y="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878200" y="4724280"/>
              <a:ext cx="1465200" cy="235080"/>
            </a:xfrm>
            <a:custGeom>
              <a:avLst/>
              <a:gdLst/>
              <a:ahLst/>
              <a:rect l="l" t="t" r="r" b="b"/>
              <a:pathLst>
                <a:path w="923" h="148">
                  <a:moveTo>
                    <a:pt x="0" y="0"/>
                  </a:moveTo>
                  <a:cubicBezTo>
                    <a:pt x="78" y="24"/>
                    <a:pt x="312" y="146"/>
                    <a:pt x="466" y="147"/>
                  </a:cubicBezTo>
                  <a:cubicBezTo>
                    <a:pt x="620" y="148"/>
                    <a:pt x="828" y="38"/>
                    <a:pt x="923" y="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478400" y="4724280"/>
              <a:ext cx="1465200" cy="235080"/>
            </a:xfrm>
            <a:custGeom>
              <a:avLst/>
              <a:gdLst/>
              <a:ahLst/>
              <a:rect l="l" t="t" r="r" b="b"/>
              <a:pathLst>
                <a:path w="923" h="148">
                  <a:moveTo>
                    <a:pt x="0" y="0"/>
                  </a:moveTo>
                  <a:cubicBezTo>
                    <a:pt x="78" y="24"/>
                    <a:pt x="312" y="146"/>
                    <a:pt x="466" y="147"/>
                  </a:cubicBezTo>
                  <a:cubicBezTo>
                    <a:pt x="620" y="148"/>
                    <a:pt x="828" y="38"/>
                    <a:pt x="923" y="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78600" y="4724280"/>
              <a:ext cx="1465200" cy="235080"/>
            </a:xfrm>
            <a:custGeom>
              <a:avLst/>
              <a:gdLst/>
              <a:ahLst/>
              <a:rect l="l" t="t" r="r" b="b"/>
              <a:pathLst>
                <a:path w="923" h="148">
                  <a:moveTo>
                    <a:pt x="0" y="0"/>
                  </a:moveTo>
                  <a:cubicBezTo>
                    <a:pt x="78" y="24"/>
                    <a:pt x="312" y="146"/>
                    <a:pt x="466" y="147"/>
                  </a:cubicBezTo>
                  <a:cubicBezTo>
                    <a:pt x="620" y="148"/>
                    <a:pt x="828" y="38"/>
                    <a:pt x="923" y="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4792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16684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85264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1476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5284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25780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06276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867360" y="4605480"/>
              <a:ext cx="72900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95280" y="4648320"/>
              <a:ext cx="152640" cy="15228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ain result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General fair-cost-sharing game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many playe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 each (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pair 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(n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 = 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(m)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 then PoU = O(1) even for consta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&gt;0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n for general number of playe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Matroid congestion games: 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(strategy sets are bases of matroid. E.g., set-cover where must choose k set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O(1/nm) then PoU = O(log n) for fair cost-shar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general, i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O(1/nm) then PoU = O(GAP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ett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response not enough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Also positive results for </a:t>
            </a:r>
            <a:r>
              <a:rPr b="0" lang="en-US" sz="2800" spc="-1" strike="noStrike">
                <a:solidFill>
                  <a:srgbClr val="cc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-nice games, bounds for consensus, job schedul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Set-Cover games 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Comic Sans MS"/>
              </a:rPr>
              <a:t>(lower bound)</a:t>
            </a:r>
            <a:endParaRPr b="0" lang="en-US" sz="32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Two kinds of player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of Class I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-1 of Class II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Plus one Byzantine player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lies bound for case that costs can fluctuate by factor of 2.  More complicated ex 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/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/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4140000" y="1295280"/>
            <a:ext cx="2984760" cy="2151720"/>
            <a:chOff x="4140000" y="1295280"/>
            <a:chExt cx="2984760" cy="2151720"/>
          </a:xfrm>
        </p:grpSpPr>
        <p:sp>
          <p:nvSpPr>
            <p:cNvPr id="307" name=""/>
            <p:cNvSpPr/>
            <p:nvPr/>
          </p:nvSpPr>
          <p:spPr>
            <a:xfrm>
              <a:off x="5105520" y="1371600"/>
              <a:ext cx="380880" cy="592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181480" y="16002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81480" y="14479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181480" y="12952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181480" y="17524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142960" y="190512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4140000" y="2666880"/>
              <a:ext cx="2984760" cy="780120"/>
              <a:chOff x="4140000" y="2666880"/>
              <a:chExt cx="2984760" cy="780120"/>
            </a:xfrm>
          </p:grpSpPr>
          <p:sp>
            <p:nvSpPr>
              <p:cNvPr id="314" name=""/>
              <p:cNvSpPr/>
              <p:nvPr/>
            </p:nvSpPr>
            <p:spPr>
              <a:xfrm>
                <a:off x="4191120" y="266688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800600" y="266688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410080" y="2666880"/>
                <a:ext cx="38124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019920" y="266688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629400" y="266688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140000" y="3048120"/>
                <a:ext cx="54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n-</a:t>
                </a:r>
                <a:r>
                  <a:rPr b="0" lang="en-US" sz="2000" spc="-1" strike="noStrike">
                    <a:solidFill>
                      <a:srgbClr val="cc3399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709880" y="3048120"/>
                <a:ext cx="54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n-</a:t>
                </a:r>
                <a:r>
                  <a:rPr b="0" lang="en-US" sz="2000" spc="-1" strike="noStrike">
                    <a:solidFill>
                      <a:srgbClr val="cc3399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319360" y="3048120"/>
                <a:ext cx="54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n-</a:t>
                </a:r>
                <a:r>
                  <a:rPr b="0" lang="en-US" sz="2000" spc="-1" strike="noStrike">
                    <a:solidFill>
                      <a:srgbClr val="cc3399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929200" y="3048120"/>
                <a:ext cx="54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n-</a:t>
                </a:r>
                <a:r>
                  <a:rPr b="0" lang="en-US" sz="2000" spc="-1" strike="noStrike">
                    <a:solidFill>
                      <a:srgbClr val="cc3399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578280" y="3048120"/>
                <a:ext cx="54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n-</a:t>
                </a:r>
                <a:r>
                  <a:rPr b="0" lang="en-US" sz="2000" spc="-1" strike="noStrike">
                    <a:solidFill>
                      <a:srgbClr val="cc3399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4" name=""/>
          <p:cNvGrpSpPr/>
          <p:nvPr/>
        </p:nvGrpSpPr>
        <p:grpSpPr>
          <a:xfrm>
            <a:off x="4106160" y="4022640"/>
            <a:ext cx="3015000" cy="780120"/>
            <a:chOff x="4106160" y="4022640"/>
            <a:chExt cx="3015000" cy="780120"/>
          </a:xfrm>
        </p:grpSpPr>
        <p:sp>
          <p:nvSpPr>
            <p:cNvPr id="325" name=""/>
            <p:cNvSpPr/>
            <p:nvPr/>
          </p:nvSpPr>
          <p:spPr>
            <a:xfrm>
              <a:off x="4167360" y="4022640"/>
              <a:ext cx="38088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776840" y="4022640"/>
              <a:ext cx="38088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386320" y="4022640"/>
              <a:ext cx="38124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05640" y="4022640"/>
              <a:ext cx="38088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106160" y="440388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n/</a:t>
              </a:r>
              <a:r>
                <a:rPr b="0" lang="en-US" sz="1800" spc="-1" strike="noStrike">
                  <a:solidFill>
                    <a:srgbClr val="cc3399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676040" y="440388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n/</a:t>
              </a:r>
              <a:r>
                <a:rPr b="0" lang="en-US" sz="1800" spc="-1" strike="noStrike">
                  <a:solidFill>
                    <a:srgbClr val="cc3399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285520" y="440388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n/</a:t>
              </a:r>
              <a:r>
                <a:rPr b="0" lang="en-US" sz="1800" spc="-1" strike="noStrike">
                  <a:solidFill>
                    <a:srgbClr val="cc3399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86080" y="440388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31840" y="4403880"/>
              <a:ext cx="58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n/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67080" y="4267080"/>
              <a:ext cx="152640" cy="1526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876920" y="4267080"/>
              <a:ext cx="152280" cy="1526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86400" y="4267080"/>
              <a:ext cx="152280" cy="1526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705720" y="4267080"/>
              <a:ext cx="152280" cy="1526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4267080" y="28954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Set-Cover games 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Comic Sans MS"/>
              </a:rPr>
              <a:t>(upper bound)</a:t>
            </a:r>
            <a:endParaRPr b="0" lang="en-US" sz="32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69343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For upper bound, think of players in sets as a stack of chip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ew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osition in stack j as having cost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i.  Load chips with value equal to initial co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player moves from j to k, move top chip.  Cost of position goes up by at most 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7227720" y="2119320"/>
            <a:ext cx="1524600" cy="1050120"/>
            <a:chOff x="7227720" y="2119320"/>
            <a:chExt cx="1524600" cy="1050120"/>
          </a:xfrm>
        </p:grpSpPr>
        <p:grpSp>
          <p:nvGrpSpPr>
            <p:cNvPr id="342" name=""/>
            <p:cNvGrpSpPr/>
            <p:nvPr/>
          </p:nvGrpSpPr>
          <p:grpSpPr>
            <a:xfrm>
              <a:off x="7227720" y="2119320"/>
              <a:ext cx="381240" cy="1050120"/>
              <a:chOff x="7227720" y="2119320"/>
              <a:chExt cx="381240" cy="1050120"/>
            </a:xfrm>
          </p:grpSpPr>
          <p:sp>
            <p:nvSpPr>
              <p:cNvPr id="343" name=""/>
              <p:cNvSpPr/>
              <p:nvPr/>
            </p:nvSpPr>
            <p:spPr>
              <a:xfrm>
                <a:off x="7227720" y="2195280"/>
                <a:ext cx="381240" cy="592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304040" y="2423880"/>
                <a:ext cx="152280" cy="152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304040" y="22716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304040" y="211932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304040" y="257652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263720" y="2728800"/>
                <a:ext cx="3409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c</a:t>
                </a:r>
                <a:r>
                  <a:rPr b="0" lang="en-US" sz="2000" spc="-1" strike="noStrike" baseline="-25000">
                    <a:solidFill>
                      <a:srgbClr val="cc3399"/>
                    </a:solidFill>
                    <a:latin typeface="Comic Sans MS"/>
                  </a:rPr>
                  <a:t>j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8354880" y="2195280"/>
              <a:ext cx="397440" cy="974160"/>
              <a:chOff x="8354880" y="2195280"/>
              <a:chExt cx="397440" cy="974160"/>
            </a:xfrm>
          </p:grpSpPr>
          <p:sp>
            <p:nvSpPr>
              <p:cNvPr id="350" name=""/>
              <p:cNvSpPr/>
              <p:nvPr/>
            </p:nvSpPr>
            <p:spPr>
              <a:xfrm>
                <a:off x="8354880" y="2195280"/>
                <a:ext cx="381240" cy="592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8431200" y="2423880"/>
                <a:ext cx="152280" cy="152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8431200" y="257652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8370360" y="2728800"/>
                <a:ext cx="381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c</a:t>
                </a:r>
                <a:r>
                  <a:rPr b="0" lang="en-US" sz="2000" spc="-1" strike="noStrike" baseline="-25000">
                    <a:solidFill>
                      <a:srgbClr val="cc3399"/>
                    </a:solidFill>
                    <a:latin typeface="Comic Sans MS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"/>
          <p:cNvSpPr/>
          <p:nvPr/>
        </p:nvSpPr>
        <p:spPr>
          <a:xfrm>
            <a:off x="7456320" y="1828800"/>
            <a:ext cx="1067040" cy="291960"/>
          </a:xfrm>
          <a:custGeom>
            <a:avLst/>
            <a:gdLst/>
            <a:ahLst/>
            <a:rect l="l" t="t" r="r" b="b"/>
            <a:pathLst>
              <a:path w="672" h="184">
                <a:moveTo>
                  <a:pt x="0" y="183"/>
                </a:moveTo>
                <a:cubicBezTo>
                  <a:pt x="57" y="153"/>
                  <a:pt x="229" y="0"/>
                  <a:pt x="341" y="0"/>
                </a:cubicBezTo>
                <a:cubicBezTo>
                  <a:pt x="453" y="0"/>
                  <a:pt x="603" y="146"/>
                  <a:pt x="672" y="18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4572000"/>
            <a:ext cx="87631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 most mn different positions.   So, following the path of any chip and removing loops, cost of final set is at most 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n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imes its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88200" y="6019920"/>
            <a:ext cx="6456600" cy="520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So, if </a:t>
            </a:r>
            <a:r>
              <a:rPr b="0" lang="en-US" sz="2800" spc="-1" strike="noStrike">
                <a:solidFill>
                  <a:srgbClr val="cc33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 = O(1/nm) then PoU = O(log 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Games are an abstraction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sts/payoffs are a function of players actions. No external influe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all repeatedly play same way, get exact same payof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ume all players incentives are model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High-level question: What happens to natural dynamics if these don’t quite hol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238880" y="5105520"/>
            <a:ext cx="1069920" cy="120312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2286000" y="4235400"/>
            <a:ext cx="4190760" cy="2165040"/>
            <a:chOff x="2286000" y="4235400"/>
            <a:chExt cx="4190760" cy="2165040"/>
          </a:xfrm>
        </p:grpSpPr>
        <p:sp>
          <p:nvSpPr>
            <p:cNvPr id="56" name=""/>
            <p:cNvSpPr/>
            <p:nvPr/>
          </p:nvSpPr>
          <p:spPr>
            <a:xfrm>
              <a:off x="4419360" y="533376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361960" y="533376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419360" y="457164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24480" y="449568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24480" y="601956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86000" y="52574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343400" y="52574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 rot="20493600">
              <a:off x="5029200" y="434340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 rot="1384200">
              <a:off x="5104800" y="5790960"/>
              <a:ext cx="76212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4"/>
            <a:stretch/>
          </p:blipFill>
          <p:spPr>
            <a:xfrm>
              <a:off x="3047760" y="4778280"/>
              <a:ext cx="762120" cy="478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atroid game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In matroid games, can think of each player as controlling a </a:t>
            </a:r>
            <a:r>
              <a:rPr b="0" i="1" lang="en-US" sz="2800" spc="-1" strike="noStrike">
                <a:solidFill>
                  <a:srgbClr val="cc3399"/>
                </a:solidFill>
                <a:latin typeface="Comic Sans MS"/>
              </a:rPr>
              <a:t>set 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of chip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ice property of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est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response in matroid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an always order the move so that each individual chip is doing better-respon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y previous argume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ils for better-respon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Here, can get player to do kind of binary counting, bad even for exponentially-small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4952880" y="2119320"/>
            <a:ext cx="3783240" cy="682560"/>
            <a:chOff x="4952880" y="2119320"/>
            <a:chExt cx="3783240" cy="682560"/>
          </a:xfrm>
        </p:grpSpPr>
        <p:sp>
          <p:nvSpPr>
            <p:cNvPr id="360" name=""/>
            <p:cNvSpPr/>
            <p:nvPr/>
          </p:nvSpPr>
          <p:spPr>
            <a:xfrm>
              <a:off x="7227720" y="2195640"/>
              <a:ext cx="381240" cy="59184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304040" y="242424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04040" y="227160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04040" y="2119320"/>
              <a:ext cx="152280" cy="15228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304040" y="2576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354880" y="2195640"/>
              <a:ext cx="381240" cy="59184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431200" y="242424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431200" y="2576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952880" y="2209680"/>
              <a:ext cx="381240" cy="592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029200" y="24382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029200" y="2286000"/>
              <a:ext cx="152280" cy="15228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29200" y="25909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080040" y="2209680"/>
              <a:ext cx="381240" cy="592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156360" y="2438280"/>
              <a:ext cx="152280" cy="15264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156360" y="25909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Fair cost sharing in general graphs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If many players of each type, can also show best-response dynamics can’t do badl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line of argument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rd to analyze cost of state directly, instead track upper bound 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= cost(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*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changes at most m tim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ny players of each type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verage cost of each is low compared to 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ach change to 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smal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PoU versus Price of Anarchy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Main focus: games with both good and bad equilibri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small fluctuations or single Byzantine player cause behavior to move from good to ba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Can also have cases where state can get worse even than worst equilibriu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ket-sharing: 2 vs log(n) even for best-respon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893880" y="5019840"/>
            <a:ext cx="6878520" cy="1533240"/>
            <a:chOff x="893880" y="5019840"/>
            <a:chExt cx="6878520" cy="1533240"/>
          </a:xfrm>
        </p:grpSpPr>
        <p:sp>
          <p:nvSpPr>
            <p:cNvPr id="380" name=""/>
            <p:cNvSpPr/>
            <p:nvPr/>
          </p:nvSpPr>
          <p:spPr>
            <a:xfrm>
              <a:off x="893880" y="5019840"/>
              <a:ext cx="2960640" cy="1533240"/>
            </a:xfrm>
            <a:custGeom>
              <a:avLst/>
              <a:gdLst/>
              <a:ahLst/>
              <a:rect l="l" t="t" r="r" b="b"/>
              <a:pathLst>
                <a:path w="1865" h="966">
                  <a:moveTo>
                    <a:pt x="0" y="467"/>
                  </a:moveTo>
                  <a:cubicBezTo>
                    <a:pt x="91" y="541"/>
                    <a:pt x="344" y="966"/>
                    <a:pt x="539" y="910"/>
                  </a:cubicBezTo>
                  <a:cubicBezTo>
                    <a:pt x="734" y="854"/>
                    <a:pt x="996" y="240"/>
                    <a:pt x="1170" y="128"/>
                  </a:cubicBezTo>
                  <a:cubicBezTo>
                    <a:pt x="1344" y="16"/>
                    <a:pt x="1465" y="259"/>
                    <a:pt x="1581" y="238"/>
                  </a:cubicBezTo>
                  <a:cubicBezTo>
                    <a:pt x="1697" y="217"/>
                    <a:pt x="1806" y="50"/>
                    <a:pt x="1865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797360" y="5092560"/>
              <a:ext cx="2975040" cy="1454400"/>
            </a:xfrm>
            <a:custGeom>
              <a:avLst/>
              <a:gdLst/>
              <a:ahLst/>
              <a:rect l="l" t="t" r="r" b="b"/>
              <a:pathLst>
                <a:path w="1874" h="916">
                  <a:moveTo>
                    <a:pt x="0" y="436"/>
                  </a:moveTo>
                  <a:cubicBezTo>
                    <a:pt x="91" y="510"/>
                    <a:pt x="410" y="842"/>
                    <a:pt x="539" y="879"/>
                  </a:cubicBezTo>
                  <a:cubicBezTo>
                    <a:pt x="668" y="916"/>
                    <a:pt x="716" y="704"/>
                    <a:pt x="777" y="658"/>
                  </a:cubicBezTo>
                  <a:cubicBezTo>
                    <a:pt x="838" y="612"/>
                    <a:pt x="839" y="697"/>
                    <a:pt x="905" y="603"/>
                  </a:cubicBezTo>
                  <a:cubicBezTo>
                    <a:pt x="971" y="509"/>
                    <a:pt x="1056" y="163"/>
                    <a:pt x="1170" y="97"/>
                  </a:cubicBezTo>
                  <a:cubicBezTo>
                    <a:pt x="1284" y="31"/>
                    <a:pt x="1474" y="226"/>
                    <a:pt x="1591" y="210"/>
                  </a:cubicBezTo>
                  <a:cubicBezTo>
                    <a:pt x="1708" y="194"/>
                    <a:pt x="1815" y="44"/>
                    <a:pt x="187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596960" y="6311880"/>
              <a:ext cx="15264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93000" y="5931000"/>
              <a:ext cx="15228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73480" y="615960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6245280" y="5473800"/>
              <a:ext cx="15228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PoU versus Price of Anarchy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Symbol"/>
                <a:ea typeface="Symbol"/>
              </a:rPr>
              <a:t>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nice games 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[AAEMS-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EC08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]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 : incentives grow stronger as cost gets above </a:t>
            </a:r>
            <a:r>
              <a:rPr b="0" lang="en-US" sz="2800" spc="-1" strike="noStrike">
                <a:solidFill>
                  <a:srgbClr val="cc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 times optimal (typically </a:t>
            </a:r>
            <a:r>
              <a:rPr b="0" lang="en-US" sz="2800" spc="-1" strike="noStrike">
                <a:solidFill>
                  <a:srgbClr val="cc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 = PoA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re, at least can show state won’t get above 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times optimal, even with substantial perturbation or many Byzantine players (random order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"/>
          <p:cNvSpPr/>
          <p:nvPr/>
        </p:nvSpPr>
        <p:spPr>
          <a:xfrm>
            <a:off x="2786040" y="4614840"/>
            <a:ext cx="2714760" cy="1668600"/>
          </a:xfrm>
          <a:custGeom>
            <a:avLst/>
            <a:gdLst/>
            <a:ahLst/>
            <a:rect l="l" t="t" r="r" b="b"/>
            <a:pathLst>
              <a:path w="1710" h="1051">
                <a:moveTo>
                  <a:pt x="0" y="46"/>
                </a:moveTo>
                <a:cubicBezTo>
                  <a:pt x="149" y="212"/>
                  <a:pt x="611" y="1051"/>
                  <a:pt x="896" y="1043"/>
                </a:cubicBezTo>
                <a:cubicBezTo>
                  <a:pt x="1181" y="1035"/>
                  <a:pt x="1541" y="217"/>
                  <a:pt x="171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143240" y="6093000"/>
            <a:ext cx="152640" cy="152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Summary and open problem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Looking at: when can small perturbations or a few bad players lead natural dynamics astra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is it safe to turn your back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6400800" y="190512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0" y="2438280"/>
            <a:ext cx="6324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pper/lower bounds for a number of classes of g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3505320"/>
            <a:ext cx="8534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Open probl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ose gap for set-cover [1/(mn), 1/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/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al case of fair cost-sharing gam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yclic order best r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d like to think that if we get people into a good equilibrium, and players are selfish, reasonably myopic, etc, then behavior will stay the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High-level question: What happens to natural dynamics if these don’t quite hol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Games are an abstraction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238880" y="5105520"/>
            <a:ext cx="1069920" cy="1203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876920" y="238140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rcRect l="0" t="13482" r="0" b="0"/>
          <a:stretch/>
        </p:blipFill>
        <p:spPr>
          <a:xfrm>
            <a:off x="1600200" y="2362320"/>
            <a:ext cx="2048040" cy="146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d like to think that if we get people into a good equilibrium, and players are selfish, reasonably myopic, etc, then behavior will stay the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what if there are small fluctuations in underlying cost/payoff structur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286000" y="2406600"/>
            <a:ext cx="4190760" cy="2165040"/>
            <a:chOff x="2286000" y="2406600"/>
            <a:chExt cx="4190760" cy="2165040"/>
          </a:xfrm>
        </p:grpSpPr>
        <p:sp>
          <p:nvSpPr>
            <p:cNvPr id="73" name=""/>
            <p:cNvSpPr/>
            <p:nvPr/>
          </p:nvSpPr>
          <p:spPr>
            <a:xfrm>
              <a:off x="4419360" y="350496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61960" y="350496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4419360" y="274284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24480" y="266688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24480" y="419076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860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3434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 rot="20493600">
              <a:off x="5029200" y="251460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 rot="1384200">
              <a:off x="5104800" y="3962160"/>
              <a:ext cx="76212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3"/>
            <a:stretch/>
          </p:blipFill>
          <p:spPr>
            <a:xfrm>
              <a:off x="3047760" y="2949480"/>
              <a:ext cx="762120" cy="47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4114800" y="2362320"/>
            <a:ext cx="573120" cy="603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3962520" y="2514600"/>
            <a:ext cx="819000" cy="846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Games are an abstraction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4876920" y="238140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rcRect l="0" t="13482" r="0" b="0"/>
          <a:stretch/>
        </p:blipFill>
        <p:spPr>
          <a:xfrm>
            <a:off x="1600200" y="2362320"/>
            <a:ext cx="2048040" cy="146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d like to think that if we get people into a good equilibrium, and players are selfish, reasonably myopic, etc, then behavior will stay the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what if there are small fluctuations in underlying cost/payoff structur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286000" y="2406600"/>
            <a:ext cx="4190760" cy="2165040"/>
            <a:chOff x="2286000" y="2406600"/>
            <a:chExt cx="4190760" cy="2165040"/>
          </a:xfrm>
        </p:grpSpPr>
        <p:sp>
          <p:nvSpPr>
            <p:cNvPr id="90" name=""/>
            <p:cNvSpPr/>
            <p:nvPr/>
          </p:nvSpPr>
          <p:spPr>
            <a:xfrm>
              <a:off x="4419360" y="350496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361960" y="350496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4419360" y="274284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266688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324480" y="419076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860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434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 rot="20493600">
              <a:off x="5029200" y="251460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 rot="1384200">
              <a:off x="5104800" y="3962160"/>
              <a:ext cx="76212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3047760" y="2949480"/>
              <a:ext cx="762120" cy="47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4114800" y="2362320"/>
            <a:ext cx="573120" cy="603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3962520" y="2514600"/>
            <a:ext cx="819000" cy="846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Consider a typical gam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4876920" y="238140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rcRect l="0" t="13482" r="0" b="0"/>
          <a:stretch/>
        </p:blipFill>
        <p:spPr>
          <a:xfrm>
            <a:off x="1600200" y="2362320"/>
            <a:ext cx="2048040" cy="146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d like to think that if we get people into a good equilibrium, and players are selfish, reasonably myopic, etc, then behavior will stay the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what if there are small fluctuations in underlying cost/payoff structur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 a few players acting unpredictabl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286000" y="2406600"/>
            <a:ext cx="4190760" cy="2165040"/>
            <a:chOff x="2286000" y="2406600"/>
            <a:chExt cx="4190760" cy="2165040"/>
          </a:xfrm>
        </p:grpSpPr>
        <p:sp>
          <p:nvSpPr>
            <p:cNvPr id="107" name=""/>
            <p:cNvSpPr/>
            <p:nvPr/>
          </p:nvSpPr>
          <p:spPr>
            <a:xfrm>
              <a:off x="4419360" y="350496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61960" y="350496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4419360" y="274284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4480" y="266688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24480" y="419076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860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434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 rot="20493600">
              <a:off x="5029200" y="251460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2"/>
            <a:stretch/>
          </p:blipFill>
          <p:spPr>
            <a:xfrm rot="1384200">
              <a:off x="5104800" y="3962160"/>
              <a:ext cx="76212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3"/>
            <a:stretch/>
          </p:blipFill>
          <p:spPr>
            <a:xfrm>
              <a:off x="3047760" y="2949480"/>
              <a:ext cx="762120" cy="47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"/>
          <p:cNvGrpSpPr/>
          <p:nvPr/>
        </p:nvGrpSpPr>
        <p:grpSpPr>
          <a:xfrm>
            <a:off x="2286000" y="2406240"/>
            <a:ext cx="4191120" cy="2165760"/>
            <a:chOff x="2286000" y="2406240"/>
            <a:chExt cx="4191120" cy="2165760"/>
          </a:xfrm>
        </p:grpSpPr>
        <p:sp>
          <p:nvSpPr>
            <p:cNvPr id="118" name=""/>
            <p:cNvSpPr/>
            <p:nvPr/>
          </p:nvSpPr>
          <p:spPr>
            <a:xfrm>
              <a:off x="4419720" y="3505320"/>
              <a:ext cx="198108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62320" y="350532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4419720" y="2742840"/>
              <a:ext cx="198108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24480" y="2666880"/>
              <a:ext cx="152640" cy="1526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24480" y="4191120"/>
              <a:ext cx="15264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86000" y="342900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43400" y="342900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4"/>
            <a:stretch/>
          </p:blipFill>
          <p:spPr>
            <a:xfrm rot="20493600">
              <a:off x="5029200" y="2514240"/>
              <a:ext cx="76212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5"/>
            <a:stretch/>
          </p:blipFill>
          <p:spPr>
            <a:xfrm rot="1384200">
              <a:off x="5105160" y="396252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6"/>
            <a:stretch/>
          </p:blipFill>
          <p:spPr>
            <a:xfrm rot="10800000">
              <a:off x="3048120" y="2949480"/>
              <a:ext cx="761760" cy="47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"/>
          <p:cNvSpPr/>
          <p:nvPr/>
        </p:nvSpPr>
        <p:spPr>
          <a:xfrm>
            <a:off x="0" y="4343400"/>
            <a:ext cx="8991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Can small fluctuations or a few unpredictable players cause natural dynamics to spin out of control and get system into a high-cost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Games are an abstraction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d like to think that if we get people into a good equilibrium, and players are selfish, reasonably myopic, etc, then behavior will stay the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what if there are small fluctuations in underlying cost/payoff structur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 a few players acting unpredictabl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286000" y="2406600"/>
            <a:ext cx="4190760" cy="2165040"/>
            <a:chOff x="2286000" y="2406600"/>
            <a:chExt cx="4190760" cy="2165040"/>
          </a:xfrm>
        </p:grpSpPr>
        <p:sp>
          <p:nvSpPr>
            <p:cNvPr id="132" name=""/>
            <p:cNvSpPr/>
            <p:nvPr/>
          </p:nvSpPr>
          <p:spPr>
            <a:xfrm>
              <a:off x="4419360" y="350496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61960" y="350496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4419360" y="274284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24480" y="266688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24480" y="419076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860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434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 rot="20493600">
              <a:off x="5029200" y="251460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 rot="1384200">
              <a:off x="5104800" y="3962160"/>
              <a:ext cx="76212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3"/>
            <a:stretch/>
          </p:blipFill>
          <p:spPr>
            <a:xfrm>
              <a:off x="3047760" y="2949480"/>
              <a:ext cx="762120" cy="47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" name=""/>
          <p:cNvGrpSpPr/>
          <p:nvPr/>
        </p:nvGrpSpPr>
        <p:grpSpPr>
          <a:xfrm>
            <a:off x="2286000" y="2406240"/>
            <a:ext cx="4191120" cy="2165760"/>
            <a:chOff x="2286000" y="2406240"/>
            <a:chExt cx="4191120" cy="2165760"/>
          </a:xfrm>
        </p:grpSpPr>
        <p:sp>
          <p:nvSpPr>
            <p:cNvPr id="143" name=""/>
            <p:cNvSpPr/>
            <p:nvPr/>
          </p:nvSpPr>
          <p:spPr>
            <a:xfrm>
              <a:off x="4419720" y="3505320"/>
              <a:ext cx="198108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62320" y="350532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419720" y="2742840"/>
              <a:ext cx="198108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2666880"/>
              <a:ext cx="152640" cy="1526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24480" y="4191120"/>
              <a:ext cx="15264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86000" y="342900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43400" y="342900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4"/>
            <a:stretch/>
          </p:blipFill>
          <p:spPr>
            <a:xfrm rot="20493600">
              <a:off x="5029200" y="2514240"/>
              <a:ext cx="76212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5"/>
            <a:stretch/>
          </p:blipFill>
          <p:spPr>
            <a:xfrm rot="1384200">
              <a:off x="5105160" y="396252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6"/>
            <a:stretch/>
          </p:blipFill>
          <p:spPr>
            <a:xfrm rot="10800000">
              <a:off x="3048120" y="2949480"/>
              <a:ext cx="761760" cy="47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"/>
          <p:cNvSpPr/>
          <p:nvPr/>
        </p:nvSpPr>
        <p:spPr>
          <a:xfrm>
            <a:off x="0" y="4343400"/>
            <a:ext cx="8991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Can small fluctuations or a few unpredictable players cause natural dynamics to spin out of control and get system into a high-cost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Consider a typical gam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High-level question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560" y="88560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ew ways this could happe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mall changes cause good equilibria to disappear, only bad ones left.     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(economy?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d behavior by a few players causes pain for all 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(nuk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ither of above, but instead through more subtle interaction with dynamics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893880" y="5019840"/>
            <a:ext cx="6878520" cy="1533240"/>
            <a:chOff x="893880" y="5019840"/>
            <a:chExt cx="6878520" cy="1533240"/>
          </a:xfrm>
        </p:grpSpPr>
        <p:sp>
          <p:nvSpPr>
            <p:cNvPr id="158" name=""/>
            <p:cNvSpPr/>
            <p:nvPr/>
          </p:nvSpPr>
          <p:spPr>
            <a:xfrm>
              <a:off x="893880" y="5019840"/>
              <a:ext cx="2960640" cy="1533240"/>
            </a:xfrm>
            <a:custGeom>
              <a:avLst/>
              <a:gdLst/>
              <a:ahLst/>
              <a:rect l="l" t="t" r="r" b="b"/>
              <a:pathLst>
                <a:path w="1865" h="966">
                  <a:moveTo>
                    <a:pt x="0" y="467"/>
                  </a:moveTo>
                  <a:cubicBezTo>
                    <a:pt x="91" y="541"/>
                    <a:pt x="344" y="966"/>
                    <a:pt x="539" y="910"/>
                  </a:cubicBezTo>
                  <a:cubicBezTo>
                    <a:pt x="734" y="854"/>
                    <a:pt x="996" y="240"/>
                    <a:pt x="1170" y="128"/>
                  </a:cubicBezTo>
                  <a:cubicBezTo>
                    <a:pt x="1344" y="16"/>
                    <a:pt x="1465" y="259"/>
                    <a:pt x="1581" y="238"/>
                  </a:cubicBezTo>
                  <a:cubicBezTo>
                    <a:pt x="1697" y="217"/>
                    <a:pt x="1806" y="50"/>
                    <a:pt x="1865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97360" y="5092560"/>
              <a:ext cx="2975040" cy="1454400"/>
            </a:xfrm>
            <a:custGeom>
              <a:avLst/>
              <a:gdLst/>
              <a:ahLst/>
              <a:rect l="l" t="t" r="r" b="b"/>
              <a:pathLst>
                <a:path w="1874" h="916">
                  <a:moveTo>
                    <a:pt x="0" y="436"/>
                  </a:moveTo>
                  <a:cubicBezTo>
                    <a:pt x="91" y="510"/>
                    <a:pt x="410" y="842"/>
                    <a:pt x="539" y="879"/>
                  </a:cubicBezTo>
                  <a:cubicBezTo>
                    <a:pt x="668" y="916"/>
                    <a:pt x="716" y="704"/>
                    <a:pt x="777" y="658"/>
                  </a:cubicBezTo>
                  <a:cubicBezTo>
                    <a:pt x="838" y="612"/>
                    <a:pt x="839" y="697"/>
                    <a:pt x="905" y="603"/>
                  </a:cubicBezTo>
                  <a:cubicBezTo>
                    <a:pt x="971" y="509"/>
                    <a:pt x="1056" y="163"/>
                    <a:pt x="1170" y="97"/>
                  </a:cubicBezTo>
                  <a:cubicBezTo>
                    <a:pt x="1284" y="31"/>
                    <a:pt x="1474" y="226"/>
                    <a:pt x="1591" y="210"/>
                  </a:cubicBezTo>
                  <a:cubicBezTo>
                    <a:pt x="1708" y="194"/>
                    <a:pt x="1815" y="44"/>
                    <a:pt x="187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96960" y="6311880"/>
              <a:ext cx="15264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93000" y="5931000"/>
              <a:ext cx="15228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73480" y="615960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6245280" y="5473800"/>
              <a:ext cx="15228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800600" y="441972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638680" y="3135240"/>
            <a:ext cx="901800" cy="522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224440" y="5486400"/>
            <a:ext cx="49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Focus here on this last iss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343400"/>
            <a:ext cx="8991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Can small fluctuations or a few unpredictable players cause natural dynamics to spin out of control and get system into a high-cost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0556 L 3.33333E-006 -0.49943 E">
                                      <p:cBhvr>
                                        <p:cTn id="150" dur="1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Focus of this work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ames with the following properti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tential games, best/better-response dynami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w Price of Stability.  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(good equilibria exis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ame has good equilibria even after               perturba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mall gap between potential and                              social co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ingle perturbation can’t make                           dynamics do bad thing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individual player can influence                        cost of others by too much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190560" y="2895480"/>
            <a:ext cx="2705040" cy="3353040"/>
            <a:chOff x="6190560" y="2895480"/>
            <a:chExt cx="2705040" cy="3353040"/>
          </a:xfrm>
        </p:grpSpPr>
        <p:sp>
          <p:nvSpPr>
            <p:cNvPr id="171" name=""/>
            <p:cNvSpPr/>
            <p:nvPr/>
          </p:nvSpPr>
          <p:spPr>
            <a:xfrm>
              <a:off x="7321680" y="2895480"/>
              <a:ext cx="0" cy="335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245360" y="5029200"/>
              <a:ext cx="152640" cy="15228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245360" y="4038480"/>
              <a:ext cx="152640" cy="15264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76480" y="4894200"/>
              <a:ext cx="67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O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95560" y="396252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oS </a:t>
              </a:r>
              <a:r>
                <a:rPr b="0" lang="en-US" sz="2000" spc="-1" strike="noStrike">
                  <a:solidFill>
                    <a:srgbClr val="000000"/>
                  </a:solidFill>
                  <a:latin typeface="cmsy10"/>
                </a:rPr>
                <a:t>£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O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90560" y="4572000"/>
              <a:ext cx="66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6864480" y="4190760"/>
              <a:ext cx="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rim Blum</cp:lastModifiedBy>
  <dcterms:modified xsi:type="dcterms:W3CDTF">2009-07-10T14:52:23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