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59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592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CF0F554-EA1C-48FA-8A5B-ED2380E9A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TO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hedul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Active frame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Tables with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ake project developed a methodology to simulate earthqua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ormous data-sets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to debug the simulation process, analyze the data (detect patterns, behavior, etc) it is useful to visualize the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ant to visualiz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4B6-18DB-435E-B561-E9CCB843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CC4-8F15-458A-8D37-47895A82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472-9929-4906-8E36-BBC1C2D5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557-4AE6-4A5F-81ED-2D7CEEEE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AD5-8E9D-4D69-A9AB-C87C4FF1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993-0F82-4E93-B674-0C16966F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59B-73F5-452C-9EBD-FB71B18F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11B-9E2D-459C-AD71-63DEFBFE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4F6-2FAF-4FDB-8DE8-CDCFE428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6A7-1862-41FF-9226-B542F362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453-6F41-45CD-A156-95D94F53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658-0816-4DB2-A6C0-C9806CBC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BF26-EC44-4D77-9F20-EE03507F228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8440" y="6400440"/>
            <a:ext cx="5008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44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fld id="{3873AD26-7803-4DD3-AD0D-8680294079C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Comic Sans MS"/>
              </a:rPr>
              <a:t>Run-time support for adaptive heavyweight servi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io López &amp; David O’Hallar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jclopez,droh}@cs.cmu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3530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iso-still" descr=""/>
          <p:cNvPicPr/>
          <p:nvPr/>
        </p:nvPicPr>
        <p:blipFill>
          <a:blip r:embed="rId2"/>
          <a:stretch/>
        </p:blipFill>
        <p:spPr>
          <a:xfrm>
            <a:off x="866880" y="3581280"/>
            <a:ext cx="34002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57840" cy="12193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roaches for providing remote viz ser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9040" y="17521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everything but the rendering on the remote server</a:t>
            </a: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: fairly simply to grid-enable existing packages, removes some load from the remote site, in most cases it minimizes the bandwidth requirements between the local  and the remote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: requires every local site to have good rendering pow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911240" y="4292640"/>
            <a:ext cx="770040" cy="43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36880" y="4292640"/>
            <a:ext cx="814320" cy="43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79800" y="4349880"/>
            <a:ext cx="695520" cy="3283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28000" y="4195800"/>
            <a:ext cx="530280" cy="600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4200" y="4349880"/>
            <a:ext cx="576360" cy="328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75320" y="451476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85760" y="4316400"/>
            <a:ext cx="546120" cy="32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92440" y="45021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4080" y="4500720"/>
            <a:ext cx="133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4500720"/>
            <a:ext cx="330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2960" y="3598920"/>
            <a:ext cx="3929040" cy="1903320"/>
          </a:xfrm>
          <a:prstGeom prst="rect">
            <a:avLst/>
          </a:prstGeom>
          <a:noFill/>
          <a:ln w="28440">
            <a:solidFill>
              <a:srgbClr val="114ff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64280" y="3624120"/>
            <a:ext cx="1643040" cy="1903680"/>
          </a:xfrm>
          <a:prstGeom prst="rect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27080" y="5643720"/>
            <a:ext cx="2000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High-end</a:t>
            </a:r>
            <a:r>
              <a:rPr b="1" lang="es-CO" sz="1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5656320"/>
            <a:ext cx="227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achine with good rendering</a:t>
            </a:r>
            <a:r>
              <a:rPr b="1" lang="es-CO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32280" y="4519440"/>
            <a:ext cx="132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10560" y="45194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3760" y="450216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68960" y="45021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36F-D3C5-46C1-9A74-3F76EA829E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7FE6E-C358-4A65-8A61-51F8DAC030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57840" cy="12193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roaches for providing remote viz ser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333440" y="4275000"/>
            <a:ext cx="76824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21120" y="4275000"/>
            <a:ext cx="812880" cy="43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62600" y="4332240"/>
            <a:ext cx="695160" cy="3286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61400" y="4178160"/>
            <a:ext cx="531720" cy="600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24440" y="4332240"/>
            <a:ext cx="574920" cy="32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57760" y="44974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7960" y="4299120"/>
            <a:ext cx="544680" cy="328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4720" y="44830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12840" y="44845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16800" y="4483080"/>
            <a:ext cx="1222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39680" y="4483080"/>
            <a:ext cx="3319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87520" y="4573440"/>
            <a:ext cx="132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" y="3581280"/>
            <a:ext cx="1944720" cy="1903680"/>
          </a:xfrm>
          <a:prstGeom prst="rect">
            <a:avLst/>
          </a:prstGeom>
          <a:noFill/>
          <a:ln w="28440">
            <a:solidFill>
              <a:srgbClr val="114ff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94720" y="3606840"/>
            <a:ext cx="846000" cy="1903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5638680"/>
            <a:ext cx="205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High-end</a:t>
            </a:r>
            <a:r>
              <a:rPr b="1" lang="es-CO" sz="1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5638680"/>
            <a:ext cx="1731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ow-end</a:t>
            </a:r>
            <a:r>
              <a:rPr b="1" lang="es-CO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o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C or P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4560840"/>
            <a:ext cx="1520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8600" y="4491000"/>
            <a:ext cx="151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00400" y="4421160"/>
            <a:ext cx="1517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3606840"/>
            <a:ext cx="2806920" cy="1903320"/>
          </a:xfrm>
          <a:prstGeom prst="rect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99080" y="4502160"/>
            <a:ext cx="1329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5562720"/>
            <a:ext cx="2209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owerful</a:t>
            </a:r>
            <a:r>
              <a:rPr b="1" lang="es-CO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local</a:t>
            </a:r>
            <a:r>
              <a:rPr b="1" lang="es-CO" sz="1800" spc="-1" strike="noStrike">
                <a:solidFill>
                  <a:srgbClr val="00cc99"/>
                </a:solidFill>
                <a:latin typeface="Arial"/>
              </a:rPr>
              <a:t> p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</a:t>
            </a:r>
            <a:r>
              <a:rPr b="1" lang="es-CO" sz="1800" spc="-1" strike="noStrike">
                <a:solidFill>
                  <a:srgbClr val="00cc99"/>
                </a:solidFill>
                <a:latin typeface="Arial"/>
              </a:rPr>
              <a:t>oxy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99360" y="450216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95840" y="44845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86200" y="44845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 local proxy for the rendering</a:t>
            </a: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: offloads work from the remote site, allows local sites to contribute additional resour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: local sites may not have sufficiently powerful proxy resources, application is more complex, requires high bandwidth between local and remote si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5FB-E46A-4C05-A1C9-D5FAEDBA18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D75C6-63FB-4DDA-AC54-85434F5A0C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urce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’s resource usage is dynam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976-16D9-4BA1-BEDF-D44D2E7B9B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00F35-75B4-4803-A974-198395C397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vyweight service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Cloud"/>
          <p:cNvSpPr/>
          <p:nvPr/>
        </p:nvSpPr>
        <p:spPr>
          <a:xfrm>
            <a:off x="2514600" y="2514600"/>
            <a:ext cx="3429000" cy="229860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Best-effort 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loud"/>
          <p:cNvSpPr/>
          <p:nvPr/>
        </p:nvSpPr>
        <p:spPr>
          <a:xfrm>
            <a:off x="1600200" y="4419720"/>
            <a:ext cx="167652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Loca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4680" y="1447920"/>
            <a:ext cx="609840" cy="761760"/>
          </a:xfrm>
          <a:prstGeom prst="can">
            <a:avLst>
              <a:gd name="adj" fmla="val 2666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Dat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Cloud"/>
          <p:cNvSpPr/>
          <p:nvPr/>
        </p:nvSpPr>
        <p:spPr>
          <a:xfrm>
            <a:off x="1447920" y="1981080"/>
            <a:ext cx="167616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Loca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Cloud"/>
          <p:cNvSpPr/>
          <p:nvPr/>
        </p:nvSpPr>
        <p:spPr>
          <a:xfrm>
            <a:off x="5791320" y="2305080"/>
            <a:ext cx="167616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Remot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j0249816" descr=""/>
          <p:cNvPicPr/>
          <p:nvPr/>
        </p:nvPicPr>
        <p:blipFill>
          <a:blip r:embed="rId1"/>
          <a:stretch/>
        </p:blipFill>
        <p:spPr>
          <a:xfrm>
            <a:off x="7315200" y="2666880"/>
            <a:ext cx="1066680" cy="916200"/>
          </a:xfrm>
          <a:prstGeom prst="rect">
            <a:avLst/>
          </a:prstGeom>
          <a:ln w="0">
            <a:noFill/>
          </a:ln>
        </p:spPr>
      </p:pic>
      <p:pic>
        <p:nvPicPr>
          <p:cNvPr id="224" name="j0245337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782640" cy="990720"/>
          </a:xfrm>
          <a:prstGeom prst="rect">
            <a:avLst/>
          </a:prstGeom>
          <a:ln w="0">
            <a:noFill/>
          </a:ln>
        </p:spPr>
      </p:pic>
      <p:pic>
        <p:nvPicPr>
          <p:cNvPr id="225" name="j0282506" descr=""/>
          <p:cNvPicPr/>
          <p:nvPr/>
        </p:nvPicPr>
        <p:blipFill>
          <a:blip r:embed="rId3"/>
          <a:stretch/>
        </p:blipFill>
        <p:spPr>
          <a:xfrm>
            <a:off x="1066680" y="5029200"/>
            <a:ext cx="609840" cy="525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081840" y="3962520"/>
            <a:ext cx="1361520" cy="2134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High end work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j0223560" descr=""/>
          <p:cNvPicPr/>
          <p:nvPr/>
        </p:nvPicPr>
        <p:blipFill>
          <a:blip r:embed="rId4"/>
          <a:stretch/>
        </p:blipFill>
        <p:spPr>
          <a:xfrm>
            <a:off x="6781680" y="1371600"/>
            <a:ext cx="887400" cy="990720"/>
          </a:xfrm>
          <a:prstGeom prst="rect">
            <a:avLst/>
          </a:prstGeom>
          <a:ln w="0">
            <a:noFill/>
          </a:ln>
        </p:spPr>
      </p:pic>
      <p:cxnSp>
        <p:nvCxnSpPr>
          <p:cNvPr id="228" name=""/>
          <p:cNvCxnSpPr>
            <a:stCxn id="227" idx="3"/>
            <a:endCxn id="220" idx="2"/>
          </p:cNvCxnSpPr>
          <p:nvPr/>
        </p:nvCxnSpPr>
        <p:spPr>
          <a:xfrm flipV="1">
            <a:off x="7669080" y="1828440"/>
            <a:ext cx="2559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76360" y="5181120"/>
            <a:ext cx="563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ibute and aggregate re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rformance-por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676520" y="1447920"/>
            <a:ext cx="958680" cy="3106440"/>
            <a:chOff x="1676520" y="1447920"/>
            <a:chExt cx="958680" cy="3106440"/>
          </a:xfrm>
        </p:grpSpPr>
        <p:pic>
          <p:nvPicPr>
            <p:cNvPr id="231" name="bs00103_" descr=""/>
            <p:cNvPicPr/>
            <p:nvPr/>
          </p:nvPicPr>
          <p:blipFill>
            <a:blip r:embed="rId5"/>
            <a:stretch/>
          </p:blipFill>
          <p:spPr>
            <a:xfrm>
              <a:off x="2057400" y="1447920"/>
              <a:ext cx="5778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bs00103_" descr=""/>
            <p:cNvPicPr/>
            <p:nvPr/>
          </p:nvPicPr>
          <p:blipFill>
            <a:blip r:embed="rId6"/>
            <a:stretch/>
          </p:blipFill>
          <p:spPr>
            <a:xfrm>
              <a:off x="1676520" y="3886200"/>
              <a:ext cx="577800" cy="66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5638680" y="1752480"/>
            <a:ext cx="1035000" cy="668520"/>
            <a:chOff x="5638680" y="1752480"/>
            <a:chExt cx="1035000" cy="668520"/>
          </a:xfrm>
        </p:grpSpPr>
        <p:pic>
          <p:nvPicPr>
            <p:cNvPr id="234" name="bs00103_" descr=""/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57780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bs00103_" descr=""/>
            <p:cNvPicPr/>
            <p:nvPr/>
          </p:nvPicPr>
          <p:blipFill>
            <a:blip r:embed="rId8"/>
            <a:stretch/>
          </p:blipFill>
          <p:spPr>
            <a:xfrm>
              <a:off x="6095880" y="1752480"/>
              <a:ext cx="577800" cy="66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"/>
          <p:cNvGrpSpPr/>
          <p:nvPr/>
        </p:nvGrpSpPr>
        <p:grpSpPr>
          <a:xfrm>
            <a:off x="2743200" y="2209680"/>
            <a:ext cx="2863800" cy="2497320"/>
            <a:chOff x="2743200" y="2209680"/>
            <a:chExt cx="2863800" cy="2497320"/>
          </a:xfrm>
        </p:grpSpPr>
        <p:pic>
          <p:nvPicPr>
            <p:cNvPr id="237" name="bs00103_" descr=""/>
            <p:cNvPicPr/>
            <p:nvPr/>
          </p:nvPicPr>
          <p:blipFill>
            <a:blip r:embed="rId9"/>
            <a:stretch/>
          </p:blipFill>
          <p:spPr>
            <a:xfrm>
              <a:off x="5029200" y="3581280"/>
              <a:ext cx="57780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bs00103_" descr=""/>
            <p:cNvPicPr/>
            <p:nvPr/>
          </p:nvPicPr>
          <p:blipFill>
            <a:blip r:embed="rId10"/>
            <a:stretch/>
          </p:blipFill>
          <p:spPr>
            <a:xfrm>
              <a:off x="3733920" y="2209680"/>
              <a:ext cx="57780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bs00103_" descr=""/>
            <p:cNvPicPr/>
            <p:nvPr/>
          </p:nvPicPr>
          <p:blipFill>
            <a:blip r:embed="rId11"/>
            <a:stretch/>
          </p:blipFill>
          <p:spPr>
            <a:xfrm>
              <a:off x="3657600" y="4038480"/>
              <a:ext cx="57780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bs00103_" descr=""/>
            <p:cNvPicPr/>
            <p:nvPr/>
          </p:nvPicPr>
          <p:blipFill>
            <a:blip r:embed="rId12"/>
            <a:stretch/>
          </p:blipFill>
          <p:spPr>
            <a:xfrm>
              <a:off x="2743200" y="3094200"/>
              <a:ext cx="5778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3BE-CC0E-4B9A-A529-711C41CE4E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7CF82-6903-41D4-A8CE-0B7FC6D291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in poi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Need for flexible scheduling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easible</a:t>
            </a:r>
            <a:r>
              <a:rPr b="0" lang="es-CO" sz="4000" spc="-1" strike="noStrike">
                <a:solidFill>
                  <a:srgbClr val="000000"/>
                </a:solidFill>
                <a:latin typeface="Tahoma"/>
              </a:rPr>
              <a:t> framework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asonable co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627-7899-4901-8D03-3EBE3E08E7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A3D14-1523-444A-BDD2-EA3010DFEC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ve fra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 ActiveFr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HostAddress execute(ServerState stat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mobile object that carries data and a program to operate on th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922480" y="4648320"/>
            <a:ext cx="1649520" cy="687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4648320"/>
            <a:ext cx="1236600" cy="687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62A-6100-465D-B9C5-1EB951506F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8FDC9-E42F-4FD4-BEC0-782C345483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7" name=""/>
          <p:cNvCxnSpPr>
            <a:stCxn id="248" idx="3"/>
            <a:endCxn id="249" idx="1"/>
          </p:cNvCxnSpPr>
          <p:nvPr/>
        </p:nvCxnSpPr>
        <p:spPr>
          <a:xfrm>
            <a:off x="5219280" y="3428640"/>
            <a:ext cx="1924920" cy="1080"/>
          </a:xfrm>
          <a:prstGeom prst="straightConnector1">
            <a:avLst/>
          </a:prstGeom>
          <a:ln w="152280">
            <a:solidFill>
              <a:srgbClr val="000000"/>
            </a:solidFill>
            <a:prstDash val="sysDot"/>
            <a:miter/>
          </a:ln>
        </p:spPr>
      </p:cxnSp>
      <p:cxnSp>
        <p:nvCxnSpPr>
          <p:cNvPr id="250" name=""/>
          <p:cNvCxnSpPr>
            <a:stCxn id="251" idx="3"/>
            <a:endCxn id="248" idx="1"/>
          </p:cNvCxnSpPr>
          <p:nvPr/>
        </p:nvCxnSpPr>
        <p:spPr>
          <a:xfrm>
            <a:off x="1999800" y="3428640"/>
            <a:ext cx="1924920" cy="1080"/>
          </a:xfrm>
          <a:prstGeom prst="straightConnector1">
            <a:avLst/>
          </a:prstGeom>
          <a:ln w="152280">
            <a:solidFill>
              <a:srgbClr val="000000"/>
            </a:solidFill>
            <a:prstDash val="sysDot"/>
            <a:miter/>
          </a:ln>
        </p:spPr>
      </p:cxnSp>
      <p:sp>
        <p:nvSpPr>
          <p:cNvPr id="251" name=""/>
          <p:cNvSpPr/>
          <p:nvPr/>
        </p:nvSpPr>
        <p:spPr>
          <a:xfrm>
            <a:off x="704880" y="2476440"/>
            <a:ext cx="1295280" cy="1905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ve fra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3429000"/>
            <a:ext cx="896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2476440"/>
            <a:ext cx="1295280" cy="1905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2666880"/>
            <a:ext cx="914400" cy="38124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43840" y="2476440"/>
            <a:ext cx="1295280" cy="1905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22720" y="3429000"/>
            <a:ext cx="897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3429000"/>
            <a:ext cx="896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2666880"/>
            <a:ext cx="914400" cy="38124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114800" y="1828800"/>
            <a:ext cx="2901600" cy="1219320"/>
            <a:chOff x="4114800" y="1828800"/>
            <a:chExt cx="2901600" cy="1219320"/>
          </a:xfrm>
        </p:grpSpPr>
        <p:sp>
          <p:nvSpPr>
            <p:cNvPr id="259" name=""/>
            <p:cNvSpPr/>
            <p:nvPr/>
          </p:nvSpPr>
          <p:spPr>
            <a:xfrm>
              <a:off x="4114800" y="2666880"/>
              <a:ext cx="914400" cy="38124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400" spc="-1" strike="noStrike">
                  <a:solidFill>
                    <a:srgbClr val="000000"/>
                  </a:solidFill>
                  <a:latin typeface="Arial Narrow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92880" y="1828800"/>
              <a:ext cx="1523520" cy="3988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000" spc="-1" strike="noStrike">
                  <a:solidFill>
                    <a:srgbClr val="000000"/>
                  </a:solidFill>
                  <a:latin typeface="Arial Narrow"/>
                </a:rPr>
                <a:t>Execute 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99800" y="1981080"/>
            <a:ext cx="2568960" cy="1448280"/>
            <a:chOff x="1999800" y="1981080"/>
            <a:chExt cx="2568960" cy="1448280"/>
          </a:xfrm>
        </p:grpSpPr>
        <p:grpSp>
          <p:nvGrpSpPr>
            <p:cNvPr id="262" name=""/>
            <p:cNvGrpSpPr/>
            <p:nvPr/>
          </p:nvGrpSpPr>
          <p:grpSpPr>
            <a:xfrm>
              <a:off x="1999800" y="2666880"/>
              <a:ext cx="1924560" cy="762480"/>
              <a:chOff x="1999800" y="2666880"/>
              <a:chExt cx="1924560" cy="762480"/>
            </a:xfrm>
          </p:grpSpPr>
          <p:cxnSp>
            <p:nvCxnSpPr>
              <p:cNvPr id="263" name=""/>
              <p:cNvCxnSpPr>
                <a:stCxn id="251" idx="3"/>
                <a:endCxn id="248" idx="1"/>
              </p:cNvCxnSpPr>
              <p:nvPr/>
            </p:nvCxnSpPr>
            <p:spPr>
              <a:xfrm>
                <a:off x="1999800" y="3428640"/>
                <a:ext cx="1924920" cy="1080"/>
              </a:xfrm>
              <a:prstGeom prst="straightConnector1">
                <a:avLst/>
              </a:prstGeom>
              <a:ln w="152280">
                <a:solidFill>
                  <a:srgbClr val="000000"/>
                </a:solidFill>
                <a:prstDash val="sysDot"/>
                <a:miter/>
                <a:tailEnd len="sm" type="arrow" w="med"/>
              </a:ln>
            </p:spPr>
          </p:cxnSp>
          <p:sp>
            <p:nvSpPr>
              <p:cNvPr id="264" name=""/>
              <p:cNvSpPr/>
              <p:nvPr/>
            </p:nvSpPr>
            <p:spPr>
              <a:xfrm>
                <a:off x="2362320" y="2666880"/>
                <a:ext cx="914400" cy="381240"/>
              </a:xfrm>
              <a:prstGeom prst="foldedCorner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2400" spc="-1" strike="noStrike">
                    <a:solidFill>
                      <a:srgbClr val="000000"/>
                    </a:solidFill>
                    <a:latin typeface="Arial Narrow"/>
                  </a:rPr>
                  <a:t>Fr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127320" y="1981080"/>
              <a:ext cx="1441440" cy="3052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000" spc="-1" strike="noStrike">
                  <a:solidFill>
                    <a:srgbClr val="000000"/>
                  </a:solidFill>
                  <a:latin typeface="Arial Narrow"/>
                </a:rPr>
                <a:t>Transfer 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19280" y="1905120"/>
            <a:ext cx="3464280" cy="1524240"/>
            <a:chOff x="5219280" y="1905120"/>
            <a:chExt cx="3464280" cy="1524240"/>
          </a:xfrm>
        </p:grpSpPr>
        <p:grpSp>
          <p:nvGrpSpPr>
            <p:cNvPr id="267" name=""/>
            <p:cNvGrpSpPr/>
            <p:nvPr/>
          </p:nvGrpSpPr>
          <p:grpSpPr>
            <a:xfrm>
              <a:off x="5219280" y="2666880"/>
              <a:ext cx="1924560" cy="762480"/>
              <a:chOff x="5219280" y="2666880"/>
              <a:chExt cx="1924560" cy="762480"/>
            </a:xfrm>
          </p:grpSpPr>
          <p:cxnSp>
            <p:nvCxnSpPr>
              <p:cNvPr id="268" name=""/>
              <p:cNvCxnSpPr>
                <a:stCxn id="248" idx="3"/>
                <a:endCxn id="249" idx="1"/>
              </p:cNvCxnSpPr>
              <p:nvPr/>
            </p:nvCxnSpPr>
            <p:spPr>
              <a:xfrm>
                <a:off x="5219280" y="3428640"/>
                <a:ext cx="1924920" cy="1080"/>
              </a:xfrm>
              <a:prstGeom prst="straightConnector1">
                <a:avLst/>
              </a:prstGeom>
              <a:ln w="152280">
                <a:solidFill>
                  <a:srgbClr val="000000"/>
                </a:solidFill>
                <a:prstDash val="sysDot"/>
                <a:miter/>
                <a:tailEnd len="sm" type="arrow" w="med"/>
              </a:ln>
            </p:spPr>
          </p:cxnSp>
          <p:sp>
            <p:nvSpPr>
              <p:cNvPr id="269" name=""/>
              <p:cNvSpPr/>
              <p:nvPr/>
            </p:nvSpPr>
            <p:spPr>
              <a:xfrm>
                <a:off x="5562720" y="2666880"/>
                <a:ext cx="914400" cy="381240"/>
              </a:xfrm>
              <a:prstGeom prst="foldedCorner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2400" spc="-1" strike="noStrike">
                    <a:solidFill>
                      <a:srgbClr val="000000"/>
                    </a:solidFill>
                    <a:latin typeface="Arial Narrow"/>
                  </a:rPr>
                  <a:t>Fr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242120" y="1905120"/>
              <a:ext cx="1441440" cy="3052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000" spc="-1" strike="noStrike">
                  <a:solidFill>
                    <a:srgbClr val="000000"/>
                  </a:solidFill>
                  <a:latin typeface="Arial Narrow"/>
                </a:rPr>
                <a:t>Transfer 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594520" y="3962520"/>
            <a:ext cx="1113120" cy="3052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TCP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71240" y="3886200"/>
            <a:ext cx="1113120" cy="3052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TCP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3AF-AD9B-46D6-8D9B-BB6E3438E1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8EEED-C71A-4A8A-A361-7FF2D08911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457200" y="3330720"/>
            <a:ext cx="4795920" cy="1522440"/>
            <a:chOff x="457200" y="3330720"/>
            <a:chExt cx="4795920" cy="1522440"/>
          </a:xfrm>
        </p:grpSpPr>
        <p:sp>
          <p:nvSpPr>
            <p:cNvPr id="274" name=""/>
            <p:cNvSpPr/>
            <p:nvPr/>
          </p:nvSpPr>
          <p:spPr>
            <a:xfrm>
              <a:off x="457200" y="3747960"/>
              <a:ext cx="231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Input Active F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560520" y="4165560"/>
              <a:ext cx="2313000" cy="687600"/>
              <a:chOff x="560520" y="4165560"/>
              <a:chExt cx="2313000" cy="687600"/>
            </a:xfrm>
          </p:grpSpPr>
          <p:sp>
            <p:nvSpPr>
              <p:cNvPr id="276" name=""/>
              <p:cNvSpPr/>
              <p:nvPr/>
            </p:nvSpPr>
            <p:spPr>
              <a:xfrm>
                <a:off x="560520" y="4165560"/>
                <a:ext cx="1371600" cy="6876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32120" y="4165560"/>
                <a:ext cx="941400" cy="6876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609480" y="3595680"/>
              <a:ext cx="251460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81320" y="3330720"/>
              <a:ext cx="53136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49" y="4204"/>
                  </a:moveTo>
                  <a:arcTo wR="10800" hR="10800" stAng="-8541239" swAng="18022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249" y="4204"/>
                  </a:moveTo>
                  <a:arcTo wR="10800" hR="10800" stAng="-8541239" swAng="18022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19600" y="339732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000" spc="-1" strike="noStrike">
                  <a:solidFill>
                    <a:srgbClr val="000000"/>
                  </a:solidFill>
                  <a:latin typeface="Arial Narrow"/>
                </a:rPr>
                <a:t>Frame th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ve fra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4178160"/>
            <a:ext cx="2362320" cy="76212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4940280"/>
            <a:ext cx="2362320" cy="712800"/>
          </a:xfrm>
          <a:prstGeom prst="rect">
            <a:avLst/>
          </a:prstGeom>
          <a:solidFill>
            <a:srgbClr val="66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, vt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29800" y="1447920"/>
            <a:ext cx="208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Active Fr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13000" y="1766880"/>
            <a:ext cx="2718000" cy="4038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26400" y="5881680"/>
            <a:ext cx="69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57640" y="1995480"/>
            <a:ext cx="531360" cy="52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49" y="4204"/>
                </a:moveTo>
                <a:arcTo wR="10800" hR="10800" stAng="-8541239" swAng="18022267"/>
                <a:lnTo>
                  <a:pt x="10800" y="10800"/>
                </a:lnTo>
                <a:close/>
              </a:path>
              <a:path fill="none" w="21600" h="21600">
                <a:moveTo>
                  <a:pt x="2249" y="4204"/>
                </a:moveTo>
                <a:arcTo wR="10800" hR="10800" stAng="-8541239" swAng="18022267"/>
              </a:path>
            </a:pathLst>
          </a:custGeom>
          <a:noFill/>
          <a:ln w="38160">
            <a:solidFill>
              <a:srgbClr val="000000"/>
            </a:solidFill>
            <a:miter/>
            <a:tailEnd len="sm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2300400"/>
            <a:ext cx="25146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25080" y="19954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Control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181320" y="3330720"/>
            <a:ext cx="2071800" cy="529560"/>
            <a:chOff x="3181320" y="3330720"/>
            <a:chExt cx="2071800" cy="529560"/>
          </a:xfrm>
        </p:grpSpPr>
        <p:sp>
          <p:nvSpPr>
            <p:cNvPr id="291" name=""/>
            <p:cNvSpPr/>
            <p:nvPr/>
          </p:nvSpPr>
          <p:spPr>
            <a:xfrm>
              <a:off x="3181320" y="3330720"/>
              <a:ext cx="53136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49" y="4204"/>
                  </a:moveTo>
                  <a:arcTo wR="10800" hR="10800" stAng="-8541239" swAng="18022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249" y="4204"/>
                  </a:moveTo>
                  <a:arcTo wR="10800" hR="10800" stAng="-8541239" swAng="18022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19600" y="339732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000" spc="-1" strike="noStrike">
                  <a:solidFill>
                    <a:srgbClr val="000000"/>
                  </a:solidFill>
                  <a:latin typeface="Arial Narrow"/>
                </a:rPr>
                <a:t>Frame th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5943600" y="2300400"/>
            <a:ext cx="25146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854520" y="3330720"/>
            <a:ext cx="4630680" cy="1562040"/>
            <a:chOff x="3854520" y="3330720"/>
            <a:chExt cx="4630680" cy="1562040"/>
          </a:xfrm>
        </p:grpSpPr>
        <p:grpSp>
          <p:nvGrpSpPr>
            <p:cNvPr id="295" name=""/>
            <p:cNvGrpSpPr/>
            <p:nvPr/>
          </p:nvGrpSpPr>
          <p:grpSpPr>
            <a:xfrm>
              <a:off x="5943600" y="3595680"/>
              <a:ext cx="2541600" cy="1297080"/>
              <a:chOff x="5943600" y="3595680"/>
              <a:chExt cx="2541600" cy="1297080"/>
            </a:xfrm>
          </p:grpSpPr>
          <p:sp>
            <p:nvSpPr>
              <p:cNvPr id="296" name=""/>
              <p:cNvSpPr/>
              <p:nvPr/>
            </p:nvSpPr>
            <p:spPr>
              <a:xfrm>
                <a:off x="6247440" y="3824280"/>
                <a:ext cx="2096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3333cc"/>
                    </a:solidFill>
                    <a:latin typeface="Arial"/>
                  </a:rPr>
                  <a:t>Output Active Fr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6172200" y="4205160"/>
                <a:ext cx="2313000" cy="687600"/>
                <a:chOff x="6172200" y="4205160"/>
                <a:chExt cx="2313000" cy="6876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172200" y="4205160"/>
                  <a:ext cx="1371600" cy="6876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ra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543800" y="4205160"/>
                  <a:ext cx="941400" cy="6876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ra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ogra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5943600" y="3595680"/>
                <a:ext cx="2514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91000" y="3330720"/>
              <a:ext cx="53172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49" y="4204"/>
                  </a:moveTo>
                  <a:arcTo wR="10800" hR="10800" stAng="-8541239" swAng="18022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249" y="4204"/>
                  </a:moveTo>
                  <a:arcTo wR="10800" hR="10800" stAng="-8541239" swAng="18022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54520" y="339732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000" spc="-1" strike="noStrike">
                  <a:solidFill>
                    <a:srgbClr val="000000"/>
                  </a:solidFill>
                  <a:latin typeface="Arial Narrow"/>
                </a:rPr>
                <a:t>Frame th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181320" y="2909880"/>
            <a:ext cx="2546280" cy="2247840"/>
            <a:chOff x="3181320" y="2909880"/>
            <a:chExt cx="2546280" cy="2247840"/>
          </a:xfrm>
        </p:grpSpPr>
        <p:grpSp>
          <p:nvGrpSpPr>
            <p:cNvPr id="304" name=""/>
            <p:cNvGrpSpPr/>
            <p:nvPr/>
          </p:nvGrpSpPr>
          <p:grpSpPr>
            <a:xfrm>
              <a:off x="3414600" y="3251160"/>
              <a:ext cx="2313000" cy="687600"/>
              <a:chOff x="3414600" y="3251160"/>
              <a:chExt cx="2313000" cy="687600"/>
            </a:xfrm>
          </p:grpSpPr>
          <p:sp>
            <p:nvSpPr>
              <p:cNvPr id="305" name=""/>
              <p:cNvSpPr/>
              <p:nvPr/>
            </p:nvSpPr>
            <p:spPr>
              <a:xfrm>
                <a:off x="3414600" y="3251160"/>
                <a:ext cx="1371600" cy="6876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86200" y="3251160"/>
                <a:ext cx="941400" cy="6876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4221360" y="2909880"/>
              <a:ext cx="8251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O" sz="1800" spc="-1" strike="noStrike">
                  <a:solidFill>
                    <a:srgbClr val="ff0000"/>
                  </a:solidFill>
                  <a:latin typeface="Arial"/>
                </a:rPr>
                <a:t>Exec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81320" y="3330720"/>
              <a:ext cx="53136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49" y="4204"/>
                  </a:moveTo>
                  <a:arcTo wR="10800" hR="10800" stAng="-8541239" swAng="18022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249" y="4204"/>
                  </a:moveTo>
                  <a:arcTo wR="10800" hR="10800" stAng="-8541239" swAng="18022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57800" y="3938760"/>
              <a:ext cx="0" cy="121896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03800" y="1765440"/>
            <a:ext cx="1113120" cy="3052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TCP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2C0-F2F3-464E-A3DC-9C9E1A9218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B17DA-BEB9-4CD5-BDC0-C63D1D3B3B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ote viz service with active fra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Cloud"/>
          <p:cNvSpPr/>
          <p:nvPr/>
        </p:nvSpPr>
        <p:spPr>
          <a:xfrm>
            <a:off x="2514600" y="2514600"/>
            <a:ext cx="3429000" cy="229860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Best-effort 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Cloud"/>
          <p:cNvSpPr/>
          <p:nvPr/>
        </p:nvSpPr>
        <p:spPr>
          <a:xfrm>
            <a:off x="1600200" y="4419720"/>
            <a:ext cx="167652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Loca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24680" y="1447920"/>
            <a:ext cx="609840" cy="761760"/>
          </a:xfrm>
          <a:prstGeom prst="can">
            <a:avLst>
              <a:gd name="adj" fmla="val 2666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Dat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Cloud"/>
          <p:cNvSpPr/>
          <p:nvPr/>
        </p:nvSpPr>
        <p:spPr>
          <a:xfrm>
            <a:off x="1447920" y="1981080"/>
            <a:ext cx="167616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Loca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Cloud"/>
          <p:cNvSpPr/>
          <p:nvPr/>
        </p:nvSpPr>
        <p:spPr>
          <a:xfrm>
            <a:off x="5791320" y="2305080"/>
            <a:ext cx="167616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Remot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j0249816" descr=""/>
          <p:cNvPicPr/>
          <p:nvPr/>
        </p:nvPicPr>
        <p:blipFill>
          <a:blip r:embed="rId1"/>
          <a:stretch/>
        </p:blipFill>
        <p:spPr>
          <a:xfrm>
            <a:off x="7315200" y="2666880"/>
            <a:ext cx="1066680" cy="916200"/>
          </a:xfrm>
          <a:prstGeom prst="rect">
            <a:avLst/>
          </a:prstGeom>
          <a:ln w="0">
            <a:noFill/>
          </a:ln>
        </p:spPr>
      </p:pic>
      <p:pic>
        <p:nvPicPr>
          <p:cNvPr id="318" name="bs00103_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577800" cy="668160"/>
          </a:xfrm>
          <a:prstGeom prst="rect">
            <a:avLst/>
          </a:prstGeom>
          <a:ln w="0">
            <a:noFill/>
          </a:ln>
        </p:spPr>
      </p:pic>
      <p:pic>
        <p:nvPicPr>
          <p:cNvPr id="319" name="j0245337" descr=""/>
          <p:cNvPicPr/>
          <p:nvPr/>
        </p:nvPicPr>
        <p:blipFill>
          <a:blip r:embed="rId3"/>
          <a:stretch/>
        </p:blipFill>
        <p:spPr>
          <a:xfrm>
            <a:off x="762120" y="2438280"/>
            <a:ext cx="782640" cy="990720"/>
          </a:xfrm>
          <a:prstGeom prst="rect">
            <a:avLst/>
          </a:prstGeom>
          <a:ln w="0">
            <a:noFill/>
          </a:ln>
        </p:spPr>
      </p:pic>
      <p:pic>
        <p:nvPicPr>
          <p:cNvPr id="320" name="j0282506" descr=""/>
          <p:cNvPicPr/>
          <p:nvPr/>
        </p:nvPicPr>
        <p:blipFill>
          <a:blip r:embed="rId4"/>
          <a:stretch/>
        </p:blipFill>
        <p:spPr>
          <a:xfrm>
            <a:off x="1066680" y="5029200"/>
            <a:ext cx="609840" cy="525600"/>
          </a:xfrm>
          <a:prstGeom prst="rect">
            <a:avLst/>
          </a:prstGeom>
          <a:ln w="0">
            <a:noFill/>
          </a:ln>
        </p:spPr>
      </p:pic>
      <p:pic>
        <p:nvPicPr>
          <p:cNvPr id="321" name="j0223560" descr=""/>
          <p:cNvPicPr/>
          <p:nvPr/>
        </p:nvPicPr>
        <p:blipFill>
          <a:blip r:embed="rId5"/>
          <a:stretch/>
        </p:blipFill>
        <p:spPr>
          <a:xfrm>
            <a:off x="6781680" y="1371600"/>
            <a:ext cx="887400" cy="990720"/>
          </a:xfrm>
          <a:prstGeom prst="rect">
            <a:avLst/>
          </a:prstGeom>
          <a:ln w="0">
            <a:noFill/>
          </a:ln>
        </p:spPr>
      </p:pic>
      <p:cxnSp>
        <p:nvCxnSpPr>
          <p:cNvPr id="322" name=""/>
          <p:cNvCxnSpPr>
            <a:stCxn id="321" idx="3"/>
            <a:endCxn id="314" idx="2"/>
          </p:cNvCxnSpPr>
          <p:nvPr/>
        </p:nvCxnSpPr>
        <p:spPr>
          <a:xfrm flipV="1">
            <a:off x="7669080" y="1828440"/>
            <a:ext cx="2559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23" name="bs00103_" descr=""/>
          <p:cNvPicPr/>
          <p:nvPr/>
        </p:nvPicPr>
        <p:blipFill>
          <a:blip r:embed="rId6"/>
          <a:stretch/>
        </p:blipFill>
        <p:spPr>
          <a:xfrm>
            <a:off x="5029200" y="35812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324" name="bs00103_" descr=""/>
          <p:cNvPicPr/>
          <p:nvPr/>
        </p:nvPicPr>
        <p:blipFill>
          <a:blip r:embed="rId7"/>
          <a:stretch/>
        </p:blipFill>
        <p:spPr>
          <a:xfrm>
            <a:off x="3733920" y="22096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325" name="bs00103_" descr=""/>
          <p:cNvPicPr/>
          <p:nvPr/>
        </p:nvPicPr>
        <p:blipFill>
          <a:blip r:embed="rId8"/>
          <a:stretch/>
        </p:blipFill>
        <p:spPr>
          <a:xfrm>
            <a:off x="5638680" y="17524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326" name="bs00103_" descr=""/>
          <p:cNvPicPr/>
          <p:nvPr/>
        </p:nvPicPr>
        <p:blipFill>
          <a:blip r:embed="rId9"/>
          <a:stretch/>
        </p:blipFill>
        <p:spPr>
          <a:xfrm>
            <a:off x="1676520" y="3886200"/>
            <a:ext cx="577800" cy="668160"/>
          </a:xfrm>
          <a:prstGeom prst="rect">
            <a:avLst/>
          </a:prstGeom>
          <a:ln w="0">
            <a:noFill/>
          </a:ln>
        </p:spPr>
      </p:pic>
      <p:pic>
        <p:nvPicPr>
          <p:cNvPr id="327" name="bs00103_" descr=""/>
          <p:cNvPicPr/>
          <p:nvPr/>
        </p:nvPicPr>
        <p:blipFill>
          <a:blip r:embed="rId10"/>
          <a:stretch/>
        </p:blipFill>
        <p:spPr>
          <a:xfrm>
            <a:off x="6095880" y="17524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328" name="bs00103_" descr=""/>
          <p:cNvPicPr/>
          <p:nvPr/>
        </p:nvPicPr>
        <p:blipFill>
          <a:blip r:embed="rId11"/>
          <a:stretch/>
        </p:blipFill>
        <p:spPr>
          <a:xfrm>
            <a:off x="3657600" y="40384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329" name="bs00103_" descr=""/>
          <p:cNvPicPr/>
          <p:nvPr/>
        </p:nvPicPr>
        <p:blipFill>
          <a:blip r:embed="rId12"/>
          <a:stretch/>
        </p:blipFill>
        <p:spPr>
          <a:xfrm>
            <a:off x="2743200" y="3094200"/>
            <a:ext cx="577800" cy="668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295280" y="1346040"/>
            <a:ext cx="5486400" cy="1778040"/>
          </a:xfrm>
          <a:custGeom>
            <a:avLst/>
            <a:gdLst/>
            <a:ahLst/>
            <a:rect l="l" t="t" r="r" b="b"/>
            <a:pathLst>
              <a:path w="3456" h="1120">
                <a:moveTo>
                  <a:pt x="3456" y="208"/>
                </a:moveTo>
                <a:cubicBezTo>
                  <a:pt x="3292" y="104"/>
                  <a:pt x="3128" y="0"/>
                  <a:pt x="3024" y="16"/>
                </a:cubicBezTo>
                <a:cubicBezTo>
                  <a:pt x="2920" y="32"/>
                  <a:pt x="2888" y="136"/>
                  <a:pt x="2832" y="304"/>
                </a:cubicBezTo>
                <a:cubicBezTo>
                  <a:pt x="2776" y="472"/>
                  <a:pt x="2880" y="928"/>
                  <a:pt x="2688" y="1024"/>
                </a:cubicBezTo>
                <a:cubicBezTo>
                  <a:pt x="2496" y="1120"/>
                  <a:pt x="2008" y="1008"/>
                  <a:pt x="1680" y="880"/>
                </a:cubicBezTo>
                <a:cubicBezTo>
                  <a:pt x="1352" y="752"/>
                  <a:pt x="1000" y="280"/>
                  <a:pt x="720" y="256"/>
                </a:cubicBezTo>
                <a:cubicBezTo>
                  <a:pt x="440" y="232"/>
                  <a:pt x="220" y="484"/>
                  <a:pt x="0" y="7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523880" y="2286000"/>
            <a:ext cx="5639040" cy="1333440"/>
            <a:chOff x="1523880" y="2286000"/>
            <a:chExt cx="5639040" cy="1333440"/>
          </a:xfrm>
        </p:grpSpPr>
        <p:sp>
          <p:nvSpPr>
            <p:cNvPr id="332" name=""/>
            <p:cNvSpPr/>
            <p:nvPr/>
          </p:nvSpPr>
          <p:spPr>
            <a:xfrm>
              <a:off x="1523880" y="2286000"/>
              <a:ext cx="5639040" cy="1166760"/>
            </a:xfrm>
            <a:custGeom>
              <a:avLst/>
              <a:gdLst/>
              <a:ahLst/>
              <a:rect l="l" t="t" r="r" b="b"/>
              <a:pathLst>
                <a:path w="3552" h="735">
                  <a:moveTo>
                    <a:pt x="0" y="336"/>
                  </a:moveTo>
                  <a:cubicBezTo>
                    <a:pt x="151" y="351"/>
                    <a:pt x="487" y="369"/>
                    <a:pt x="904" y="424"/>
                  </a:cubicBezTo>
                  <a:cubicBezTo>
                    <a:pt x="1321" y="479"/>
                    <a:pt x="2063" y="735"/>
                    <a:pt x="2504" y="664"/>
                  </a:cubicBezTo>
                  <a:cubicBezTo>
                    <a:pt x="2945" y="593"/>
                    <a:pt x="3334" y="138"/>
                    <a:pt x="3552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48520" y="3238560"/>
              <a:ext cx="685800" cy="380880"/>
            </a:xfrm>
            <a:prstGeom prst="foldedCorner">
              <a:avLst>
                <a:gd name="adj" fmla="val 125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ffffff"/>
                  </a:solidFill>
                  <a:latin typeface="Arial Narrow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105520" y="1143000"/>
            <a:ext cx="761760" cy="30492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2133720"/>
            <a:ext cx="762120" cy="30456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1523880"/>
            <a:ext cx="761760" cy="30492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06D-2DE5-4026-9549-EB5CBE16E6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140D5-C1BA-4AEF-AF9F-A6C09874C0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5400" y="228600"/>
            <a:ext cx="7153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verview of 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v visualization serv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744480" y="4046400"/>
            <a:ext cx="1000080" cy="87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25560" y="5019840"/>
            <a:ext cx="305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mote DV  Active Frame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86840" y="5019840"/>
            <a:ext cx="292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cal  DV  Active Frame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08040" y="3046320"/>
            <a:ext cx="0" cy="1000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08040" y="3046320"/>
            <a:ext cx="5985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44560" y="4424400"/>
            <a:ext cx="100188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12800" y="4449600"/>
            <a:ext cx="12207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fr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6440" y="4046400"/>
            <a:ext cx="1000080" cy="87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93040" y="4046400"/>
            <a:ext cx="1001520" cy="87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67040" y="4424400"/>
            <a:ext cx="47952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0120" y="4424400"/>
            <a:ext cx="11332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fr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7988400" y="3417480"/>
            <a:ext cx="0" cy="622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95720" y="4424400"/>
            <a:ext cx="47952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67600" y="4057560"/>
            <a:ext cx="33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35480" y="2751120"/>
            <a:ext cx="201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Request fr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94520" y="3421080"/>
            <a:ext cx="11368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fr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0400" y="1781280"/>
            <a:ext cx="8175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put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0640" y="3922560"/>
            <a:ext cx="3249720" cy="1125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70480" y="3922560"/>
            <a:ext cx="3247920" cy="1125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04120" y="4424400"/>
            <a:ext cx="100008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50120" y="4425840"/>
            <a:ext cx="1135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fr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94320" y="4046400"/>
            <a:ext cx="1001880" cy="87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958160" y="1829880"/>
            <a:ext cx="0" cy="831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523280" y="2647800"/>
            <a:ext cx="846000" cy="7938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04760" y="3002040"/>
            <a:ext cx="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5720" y="2247840"/>
            <a:ext cx="847800" cy="7938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C7B-EA40-41BD-92A7-EAE9240801E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EB092-88CB-4DE5-928C-5C22FBC2E554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in poi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eed for flexible schedul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easible</a:t>
            </a:r>
            <a:r>
              <a:rPr b="0" lang="es-CO" sz="4000" spc="-1" strike="noStrike">
                <a:solidFill>
                  <a:srgbClr val="000000"/>
                </a:solidFill>
                <a:latin typeface="Tahoma"/>
              </a:rPr>
              <a:t> framework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asonable co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9B9-6D40-408B-BC72-8FA705587C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82667-1F5B-4CB4-94FB-BBD9AF4DE5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6840" y="609480"/>
            <a:ext cx="71503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v frames process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203040" y="4145040"/>
            <a:ext cx="1143000" cy="503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Arial"/>
              </a:rPr>
              <a:t>r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85040" y="2209680"/>
            <a:ext cx="1047600" cy="104796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52560" y="2747880"/>
            <a:ext cx="0" cy="90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52560" y="2747880"/>
            <a:ext cx="641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8904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36760" y="4191120"/>
            <a:ext cx="4648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sponse frames (to other Dv serv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. data, </a:t>
            </a:r>
            <a:r>
              <a:rPr b="1" i="1" lang="en-US" sz="1600" spc="-1" strike="noStrike">
                <a:solidFill>
                  <a:srgbClr val="00cc99"/>
                </a:solidFill>
                <a:latin typeface="Arial"/>
              </a:rPr>
              <a:t>scheduler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114ffb"/>
                </a:solidFill>
                <a:latin typeface="Arial"/>
              </a:rPr>
              <a:t>flowgraph,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65160" y="1981080"/>
            <a:ext cx="60958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quest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quest server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cc99"/>
                </a:solidFill>
                <a:latin typeface="Arial"/>
              </a:rPr>
              <a:t>scheduler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114ffb"/>
                </a:solidFill>
                <a:latin typeface="Arial"/>
              </a:rPr>
              <a:t>flowgraph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ff00ff"/>
                </a:solidFill>
                <a:latin typeface="Arial"/>
              </a:rPr>
              <a:t>data read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3040" y="3643200"/>
            <a:ext cx="2286000" cy="503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ques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3240" y="5638680"/>
            <a:ext cx="1934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t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2880" y="5257800"/>
            <a:ext cx="2438280" cy="0"/>
          </a:xfrm>
          <a:prstGeom prst="line">
            <a:avLst/>
          </a:prstGeom>
          <a:ln w="1260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327480" y="4952520"/>
            <a:ext cx="0" cy="304920"/>
          </a:xfrm>
          <a:prstGeom prst="line">
            <a:avLst/>
          </a:prstGeom>
          <a:ln w="1260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80760" y="3666960"/>
            <a:ext cx="563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56480" y="4137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442280" y="3657600"/>
            <a:ext cx="9903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46040" y="4145040"/>
            <a:ext cx="1143000" cy="503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cc99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2880" y="4648320"/>
            <a:ext cx="0" cy="609480"/>
          </a:xfrm>
          <a:prstGeom prst="line">
            <a:avLst/>
          </a:prstGeom>
          <a:ln w="1260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89040" y="3962520"/>
            <a:ext cx="3733920" cy="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32240" y="3962520"/>
            <a:ext cx="0" cy="83808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46640" y="3962520"/>
            <a:ext cx="0" cy="83808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37360" y="2133720"/>
            <a:ext cx="1523880" cy="2819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912080" y="3276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842240" y="3270240"/>
            <a:ext cx="735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24040" y="3692520"/>
            <a:ext cx="563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59880" y="5095800"/>
            <a:ext cx="1695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v cli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17840" y="3962520"/>
            <a:ext cx="0" cy="83808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22D-22FA-4F0D-83F9-CD9327F6AE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75FE0-A937-471D-8AFF-9E1A608AA68F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eduling active fram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face Schedul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stAddress getHost(int </a:t>
            </a:r>
            <a:r>
              <a:rPr b="0" lang="es-CO" sz="2400" spc="-1" strike="noStrike">
                <a:solidFill>
                  <a:srgbClr val="000000"/>
                </a:solidFill>
                <a:latin typeface="Courier New"/>
              </a:rPr>
              <a:t>hopCou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Returns the host’s address to execute a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Application defined scheduling polic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Can use resource information: CMU’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s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/R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UCSD/Tennessee’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etwork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eathe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er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B54-42E3-4F62-A100-84503D2CB5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7C0B8-3D17-42FF-90CE-EE7EA98DCF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3819600" y="3330720"/>
            <a:ext cx="4638600" cy="1774440"/>
            <a:chOff x="3819600" y="3330720"/>
            <a:chExt cx="4638600" cy="1774440"/>
          </a:xfrm>
        </p:grpSpPr>
        <p:sp>
          <p:nvSpPr>
            <p:cNvPr id="393" name=""/>
            <p:cNvSpPr/>
            <p:nvPr/>
          </p:nvSpPr>
          <p:spPr>
            <a:xfrm>
              <a:off x="6247440" y="3824280"/>
              <a:ext cx="2096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Output Active F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43600" y="3595680"/>
              <a:ext cx="251460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91000" y="3330720"/>
              <a:ext cx="53172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49" y="4204"/>
                  </a:moveTo>
                  <a:arcTo wR="10800" hR="10800" stAng="-8541239" swAng="18022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249" y="4204"/>
                  </a:moveTo>
                  <a:arcTo wR="10800" hR="10800" stAng="-8541239" swAng="18022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19600" y="339732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000" spc="-1" strike="noStrike">
                  <a:solidFill>
                    <a:srgbClr val="000000"/>
                  </a:solidFill>
                  <a:latin typeface="Arial Narrow"/>
                </a:rPr>
                <a:t>Frame th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248520" y="4114440"/>
              <a:ext cx="2133000" cy="990720"/>
              <a:chOff x="6248520" y="4114440"/>
              <a:chExt cx="2133000" cy="990720"/>
            </a:xfrm>
          </p:grpSpPr>
          <p:sp>
            <p:nvSpPr>
              <p:cNvPr id="398" name=""/>
              <p:cNvSpPr/>
              <p:nvPr/>
            </p:nvSpPr>
            <p:spPr>
              <a:xfrm>
                <a:off x="6248520" y="4114800"/>
                <a:ext cx="761760" cy="9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67480" y="4114800"/>
                <a:ext cx="914040" cy="9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6200000">
                <a:off x="6749640" y="4374720"/>
                <a:ext cx="990360" cy="4694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O" sz="1600" spc="-1" strike="noStrike">
                    <a:solidFill>
                      <a:srgbClr val="000000"/>
                    </a:solidFill>
                    <a:latin typeface="Arial Narrow"/>
                  </a:rPr>
                  <a:t>Schedul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omic Sans MS"/>
              </a:rPr>
              <a:t>Scheduling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ve frame</a:t>
            </a:r>
            <a:r>
              <a:rPr b="0" lang="es-CO" sz="4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3352680" y="4178160"/>
            <a:ext cx="2362320" cy="762120"/>
          </a:xfrm>
          <a:prstGeom prst="rect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52680" y="4940280"/>
            <a:ext cx="2362320" cy="712800"/>
          </a:xfrm>
          <a:prstGeom prst="rect">
            <a:avLst/>
          </a:prstGeom>
          <a:solidFill>
            <a:srgbClr val="66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, vt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29800" y="1447920"/>
            <a:ext cx="208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Active Fr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13000" y="1766880"/>
            <a:ext cx="2718000" cy="4038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226400" y="5881680"/>
            <a:ext cx="69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57640" y="1995480"/>
            <a:ext cx="531360" cy="52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49" y="4204"/>
                </a:moveTo>
                <a:arcTo wR="10800" hR="10800" stAng="-8541239" swAng="18022267"/>
                <a:lnTo>
                  <a:pt x="10800" y="10800"/>
                </a:lnTo>
                <a:close/>
              </a:path>
              <a:path fill="none" w="21600" h="21600">
                <a:moveTo>
                  <a:pt x="2249" y="4204"/>
                </a:moveTo>
                <a:arcTo wR="10800" hR="10800" stAng="-8541239" swAng="18022267"/>
              </a:path>
            </a:pathLst>
          </a:custGeom>
          <a:noFill/>
          <a:ln w="38160">
            <a:solidFill>
              <a:srgbClr val="000000"/>
            </a:solidFill>
            <a:miter/>
            <a:tailEnd len="sm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2300400"/>
            <a:ext cx="25146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25080" y="19954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Control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3600" y="2300400"/>
            <a:ext cx="25146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03800" y="1765440"/>
            <a:ext cx="1113120" cy="3052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TCP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57200" y="3316320"/>
            <a:ext cx="4795920" cy="1941120"/>
            <a:chOff x="457200" y="3316320"/>
            <a:chExt cx="4795920" cy="1941120"/>
          </a:xfrm>
        </p:grpSpPr>
        <p:grpSp>
          <p:nvGrpSpPr>
            <p:cNvPr id="413" name=""/>
            <p:cNvGrpSpPr/>
            <p:nvPr/>
          </p:nvGrpSpPr>
          <p:grpSpPr>
            <a:xfrm>
              <a:off x="3181320" y="3316320"/>
              <a:ext cx="2071800" cy="529560"/>
              <a:chOff x="3181320" y="3316320"/>
              <a:chExt cx="2071800" cy="529560"/>
            </a:xfrm>
          </p:grpSpPr>
          <p:sp>
            <p:nvSpPr>
              <p:cNvPr id="414" name=""/>
              <p:cNvSpPr/>
              <p:nvPr/>
            </p:nvSpPr>
            <p:spPr>
              <a:xfrm>
                <a:off x="3181320" y="3316320"/>
                <a:ext cx="531360" cy="52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249" y="4204"/>
                    </a:moveTo>
                    <a:arcTo wR="10800" hR="10800" stAng="-8541239" swAng="180222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249" y="4204"/>
                    </a:moveTo>
                    <a:arcTo wR="10800" hR="10800" stAng="-8541239" swAng="1802226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sm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819600" y="3382920"/>
                <a:ext cx="14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O" sz="2000" spc="-1" strike="noStrike">
                    <a:solidFill>
                      <a:srgbClr val="000000"/>
                    </a:solidFill>
                    <a:latin typeface="Arial Narrow"/>
                  </a:rPr>
                  <a:t>Frame thre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457200" y="3747960"/>
              <a:ext cx="231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Input Active F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480" y="3595680"/>
              <a:ext cx="251460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685800" y="4266720"/>
              <a:ext cx="2133720" cy="990720"/>
              <a:chOff x="685800" y="4266720"/>
              <a:chExt cx="2133720" cy="990720"/>
            </a:xfrm>
          </p:grpSpPr>
          <p:sp>
            <p:nvSpPr>
              <p:cNvPr id="419" name=""/>
              <p:cNvSpPr/>
              <p:nvPr/>
            </p:nvSpPr>
            <p:spPr>
              <a:xfrm>
                <a:off x="685800" y="4267080"/>
                <a:ext cx="762120" cy="9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905120" y="4267080"/>
                <a:ext cx="914400" cy="9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6200000">
                <a:off x="1187640" y="4527000"/>
                <a:ext cx="990360" cy="469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O" sz="1600" spc="-1" strike="noStrike">
                    <a:solidFill>
                      <a:srgbClr val="000000"/>
                    </a:solidFill>
                    <a:latin typeface="Arial Narrow"/>
                  </a:rPr>
                  <a:t>Schedul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2" name=""/>
          <p:cNvGrpSpPr/>
          <p:nvPr/>
        </p:nvGrpSpPr>
        <p:grpSpPr>
          <a:xfrm>
            <a:off x="3181320" y="3316320"/>
            <a:ext cx="2062080" cy="529920"/>
            <a:chOff x="3181320" y="3316320"/>
            <a:chExt cx="2062080" cy="529920"/>
          </a:xfrm>
        </p:grpSpPr>
        <p:sp>
          <p:nvSpPr>
            <p:cNvPr id="423" name=""/>
            <p:cNvSpPr/>
            <p:nvPr/>
          </p:nvSpPr>
          <p:spPr>
            <a:xfrm>
              <a:off x="3809880" y="338292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000" spc="-1" strike="noStrike">
                  <a:solidFill>
                    <a:srgbClr val="000000"/>
                  </a:solidFill>
                  <a:latin typeface="Arial Narrow"/>
                </a:rPr>
                <a:t>Frame th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81320" y="3316320"/>
              <a:ext cx="531360" cy="52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49" y="4204"/>
                  </a:moveTo>
                  <a:arcTo wR="10800" hR="10800" stAng="-8541239" swAng="18022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249" y="4204"/>
                  </a:moveTo>
                  <a:arcTo wR="10800" hR="10800" stAng="-8541239" swAng="18022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181320" y="2057400"/>
            <a:ext cx="2586240" cy="2019240"/>
            <a:chOff x="3181320" y="2057400"/>
            <a:chExt cx="2586240" cy="2019240"/>
          </a:xfrm>
        </p:grpSpPr>
        <p:grpSp>
          <p:nvGrpSpPr>
            <p:cNvPr id="426" name=""/>
            <p:cNvGrpSpPr/>
            <p:nvPr/>
          </p:nvGrpSpPr>
          <p:grpSpPr>
            <a:xfrm>
              <a:off x="3505320" y="3085920"/>
              <a:ext cx="2133000" cy="990720"/>
              <a:chOff x="3505320" y="3085920"/>
              <a:chExt cx="2133000" cy="990720"/>
            </a:xfrm>
          </p:grpSpPr>
          <p:sp>
            <p:nvSpPr>
              <p:cNvPr id="427" name=""/>
              <p:cNvSpPr/>
              <p:nvPr/>
            </p:nvSpPr>
            <p:spPr>
              <a:xfrm>
                <a:off x="3505320" y="3086280"/>
                <a:ext cx="761760" cy="9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24280" y="3086280"/>
                <a:ext cx="914040" cy="9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6200000">
                <a:off x="4006440" y="3346200"/>
                <a:ext cx="990360" cy="4694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O" sz="1600" spc="-1" strike="noStrike">
                    <a:solidFill>
                      <a:srgbClr val="000000"/>
                    </a:solidFill>
                    <a:latin typeface="Arial Narrow"/>
                  </a:rPr>
                  <a:t>Schedul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3181320" y="3316320"/>
              <a:ext cx="531360" cy="52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49" y="4204"/>
                  </a:moveTo>
                  <a:arcTo wR="10800" hR="10800" stAng="-8541239" swAng="18022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249" y="4204"/>
                  </a:moveTo>
                  <a:arcTo wR="10800" hR="10800" stAng="-8541239" swAng="18022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77000" y="2590920"/>
              <a:ext cx="99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000" spc="-1" strike="noStrike">
                  <a:solidFill>
                    <a:srgbClr val="000000"/>
                  </a:solidFill>
                  <a:latin typeface="Arial Narrow"/>
                </a:rPr>
                <a:t>getHost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95600" y="2057400"/>
              <a:ext cx="471960" cy="1005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6600" spc="-1" strike="noStrike">
                  <a:solidFill>
                    <a:srgbClr val="008000"/>
                  </a:solidFill>
                  <a:latin typeface="Comic Sans MS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181320" y="2666880"/>
            <a:ext cx="2457000" cy="2490840"/>
            <a:chOff x="3181320" y="2666880"/>
            <a:chExt cx="2457000" cy="2490840"/>
          </a:xfrm>
        </p:grpSpPr>
        <p:sp>
          <p:nvSpPr>
            <p:cNvPr id="434" name=""/>
            <p:cNvSpPr/>
            <p:nvPr/>
          </p:nvSpPr>
          <p:spPr>
            <a:xfrm>
              <a:off x="4159440" y="2666880"/>
              <a:ext cx="8251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O" sz="1800" spc="-1" strike="noStrike">
                  <a:solidFill>
                    <a:srgbClr val="ff0000"/>
                  </a:solidFill>
                  <a:latin typeface="Arial"/>
                </a:rPr>
                <a:t>Exec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3938760"/>
              <a:ext cx="0" cy="121896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3505320" y="3085920"/>
              <a:ext cx="2133000" cy="990720"/>
              <a:chOff x="3505320" y="3085920"/>
              <a:chExt cx="2133000" cy="990720"/>
            </a:xfrm>
          </p:grpSpPr>
          <p:sp>
            <p:nvSpPr>
              <p:cNvPr id="437" name=""/>
              <p:cNvSpPr/>
              <p:nvPr/>
            </p:nvSpPr>
            <p:spPr>
              <a:xfrm>
                <a:off x="3505320" y="3086280"/>
                <a:ext cx="761760" cy="9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24280" y="3086280"/>
                <a:ext cx="914040" cy="990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6200000">
                <a:off x="4006440" y="3346200"/>
                <a:ext cx="990360" cy="4694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O" sz="1600" spc="-1" strike="noStrike">
                    <a:solidFill>
                      <a:srgbClr val="000000"/>
                    </a:solidFill>
                    <a:latin typeface="Arial Narrow"/>
                  </a:rPr>
                  <a:t>Schedul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3181320" y="3316320"/>
              <a:ext cx="531360" cy="52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49" y="4204"/>
                  </a:moveTo>
                  <a:arcTo wR="10800" hR="10800" stAng="-8541239" swAng="18022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249" y="4204"/>
                  </a:moveTo>
                  <a:arcTo wR="10800" hR="10800" stAng="-8541239" swAng="18022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CC5-E394-4850-BB7B-C17DECF215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33961-0A32-411E-96F8-4891ACB251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ic schedul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Cloud"/>
          <p:cNvSpPr/>
          <p:nvPr/>
        </p:nvSpPr>
        <p:spPr>
          <a:xfrm>
            <a:off x="2514600" y="2514600"/>
            <a:ext cx="3429000" cy="229860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Best-effort 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Cloud"/>
          <p:cNvSpPr/>
          <p:nvPr/>
        </p:nvSpPr>
        <p:spPr>
          <a:xfrm>
            <a:off x="1600200" y="4419720"/>
            <a:ext cx="167652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Loca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924680" y="1447920"/>
            <a:ext cx="609840" cy="761760"/>
          </a:xfrm>
          <a:prstGeom prst="can">
            <a:avLst>
              <a:gd name="adj" fmla="val 2666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Dat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Cloud"/>
          <p:cNvSpPr/>
          <p:nvPr/>
        </p:nvSpPr>
        <p:spPr>
          <a:xfrm>
            <a:off x="1447920" y="1981080"/>
            <a:ext cx="167616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Loca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Cloud"/>
          <p:cNvSpPr/>
          <p:nvPr/>
        </p:nvSpPr>
        <p:spPr>
          <a:xfrm>
            <a:off x="5791320" y="2305080"/>
            <a:ext cx="167616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Remot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j0249816" descr=""/>
          <p:cNvPicPr/>
          <p:nvPr/>
        </p:nvPicPr>
        <p:blipFill>
          <a:blip r:embed="rId1"/>
          <a:stretch/>
        </p:blipFill>
        <p:spPr>
          <a:xfrm>
            <a:off x="7315200" y="2666880"/>
            <a:ext cx="1066680" cy="916200"/>
          </a:xfrm>
          <a:prstGeom prst="rect">
            <a:avLst/>
          </a:prstGeom>
          <a:ln w="0">
            <a:noFill/>
          </a:ln>
        </p:spPr>
      </p:pic>
      <p:pic>
        <p:nvPicPr>
          <p:cNvPr id="448" name="bs00103_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577800" cy="668160"/>
          </a:xfrm>
          <a:prstGeom prst="rect">
            <a:avLst/>
          </a:prstGeom>
          <a:ln w="0">
            <a:noFill/>
          </a:ln>
        </p:spPr>
      </p:pic>
      <p:pic>
        <p:nvPicPr>
          <p:cNvPr id="449" name="j0245337" descr=""/>
          <p:cNvPicPr/>
          <p:nvPr/>
        </p:nvPicPr>
        <p:blipFill>
          <a:blip r:embed="rId3"/>
          <a:stretch/>
        </p:blipFill>
        <p:spPr>
          <a:xfrm>
            <a:off x="762120" y="2438280"/>
            <a:ext cx="782640" cy="990720"/>
          </a:xfrm>
          <a:prstGeom prst="rect">
            <a:avLst/>
          </a:prstGeom>
          <a:ln w="0">
            <a:noFill/>
          </a:ln>
        </p:spPr>
      </p:pic>
      <p:pic>
        <p:nvPicPr>
          <p:cNvPr id="450" name="j0282506" descr=""/>
          <p:cNvPicPr/>
          <p:nvPr/>
        </p:nvPicPr>
        <p:blipFill>
          <a:blip r:embed="rId4"/>
          <a:stretch/>
        </p:blipFill>
        <p:spPr>
          <a:xfrm>
            <a:off x="1066680" y="5029200"/>
            <a:ext cx="609840" cy="525600"/>
          </a:xfrm>
          <a:prstGeom prst="rect">
            <a:avLst/>
          </a:prstGeom>
          <a:ln w="0">
            <a:noFill/>
          </a:ln>
        </p:spPr>
      </p:pic>
      <p:pic>
        <p:nvPicPr>
          <p:cNvPr id="451" name="j0223560" descr=""/>
          <p:cNvPicPr/>
          <p:nvPr/>
        </p:nvPicPr>
        <p:blipFill>
          <a:blip r:embed="rId5"/>
          <a:stretch/>
        </p:blipFill>
        <p:spPr>
          <a:xfrm>
            <a:off x="6781680" y="1371600"/>
            <a:ext cx="887400" cy="990720"/>
          </a:xfrm>
          <a:prstGeom prst="rect">
            <a:avLst/>
          </a:prstGeom>
          <a:ln w="0">
            <a:noFill/>
          </a:ln>
        </p:spPr>
      </p:pic>
      <p:cxnSp>
        <p:nvCxnSpPr>
          <p:cNvPr id="452" name=""/>
          <p:cNvCxnSpPr>
            <a:stCxn id="451" idx="3"/>
            <a:endCxn id="444" idx="2"/>
          </p:cNvCxnSpPr>
          <p:nvPr/>
        </p:nvCxnSpPr>
        <p:spPr>
          <a:xfrm flipV="1">
            <a:off x="7669080" y="1828440"/>
            <a:ext cx="2559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580920" y="502920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e host assignment for all fra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oits application-specific inf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not adapt to dynamic resource changes</a:t>
            </a:r>
            <a:r>
              <a:rPr b="0" lang="es-CO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bs00103_" descr=""/>
          <p:cNvPicPr/>
          <p:nvPr/>
        </p:nvPicPr>
        <p:blipFill>
          <a:blip r:embed="rId6"/>
          <a:stretch/>
        </p:blipFill>
        <p:spPr>
          <a:xfrm>
            <a:off x="5029200" y="35812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455" name="bs00103_" descr=""/>
          <p:cNvPicPr/>
          <p:nvPr/>
        </p:nvPicPr>
        <p:blipFill>
          <a:blip r:embed="rId7"/>
          <a:stretch/>
        </p:blipFill>
        <p:spPr>
          <a:xfrm>
            <a:off x="3733920" y="22096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456" name="bs00103_" descr=""/>
          <p:cNvPicPr/>
          <p:nvPr/>
        </p:nvPicPr>
        <p:blipFill>
          <a:blip r:embed="rId8"/>
          <a:stretch/>
        </p:blipFill>
        <p:spPr>
          <a:xfrm>
            <a:off x="5638680" y="17524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457" name="bs00103_" descr=""/>
          <p:cNvPicPr/>
          <p:nvPr/>
        </p:nvPicPr>
        <p:blipFill>
          <a:blip r:embed="rId9"/>
          <a:stretch/>
        </p:blipFill>
        <p:spPr>
          <a:xfrm>
            <a:off x="1676520" y="3886200"/>
            <a:ext cx="577800" cy="668160"/>
          </a:xfrm>
          <a:prstGeom prst="rect">
            <a:avLst/>
          </a:prstGeom>
          <a:ln w="0">
            <a:noFill/>
          </a:ln>
        </p:spPr>
      </p:pic>
      <p:pic>
        <p:nvPicPr>
          <p:cNvPr id="458" name="bs00103_" descr=""/>
          <p:cNvPicPr/>
          <p:nvPr/>
        </p:nvPicPr>
        <p:blipFill>
          <a:blip r:embed="rId10"/>
          <a:stretch/>
        </p:blipFill>
        <p:spPr>
          <a:xfrm>
            <a:off x="6095880" y="17524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459" name="bs00103_" descr=""/>
          <p:cNvPicPr/>
          <p:nvPr/>
        </p:nvPicPr>
        <p:blipFill>
          <a:blip r:embed="rId11"/>
          <a:stretch/>
        </p:blipFill>
        <p:spPr>
          <a:xfrm>
            <a:off x="3657600" y="40384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460" name="bs00103_" descr=""/>
          <p:cNvPicPr/>
          <p:nvPr/>
        </p:nvPicPr>
        <p:blipFill>
          <a:blip r:embed="rId12"/>
          <a:stretch/>
        </p:blipFill>
        <p:spPr>
          <a:xfrm>
            <a:off x="2743200" y="3094200"/>
            <a:ext cx="577800" cy="6681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278000" y="1706400"/>
            <a:ext cx="5503680" cy="1335240"/>
          </a:xfrm>
          <a:custGeom>
            <a:avLst/>
            <a:gdLst/>
            <a:ahLst/>
            <a:rect l="l" t="t" r="r" b="b"/>
            <a:pathLst>
              <a:path w="3467" h="841">
                <a:moveTo>
                  <a:pt x="3467" y="29"/>
                </a:moveTo>
                <a:cubicBezTo>
                  <a:pt x="3412" y="44"/>
                  <a:pt x="3218" y="0"/>
                  <a:pt x="3139" y="117"/>
                </a:cubicBezTo>
                <a:cubicBezTo>
                  <a:pt x="3060" y="234"/>
                  <a:pt x="3131" y="625"/>
                  <a:pt x="2995" y="733"/>
                </a:cubicBezTo>
                <a:cubicBezTo>
                  <a:pt x="2859" y="841"/>
                  <a:pt x="2542" y="788"/>
                  <a:pt x="2323" y="765"/>
                </a:cubicBezTo>
                <a:cubicBezTo>
                  <a:pt x="2104" y="742"/>
                  <a:pt x="1862" y="598"/>
                  <a:pt x="1683" y="597"/>
                </a:cubicBezTo>
                <a:cubicBezTo>
                  <a:pt x="1504" y="596"/>
                  <a:pt x="1415" y="770"/>
                  <a:pt x="1251" y="757"/>
                </a:cubicBezTo>
                <a:cubicBezTo>
                  <a:pt x="1087" y="744"/>
                  <a:pt x="890" y="542"/>
                  <a:pt x="699" y="517"/>
                </a:cubicBezTo>
                <a:cubicBezTo>
                  <a:pt x="508" y="492"/>
                  <a:pt x="214" y="590"/>
                  <a:pt x="107" y="605"/>
                </a:cubicBezTo>
                <a:cubicBezTo>
                  <a:pt x="0" y="620"/>
                  <a:pt x="67" y="605"/>
                  <a:pt x="59" y="60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172200" y="1371600"/>
            <a:ext cx="533520" cy="30492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3000" y="2209680"/>
            <a:ext cx="533520" cy="30492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2133720"/>
            <a:ext cx="533520" cy="30456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72200" y="1371600"/>
            <a:ext cx="533520" cy="30492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2133720"/>
            <a:ext cx="533520" cy="30456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43000" y="2209680"/>
            <a:ext cx="533520" cy="30492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02120" y="423720"/>
            <a:ext cx="47196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600" spc="-1" strike="noStrike">
                <a:solidFill>
                  <a:srgbClr val="008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523880" y="2286000"/>
            <a:ext cx="5639040" cy="1333440"/>
            <a:chOff x="1523880" y="2286000"/>
            <a:chExt cx="5639040" cy="1333440"/>
          </a:xfrm>
        </p:grpSpPr>
        <p:sp>
          <p:nvSpPr>
            <p:cNvPr id="470" name=""/>
            <p:cNvSpPr/>
            <p:nvPr/>
          </p:nvSpPr>
          <p:spPr>
            <a:xfrm>
              <a:off x="1523880" y="2286000"/>
              <a:ext cx="5639040" cy="1166760"/>
            </a:xfrm>
            <a:custGeom>
              <a:avLst/>
              <a:gdLst/>
              <a:ahLst/>
              <a:rect l="l" t="t" r="r" b="b"/>
              <a:pathLst>
                <a:path w="3552" h="735">
                  <a:moveTo>
                    <a:pt x="0" y="336"/>
                  </a:moveTo>
                  <a:cubicBezTo>
                    <a:pt x="151" y="351"/>
                    <a:pt x="487" y="369"/>
                    <a:pt x="904" y="424"/>
                  </a:cubicBezTo>
                  <a:cubicBezTo>
                    <a:pt x="1321" y="479"/>
                    <a:pt x="2063" y="735"/>
                    <a:pt x="2504" y="664"/>
                  </a:cubicBezTo>
                  <a:cubicBezTo>
                    <a:pt x="2945" y="593"/>
                    <a:pt x="3334" y="138"/>
                    <a:pt x="3552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48520" y="3238560"/>
              <a:ext cx="685800" cy="380880"/>
            </a:xfrm>
            <a:prstGeom prst="foldedCorner">
              <a:avLst>
                <a:gd name="adj" fmla="val 125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ffffff"/>
                  </a:solidFill>
                  <a:latin typeface="Arial Narrow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C45-2500-4D02-8A7B-3E4A738EE0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60B4A-57AF-40C1-8C24-77E0D8C007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Cloud"/>
          <p:cNvSpPr/>
          <p:nvPr/>
        </p:nvSpPr>
        <p:spPr>
          <a:xfrm>
            <a:off x="2514600" y="2514600"/>
            <a:ext cx="3429000" cy="229860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Best-effort 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heduling at frame creation ti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Cloud"/>
          <p:cNvSpPr/>
          <p:nvPr/>
        </p:nvSpPr>
        <p:spPr>
          <a:xfrm>
            <a:off x="1600200" y="4419720"/>
            <a:ext cx="167652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Loca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924680" y="1447920"/>
            <a:ext cx="609840" cy="761760"/>
          </a:xfrm>
          <a:prstGeom prst="can">
            <a:avLst>
              <a:gd name="adj" fmla="val 2666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Dat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Cloud"/>
          <p:cNvSpPr/>
          <p:nvPr/>
        </p:nvSpPr>
        <p:spPr>
          <a:xfrm>
            <a:off x="1447920" y="1981080"/>
            <a:ext cx="167616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Loca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Cloud"/>
          <p:cNvSpPr/>
          <p:nvPr/>
        </p:nvSpPr>
        <p:spPr>
          <a:xfrm>
            <a:off x="5791320" y="2305080"/>
            <a:ext cx="167616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Remot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j0249816" descr=""/>
          <p:cNvPicPr/>
          <p:nvPr/>
        </p:nvPicPr>
        <p:blipFill>
          <a:blip r:embed="rId1"/>
          <a:stretch/>
        </p:blipFill>
        <p:spPr>
          <a:xfrm>
            <a:off x="7315200" y="2666880"/>
            <a:ext cx="1066680" cy="916200"/>
          </a:xfrm>
          <a:prstGeom prst="rect">
            <a:avLst/>
          </a:prstGeom>
          <a:ln w="0">
            <a:noFill/>
          </a:ln>
        </p:spPr>
      </p:pic>
      <p:pic>
        <p:nvPicPr>
          <p:cNvPr id="479" name="bs00103_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577800" cy="668160"/>
          </a:xfrm>
          <a:prstGeom prst="rect">
            <a:avLst/>
          </a:prstGeom>
          <a:ln w="0">
            <a:noFill/>
          </a:ln>
        </p:spPr>
      </p:pic>
      <p:pic>
        <p:nvPicPr>
          <p:cNvPr id="480" name="j0245337" descr=""/>
          <p:cNvPicPr/>
          <p:nvPr/>
        </p:nvPicPr>
        <p:blipFill>
          <a:blip r:embed="rId3"/>
          <a:stretch/>
        </p:blipFill>
        <p:spPr>
          <a:xfrm>
            <a:off x="762120" y="2438280"/>
            <a:ext cx="782640" cy="990720"/>
          </a:xfrm>
          <a:prstGeom prst="rect">
            <a:avLst/>
          </a:prstGeom>
          <a:ln w="0">
            <a:noFill/>
          </a:ln>
        </p:spPr>
      </p:pic>
      <p:pic>
        <p:nvPicPr>
          <p:cNvPr id="481" name="j0282506" descr=""/>
          <p:cNvPicPr/>
          <p:nvPr/>
        </p:nvPicPr>
        <p:blipFill>
          <a:blip r:embed="rId4"/>
          <a:stretch/>
        </p:blipFill>
        <p:spPr>
          <a:xfrm>
            <a:off x="1066680" y="5029200"/>
            <a:ext cx="609840" cy="525600"/>
          </a:xfrm>
          <a:prstGeom prst="rect">
            <a:avLst/>
          </a:prstGeom>
          <a:ln w="0">
            <a:noFill/>
          </a:ln>
        </p:spPr>
      </p:pic>
      <p:pic>
        <p:nvPicPr>
          <p:cNvPr id="482" name="j0223560" descr=""/>
          <p:cNvPicPr/>
          <p:nvPr/>
        </p:nvPicPr>
        <p:blipFill>
          <a:blip r:embed="rId5"/>
          <a:stretch/>
        </p:blipFill>
        <p:spPr>
          <a:xfrm>
            <a:off x="6781680" y="1371600"/>
            <a:ext cx="887400" cy="99072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>
            <a:stCxn id="482" idx="3"/>
            <a:endCxn id="475" idx="2"/>
          </p:cNvCxnSpPr>
          <p:nvPr/>
        </p:nvCxnSpPr>
        <p:spPr>
          <a:xfrm flipV="1">
            <a:off x="7669080" y="1828440"/>
            <a:ext cx="2559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14440" y="50292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dynamic resource data</a:t>
            </a:r>
            <a:r>
              <a:rPr b="0" lang="es-CO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ation occurs at the source</a:t>
            </a:r>
            <a:r>
              <a:rPr b="0" lang="es-CO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bs00103_" descr=""/>
          <p:cNvPicPr/>
          <p:nvPr/>
        </p:nvPicPr>
        <p:blipFill>
          <a:blip r:embed="rId6"/>
          <a:stretch/>
        </p:blipFill>
        <p:spPr>
          <a:xfrm>
            <a:off x="5029200" y="35812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486" name="bs00103_" descr=""/>
          <p:cNvPicPr/>
          <p:nvPr/>
        </p:nvPicPr>
        <p:blipFill>
          <a:blip r:embed="rId7"/>
          <a:stretch/>
        </p:blipFill>
        <p:spPr>
          <a:xfrm>
            <a:off x="3733920" y="22096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487" name="bs00103_" descr=""/>
          <p:cNvPicPr/>
          <p:nvPr/>
        </p:nvPicPr>
        <p:blipFill>
          <a:blip r:embed="rId8"/>
          <a:stretch/>
        </p:blipFill>
        <p:spPr>
          <a:xfrm>
            <a:off x="5638680" y="17524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488" name="bs00103_" descr=""/>
          <p:cNvPicPr/>
          <p:nvPr/>
        </p:nvPicPr>
        <p:blipFill>
          <a:blip r:embed="rId9"/>
          <a:stretch/>
        </p:blipFill>
        <p:spPr>
          <a:xfrm>
            <a:off x="1676520" y="3886200"/>
            <a:ext cx="577800" cy="668160"/>
          </a:xfrm>
          <a:prstGeom prst="rect">
            <a:avLst/>
          </a:prstGeom>
          <a:ln w="0">
            <a:noFill/>
          </a:ln>
        </p:spPr>
      </p:pic>
      <p:pic>
        <p:nvPicPr>
          <p:cNvPr id="489" name="bs00103_" descr=""/>
          <p:cNvPicPr/>
          <p:nvPr/>
        </p:nvPicPr>
        <p:blipFill>
          <a:blip r:embed="rId10"/>
          <a:stretch/>
        </p:blipFill>
        <p:spPr>
          <a:xfrm>
            <a:off x="6095880" y="17524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490" name="bs00103_" descr=""/>
          <p:cNvPicPr/>
          <p:nvPr/>
        </p:nvPicPr>
        <p:blipFill>
          <a:blip r:embed="rId11"/>
          <a:stretch/>
        </p:blipFill>
        <p:spPr>
          <a:xfrm>
            <a:off x="3657600" y="40384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491" name="bs00103_" descr=""/>
          <p:cNvPicPr/>
          <p:nvPr/>
        </p:nvPicPr>
        <p:blipFill>
          <a:blip r:embed="rId12"/>
          <a:stretch/>
        </p:blipFill>
        <p:spPr>
          <a:xfrm>
            <a:off x="2743200" y="3094200"/>
            <a:ext cx="577800" cy="6681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371600" y="1828800"/>
            <a:ext cx="5486400" cy="2411280"/>
          </a:xfrm>
          <a:custGeom>
            <a:avLst/>
            <a:gdLst/>
            <a:ahLst/>
            <a:rect l="l" t="t" r="r" b="b"/>
            <a:pathLst>
              <a:path w="3456" h="1519">
                <a:moveTo>
                  <a:pt x="3456" y="0"/>
                </a:moveTo>
                <a:cubicBezTo>
                  <a:pt x="3397" y="31"/>
                  <a:pt x="3224" y="8"/>
                  <a:pt x="3104" y="184"/>
                </a:cubicBezTo>
                <a:cubicBezTo>
                  <a:pt x="2984" y="360"/>
                  <a:pt x="2895" y="859"/>
                  <a:pt x="2736" y="1056"/>
                </a:cubicBezTo>
                <a:cubicBezTo>
                  <a:pt x="2577" y="1253"/>
                  <a:pt x="2503" y="1519"/>
                  <a:pt x="2152" y="1368"/>
                </a:cubicBezTo>
                <a:cubicBezTo>
                  <a:pt x="1801" y="1217"/>
                  <a:pt x="991" y="297"/>
                  <a:pt x="632" y="152"/>
                </a:cubicBezTo>
                <a:cubicBezTo>
                  <a:pt x="273" y="7"/>
                  <a:pt x="132" y="424"/>
                  <a:pt x="0" y="4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3276720"/>
            <a:ext cx="533520" cy="30456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2819520"/>
            <a:ext cx="533520" cy="30456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990720" y="1397160"/>
            <a:ext cx="5784840" cy="1574640"/>
            <a:chOff x="990720" y="1397160"/>
            <a:chExt cx="5784840" cy="1574640"/>
          </a:xfrm>
        </p:grpSpPr>
        <p:sp>
          <p:nvSpPr>
            <p:cNvPr id="496" name=""/>
            <p:cNvSpPr/>
            <p:nvPr/>
          </p:nvSpPr>
          <p:spPr>
            <a:xfrm>
              <a:off x="1225440" y="1397160"/>
              <a:ext cx="5550120" cy="1574640"/>
            </a:xfrm>
            <a:custGeom>
              <a:avLst/>
              <a:gdLst/>
              <a:ahLst/>
              <a:rect l="l" t="t" r="r" b="b"/>
              <a:pathLst>
                <a:path w="3496" h="992">
                  <a:moveTo>
                    <a:pt x="3496" y="208"/>
                  </a:moveTo>
                  <a:cubicBezTo>
                    <a:pt x="3395" y="189"/>
                    <a:pt x="3007" y="0"/>
                    <a:pt x="2888" y="96"/>
                  </a:cubicBezTo>
                  <a:cubicBezTo>
                    <a:pt x="2769" y="192"/>
                    <a:pt x="2925" y="637"/>
                    <a:pt x="2784" y="784"/>
                  </a:cubicBezTo>
                  <a:cubicBezTo>
                    <a:pt x="2643" y="931"/>
                    <a:pt x="2217" y="960"/>
                    <a:pt x="2040" y="976"/>
                  </a:cubicBezTo>
                  <a:cubicBezTo>
                    <a:pt x="1863" y="992"/>
                    <a:pt x="1829" y="919"/>
                    <a:pt x="1720" y="880"/>
                  </a:cubicBezTo>
                  <a:cubicBezTo>
                    <a:pt x="1611" y="841"/>
                    <a:pt x="1560" y="841"/>
                    <a:pt x="1384" y="744"/>
                  </a:cubicBezTo>
                  <a:cubicBezTo>
                    <a:pt x="1208" y="647"/>
                    <a:pt x="895" y="312"/>
                    <a:pt x="664" y="296"/>
                  </a:cubicBezTo>
                  <a:cubicBezTo>
                    <a:pt x="433" y="280"/>
                    <a:pt x="138" y="575"/>
                    <a:pt x="0" y="64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0720" y="1828800"/>
              <a:ext cx="533160" cy="30492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1225440" y="1219320"/>
            <a:ext cx="5550120" cy="1752480"/>
            <a:chOff x="1225440" y="1219320"/>
            <a:chExt cx="5550120" cy="1752480"/>
          </a:xfrm>
        </p:grpSpPr>
        <p:sp>
          <p:nvSpPr>
            <p:cNvPr id="499" name=""/>
            <p:cNvSpPr/>
            <p:nvPr/>
          </p:nvSpPr>
          <p:spPr>
            <a:xfrm>
              <a:off x="1225440" y="1397160"/>
              <a:ext cx="5550120" cy="1574640"/>
            </a:xfrm>
            <a:custGeom>
              <a:avLst/>
              <a:gdLst/>
              <a:ahLst/>
              <a:rect l="l" t="t" r="r" b="b"/>
              <a:pathLst>
                <a:path w="3496" h="992">
                  <a:moveTo>
                    <a:pt x="3496" y="208"/>
                  </a:moveTo>
                  <a:cubicBezTo>
                    <a:pt x="3395" y="189"/>
                    <a:pt x="3007" y="0"/>
                    <a:pt x="2888" y="96"/>
                  </a:cubicBezTo>
                  <a:cubicBezTo>
                    <a:pt x="2769" y="192"/>
                    <a:pt x="2925" y="637"/>
                    <a:pt x="2784" y="784"/>
                  </a:cubicBezTo>
                  <a:cubicBezTo>
                    <a:pt x="2643" y="931"/>
                    <a:pt x="2217" y="960"/>
                    <a:pt x="2040" y="976"/>
                  </a:cubicBezTo>
                  <a:cubicBezTo>
                    <a:pt x="1863" y="992"/>
                    <a:pt x="1829" y="919"/>
                    <a:pt x="1720" y="880"/>
                  </a:cubicBezTo>
                  <a:cubicBezTo>
                    <a:pt x="1611" y="841"/>
                    <a:pt x="1560" y="841"/>
                    <a:pt x="1384" y="744"/>
                  </a:cubicBezTo>
                  <a:cubicBezTo>
                    <a:pt x="1208" y="647"/>
                    <a:pt x="895" y="312"/>
                    <a:pt x="664" y="296"/>
                  </a:cubicBezTo>
                  <a:cubicBezTo>
                    <a:pt x="433" y="280"/>
                    <a:pt x="138" y="575"/>
                    <a:pt x="0" y="64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10080" y="1219320"/>
              <a:ext cx="533520" cy="30456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225440" y="1397160"/>
            <a:ext cx="5550120" cy="1574640"/>
            <a:chOff x="1225440" y="1397160"/>
            <a:chExt cx="5550120" cy="1574640"/>
          </a:xfrm>
        </p:grpSpPr>
        <p:sp>
          <p:nvSpPr>
            <p:cNvPr id="502" name=""/>
            <p:cNvSpPr/>
            <p:nvPr/>
          </p:nvSpPr>
          <p:spPr>
            <a:xfrm>
              <a:off x="1225440" y="1397160"/>
              <a:ext cx="5550120" cy="1574640"/>
            </a:xfrm>
            <a:custGeom>
              <a:avLst/>
              <a:gdLst/>
              <a:ahLst/>
              <a:rect l="l" t="t" r="r" b="b"/>
              <a:pathLst>
                <a:path w="3496" h="992">
                  <a:moveTo>
                    <a:pt x="3496" y="208"/>
                  </a:moveTo>
                  <a:cubicBezTo>
                    <a:pt x="3395" y="189"/>
                    <a:pt x="3007" y="0"/>
                    <a:pt x="2888" y="96"/>
                  </a:cubicBezTo>
                  <a:cubicBezTo>
                    <a:pt x="2769" y="192"/>
                    <a:pt x="2925" y="637"/>
                    <a:pt x="2784" y="784"/>
                  </a:cubicBezTo>
                  <a:cubicBezTo>
                    <a:pt x="2643" y="931"/>
                    <a:pt x="2217" y="960"/>
                    <a:pt x="2040" y="976"/>
                  </a:cubicBezTo>
                  <a:cubicBezTo>
                    <a:pt x="1863" y="992"/>
                    <a:pt x="1829" y="919"/>
                    <a:pt x="1720" y="880"/>
                  </a:cubicBezTo>
                  <a:cubicBezTo>
                    <a:pt x="1611" y="841"/>
                    <a:pt x="1560" y="841"/>
                    <a:pt x="1384" y="744"/>
                  </a:cubicBezTo>
                  <a:cubicBezTo>
                    <a:pt x="1208" y="647"/>
                    <a:pt x="895" y="312"/>
                    <a:pt x="664" y="296"/>
                  </a:cubicBezTo>
                  <a:cubicBezTo>
                    <a:pt x="433" y="280"/>
                    <a:pt x="138" y="575"/>
                    <a:pt x="0" y="64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05240" y="2666880"/>
              <a:ext cx="533520" cy="30492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324480" y="2286000"/>
            <a:ext cx="533520" cy="30492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19480" y="914400"/>
            <a:ext cx="47196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600" spc="-1" strike="noStrike">
                <a:solidFill>
                  <a:srgbClr val="008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19480" y="914400"/>
            <a:ext cx="47196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600" spc="-1" strike="noStrike">
                <a:solidFill>
                  <a:srgbClr val="008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523880" y="2286000"/>
            <a:ext cx="5639040" cy="1333440"/>
            <a:chOff x="1523880" y="2286000"/>
            <a:chExt cx="5639040" cy="1333440"/>
          </a:xfrm>
        </p:grpSpPr>
        <p:sp>
          <p:nvSpPr>
            <p:cNvPr id="508" name=""/>
            <p:cNvSpPr/>
            <p:nvPr/>
          </p:nvSpPr>
          <p:spPr>
            <a:xfrm>
              <a:off x="1523880" y="2286000"/>
              <a:ext cx="5639040" cy="1166760"/>
            </a:xfrm>
            <a:custGeom>
              <a:avLst/>
              <a:gdLst/>
              <a:ahLst/>
              <a:rect l="l" t="t" r="r" b="b"/>
              <a:pathLst>
                <a:path w="3552" h="735">
                  <a:moveTo>
                    <a:pt x="0" y="336"/>
                  </a:moveTo>
                  <a:cubicBezTo>
                    <a:pt x="151" y="351"/>
                    <a:pt x="487" y="369"/>
                    <a:pt x="904" y="424"/>
                  </a:cubicBezTo>
                  <a:cubicBezTo>
                    <a:pt x="1321" y="479"/>
                    <a:pt x="2063" y="735"/>
                    <a:pt x="2504" y="664"/>
                  </a:cubicBezTo>
                  <a:cubicBezTo>
                    <a:pt x="2945" y="593"/>
                    <a:pt x="3334" y="138"/>
                    <a:pt x="3552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48520" y="3238560"/>
              <a:ext cx="685800" cy="380880"/>
            </a:xfrm>
            <a:prstGeom prst="foldedCorner">
              <a:avLst>
                <a:gd name="adj" fmla="val 125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ffffff"/>
                  </a:solidFill>
                  <a:latin typeface="Arial Narrow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01A-AFA6-403C-9172-23F66639D1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A3EEB-DF84-49FB-B18E-3B7BD88B2B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heduling at frame delivery ti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Cloud"/>
          <p:cNvSpPr/>
          <p:nvPr/>
        </p:nvSpPr>
        <p:spPr>
          <a:xfrm>
            <a:off x="2514600" y="2514600"/>
            <a:ext cx="3429000" cy="229860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Best-effort 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Cloud"/>
          <p:cNvSpPr/>
          <p:nvPr/>
        </p:nvSpPr>
        <p:spPr>
          <a:xfrm>
            <a:off x="1600200" y="4419720"/>
            <a:ext cx="167652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Loca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924680" y="1447920"/>
            <a:ext cx="609840" cy="761760"/>
          </a:xfrm>
          <a:prstGeom prst="can">
            <a:avLst>
              <a:gd name="adj" fmla="val 2666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Dat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Cloud"/>
          <p:cNvSpPr/>
          <p:nvPr/>
        </p:nvSpPr>
        <p:spPr>
          <a:xfrm>
            <a:off x="1447920" y="1981080"/>
            <a:ext cx="167616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Loca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Cloud"/>
          <p:cNvSpPr/>
          <p:nvPr/>
        </p:nvSpPr>
        <p:spPr>
          <a:xfrm>
            <a:off x="5791320" y="2305080"/>
            <a:ext cx="1676160" cy="112392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Remot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j0249816" descr=""/>
          <p:cNvPicPr/>
          <p:nvPr/>
        </p:nvPicPr>
        <p:blipFill>
          <a:blip r:embed="rId1"/>
          <a:stretch/>
        </p:blipFill>
        <p:spPr>
          <a:xfrm>
            <a:off x="7315200" y="2666880"/>
            <a:ext cx="1066680" cy="916200"/>
          </a:xfrm>
          <a:prstGeom prst="rect">
            <a:avLst/>
          </a:prstGeom>
          <a:ln w="0">
            <a:noFill/>
          </a:ln>
        </p:spPr>
      </p:pic>
      <p:pic>
        <p:nvPicPr>
          <p:cNvPr id="517" name="bs00103_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577800" cy="668160"/>
          </a:xfrm>
          <a:prstGeom prst="rect">
            <a:avLst/>
          </a:prstGeom>
          <a:ln w="0">
            <a:noFill/>
          </a:ln>
        </p:spPr>
      </p:pic>
      <p:pic>
        <p:nvPicPr>
          <p:cNvPr id="518" name="j0245337" descr=""/>
          <p:cNvPicPr/>
          <p:nvPr/>
        </p:nvPicPr>
        <p:blipFill>
          <a:blip r:embed="rId3"/>
          <a:stretch/>
        </p:blipFill>
        <p:spPr>
          <a:xfrm>
            <a:off x="762120" y="2438280"/>
            <a:ext cx="782640" cy="990720"/>
          </a:xfrm>
          <a:prstGeom prst="rect">
            <a:avLst/>
          </a:prstGeom>
          <a:ln w="0">
            <a:noFill/>
          </a:ln>
        </p:spPr>
      </p:pic>
      <p:pic>
        <p:nvPicPr>
          <p:cNvPr id="519" name="j0282506" descr=""/>
          <p:cNvPicPr/>
          <p:nvPr/>
        </p:nvPicPr>
        <p:blipFill>
          <a:blip r:embed="rId4"/>
          <a:stretch/>
        </p:blipFill>
        <p:spPr>
          <a:xfrm>
            <a:off x="1066680" y="5029200"/>
            <a:ext cx="609840" cy="525600"/>
          </a:xfrm>
          <a:prstGeom prst="rect">
            <a:avLst/>
          </a:prstGeom>
          <a:ln w="0">
            <a:noFill/>
          </a:ln>
        </p:spPr>
      </p:pic>
      <p:pic>
        <p:nvPicPr>
          <p:cNvPr id="520" name="j0223560" descr=""/>
          <p:cNvPicPr/>
          <p:nvPr/>
        </p:nvPicPr>
        <p:blipFill>
          <a:blip r:embed="rId5"/>
          <a:stretch/>
        </p:blipFill>
        <p:spPr>
          <a:xfrm>
            <a:off x="6781680" y="1371600"/>
            <a:ext cx="887400" cy="990720"/>
          </a:xfrm>
          <a:prstGeom prst="rect">
            <a:avLst/>
          </a:prstGeom>
          <a:ln w="0">
            <a:noFill/>
          </a:ln>
        </p:spPr>
      </p:pic>
      <p:cxnSp>
        <p:nvCxnSpPr>
          <p:cNvPr id="521" name=""/>
          <p:cNvCxnSpPr>
            <a:stCxn id="520" idx="3"/>
            <a:endCxn id="513" idx="2"/>
          </p:cNvCxnSpPr>
          <p:nvPr/>
        </p:nvCxnSpPr>
        <p:spPr>
          <a:xfrm flipV="1">
            <a:off x="7669080" y="1828440"/>
            <a:ext cx="2559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743200" y="502920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t to changing conditions even in fligh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est degree of adapt</a:t>
            </a:r>
            <a:r>
              <a:rPr b="0" lang="es-CO" sz="1800" spc="-1" strike="noStrike">
                <a:solidFill>
                  <a:srgbClr val="000000"/>
                </a:solidFill>
                <a:latin typeface="Tahoma"/>
              </a:rPr>
              <a:t>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d complexity, might introduce significant overhead</a:t>
            </a:r>
            <a:r>
              <a:rPr b="0" lang="es-CO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bs00103_" descr=""/>
          <p:cNvPicPr/>
          <p:nvPr/>
        </p:nvPicPr>
        <p:blipFill>
          <a:blip r:embed="rId6"/>
          <a:stretch/>
        </p:blipFill>
        <p:spPr>
          <a:xfrm>
            <a:off x="5029200" y="35812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524" name="bs00103_" descr=""/>
          <p:cNvPicPr/>
          <p:nvPr/>
        </p:nvPicPr>
        <p:blipFill>
          <a:blip r:embed="rId7"/>
          <a:stretch/>
        </p:blipFill>
        <p:spPr>
          <a:xfrm>
            <a:off x="3733920" y="22096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525" name="bs00103_" descr=""/>
          <p:cNvPicPr/>
          <p:nvPr/>
        </p:nvPicPr>
        <p:blipFill>
          <a:blip r:embed="rId8"/>
          <a:stretch/>
        </p:blipFill>
        <p:spPr>
          <a:xfrm>
            <a:off x="5638680" y="17524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526" name="bs00103_" descr=""/>
          <p:cNvPicPr/>
          <p:nvPr/>
        </p:nvPicPr>
        <p:blipFill>
          <a:blip r:embed="rId9"/>
          <a:stretch/>
        </p:blipFill>
        <p:spPr>
          <a:xfrm>
            <a:off x="1676520" y="3886200"/>
            <a:ext cx="577800" cy="668160"/>
          </a:xfrm>
          <a:prstGeom prst="rect">
            <a:avLst/>
          </a:prstGeom>
          <a:ln w="0">
            <a:noFill/>
          </a:ln>
        </p:spPr>
      </p:pic>
      <p:pic>
        <p:nvPicPr>
          <p:cNvPr id="527" name="bs00103_" descr=""/>
          <p:cNvPicPr/>
          <p:nvPr/>
        </p:nvPicPr>
        <p:blipFill>
          <a:blip r:embed="rId10"/>
          <a:stretch/>
        </p:blipFill>
        <p:spPr>
          <a:xfrm>
            <a:off x="6095880" y="17524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528" name="bs00103_" descr=""/>
          <p:cNvPicPr/>
          <p:nvPr/>
        </p:nvPicPr>
        <p:blipFill>
          <a:blip r:embed="rId11"/>
          <a:stretch/>
        </p:blipFill>
        <p:spPr>
          <a:xfrm>
            <a:off x="3657600" y="4038480"/>
            <a:ext cx="577800" cy="668520"/>
          </a:xfrm>
          <a:prstGeom prst="rect">
            <a:avLst/>
          </a:prstGeom>
          <a:ln w="0">
            <a:noFill/>
          </a:ln>
        </p:spPr>
      </p:pic>
      <p:pic>
        <p:nvPicPr>
          <p:cNvPr id="529" name="bs00103_" descr=""/>
          <p:cNvPicPr/>
          <p:nvPr/>
        </p:nvPicPr>
        <p:blipFill>
          <a:blip r:embed="rId12"/>
          <a:stretch/>
        </p:blipFill>
        <p:spPr>
          <a:xfrm>
            <a:off x="2743200" y="3094200"/>
            <a:ext cx="577800" cy="668160"/>
          </a:xfrm>
          <a:prstGeom prst="rect">
            <a:avLst/>
          </a:prstGeom>
          <a:ln w="0">
            <a:noFill/>
          </a:ln>
        </p:spPr>
      </p:pic>
      <p:grpSp>
        <p:nvGrpSpPr>
          <p:cNvPr id="530" name=""/>
          <p:cNvGrpSpPr/>
          <p:nvPr/>
        </p:nvGrpSpPr>
        <p:grpSpPr>
          <a:xfrm>
            <a:off x="6552720" y="1143000"/>
            <a:ext cx="686160" cy="1143000"/>
            <a:chOff x="6552720" y="1143000"/>
            <a:chExt cx="686160" cy="1143000"/>
          </a:xfrm>
        </p:grpSpPr>
        <p:sp>
          <p:nvSpPr>
            <p:cNvPr id="531" name=""/>
            <p:cNvSpPr/>
            <p:nvPr/>
          </p:nvSpPr>
          <p:spPr>
            <a:xfrm>
              <a:off x="6705720" y="1143000"/>
              <a:ext cx="533160" cy="30492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552720" y="1752480"/>
              <a:ext cx="2286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114440" y="2209680"/>
            <a:ext cx="2591280" cy="1981440"/>
            <a:chOff x="4114440" y="2209680"/>
            <a:chExt cx="2591280" cy="1981440"/>
          </a:xfrm>
        </p:grpSpPr>
        <p:sp>
          <p:nvSpPr>
            <p:cNvPr id="534" name=""/>
            <p:cNvSpPr/>
            <p:nvPr/>
          </p:nvSpPr>
          <p:spPr>
            <a:xfrm flipH="1">
              <a:off x="4114440" y="2438280"/>
              <a:ext cx="2057400" cy="175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72200" y="2209680"/>
              <a:ext cx="533520" cy="30492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286000" y="1980720"/>
            <a:ext cx="1981080" cy="2667600"/>
            <a:chOff x="2286000" y="1980720"/>
            <a:chExt cx="1981080" cy="2667600"/>
          </a:xfrm>
        </p:grpSpPr>
        <p:sp>
          <p:nvSpPr>
            <p:cNvPr id="537" name=""/>
            <p:cNvSpPr/>
            <p:nvPr/>
          </p:nvSpPr>
          <p:spPr>
            <a:xfrm flipH="1" flipV="1">
              <a:off x="2286000" y="1980720"/>
              <a:ext cx="1447920" cy="213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33920" y="4343400"/>
              <a:ext cx="533160" cy="30492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218960" y="1600200"/>
            <a:ext cx="1447920" cy="1066680"/>
            <a:chOff x="1218960" y="1600200"/>
            <a:chExt cx="1447920" cy="1066680"/>
          </a:xfrm>
        </p:grpSpPr>
        <p:sp>
          <p:nvSpPr>
            <p:cNvPr id="540" name=""/>
            <p:cNvSpPr/>
            <p:nvPr/>
          </p:nvSpPr>
          <p:spPr>
            <a:xfrm flipH="1">
              <a:off x="1218960" y="1981080"/>
              <a:ext cx="10666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33720" y="1600200"/>
              <a:ext cx="533160" cy="30492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1143000" y="2133720"/>
            <a:ext cx="533520" cy="304560"/>
          </a:xfrm>
          <a:prstGeom prst="foldedCorner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523880" y="2286000"/>
            <a:ext cx="5639040" cy="1333440"/>
            <a:chOff x="1523880" y="2286000"/>
            <a:chExt cx="5639040" cy="1333440"/>
          </a:xfrm>
        </p:grpSpPr>
        <p:sp>
          <p:nvSpPr>
            <p:cNvPr id="544" name=""/>
            <p:cNvSpPr/>
            <p:nvPr/>
          </p:nvSpPr>
          <p:spPr>
            <a:xfrm>
              <a:off x="1523880" y="2286000"/>
              <a:ext cx="5639040" cy="1166760"/>
            </a:xfrm>
            <a:custGeom>
              <a:avLst/>
              <a:gdLst/>
              <a:ahLst/>
              <a:rect l="l" t="t" r="r" b="b"/>
              <a:pathLst>
                <a:path w="3552" h="735">
                  <a:moveTo>
                    <a:pt x="0" y="336"/>
                  </a:moveTo>
                  <a:cubicBezTo>
                    <a:pt x="151" y="351"/>
                    <a:pt x="487" y="369"/>
                    <a:pt x="904" y="424"/>
                  </a:cubicBezTo>
                  <a:cubicBezTo>
                    <a:pt x="1321" y="479"/>
                    <a:pt x="2063" y="735"/>
                    <a:pt x="2504" y="664"/>
                  </a:cubicBezTo>
                  <a:cubicBezTo>
                    <a:pt x="2945" y="593"/>
                    <a:pt x="3334" y="138"/>
                    <a:pt x="3552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48520" y="3238560"/>
              <a:ext cx="685800" cy="380880"/>
            </a:xfrm>
            <a:prstGeom prst="foldedCorner">
              <a:avLst>
                <a:gd name="adj" fmla="val 125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ffffff"/>
                  </a:solidFill>
                  <a:latin typeface="Arial Narrow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705720" y="914400"/>
            <a:ext cx="1042920" cy="1005840"/>
            <a:chOff x="6705720" y="914400"/>
            <a:chExt cx="1042920" cy="1005840"/>
          </a:xfrm>
        </p:grpSpPr>
        <p:sp>
          <p:nvSpPr>
            <p:cNvPr id="547" name=""/>
            <p:cNvSpPr/>
            <p:nvPr/>
          </p:nvSpPr>
          <p:spPr>
            <a:xfrm>
              <a:off x="6705720" y="1143000"/>
              <a:ext cx="533160" cy="30492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6680" y="914400"/>
              <a:ext cx="471960" cy="1005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6600" spc="-1" strike="noStrike">
                  <a:solidFill>
                    <a:srgbClr val="008000"/>
                  </a:solidFill>
                  <a:latin typeface="Comic Sans MS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133680" y="914400"/>
            <a:ext cx="572040" cy="1600200"/>
            <a:chOff x="6133680" y="914400"/>
            <a:chExt cx="572040" cy="1600200"/>
          </a:xfrm>
        </p:grpSpPr>
        <p:sp>
          <p:nvSpPr>
            <p:cNvPr id="550" name=""/>
            <p:cNvSpPr/>
            <p:nvPr/>
          </p:nvSpPr>
          <p:spPr>
            <a:xfrm>
              <a:off x="6172200" y="2209680"/>
              <a:ext cx="533520" cy="30492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33680" y="914400"/>
              <a:ext cx="471960" cy="1005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6600" spc="-1" strike="noStrike">
                  <a:solidFill>
                    <a:srgbClr val="008000"/>
                  </a:solidFill>
                  <a:latin typeface="Comic Sans MS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733920" y="3184560"/>
            <a:ext cx="533160" cy="1463760"/>
            <a:chOff x="3733920" y="3184560"/>
            <a:chExt cx="533160" cy="1463760"/>
          </a:xfrm>
        </p:grpSpPr>
        <p:sp>
          <p:nvSpPr>
            <p:cNvPr id="553" name=""/>
            <p:cNvSpPr/>
            <p:nvPr/>
          </p:nvSpPr>
          <p:spPr>
            <a:xfrm>
              <a:off x="3733920" y="4343400"/>
              <a:ext cx="533160" cy="30492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71720" y="3184560"/>
              <a:ext cx="471960" cy="1005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6600" spc="-1" strike="noStrike">
                  <a:solidFill>
                    <a:srgbClr val="008000"/>
                  </a:solidFill>
                  <a:latin typeface="Comic Sans MS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2133720" y="1127160"/>
            <a:ext cx="1042920" cy="1005840"/>
            <a:chOff x="2133720" y="1127160"/>
            <a:chExt cx="1042920" cy="1005840"/>
          </a:xfrm>
        </p:grpSpPr>
        <p:sp>
          <p:nvSpPr>
            <p:cNvPr id="556" name=""/>
            <p:cNvSpPr/>
            <p:nvPr/>
          </p:nvSpPr>
          <p:spPr>
            <a:xfrm>
              <a:off x="2133720" y="1600200"/>
              <a:ext cx="533160" cy="30492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04680" y="1127160"/>
              <a:ext cx="471960" cy="1005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6600" spc="-1" strike="noStrike">
                  <a:solidFill>
                    <a:srgbClr val="008000"/>
                  </a:solidFill>
                  <a:latin typeface="Comic Sans MS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0AE-CB41-4565-8EEF-1537E61B25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E622E-DE6D-4327-AFBB-1FE0AD45C1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in poi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eed for flexible schedul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Feasible</a:t>
            </a:r>
            <a:r>
              <a:rPr b="1" lang="es-CO" sz="4000" spc="-1" strike="noStrike">
                <a:solidFill>
                  <a:srgbClr val="000099"/>
                </a:solidFill>
                <a:latin typeface="Tahoma"/>
              </a:rPr>
              <a:t> framework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asonable co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45C-CFF5-4544-A3B3-63881F0241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FFB72-58D2-4200-9F61-200E38EB30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83.equake (SPEC CPU2000) ground motion datas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structured tetrahedral mes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,000 nodes (point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1,000 tetrahedral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5 frames with ground displacement data (aprox. 40 secs of shaking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data frame = 120 K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BBE-1849-4AF1-9383-E409705EA6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8081F-2578-45FC-9076-0D493E0E04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ingle host setu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7696440" y="533520"/>
            <a:ext cx="18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03240" y="1631880"/>
            <a:ext cx="544680" cy="32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Narrow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4920" y="1295280"/>
            <a:ext cx="8458200" cy="15242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22480" y="1576440"/>
            <a:ext cx="76824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x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65640" y="1576440"/>
            <a:ext cx="1066680" cy="43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 Narrow"/>
              </a:rPr>
              <a:t>Iso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>
            <a:stCxn id="565" idx="6"/>
            <a:endCxn id="567" idx="1"/>
          </p:cNvCxnSpPr>
          <p:nvPr/>
        </p:nvCxnSpPr>
        <p:spPr>
          <a:xfrm flipV="1">
            <a:off x="1447920" y="1794600"/>
            <a:ext cx="575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7" idx="3"/>
            <a:endCxn id="568" idx="1"/>
          </p:cNvCxnSpPr>
          <p:nvPr/>
        </p:nvCxnSpPr>
        <p:spPr>
          <a:xfrm>
            <a:off x="2790360" y="1794960"/>
            <a:ext cx="57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2057400"/>
            <a:ext cx="457200" cy="533520"/>
          </a:xfrm>
          <a:prstGeom prst="can">
            <a:avLst>
              <a:gd name="adj" fmla="val 290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71" idx="1"/>
            <a:endCxn id="565" idx="2"/>
          </p:cNvCxnSpPr>
          <p:nvPr/>
        </p:nvCxnSpPr>
        <p:spPr>
          <a:xfrm flipH="1" flipV="1" rot="5400000">
            <a:off x="626040" y="1779840"/>
            <a:ext cx="261000" cy="29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1452600" y="2216160"/>
            <a:ext cx="1126800" cy="2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624" y="11236"/>
                </a:moveTo>
                <a:lnTo>
                  <a:pt x="-1448" y="11109"/>
                </a:lnTo>
              </a:path>
              <a:path w="21600" h="21600">
                <a:moveTo>
                  <a:pt x="-1448" y="0"/>
                </a:moveTo>
                <a:lnTo>
                  <a:pt x="-144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Simulation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8" idx="3"/>
            <a:endCxn id="575" idx="1"/>
          </p:cNvCxnSpPr>
          <p:nvPr/>
        </p:nvCxnSpPr>
        <p:spPr>
          <a:xfrm>
            <a:off x="4432320" y="179496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5006880" y="1630440"/>
            <a:ext cx="695520" cy="3286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Sc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stCxn id="575" idx="3"/>
            <a:endCxn id="577" idx="2"/>
          </p:cNvCxnSpPr>
          <p:nvPr/>
        </p:nvCxnSpPr>
        <p:spPr>
          <a:xfrm>
            <a:off x="5702400" y="179496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6276960" y="1566720"/>
            <a:ext cx="99072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7" idx="6"/>
            <a:endCxn id="579" idx="1"/>
          </p:cNvCxnSpPr>
          <p:nvPr/>
        </p:nvCxnSpPr>
        <p:spPr>
          <a:xfrm>
            <a:off x="7267680" y="179496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7843680" y="1495440"/>
            <a:ext cx="760680" cy="600120"/>
          </a:xfrm>
          <a:prstGeom prst="hexagon">
            <a:avLst>
              <a:gd name="adj" fmla="val 31689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086240" y="2438280"/>
            <a:ext cx="158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ocal</a:t>
            </a:r>
            <a:r>
              <a:rPr b="1" lang="es-CO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1680" y="3048120"/>
            <a:ext cx="8038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Animation of the earthquak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Single host Sequential C++ ver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Pentium III/450 M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512 MB 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Real 3D Starfighter AGP/8MB video accela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NT 4.0/ OpenG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5A3-FAF5-4D68-A1E5-12E2CB25557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5F734-3811-49DE-BB94-ABCCB24798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</a:t>
            </a:r>
            <a:r>
              <a:rPr b="0" lang="es-CO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vyweight services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keviz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 frame</a:t>
            </a:r>
            <a:r>
              <a:rPr b="0" lang="es-CO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ing with active frames</a:t>
            </a:r>
            <a:r>
              <a:rPr b="0" lang="es-CO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ion</a:t>
            </a:r>
            <a:r>
              <a:rPr b="0" lang="es-CO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81B-38AF-4DBE-B208-F341E7DD71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9A6F2-B894-4DFC-A925-09B24D202F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ingle host setu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85800" y="1981080"/>
          <a:ext cx="8077320" cy="4114800"/>
        </p:xfrm>
        <a:graphic>
          <a:graphicData uri="http://schemas.openxmlformats.org/drawingml/2006/table">
            <a:tbl>
              <a:tblPr/>
              <a:tblGrid>
                <a:gridCol w="3720960"/>
                <a:gridCol w="1584360"/>
                <a:gridCol w="1346400"/>
                <a:gridCol w="14256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osurfa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 fram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4.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2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6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osurface extr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44.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69.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62.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nd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.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.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84.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16.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74.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56F-00A5-4570-A93E-07F46AD531E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CBFA7-DC30-4E3D-9AB8-D3EA3CE999AC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ingle host </a:t>
            </a:r>
            <a:r>
              <a:rPr b="0" lang="es-CO" sz="4000" spc="-1" strike="noStrike">
                <a:solidFill>
                  <a:srgbClr val="000000"/>
                </a:solidFill>
                <a:latin typeface="Comic Sans MS"/>
              </a:rPr>
              <a:t>elapsed ti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228600" y="1790640"/>
          <a:ext cx="449568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90640"/>
                    <a:ext cx="4495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CPU us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/O to overlap wi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osurface extraction accounts for 60 – 80% total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parameters determine resource us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18A-D178-4FAE-B3AA-3FBF076384A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41E68-6027-4AD7-9076-F10A8E8C16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omic Sans MS"/>
              </a:rPr>
              <a:t>Single host frames per seco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85800" y="1676520"/>
          <a:ext cx="396252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39625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ani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allow for intera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Insufficient resources</a:t>
            </a:r>
            <a:r>
              <a:rPr b="1" lang="es-CO" sz="28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396-EAE0-4198-84C2-1D6CF12BA31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E50FA-A48C-46DC-9FC3-D046FE46EC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ipeline setu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7696440" y="533520"/>
            <a:ext cx="18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81080" y="2143080"/>
            <a:ext cx="76860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x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33920" y="2143080"/>
            <a:ext cx="1066680" cy="43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 Narrow"/>
              </a:rPr>
              <a:t>Iso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"/>
          <p:cNvCxnSpPr>
            <a:stCxn id="597" idx="6"/>
            <a:endCxn id="594" idx="1"/>
          </p:cNvCxnSpPr>
          <p:nvPr/>
        </p:nvCxnSpPr>
        <p:spPr>
          <a:xfrm>
            <a:off x="1611000" y="236196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94" idx="3"/>
            <a:endCxn id="595" idx="1"/>
          </p:cNvCxnSpPr>
          <p:nvPr/>
        </p:nvCxnSpPr>
        <p:spPr>
          <a:xfrm>
            <a:off x="2749680" y="2361960"/>
            <a:ext cx="9849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599" name=""/>
          <p:cNvSpPr/>
          <p:nvPr/>
        </p:nvSpPr>
        <p:spPr>
          <a:xfrm>
            <a:off x="533520" y="2590920"/>
            <a:ext cx="457200" cy="533160"/>
          </a:xfrm>
          <a:prstGeom prst="can">
            <a:avLst>
              <a:gd name="adj" fmla="val 290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1"/>
            <a:endCxn id="597" idx="2"/>
          </p:cNvCxnSpPr>
          <p:nvPr/>
        </p:nvCxnSpPr>
        <p:spPr>
          <a:xfrm flipH="1" flipV="1" rot="5400000">
            <a:off x="799920" y="2323800"/>
            <a:ext cx="22932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1" name=""/>
          <p:cNvSpPr/>
          <p:nvPr/>
        </p:nvSpPr>
        <p:spPr>
          <a:xfrm>
            <a:off x="1590840" y="2768760"/>
            <a:ext cx="1126800" cy="2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17" y="11709"/>
                </a:moveTo>
                <a:lnTo>
                  <a:pt x="-1448" y="11109"/>
                </a:lnTo>
              </a:path>
              <a:path w="21600" h="21600">
                <a:moveTo>
                  <a:pt x="-1448" y="0"/>
                </a:moveTo>
                <a:lnTo>
                  <a:pt x="-144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Simulation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828800"/>
            <a:ext cx="2590920" cy="1600200"/>
          </a:xfrm>
          <a:prstGeom prst="rect">
            <a:avLst/>
          </a:prstGeom>
          <a:noFill/>
          <a:ln w="2844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3333ff"/>
                </a:solidFill>
                <a:latin typeface="Arial"/>
              </a:rPr>
              <a:t>Sourc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3" name=""/>
          <p:cNvCxnSpPr>
            <a:stCxn id="595" idx="3"/>
            <a:endCxn id="604" idx="1"/>
          </p:cNvCxnSpPr>
          <p:nvPr/>
        </p:nvCxnSpPr>
        <p:spPr>
          <a:xfrm>
            <a:off x="4800600" y="2361960"/>
            <a:ext cx="905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3510360" y="1371600"/>
            <a:ext cx="1712160" cy="2134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100 Mb Switched 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880600" y="1400040"/>
            <a:ext cx="999000" cy="2134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10 Mb 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66680" y="2197080"/>
            <a:ext cx="544680" cy="32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Narrow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5640" y="2197080"/>
            <a:ext cx="695160" cy="3286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Sc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4" idx="3"/>
            <a:endCxn id="608" idx="2"/>
          </p:cNvCxnSpPr>
          <p:nvPr/>
        </p:nvCxnSpPr>
        <p:spPr>
          <a:xfrm>
            <a:off x="6400440" y="236196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"/>
          <p:cNvSpPr/>
          <p:nvPr/>
        </p:nvSpPr>
        <p:spPr>
          <a:xfrm>
            <a:off x="6629400" y="2133720"/>
            <a:ext cx="99072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8" idx="6"/>
            <a:endCxn id="610" idx="1"/>
          </p:cNvCxnSpPr>
          <p:nvPr/>
        </p:nvCxnSpPr>
        <p:spPr>
          <a:xfrm>
            <a:off x="7619760" y="236196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0" name=""/>
          <p:cNvSpPr/>
          <p:nvPr/>
        </p:nvSpPr>
        <p:spPr>
          <a:xfrm>
            <a:off x="7848720" y="2062080"/>
            <a:ext cx="760320" cy="600120"/>
          </a:xfrm>
          <a:prstGeom prst="hexagon">
            <a:avLst>
              <a:gd name="adj" fmla="val 31674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352680" y="1828800"/>
            <a:ext cx="1752840" cy="1600200"/>
          </a:xfrm>
          <a:prstGeom prst="rect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cc99"/>
                </a:solidFill>
                <a:latin typeface="Arial"/>
              </a:rPr>
              <a:t>Comput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486400" y="1828800"/>
            <a:ext cx="3276720" cy="1600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Dv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9480" y="3886200"/>
            <a:ext cx="7925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display client and datasets</a:t>
            </a: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</a:t>
            </a: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tium III/550 MHz</a:t>
            </a:r>
            <a:r>
              <a:rPr b="0" lang="es-CO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6 MB RAM</a:t>
            </a:r>
            <a:r>
              <a:rPr b="0" lang="es-CO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ux kernel 2.0.36</a:t>
            </a:r>
            <a:r>
              <a:rPr b="0" lang="es-CO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down JDK 1.2 RC1</a:t>
            </a:r>
            <a:r>
              <a:rPr b="0" lang="es-CO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FA5-31E8-4BB2-A3D6-0F34DA0688A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AA711-1B58-4350-8ADE-3FF9F2F4CF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ipeline elapsed tim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685800" y="1981080"/>
          <a:ext cx="8076960" cy="4114800"/>
        </p:xfrm>
        <a:graphic>
          <a:graphicData uri="http://schemas.openxmlformats.org/drawingml/2006/table">
            <a:tbl>
              <a:tblPr/>
              <a:tblGrid>
                <a:gridCol w="2771280"/>
                <a:gridCol w="1267200"/>
                <a:gridCol w="2019600"/>
                <a:gridCol w="201888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sosurf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Frame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6.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5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7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gram transfer (s-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transfer (s-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8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6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sosurface ext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96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52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61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gram transfer (s-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lys transfer (s-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5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00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2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40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91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1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CD8-116C-4391-86FC-6A74CC17F64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9150B-C405-4C19-A70A-955D089A36C6}" type="datetime1">
              <a:rPr lang="en-US"/>
              <a:t>07/29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ipeline elapsed tim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457200" y="914400"/>
          <a:ext cx="41911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41911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800240" y="129492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  <a:ea typeface="Tahoma"/>
              </a:rPr>
              <a:t>Need to exploit dynamic application-level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  <a:ea typeface="Tahoma"/>
              </a:rPr>
              <a:t>Automate resource sel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  <a:ea typeface="Tahoma"/>
              </a:rPr>
              <a:t>Compute server is heavily loa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  <a:ea typeface="Tahoma"/>
              </a:rPr>
              <a:t>Program transfer 5-10% </a:t>
            </a:r>
            <a:r>
              <a:rPr b="0" lang="en-US" sz="2800" spc="-1" strike="noStrike">
                <a:solidFill>
                  <a:srgbClr val="ffff00"/>
                </a:solidFill>
                <a:latin typeface="Marlett"/>
                <a:ea typeface="Marlett"/>
              </a:rPr>
              <a:t>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3333cc"/>
                </a:solidFill>
                <a:latin typeface="Tahoma"/>
                <a:ea typeface="Tahoma"/>
              </a:rPr>
              <a:t>Reasonable c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3505320" y="1905120"/>
            <a:ext cx="990360" cy="14475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530-5FEF-4965-9161-2FAD01DACF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390C4-9CDF-43EB-9DF5-2A64048627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ipeline Throughpu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685800" y="1981080"/>
          <a:ext cx="8077320" cy="4114800"/>
        </p:xfrm>
        <a:graphic>
          <a:graphicData uri="http://schemas.openxmlformats.org/drawingml/2006/table">
            <a:tbl>
              <a:tblPr/>
              <a:tblGrid>
                <a:gridCol w="1152360"/>
                <a:gridCol w="1155960"/>
                <a:gridCol w="1152360"/>
                <a:gridCol w="1155600"/>
                <a:gridCol w="1152720"/>
                <a:gridCol w="1155600"/>
                <a:gridCol w="1152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cessing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ames per 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#i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ur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5.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7.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3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r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40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43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4.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9.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2.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87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x frame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6A0-E4D5-4628-B0C5-AD2271AF9FD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B5CC1-9100-41CD-A561-959F7E0A6C18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omic Sans MS"/>
              </a:rPr>
              <a:t>Frames per seco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689040" y="1676520"/>
          <a:ext cx="41115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676520"/>
                    <a:ext cx="41115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Significant improvement for 10 and 20 isosurf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Added bonus: user inte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3333cc"/>
                </a:solidFill>
                <a:latin typeface="Tahoma"/>
              </a:rPr>
              <a:t>Resource aggreg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3333cc"/>
                </a:solidFill>
                <a:latin typeface="Tahoma"/>
              </a:rPr>
              <a:t>Scheduling mat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BED-5F88-494A-B041-822BF772BA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93C7C-D1B0-44D2-BC5D-6B1D7CA179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omic Sans MS"/>
              </a:rPr>
              <a:t>Fa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setu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7696440" y="533520"/>
            <a:ext cx="18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733920" y="3362400"/>
            <a:ext cx="1066680" cy="43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 Narrow"/>
              </a:rPr>
              <a:t>Iso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31" idx="6"/>
            <a:endCxn id="632" idx="1"/>
          </p:cNvCxnSpPr>
          <p:nvPr/>
        </p:nvCxnSpPr>
        <p:spPr>
          <a:xfrm>
            <a:off x="1611000" y="358092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632" idx="3"/>
            <a:endCxn id="629" idx="1"/>
          </p:cNvCxnSpPr>
          <p:nvPr/>
        </p:nvCxnSpPr>
        <p:spPr>
          <a:xfrm>
            <a:off x="2749680" y="3580920"/>
            <a:ext cx="9849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634" name=""/>
          <p:cNvSpPr/>
          <p:nvPr/>
        </p:nvSpPr>
        <p:spPr>
          <a:xfrm>
            <a:off x="533520" y="3809880"/>
            <a:ext cx="457200" cy="533520"/>
          </a:xfrm>
          <a:prstGeom prst="can">
            <a:avLst>
              <a:gd name="adj" fmla="val 290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1"/>
            <a:endCxn id="631" idx="2"/>
          </p:cNvCxnSpPr>
          <p:nvPr/>
        </p:nvCxnSpPr>
        <p:spPr>
          <a:xfrm flipH="1" flipV="1" rot="5400000">
            <a:off x="799920" y="3542760"/>
            <a:ext cx="22932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6" name=""/>
          <p:cNvSpPr/>
          <p:nvPr/>
        </p:nvSpPr>
        <p:spPr>
          <a:xfrm>
            <a:off x="380880" y="3048120"/>
            <a:ext cx="2590920" cy="1600200"/>
          </a:xfrm>
          <a:prstGeom prst="rect">
            <a:avLst/>
          </a:prstGeom>
          <a:noFill/>
          <a:ln w="2844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3333ff"/>
                </a:solidFill>
                <a:latin typeface="Arial"/>
              </a:rPr>
              <a:t>Sourc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"/>
          <p:cNvCxnSpPr>
            <a:stCxn id="629" idx="3"/>
            <a:endCxn id="638" idx="1"/>
          </p:cNvCxnSpPr>
          <p:nvPr/>
        </p:nvCxnSpPr>
        <p:spPr>
          <a:xfrm>
            <a:off x="4800600" y="3580920"/>
            <a:ext cx="905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9" name=""/>
          <p:cNvSpPr/>
          <p:nvPr/>
        </p:nvSpPr>
        <p:spPr>
          <a:xfrm>
            <a:off x="784440" y="1739880"/>
            <a:ext cx="1712160" cy="2134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100 Mb Switched 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80760" y="1692360"/>
            <a:ext cx="999000" cy="2134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10 Mb 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66680" y="3416400"/>
            <a:ext cx="544680" cy="32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Narrow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1" name=""/>
          <p:cNvCxnSpPr>
            <a:stCxn id="638" idx="3"/>
            <a:endCxn id="642" idx="2"/>
          </p:cNvCxnSpPr>
          <p:nvPr/>
        </p:nvCxnSpPr>
        <p:spPr>
          <a:xfrm>
            <a:off x="6400440" y="35809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2" name=""/>
          <p:cNvSpPr/>
          <p:nvPr/>
        </p:nvSpPr>
        <p:spPr>
          <a:xfrm>
            <a:off x="6629400" y="3352680"/>
            <a:ext cx="99072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"/>
          <p:cNvCxnSpPr>
            <a:stCxn id="642" idx="6"/>
            <a:endCxn id="644" idx="1"/>
          </p:cNvCxnSpPr>
          <p:nvPr/>
        </p:nvCxnSpPr>
        <p:spPr>
          <a:xfrm>
            <a:off x="7619760" y="35809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4" name=""/>
          <p:cNvSpPr/>
          <p:nvPr/>
        </p:nvSpPr>
        <p:spPr>
          <a:xfrm>
            <a:off x="7848720" y="3281400"/>
            <a:ext cx="760320" cy="600120"/>
          </a:xfrm>
          <a:prstGeom prst="hexagon">
            <a:avLst>
              <a:gd name="adj" fmla="val 31674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52680" y="3048120"/>
            <a:ext cx="1752840" cy="1066680"/>
          </a:xfrm>
          <a:prstGeom prst="rect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cc99"/>
                </a:solidFill>
                <a:latin typeface="Arial"/>
              </a:rPr>
              <a:t>Comput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86400" y="3048120"/>
            <a:ext cx="3276720" cy="1600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Dv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"/>
          <p:cNvCxnSpPr>
            <a:stCxn id="648" idx="3"/>
            <a:endCxn id="638" idx="1"/>
          </p:cNvCxnSpPr>
          <p:nvPr/>
        </p:nvCxnSpPr>
        <p:spPr>
          <a:xfrm>
            <a:off x="4762440" y="1980720"/>
            <a:ext cx="943920" cy="1600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2" name=""/>
          <p:cNvSpPr/>
          <p:nvPr/>
        </p:nvSpPr>
        <p:spPr>
          <a:xfrm>
            <a:off x="1981080" y="3362400"/>
            <a:ext cx="76860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x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5640" y="3416400"/>
            <a:ext cx="695160" cy="3286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Sc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9" name=""/>
          <p:cNvCxnSpPr>
            <a:stCxn id="632" idx="3"/>
            <a:endCxn id="650" idx="1"/>
          </p:cNvCxnSpPr>
          <p:nvPr/>
        </p:nvCxnSpPr>
        <p:spPr>
          <a:xfrm>
            <a:off x="2749680" y="3580920"/>
            <a:ext cx="984960" cy="1753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651" name=""/>
          <p:cNvCxnSpPr>
            <a:stCxn id="650" idx="3"/>
            <a:endCxn id="638" idx="1"/>
          </p:cNvCxnSpPr>
          <p:nvPr/>
        </p:nvCxnSpPr>
        <p:spPr>
          <a:xfrm flipV="1">
            <a:off x="4800600" y="3580560"/>
            <a:ext cx="905760" cy="1753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2" name=""/>
          <p:cNvGrpSpPr/>
          <p:nvPr/>
        </p:nvGrpSpPr>
        <p:grpSpPr>
          <a:xfrm>
            <a:off x="3352680" y="4876920"/>
            <a:ext cx="1752480" cy="1066680"/>
            <a:chOff x="3352680" y="4876920"/>
            <a:chExt cx="1752480" cy="1066680"/>
          </a:xfrm>
        </p:grpSpPr>
        <p:sp>
          <p:nvSpPr>
            <p:cNvPr id="650" name=""/>
            <p:cNvSpPr/>
            <p:nvPr/>
          </p:nvSpPr>
          <p:spPr>
            <a:xfrm>
              <a:off x="3733560" y="5114880"/>
              <a:ext cx="1066680" cy="438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000000"/>
                  </a:solidFill>
                  <a:latin typeface="Arial Narrow"/>
                </a:rPr>
                <a:t>Isosurfa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52680" y="4876920"/>
              <a:ext cx="1752480" cy="106668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00cc99"/>
                  </a:solidFill>
                  <a:latin typeface="Arial"/>
                </a:rPr>
                <a:t>Comput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4" name=""/>
          <p:cNvCxnSpPr>
            <a:stCxn id="632" idx="3"/>
            <a:endCxn id="648" idx="1"/>
          </p:cNvCxnSpPr>
          <p:nvPr/>
        </p:nvCxnSpPr>
        <p:spPr>
          <a:xfrm flipV="1">
            <a:off x="2749680" y="1980360"/>
            <a:ext cx="946800" cy="1600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sm"/>
          </a:ln>
        </p:spPr>
      </p:cxnSp>
      <p:grpSp>
        <p:nvGrpSpPr>
          <p:cNvPr id="655" name=""/>
          <p:cNvGrpSpPr/>
          <p:nvPr/>
        </p:nvGrpSpPr>
        <p:grpSpPr>
          <a:xfrm>
            <a:off x="3352680" y="1447920"/>
            <a:ext cx="1752840" cy="1066680"/>
            <a:chOff x="3352680" y="1447920"/>
            <a:chExt cx="1752840" cy="1066680"/>
          </a:xfrm>
        </p:grpSpPr>
        <p:sp>
          <p:nvSpPr>
            <p:cNvPr id="648" name=""/>
            <p:cNvSpPr/>
            <p:nvPr/>
          </p:nvSpPr>
          <p:spPr>
            <a:xfrm>
              <a:off x="3695760" y="1762200"/>
              <a:ext cx="1066680" cy="438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000000"/>
                  </a:solidFill>
                  <a:latin typeface="Arial Narrow"/>
                </a:rPr>
                <a:t>Isosurfa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52680" y="1447920"/>
              <a:ext cx="1752840" cy="1066680"/>
            </a:xfrm>
            <a:prstGeom prst="rect">
              <a:avLst/>
            </a:prstGeom>
            <a:noFill/>
            <a:ln w="2844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600" spc="-1" strike="noStrike">
                  <a:solidFill>
                    <a:srgbClr val="00cc99"/>
                  </a:solidFill>
                  <a:latin typeface="Arial"/>
                </a:rPr>
                <a:t>Comput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604880" y="3962520"/>
            <a:ext cx="1126800" cy="2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11" y="11709"/>
                </a:moveTo>
                <a:lnTo>
                  <a:pt x="-1448" y="11109"/>
                </a:lnTo>
              </a:path>
              <a:path w="21600" h="21600">
                <a:moveTo>
                  <a:pt x="-1448" y="0"/>
                </a:moveTo>
                <a:lnTo>
                  <a:pt x="-144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Simulation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352-3FB3-40F2-9BE9-5FB4CF87630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C19AF-AD04-46DF-91FE-719C175C5B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an elapsed tim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685800" y="1981080"/>
          <a:ext cx="8076960" cy="4114800"/>
        </p:xfrm>
        <a:graphic>
          <a:graphicData uri="http://schemas.openxmlformats.org/drawingml/2006/table">
            <a:tbl>
              <a:tblPr/>
              <a:tblGrid>
                <a:gridCol w="2771280"/>
                <a:gridCol w="1267200"/>
                <a:gridCol w="2019600"/>
                <a:gridCol w="201888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sosurf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Frame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3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3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4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gram transfer (s-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transfer (s-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6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6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5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sosurface ext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7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8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84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gram transfer (s-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3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lys transfer (s-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7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4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99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1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16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13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47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8FC-F230-4CBD-BB03-4DFAED98AC8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FFB5B-E5F9-4A37-820A-89450BC79AA6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ghtweight services: Small amounts of computation at the servers</a:t>
            </a:r>
            <a:r>
              <a:rPr b="0" lang="es-CO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vyweight services</a:t>
            </a:r>
            <a:r>
              <a:rPr b="0" lang="es-CO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information retrieval algorith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ining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visualization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6C2-1814-438D-9F51-CF8E97FF8D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A8097-D7A7-431E-942C-1F9BAF098F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an elapsed tim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304920" y="990720"/>
          <a:ext cx="533376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533376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714640" y="13712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Client is busy receiving and rendering fr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Program transfer below 5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3333cc"/>
                </a:solidFill>
                <a:latin typeface="Tahoma"/>
                <a:ea typeface="Tahoma"/>
              </a:rPr>
              <a:t>Reasonable c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12A-59EE-4283-9EBD-D4550A3728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C08B5-6ADB-4B7A-82CE-A34E1B6D0D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an Throughpu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685800" y="1981080"/>
          <a:ext cx="8077320" cy="4114800"/>
        </p:xfrm>
        <a:graphic>
          <a:graphicData uri="http://schemas.openxmlformats.org/drawingml/2006/table">
            <a:tbl>
              <a:tblPr/>
              <a:tblGrid>
                <a:gridCol w="1152360"/>
                <a:gridCol w="1155960"/>
                <a:gridCol w="1152360"/>
                <a:gridCol w="1155600"/>
                <a:gridCol w="1152720"/>
                <a:gridCol w="1155600"/>
                <a:gridCol w="1152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cessing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ames per 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#i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ur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3.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4.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8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r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9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46.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90.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1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45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x frame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649-EB47-4F5B-91A3-E614518FA1A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F7547-514C-41DA-8A1B-58D1F139847D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omic Sans MS"/>
              </a:rPr>
              <a:t>Frames per seco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689040" y="1066680"/>
          <a:ext cx="4111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066680"/>
                    <a:ext cx="41115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876920" y="13716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Improvement in all c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Smother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3333cc"/>
                </a:solidFill>
                <a:latin typeface="Tahoma"/>
              </a:rPr>
              <a:t>Benefits of resource aggreg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3333cc"/>
                </a:solidFill>
                <a:latin typeface="Tahoma"/>
              </a:rPr>
              <a:t>Scheduling mat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9C3-AAB3-45FA-982A-D916EDBFF23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53061-DE63-4B9F-B3EA-642DD00FE2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 to provide heavyweight services we must build them so they are performance-por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It is feasible to build a flexib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</a:t>
            </a: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 to support heavyweight ser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frames supports various levels of adaptiv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Servi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btain the benefits of resource aggreg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724-B3F7-48BC-B4B2-9AC4782CA87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D7A3E-0C41-4873-89FA-7A5EF0D43E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lated wor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ppLeS</a:t>
            </a:r>
            <a:r>
              <a:rPr b="0" lang="es-CO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SDSC/UCSD)</a:t>
            </a:r>
            <a:r>
              <a:rPr b="0" lang="es-CO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tive messages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Berkeley)</a:t>
            </a:r>
            <a:r>
              <a:rPr b="0" lang="es-CO" sz="3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tive networks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MIT)</a:t>
            </a:r>
            <a:r>
              <a:rPr b="0" lang="es-CO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mos</a:t>
            </a:r>
            <a:r>
              <a:rPr b="0" lang="es-CO" sz="4400" spc="-1" strike="noStrike">
                <a:solidFill>
                  <a:srgbClr val="000000"/>
                </a:solidFill>
                <a:latin typeface="Tahoma"/>
              </a:rPr>
              <a:t>/RP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CMU)</a:t>
            </a:r>
            <a:r>
              <a:rPr b="0" lang="es-CO" sz="3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WS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SDSC/UCSD)</a:t>
            </a:r>
            <a:r>
              <a:rPr b="0" lang="es-CO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5F6-A199-41D8-AC49-787015E10F1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64E0C-C128-4335-8004-A63DDA2215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Need for flexible schedu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Feasible</a:t>
            </a:r>
            <a:r>
              <a:rPr b="1" lang="es-CO" sz="3200" spc="-1" strike="noStrike">
                <a:solidFill>
                  <a:srgbClr val="3333cc"/>
                </a:solidFill>
                <a:latin typeface="Tahoma"/>
              </a:rPr>
              <a:t> frame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Reasonable co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Tahoma"/>
              </a:rPr>
              <a:t>Need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Exploit application-level dynamic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Use resource dynamic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Tahoma"/>
              </a:rPr>
              <a:t>Automate resource sel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0" y="5715000"/>
            <a:ext cx="467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cs.cmu.edu/~d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540-E16A-450D-B589-D53C5BAC7CF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F1697-B004-46D5-9D0C-1CDBF4A9CB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re inform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ttp://www.cs.cmu.edu/~dv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CD5-6741-4DB2-B3DE-B8914E0852D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5E5E4-5A60-49BE-927D-D78642AE20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80D-32FA-4479-8D08-BD0EE2BD684E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BBA58-F852-4A8E-A66A-CF9F3D3590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akeviz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0" y="1447560"/>
            <a:ext cx="419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cobo Bielak and Omar Ghattas (CMU CE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d O’Hallaron (CMU CS and EC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nathan Shewchuk (UC-Berkele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ven Day (SDSU Geolog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ttp://www.cs.cmu.edu/~quak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quake.bright.med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3200400" cy="2516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3812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ization of datasets generated by the Quake project at CM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 data of the ground motion of large basins during strong earthquak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 GB - 6 TB depending on degree of downsampl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AB6-45D0-4F0F-A994-089296228970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50146-D741-4F62-A05D-49C33F87CD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isualiz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16880" y="1673280"/>
            <a:ext cx="8422200" cy="3617280"/>
            <a:chOff x="416880" y="1673280"/>
            <a:chExt cx="8422200" cy="3617280"/>
          </a:xfrm>
        </p:grpSpPr>
        <p:sp>
          <p:nvSpPr>
            <p:cNvPr id="64" name=""/>
            <p:cNvSpPr/>
            <p:nvPr/>
          </p:nvSpPr>
          <p:spPr>
            <a:xfrm>
              <a:off x="712800" y="3132000"/>
              <a:ext cx="974880" cy="9115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14ffb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14ffb"/>
                  </a:solidFill>
                  <a:latin typeface="Arial"/>
                </a:rPr>
                <a:t>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62320" y="3246480"/>
              <a:ext cx="1276200" cy="728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000000"/>
                  </a:solidFill>
                  <a:latin typeface="Arial"/>
                </a:rPr>
                <a:t>Extract RO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8520" y="3246480"/>
              <a:ext cx="1349280" cy="728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osu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tr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67400" y="3346560"/>
              <a:ext cx="1155600" cy="5461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97680" y="1673280"/>
              <a:ext cx="882720" cy="9968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disp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85080" y="3373560"/>
              <a:ext cx="954000" cy="546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nd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21560" y="3616200"/>
              <a:ext cx="27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32400" y="361800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5200" y="36180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17880" y="3348000"/>
              <a:ext cx="903240" cy="546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95560" y="3618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8354880" y="2714760"/>
              <a:ext cx="1800" cy="65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6880" y="2170080"/>
              <a:ext cx="835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14ffb"/>
                  </a:solidFill>
                  <a:latin typeface="Arial"/>
                </a:rPr>
                <a:t>sol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14ffb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95360" y="2170080"/>
              <a:ext cx="10735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14ffb"/>
                  </a:solidFill>
                  <a:latin typeface="Arial"/>
                </a:rPr>
                <a:t>materi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14ffb"/>
                  </a:solidFill>
                  <a:latin typeface="Arial"/>
                </a:rPr>
                <a:t>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49240" y="2752560"/>
              <a:ext cx="22860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458720" y="2752560"/>
              <a:ext cx="22860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579760" y="2228760"/>
              <a:ext cx="5317920" cy="12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579760" y="2266920"/>
              <a:ext cx="0" cy="110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87680" y="3621240"/>
              <a:ext cx="43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886200" y="227628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486400" y="227628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010280" y="22064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82920" y="2247840"/>
              <a:ext cx="700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O" sz="1400" spc="-1" strike="noStrike">
                  <a:solidFill>
                    <a:srgbClr val="000000"/>
                  </a:solidFill>
                  <a:latin typeface="Arial"/>
                </a:rPr>
                <a:t>Seq. 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77800" y="2230560"/>
              <a:ext cx="500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O" sz="1400" spc="-1" strike="noStrike">
                  <a:solidFill>
                    <a:srgbClr val="000000"/>
                  </a:solidFill>
                  <a:latin typeface="Arial"/>
                </a:rPr>
                <a:t>RO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38240" y="2241720"/>
              <a:ext cx="869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onto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44480" y="2251080"/>
              <a:ext cx="66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c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76560" y="4924440"/>
              <a:ext cx="135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tk routi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98800" y="4060440"/>
              <a:ext cx="73656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635360" y="4098600"/>
              <a:ext cx="83844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648320" y="4035240"/>
              <a:ext cx="228600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648320" y="3958920"/>
              <a:ext cx="3581280" cy="88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743200" y="4035240"/>
              <a:ext cx="189216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920" y="4343400"/>
            <a:ext cx="1600200" cy="1066680"/>
          </a:xfrm>
          <a:custGeom>
            <a:avLst/>
            <a:gdLst/>
            <a:ahLst/>
            <a:rect l="l" t="t" r="r" b="b"/>
            <a:pathLst>
              <a:path w="864" h="960">
                <a:moveTo>
                  <a:pt x="576" y="240"/>
                </a:moveTo>
                <a:lnTo>
                  <a:pt x="384" y="144"/>
                </a:lnTo>
                <a:lnTo>
                  <a:pt x="576" y="96"/>
                </a:lnTo>
                <a:lnTo>
                  <a:pt x="576" y="384"/>
                </a:lnTo>
                <a:lnTo>
                  <a:pt x="720" y="192"/>
                </a:lnTo>
                <a:lnTo>
                  <a:pt x="432" y="0"/>
                </a:lnTo>
                <a:lnTo>
                  <a:pt x="336" y="288"/>
                </a:lnTo>
                <a:lnTo>
                  <a:pt x="864" y="144"/>
                </a:lnTo>
                <a:lnTo>
                  <a:pt x="672" y="528"/>
                </a:lnTo>
                <a:lnTo>
                  <a:pt x="576" y="384"/>
                </a:lnTo>
                <a:lnTo>
                  <a:pt x="864" y="144"/>
                </a:lnTo>
                <a:lnTo>
                  <a:pt x="432" y="0"/>
                </a:lnTo>
                <a:lnTo>
                  <a:pt x="192" y="240"/>
                </a:lnTo>
                <a:lnTo>
                  <a:pt x="576" y="384"/>
                </a:lnTo>
                <a:lnTo>
                  <a:pt x="432" y="528"/>
                </a:lnTo>
                <a:lnTo>
                  <a:pt x="672" y="528"/>
                </a:lnTo>
                <a:lnTo>
                  <a:pt x="528" y="672"/>
                </a:lnTo>
                <a:lnTo>
                  <a:pt x="432" y="528"/>
                </a:lnTo>
                <a:lnTo>
                  <a:pt x="288" y="720"/>
                </a:lnTo>
                <a:lnTo>
                  <a:pt x="528" y="672"/>
                </a:lnTo>
                <a:lnTo>
                  <a:pt x="432" y="912"/>
                </a:lnTo>
                <a:lnTo>
                  <a:pt x="288" y="720"/>
                </a:lnTo>
                <a:lnTo>
                  <a:pt x="144" y="528"/>
                </a:lnTo>
                <a:lnTo>
                  <a:pt x="432" y="528"/>
                </a:lnTo>
                <a:lnTo>
                  <a:pt x="480" y="336"/>
                </a:lnTo>
                <a:lnTo>
                  <a:pt x="144" y="528"/>
                </a:lnTo>
                <a:lnTo>
                  <a:pt x="192" y="240"/>
                </a:lnTo>
                <a:lnTo>
                  <a:pt x="288" y="432"/>
                </a:lnTo>
                <a:lnTo>
                  <a:pt x="336" y="288"/>
                </a:lnTo>
                <a:lnTo>
                  <a:pt x="0" y="432"/>
                </a:lnTo>
                <a:lnTo>
                  <a:pt x="288" y="432"/>
                </a:lnTo>
                <a:lnTo>
                  <a:pt x="288" y="960"/>
                </a:lnTo>
                <a:lnTo>
                  <a:pt x="432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95680"/>
            <a:ext cx="457200" cy="60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45720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464832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724280"/>
            <a:ext cx="457200" cy="60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48006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4000" y="5562720"/>
            <a:ext cx="593640" cy="2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30" y="-17636"/>
                </a:moveTo>
                <a:lnTo>
                  <a:pt x="-2728" y="11109"/>
                </a:lnTo>
              </a:path>
              <a:path w="21600" h="21600">
                <a:moveTo>
                  <a:pt x="-2728" y="0"/>
                </a:moveTo>
                <a:lnTo>
                  <a:pt x="-272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7880" y="5638680"/>
            <a:ext cx="1207800" cy="21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523" y="-21491"/>
                </a:moveTo>
                <a:lnTo>
                  <a:pt x="-1352" y="11109"/>
                </a:lnTo>
              </a:path>
              <a:path w="21600" h="21600">
                <a:moveTo>
                  <a:pt x="-1352" y="0"/>
                </a:moveTo>
                <a:lnTo>
                  <a:pt x="-1352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Displacemen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294-5F67-44E7-AD5C-9646F5FE82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152F9-1C5D-4E71-A33E-1BA4377B0D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akeviz scenari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Cloud"/>
          <p:cNvSpPr/>
          <p:nvPr/>
        </p:nvSpPr>
        <p:spPr>
          <a:xfrm>
            <a:off x="2514600" y="2514600"/>
            <a:ext cx="3429000" cy="2298600"/>
          </a:xfrm>
          <a:prstGeom prst="pi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 Narrow"/>
              </a:rPr>
              <a:t>Best-effort 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96080" y="1295280"/>
            <a:ext cx="609840" cy="762120"/>
          </a:xfrm>
          <a:prstGeom prst="can">
            <a:avLst>
              <a:gd name="adj" fmla="val 2666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Dat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7400" y="1371600"/>
            <a:ext cx="1038600" cy="2134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Comput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91320" y="2305080"/>
            <a:ext cx="2514600" cy="1870920"/>
            <a:chOff x="5791320" y="2305080"/>
            <a:chExt cx="2514600" cy="1870920"/>
          </a:xfrm>
        </p:grpSpPr>
        <p:sp>
          <p:nvSpPr>
            <p:cNvPr id="109" name="Cloud"/>
            <p:cNvSpPr/>
            <p:nvPr/>
          </p:nvSpPr>
          <p:spPr>
            <a:xfrm>
              <a:off x="5791320" y="2305080"/>
              <a:ext cx="1676160" cy="1123920"/>
            </a:xfrm>
            <a:prstGeom prst="pie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000" spc="-1" strike="noStrike">
                  <a:solidFill>
                    <a:srgbClr val="000000"/>
                  </a:solidFill>
                  <a:latin typeface="Arial Narrow"/>
                </a:rPr>
                <a:t>Remote 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j0249816" descr=""/>
            <p:cNvPicPr/>
            <p:nvPr/>
          </p:nvPicPr>
          <p:blipFill>
            <a:blip r:embed="rId1"/>
            <a:stretch/>
          </p:blipFill>
          <p:spPr>
            <a:xfrm>
              <a:off x="7162920" y="2666880"/>
              <a:ext cx="114300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080400" y="3962520"/>
              <a:ext cx="1361520" cy="2134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High end work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j0223560" descr=""/>
          <p:cNvPicPr/>
          <p:nvPr/>
        </p:nvPicPr>
        <p:blipFill>
          <a:blip r:embed="rId2"/>
          <a:stretch/>
        </p:blipFill>
        <p:spPr>
          <a:xfrm>
            <a:off x="6400800" y="1219320"/>
            <a:ext cx="1023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417240" y="1981080"/>
            <a:ext cx="2706840" cy="1447920"/>
            <a:chOff x="417240" y="1981080"/>
            <a:chExt cx="2706840" cy="1447920"/>
          </a:xfrm>
        </p:grpSpPr>
        <p:sp>
          <p:nvSpPr>
            <p:cNvPr id="114" name="Cloud"/>
            <p:cNvSpPr/>
            <p:nvPr/>
          </p:nvSpPr>
          <p:spPr>
            <a:xfrm>
              <a:off x="1447920" y="1981080"/>
              <a:ext cx="1676160" cy="1123920"/>
            </a:xfrm>
            <a:prstGeom prst="pie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000" spc="-1" strike="noStrike">
                  <a:solidFill>
                    <a:srgbClr val="000000"/>
                  </a:solidFill>
                  <a:latin typeface="Arial Narrow"/>
                </a:rPr>
                <a:t>Local 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j0245337" descr=""/>
            <p:cNvPicPr/>
            <p:nvPr/>
          </p:nvPicPr>
          <p:blipFill>
            <a:blip r:embed="rId3"/>
            <a:stretch/>
          </p:blipFill>
          <p:spPr>
            <a:xfrm>
              <a:off x="762120" y="2438280"/>
              <a:ext cx="7826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17240" y="1981080"/>
              <a:ext cx="535680" cy="2134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Desk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07960" y="4419720"/>
            <a:ext cx="2768760" cy="1135080"/>
            <a:chOff x="507960" y="4419720"/>
            <a:chExt cx="2768760" cy="1135080"/>
          </a:xfrm>
        </p:grpSpPr>
        <p:sp>
          <p:nvSpPr>
            <p:cNvPr id="118" name="Cloud"/>
            <p:cNvSpPr/>
            <p:nvPr/>
          </p:nvSpPr>
          <p:spPr>
            <a:xfrm>
              <a:off x="1600200" y="4419720"/>
              <a:ext cx="1676520" cy="1123920"/>
            </a:xfrm>
            <a:prstGeom prst="pie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000" spc="-1" strike="noStrike">
                  <a:solidFill>
                    <a:srgbClr val="000000"/>
                  </a:solidFill>
                  <a:latin typeface="Arial Narrow"/>
                </a:rPr>
                <a:t>Local 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j0282506" descr=""/>
            <p:cNvPicPr/>
            <p:nvPr/>
          </p:nvPicPr>
          <p:blipFill>
            <a:blip r:embed="rId4"/>
            <a:stretch/>
          </p:blipFill>
          <p:spPr>
            <a:xfrm>
              <a:off x="1066680" y="5029200"/>
              <a:ext cx="60984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07960" y="4419720"/>
              <a:ext cx="445680" cy="2134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Arial Narrow"/>
                </a:rPr>
                <a:t>Lap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1" name=""/>
          <p:cNvCxnSpPr>
            <a:stCxn id="112" idx="3"/>
            <a:endCxn id="106" idx="2"/>
          </p:cNvCxnSpPr>
          <p:nvPr/>
        </p:nvCxnSpPr>
        <p:spPr>
          <a:xfrm flipV="1">
            <a:off x="7424640" y="1675800"/>
            <a:ext cx="2721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76360" y="50292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re limi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re heterogeneo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AAF-928D-4EF9-B2E5-B8DA7E18C8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2549D-56E3-42DB-9B04-EEE6BEDC66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57840" cy="12193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roaches for providing remote viz service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3981600" y="4113360"/>
            <a:ext cx="76824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13280" y="4113360"/>
            <a:ext cx="812880" cy="43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11920" y="4170240"/>
            <a:ext cx="695160" cy="3286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12120" y="3998880"/>
            <a:ext cx="533160" cy="6015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65840" y="4170240"/>
            <a:ext cx="574920" cy="32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07080" y="43228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2400" y="4137120"/>
            <a:ext cx="542880" cy="32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46880" y="4321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1000" y="43228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28960" y="4387680"/>
            <a:ext cx="165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79920" y="43228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2120" y="4505400"/>
            <a:ext cx="1353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tra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19240" y="3429000"/>
            <a:ext cx="912600" cy="1903320"/>
          </a:xfrm>
          <a:prstGeom prst="rect">
            <a:avLst/>
          </a:prstGeom>
          <a:noFill/>
          <a:ln w="28440">
            <a:solidFill>
              <a:srgbClr val="114ff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87840" y="3444840"/>
            <a:ext cx="4606920" cy="1903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5475240"/>
            <a:ext cx="1904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114ffb"/>
                </a:solidFill>
                <a:latin typeface="Arial"/>
              </a:rPr>
              <a:t>Low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-end</a:t>
            </a:r>
            <a:r>
              <a:rPr b="1" lang="es-CO" sz="1800" spc="-1" strike="noStrike">
                <a:solidFill>
                  <a:srgbClr val="114ffb"/>
                </a:solidFill>
                <a:latin typeface="Arial"/>
              </a:rPr>
              <a:t> r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emote</a:t>
            </a:r>
            <a:r>
              <a:rPr b="1" lang="es-CO" sz="1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92880" y="5465880"/>
            <a:ext cx="308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owerful</a:t>
            </a:r>
            <a:r>
              <a:rPr b="1" lang="es-CO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ocal</a:t>
            </a:r>
            <a:r>
              <a:rPr b="1" lang="es-CO" sz="1800" spc="-1" strike="noStrike">
                <a:solidFill>
                  <a:srgbClr val="fc0128"/>
                </a:solidFill>
                <a:latin typeface="Arial"/>
              </a:rPr>
              <a:t> 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311720"/>
            <a:ext cx="16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30400" y="4246560"/>
            <a:ext cx="1652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27160" y="4475160"/>
            <a:ext cx="1652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28960" y="4398840"/>
            <a:ext cx="165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27160" y="4170240"/>
            <a:ext cx="1652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27160" y="4322880"/>
            <a:ext cx="1652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37320" y="432288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everything at the local s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: low latency, easy to grid-enable existing pack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: requires high-bandwidth link between sites, requires powerful compute and graphics resources at the local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B52-3515-4AE7-B370-511707B36A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D926F-F304-4EFE-BA15-FAEA461E53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57840" cy="12193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roaches for providing remote viz ser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everything on the remote server</a:t>
            </a:r>
            <a:r>
              <a:rPr b="0" lang="es-CO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s: very simple to grid enable existing packages</a:t>
            </a:r>
            <a:r>
              <a:rPr b="0" lang="es-CO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: high latency, eliminates possibility of proxying and caching at local site, can overuse remote site, not appropriate for smaller dataset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2028960" y="4143240"/>
            <a:ext cx="76968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60640" y="4143240"/>
            <a:ext cx="814320" cy="43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0720" y="4200480"/>
            <a:ext cx="695520" cy="3286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15000" y="4200480"/>
            <a:ext cx="573120" cy="32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56240" y="435276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79360" y="4167360"/>
            <a:ext cx="543240" cy="328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4240" y="43513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09800" y="4352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22600" y="4365720"/>
            <a:ext cx="309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85040" y="4529160"/>
            <a:ext cx="1353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3459240"/>
            <a:ext cx="4483080" cy="1903320"/>
          </a:xfrm>
          <a:prstGeom prst="rect">
            <a:avLst/>
          </a:prstGeom>
          <a:noFill/>
          <a:ln w="28440">
            <a:solidFill>
              <a:srgbClr val="114ff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24680" y="3459240"/>
            <a:ext cx="888840" cy="1903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5486400"/>
            <a:ext cx="1905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Very</a:t>
            </a:r>
            <a:r>
              <a:rPr b="1" lang="es-CO" sz="1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high-end</a:t>
            </a:r>
            <a:r>
              <a:rPr b="1" lang="es-CO" sz="1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remote</a:t>
            </a:r>
            <a:r>
              <a:rPr b="1" lang="es-CO" sz="18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24600" y="5505480"/>
            <a:ext cx="1110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86120" y="435276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29520" y="4067280"/>
            <a:ext cx="531720" cy="6015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24680" y="436392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7400" y="4365720"/>
            <a:ext cx="145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untime support for adaptive heavyweight services -- C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477-4E52-4131-BA1A-518B29615A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0B0D4-F863-40C6-8ABB-353450D4DD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4:01:03Z</dcterms:created>
  <dc:creator>default</dc:creator>
  <dc:description/>
  <dc:language>en-US</dc:language>
  <cp:lastModifiedBy>David O'Hallaron</cp:lastModifiedBy>
  <dcterms:modified xsi:type="dcterms:W3CDTF">2000-08-22T14:54:49Z</dcterms:modified>
  <cp:revision>344</cp:revision>
  <dc:subject/>
  <dc:title>Scheduling agents for a distributed visualization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www.cs.cmu.edu/~droh</vt:lpwstr>
  </property>
  <property fmtid="{D5CDD505-2E9C-101B-9397-08002B2CF9AE}" pid="9" name="LinkColor">
    <vt:r8>16711782</vt:r8>
  </property>
  <property fmtid="{D5CDD505-2E9C-101B-9397-08002B2CF9AE}" pid="10" name="MailAddress">
    <vt:lpwstr>droh@cs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talks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