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6B7-22D9-4BA3-866D-6DC75585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A27-48F1-4E5E-B986-C485CC48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DA3-A6DF-41AC-9A4A-E1801929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790-7548-41ED-962C-618C79C8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79CB-81D6-488A-A486-B6DEFC1E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5DFB-14C0-4321-8BE8-920A49B0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FB16-6F4D-4D3C-81E1-F716DB30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0CFC-50D1-44CD-B30E-76CDA58D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0CF3-12A2-4906-BED6-5E79E38E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31880" y="31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BCCB-88FF-483D-96E3-9E87BF7D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D48A-1AFA-48D4-9D1B-FE3EBDED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567-AF81-453D-8A6E-FC551777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F1D5-3803-48B5-8CA2-F179DBF3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96DF-722B-475C-8969-1A2D07A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64AF-F701-44D2-ACFA-69C22078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B36A-A0E3-454D-9A86-815B561C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3C66-616D-408C-A2C4-2A1C3D53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300-4C06-4109-BF87-498E2940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B77-A31C-4C33-9E49-825C9190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703-3A0D-460B-8754-E6A5C331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31880" y="31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684-4306-4255-AFFB-EF503FE3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2EB-6530-417A-8D05-3B97E626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E97-8229-4E39-856E-0A659C66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318-16AD-44AE-94ED-50D6CB89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9794-2740-408B-BEA2-0B2D3E733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5A6A-C71F-4AB8-95BA-4AFD6DA58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205920"/>
            <a:ext cx="8421840" cy="195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A method for monitoring activities of multiple objects by using stochastic model 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440" y="3801960"/>
            <a:ext cx="702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Nobuyoshi Enomo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nformation and Industrial Systems &amp; Services Company     Toshiba Corporation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akeo Kan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e Robotics Institute     Carnegie Mellon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ironobu Fujiyo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Department of Computer Science     Chubu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Osamu Hasega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e Machine Understanding Division     Electrotechnical Laboratory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3120" y="1676520"/>
            <a:ext cx="8534520" cy="3886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03400" y="2286000"/>
            <a:ext cx="69339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tochastic description of activiti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80" y="1676520"/>
            <a:ext cx="86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If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tected in a frame and can be tr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93560" y="2286000"/>
            <a:ext cx="8153280" cy="2971800"/>
            <a:chOff x="493560" y="2286000"/>
            <a:chExt cx="8153280" cy="2971800"/>
          </a:xfrm>
        </p:grpSpPr>
        <p:sp>
          <p:nvSpPr>
            <p:cNvPr id="273" name=""/>
            <p:cNvSpPr/>
            <p:nvPr/>
          </p:nvSpPr>
          <p:spPr>
            <a:xfrm>
              <a:off x="493560" y="2286000"/>
              <a:ext cx="8153280" cy="18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bject O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ith action sequence A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,…,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nd interaction sequence I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,…,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2160" y="4572000"/>
              <a:ext cx="1523880" cy="0"/>
            </a:xfrm>
            <a:prstGeom prst="line">
              <a:avLst/>
            </a:prstGeom>
            <a:ln w="190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120" y="4572000"/>
              <a:ext cx="990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ed 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17560" y="4286160"/>
              <a:ext cx="4449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lob sequence B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,…,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22160" y="2743200"/>
            <a:ext cx="769644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Probability for most reliable descrip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87400" y="3048120"/>
            <a:ext cx="7315200" cy="1730520"/>
            <a:chOff x="887400" y="3048120"/>
            <a:chExt cx="7315200" cy="1730520"/>
          </a:xfrm>
        </p:grpSpPr>
        <p:sp>
          <p:nvSpPr>
            <p:cNvPr id="280" name=""/>
            <p:cNvSpPr/>
            <p:nvPr/>
          </p:nvSpPr>
          <p:spPr>
            <a:xfrm>
              <a:off x="887400" y="3276720"/>
              <a:ext cx="731520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</a:rPr>
                <a:t>(S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3200" spc="-1" strike="noStrike" baseline="-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ja-JP" sz="3200" spc="-1" strike="noStrike" baseline="-25000">
                  <a:solidFill>
                    <a:srgbClr val="000000"/>
                  </a:solidFill>
                  <a:latin typeface="Times New Roman"/>
                </a:rPr>
                <a:t>argmax((S(i,j))0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3200" spc="-1" strike="noStrike" baseline="-25000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</a:rPr>
                <a:t>P((S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3200" spc="-1" strike="noStrike" baseline="-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</a:rPr>
                <a:t>| B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68280" y="3048120"/>
              <a:ext cx="5335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144" y="0"/>
                  </a:lnTo>
                  <a:lnTo>
                    <a:pt x="336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26440" y="4181400"/>
              <a:ext cx="70243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(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-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≡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｛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(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,(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(I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cbcbcb"/>
                </a:solidFill>
                <a:latin typeface="Times New Roman"/>
              </a:rPr>
              <a:t>Markov model for selecting most probable attributes sequence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0280" y="5908680"/>
            <a:ext cx="7179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probabilities for t=0 to t=t' can be described by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ies for t=0 to t=t'-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520" y="1847880"/>
            <a:ext cx="8890200" cy="3778200"/>
            <a:chOff x="182520" y="1847880"/>
            <a:chExt cx="8890200" cy="3778200"/>
          </a:xfrm>
        </p:grpSpPr>
        <p:sp>
          <p:nvSpPr>
            <p:cNvPr id="286" name=""/>
            <p:cNvSpPr/>
            <p:nvPr/>
          </p:nvSpPr>
          <p:spPr>
            <a:xfrm>
              <a:off x="182520" y="2165400"/>
              <a:ext cx="8890200" cy="3435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0440" y="4605480"/>
              <a:ext cx="5705280" cy="53316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4920" y="2752560"/>
              <a:ext cx="5922720" cy="5335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2240" y="1847880"/>
              <a:ext cx="8610480" cy="37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P((S</a:t>
              </a:r>
              <a:r>
                <a:rPr b="0" lang="ja-JP" sz="28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800" spc="-1" strike="noStrike" baseline="-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800" spc="-1" strike="noStrike" baseline="30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| B</a:t>
              </a:r>
              <a:r>
                <a:rPr b="0" lang="ja-JP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lang="ja-JP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)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O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 (A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(A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j)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 (I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i,j)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| (B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(B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P(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A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A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I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,j) 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O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O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A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A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I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,j)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 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| 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･ 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O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 (A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A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 (I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,j)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5160" y="4156200"/>
              <a:ext cx="761760" cy="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0200" y="4148280"/>
              <a:ext cx="7634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9120" y="1066680"/>
            <a:ext cx="8488440" cy="1371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6240" y="2819520"/>
            <a:ext cx="8494560" cy="3429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160" y="1157400"/>
            <a:ext cx="899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(B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 O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(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(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(A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(A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(I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78040" y="1690560"/>
            <a:ext cx="7688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03600" y="1766880"/>
            <a:ext cx="403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(B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ｔ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ｔ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| (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(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7160" y="2986200"/>
            <a:ext cx="899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=P(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|  O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(B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(B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(A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(A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(I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71720" y="3505320"/>
            <a:ext cx="7300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03600" y="3429000"/>
            <a:ext cx="40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(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ｔ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ｔ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| (B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(B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7160" y="4191120"/>
            <a:ext cx="899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7160" y="4952880"/>
            <a:ext cx="899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77800" y="1828800"/>
            <a:ext cx="7986600" cy="4724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36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Introducing assumption by  definition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6880" y="1828800"/>
            <a:ext cx="7948800" cy="10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not decided by 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8960" y="2762280"/>
            <a:ext cx="8305560" cy="802440"/>
            <a:chOff x="588960" y="2762280"/>
            <a:chExt cx="8305560" cy="802440"/>
          </a:xfrm>
        </p:grpSpPr>
        <p:sp>
          <p:nvSpPr>
            <p:cNvPr id="306" name=""/>
            <p:cNvSpPr/>
            <p:nvPr/>
          </p:nvSpPr>
          <p:spPr>
            <a:xfrm>
              <a:off x="588960" y="2762280"/>
              <a:ext cx="8305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P(B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A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A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I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| O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O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A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A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I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,j)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22320" y="3124080"/>
              <a:ext cx="403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P(B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ｔ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ｔ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| 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,(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t-1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08000" y="3124080"/>
              <a:ext cx="7467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33240" y="4800600"/>
            <a:ext cx="60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9440" y="5410080"/>
            <a:ext cx="631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87520" y="3824280"/>
            <a:ext cx="5868720" cy="952920"/>
            <a:chOff x="587520" y="3824280"/>
            <a:chExt cx="5868720" cy="952920"/>
          </a:xfrm>
        </p:grpSpPr>
        <p:sp>
          <p:nvSpPr>
            <p:cNvPr id="312" name=""/>
            <p:cNvSpPr/>
            <p:nvPr/>
          </p:nvSpPr>
          <p:spPr>
            <a:xfrm>
              <a:off x="587520" y="3824280"/>
              <a:ext cx="586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P(B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j)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|  O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O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(A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(A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j)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(I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i,j)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01640" y="4267080"/>
              <a:ext cx="204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P(B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ｔ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ｔ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31680" y="4267080"/>
              <a:ext cx="5181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60320" y="327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1720" y="1828800"/>
            <a:ext cx="8077320" cy="5029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cbcbcb"/>
                </a:solidFill>
                <a:latin typeface="Times New Roman"/>
              </a:rPr>
              <a:t>Introducing Markov like assumptions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6800" y="2629080"/>
            <a:ext cx="68695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cided by 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440" y="41529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4457880"/>
            <a:ext cx="152640" cy="1447560"/>
          </a:xfrm>
          <a:custGeom>
            <a:avLst/>
            <a:gdLst>
              <a:gd name="textAreaLeft" fmla="*/ 0 w 152640"/>
              <a:gd name="textAreaRight" fmla="*/ 5508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1720" y="1600200"/>
            <a:ext cx="80773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cided by only 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1720" y="2133720"/>
            <a:ext cx="80773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cided by only 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and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3481560"/>
            <a:ext cx="45118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(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6194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4229280"/>
            <a:ext cx="6096240" cy="18288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4152960"/>
            <a:ext cx="586908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(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| O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 * P(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| O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(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ｔ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ｔ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5067360"/>
            <a:ext cx="58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5524560"/>
            <a:ext cx="63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5996160"/>
            <a:ext cx="4511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(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4610160"/>
            <a:ext cx="5334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19840" y="4030560"/>
            <a:ext cx="366840" cy="2308320"/>
          </a:xfrm>
          <a:custGeom>
            <a:avLst/>
            <a:gdLst>
              <a:gd name="textAreaLeft" fmla="*/ 0 w 366840"/>
              <a:gd name="textAreaRight" fmla="*/ 132480 w 366840"/>
              <a:gd name="textAreaTop" fmla="*/ 60120 h 2308320"/>
              <a:gd name="textAreaBottom" fmla="*/ 2248200 h 230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9200" y="4361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Pre-computation for conditional probabilities and joint probability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176560" y="3273480"/>
          <a:ext cx="4662360" cy="180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6560" y="3273480"/>
                    <a:ext cx="466236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156600" y="2895480"/>
            <a:ext cx="88275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s for each blob for each sample sce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activity are detec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set is assigned to each blob. (Teach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in each scenes are counted to make up probabil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The path which maximize the probability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619760" cy="7486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459480" y="4435560"/>
            <a:ext cx="15447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: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k: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,h,h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object’s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980560" y="1371600"/>
            <a:ext cx="163440" cy="548640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8480" y="6642000"/>
            <a:ext cx="7853400" cy="21600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219320" y="1905120"/>
            <a:ext cx="6781680" cy="3504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Experi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12120" y="1882800"/>
            <a:ext cx="6598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he activities to be teste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 Human entered a Vehic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 Human got out of a Vehic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uman Rendezvo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est scene: 10 minutes video ima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 CMU’s parking 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0880" y="1752480"/>
            <a:ext cx="8458200" cy="4267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Blob's observations and attributes 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1981080"/>
            <a:ext cx="792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5760" y="1987560"/>
          <a:ext cx="8475480" cy="51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987560"/>
                    <a:ext cx="847548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cbcbcb"/>
                </a:solidFill>
                <a:latin typeface="Times New Roman"/>
              </a:rPr>
              <a:t>Ｉｎｄｅｘ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47800"/>
            <a:ext cx="837576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 monitoring in VSAM at C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nitoring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99"/>
                </a:solidFill>
                <a:uFillTx/>
                <a:latin typeface="Times New Roman"/>
                <a:hlinkClick r:id="rId1" action="ppaction://hlinksldjump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ication: Web-page Data Summariz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Test-bed syste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2057400"/>
            <a:ext cx="7621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2209680"/>
            <a:ext cx="1522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1981080"/>
            <a:ext cx="220968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1981080"/>
            <a:ext cx="220968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4495680"/>
            <a:ext cx="220968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4495680"/>
            <a:ext cx="220968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286000"/>
            <a:ext cx="7621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3352680"/>
            <a:ext cx="2743200" cy="1143000"/>
          </a:xfrm>
          <a:custGeom>
            <a:avLst/>
            <a:gdLst/>
            <a:ahLst/>
            <a:rect l="l" t="t" r="r" b="b"/>
            <a:pathLst>
              <a:path w="1728" h="720">
                <a:moveTo>
                  <a:pt x="1728" y="0"/>
                </a:moveTo>
                <a:lnTo>
                  <a:pt x="1728" y="384"/>
                </a:lnTo>
                <a:lnTo>
                  <a:pt x="0" y="384"/>
                </a:lnTo>
                <a:lnTo>
                  <a:pt x="0" y="72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0" y="51055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29400" y="5038560"/>
            <a:ext cx="11350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676520" y="2027160"/>
            <a:ext cx="5295960" cy="3589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63160" y="522000"/>
            <a:ext cx="55278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Moving Target Detecti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09840" y="1523880"/>
            <a:ext cx="7481520" cy="1524240"/>
            <a:chOff x="609840" y="1523880"/>
            <a:chExt cx="7481520" cy="1524240"/>
          </a:xfrm>
        </p:grpSpPr>
        <p:grpSp>
          <p:nvGrpSpPr>
            <p:cNvPr id="366" name=""/>
            <p:cNvGrpSpPr/>
            <p:nvPr/>
          </p:nvGrpSpPr>
          <p:grpSpPr>
            <a:xfrm>
              <a:off x="1676520" y="2438280"/>
              <a:ext cx="533160" cy="457200"/>
              <a:chOff x="1676520" y="2438280"/>
              <a:chExt cx="533160" cy="457200"/>
            </a:xfrm>
          </p:grpSpPr>
          <p:sp>
            <p:nvSpPr>
              <p:cNvPr id="367" name=""/>
              <p:cNvSpPr/>
              <p:nvPr/>
            </p:nvSpPr>
            <p:spPr>
              <a:xfrm>
                <a:off x="1676520" y="2438280"/>
                <a:ext cx="5331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52480" y="2438280"/>
                <a:ext cx="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09840" y="1523880"/>
              <a:ext cx="7481520" cy="1524240"/>
              <a:chOff x="609840" y="1523880"/>
              <a:chExt cx="7481520" cy="1524240"/>
            </a:xfrm>
          </p:grpSpPr>
          <p:sp>
            <p:nvSpPr>
              <p:cNvPr id="370" name=""/>
              <p:cNvSpPr/>
              <p:nvPr/>
            </p:nvSpPr>
            <p:spPr>
              <a:xfrm>
                <a:off x="1154160" y="2362320"/>
                <a:ext cx="685800" cy="685800"/>
              </a:xfrm>
              <a:prstGeom prst="ellipse">
                <a:avLst/>
              </a:prstGeom>
              <a:solidFill>
                <a:srgbClr val="cbcbcb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76560" y="2414520"/>
                <a:ext cx="416880" cy="52056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609840" y="1523880"/>
                <a:ext cx="7481520" cy="642600"/>
                <a:chOff x="609840" y="1523880"/>
                <a:chExt cx="7481520" cy="642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648320" y="1523880"/>
                  <a:ext cx="3443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2905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ackground gradually changes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905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09840" y="1523880"/>
                  <a:ext cx="80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9933"/>
                      </a:solidFill>
                      <a:latin typeface="Times New Roman"/>
                    </a:rPr>
                    <a:t>Pix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5" name=""/>
          <p:cNvGrpSpPr/>
          <p:nvPr/>
        </p:nvGrpSpPr>
        <p:grpSpPr>
          <a:xfrm>
            <a:off x="1372320" y="2286000"/>
            <a:ext cx="7466760" cy="1905120"/>
            <a:chOff x="1372320" y="2286000"/>
            <a:chExt cx="7466760" cy="1905120"/>
          </a:xfrm>
        </p:grpSpPr>
        <p:sp>
          <p:nvSpPr>
            <p:cNvPr id="376" name=""/>
            <p:cNvSpPr/>
            <p:nvPr/>
          </p:nvSpPr>
          <p:spPr>
            <a:xfrm flipH="1" flipV="1">
              <a:off x="1523880" y="2514240"/>
              <a:ext cx="60912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372320" y="2971800"/>
              <a:ext cx="1512000" cy="1219320"/>
              <a:chOff x="1372320" y="2971800"/>
              <a:chExt cx="1512000" cy="1219320"/>
            </a:xfrm>
          </p:grpSpPr>
          <p:sp>
            <p:nvSpPr>
              <p:cNvPr id="378" name=""/>
              <p:cNvSpPr/>
              <p:nvPr/>
            </p:nvSpPr>
            <p:spPr>
              <a:xfrm>
                <a:off x="1372320" y="2971800"/>
                <a:ext cx="6084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2351160" y="3581280"/>
                <a:ext cx="533160" cy="457200"/>
                <a:chOff x="2351160" y="3581280"/>
                <a:chExt cx="533160" cy="4572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2351160" y="3581280"/>
                  <a:ext cx="5331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27120" y="3581280"/>
                  <a:ext cx="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1741320" y="3429000"/>
                <a:ext cx="762120" cy="762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83520" y="2971800"/>
                <a:ext cx="6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ol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4648320" y="2286000"/>
              <a:ext cx="41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 appears in front of back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fference (color coherenc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447920" y="1797120"/>
            <a:ext cx="7391160" cy="2014200"/>
            <a:chOff x="1447920" y="1797120"/>
            <a:chExt cx="7391160" cy="2014200"/>
          </a:xfrm>
        </p:grpSpPr>
        <p:grpSp>
          <p:nvGrpSpPr>
            <p:cNvPr id="386" name=""/>
            <p:cNvGrpSpPr/>
            <p:nvPr/>
          </p:nvGrpSpPr>
          <p:grpSpPr>
            <a:xfrm>
              <a:off x="3886200" y="2743200"/>
              <a:ext cx="533520" cy="457200"/>
              <a:chOff x="3886200" y="2743200"/>
              <a:chExt cx="533520" cy="457200"/>
            </a:xfrm>
          </p:grpSpPr>
          <p:sp>
            <p:nvSpPr>
              <p:cNvPr id="387" name=""/>
              <p:cNvSpPr/>
              <p:nvPr/>
            </p:nvSpPr>
            <p:spPr>
              <a:xfrm>
                <a:off x="3886200" y="2743200"/>
                <a:ext cx="5335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62520" y="2743200"/>
                <a:ext cx="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447920" y="1797120"/>
              <a:ext cx="7391160" cy="2014200"/>
              <a:chOff x="1447920" y="1797120"/>
              <a:chExt cx="7391160" cy="20142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3440160" y="2787480"/>
                <a:ext cx="762120" cy="685800"/>
                <a:chOff x="3440160" y="2787480"/>
                <a:chExt cx="762120" cy="6858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440160" y="2787480"/>
                  <a:ext cx="762120" cy="685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467880" y="2905200"/>
                  <a:ext cx="70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2999520" y="217800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33"/>
                    </a:solidFill>
                    <a:latin typeface="Times New Roman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447920" y="1949400"/>
                <a:ext cx="14475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54280" y="179712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spati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48320" y="3168720"/>
                <a:ext cx="419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290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Multiple objects appear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0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region analysis (spatial coherency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468360" y="3747600"/>
            <a:ext cx="8675640" cy="1817640"/>
            <a:chOff x="468360" y="3747600"/>
            <a:chExt cx="8675640" cy="1817640"/>
          </a:xfrm>
        </p:grpSpPr>
        <p:grpSp>
          <p:nvGrpSpPr>
            <p:cNvPr id="398" name=""/>
            <p:cNvGrpSpPr/>
            <p:nvPr/>
          </p:nvGrpSpPr>
          <p:grpSpPr>
            <a:xfrm>
              <a:off x="468360" y="3747600"/>
              <a:ext cx="1330920" cy="824400"/>
              <a:chOff x="468360" y="3747600"/>
              <a:chExt cx="1330920" cy="824400"/>
            </a:xfrm>
          </p:grpSpPr>
          <p:sp>
            <p:nvSpPr>
              <p:cNvPr id="399" name=""/>
              <p:cNvSpPr/>
              <p:nvPr/>
            </p:nvSpPr>
            <p:spPr>
              <a:xfrm>
                <a:off x="468360" y="3809880"/>
                <a:ext cx="762120" cy="762120"/>
              </a:xfrm>
              <a:prstGeom prst="ellipse">
                <a:avLst/>
              </a:prstGeom>
              <a:solidFill>
                <a:srgbClr val="cbcbcb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687600" y="3747600"/>
                <a:ext cx="1111680" cy="693360"/>
                <a:chOff x="687600" y="3747600"/>
                <a:chExt cx="1111680" cy="693360"/>
              </a:xfrm>
            </p:grpSpPr>
            <p:grpSp>
              <p:nvGrpSpPr>
                <p:cNvPr id="401" name=""/>
                <p:cNvGrpSpPr/>
                <p:nvPr/>
              </p:nvGrpSpPr>
              <p:grpSpPr>
                <a:xfrm>
                  <a:off x="990720" y="3809880"/>
                  <a:ext cx="533160" cy="457200"/>
                  <a:chOff x="990720" y="3809880"/>
                  <a:chExt cx="533160" cy="4572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990720" y="3809880"/>
                    <a:ext cx="53316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066680" y="380988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4" name=""/>
                <p:cNvSpPr/>
                <p:nvPr/>
              </p:nvSpPr>
              <p:spPr>
                <a:xfrm flipH="1" flipV="1" rot="16477800">
                  <a:off x="938880" y="3561120"/>
                  <a:ext cx="609120" cy="106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5" name=""/>
            <p:cNvSpPr/>
            <p:nvPr/>
          </p:nvSpPr>
          <p:spPr>
            <a:xfrm>
              <a:off x="4648320" y="4648320"/>
              <a:ext cx="449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n object stops, it becomes part of back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y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429000" y="2514600"/>
            <a:ext cx="5345280" cy="2971800"/>
            <a:chOff x="3429000" y="2514600"/>
            <a:chExt cx="5345280" cy="2971800"/>
          </a:xfrm>
        </p:grpSpPr>
        <p:sp>
          <p:nvSpPr>
            <p:cNvPr id="407" name=""/>
            <p:cNvSpPr/>
            <p:nvPr/>
          </p:nvSpPr>
          <p:spPr>
            <a:xfrm flipV="1">
              <a:off x="3592440" y="34448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3429000" y="2514600"/>
              <a:ext cx="5345280" cy="2971800"/>
              <a:chOff x="3429000" y="2514600"/>
              <a:chExt cx="5345280" cy="29718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3962520" y="4038480"/>
                <a:ext cx="533160" cy="457200"/>
                <a:chOff x="3962520" y="4038480"/>
                <a:chExt cx="533160" cy="4572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62520" y="4038480"/>
                  <a:ext cx="5331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38480" y="4038480"/>
                  <a:ext cx="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3429000" y="2514600"/>
                <a:ext cx="5345280" cy="2971800"/>
                <a:chOff x="3429000" y="2514600"/>
                <a:chExt cx="5345280" cy="29718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419720" y="2514600"/>
                  <a:ext cx="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5400000">
                  <a:off x="4233240" y="3625560"/>
                  <a:ext cx="613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ti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659480" y="3927600"/>
                  <a:ext cx="4114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2905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bject moves and sto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905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Motion detection (time coherency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924360" y="34704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29000" y="3962520"/>
                  <a:ext cx="762120" cy="685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516120" y="4079880"/>
                  <a:ext cx="58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-163800" y="2370960"/>
            <a:ext cx="9079200" cy="4124520"/>
            <a:chOff x="-163800" y="2370960"/>
            <a:chExt cx="9079200" cy="4124520"/>
          </a:xfrm>
        </p:grpSpPr>
        <p:sp>
          <p:nvSpPr>
            <p:cNvPr id="420" name=""/>
            <p:cNvSpPr/>
            <p:nvPr/>
          </p:nvSpPr>
          <p:spPr>
            <a:xfrm flipH="1" rot="16952400">
              <a:off x="1409760" y="3008160"/>
              <a:ext cx="1904760" cy="1371600"/>
            </a:xfrm>
            <a:custGeom>
              <a:avLst/>
              <a:gdLst/>
              <a:ahLst/>
              <a:rect l="l" t="t" r="r" b="b"/>
              <a:pathLst>
                <a:path w="912" h="496">
                  <a:moveTo>
                    <a:pt x="0" y="0"/>
                  </a:moveTo>
                  <a:cubicBezTo>
                    <a:pt x="116" y="184"/>
                    <a:pt x="232" y="368"/>
                    <a:pt x="384" y="432"/>
                  </a:cubicBezTo>
                  <a:cubicBezTo>
                    <a:pt x="536" y="496"/>
                    <a:pt x="832" y="408"/>
                    <a:pt x="912" y="38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-163800" y="2370960"/>
              <a:ext cx="9079200" cy="4124520"/>
              <a:chOff x="-163800" y="2370960"/>
              <a:chExt cx="9079200" cy="412452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-163800" y="2927520"/>
                <a:ext cx="3135600" cy="3335040"/>
                <a:chOff x="-163800" y="2927520"/>
                <a:chExt cx="3135600" cy="3335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96960" y="5119560"/>
                  <a:ext cx="762120" cy="762120"/>
                </a:xfrm>
                <a:prstGeom prst="ellipse">
                  <a:avLst/>
                </a:prstGeom>
                <a:solidFill>
                  <a:srgbClr val="cbcbcb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-163800" y="2927520"/>
                  <a:ext cx="3135600" cy="3335040"/>
                  <a:chOff x="-163800" y="2927520"/>
                  <a:chExt cx="3135600" cy="3335040"/>
                </a:xfrm>
              </p:grpSpPr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914400" y="5805360"/>
                    <a:ext cx="533520" cy="457200"/>
                    <a:chOff x="914400" y="5805360"/>
                    <a:chExt cx="533520" cy="45720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914400" y="5805360"/>
                      <a:ext cx="533520" cy="457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1295280" y="5805360"/>
                      <a:ext cx="15264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8" name=""/>
                  <p:cNvSpPr/>
                  <p:nvPr/>
                </p:nvSpPr>
                <p:spPr>
                  <a:xfrm rot="4647600">
                    <a:off x="-418680" y="3543120"/>
                    <a:ext cx="2361960" cy="13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912" h="496">
                        <a:moveTo>
                          <a:pt x="0" y="0"/>
                        </a:moveTo>
                        <a:cubicBezTo>
                          <a:pt x="116" y="184"/>
                          <a:pt x="232" y="368"/>
                          <a:pt x="384" y="432"/>
                        </a:cubicBezTo>
                        <a:cubicBezTo>
                          <a:pt x="536" y="496"/>
                          <a:pt x="832" y="408"/>
                          <a:pt x="912" y="38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1764000" y="4205160"/>
                    <a:ext cx="609120" cy="9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 rot="584400">
                    <a:off x="900000" y="3686760"/>
                    <a:ext cx="836640" cy="177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222" y="556"/>
                        </a:moveTo>
                        <a:arcTo wR="10800" hR="10800" stAng="-4291745" swAng="404746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222" y="556"/>
                        </a:moveTo>
                        <a:arcTo wR="10800" hR="10800" stAng="-4291745" swAng="4047463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2438280" y="4815000"/>
                    <a:ext cx="533520" cy="457200"/>
                    <a:chOff x="2438280" y="4815000"/>
                    <a:chExt cx="533520" cy="45720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2438280" y="4815000"/>
                      <a:ext cx="533520" cy="457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2514600" y="4815000"/>
                      <a:ext cx="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4" name=""/>
                  <p:cNvSpPr/>
                  <p:nvPr/>
                </p:nvSpPr>
                <p:spPr>
                  <a:xfrm>
                    <a:off x="1916280" y="4662360"/>
                    <a:ext cx="761760" cy="762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>
                    <a:off x="1916280" y="3670920"/>
                    <a:ext cx="60840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 rot="16477800">
                    <a:off x="1167840" y="4718520"/>
                    <a:ext cx="608040" cy="106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711720" y="2370960"/>
                <a:ext cx="8203680" cy="4124520"/>
                <a:chOff x="711720" y="2370960"/>
                <a:chExt cx="8203680" cy="4124520"/>
              </a:xfrm>
            </p:grpSpPr>
            <p:sp>
              <p:nvSpPr>
                <p:cNvPr id="438" name=""/>
                <p:cNvSpPr/>
                <p:nvPr/>
              </p:nvSpPr>
              <p:spPr>
                <a:xfrm flipH="1" flipV="1" rot="2770800">
                  <a:off x="1220760" y="2400840"/>
                  <a:ext cx="837720" cy="177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22" y="556"/>
                      </a:moveTo>
                      <a:arcTo wR="10800" hR="10800" stAng="-4291745" swAng="42917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22" y="556"/>
                      </a:moveTo>
                      <a:arcTo wR="10800" hR="10800" stAng="-4291745" swAng="4291745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648320" y="5578560"/>
                  <a:ext cx="4267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2905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bject resumes motion, moves appears, stops in front of or behind of other objec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905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–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rdered and recursive lay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3657600" y="4206960"/>
                  <a:ext cx="789120" cy="1863720"/>
                  <a:chOff x="3657600" y="4206960"/>
                  <a:chExt cx="789120" cy="18637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3657600" y="4206960"/>
                    <a:ext cx="762120" cy="685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685320" y="4324320"/>
                    <a:ext cx="706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191120" y="489276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684600" y="5384880"/>
                    <a:ext cx="762120" cy="685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771720" y="5502240"/>
                    <a:ext cx="587520" cy="45972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>
                    <a:off x="3886200" y="489276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28600" y="4343400"/>
            <a:ext cx="3124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lob correspondences are established using position, velocity, and appearance (image chips). Multiple hypotheses are maintained, and blob’s saliency and uncertainty are used to remove non-promising hypothe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Multi-Hypothesis KF Tracki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66680" y="1523880"/>
            <a:ext cx="7162920" cy="4648320"/>
            <a:chOff x="1066680" y="1523880"/>
            <a:chExt cx="7162920" cy="4648320"/>
          </a:xfrm>
        </p:grpSpPr>
        <p:sp>
          <p:nvSpPr>
            <p:cNvPr id="450" name=""/>
            <p:cNvSpPr/>
            <p:nvPr/>
          </p:nvSpPr>
          <p:spPr>
            <a:xfrm>
              <a:off x="3543480" y="2470320"/>
              <a:ext cx="2133360" cy="120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lti-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is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95880" y="2471760"/>
              <a:ext cx="21337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lti-Hypoth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6324480" y="4724280"/>
              <a:ext cx="1676520" cy="1447920"/>
              <a:chOff x="6324480" y="4724280"/>
              <a:chExt cx="1676520" cy="144792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6400800" y="4762440"/>
                <a:ext cx="1523880" cy="1366560"/>
                <a:chOff x="6400800" y="4762440"/>
                <a:chExt cx="1523880" cy="13665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400800" y="4762440"/>
                  <a:ext cx="1523880" cy="642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alienc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naly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400800" y="5486400"/>
                  <a:ext cx="1523880" cy="642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Hypothe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mov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324480" y="4724280"/>
                <a:ext cx="1676520" cy="144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505320" y="4876920"/>
              <a:ext cx="2209680" cy="1218960"/>
            </a:xfrm>
            <a:prstGeom prst="ellipse">
              <a:avLst/>
            </a:prstGeom>
            <a:solidFill>
              <a:srgbClr val="66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j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certain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19320" y="2438280"/>
              <a:ext cx="1904760" cy="1295640"/>
            </a:xfrm>
            <a:prstGeom prst="ellipse">
              <a:avLst/>
            </a:prstGeom>
            <a:solidFill>
              <a:srgbClr val="3300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lo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age.c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otion.bool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99680" y="4038480"/>
              <a:ext cx="102060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di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24080" y="3124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38680" y="3124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62920" y="3657600"/>
              <a:ext cx="0" cy="10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638320" y="548640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2000" y="44197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572000" y="36576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9680" y="20574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66680" y="152388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get De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12760" y="353880"/>
            <a:ext cx="502920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bject Classifica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249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28600" y="3776760"/>
            <a:ext cx="780840" cy="540720"/>
            <a:chOff x="228600" y="3776760"/>
            <a:chExt cx="780840" cy="540720"/>
          </a:xfrm>
        </p:grpSpPr>
        <p:pic>
          <p:nvPicPr>
            <p:cNvPr id="471" name="fedex.clip" descr=""/>
            <p:cNvPicPr/>
            <p:nvPr/>
          </p:nvPicPr>
          <p:blipFill>
            <a:blip r:embed="rId1"/>
            <a:stretch/>
          </p:blipFill>
          <p:spPr>
            <a:xfrm>
              <a:off x="304560" y="3782160"/>
              <a:ext cx="7048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28600" y="3776760"/>
              <a:ext cx="761760" cy="47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219320" y="3165480"/>
            <a:ext cx="780840" cy="533520"/>
            <a:chOff x="1219320" y="3165480"/>
            <a:chExt cx="780840" cy="533520"/>
          </a:xfrm>
        </p:grpSpPr>
        <p:pic>
          <p:nvPicPr>
            <p:cNvPr id="474" name="fedex.clipBOOL" descr=""/>
            <p:cNvPicPr/>
            <p:nvPr/>
          </p:nvPicPr>
          <p:blipFill>
            <a:blip r:embed="rId2"/>
            <a:stretch/>
          </p:blipFill>
          <p:spPr>
            <a:xfrm>
              <a:off x="1295280" y="3165480"/>
              <a:ext cx="7048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1219320" y="3165480"/>
              <a:ext cx="761760" cy="4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219320" y="4448160"/>
            <a:ext cx="780840" cy="539280"/>
            <a:chOff x="1219320" y="4448160"/>
            <a:chExt cx="780840" cy="539280"/>
          </a:xfrm>
        </p:grpSpPr>
        <p:pic>
          <p:nvPicPr>
            <p:cNvPr id="477" name="fedex.clip" descr=""/>
            <p:cNvPicPr/>
            <p:nvPr/>
          </p:nvPicPr>
          <p:blipFill>
            <a:blip r:embed="rId3"/>
            <a:stretch/>
          </p:blipFill>
          <p:spPr>
            <a:xfrm>
              <a:off x="1295280" y="4453560"/>
              <a:ext cx="704880" cy="5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219320" y="4448160"/>
              <a:ext cx="761760" cy="47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2362320" y="2919240"/>
            <a:ext cx="1904760" cy="1025640"/>
          </a:xfrm>
          <a:prstGeom prst="rect">
            <a:avLst/>
          </a:prstGeom>
          <a:solidFill>
            <a:srgbClr val="3300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p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up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rd Mo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20028000">
            <a:off x="3819960" y="5396040"/>
            <a:ext cx="24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te cream, sl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15000" y="4114800"/>
            <a:ext cx="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5059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15000" y="4317840"/>
            <a:ext cx="152280" cy="74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4722840"/>
            <a:ext cx="152640" cy="33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19920" y="4857840"/>
            <a:ext cx="152280" cy="20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72200" y="4789440"/>
            <a:ext cx="152280" cy="27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24480" y="4654440"/>
            <a:ext cx="152640" cy="40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24280" y="5059440"/>
            <a:ext cx="1143000" cy="743040"/>
          </a:xfrm>
          <a:custGeom>
            <a:avLst/>
            <a:gdLst/>
            <a:ahLst/>
            <a:rect l="l" t="t" r="r" b="b"/>
            <a:pathLst>
              <a:path w="576" h="480">
                <a:moveTo>
                  <a:pt x="576" y="0"/>
                </a:moveTo>
                <a:lnTo>
                  <a:pt x="576" y="144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5059440"/>
            <a:ext cx="1067040" cy="87768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672" y="0"/>
                </a:moveTo>
                <a:lnTo>
                  <a:pt x="672" y="288"/>
                </a:lnTo>
                <a:lnTo>
                  <a:pt x="0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20017800">
            <a:off x="4581360" y="54622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ange,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81480" y="5059440"/>
            <a:ext cx="990720" cy="1012680"/>
          </a:xfrm>
          <a:custGeom>
            <a:avLst/>
            <a:gdLst/>
            <a:ahLst/>
            <a:rect l="l" t="t" r="r" b="b"/>
            <a:pathLst>
              <a:path w="624" h="720">
                <a:moveTo>
                  <a:pt x="624" y="0"/>
                </a:moveTo>
                <a:lnTo>
                  <a:pt x="624" y="432"/>
                </a:lnTo>
                <a:lnTo>
                  <a:pt x="0" y="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9871400">
            <a:off x="5344920" y="55958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4480" y="5059440"/>
            <a:ext cx="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333760" y="5869080"/>
            <a:ext cx="99036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505944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5486400" y="6072120"/>
            <a:ext cx="99072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9951200">
            <a:off x="5040000" y="5867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lue, D-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20072400">
            <a:off x="5040360" y="60703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-blue,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2900520"/>
            <a:ext cx="1600200" cy="10112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00480" y="4176720"/>
            <a:ext cx="1828800" cy="1081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90920" y="5667480"/>
            <a:ext cx="1447560" cy="8096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m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501" idx="0"/>
          </p:cNvCxnSpPr>
          <p:nvPr/>
        </p:nvCxnSpPr>
        <p:spPr>
          <a:xfrm>
            <a:off x="3314520" y="5276880"/>
            <a:ext cx="1080" cy="372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4800600" y="2925720"/>
            <a:ext cx="1447920" cy="1011240"/>
          </a:xfrm>
          <a:prstGeom prst="rect">
            <a:avLst/>
          </a:prstGeom>
          <a:solidFill>
            <a:srgbClr val="3300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-nea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0600" y="1752480"/>
            <a:ext cx="1447920" cy="809640"/>
          </a:xfrm>
          <a:prstGeom prst="ellipse">
            <a:avLst/>
          </a:prstGeom>
          <a:solidFill>
            <a:srgbClr val="3300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m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4" idx="4"/>
            <a:endCxn id="503" idx="0"/>
          </p:cNvCxnSpPr>
          <p:nvPr/>
        </p:nvCxnSpPr>
        <p:spPr>
          <a:xfrm>
            <a:off x="5524200" y="2581200"/>
            <a:ext cx="1080" cy="326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79" idx="3"/>
            <a:endCxn id="503" idx="1"/>
          </p:cNvCxnSpPr>
          <p:nvPr/>
        </p:nvCxnSpPr>
        <p:spPr>
          <a:xfrm>
            <a:off x="4286160" y="3431880"/>
            <a:ext cx="4960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3" idx="3"/>
            <a:endCxn id="499" idx="1"/>
          </p:cNvCxnSpPr>
          <p:nvPr/>
        </p:nvCxnSpPr>
        <p:spPr>
          <a:xfrm flipV="1">
            <a:off x="6267600" y="3405960"/>
            <a:ext cx="419760" cy="26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6248520" y="3035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48520" y="37767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400800" y="3170160"/>
            <a:ext cx="76320" cy="471240"/>
            <a:chOff x="6400800" y="3170160"/>
            <a:chExt cx="76320" cy="471240"/>
          </a:xfrm>
        </p:grpSpPr>
        <p:sp>
          <p:nvSpPr>
            <p:cNvPr id="511" name=""/>
            <p:cNvSpPr/>
            <p:nvPr/>
          </p:nvSpPr>
          <p:spPr>
            <a:xfrm>
              <a:off x="6400800" y="3170160"/>
              <a:ext cx="76320" cy="67320"/>
            </a:xfrm>
            <a:prstGeom prst="ellipse">
              <a:avLst/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00800" y="3304800"/>
              <a:ext cx="76320" cy="66960"/>
            </a:xfrm>
            <a:prstGeom prst="ellipse">
              <a:avLst/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00800" y="3439440"/>
              <a:ext cx="76320" cy="67320"/>
            </a:xfrm>
            <a:prstGeom prst="ellipse">
              <a:avLst/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00800" y="3574080"/>
              <a:ext cx="76320" cy="67320"/>
            </a:xfrm>
            <a:prstGeom prst="ellipse">
              <a:avLst/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267080" y="471816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47894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543800" y="3911760"/>
            <a:ext cx="0" cy="87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"/>
          <p:cNvCxnSpPr>
            <a:stCxn id="478" idx="3"/>
            <a:endCxn id="500" idx="1"/>
          </p:cNvCxnSpPr>
          <p:nvPr/>
        </p:nvCxnSpPr>
        <p:spPr>
          <a:xfrm>
            <a:off x="1981080" y="4684320"/>
            <a:ext cx="401040" cy="34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475" idx="3"/>
            <a:endCxn id="479" idx="1"/>
          </p:cNvCxnSpPr>
          <p:nvPr/>
        </p:nvCxnSpPr>
        <p:spPr>
          <a:xfrm>
            <a:off x="1981080" y="3402000"/>
            <a:ext cx="362520" cy="30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472" idx="3"/>
            <a:endCxn id="475" idx="2"/>
          </p:cNvCxnSpPr>
          <p:nvPr/>
        </p:nvCxnSpPr>
        <p:spPr>
          <a:xfrm flipV="1">
            <a:off x="990360" y="3636360"/>
            <a:ext cx="610200" cy="376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72" idx="3"/>
            <a:endCxn id="478" idx="0"/>
          </p:cNvCxnSpPr>
          <p:nvPr/>
        </p:nvCxnSpPr>
        <p:spPr>
          <a:xfrm>
            <a:off x="990360" y="4013280"/>
            <a:ext cx="610200" cy="435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22" name=""/>
          <p:cNvGrpSpPr/>
          <p:nvPr/>
        </p:nvGrpSpPr>
        <p:grpSpPr>
          <a:xfrm>
            <a:off x="7086600" y="990720"/>
            <a:ext cx="380520" cy="1904400"/>
            <a:chOff x="7086600" y="990720"/>
            <a:chExt cx="380520" cy="1904400"/>
          </a:xfrm>
        </p:grpSpPr>
        <p:sp>
          <p:nvSpPr>
            <p:cNvPr id="523" name=""/>
            <p:cNvSpPr/>
            <p:nvPr/>
          </p:nvSpPr>
          <p:spPr>
            <a:xfrm flipV="1">
              <a:off x="7086600" y="1447560"/>
              <a:ext cx="0" cy="14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4840" y="99072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4840" y="2209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7314840" y="990720"/>
              <a:ext cx="152280" cy="990000"/>
              <a:chOff x="7314840" y="990720"/>
              <a:chExt cx="152280" cy="990000"/>
            </a:xfrm>
          </p:grpSpPr>
          <p:sp>
            <p:nvSpPr>
              <p:cNvPr id="527" name=""/>
              <p:cNvSpPr/>
              <p:nvPr/>
            </p:nvSpPr>
            <p:spPr>
              <a:xfrm>
                <a:off x="7314840" y="9907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14840" y="11556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314840" y="13204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14840" y="14857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14840" y="16506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14840" y="18154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14840" y="19807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314840" y="2209680"/>
              <a:ext cx="152280" cy="495360"/>
              <a:chOff x="7314840" y="2209680"/>
              <a:chExt cx="152280" cy="495360"/>
            </a:xfrm>
          </p:grpSpPr>
          <p:sp>
            <p:nvSpPr>
              <p:cNvPr id="535" name=""/>
              <p:cNvSpPr/>
              <p:nvPr/>
            </p:nvSpPr>
            <p:spPr>
              <a:xfrm>
                <a:off x="7314840" y="2209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14840" y="23749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14840" y="25398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14840" y="27050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7086600" y="144792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7086600" y="243828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6553440" y="3189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General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15920" y="19051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Special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9030200">
            <a:off x="965880" y="52578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or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8934800">
            <a:off x="992160" y="228564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ighted_mask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7487600">
            <a:off x="8640" y="28144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age.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20800" y="4267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084080" y="487692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class co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0480" y="687240"/>
            <a:ext cx="116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d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u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uman-group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21560" y="2103480"/>
            <a:ext cx="66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Fe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U-Ha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365120" y="2133720"/>
            <a:ext cx="6782040" cy="2361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Experimental results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45040" y="2006640"/>
            <a:ext cx="645048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cognition rat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9% of events could be describ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correct activ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1512720" y="992160"/>
            <a:ext cx="6114960" cy="4867200"/>
            <a:chOff x="1512720" y="992160"/>
            <a:chExt cx="6114960" cy="4867200"/>
          </a:xfrm>
        </p:grpSpPr>
        <p:pic>
          <p:nvPicPr>
            <p:cNvPr id="554" name="ahuman_gotoutof_avehicle" descr=""/>
            <p:cNvPicPr/>
            <p:nvPr/>
          </p:nvPicPr>
          <p:blipFill>
            <a:blip r:embed="rId1"/>
            <a:stretch/>
          </p:blipFill>
          <p:spPr>
            <a:xfrm>
              <a:off x="1512720" y="992160"/>
              <a:ext cx="6114960" cy="48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2884320" y="2516040"/>
              <a:ext cx="1752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Times New Roman"/>
                </a:rPr>
                <a:t>ahuman_gotoutof_avehi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human_Rendezvous" descr=""/>
          <p:cNvPicPr/>
          <p:nvPr/>
        </p:nvPicPr>
        <p:blipFill>
          <a:blip r:embed="rId1"/>
          <a:stretch/>
        </p:blipFill>
        <p:spPr>
          <a:xfrm>
            <a:off x="1512720" y="992160"/>
            <a:ext cx="6115320" cy="48672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276720" y="2241720"/>
            <a:ext cx="1676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Times New Roman"/>
              </a:rPr>
              <a:t>human_Rendezv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1512720" y="992160"/>
            <a:ext cx="6114960" cy="4867200"/>
            <a:chOff x="1512720" y="992160"/>
            <a:chExt cx="6114960" cy="4867200"/>
          </a:xfrm>
        </p:grpSpPr>
        <p:pic>
          <p:nvPicPr>
            <p:cNvPr id="559" name="ahuman_enterd_avehicle" descr=""/>
            <p:cNvPicPr/>
            <p:nvPr/>
          </p:nvPicPr>
          <p:blipFill>
            <a:blip r:embed="rId1"/>
            <a:stretch/>
          </p:blipFill>
          <p:spPr>
            <a:xfrm>
              <a:off x="1512720" y="992160"/>
              <a:ext cx="6114960" cy="48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969920" y="2439720"/>
              <a:ext cx="2590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ahuman_enterd_a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523880" y="4952880"/>
            <a:ext cx="6477120" cy="1905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1371600"/>
            <a:ext cx="6172200" cy="3200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Application:</a:t>
            </a:r>
            <a:br>
              <a:rPr sz="3600"/>
            </a:b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Web-page Data Summarizatio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867280" y="5276880"/>
            <a:ext cx="1676520" cy="15811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600200" y="1724040"/>
            <a:ext cx="5886360" cy="27716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826280" y="12412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3880" y="2895480"/>
            <a:ext cx="1600200" cy="27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24480" y="2590920"/>
            <a:ext cx="990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11520" y="2819520"/>
            <a:ext cx="61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3809880" y="5276880"/>
            <a:ext cx="1676520" cy="15811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1676520" y="5276880"/>
            <a:ext cx="1676160" cy="15811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676520" y="4983120"/>
            <a:ext cx="5867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web brow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705360" y="3886200"/>
            <a:ext cx="228600" cy="12193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181120" y="3886200"/>
            <a:ext cx="1752840" cy="12952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819520" y="3962520"/>
            <a:ext cx="3962160" cy="12952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6095880" y="3505320"/>
            <a:ext cx="1295640" cy="152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ActivityReport" descr=""/>
          <p:cNvPicPr/>
          <p:nvPr/>
        </p:nvPicPr>
        <p:blipFill>
          <a:blip r:embed="rId1"/>
          <a:stretch/>
        </p:blipFill>
        <p:spPr>
          <a:xfrm>
            <a:off x="271440" y="4680"/>
            <a:ext cx="8601120" cy="68486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209680" y="762120"/>
            <a:ext cx="5457960" cy="214200"/>
          </a:xfrm>
          <a:prstGeom prst="rect">
            <a:avLst/>
          </a:prstGeom>
          <a:solidFill>
            <a:srgbClr val="cbcbcb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5812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5880" y="3733920"/>
            <a:ext cx="990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95880" y="3886200"/>
            <a:ext cx="990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0880" y="2286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52000" y="6110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fa66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ideo </a:t>
            </a:r>
            <a:r>
              <a:rPr b="0" lang="en-US" sz="3600" spc="-1" strike="noStrike">
                <a:solidFill>
                  <a:srgbClr val="ecfa66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urveillance </a:t>
            </a:r>
            <a:r>
              <a:rPr b="0" lang="en-US" sz="3600" spc="-1" strike="noStrike">
                <a:solidFill>
                  <a:srgbClr val="ecfa66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nd </a:t>
            </a:r>
            <a:r>
              <a:rPr b="0" lang="en-US" sz="3600" spc="-1" strike="noStrike">
                <a:solidFill>
                  <a:srgbClr val="ecfa66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nitoring:</a:t>
            </a:r>
            <a:br>
              <a:rPr sz="3600"/>
            </a:br>
            <a:r>
              <a:rPr b="0" lang="en-US" sz="3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Cooperative Multi-Sensor</a:t>
            </a:r>
            <a:br>
              <a:rPr sz="2000"/>
            </a:b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Video Surveillanc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589120"/>
            <a:ext cx="75438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deo Understa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video to automaticall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t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ple targets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pret their activ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real time within cluttered sc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ystem Capabil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nable a single operator to monitor activities over a complex area using a distributed network of cooperative video sen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Click_AHumanGotOutOfAVehicle" descr=""/>
          <p:cNvPicPr/>
          <p:nvPr/>
        </p:nvPicPr>
        <p:blipFill>
          <a:blip r:embed="rId1"/>
          <a:stretch/>
        </p:blipFill>
        <p:spPr>
          <a:xfrm>
            <a:off x="271440" y="4680"/>
            <a:ext cx="8601120" cy="68486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2209680" y="762120"/>
            <a:ext cx="5450040" cy="228600"/>
          </a:xfrm>
          <a:prstGeom prst="rect">
            <a:avLst/>
          </a:prstGeom>
          <a:solidFill>
            <a:srgbClr val="cbcbcb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0880" y="2286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Click003623PM" descr=""/>
          <p:cNvPicPr/>
          <p:nvPr/>
        </p:nvPicPr>
        <p:blipFill>
          <a:blip r:embed="rId1"/>
          <a:stretch/>
        </p:blipFill>
        <p:spPr>
          <a:xfrm>
            <a:off x="271440" y="4680"/>
            <a:ext cx="8601120" cy="684864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80880" y="2286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09680" y="762120"/>
            <a:ext cx="5450040" cy="228600"/>
          </a:xfrm>
          <a:prstGeom prst="rect">
            <a:avLst/>
          </a:prstGeom>
          <a:solidFill>
            <a:srgbClr val="cbcbcb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ClickHuman_Sedan003613PM" descr=""/>
          <p:cNvPicPr/>
          <p:nvPr/>
        </p:nvPicPr>
        <p:blipFill>
          <a:blip r:embed="rId1"/>
          <a:stretch/>
        </p:blipFill>
        <p:spPr>
          <a:xfrm>
            <a:off x="271440" y="4680"/>
            <a:ext cx="8601120" cy="68486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380880" y="2286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09680" y="762120"/>
            <a:ext cx="5450040" cy="228600"/>
          </a:xfrm>
          <a:prstGeom prst="rect">
            <a:avLst/>
          </a:prstGeom>
          <a:solidFill>
            <a:srgbClr val="cbcbcb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argetReport" descr=""/>
          <p:cNvPicPr/>
          <p:nvPr/>
        </p:nvPicPr>
        <p:blipFill>
          <a:blip r:embed="rId1"/>
          <a:stretch/>
        </p:blipFill>
        <p:spPr>
          <a:xfrm>
            <a:off x="271440" y="4680"/>
            <a:ext cx="8601120" cy="68486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80880" y="335268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880" y="4876920"/>
            <a:ext cx="175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3276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880" y="4876920"/>
            <a:ext cx="1752840" cy="685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3352680"/>
            <a:ext cx="1676520" cy="685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0480" y="431280"/>
            <a:ext cx="6858000" cy="8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Detecting a Suspicious Person</a:t>
            </a:r>
            <a:br>
              <a:rPr sz="3600"/>
            </a:b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Around Smith Hal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george0019" descr=""/>
          <p:cNvPicPr/>
          <p:nvPr/>
        </p:nvPicPr>
        <p:blipFill>
          <a:blip r:embed="rId1"/>
          <a:srcRect l="23255" t="7695" r="0" b="21159"/>
          <a:stretch/>
        </p:blipFill>
        <p:spPr>
          <a:xfrm>
            <a:off x="533520" y="2209680"/>
            <a:ext cx="4647960" cy="347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90720" y="56386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cted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VSAM Testbed Syste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0" y="4938480"/>
            <a:ext cx="3657600" cy="15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User Interface (GU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ization nodes (V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vsamguyblack" descr=""/>
          <p:cNvPicPr/>
          <p:nvPr/>
        </p:nvPicPr>
        <p:blipFill>
          <a:blip r:embed="rId1"/>
          <a:stretch/>
        </p:blipFill>
        <p:spPr>
          <a:xfrm>
            <a:off x="7543800" y="1981080"/>
            <a:ext cx="1217520" cy="175284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1676520" y="1523880"/>
            <a:ext cx="6177960" cy="2989800"/>
            <a:chOff x="1676520" y="1523880"/>
            <a:chExt cx="6177960" cy="2989800"/>
          </a:xfrm>
        </p:grpSpPr>
        <p:sp>
          <p:nvSpPr>
            <p:cNvPr id="137" name=""/>
            <p:cNvSpPr/>
            <p:nvPr/>
          </p:nvSpPr>
          <p:spPr>
            <a:xfrm>
              <a:off x="3499200" y="4114800"/>
              <a:ext cx="23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stem Infra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OCU_control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2819160" y="1523880"/>
              <a:ext cx="3428640" cy="2571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39" name=""/>
            <p:cNvSpPr/>
            <p:nvPr/>
          </p:nvSpPr>
          <p:spPr>
            <a:xfrm>
              <a:off x="1676520" y="2743200"/>
              <a:ext cx="483840" cy="336600"/>
            </a:xfrm>
            <a:prstGeom prst="rightArrow">
              <a:avLst>
                <a:gd name="adj1" fmla="val 50000"/>
                <a:gd name="adj2" fmla="val 3593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724280" y="2819520"/>
              <a:ext cx="1065960" cy="617400"/>
              <a:chOff x="4724280" y="2819520"/>
              <a:chExt cx="1065960" cy="617400"/>
            </a:xfrm>
          </p:grpSpPr>
          <p:sp>
            <p:nvSpPr>
              <p:cNvPr id="141" name=""/>
              <p:cNvSpPr/>
              <p:nvPr/>
            </p:nvSpPr>
            <p:spPr>
              <a:xfrm>
                <a:off x="4724280" y="2819520"/>
                <a:ext cx="996480" cy="6174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00240" y="2895840"/>
                <a:ext cx="99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cc"/>
                    </a:solidFill>
                    <a:latin typeface="Times New Roman"/>
                  </a:rPr>
                  <a:t>OC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53080" y="2819520"/>
              <a:ext cx="996480" cy="617400"/>
              <a:chOff x="6553080" y="2819520"/>
              <a:chExt cx="996480" cy="617400"/>
            </a:xfrm>
          </p:grpSpPr>
          <p:sp>
            <p:nvSpPr>
              <p:cNvPr id="144" name=""/>
              <p:cNvSpPr/>
              <p:nvPr/>
            </p:nvSpPr>
            <p:spPr>
              <a:xfrm>
                <a:off x="6553080" y="2819520"/>
                <a:ext cx="996480" cy="617400"/>
              </a:xfrm>
              <a:prstGeom prst="ellipse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29040" y="290340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cc"/>
                    </a:solidFill>
                    <a:latin typeface="Times New Roman"/>
                  </a:rPr>
                  <a:t>GU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553080" y="3581280"/>
              <a:ext cx="996480" cy="617400"/>
              <a:chOff x="6553080" y="3581280"/>
              <a:chExt cx="996480" cy="617400"/>
            </a:xfrm>
          </p:grpSpPr>
          <p:sp>
            <p:nvSpPr>
              <p:cNvPr id="147" name=""/>
              <p:cNvSpPr/>
              <p:nvPr/>
            </p:nvSpPr>
            <p:spPr>
              <a:xfrm>
                <a:off x="6553080" y="3581280"/>
                <a:ext cx="996480" cy="6174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07520" y="366228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cc"/>
                    </a:solidFill>
                    <a:latin typeface="Times New Roman"/>
                  </a:rPr>
                  <a:t>V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3886200" y="2971800"/>
              <a:ext cx="559800" cy="336600"/>
            </a:xfrm>
            <a:prstGeom prst="rightArrow">
              <a:avLst>
                <a:gd name="adj1" fmla="val 50000"/>
                <a:gd name="adj2" fmla="val 4157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209680" y="1828800"/>
              <a:ext cx="1294560" cy="2141280"/>
              <a:chOff x="2209680" y="1828800"/>
              <a:chExt cx="1294560" cy="21412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2209680" y="3352680"/>
                <a:ext cx="1294560" cy="617400"/>
                <a:chOff x="2209680" y="3352680"/>
                <a:chExt cx="1294560" cy="617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209680" y="3352680"/>
                  <a:ext cx="990000" cy="617400"/>
                </a:xfrm>
                <a:prstGeom prst="ellipse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5640" y="3428640"/>
                  <a:ext cx="121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66cc"/>
                      </a:solidFill>
                      <a:latin typeface="Times New Roman"/>
                    </a:rPr>
                    <a:t>SP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209680" y="2590560"/>
                <a:ext cx="1294560" cy="617400"/>
                <a:chOff x="2209680" y="2590560"/>
                <a:chExt cx="1294560" cy="6174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209680" y="2590560"/>
                  <a:ext cx="990000" cy="617400"/>
                </a:xfrm>
                <a:prstGeom prst="ellipse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285640" y="2666520"/>
                  <a:ext cx="121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66cc"/>
                      </a:solidFill>
                      <a:latin typeface="Times New Roman"/>
                    </a:rPr>
                    <a:t>SP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209680" y="1828800"/>
                <a:ext cx="1294560" cy="617400"/>
                <a:chOff x="2209680" y="1828800"/>
                <a:chExt cx="1294560" cy="617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209680" y="1828800"/>
                  <a:ext cx="990000" cy="617400"/>
                </a:xfrm>
                <a:prstGeom prst="ellipse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85640" y="1904760"/>
                  <a:ext cx="121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66cc"/>
                      </a:solidFill>
                      <a:latin typeface="Times New Roman"/>
                    </a:rPr>
                    <a:t>SP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" name=""/>
            <p:cNvGrpSpPr/>
            <p:nvPr/>
          </p:nvGrpSpPr>
          <p:grpSpPr>
            <a:xfrm>
              <a:off x="6705360" y="3733920"/>
              <a:ext cx="996840" cy="617400"/>
              <a:chOff x="6705360" y="3733920"/>
              <a:chExt cx="996840" cy="617400"/>
            </a:xfrm>
          </p:grpSpPr>
          <p:sp>
            <p:nvSpPr>
              <p:cNvPr id="161" name=""/>
              <p:cNvSpPr/>
              <p:nvPr/>
            </p:nvSpPr>
            <p:spPr>
              <a:xfrm>
                <a:off x="6705360" y="3733920"/>
                <a:ext cx="996840" cy="6174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60160" y="381492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cc"/>
                    </a:solidFill>
                    <a:latin typeface="Times New Roman"/>
                  </a:rPr>
                  <a:t>V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858000" y="3886200"/>
              <a:ext cx="996480" cy="617400"/>
              <a:chOff x="6858000" y="3886200"/>
              <a:chExt cx="996480" cy="61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0" y="3886200"/>
                <a:ext cx="996480" cy="6174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12440" y="396720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cc"/>
                    </a:solidFill>
                    <a:latin typeface="Times New Roman"/>
                  </a:rPr>
                  <a:t>V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943600" y="2895480"/>
              <a:ext cx="532800" cy="990720"/>
              <a:chOff x="5943600" y="2895480"/>
              <a:chExt cx="532800" cy="990720"/>
            </a:xfrm>
          </p:grpSpPr>
          <p:sp>
            <p:nvSpPr>
              <p:cNvPr id="167" name=""/>
              <p:cNvSpPr/>
              <p:nvPr/>
            </p:nvSpPr>
            <p:spPr>
              <a:xfrm>
                <a:off x="5943600" y="2895480"/>
                <a:ext cx="483840" cy="336600"/>
              </a:xfrm>
              <a:prstGeom prst="rightArrow">
                <a:avLst>
                  <a:gd name="adj1" fmla="val 50000"/>
                  <a:gd name="adj2" fmla="val 35936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5943600" y="2971800"/>
                <a:ext cx="532800" cy="914400"/>
                <a:chOff x="5943600" y="2971800"/>
                <a:chExt cx="532800" cy="9144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943600" y="2971800"/>
                  <a:ext cx="0" cy="9144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943600" y="3886200"/>
                  <a:ext cx="5328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1" name=""/>
          <p:cNvGrpSpPr/>
          <p:nvPr/>
        </p:nvGrpSpPr>
        <p:grpSpPr>
          <a:xfrm>
            <a:off x="228600" y="3048120"/>
            <a:ext cx="1752480" cy="1154160"/>
            <a:chOff x="228600" y="3048120"/>
            <a:chExt cx="1752480" cy="1154160"/>
          </a:xfrm>
        </p:grpSpPr>
        <p:grpSp>
          <p:nvGrpSpPr>
            <p:cNvPr id="172" name=""/>
            <p:cNvGrpSpPr/>
            <p:nvPr/>
          </p:nvGrpSpPr>
          <p:grpSpPr>
            <a:xfrm>
              <a:off x="609480" y="3353040"/>
              <a:ext cx="753840" cy="696960"/>
              <a:chOff x="609480" y="3353040"/>
              <a:chExt cx="753840" cy="696960"/>
            </a:xfrm>
          </p:grpSpPr>
          <p:sp>
            <p:nvSpPr>
              <p:cNvPr id="173" name=""/>
              <p:cNvSpPr/>
              <p:nvPr/>
            </p:nvSpPr>
            <p:spPr>
              <a:xfrm flipV="1" rot="5400000">
                <a:off x="580680" y="3409920"/>
                <a:ext cx="222480" cy="165240"/>
              </a:xfrm>
              <a:custGeom>
                <a:avLst/>
                <a:gdLst>
                  <a:gd name="textAreaLeft" fmla="*/ 48960 w 222480"/>
                  <a:gd name="textAreaRight" fmla="*/ 173520 w 222480"/>
                  <a:gd name="textAreaTop" fmla="*/ 36360 h 165240"/>
                  <a:gd name="textAreaBottom" fmla="*/ 128880 h 16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755640" y="3353040"/>
                <a:ext cx="511200" cy="279360"/>
              </a:xfrm>
              <a:prstGeom prst="rect">
                <a:avLst/>
              </a:pr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39680" y="3656160"/>
                <a:ext cx="0" cy="309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686880" y="3886560"/>
                <a:ext cx="676440" cy="163440"/>
                <a:chOff x="686880" y="3886560"/>
                <a:chExt cx="676440" cy="16344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686520" y="3886560"/>
                  <a:ext cx="676440" cy="153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861120" y="4050000"/>
                  <a:ext cx="27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 flipH="1">
              <a:off x="228600" y="3048120"/>
              <a:ext cx="175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Times New Roman"/>
                </a:rPr>
                <a:t>PTZ camer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61760" y="3505320"/>
              <a:ext cx="753840" cy="696960"/>
              <a:chOff x="761760" y="3505320"/>
              <a:chExt cx="753840" cy="696960"/>
            </a:xfrm>
          </p:grpSpPr>
          <p:sp>
            <p:nvSpPr>
              <p:cNvPr id="181" name=""/>
              <p:cNvSpPr/>
              <p:nvPr/>
            </p:nvSpPr>
            <p:spPr>
              <a:xfrm flipV="1" rot="5400000">
                <a:off x="732960" y="3562200"/>
                <a:ext cx="222480" cy="165240"/>
              </a:xfrm>
              <a:custGeom>
                <a:avLst/>
                <a:gdLst>
                  <a:gd name="textAreaLeft" fmla="*/ 48960 w 222480"/>
                  <a:gd name="textAreaRight" fmla="*/ 173520 w 222480"/>
                  <a:gd name="textAreaTop" fmla="*/ 36360 h 165240"/>
                  <a:gd name="textAreaBottom" fmla="*/ 128880 h 16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907920" y="3505320"/>
                <a:ext cx="511200" cy="279360"/>
              </a:xfrm>
              <a:prstGeom prst="rect">
                <a:avLst/>
              </a:pr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91960" y="3808440"/>
                <a:ext cx="0" cy="309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839160" y="4038840"/>
                <a:ext cx="676440" cy="163440"/>
                <a:chOff x="839160" y="4038840"/>
                <a:chExt cx="676440" cy="163440"/>
              </a:xfrm>
            </p:grpSpPr>
            <p:sp>
              <p:nvSpPr>
                <p:cNvPr id="185" name=""/>
                <p:cNvSpPr/>
                <p:nvPr/>
              </p:nvSpPr>
              <p:spPr>
                <a:xfrm flipH="1">
                  <a:off x="838800" y="4038840"/>
                  <a:ext cx="676440" cy="153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1013400" y="4202280"/>
                  <a:ext cx="27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7" name=""/>
          <p:cNvGrpSpPr/>
          <p:nvPr/>
        </p:nvGrpSpPr>
        <p:grpSpPr>
          <a:xfrm>
            <a:off x="228600" y="1676520"/>
            <a:ext cx="1752480" cy="1117440"/>
            <a:chOff x="228600" y="1676520"/>
            <a:chExt cx="1752480" cy="1117440"/>
          </a:xfrm>
        </p:grpSpPr>
        <p:sp>
          <p:nvSpPr>
            <p:cNvPr id="188" name=""/>
            <p:cNvSpPr/>
            <p:nvPr/>
          </p:nvSpPr>
          <p:spPr>
            <a:xfrm flipH="1">
              <a:off x="228600" y="1676520"/>
              <a:ext cx="175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Times New Roman"/>
                </a:rPr>
                <a:t>Fixed camer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57200" y="2057400"/>
              <a:ext cx="657360" cy="279360"/>
              <a:chOff x="457200" y="2057400"/>
              <a:chExt cx="657360" cy="279360"/>
            </a:xfrm>
          </p:grpSpPr>
          <p:sp>
            <p:nvSpPr>
              <p:cNvPr id="190" name=""/>
              <p:cNvSpPr/>
              <p:nvPr/>
            </p:nvSpPr>
            <p:spPr>
              <a:xfrm flipV="1" rot="5400000">
                <a:off x="428760" y="2113560"/>
                <a:ext cx="222120" cy="165240"/>
              </a:xfrm>
              <a:custGeom>
                <a:avLst/>
                <a:gdLst>
                  <a:gd name="textAreaLeft" fmla="*/ 48600 w 222120"/>
                  <a:gd name="textAreaRight" fmla="*/ 173520 w 222120"/>
                  <a:gd name="textAreaTop" fmla="*/ 36360 h 165240"/>
                  <a:gd name="textAreaBottom" fmla="*/ 128880 h 16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03360" y="2057400"/>
                <a:ext cx="511200" cy="279360"/>
              </a:xfrm>
              <a:prstGeom prst="rect">
                <a:avLst/>
              </a:pr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33520" y="2210040"/>
              <a:ext cx="656280" cy="279360"/>
              <a:chOff x="533520" y="2210040"/>
              <a:chExt cx="656280" cy="279360"/>
            </a:xfrm>
          </p:grpSpPr>
          <p:sp>
            <p:nvSpPr>
              <p:cNvPr id="193" name=""/>
              <p:cNvSpPr/>
              <p:nvPr/>
            </p:nvSpPr>
            <p:spPr>
              <a:xfrm flipV="1" rot="5400000">
                <a:off x="504720" y="2266200"/>
                <a:ext cx="222120" cy="164880"/>
              </a:xfrm>
              <a:custGeom>
                <a:avLst/>
                <a:gdLst>
                  <a:gd name="textAreaLeft" fmla="*/ 48600 w 222120"/>
                  <a:gd name="textAreaRight" fmla="*/ 173520 w 222120"/>
                  <a:gd name="textAreaTop" fmla="*/ 36000 h 164880"/>
                  <a:gd name="textAreaBottom" fmla="*/ 12888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678600" y="2210040"/>
                <a:ext cx="510840" cy="279360"/>
              </a:xfrm>
              <a:prstGeom prst="rect">
                <a:avLst/>
              </a:pr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38280" y="2362320"/>
              <a:ext cx="656280" cy="279360"/>
              <a:chOff x="638280" y="2362320"/>
              <a:chExt cx="656280" cy="279360"/>
            </a:xfrm>
          </p:grpSpPr>
          <p:sp>
            <p:nvSpPr>
              <p:cNvPr id="196" name=""/>
              <p:cNvSpPr/>
              <p:nvPr/>
            </p:nvSpPr>
            <p:spPr>
              <a:xfrm flipV="1" rot="5400000">
                <a:off x="609480" y="2418480"/>
                <a:ext cx="222120" cy="164880"/>
              </a:xfrm>
              <a:custGeom>
                <a:avLst/>
                <a:gdLst>
                  <a:gd name="textAreaLeft" fmla="*/ 48600 w 222120"/>
                  <a:gd name="textAreaRight" fmla="*/ 173520 w 222120"/>
                  <a:gd name="textAreaTop" fmla="*/ 36000 h 164880"/>
                  <a:gd name="textAreaBottom" fmla="*/ 12888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83360" y="2362320"/>
                <a:ext cx="510840" cy="279360"/>
              </a:xfrm>
              <a:prstGeom prst="rect">
                <a:avLst/>
              </a:pr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62120" y="2514600"/>
              <a:ext cx="656280" cy="279360"/>
              <a:chOff x="762120" y="2514600"/>
              <a:chExt cx="656280" cy="279360"/>
            </a:xfrm>
          </p:grpSpPr>
          <p:sp>
            <p:nvSpPr>
              <p:cNvPr id="199" name=""/>
              <p:cNvSpPr/>
              <p:nvPr/>
            </p:nvSpPr>
            <p:spPr>
              <a:xfrm flipV="1" rot="5400000">
                <a:off x="733320" y="2570760"/>
                <a:ext cx="222120" cy="164880"/>
              </a:xfrm>
              <a:custGeom>
                <a:avLst/>
                <a:gdLst>
                  <a:gd name="textAreaLeft" fmla="*/ 48600 w 222120"/>
                  <a:gd name="textAreaRight" fmla="*/ 173520 w 222120"/>
                  <a:gd name="textAreaTop" fmla="*/ 36000 h 164880"/>
                  <a:gd name="textAreaBottom" fmla="*/ 12888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907200" y="2514600"/>
                <a:ext cx="510840" cy="279360"/>
              </a:xfrm>
              <a:prstGeom prst="rect">
                <a:avLst/>
              </a:prstGeom>
              <a:solidFill>
                <a:srgbClr val="33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457200" y="4038480"/>
            <a:ext cx="657360" cy="279360"/>
            <a:chOff x="457200" y="4038480"/>
            <a:chExt cx="657360" cy="279360"/>
          </a:xfrm>
        </p:grpSpPr>
        <p:sp>
          <p:nvSpPr>
            <p:cNvPr id="202" name=""/>
            <p:cNvSpPr/>
            <p:nvPr/>
          </p:nvSpPr>
          <p:spPr>
            <a:xfrm flipV="1" rot="5400000">
              <a:off x="428760" y="4094640"/>
              <a:ext cx="222120" cy="165240"/>
            </a:xfrm>
            <a:custGeom>
              <a:avLst/>
              <a:gdLst>
                <a:gd name="textAreaLeft" fmla="*/ 48600 w 222120"/>
                <a:gd name="textAreaRight" fmla="*/ 173520 w 222120"/>
                <a:gd name="textAreaTop" fmla="*/ 36360 h 165240"/>
                <a:gd name="textAreaBottom" fmla="*/ 1288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33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03360" y="4038480"/>
              <a:ext cx="511200" cy="279360"/>
            </a:xfrm>
            <a:prstGeom prst="rect">
              <a:avLst/>
            </a:prstGeom>
            <a:solidFill>
              <a:srgbClr val="33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09480" y="4952880"/>
            <a:ext cx="3962520" cy="15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or Processing Units (SP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 Sensor Processing Unit (Super S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 Console Unit (OC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Activity Monitor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153640" cy="304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 detection and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ity primit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on/off-car, entering door, leaving ar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33400" y="4316400"/>
            <a:ext cx="7620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Bookman Old Style"/>
              </a:rPr>
              <a:t>Frame   Detection      </a:t>
            </a:r>
            <a:r>
              <a:rPr b="1" lang="ja-JP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Bookman Old Style"/>
              </a:rPr>
              <a:t>Location             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ctivity Monitoring Exampl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543800" cy="2828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20053800">
            <a:off x="7786080" y="91404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o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724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000:    Car (#C1) appear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mage b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683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</a:rPr>
              <a:t>334:    Human (#H1) disappear      image b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029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30:    Car (#C1) stop  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n im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095880" y="5210280"/>
            <a:ext cx="2490840" cy="580680"/>
            <a:chOff x="6095880" y="5210280"/>
            <a:chExt cx="2490840" cy="580680"/>
          </a:xfrm>
        </p:grpSpPr>
        <p:sp>
          <p:nvSpPr>
            <p:cNvPr id="215" name=""/>
            <p:cNvSpPr/>
            <p:nvPr/>
          </p:nvSpPr>
          <p:spPr>
            <a:xfrm>
              <a:off x="6934320" y="5210280"/>
              <a:ext cx="165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Human got out of c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5880" y="55148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914400" y="537696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30:    Human (#H1) appear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near Car (#C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69880" y="2133720"/>
            <a:ext cx="8001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Activity monitoring :</a:t>
            </a:r>
            <a:br>
              <a:rPr sz="3600"/>
            </a:b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Problem Statement 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7160" y="2362320"/>
            <a:ext cx="7786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detect and to classify mo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u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 no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4320" y="4038480"/>
            <a:ext cx="73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nitor activ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ob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have interactions between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9000" y="1195560"/>
            <a:ext cx="8762760" cy="5586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78400" y="52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7840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73120" y="5083200"/>
            <a:ext cx="5605920" cy="1363680"/>
            <a:chOff x="3273120" y="5083200"/>
            <a:chExt cx="5605920" cy="1363680"/>
          </a:xfrm>
        </p:grpSpPr>
        <p:sp>
          <p:nvSpPr>
            <p:cNvPr id="226" name=""/>
            <p:cNvSpPr/>
            <p:nvPr/>
          </p:nvSpPr>
          <p:spPr>
            <a:xfrm>
              <a:off x="3273120" y="5119560"/>
              <a:ext cx="24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,…,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76320" y="5083200"/>
              <a:ext cx="17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,…,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73520" y="5867280"/>
              <a:ext cx="24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,…,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08920" y="5133960"/>
              <a:ext cx="152280" cy="5335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0"/>
                  </a:moveTo>
                  <a:lnTo>
                    <a:pt x="192" y="48"/>
                  </a:lnTo>
                  <a:lnTo>
                    <a:pt x="240" y="24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98080" y="1092240"/>
            <a:ext cx="4944240" cy="1341720"/>
            <a:chOff x="2098080" y="1092240"/>
            <a:chExt cx="4944240" cy="1341720"/>
          </a:xfrm>
        </p:grpSpPr>
        <p:sp>
          <p:nvSpPr>
            <p:cNvPr id="231" name=""/>
            <p:cNvSpPr/>
            <p:nvPr/>
          </p:nvSpPr>
          <p:spPr>
            <a:xfrm>
              <a:off x="2098080" y="1092240"/>
              <a:ext cx="1363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9000" y="1473120"/>
              <a:ext cx="1363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11880" y="1854360"/>
              <a:ext cx="708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8160" y="2209680"/>
              <a:ext cx="1981080" cy="152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502080" y="2719440"/>
            <a:ext cx="4841280" cy="1631880"/>
            <a:chOff x="3502080" y="2719440"/>
            <a:chExt cx="4841280" cy="1631880"/>
          </a:xfrm>
        </p:grpSpPr>
        <p:sp>
          <p:nvSpPr>
            <p:cNvPr id="236" name=""/>
            <p:cNvSpPr/>
            <p:nvPr/>
          </p:nvSpPr>
          <p:spPr>
            <a:xfrm>
              <a:off x="3502080" y="2719440"/>
              <a:ext cx="202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1600" y="3100320"/>
              <a:ext cx="202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3771720"/>
              <a:ext cx="14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(i,j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032360" y="3848040"/>
              <a:ext cx="1752480" cy="7632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93560" y="3809880"/>
            <a:ext cx="8153280" cy="1524240"/>
            <a:chOff x="493560" y="3809880"/>
            <a:chExt cx="8153280" cy="1524240"/>
          </a:xfrm>
        </p:grpSpPr>
        <p:sp>
          <p:nvSpPr>
            <p:cNvPr id="241" name=""/>
            <p:cNvSpPr/>
            <p:nvPr/>
          </p:nvSpPr>
          <p:spPr>
            <a:xfrm>
              <a:off x="1027080" y="3809880"/>
              <a:ext cx="0" cy="1524240"/>
            </a:xfrm>
            <a:prstGeom prst="line">
              <a:avLst/>
            </a:prstGeom>
            <a:ln w="190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3560" y="4876920"/>
              <a:ext cx="8153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4360" y="57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cbcbcb"/>
                </a:solidFill>
                <a:latin typeface="Times New Roman"/>
              </a:rPr>
              <a:t>…</a:t>
            </a:r>
            <a:r>
              <a:rPr b="0" lang="ja-JP" sz="3600" spc="-1" strike="noStrike">
                <a:solidFill>
                  <a:srgbClr val="cbcbcb"/>
                </a:solidFill>
                <a:latin typeface="Times New Roman"/>
              </a:rPr>
              <a:t>..If a 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blob i</a:t>
            </a:r>
            <a:r>
              <a:rPr b="0" lang="ja-JP" sz="3600" spc="-1" strike="noStrike">
                <a:solidFill>
                  <a:srgbClr val="cbcbcb"/>
                </a:solidFill>
                <a:latin typeface="Times New Roman"/>
              </a:rPr>
              <a:t> and a 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blob j</a:t>
            </a:r>
            <a:r>
              <a:rPr b="0" lang="ja-JP" sz="3600" spc="-1" strike="noStrike">
                <a:solidFill>
                  <a:srgbClr val="cbcbcb"/>
                </a:solidFill>
                <a:latin typeface="Times New Roman"/>
              </a:rPr>
              <a:t> are detected and  tracke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93560" y="1600200"/>
            <a:ext cx="8153280" cy="1523880"/>
            <a:chOff x="493560" y="1600200"/>
            <a:chExt cx="8153280" cy="1523880"/>
          </a:xfrm>
        </p:grpSpPr>
        <p:grpSp>
          <p:nvGrpSpPr>
            <p:cNvPr id="245" name=""/>
            <p:cNvGrpSpPr/>
            <p:nvPr/>
          </p:nvGrpSpPr>
          <p:grpSpPr>
            <a:xfrm>
              <a:off x="493560" y="1600200"/>
              <a:ext cx="8153280" cy="1143000"/>
              <a:chOff x="493560" y="1600200"/>
              <a:chExt cx="8153280" cy="1143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495720" y="1600200"/>
                <a:ext cx="6001920" cy="885960"/>
                <a:chOff x="495720" y="1600200"/>
                <a:chExt cx="6001920" cy="885960"/>
              </a:xfrm>
            </p:grpSpPr>
            <p:pic>
              <p:nvPicPr>
                <p:cNvPr id="24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85920" y="1600200"/>
                  <a:ext cx="37152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52800" y="2057400"/>
                  <a:ext cx="1644840" cy="42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>
                  <a:off x="495720" y="1743120"/>
                  <a:ext cx="77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T=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493560" y="2743200"/>
                <a:ext cx="8153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7732440" y="22096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Blob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3160" y="3019320"/>
            <a:ext cx="8435160" cy="1629000"/>
            <a:chOff x="353160" y="3019320"/>
            <a:chExt cx="8435160" cy="1629000"/>
          </a:xfrm>
        </p:grpSpPr>
        <p:grpSp>
          <p:nvGrpSpPr>
            <p:cNvPr id="253" name=""/>
            <p:cNvGrpSpPr/>
            <p:nvPr/>
          </p:nvGrpSpPr>
          <p:grpSpPr>
            <a:xfrm>
              <a:off x="353160" y="3019320"/>
              <a:ext cx="8206560" cy="1247760"/>
              <a:chOff x="353160" y="3019320"/>
              <a:chExt cx="8206560" cy="12477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353160" y="3019320"/>
                <a:ext cx="6365160" cy="903240"/>
                <a:chOff x="353160" y="3019320"/>
                <a:chExt cx="6365160" cy="903240"/>
              </a:xfrm>
            </p:grpSpPr>
            <p:pic>
              <p:nvPicPr>
                <p:cNvPr id="25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73840" y="3429000"/>
                  <a:ext cx="1644480" cy="428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32280" y="3124080"/>
                  <a:ext cx="37152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7" name=""/>
                <p:cNvSpPr/>
                <p:nvPr/>
              </p:nvSpPr>
              <p:spPr>
                <a:xfrm>
                  <a:off x="1951200" y="3429000"/>
                  <a:ext cx="1981080" cy="228600"/>
                </a:xfrm>
                <a:custGeom>
                  <a:avLst/>
                  <a:gdLst/>
                  <a:ahLst/>
                  <a:rect l="l" t="t" r="r" b="b"/>
                  <a:pathLst>
                    <a:path w="1248" h="144">
                      <a:moveTo>
                        <a:pt x="0" y="0"/>
                      </a:moveTo>
                      <a:lnTo>
                        <a:pt x="144" y="48"/>
                      </a:lnTo>
                      <a:lnTo>
                        <a:pt x="480" y="48"/>
                      </a:lnTo>
                      <a:lnTo>
                        <a:pt x="576" y="144"/>
                      </a:lnTo>
                      <a:lnTo>
                        <a:pt x="720" y="96"/>
                      </a:lnTo>
                      <a:lnTo>
                        <a:pt x="960" y="144"/>
                      </a:lnTo>
                      <a:lnTo>
                        <a:pt x="1104" y="144"/>
                      </a:lnTo>
                      <a:lnTo>
                        <a:pt x="1248" y="144"/>
                      </a:lnTo>
                    </a:path>
                  </a:pathLst>
                </a:custGeom>
                <a:noFill/>
                <a:ln cap="rnd" w="9360">
                  <a:solidFill>
                    <a:srgbClr val="3366ff"/>
                  </a:solidFill>
                  <a:custDash>
                    <a:ds d="100000" sp="1000"/>
                  </a:custDash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53160" y="3019320"/>
                  <a:ext cx="77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T=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406440" y="4267080"/>
                <a:ext cx="8153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730920" y="3733920"/>
              <a:ext cx="2057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Human and Vehicl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1680" y="5105520"/>
            <a:ext cx="7999200" cy="1828800"/>
            <a:chOff x="571680" y="5105520"/>
            <a:chExt cx="7999200" cy="1828800"/>
          </a:xfrm>
        </p:grpSpPr>
        <p:grpSp>
          <p:nvGrpSpPr>
            <p:cNvPr id="262" name=""/>
            <p:cNvGrpSpPr/>
            <p:nvPr/>
          </p:nvGrpSpPr>
          <p:grpSpPr>
            <a:xfrm>
              <a:off x="571680" y="5105520"/>
              <a:ext cx="6443280" cy="914400"/>
              <a:chOff x="571680" y="5105520"/>
              <a:chExt cx="6443280" cy="914400"/>
            </a:xfrm>
          </p:grpSpPr>
          <p:graphicFrame>
            <p:nvGraphicFramePr>
              <p:cNvPr id="263" name=""/>
              <p:cNvGraphicFramePr/>
              <p:nvPr/>
            </p:nvGraphicFramePr>
            <p:xfrm>
              <a:off x="5827680" y="5105520"/>
              <a:ext cx="342720" cy="714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27680" y="5105520"/>
                        <a:ext cx="342720" cy="7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5" name=""/>
              <p:cNvSpPr/>
              <p:nvPr/>
            </p:nvSpPr>
            <p:spPr>
              <a:xfrm>
                <a:off x="571680" y="5410080"/>
                <a:ext cx="99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=t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0480" y="5591160"/>
                <a:ext cx="164448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7" name=""/>
            <p:cNvSpPr/>
            <p:nvPr/>
          </p:nvSpPr>
          <p:spPr>
            <a:xfrm>
              <a:off x="6513480" y="6019920"/>
              <a:ext cx="2057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A Human entered a Vehicl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12:17:02Z</dcterms:created>
  <dc:creator>Nobuyoshi Enomoto</dc:creator>
  <dc:description>v1.2</dc:description>
  <cp:keywords>Activity monitoring</cp:keywords>
  <dc:language>en-US</dc:language>
  <cp:lastModifiedBy>榎本</cp:lastModifiedBy>
  <cp:lastPrinted>2000-11-25T10:09:11Z</cp:lastPrinted>
  <dcterms:modified xsi:type="dcterms:W3CDTF">2000-11-27T13:21:19Z</dcterms:modified>
  <cp:revision>96</cp:revision>
  <dc:subject>A method for monitoring activities of multiple objects by using stochastic model </dc:subject>
  <dc:title>MVA2000 presentation stuff</dc:title>
</cp:coreProperties>
</file>