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.wmf" ContentType="image/x-wmf"/>
  <Override PartName="/ppt/media/image26.png" ContentType="image/png"/>
  <Override PartName="/ppt/media/image3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31.jpeg" ContentType="image/jpeg"/>
  <Override PartName="/ppt/media/image42.png" ContentType="image/png"/>
  <Override PartName="/ppt/media/image30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wmf" ContentType="image/x-wmf"/>
  <Override PartName="/ppt/media/image12.png" ContentType="image/png"/>
  <Override PartName="/ppt/media/image37.png" ContentType="image/pn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8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8129588" cy="6094413"/>
  <p:notesSz cx="6875463" cy="9161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76000" cy="91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1"/>
          </p:nvPr>
        </p:nvSpPr>
        <p:spPr>
          <a:xfrm>
            <a:off x="3897000" y="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-36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3897000" y="8704440"/>
            <a:ext cx="2979720" cy="4586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DAA838F-A4F7-4E7F-B00A-3A8B545402F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3640" y="2546280"/>
            <a:ext cx="67608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74120" y="258840"/>
            <a:ext cx="1379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Module IV; lecture 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01/12/94; v 2.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82120" y="8632800"/>
            <a:ext cx="210816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oftware Construction with A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936800" y="600120"/>
            <a:ext cx="2789280" cy="20923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566640" y="2795760"/>
            <a:ext cx="5754960" cy="58147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txBody>
          <a:bodyPr lIns="90720" rIns="90720" tIns="44640" bIns="44640" anchor="t">
            <a:noAutofit/>
          </a:bodyPr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assu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the variable being apportioned, in our case the number of persons 25 or older who have less than a high school education at the tract level, is spatially distributed within the census tract proportionally to general population aged 22 or older at the block lev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33280" indent="-118800">
              <a:lnSpc>
                <a:spcPct val="90000"/>
              </a:lnSpc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block centroids instead of block polygons because the block are relatively small and thus can be safely represented by points to make the spatial data processing easie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56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4400" y="121932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5872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56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4400" y="3567600"/>
            <a:ext cx="2354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58360" y="228600"/>
            <a:ext cx="731196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06680" y="356760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6680" y="1219320"/>
            <a:ext cx="356904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58720" y="3567600"/>
            <a:ext cx="7313760" cy="21441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864400"/>
            <a:ext cx="8116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6080" bIns="46080" anchor="ctr">
            <a:noAutofit/>
          </a:bodyPr>
          <a:p>
            <a:pPr algn="r">
              <a:lnSpc>
                <a:spcPct val="97000"/>
              </a:lnSpc>
              <a:tabLst>
                <a:tab algn="l" pos="0"/>
                <a:tab algn="ctr" pos="4138560"/>
                <a:tab algn="r" pos="8001000"/>
                <a:tab algn="l" pos="8558280"/>
                <a:tab algn="l" pos="9509040"/>
                <a:tab algn="l" pos="1046016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ffffff"/>
                </a:solidFill>
                <a:latin typeface="Arial"/>
              </a:rPr>
              <a:t>GIS </a:t>
            </a:r>
            <a:fld id="{D48B4149-2DBE-4ECB-8B31-12CA4BCFF3B5}" type="slidenum">
              <a:rPr b="1" i="1" lang="en-US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–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8109000" cy="608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593640" y="477720"/>
            <a:ext cx="686448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87360" y="324000"/>
            <a:ext cx="7289640" cy="54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484520" y="3416400"/>
            <a:ext cx="320544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80880" y="5638680"/>
            <a:ext cx="731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800" spc="-1" strike="noStrike">
                <a:solidFill>
                  <a:srgbClr val="020323"/>
                </a:solidFill>
                <a:latin typeface="Times New Roman"/>
              </a:rPr>
              <a:t>Copyright – Kristen S. Kurland, Carnegie Mellon University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8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10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1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2760" y="457200"/>
            <a:ext cx="7086600" cy="16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GIS Lecture 9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87720" y="1752480"/>
            <a:ext cx="3581640" cy="2492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grpSp>
        <p:nvGrpSpPr>
          <p:cNvPr id="61" name=""/>
          <p:cNvGrpSpPr/>
          <p:nvPr/>
        </p:nvGrpSpPr>
        <p:grpSpPr>
          <a:xfrm>
            <a:off x="1625760" y="2209680"/>
            <a:ext cx="2437920" cy="2361960"/>
            <a:chOff x="1625760" y="2209680"/>
            <a:chExt cx="2437920" cy="2361960"/>
          </a:xfrm>
        </p:grpSpPr>
        <p:sp>
          <p:nvSpPr>
            <p:cNvPr id="62" name=""/>
            <p:cNvSpPr/>
            <p:nvPr/>
          </p:nvSpPr>
          <p:spPr>
            <a:xfrm>
              <a:off x="1625760" y="2209680"/>
              <a:ext cx="2437920" cy="2361960"/>
            </a:xfrm>
            <a:prstGeom prst="rect">
              <a:avLst/>
            </a:prstGeom>
            <a:solidFill>
              <a:srgbClr val="676767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1988280" y="2709720"/>
              <a:ext cx="1571040" cy="1060200"/>
              <a:chOff x="1988280" y="2709720"/>
              <a:chExt cx="1571040" cy="1060200"/>
            </a:xfrm>
          </p:grpSpPr>
          <p:sp>
            <p:nvSpPr>
              <p:cNvPr id="64" name=""/>
              <p:cNvSpPr/>
              <p:nvPr/>
            </p:nvSpPr>
            <p:spPr>
              <a:xfrm flipV="1">
                <a:off x="1988280" y="2709720"/>
                <a:ext cx="1571040" cy="106020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76200" y="3089880"/>
                <a:ext cx="319680" cy="439920"/>
              </a:xfrm>
              <a:prstGeom prst="line">
                <a:avLst/>
              </a:prstGeom>
              <a:ln w="2556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" name=""/>
          <p:cNvGrpSpPr/>
          <p:nvPr/>
        </p:nvGrpSpPr>
        <p:grpSpPr>
          <a:xfrm>
            <a:off x="3606840" y="3505320"/>
            <a:ext cx="2514240" cy="2285640"/>
            <a:chOff x="3606840" y="3505320"/>
            <a:chExt cx="2514240" cy="2285640"/>
          </a:xfrm>
        </p:grpSpPr>
        <p:sp>
          <p:nvSpPr>
            <p:cNvPr id="67" name=""/>
            <p:cNvSpPr/>
            <p:nvPr/>
          </p:nvSpPr>
          <p:spPr>
            <a:xfrm>
              <a:off x="3606840" y="3505320"/>
              <a:ext cx="2514240" cy="2285640"/>
            </a:xfrm>
            <a:prstGeom prst="rect">
              <a:avLst/>
            </a:prstGeom>
            <a:solidFill>
              <a:srgbClr val="832dda"/>
            </a:solidFill>
            <a:ln w="25560">
              <a:solidFill>
                <a:srgbClr val="cecece"/>
              </a:solidFill>
              <a:miter/>
            </a:ln>
            <a:effectLst>
              <a:outerShdw dist="107932" dir="2700000" blurRad="0" rotWithShape="0">
                <a:srgbClr val="0203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3723480" y="3752280"/>
              <a:ext cx="2212560" cy="1617120"/>
              <a:chOff x="3723480" y="3752280"/>
              <a:chExt cx="2212560" cy="1617120"/>
            </a:xfrm>
          </p:grpSpPr>
          <p:sp>
            <p:nvSpPr>
              <p:cNvPr id="69" name=""/>
              <p:cNvSpPr/>
              <p:nvPr/>
            </p:nvSpPr>
            <p:spPr>
              <a:xfrm>
                <a:off x="5157000" y="375228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23480" y="466236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115960" y="4526640"/>
                <a:ext cx="779040" cy="707040"/>
              </a:xfrm>
              <a:prstGeom prst="ellipse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897720" y="4609080"/>
                <a:ext cx="664200" cy="65844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4853160" y="3834360"/>
                <a:ext cx="789840" cy="6778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3835080" y="3795120"/>
                <a:ext cx="1496160" cy="9680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4230000" y="4812840"/>
                <a:ext cx="851760" cy="5515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144040" y="42606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998600" y="4590000"/>
                <a:ext cx="644400" cy="503280"/>
              </a:xfrm>
              <a:prstGeom prst="rect">
                <a:avLst/>
              </a:prstGeom>
              <a:solidFill>
                <a:srgbClr val="832d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flipV="1">
                <a:off x="4977720" y="4879800"/>
                <a:ext cx="207720" cy="232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flipV="1">
                <a:off x="5663160" y="4473360"/>
                <a:ext cx="165960" cy="193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5684400" y="4357800"/>
                <a:ext cx="124560" cy="1155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5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158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80880" y="259092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82760" y="1523880"/>
            <a:ext cx="72640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•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ccess-to-Work Study (Pittsburgh Foundation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around PAT Bus Ro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15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64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Another buffer shows 30 minute rid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194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45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7050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60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30320" y="2590920"/>
            <a:ext cx="3886200" cy="268128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  <p:sp>
        <p:nvSpPr>
          <p:cNvPr id="19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Line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94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10240" y="268920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634000" y="32860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85040" y="319716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40560" y="3251160"/>
            <a:ext cx="406080" cy="4320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743200"/>
            <a:ext cx="482760" cy="44460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702400" y="2717640"/>
            <a:ext cx="914400" cy="63504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943600" y="3384360"/>
            <a:ext cx="520560" cy="36180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502320" y="3022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13400" y="3238560"/>
            <a:ext cx="393840" cy="330120"/>
          </a:xfrm>
          <a:prstGeom prst="rect">
            <a:avLst/>
          </a:pr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6400440" y="3428640"/>
            <a:ext cx="127080" cy="1522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6819840" y="3161880"/>
            <a:ext cx="101520" cy="12708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6832440" y="3086280"/>
            <a:ext cx="76320" cy="75960"/>
          </a:xfrm>
          <a:prstGeom prst="line">
            <a:avLst/>
          </a:prstGeom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811840" y="116532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35520" y="1522440"/>
            <a:ext cx="476280" cy="461880"/>
          </a:xfrm>
          <a:prstGeom prst="ellipse">
            <a:avLst/>
          </a:prstGeom>
          <a:noFill/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867280" y="1461960"/>
            <a:ext cx="293760" cy="25272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0" y="0"/>
                </a:moveTo>
                <a:lnTo>
                  <a:pt x="184" y="0"/>
                </a:lnTo>
                <a:lnTo>
                  <a:pt x="184" y="158"/>
                </a:lnTo>
                <a:lnTo>
                  <a:pt x="0" y="158"/>
                </a:lnTo>
                <a:lnTo>
                  <a:pt x="0" y="0"/>
                </a:lnTo>
              </a:path>
            </a:pathLst>
          </a:custGeom>
          <a:solidFill>
            <a:srgbClr val="67676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4267080"/>
            <a:ext cx="29973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58720" y="9144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arcels within 150’ of selected item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62800" cy="33163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4724640" cy="32940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 is Crea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236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259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ing Area and Perimeter to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inding Polygon Centroid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area, perimeter, and length of featur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290840" y="190980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field in shapefile (e.g. area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alculator function and Visual Basic Script to calculate polygon area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140360" y="1523880"/>
            <a:ext cx="358128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rea and Perimeter VB Scrip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sult is the area of each polygon feature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1320840" y="1905120"/>
            <a:ext cx="5791320" cy="35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vanced calculations for finding polygon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ed as an XY Data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4749840" y="1295280"/>
            <a:ext cx="2816280" cy="27799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330120" y="4114800"/>
            <a:ext cx="6703920" cy="140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how the centroids of a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xport attributes as table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dd as XY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4597560" y="1295280"/>
            <a:ext cx="1697040" cy="14446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3073320" y="3048120"/>
            <a:ext cx="3429000" cy="2655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5892840" y="2209680"/>
            <a:ext cx="19321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buffers around centroid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064040" y="1600200"/>
            <a:ext cx="35812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939960" y="1219320"/>
            <a:ext cx="6019560" cy="45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0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lygon Centroid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1015920" y="1219320"/>
            <a:ext cx="586764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35040" y="2286000"/>
            <a:ext cx="6934320" cy="9907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03240" y="327672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03240" y="2209680"/>
            <a:ext cx="4724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82400" y="236232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778040" y="335268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778040" y="2286000"/>
            <a:ext cx="472428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14280" y="1508040"/>
            <a:ext cx="7407360" cy="22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You want to know the population of a ZIP code but only have census tr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zip codes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pulation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5238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gin with census tract popul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4576680" y="1219320"/>
            <a:ext cx="2764080" cy="199368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4597560" y="1219320"/>
            <a:ext cx="2743200" cy="20714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30120" y="1981080"/>
            <a:ext cx="35798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verlay zip codes which are non-coterminou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30120" y="2971800"/>
            <a:ext cx="3579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apportionment to estimate the population in each census tract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3"/>
          <a:stretch/>
        </p:blipFill>
        <p:spPr>
          <a:xfrm>
            <a:off x="4597560" y="1219320"/>
            <a:ext cx="2743200" cy="2104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54160" y="4191120"/>
            <a:ext cx="357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Use census blocks for better estimat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597560" y="3505320"/>
            <a:ext cx="2744640" cy="2131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330120" y="1219320"/>
            <a:ext cx="73328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1040" bIns="4104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police zones by using Census Tracts or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8720" y="304920"/>
            <a:ext cx="76964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768760" y="2057400"/>
            <a:ext cx="4410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examples of apportionmen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roximate the population of voting districts by using Census Tracts or Block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4140360" y="1295280"/>
            <a:ext cx="3581280" cy="27831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Other census data to apportion…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pulation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ace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Housing Units (tract and block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Educational Attainment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Income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verty Status (tract only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Others?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58360" y="228240"/>
            <a:ext cx="7311960" cy="160020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utorial Example: Apportion Data for Non-Coterminous Polygon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34680" y="1980720"/>
            <a:ext cx="7313400" cy="29718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blem: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ice want to know the number of under-educated persons (over Age22) in their car bea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Under-educated data is located in Census tracts (not car beat 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and car beats are non-coterminou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8720" y="18288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558720" y="304920"/>
            <a:ext cx="7365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Apportion Data for Non-Coterminous</a:t>
            </a:r>
            <a:br>
              <a:rPr sz="3200"/>
            </a:b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720" y="12952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14280" y="1508040"/>
            <a:ext cx="74073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pportioning (makes approximate splits) of each tract’s data to two or more car bea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530520" y="2119320"/>
            <a:ext cx="373392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58720" y="1523880"/>
            <a:ext cx="7313760" cy="2362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8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everal alternatives for apportioning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y area (polygon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length of street network (arcs/line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-block centroids (points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 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4292640" y="2057400"/>
            <a:ext cx="3655800" cy="3530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3987720" y="3581280"/>
            <a:ext cx="3581640" cy="116388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149640" y="2506680"/>
            <a:ext cx="4552920" cy="0"/>
          </a:xfrm>
          <a:prstGeom prst="line">
            <a:avLst/>
          </a:prstGeom>
          <a:ln w="9360">
            <a:solidFill>
              <a:srgbClr val="0203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355680" y="1066680"/>
            <a:ext cx="73137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tter to use Census Block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Areas are smaller than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sus Tracts (better population estimat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ots are centroids 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of census block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Each dot has census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 attached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entroids DO NOT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ve the under-educated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data, census tracts 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roximity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1676520"/>
            <a:ext cx="5705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s Create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1720">
              <a:lnSpc>
                <a:spcPct val="90000"/>
              </a:lnSpc>
              <a:buClr>
                <a:srgbClr val="020323"/>
              </a:buClr>
              <a:buFont typeface="Arial"/>
              <a:buChar char="-"/>
              <a:tabLst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62720" y="252720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634000" y="2689200"/>
            <a:ext cx="1352520" cy="1060560"/>
            <a:chOff x="5634000" y="2689200"/>
            <a:chExt cx="1352520" cy="1060560"/>
          </a:xfrm>
        </p:grpSpPr>
        <p:sp>
          <p:nvSpPr>
            <p:cNvPr id="93" name=""/>
            <p:cNvSpPr/>
            <p:nvPr/>
          </p:nvSpPr>
          <p:spPr>
            <a:xfrm>
              <a:off x="6510240" y="268920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634000" y="328608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85040" y="3197160"/>
              <a:ext cx="476280" cy="4636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40560" y="3251160"/>
              <a:ext cx="406080" cy="4320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24480" y="2743200"/>
              <a:ext cx="482760" cy="44460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5702400" y="2717640"/>
              <a:ext cx="914400" cy="6350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943600" y="3384360"/>
              <a:ext cx="520560" cy="3618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02320" y="3022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13400" y="3238560"/>
              <a:ext cx="393840" cy="330120"/>
            </a:xfrm>
            <a:prstGeom prst="rect">
              <a:avLst/>
            </a:prstGeom>
            <a:solidFill>
              <a:srgbClr val="832d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6400440" y="3428640"/>
              <a:ext cx="127080" cy="1522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 flipV="1">
              <a:off x="6819840" y="3161880"/>
              <a:ext cx="101520" cy="12708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6832440" y="3086280"/>
              <a:ext cx="76320" cy="759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5562720" y="42418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134040" y="4749840"/>
            <a:ext cx="444600" cy="4190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556080" y="42544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55920" y="4921200"/>
            <a:ext cx="176400" cy="152280"/>
          </a:xfrm>
          <a:prstGeom prst="rect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cecece"/>
          </a:solidFill>
          <a:ln w="25560">
            <a:solidFill>
              <a:srgbClr val="cecec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56080" y="2540160"/>
            <a:ext cx="1536480" cy="1498320"/>
          </a:xfrm>
          <a:prstGeom prst="rect">
            <a:avLst/>
          </a:prstGeom>
          <a:solidFill>
            <a:srgbClr val="676767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784680" y="2857320"/>
            <a:ext cx="990360" cy="672840"/>
            <a:chOff x="3784680" y="2857320"/>
            <a:chExt cx="990360" cy="672840"/>
          </a:xfrm>
        </p:grpSpPr>
        <p:sp>
          <p:nvSpPr>
            <p:cNvPr id="116" name=""/>
            <p:cNvSpPr/>
            <p:nvPr/>
          </p:nvSpPr>
          <p:spPr>
            <a:xfrm flipV="1">
              <a:off x="3784680" y="2857320"/>
              <a:ext cx="990360" cy="67284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70480" y="3098880"/>
              <a:ext cx="201600" cy="279360"/>
            </a:xfrm>
            <a:prstGeom prst="line">
              <a:avLst/>
            </a:prstGeom>
            <a:ln w="25560">
              <a:solidFill>
                <a:srgbClr val="cecec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roach to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Review:</a:t>
            </a:r>
            <a:br>
              <a:rPr sz="2400"/>
            </a:b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ar beats and census tracts interse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tracts have under-educated data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Census blocks have population data (and are smaller than census tracts, thus better to apportion)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58720" y="106668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59436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Zoomed view of 2 car beats and one tract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Beat 261 and 251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1015920" y="2286000"/>
            <a:ext cx="5639040" cy="33498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58720" y="1218960"/>
            <a:ext cx="3579840" cy="198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9000"/>
          </a:bodyPr>
          <a:p>
            <a:pPr lvl="1" marL="356400" indent="-130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ract 360550002100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has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persons aged 25 or older with less than a HS educati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-93960">
              <a:lnSpc>
                <a:spcPct val="8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26 block centroids span 2 bea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2" marL="5641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216320" y="1676520"/>
            <a:ext cx="35053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781560" y="3657600"/>
            <a:ext cx="4577760" cy="1015920"/>
            <a:chOff x="781560" y="3657600"/>
            <a:chExt cx="4577760" cy="1015920"/>
          </a:xfrm>
        </p:grpSpPr>
        <p:sp>
          <p:nvSpPr>
            <p:cNvPr id="358" name=""/>
            <p:cNvSpPr/>
            <p:nvPr/>
          </p:nvSpPr>
          <p:spPr>
            <a:xfrm>
              <a:off x="3606840" y="3809880"/>
              <a:ext cx="1752480" cy="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81560" y="3657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6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177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77120" y="4190760"/>
            <a:ext cx="2757960" cy="1625760"/>
            <a:chOff x="4677120" y="4190760"/>
            <a:chExt cx="2757960" cy="1625760"/>
          </a:xfrm>
        </p:grpSpPr>
        <p:sp>
          <p:nvSpPr>
            <p:cNvPr id="361" name=""/>
            <p:cNvSpPr/>
            <p:nvPr/>
          </p:nvSpPr>
          <p:spPr>
            <a:xfrm flipV="1">
              <a:off x="6578640" y="4190760"/>
              <a:ext cx="0" cy="533160"/>
            </a:xfrm>
            <a:prstGeom prst="line">
              <a:avLst/>
            </a:prstGeom>
            <a:ln w="9360">
              <a:solidFill>
                <a:srgbClr val="02032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77120" y="4800600"/>
              <a:ext cx="2757960" cy="1015920"/>
            </a:xfrm>
            <a:prstGeom prst="rect">
              <a:avLst/>
            </a:prstGeom>
            <a:noFill/>
            <a:ln w="9360">
              <a:solidFill>
                <a:srgbClr val="020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13 block centroid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Lie in beat </a:t>
              </a:r>
              <a:r>
                <a:rPr b="1" lang="en-US" sz="2000" spc="-1" strike="noStrike">
                  <a:solidFill>
                    <a:srgbClr val="a2162f"/>
                  </a:solidFill>
                  <a:latin typeface="Arial"/>
                </a:rPr>
                <a:t>25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 algn="r">
                <a:lnSpc>
                  <a:spcPct val="80000"/>
                </a:lnSpc>
                <a:spcBef>
                  <a:spcPts val="751"/>
                </a:spcBef>
                <a:buClr>
                  <a:srgbClr val="020323"/>
                </a:buClr>
                <a:buFont typeface="Arial"/>
                <a:buChar char=" 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20323"/>
                  </a:solidFill>
                  <a:latin typeface="Arial"/>
                </a:rPr>
                <a:t>Pop. &gt;22=1,089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330120" y="4952880"/>
            <a:ext cx="4114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tal Population=2,26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249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2286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5000"/>
          </a:bodyPr>
          <a:p>
            <a:pPr lvl="1" marL="342000" indent="-124920">
              <a:lnSpc>
                <a:spcPct val="8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ment assumes that the fraction of under educated persons 25 or older is the same as that for the general population aged 25 or older: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42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6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177/2,266 = 0.519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-90000">
              <a:lnSpc>
                <a:spcPct val="8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eat </a:t>
            </a:r>
            <a:r>
              <a:rPr b="1" lang="en-US" sz="2400" spc="-1" strike="noStrike">
                <a:solidFill>
                  <a:srgbClr val="a2162f"/>
                </a:solidFill>
                <a:latin typeface="Arial"/>
              </a:rPr>
              <a:t>251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1,089/2,266 = 0.481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41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The Math of Apportionment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324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205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 is the number of under-educated people in tract 36055002100.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us we estimate the contribution of tract 36055002100 to car beat 261’s under-educated population to be (1,177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106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 For car beat 251 it is (1,089/2,266)x205 = </a:t>
            </a:r>
            <a:r>
              <a:rPr b="1" lang="en-US" sz="2000" spc="-1" strike="noStrike">
                <a:solidFill>
                  <a:srgbClr val="a2162f"/>
                </a:solidFill>
                <a:latin typeface="Arial"/>
              </a:rPr>
              <a:t>99</a:t>
            </a: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o calculate this in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GIS, we need to perform</a:t>
            </a:r>
            <a:br>
              <a:rPr sz="2000"/>
            </a:b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intersects and joins…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7131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rcRect l="38300" t="28033" r="8509" b="0"/>
          <a:stretch/>
        </p:blipFill>
        <p:spPr>
          <a:xfrm>
            <a:off x="4521240" y="3048120"/>
            <a:ext cx="3352680" cy="22906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Block Centroids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-95040">
              <a:lnSpc>
                <a:spcPct val="90000"/>
              </a:lnSpc>
              <a:spcBef>
                <a:spcPts val="300"/>
              </a:spcBef>
              <a:buClr>
                <a:srgbClr val="a2162f"/>
              </a:buClr>
              <a:buSzPct val="125000"/>
              <a:buFont typeface="Times New Roman"/>
              <a:buChar char="-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dd two fields: TRACTID and SumAge22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TRACTID is a the census tract ID numbers (for later joins and summari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20323"/>
              </a:buClr>
              <a:buFont typeface="Arial"/>
              <a:buChar char="–"/>
              <a:tabLst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i="1" lang="en-US" sz="1800" spc="-1" strike="noStrike">
                <a:solidFill>
                  <a:srgbClr val="020323"/>
                </a:solidFill>
                <a:latin typeface="Arial"/>
              </a:rPr>
              <a:t>SumAge22 is the summary of population Age22+ (calculating multiple age column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2082960" y="3352680"/>
            <a:ext cx="5410080" cy="17575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451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From the block centroids, create a new summary table counting the number of persons Age22+ for each census tract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3530520" y="2666880"/>
            <a:ext cx="3581640" cy="25974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reate a new layer intersecting car beats and census trac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Fields will include values from both table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4444920" y="1143000"/>
            <a:ext cx="3114720" cy="40384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482760" y="3276720"/>
            <a:ext cx="4724280" cy="1346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the new intersecting layer of car beats and census tracts (polygons) to block centroids (points)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New points will have beat and census tract data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4370400" y="1219320"/>
            <a:ext cx="3421080" cy="44956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Apportionment Step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37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1800" spc="-1" strike="noStrike">
                <a:solidFill>
                  <a:srgbClr val="020323"/>
                </a:solidFill>
                <a:latin typeface="Arial"/>
              </a:rPr>
              <a:t>Join the summary table of Age22 or greater to the newly created points of car beats, census tracts (block centroid points)</a:t>
            </a:r>
            <a:endParaRPr b="1" lang="en-US" sz="18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The result is the summary of Age22 or greater population is now on block centroid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marL="114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4216320" y="3352680"/>
            <a:ext cx="3581640" cy="12747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2"/>
          <a:srcRect l="38300" t="28033" r="8509" b="0"/>
          <a:stretch/>
        </p:blipFill>
        <p:spPr>
          <a:xfrm>
            <a:off x="4521240" y="1219320"/>
            <a:ext cx="3179880" cy="21715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06440" y="1295280"/>
            <a:ext cx="299700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Buffer created by assigning a buffer distance around poi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43480" y="838080"/>
            <a:ext cx="153648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79800" y="133524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03840" y="1690560"/>
            <a:ext cx="9972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1639800"/>
            <a:ext cx="100080" cy="96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49760" y="838080"/>
            <a:ext cx="1536840" cy="1498680"/>
          </a:xfrm>
          <a:prstGeom prst="rect">
            <a:avLst/>
          </a:prstGeom>
          <a:solidFill>
            <a:srgbClr val="832dda"/>
          </a:solidFill>
          <a:ln w="25560">
            <a:solidFill>
              <a:srgbClr val="cecece"/>
            </a:solidFill>
            <a:miter/>
          </a:ln>
          <a:effectLst>
            <a:outerShdw dist="107932" dir="2700000" blurRad="0" rotWithShape="0">
              <a:srgbClr val="0203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34280" y="1457280"/>
            <a:ext cx="476280" cy="46368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7600" y="1155600"/>
            <a:ext cx="571680" cy="8384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58720" y="1143000"/>
            <a:ext cx="28958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Sum Under-Educated by Car Beats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tretch/>
        </p:blipFill>
        <p:spPr>
          <a:xfrm>
            <a:off x="787320" y="1295280"/>
            <a:ext cx="3579840" cy="217512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4597560" y="1295280"/>
            <a:ext cx="2984400" cy="365760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558720" y="3809880"/>
            <a:ext cx="4648320" cy="170028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Join to Beat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35798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sum of under-educated population by car beat to the car beats lay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4444920" y="533520"/>
            <a:ext cx="2065320" cy="300996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3149640" y="2286000"/>
            <a:ext cx="2714760" cy="3581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711360" y="3733920"/>
            <a:ext cx="2361960" cy="17445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558720" y="914400"/>
            <a:ext cx="358164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200" spc="-1" strike="noStrike">
                <a:solidFill>
                  <a:srgbClr val="020323"/>
                </a:solidFill>
                <a:latin typeface="Arial"/>
              </a:rPr>
              <a:t>Map Under-Educated by Car Beat</a:t>
            </a:r>
            <a:endParaRPr b="1" lang="en-US" sz="32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1320840" y="1143000"/>
            <a:ext cx="3581280" cy="41259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4978440" y="4191120"/>
            <a:ext cx="2890800" cy="108108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Review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58360" y="1295280"/>
            <a:ext cx="6324840" cy="42674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roximity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in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Line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Spatial Joins on Buffer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Visual Basic Script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a2162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Apportioning Non-Coterminous Polygons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2" marL="569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Polygon buffer created ¼ mile around school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8200" y="331920"/>
            <a:ext cx="731196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5040" y="1828800"/>
            <a:ext cx="501660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58720" y="1219320"/>
            <a:ext cx="731376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90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400" spc="-1" strike="noStrike">
                <a:solidFill>
                  <a:srgbClr val="020323"/>
                </a:solidFill>
                <a:latin typeface="Arial"/>
              </a:rPr>
              <a:t>Technology Businesses that are with ¼ mile of Convention Center </a:t>
            </a:r>
            <a:endParaRPr b="1" lang="en-US" sz="24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863640" y="2057400"/>
            <a:ext cx="4519440" cy="3471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55680" y="1193760"/>
            <a:ext cx="72644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0760" bIns="507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Polygon buffer created 20’ around light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2057400"/>
                <a:tab algn="l" pos="411480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i="1" lang="en-US" sz="2000" spc="-1" strike="noStrike">
                <a:solidFill>
                  <a:srgbClr val="020323"/>
                </a:solidFill>
                <a:latin typeface="Arial"/>
              </a:rPr>
              <a:t>- Shows what areas will be lit in a parking lo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Point Buffer Example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4969080" cy="36226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58720" y="114300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58360" y="228600"/>
            <a:ext cx="7311960" cy="760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0760" bIns="507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58760"/>
                <a:tab algn="l" pos="2117880"/>
                <a:tab algn="l" pos="3176640"/>
                <a:tab algn="l" pos="4235400"/>
                <a:tab algn="l" pos="5294160"/>
                <a:tab algn="l" pos="6353280"/>
                <a:tab algn="l" pos="7412040"/>
                <a:tab algn="l" pos="8470800"/>
                <a:tab algn="l" pos="9529920"/>
                <a:tab algn="l" pos="10588680"/>
              </a:tabLst>
            </a:pPr>
            <a:r>
              <a:rPr b="1" lang="en-US" sz="3600" spc="-1" strike="noStrike">
                <a:solidFill>
                  <a:srgbClr val="020323"/>
                </a:solidFill>
                <a:latin typeface="Arial"/>
              </a:rPr>
              <a:t>Spatial Join - Buffers</a:t>
            </a:r>
            <a:endParaRPr b="1" lang="en-US" sz="36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58360" y="1219320"/>
            <a:ext cx="6782040" cy="4495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6080" bIns="46080" anchor="t">
            <a:norm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20323"/>
              </a:buClr>
              <a:buFont typeface="Arial"/>
              <a:buChar char=" 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Count Faculty and Staff within ¼ mile of University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patially join buffers to points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Summarize to count the number of faculty and staff in ¼ mile buffer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-131760">
              <a:lnSpc>
                <a:spcPct val="90000"/>
              </a:lnSpc>
              <a:spcBef>
                <a:spcPts val="374"/>
              </a:spcBef>
              <a:buClr>
                <a:srgbClr val="a2162f"/>
              </a:buClr>
              <a:buSzPct val="125000"/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000" spc="-1" strike="noStrike">
                <a:solidFill>
                  <a:srgbClr val="020323"/>
                </a:solidFill>
                <a:latin typeface="Arial"/>
              </a:rPr>
              <a:t>Join the buffer count back to the buffer polygon</a:t>
            </a: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  <a:p>
            <a:pPr lvl="1" marL="3603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1" lang="en-US" sz="2000" spc="-1" strike="noStrike">
              <a:solidFill>
                <a:srgbClr val="020323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8720" y="990720"/>
            <a:ext cx="7162920" cy="0"/>
          </a:xfrm>
          <a:prstGeom prst="line">
            <a:avLst/>
          </a:prstGeom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rcRect l="21326" t="6716" r="2105" b="17017"/>
          <a:stretch/>
        </p:blipFill>
        <p:spPr>
          <a:xfrm>
            <a:off x="2311560" y="3048120"/>
            <a:ext cx="3962160" cy="2420640"/>
          </a:xfrm>
          <a:prstGeom prst="rect">
            <a:avLst/>
          </a:prstGeom>
          <a:ln w="9360">
            <a:solidFill>
              <a:srgbClr val="02032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4-19T23:01:06Z</dcterms:created>
  <dc:creator>The Heinz School</dc:creator>
  <dc:description/>
  <dc:language>en-US</dc:language>
  <cp:lastModifiedBy>Kristen Kurland</cp:lastModifiedBy>
  <cp:lastPrinted>2001-01-21T18:12:54Z</cp:lastPrinted>
  <dcterms:modified xsi:type="dcterms:W3CDTF">2005-07-04T17:43:38Z</dcterms:modified>
  <cp:revision>273</cp:revision>
  <dc:subject/>
  <dc:title>No Slide Title</dc:title>
</cp:coreProperties>
</file>