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CA03D-E7EA-493C-A560-8474CDC81E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ule IV; lecture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1/12/94; v 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ftware Construction with A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the variable being apportioned, in our case the number of persons 25 or older who have less than a high school education at the tract level, is spatially distributed within the census tract proportionally to general population aged 22 or older at the block le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block centroids instead of block polygons because the block are relatively small and thus can be safely represented by points to make the spatial data processing easi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8360" y="22860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A5306644-8FE4-4819-B857-8010CEBDAA33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760" y="457200"/>
            <a:ext cx="708660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IS Lecture 9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87720" y="1752480"/>
            <a:ext cx="3581640" cy="2492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grpSp>
        <p:nvGrpSpPr>
          <p:cNvPr id="61" name=""/>
          <p:cNvGrpSpPr/>
          <p:nvPr/>
        </p:nvGrpSpPr>
        <p:grpSpPr>
          <a:xfrm>
            <a:off x="1625760" y="2209680"/>
            <a:ext cx="2437920" cy="2361960"/>
            <a:chOff x="1625760" y="2209680"/>
            <a:chExt cx="2437920" cy="2361960"/>
          </a:xfrm>
        </p:grpSpPr>
        <p:sp>
          <p:nvSpPr>
            <p:cNvPr id="62" name=""/>
            <p:cNvSpPr/>
            <p:nvPr/>
          </p:nvSpPr>
          <p:spPr>
            <a:xfrm>
              <a:off x="1625760" y="2209680"/>
              <a:ext cx="2437920" cy="23619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988280" y="2709720"/>
              <a:ext cx="1571040" cy="1060200"/>
              <a:chOff x="1988280" y="2709720"/>
              <a:chExt cx="1571040" cy="106020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1988280" y="2709720"/>
                <a:ext cx="1571040" cy="106020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76200" y="3089880"/>
                <a:ext cx="319680" cy="43992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606840" y="3505320"/>
            <a:ext cx="2514240" cy="2285640"/>
            <a:chOff x="3606840" y="3505320"/>
            <a:chExt cx="2514240" cy="2285640"/>
          </a:xfrm>
        </p:grpSpPr>
        <p:sp>
          <p:nvSpPr>
            <p:cNvPr id="67" name=""/>
            <p:cNvSpPr/>
            <p:nvPr/>
          </p:nvSpPr>
          <p:spPr>
            <a:xfrm>
              <a:off x="3606840" y="3505320"/>
              <a:ext cx="2514240" cy="2285640"/>
            </a:xfrm>
            <a:prstGeom prst="rect">
              <a:avLst/>
            </a:prstGeom>
            <a:solidFill>
              <a:srgbClr val="832dda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723480" y="3752280"/>
              <a:ext cx="2212560" cy="1617120"/>
              <a:chOff x="3723480" y="3752280"/>
              <a:chExt cx="2212560" cy="1617120"/>
            </a:xfrm>
          </p:grpSpPr>
          <p:sp>
            <p:nvSpPr>
              <p:cNvPr id="69" name=""/>
              <p:cNvSpPr/>
              <p:nvPr/>
            </p:nvSpPr>
            <p:spPr>
              <a:xfrm>
                <a:off x="5157000" y="375228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3480" y="466236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15960" y="452664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97720" y="4609080"/>
                <a:ext cx="664200" cy="65844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53160" y="3834360"/>
                <a:ext cx="789840" cy="6778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835080" y="3795120"/>
                <a:ext cx="1496160" cy="968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230000" y="4812840"/>
                <a:ext cx="851760" cy="551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44040" y="42606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98600" y="45900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4977720" y="4879800"/>
                <a:ext cx="207720" cy="23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5663160" y="4473360"/>
                <a:ext cx="165960" cy="19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684400" y="4357800"/>
                <a:ext cx="124560" cy="115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5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158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9092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82760" y="1523880"/>
            <a:ext cx="7264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•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ccess-to-Work Study (Pittsburgh Found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around PAT Bus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15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6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nother buffer shows 30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19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5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681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9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0240" y="268920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4000" y="32860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85040" y="319716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40560" y="3251160"/>
            <a:ext cx="406080" cy="4320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743200"/>
            <a:ext cx="482760" cy="4446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02400" y="2717640"/>
            <a:ext cx="914400" cy="63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3384360"/>
            <a:ext cx="520560" cy="361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3022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13400" y="3238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00440" y="3428640"/>
            <a:ext cx="127080" cy="152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819840" y="3161880"/>
            <a:ext cx="101520" cy="127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832440" y="3086280"/>
            <a:ext cx="76320" cy="759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26708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rcels within 150’ of selected item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62800" cy="3316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24640" cy="3294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 is Cre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236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259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ing Area and Perimeter to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nding Polygon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area, perimeter, and length of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290840" y="190980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field in shapefile (e.g. are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alculator function and Visual Basic Script to calculate polygon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140360" y="152388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 is the area of each polygon featur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20840" y="1905120"/>
            <a:ext cx="579132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polygon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ed as an XY Data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749840" y="1295280"/>
            <a:ext cx="2816280" cy="2779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0120" y="4114800"/>
            <a:ext cx="6703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how the centroids of a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ort attributes as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as XY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97560" y="1295280"/>
            <a:ext cx="1697040" cy="1444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073320" y="3048120"/>
            <a:ext cx="3429000" cy="2655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892840" y="2209680"/>
            <a:ext cx="193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buffers around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064040" y="1600200"/>
            <a:ext cx="358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39960" y="1219320"/>
            <a:ext cx="60195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15920" y="1219320"/>
            <a:ext cx="5867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03240" y="327672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03240" y="220968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2400" y="23623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4280" y="1508040"/>
            <a:ext cx="740736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You want to know the population of a ZIP code but only have census tr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zip codes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pulation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523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 popul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6680" y="1219320"/>
            <a:ext cx="2764080" cy="1993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97560" y="1219320"/>
            <a:ext cx="2743200" cy="2071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0120" y="1981080"/>
            <a:ext cx="357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verlay zip codes which are non-cotermino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120" y="2971800"/>
            <a:ext cx="357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apportionment to estimate the population in each census tra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597560" y="1219320"/>
            <a:ext cx="2743200" cy="2104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54160" y="4191120"/>
            <a:ext cx="357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ensus blocks for better estim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597560" y="3505320"/>
            <a:ext cx="2744640" cy="2131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30120" y="1219320"/>
            <a:ext cx="7332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police zones by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68760" y="2057400"/>
            <a:ext cx="4410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voting districts by using Census Tracts or Block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40360" y="1295280"/>
            <a:ext cx="3581280" cy="2783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census data to apportion…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ace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Housing Units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ducational Attainment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me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verty Status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8360" y="228240"/>
            <a:ext cx="7311960" cy="1600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utorial Example: Apportion Data for Non-Coterminous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4680" y="1980720"/>
            <a:ext cx="7313400" cy="2971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ice want to know the number of under-educated persons (over Age22) in their car bea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nder-educated data is located in Census tracts (not car beat 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and car beats are non-coterminou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720" y="1828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58720" y="304920"/>
            <a:ext cx="7365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pportion Data for Non-Coterminous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720" y="12952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280" y="1508040"/>
            <a:ext cx="74073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ortioning (makes approximate splits) of each tract’s data to two or more car be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30520" y="2119320"/>
            <a:ext cx="3733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58720" y="1523880"/>
            <a:ext cx="7313760" cy="236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ral alternatives for apportioning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y area (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length of street network (arcs/line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lock centroids (point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292640" y="2057400"/>
            <a:ext cx="3655800" cy="3530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987720" y="3581280"/>
            <a:ext cx="3581640" cy="1163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149640" y="2506680"/>
            <a:ext cx="4552920" cy="0"/>
          </a:xfrm>
          <a:prstGeom prst="line">
            <a:avLst/>
          </a:prstGeom>
          <a:ln w="9360">
            <a:solidFill>
              <a:srgbClr val="0203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355680" y="1066680"/>
            <a:ext cx="73137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to use Census Block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reas are smaller than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sus Tracts (better population estim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ots are centroids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f census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ach dot has census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 attached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troids DO NOT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ve the under-educated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, census tracts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93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16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view:</a:t>
            </a:r>
            <a:br>
              <a:rPr sz="2400"/>
            </a:b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r beats and census tracts interse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have under-educate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blocks have population data (and are smaller than census tracts, thus better to appor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oomed view of 2 car beats and one trac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at 261 and 251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15920" y="2286000"/>
            <a:ext cx="5639040" cy="334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lvl="1" marL="356400" indent="-130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persons aged 25 or older with less than a HS educ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26 block centroids span 2 bea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216320" y="1676520"/>
            <a:ext cx="35053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781560" y="3657600"/>
            <a:ext cx="4577760" cy="1015920"/>
            <a:chOff x="781560" y="3657600"/>
            <a:chExt cx="4577760" cy="1015920"/>
          </a:xfrm>
        </p:grpSpPr>
        <p:sp>
          <p:nvSpPr>
            <p:cNvPr id="358" name=""/>
            <p:cNvSpPr/>
            <p:nvPr/>
          </p:nvSpPr>
          <p:spPr>
            <a:xfrm>
              <a:off x="3606840" y="3809880"/>
              <a:ext cx="1752480" cy="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560" y="3657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6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17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77120" y="4190760"/>
            <a:ext cx="2757960" cy="1625760"/>
            <a:chOff x="4677120" y="4190760"/>
            <a:chExt cx="2757960" cy="1625760"/>
          </a:xfrm>
        </p:grpSpPr>
        <p:sp>
          <p:nvSpPr>
            <p:cNvPr id="361" name=""/>
            <p:cNvSpPr/>
            <p:nvPr/>
          </p:nvSpPr>
          <p:spPr>
            <a:xfrm flipV="1">
              <a:off x="6578640" y="4190760"/>
              <a:ext cx="0" cy="53316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77120" y="4800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5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08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30120" y="49528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tal Population=2,2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286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5000"/>
          </a:bodyPr>
          <a:p>
            <a:pPr lvl="1" marL="342000" indent="-12492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ment assumes that the fraction of under educated persons 25 or older is the same as that for the general population aged 25 or older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4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6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177/2,266 = 0.5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5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089/2,266 = 0.48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is the number of under-educated people in tract 36055002100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us we estimate the contribution of tract 36055002100 to car beat 261’s under-educated population to be (1,177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106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 For car beat 251 it is (1,089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99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 calculate this in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IS, we need to perform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ntersects and joins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521240" y="3048120"/>
            <a:ext cx="3352680" cy="22906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lock Centroid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two fields: TRACTID and SumAge22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TRACTID is a the census tract ID numbers (for later joins and summa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SumAge22 is the summary of population Age22+ (calculating multiple age colum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82960" y="3352680"/>
            <a:ext cx="5410080" cy="1757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rom the block centroids, create a new summary table counting the number of persons Age22+ for each census tra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530520" y="2666880"/>
            <a:ext cx="3581640" cy="259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a new layer intersecting car beats and census trac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elds will include values from both tab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444920" y="1143000"/>
            <a:ext cx="3114720" cy="4038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82760" y="3276720"/>
            <a:ext cx="4724280" cy="1346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the new intersecting layer of car beats and census tracts (polygons) to block centroids (poi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ew points will have beat and census tract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370400" y="1219320"/>
            <a:ext cx="342108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Join the summary table of Age22 or greater to the newly created points of car beats, census tracts (block centroid points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e result is the summary of Age22 or greater population is now on block centroid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216320" y="3352680"/>
            <a:ext cx="3581640" cy="1274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rcRect l="38300" t="28033" r="8509" b="0"/>
          <a:stretch/>
        </p:blipFill>
        <p:spPr>
          <a:xfrm>
            <a:off x="4521240" y="1219320"/>
            <a:ext cx="3179880" cy="2171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1295280"/>
            <a:ext cx="2997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um Under-Educated by Car Bea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87320" y="1295280"/>
            <a:ext cx="3579840" cy="21751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97560" y="1295280"/>
            <a:ext cx="2984400" cy="3657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58720" y="3809880"/>
            <a:ext cx="4648320" cy="17002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to Bea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sum of under-educated population by car beat to the car beats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444920" y="533520"/>
            <a:ext cx="2065320" cy="30099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149640" y="2286000"/>
            <a:ext cx="2714760" cy="3581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711360" y="3733920"/>
            <a:ext cx="2361960" cy="1744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58720" y="914400"/>
            <a:ext cx="3581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Map Under-Educated by Car Be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320840" y="1143000"/>
            <a:ext cx="3581280" cy="41259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978440" y="4191120"/>
            <a:ext cx="2890800" cy="1081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 buffer created ¼ mile around sch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5040" y="1828800"/>
            <a:ext cx="5016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chnology Businesses that are with ¼ mile of Convention Center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3640" y="2057400"/>
            <a:ext cx="4519440" cy="347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20’ around ligh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what areas will be lit in a parking l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969080" cy="362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-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ount Faculty and Staff within ¼ mile of Universit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buffers to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ummarize to count the number of faculty and staff in ¼ mile buff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buffer count back to the buffer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21326" t="6716" r="2105" b="17017"/>
          <a:stretch/>
        </p:blipFill>
        <p:spPr>
          <a:xfrm>
            <a:off x="2311560" y="3048120"/>
            <a:ext cx="3962160" cy="2420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dc:language>en-US</dc:language>
  <cp:lastModifiedBy>Kristen Kurland</cp:lastModifiedBy>
  <cp:lastPrinted>2001-01-21T18:12:54Z</cp:lastPrinted>
  <dcterms:modified xsi:type="dcterms:W3CDTF">2005-07-04T17:43:38Z</dcterms:modified>
  <cp:revision>273</cp:revision>
  <dc:subject/>
  <dc:title>No Slide Title</dc:title>
</cp:coreProperties>
</file>