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media/image26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647BF7-4972-47A8-97E1-9CF47E2E23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ule IV; lecture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1/12/94; v 2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ftware Construction with A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lvl="1" marL="233280" indent="-118800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u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the variable being apportioned, in our case the number of persons 25 or older who have less than a high school education at the tract level, is spatially distributed within the census tract proportionally to general population aged 22 or older at the block lev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118800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block centroids instead of block polygons because the block are relatively small and thus can be safely represented by points to make the spatial data processing easi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58360" y="22860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6F7B1396-A03E-42B0-B3B0-6301DFF3DD88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2760" y="457200"/>
            <a:ext cx="708660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IS Lecture 9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87720" y="1752480"/>
            <a:ext cx="3581640" cy="24926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grpSp>
        <p:nvGrpSpPr>
          <p:cNvPr id="61" name=""/>
          <p:cNvGrpSpPr/>
          <p:nvPr/>
        </p:nvGrpSpPr>
        <p:grpSpPr>
          <a:xfrm>
            <a:off x="1625760" y="2209680"/>
            <a:ext cx="2437920" cy="2361960"/>
            <a:chOff x="1625760" y="2209680"/>
            <a:chExt cx="2437920" cy="2361960"/>
          </a:xfrm>
        </p:grpSpPr>
        <p:sp>
          <p:nvSpPr>
            <p:cNvPr id="62" name=""/>
            <p:cNvSpPr/>
            <p:nvPr/>
          </p:nvSpPr>
          <p:spPr>
            <a:xfrm>
              <a:off x="1625760" y="2209680"/>
              <a:ext cx="2437920" cy="23619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0203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988280" y="2709720"/>
              <a:ext cx="1571040" cy="1060200"/>
              <a:chOff x="1988280" y="2709720"/>
              <a:chExt cx="1571040" cy="106020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1988280" y="2709720"/>
                <a:ext cx="1571040" cy="1060200"/>
              </a:xfrm>
              <a:prstGeom prst="line">
                <a:avLst/>
              </a:prstGeom>
              <a:ln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76200" y="3089880"/>
                <a:ext cx="319680" cy="439920"/>
              </a:xfrm>
              <a:prstGeom prst="line">
                <a:avLst/>
              </a:prstGeom>
              <a:ln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606840" y="3505320"/>
            <a:ext cx="2514240" cy="2285640"/>
            <a:chOff x="3606840" y="3505320"/>
            <a:chExt cx="2514240" cy="2285640"/>
          </a:xfrm>
        </p:grpSpPr>
        <p:sp>
          <p:nvSpPr>
            <p:cNvPr id="67" name=""/>
            <p:cNvSpPr/>
            <p:nvPr/>
          </p:nvSpPr>
          <p:spPr>
            <a:xfrm>
              <a:off x="3606840" y="3505320"/>
              <a:ext cx="2514240" cy="2285640"/>
            </a:xfrm>
            <a:prstGeom prst="rect">
              <a:avLst/>
            </a:prstGeom>
            <a:solidFill>
              <a:srgbClr val="832dda"/>
            </a:solidFill>
            <a:ln w="2556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0203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723480" y="3752280"/>
              <a:ext cx="2212560" cy="1617120"/>
              <a:chOff x="3723480" y="3752280"/>
              <a:chExt cx="2212560" cy="1617120"/>
            </a:xfrm>
          </p:grpSpPr>
          <p:sp>
            <p:nvSpPr>
              <p:cNvPr id="69" name=""/>
              <p:cNvSpPr/>
              <p:nvPr/>
            </p:nvSpPr>
            <p:spPr>
              <a:xfrm>
                <a:off x="5157000" y="3752280"/>
                <a:ext cx="779040" cy="7070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23480" y="4662360"/>
                <a:ext cx="779040" cy="7070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15960" y="4526640"/>
                <a:ext cx="779040" cy="7070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97720" y="4609080"/>
                <a:ext cx="664200" cy="65844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53160" y="3834360"/>
                <a:ext cx="789840" cy="67788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835080" y="3795120"/>
                <a:ext cx="1496160" cy="968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4230000" y="4812840"/>
                <a:ext cx="851760" cy="551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44040" y="4260600"/>
                <a:ext cx="644400" cy="50328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98600" y="4590000"/>
                <a:ext cx="644400" cy="50328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4977720" y="4879800"/>
                <a:ext cx="207720" cy="23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5663160" y="4473360"/>
                <a:ext cx="165960" cy="193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5684400" y="4357800"/>
                <a:ext cx="124560" cy="115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154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634000" y="2689200"/>
            <a:ext cx="1352520" cy="1060560"/>
            <a:chOff x="5634000" y="2689200"/>
            <a:chExt cx="1352520" cy="1060560"/>
          </a:xfrm>
        </p:grpSpPr>
        <p:sp>
          <p:nvSpPr>
            <p:cNvPr id="158" name=""/>
            <p:cNvSpPr/>
            <p:nvPr/>
          </p:nvSpPr>
          <p:spPr>
            <a:xfrm>
              <a:off x="6510240" y="268920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4000" y="328608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85040" y="319716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40560" y="3251160"/>
              <a:ext cx="406080" cy="4320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2743200"/>
              <a:ext cx="482760" cy="4446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702400" y="2717640"/>
              <a:ext cx="914400" cy="63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943600" y="3384360"/>
              <a:ext cx="520560" cy="36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02320" y="3022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3400" y="3238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400440" y="3428640"/>
              <a:ext cx="12708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819840" y="3161880"/>
              <a:ext cx="101520" cy="12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832440" y="3086280"/>
              <a:ext cx="76320" cy="7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811840" y="116532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35520" y="152244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461960"/>
            <a:ext cx="293760" cy="252720"/>
          </a:xfrm>
          <a:custGeom>
            <a:avLst/>
            <a:gdLst/>
            <a:ahLst/>
            <a:rect l="l" t="t" r="r" b="b"/>
            <a:pathLst>
              <a:path w="185" h="159">
                <a:moveTo>
                  <a:pt x="0" y="0"/>
                </a:moveTo>
                <a:lnTo>
                  <a:pt x="184" y="0"/>
                </a:lnTo>
                <a:lnTo>
                  <a:pt x="184" y="158"/>
                </a:lnTo>
                <a:lnTo>
                  <a:pt x="0" y="158"/>
                </a:lnTo>
                <a:lnTo>
                  <a:pt x="0" y="0"/>
                </a:lnTo>
              </a:path>
            </a:pathLst>
          </a:cu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590920"/>
            <a:ext cx="29973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 created by assigning a buffer distance around 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720" y="9144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82760" y="1523880"/>
            <a:ext cx="72640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buClr>
                <a:srgbClr val="020323"/>
              </a:buClr>
              <a:buFont typeface="Arial"/>
              <a:buChar char="•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Access-to-Work Study (Pittsburgh Found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Polygon buffer created around PAT Bus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Shows 15 minute rid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7064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Another buffer shows 30 minute rid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7194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45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705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60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6812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194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10240" y="268920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4000" y="328608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85040" y="319716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40560" y="3251160"/>
            <a:ext cx="406080" cy="43200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743200"/>
            <a:ext cx="482760" cy="44460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702400" y="2717640"/>
            <a:ext cx="914400" cy="63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3384360"/>
            <a:ext cx="520560" cy="3618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2320" y="3022560"/>
            <a:ext cx="393840" cy="3301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13400" y="3238560"/>
            <a:ext cx="393840" cy="3301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00440" y="3428640"/>
            <a:ext cx="127080" cy="1522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6819840" y="3161880"/>
            <a:ext cx="101520" cy="1270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832440" y="3086280"/>
            <a:ext cx="76320" cy="759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56080" y="42544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55920" y="4921200"/>
            <a:ext cx="17640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2418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4040" y="4749840"/>
            <a:ext cx="444600" cy="4190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11840" y="116532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35520" y="152244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1461960"/>
            <a:ext cx="293760" cy="252720"/>
          </a:xfrm>
          <a:custGeom>
            <a:avLst/>
            <a:gdLst/>
            <a:ahLst/>
            <a:rect l="l" t="t" r="r" b="b"/>
            <a:pathLst>
              <a:path w="185" h="159">
                <a:moveTo>
                  <a:pt x="0" y="0"/>
                </a:moveTo>
                <a:lnTo>
                  <a:pt x="184" y="0"/>
                </a:lnTo>
                <a:lnTo>
                  <a:pt x="184" y="158"/>
                </a:lnTo>
                <a:lnTo>
                  <a:pt x="0" y="158"/>
                </a:lnTo>
                <a:lnTo>
                  <a:pt x="0" y="0"/>
                </a:lnTo>
              </a:path>
            </a:pathLst>
          </a:cu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267080"/>
            <a:ext cx="29973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 created by assigning a buffer distance around polyg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8720" y="9144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arcels within 150’ of selected item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4762800" cy="3316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4724640" cy="3294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Buffer is Cre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Buffer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676520"/>
            <a:ext cx="5705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s Creat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34000" y="2689200"/>
            <a:ext cx="1352520" cy="1060560"/>
            <a:chOff x="5634000" y="2689200"/>
            <a:chExt cx="1352520" cy="1060560"/>
          </a:xfrm>
        </p:grpSpPr>
        <p:sp>
          <p:nvSpPr>
            <p:cNvPr id="236" name=""/>
            <p:cNvSpPr/>
            <p:nvPr/>
          </p:nvSpPr>
          <p:spPr>
            <a:xfrm>
              <a:off x="6510240" y="268920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34000" y="328608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85040" y="319716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40560" y="3251160"/>
              <a:ext cx="406080" cy="4320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2743200"/>
              <a:ext cx="482760" cy="4446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702400" y="2717640"/>
              <a:ext cx="914400" cy="63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943600" y="3384360"/>
              <a:ext cx="520560" cy="36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02320" y="3022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3400" y="3238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00440" y="3428640"/>
              <a:ext cx="12708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6819840" y="3161880"/>
              <a:ext cx="101520" cy="12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832440" y="3086280"/>
              <a:ext cx="76320" cy="7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562720" y="42418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34040" y="4749840"/>
            <a:ext cx="444600" cy="4190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727600" y="1155600"/>
            <a:ext cx="571680" cy="838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556080" y="42544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55920" y="4921200"/>
            <a:ext cx="176400" cy="152280"/>
          </a:xfrm>
          <a:prstGeom prst="rect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259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58720" y="11430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5040" y="22860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8360" y="1295280"/>
            <a:ext cx="6324840" cy="4267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ximity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patial Joins on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ortioning Non-Coterminous 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ing Area and Perimeter to 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nding Polygon Centroi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ea and Perimeter VB Scrip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vanced calculations for finding area, perimeter, and length of featur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290840" y="1909800"/>
            <a:ext cx="3581640" cy="3114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ea and Perimeter VB Scrip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 field in shapefile (e.g. area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se calculator function and Visual Basic Script to calculate polygon area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140360" y="1523880"/>
            <a:ext cx="3581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ea and Perimeter VB Scrip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sult is the area of each polygon featur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20840" y="1905120"/>
            <a:ext cx="579132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5040" y="22860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vanced calculations for finding polygon centroi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ed as an XY Data Lay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749840" y="1295280"/>
            <a:ext cx="2816280" cy="2779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0120" y="4114800"/>
            <a:ext cx="6703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how the centroids of a polyg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ort attributes as tabl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 as XY Dat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97560" y="1295280"/>
            <a:ext cx="1697040" cy="1444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073320" y="3048120"/>
            <a:ext cx="3429000" cy="2655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892840" y="2209680"/>
            <a:ext cx="1932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eate buffers around centroi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064040" y="1600200"/>
            <a:ext cx="3581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939960" y="1219320"/>
            <a:ext cx="60195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015920" y="1219320"/>
            <a:ext cx="5867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5040" y="22860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ximity Buffer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03240" y="3276720"/>
            <a:ext cx="472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03240" y="2209680"/>
            <a:ext cx="472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2400" y="23623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58720" y="304920"/>
            <a:ext cx="7696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Examples of apporti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4280" y="1508040"/>
            <a:ext cx="740736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You want to know the population of a ZIP code but only have census tr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roximate the population of zip codes using Census Tracts or B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pulation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3579840" cy="1523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Begin with census tract populati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576680" y="1219320"/>
            <a:ext cx="2764080" cy="19936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97560" y="1219320"/>
            <a:ext cx="2743200" cy="20714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30120" y="1981080"/>
            <a:ext cx="3579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verlay zip codes which are non-coterminou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0120" y="2971800"/>
            <a:ext cx="3579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se apportionment to estimate the population in each census tra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597560" y="1219320"/>
            <a:ext cx="2743200" cy="2104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54160" y="4191120"/>
            <a:ext cx="357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se census blocks for better estima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597560" y="3505320"/>
            <a:ext cx="2744640" cy="2131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30120" y="1219320"/>
            <a:ext cx="7332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roximate the population of police zones by using Census Tracts or B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8720" y="304920"/>
            <a:ext cx="7696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Other examples of apporti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768760" y="2057400"/>
            <a:ext cx="4410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Other examples of apportionmen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roximate the population of voting districts by using Census Tracts or Block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140360" y="1295280"/>
            <a:ext cx="3581280" cy="2783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Other census data to apportion…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ion (tract and block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ace (tract and block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Housing Units (tract and block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Educational Attainment (tract only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come (tract only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verty Status (tract only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Others?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58360" y="228240"/>
            <a:ext cx="7311960" cy="1600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utorial Example: Apportion Data for Non-Coterminous 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34680" y="1980720"/>
            <a:ext cx="7313400" cy="2971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blem: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ice want to know the number of under-educated persons (over Age22) in their car bea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nder-educated data is located in Census tracts (not car beat polygon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ensus tracts and car beats are non-coterminou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8720" y="18288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58720" y="304920"/>
            <a:ext cx="7365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Apportion Data for Non-Coterminous</a:t>
            </a:r>
            <a:br>
              <a:rPr sz="3200"/>
            </a:b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8720" y="129528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4280" y="1508040"/>
            <a:ext cx="740736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ortioning (makes approximate splits) of each tract’s data to two or more car bea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530520" y="2119320"/>
            <a:ext cx="37339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roach to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58720" y="1523880"/>
            <a:ext cx="7313760" cy="2362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8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ral alternatives for apportioning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-by area (polygon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-length of street network (arcs/line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-block centroids (point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720" y="106668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roach to Apportionment 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292640" y="2057400"/>
            <a:ext cx="3655800" cy="3530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987720" y="3581280"/>
            <a:ext cx="3581640" cy="11638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149640" y="2506680"/>
            <a:ext cx="4552920" cy="0"/>
          </a:xfrm>
          <a:prstGeom prst="line">
            <a:avLst/>
          </a:prstGeom>
          <a:ln w="9360">
            <a:solidFill>
              <a:srgbClr val="0203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355680" y="1066680"/>
            <a:ext cx="73137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tter to use Census Block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reas are smaller than 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ensus Tracts (better population estima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ots are centroids 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f census b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ach dot has census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ata attached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entroids DO NOT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ave the under-educated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ata, census tracts 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ximit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676520"/>
            <a:ext cx="5705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s Creat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634000" y="2689200"/>
            <a:ext cx="1352520" cy="1060560"/>
            <a:chOff x="5634000" y="2689200"/>
            <a:chExt cx="1352520" cy="1060560"/>
          </a:xfrm>
        </p:grpSpPr>
        <p:sp>
          <p:nvSpPr>
            <p:cNvPr id="93" name=""/>
            <p:cNvSpPr/>
            <p:nvPr/>
          </p:nvSpPr>
          <p:spPr>
            <a:xfrm>
              <a:off x="6510240" y="268920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34000" y="328608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85040" y="319716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0560" y="3251160"/>
              <a:ext cx="406080" cy="4320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24480" y="2743200"/>
              <a:ext cx="482760" cy="4446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702400" y="2717640"/>
              <a:ext cx="914400" cy="63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943600" y="3384360"/>
              <a:ext cx="520560" cy="36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2320" y="3022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13400" y="3238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6400440" y="3428640"/>
              <a:ext cx="12708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6819840" y="3161880"/>
              <a:ext cx="101520" cy="12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832440" y="3086280"/>
              <a:ext cx="76320" cy="7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562720" y="42418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34040" y="4749840"/>
            <a:ext cx="444600" cy="4190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27600" y="1155600"/>
            <a:ext cx="571680" cy="838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56080" y="42544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55920" y="4921200"/>
            <a:ext cx="176400" cy="152280"/>
          </a:xfrm>
          <a:prstGeom prst="rect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116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58720" y="11430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roach to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view:</a:t>
            </a:r>
            <a:br>
              <a:rPr sz="2400"/>
            </a:b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r beats and census tracts intersec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ensus tracts have under-educated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ensus blocks have population data (and are smaller than census tracts, thus better to apportion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8720" y="106668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Zoomed view of 2 car beats and one trac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Beat 261 and 251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ract 360550002100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015920" y="2286000"/>
            <a:ext cx="5639040" cy="334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9000"/>
          </a:bodyPr>
          <a:p>
            <a:pPr lvl="1" marL="356400" indent="-130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ract 360550002100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-93960">
              <a:lnSpc>
                <a:spcPct val="8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as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205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persons aged 25 or older with less than a HS educati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-93960">
              <a:lnSpc>
                <a:spcPct val="8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26 block centroids span 2 bea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38300" t="28033" r="8509" b="0"/>
          <a:stretch/>
        </p:blipFill>
        <p:spPr>
          <a:xfrm>
            <a:off x="4216320" y="1676520"/>
            <a:ext cx="3505320" cy="324000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781560" y="3657600"/>
            <a:ext cx="4577760" cy="1015920"/>
            <a:chOff x="781560" y="3657600"/>
            <a:chExt cx="4577760" cy="1015920"/>
          </a:xfrm>
        </p:grpSpPr>
        <p:sp>
          <p:nvSpPr>
            <p:cNvPr id="358" name=""/>
            <p:cNvSpPr/>
            <p:nvPr/>
          </p:nvSpPr>
          <p:spPr>
            <a:xfrm>
              <a:off x="3606840" y="3809880"/>
              <a:ext cx="1752480" cy="0"/>
            </a:xfrm>
            <a:prstGeom prst="line">
              <a:avLst/>
            </a:prstGeom>
            <a:ln w="9360">
              <a:solidFill>
                <a:srgbClr val="0203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1560" y="3657600"/>
              <a:ext cx="2757960" cy="1015920"/>
            </a:xfrm>
            <a:prstGeom prst="rect">
              <a:avLst/>
            </a:prstGeom>
            <a:noFill/>
            <a:ln w="9360">
              <a:solidFill>
                <a:srgbClr val="020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13 block centroi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Lie in beat </a:t>
              </a:r>
              <a:r>
                <a:rPr b="1" lang="en-US" sz="2000" spc="-1" strike="noStrike">
                  <a:solidFill>
                    <a:srgbClr val="a2162f"/>
                  </a:solidFill>
                  <a:latin typeface="Arial"/>
                </a:rPr>
                <a:t>26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Pop. &gt;22=1,17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677120" y="4190760"/>
            <a:ext cx="2757960" cy="1625760"/>
            <a:chOff x="4677120" y="4190760"/>
            <a:chExt cx="2757960" cy="1625760"/>
          </a:xfrm>
        </p:grpSpPr>
        <p:sp>
          <p:nvSpPr>
            <p:cNvPr id="361" name=""/>
            <p:cNvSpPr/>
            <p:nvPr/>
          </p:nvSpPr>
          <p:spPr>
            <a:xfrm flipV="1">
              <a:off x="6578640" y="4190760"/>
              <a:ext cx="0" cy="533160"/>
            </a:xfrm>
            <a:prstGeom prst="line">
              <a:avLst/>
            </a:prstGeom>
            <a:ln w="9360">
              <a:solidFill>
                <a:srgbClr val="0203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77120" y="4800600"/>
              <a:ext cx="2757960" cy="1015920"/>
            </a:xfrm>
            <a:prstGeom prst="rect">
              <a:avLst/>
            </a:prstGeom>
            <a:noFill/>
            <a:ln w="9360">
              <a:solidFill>
                <a:srgbClr val="020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13 block centroi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Lie in beat </a:t>
              </a:r>
              <a:r>
                <a:rPr b="1" lang="en-US" sz="2000" spc="-1" strike="noStrike">
                  <a:solidFill>
                    <a:srgbClr val="a2162f"/>
                  </a:solidFill>
                  <a:latin typeface="Arial"/>
                </a:rPr>
                <a:t>25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Pop. &gt;22=1,08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30120" y="49528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otal Population=2,26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286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5000"/>
          </a:bodyPr>
          <a:p>
            <a:pPr lvl="1" marL="342000" indent="-124920">
              <a:lnSpc>
                <a:spcPct val="8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ortionment assumes that the fraction of under educated persons 25 or older is the same as that for the general population aged 25 or older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4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41080" indent="-90000">
              <a:lnSpc>
                <a:spcPct val="8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at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261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1,177/2,266 = 0.519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41080" indent="-90000">
              <a:lnSpc>
                <a:spcPct val="8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at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251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1,089/2,266 = 0.481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4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205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is the number of under-educated people in tract 36055002100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hus we estimate the contribution of tract 36055002100 to car beat 261’s under-educated population to be (1,177/2,266)x205 =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106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.  For car beat 251 it is (1,089/2,266)x205 =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99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o calculate this in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GIS, we need to perform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intersects and joins…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38300" t="28033" r="8509" b="0"/>
          <a:stretch/>
        </p:blipFill>
        <p:spPr>
          <a:xfrm>
            <a:off x="4521240" y="3048120"/>
            <a:ext cx="3352680" cy="22906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lock Centroids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two fields: TRACTID and SumAge22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TRACTID is a the census tract ID numbers (for later joins and summari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SumAge22 is the summary of population Age22+ (calculating multiple age colum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082960" y="3352680"/>
            <a:ext cx="5410080" cy="1757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rom the block centroids, create a new summary table counting the number of persons Age22+ for each census trac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530520" y="2666880"/>
            <a:ext cx="3581640" cy="25974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eate a new layer intersecting car beats and census trac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ields will include values from both tabl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444920" y="1143000"/>
            <a:ext cx="3114720" cy="40384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82760" y="3276720"/>
            <a:ext cx="4724280" cy="13460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patially join the new intersecting layer of car beats and census tracts (polygons) to block centroids (point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New points will have beat and census tract dat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370400" y="1219320"/>
            <a:ext cx="3421080" cy="44956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Join the summary table of Age22 or greater to the newly created points of car beats, census tracts (block centroid points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he result is the summary of Age22 or greater population is now on block centroid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216320" y="3352680"/>
            <a:ext cx="3581640" cy="12747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rcRect l="38300" t="28033" r="8509" b="0"/>
          <a:stretch/>
        </p:blipFill>
        <p:spPr>
          <a:xfrm>
            <a:off x="4521240" y="1219320"/>
            <a:ext cx="3179880" cy="21715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440" y="1295280"/>
            <a:ext cx="29970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 created by assigning a buffer distance around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7600" y="1155600"/>
            <a:ext cx="571680" cy="838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8720" y="11430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um Under-Educated by Car Beat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87320" y="1295280"/>
            <a:ext cx="3579840" cy="21751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597560" y="1295280"/>
            <a:ext cx="2984400" cy="36576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58720" y="3809880"/>
            <a:ext cx="4648320" cy="17002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Join to Bea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Join the sum of under-educated population by car beat to the car beats lay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444920" y="533520"/>
            <a:ext cx="2065320" cy="30099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3149640" y="2286000"/>
            <a:ext cx="2714760" cy="35812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711360" y="3733920"/>
            <a:ext cx="2361960" cy="1744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558720" y="914400"/>
            <a:ext cx="3581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Map Under-Educated by Car Bea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320840" y="1143000"/>
            <a:ext cx="3581280" cy="41259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978440" y="4191120"/>
            <a:ext cx="2890800" cy="1081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view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58360" y="1295280"/>
            <a:ext cx="6324840" cy="4267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ximity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patial Joins on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ortioning Non-Coterminous 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lygon buffer created ¼ mile around schoo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5040" y="1828800"/>
            <a:ext cx="50166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Buff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echnology Businesses that are with ¼ mile of Convention Center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63640" y="2057400"/>
            <a:ext cx="4519440" cy="347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Polygon buffer created 20’ around ligh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Shows what areas will be lit in a parking l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Buff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4969080" cy="3622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- Buffer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ount Faculty and Staff within ¼ mile of Universit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patially join buffers to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ummarize to count the number of faculty and staff in ¼ mile buff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Join the buffer count back to the buffer polyg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21326" t="6716" r="2105" b="17017"/>
          <a:stretch/>
        </p:blipFill>
        <p:spPr>
          <a:xfrm>
            <a:off x="2311560" y="3048120"/>
            <a:ext cx="3962160" cy="24206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dc:language>en-US</dc:language>
  <cp:lastModifiedBy>Kristen Kurland</cp:lastModifiedBy>
  <cp:lastPrinted>2001-01-21T18:12:54Z</cp:lastPrinted>
  <dcterms:modified xsi:type="dcterms:W3CDTF">2005-07-04T17:43:38Z</dcterms:modified>
  <cp:revision>273</cp:revision>
  <dc:subject/>
  <dc:title>No Slide Title</dc:title>
</cp:coreProperties>
</file>