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26.png" ContentType="image/png"/>
  <Override PartName="/ppt/media/image32.png" ContentType="image/png"/>
  <Override PartName="/ppt/media/image63.wmf" ContentType="image/x-wmf"/>
  <Override PartName="/ppt/media/image23.png" ContentType="image/png"/>
  <Override PartName="/ppt/media/image62.wmf" ContentType="image/x-wmf"/>
  <Override PartName="/ppt/media/image22.png" ContentType="image/png"/>
  <Override PartName="/ppt/media/image58.wmf" ContentType="image/x-wmf"/>
  <Override PartName="/ppt/media/image21.png" ContentType="image/png"/>
  <Override PartName="/ppt/media/image57.png" ContentType="image/png"/>
  <Override PartName="/ppt/media/image20.png" ContentType="image/png"/>
  <Override PartName="/ppt/media/image59.wmf" ContentType="image/x-wmf"/>
  <Override PartName="/ppt/media/image24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60.wmf" ContentType="image/x-wmf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1.wmf" ContentType="image/x-wmf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88E353-872D-432B-B300-048A25C0687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D692D1D-E658-449E-9845-C4955D35A9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0A58FAB-FC5B-4776-96DD-AE15B20258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AA5AEDF-A0FB-447E-94C6-5210C3D959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3C555E-CFD4-40C8-B7F9-721181CF620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693335-C5FE-4D17-AD06-861EE7E61D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900676-289F-4E8C-8EF0-36D63BCA3BE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A5864E-1D85-43AF-A40E-7540EE668F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ools within 300 feet of a convenience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ation planner wants to know what neighborhoods are affected by construction project on major ro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EFB1DC-C24B-4610-AE8F-C3ED55BB66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403906-9C42-4A54-ACB5-CC314BB87E0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 works officials need to know what streets might flo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381CB56-B89F-4ACE-A4B8-332585AB29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 planners want to know what buildings are completely within a zoning ar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D2F0D4-08EE-4206-B8C7-DE13E5DA13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53E0F5-6F16-4E56-9B3C-F2B654FA6A2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5E9A27-B95B-46CF-B046-43B897CB564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3D8CC0-B2B5-4042-A3C6-EF8B3A5A41F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8D7AFD-0836-49CB-AE1F-75C8FE9C253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0912206-02A2-4F70-9B6B-077237E6300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B8DBEDF-5837-4900-8C4D-6FB80803CB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CB5DD0A-75AC-4DAD-A2F9-8366675DF5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2FC07C-2973-4C14-A723-AC8E2570C75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4FF8EC8-B71B-460A-91AC-92820224CDC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A12ECBD-C442-4000-8A36-05B7EB5380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9E1D073-4716-4F0A-9731-26B1985C8D9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347FEC-471A-46BF-830F-A95B051EEA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3BE1587-300C-4712-8277-75E7D4376DA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A99C58-D19D-445C-A4A3-59E9F27636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2B232F-E2F6-4C5D-BD53-3C5A681412C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6E711-7DB8-4F3E-8DEB-8EEC67C2BBB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F8C4796-36A2-4564-8BD6-8F072FAEAA3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D9BB31-A6AF-402D-B10F-9C1D9942197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5B2E860-B27A-4C95-8EDE-826AD17B26C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57BF49-DAB2-4310-B527-48FDD702E36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A13F489-20C0-435A-B2FD-6F3342322F7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982FE3-DF43-4B26-8BCD-8F5370B959A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CBAEFC-F222-4DBB-87B7-4C4854D9982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7A5121-CAFC-45FD-9B5C-40C91DDD26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E3FB7B3-B323-4D63-85E8-7911EDD44C6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12E6B97-38E3-4370-9031-7B5077C92A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21FB3EB-FE65-4AE9-BC68-567B24493B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AE5836-10C8-40FF-9C9A-797713A9D8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B2D611-7A32-489E-BAE8-62FC60B8C88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F3DFE35-C331-4277-B261-64E79C6F20E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ity manager needs to know what buildings intersect flood zones and wants the flood data attached to each intersecting buil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0D0DF2-217B-4B04-A989-88A5341069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5DE59C-B223-4231-8DC2-C85FC77290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5EE6CE7-7F5E-4E22-AAEA-C1B541B7C5A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BFB7EF-8E3C-4E00-A9CA-7D674E83D0D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087F749-7550-4FDC-A88D-86F7CDE415C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7226942-2681-43C5-80FD-B83304A82B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51EE2C8-8420-4475-8F7E-A62B4A85916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37F0E8-7E4A-4EAB-8D8E-1AAE95F51C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1C655F74-1B05-4E5C-A942-85B6D2F95444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rcRect l="21094" t="3125" r="58594" b="66668"/>
          <a:stretch/>
        </p:blipFill>
        <p:spPr>
          <a:xfrm>
            <a:off x="635040" y="1752480"/>
            <a:ext cx="2459160" cy="2743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pic>
        <p:nvPicPr>
          <p:cNvPr id="94" name="Picture 3" descr=""/>
          <p:cNvPicPr/>
          <p:nvPr/>
        </p:nvPicPr>
        <p:blipFill>
          <a:blip r:embed="rId2"/>
          <a:srcRect l="32034" t="14582" r="26564" b="10418"/>
          <a:stretch/>
        </p:blipFill>
        <p:spPr>
          <a:xfrm>
            <a:off x="3530520" y="1143000"/>
            <a:ext cx="336564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9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cxnSp>
        <p:nvCxnSpPr>
          <p:cNvPr id="96" name="Straight Arrow Connector 13"/>
          <p:cNvCxnSpPr/>
          <p:nvPr/>
        </p:nvCxnSpPr>
        <p:spPr>
          <a:xfrm flipH="1" flipV="1">
            <a:off x="4368600" y="2514240"/>
            <a:ext cx="83880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7" name="Straight Arrow Connector 16"/>
          <p:cNvCxnSpPr/>
          <p:nvPr/>
        </p:nvCxnSpPr>
        <p:spPr>
          <a:xfrm flipH="1" flipV="1">
            <a:off x="6501600" y="4723560"/>
            <a:ext cx="839160" cy="2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98" name="Straight Arrow Connector 17"/>
          <p:cNvCxnSpPr/>
          <p:nvPr/>
        </p:nvCxnSpPr>
        <p:spPr>
          <a:xfrm flipH="1" flipV="1">
            <a:off x="4444200" y="4190760"/>
            <a:ext cx="83916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ed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rcRect l="31510" t="14582" r="9896" b="11457"/>
          <a:stretch/>
        </p:blipFill>
        <p:spPr>
          <a:xfrm>
            <a:off x="1320840" y="1371600"/>
            <a:ext cx="43466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0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Other Proximity Quer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3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4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15760" y="21060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58720" y="1066320"/>
            <a:ext cx="693432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chools near park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82760" y="1600200"/>
            <a:ext cx="4956120" cy="4114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482760" y="1600200"/>
            <a:ext cx="4956120" cy="4114800"/>
          </a:xfrm>
          <a:prstGeom prst="rect">
            <a:avLst/>
          </a:prstGeom>
          <a:ln w="0">
            <a:noFill/>
          </a:ln>
        </p:spPr>
      </p:pic>
      <p:sp>
        <p:nvSpPr>
          <p:cNvPr id="10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4444920" y="1447920"/>
            <a:ext cx="3230640" cy="4427280"/>
          </a:xfrm>
          <a:prstGeom prst="rect">
            <a:avLst/>
          </a:prstGeom>
          <a:ln w="0">
            <a:noFill/>
          </a:ln>
        </p:spPr>
      </p:pic>
      <p:cxnSp>
        <p:nvCxnSpPr>
          <p:cNvPr id="111" name="Straight Arrow Connector 8"/>
          <p:cNvCxnSpPr/>
          <p:nvPr/>
        </p:nvCxnSpPr>
        <p:spPr>
          <a:xfrm flipH="1" flipV="1">
            <a:off x="5231520" y="2857320"/>
            <a:ext cx="83916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2" name="Straight Arrow Connector 9"/>
          <p:cNvCxnSpPr/>
          <p:nvPr/>
        </p:nvCxnSpPr>
        <p:spPr>
          <a:xfrm>
            <a:off x="3530520" y="4952520"/>
            <a:ext cx="991440" cy="252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3" name="Straight Arrow Connector 10"/>
          <p:cNvCxnSpPr/>
          <p:nvPr/>
        </p:nvCxnSpPr>
        <p:spPr>
          <a:xfrm flipH="1" flipV="1">
            <a:off x="5054400" y="4419360"/>
            <a:ext cx="83880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4" name="Straight Arrow Connector 12"/>
          <p:cNvCxnSpPr/>
          <p:nvPr/>
        </p:nvCxnSpPr>
        <p:spPr>
          <a:xfrm>
            <a:off x="3568680" y="5334120"/>
            <a:ext cx="991440" cy="216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15760" y="21060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93432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View schools in attribute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347760" y="1698480"/>
            <a:ext cx="4929120" cy="4092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1504800" y="3344760"/>
            <a:ext cx="6350040" cy="2286000"/>
          </a:xfrm>
          <a:prstGeom prst="rect">
            <a:avLst/>
          </a:prstGeom>
          <a:ln w="0">
            <a:noFill/>
          </a:ln>
        </p:spPr>
      </p:pic>
      <p:sp>
        <p:nvSpPr>
          <p:cNvPr id="1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15760" y="223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ints Near Point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718668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chools are near convenient stor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787320" y="1676520"/>
            <a:ext cx="4954680" cy="4114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2"/>
          <a:stretch/>
        </p:blipFill>
        <p:spPr>
          <a:xfrm>
            <a:off x="406440" y="4648320"/>
            <a:ext cx="72072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"/>
          <p:cNvPicPr/>
          <p:nvPr/>
        </p:nvPicPr>
        <p:blipFill>
          <a:blip r:embed="rId1"/>
          <a:srcRect l="34636" t="15625" r="23958" b="10418"/>
          <a:stretch/>
        </p:blipFill>
        <p:spPr>
          <a:xfrm>
            <a:off x="3835440" y="1371600"/>
            <a:ext cx="341316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 Intersecting Lin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82400" y="1066320"/>
            <a:ext cx="731340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eighborhoods that Intersect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2"/>
          <a:stretch/>
        </p:blipFill>
        <p:spPr>
          <a:xfrm>
            <a:off x="254160" y="1676520"/>
            <a:ext cx="3578040" cy="2971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3962520" y="1676520"/>
            <a:ext cx="3578040" cy="2971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406440" y="4495680"/>
            <a:ext cx="7448400" cy="1398600"/>
          </a:xfrm>
          <a:prstGeom prst="rect">
            <a:avLst/>
          </a:prstGeom>
          <a:ln w="0">
            <a:noFill/>
          </a:ln>
        </p:spPr>
      </p:pic>
      <p:sp>
        <p:nvSpPr>
          <p:cNvPr id="13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15760" y="196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s Intersecting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9674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treets or sidewalks that intersect floodplai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1"/>
          <a:stretch/>
        </p:blipFill>
        <p:spPr>
          <a:xfrm>
            <a:off x="787320" y="1752480"/>
            <a:ext cx="58514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3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15760" y="196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s Intersecting Polyg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54160" y="106668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Buildings completely within zoning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558720" y="1523880"/>
            <a:ext cx="585144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3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0" name="Picture 5" descr=""/>
          <p:cNvPicPr/>
          <p:nvPr/>
        </p:nvPicPr>
        <p:blipFill>
          <a:blip r:embed="rId2"/>
          <a:srcRect l="35939" t="15625" r="24220" b="10418"/>
          <a:stretch/>
        </p:blipFill>
        <p:spPr>
          <a:xfrm>
            <a:off x="4673520" y="1371600"/>
            <a:ext cx="3284640" cy="4572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p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77880" y="1150920"/>
            <a:ext cx="704376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You have tracts for an entire state, but want tracts for one county  onl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997360" y="1676520"/>
            <a:ext cx="3058920" cy="406404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6" name="Picture 6" descr=""/>
          <p:cNvPicPr/>
          <p:nvPr/>
        </p:nvPicPr>
        <p:blipFill>
          <a:blip r:embed="rId1"/>
          <a:srcRect l="28387" t="18750" r="50522" b="47918"/>
          <a:stretch/>
        </p:blipFill>
        <p:spPr>
          <a:xfrm>
            <a:off x="2158920" y="1447920"/>
            <a:ext cx="270036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cts like a “cookie cutter” to create a subset of features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49" name="Picture 3" descr=""/>
          <p:cNvPicPr/>
          <p:nvPr/>
        </p:nvPicPr>
        <p:blipFill>
          <a:blip r:embed="rId1"/>
          <a:stretch/>
        </p:blipFill>
        <p:spPr>
          <a:xfrm>
            <a:off x="271440" y="2573280"/>
            <a:ext cx="236232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150" name="Picture 4" descr=""/>
          <p:cNvPicPr/>
          <p:nvPr/>
        </p:nvPicPr>
        <p:blipFill>
          <a:blip r:embed="rId2"/>
          <a:stretch/>
        </p:blipFill>
        <p:spPr>
          <a:xfrm>
            <a:off x="2913120" y="2573280"/>
            <a:ext cx="236232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5554800" y="2573280"/>
            <a:ext cx="2361960" cy="1670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52" name="TextBox 10"/>
          <p:cNvSpPr/>
          <p:nvPr/>
        </p:nvSpPr>
        <p:spPr>
          <a:xfrm>
            <a:off x="209520" y="2243160"/>
            <a:ext cx="214596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Input features (streets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852640" y="2044800"/>
            <a:ext cx="24541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Clip features</a:t>
            </a:r>
            <a:br>
              <a:rPr sz="1400"/>
            </a:b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 (Central Business District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5394600" y="2166840"/>
            <a:ext cx="2728080" cy="2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t">
            <a:spAutoFit/>
          </a:bodyPr>
          <a:p>
            <a:pPr>
              <a:lnSpc>
                <a:spcPct val="80000"/>
              </a:lnSpc>
              <a:spcBef>
                <a:spcPts val="524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Output features (CBD streets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 vs 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p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lean edg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Looks goo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Dangling edg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Better for geocodin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58" name="Picture 7" descr=""/>
          <p:cNvPicPr/>
          <p:nvPr/>
        </p:nvPicPr>
        <p:blipFill>
          <a:blip r:embed="rId1"/>
          <a:stretch/>
        </p:blipFill>
        <p:spPr>
          <a:xfrm>
            <a:off x="4538520" y="1150920"/>
            <a:ext cx="2463840" cy="2031840"/>
          </a:xfrm>
          <a:prstGeom prst="rect">
            <a:avLst/>
          </a:prstGeom>
          <a:ln w="9360">
            <a:solidFill>
              <a:srgbClr val="dbe1fa"/>
            </a:solidFill>
            <a:miter/>
          </a:ln>
        </p:spPr>
      </p:pic>
      <p:grpSp>
        <p:nvGrpSpPr>
          <p:cNvPr id="159" name="Group 6"/>
          <p:cNvGrpSpPr/>
          <p:nvPr/>
        </p:nvGrpSpPr>
        <p:grpSpPr>
          <a:xfrm>
            <a:off x="4538520" y="3454560"/>
            <a:ext cx="2435400" cy="2031840"/>
            <a:chOff x="4538520" y="3454560"/>
            <a:chExt cx="2435400" cy="2031840"/>
          </a:xfrm>
        </p:grpSpPr>
        <p:pic>
          <p:nvPicPr>
            <p:cNvPr id="160" name="Picture 8" descr=""/>
            <p:cNvPicPr/>
            <p:nvPr/>
          </p:nvPicPr>
          <p:blipFill>
            <a:blip r:embed="rId2"/>
            <a:stretch/>
          </p:blipFill>
          <p:spPr>
            <a:xfrm>
              <a:off x="4538520" y="3454560"/>
              <a:ext cx="2435400" cy="2031840"/>
            </a:xfrm>
            <a:prstGeom prst="rect">
              <a:avLst/>
            </a:prstGeom>
            <a:ln w="9360">
              <a:solidFill>
                <a:srgbClr val="dbe1fa"/>
              </a:solidFill>
              <a:miter/>
            </a:ln>
          </p:spPr>
        </p:pic>
        <p:cxnSp>
          <p:nvCxnSpPr>
            <p:cNvPr id="161" name="Straight Arrow Connector 11"/>
            <p:cNvCxnSpPr/>
            <p:nvPr/>
          </p:nvCxnSpPr>
          <p:spPr>
            <a:xfrm flipH="1">
              <a:off x="6335640" y="3884760"/>
              <a:ext cx="549000" cy="28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2" name="Straight Arrow Connector 16"/>
            <p:cNvCxnSpPr/>
            <p:nvPr/>
          </p:nvCxnSpPr>
          <p:spPr>
            <a:xfrm flipH="1" flipV="1">
              <a:off x="6002640" y="5164920"/>
              <a:ext cx="294840" cy="1098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163" name="Straight Arrow Connector 18"/>
            <p:cNvCxnSpPr/>
            <p:nvPr/>
          </p:nvCxnSpPr>
          <p:spPr>
            <a:xfrm flipH="1" flipV="1">
              <a:off x="6223680" y="4696920"/>
              <a:ext cx="165600" cy="24408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16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p vs 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rcRect l="26826" t="14582" r="5990" b="19793"/>
          <a:stretch/>
        </p:blipFill>
        <p:spPr>
          <a:xfrm>
            <a:off x="1244520" y="1828800"/>
            <a:ext cx="4992840" cy="36576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167" name="TextBox 9"/>
          <p:cNvSpPr/>
          <p:nvPr/>
        </p:nvSpPr>
        <p:spPr>
          <a:xfrm>
            <a:off x="499320" y="1219320"/>
            <a:ext cx="68846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enn Avenue – ranging from street segment 1000-1098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0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3" name="Picture 6" descr=""/>
          <p:cNvPicPr/>
          <p:nvPr/>
        </p:nvPicPr>
        <p:blipFill>
          <a:blip r:embed="rId1"/>
          <a:stretch/>
        </p:blipFill>
        <p:spPr>
          <a:xfrm>
            <a:off x="2311560" y="1295280"/>
            <a:ext cx="2971800" cy="43452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7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reate regions using U.S. Stat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Use SUB_REGION field to dissolv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1800" spc="-1" strike="noStrike">
                <a:solidFill>
                  <a:srgbClr val="020323"/>
                </a:solidFill>
                <a:latin typeface="Arial"/>
              </a:rPr>
              <a:t>Sum popul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54160" y="2133720"/>
            <a:ext cx="7142040" cy="34876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78" name="Picture 3" descr=""/>
          <p:cNvPicPr/>
          <p:nvPr/>
        </p:nvPicPr>
        <p:blipFill>
          <a:blip r:embed="rId2"/>
          <a:stretch/>
        </p:blipFill>
        <p:spPr>
          <a:xfrm>
            <a:off x="4064040" y="1219320"/>
            <a:ext cx="3740040" cy="4605120"/>
          </a:xfrm>
          <a:prstGeom prst="rect">
            <a:avLst/>
          </a:prstGeom>
          <a:ln w="0">
            <a:noFill/>
          </a:ln>
        </p:spPr>
      </p:pic>
      <p:sp>
        <p:nvSpPr>
          <p:cNvPr id="17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Dissolve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tates dissolved to form regi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summed for each reg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2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5259240" cy="36576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88" name="Picture 5" descr=""/>
          <p:cNvPicPr/>
          <p:nvPr/>
        </p:nvPicPr>
        <p:blipFill>
          <a:blip r:embed="rId1"/>
          <a:stretch/>
        </p:blipFill>
        <p:spPr>
          <a:xfrm>
            <a:off x="2387520" y="1219320"/>
            <a:ext cx="2919600" cy="42670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lect tracts by County FIPS or ANSI I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= 031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473120" y="2666880"/>
            <a:ext cx="1814760" cy="203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987720" y="1752480"/>
            <a:ext cx="3024360" cy="4191120"/>
          </a:xfrm>
          <a:prstGeom prst="rect">
            <a:avLst/>
          </a:prstGeom>
          <a:ln w="0">
            <a:noFill/>
          </a:ln>
        </p:spPr>
      </p:pic>
      <p:sp>
        <p:nvSpPr>
          <p:cNvPr id="6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ends one or more data sets into an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existing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data se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eatures must be of the same typ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input datasets may overlap one another and/or the target datase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TEST option: field definitions of the feature classes must be the same and in the same order for all appended featur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NO TEST option: Input features schemas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do not have to match the target feature classes's </a:t>
            </a:r>
            <a:br>
              <a:rPr sz="2000"/>
            </a:b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schem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880" y="101592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uPage and Cook County are combining public works and need a new single street centerline fi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897200" y="2235240"/>
            <a:ext cx="4037040" cy="33303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96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end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end will </a:t>
            </a:r>
            <a:r>
              <a:rPr b="1" i="1" lang="en-US" sz="2400" spc="-1" strike="noStrike">
                <a:solidFill>
                  <a:srgbClr val="020323"/>
                </a:solidFill>
                <a:latin typeface="Arial"/>
              </a:rPr>
              <a:t>add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DuPage streets </a:t>
            </a:r>
            <a:r>
              <a:rPr b="1" i="1" lang="en-US" sz="2400" spc="-1" strike="noStrike">
                <a:solidFill>
                  <a:srgbClr val="020323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Cook County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99" name="Picture 3" descr=""/>
          <p:cNvPicPr/>
          <p:nvPr/>
        </p:nvPicPr>
        <p:blipFill>
          <a:blip r:embed="rId1"/>
          <a:stretch/>
        </p:blipFill>
        <p:spPr>
          <a:xfrm>
            <a:off x="2633760" y="1905120"/>
            <a:ext cx="346536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Layer</a:t>
            </a: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ne street layer (Cook County) with all records and field item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760400" y="2166840"/>
            <a:ext cx="394200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0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erg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6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09" name="Picture 5" descr=""/>
          <p:cNvPicPr/>
          <p:nvPr/>
        </p:nvPicPr>
        <p:blipFill>
          <a:blip r:embed="rId1"/>
          <a:stretch/>
        </p:blipFill>
        <p:spPr>
          <a:xfrm>
            <a:off x="2235240" y="1295280"/>
            <a:ext cx="2919240" cy="4267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erg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mbines multiple input datasets of the same data type into a single, </a:t>
            </a:r>
            <a:r>
              <a:rPr b="1" i="1" lang="en-US" sz="2400" spc="-1" strike="noStrike">
                <a:solidFill>
                  <a:srgbClr val="c00000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output datase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1379520" y="2133720"/>
            <a:ext cx="4437000" cy="36604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5" name="Picture 5" descr=""/>
          <p:cNvPicPr/>
          <p:nvPr/>
        </p:nvPicPr>
        <p:blipFill>
          <a:blip r:embed="rId2"/>
          <a:srcRect l="29170" t="25000" r="12239" b="28125"/>
          <a:stretch/>
        </p:blipFill>
        <p:spPr>
          <a:xfrm>
            <a:off x="1092240" y="2057400"/>
            <a:ext cx="5715000" cy="3429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sultant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New merged voting district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1625760" y="1897200"/>
            <a:ext cx="4178160" cy="3446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19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5" name="Picture 2" descr=""/>
          <p:cNvPicPr/>
          <p:nvPr/>
        </p:nvPicPr>
        <p:blipFill>
          <a:blip r:embed="rId1"/>
          <a:srcRect l="35419" t="26043" r="42708" b="44793"/>
          <a:stretch/>
        </p:blipFill>
        <p:spPr>
          <a:xfrm>
            <a:off x="2158920" y="1676520"/>
            <a:ext cx="320040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ttribute query extrac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tracts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e selected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xport to new feature</a:t>
            </a: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ass or shapefi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64040" y="1219320"/>
            <a:ext cx="3371760" cy="45720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7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Overlays two polygon layers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resulting output layer  has combined attribute data of the two inpu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ontains all the polygons from the inputs, whether or not they overlap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77880" y="1143000"/>
            <a:ext cx="677232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Neighborhoods and 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1015920" y="1693800"/>
            <a:ext cx="5843520" cy="4064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232" name="Picture 3" descr=""/>
          <p:cNvPicPr/>
          <p:nvPr/>
        </p:nvPicPr>
        <p:blipFill>
          <a:blip r:embed="rId2"/>
          <a:stretch/>
        </p:blipFill>
        <p:spPr>
          <a:xfrm>
            <a:off x="1015920" y="1693800"/>
            <a:ext cx="5843520" cy="4064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3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77880" y="1015560"/>
            <a:ext cx="6772320" cy="3251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tter describes characteristics of a neighborhood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10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entral business district 15222 vs 15219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353960" y="2370240"/>
            <a:ext cx="4675320" cy="32511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3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77880" y="1150920"/>
            <a:ext cx="731520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ttributes tables contain different fields and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203040" y="1897200"/>
            <a:ext cx="7720200" cy="1625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41" name="Picture 3" descr=""/>
          <p:cNvPicPr/>
          <p:nvPr/>
        </p:nvPicPr>
        <p:blipFill>
          <a:blip r:embed="rId2"/>
          <a:stretch/>
        </p:blipFill>
        <p:spPr>
          <a:xfrm>
            <a:off x="135000" y="3792600"/>
            <a:ext cx="7756560" cy="1693800"/>
          </a:xfrm>
          <a:prstGeom prst="rect">
            <a:avLst/>
          </a:prstGeom>
          <a:ln w="0">
            <a:noFill/>
          </a:ln>
        </p:spPr>
      </p:pic>
      <p:sp>
        <p:nvSpPr>
          <p:cNvPr id="242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Union Resul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03040" y="2235240"/>
            <a:ext cx="3811680" cy="26416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4132440" y="2235240"/>
            <a:ext cx="3811320" cy="26416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46" name="Rectangle 3"/>
          <p:cNvSpPr/>
          <p:nvPr/>
        </p:nvSpPr>
        <p:spPr>
          <a:xfrm>
            <a:off x="677880" y="1150920"/>
            <a:ext cx="73152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 marL="303120" indent="-303120">
              <a:lnSpc>
                <a:spcPct val="150000"/>
              </a:lnSpc>
              <a:spcBef>
                <a:spcPts val="624"/>
              </a:spcBef>
              <a:buClr>
                <a:srgbClr val="682701"/>
              </a:buClr>
              <a:buFont typeface="Wingdings 3" charset="2"/>
              <a:buChar char="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500" spc="-1" strike="noStrike">
                <a:solidFill>
                  <a:srgbClr val="020323"/>
                </a:solidFill>
                <a:latin typeface="Arial"/>
                <a:ea typeface="Osaka"/>
              </a:rPr>
              <a:t>New polygons with combined data</a:t>
            </a:r>
            <a:endParaRPr b="1" lang="en-US" sz="25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247" name="Group 15"/>
          <p:cNvGrpSpPr/>
          <p:nvPr/>
        </p:nvGrpSpPr>
        <p:grpSpPr>
          <a:xfrm>
            <a:off x="1693800" y="1897200"/>
            <a:ext cx="2320920" cy="3251160"/>
            <a:chOff x="1693800" y="1897200"/>
            <a:chExt cx="2320920" cy="3251160"/>
          </a:xfrm>
        </p:grpSpPr>
        <p:pic>
          <p:nvPicPr>
            <p:cNvPr id="248" name="Picture 6" descr=""/>
            <p:cNvPicPr/>
            <p:nvPr/>
          </p:nvPicPr>
          <p:blipFill>
            <a:blip r:embed="rId3"/>
            <a:stretch/>
          </p:blipFill>
          <p:spPr>
            <a:xfrm>
              <a:off x="2912760" y="1897200"/>
              <a:ext cx="110196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eft Arrow 13"/>
            <p:cNvSpPr/>
            <p:nvPr/>
          </p:nvSpPr>
          <p:spPr>
            <a:xfrm>
              <a:off x="1693800" y="3387240"/>
              <a:ext cx="1151280" cy="270720"/>
            </a:xfrm>
            <a:prstGeom prst="leftArrow">
              <a:avLst>
                <a:gd name="adj1" fmla="val 50000"/>
                <a:gd name="adj2" fmla="val 50028"/>
              </a:avLst>
            </a:prstGeom>
            <a:solidFill>
              <a:srgbClr val="2db12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4335480" y="1897200"/>
            <a:ext cx="2031840" cy="3251160"/>
            <a:chOff x="4335480" y="1897200"/>
            <a:chExt cx="2031840" cy="3251160"/>
          </a:xfrm>
        </p:grpSpPr>
        <p:pic>
          <p:nvPicPr>
            <p:cNvPr id="251" name="Picture 8" descr=""/>
            <p:cNvPicPr/>
            <p:nvPr/>
          </p:nvPicPr>
          <p:blipFill>
            <a:blip r:embed="rId4"/>
            <a:stretch/>
          </p:blipFill>
          <p:spPr>
            <a:xfrm>
              <a:off x="4335480" y="1897200"/>
              <a:ext cx="110196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Left Arrow 14"/>
            <p:cNvSpPr/>
            <p:nvPr/>
          </p:nvSpPr>
          <p:spPr>
            <a:xfrm flipH="1">
              <a:off x="5486760" y="3387240"/>
              <a:ext cx="880560" cy="270720"/>
            </a:xfrm>
            <a:prstGeom prst="leftArrow">
              <a:avLst>
                <a:gd name="adj1" fmla="val 50000"/>
                <a:gd name="adj2" fmla="val 50040"/>
              </a:avLst>
            </a:prstGeom>
            <a:solidFill>
              <a:srgbClr val="2db12d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25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ing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cToolbox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rcRect l="35419" t="26043" r="42708" b="44793"/>
          <a:stretch/>
        </p:blipFill>
        <p:spPr>
          <a:xfrm>
            <a:off x="2158920" y="1676520"/>
            <a:ext cx="3200400" cy="32004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loodzones and building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62" name="Picture 14" descr=""/>
          <p:cNvPicPr/>
          <p:nvPr/>
        </p:nvPicPr>
        <p:blipFill>
          <a:blip r:embed="rId1"/>
          <a:stretch/>
        </p:blipFill>
        <p:spPr>
          <a:xfrm>
            <a:off x="1092240" y="1752480"/>
            <a:ext cx="5742000" cy="40388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63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ntersect Resul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82400" y="1143000"/>
            <a:ext cx="73134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nly building polygons that intersect flood zones with combined data fiel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66" name="Picture 9" descr=""/>
          <p:cNvPicPr/>
          <p:nvPr/>
        </p:nvPicPr>
        <p:blipFill>
          <a:blip r:embed="rId1"/>
          <a:stretch/>
        </p:blipFill>
        <p:spPr>
          <a:xfrm>
            <a:off x="863640" y="1981080"/>
            <a:ext cx="5638680" cy="396396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26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Export selected featur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558720" y="1143000"/>
            <a:ext cx="4940280" cy="4572000"/>
          </a:xfrm>
          <a:prstGeom prst="rect">
            <a:avLst/>
          </a:prstGeom>
          <a:ln w="9360">
            <a:solidFill>
              <a:srgbClr val="d9d9d9"/>
            </a:solidFill>
            <a:miter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911760" y="1600200"/>
            <a:ext cx="3095640" cy="2532240"/>
          </a:xfrm>
          <a:prstGeom prst="rect">
            <a:avLst/>
          </a:prstGeom>
          <a:ln w="0">
            <a:noFill/>
          </a:ln>
        </p:spPr>
      </p:pic>
      <p:sp>
        <p:nvSpPr>
          <p:cNvPr id="75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Workflow processes can be complicate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utomates and strings functions togeth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1"/>
          <a:stretch/>
        </p:blipFill>
        <p:spPr>
          <a:xfrm>
            <a:off x="2921040" y="2514600"/>
            <a:ext cx="4800600" cy="3198960"/>
          </a:xfrm>
          <a:prstGeom prst="rect">
            <a:avLst/>
          </a:prstGeom>
          <a:ln w="0">
            <a:noFill/>
          </a:ln>
        </p:spPr>
      </p:pic>
      <p:sp>
        <p:nvSpPr>
          <p:cNvPr id="274" name="AutoShape 5"/>
          <p:cNvSpPr/>
          <p:nvPr/>
        </p:nvSpPr>
        <p:spPr>
          <a:xfrm>
            <a:off x="2254320" y="1866960"/>
            <a:ext cx="361944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5" name="Picture 8" descr=""/>
          <p:cNvPicPr/>
          <p:nvPr/>
        </p:nvPicPr>
        <p:blipFill>
          <a:blip r:embed="rId2"/>
          <a:stretch/>
        </p:blipFill>
        <p:spPr>
          <a:xfrm>
            <a:off x="1244520" y="1981080"/>
            <a:ext cx="1635120" cy="202428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0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</a:t>
            </a: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blem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You have census tracts from a state with population data but only want population for neighborhoods in a small region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olution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 Model Builder functions to clip census tracts and union to aggregate data to neighborhoo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1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  <p:animClr clrSpc="rgb">
                                <p:cBhvr>
                                  <p:cTn id="1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gin with census tracts for the state of Pennsylvani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1"/>
          <a:stretch/>
        </p:blipFill>
        <p:spPr>
          <a:xfrm>
            <a:off x="3378240" y="1981080"/>
            <a:ext cx="3581280" cy="30574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6" name="Line 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lip only tracts whose centers are located within Pittsburgh neighborhoods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nion the census tracts and neighborhoo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89" name="Picture 7" descr=""/>
          <p:cNvPicPr/>
          <p:nvPr/>
        </p:nvPicPr>
        <p:blipFill>
          <a:blip r:embed="rId1"/>
          <a:stretch/>
        </p:blipFill>
        <p:spPr>
          <a:xfrm>
            <a:off x="1701720" y="2286000"/>
            <a:ext cx="4800600" cy="316224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8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1" name="Line 9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Run the model…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1168560" y="1828800"/>
            <a:ext cx="5029200" cy="3406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Model Build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8" name="Picture 8" descr=""/>
          <p:cNvPicPr/>
          <p:nvPr/>
        </p:nvPicPr>
        <p:blipFill>
          <a:blip r:embed="rId1"/>
          <a:stretch/>
        </p:blipFill>
        <p:spPr>
          <a:xfrm>
            <a:off x="711360" y="1600200"/>
            <a:ext cx="6324480" cy="3587760"/>
          </a:xfrm>
          <a:prstGeom prst="rect">
            <a:avLst/>
          </a:prstGeom>
          <a:ln w="0">
            <a:noFill/>
          </a:ln>
        </p:spPr>
      </p:pic>
      <p:sp>
        <p:nvSpPr>
          <p:cNvPr id="299" name="Rectangle 10"/>
          <p:cNvSpPr/>
          <p:nvPr/>
        </p:nvSpPr>
        <p:spPr>
          <a:xfrm>
            <a:off x="558720" y="1219320"/>
            <a:ext cx="70106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isplay and query the resul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00" name="Picture 11" descr=""/>
          <p:cNvPicPr/>
          <p:nvPr/>
        </p:nvPicPr>
        <p:blipFill>
          <a:blip r:embed="rId2"/>
          <a:stretch/>
        </p:blipFill>
        <p:spPr>
          <a:xfrm>
            <a:off x="787320" y="3200400"/>
            <a:ext cx="2656080" cy="23479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13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Line 14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 new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58720" y="1066320"/>
            <a:ext cx="731376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ok County trac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11360" y="1676520"/>
            <a:ext cx="703260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2158920" y="1676520"/>
            <a:ext cx="56404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80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City of Pittsburgh tracts within municipality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rcRect l="32292" t="15625" r="9896" b="11457"/>
          <a:stretch/>
        </p:blipFill>
        <p:spPr>
          <a:xfrm>
            <a:off x="1549440" y="1752480"/>
            <a:ext cx="43498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87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elect by Location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58720" y="1066320"/>
            <a:ext cx="7313760" cy="4496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400" spc="-1" strike="noStrike">
                <a:solidFill>
                  <a:srgbClr val="020323"/>
                </a:solidFill>
                <a:latin typeface="Arial"/>
              </a:rPr>
              <a:t>Select municipality of Pittsburgh firs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rcRect l="32292" t="15625" r="9896" b="11457"/>
          <a:stretch/>
        </p:blipFill>
        <p:spPr>
          <a:xfrm>
            <a:off x="1701720" y="1600200"/>
            <a:ext cx="4349880" cy="411480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91" name="Line 4"/>
          <p:cNvSpPr/>
          <p:nvPr/>
        </p:nvSpPr>
        <p:spPr>
          <a:xfrm>
            <a:off x="635040" y="990720"/>
            <a:ext cx="7010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Kristen Kurland</cp:lastModifiedBy>
  <cp:lastPrinted>2001-01-21T18:12:54Z</cp:lastPrinted>
  <dcterms:modified xsi:type="dcterms:W3CDTF">2011-05-16T02:23:05Z</dcterms:modified>
  <cp:revision>240</cp:revision>
  <dc:subject/>
  <dc:title>No Slide Title</dc:title>
</cp:coreProperties>
</file>