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63.wmf" ContentType="image/x-wmf"/>
  <Override PartName="/ppt/media/image23.png" ContentType="image/png"/>
  <Override PartName="/ppt/media/image62.wmf" ContentType="image/x-wmf"/>
  <Override PartName="/ppt/media/image22.png" ContentType="image/png"/>
  <Override PartName="/ppt/media/image58.wmf" ContentType="image/x-wmf"/>
  <Override PartName="/ppt/media/image21.png" ContentType="image/png"/>
  <Override PartName="/ppt/media/image57.png" ContentType="image/png"/>
  <Override PartName="/ppt/media/image20.png" ContentType="image/png"/>
  <Override PartName="/ppt/media/image59.wmf" ContentType="image/x-wmf"/>
  <Override PartName="/ppt/media/image24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8129588" cy="6094413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46A29B-16FF-4A49-A155-B6AEC07D60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93640" y="2546280"/>
            <a:ext cx="676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974120" y="258840"/>
            <a:ext cx="137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ule IV; lecture 2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/12/94; v 2.0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382120" y="8632800"/>
            <a:ext cx="21081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ftware Construction with Ada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98BD52-28E9-4506-8F1C-FEE028CD89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67BB64-6A1A-4E5C-AB34-5D936F818B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F2CA8F-8BD8-417B-A9D2-3CA7A199F5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57FD92-8F72-4559-9BA1-64821A10CE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E0BA0E-A033-4D5D-A164-623BB20205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584463-56FC-4F8F-90EF-E12FFD790D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45F36C-E0CE-44D6-A031-264BA7BA46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s within 300 feet of a convenience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ation planner wants to know what neighborhoods are affected by construction project on major 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2AD704-47D9-4674-A681-428514CA4A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A21B47-2958-4919-B7A7-CF4D884278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works officials need to know what streets might fl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B59C43-6F83-4478-AE4D-12870E7A32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ty planners want to know what buildings are completely within a zoning ar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C1ADCA-0C53-4B10-BECD-AE2F2BCEF9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81F32F-DEC7-40E2-93B7-796E0FBA36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BFDCC4-E0F1-4A26-ABFF-0C68F890B5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12B4CC-4082-4AD3-8146-0D2C98F8DB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8F50A5-F9F3-46BB-94C4-3D95026916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F97E50-00E2-48A4-AABE-3F5B13B8F5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7DD0B3-6FE1-44DD-BEB6-66D8305E4C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A5A393-68B5-480C-95E3-56640B2A3D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71D675-1E78-4EE9-AA31-A7E156939D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0F54B-C96F-4FC2-8B21-741404D690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9B7E7-A542-4DCB-AD4D-70CC0F8CBF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8913A1-D299-4B1E-B1C3-064A92F798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18125-EC80-4DF4-BD80-8BA9D21E5C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23A093-6224-45CC-9C5C-2D6665ED10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F8C7E3-784D-4F56-9A56-8C24218711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D95E55-6EB2-46F6-8A4B-933A9EBDB4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72D39-DF4B-4CD6-88FE-3B14AB8337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F1AEB3-C53E-4491-8F6C-3A277970C5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A9C1A8-175F-4583-89D1-05C4435254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6728DF-0119-484B-B28B-D3E00FB37F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DE7942-B59A-4D8D-B22E-AF0691599B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1D99D6-28FA-4FA4-8648-69F62E006A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59CD4A-22FD-4176-B54A-48CC9C2D7B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BFCC22-02EB-43ED-9D4A-D111DEBA8F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C26365-26CF-42CC-B3C5-0E2DFC63F6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3AFC19-D2D7-4331-9C48-E9AE2F4A27D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9CD71-2562-4D90-8514-8758DCE708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7F323B-E6F7-4EB3-813A-322922265D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CF870F-8804-4F0C-BB28-842418A97D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005897-96A7-4E1F-B90B-1A96BCCD45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E9F6E1-F33A-4D6E-AFEC-E6F847E734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ty manager needs to know what buildings intersect flood zones and wants the flood data attached to each intersecting 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00013C-9FFC-4B55-B047-E90DD69BBF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2B0B4B-80C8-4BDC-9366-B9A4AA57E3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E3D5DD-AE6B-4373-8622-80FB78E942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151725-F459-4BEE-9587-4158BF7338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F1E741-4688-4ACE-808C-33B54C28E9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41584C-2B16-40CA-9D6A-445F4A0740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AB2D33-1FFA-4CB2-B038-CEF3916C50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5096FE-4640-4C8F-A096-870BFF78C6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156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0440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872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156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0440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7840" y="331920"/>
            <a:ext cx="731196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864400"/>
            <a:ext cx="8116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6080" bIns="4608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138560"/>
                <a:tab algn="r" pos="8001000"/>
                <a:tab algn="l" pos="8558280"/>
                <a:tab algn="l" pos="9509040"/>
                <a:tab algn="l" pos="1046016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IS </a:t>
            </a:r>
            <a:fld id="{A743C01D-8752-45F4-A49C-24854D3BB2C5}" type="slidenum">
              <a:rPr b="1" i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0" y="0"/>
            <a:ext cx="8109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" name="Rectangle 1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" name="Rectangle 2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Extrac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21094" t="3125" r="58594" b="66668"/>
          <a:stretch/>
        </p:blipFill>
        <p:spPr>
          <a:xfrm>
            <a:off x="635040" y="1752480"/>
            <a:ext cx="2459160" cy="274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  <p:pic>
        <p:nvPicPr>
          <p:cNvPr id="94" name="Picture 3" descr=""/>
          <p:cNvPicPr/>
          <p:nvPr/>
        </p:nvPicPr>
        <p:blipFill>
          <a:blip r:embed="rId2"/>
          <a:srcRect l="32034" t="14582" r="26564" b="10418"/>
          <a:stretch/>
        </p:blipFill>
        <p:spPr>
          <a:xfrm>
            <a:off x="3530520" y="1143000"/>
            <a:ext cx="3365640" cy="457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9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cxnSp>
        <p:nvCxnSpPr>
          <p:cNvPr id="96" name="Straight Arrow Connector 13"/>
          <p:cNvCxnSpPr/>
          <p:nvPr/>
        </p:nvCxnSpPr>
        <p:spPr>
          <a:xfrm flipH="1" flipV="1">
            <a:off x="4368600" y="2514240"/>
            <a:ext cx="83880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7" name="Straight Arrow Connector 16"/>
          <p:cNvCxnSpPr/>
          <p:nvPr/>
        </p:nvCxnSpPr>
        <p:spPr>
          <a:xfrm flipH="1" flipV="1">
            <a:off x="6501600" y="4723560"/>
            <a:ext cx="839160" cy="2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8" name="Straight Arrow Connector 17"/>
          <p:cNvCxnSpPr/>
          <p:nvPr/>
        </p:nvCxnSpPr>
        <p:spPr>
          <a:xfrm flipH="1" flipV="1">
            <a:off x="4444200" y="4190760"/>
            <a:ext cx="83916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ed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31510" t="14582" r="9896" b="11457"/>
          <a:stretch/>
        </p:blipFill>
        <p:spPr>
          <a:xfrm>
            <a:off x="1320840" y="1371600"/>
            <a:ext cx="434664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10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Other Proximity Queri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15760" y="21060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ints Near Polyg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8720" y="1066320"/>
            <a:ext cx="6934320" cy="4496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Schools near park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82760" y="1600200"/>
            <a:ext cx="495612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482760" y="1600200"/>
            <a:ext cx="495612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4444920" y="1447920"/>
            <a:ext cx="3230640" cy="4427280"/>
          </a:xfrm>
          <a:prstGeom prst="rect">
            <a:avLst/>
          </a:prstGeom>
          <a:ln w="0">
            <a:noFill/>
          </a:ln>
        </p:spPr>
      </p:pic>
      <p:cxnSp>
        <p:nvCxnSpPr>
          <p:cNvPr id="111" name="Straight Arrow Connector 8"/>
          <p:cNvCxnSpPr/>
          <p:nvPr/>
        </p:nvCxnSpPr>
        <p:spPr>
          <a:xfrm flipH="1" flipV="1">
            <a:off x="5231520" y="2857320"/>
            <a:ext cx="83916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2" name="Straight Arrow Connector 9"/>
          <p:cNvCxnSpPr/>
          <p:nvPr/>
        </p:nvCxnSpPr>
        <p:spPr>
          <a:xfrm>
            <a:off x="3530520" y="4952520"/>
            <a:ext cx="991440" cy="2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3" name="Straight Arrow Connector 10"/>
          <p:cNvCxnSpPr/>
          <p:nvPr/>
        </p:nvCxnSpPr>
        <p:spPr>
          <a:xfrm flipH="1" flipV="1">
            <a:off x="5054400" y="4419360"/>
            <a:ext cx="83880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Straight Arrow Connector 12"/>
          <p:cNvCxnSpPr/>
          <p:nvPr/>
        </p:nvCxnSpPr>
        <p:spPr>
          <a:xfrm>
            <a:off x="3568680" y="5334120"/>
            <a:ext cx="99144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15760" y="21060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ints Near Polyg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View schools in attribute tab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47760" y="1698480"/>
            <a:ext cx="4929120" cy="4092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504800" y="3344760"/>
            <a:ext cx="6350040" cy="228600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5760" y="223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ints Near Point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718668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Schools are near convenient stor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787320" y="1676520"/>
            <a:ext cx="495468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406440" y="4648320"/>
            <a:ext cx="72072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rcRect l="34636" t="15625" r="23958" b="10418"/>
          <a:stretch/>
        </p:blipFill>
        <p:spPr>
          <a:xfrm>
            <a:off x="3835440" y="1371600"/>
            <a:ext cx="3413160" cy="457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s Intersecting Lin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82400" y="1066320"/>
            <a:ext cx="7313400" cy="4496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eighborhoods that Intersect Stree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254160" y="1676520"/>
            <a:ext cx="357804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3962520" y="1676520"/>
            <a:ext cx="3578040" cy="297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4"/>
          <a:stretch/>
        </p:blipFill>
        <p:spPr>
          <a:xfrm>
            <a:off x="406440" y="4495680"/>
            <a:ext cx="7448400" cy="13986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15760" y="196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Lines Intersecting Polyg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69674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reets or sidewalks that intersect floodplai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787320" y="1752480"/>
            <a:ext cx="585144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3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15760" y="196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lygons Intersecting Polyg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4160" y="10666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Buildings completely within zoning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58720" y="1523880"/>
            <a:ext cx="585144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3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rcRect l="35939" t="15625" r="24220" b="10418"/>
          <a:stretch/>
        </p:blipFill>
        <p:spPr>
          <a:xfrm>
            <a:off x="4673520" y="1371600"/>
            <a:ext cx="3284640" cy="457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pp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query extrac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7880" y="1150920"/>
            <a:ext cx="704376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You have tracts for an entire state, but want tracts for one county  onl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997360" y="1676520"/>
            <a:ext cx="3058920" cy="4064040"/>
          </a:xfrm>
          <a:prstGeom prst="rect">
            <a:avLst/>
          </a:prstGeom>
          <a:ln w="0">
            <a:noFill/>
          </a:ln>
        </p:spPr>
      </p:pic>
      <p:sp>
        <p:nvSpPr>
          <p:cNvPr id="6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rcRect l="28387" t="18750" r="50522" b="47918"/>
          <a:stretch/>
        </p:blipFill>
        <p:spPr>
          <a:xfrm>
            <a:off x="2158920" y="1447920"/>
            <a:ext cx="2700360" cy="32004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p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cts like a “cookie cutter” to create a subset of features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71440" y="2573280"/>
            <a:ext cx="2362320" cy="1670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2913120" y="2573280"/>
            <a:ext cx="2362320" cy="1670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5554800" y="2573280"/>
            <a:ext cx="2361960" cy="1670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52" name="TextBox 10"/>
          <p:cNvSpPr/>
          <p:nvPr/>
        </p:nvSpPr>
        <p:spPr>
          <a:xfrm>
            <a:off x="209520" y="2243160"/>
            <a:ext cx="214596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Input features (streets)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852640" y="2044800"/>
            <a:ext cx="2454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Clip features</a:t>
            </a:r>
            <a:br>
              <a:rPr sz="1400"/>
            </a:b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 (Central Business District)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5394600" y="2166840"/>
            <a:ext cx="2728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Output features (CBD streets)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p vs 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p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lean edg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Looks good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Dangling edg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Better for geocodin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4538520" y="1150920"/>
            <a:ext cx="2463840" cy="2031840"/>
          </a:xfrm>
          <a:prstGeom prst="rect">
            <a:avLst/>
          </a:prstGeom>
          <a:ln w="9360">
            <a:solidFill>
              <a:srgbClr val="dbe1fa"/>
            </a:solidFill>
            <a:miter/>
          </a:ln>
        </p:spPr>
      </p:pic>
      <p:grpSp>
        <p:nvGrpSpPr>
          <p:cNvPr id="159" name="Group 6"/>
          <p:cNvGrpSpPr/>
          <p:nvPr/>
        </p:nvGrpSpPr>
        <p:grpSpPr>
          <a:xfrm>
            <a:off x="4538520" y="3454560"/>
            <a:ext cx="2435400" cy="2031840"/>
            <a:chOff x="4538520" y="3454560"/>
            <a:chExt cx="2435400" cy="2031840"/>
          </a:xfrm>
        </p:grpSpPr>
        <p:pic>
          <p:nvPicPr>
            <p:cNvPr id="160" name="Picture 8" descr=""/>
            <p:cNvPicPr/>
            <p:nvPr/>
          </p:nvPicPr>
          <p:blipFill>
            <a:blip r:embed="rId2"/>
            <a:stretch/>
          </p:blipFill>
          <p:spPr>
            <a:xfrm>
              <a:off x="4538520" y="3454560"/>
              <a:ext cx="2435400" cy="2031840"/>
            </a:xfrm>
            <a:prstGeom prst="rect">
              <a:avLst/>
            </a:prstGeom>
            <a:ln w="9360">
              <a:solidFill>
                <a:srgbClr val="dbe1fa"/>
              </a:solidFill>
              <a:miter/>
            </a:ln>
          </p:spPr>
        </p:pic>
        <p:cxnSp>
          <p:nvCxnSpPr>
            <p:cNvPr id="161" name="Straight Arrow Connector 11"/>
            <p:cNvCxnSpPr/>
            <p:nvPr/>
          </p:nvCxnSpPr>
          <p:spPr>
            <a:xfrm flipH="1">
              <a:off x="6335640" y="3884760"/>
              <a:ext cx="549000" cy="28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62" name="Straight Arrow Connector 16"/>
            <p:cNvCxnSpPr/>
            <p:nvPr/>
          </p:nvCxnSpPr>
          <p:spPr>
            <a:xfrm flipH="1" flipV="1">
              <a:off x="6002640" y="5164920"/>
              <a:ext cx="294840" cy="1098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63" name="Straight Arrow Connector 18"/>
            <p:cNvCxnSpPr/>
            <p:nvPr/>
          </p:nvCxnSpPr>
          <p:spPr>
            <a:xfrm flipH="1" flipV="1">
              <a:off x="6223680" y="4696920"/>
              <a:ext cx="165600" cy="244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16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p vs 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rcRect l="26826" t="14582" r="5990" b="19793"/>
          <a:stretch/>
        </p:blipFill>
        <p:spPr>
          <a:xfrm>
            <a:off x="1244520" y="1828800"/>
            <a:ext cx="4992840" cy="36576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167" name="TextBox 9"/>
          <p:cNvSpPr/>
          <p:nvPr/>
        </p:nvSpPr>
        <p:spPr>
          <a:xfrm>
            <a:off x="499320" y="1219320"/>
            <a:ext cx="6884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enn Avenue – ranging from street segment 1000-1098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issolv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311560" y="1295280"/>
            <a:ext cx="2971800" cy="43452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7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issolv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reate regions using U.S. Stat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Use SUB_REGION field to dissolv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Sum populatio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54160" y="2133720"/>
            <a:ext cx="7142040" cy="348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4064040" y="1219320"/>
            <a:ext cx="3740040" cy="4605120"/>
          </a:xfrm>
          <a:prstGeom prst="rect">
            <a:avLst/>
          </a:prstGeom>
          <a:ln w="0">
            <a:noFill/>
          </a:ln>
        </p:spPr>
      </p:pic>
      <p:sp>
        <p:nvSpPr>
          <p:cNvPr id="17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issolve Resul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tates dissolved to form regi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pulation summed for each region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084320" y="2031840"/>
            <a:ext cx="5259240" cy="36576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8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end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387520" y="1219320"/>
            <a:ext cx="2919600" cy="42670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8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query extrac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lect tracts by County FIPS or ANSI ID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ok County = 031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73120" y="2666880"/>
            <a:ext cx="1814760" cy="203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987720" y="1752480"/>
            <a:ext cx="302436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end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ends one or more data sets into an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existing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data se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features must be of the same typ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input datasets may overlap one another and/or the target datase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TEST option: field definitions of the feature classes must be the same and in the same order for all appended featur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O TEST option: Input features schemas</a:t>
            </a:r>
            <a:br>
              <a:rPr sz="2000"/>
            </a:b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do not have to match the target feature classes's </a:t>
            </a:r>
            <a:br>
              <a:rPr sz="2000"/>
            </a:b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chem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end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uPage and Cook County are combining public works and need a new single street centerline fi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897200" y="2235240"/>
            <a:ext cx="4037040" cy="33303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9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end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end will </a:t>
            </a:r>
            <a:r>
              <a:rPr b="1" i="1" lang="en-US" sz="2400" spc="-1" strike="noStrike">
                <a:solidFill>
                  <a:srgbClr val="020323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DuPage streets </a:t>
            </a:r>
            <a:r>
              <a:rPr b="1" i="1" lang="en-US" sz="2400" spc="-1" strike="noStrike">
                <a:solidFill>
                  <a:srgbClr val="020323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Cook County Stree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633760" y="1905120"/>
            <a:ext cx="346536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sultant Layer</a:t>
            </a: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One street layer (Cook County) with all records and field item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760400" y="2166840"/>
            <a:ext cx="3942000" cy="32511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0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erg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2235240" y="1295280"/>
            <a:ext cx="2919240" cy="42674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1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erg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mbines multiple input datasets of the same data type into a single,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output datase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379520" y="2133720"/>
            <a:ext cx="4437000" cy="36604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1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rcRect l="29170" t="25000" r="12239" b="28125"/>
          <a:stretch/>
        </p:blipFill>
        <p:spPr>
          <a:xfrm>
            <a:off x="1092240" y="2057400"/>
            <a:ext cx="5715000" cy="34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sultant Lay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New merged voting district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625760" y="1897200"/>
            <a:ext cx="4178160" cy="34462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1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rcRect l="35419" t="26043" r="42708" b="44793"/>
          <a:stretch/>
        </p:blipFill>
        <p:spPr>
          <a:xfrm>
            <a:off x="2158920" y="1676520"/>
            <a:ext cx="3200400" cy="32004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query extrac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ok County tracts</a:t>
            </a:r>
            <a:br>
              <a:rPr sz="2400"/>
            </a:b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e selected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Export to new feature</a:t>
            </a:r>
            <a:br>
              <a:rPr sz="2400"/>
            </a:b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ass or shapefi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64040" y="1219320"/>
            <a:ext cx="3371760" cy="45720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7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1049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20323"/>
                </a:solidFill>
                <a:latin typeface="Arial"/>
              </a:rPr>
              <a:t>Overlays two polygon layers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resulting output layer  has combined attribute data of the two inpu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ontains all the polygons from the inputs, whether or not they overlap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77880" y="114300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Neighborhoods and zip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015920" y="1693800"/>
            <a:ext cx="5843520" cy="4064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1015920" y="1693800"/>
            <a:ext cx="5843520" cy="4064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3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880" y="1015560"/>
            <a:ext cx="6772320" cy="3251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etter describes characteristics of a neighborhood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entral business district 15222 vs 15219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353960" y="2370240"/>
            <a:ext cx="4675320" cy="32511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3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7880" y="11509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ttributes tables contain different fields and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03040" y="1897200"/>
            <a:ext cx="7720200" cy="1625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135000" y="3792600"/>
            <a:ext cx="7756560" cy="1693800"/>
          </a:xfrm>
          <a:prstGeom prst="rect">
            <a:avLst/>
          </a:prstGeom>
          <a:ln w="0">
            <a:noFill/>
          </a:ln>
        </p:spPr>
      </p:pic>
      <p:sp>
        <p:nvSpPr>
          <p:cNvPr id="24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 Resul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03040" y="2235240"/>
            <a:ext cx="3811680" cy="26416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4132440" y="2235240"/>
            <a:ext cx="3811320" cy="26416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46" name="Rectangle 3"/>
          <p:cNvSpPr/>
          <p:nvPr/>
        </p:nvSpPr>
        <p:spPr>
          <a:xfrm>
            <a:off x="677880" y="11509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3120" indent="-303120">
              <a:lnSpc>
                <a:spcPct val="150000"/>
              </a:lnSpc>
              <a:spcBef>
                <a:spcPts val="624"/>
              </a:spcBef>
              <a:buClr>
                <a:srgbClr val="682701"/>
              </a:buClr>
              <a:buFont typeface="Wingdings 3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500" spc="-1" strike="noStrike">
                <a:solidFill>
                  <a:srgbClr val="020323"/>
                </a:solidFill>
                <a:latin typeface="Arial"/>
                <a:ea typeface="Osaka"/>
              </a:rPr>
              <a:t>New polygons with combined data</a:t>
            </a:r>
            <a:endParaRPr b="1" lang="en-US" sz="25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1693800" y="1897200"/>
            <a:ext cx="2320920" cy="3251160"/>
            <a:chOff x="1693800" y="1897200"/>
            <a:chExt cx="2320920" cy="3251160"/>
          </a:xfrm>
        </p:grpSpPr>
        <p:pic>
          <p:nvPicPr>
            <p:cNvPr id="248" name="Picture 6" descr=""/>
            <p:cNvPicPr/>
            <p:nvPr/>
          </p:nvPicPr>
          <p:blipFill>
            <a:blip r:embed="rId3"/>
            <a:stretch/>
          </p:blipFill>
          <p:spPr>
            <a:xfrm>
              <a:off x="2912760" y="1897200"/>
              <a:ext cx="1101960" cy="32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eft Arrow 13"/>
            <p:cNvSpPr/>
            <p:nvPr/>
          </p:nvSpPr>
          <p:spPr>
            <a:xfrm>
              <a:off x="1693800" y="3387240"/>
              <a:ext cx="1151280" cy="270720"/>
            </a:xfrm>
            <a:prstGeom prst="leftArrow">
              <a:avLst>
                <a:gd name="adj1" fmla="val 50000"/>
                <a:gd name="adj2" fmla="val 50028"/>
              </a:avLst>
            </a:prstGeom>
            <a:solidFill>
              <a:srgbClr val="2db12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4335480" y="1897200"/>
            <a:ext cx="2031840" cy="3251160"/>
            <a:chOff x="4335480" y="1897200"/>
            <a:chExt cx="2031840" cy="3251160"/>
          </a:xfrm>
        </p:grpSpPr>
        <p:pic>
          <p:nvPicPr>
            <p:cNvPr id="251" name="Picture 8" descr=""/>
            <p:cNvPicPr/>
            <p:nvPr/>
          </p:nvPicPr>
          <p:blipFill>
            <a:blip r:embed="rId4"/>
            <a:stretch/>
          </p:blipFill>
          <p:spPr>
            <a:xfrm>
              <a:off x="4335480" y="1897200"/>
              <a:ext cx="1101960" cy="32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Left Arrow 14"/>
            <p:cNvSpPr/>
            <p:nvPr/>
          </p:nvSpPr>
          <p:spPr>
            <a:xfrm flipH="1">
              <a:off x="5486760" y="3387240"/>
              <a:ext cx="880560" cy="270720"/>
            </a:xfrm>
            <a:prstGeom prst="leftArrow">
              <a:avLst>
                <a:gd name="adj1" fmla="val 50000"/>
                <a:gd name="adj2" fmla="val 50040"/>
              </a:avLst>
            </a:prstGeom>
            <a:solidFill>
              <a:srgbClr val="2db12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25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ntersect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rcRect l="35419" t="26043" r="42708" b="44793"/>
          <a:stretch/>
        </p:blipFill>
        <p:spPr>
          <a:xfrm>
            <a:off x="2158920" y="1676520"/>
            <a:ext cx="3200400" cy="32004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ntersec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loodzones and building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62" name="Picture 14" descr=""/>
          <p:cNvPicPr/>
          <p:nvPr/>
        </p:nvPicPr>
        <p:blipFill>
          <a:blip r:embed="rId1"/>
          <a:stretch/>
        </p:blipFill>
        <p:spPr>
          <a:xfrm>
            <a:off x="1092240" y="1752480"/>
            <a:ext cx="5742000" cy="40388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6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ntersect Resul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2400" y="1143000"/>
            <a:ext cx="73134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Only building polygons that intersect flood zones with combined data fiel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1"/>
          <a:stretch/>
        </p:blipFill>
        <p:spPr>
          <a:xfrm>
            <a:off x="863640" y="1981080"/>
            <a:ext cx="5638680" cy="39639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6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9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port selected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58720" y="1143000"/>
            <a:ext cx="4940280" cy="457200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911760" y="1600200"/>
            <a:ext cx="3095640" cy="25322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Workflow processes can be complicate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utomates and strings functions togeth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2921040" y="2514600"/>
            <a:ext cx="4800600" cy="319896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5"/>
          <p:cNvSpPr/>
          <p:nvPr/>
        </p:nvSpPr>
        <p:spPr>
          <a:xfrm>
            <a:off x="2254320" y="1866960"/>
            <a:ext cx="3619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2"/>
          <a:stretch/>
        </p:blipFill>
        <p:spPr>
          <a:xfrm>
            <a:off x="1244520" y="1981080"/>
            <a:ext cx="1635120" cy="2024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0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</a:t>
            </a: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You have census tracts from a state with population data but only want population for neighborhoods in a small region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olution: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se Model Builder functions to clip census tracts and union to aggregate data to neighborhoo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Begin with census tracts for the state of Pennsylvani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3378240" y="1981080"/>
            <a:ext cx="3581280" cy="30574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7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lip only tracts whose centers are located within Pittsburgh neighborhoods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Union the census tracts and neighborhoo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1"/>
          <a:stretch/>
        </p:blipFill>
        <p:spPr>
          <a:xfrm>
            <a:off x="1701720" y="2286000"/>
            <a:ext cx="4800600" cy="31622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Run the model…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168560" y="1828800"/>
            <a:ext cx="5029200" cy="3406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8" name="Picture 8" descr=""/>
          <p:cNvPicPr/>
          <p:nvPr/>
        </p:nvPicPr>
        <p:blipFill>
          <a:blip r:embed="rId1"/>
          <a:stretch/>
        </p:blipFill>
        <p:spPr>
          <a:xfrm>
            <a:off x="711360" y="1600200"/>
            <a:ext cx="6324480" cy="35877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0"/>
          <p:cNvSpPr/>
          <p:nvPr/>
        </p:nvSpPr>
        <p:spPr>
          <a:xfrm>
            <a:off x="558720" y="1219320"/>
            <a:ext cx="7010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isplay and query the resul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787320" y="3200400"/>
            <a:ext cx="2656080" cy="23479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3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 new lay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8720" y="1066320"/>
            <a:ext cx="7313760" cy="4496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ok County trac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711360" y="1676520"/>
            <a:ext cx="703260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158920" y="1676520"/>
            <a:ext cx="564048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8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ity of Pittsburgh tracts within municipality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32292" t="15625" r="9896" b="11457"/>
          <a:stretch/>
        </p:blipFill>
        <p:spPr>
          <a:xfrm>
            <a:off x="1549440" y="1752480"/>
            <a:ext cx="434988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8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58720" y="1066320"/>
            <a:ext cx="7313760" cy="4496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Select municipality of Pittsburgh firs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32292" t="15625" r="9896" b="11457"/>
          <a:stretch/>
        </p:blipFill>
        <p:spPr>
          <a:xfrm>
            <a:off x="1701720" y="1600200"/>
            <a:ext cx="434988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9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9T23:01:06Z</dcterms:created>
  <dc:creator>The Heinz School</dc:creator>
  <dc:description/>
  <cp:keywords/>
  <dc:language>en-US</dc:language>
  <cp:lastModifiedBy>Kristen Kurland</cp:lastModifiedBy>
  <cp:lastPrinted>2001-01-21T18:12:54Z</cp:lastPrinted>
  <dcterms:modified xsi:type="dcterms:W3CDTF">2011-05-16T02:23:05Z</dcterms:modified>
  <cp:revision>240</cp:revision>
  <dc:subject/>
  <dc:title>No Slide Title</dc:title>
</cp:coreProperties>
</file>