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58.wmf" ContentType="image/x-wmf"/>
  <Override PartName="/ppt/media/image21.png" ContentType="image/png"/>
  <Override PartName="/ppt/media/image57.png" ContentType="image/png"/>
  <Override PartName="/ppt/media/image20.png" ContentType="image/png"/>
  <Override PartName="/ppt/media/image59.wmf" ContentType="image/x-wmf"/>
  <Override PartName="/ppt/media/image24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95939B-1E88-4F40-B8A8-A8E33B7D7B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20D59-372A-46C6-A158-505C6A39DC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2C765-FAB5-48BB-B406-E5494888FF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2E7604-5365-478A-B896-9D782CC5B7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C9BCD-B30C-43A3-A998-D0CE9BD8FA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9CDBDE-44C5-4D5E-9697-0F695AC098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3FD88-D548-4E83-9298-A55E16F177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F4D3D-21F6-4515-90DB-5A6697D489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s within 300 feet of a convenience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ation planner wants to know what neighborhoods are affected by construction project on major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CF4B5-5178-4CC0-9E67-06BF7943EC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69A98E-074C-4356-BBA7-85D2795095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works officials need to know what streets might fl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837AAC-5914-4D51-9989-FB48FEE58A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 planners want to know what buildings are completely within a zoning a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9D4921-AD32-4FA9-83C4-2BD50A6A91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B7D0CB-D5B9-474F-9A50-EDBFEB2C36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2EC3D-B80B-442A-9B53-83C44E1030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72761-FA38-4213-9D5C-823BD6AC74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68833-9C79-4B3D-A39C-97EF31EEB4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4212B3-583D-45A5-9DFB-D439C23E0B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43AA19-17C8-48DF-B806-451CA17672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43E47F-7841-4856-8C9F-D8AB2B9207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402D5-472D-40EA-B552-A72A221382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D4D0D-F0E5-4330-A94F-5B1A90FF10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DF9CA8-F7F2-4E44-B402-E471F757C3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0DE3A-ECE9-41B0-937E-B8E7338FE4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9D09E-AB10-4EDF-A7AB-5B57FFE4D7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D040C-CFD0-45D0-AF11-226F1BC793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AFF0A-1404-47FF-8F1E-877F81CF0E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BAA46-E818-4050-B77C-1F95F66621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9A566-58F3-44D6-BA70-74A67AB156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20EFA-A512-4360-8989-D919C86D00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ACA9DE-4655-4216-9202-4E680D4786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2B722-67CD-4309-B11D-4D81C098A2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DB85FD-2C6D-467F-8120-2730ED6A5D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972548-35E7-4157-9EF8-875A3D6429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014B4-1D43-40C5-93DB-A5442A5089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77A768-AE93-4F77-B55C-1DAF31FABB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79B4B6-43B5-40D8-A79C-ABD3C58B8A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34B3E-7CE3-4493-8CE6-2CC1F62059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E436B-C61C-4758-AA0F-0F4236A890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C74D6E-1C11-4BC8-B6ED-F7A0BAE303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89C3AE-E860-47D5-8408-C9014EFF82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D6960-28A9-4F87-BD92-3DC8630D47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A25220-4147-4EEB-80F1-CB81DB442B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 manager needs to know what buildings intersect flood zones and wants the flood data attached to each intersecting 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D29648-5B04-460C-A456-CE393BDE19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D55B67-A0F5-4887-991B-9C1E097374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0ADD9-D857-451B-B03D-380328AEBE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92108-EAA3-4999-90ED-48F54567B3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86933-DBA1-4E0F-AC15-40A18A1753C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E99BA-8167-48CD-939F-B71BEB3EE4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AE8BE7-0373-45DF-895C-7381C7F829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43E5E-2C3C-4D4B-9437-D3AD34B4B0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982C3A88-3805-4D75-8F09-D6404069B450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21094" t="3125" r="58594" b="66668"/>
          <a:stretch/>
        </p:blipFill>
        <p:spPr>
          <a:xfrm>
            <a:off x="635040" y="1752480"/>
            <a:ext cx="245916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pic>
        <p:nvPicPr>
          <p:cNvPr id="94" name="Picture 3" descr=""/>
          <p:cNvPicPr/>
          <p:nvPr/>
        </p:nvPicPr>
        <p:blipFill>
          <a:blip r:embed="rId2"/>
          <a:srcRect l="32034" t="14582" r="26564" b="10418"/>
          <a:stretch/>
        </p:blipFill>
        <p:spPr>
          <a:xfrm>
            <a:off x="3530520" y="1143000"/>
            <a:ext cx="336564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9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96" name="Straight Arrow Connector 13"/>
          <p:cNvCxnSpPr/>
          <p:nvPr/>
        </p:nvCxnSpPr>
        <p:spPr>
          <a:xfrm flipH="1" flipV="1">
            <a:off x="4368600" y="2514240"/>
            <a:ext cx="83880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7" name="Straight Arrow Connector 16"/>
          <p:cNvCxnSpPr/>
          <p:nvPr/>
        </p:nvCxnSpPr>
        <p:spPr>
          <a:xfrm flipH="1" flipV="1">
            <a:off x="6501600" y="4723560"/>
            <a:ext cx="839160" cy="2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8" name="Straight Arrow Connector 17"/>
          <p:cNvCxnSpPr/>
          <p:nvPr/>
        </p:nvCxnSpPr>
        <p:spPr>
          <a:xfrm flipH="1" flipV="1">
            <a:off x="4444200" y="4190760"/>
            <a:ext cx="83916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ed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31510" t="14582" r="9896" b="11457"/>
          <a:stretch/>
        </p:blipFill>
        <p:spPr>
          <a:xfrm>
            <a:off x="1320840" y="1371600"/>
            <a:ext cx="43466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0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Other Proximity Quer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5760" y="21060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8720" y="10663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chools near park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82760" y="1600200"/>
            <a:ext cx="495612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82760" y="1600200"/>
            <a:ext cx="495612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4444920" y="1447920"/>
            <a:ext cx="3230640" cy="4427280"/>
          </a:xfrm>
          <a:prstGeom prst="rect">
            <a:avLst/>
          </a:prstGeom>
          <a:ln w="0">
            <a:noFill/>
          </a:ln>
        </p:spPr>
      </p:pic>
      <p:cxnSp>
        <p:nvCxnSpPr>
          <p:cNvPr id="111" name="Straight Arrow Connector 8"/>
          <p:cNvCxnSpPr/>
          <p:nvPr/>
        </p:nvCxnSpPr>
        <p:spPr>
          <a:xfrm flipH="1" flipV="1">
            <a:off x="5231520" y="2857320"/>
            <a:ext cx="83916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2" name="Straight Arrow Connector 9"/>
          <p:cNvCxnSpPr/>
          <p:nvPr/>
        </p:nvCxnSpPr>
        <p:spPr>
          <a:xfrm>
            <a:off x="3530520" y="4952520"/>
            <a:ext cx="991440" cy="2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Straight Arrow Connector 10"/>
          <p:cNvCxnSpPr/>
          <p:nvPr/>
        </p:nvCxnSpPr>
        <p:spPr>
          <a:xfrm flipH="1" flipV="1">
            <a:off x="5054400" y="4419360"/>
            <a:ext cx="83880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Straight Arrow Connector 12"/>
          <p:cNvCxnSpPr/>
          <p:nvPr/>
        </p:nvCxnSpPr>
        <p:spPr>
          <a:xfrm>
            <a:off x="3568680" y="5334120"/>
            <a:ext cx="99144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5760" y="21060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View schools in attribute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47760" y="1698480"/>
            <a:ext cx="4929120" cy="409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504800" y="3344760"/>
            <a:ext cx="6350040" cy="228600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5760" y="223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int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718668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chools are near convenient stor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49546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06440" y="4648320"/>
            <a:ext cx="72072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rcRect l="34636" t="15625" r="23958" b="10418"/>
          <a:stretch/>
        </p:blipFill>
        <p:spPr>
          <a:xfrm>
            <a:off x="3835440" y="1371600"/>
            <a:ext cx="341316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Intersecting Lin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2400" y="1066320"/>
            <a:ext cx="731340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s that Intersect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54160" y="1676520"/>
            <a:ext cx="357804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3578040" cy="29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7448400" cy="13986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15760" y="196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s Intersecting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9674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reets or sidewalks that intersect floodplai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787320" y="1752480"/>
            <a:ext cx="58514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3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5760" y="196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s Intersecting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4160" y="10666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Buildings completely within zoning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58720" y="1523880"/>
            <a:ext cx="58514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3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rcRect l="35939" t="15625" r="24220" b="10418"/>
          <a:stretch/>
        </p:blipFill>
        <p:spPr>
          <a:xfrm>
            <a:off x="4673520" y="1371600"/>
            <a:ext cx="328464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p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7880" y="1150920"/>
            <a:ext cx="704376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You have tracts for an entire state, but want tracts for one county  onl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997360" y="1676520"/>
            <a:ext cx="3058920" cy="406404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rcRect l="28387" t="18750" r="50522" b="47918"/>
          <a:stretch/>
        </p:blipFill>
        <p:spPr>
          <a:xfrm>
            <a:off x="2158920" y="1447920"/>
            <a:ext cx="270036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cts like a “cookie cutter” to create a subset of features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71440" y="2573280"/>
            <a:ext cx="236232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2913120" y="2573280"/>
            <a:ext cx="236232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5554800" y="2573280"/>
            <a:ext cx="236196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52" name="TextBox 10"/>
          <p:cNvSpPr/>
          <p:nvPr/>
        </p:nvSpPr>
        <p:spPr>
          <a:xfrm>
            <a:off x="209520" y="2243160"/>
            <a:ext cx="21459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Input features (streets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852640" y="2044800"/>
            <a:ext cx="2454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Clip features</a:t>
            </a:r>
            <a:br>
              <a:rPr sz="1400"/>
            </a:b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 (Central Business District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5394600" y="2166840"/>
            <a:ext cx="2728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Output features (CBD streets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 vs 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p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lean edg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Looks goo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Dangling edg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Better for geocodin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538520" y="1150920"/>
            <a:ext cx="2463840" cy="203184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grpSp>
        <p:nvGrpSpPr>
          <p:cNvPr id="159" name="Group 6"/>
          <p:cNvGrpSpPr/>
          <p:nvPr/>
        </p:nvGrpSpPr>
        <p:grpSpPr>
          <a:xfrm>
            <a:off x="4538520" y="3454560"/>
            <a:ext cx="2435400" cy="2031840"/>
            <a:chOff x="4538520" y="3454560"/>
            <a:chExt cx="2435400" cy="2031840"/>
          </a:xfrm>
        </p:grpSpPr>
        <p:pic>
          <p:nvPicPr>
            <p:cNvPr id="160" name="Picture 8" descr=""/>
            <p:cNvPicPr/>
            <p:nvPr/>
          </p:nvPicPr>
          <p:blipFill>
            <a:blip r:embed="rId2"/>
            <a:stretch/>
          </p:blipFill>
          <p:spPr>
            <a:xfrm>
              <a:off x="4538520" y="3454560"/>
              <a:ext cx="2435400" cy="2031840"/>
            </a:xfrm>
            <a:prstGeom prst="rect">
              <a:avLst/>
            </a:prstGeom>
            <a:ln w="9360">
              <a:solidFill>
                <a:srgbClr val="dbe1fa"/>
              </a:solidFill>
              <a:miter/>
            </a:ln>
          </p:spPr>
        </p:pic>
        <p:cxnSp>
          <p:nvCxnSpPr>
            <p:cNvPr id="161" name="Straight Arrow Connector 11"/>
            <p:cNvCxnSpPr/>
            <p:nvPr/>
          </p:nvCxnSpPr>
          <p:spPr>
            <a:xfrm flipH="1">
              <a:off x="6335640" y="3884760"/>
              <a:ext cx="549000" cy="28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2" name="Straight Arrow Connector 16"/>
            <p:cNvCxnSpPr/>
            <p:nvPr/>
          </p:nvCxnSpPr>
          <p:spPr>
            <a:xfrm flipH="1" flipV="1">
              <a:off x="6002640" y="5164920"/>
              <a:ext cx="294840" cy="1098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3" name="Straight Arrow Connector 18"/>
            <p:cNvCxnSpPr/>
            <p:nvPr/>
          </p:nvCxnSpPr>
          <p:spPr>
            <a:xfrm flipH="1" flipV="1">
              <a:off x="6223680" y="4696920"/>
              <a:ext cx="165600" cy="244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16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 vs 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26826" t="14582" r="5990" b="19793"/>
          <a:stretch/>
        </p:blipFill>
        <p:spPr>
          <a:xfrm>
            <a:off x="1244520" y="1828800"/>
            <a:ext cx="4992840" cy="36576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67" name="TextBox 9"/>
          <p:cNvSpPr/>
          <p:nvPr/>
        </p:nvSpPr>
        <p:spPr>
          <a:xfrm>
            <a:off x="499320" y="1219320"/>
            <a:ext cx="6884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enn Avenue – ranging from street segment 1000-1098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311560" y="1295280"/>
            <a:ext cx="2971800" cy="43452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7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reate regions using U.S. Stat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Use SUB_REGION field to dissolv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Sum popul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4160" y="2133720"/>
            <a:ext cx="7142040" cy="348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064040" y="1219320"/>
            <a:ext cx="3740040" cy="4605120"/>
          </a:xfrm>
          <a:prstGeom prst="rect">
            <a:avLst/>
          </a:prstGeom>
          <a:ln w="0">
            <a:noFill/>
          </a:ln>
        </p:spPr>
      </p:pic>
      <p:sp>
        <p:nvSpPr>
          <p:cNvPr id="17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e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tates dissolved to form regi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summed for each reg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5259240" cy="36576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387520" y="1219320"/>
            <a:ext cx="2919600" cy="42670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lect tracts by County FIPS or ANSI I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= 031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73120" y="2666880"/>
            <a:ext cx="1814760" cy="203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987720" y="1752480"/>
            <a:ext cx="3024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ends one or more data sets into an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existing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data se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eatures must be of the same typ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nput datasets may overlap one another and/or the target datase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TEST option: field definitions of the feature classes must be the same and in the same order for all appended featur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O TEST option: Input features schemas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o not have to match the target feature classes's 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chem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uPage and Cook County are combining public works and need a new single street centerline fi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97200" y="2235240"/>
            <a:ext cx="4037040" cy="33303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9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end will </a:t>
            </a:r>
            <a:r>
              <a:rPr b="1" i="1" lang="en-US" sz="2400" spc="-1" strike="noStrike">
                <a:solidFill>
                  <a:srgbClr val="020323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DuPage streets </a:t>
            </a:r>
            <a:r>
              <a:rPr b="1" i="1" lang="en-US" sz="2400" spc="-1" strike="noStrike">
                <a:solidFill>
                  <a:srgbClr val="020323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Cook County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633760" y="1905120"/>
            <a:ext cx="346536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Layer</a:t>
            </a: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ne street layer (Cook County) with all records and field item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60400" y="2166840"/>
            <a:ext cx="394200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0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erg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2919240" cy="4267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erg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mbines multiple input datasets of the same data type into a single,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output datase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379520" y="2133720"/>
            <a:ext cx="4437000" cy="36604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rcRect l="29170" t="25000" r="12239" b="28125"/>
          <a:stretch/>
        </p:blipFill>
        <p:spPr>
          <a:xfrm>
            <a:off x="1092240" y="2057400"/>
            <a:ext cx="571500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New merged voting district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25760" y="1897200"/>
            <a:ext cx="4178160" cy="3446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rcRect l="35419" t="26043" r="42708" b="44793"/>
          <a:stretch/>
        </p:blipFill>
        <p:spPr>
          <a:xfrm>
            <a:off x="2158920" y="1676520"/>
            <a:ext cx="320040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tracts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e selecte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xport to new feature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ass or shapefi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64040" y="1219320"/>
            <a:ext cx="3371760" cy="45720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7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Overlays two polygon layers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resulting output layer  has combined attribute data of the two inpu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ontains all the polygons from the inputs, whether or not they overlap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880" y="114300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Neighborhoods and 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920" y="1693800"/>
            <a:ext cx="5843520" cy="4064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015920" y="1693800"/>
            <a:ext cx="5843520" cy="4064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3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880" y="1015560"/>
            <a:ext cx="6772320" cy="3251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tter describes characteristics of a neighborhood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entral business district 15222 vs 15219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353960" y="2370240"/>
            <a:ext cx="467532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3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7880" y="1150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ttributes tables contain different fields and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03040" y="1897200"/>
            <a:ext cx="7720200" cy="1625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135000" y="3792600"/>
            <a:ext cx="7756560" cy="1693800"/>
          </a:xfrm>
          <a:prstGeom prst="rect">
            <a:avLst/>
          </a:prstGeom>
          <a:ln w="0">
            <a:noFill/>
          </a:ln>
        </p:spPr>
      </p:pic>
      <p:sp>
        <p:nvSpPr>
          <p:cNvPr id="24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03040" y="2235240"/>
            <a:ext cx="3811680" cy="26416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132440" y="2235240"/>
            <a:ext cx="3811320" cy="26416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46" name="Rectangle 3"/>
          <p:cNvSpPr/>
          <p:nvPr/>
        </p:nvSpPr>
        <p:spPr>
          <a:xfrm>
            <a:off x="677880" y="11509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3120" indent="-303120">
              <a:lnSpc>
                <a:spcPct val="150000"/>
              </a:lnSpc>
              <a:spcBef>
                <a:spcPts val="624"/>
              </a:spcBef>
              <a:buClr>
                <a:srgbClr val="682701"/>
              </a:buClr>
              <a:buFont typeface="Wingdings 3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500" spc="-1" strike="noStrike">
                <a:solidFill>
                  <a:srgbClr val="020323"/>
                </a:solidFill>
                <a:latin typeface="Arial"/>
                <a:ea typeface="Osaka"/>
              </a:rPr>
              <a:t>New polygons with combined data</a:t>
            </a:r>
            <a:endParaRPr b="1" lang="en-US" sz="25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1693800" y="1897200"/>
            <a:ext cx="2320920" cy="3251160"/>
            <a:chOff x="1693800" y="1897200"/>
            <a:chExt cx="2320920" cy="3251160"/>
          </a:xfrm>
        </p:grpSpPr>
        <p:pic>
          <p:nvPicPr>
            <p:cNvPr id="248" name="Picture 6" descr=""/>
            <p:cNvPicPr/>
            <p:nvPr/>
          </p:nvPicPr>
          <p:blipFill>
            <a:blip r:embed="rId3"/>
            <a:stretch/>
          </p:blipFill>
          <p:spPr>
            <a:xfrm>
              <a:off x="2912760" y="1897200"/>
              <a:ext cx="110196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eft Arrow 13"/>
            <p:cNvSpPr/>
            <p:nvPr/>
          </p:nvSpPr>
          <p:spPr>
            <a:xfrm>
              <a:off x="1693800" y="3387240"/>
              <a:ext cx="1151280" cy="270720"/>
            </a:xfrm>
            <a:prstGeom prst="leftArrow">
              <a:avLst>
                <a:gd name="adj1" fmla="val 50000"/>
                <a:gd name="adj2" fmla="val 50028"/>
              </a:avLst>
            </a:prstGeom>
            <a:solidFill>
              <a:srgbClr val="2db12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4335480" y="1897200"/>
            <a:ext cx="2031840" cy="3251160"/>
            <a:chOff x="4335480" y="1897200"/>
            <a:chExt cx="2031840" cy="3251160"/>
          </a:xfrm>
        </p:grpSpPr>
        <p:pic>
          <p:nvPicPr>
            <p:cNvPr id="251" name="Picture 8" descr=""/>
            <p:cNvPicPr/>
            <p:nvPr/>
          </p:nvPicPr>
          <p:blipFill>
            <a:blip r:embed="rId4"/>
            <a:stretch/>
          </p:blipFill>
          <p:spPr>
            <a:xfrm>
              <a:off x="4335480" y="1897200"/>
              <a:ext cx="110196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Left Arrow 14"/>
            <p:cNvSpPr/>
            <p:nvPr/>
          </p:nvSpPr>
          <p:spPr>
            <a:xfrm flipH="1">
              <a:off x="5486760" y="3387240"/>
              <a:ext cx="880560" cy="270720"/>
            </a:xfrm>
            <a:prstGeom prst="leftArrow">
              <a:avLst>
                <a:gd name="adj1" fmla="val 50000"/>
                <a:gd name="adj2" fmla="val 50040"/>
              </a:avLst>
            </a:prstGeom>
            <a:solidFill>
              <a:srgbClr val="2db12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25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35419" t="26043" r="42708" b="44793"/>
          <a:stretch/>
        </p:blipFill>
        <p:spPr>
          <a:xfrm>
            <a:off x="2158920" y="1676520"/>
            <a:ext cx="320040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loodzones and building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1"/>
          <a:stretch/>
        </p:blipFill>
        <p:spPr>
          <a:xfrm>
            <a:off x="1092240" y="1752480"/>
            <a:ext cx="5742000" cy="40388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6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2400" y="114300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nly building polygons that intersect flood zones with combined data fiel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863640" y="1981080"/>
            <a:ext cx="5638680" cy="39639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6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selected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4940280" cy="45720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911760" y="1600200"/>
            <a:ext cx="3095640" cy="25322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Workflow processes can be complica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utomates and strings functions togeth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921040" y="2514600"/>
            <a:ext cx="4800600" cy="31989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2254320" y="1866960"/>
            <a:ext cx="3619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1635120" cy="2024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0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You have census tracts from a state with population data but only want population for neighborhoods in a small reg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olution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 Model Builder functions to clip census tracts and union to aggregate data to neighborhoo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gin with census tracts for the state of Pennsylvani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3378240" y="1981080"/>
            <a:ext cx="3581280" cy="30574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lip only tracts whose centers are located within Pittsburgh neighborhood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nion the census tracts and neighborhoo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1701720" y="2286000"/>
            <a:ext cx="4800600" cy="3162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un the model…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168560" y="1828800"/>
            <a:ext cx="5029200" cy="3406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8" name="Picture 8" descr=""/>
          <p:cNvPicPr/>
          <p:nvPr/>
        </p:nvPicPr>
        <p:blipFill>
          <a:blip r:embed="rId1"/>
          <a:stretch/>
        </p:blipFill>
        <p:spPr>
          <a:xfrm>
            <a:off x="711360" y="1600200"/>
            <a:ext cx="6324480" cy="35877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0"/>
          <p:cNvSpPr/>
          <p:nvPr/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isplay and query the resul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787320" y="3200400"/>
            <a:ext cx="2656080" cy="2347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 new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8720" y="1066320"/>
            <a:ext cx="731376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trac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11360" y="1676520"/>
            <a:ext cx="703260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158920" y="1676520"/>
            <a:ext cx="56404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8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ity of Pittsburgh tracts within municipalit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32292" t="15625" r="9896" b="11457"/>
          <a:stretch/>
        </p:blipFill>
        <p:spPr>
          <a:xfrm>
            <a:off x="1549440" y="1752480"/>
            <a:ext cx="43498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8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8720" y="1066320"/>
            <a:ext cx="731376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elect municipality of Pittsburgh firs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32292" t="15625" r="9896" b="11457"/>
          <a:stretch/>
        </p:blipFill>
        <p:spPr>
          <a:xfrm>
            <a:off x="1701720" y="1600200"/>
            <a:ext cx="43498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9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Kristen Kurland</cp:lastModifiedBy>
  <cp:lastPrinted>2001-01-21T18:12:54Z</cp:lastPrinted>
  <dcterms:modified xsi:type="dcterms:W3CDTF">2011-05-16T02:23:05Z</dcterms:modified>
  <cp:revision>240</cp:revision>
  <dc:subject/>
  <dc:title>No Slide Title</dc:title>
</cp:coreProperties>
</file>