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8129588" cy="6094413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666E5D-7E35-4674-94ED-541F55AD4C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93640" y="2546280"/>
            <a:ext cx="676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974120" y="258840"/>
            <a:ext cx="137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ule IV; lecture 2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/12/94; v 2.0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382120" y="8632800"/>
            <a:ext cx="21081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ftware Construction with Ada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A45135-707E-4CA2-98CC-736F7A7C48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95330D-F7CF-4CDC-8B7D-3AA1D899A6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4AAF59-2FFA-4022-A4E1-7284E6E5B7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7CA25B-00E1-4C68-AD34-B67645CAB4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EED2DE-A125-4C9D-9FA5-6F14093256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6A38EF-07CF-41D0-B613-17DB566FDE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4F7811-5C8A-4405-9EAB-46B61C328F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EA47CE-FA33-476D-A5E6-0A1B872100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259CA8-12B1-4E11-BFF6-567F958FAC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D45B71-1006-4085-B4B7-8E16E342FF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E3B370-7E20-4992-BBF8-BDF1CB2B88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CC7D87-6C7A-4348-A7C4-2D17CFA13A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6A8615-D7AC-41F5-A931-3A7A8DC1B5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8E323C-5859-48E1-8602-EEA50B8D95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C1F996-6F90-4C4E-AD34-F168B48713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6FDB22-12F6-4E16-8CFA-7FCB4CBAB1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74DACE-0490-46E4-9AC0-6BF8974140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18D187-B15B-4094-AC18-F73344A8B6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B21828-43A3-44B8-8205-DEE09A9B02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C9780B-6C74-4CE6-AA50-965573FFEB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DDA4BD-F587-4E22-A67A-5C276094E7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D8E5D1-4067-4959-8B87-E22FC82569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69BC99-0203-4851-90F2-30109CC0EF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9364C1-928B-4402-A7CD-CD86FEE1C1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A94F54-0C24-4240-8CDF-6196A2C669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2AD8A3-835A-4B72-9339-DD7E77A0CA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AE4F23-264B-4EA6-BB58-5D4208B2AF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C6B63C-3F3D-4A86-B818-9267486EE6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21A2E3-43E5-4B21-B4E4-DC675DA915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2CBABD-14B4-4681-932F-6FA7587272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776B32-D6A4-4FC7-974C-747BD5BCF45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460B43-6B85-4351-AC90-A6DEF701B1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6FA74C-27AC-45A5-A9FC-256CB504A7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042E39-B6E1-47E6-A130-1FFD901AB0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6E7ACA-7E63-45EC-A770-C3527C7B53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452DA-ED01-430E-8457-E5E966C558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9BE2BB-D2E8-4E4C-9256-71DC4D18FD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288123-42E0-4E54-BBC3-0A70965FEC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B21F56-64E9-4305-80D2-102C9B191E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1C5406-58ED-4E01-B9A4-6FD428E72E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B0F546-5E54-4AB1-BB54-02956F6D7A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DBC44C-A699-427F-B160-4EF7A5F3D2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B4902-4CE5-41F2-9C69-C7EB26EC26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1FB1BC-396E-467E-9BED-D9925F6B4C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EB0532-685F-499A-AF90-861106539E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144007-FCE9-4D4D-96E3-3E83143E40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B17DC4-F249-4B7B-9B8E-A96A1D298A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156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0440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872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156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0440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7840" y="331920"/>
            <a:ext cx="731196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864400"/>
            <a:ext cx="8116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6080" bIns="4608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138560"/>
                <a:tab algn="r" pos="8001000"/>
                <a:tab algn="l" pos="8558280"/>
                <a:tab algn="l" pos="9509040"/>
                <a:tab algn="l" pos="1046016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IS </a:t>
            </a:r>
            <a:fld id="{1D15F9F2-2518-41F4-822C-B638C0977509}" type="slidenum">
              <a:rPr b="1" i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0" y="0"/>
            <a:ext cx="8109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" name="Rectangle 1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" name="Rectangle 2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Linear Address Matching (Streets)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13652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rban street maps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four street address numbers ranging from low to high for each side of a street segment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Left_from      Left_to      Right_from      Right_to      Street_name      Type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56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101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     199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      100 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               198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  OAK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ST</a:t>
            </a:r>
            <a:r>
              <a:rPr b="1" lang="en-US" sz="1500" spc="-1" strike="noStrike">
                <a:solidFill>
                  <a:srgbClr val="020323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5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380880" y="3505320"/>
            <a:ext cx="3200400" cy="2286000"/>
            <a:chOff x="380880" y="3505320"/>
            <a:chExt cx="3200400" cy="2286000"/>
          </a:xfrm>
        </p:grpSpPr>
        <p:grpSp>
          <p:nvGrpSpPr>
            <p:cNvPr id="96" name="Group 5"/>
            <p:cNvGrpSpPr/>
            <p:nvPr/>
          </p:nvGrpSpPr>
          <p:grpSpPr>
            <a:xfrm>
              <a:off x="380880" y="3505320"/>
              <a:ext cx="3196440" cy="2286000"/>
              <a:chOff x="380880" y="3505320"/>
              <a:chExt cx="3196440" cy="2286000"/>
            </a:xfrm>
          </p:grpSpPr>
          <p:sp>
            <p:nvSpPr>
              <p:cNvPr id="97" name="Rectangle 6"/>
              <p:cNvSpPr/>
              <p:nvPr/>
            </p:nvSpPr>
            <p:spPr>
              <a:xfrm>
                <a:off x="392400" y="3513240"/>
                <a:ext cx="3184920" cy="2278080"/>
              </a:xfrm>
              <a:prstGeom prst="rect">
                <a:avLst/>
              </a:prstGeom>
              <a:solidFill>
                <a:srgbClr val="c1ceff"/>
              </a:solidFill>
              <a:ln w="25560">
                <a:solidFill>
                  <a:srgbClr val="020323"/>
                </a:solidFill>
                <a:miter/>
              </a:ln>
              <a:effectLst>
                <a:outerShdw dist="107932" dir="2700000" blurRad="0" rotWithShape="0">
                  <a:srgbClr val="02032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5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pic>
            <p:nvPicPr>
              <p:cNvPr id="98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3505320"/>
                <a:ext cx="3180600" cy="2273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" name="Line 8"/>
            <p:cNvSpPr/>
            <p:nvPr/>
          </p:nvSpPr>
          <p:spPr>
            <a:xfrm flipV="1">
              <a:off x="402480" y="4407120"/>
              <a:ext cx="1062000" cy="717840"/>
            </a:xfrm>
            <a:prstGeom prst="line">
              <a:avLst/>
            </a:prstGeom>
            <a:ln w="50760">
              <a:solidFill>
                <a:srgbClr val="eaec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 flipV="1">
              <a:off x="1442880" y="4403160"/>
              <a:ext cx="2138400" cy="21240"/>
            </a:xfrm>
            <a:prstGeom prst="line">
              <a:avLst/>
            </a:prstGeom>
            <a:ln w="50760">
              <a:solidFill>
                <a:srgbClr val="eaec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1" name="Oval 10"/>
            <p:cNvSpPr/>
            <p:nvPr/>
          </p:nvSpPr>
          <p:spPr>
            <a:xfrm>
              <a:off x="2184120" y="4373280"/>
              <a:ext cx="87840" cy="86400"/>
            </a:xfrm>
            <a:prstGeom prst="ellipse">
              <a:avLst/>
            </a:prstGeom>
            <a:solidFill>
              <a:srgbClr val="2db1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2" name="Oval 11"/>
            <p:cNvSpPr/>
            <p:nvPr/>
          </p:nvSpPr>
          <p:spPr>
            <a:xfrm>
              <a:off x="2333520" y="4371120"/>
              <a:ext cx="87480" cy="86760"/>
            </a:xfrm>
            <a:prstGeom prst="ellipse">
              <a:avLst/>
            </a:prstGeom>
            <a:solidFill>
              <a:srgbClr val="2db1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2708280" y="3968640"/>
              <a:ext cx="690840" cy="339120"/>
            </a:xfrm>
            <a:prstGeom prst="rect">
              <a:avLst/>
            </a:prstGeom>
            <a:solidFill>
              <a:srgbClr val="4a6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0323"/>
                  </a:solidFill>
                  <a:latin typeface="Arial"/>
                </a:rPr>
                <a:t>0105</a:t>
              </a:r>
              <a:endParaRPr b="1" lang="en-US" sz="18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2708280" y="4604400"/>
              <a:ext cx="690840" cy="339120"/>
            </a:xfrm>
            <a:prstGeom prst="rect">
              <a:avLst/>
            </a:prstGeom>
            <a:solidFill>
              <a:srgbClr val="4a6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0323"/>
                  </a:solidFill>
                  <a:latin typeface="Arial"/>
                </a:rPr>
                <a:t>0107</a:t>
              </a:r>
              <a:endParaRPr b="1" lang="en-US" sz="18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2232000" y="4417200"/>
              <a:ext cx="158400" cy="0"/>
            </a:xfrm>
            <a:prstGeom prst="line">
              <a:avLst/>
            </a:prstGeom>
            <a:ln w="50760">
              <a:solidFill>
                <a:srgbClr val="2db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106" name="Line 17"/>
          <p:cNvSpPr/>
          <p:nvPr/>
        </p:nvSpPr>
        <p:spPr>
          <a:xfrm>
            <a:off x="4281480" y="4335480"/>
            <a:ext cx="3121200" cy="0"/>
          </a:xfrm>
          <a:prstGeom prst="line">
            <a:avLst/>
          </a:prstGeom>
          <a:ln w="50760">
            <a:solidFill>
              <a:srgbClr val="2db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7" name="Oval 18"/>
          <p:cNvSpPr/>
          <p:nvPr/>
        </p:nvSpPr>
        <p:spPr>
          <a:xfrm>
            <a:off x="4216320" y="4255920"/>
            <a:ext cx="142920" cy="142920"/>
          </a:xfrm>
          <a:prstGeom prst="ellipse">
            <a:avLst/>
          </a:prstGeom>
          <a:solidFill>
            <a:srgbClr val="2db12d"/>
          </a:solidFill>
          <a:ln w="12600">
            <a:solidFill>
              <a:srgbClr val="2db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8" name="Oval 19"/>
          <p:cNvSpPr/>
          <p:nvPr/>
        </p:nvSpPr>
        <p:spPr>
          <a:xfrm>
            <a:off x="7362720" y="4251240"/>
            <a:ext cx="142920" cy="142920"/>
          </a:xfrm>
          <a:prstGeom prst="ellipse">
            <a:avLst/>
          </a:prstGeom>
          <a:solidFill>
            <a:srgbClr val="2db12d"/>
          </a:solidFill>
          <a:ln w="12600">
            <a:solidFill>
              <a:srgbClr val="2db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992760" y="3887640"/>
            <a:ext cx="56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00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7166160" y="3886200"/>
            <a:ext cx="56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98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4016520" y="4475160"/>
            <a:ext cx="56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0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7180560" y="4444920"/>
            <a:ext cx="56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99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283360" y="3886200"/>
            <a:ext cx="16761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Oak St. </a:t>
            </a:r>
            <a:br>
              <a:rPr sz="2000"/>
            </a:b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5326200" y="4532400"/>
            <a:ext cx="10746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3301920" y="4952880"/>
            <a:ext cx="5461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(80.731, 40.025)</a:t>
            </a: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             (80.729, 40.025)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8"/>
          <p:cNvSpPr/>
          <p:nvPr/>
        </p:nvSpPr>
        <p:spPr>
          <a:xfrm>
            <a:off x="787320" y="1371600"/>
            <a:ext cx="3962520" cy="2971800"/>
          </a:xfrm>
          <a:prstGeom prst="rect">
            <a:avLst/>
          </a:prstGeom>
          <a:solidFill>
            <a:srgbClr val="0023bf"/>
          </a:solidFill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 Major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62080" y="2211480"/>
            <a:ext cx="2732040" cy="35568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1131840" y="2200320"/>
            <a:ext cx="278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131840" y="2576520"/>
            <a:ext cx="278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1131840" y="2973240"/>
            <a:ext cx="278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1131840" y="3368520"/>
            <a:ext cx="278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136520" y="2195640"/>
            <a:ext cx="0" cy="117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H="1">
            <a:off x="3919680" y="2200320"/>
            <a:ext cx="1440" cy="117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2054160" y="2208240"/>
            <a:ext cx="0" cy="1166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81320" y="2208240"/>
            <a:ext cx="0" cy="1158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1227960" y="227160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37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315440" y="263700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2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1326600" y="304020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55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2001240" y="2271600"/>
            <a:ext cx="1098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3 Oak 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2001600" y="2637000"/>
            <a:ext cx="1186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33 Pine Av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2003400" y="3040200"/>
            <a:ext cx="1008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 Bay D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3363840" y="227160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3363840" y="263700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3363840" y="304020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1090800" y="1927080"/>
            <a:ext cx="2718720" cy="284040"/>
            <a:chOff x="1090800" y="1927080"/>
            <a:chExt cx="2718720" cy="284040"/>
          </a:xfrm>
        </p:grpSpPr>
        <p:sp>
          <p:nvSpPr>
            <p:cNvPr id="138" name="Rectangle 23"/>
            <p:cNvSpPr/>
            <p:nvPr/>
          </p:nvSpPr>
          <p:spPr>
            <a:xfrm>
              <a:off x="1090800" y="1927080"/>
              <a:ext cx="819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oreID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39" name="Rectangle 24"/>
            <p:cNvSpPr/>
            <p:nvPr/>
          </p:nvSpPr>
          <p:spPr>
            <a:xfrm>
              <a:off x="2036160" y="1927080"/>
              <a:ext cx="8967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40" name="Rectangle 25"/>
            <p:cNvSpPr/>
            <p:nvPr/>
          </p:nvSpPr>
          <p:spPr>
            <a:xfrm>
              <a:off x="3148920" y="1927080"/>
              <a:ext cx="6606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lass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141" name="Rectangle 26"/>
          <p:cNvSpPr/>
          <p:nvPr/>
        </p:nvSpPr>
        <p:spPr>
          <a:xfrm>
            <a:off x="1100160" y="1523880"/>
            <a:ext cx="130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.dbf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3" name="Line 30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1"/>
          <p:cNvSpPr/>
          <p:nvPr/>
        </p:nvSpPr>
        <p:spPr>
          <a:xfrm>
            <a:off x="635040" y="1371600"/>
            <a:ext cx="6934320" cy="4419720"/>
          </a:xfrm>
          <a:prstGeom prst="rect">
            <a:avLst/>
          </a:prstGeom>
          <a:solidFill>
            <a:srgbClr val="0023bf"/>
          </a:solidFill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 Major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082880" y="1069920"/>
            <a:ext cx="2830320" cy="1855800"/>
            <a:chOff x="1082880" y="1069920"/>
            <a:chExt cx="2830320" cy="1855800"/>
          </a:xfrm>
        </p:grpSpPr>
        <p:sp>
          <p:nvSpPr>
            <p:cNvPr id="147" name="Rectangle 4"/>
            <p:cNvSpPr/>
            <p:nvPr/>
          </p:nvSpPr>
          <p:spPr>
            <a:xfrm>
              <a:off x="1154160" y="1757520"/>
              <a:ext cx="2732040" cy="35532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>
              <a:off x="1123920" y="17463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1123920" y="21225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1123920" y="251928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>
              <a:off x="1123920" y="29145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1128600" y="1741320"/>
              <a:ext cx="0" cy="117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 flipH="1">
              <a:off x="3911760" y="1746360"/>
              <a:ext cx="1440" cy="117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2046240" y="1754280"/>
              <a:ext cx="0" cy="1166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3173400" y="1754280"/>
              <a:ext cx="0" cy="115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220040" y="1817640"/>
              <a:ext cx="581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437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1307520" y="2182680"/>
              <a:ext cx="48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2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1318680" y="2585880"/>
              <a:ext cx="48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55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1995120" y="1817640"/>
              <a:ext cx="1098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3 Oak St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1993680" y="2182680"/>
              <a:ext cx="1186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33 Pine Av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1995480" y="2585880"/>
              <a:ext cx="1008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8 Bay Dr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3355920" y="181764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3355920" y="218268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355920" y="258588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grpSp>
          <p:nvGrpSpPr>
            <p:cNvPr id="165" name="Group 22"/>
            <p:cNvGrpSpPr/>
            <p:nvPr/>
          </p:nvGrpSpPr>
          <p:grpSpPr>
            <a:xfrm>
              <a:off x="1082880" y="1473120"/>
              <a:ext cx="2718720" cy="284040"/>
              <a:chOff x="1082880" y="1473120"/>
              <a:chExt cx="2718720" cy="284040"/>
            </a:xfrm>
          </p:grpSpPr>
          <p:sp>
            <p:nvSpPr>
              <p:cNvPr id="166" name="Rectangle 23"/>
              <p:cNvSpPr/>
              <p:nvPr/>
            </p:nvSpPr>
            <p:spPr>
              <a:xfrm>
                <a:off x="1082880" y="1473120"/>
                <a:ext cx="819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StoreID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sp>
            <p:nvSpPr>
              <p:cNvPr id="167" name="Rectangle 24"/>
              <p:cNvSpPr/>
              <p:nvPr/>
            </p:nvSpPr>
            <p:spPr>
              <a:xfrm>
                <a:off x="2028240" y="1473120"/>
                <a:ext cx="8967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Address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sp>
            <p:nvSpPr>
              <p:cNvPr id="168" name="Rectangle 25"/>
              <p:cNvSpPr/>
              <p:nvPr/>
            </p:nvSpPr>
            <p:spPr>
              <a:xfrm>
                <a:off x="3141000" y="1473120"/>
                <a:ext cx="6606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Class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</p:grpSp>
        <p:sp>
          <p:nvSpPr>
            <p:cNvPr id="169" name="Rectangle 26"/>
            <p:cNvSpPr/>
            <p:nvPr/>
          </p:nvSpPr>
          <p:spPr>
            <a:xfrm>
              <a:off x="1091880" y="1069920"/>
              <a:ext cx="1302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.dbf</a:t>
              </a: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170" name="Rectangle 27"/>
          <p:cNvSpPr/>
          <p:nvPr/>
        </p:nvSpPr>
        <p:spPr>
          <a:xfrm>
            <a:off x="1528920" y="5099040"/>
            <a:ext cx="5308560" cy="4064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>
            <a:off x="1506600" y="3978360"/>
            <a:ext cx="0" cy="1535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1498680" y="3952800"/>
            <a:ext cx="5319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3" name="Line 30"/>
          <p:cNvSpPr/>
          <p:nvPr/>
        </p:nvSpPr>
        <p:spPr>
          <a:xfrm>
            <a:off x="1523880" y="5511960"/>
            <a:ext cx="5318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4" name="Line 31"/>
          <p:cNvSpPr/>
          <p:nvPr/>
        </p:nvSpPr>
        <p:spPr>
          <a:xfrm>
            <a:off x="1531800" y="4309920"/>
            <a:ext cx="5289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5" name="Line 32"/>
          <p:cNvSpPr/>
          <p:nvPr/>
        </p:nvSpPr>
        <p:spPr>
          <a:xfrm flipV="1">
            <a:off x="1511280" y="4702320"/>
            <a:ext cx="5305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1525680" y="5087880"/>
            <a:ext cx="5302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7" name="Line 34"/>
          <p:cNvSpPr/>
          <p:nvPr/>
        </p:nvSpPr>
        <p:spPr>
          <a:xfrm>
            <a:off x="2284560" y="3970440"/>
            <a:ext cx="1440" cy="153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8" name="Line 35"/>
          <p:cNvSpPr/>
          <p:nvPr/>
        </p:nvSpPr>
        <p:spPr>
          <a:xfrm>
            <a:off x="3112920" y="3970440"/>
            <a:ext cx="0" cy="153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9" name="Line 36"/>
          <p:cNvSpPr/>
          <p:nvPr/>
        </p:nvSpPr>
        <p:spPr>
          <a:xfrm>
            <a:off x="3970440" y="3970440"/>
            <a:ext cx="1440" cy="1549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0" name="Line 37"/>
          <p:cNvSpPr/>
          <p:nvPr/>
        </p:nvSpPr>
        <p:spPr>
          <a:xfrm flipH="1">
            <a:off x="6832440" y="3936960"/>
            <a:ext cx="5040" cy="15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2480400" y="4016520"/>
            <a:ext cx="433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2480400" y="4394160"/>
            <a:ext cx="433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2431440" y="47530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8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2431440" y="51436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3264840" y="401652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3264840" y="475308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3264840" y="439416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3264840" y="514368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9" name="Rectangle 46"/>
          <p:cNvSpPr/>
          <p:nvPr/>
        </p:nvSpPr>
        <p:spPr>
          <a:xfrm>
            <a:off x="4964040" y="4014720"/>
            <a:ext cx="312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4984200" y="439272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4964040" y="475128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4984200" y="514188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5631840" y="4392720"/>
            <a:ext cx="323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4" name="Rectangle 51"/>
          <p:cNvSpPr/>
          <p:nvPr/>
        </p:nvSpPr>
        <p:spPr>
          <a:xfrm>
            <a:off x="5651280" y="4014720"/>
            <a:ext cx="303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5651280" y="4751280"/>
            <a:ext cx="303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5631840" y="5141880"/>
            <a:ext cx="323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484360" y="3675240"/>
            <a:ext cx="40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T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3168720" y="3670200"/>
            <a:ext cx="690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tree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4801680" y="3668760"/>
            <a:ext cx="561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id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5400360" y="3654360"/>
            <a:ext cx="681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Parity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1" name="Rectangle 58"/>
          <p:cNvSpPr/>
          <p:nvPr/>
        </p:nvSpPr>
        <p:spPr>
          <a:xfrm>
            <a:off x="1510560" y="3670200"/>
            <a:ext cx="630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From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4676760" y="3968640"/>
            <a:ext cx="1440" cy="154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3" name="Rectangle 60"/>
          <p:cNvSpPr/>
          <p:nvPr/>
        </p:nvSpPr>
        <p:spPr>
          <a:xfrm>
            <a:off x="2349360" y="4308480"/>
            <a:ext cx="679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4" name="Rectangle 61"/>
          <p:cNvSpPr/>
          <p:nvPr/>
        </p:nvSpPr>
        <p:spPr>
          <a:xfrm>
            <a:off x="1737360" y="4394160"/>
            <a:ext cx="384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5" name="Rectangle 62"/>
          <p:cNvSpPr/>
          <p:nvPr/>
        </p:nvSpPr>
        <p:spPr>
          <a:xfrm>
            <a:off x="1639080" y="47530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6" name="Rectangle 63"/>
          <p:cNvSpPr/>
          <p:nvPr/>
        </p:nvSpPr>
        <p:spPr>
          <a:xfrm>
            <a:off x="1639080" y="51436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7" name="Rectangle 64"/>
          <p:cNvSpPr/>
          <p:nvPr/>
        </p:nvSpPr>
        <p:spPr>
          <a:xfrm>
            <a:off x="1737360" y="4016520"/>
            <a:ext cx="384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8" name="Line 65"/>
          <p:cNvSpPr/>
          <p:nvPr/>
        </p:nvSpPr>
        <p:spPr>
          <a:xfrm>
            <a:off x="5465880" y="3968640"/>
            <a:ext cx="2880" cy="1552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9" name="Rectangle 66"/>
          <p:cNvSpPr/>
          <p:nvPr/>
        </p:nvSpPr>
        <p:spPr>
          <a:xfrm>
            <a:off x="3965040" y="3670200"/>
            <a:ext cx="599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Typ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0" name="Rectangle 67"/>
          <p:cNvSpPr/>
          <p:nvPr/>
        </p:nvSpPr>
        <p:spPr>
          <a:xfrm>
            <a:off x="4138200" y="401652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4138200" y="439416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2" name="Rectangle 69"/>
          <p:cNvSpPr/>
          <p:nvPr/>
        </p:nvSpPr>
        <p:spPr>
          <a:xfrm>
            <a:off x="4138200" y="475308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3" name="Rectangle 70"/>
          <p:cNvSpPr/>
          <p:nvPr/>
        </p:nvSpPr>
        <p:spPr>
          <a:xfrm>
            <a:off x="4138200" y="514368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4" name="Rectangle 71"/>
          <p:cNvSpPr/>
          <p:nvPr/>
        </p:nvSpPr>
        <p:spPr>
          <a:xfrm>
            <a:off x="1467000" y="3241800"/>
            <a:ext cx="523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of Stree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5" name="Line 72"/>
          <p:cNvSpPr/>
          <p:nvPr/>
        </p:nvSpPr>
        <p:spPr>
          <a:xfrm flipH="1">
            <a:off x="6202080" y="3944880"/>
            <a:ext cx="4680" cy="1576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6" name="Rectangle 73"/>
          <p:cNvSpPr/>
          <p:nvPr/>
        </p:nvSpPr>
        <p:spPr>
          <a:xfrm>
            <a:off x="6116760" y="3654360"/>
            <a:ext cx="790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treet_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7" name="Rectangle 74"/>
          <p:cNvSpPr/>
          <p:nvPr/>
        </p:nvSpPr>
        <p:spPr>
          <a:xfrm>
            <a:off x="6282360" y="399564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8" name="Rectangle 75"/>
          <p:cNvSpPr/>
          <p:nvPr/>
        </p:nvSpPr>
        <p:spPr>
          <a:xfrm>
            <a:off x="6282360" y="438156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9" name="Rectangle 76"/>
          <p:cNvSpPr/>
          <p:nvPr/>
        </p:nvSpPr>
        <p:spPr>
          <a:xfrm>
            <a:off x="6282360" y="476244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0" name="Rectangle 77"/>
          <p:cNvSpPr/>
          <p:nvPr/>
        </p:nvSpPr>
        <p:spPr>
          <a:xfrm>
            <a:off x="6282360" y="516240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1" name="Line 78"/>
          <p:cNvSpPr/>
          <p:nvPr/>
        </p:nvSpPr>
        <p:spPr>
          <a:xfrm flipH="1">
            <a:off x="1031400" y="1940040"/>
            <a:ext cx="4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2" name="Line 79"/>
          <p:cNvSpPr/>
          <p:nvPr/>
        </p:nvSpPr>
        <p:spPr>
          <a:xfrm>
            <a:off x="1031760" y="1930320"/>
            <a:ext cx="0" cy="3373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3" name="Line 80"/>
          <p:cNvSpPr/>
          <p:nvPr/>
        </p:nvSpPr>
        <p:spPr>
          <a:xfrm>
            <a:off x="1031760" y="5313240"/>
            <a:ext cx="466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4" name="Rectangle 82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5" name="Line 83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9"/>
          <p:cNvSpPr/>
          <p:nvPr/>
        </p:nvSpPr>
        <p:spPr>
          <a:xfrm>
            <a:off x="635040" y="1371600"/>
            <a:ext cx="7162920" cy="4419720"/>
          </a:xfrm>
          <a:prstGeom prst="rect">
            <a:avLst/>
          </a:prstGeom>
          <a:solidFill>
            <a:srgbClr val="0023bf"/>
          </a:solidFill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 Major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082880" y="1069920"/>
            <a:ext cx="2830320" cy="1855800"/>
            <a:chOff x="1082880" y="1069920"/>
            <a:chExt cx="2830320" cy="1855800"/>
          </a:xfrm>
        </p:grpSpPr>
        <p:sp>
          <p:nvSpPr>
            <p:cNvPr id="229" name="Rectangle 4"/>
            <p:cNvSpPr/>
            <p:nvPr/>
          </p:nvSpPr>
          <p:spPr>
            <a:xfrm>
              <a:off x="1154160" y="1757520"/>
              <a:ext cx="2732040" cy="35532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>
              <a:off x="1123920" y="17463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1" name="Line 6"/>
            <p:cNvSpPr/>
            <p:nvPr/>
          </p:nvSpPr>
          <p:spPr>
            <a:xfrm>
              <a:off x="1123920" y="21225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2" name="Line 7"/>
            <p:cNvSpPr/>
            <p:nvPr/>
          </p:nvSpPr>
          <p:spPr>
            <a:xfrm>
              <a:off x="1123920" y="251928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3" name="Line 8"/>
            <p:cNvSpPr/>
            <p:nvPr/>
          </p:nvSpPr>
          <p:spPr>
            <a:xfrm>
              <a:off x="1123920" y="29145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4" name="Line 9"/>
            <p:cNvSpPr/>
            <p:nvPr/>
          </p:nvSpPr>
          <p:spPr>
            <a:xfrm>
              <a:off x="1128600" y="1741320"/>
              <a:ext cx="0" cy="117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5" name="Line 10"/>
            <p:cNvSpPr/>
            <p:nvPr/>
          </p:nvSpPr>
          <p:spPr>
            <a:xfrm flipH="1">
              <a:off x="3911760" y="1746360"/>
              <a:ext cx="1440" cy="117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2046240" y="1754280"/>
              <a:ext cx="0" cy="1166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3173400" y="1754280"/>
              <a:ext cx="0" cy="115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8" name="Rectangle 13"/>
            <p:cNvSpPr/>
            <p:nvPr/>
          </p:nvSpPr>
          <p:spPr>
            <a:xfrm>
              <a:off x="1220040" y="1817640"/>
              <a:ext cx="581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437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9" name="Rectangle 14"/>
            <p:cNvSpPr/>
            <p:nvPr/>
          </p:nvSpPr>
          <p:spPr>
            <a:xfrm>
              <a:off x="1307520" y="2182680"/>
              <a:ext cx="48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2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1318680" y="2585880"/>
              <a:ext cx="48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55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1" name="Rectangle 16"/>
            <p:cNvSpPr/>
            <p:nvPr/>
          </p:nvSpPr>
          <p:spPr>
            <a:xfrm>
              <a:off x="1995120" y="1817640"/>
              <a:ext cx="1098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3 Oak St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993680" y="2182680"/>
              <a:ext cx="1186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33 Pine Av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995480" y="2585880"/>
              <a:ext cx="1008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8 Bay Dr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4" name="Rectangle 19"/>
            <p:cNvSpPr/>
            <p:nvPr/>
          </p:nvSpPr>
          <p:spPr>
            <a:xfrm>
              <a:off x="3355920" y="181764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5" name="Rectangle 20"/>
            <p:cNvSpPr/>
            <p:nvPr/>
          </p:nvSpPr>
          <p:spPr>
            <a:xfrm>
              <a:off x="3355920" y="218268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6" name="Rectangle 21"/>
            <p:cNvSpPr/>
            <p:nvPr/>
          </p:nvSpPr>
          <p:spPr>
            <a:xfrm>
              <a:off x="3355920" y="258588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grpSp>
          <p:nvGrpSpPr>
            <p:cNvPr id="247" name="Group 22"/>
            <p:cNvGrpSpPr/>
            <p:nvPr/>
          </p:nvGrpSpPr>
          <p:grpSpPr>
            <a:xfrm>
              <a:off x="1082880" y="1473120"/>
              <a:ext cx="2718720" cy="284040"/>
              <a:chOff x="1082880" y="1473120"/>
              <a:chExt cx="2718720" cy="284040"/>
            </a:xfrm>
          </p:grpSpPr>
          <p:sp>
            <p:nvSpPr>
              <p:cNvPr id="248" name="Rectangle 23"/>
              <p:cNvSpPr/>
              <p:nvPr/>
            </p:nvSpPr>
            <p:spPr>
              <a:xfrm>
                <a:off x="1082880" y="1473120"/>
                <a:ext cx="819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StoreID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2028240" y="1473120"/>
                <a:ext cx="8967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Address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3141000" y="1473120"/>
                <a:ext cx="6606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Class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6"/>
            <p:cNvSpPr/>
            <p:nvPr/>
          </p:nvSpPr>
          <p:spPr>
            <a:xfrm>
              <a:off x="1091880" y="1069920"/>
              <a:ext cx="1302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.dbf</a:t>
              </a: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252" name="Rectangle 27"/>
          <p:cNvSpPr/>
          <p:nvPr/>
        </p:nvSpPr>
        <p:spPr>
          <a:xfrm>
            <a:off x="1147680" y="5099040"/>
            <a:ext cx="5308560" cy="4064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125360" y="3978360"/>
            <a:ext cx="0" cy="1535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117440" y="3952800"/>
            <a:ext cx="5319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143000" y="5511960"/>
            <a:ext cx="5318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150920" y="4309920"/>
            <a:ext cx="528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7" name="Line 32"/>
          <p:cNvSpPr/>
          <p:nvPr/>
        </p:nvSpPr>
        <p:spPr>
          <a:xfrm flipV="1">
            <a:off x="1130400" y="4702320"/>
            <a:ext cx="5305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144440" y="5087880"/>
            <a:ext cx="5302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03320" y="3970440"/>
            <a:ext cx="1800" cy="153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2732040" y="3970440"/>
            <a:ext cx="0" cy="153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3589200" y="3970440"/>
            <a:ext cx="1800" cy="1549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2" name="Line 37"/>
          <p:cNvSpPr/>
          <p:nvPr/>
        </p:nvSpPr>
        <p:spPr>
          <a:xfrm flipH="1">
            <a:off x="6451200" y="3936960"/>
            <a:ext cx="4680" cy="15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2099520" y="4016520"/>
            <a:ext cx="433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2099520" y="4394160"/>
            <a:ext cx="433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2050560" y="47530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8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2050560" y="51436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7" name="Rectangle 42"/>
          <p:cNvSpPr/>
          <p:nvPr/>
        </p:nvSpPr>
        <p:spPr>
          <a:xfrm>
            <a:off x="2883960" y="401652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8" name="Rectangle 43"/>
          <p:cNvSpPr/>
          <p:nvPr/>
        </p:nvSpPr>
        <p:spPr>
          <a:xfrm>
            <a:off x="2883960" y="475308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9" name="Rectangle 44"/>
          <p:cNvSpPr/>
          <p:nvPr/>
        </p:nvSpPr>
        <p:spPr>
          <a:xfrm>
            <a:off x="2883960" y="439416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883960" y="514368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583160" y="4014720"/>
            <a:ext cx="312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4603320" y="439272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4583160" y="475128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4603320" y="514188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5250960" y="4392720"/>
            <a:ext cx="323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6" name="Rectangle 51"/>
          <p:cNvSpPr/>
          <p:nvPr/>
        </p:nvSpPr>
        <p:spPr>
          <a:xfrm>
            <a:off x="5270400" y="4014720"/>
            <a:ext cx="303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7" name="Rectangle 52"/>
          <p:cNvSpPr/>
          <p:nvPr/>
        </p:nvSpPr>
        <p:spPr>
          <a:xfrm>
            <a:off x="5270400" y="4751280"/>
            <a:ext cx="303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8" name="Rectangle 53"/>
          <p:cNvSpPr/>
          <p:nvPr/>
        </p:nvSpPr>
        <p:spPr>
          <a:xfrm>
            <a:off x="5250960" y="5141880"/>
            <a:ext cx="323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2103480" y="3675240"/>
            <a:ext cx="40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T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2787480" y="3670200"/>
            <a:ext cx="690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tree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1" name="Rectangle 56"/>
          <p:cNvSpPr/>
          <p:nvPr/>
        </p:nvSpPr>
        <p:spPr>
          <a:xfrm>
            <a:off x="4420800" y="3668760"/>
            <a:ext cx="561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id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2" name="Rectangle 57"/>
          <p:cNvSpPr/>
          <p:nvPr/>
        </p:nvSpPr>
        <p:spPr>
          <a:xfrm>
            <a:off x="5019480" y="3654360"/>
            <a:ext cx="681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Parity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1129680" y="3670200"/>
            <a:ext cx="630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From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4" name="Line 59"/>
          <p:cNvSpPr/>
          <p:nvPr/>
        </p:nvSpPr>
        <p:spPr>
          <a:xfrm>
            <a:off x="4295880" y="3968640"/>
            <a:ext cx="1440" cy="154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1968480" y="4308480"/>
            <a:ext cx="679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6" name="Rectangle 61"/>
          <p:cNvSpPr/>
          <p:nvPr/>
        </p:nvSpPr>
        <p:spPr>
          <a:xfrm>
            <a:off x="1356480" y="4394160"/>
            <a:ext cx="384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7" name="Rectangle 62"/>
          <p:cNvSpPr/>
          <p:nvPr/>
        </p:nvSpPr>
        <p:spPr>
          <a:xfrm>
            <a:off x="1258200" y="47530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8" name="Rectangle 63"/>
          <p:cNvSpPr/>
          <p:nvPr/>
        </p:nvSpPr>
        <p:spPr>
          <a:xfrm>
            <a:off x="1258200" y="51436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9" name="Rectangle 64"/>
          <p:cNvSpPr/>
          <p:nvPr/>
        </p:nvSpPr>
        <p:spPr>
          <a:xfrm>
            <a:off x="1356480" y="4016520"/>
            <a:ext cx="384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0" name="Line 65"/>
          <p:cNvSpPr/>
          <p:nvPr/>
        </p:nvSpPr>
        <p:spPr>
          <a:xfrm>
            <a:off x="5084640" y="3968640"/>
            <a:ext cx="3240" cy="1552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1" name="Rectangle 66"/>
          <p:cNvSpPr/>
          <p:nvPr/>
        </p:nvSpPr>
        <p:spPr>
          <a:xfrm>
            <a:off x="3584160" y="3670200"/>
            <a:ext cx="599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Typ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2" name="Rectangle 67"/>
          <p:cNvSpPr/>
          <p:nvPr/>
        </p:nvSpPr>
        <p:spPr>
          <a:xfrm>
            <a:off x="3756960" y="401652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3" name="Rectangle 68"/>
          <p:cNvSpPr/>
          <p:nvPr/>
        </p:nvSpPr>
        <p:spPr>
          <a:xfrm>
            <a:off x="3756960" y="439416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4" name="Rectangle 69"/>
          <p:cNvSpPr/>
          <p:nvPr/>
        </p:nvSpPr>
        <p:spPr>
          <a:xfrm>
            <a:off x="3756960" y="475308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5" name="Rectangle 70"/>
          <p:cNvSpPr/>
          <p:nvPr/>
        </p:nvSpPr>
        <p:spPr>
          <a:xfrm>
            <a:off x="3756960" y="514368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6" name="Rectangle 71"/>
          <p:cNvSpPr/>
          <p:nvPr/>
        </p:nvSpPr>
        <p:spPr>
          <a:xfrm>
            <a:off x="1085760" y="3241800"/>
            <a:ext cx="44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of Stree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7" name="Line 72"/>
          <p:cNvSpPr/>
          <p:nvPr/>
        </p:nvSpPr>
        <p:spPr>
          <a:xfrm flipH="1">
            <a:off x="5821200" y="3944880"/>
            <a:ext cx="5040" cy="1576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8" name="Rectangle 73"/>
          <p:cNvSpPr/>
          <p:nvPr/>
        </p:nvSpPr>
        <p:spPr>
          <a:xfrm>
            <a:off x="5735880" y="3654360"/>
            <a:ext cx="790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treet_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9" name="Rectangle 74"/>
          <p:cNvSpPr/>
          <p:nvPr/>
        </p:nvSpPr>
        <p:spPr>
          <a:xfrm>
            <a:off x="5901480" y="399564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0" name="Rectangle 75"/>
          <p:cNvSpPr/>
          <p:nvPr/>
        </p:nvSpPr>
        <p:spPr>
          <a:xfrm>
            <a:off x="5901480" y="438156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1" name="Rectangle 76"/>
          <p:cNvSpPr/>
          <p:nvPr/>
        </p:nvSpPr>
        <p:spPr>
          <a:xfrm>
            <a:off x="5901480" y="476244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2" name="Rectangle 77"/>
          <p:cNvSpPr/>
          <p:nvPr/>
        </p:nvSpPr>
        <p:spPr>
          <a:xfrm>
            <a:off x="5901480" y="516240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3" name="Rectangle 78"/>
          <p:cNvSpPr/>
          <p:nvPr/>
        </p:nvSpPr>
        <p:spPr>
          <a:xfrm>
            <a:off x="4322880" y="1655640"/>
            <a:ext cx="3238560" cy="15606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4" name="Line 79"/>
          <p:cNvSpPr/>
          <p:nvPr/>
        </p:nvSpPr>
        <p:spPr>
          <a:xfrm flipV="1">
            <a:off x="4322880" y="2346480"/>
            <a:ext cx="3230280" cy="7920"/>
          </a:xfrm>
          <a:prstGeom prst="line">
            <a:avLst/>
          </a:prstGeom>
          <a:ln w="25560">
            <a:solidFill>
              <a:srgbClr val="020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5" name="Oval 80"/>
          <p:cNvSpPr/>
          <p:nvPr/>
        </p:nvSpPr>
        <p:spPr>
          <a:xfrm>
            <a:off x="4437000" y="2305080"/>
            <a:ext cx="90720" cy="90360"/>
          </a:xfrm>
          <a:prstGeom prst="ellipse">
            <a:avLst/>
          </a:prstGeom>
          <a:solidFill>
            <a:srgbClr val="020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6" name="Oval 81"/>
          <p:cNvSpPr/>
          <p:nvPr/>
        </p:nvSpPr>
        <p:spPr>
          <a:xfrm>
            <a:off x="5845320" y="2298600"/>
            <a:ext cx="90360" cy="90720"/>
          </a:xfrm>
          <a:prstGeom prst="ellipse">
            <a:avLst/>
          </a:prstGeom>
          <a:solidFill>
            <a:srgbClr val="020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7" name="Oval 82"/>
          <p:cNvSpPr/>
          <p:nvPr/>
        </p:nvSpPr>
        <p:spPr>
          <a:xfrm>
            <a:off x="7423200" y="2308320"/>
            <a:ext cx="90360" cy="90360"/>
          </a:xfrm>
          <a:prstGeom prst="ellipse">
            <a:avLst/>
          </a:prstGeom>
          <a:solidFill>
            <a:srgbClr val="020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8" name="Line 83"/>
          <p:cNvSpPr/>
          <p:nvPr/>
        </p:nvSpPr>
        <p:spPr>
          <a:xfrm>
            <a:off x="5900760" y="2408400"/>
            <a:ext cx="0" cy="807840"/>
          </a:xfrm>
          <a:prstGeom prst="line">
            <a:avLst/>
          </a:prstGeom>
          <a:ln w="25560">
            <a:solidFill>
              <a:srgbClr val="020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9" name="Rectangle 84"/>
          <p:cNvSpPr/>
          <p:nvPr/>
        </p:nvSpPr>
        <p:spPr>
          <a:xfrm>
            <a:off x="5028480" y="211932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0" name="Rectangle 85"/>
          <p:cNvSpPr/>
          <p:nvPr/>
        </p:nvSpPr>
        <p:spPr>
          <a:xfrm>
            <a:off x="6400080" y="211932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1" name="Rectangle 86"/>
          <p:cNvSpPr/>
          <p:nvPr/>
        </p:nvSpPr>
        <p:spPr>
          <a:xfrm>
            <a:off x="5454720" y="1905120"/>
            <a:ext cx="750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 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2" name="Rectangle 87"/>
          <p:cNvSpPr/>
          <p:nvPr/>
        </p:nvSpPr>
        <p:spPr>
          <a:xfrm rot="16200000">
            <a:off x="5337360" y="2725920"/>
            <a:ext cx="838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Pine Av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3" name="Rectangle 88"/>
          <p:cNvSpPr/>
          <p:nvPr/>
        </p:nvSpPr>
        <p:spPr>
          <a:xfrm>
            <a:off x="5835960" y="210672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323"/>
                </a:solidFill>
                <a:latin typeface="Arial"/>
              </a:rPr>
              <a:t>100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4" name="Rectangle 89"/>
          <p:cNvSpPr/>
          <p:nvPr/>
        </p:nvSpPr>
        <p:spPr>
          <a:xfrm>
            <a:off x="5842080" y="237492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323"/>
                </a:solidFill>
                <a:latin typeface="Arial"/>
              </a:rPr>
              <a:t>101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5" name="Rectangle 90"/>
          <p:cNvSpPr/>
          <p:nvPr/>
        </p:nvSpPr>
        <p:spPr>
          <a:xfrm>
            <a:off x="7108920" y="209232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323"/>
                </a:solidFill>
                <a:latin typeface="Arial"/>
              </a:rPr>
              <a:t>198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6" name="Rectangle 91"/>
          <p:cNvSpPr/>
          <p:nvPr/>
        </p:nvSpPr>
        <p:spPr>
          <a:xfrm>
            <a:off x="7124760" y="239868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323"/>
                </a:solidFill>
                <a:latin typeface="Arial"/>
              </a:rPr>
              <a:t>199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7" name="Rectangle 92"/>
          <p:cNvSpPr/>
          <p:nvPr/>
        </p:nvSpPr>
        <p:spPr>
          <a:xfrm>
            <a:off x="6281640" y="2454120"/>
            <a:ext cx="1605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8" name="Rectangle 93"/>
          <p:cNvSpPr/>
          <p:nvPr/>
        </p:nvSpPr>
        <p:spPr>
          <a:xfrm>
            <a:off x="6239160" y="258120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3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9" name="Line 94"/>
          <p:cNvSpPr/>
          <p:nvPr/>
        </p:nvSpPr>
        <p:spPr>
          <a:xfrm flipH="1">
            <a:off x="650880" y="1940040"/>
            <a:ext cx="466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0" name="Line 95"/>
          <p:cNvSpPr/>
          <p:nvPr/>
        </p:nvSpPr>
        <p:spPr>
          <a:xfrm>
            <a:off x="650880" y="1930320"/>
            <a:ext cx="0" cy="3373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1" name="Line 96"/>
          <p:cNvSpPr/>
          <p:nvPr/>
        </p:nvSpPr>
        <p:spPr>
          <a:xfrm>
            <a:off x="650880" y="5313240"/>
            <a:ext cx="4665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2" name="Line 97"/>
          <p:cNvSpPr/>
          <p:nvPr/>
        </p:nvSpPr>
        <p:spPr>
          <a:xfrm>
            <a:off x="6461280" y="5313240"/>
            <a:ext cx="56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3" name="Line 98"/>
          <p:cNvSpPr/>
          <p:nvPr/>
        </p:nvSpPr>
        <p:spPr>
          <a:xfrm flipH="1" flipV="1">
            <a:off x="6451560" y="2835000"/>
            <a:ext cx="588960" cy="2477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4" name="Rectangle 100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5" name="Line 101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b3b900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b3b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 ST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Direction, prefix 123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 Oak ST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 Oak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prefix 123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 W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Unit Number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 ST W,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Apt. 2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dress Geocoding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rocess of creating geometric representations for locations (such as point features) from descriptions of locations (such as addresse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isplays tabular data containing addresses as points on a map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inds locations on a map easil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 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prefix 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Oak ST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Unit Number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W,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Apt. 2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Zone, city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 ST W, Apt. 2,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Pittsburgh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1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Zone, zip cod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 ST W, Apt. 2, Pittsburgh, PA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15213</a:t>
            </a:r>
            <a:endParaRPr b="1" lang="en-US" sz="19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9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3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1635120" y="5024520"/>
            <a:ext cx="1743120" cy="385560"/>
          </a:xfrm>
          <a:prstGeom prst="rect">
            <a:avLst/>
          </a:prstGeom>
          <a:solidFill>
            <a:srgbClr val="4a6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530520" y="5029200"/>
            <a:ext cx="986040" cy="380880"/>
          </a:xfrm>
          <a:prstGeom prst="rect">
            <a:avLst/>
          </a:prstGeom>
          <a:solidFill>
            <a:srgbClr val="4a6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4597560" y="5029200"/>
            <a:ext cx="1385640" cy="380880"/>
          </a:xfrm>
          <a:prstGeom prst="rect">
            <a:avLst/>
          </a:prstGeom>
          <a:solidFill>
            <a:srgbClr val="4a6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6121440" y="5029200"/>
            <a:ext cx="745920" cy="380880"/>
          </a:xfrm>
          <a:prstGeom prst="rect">
            <a:avLst/>
          </a:prstGeom>
          <a:solidFill>
            <a:srgbClr val="4a6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58720" y="1143000"/>
            <a:ext cx="7569360" cy="4648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 ST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prefix 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Oak ST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Unit Number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W,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Apt. 2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Zone, city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W, Apt. 2,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Pittsburgh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1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Zone, zip code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W, Apt. 2, Pittsburgh, PA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5213</a:t>
            </a:r>
            <a:endParaRPr b="1" lang="en-US" sz="19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Items for Single Number Street Address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Address            Unit           City                Zip Cod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a2162f"/>
                </a:solidFill>
                <a:latin typeface="Arial"/>
              </a:rPr>
              <a:t>123 Oak ST W    Apt. 2        Pittsburgh   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9760" y="2514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Street Address Matching </a:t>
            </a:r>
            <a:br>
              <a:rPr sz="3200"/>
            </a:b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roblems and Soluti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1473120" y="3505320"/>
            <a:ext cx="5105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549440" y="2286000"/>
            <a:ext cx="4952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a2162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Variations in Street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a2162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Data Entry Erro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awmill Ru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Place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Place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a2162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Intersectio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5th AV and Craig ST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lace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Intersection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5th AV and Craig ST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a2162f"/>
                </a:solidFill>
                <a:latin typeface="Arial"/>
              </a:rPr>
              <a:t>Zon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00 Main ST </a:t>
            </a: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15101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, 100 Main ST </a:t>
            </a: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16202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4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lace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Intersection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5th AV and Craig ST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Zon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00 Main ST 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15101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100 Main ST 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16202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a2162f"/>
                </a:solidFill>
                <a:latin typeface="Arial"/>
              </a:rPr>
              <a:t>Post Office Box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.O. Box 125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99000"/>
          </a:bodyPr>
          <a:p>
            <a:pPr marL="113040" indent="-11304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lace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Intersection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5th AV and Craig ST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Zon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00 Main ST 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15101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100 Main ST 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16202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ost Office Box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.O. Box 125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Missing Street (TIGER) informatio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2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ing Exampl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4" name="Rectangle 67"/>
          <p:cNvSpPr/>
          <p:nvPr/>
        </p:nvSpPr>
        <p:spPr>
          <a:xfrm>
            <a:off x="-291960" y="5562720"/>
            <a:ext cx="1092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. Helper   9-16-03 </a:t>
            </a:r>
            <a:endParaRPr b="1" lang="en-US" sz="13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5" name="Rectangle 66"/>
          <p:cNvSpPr/>
          <p:nvPr/>
        </p:nvSpPr>
        <p:spPr>
          <a:xfrm>
            <a:off x="240048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EO327G/386G, UT Austin </a:t>
            </a:r>
            <a:endParaRPr b="1" lang="en-US" sz="13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6" name="Rectangle 65"/>
          <p:cNvSpPr/>
          <p:nvPr/>
        </p:nvSpPr>
        <p:spPr>
          <a:xfrm>
            <a:off x="6006960" y="5924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92FD-E09F-40D0-B022-0FBD5ECEEF1B}" type="slidenum">
              <a:rPr b="0" lang="en-US" sz="13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1" lang="en-US" sz="13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7" name="Rectangle 74"/>
          <p:cNvSpPr/>
          <p:nvPr/>
        </p:nvSpPr>
        <p:spPr>
          <a:xfrm>
            <a:off x="254160" y="1219320"/>
            <a:ext cx="7618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ittsburgh Technology Council maps technology businesses by streets to see technology rich area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mergency dispatch operators geocode to enter an address, determine who should respon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llegheny County maps personal care and nursing homes and compares to elderly population by mc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General Nutrition Centers maps store locations and compares to Rite-Aid store locatio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Others?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8" name="Rectangle 87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9" name="Line 88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olution: Correct Intersecti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rmat: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rbes AV &amp; Craig ST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Grant ST &amp; 5th AV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efault Delimit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View: </a:t>
            </a:r>
            <a:r>
              <a:rPr b="1" lang="en-US" sz="2400" spc="-1" strike="noStrike">
                <a:solidFill>
                  <a:srgbClr val="a2162f"/>
                </a:solidFill>
                <a:latin typeface="Arial"/>
              </a:rPr>
              <a:t>&amp;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/INFO: </a:t>
            </a:r>
            <a:r>
              <a:rPr b="1" lang="en-US" sz="2400" spc="-1" strike="noStrike">
                <a:solidFill>
                  <a:srgbClr val="a2162f"/>
                </a:solidFill>
                <a:latin typeface="Arial"/>
              </a:rPr>
              <a:t>/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Solution: Use Standard Directi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A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AS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A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TENDED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TENSION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RT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RTH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RTHEA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9264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RTHWE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O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OUTH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OUTHEA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OUTHWE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E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>
            <a:off x="3586320" y="1219320"/>
            <a:ext cx="0" cy="45417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2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Solution: Use Standard Street Type Abbreviati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escent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SG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SG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S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S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ive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V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P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press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P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ee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9264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igh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ne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N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oop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oop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Motor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MT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MT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MT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ark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K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K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K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6" name="Line 5"/>
          <p:cNvSpPr/>
          <p:nvPr/>
        </p:nvSpPr>
        <p:spPr>
          <a:xfrm>
            <a:off x="3699000" y="1228680"/>
            <a:ext cx="0" cy="4633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olution:Alias Tab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404640" y="1781280"/>
            <a:ext cx="6415200" cy="2697120"/>
          </a:xfrm>
          <a:prstGeom prst="rect">
            <a:avLst/>
          </a:prstGeom>
          <a:gradFill rotWithShape="0">
            <a:gsLst>
              <a:gs pos="0">
                <a:srgbClr val="000a39"/>
              </a:gs>
              <a:gs pos="100000">
                <a:srgbClr val="0023bf"/>
              </a:gs>
            </a:gsLst>
            <a:lin ang="5400000"/>
          </a:gradFill>
          <a:ln w="25560">
            <a:solidFill>
              <a:srgbClr val="020323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636480" y="206388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646200" y="3932280"/>
            <a:ext cx="5984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636480" y="243828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636480" y="278460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636480" y="316080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636480" y="354492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646200" y="4297320"/>
            <a:ext cx="5984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636480" y="2063880"/>
            <a:ext cx="0" cy="224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4233960" y="2043000"/>
            <a:ext cx="0" cy="224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0" name="Line 14"/>
          <p:cNvSpPr/>
          <p:nvPr/>
        </p:nvSpPr>
        <p:spPr>
          <a:xfrm>
            <a:off x="6620040" y="2052720"/>
            <a:ext cx="0" cy="224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2040" y="1209600"/>
            <a:ext cx="732960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BF Table (Name of Your Choice):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82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ias              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dress</a:t>
            </a:r>
            <a:endParaRPr b="1" lang="en-US" sz="22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M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0 Forbes Av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0 Forbes AV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0 Forbes AV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0 Forbes AV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mproving Address 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tegrate User Data Entry and Address Matchin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urchase or Build High Quality Maps (Field Verification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rrect and Maintain Maps (Lab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ssign House Numbers in Rural Area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4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Address 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711360" y="3352680"/>
            <a:ext cx="6629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0" name="Line 4"/>
          <p:cNvSpPr/>
          <p:nvPr/>
        </p:nvSpPr>
        <p:spPr>
          <a:xfrm>
            <a:off x="787320" y="2286000"/>
            <a:ext cx="6477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IGER Files: Polygon Topology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1549440" y="1295280"/>
            <a:ext cx="4751280" cy="4368960"/>
          </a:xfrm>
          <a:prstGeom prst="rect">
            <a:avLst/>
          </a:prstGeom>
          <a:gradFill rotWithShape="0">
            <a:gsLst>
              <a:gs pos="0">
                <a:srgbClr val="000a39"/>
              </a:gs>
              <a:gs pos="100000">
                <a:srgbClr val="0023bf"/>
              </a:gs>
            </a:gsLst>
            <a:lin ang="5400000"/>
          </a:gradFill>
          <a:ln w="25560">
            <a:solidFill>
              <a:srgbClr val="020323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53920" y="1496880"/>
            <a:ext cx="4570200" cy="4097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p Cod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erican Indian Reservatio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aska Nature Village Statistical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Designated Statistical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Jurisdiction Statistical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aska Nature Regional Corp.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PS State Cod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PS County Cod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CD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sus Tract/Block Numbering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bulation Block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TIGER:Polygons - Zipcodes/Parcel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7355160" cy="4206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lygon features can be identified by their parcel numbers, postal zip, or zip+4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arcel_Number</a:t>
            </a: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a2162f"/>
                </a:solidFill>
                <a:latin typeface="Arial"/>
              </a:rPr>
              <a:t>1046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ZIP</a:t>
            </a:r>
            <a:r>
              <a:rPr b="0" lang="en-US" sz="20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(15218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ZIP + 4</a:t>
            </a:r>
            <a:r>
              <a:rPr b="0" lang="en-US" sz="20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(15218-1234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4343400" cy="30862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5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5105520" cy="22194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2362320" y="2971800"/>
            <a:ext cx="5084640" cy="2960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3"/>
          <a:stretch/>
        </p:blipFill>
        <p:spPr>
          <a:xfrm>
            <a:off x="2362320" y="2978280"/>
            <a:ext cx="5105160" cy="29289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82400" y="5335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lygon Address Matching </a:t>
            </a:r>
            <a:br>
              <a:rPr sz="3200"/>
            </a:b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(Zip Codes) </a:t>
            </a:r>
            <a:br>
              <a:rPr sz="3200"/>
            </a:b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atient Location by County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482760" y="1523880"/>
            <a:ext cx="7151400" cy="346392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449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ing in ArcGI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>
            <a:off x="711360" y="3352680"/>
            <a:ext cx="6629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>
            <a:off x="787320" y="2286000"/>
            <a:ext cx="6477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reate address locato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11360" y="1371600"/>
            <a:ext cx="677376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Catalo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1092240" y="1905120"/>
            <a:ext cx="5032440" cy="3047760"/>
          </a:xfrm>
          <a:prstGeom prst="rect">
            <a:avLst/>
          </a:prstGeom>
          <a:ln w="0">
            <a:noFill/>
          </a:ln>
        </p:spPr>
      </p:pic>
      <p:sp>
        <p:nvSpPr>
          <p:cNvPr id="457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hoose address locator sty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keleton of the address locato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ased on data tables and reference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70240" y="2235240"/>
            <a:ext cx="2457360" cy="2844720"/>
          </a:xfrm>
          <a:prstGeom prst="rect">
            <a:avLst/>
          </a:prstGeom>
          <a:ln w="0">
            <a:noFill/>
          </a:ln>
        </p:spPr>
      </p:pic>
      <p:sp>
        <p:nvSpPr>
          <p:cNvPr id="461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hoose reference lay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treets, ZIP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1084320" y="2031840"/>
            <a:ext cx="3325680" cy="22352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" descr="AddressLocatorStreets.tif"/>
          <p:cNvPicPr/>
          <p:nvPr/>
        </p:nvPicPr>
        <p:blipFill>
          <a:blip r:embed="rId2"/>
          <a:stretch/>
        </p:blipFill>
        <p:spPr>
          <a:xfrm>
            <a:off x="3929040" y="1625760"/>
            <a:ext cx="3030480" cy="3657600"/>
          </a:xfrm>
          <a:prstGeom prst="rect">
            <a:avLst/>
          </a:prstGeom>
          <a:ln w="0">
            <a:noFill/>
          </a:ln>
        </p:spPr>
      </p:pic>
      <p:sp>
        <p:nvSpPr>
          <p:cNvPr id="466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locator properti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68" name="Picture 5" descr="AddressLocatorProperties.tif"/>
          <p:cNvPicPr/>
          <p:nvPr/>
        </p:nvPicPr>
        <p:blipFill>
          <a:blip r:embed="rId1"/>
          <a:stretch/>
        </p:blipFill>
        <p:spPr>
          <a:xfrm>
            <a:off x="1693800" y="1422360"/>
            <a:ext cx="4321080" cy="3657600"/>
          </a:xfrm>
          <a:prstGeom prst="rect">
            <a:avLst/>
          </a:prstGeom>
          <a:ln w="0">
            <a:noFill/>
          </a:ln>
        </p:spPr>
      </p:pic>
      <p:sp>
        <p:nvSpPr>
          <p:cNvPr id="469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e in ArcMap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1. Add tabular data and streets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2. Add address locato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3. Geocode addres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4. View geocoding resul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5. Interactively rematch addres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re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vestigate unmatched addres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Generally requires expertise with knowledge of local stree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mpare street name in the attributes of streets table and address tab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epare log fi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og file includes reasons why addresses did not geocod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seful for future work on cleaning addresses or repairing street map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084320" y="3182760"/>
          <a:ext cx="6019920" cy="212436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3bf"/>
                          </a:solidFill>
                          <a:latin typeface="Arial"/>
                        </a:rPr>
                        <a:t>Incorrect address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3bf"/>
                          </a:solidFill>
                          <a:latin typeface="Arial"/>
                        </a:rPr>
                        <a:t>Possible reason/solution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490 Penn Avenue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Missing ZIP code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111 Hawksworth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Spelled incorrectly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900 Smallman Street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TIGER street missing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900 Lib Ave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Spelled incorrectly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79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ress matching is a process that compares two addresses to determine whether or not they are the same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ooks for certain standards and makes a decision about whether addresses match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correct, incomplete, or ambiguous address information will reduce the matching confidence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What do you match?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720" y="12189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86000"/>
          </a:bodyPr>
          <a:p>
            <a:pPr marL="98280" indent="-98280">
              <a:lnSpc>
                <a:spcPct val="8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abular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09600" indent="-113040">
              <a:lnSpc>
                <a:spcPct val="8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ex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09600" indent="-113040">
              <a:lnSpc>
                <a:spcPct val="8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atabas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82760" y="2819520"/>
            <a:ext cx="731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o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Geographic map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IGER Stree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ZIP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IGER Fil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1049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20323"/>
                </a:solidFill>
                <a:latin typeface="Arial"/>
              </a:rPr>
              <a:t>Geographic elements used to address match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020323"/>
                </a:solidFill>
                <a:latin typeface="Arial"/>
              </a:rPr>
              <a:t>Lines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streets,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  <a:ea typeface="Times New Roman"/>
              </a:rPr>
              <a:t> railroads, rive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88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020323"/>
                </a:solidFill>
                <a:latin typeface="Arial"/>
              </a:rPr>
              <a:t>Areas</a:t>
            </a:r>
            <a:endParaRPr b="1" lang="en-US" sz="2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  <a:ea typeface="Times New Roman"/>
              </a:rPr>
              <a:t>zip codes, census blocks, tracts, MCD/CCDs, places, counties, etc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88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1" lang="en-US" sz="2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  <a:ea typeface="Times New Roman"/>
              </a:rPr>
              <a:t>landmarks such as churchs, schools, and other cultural features represented in TIGER as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IGER Street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6465960" cy="3960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Linear (Street) Address Matching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11360" y="3352680"/>
            <a:ext cx="6629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787320" y="2286000"/>
            <a:ext cx="6477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9T23:01:06Z</dcterms:created>
  <dc:creator>The Heinz School</dc:creator>
  <dc:description/>
  <cp:keywords/>
  <dc:language>en-US</dc:language>
  <cp:lastModifiedBy>Valued Acer Customer</cp:lastModifiedBy>
  <cp:lastPrinted>2001-01-21T18:12:54Z</cp:lastPrinted>
  <dcterms:modified xsi:type="dcterms:W3CDTF">2011-05-12T18:46:40Z</dcterms:modified>
  <cp:revision>226</cp:revision>
  <dc:subject/>
  <dc:title>No Slide Title</dc:title>
</cp:coreProperties>
</file>