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92435-8907-46A8-9C08-145D8038CC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BB104-ADD7-43D8-A024-240253993C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FF8422-E45D-49EC-85D7-E763400611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3017F-BB23-408C-AAA3-B9CEDF6ED7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3DF8D1-389C-4465-A3E1-6079D0496B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B6A42-99B9-483D-AEC1-24DF926FC7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84049-7F03-4FEE-9081-FFA888D9B9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01C10-E90C-4E35-B07B-28EE5655A3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5E366-26A1-4567-9E3B-EE7C403DC6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3B2AE8-E885-4390-996E-D0AA7F0E63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416B54-267F-4C46-9656-1B02E5F5B2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BEE7D-63E5-459C-9A73-5D2D28DB90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4A053-8E4A-4C7E-BD73-26EFE391B9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29D50C-3B6D-4C95-BEBD-F9C4E3C622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94CA2-F1F5-4CE7-8279-0EF2D9673F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086F0-630D-49E6-B52B-4D2EFA1BFF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9C4F07-E153-4681-BC48-C8D38E23C2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09A9A-C13F-404C-B63F-88F0F67DFC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5EC21C-46E0-4C6F-B94A-0CC33A81E8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3BDE7-35A6-4BB9-B321-1F5BA2EE8D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B819F-41DD-4618-94CD-817E1820FA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F6CB4-A507-4F39-B372-6B734BD414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4D53D-048C-4C52-BF85-9DA6FB368A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6E4F4-5248-4C83-8F8B-7146BC3A78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D4DB1-9F3F-40F9-BFC2-F63EF04DCF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408C35-565B-4FCB-B64D-C9E0DE7BCF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53532-8226-484E-A12C-5FA22D55F5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26605-F689-4111-BC7A-D8BF986624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53442-26D3-4388-8BD6-2492ABDFA1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EB87E5-DD35-4201-BD9B-C38B70EDC9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335E3-8CED-4BC8-B003-9F45A05D1F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74C21-A043-466E-996D-321E4F7DB3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E2964B-661A-4041-81C4-43B4DD0C2C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F039C-C074-41E8-9778-626D3D4F1E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F905C-91A9-4626-8F11-F6985F46C3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AC2E8-1E89-454E-8627-11C8B16A54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5B019-33C7-46DA-88C0-3D992BAE42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844060-BC73-46AE-9592-3528BB0B64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9D5784-A371-430D-AEFE-7CE6199E96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68024-CBDE-4099-A8A8-440F4A6735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14C4E8-B8FA-4780-ABC5-CEB74948B8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580A27-76BB-4C26-B69F-4B4F1017F6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FFE0B-4A65-4940-A4AE-ED124BB2CE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EF8FE-6E56-4E8A-8ABF-EC7492479E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DACB20-59F7-4FB1-8880-A3EA1E1F32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CA58B-A9A9-475B-9E33-7B33EF962F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33841-2E8A-4B80-8545-97A815D410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F91CE5-F023-4337-AEBF-56F618718B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67EAC579-6C31-4484-B048-5D5641D1A777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ar Address Matching (Streets)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3652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rban street map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our street address numbers ranging from low to high for each side of a street segment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Left_from      Left_to      Right_from      Right_to      Street_name      Type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56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101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199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 100 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          198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OAK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5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380880" y="3505320"/>
            <a:ext cx="3200400" cy="2286000"/>
            <a:chOff x="380880" y="3505320"/>
            <a:chExt cx="3200400" cy="2286000"/>
          </a:xfrm>
        </p:grpSpPr>
        <p:grpSp>
          <p:nvGrpSpPr>
            <p:cNvPr id="96" name="Group 5"/>
            <p:cNvGrpSpPr/>
            <p:nvPr/>
          </p:nvGrpSpPr>
          <p:grpSpPr>
            <a:xfrm>
              <a:off x="380880" y="3505320"/>
              <a:ext cx="3196440" cy="2286000"/>
              <a:chOff x="380880" y="3505320"/>
              <a:chExt cx="3196440" cy="2286000"/>
            </a:xfrm>
          </p:grpSpPr>
          <p:sp>
            <p:nvSpPr>
              <p:cNvPr id="97" name="Rectangle 6"/>
              <p:cNvSpPr/>
              <p:nvPr/>
            </p:nvSpPr>
            <p:spPr>
              <a:xfrm>
                <a:off x="392400" y="3513240"/>
                <a:ext cx="3184920" cy="227808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20323"/>
                </a:solidFill>
                <a:miter/>
              </a:ln>
              <a:effectLst>
                <a:outerShdw dist="107932" dir="2700000" blurRad="0" rotWithShape="0">
                  <a:srgbClr val="02032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pic>
            <p:nvPicPr>
              <p:cNvPr id="98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505320"/>
                <a:ext cx="3180600" cy="227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Line 8"/>
            <p:cNvSpPr/>
            <p:nvPr/>
          </p:nvSpPr>
          <p:spPr>
            <a:xfrm flipV="1">
              <a:off x="402480" y="4407120"/>
              <a:ext cx="1062000" cy="717840"/>
            </a:xfrm>
            <a:prstGeom prst="line">
              <a:avLst/>
            </a:prstGeom>
            <a:ln w="5076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V="1">
              <a:off x="1442880" y="4403160"/>
              <a:ext cx="2138400" cy="21240"/>
            </a:xfrm>
            <a:prstGeom prst="line">
              <a:avLst/>
            </a:prstGeom>
            <a:ln w="5076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2184120" y="4373280"/>
              <a:ext cx="87840" cy="86400"/>
            </a:xfrm>
            <a:prstGeom prst="ellipse">
              <a:avLst/>
            </a:prstGeom>
            <a:solidFill>
              <a:srgbClr val="2db1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2333520" y="4371120"/>
              <a:ext cx="87480" cy="86760"/>
            </a:xfrm>
            <a:prstGeom prst="ellipse">
              <a:avLst/>
            </a:prstGeom>
            <a:solidFill>
              <a:srgbClr val="2db1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2708280" y="3968640"/>
              <a:ext cx="690840" cy="339120"/>
            </a:xfrm>
            <a:prstGeom prst="rect">
              <a:avLst/>
            </a:prstGeom>
            <a:solidFill>
              <a:srgbClr val="4a6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0323"/>
                  </a:solidFill>
                  <a:latin typeface="Arial"/>
                </a:rPr>
                <a:t>0105</a:t>
              </a:r>
              <a:endParaRPr b="1" lang="en-US" sz="18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2708280" y="4604400"/>
              <a:ext cx="690840" cy="339120"/>
            </a:xfrm>
            <a:prstGeom prst="rect">
              <a:avLst/>
            </a:prstGeom>
            <a:solidFill>
              <a:srgbClr val="4a6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0323"/>
                  </a:solidFill>
                  <a:latin typeface="Arial"/>
                </a:rPr>
                <a:t>0107</a:t>
              </a:r>
              <a:endParaRPr b="1" lang="en-US" sz="18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2232000" y="4417200"/>
              <a:ext cx="158400" cy="0"/>
            </a:xfrm>
            <a:prstGeom prst="line">
              <a:avLst/>
            </a:prstGeom>
            <a:ln w="50760">
              <a:solidFill>
                <a:srgbClr val="2db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06" name="Line 17"/>
          <p:cNvSpPr/>
          <p:nvPr/>
        </p:nvSpPr>
        <p:spPr>
          <a:xfrm>
            <a:off x="4281480" y="4335480"/>
            <a:ext cx="3121200" cy="0"/>
          </a:xfrm>
          <a:prstGeom prst="line">
            <a:avLst/>
          </a:prstGeom>
          <a:ln w="5076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7" name="Oval 18"/>
          <p:cNvSpPr/>
          <p:nvPr/>
        </p:nvSpPr>
        <p:spPr>
          <a:xfrm>
            <a:off x="4216320" y="4255920"/>
            <a:ext cx="142920" cy="142920"/>
          </a:xfrm>
          <a:prstGeom prst="ellipse">
            <a:avLst/>
          </a:prstGeom>
          <a:solidFill>
            <a:srgbClr val="2db12d"/>
          </a:solidFill>
          <a:ln w="1260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7362720" y="4251240"/>
            <a:ext cx="142920" cy="142920"/>
          </a:xfrm>
          <a:prstGeom prst="ellipse">
            <a:avLst/>
          </a:prstGeom>
          <a:solidFill>
            <a:srgbClr val="2db12d"/>
          </a:solidFill>
          <a:ln w="1260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992760" y="388764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7166160" y="388620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98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016520" y="447516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180560" y="444492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99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283360" y="3886200"/>
            <a:ext cx="1676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ak St. </a:t>
            </a:r>
            <a:br>
              <a:rPr sz="2000"/>
            </a:b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5326200" y="4532400"/>
            <a:ext cx="1074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3301920" y="4952880"/>
            <a:ext cx="5461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(80.731, 40.025)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             (80.729, 40.025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8"/>
          <p:cNvSpPr/>
          <p:nvPr/>
        </p:nvSpPr>
        <p:spPr>
          <a:xfrm>
            <a:off x="787320" y="1371600"/>
            <a:ext cx="3962520" cy="297180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62080" y="2211480"/>
            <a:ext cx="2732040" cy="35568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131840" y="22003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131840" y="25765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131840" y="297324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131840" y="33685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136520" y="2195640"/>
            <a:ext cx="0" cy="11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>
            <a:off x="3919680" y="2200320"/>
            <a:ext cx="1440" cy="11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2054160" y="2208240"/>
            <a:ext cx="0" cy="116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81320" y="2208240"/>
            <a:ext cx="0" cy="1158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27960" y="22716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37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315440" y="263700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1326600" y="304020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55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2001240" y="2271600"/>
            <a:ext cx="1098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3 Oak 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01600" y="2637000"/>
            <a:ext cx="1186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3 Pine Av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003400" y="3040200"/>
            <a:ext cx="1008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 Bay D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3363840" y="22716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3363840" y="26370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363840" y="30402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090800" y="1927080"/>
            <a:ext cx="2718720" cy="284040"/>
            <a:chOff x="1090800" y="1927080"/>
            <a:chExt cx="2718720" cy="284040"/>
          </a:xfrm>
        </p:grpSpPr>
        <p:sp>
          <p:nvSpPr>
            <p:cNvPr id="138" name="Rectangle 23"/>
            <p:cNvSpPr/>
            <p:nvPr/>
          </p:nvSpPr>
          <p:spPr>
            <a:xfrm>
              <a:off x="1090800" y="1927080"/>
              <a:ext cx="819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oreID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2036160" y="1927080"/>
              <a:ext cx="896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0" name="Rectangle 25"/>
            <p:cNvSpPr/>
            <p:nvPr/>
          </p:nvSpPr>
          <p:spPr>
            <a:xfrm>
              <a:off x="3148920" y="1927080"/>
              <a:ext cx="6606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ass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41" name="Rectangle 26"/>
          <p:cNvSpPr/>
          <p:nvPr/>
        </p:nvSpPr>
        <p:spPr>
          <a:xfrm>
            <a:off x="1100160" y="1523880"/>
            <a:ext cx="13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.dbf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1"/>
          <p:cNvSpPr/>
          <p:nvPr/>
        </p:nvSpPr>
        <p:spPr>
          <a:xfrm>
            <a:off x="635040" y="1371600"/>
            <a:ext cx="6934320" cy="441972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082880" y="1069920"/>
            <a:ext cx="2830320" cy="1855800"/>
            <a:chOff x="1082880" y="1069920"/>
            <a:chExt cx="2830320" cy="1855800"/>
          </a:xfrm>
        </p:grpSpPr>
        <p:sp>
          <p:nvSpPr>
            <p:cNvPr id="147" name="Rectangle 4"/>
            <p:cNvSpPr/>
            <p:nvPr/>
          </p:nvSpPr>
          <p:spPr>
            <a:xfrm>
              <a:off x="1154160" y="1757520"/>
              <a:ext cx="2732040" cy="35532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1123920" y="17463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1123920" y="2122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1123920" y="251928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1123920" y="2914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1128600" y="1741320"/>
              <a:ext cx="0" cy="117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>
              <a:off x="3911760" y="1746360"/>
              <a:ext cx="1440" cy="11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2046240" y="1754280"/>
              <a:ext cx="0" cy="1166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3173400" y="1754280"/>
              <a:ext cx="0" cy="115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220040" y="1817640"/>
              <a:ext cx="581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37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1307520" y="21826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2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1318680" y="25858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55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1995120" y="1817640"/>
              <a:ext cx="109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3 Oak St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1993680" y="2182680"/>
              <a:ext cx="1186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33 Pine Av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1995480" y="2585880"/>
              <a:ext cx="100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 Bay Dr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3355920" y="18176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3355920" y="21826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355920" y="25858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grpSp>
          <p:nvGrpSpPr>
            <p:cNvPr id="165" name="Group 22"/>
            <p:cNvGrpSpPr/>
            <p:nvPr/>
          </p:nvGrpSpPr>
          <p:grpSpPr>
            <a:xfrm>
              <a:off x="1082880" y="1473120"/>
              <a:ext cx="2718720" cy="284040"/>
              <a:chOff x="1082880" y="1473120"/>
              <a:chExt cx="2718720" cy="284040"/>
            </a:xfrm>
          </p:grpSpPr>
          <p:sp>
            <p:nvSpPr>
              <p:cNvPr id="166" name="Rectangle 23"/>
              <p:cNvSpPr/>
              <p:nvPr/>
            </p:nvSpPr>
            <p:spPr>
              <a:xfrm>
                <a:off x="1082880" y="1473120"/>
                <a:ext cx="819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StoreID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167" name="Rectangle 24"/>
              <p:cNvSpPr/>
              <p:nvPr/>
            </p:nvSpPr>
            <p:spPr>
              <a:xfrm>
                <a:off x="2028240" y="1473120"/>
                <a:ext cx="89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Addre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168" name="Rectangle 25"/>
              <p:cNvSpPr/>
              <p:nvPr/>
            </p:nvSpPr>
            <p:spPr>
              <a:xfrm>
                <a:off x="3141000" y="1473120"/>
                <a:ext cx="6606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Cla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</p:grpSp>
        <p:sp>
          <p:nvSpPr>
            <p:cNvPr id="169" name="Rectangle 26"/>
            <p:cNvSpPr/>
            <p:nvPr/>
          </p:nvSpPr>
          <p:spPr>
            <a:xfrm>
              <a:off x="1091880" y="1069920"/>
              <a:ext cx="130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.dbf</a:t>
              </a: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70" name="Rectangle 27"/>
          <p:cNvSpPr/>
          <p:nvPr/>
        </p:nvSpPr>
        <p:spPr>
          <a:xfrm>
            <a:off x="1528920" y="5099040"/>
            <a:ext cx="5308560" cy="4064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1506600" y="3978360"/>
            <a:ext cx="0" cy="153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1498680" y="3952800"/>
            <a:ext cx="5319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1523880" y="5511960"/>
            <a:ext cx="531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1531800" y="4309920"/>
            <a:ext cx="5289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5" name="Line 32"/>
          <p:cNvSpPr/>
          <p:nvPr/>
        </p:nvSpPr>
        <p:spPr>
          <a:xfrm flipV="1">
            <a:off x="1511280" y="4702320"/>
            <a:ext cx="53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1525680" y="5087880"/>
            <a:ext cx="530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2284560" y="3970440"/>
            <a:ext cx="1440" cy="153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8" name="Line 35"/>
          <p:cNvSpPr/>
          <p:nvPr/>
        </p:nvSpPr>
        <p:spPr>
          <a:xfrm>
            <a:off x="3112920" y="3970440"/>
            <a:ext cx="0" cy="15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9" name="Line 36"/>
          <p:cNvSpPr/>
          <p:nvPr/>
        </p:nvSpPr>
        <p:spPr>
          <a:xfrm>
            <a:off x="3970440" y="3970440"/>
            <a:ext cx="1440" cy="154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6832440" y="3936960"/>
            <a:ext cx="5040" cy="15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2480400" y="401652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2480400" y="439416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243144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243144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3264840" y="401652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3264840" y="47530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3264840" y="439416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3264840" y="51436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4964040" y="4014720"/>
            <a:ext cx="31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4984200" y="439272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964040" y="475128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984200" y="514188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5631840" y="439272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5651280" y="401472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5651280" y="475128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5631840" y="514188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484360" y="3675240"/>
            <a:ext cx="40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3168720" y="3670200"/>
            <a:ext cx="690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4801680" y="3668760"/>
            <a:ext cx="561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id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5400360" y="3654360"/>
            <a:ext cx="681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Parity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1" name="Rectangle 58"/>
          <p:cNvSpPr/>
          <p:nvPr/>
        </p:nvSpPr>
        <p:spPr>
          <a:xfrm>
            <a:off x="1510560" y="3670200"/>
            <a:ext cx="63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From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4676760" y="3968640"/>
            <a:ext cx="1440" cy="15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3" name="Rectangle 60"/>
          <p:cNvSpPr/>
          <p:nvPr/>
        </p:nvSpPr>
        <p:spPr>
          <a:xfrm>
            <a:off x="2349360" y="43084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4" name="Rectangle 61"/>
          <p:cNvSpPr/>
          <p:nvPr/>
        </p:nvSpPr>
        <p:spPr>
          <a:xfrm>
            <a:off x="1737360" y="439416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5" name="Rectangle 62"/>
          <p:cNvSpPr/>
          <p:nvPr/>
        </p:nvSpPr>
        <p:spPr>
          <a:xfrm>
            <a:off x="163908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6" name="Rectangle 63"/>
          <p:cNvSpPr/>
          <p:nvPr/>
        </p:nvSpPr>
        <p:spPr>
          <a:xfrm>
            <a:off x="163908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1737360" y="401652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8" name="Line 65"/>
          <p:cNvSpPr/>
          <p:nvPr/>
        </p:nvSpPr>
        <p:spPr>
          <a:xfrm>
            <a:off x="5465880" y="3968640"/>
            <a:ext cx="2880" cy="1552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9" name="Rectangle 66"/>
          <p:cNvSpPr/>
          <p:nvPr/>
        </p:nvSpPr>
        <p:spPr>
          <a:xfrm>
            <a:off x="3965040" y="3670200"/>
            <a:ext cx="599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0" name="Rectangle 67"/>
          <p:cNvSpPr/>
          <p:nvPr/>
        </p:nvSpPr>
        <p:spPr>
          <a:xfrm>
            <a:off x="4138200" y="401652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4138200" y="439416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4138200" y="47530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4138200" y="51436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1467000" y="3241800"/>
            <a:ext cx="52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of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5" name="Line 72"/>
          <p:cNvSpPr/>
          <p:nvPr/>
        </p:nvSpPr>
        <p:spPr>
          <a:xfrm flipH="1">
            <a:off x="6202080" y="3944880"/>
            <a:ext cx="4680" cy="15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6" name="Rectangle 73"/>
          <p:cNvSpPr/>
          <p:nvPr/>
        </p:nvSpPr>
        <p:spPr>
          <a:xfrm>
            <a:off x="6116760" y="3654360"/>
            <a:ext cx="79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_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7" name="Rectangle 74"/>
          <p:cNvSpPr/>
          <p:nvPr/>
        </p:nvSpPr>
        <p:spPr>
          <a:xfrm>
            <a:off x="6282360" y="39956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8" name="Rectangle 75"/>
          <p:cNvSpPr/>
          <p:nvPr/>
        </p:nvSpPr>
        <p:spPr>
          <a:xfrm>
            <a:off x="6282360" y="438156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9" name="Rectangle 76"/>
          <p:cNvSpPr/>
          <p:nvPr/>
        </p:nvSpPr>
        <p:spPr>
          <a:xfrm>
            <a:off x="6282360" y="47624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>
            <a:off x="6282360" y="51624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Line 78"/>
          <p:cNvSpPr/>
          <p:nvPr/>
        </p:nvSpPr>
        <p:spPr>
          <a:xfrm flipH="1">
            <a:off x="1031400" y="19400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2" name="Line 79"/>
          <p:cNvSpPr/>
          <p:nvPr/>
        </p:nvSpPr>
        <p:spPr>
          <a:xfrm>
            <a:off x="1031760" y="1930320"/>
            <a:ext cx="0" cy="3373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3" name="Line 80"/>
          <p:cNvSpPr/>
          <p:nvPr/>
        </p:nvSpPr>
        <p:spPr>
          <a:xfrm>
            <a:off x="1031760" y="53132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4" name="Rectangle 82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9"/>
          <p:cNvSpPr/>
          <p:nvPr/>
        </p:nvSpPr>
        <p:spPr>
          <a:xfrm>
            <a:off x="635040" y="1371600"/>
            <a:ext cx="7162920" cy="441972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082880" y="1069920"/>
            <a:ext cx="2830320" cy="1855800"/>
            <a:chOff x="1082880" y="1069920"/>
            <a:chExt cx="2830320" cy="1855800"/>
          </a:xfrm>
        </p:grpSpPr>
        <p:sp>
          <p:nvSpPr>
            <p:cNvPr id="229" name="Rectangle 4"/>
            <p:cNvSpPr/>
            <p:nvPr/>
          </p:nvSpPr>
          <p:spPr>
            <a:xfrm>
              <a:off x="1154160" y="1757520"/>
              <a:ext cx="2732040" cy="35532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1123920" y="17463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1123920" y="2122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2" name="Line 7"/>
            <p:cNvSpPr/>
            <p:nvPr/>
          </p:nvSpPr>
          <p:spPr>
            <a:xfrm>
              <a:off x="1123920" y="251928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3" name="Line 8"/>
            <p:cNvSpPr/>
            <p:nvPr/>
          </p:nvSpPr>
          <p:spPr>
            <a:xfrm>
              <a:off x="1123920" y="2914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1128600" y="1741320"/>
              <a:ext cx="0" cy="117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 flipH="1">
              <a:off x="3911760" y="1746360"/>
              <a:ext cx="1440" cy="11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046240" y="1754280"/>
              <a:ext cx="0" cy="1166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3173400" y="1754280"/>
              <a:ext cx="0" cy="115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1220040" y="1817640"/>
              <a:ext cx="581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37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9" name="Rectangle 14"/>
            <p:cNvSpPr/>
            <p:nvPr/>
          </p:nvSpPr>
          <p:spPr>
            <a:xfrm>
              <a:off x="1307520" y="21826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2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1318680" y="25858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55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1995120" y="1817640"/>
              <a:ext cx="109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3 Oak St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993680" y="2182680"/>
              <a:ext cx="1186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33 Pine Av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995480" y="2585880"/>
              <a:ext cx="100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 Bay Dr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4" name="Rectangle 19"/>
            <p:cNvSpPr/>
            <p:nvPr/>
          </p:nvSpPr>
          <p:spPr>
            <a:xfrm>
              <a:off x="3355920" y="18176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5" name="Rectangle 20"/>
            <p:cNvSpPr/>
            <p:nvPr/>
          </p:nvSpPr>
          <p:spPr>
            <a:xfrm>
              <a:off x="3355920" y="21826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6" name="Rectangle 21"/>
            <p:cNvSpPr/>
            <p:nvPr/>
          </p:nvSpPr>
          <p:spPr>
            <a:xfrm>
              <a:off x="3355920" y="25858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grpSp>
          <p:nvGrpSpPr>
            <p:cNvPr id="247" name="Group 22"/>
            <p:cNvGrpSpPr/>
            <p:nvPr/>
          </p:nvGrpSpPr>
          <p:grpSpPr>
            <a:xfrm>
              <a:off x="1082880" y="1473120"/>
              <a:ext cx="2718720" cy="284040"/>
              <a:chOff x="1082880" y="1473120"/>
              <a:chExt cx="2718720" cy="284040"/>
            </a:xfrm>
          </p:grpSpPr>
          <p:sp>
            <p:nvSpPr>
              <p:cNvPr id="248" name="Rectangle 23"/>
              <p:cNvSpPr/>
              <p:nvPr/>
            </p:nvSpPr>
            <p:spPr>
              <a:xfrm>
                <a:off x="1082880" y="1473120"/>
                <a:ext cx="819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StoreID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2028240" y="1473120"/>
                <a:ext cx="89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Addre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3141000" y="1473120"/>
                <a:ext cx="6606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Cla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6"/>
            <p:cNvSpPr/>
            <p:nvPr/>
          </p:nvSpPr>
          <p:spPr>
            <a:xfrm>
              <a:off x="1091880" y="1069920"/>
              <a:ext cx="130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.dbf</a:t>
              </a: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252" name="Rectangle 27"/>
          <p:cNvSpPr/>
          <p:nvPr/>
        </p:nvSpPr>
        <p:spPr>
          <a:xfrm>
            <a:off x="1147680" y="5099040"/>
            <a:ext cx="5308560" cy="4064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125360" y="3978360"/>
            <a:ext cx="0" cy="153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117440" y="3952800"/>
            <a:ext cx="5319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143000" y="5511960"/>
            <a:ext cx="531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150920" y="4309920"/>
            <a:ext cx="528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 flipV="1">
            <a:off x="1130400" y="4702320"/>
            <a:ext cx="53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144440" y="5087880"/>
            <a:ext cx="5302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03320" y="3970440"/>
            <a:ext cx="1800" cy="153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2732040" y="3970440"/>
            <a:ext cx="0" cy="15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3589200" y="3970440"/>
            <a:ext cx="1800" cy="154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2" name="Line 37"/>
          <p:cNvSpPr/>
          <p:nvPr/>
        </p:nvSpPr>
        <p:spPr>
          <a:xfrm flipH="1">
            <a:off x="6451200" y="3936960"/>
            <a:ext cx="4680" cy="15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2099520" y="401652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2099520" y="439416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205056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205056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Rectangle 42"/>
          <p:cNvSpPr/>
          <p:nvPr/>
        </p:nvSpPr>
        <p:spPr>
          <a:xfrm>
            <a:off x="2883960" y="401652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8" name="Rectangle 43"/>
          <p:cNvSpPr/>
          <p:nvPr/>
        </p:nvSpPr>
        <p:spPr>
          <a:xfrm>
            <a:off x="2883960" y="47530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2883960" y="439416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883960" y="51436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583160" y="4014720"/>
            <a:ext cx="31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4603320" y="439272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4583160" y="475128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4603320" y="514188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5250960" y="439272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6" name="Rectangle 51"/>
          <p:cNvSpPr/>
          <p:nvPr/>
        </p:nvSpPr>
        <p:spPr>
          <a:xfrm>
            <a:off x="5270400" y="401472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5270400" y="475128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8" name="Rectangle 53"/>
          <p:cNvSpPr/>
          <p:nvPr/>
        </p:nvSpPr>
        <p:spPr>
          <a:xfrm>
            <a:off x="5250960" y="514188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2103480" y="3675240"/>
            <a:ext cx="40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2787480" y="3670200"/>
            <a:ext cx="690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1" name="Rectangle 56"/>
          <p:cNvSpPr/>
          <p:nvPr/>
        </p:nvSpPr>
        <p:spPr>
          <a:xfrm>
            <a:off x="4420800" y="3668760"/>
            <a:ext cx="561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id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2" name="Rectangle 57"/>
          <p:cNvSpPr/>
          <p:nvPr/>
        </p:nvSpPr>
        <p:spPr>
          <a:xfrm>
            <a:off x="5019480" y="3654360"/>
            <a:ext cx="681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Parity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1129680" y="3670200"/>
            <a:ext cx="63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From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Line 59"/>
          <p:cNvSpPr/>
          <p:nvPr/>
        </p:nvSpPr>
        <p:spPr>
          <a:xfrm>
            <a:off x="4295880" y="3968640"/>
            <a:ext cx="1440" cy="15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1968480" y="4308480"/>
            <a:ext cx="679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6" name="Rectangle 61"/>
          <p:cNvSpPr/>
          <p:nvPr/>
        </p:nvSpPr>
        <p:spPr>
          <a:xfrm>
            <a:off x="1356480" y="439416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7" name="Rectangle 62"/>
          <p:cNvSpPr/>
          <p:nvPr/>
        </p:nvSpPr>
        <p:spPr>
          <a:xfrm>
            <a:off x="125820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8" name="Rectangle 63"/>
          <p:cNvSpPr/>
          <p:nvPr/>
        </p:nvSpPr>
        <p:spPr>
          <a:xfrm>
            <a:off x="125820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9" name="Rectangle 64"/>
          <p:cNvSpPr/>
          <p:nvPr/>
        </p:nvSpPr>
        <p:spPr>
          <a:xfrm>
            <a:off x="1356480" y="401652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0" name="Line 65"/>
          <p:cNvSpPr/>
          <p:nvPr/>
        </p:nvSpPr>
        <p:spPr>
          <a:xfrm>
            <a:off x="5084640" y="3968640"/>
            <a:ext cx="3240" cy="1552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1" name="Rectangle 66"/>
          <p:cNvSpPr/>
          <p:nvPr/>
        </p:nvSpPr>
        <p:spPr>
          <a:xfrm>
            <a:off x="3584160" y="3670200"/>
            <a:ext cx="599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2" name="Rectangle 67"/>
          <p:cNvSpPr/>
          <p:nvPr/>
        </p:nvSpPr>
        <p:spPr>
          <a:xfrm>
            <a:off x="3756960" y="401652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Rectangle 68"/>
          <p:cNvSpPr/>
          <p:nvPr/>
        </p:nvSpPr>
        <p:spPr>
          <a:xfrm>
            <a:off x="3756960" y="439416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4" name="Rectangle 69"/>
          <p:cNvSpPr/>
          <p:nvPr/>
        </p:nvSpPr>
        <p:spPr>
          <a:xfrm>
            <a:off x="3756960" y="47530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3756960" y="51436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1085760" y="3241800"/>
            <a:ext cx="44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of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7" name="Line 72"/>
          <p:cNvSpPr/>
          <p:nvPr/>
        </p:nvSpPr>
        <p:spPr>
          <a:xfrm flipH="1">
            <a:off x="5821200" y="3944880"/>
            <a:ext cx="5040" cy="15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8" name="Rectangle 73"/>
          <p:cNvSpPr/>
          <p:nvPr/>
        </p:nvSpPr>
        <p:spPr>
          <a:xfrm>
            <a:off x="5735880" y="3654360"/>
            <a:ext cx="79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_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Rectangle 74"/>
          <p:cNvSpPr/>
          <p:nvPr/>
        </p:nvSpPr>
        <p:spPr>
          <a:xfrm>
            <a:off x="5901480" y="39956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0" name="Rectangle 75"/>
          <p:cNvSpPr/>
          <p:nvPr/>
        </p:nvSpPr>
        <p:spPr>
          <a:xfrm>
            <a:off x="5901480" y="438156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1" name="Rectangle 76"/>
          <p:cNvSpPr/>
          <p:nvPr/>
        </p:nvSpPr>
        <p:spPr>
          <a:xfrm>
            <a:off x="5901480" y="47624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Rectangle 77"/>
          <p:cNvSpPr/>
          <p:nvPr/>
        </p:nvSpPr>
        <p:spPr>
          <a:xfrm>
            <a:off x="5901480" y="51624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3" name="Rectangle 78"/>
          <p:cNvSpPr/>
          <p:nvPr/>
        </p:nvSpPr>
        <p:spPr>
          <a:xfrm>
            <a:off x="4322880" y="1655640"/>
            <a:ext cx="3238560" cy="15606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4" name="Line 79"/>
          <p:cNvSpPr/>
          <p:nvPr/>
        </p:nvSpPr>
        <p:spPr>
          <a:xfrm flipV="1">
            <a:off x="4322880" y="2346480"/>
            <a:ext cx="3230280" cy="7920"/>
          </a:xfrm>
          <a:prstGeom prst="line">
            <a:avLst/>
          </a:prstGeom>
          <a:ln w="25560">
            <a:solidFill>
              <a:srgbClr val="020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Oval 80"/>
          <p:cNvSpPr/>
          <p:nvPr/>
        </p:nvSpPr>
        <p:spPr>
          <a:xfrm>
            <a:off x="4437000" y="2305080"/>
            <a:ext cx="90720" cy="9036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6" name="Oval 81"/>
          <p:cNvSpPr/>
          <p:nvPr/>
        </p:nvSpPr>
        <p:spPr>
          <a:xfrm>
            <a:off x="5845320" y="2298600"/>
            <a:ext cx="90360" cy="9072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7" name="Oval 82"/>
          <p:cNvSpPr/>
          <p:nvPr/>
        </p:nvSpPr>
        <p:spPr>
          <a:xfrm>
            <a:off x="7423200" y="2308320"/>
            <a:ext cx="90360" cy="9036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8" name="Line 83"/>
          <p:cNvSpPr/>
          <p:nvPr/>
        </p:nvSpPr>
        <p:spPr>
          <a:xfrm>
            <a:off x="5900760" y="2408400"/>
            <a:ext cx="0" cy="807840"/>
          </a:xfrm>
          <a:prstGeom prst="line">
            <a:avLst/>
          </a:prstGeom>
          <a:ln w="25560">
            <a:solidFill>
              <a:srgbClr val="020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9" name="Rectangle 84"/>
          <p:cNvSpPr/>
          <p:nvPr/>
        </p:nvSpPr>
        <p:spPr>
          <a:xfrm>
            <a:off x="5028480" y="211932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6400080" y="211932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5454720" y="1905120"/>
            <a:ext cx="750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 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 rot="16200000">
            <a:off x="5337360" y="2725920"/>
            <a:ext cx="83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Pine Av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5835960" y="21067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00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4" name="Rectangle 89"/>
          <p:cNvSpPr/>
          <p:nvPr/>
        </p:nvSpPr>
        <p:spPr>
          <a:xfrm>
            <a:off x="5842080" y="23749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01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5" name="Rectangle 90"/>
          <p:cNvSpPr/>
          <p:nvPr/>
        </p:nvSpPr>
        <p:spPr>
          <a:xfrm>
            <a:off x="7108920" y="20923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98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Rectangle 91"/>
          <p:cNvSpPr/>
          <p:nvPr/>
        </p:nvSpPr>
        <p:spPr>
          <a:xfrm>
            <a:off x="7124760" y="239868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99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7" name="Rectangle 92"/>
          <p:cNvSpPr/>
          <p:nvPr/>
        </p:nvSpPr>
        <p:spPr>
          <a:xfrm>
            <a:off x="6281640" y="2454120"/>
            <a:ext cx="1605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8" name="Rectangle 93"/>
          <p:cNvSpPr/>
          <p:nvPr/>
        </p:nvSpPr>
        <p:spPr>
          <a:xfrm>
            <a:off x="6239160" y="258120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9" name="Line 94"/>
          <p:cNvSpPr/>
          <p:nvPr/>
        </p:nvSpPr>
        <p:spPr>
          <a:xfrm flipH="1">
            <a:off x="650880" y="194004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0" name="Line 95"/>
          <p:cNvSpPr/>
          <p:nvPr/>
        </p:nvSpPr>
        <p:spPr>
          <a:xfrm>
            <a:off x="650880" y="1930320"/>
            <a:ext cx="0" cy="3373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1" name="Line 96"/>
          <p:cNvSpPr/>
          <p:nvPr/>
        </p:nvSpPr>
        <p:spPr>
          <a:xfrm>
            <a:off x="650880" y="531324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2" name="Line 97"/>
          <p:cNvSpPr/>
          <p:nvPr/>
        </p:nvSpPr>
        <p:spPr>
          <a:xfrm>
            <a:off x="6461280" y="5313240"/>
            <a:ext cx="56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3" name="Line 98"/>
          <p:cNvSpPr/>
          <p:nvPr/>
        </p:nvSpPr>
        <p:spPr>
          <a:xfrm flipH="1" flipV="1">
            <a:off x="6451560" y="2835000"/>
            <a:ext cx="588960" cy="2477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4" name="Rectangle 10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5" name="Line 10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b3b900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b3b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Oak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W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ress Geocod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rocess of creating geometric representations for locations (such as point features) from descriptions of locations (such as address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isplays tabular data containing addresses as points on a map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inds locations on a map easil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Zone, city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 Apt. 2,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Pittsburg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1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Zone, zip cod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 Apt. 2, Pittsburgh, PA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15213</a:t>
            </a: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1635120" y="5024520"/>
            <a:ext cx="1743120" cy="38556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530520" y="5029200"/>
            <a:ext cx="98604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4597560" y="5029200"/>
            <a:ext cx="138564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121440" y="5029200"/>
            <a:ext cx="74592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58720" y="1143000"/>
            <a:ext cx="7569360" cy="4648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ST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, city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Apt. 2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Pittsburgh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1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, zip code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Apt. 2, Pittsburgh, PA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5213</a:t>
            </a: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Items for Single Number Street Address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Address            Unit           City                Zip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a2162f"/>
                </a:solidFill>
                <a:latin typeface="Arial"/>
              </a:rPr>
              <a:t>123 Oak ST W    Apt. 2        Pittsburgh   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9760" y="2514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treet Address Matching 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roblems and Solu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1473120" y="3505320"/>
            <a:ext cx="510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549440" y="2286000"/>
            <a:ext cx="4952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Place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Intersecti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Post Office Box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.O. Box 125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9000"/>
          </a:bodyPr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ost Office Box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.O. Box 125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Missing Street (TIGER) inform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 Examp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Rectangle 67"/>
          <p:cNvSpPr/>
          <p:nvPr/>
        </p:nvSpPr>
        <p:spPr>
          <a:xfrm>
            <a:off x="-291960" y="5562720"/>
            <a:ext cx="1092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. Helper   9-16-03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5" name="Rectangle 66"/>
          <p:cNvSpPr/>
          <p:nvPr/>
        </p:nvSpPr>
        <p:spPr>
          <a:xfrm>
            <a:off x="240048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O327G/386G, UT Austin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6" name="Rectangle 65"/>
          <p:cNvSpPr/>
          <p:nvPr/>
        </p:nvSpPr>
        <p:spPr>
          <a:xfrm>
            <a:off x="6006960" y="5924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091E-2B04-4B86-B824-6A622EFE69C5}" type="slidenum"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7" name="Rectangle 74"/>
          <p:cNvSpPr/>
          <p:nvPr/>
        </p:nvSpPr>
        <p:spPr>
          <a:xfrm>
            <a:off x="254160" y="1219320"/>
            <a:ext cx="7618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ittsburgh Technology Council maps technology businesses by streets to see technology rich area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mergency dispatch operators geocode to enter an address, determine who should respon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llegheny County maps personal care and nursing homes and compares to elderly population by mc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General Nutrition Centers maps store locations and compares to Rite-Aid store locati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8" name="Rectangle 87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9" name="Line 8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olution: Correct Intersecti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rmat: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rbes AV &amp; Craig ST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rant ST &amp; 5th AV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efault Delimit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View: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&amp;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/INFO: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/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olution: Use Standard Direc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S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ENSION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9264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>
            <a:off x="3586320" y="1219320"/>
            <a:ext cx="0" cy="4541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2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olution: Use Standard Street Type Abbrevia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scent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SG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S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S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S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V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ress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ee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9264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igh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ne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oop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oop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otor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ark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3699000" y="1228680"/>
            <a:ext cx="0" cy="4633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olution:Alias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404640" y="1781280"/>
            <a:ext cx="6415200" cy="2697120"/>
          </a:xfrm>
          <a:prstGeom prst="rect">
            <a:avLst/>
          </a:prstGeom>
          <a:gradFill rotWithShape="0">
            <a:gsLst>
              <a:gs pos="0">
                <a:srgbClr val="000a39"/>
              </a:gs>
              <a:gs pos="100000">
                <a:srgbClr val="0023bf"/>
              </a:gs>
            </a:gsLst>
            <a:lin ang="5400000"/>
          </a:gradFill>
          <a:ln w="25560">
            <a:solidFill>
              <a:srgbClr val="020323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636480" y="206388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646200" y="3932280"/>
            <a:ext cx="598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636480" y="243828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636480" y="278460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636480" y="316080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636480" y="354492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646200" y="4297320"/>
            <a:ext cx="598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636480" y="2063880"/>
            <a:ext cx="0" cy="22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4233960" y="2043000"/>
            <a:ext cx="0" cy="224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6620040" y="2052720"/>
            <a:ext cx="0" cy="22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2040" y="1209600"/>
            <a:ext cx="732960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BF Table (Name of Your Choice)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82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ias              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1" lang="en-US" sz="22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roving 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tegrate User Data Entry and Address Matchin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urchase or Build High Quality Maps (Field Verificati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rrect and Maintain Maps (La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ssign House Numbers in Rural Area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4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Files: Polygon Topolog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1549440" y="1295280"/>
            <a:ext cx="4751280" cy="4368960"/>
          </a:xfrm>
          <a:prstGeom prst="rect">
            <a:avLst/>
          </a:prstGeom>
          <a:gradFill rotWithShape="0">
            <a:gsLst>
              <a:gs pos="0">
                <a:srgbClr val="000a39"/>
              </a:gs>
              <a:gs pos="100000">
                <a:srgbClr val="0023bf"/>
              </a:gs>
            </a:gsLst>
            <a:lin ang="5400000"/>
          </a:gradFill>
          <a:ln w="25560">
            <a:solidFill>
              <a:srgbClr val="020323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53920" y="1496880"/>
            <a:ext cx="4570200" cy="4097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p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Indian Reserv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ska Nature Village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Designated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Jurisdiction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ska Nature Regional Corp.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PS State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PS County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CD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sus Tract/Block Numbering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ulation Block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TIGER:Polygons - Zipcodes/Parcel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355160" cy="4206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 features can be identified by their parcel numbers, postal zip, or zip+4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arcel_Number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1046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IP</a:t>
            </a:r>
            <a:r>
              <a:rPr b="0" lang="en-US" sz="20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15218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IP + 4</a:t>
            </a:r>
            <a:r>
              <a:rPr b="0" lang="en-US" sz="20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15218-1234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4343400" cy="30862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105520" cy="2219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5084640" cy="2960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3"/>
          <a:stretch/>
        </p:blipFill>
        <p:spPr>
          <a:xfrm>
            <a:off x="2362320" y="2978280"/>
            <a:ext cx="5105160" cy="29289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82400" y="5335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 Address Matching 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(Zip Codes) </a:t>
            </a:r>
            <a:br>
              <a:rPr sz="3200"/>
            </a:b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atient Location by Count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482760" y="1523880"/>
            <a:ext cx="7151400" cy="346392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44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 in ArcGI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address locato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11360" y="1371600"/>
            <a:ext cx="677376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092240" y="1905120"/>
            <a:ext cx="5032440" cy="3047760"/>
          </a:xfrm>
          <a:prstGeom prst="rect">
            <a:avLst/>
          </a:prstGeom>
          <a:ln w="0">
            <a:noFill/>
          </a:ln>
        </p:spPr>
      </p:pic>
      <p:sp>
        <p:nvSpPr>
          <p:cNvPr id="457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hoose address locator sty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keleton of the address locato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ased on data tables and reference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70240" y="2235240"/>
            <a:ext cx="2457360" cy="2844720"/>
          </a:xfrm>
          <a:prstGeom prst="rect">
            <a:avLst/>
          </a:prstGeom>
          <a:ln w="0">
            <a:noFill/>
          </a:ln>
        </p:spPr>
      </p:pic>
      <p:sp>
        <p:nvSpPr>
          <p:cNvPr id="461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hoose reference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treets, 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3325680" cy="2235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AddressLocatorStreets.tif"/>
          <p:cNvPicPr/>
          <p:nvPr/>
        </p:nvPicPr>
        <p:blipFill>
          <a:blip r:embed="rId2"/>
          <a:stretch/>
        </p:blipFill>
        <p:spPr>
          <a:xfrm>
            <a:off x="3929040" y="1625760"/>
            <a:ext cx="3030480" cy="3657600"/>
          </a:xfrm>
          <a:prstGeom prst="rect">
            <a:avLst/>
          </a:prstGeom>
          <a:ln w="0">
            <a:noFill/>
          </a:ln>
        </p:spPr>
      </p:pic>
      <p:sp>
        <p:nvSpPr>
          <p:cNvPr id="46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locator propert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8" name="Picture 5" descr="AddressLocatorProperties.tif"/>
          <p:cNvPicPr/>
          <p:nvPr/>
        </p:nvPicPr>
        <p:blipFill>
          <a:blip r:embed="rId1"/>
          <a:stretch/>
        </p:blipFill>
        <p:spPr>
          <a:xfrm>
            <a:off x="1693800" y="1422360"/>
            <a:ext cx="4321080" cy="3657600"/>
          </a:xfrm>
          <a:prstGeom prst="rect">
            <a:avLst/>
          </a:prstGeom>
          <a:ln w="0">
            <a:noFill/>
          </a:ln>
        </p:spPr>
      </p:pic>
      <p:sp>
        <p:nvSpPr>
          <p:cNvPr id="46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e in ArcMa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. Add tabular data and streets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2. Add address locato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3. Geocode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4. View geocoding resul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5. Interactively rematch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re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vestigate unmatched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enerally requires expertise with knowledge of local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mpare street name in the attributes of streets table and address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epare log fi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og file includes reasons why addresses did not geocod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ful for future work on cleaning addresses or repairing street map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84320" y="3182760"/>
          <a:ext cx="6019920" cy="212436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3bf"/>
                          </a:solidFill>
                          <a:latin typeface="Arial"/>
                        </a:rPr>
                        <a:t>Incorrect address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3bf"/>
                          </a:solidFill>
                          <a:latin typeface="Arial"/>
                        </a:rPr>
                        <a:t>Possible reason/solution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490 Penn Avenu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Missing ZIP cod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111 Hawksworth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Spelled incorrectly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900 Smallman Street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TIGER street missing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900 Lib Av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Spelled incorrectly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7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ress matching is a process that compares two addresses to determine whether or not they are the same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ooks for certain standards and makes a decision about whether addresses match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correct, incomplete, or ambiguous address information will reduce the matching confidence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What do you match?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86000"/>
          </a:bodyPr>
          <a:p>
            <a:pPr marL="98280" indent="-98280">
              <a:lnSpc>
                <a:spcPct val="8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abular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09600" indent="-11304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ex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09600" indent="-11304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atabas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82760" y="2819520"/>
            <a:ext cx="731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o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eographic map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IGER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Fi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Geographic elements used to address match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Lines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streets,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 railroads, riv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88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Areas</a:t>
            </a:r>
            <a:endParaRPr b="1" lang="en-US" sz="2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zip codes, census blocks, tracts, MCD/CCDs, places, counties, etc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88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landmarks such as churchs, schools, and other cultural features represented in TIGER as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Street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465960" cy="396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ar (Street) Address Matching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Valued Acer Customer</cp:lastModifiedBy>
  <cp:lastPrinted>2001-01-21T18:12:54Z</cp:lastPrinted>
  <dcterms:modified xsi:type="dcterms:W3CDTF">2011-05-12T18:46:40Z</dcterms:modified>
  <cp:revision>226</cp:revision>
  <dc:subject/>
  <dc:title>No Slide Title</dc:title>
</cp:coreProperties>
</file>