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8129588" cy="6094413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BE8AEC-8B00-4AAB-BA67-4049F64671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93640" y="2546280"/>
            <a:ext cx="676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974120" y="258840"/>
            <a:ext cx="137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ule IV; lecture 2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/12/94; v 2.0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382120" y="8632800"/>
            <a:ext cx="210816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ftware Construction with Ada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F975-B459-4712-A75B-C916F8664D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E4DFA0-7F4B-4B6F-8397-A0D70E1FD7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EBBABE-EE53-4779-937A-7FF6A1DD96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F142-CD42-45F1-8235-33FDE0E8C2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33E6C6-6F47-4EA9-94D3-C527C6A27F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E474-84A7-46FF-A02B-756428A939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25EB-D94E-4285-BCDD-A5DB80470EB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CEFE48-EE91-496D-9DB7-DAC9BAAFB6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2C7936-2FDC-4896-AFD3-779F846FA6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C2C62A-571F-4D97-96D2-EEA7991BF24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AACE79-06C2-4B20-841C-B75B222BDB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1E9F03-897A-4402-94C3-0CA90BE4A73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08B9CE-B352-43AC-AB85-88C4BBE00E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A5DAB1-80C4-453A-B634-D182569C11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F9CDA6-4A74-4379-9B3A-A4E0A87EC7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99FA10-BF42-4079-AEDE-AA9D6ADD72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0C7537-16C3-4223-852E-3C7DC29F89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8A7219-2989-4768-8EF3-E984A52DC39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90E0C2-0E85-4BD8-BE5C-BFB19F9998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AF23-B775-4D28-9749-34D81B6BCBA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AF9C-EE24-4987-AE93-E0D0C8F294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7A721F-D960-4389-AC27-9E5E7AF1AE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D7B1EB-67EC-47B1-A493-271FB72577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1718-D9F9-4DCD-AC55-66499B7489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18CF-ECAF-4BF6-BC4E-E6ECD07E52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19DD43-05E3-48A9-BFC8-64B55A68667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4813EA-A9C8-4AED-8BB6-59617DBB9E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B4F4-03F6-41A2-AF75-7B106EBDBA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342B-9930-4845-9F26-7F93DCBCCFF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BCEC79-AAF4-4C09-9DD9-95A79B0E44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8C66F5-D906-45E7-8DC0-2ECC860ED7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FE2111-B6F6-4B09-8098-EAD3ACDDE6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5106-BCC5-409A-A88A-E49B70CE55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4FDB-D435-4A8D-B5DB-F28719AF12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563912-F8D2-4DB3-BE67-6C7DE59B39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F5F324-130A-4A38-846F-E8DFB1C96F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DFAE36-1EFA-47C6-B8A5-9ECE0AFA52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E56C7E-E10A-4650-A1E6-1480F7BF83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214E4C-8CBE-4B6F-AAB6-FD261F5784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A4EEE0-EF8B-4535-9D43-67320B1745D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3A807B-3CE0-4A01-973F-9FC818279F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B4DA39-185F-4A9E-AA42-D38BF52487E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F35FA9-E75B-4F74-A3E7-7CEFADEA02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B190C9-7145-4591-85C7-B9DEC29737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DD79-2506-42B9-93FD-6D3ECDC816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8520" cy="20541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60C1-5507-42AD-8CAD-F51D10CE88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112385-E2B7-414C-8CAA-BC9195B975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D74FF4-9C45-4DE9-A2E6-7722375486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95D7F5-710A-4C09-9228-0EFA75AE71E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37C0BF-920F-4404-96B2-207E01AFD64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04EEFC-318E-4F08-8C3C-506409689C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2EF2B0-354A-4365-8E13-5A3C8F692F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1907-9211-46C1-97FC-515EF73F00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584D6B-517B-45C6-8C96-41CB267360B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9CB5E2-B41C-4542-87A7-220C1848F2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DAD6-C814-42FA-B8AA-CAE5DEA601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the city of Columbus, Georgia is consolidated with Muscogee County, which continues to exist as a nonfunctioning legal entity in the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he time of publication, there are seven consolidated cities in the United Sta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Athens-Clarke County, Georgi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Butte-Silver Bow, Montan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Columbus, Georgi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Indianapolis, Indian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Jacksonville, Florid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Milford, Connecticut;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Nashville-Davidson, Tennes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ies an independent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pendent cities exist in only four Stat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yland (Baltimore Cit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vada (Carson Cit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ouri (St Louis C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ginia (41 ci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B446AA-BA87-44DF-BE27-47D7E3262F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8299F9-C4B9-4C3A-AF18-D962BE7705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EA9C3C-995D-4D49-86B6-5A908EE9CA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DC3B02-E543-492A-9FFE-5910FE75B2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497FEB-2A7C-407C-83DB-DA99EA41B2D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1EEDB7-75D2-41E7-928F-387B1A16F3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81D29B-E052-4BC4-88C4-885029ECDCF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806950-E05A-4F03-84FB-5FCD18FB72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7A090C-5E4F-4644-991F-4338B753C1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2471CF-89B8-41A8-8027-34939A9CF4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941D-B55A-4B5A-8514-1CA7460BEA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the city of Columbus, Georgia is consolidated with Muscogee County, which continues to exist as a nonfunctioning legal entity in the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he time of publication, there are seven consolidated cities in the United Sta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Athens-Clarke County, Georgi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Butte-Silver Bow, Montan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Columbus, Georgi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Indianapolis, Indian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Jacksonville, Florid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Milford, Connecticut;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Nashville-Davidson, Tennes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ies an independent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pendent cities exist in only four Stat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yland (Baltimore Cit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vada (Carson Cit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ouri (St Louis C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ginia (41 ci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C6AB-220A-400C-92FC-67E631DB7D4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106901-7F6E-4B99-8C0F-2592EEDCF6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156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0440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872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156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50440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7840" y="331920"/>
            <a:ext cx="731196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864400"/>
            <a:ext cx="8116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6080" bIns="46080" anchor="ctr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ctr" pos="4138560"/>
                <a:tab algn="r" pos="8001000"/>
                <a:tab algn="l" pos="8558280"/>
                <a:tab algn="l" pos="9509040"/>
                <a:tab algn="l" pos="1046016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IS </a:t>
            </a:r>
            <a:fld id="{11A83AF4-7838-4E05-B421-4D1A403CC39A}" type="slidenum">
              <a:rPr b="1" i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0" y="0"/>
            <a:ext cx="81090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" name="Rectangle 1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" name="Rectangle 2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nesys-sampling.com/pages/Template2/site2/61/default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ensus.gov/geo/www/ansi/ansi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tabasedev.co.uk/access_specific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ttribute Tabl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82760" y="2286000"/>
            <a:ext cx="70866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482760" y="3352680"/>
            <a:ext cx="70866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Field calculator (numeric)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09" name="Picture 6" descr="C:\Users\wg0g\Desktop\Fieldcalc.gif"/>
          <p:cNvPicPr/>
          <p:nvPr/>
        </p:nvPicPr>
        <p:blipFill>
          <a:blip r:embed="rId1"/>
          <a:stretch/>
        </p:blipFill>
        <p:spPr>
          <a:xfrm>
            <a:off x="330120" y="1219320"/>
            <a:ext cx="4695840" cy="4476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wg0g\Desktop\tracts.gif"/>
          <p:cNvPicPr/>
          <p:nvPr/>
        </p:nvPicPr>
        <p:blipFill>
          <a:blip r:embed="rId2"/>
          <a:stretch/>
        </p:blipFill>
        <p:spPr>
          <a:xfrm>
            <a:off x="3301920" y="3581280"/>
            <a:ext cx="4324320" cy="1819440"/>
          </a:xfrm>
          <a:prstGeom prst="rect">
            <a:avLst/>
          </a:prstGeom>
          <a:ln w="0">
            <a:noFill/>
          </a:ln>
        </p:spPr>
      </p:pic>
      <p:sp>
        <p:nvSpPr>
          <p:cNvPr id="11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Field calculator (numeric)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77880" y="10843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alculate acres to square mil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711360" y="1905120"/>
            <a:ext cx="3728880" cy="1625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2573280" y="1760400"/>
            <a:ext cx="3865680" cy="3657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1490760" y="3182760"/>
            <a:ext cx="37288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Field calculator (text)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ncatenate house number and street field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1"/>
          <a:stretch/>
        </p:blipFill>
        <p:spPr>
          <a:xfrm>
            <a:off x="787320" y="2133720"/>
            <a:ext cx="4305240" cy="1933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2"/>
          <a:stretch/>
        </p:blipFill>
        <p:spPr>
          <a:xfrm>
            <a:off x="3301920" y="2057400"/>
            <a:ext cx="2828880" cy="2819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"/>
          <p:cNvPicPr/>
          <p:nvPr/>
        </p:nvPicPr>
        <p:blipFill>
          <a:blip r:embed="rId3"/>
          <a:stretch/>
        </p:blipFill>
        <p:spPr>
          <a:xfrm>
            <a:off x="2692440" y="1676520"/>
            <a:ext cx="4457520" cy="4105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"/>
          <p:cNvPicPr/>
          <p:nvPr/>
        </p:nvPicPr>
        <p:blipFill>
          <a:blip r:embed="rId4"/>
          <a:stretch/>
        </p:blipFill>
        <p:spPr>
          <a:xfrm>
            <a:off x="1625760" y="3352680"/>
            <a:ext cx="6248160" cy="202248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Field calculator (text)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7880" y="10843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pulate field with county nam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711360" y="1828800"/>
            <a:ext cx="4681440" cy="2438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454560" y="1739880"/>
            <a:ext cx="3435120" cy="3251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1084320" y="2776680"/>
            <a:ext cx="4681440" cy="2438280"/>
          </a:xfrm>
          <a:prstGeom prst="rect">
            <a:avLst/>
          </a:prstGeom>
          <a:ln w="0">
            <a:noFill/>
          </a:ln>
        </p:spPr>
      </p:pic>
      <p:sp>
        <p:nvSpPr>
          <p:cNvPr id="12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Data Table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6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200" spc="-1" strike="noStrike">
                <a:solidFill>
                  <a:srgbClr val="020323"/>
                </a:solidFill>
                <a:latin typeface="Arial"/>
              </a:rPr>
              <a:t>Feature attribute tables, data table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6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200" spc="-1" strike="noStrike">
                <a:solidFill>
                  <a:srgbClr val="020323"/>
                </a:solidFill>
                <a:latin typeface="Arial"/>
              </a:rPr>
              <a:t>Puts  two tables together, on the fly, to make one table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20323"/>
                </a:solidFill>
                <a:latin typeface="Arial"/>
              </a:rPr>
              <a:t>One-to-one join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20323"/>
                </a:solidFill>
                <a:latin typeface="Arial"/>
              </a:rPr>
              <a:t>One-to-many join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1049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xample joi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5511960" y="4343400"/>
            <a:ext cx="582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291240" y="1143000"/>
            <a:ext cx="2215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U.S. Counties GIS laye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344880" y="3657600"/>
            <a:ext cx="2436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Unemployment databases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482760" y="1447920"/>
            <a:ext cx="6960960" cy="20574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454560" y="3429000"/>
            <a:ext cx="609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+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482760" y="3962520"/>
            <a:ext cx="3825720" cy="1828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482760" y="2590920"/>
            <a:ext cx="7065720" cy="1981080"/>
          </a:xfrm>
          <a:prstGeom prst="rect">
            <a:avLst/>
          </a:prstGeom>
          <a:ln w="0">
            <a:noFill/>
          </a:ln>
        </p:spPr>
      </p:pic>
      <p:sp>
        <p:nvSpPr>
          <p:cNvPr id="14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558720" y="3733920"/>
            <a:ext cx="3826080" cy="1828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Determine Fields to Join 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2"/>
          <a:stretch/>
        </p:blipFill>
        <p:spPr>
          <a:xfrm>
            <a:off x="787320" y="1371600"/>
            <a:ext cx="6186600" cy="1828800"/>
          </a:xfrm>
          <a:prstGeom prst="rect">
            <a:avLst/>
          </a:prstGeom>
          <a:ln w="0">
            <a:noFill/>
          </a:ln>
        </p:spPr>
      </p:pic>
      <p:cxnSp>
        <p:nvCxnSpPr>
          <p:cNvPr id="148" name="Straight Arrow Connector 12"/>
          <p:cNvCxnSpPr/>
          <p:nvPr/>
        </p:nvCxnSpPr>
        <p:spPr>
          <a:xfrm flipH="1">
            <a:off x="5435280" y="106668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 flipH="1">
            <a:off x="2615400" y="3429000"/>
            <a:ext cx="252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150" name="Straight Arrow Connector 12"/>
          <p:cNvCxnSpPr/>
          <p:nvPr/>
        </p:nvCxnSpPr>
        <p:spPr>
          <a:xfrm flipH="1">
            <a:off x="3225600" y="342900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15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reate New Field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635040" y="2209680"/>
            <a:ext cx="223848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3454560" y="1219320"/>
            <a:ext cx="357804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olumns Ready to Joi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482760" y="1219320"/>
            <a:ext cx="6960960" cy="2057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1625760" y="3733920"/>
            <a:ext cx="4889520" cy="1828800"/>
          </a:xfrm>
          <a:prstGeom prst="rect">
            <a:avLst/>
          </a:prstGeom>
          <a:ln w="0">
            <a:noFill/>
          </a:ln>
        </p:spPr>
      </p:pic>
      <p:cxnSp>
        <p:nvCxnSpPr>
          <p:cNvPr id="159" name="Straight Arrow Connector 6"/>
          <p:cNvCxnSpPr/>
          <p:nvPr/>
        </p:nvCxnSpPr>
        <p:spPr>
          <a:xfrm flipH="1">
            <a:off x="5740200" y="99072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160" name="Straight Arrow Connector 7"/>
          <p:cNvCxnSpPr/>
          <p:nvPr/>
        </p:nvCxnSpPr>
        <p:spPr>
          <a:xfrm flipH="1">
            <a:off x="5511600" y="342900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16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Data table format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52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20323"/>
                </a:solidFill>
                <a:latin typeface="Arial"/>
              </a:rPr>
              <a:t>Rectangular table with one value per cell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lumns (fields) are attributes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ows are observations (data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61" name="Picture 8" descr="C:\Users\wg0g\Desktop\PATracts.gif"/>
          <p:cNvPicPr/>
          <p:nvPr/>
        </p:nvPicPr>
        <p:blipFill>
          <a:blip r:embed="rId1"/>
          <a:stretch/>
        </p:blipFill>
        <p:spPr>
          <a:xfrm>
            <a:off x="1244520" y="2590920"/>
            <a:ext cx="4943520" cy="1971720"/>
          </a:xfrm>
          <a:prstGeom prst="rect">
            <a:avLst/>
          </a:prstGeom>
          <a:ln w="0">
            <a:noFill/>
          </a:ln>
        </p:spPr>
      </p:pic>
      <p:sp>
        <p:nvSpPr>
          <p:cNvPr id="6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Join Data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5040" y="11430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Right-click Counties layer &gt; Joins and Relates &gt; Joi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2311560" y="1600200"/>
            <a:ext cx="297324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Resultant Attribute Tab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cxnSp>
        <p:nvCxnSpPr>
          <p:cNvPr id="167" name="Straight Arrow Connector 12"/>
          <p:cNvCxnSpPr/>
          <p:nvPr/>
        </p:nvCxnSpPr>
        <p:spPr>
          <a:xfrm flipH="1">
            <a:off x="5587200" y="1600200"/>
            <a:ext cx="252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558720" y="2057400"/>
            <a:ext cx="6523200" cy="1828800"/>
          </a:xfrm>
          <a:prstGeom prst="rect">
            <a:avLst/>
          </a:prstGeom>
          <a:ln w="0">
            <a:noFill/>
          </a:ln>
        </p:spPr>
      </p:pic>
      <p:sp>
        <p:nvSpPr>
          <p:cNvPr id="16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assifying Unemploy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8720" y="1218960"/>
            <a:ext cx="7313760" cy="685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Values will only appear with number fiel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1549440" y="1752480"/>
            <a:ext cx="4724280" cy="37371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Final Map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rcRect l="0" t="2080" r="9830" b="6260"/>
          <a:stretch/>
        </p:blipFill>
        <p:spPr>
          <a:xfrm>
            <a:off x="1092240" y="1676520"/>
            <a:ext cx="5867280" cy="3741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1084320" y="4572000"/>
            <a:ext cx="1176120" cy="838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558720" y="1219320"/>
            <a:ext cx="7313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ercentage Unemployment by U.S. Counties, 2005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oblems with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Field types are different (e.g. one is numeric and one is text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015920" y="3809880"/>
            <a:ext cx="6027840" cy="1219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1015920" y="2133720"/>
            <a:ext cx="4094280" cy="1295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3378240" y="2057400"/>
            <a:ext cx="1219320" cy="144792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480" rIns="964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644920" y="3733920"/>
            <a:ext cx="1218960" cy="129528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480" rIns="964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oblems with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Data is differen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rcRect l="0" t="7120" r="0" b="0"/>
          <a:stretch/>
        </p:blipFill>
        <p:spPr>
          <a:xfrm>
            <a:off x="406440" y="1981080"/>
            <a:ext cx="7086600" cy="24861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1219320" y="2832120"/>
            <a:ext cx="736560" cy="1346040"/>
          </a:xfrm>
          <a:prstGeom prst="rect">
            <a:avLst/>
          </a:prstGeom>
          <a:noFill/>
          <a:ln w="25560">
            <a:solidFill>
              <a:srgbClr val="a216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1930320" y="3421080"/>
            <a:ext cx="6019920" cy="2232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7"/>
          <p:cNvSpPr/>
          <p:nvPr/>
        </p:nvSpPr>
        <p:spPr>
          <a:xfrm>
            <a:off x="4788000" y="3581280"/>
            <a:ext cx="468360" cy="1803600"/>
          </a:xfrm>
          <a:prstGeom prst="rect">
            <a:avLst/>
          </a:prstGeom>
          <a:noFill/>
          <a:ln w="25560">
            <a:solidFill>
              <a:srgbClr val="a216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192" name="Group 8"/>
          <p:cNvGrpSpPr/>
          <p:nvPr/>
        </p:nvGrpSpPr>
        <p:grpSpPr>
          <a:xfrm>
            <a:off x="1930320" y="2819520"/>
            <a:ext cx="2747160" cy="284040"/>
            <a:chOff x="1930320" y="2819520"/>
            <a:chExt cx="2747160" cy="284040"/>
          </a:xfrm>
        </p:grpSpPr>
        <p:sp>
          <p:nvSpPr>
            <p:cNvPr id="193" name="Line 9"/>
            <p:cNvSpPr/>
            <p:nvPr/>
          </p:nvSpPr>
          <p:spPr>
            <a:xfrm>
              <a:off x="1930320" y="2971800"/>
              <a:ext cx="609840" cy="0"/>
            </a:xfrm>
            <a:prstGeom prst="line">
              <a:avLst/>
            </a:prstGeom>
            <a:ln w="25560">
              <a:solidFill>
                <a:srgbClr val="a2162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45720" bIns="-4572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94" name="Text Box 10"/>
            <p:cNvSpPr/>
            <p:nvPr/>
          </p:nvSpPr>
          <p:spPr>
            <a:xfrm>
              <a:off x="2547360" y="2819520"/>
              <a:ext cx="2130120" cy="28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6080" bIns="46080" anchor="t">
              <a:spAutoFit/>
            </a:bodyPr>
            <a:p>
              <a:pPr marL="114480" indent="-114480">
                <a:lnSpc>
                  <a:spcPct val="90000"/>
                </a:lnSpc>
                <a:spcBef>
                  <a:spcPts val="524"/>
                </a:spcBef>
                <a:buClr>
                  <a:srgbClr val="020323"/>
                </a:buClr>
                <a:buFont typeface="Arial"/>
                <a:buChar char=" "/>
                <a:tabLst>
                  <a:tab algn="l" pos="950760"/>
                  <a:tab algn="l" pos="1901880"/>
                  <a:tab algn="l" pos="2852640"/>
                  <a:tab algn="l" pos="3803760"/>
                  <a:tab algn="l" pos="4754520"/>
                  <a:tab algn="l" pos="5705640"/>
                  <a:tab algn="l" pos="6656400"/>
                  <a:tab algn="l" pos="7607160"/>
                  <a:tab algn="l" pos="8558280"/>
                  <a:tab algn="l" pos="9509040"/>
                  <a:tab algn="l" pos="10460160"/>
                </a:tabLst>
              </a:pPr>
              <a:r>
                <a:rPr b="1" lang="en-US" sz="1400" spc="-1" strike="noStrike">
                  <a:solidFill>
                    <a:srgbClr val="020323"/>
                  </a:solidFill>
                  <a:latin typeface="Arial"/>
                </a:rPr>
                <a:t>Must remove dashes!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19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oblems with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Too much formatting in Exc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Keep it simple!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5359320" y="1295280"/>
            <a:ext cx="2335320" cy="4191120"/>
          </a:xfrm>
          <a:prstGeom prst="rect">
            <a:avLst/>
          </a:prstGeom>
          <a:ln w="0">
            <a:noFill/>
          </a:ln>
        </p:spPr>
      </p:pic>
      <p:sp>
        <p:nvSpPr>
          <p:cNvPr id="19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Joins using shape (not attribute field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Enables data aggregation (counting or summing points by polygon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Common Spatial Joi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ints to Polygons (count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lygons to Points (adds text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ints to points (distance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s to polyg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06080" y="1219320"/>
            <a:ext cx="731340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How many convenience stores are in each neighborhood?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art with: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Neighborhood</a:t>
            </a:r>
            <a:br>
              <a:rPr sz="2000"/>
            </a:b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2768760" y="1600200"/>
            <a:ext cx="513216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Data table format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First row must have column names that are self-documenting label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e.g.,  Pop5To17, Are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First character is a lette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emaining characters can be any letter, digit, or the underscore character (but no blank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All additional rows of a data table must contain only attribute valu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None of the rows can be sums, averages, or other statistics for other row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Sometimes columns can be functions of other columns (sums, averages, etc.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s to polyg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1" name="Content Placeholder 2"/>
          <p:cNvSpPr/>
          <p:nvPr/>
        </p:nvSpPr>
        <p:spPr>
          <a:xfrm>
            <a:off x="635040" y="1219320"/>
            <a:ext cx="731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Right-click neighborhoods &gt; Joins and Relates &gt; Joi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2158920" y="1600200"/>
            <a:ext cx="2973600" cy="4114800"/>
          </a:xfrm>
          <a:prstGeom prst="rect">
            <a:avLst/>
          </a:prstGeom>
          <a:ln w="0">
            <a:noFill/>
          </a:ln>
        </p:spPr>
      </p:pic>
      <p:sp>
        <p:nvSpPr>
          <p:cNvPr id="21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 resul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New polygon layer with count of points (number of store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787320" y="1676520"/>
            <a:ext cx="6096240" cy="4043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2"/>
          <a:stretch/>
        </p:blipFill>
        <p:spPr>
          <a:xfrm>
            <a:off x="254160" y="2514600"/>
            <a:ext cx="7365960" cy="312408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12"/>
          <p:cNvCxnSpPr/>
          <p:nvPr/>
        </p:nvCxnSpPr>
        <p:spPr>
          <a:xfrm flipH="1">
            <a:off x="7264080" y="213372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21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 resul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how as a choropleth map, with labels, or tabl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22" name="Picture 69" descr=""/>
          <p:cNvPicPr/>
          <p:nvPr/>
        </p:nvPicPr>
        <p:blipFill>
          <a:blip r:embed="rId1"/>
          <a:stretch/>
        </p:blipFill>
        <p:spPr>
          <a:xfrm>
            <a:off x="787320" y="1676520"/>
            <a:ext cx="4800600" cy="3751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0" descr=""/>
          <p:cNvPicPr/>
          <p:nvPr/>
        </p:nvPicPr>
        <p:blipFill>
          <a:blip r:embed="rId2"/>
          <a:stretch/>
        </p:blipFill>
        <p:spPr>
          <a:xfrm>
            <a:off x="939960" y="4572000"/>
            <a:ext cx="99036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5740560" y="1676520"/>
          <a:ext cx="2128680" cy="3612960"/>
        </p:xfrm>
        <a:graphic>
          <a:graphicData uri="http://schemas.openxmlformats.org/drawingml/2006/table">
            <a:tbl>
              <a:tblPr/>
              <a:tblGrid>
                <a:gridCol w="1550880"/>
                <a:gridCol w="577800"/>
              </a:tblGrid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ighborhoo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e Count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mfiel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Business District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ip District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okline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Lawrenceville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mer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dle Hill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Oaklan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quirrel Hill South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 Oaklan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rick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land Park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fiel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 Oaklan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race Village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ghton Heights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dyside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ningside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hall-Shadelan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 Liberty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endship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raden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wood South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nfiel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s to poi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7480" y="1219320"/>
            <a:ext cx="731340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What neighborhood is a store in?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art with: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Neighborhood</a:t>
            </a:r>
            <a:br>
              <a:rPr sz="2000"/>
            </a:b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2692440" y="1600200"/>
            <a:ext cx="5132520" cy="4114800"/>
          </a:xfrm>
          <a:prstGeom prst="rect">
            <a:avLst/>
          </a:prstGeom>
          <a:ln w="0">
            <a:noFill/>
          </a:ln>
        </p:spPr>
      </p:pic>
      <p:sp>
        <p:nvSpPr>
          <p:cNvPr id="22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s to poi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ight-click business points&gt; Joins and Relates &gt; Joi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311560" y="1752480"/>
            <a:ext cx="2819160" cy="3902040"/>
          </a:xfrm>
          <a:prstGeom prst="rect">
            <a:avLst/>
          </a:prstGeom>
          <a:ln w="0">
            <a:noFill/>
          </a:ln>
        </p:spPr>
      </p:pic>
      <p:sp>
        <p:nvSpPr>
          <p:cNvPr id="23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 resul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int shapefile with neighborhood data on each stor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787320" y="1676520"/>
            <a:ext cx="6527880" cy="4038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2"/>
          <a:stretch/>
        </p:blipFill>
        <p:spPr>
          <a:xfrm>
            <a:off x="558720" y="3505320"/>
            <a:ext cx="7075440" cy="1981080"/>
          </a:xfrm>
          <a:prstGeom prst="rect">
            <a:avLst/>
          </a:prstGeom>
          <a:ln w="0">
            <a:noFill/>
          </a:ln>
        </p:spPr>
      </p:pic>
      <p:cxnSp>
        <p:nvCxnSpPr>
          <p:cNvPr id="238" name="Straight Arrow Connector 12"/>
          <p:cNvCxnSpPr/>
          <p:nvPr/>
        </p:nvCxnSpPr>
        <p:spPr>
          <a:xfrm flipH="1">
            <a:off x="6501600" y="3124080"/>
            <a:ext cx="252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23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s to poi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301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How close is a school to a store?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art with: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chool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2692440" y="1600200"/>
            <a:ext cx="5132520" cy="4114800"/>
          </a:xfrm>
          <a:prstGeom prst="rect">
            <a:avLst/>
          </a:prstGeom>
          <a:ln w="0">
            <a:noFill/>
          </a:ln>
        </p:spPr>
      </p:pic>
      <p:sp>
        <p:nvSpPr>
          <p:cNvPr id="24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s to poi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58720" y="1218960"/>
            <a:ext cx="7313760" cy="609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ight-click school points&gt; Joins and Relates &gt; Joi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2311560" y="1600200"/>
            <a:ext cx="2895480" cy="4008600"/>
          </a:xfrm>
          <a:prstGeom prst="rect">
            <a:avLst/>
          </a:prstGeom>
          <a:ln w="0">
            <a:noFill/>
          </a:ln>
        </p:spPr>
      </p:pic>
      <p:sp>
        <p:nvSpPr>
          <p:cNvPr id="24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Result Joi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rcRect l="44332" t="0" r="0" b="0"/>
          <a:stretch/>
        </p:blipFill>
        <p:spPr>
          <a:xfrm>
            <a:off x="787320" y="1752480"/>
            <a:ext cx="6680160" cy="3657600"/>
          </a:xfrm>
          <a:prstGeom prst="rect">
            <a:avLst/>
          </a:prstGeom>
          <a:ln w="0">
            <a:noFill/>
          </a:ln>
        </p:spPr>
      </p:pic>
      <p:cxnSp>
        <p:nvCxnSpPr>
          <p:cNvPr id="250" name="Straight Arrow Connector 12"/>
          <p:cNvCxnSpPr/>
          <p:nvPr/>
        </p:nvCxnSpPr>
        <p:spPr>
          <a:xfrm flipH="1">
            <a:off x="5663880" y="144792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25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databas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3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4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rimary key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Each data table has a primary key with two properti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Each value in the attribute column is uniqu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There are no null valu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68" name="Picture 7" descr="C:\Users\wg0g\Desktop\PATRactsMap.gif"/>
          <p:cNvPicPr/>
          <p:nvPr/>
        </p:nvPicPr>
        <p:blipFill>
          <a:blip r:embed="rId1"/>
          <a:stretch/>
        </p:blipFill>
        <p:spPr>
          <a:xfrm>
            <a:off x="787320" y="2666880"/>
            <a:ext cx="4238640" cy="2533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Users\wg0g\Desktop\PATracts.gif"/>
          <p:cNvPicPr/>
          <p:nvPr/>
        </p:nvPicPr>
        <p:blipFill>
          <a:blip r:embed="rId2"/>
          <a:stretch/>
        </p:blipFill>
        <p:spPr>
          <a:xfrm>
            <a:off x="2768760" y="3505320"/>
            <a:ext cx="4943160" cy="197172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9"/>
          <p:cNvCxnSpPr/>
          <p:nvPr/>
        </p:nvCxnSpPr>
        <p:spPr>
          <a:xfrm flipH="1">
            <a:off x="3225600" y="3352680"/>
            <a:ext cx="2160" cy="457920"/>
          </a:xfrm>
          <a:prstGeom prst="straightConnector1">
            <a:avLst/>
          </a:prstGeom>
          <a:ln w="38160">
            <a:solidFill>
              <a:srgbClr val="ff8398"/>
            </a:solidFill>
            <a:miter/>
            <a:tailEnd len="med" type="arrow" w="med"/>
          </a:ln>
        </p:spPr>
      </p:cxnSp>
      <p:cxnSp>
        <p:nvCxnSpPr>
          <p:cNvPr id="71" name="Straight Arrow Connector 11"/>
          <p:cNvCxnSpPr/>
          <p:nvPr/>
        </p:nvCxnSpPr>
        <p:spPr>
          <a:xfrm flipH="1">
            <a:off x="4215600" y="3352680"/>
            <a:ext cx="2520" cy="457920"/>
          </a:xfrm>
          <a:prstGeom prst="straightConnector1">
            <a:avLst/>
          </a:prstGeom>
          <a:ln w="38160">
            <a:solidFill>
              <a:srgbClr val="ff8398"/>
            </a:solidFill>
            <a:miter/>
            <a:tailEnd len="med" type="arrow" w="med"/>
          </a:ln>
        </p:spPr>
      </p:cxnSp>
      <p:cxnSp>
        <p:nvCxnSpPr>
          <p:cNvPr id="72" name="Straight Arrow Connector 12"/>
          <p:cNvCxnSpPr/>
          <p:nvPr/>
        </p:nvCxnSpPr>
        <p:spPr>
          <a:xfrm flipH="1">
            <a:off x="4825800" y="335268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7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Geodatabase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A geodatabase is a container used to hold a </a:t>
            </a:r>
            <a:r>
              <a:rPr b="0" i="1" lang="en-US" sz="2400" spc="-1" strike="noStrike">
                <a:solidFill>
                  <a:srgbClr val="020323"/>
                </a:solidFill>
                <a:latin typeface="Arial"/>
              </a:rPr>
              <a:t>collection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 of datasets (GIS features, tables, raster images, and other objects)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7" name="Flowchart: Magnetic Disk 4"/>
          <p:cNvSpPr/>
          <p:nvPr/>
        </p:nvSpPr>
        <p:spPr>
          <a:xfrm>
            <a:off x="1353960" y="2913120"/>
            <a:ext cx="1490760" cy="2098440"/>
          </a:xfrm>
          <a:prstGeom prst="flowChartMagneticDisk">
            <a:avLst/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3773520" y="2597040"/>
            <a:ext cx="3481200" cy="1328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3621240" y="4260960"/>
            <a:ext cx="3663720" cy="14745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7"/>
          <p:cNvSpPr/>
          <p:nvPr/>
        </p:nvSpPr>
        <p:spPr>
          <a:xfrm>
            <a:off x="4818960" y="2979720"/>
            <a:ext cx="22129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untry lay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4886280" y="4741920"/>
            <a:ext cx="2368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Graticule lay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cxnSp>
        <p:nvCxnSpPr>
          <p:cNvPr id="262" name="Straight Arrow Connector 10"/>
          <p:cNvCxnSpPr/>
          <p:nvPr/>
        </p:nvCxnSpPr>
        <p:spPr>
          <a:xfrm flipV="1">
            <a:off x="2844720" y="3182400"/>
            <a:ext cx="101664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3" name="Straight Arrow Connector 12"/>
          <p:cNvCxnSpPr/>
          <p:nvPr/>
        </p:nvCxnSpPr>
        <p:spPr>
          <a:xfrm>
            <a:off x="2844360" y="4335120"/>
            <a:ext cx="948600" cy="338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4" name="TextBox 15"/>
          <p:cNvSpPr/>
          <p:nvPr/>
        </p:nvSpPr>
        <p:spPr>
          <a:xfrm>
            <a:off x="1398960" y="3962520"/>
            <a:ext cx="1361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orld.gdb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database typ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le geodatabase (.gdb)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s datasets in a folder of files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each dataset a file up to 1 TB in size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an be used across platform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an be compressed and encrypted for read-only, secure us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ESRI’s recommended choice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database typ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ersonal geodatabase (.mdb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s datasets in a Microsoft Access format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age sizes between 250 and 500 MB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limited to 2GB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only supported on Window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cSDE geodatabas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s datasets in a number of optional DBMSs: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10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IBM DB2,  IBM Informix , Microsoft SQL Server , Oracle, or PostgreSQL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unlimited size and use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New file geodatabas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cCatalog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635040" y="1752480"/>
            <a:ext cx="6296040" cy="41148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634032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76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558720" y="1219320"/>
            <a:ext cx="689148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mport into geodatabas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2"/>
          <a:stretch/>
        </p:blipFill>
        <p:spPr>
          <a:xfrm>
            <a:off x="2776680" y="1760400"/>
            <a:ext cx="4470120" cy="3657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3"/>
          <a:stretch/>
        </p:blipFill>
        <p:spPr>
          <a:xfrm>
            <a:off x="635040" y="2057400"/>
            <a:ext cx="671364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1" name="Content Placeholder 2"/>
          <p:cNvSpPr/>
          <p:nvPr/>
        </p:nvSpPr>
        <p:spPr>
          <a:xfrm>
            <a:off x="677880" y="1150920"/>
            <a:ext cx="6772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3120" indent="-303120">
              <a:lnSpc>
                <a:spcPct val="150000"/>
              </a:lnSpc>
              <a:spcBef>
                <a:spcPts val="624"/>
              </a:spcBef>
              <a:buClr>
                <a:srgbClr val="682701"/>
              </a:buClr>
              <a:buFont typeface="Arial"/>
              <a:buChar char=" 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Osaka"/>
              </a:rPr>
              <a:t>Shapefile features</a:t>
            </a:r>
            <a:endParaRPr b="1" lang="en-US" sz="25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mport into geodatabas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abl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015920" y="1828800"/>
            <a:ext cx="4803840" cy="32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3971880" cy="3251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3"/>
          <a:stretch/>
        </p:blipFill>
        <p:spPr>
          <a:xfrm>
            <a:off x="1015920" y="1828800"/>
            <a:ext cx="658044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xport from geodatabas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863640" y="1447920"/>
            <a:ext cx="6165720" cy="4114800"/>
          </a:xfrm>
          <a:prstGeom prst="rect">
            <a:avLst/>
          </a:prstGeom>
          <a:ln w="0">
            <a:noFill/>
          </a:ln>
        </p:spPr>
      </p:pic>
      <p:sp>
        <p:nvSpPr>
          <p:cNvPr id="29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ew geodatabas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annot identify names in Windows Explor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Must use ArcCatalog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947880" y="2031840"/>
            <a:ext cx="5046480" cy="3657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2"/>
          <a:stretch/>
        </p:blipFill>
        <p:spPr>
          <a:xfrm>
            <a:off x="2438280" y="1963800"/>
            <a:ext cx="4291200" cy="3251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3"/>
          <a:stretch/>
        </p:blipFill>
        <p:spPr>
          <a:xfrm>
            <a:off x="2235240" y="1963800"/>
            <a:ext cx="509112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ompact geodatabas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le and personal geodatabas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educes size and improves performanc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mpact personal geodatabases &gt; 250 MB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Geodatabases with frequent data entry, deletion, or general editing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Open geodatabases in ArcMap cannot be compacted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10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emove any layers with a source table or feature class in that database from the TOC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ompress geodatabas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le geodatabas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Once compressed, a feature class or table is read-only and cannot be edited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mpression is ideally suited to mature datasets that do not require further editing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mpressed dataset can be uncompressed to return it to its original, read-write format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FIPS Geocode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ederal Information Processing Standar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Developed by the National Institute of Standards and Technolog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des for place names throughout the world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ount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states/provi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oun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metropolitan statistical areas (MSA’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places - Indian reservations, airports, and post offices in the 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77840" y="4724280"/>
            <a:ext cx="76960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See </a:t>
            </a:r>
            <a:r>
              <a:rPr b="1" lang="en-US" sz="1600" spc="-1" strike="noStrike" u="sng">
                <a:solidFill>
                  <a:srgbClr val="832dda"/>
                </a:solidFill>
                <a:uFillTx/>
                <a:latin typeface="Arial"/>
                <a:hlinkClick r:id="rId1"/>
              </a:rPr>
              <a:t>http://www.genesys-sampling.com/pages/Template2/site2/61/default.aspx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for additional geocodes.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Catalo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6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ArcCatalog utility program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Like Windows Explorer but for Esri-format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py, delete, rename, move, search files, view metadat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Import/export popular spatial data format fil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reate new shapefiles, file geodatabases, etc. for input in ArcMap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09" name="Picture 6" descr="C:\Users\wg0g\Desktop\ArcCat2.gif"/>
          <p:cNvPicPr/>
          <p:nvPr/>
        </p:nvPicPr>
        <p:blipFill>
          <a:blip r:embed="rId1"/>
          <a:stretch/>
        </p:blipFill>
        <p:spPr>
          <a:xfrm>
            <a:off x="2540160" y="2614680"/>
            <a:ext cx="4265280" cy="3252600"/>
          </a:xfrm>
          <a:prstGeom prst="rect">
            <a:avLst/>
          </a:prstGeom>
          <a:ln w="0">
            <a:noFill/>
          </a:ln>
        </p:spPr>
      </p:pic>
      <p:sp>
        <p:nvSpPr>
          <p:cNvPr id="31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Basic functi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py, paste, rename, etc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1015920" y="1693800"/>
            <a:ext cx="6386760" cy="4114800"/>
          </a:xfrm>
          <a:prstGeom prst="rect">
            <a:avLst/>
          </a:prstGeom>
          <a:ln w="0">
            <a:noFill/>
          </a:ln>
        </p:spPr>
      </p:pic>
      <p:sp>
        <p:nvSpPr>
          <p:cNvPr id="31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ew and edit properti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rojections, fields, etc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1084320" y="1625760"/>
            <a:ext cx="535464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3929040" y="1625760"/>
            <a:ext cx="3338640" cy="4063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3"/>
          <a:stretch/>
        </p:blipFill>
        <p:spPr>
          <a:xfrm>
            <a:off x="3911760" y="1295280"/>
            <a:ext cx="3755880" cy="4572000"/>
          </a:xfrm>
          <a:prstGeom prst="rect">
            <a:avLst/>
          </a:prstGeom>
          <a:ln w="0">
            <a:noFill/>
          </a:ln>
        </p:spPr>
      </p:pic>
      <p:sp>
        <p:nvSpPr>
          <p:cNvPr id="32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ew metadata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711360" y="1219320"/>
            <a:ext cx="7095960" cy="4572000"/>
          </a:xfrm>
          <a:prstGeom prst="rect">
            <a:avLst/>
          </a:prstGeom>
          <a:ln w="0">
            <a:noFill/>
          </a:ln>
        </p:spPr>
      </p:pic>
      <p:sp>
        <p:nvSpPr>
          <p:cNvPr id="32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dit metadata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711360" y="1219320"/>
            <a:ext cx="7132320" cy="4572000"/>
          </a:xfrm>
          <a:prstGeom prst="rect">
            <a:avLst/>
          </a:prstGeom>
          <a:ln w="0">
            <a:noFill/>
          </a:ln>
        </p:spPr>
      </p:pic>
      <p:sp>
        <p:nvSpPr>
          <p:cNvPr id="326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reate new fil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1049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20323"/>
                </a:solidFill>
                <a:latin typeface="Arial"/>
              </a:rPr>
              <a:t>Geodatabases, tables, features, etc.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863640" y="1676520"/>
            <a:ext cx="6172200" cy="4010040"/>
          </a:xfrm>
          <a:prstGeom prst="rect">
            <a:avLst/>
          </a:prstGeom>
          <a:ln w="0">
            <a:noFill/>
          </a:ln>
        </p:spPr>
      </p:pic>
      <p:sp>
        <p:nvSpPr>
          <p:cNvPr id="33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08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ing Geometry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482760" y="2286000"/>
            <a:ext cx="70866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3" name="Line 4"/>
          <p:cNvSpPr/>
          <p:nvPr/>
        </p:nvSpPr>
        <p:spPr>
          <a:xfrm>
            <a:off x="482760" y="3352680"/>
            <a:ext cx="70866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Used to display and calculate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36" name="Picture 14" descr=""/>
          <p:cNvPicPr/>
          <p:nvPr/>
        </p:nvPicPr>
        <p:blipFill>
          <a:blip r:embed="rId1"/>
          <a:stretch/>
        </p:blipFill>
        <p:spPr>
          <a:xfrm>
            <a:off x="711360" y="1752480"/>
            <a:ext cx="5811840" cy="3886200"/>
          </a:xfrm>
          <a:prstGeom prst="rect">
            <a:avLst/>
          </a:prstGeom>
          <a:ln w="9360">
            <a:solidFill>
              <a:srgbClr val="dbe1fa"/>
            </a:solidFill>
            <a:miter/>
          </a:ln>
        </p:spPr>
      </p:pic>
      <p:sp>
        <p:nvSpPr>
          <p:cNvPr id="33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When displaying or analyzing small polygons it is often better to use point centroi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1168560" y="2286000"/>
            <a:ext cx="5227560" cy="3251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"/>
          <p:cNvPicPr/>
          <p:nvPr/>
        </p:nvPicPr>
        <p:blipFill>
          <a:blip r:embed="rId2"/>
          <a:stretch/>
        </p:blipFill>
        <p:spPr>
          <a:xfrm>
            <a:off x="1168560" y="2286000"/>
            <a:ext cx="5227560" cy="325116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34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50760" y="38160"/>
            <a:ext cx="8039160" cy="6019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FIPS Geo codes: Hierarchy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14520" y="1066680"/>
            <a:ext cx="6859440" cy="4356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058400" y="1704960"/>
            <a:ext cx="1518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Country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U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34680" y="1300320"/>
            <a:ext cx="14180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d93"/>
                </a:solidFill>
                <a:latin typeface="Arial"/>
              </a:rPr>
              <a:t>FIPS cod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005920" y="2386080"/>
            <a:ext cx="2801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County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00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(Allegheny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451880" y="2046240"/>
            <a:ext cx="28126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tat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4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(Pennsylvania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4191120" y="4952880"/>
            <a:ext cx="2319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956680" y="3446640"/>
            <a:ext cx="1388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Tract: 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050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3914280" y="4114800"/>
            <a:ext cx="3315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Block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cecece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US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42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003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0501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499200" y="3763800"/>
            <a:ext cx="1824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Block Group: 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585000" y="3475080"/>
            <a:ext cx="17334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d93"/>
                </a:solidFill>
                <a:latin typeface="Arial"/>
              </a:rPr>
              <a:t>Census cod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4962600" y="5254560"/>
            <a:ext cx="869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2537640" y="2743200"/>
            <a:ext cx="46090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Minor Civil Division: 85188 (Wilkinsburg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4503240" y="4948200"/>
            <a:ext cx="25473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arcel  (Block &amp; Lot#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653400" y="4952880"/>
            <a:ext cx="3752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d93"/>
                </a:solidFill>
                <a:latin typeface="Arial"/>
              </a:rPr>
              <a:t>Local government cadastral dat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e XY fiel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 new X and Y fields in the attribute tabl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787320" y="2057400"/>
            <a:ext cx="2685960" cy="27432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4140360" y="2057400"/>
            <a:ext cx="2685960" cy="2743200"/>
          </a:xfrm>
          <a:prstGeom prst="rect">
            <a:avLst/>
          </a:prstGeom>
          <a:ln w="0">
            <a:noFill/>
          </a:ln>
        </p:spPr>
      </p:pic>
      <p:sp>
        <p:nvSpPr>
          <p:cNvPr id="34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e XY fiel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alculate geometry for X field, repeat for Y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677880" y="1828800"/>
            <a:ext cx="6961320" cy="3251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"/>
          <p:cNvPicPr/>
          <p:nvPr/>
        </p:nvPicPr>
        <p:blipFill>
          <a:blip r:embed="rId2"/>
          <a:stretch/>
        </p:blipFill>
        <p:spPr>
          <a:xfrm>
            <a:off x="1557360" y="2844720"/>
            <a:ext cx="3470400" cy="2438640"/>
          </a:xfrm>
          <a:prstGeom prst="rect">
            <a:avLst/>
          </a:prstGeom>
          <a:ln w="0">
            <a:noFill/>
          </a:ln>
        </p:spPr>
      </p:pic>
      <p:sp>
        <p:nvSpPr>
          <p:cNvPr id="35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XY field resul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Results are X and Y values based on map properties (e.g. Long/Lat or XY feet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947880" y="2166840"/>
            <a:ext cx="6043320" cy="284472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356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xport XY coordinat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787320" y="990720"/>
            <a:ext cx="6248520" cy="4962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3116160" y="1760400"/>
            <a:ext cx="2979720" cy="2438640"/>
          </a:xfrm>
          <a:prstGeom prst="rect">
            <a:avLst/>
          </a:prstGeom>
          <a:ln w="0">
            <a:noFill/>
          </a:ln>
        </p:spPr>
      </p:pic>
      <p:sp>
        <p:nvSpPr>
          <p:cNvPr id="36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 XY data tab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744480" y="1219320"/>
            <a:ext cx="2784600" cy="24382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4605480" y="1219320"/>
            <a:ext cx="2557440" cy="40640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677880" y="2166840"/>
            <a:ext cx="6738840" cy="35528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36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xport as shapefi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XY events should be exported as permanent shapefile or feature class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330120" y="2209680"/>
            <a:ext cx="7331040" cy="31244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36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ounting Point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pulation spatially joined to buffer around toxic release sit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72" name="Picture 14" descr=""/>
          <p:cNvPicPr/>
          <p:nvPr/>
        </p:nvPicPr>
        <p:blipFill>
          <a:blip r:embed="rId1"/>
          <a:stretch/>
        </p:blipFill>
        <p:spPr>
          <a:xfrm>
            <a:off x="711360" y="1981080"/>
            <a:ext cx="5811840" cy="3886200"/>
          </a:xfrm>
          <a:prstGeom prst="rect">
            <a:avLst/>
          </a:prstGeom>
          <a:ln w="9360">
            <a:solidFill>
              <a:srgbClr val="dbe1fa"/>
            </a:solidFill>
            <a:miter/>
          </a:ln>
        </p:spPr>
      </p:pic>
      <p:pic>
        <p:nvPicPr>
          <p:cNvPr id="373" name="Picture 13" descr=""/>
          <p:cNvPicPr/>
          <p:nvPr/>
        </p:nvPicPr>
        <p:blipFill>
          <a:blip r:embed="rId2"/>
          <a:stretch/>
        </p:blipFill>
        <p:spPr>
          <a:xfrm>
            <a:off x="4632480" y="1182600"/>
            <a:ext cx="3336840" cy="4543560"/>
          </a:xfrm>
          <a:prstGeom prst="rect">
            <a:avLst/>
          </a:prstGeom>
          <a:ln w="0">
            <a:noFill/>
          </a:ln>
        </p:spPr>
      </p:pic>
      <p:sp>
        <p:nvSpPr>
          <p:cNvPr id="37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e area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 area field and calculate geometry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150920" y="1963800"/>
            <a:ext cx="2448000" cy="2438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3792600" y="1760400"/>
            <a:ext cx="3263760" cy="2438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3"/>
          <a:stretch/>
        </p:blipFill>
        <p:spPr>
          <a:xfrm>
            <a:off x="482760" y="2819520"/>
            <a:ext cx="7243560" cy="2819160"/>
          </a:xfrm>
          <a:prstGeom prst="rect">
            <a:avLst/>
          </a:prstGeom>
          <a:ln w="0">
            <a:noFill/>
          </a:ln>
        </p:spPr>
      </p:pic>
      <p:sp>
        <p:nvSpPr>
          <p:cNvPr id="38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e perimet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 perimeter field and calculate scrip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84320" y="2031840"/>
            <a:ext cx="2446200" cy="2438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3726000" y="1897200"/>
            <a:ext cx="3146400" cy="2438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558720" y="2590920"/>
            <a:ext cx="7048440" cy="2743200"/>
          </a:xfrm>
          <a:prstGeom prst="rect">
            <a:avLst/>
          </a:prstGeom>
          <a:ln w="0">
            <a:noFill/>
          </a:ln>
        </p:spPr>
      </p:pic>
      <p:sp>
        <p:nvSpPr>
          <p:cNvPr id="386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e length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 length field and calculate scrip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1084320" y="2166840"/>
            <a:ext cx="2446200" cy="2438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3792600" y="1963800"/>
            <a:ext cx="3112920" cy="2438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3"/>
          <a:stretch/>
        </p:blipFill>
        <p:spPr>
          <a:xfrm>
            <a:off x="406440" y="2362320"/>
            <a:ext cx="7443720" cy="2819160"/>
          </a:xfrm>
          <a:prstGeom prst="rect">
            <a:avLst/>
          </a:prstGeom>
          <a:ln w="0">
            <a:noFill/>
          </a:ln>
        </p:spPr>
      </p:pic>
      <p:sp>
        <p:nvSpPr>
          <p:cNvPr id="39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50760" y="38160"/>
            <a:ext cx="8039160" cy="6019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ANSI Code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14520" y="1066680"/>
            <a:ext cx="6859440" cy="4356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895680" y="1447920"/>
            <a:ext cx="680508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merican National Standards Institute (ANSI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32dda"/>
                </a:solidFill>
                <a:uFillTx/>
                <a:latin typeface="Arial"/>
                <a:hlinkClick r:id="rId1"/>
              </a:rPr>
              <a:t>www.census.gov/geo/www/ansi/ansi.htm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Replaces FIPS 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In many cases, the codes are the same</a:t>
            </a:r>
            <a:br>
              <a:rPr sz="2400"/>
            </a:b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(e.g. Pennsylvania, Allegheny County =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42003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External table file formats for import to ArcGI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52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lain ASCII text with comma separated values (.csv</a:t>
            </a:r>
            <a:r>
              <a:rPr b="1" lang="en-US" sz="2800" spc="-1" strike="noStrike">
                <a:solidFill>
                  <a:srgbClr val="020323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</a:rPr>
              <a:t>Very transportable format, very large files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</a:rPr>
              <a:t>Each table record is a row terminated with a line-break character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</a:rPr>
              <a:t>Has values separated by a delimiter, usually a comma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</a:rPr>
              <a:t>For data values that contain the delimiter, enclose the value in double quotes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</a:rPr>
              <a:t>Sometimes columns get wrong data type on import (use double quotes to force text data type for digits, say for house numbers)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26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26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02" name="Picture 3" descr="Notepad.gif"/>
          <p:cNvPicPr/>
          <p:nvPr/>
        </p:nvPicPr>
        <p:blipFill>
          <a:blip r:embed="rId1"/>
          <a:stretch/>
        </p:blipFill>
        <p:spPr>
          <a:xfrm>
            <a:off x="787320" y="3733920"/>
            <a:ext cx="285768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ArcMapTable.gif"/>
          <p:cNvPicPr/>
          <p:nvPr/>
        </p:nvPicPr>
        <p:blipFill>
          <a:blip r:embed="rId2"/>
          <a:stretch/>
        </p:blipFill>
        <p:spPr>
          <a:xfrm>
            <a:off x="3911760" y="3733920"/>
            <a:ext cx="385596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External table file formats for import to ArcGI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Excel (.xls, .xlsx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Excel 2003, up to 65,000 rows and 256 colum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Excel 2007, up to 1,048,576 rows and 16,384 colum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dBase database table(.dbf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Legacy format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ArcMap truncates field names to 1</a:t>
            </a:r>
            <a:r>
              <a:rPr b="0" lang="en-US" sz="2000" spc="-1" strike="noStrike" baseline="30000">
                <a:solidFill>
                  <a:srgbClr val="020323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 10 characte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dBase IV has max of 255 colum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an open dBase file in Excel but cannot save Dbase from Excel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Microsoft Access database (.mdb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Up to 2GB file siz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See following for other limits: </a:t>
            </a:r>
            <a:r>
              <a:rPr b="0" lang="en-US" sz="1800" spc="-1" strike="noStrike" u="sng">
                <a:solidFill>
                  <a:srgbClr val="832dda"/>
                </a:solidFill>
                <a:uFillTx/>
                <a:latin typeface="Arial"/>
                <a:hlinkClick r:id="rId1"/>
              </a:rPr>
              <a:t>http://www.databasedev.co.uk/access_specifications.html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9T23:01:06Z</dcterms:created>
  <dc:creator>The Heinz School</dc:creator>
  <dc:description/>
  <cp:keywords/>
  <dc:language>en-US</dc:language>
  <cp:lastModifiedBy>Valued Acer Customer</cp:lastModifiedBy>
  <cp:lastPrinted>2001-01-21T18:12:54Z</cp:lastPrinted>
  <dcterms:modified xsi:type="dcterms:W3CDTF">2011-05-09T19:53:18Z</dcterms:modified>
  <cp:revision>230</cp:revision>
  <dc:subject/>
  <dc:title>No Slide Title</dc:title>
</cp:coreProperties>
</file>