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ng" ContentType="image/png"/>
  <Override PartName="/ppt/media/image4.jpeg" ContentType="image/jpeg"/>
  <Override PartName="/ppt/media/image5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mu.edu/blackboard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learning.hbsp.org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/>
          </p:nvPr>
        </p:nvSpPr>
        <p:spPr>
          <a:xfrm>
            <a:off x="457164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 Syllabu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990000"/>
                </a:solidFill>
                <a:uFillTx/>
                <a:latin typeface="Arial"/>
                <a:hlinkClick r:id="rId1"/>
              </a:rPr>
              <a:t>Blackboard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6705720" y="6242040"/>
            <a:ext cx="2438280" cy="6159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80000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roduction to Information Technolog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rse Over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3720" y="1600200"/>
            <a:ext cx="2438280" cy="2381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458640" y="2666880"/>
            <a:ext cx="28767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1640" y="1828800"/>
            <a:ext cx="441972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board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990000"/>
                </a:solidFill>
                <a:uFillTx/>
                <a:latin typeface="Arial"/>
                <a:hlinkClick r:id="rId1"/>
              </a:rPr>
              <a:t>IT Concepts Coursew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rdware &amp;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 Remind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_x0013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05720" y="6242040"/>
            <a:ext cx="2438280" cy="615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80000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roduction to Information Technolog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cture 1: Hardware, Software and Intro. to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2895840" cy="2895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1640" y="1828800"/>
            <a:ext cx="441972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 1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_x0013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05720" y="6242040"/>
            <a:ext cx="2438280" cy="615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80000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roduction to Information Technolog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od Video Lec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22543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6:51:03Z</dcterms:created>
  <dc:creator>Rema Padman</dc:creator>
  <dc:description/>
  <dc:language>en-US</dc:language>
  <cp:lastModifiedBy>Carnegie Mellon</cp:lastModifiedBy>
  <dcterms:modified xsi:type="dcterms:W3CDTF">2007-03-08T20:45:38Z</dcterms:modified>
  <cp:revision>449</cp:revision>
  <dc:subject/>
  <dc:title>PowerPoint Presentation  -  MMM Course Video Lectures</dc:title>
</cp:coreProperties>
</file>