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D6B29D-21F7-4794-BBF8-64E43551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. 1: Facility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600200"/>
            <a:ext cx="380988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round/Rooftop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ll-Modell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tic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78680" y="5808960"/>
            <a:ext cx="4172760" cy="820800"/>
            <a:chOff x="1678680" y="5808960"/>
            <a:chExt cx="4172760" cy="8208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71640" y="5981760"/>
              <a:ext cx="3979800" cy="57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2724120" y="5810400"/>
              <a:ext cx="900360" cy="819360"/>
              <a:chOff x="2724120" y="5810400"/>
              <a:chExt cx="900360" cy="819360"/>
            </a:xfrm>
          </p:grpSpPr>
          <p:sp>
            <p:nvSpPr>
              <p:cNvPr id="50" name=""/>
              <p:cNvSpPr/>
              <p:nvPr/>
            </p:nvSpPr>
            <p:spPr>
              <a:xfrm>
                <a:off x="2724120" y="5810400"/>
                <a:ext cx="900360" cy="819360"/>
              </a:xfrm>
              <a:custGeom>
                <a:avLst/>
                <a:gdLst/>
                <a:ahLst/>
                <a:rect l="0" t="0" r="r" b="b"/>
                <a:pathLst>
                  <a:path w="2501" h="2276">
                    <a:moveTo>
                      <a:pt x="1251" y="2276"/>
                    </a:moveTo>
                    <a:lnTo>
                      <a:pt x="2501" y="1137"/>
                    </a:lnTo>
                    <a:lnTo>
                      <a:pt x="1251" y="0"/>
                    </a:lnTo>
                    <a:lnTo>
                      <a:pt x="0" y="1137"/>
                    </a:lnTo>
                    <a:lnTo>
                      <a:pt x="1251" y="2276"/>
                    </a:lnTo>
                    <a:close/>
                  </a:path>
                </a:pathLst>
              </a:custGeom>
              <a:solidFill>
                <a:srgbClr val="ffff66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 txBox="1"/>
              <p:nvPr/>
            </p:nvSpPr>
            <p:spPr>
              <a:xfrm>
                <a:off x="2882880" y="5987880"/>
                <a:ext cx="6922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e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380120" y="5808960"/>
              <a:ext cx="351720" cy="171360"/>
              <a:chOff x="4380120" y="5808960"/>
              <a:chExt cx="351720" cy="171360"/>
            </a:xfrm>
          </p:grpSpPr>
          <p:sp>
            <p:nvSpPr>
              <p:cNvPr id="53" name=""/>
              <p:cNvSpPr/>
              <p:nvPr/>
            </p:nvSpPr>
            <p:spPr>
              <a:xfrm>
                <a:off x="4380120" y="5808960"/>
                <a:ext cx="255600" cy="171360"/>
              </a:xfrm>
              <a:custGeom>
                <a:avLst/>
                <a:gdLst/>
                <a:ahLst/>
                <a:rect l="0" t="0" r="r" b="b"/>
                <a:pathLst>
                  <a:path w="710" h="476">
                    <a:moveTo>
                      <a:pt x="661" y="476"/>
                    </a:moveTo>
                    <a:lnTo>
                      <a:pt x="710" y="81"/>
                    </a:lnTo>
                    <a:lnTo>
                      <a:pt x="48" y="0"/>
                    </a:lnTo>
                    <a:lnTo>
                      <a:pt x="0" y="394"/>
                    </a:lnTo>
                    <a:lnTo>
                      <a:pt x="661" y="476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22040" y="5867640"/>
                <a:ext cx="109800" cy="83520"/>
              </a:xfrm>
              <a:custGeom>
                <a:avLst/>
                <a:gdLst/>
                <a:ahLst/>
                <a:rect l="0" t="0" r="r" b="b"/>
                <a:pathLst>
                  <a:path w="305" h="232">
                    <a:moveTo>
                      <a:pt x="281" y="232"/>
                    </a:moveTo>
                    <a:lnTo>
                      <a:pt x="305" y="34"/>
                    </a:lnTo>
                    <a:lnTo>
                      <a:pt x="24" y="0"/>
                    </a:lnTo>
                    <a:lnTo>
                      <a:pt x="0" y="197"/>
                    </a:lnTo>
                    <a:lnTo>
                      <a:pt x="281" y="232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678680" y="5808960"/>
              <a:ext cx="352080" cy="171000"/>
              <a:chOff x="1678680" y="5808960"/>
              <a:chExt cx="352080" cy="171000"/>
            </a:xfrm>
          </p:grpSpPr>
          <p:sp>
            <p:nvSpPr>
              <p:cNvPr id="56" name=""/>
              <p:cNvSpPr/>
              <p:nvPr/>
            </p:nvSpPr>
            <p:spPr>
              <a:xfrm>
                <a:off x="1776600" y="5808960"/>
                <a:ext cx="254160" cy="171000"/>
              </a:xfrm>
              <a:custGeom>
                <a:avLst/>
                <a:gdLst/>
                <a:ahLst/>
                <a:rect l="0" t="0" r="r" b="b"/>
                <a:pathLst>
                  <a:path w="706" h="475">
                    <a:moveTo>
                      <a:pt x="706" y="394"/>
                    </a:moveTo>
                    <a:lnTo>
                      <a:pt x="658" y="0"/>
                    </a:lnTo>
                    <a:lnTo>
                      <a:pt x="0" y="80"/>
                    </a:lnTo>
                    <a:lnTo>
                      <a:pt x="48" y="475"/>
                    </a:lnTo>
                    <a:lnTo>
                      <a:pt x="706" y="394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78680" y="5867640"/>
                <a:ext cx="113040" cy="83880"/>
              </a:xfrm>
              <a:custGeom>
                <a:avLst/>
                <a:gdLst/>
                <a:ahLst/>
                <a:rect l="0" t="0" r="r" b="b"/>
                <a:pathLst>
                  <a:path w="314" h="233">
                    <a:moveTo>
                      <a:pt x="314" y="197"/>
                    </a:moveTo>
                    <a:lnTo>
                      <a:pt x="289" y="0"/>
                    </a:lnTo>
                    <a:lnTo>
                      <a:pt x="0" y="35"/>
                    </a:lnTo>
                    <a:lnTo>
                      <a:pt x="24" y="233"/>
                    </a:lnTo>
                    <a:lnTo>
                      <a:pt x="314" y="197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412120" y="5927760"/>
            <a:ext cx="503280" cy="6066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8223480" y="5744160"/>
            <a:ext cx="351360" cy="177120"/>
            <a:chOff x="8223480" y="5744160"/>
            <a:chExt cx="351360" cy="177120"/>
          </a:xfrm>
        </p:grpSpPr>
        <p:sp>
          <p:nvSpPr>
            <p:cNvPr id="60" name=""/>
            <p:cNvSpPr/>
            <p:nvPr/>
          </p:nvSpPr>
          <p:spPr>
            <a:xfrm>
              <a:off x="8321400" y="5744160"/>
              <a:ext cx="253440" cy="177120"/>
            </a:xfrm>
            <a:custGeom>
              <a:avLst/>
              <a:gdLst/>
              <a:ahLst/>
              <a:rect l="0" t="0" r="r" b="b"/>
              <a:pathLst>
                <a:path w="704" h="492">
                  <a:moveTo>
                    <a:pt x="704" y="412"/>
                  </a:moveTo>
                  <a:lnTo>
                    <a:pt x="654" y="0"/>
                  </a:lnTo>
                  <a:lnTo>
                    <a:pt x="0" y="80"/>
                  </a:lnTo>
                  <a:lnTo>
                    <a:pt x="50" y="492"/>
                  </a:lnTo>
                  <a:lnTo>
                    <a:pt x="704" y="412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480" y="5807520"/>
              <a:ext cx="112320" cy="90000"/>
            </a:xfrm>
            <a:custGeom>
              <a:avLst/>
              <a:gdLst/>
              <a:ahLst/>
              <a:rect l="0" t="0" r="r" b="b"/>
              <a:pathLst>
                <a:path w="312" h="250">
                  <a:moveTo>
                    <a:pt x="312" y="215"/>
                  </a:moveTo>
                  <a:lnTo>
                    <a:pt x="286" y="0"/>
                  </a:lnTo>
                  <a:lnTo>
                    <a:pt x="0" y="34"/>
                  </a:lnTo>
                  <a:lnTo>
                    <a:pt x="26" y="250"/>
                  </a:lnTo>
                  <a:lnTo>
                    <a:pt x="312" y="215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43360" y="2971800"/>
            <a:ext cx="6451920" cy="3530880"/>
            <a:chOff x="2043360" y="2971800"/>
            <a:chExt cx="6451920" cy="3530880"/>
          </a:xfrm>
        </p:grpSpPr>
        <p:grpSp>
          <p:nvGrpSpPr>
            <p:cNvPr id="63" name=""/>
            <p:cNvGrpSpPr/>
            <p:nvPr/>
          </p:nvGrpSpPr>
          <p:grpSpPr>
            <a:xfrm>
              <a:off x="6087960" y="3342600"/>
              <a:ext cx="1653120" cy="558000"/>
              <a:chOff x="6087960" y="3342600"/>
              <a:chExt cx="1653120" cy="5580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087960" y="3566880"/>
                <a:ext cx="826920" cy="333720"/>
                <a:chOff x="6087960" y="3566880"/>
                <a:chExt cx="826920" cy="333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087960" y="3716280"/>
                  <a:ext cx="826920" cy="184320"/>
                  <a:chOff x="6087960" y="3716280"/>
                  <a:chExt cx="826920" cy="184320"/>
                </a:xfrm>
              </p:grpSpPr>
              <p:grpSp>
                <p:nvGrpSpPr>
                  <p:cNvPr id="66" name=""/>
                  <p:cNvGrpSpPr/>
                  <p:nvPr/>
                </p:nvGrpSpPr>
                <p:grpSpPr>
                  <a:xfrm>
                    <a:off x="6087960" y="3716280"/>
                    <a:ext cx="826920" cy="167040"/>
                    <a:chOff x="6087960" y="3716280"/>
                    <a:chExt cx="826920" cy="167040"/>
                  </a:xfrm>
                </p:grpSpPr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6300720" y="3716280"/>
                      <a:ext cx="557640" cy="66960"/>
                      <a:chOff x="6300720" y="3716280"/>
                      <a:chExt cx="557640" cy="66960"/>
                    </a:xfrm>
                  </p:grpSpPr>
                  <p:grpSp>
                    <p:nvGrpSpPr>
                      <p:cNvPr id="68" name=""/>
                      <p:cNvGrpSpPr/>
                      <p:nvPr/>
                    </p:nvGrpSpPr>
                    <p:grpSpPr>
                      <a:xfrm>
                        <a:off x="6365880" y="3722760"/>
                        <a:ext cx="297360" cy="59040"/>
                        <a:chOff x="6365880" y="3722760"/>
                        <a:chExt cx="297360" cy="59040"/>
                      </a:xfrm>
                    </p:grpSpPr>
                    <p:grpSp>
                      <p:nvGrpSpPr>
                        <p:cNvPr id="69" name=""/>
                        <p:cNvGrpSpPr/>
                        <p:nvPr/>
                      </p:nvGrpSpPr>
                      <p:grpSpPr>
                        <a:xfrm>
                          <a:off x="6407280" y="3726000"/>
                          <a:ext cx="189360" cy="47880"/>
                          <a:chOff x="6407280" y="3726000"/>
                          <a:chExt cx="189360" cy="47880"/>
                        </a:xfrm>
                      </p:grpSpPr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562800" y="3726000"/>
                            <a:ext cx="33840" cy="39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4" h="111">
                                <a:moveTo>
                                  <a:pt x="94" y="0"/>
                                </a:moveTo>
                                <a:lnTo>
                                  <a:pt x="31" y="111"/>
                                </a:lnTo>
                                <a:lnTo>
                                  <a:pt x="0" y="111"/>
                                </a:lnTo>
                                <a:lnTo>
                                  <a:pt x="72" y="0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" name=""/>
                          <p:cNvSpPr/>
                          <p:nvPr/>
                        </p:nvSpPr>
                        <p:spPr>
                          <a:xfrm>
                            <a:off x="6407280" y="374796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58" y="8"/>
                                </a:moveTo>
                                <a:lnTo>
                                  <a:pt x="58" y="4"/>
                                </a:lnTo>
                                <a:lnTo>
                                  <a:pt x="0" y="72"/>
                                </a:lnTo>
                                <a:lnTo>
                                  <a:pt x="26" y="68"/>
                                </a:lnTo>
                                <a:lnTo>
                                  <a:pt x="80" y="0"/>
                                </a:lnTo>
                                <a:lnTo>
                                  <a:pt x="58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365880" y="3722760"/>
                          <a:ext cx="297360" cy="59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26" h="164">
                              <a:moveTo>
                                <a:pt x="822" y="22"/>
                              </a:moveTo>
                              <a:lnTo>
                                <a:pt x="747" y="22"/>
                              </a:lnTo>
                              <a:lnTo>
                                <a:pt x="685" y="22"/>
                              </a:lnTo>
                              <a:lnTo>
                                <a:pt x="605" y="17"/>
                              </a:lnTo>
                              <a:lnTo>
                                <a:pt x="530" y="17"/>
                              </a:lnTo>
                              <a:lnTo>
                                <a:pt x="446" y="17"/>
                              </a:lnTo>
                              <a:lnTo>
                                <a:pt x="371" y="17"/>
                              </a:lnTo>
                              <a:lnTo>
                                <a:pt x="336" y="22"/>
                              </a:lnTo>
                              <a:lnTo>
                                <a:pt x="309" y="26"/>
                              </a:lnTo>
                              <a:lnTo>
                                <a:pt x="274" y="39"/>
                              </a:lnTo>
                              <a:lnTo>
                                <a:pt x="243" y="48"/>
                              </a:lnTo>
                              <a:lnTo>
                                <a:pt x="123" y="106"/>
                              </a:lnTo>
                              <a:lnTo>
                                <a:pt x="61" y="128"/>
                              </a:lnTo>
                              <a:lnTo>
                                <a:pt x="26" y="150"/>
                              </a:lnTo>
                              <a:lnTo>
                                <a:pt x="57" y="150"/>
                              </a:lnTo>
                              <a:lnTo>
                                <a:pt x="826" y="98"/>
                              </a:lnTo>
                              <a:lnTo>
                                <a:pt x="826" y="115"/>
                              </a:lnTo>
                              <a:lnTo>
                                <a:pt x="22" y="164"/>
                              </a:lnTo>
                              <a:lnTo>
                                <a:pt x="0" y="159"/>
                              </a:lnTo>
                              <a:lnTo>
                                <a:pt x="8" y="146"/>
                              </a:lnTo>
                              <a:lnTo>
                                <a:pt x="30" y="128"/>
                              </a:lnTo>
                              <a:lnTo>
                                <a:pt x="88" y="106"/>
                              </a:lnTo>
                              <a:lnTo>
                                <a:pt x="127" y="84"/>
                              </a:lnTo>
                              <a:lnTo>
                                <a:pt x="234" y="35"/>
                              </a:lnTo>
                              <a:lnTo>
                                <a:pt x="283" y="22"/>
                              </a:lnTo>
                              <a:lnTo>
                                <a:pt x="331" y="8"/>
                              </a:lnTo>
                              <a:lnTo>
                                <a:pt x="437" y="0"/>
                              </a:lnTo>
                              <a:lnTo>
                                <a:pt x="583" y="0"/>
                              </a:lnTo>
                              <a:lnTo>
                                <a:pt x="822" y="13"/>
                              </a:lnTo>
                              <a:lnTo>
                                <a:pt x="822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7920" bIns="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6300720" y="3716280"/>
                        <a:ext cx="557640" cy="66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549" h="186">
                            <a:moveTo>
                              <a:pt x="1549" y="124"/>
                            </a:moveTo>
                            <a:lnTo>
                              <a:pt x="1492" y="115"/>
                            </a:lnTo>
                            <a:lnTo>
                              <a:pt x="1443" y="106"/>
                            </a:lnTo>
                            <a:lnTo>
                              <a:pt x="1413" y="102"/>
                            </a:lnTo>
                            <a:lnTo>
                              <a:pt x="1386" y="92"/>
                            </a:lnTo>
                            <a:lnTo>
                              <a:pt x="1355" y="88"/>
                            </a:lnTo>
                            <a:lnTo>
                              <a:pt x="1324" y="74"/>
                            </a:lnTo>
                            <a:lnTo>
                              <a:pt x="1294" y="70"/>
                            </a:lnTo>
                            <a:lnTo>
                              <a:pt x="1267" y="66"/>
                            </a:lnTo>
                            <a:lnTo>
                              <a:pt x="1236" y="61"/>
                            </a:lnTo>
                            <a:lnTo>
                              <a:pt x="1210" y="57"/>
                            </a:lnTo>
                            <a:lnTo>
                              <a:pt x="1183" y="52"/>
                            </a:lnTo>
                            <a:lnTo>
                              <a:pt x="1151" y="48"/>
                            </a:lnTo>
                            <a:lnTo>
                              <a:pt x="1121" y="44"/>
                            </a:lnTo>
                            <a:lnTo>
                              <a:pt x="1094" y="39"/>
                            </a:lnTo>
                            <a:lnTo>
                              <a:pt x="1063" y="35"/>
                            </a:lnTo>
                            <a:lnTo>
                              <a:pt x="1041" y="22"/>
                            </a:lnTo>
                            <a:lnTo>
                              <a:pt x="1028" y="8"/>
                            </a:lnTo>
                            <a:lnTo>
                              <a:pt x="993" y="8"/>
                            </a:lnTo>
                            <a:lnTo>
                              <a:pt x="944" y="8"/>
                            </a:lnTo>
                            <a:lnTo>
                              <a:pt x="891" y="4"/>
                            </a:lnTo>
                            <a:lnTo>
                              <a:pt x="847" y="4"/>
                            </a:lnTo>
                            <a:lnTo>
                              <a:pt x="785" y="0"/>
                            </a:lnTo>
                            <a:lnTo>
                              <a:pt x="719" y="0"/>
                            </a:lnTo>
                            <a:lnTo>
                              <a:pt x="662" y="0"/>
                            </a:lnTo>
                            <a:lnTo>
                              <a:pt x="618" y="0"/>
                            </a:lnTo>
                            <a:lnTo>
                              <a:pt x="569" y="4"/>
                            </a:lnTo>
                            <a:lnTo>
                              <a:pt x="521" y="8"/>
                            </a:lnTo>
                            <a:lnTo>
                              <a:pt x="486" y="22"/>
                            </a:lnTo>
                            <a:lnTo>
                              <a:pt x="450" y="26"/>
                            </a:lnTo>
                            <a:lnTo>
                              <a:pt x="419" y="35"/>
                            </a:lnTo>
                            <a:lnTo>
                              <a:pt x="374" y="48"/>
                            </a:lnTo>
                            <a:lnTo>
                              <a:pt x="335" y="61"/>
                            </a:lnTo>
                            <a:lnTo>
                              <a:pt x="295" y="74"/>
                            </a:lnTo>
                            <a:lnTo>
                              <a:pt x="251" y="88"/>
                            </a:lnTo>
                            <a:lnTo>
                              <a:pt x="207" y="102"/>
                            </a:lnTo>
                            <a:lnTo>
                              <a:pt x="176" y="111"/>
                            </a:lnTo>
                            <a:lnTo>
                              <a:pt x="145" y="115"/>
                            </a:lnTo>
                            <a:lnTo>
                              <a:pt x="114" y="128"/>
                            </a:lnTo>
                            <a:lnTo>
                              <a:pt x="79" y="137"/>
                            </a:lnTo>
                            <a:lnTo>
                              <a:pt x="35" y="150"/>
                            </a:lnTo>
                            <a:lnTo>
                              <a:pt x="0" y="164"/>
                            </a:lnTo>
                            <a:lnTo>
                              <a:pt x="13" y="168"/>
                            </a:lnTo>
                            <a:lnTo>
                              <a:pt x="35" y="177"/>
                            </a:lnTo>
                            <a:lnTo>
                              <a:pt x="61" y="181"/>
                            </a:lnTo>
                            <a:lnTo>
                              <a:pt x="97" y="186"/>
                            </a:lnTo>
                            <a:lnTo>
                              <a:pt x="136" y="186"/>
                            </a:lnTo>
                            <a:lnTo>
                              <a:pt x="176" y="181"/>
                            </a:lnTo>
                            <a:lnTo>
                              <a:pt x="185" y="168"/>
                            </a:lnTo>
                            <a:lnTo>
                              <a:pt x="194" y="164"/>
                            </a:lnTo>
                            <a:lnTo>
                              <a:pt x="216" y="150"/>
                            </a:lnTo>
                            <a:lnTo>
                              <a:pt x="255" y="128"/>
                            </a:lnTo>
                            <a:lnTo>
                              <a:pt x="308" y="102"/>
                            </a:lnTo>
                            <a:lnTo>
                              <a:pt x="352" y="83"/>
                            </a:lnTo>
                            <a:lnTo>
                              <a:pt x="411" y="61"/>
                            </a:lnTo>
                            <a:lnTo>
                              <a:pt x="459" y="44"/>
                            </a:lnTo>
                            <a:lnTo>
                              <a:pt x="503" y="30"/>
                            </a:lnTo>
                            <a:lnTo>
                              <a:pt x="538" y="26"/>
                            </a:lnTo>
                            <a:lnTo>
                              <a:pt x="605" y="22"/>
                            </a:lnTo>
                            <a:lnTo>
                              <a:pt x="693" y="22"/>
                            </a:lnTo>
                            <a:lnTo>
                              <a:pt x="794" y="22"/>
                            </a:lnTo>
                            <a:lnTo>
                              <a:pt x="874" y="22"/>
                            </a:lnTo>
                            <a:lnTo>
                              <a:pt x="1002" y="30"/>
                            </a:lnTo>
                            <a:lnTo>
                              <a:pt x="1006" y="142"/>
                            </a:lnTo>
                            <a:lnTo>
                              <a:pt x="1549" y="12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5840" bIns="15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087960" y="3781440"/>
                      <a:ext cx="754560" cy="101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96" h="283">
                          <a:moveTo>
                            <a:pt x="326" y="132"/>
                          </a:moveTo>
                          <a:lnTo>
                            <a:pt x="313" y="177"/>
                          </a:lnTo>
                          <a:lnTo>
                            <a:pt x="313" y="212"/>
                          </a:lnTo>
                          <a:lnTo>
                            <a:pt x="0" y="212"/>
                          </a:lnTo>
                          <a:lnTo>
                            <a:pt x="22" y="230"/>
                          </a:lnTo>
                          <a:lnTo>
                            <a:pt x="8" y="256"/>
                          </a:lnTo>
                          <a:lnTo>
                            <a:pt x="8" y="269"/>
                          </a:lnTo>
                          <a:lnTo>
                            <a:pt x="17" y="278"/>
                          </a:lnTo>
                          <a:lnTo>
                            <a:pt x="198" y="278"/>
                          </a:lnTo>
                          <a:lnTo>
                            <a:pt x="207" y="283"/>
                          </a:lnTo>
                          <a:lnTo>
                            <a:pt x="299" y="283"/>
                          </a:lnTo>
                          <a:lnTo>
                            <a:pt x="313" y="278"/>
                          </a:lnTo>
                          <a:lnTo>
                            <a:pt x="1973" y="278"/>
                          </a:lnTo>
                          <a:lnTo>
                            <a:pt x="2039" y="225"/>
                          </a:lnTo>
                          <a:lnTo>
                            <a:pt x="2087" y="239"/>
                          </a:lnTo>
                          <a:lnTo>
                            <a:pt x="2096" y="105"/>
                          </a:lnTo>
                          <a:lnTo>
                            <a:pt x="1973" y="0"/>
                          </a:lnTo>
                          <a:lnTo>
                            <a:pt x="1774" y="4"/>
                          </a:lnTo>
                          <a:lnTo>
                            <a:pt x="746" y="230"/>
                          </a:lnTo>
                          <a:lnTo>
                            <a:pt x="715" y="203"/>
                          </a:lnTo>
                          <a:lnTo>
                            <a:pt x="688" y="132"/>
                          </a:lnTo>
                          <a:lnTo>
                            <a:pt x="658" y="74"/>
                          </a:lnTo>
                          <a:lnTo>
                            <a:pt x="547" y="30"/>
                          </a:lnTo>
                          <a:lnTo>
                            <a:pt x="445" y="30"/>
                          </a:lnTo>
                          <a:lnTo>
                            <a:pt x="370" y="66"/>
                          </a:lnTo>
                          <a:lnTo>
                            <a:pt x="326" y="132"/>
                          </a:lnTo>
                          <a:close/>
                        </a:path>
                      </a:pathLst>
                    </a:custGeom>
                    <a:solidFill>
                      <a:srgbClr val="ffff66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0760" bIns="50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6087960" y="3738600"/>
                      <a:ext cx="826920" cy="130680"/>
                      <a:chOff x="6087960" y="3738600"/>
                      <a:chExt cx="826920" cy="130680"/>
                    </a:xfrm>
                  </p:grpSpPr>
                  <p:grpSp>
                    <p:nvGrpSpPr>
                      <p:cNvPr id="76" name=""/>
                      <p:cNvGrpSpPr/>
                      <p:nvPr/>
                    </p:nvGrpSpPr>
                    <p:grpSpPr>
                      <a:xfrm>
                        <a:off x="6851520" y="3780000"/>
                        <a:ext cx="63360" cy="88920"/>
                        <a:chOff x="6851520" y="3780000"/>
                        <a:chExt cx="63360" cy="88920"/>
                      </a:xfrm>
                    </p:grpSpPr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877080" y="379404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877080" y="378000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877080" y="378936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>
                          <a:off x="6877800" y="3803040"/>
                          <a:ext cx="18720" cy="16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2" h="47">
                              <a:moveTo>
                                <a:pt x="0" y="0"/>
                              </a:moveTo>
                              <a:lnTo>
                                <a:pt x="0" y="47"/>
                              </a:lnTo>
                              <a:lnTo>
                                <a:pt x="0" y="47"/>
                              </a:lnTo>
                              <a:cubicBezTo>
                                <a:pt x="9" y="47"/>
                                <a:pt x="18" y="45"/>
                                <a:pt x="26" y="41"/>
                              </a:cubicBezTo>
                              <a:cubicBezTo>
                                <a:pt x="34" y="37"/>
                                <a:pt x="40" y="31"/>
                                <a:pt x="45" y="24"/>
                              </a:cubicBezTo>
                              <a:cubicBezTo>
                                <a:pt x="50" y="16"/>
                                <a:pt x="52" y="8"/>
                                <a:pt x="52" y="0"/>
                              </a:cubicBez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4200" bIns="-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1" name=""/>
                        <p:cNvGrpSpPr/>
                        <p:nvPr/>
                      </p:nvGrpSpPr>
                      <p:grpSpPr>
                        <a:xfrm>
                          <a:off x="6851520" y="3843360"/>
                          <a:ext cx="63360" cy="20520"/>
                          <a:chOff x="6851520" y="3843360"/>
                          <a:chExt cx="63360" cy="20520"/>
                        </a:xfrm>
                      </p:grpSpPr>
                      <p:sp>
                        <p:nvSpPr>
                          <p:cNvPr id="82" name=""/>
                          <p:cNvSpPr/>
                          <p:nvPr/>
                        </p:nvSpPr>
                        <p:spPr>
                          <a:xfrm>
                            <a:off x="6851520" y="3843360"/>
                            <a:ext cx="46080" cy="2052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" name=""/>
                          <p:cNvSpPr/>
                          <p:nvPr/>
                        </p:nvSpPr>
                        <p:spPr>
                          <a:xfrm>
                            <a:off x="6894360" y="3843360"/>
                            <a:ext cx="20520" cy="2052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" name=""/>
                        <p:cNvGrpSpPr/>
                        <p:nvPr/>
                      </p:nvGrpSpPr>
                      <p:grpSpPr>
                        <a:xfrm>
                          <a:off x="6851520" y="3849840"/>
                          <a:ext cx="63360" cy="19080"/>
                          <a:chOff x="6851520" y="3849840"/>
                          <a:chExt cx="63360" cy="19080"/>
                        </a:xfrm>
                      </p:grpSpPr>
                      <p:sp>
                        <p:nvSpPr>
                          <p:cNvPr id="85" name=""/>
                          <p:cNvSpPr/>
                          <p:nvPr/>
                        </p:nvSpPr>
                        <p:spPr>
                          <a:xfrm>
                            <a:off x="6851520" y="3849840"/>
                            <a:ext cx="46080" cy="1908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" name=""/>
                          <p:cNvSpPr/>
                          <p:nvPr/>
                        </p:nvSpPr>
                        <p:spPr>
                          <a:xfrm>
                            <a:off x="6894360" y="3849840"/>
                            <a:ext cx="20520" cy="190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" name=""/>
                        <p:cNvGrpSpPr/>
                        <p:nvPr/>
                      </p:nvGrpSpPr>
                      <p:grpSpPr>
                        <a:xfrm>
                          <a:off x="6851520" y="3838680"/>
                          <a:ext cx="63360" cy="20520"/>
                          <a:chOff x="6851520" y="3838680"/>
                          <a:chExt cx="63360" cy="20520"/>
                        </a:xfrm>
                      </p:grpSpPr>
                      <p:sp>
                        <p:nvSpPr>
                          <p:cNvPr id="88" name=""/>
                          <p:cNvSpPr/>
                          <p:nvPr/>
                        </p:nvSpPr>
                        <p:spPr>
                          <a:xfrm>
                            <a:off x="6851520" y="3838680"/>
                            <a:ext cx="46080" cy="2052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>
                            <a:off x="6894360" y="3838680"/>
                            <a:ext cx="20520" cy="2052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6087960" y="3760920"/>
                        <a:ext cx="808560" cy="108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6" h="301">
                            <a:moveTo>
                              <a:pt x="2131" y="0"/>
                            </a:moveTo>
                            <a:lnTo>
                              <a:pt x="2233" y="0"/>
                            </a:lnTo>
                            <a:lnTo>
                              <a:pt x="2246" y="44"/>
                            </a:lnTo>
                            <a:lnTo>
                              <a:pt x="2202" y="44"/>
                            </a:lnTo>
                            <a:lnTo>
                              <a:pt x="2202" y="212"/>
                            </a:lnTo>
                            <a:lnTo>
                              <a:pt x="2114" y="288"/>
                            </a:lnTo>
                            <a:lnTo>
                              <a:pt x="2096" y="297"/>
                            </a:lnTo>
                            <a:lnTo>
                              <a:pt x="2083" y="301"/>
                            </a:lnTo>
                            <a:lnTo>
                              <a:pt x="2083" y="262"/>
                            </a:lnTo>
                            <a:lnTo>
                              <a:pt x="2083" y="217"/>
                            </a:lnTo>
                            <a:lnTo>
                              <a:pt x="2074" y="177"/>
                            </a:lnTo>
                            <a:lnTo>
                              <a:pt x="2061" y="150"/>
                            </a:lnTo>
                            <a:lnTo>
                              <a:pt x="2039" y="124"/>
                            </a:lnTo>
                            <a:lnTo>
                              <a:pt x="2008" y="102"/>
                            </a:lnTo>
                            <a:lnTo>
                              <a:pt x="1973" y="80"/>
                            </a:lnTo>
                            <a:lnTo>
                              <a:pt x="1920" y="70"/>
                            </a:lnTo>
                            <a:lnTo>
                              <a:pt x="1858" y="66"/>
                            </a:lnTo>
                            <a:lnTo>
                              <a:pt x="1809" y="74"/>
                            </a:lnTo>
                            <a:lnTo>
                              <a:pt x="1779" y="89"/>
                            </a:lnTo>
                            <a:lnTo>
                              <a:pt x="1752" y="111"/>
                            </a:lnTo>
                            <a:lnTo>
                              <a:pt x="1717" y="137"/>
                            </a:lnTo>
                            <a:lnTo>
                              <a:pt x="1695" y="168"/>
                            </a:lnTo>
                            <a:lnTo>
                              <a:pt x="1681" y="199"/>
                            </a:lnTo>
                            <a:lnTo>
                              <a:pt x="1676" y="221"/>
                            </a:lnTo>
                            <a:lnTo>
                              <a:pt x="1676" y="284"/>
                            </a:lnTo>
                            <a:lnTo>
                              <a:pt x="697" y="301"/>
                            </a:lnTo>
                            <a:lnTo>
                              <a:pt x="697" y="244"/>
                            </a:lnTo>
                            <a:lnTo>
                              <a:pt x="680" y="203"/>
                            </a:lnTo>
                            <a:lnTo>
                              <a:pt x="666" y="172"/>
                            </a:lnTo>
                            <a:lnTo>
                              <a:pt x="640" y="146"/>
                            </a:lnTo>
                            <a:lnTo>
                              <a:pt x="609" y="120"/>
                            </a:lnTo>
                            <a:lnTo>
                              <a:pt x="574" y="102"/>
                            </a:lnTo>
                            <a:lnTo>
                              <a:pt x="537" y="93"/>
                            </a:lnTo>
                            <a:lnTo>
                              <a:pt x="476" y="93"/>
                            </a:lnTo>
                            <a:lnTo>
                              <a:pt x="440" y="102"/>
                            </a:lnTo>
                            <a:lnTo>
                              <a:pt x="410" y="115"/>
                            </a:lnTo>
                            <a:lnTo>
                              <a:pt x="379" y="133"/>
                            </a:lnTo>
                            <a:lnTo>
                              <a:pt x="352" y="164"/>
                            </a:lnTo>
                            <a:lnTo>
                              <a:pt x="335" y="199"/>
                            </a:lnTo>
                            <a:lnTo>
                              <a:pt x="321" y="235"/>
                            </a:lnTo>
                            <a:lnTo>
                              <a:pt x="321" y="270"/>
                            </a:lnTo>
                            <a:lnTo>
                              <a:pt x="0" y="270"/>
                            </a:lnTo>
                            <a:lnTo>
                              <a:pt x="0" y="257"/>
                            </a:lnTo>
                            <a:lnTo>
                              <a:pt x="8" y="257"/>
                            </a:lnTo>
                            <a:lnTo>
                              <a:pt x="8" y="244"/>
                            </a:lnTo>
                            <a:lnTo>
                              <a:pt x="0" y="240"/>
                            </a:lnTo>
                            <a:lnTo>
                              <a:pt x="0" y="186"/>
                            </a:lnTo>
                            <a:lnTo>
                              <a:pt x="8" y="172"/>
                            </a:lnTo>
                            <a:lnTo>
                              <a:pt x="83" y="137"/>
                            </a:lnTo>
                            <a:lnTo>
                              <a:pt x="163" y="115"/>
                            </a:lnTo>
                            <a:lnTo>
                              <a:pt x="264" y="84"/>
                            </a:lnTo>
                            <a:lnTo>
                              <a:pt x="374" y="61"/>
                            </a:lnTo>
                            <a:lnTo>
                              <a:pt x="471" y="44"/>
                            </a:lnTo>
                            <a:lnTo>
                              <a:pt x="569" y="30"/>
                            </a:lnTo>
                            <a:lnTo>
                              <a:pt x="600" y="30"/>
                            </a:lnTo>
                            <a:lnTo>
                              <a:pt x="622" y="39"/>
                            </a:lnTo>
                            <a:lnTo>
                              <a:pt x="724" y="52"/>
                            </a:lnTo>
                            <a:lnTo>
                              <a:pt x="803" y="57"/>
                            </a:lnTo>
                            <a:lnTo>
                              <a:pt x="1222" y="35"/>
                            </a:lnTo>
                            <a:lnTo>
                              <a:pt x="1420" y="17"/>
                            </a:lnTo>
                            <a:lnTo>
                              <a:pt x="1610" y="4"/>
                            </a:lnTo>
                            <a:lnTo>
                              <a:pt x="1708" y="4"/>
                            </a:lnTo>
                            <a:lnTo>
                              <a:pt x="2131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6407280" y="3767040"/>
                        <a:ext cx="165600" cy="100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279">
                            <a:moveTo>
                              <a:pt x="460" y="0"/>
                            </a:moveTo>
                            <a:lnTo>
                              <a:pt x="460" y="270"/>
                            </a:lnTo>
                            <a:lnTo>
                              <a:pt x="0" y="279"/>
                            </a:lnTo>
                            <a:lnTo>
                              <a:pt x="0" y="26"/>
                            </a:lnTo>
                            <a:lnTo>
                              <a:pt x="61" y="22"/>
                            </a:lnTo>
                            <a:lnTo>
                              <a:pt x="146" y="17"/>
                            </a:lnTo>
                            <a:lnTo>
                              <a:pt x="230" y="13"/>
                            </a:lnTo>
                            <a:lnTo>
                              <a:pt x="283" y="8"/>
                            </a:lnTo>
                            <a:lnTo>
                              <a:pt x="340" y="8"/>
                            </a:lnTo>
                            <a:lnTo>
                              <a:pt x="412" y="0"/>
                            </a:lnTo>
                            <a:lnTo>
                              <a:pt x="460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9320" bIns="49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2" name=""/>
                      <p:cNvGrpSpPr/>
                      <p:nvPr/>
                    </p:nvGrpSpPr>
                    <p:grpSpPr>
                      <a:xfrm>
                        <a:off x="6429240" y="3738600"/>
                        <a:ext cx="284400" cy="113040"/>
                        <a:chOff x="6429240" y="3738600"/>
                        <a:chExt cx="284400" cy="113040"/>
                      </a:xfrm>
                    </p:grpSpPr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6670800" y="3738600"/>
                          <a:ext cx="33480" cy="1764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800000"/>
                          </a:solidFill>
                          <a:round/>
                        </a:ln>
                      </p:spPr>
                      <p:txBody>
                        <a:bodyPr lIns="96120" rIns="9612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6691320" y="3741840"/>
                          <a:ext cx="2232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5" name=""/>
                        <p:cNvGrpSpPr/>
                        <p:nvPr/>
                      </p:nvGrpSpPr>
                      <p:grpSpPr>
                        <a:xfrm>
                          <a:off x="6429240" y="3782880"/>
                          <a:ext cx="170280" cy="68760"/>
                          <a:chOff x="6429240" y="3782880"/>
                          <a:chExt cx="170280" cy="68760"/>
                        </a:xfrm>
                      </p:grpSpPr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>
                            <a:off x="6429240" y="382572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38"/>
                                </a:moveTo>
                                <a:lnTo>
                                  <a:pt x="473" y="72"/>
                                </a:lnTo>
                                <a:lnTo>
                                  <a:pt x="0" y="0"/>
                                </a:lnTo>
                                <a:lnTo>
                                  <a:pt x="473" y="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"/>
                          <p:cNvSpPr/>
                          <p:nvPr/>
                        </p:nvSpPr>
                        <p:spPr>
                          <a:xfrm>
                            <a:off x="6431040" y="3782880"/>
                            <a:ext cx="1684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8" h="72">
                                <a:moveTo>
                                  <a:pt x="468" y="0"/>
                                </a:moveTo>
                                <a:lnTo>
                                  <a:pt x="468" y="29"/>
                                </a:lnTo>
                                <a:lnTo>
                                  <a:pt x="0" y="72"/>
                                </a:lnTo>
                                <a:lnTo>
                                  <a:pt x="4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"/>
                          <p:cNvSpPr/>
                          <p:nvPr/>
                        </p:nvSpPr>
                        <p:spPr>
                          <a:xfrm>
                            <a:off x="6431040" y="3798720"/>
                            <a:ext cx="1684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8" h="72">
                                <a:moveTo>
                                  <a:pt x="468" y="0"/>
                                </a:moveTo>
                                <a:lnTo>
                                  <a:pt x="468" y="42"/>
                                </a:lnTo>
                                <a:lnTo>
                                  <a:pt x="0" y="72"/>
                                </a:lnTo>
                                <a:lnTo>
                                  <a:pt x="4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"/>
                          <p:cNvSpPr/>
                          <p:nvPr/>
                        </p:nvSpPr>
                        <p:spPr>
                          <a:xfrm>
                            <a:off x="6429240" y="381168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0"/>
                                </a:moveTo>
                                <a:lnTo>
                                  <a:pt x="473" y="72"/>
                                </a:lnTo>
                                <a:lnTo>
                                  <a:pt x="0" y="45"/>
                                </a:lnTo>
                                <a:lnTo>
                                  <a:pt x="47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"/>
                          <p:cNvSpPr/>
                          <p:nvPr/>
                        </p:nvSpPr>
                        <p:spPr>
                          <a:xfrm>
                            <a:off x="6429240" y="382428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20"/>
                                </a:moveTo>
                                <a:lnTo>
                                  <a:pt x="473" y="72"/>
                                </a:lnTo>
                                <a:lnTo>
                                  <a:pt x="0" y="0"/>
                                </a:lnTo>
                                <a:lnTo>
                                  <a:pt x="473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6205680" y="3787920"/>
                    <a:ext cx="625320" cy="112680"/>
                    <a:chOff x="6205680" y="3787920"/>
                    <a:chExt cx="625320" cy="11268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6205680" y="3787920"/>
                      <a:ext cx="130320" cy="112680"/>
                      <a:chOff x="6205680" y="3787920"/>
                      <a:chExt cx="130320" cy="11268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6205680" y="3787920"/>
                        <a:ext cx="130320" cy="1126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257880" y="38624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67"/>
                            </a:moveTo>
                            <a:lnTo>
                              <a:pt x="48" y="0"/>
                            </a:lnTo>
                            <a:lnTo>
                              <a:pt x="29" y="0"/>
                            </a:lnTo>
                            <a:lnTo>
                              <a:pt x="0" y="67"/>
                            </a:lnTo>
                            <a:lnTo>
                              <a:pt x="38" y="72"/>
                            </a:lnTo>
                            <a:lnTo>
                              <a:pt x="72" y="67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259680" y="38019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4"/>
                            </a:moveTo>
                            <a:lnTo>
                              <a:pt x="43" y="72"/>
                            </a:lnTo>
                            <a:lnTo>
                              <a:pt x="24" y="72"/>
                            </a:lnTo>
                            <a:lnTo>
                              <a:pt x="0" y="4"/>
                            </a:lnTo>
                            <a:lnTo>
                              <a:pt x="33" y="0"/>
                            </a:lnTo>
                            <a:lnTo>
                              <a:pt x="72" y="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222960" y="3833640"/>
                        <a:ext cx="288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0" h="72">
                            <a:moveTo>
                              <a:pt x="8" y="0"/>
                            </a:moveTo>
                            <a:lnTo>
                              <a:pt x="80" y="33"/>
                            </a:lnTo>
                            <a:lnTo>
                              <a:pt x="80" y="45"/>
                            </a:lnTo>
                            <a:lnTo>
                              <a:pt x="4" y="72"/>
                            </a:lnTo>
                            <a:lnTo>
                              <a:pt x="0" y="39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289560" y="3833640"/>
                        <a:ext cx="306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5" h="72">
                            <a:moveTo>
                              <a:pt x="76" y="0"/>
                            </a:moveTo>
                            <a:lnTo>
                              <a:pt x="0" y="33"/>
                            </a:lnTo>
                            <a:lnTo>
                              <a:pt x="0" y="45"/>
                            </a:lnTo>
                            <a:lnTo>
                              <a:pt x="81" y="72"/>
                            </a:lnTo>
                            <a:lnTo>
                              <a:pt x="85" y="39"/>
                            </a:lnTo>
                            <a:lnTo>
                              <a:pt x="76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6222960" y="3798720"/>
                        <a:ext cx="98280" cy="874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6251400" y="3825720"/>
                        <a:ext cx="38160" cy="34920"/>
                        <a:chOff x="6251400" y="3825720"/>
                        <a:chExt cx="38160" cy="3492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6251400" y="3825720"/>
                          <a:ext cx="38160" cy="3492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6259680" y="3833640"/>
                          <a:ext cx="2376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6702480" y="3787920"/>
                      <a:ext cx="128520" cy="112680"/>
                      <a:chOff x="6702480" y="3787920"/>
                      <a:chExt cx="128520" cy="1126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6702480" y="3787920"/>
                        <a:ext cx="128520" cy="1126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6753240" y="38624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67"/>
                            </a:moveTo>
                            <a:lnTo>
                              <a:pt x="43" y="0"/>
                            </a:lnTo>
                            <a:lnTo>
                              <a:pt x="24" y="0"/>
                            </a:lnTo>
                            <a:lnTo>
                              <a:pt x="0" y="67"/>
                            </a:lnTo>
                            <a:lnTo>
                              <a:pt x="33" y="72"/>
                            </a:lnTo>
                            <a:lnTo>
                              <a:pt x="72" y="67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6754680" y="38019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4"/>
                            </a:moveTo>
                            <a:lnTo>
                              <a:pt x="40" y="72"/>
                            </a:lnTo>
                            <a:lnTo>
                              <a:pt x="27" y="72"/>
                            </a:lnTo>
                            <a:lnTo>
                              <a:pt x="0" y="4"/>
                            </a:lnTo>
                            <a:lnTo>
                              <a:pt x="36" y="0"/>
                            </a:lnTo>
                            <a:lnTo>
                              <a:pt x="72" y="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6719760" y="3833640"/>
                        <a:ext cx="273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6" h="72">
                            <a:moveTo>
                              <a:pt x="4" y="0"/>
                            </a:moveTo>
                            <a:lnTo>
                              <a:pt x="76" y="33"/>
                            </a:lnTo>
                            <a:lnTo>
                              <a:pt x="76" y="45"/>
                            </a:lnTo>
                            <a:lnTo>
                              <a:pt x="4" y="72"/>
                            </a:lnTo>
                            <a:lnTo>
                              <a:pt x="0" y="39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6784920" y="3833640"/>
                        <a:ext cx="288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0" h="72">
                            <a:moveTo>
                              <a:pt x="71" y="0"/>
                            </a:moveTo>
                            <a:lnTo>
                              <a:pt x="0" y="33"/>
                            </a:lnTo>
                            <a:lnTo>
                              <a:pt x="0" y="45"/>
                            </a:lnTo>
                            <a:lnTo>
                              <a:pt x="75" y="72"/>
                            </a:lnTo>
                            <a:lnTo>
                              <a:pt x="80" y="39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6719760" y="3798720"/>
                        <a:ext cx="95400" cy="874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6746760" y="3825720"/>
                        <a:ext cx="38160" cy="34920"/>
                        <a:chOff x="6746760" y="3825720"/>
                        <a:chExt cx="38160" cy="34920"/>
                      </a:xfrm>
                    </p:grpSpPr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6746760" y="3825720"/>
                          <a:ext cx="38160" cy="3492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6754680" y="3833640"/>
                          <a:ext cx="2556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256800" y="3566880"/>
                  <a:ext cx="371880" cy="183960"/>
                  <a:chOff x="6256800" y="3566880"/>
                  <a:chExt cx="371880" cy="1839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3566880"/>
                    <a:ext cx="268200" cy="183960"/>
                  </a:xfrm>
                  <a:custGeom>
                    <a:avLst/>
                    <a:gdLst/>
                    <a:ahLst/>
                    <a:rect l="0" t="0" r="r" b="b"/>
                    <a:pathLst>
                      <a:path w="745" h="511">
                        <a:moveTo>
                          <a:pt x="745" y="426"/>
                        </a:moveTo>
                        <a:lnTo>
                          <a:pt x="693" y="0"/>
                        </a:lnTo>
                        <a:lnTo>
                          <a:pt x="0" y="84"/>
                        </a:lnTo>
                        <a:lnTo>
                          <a:pt x="52" y="511"/>
                        </a:lnTo>
                        <a:lnTo>
                          <a:pt x="745" y="426"/>
                        </a:lnTo>
                        <a:close/>
                      </a:path>
                    </a:pathLst>
                  </a:cu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56800" y="3630600"/>
                    <a:ext cx="120240" cy="92880"/>
                  </a:xfrm>
                  <a:custGeom>
                    <a:avLst/>
                    <a:gdLst/>
                    <a:ahLst/>
                    <a:rect l="0" t="0" r="r" b="b"/>
                    <a:pathLst>
                      <a:path w="334" h="258">
                        <a:moveTo>
                          <a:pt x="334" y="220"/>
                        </a:moveTo>
                        <a:lnTo>
                          <a:pt x="307" y="0"/>
                        </a:lnTo>
                        <a:lnTo>
                          <a:pt x="0" y="37"/>
                        </a:lnTo>
                        <a:lnTo>
                          <a:pt x="26" y="258"/>
                        </a:lnTo>
                        <a:lnTo>
                          <a:pt x="334" y="220"/>
                        </a:lnTo>
                        <a:close/>
                      </a:path>
                    </a:pathLst>
                  </a:cu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" name=""/>
              <p:cNvSpPr/>
              <p:nvPr/>
            </p:nvSpPr>
            <p:spPr>
              <a:xfrm>
                <a:off x="6980400" y="3342600"/>
                <a:ext cx="760680" cy="502920"/>
              </a:xfrm>
              <a:custGeom>
                <a:avLst/>
                <a:gdLst/>
                <a:ahLst/>
                <a:rect l="0" t="0" r="r" b="b"/>
                <a:pathLst>
                  <a:path fill="none" w="2113" h="1397">
                    <a:moveTo>
                      <a:pt x="0" y="1397"/>
                    </a:moveTo>
                    <a:lnTo>
                      <a:pt x="0" y="1397"/>
                    </a:lnTo>
                    <a:cubicBezTo>
                      <a:pt x="371" y="1397"/>
                      <a:pt x="735" y="1332"/>
                      <a:pt x="1057" y="1210"/>
                    </a:cubicBezTo>
                    <a:cubicBezTo>
                      <a:pt x="1378" y="1087"/>
                      <a:pt x="1644" y="911"/>
                      <a:pt x="1830" y="699"/>
                    </a:cubicBezTo>
                    <a:cubicBezTo>
                      <a:pt x="2015" y="486"/>
                      <a:pt x="2113" y="245"/>
                      <a:pt x="2113" y="0"/>
                    </a:cubicBezTo>
                  </a:path>
                </a:pathLst>
              </a:custGeom>
              <a:ln w="38160">
                <a:solidFill>
                  <a:srgbClr val="cc3300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043360" y="2971800"/>
              <a:ext cx="6451920" cy="3530880"/>
              <a:chOff x="2043360" y="2971800"/>
              <a:chExt cx="6451920" cy="35308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2043360" y="2971800"/>
                <a:ext cx="6451920" cy="3530880"/>
                <a:chOff x="2043360" y="2971800"/>
                <a:chExt cx="6451920" cy="35308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2052720" y="3622680"/>
                  <a:ext cx="6442560" cy="2880000"/>
                  <a:chOff x="2052720" y="3622680"/>
                  <a:chExt cx="6442560" cy="28800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764960" y="5468760"/>
                    <a:ext cx="138852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857" h="2717">
                        <a:moveTo>
                          <a:pt x="3857" y="2717"/>
                        </a:moveTo>
                        <a:lnTo>
                          <a:pt x="3857" y="2717"/>
                        </a:lnTo>
                        <a:lnTo>
                          <a:pt x="3857" y="2717"/>
                        </a:lnTo>
                        <a:cubicBezTo>
                          <a:pt x="3857" y="2240"/>
                          <a:pt x="3679" y="1772"/>
                          <a:pt x="3340" y="1358"/>
                        </a:cubicBezTo>
                        <a:cubicBezTo>
                          <a:pt x="3002" y="945"/>
                          <a:pt x="2515" y="602"/>
                          <a:pt x="1928" y="364"/>
                        </a:cubicBezTo>
                        <a:cubicBezTo>
                          <a:pt x="1342" y="126"/>
                          <a:pt x="677" y="0"/>
                          <a:pt x="0" y="0"/>
                        </a:cubicBez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079960" y="5416560"/>
                    <a:ext cx="3407040" cy="1086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64" h="3017">
                        <a:moveTo>
                          <a:pt x="9464" y="3017"/>
                        </a:moveTo>
                        <a:lnTo>
                          <a:pt x="9464" y="3017"/>
                        </a:lnTo>
                        <a:lnTo>
                          <a:pt x="9464" y="3017"/>
                        </a:lnTo>
                        <a:cubicBezTo>
                          <a:pt x="9464" y="2487"/>
                          <a:pt x="9027" y="1967"/>
                          <a:pt x="8196" y="1508"/>
                        </a:cubicBezTo>
                        <a:cubicBezTo>
                          <a:pt x="7365" y="1050"/>
                          <a:pt x="6171" y="669"/>
                          <a:pt x="4732" y="404"/>
                        </a:cubicBezTo>
                        <a:cubicBezTo>
                          <a:pt x="3293" y="139"/>
                          <a:pt x="1661" y="0"/>
                          <a:pt x="0" y="0"/>
                        </a:cubicBez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052720" y="4815000"/>
                    <a:ext cx="6442560" cy="786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896" h="2184">
                        <a:moveTo>
                          <a:pt x="0" y="1823"/>
                        </a:moveTo>
                        <a:lnTo>
                          <a:pt x="216" y="1779"/>
                        </a:lnTo>
                        <a:lnTo>
                          <a:pt x="454" y="1779"/>
                        </a:lnTo>
                        <a:lnTo>
                          <a:pt x="921" y="1779"/>
                        </a:lnTo>
                        <a:lnTo>
                          <a:pt x="1234" y="1779"/>
                        </a:lnTo>
                        <a:lnTo>
                          <a:pt x="1547" y="1748"/>
                        </a:lnTo>
                        <a:lnTo>
                          <a:pt x="1781" y="1748"/>
                        </a:lnTo>
                        <a:lnTo>
                          <a:pt x="1940" y="1748"/>
                        </a:lnTo>
                        <a:lnTo>
                          <a:pt x="2253" y="1748"/>
                        </a:lnTo>
                        <a:lnTo>
                          <a:pt x="2487" y="1779"/>
                        </a:lnTo>
                        <a:lnTo>
                          <a:pt x="2601" y="1779"/>
                        </a:lnTo>
                        <a:lnTo>
                          <a:pt x="2760" y="1814"/>
                        </a:lnTo>
                        <a:lnTo>
                          <a:pt x="3069" y="1849"/>
                        </a:lnTo>
                        <a:lnTo>
                          <a:pt x="3307" y="1880"/>
                        </a:lnTo>
                        <a:lnTo>
                          <a:pt x="3466" y="1951"/>
                        </a:lnTo>
                        <a:lnTo>
                          <a:pt x="3580" y="2017"/>
                        </a:lnTo>
                        <a:lnTo>
                          <a:pt x="3889" y="2048"/>
                        </a:lnTo>
                        <a:lnTo>
                          <a:pt x="3973" y="2048"/>
                        </a:lnTo>
                        <a:lnTo>
                          <a:pt x="4087" y="2048"/>
                        </a:lnTo>
                        <a:lnTo>
                          <a:pt x="4206" y="2048"/>
                        </a:lnTo>
                        <a:lnTo>
                          <a:pt x="4286" y="2083"/>
                        </a:lnTo>
                        <a:lnTo>
                          <a:pt x="4520" y="2083"/>
                        </a:lnTo>
                        <a:lnTo>
                          <a:pt x="4675" y="2114"/>
                        </a:lnTo>
                        <a:lnTo>
                          <a:pt x="4794" y="2114"/>
                        </a:lnTo>
                        <a:lnTo>
                          <a:pt x="5028" y="2114"/>
                        </a:lnTo>
                        <a:lnTo>
                          <a:pt x="5107" y="2114"/>
                        </a:lnTo>
                        <a:lnTo>
                          <a:pt x="5380" y="2184"/>
                        </a:lnTo>
                        <a:lnTo>
                          <a:pt x="5693" y="2184"/>
                        </a:lnTo>
                        <a:lnTo>
                          <a:pt x="5927" y="2114"/>
                        </a:lnTo>
                        <a:lnTo>
                          <a:pt x="6082" y="2048"/>
                        </a:lnTo>
                        <a:lnTo>
                          <a:pt x="6161" y="2017"/>
                        </a:lnTo>
                        <a:lnTo>
                          <a:pt x="6280" y="1981"/>
                        </a:lnTo>
                        <a:lnTo>
                          <a:pt x="6395" y="1915"/>
                        </a:lnTo>
                        <a:lnTo>
                          <a:pt x="6478" y="1915"/>
                        </a:lnTo>
                        <a:lnTo>
                          <a:pt x="6593" y="1880"/>
                        </a:lnTo>
                        <a:lnTo>
                          <a:pt x="7100" y="1915"/>
                        </a:lnTo>
                        <a:lnTo>
                          <a:pt x="7413" y="1849"/>
                        </a:lnTo>
                        <a:lnTo>
                          <a:pt x="7647" y="1779"/>
                        </a:lnTo>
                        <a:lnTo>
                          <a:pt x="7960" y="1712"/>
                        </a:lnTo>
                        <a:lnTo>
                          <a:pt x="8039" y="1646"/>
                        </a:lnTo>
                        <a:lnTo>
                          <a:pt x="8273" y="1614"/>
                        </a:lnTo>
                        <a:lnTo>
                          <a:pt x="8511" y="1579"/>
                        </a:lnTo>
                        <a:lnTo>
                          <a:pt x="8745" y="1544"/>
                        </a:lnTo>
                        <a:lnTo>
                          <a:pt x="8860" y="1513"/>
                        </a:lnTo>
                        <a:lnTo>
                          <a:pt x="8939" y="1442"/>
                        </a:lnTo>
                        <a:lnTo>
                          <a:pt x="9018" y="1407"/>
                        </a:lnTo>
                        <a:lnTo>
                          <a:pt x="9173" y="1341"/>
                        </a:lnTo>
                        <a:lnTo>
                          <a:pt x="9406" y="1275"/>
                        </a:lnTo>
                        <a:lnTo>
                          <a:pt x="9486" y="1209"/>
                        </a:lnTo>
                        <a:lnTo>
                          <a:pt x="9839" y="1107"/>
                        </a:lnTo>
                        <a:lnTo>
                          <a:pt x="10072" y="1041"/>
                        </a:lnTo>
                        <a:lnTo>
                          <a:pt x="10306" y="1006"/>
                        </a:lnTo>
                        <a:lnTo>
                          <a:pt x="10385" y="940"/>
                        </a:lnTo>
                        <a:lnTo>
                          <a:pt x="10544" y="874"/>
                        </a:lnTo>
                        <a:lnTo>
                          <a:pt x="10659" y="807"/>
                        </a:lnTo>
                        <a:lnTo>
                          <a:pt x="10778" y="772"/>
                        </a:lnTo>
                        <a:lnTo>
                          <a:pt x="10932" y="706"/>
                        </a:lnTo>
                        <a:lnTo>
                          <a:pt x="11091" y="636"/>
                        </a:lnTo>
                        <a:lnTo>
                          <a:pt x="11206" y="605"/>
                        </a:lnTo>
                        <a:lnTo>
                          <a:pt x="11325" y="569"/>
                        </a:lnTo>
                        <a:lnTo>
                          <a:pt x="11638" y="502"/>
                        </a:lnTo>
                        <a:lnTo>
                          <a:pt x="11991" y="401"/>
                        </a:lnTo>
                        <a:lnTo>
                          <a:pt x="12224" y="335"/>
                        </a:lnTo>
                        <a:lnTo>
                          <a:pt x="12612" y="264"/>
                        </a:lnTo>
                        <a:lnTo>
                          <a:pt x="12692" y="202"/>
                        </a:lnTo>
                        <a:lnTo>
                          <a:pt x="12850" y="167"/>
                        </a:lnTo>
                        <a:lnTo>
                          <a:pt x="13159" y="132"/>
                        </a:lnTo>
                        <a:lnTo>
                          <a:pt x="13243" y="101"/>
                        </a:lnTo>
                        <a:lnTo>
                          <a:pt x="13358" y="101"/>
                        </a:lnTo>
                        <a:lnTo>
                          <a:pt x="13517" y="66"/>
                        </a:lnTo>
                        <a:lnTo>
                          <a:pt x="13632" y="66"/>
                        </a:lnTo>
                        <a:lnTo>
                          <a:pt x="13751" y="66"/>
                        </a:lnTo>
                        <a:lnTo>
                          <a:pt x="13830" y="66"/>
                        </a:lnTo>
                        <a:lnTo>
                          <a:pt x="14139" y="66"/>
                        </a:lnTo>
                        <a:lnTo>
                          <a:pt x="14218" y="66"/>
                        </a:lnTo>
                        <a:lnTo>
                          <a:pt x="14338" y="66"/>
                        </a:lnTo>
                        <a:lnTo>
                          <a:pt x="14452" y="101"/>
                        </a:lnTo>
                        <a:lnTo>
                          <a:pt x="14805" y="101"/>
                        </a:lnTo>
                        <a:lnTo>
                          <a:pt x="15193" y="101"/>
                        </a:lnTo>
                        <a:lnTo>
                          <a:pt x="15510" y="101"/>
                        </a:lnTo>
                        <a:lnTo>
                          <a:pt x="15824" y="66"/>
                        </a:lnTo>
                        <a:lnTo>
                          <a:pt x="16057" y="66"/>
                        </a:lnTo>
                        <a:lnTo>
                          <a:pt x="16370" y="30"/>
                        </a:lnTo>
                        <a:lnTo>
                          <a:pt x="16604" y="30"/>
                        </a:lnTo>
                        <a:lnTo>
                          <a:pt x="16719" y="30"/>
                        </a:lnTo>
                        <a:lnTo>
                          <a:pt x="16838" y="30"/>
                        </a:lnTo>
                        <a:lnTo>
                          <a:pt x="16917" y="30"/>
                        </a:lnTo>
                        <a:lnTo>
                          <a:pt x="17036" y="0"/>
                        </a:lnTo>
                        <a:lnTo>
                          <a:pt x="17151" y="30"/>
                        </a:lnTo>
                        <a:lnTo>
                          <a:pt x="17230" y="30"/>
                        </a:lnTo>
                        <a:lnTo>
                          <a:pt x="17349" y="30"/>
                        </a:lnTo>
                        <a:lnTo>
                          <a:pt x="17464" y="101"/>
                        </a:lnTo>
                        <a:lnTo>
                          <a:pt x="17583" y="202"/>
                        </a:lnTo>
                        <a:lnTo>
                          <a:pt x="17698" y="264"/>
                        </a:lnTo>
                        <a:lnTo>
                          <a:pt x="17782" y="299"/>
                        </a:lnTo>
                        <a:lnTo>
                          <a:pt x="17896" y="299"/>
                        </a:lnTo>
                        <a:lnTo>
                          <a:pt x="17874" y="313"/>
                        </a:ln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502080" y="3622680"/>
                    <a:ext cx="3092760" cy="1900440"/>
                    <a:chOff x="3502080" y="3622680"/>
                    <a:chExt cx="3092760" cy="190044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568680" y="3622680"/>
                      <a:ext cx="3026160" cy="9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8406" h="2572">
                          <a:moveTo>
                            <a:pt x="0" y="2572"/>
                          </a:moveTo>
                          <a:lnTo>
                            <a:pt x="3502" y="2572"/>
                          </a:lnTo>
                          <a:lnTo>
                            <a:pt x="4904" y="0"/>
                          </a:lnTo>
                          <a:lnTo>
                            <a:pt x="5252" y="0"/>
                          </a:lnTo>
                          <a:lnTo>
                            <a:pt x="4904" y="755"/>
                          </a:lnTo>
                          <a:lnTo>
                            <a:pt x="8406" y="755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502080" y="4654440"/>
                      <a:ext cx="1263960" cy="868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511" h="2413">
                          <a:moveTo>
                            <a:pt x="0" y="0"/>
                          </a:moveTo>
                          <a:lnTo>
                            <a:pt x="3511" y="0"/>
                          </a:lnTo>
                          <a:lnTo>
                            <a:pt x="2108" y="2413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575240" y="3949560"/>
                      <a:ext cx="1957680" cy="1519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438" h="4221">
                          <a:moveTo>
                            <a:pt x="0" y="4221"/>
                          </a:moveTo>
                          <a:lnTo>
                            <a:pt x="2103" y="0"/>
                          </a:lnTo>
                          <a:lnTo>
                            <a:pt x="5438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2557440" y="3733560"/>
                  <a:ext cx="1766880" cy="649800"/>
                  <a:chOff x="2557440" y="3733560"/>
                  <a:chExt cx="1766880" cy="64980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993840" y="3733560"/>
                    <a:ext cx="330480" cy="177120"/>
                    <a:chOff x="3993840" y="3733560"/>
                    <a:chExt cx="330480" cy="17712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993840" y="3733560"/>
                      <a:ext cx="240840" cy="177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9" h="492">
                          <a:moveTo>
                            <a:pt x="618" y="492"/>
                          </a:moveTo>
                          <a:lnTo>
                            <a:pt x="669" y="75"/>
                          </a:lnTo>
                          <a:lnTo>
                            <a:pt x="51" y="0"/>
                          </a:lnTo>
                          <a:lnTo>
                            <a:pt x="0" y="416"/>
                          </a:lnTo>
                          <a:lnTo>
                            <a:pt x="618" y="492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218480" y="3793320"/>
                      <a:ext cx="105840" cy="87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4" h="244">
                          <a:moveTo>
                            <a:pt x="268" y="244"/>
                          </a:moveTo>
                          <a:lnTo>
                            <a:pt x="294" y="32"/>
                          </a:lnTo>
                          <a:lnTo>
                            <a:pt x="25" y="0"/>
                          </a:lnTo>
                          <a:lnTo>
                            <a:pt x="0" y="212"/>
                          </a:lnTo>
                          <a:lnTo>
                            <a:pt x="268" y="244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2557440" y="3895560"/>
                    <a:ext cx="1627560" cy="487800"/>
                    <a:chOff x="2557440" y="3895560"/>
                    <a:chExt cx="1627560" cy="48780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557440" y="3895560"/>
                      <a:ext cx="1627560" cy="487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521" h="1355">
                          <a:moveTo>
                            <a:pt x="0" y="1355"/>
                          </a:moveTo>
                          <a:lnTo>
                            <a:pt x="3617" y="1355"/>
                          </a:lnTo>
                          <a:lnTo>
                            <a:pt x="4521" y="1085"/>
                          </a:lnTo>
                          <a:lnTo>
                            <a:pt x="4521" y="0"/>
                          </a:lnTo>
                          <a:lnTo>
                            <a:pt x="3617" y="270"/>
                          </a:lnTo>
                          <a:lnTo>
                            <a:pt x="3617" y="1355"/>
                          </a:lnTo>
                          <a:lnTo>
                            <a:pt x="3617" y="270"/>
                          </a:lnTo>
                          <a:lnTo>
                            <a:pt x="0" y="270"/>
                          </a:lnTo>
                          <a:lnTo>
                            <a:pt x="903" y="0"/>
                          </a:lnTo>
                          <a:lnTo>
                            <a:pt x="4521" y="0"/>
                          </a:lnTo>
                          <a:lnTo>
                            <a:pt x="903" y="0"/>
                          </a:lnTo>
                          <a:lnTo>
                            <a:pt x="0" y="270"/>
                          </a:lnTo>
                          <a:lnTo>
                            <a:pt x="0" y="1355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670120" y="4064040"/>
                      <a:ext cx="8892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894040" y="4064040"/>
                      <a:ext cx="874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3570120" y="4064040"/>
                      <a:ext cx="856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792600" y="4064040"/>
                      <a:ext cx="874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3119400" y="4167360"/>
                      <a:ext cx="336600" cy="216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4700520" y="2971800"/>
                  <a:ext cx="1389600" cy="651240"/>
                  <a:chOff x="4700520" y="2971800"/>
                  <a:chExt cx="1389600" cy="6512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5459400" y="2971800"/>
                    <a:ext cx="251280" cy="597240"/>
                  </a:xfrm>
                  <a:custGeom>
                    <a:avLst/>
                    <a:gdLst/>
                    <a:ahLst/>
                    <a:rect l="0" t="0" r="r" b="b"/>
                    <a:pathLst>
                      <a:path w="698" h="1659">
                        <a:moveTo>
                          <a:pt x="0" y="1659"/>
                        </a:moveTo>
                        <a:lnTo>
                          <a:pt x="559" y="1659"/>
                        </a:lnTo>
                        <a:lnTo>
                          <a:pt x="698" y="1327"/>
                        </a:lnTo>
                        <a:lnTo>
                          <a:pt x="698" y="0"/>
                        </a:lnTo>
                        <a:lnTo>
                          <a:pt x="559" y="331"/>
                        </a:lnTo>
                        <a:lnTo>
                          <a:pt x="559" y="1659"/>
                        </a:lnTo>
                        <a:lnTo>
                          <a:pt x="559" y="331"/>
                        </a:lnTo>
                        <a:lnTo>
                          <a:pt x="0" y="331"/>
                        </a:lnTo>
                        <a:lnTo>
                          <a:pt x="139" y="0"/>
                        </a:lnTo>
                        <a:lnTo>
                          <a:pt x="698" y="0"/>
                        </a:lnTo>
                        <a:lnTo>
                          <a:pt x="139" y="0"/>
                        </a:lnTo>
                        <a:lnTo>
                          <a:pt x="0" y="331"/>
                        </a:lnTo>
                        <a:lnTo>
                          <a:pt x="0" y="1659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92760" y="3081240"/>
                    <a:ext cx="566640" cy="433440"/>
                  </a:xfrm>
                  <a:prstGeom prst="ellipse">
                    <a:avLst/>
                  </a:prstGeom>
                  <a:blipFill rotWithShape="0">
                    <a:blip r:embed="rId5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700520" y="3351240"/>
                    <a:ext cx="138960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860" h="755">
                        <a:moveTo>
                          <a:pt x="0" y="755"/>
                        </a:moveTo>
                        <a:lnTo>
                          <a:pt x="3088" y="755"/>
                        </a:lnTo>
                        <a:lnTo>
                          <a:pt x="3860" y="604"/>
                        </a:lnTo>
                        <a:lnTo>
                          <a:pt x="3860" y="0"/>
                        </a:lnTo>
                        <a:lnTo>
                          <a:pt x="3088" y="150"/>
                        </a:lnTo>
                        <a:lnTo>
                          <a:pt x="3088" y="755"/>
                        </a:lnTo>
                        <a:lnTo>
                          <a:pt x="3088" y="150"/>
                        </a:lnTo>
                        <a:lnTo>
                          <a:pt x="0" y="150"/>
                        </a:lnTo>
                        <a:lnTo>
                          <a:pt x="771" y="0"/>
                        </a:lnTo>
                        <a:lnTo>
                          <a:pt x="3860" y="0"/>
                        </a:lnTo>
                        <a:lnTo>
                          <a:pt x="771" y="0"/>
                        </a:lnTo>
                        <a:lnTo>
                          <a:pt x="0" y="150"/>
                        </a:lnTo>
                        <a:lnTo>
                          <a:pt x="0" y="75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89276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01804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14368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270400" y="3460680"/>
                    <a:ext cx="6048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394240" y="3460680"/>
                    <a:ext cx="6516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522760" y="3460680"/>
                    <a:ext cx="6048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64840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77548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018040" y="3568680"/>
                    <a:ext cx="18720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522760" y="3568680"/>
                    <a:ext cx="18720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5307480" y="4059720"/>
                  <a:ext cx="1036440" cy="759960"/>
                  <a:chOff x="5307480" y="4059720"/>
                  <a:chExt cx="1036440" cy="75996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5327640" y="4221000"/>
                    <a:ext cx="1016280" cy="598680"/>
                    <a:chOff x="5327640" y="4221000"/>
                    <a:chExt cx="1016280" cy="5986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5327640" y="4221000"/>
                      <a:ext cx="1016280" cy="598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23" h="1663">
                          <a:moveTo>
                            <a:pt x="0" y="1663"/>
                          </a:moveTo>
                          <a:lnTo>
                            <a:pt x="2258" y="1663"/>
                          </a:lnTo>
                          <a:lnTo>
                            <a:pt x="2823" y="1330"/>
                          </a:lnTo>
                          <a:lnTo>
                            <a:pt x="2823" y="0"/>
                          </a:lnTo>
                          <a:lnTo>
                            <a:pt x="2258" y="332"/>
                          </a:lnTo>
                          <a:lnTo>
                            <a:pt x="2258" y="1663"/>
                          </a:lnTo>
                          <a:lnTo>
                            <a:pt x="2258" y="332"/>
                          </a:lnTo>
                          <a:lnTo>
                            <a:pt x="0" y="332"/>
                          </a:lnTo>
                          <a:lnTo>
                            <a:pt x="564" y="0"/>
                          </a:lnTo>
                          <a:lnTo>
                            <a:pt x="2823" y="0"/>
                          </a:lnTo>
                          <a:lnTo>
                            <a:pt x="564" y="0"/>
                          </a:lnTo>
                          <a:lnTo>
                            <a:pt x="0" y="332"/>
                          </a:lnTo>
                          <a:lnTo>
                            <a:pt x="0" y="1663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489640" y="4443480"/>
                      <a:ext cx="8748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703840" y="4443480"/>
                      <a:ext cx="8424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916600" y="4443480"/>
                      <a:ext cx="8424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5307480" y="4059720"/>
                    <a:ext cx="315000" cy="176040"/>
                    <a:chOff x="5307480" y="4059720"/>
                    <a:chExt cx="315000" cy="17604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392440" y="4059720"/>
                      <a:ext cx="230040" cy="17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9" h="489">
                          <a:moveTo>
                            <a:pt x="639" y="417"/>
                          </a:moveTo>
                          <a:lnTo>
                            <a:pt x="588" y="0"/>
                          </a:lnTo>
                          <a:lnTo>
                            <a:pt x="0" y="72"/>
                          </a:lnTo>
                          <a:lnTo>
                            <a:pt x="51" y="489"/>
                          </a:lnTo>
                          <a:lnTo>
                            <a:pt x="639" y="417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307480" y="4119120"/>
                      <a:ext cx="99360" cy="87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76" h="242">
                          <a:moveTo>
                            <a:pt x="276" y="212"/>
                          </a:moveTo>
                          <a:lnTo>
                            <a:pt x="250" y="0"/>
                          </a:lnTo>
                          <a:lnTo>
                            <a:pt x="0" y="30"/>
                          </a:lnTo>
                          <a:lnTo>
                            <a:pt x="25" y="242"/>
                          </a:lnTo>
                          <a:lnTo>
                            <a:pt x="276" y="212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6000" bIns="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043360" y="4925520"/>
                  <a:ext cx="2276640" cy="381960"/>
                  <a:chOff x="2043360" y="4925520"/>
                  <a:chExt cx="2276640" cy="3819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3495600" y="4925520"/>
                    <a:ext cx="824400" cy="327600"/>
                    <a:chOff x="3495600" y="4925520"/>
                    <a:chExt cx="824400" cy="32760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3495600" y="5072040"/>
                      <a:ext cx="824400" cy="181080"/>
                      <a:chOff x="3495600" y="5072040"/>
                      <a:chExt cx="824400" cy="18108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3495600" y="5072040"/>
                        <a:ext cx="824400" cy="163800"/>
                        <a:chOff x="3495600" y="5072040"/>
                        <a:chExt cx="824400" cy="16380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3551400" y="5072040"/>
                          <a:ext cx="555840" cy="66960"/>
                          <a:chOff x="3551400" y="5072040"/>
                          <a:chExt cx="555840" cy="669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3747960" y="5078520"/>
                            <a:ext cx="295560" cy="59040"/>
                            <a:chOff x="3747960" y="5078520"/>
                            <a:chExt cx="295560" cy="5904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3813120" y="5081760"/>
                              <a:ext cx="187920" cy="51120"/>
                              <a:chOff x="3813120" y="5081760"/>
                              <a:chExt cx="187920" cy="5112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3813120" y="5081760"/>
                                <a:ext cx="32040" cy="39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9" h="111">
                                    <a:moveTo>
                                      <a:pt x="0" y="0"/>
                                    </a:moveTo>
                                    <a:lnTo>
                                      <a:pt x="58" y="111"/>
                                    </a:lnTo>
                                    <a:lnTo>
                                      <a:pt x="89" y="111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11160" bIns="-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3973680" y="5105520"/>
                                <a:ext cx="27360" cy="273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76" h="76">
                                    <a:moveTo>
                                      <a:pt x="23" y="8"/>
                                    </a:moveTo>
                                    <a:lnTo>
                                      <a:pt x="23" y="4"/>
                                    </a:lnTo>
                                    <a:lnTo>
                                      <a:pt x="76" y="76"/>
                                    </a:lnTo>
                                    <a:lnTo>
                                      <a:pt x="53" y="7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23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3760" bIns="-23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>
                              <a:off x="3747960" y="5078520"/>
                              <a:ext cx="295560" cy="5904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821" h="164">
                                  <a:moveTo>
                                    <a:pt x="4" y="22"/>
                                  </a:moveTo>
                                  <a:lnTo>
                                    <a:pt x="79" y="17"/>
                                  </a:lnTo>
                                  <a:lnTo>
                                    <a:pt x="141" y="17"/>
                                  </a:lnTo>
                                  <a:lnTo>
                                    <a:pt x="220" y="17"/>
                                  </a:lnTo>
                                  <a:lnTo>
                                    <a:pt x="295" y="17"/>
                                  </a:lnTo>
                                  <a:lnTo>
                                    <a:pt x="374" y="17"/>
                                  </a:lnTo>
                                  <a:lnTo>
                                    <a:pt x="455" y="17"/>
                                  </a:lnTo>
                                  <a:lnTo>
                                    <a:pt x="486" y="22"/>
                                  </a:lnTo>
                                  <a:lnTo>
                                    <a:pt x="516" y="26"/>
                                  </a:lnTo>
                                  <a:lnTo>
                                    <a:pt x="552" y="39"/>
                                  </a:lnTo>
                                  <a:lnTo>
                                    <a:pt x="578" y="48"/>
                                  </a:lnTo>
                                  <a:lnTo>
                                    <a:pt x="697" y="106"/>
                                  </a:lnTo>
                                  <a:lnTo>
                                    <a:pt x="759" y="128"/>
                                  </a:lnTo>
                                  <a:lnTo>
                                    <a:pt x="794" y="146"/>
                                  </a:lnTo>
                                  <a:lnTo>
                                    <a:pt x="763" y="146"/>
                                  </a:lnTo>
                                  <a:lnTo>
                                    <a:pt x="0" y="93"/>
                                  </a:lnTo>
                                  <a:lnTo>
                                    <a:pt x="0" y="111"/>
                                  </a:lnTo>
                                  <a:lnTo>
                                    <a:pt x="799" y="164"/>
                                  </a:lnTo>
                                  <a:lnTo>
                                    <a:pt x="821" y="159"/>
                                  </a:lnTo>
                                  <a:lnTo>
                                    <a:pt x="812" y="146"/>
                                  </a:lnTo>
                                  <a:lnTo>
                                    <a:pt x="790" y="128"/>
                                  </a:lnTo>
                                  <a:lnTo>
                                    <a:pt x="733" y="106"/>
                                  </a:lnTo>
                                  <a:lnTo>
                                    <a:pt x="693" y="84"/>
                                  </a:lnTo>
                                  <a:lnTo>
                                    <a:pt x="587" y="35"/>
                                  </a:lnTo>
                                  <a:lnTo>
                                    <a:pt x="538" y="17"/>
                                  </a:lnTo>
                                  <a:lnTo>
                                    <a:pt x="494" y="8"/>
                                  </a:lnTo>
                                  <a:lnTo>
                                    <a:pt x="388" y="0"/>
                                  </a:lnTo>
                                  <a:lnTo>
                                    <a:pt x="242" y="0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txBody>
                            <a:bodyPr lIns="96120" rIns="96120" tIns="7920" bIns="7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>
                            <a:off x="3551400" y="5072040"/>
                            <a:ext cx="555840" cy="66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544" h="186">
                                <a:moveTo>
                                  <a:pt x="0" y="120"/>
                                </a:moveTo>
                                <a:lnTo>
                                  <a:pt x="57" y="115"/>
                                </a:lnTo>
                                <a:lnTo>
                                  <a:pt x="105" y="106"/>
                                </a:lnTo>
                                <a:lnTo>
                                  <a:pt x="136" y="98"/>
                                </a:lnTo>
                                <a:lnTo>
                                  <a:pt x="158" y="92"/>
                                </a:lnTo>
                                <a:lnTo>
                                  <a:pt x="194" y="83"/>
                                </a:lnTo>
                                <a:lnTo>
                                  <a:pt x="220" y="74"/>
                                </a:lnTo>
                                <a:lnTo>
                                  <a:pt x="255" y="66"/>
                                </a:lnTo>
                                <a:lnTo>
                                  <a:pt x="282" y="66"/>
                                </a:lnTo>
                                <a:lnTo>
                                  <a:pt x="313" y="57"/>
                                </a:lnTo>
                                <a:lnTo>
                                  <a:pt x="339" y="57"/>
                                </a:lnTo>
                                <a:lnTo>
                                  <a:pt x="366" y="52"/>
                                </a:lnTo>
                                <a:lnTo>
                                  <a:pt x="396" y="44"/>
                                </a:lnTo>
                                <a:lnTo>
                                  <a:pt x="427" y="44"/>
                                </a:lnTo>
                                <a:lnTo>
                                  <a:pt x="454" y="39"/>
                                </a:lnTo>
                                <a:lnTo>
                                  <a:pt x="480" y="30"/>
                                </a:lnTo>
                                <a:lnTo>
                                  <a:pt x="502" y="22"/>
                                </a:lnTo>
                                <a:lnTo>
                                  <a:pt x="515" y="8"/>
                                </a:lnTo>
                                <a:lnTo>
                                  <a:pt x="555" y="8"/>
                                </a:lnTo>
                                <a:lnTo>
                                  <a:pt x="604" y="8"/>
                                </a:lnTo>
                                <a:lnTo>
                                  <a:pt x="657" y="4"/>
                                </a:lnTo>
                                <a:lnTo>
                                  <a:pt x="701" y="4"/>
                                </a:lnTo>
                                <a:lnTo>
                                  <a:pt x="762" y="0"/>
                                </a:lnTo>
                                <a:lnTo>
                                  <a:pt x="825" y="0"/>
                                </a:lnTo>
                                <a:lnTo>
                                  <a:pt x="882" y="0"/>
                                </a:lnTo>
                                <a:lnTo>
                                  <a:pt x="927" y="0"/>
                                </a:lnTo>
                                <a:lnTo>
                                  <a:pt x="975" y="4"/>
                                </a:lnTo>
                                <a:lnTo>
                                  <a:pt x="1028" y="8"/>
                                </a:lnTo>
                                <a:lnTo>
                                  <a:pt x="1063" y="17"/>
                                </a:lnTo>
                                <a:lnTo>
                                  <a:pt x="1094" y="26"/>
                                </a:lnTo>
                                <a:lnTo>
                                  <a:pt x="1129" y="35"/>
                                </a:lnTo>
                                <a:lnTo>
                                  <a:pt x="1169" y="44"/>
                                </a:lnTo>
                                <a:lnTo>
                                  <a:pt x="1209" y="57"/>
                                </a:lnTo>
                                <a:lnTo>
                                  <a:pt x="1248" y="70"/>
                                </a:lnTo>
                                <a:lnTo>
                                  <a:pt x="1293" y="83"/>
                                </a:lnTo>
                                <a:lnTo>
                                  <a:pt x="1337" y="98"/>
                                </a:lnTo>
                                <a:lnTo>
                                  <a:pt x="1368" y="106"/>
                                </a:lnTo>
                                <a:lnTo>
                                  <a:pt x="1398" y="115"/>
                                </a:lnTo>
                                <a:lnTo>
                                  <a:pt x="1429" y="124"/>
                                </a:lnTo>
                                <a:lnTo>
                                  <a:pt x="1465" y="133"/>
                                </a:lnTo>
                                <a:lnTo>
                                  <a:pt x="1509" y="146"/>
                                </a:lnTo>
                                <a:lnTo>
                                  <a:pt x="1544" y="159"/>
                                </a:lnTo>
                                <a:lnTo>
                                  <a:pt x="1531" y="168"/>
                                </a:lnTo>
                                <a:lnTo>
                                  <a:pt x="1509" y="172"/>
                                </a:lnTo>
                                <a:lnTo>
                                  <a:pt x="1482" y="181"/>
                                </a:lnTo>
                                <a:lnTo>
                                  <a:pt x="1447" y="186"/>
                                </a:lnTo>
                                <a:lnTo>
                                  <a:pt x="1407" y="186"/>
                                </a:lnTo>
                                <a:lnTo>
                                  <a:pt x="1368" y="181"/>
                                </a:lnTo>
                                <a:lnTo>
                                  <a:pt x="1359" y="168"/>
                                </a:lnTo>
                                <a:lnTo>
                                  <a:pt x="1350" y="159"/>
                                </a:lnTo>
                                <a:lnTo>
                                  <a:pt x="1328" y="146"/>
                                </a:lnTo>
                                <a:lnTo>
                                  <a:pt x="1288" y="128"/>
                                </a:lnTo>
                                <a:lnTo>
                                  <a:pt x="1235" y="102"/>
                                </a:lnTo>
                                <a:lnTo>
                                  <a:pt x="1191" y="79"/>
                                </a:lnTo>
                                <a:lnTo>
                                  <a:pt x="1134" y="57"/>
                                </a:lnTo>
                                <a:lnTo>
                                  <a:pt x="1090" y="44"/>
                                </a:lnTo>
                                <a:lnTo>
                                  <a:pt x="1046" y="30"/>
                                </a:lnTo>
                                <a:lnTo>
                                  <a:pt x="1006" y="26"/>
                                </a:lnTo>
                                <a:lnTo>
                                  <a:pt x="940" y="17"/>
                                </a:lnTo>
                                <a:lnTo>
                                  <a:pt x="856" y="17"/>
                                </a:lnTo>
                                <a:lnTo>
                                  <a:pt x="749" y="22"/>
                                </a:lnTo>
                                <a:lnTo>
                                  <a:pt x="670" y="22"/>
                                </a:lnTo>
                                <a:lnTo>
                                  <a:pt x="546" y="30"/>
                                </a:lnTo>
                                <a:lnTo>
                                  <a:pt x="537" y="137"/>
                                </a:lnTo>
                                <a:lnTo>
                                  <a:pt x="0" y="1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15840" bIns="15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3570120" y="5137200"/>
                          <a:ext cx="749520" cy="98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082" h="274">
                              <a:moveTo>
                                <a:pt x="1760" y="127"/>
                              </a:moveTo>
                              <a:lnTo>
                                <a:pt x="1773" y="168"/>
                              </a:lnTo>
                              <a:lnTo>
                                <a:pt x="1773" y="203"/>
                              </a:lnTo>
                              <a:lnTo>
                                <a:pt x="2082" y="203"/>
                              </a:lnTo>
                              <a:lnTo>
                                <a:pt x="2060" y="225"/>
                              </a:lnTo>
                              <a:lnTo>
                                <a:pt x="2073" y="247"/>
                              </a:lnTo>
                              <a:lnTo>
                                <a:pt x="2073" y="261"/>
                              </a:lnTo>
                              <a:lnTo>
                                <a:pt x="2064" y="269"/>
                              </a:lnTo>
                              <a:lnTo>
                                <a:pt x="1883" y="269"/>
                              </a:lnTo>
                              <a:lnTo>
                                <a:pt x="1875" y="274"/>
                              </a:lnTo>
                              <a:lnTo>
                                <a:pt x="1782" y="274"/>
                              </a:lnTo>
                              <a:lnTo>
                                <a:pt x="1769" y="269"/>
                              </a:lnTo>
                              <a:lnTo>
                                <a:pt x="123" y="269"/>
                              </a:lnTo>
                              <a:lnTo>
                                <a:pt x="57" y="217"/>
                              </a:lnTo>
                              <a:lnTo>
                                <a:pt x="8" y="234"/>
                              </a:lnTo>
                              <a:lnTo>
                                <a:pt x="0" y="101"/>
                              </a:lnTo>
                              <a:lnTo>
                                <a:pt x="123" y="0"/>
                              </a:lnTo>
                              <a:lnTo>
                                <a:pt x="321" y="4"/>
                              </a:lnTo>
                              <a:lnTo>
                                <a:pt x="1341" y="225"/>
                              </a:lnTo>
                              <a:lnTo>
                                <a:pt x="1372" y="199"/>
                              </a:lnTo>
                              <a:lnTo>
                                <a:pt x="1398" y="127"/>
                              </a:lnTo>
                              <a:lnTo>
                                <a:pt x="1429" y="70"/>
                              </a:lnTo>
                              <a:lnTo>
                                <a:pt x="1539" y="26"/>
                              </a:lnTo>
                              <a:lnTo>
                                <a:pt x="1637" y="26"/>
                              </a:lnTo>
                              <a:lnTo>
                                <a:pt x="1716" y="61"/>
                              </a:lnTo>
                              <a:lnTo>
                                <a:pt x="1760" y="1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47520" bIns="47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3495600" y="5094360"/>
                          <a:ext cx="824400" cy="127080"/>
                          <a:chOff x="3495600" y="5094360"/>
                          <a:chExt cx="824400" cy="127080"/>
                        </a:xfrm>
                      </p:grpSpPr>
                      <p:grpSp>
                        <p:nvGrpSpPr>
                          <p:cNvPr id="183" name=""/>
                          <p:cNvGrpSpPr/>
                          <p:nvPr/>
                        </p:nvGrpSpPr>
                        <p:grpSpPr>
                          <a:xfrm>
                            <a:off x="3495600" y="5135400"/>
                            <a:ext cx="63720" cy="86040"/>
                            <a:chOff x="3495600" y="5135400"/>
                            <a:chExt cx="63720" cy="86040"/>
                          </a:xfrm>
                        </p:grpSpPr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3511440" y="5149800"/>
                              <a:ext cx="22320" cy="1908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" name=""/>
                            <p:cNvSpPr/>
                            <p:nvPr/>
                          </p:nvSpPr>
                          <p:spPr>
                            <a:xfrm>
                              <a:off x="3511440" y="5135400"/>
                              <a:ext cx="22320" cy="1584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5280" bIns="-35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" name=""/>
                            <p:cNvSpPr/>
                            <p:nvPr/>
                          </p:nvSpPr>
                          <p:spPr>
                            <a:xfrm>
                              <a:off x="3511440" y="5143680"/>
                              <a:ext cx="22320" cy="2052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0600" bIns="-306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" name=""/>
                            <p:cNvSpPr/>
                            <p:nvPr/>
                          </p:nvSpPr>
                          <p:spPr>
                            <a:xfrm>
                              <a:off x="3511440" y="5155560"/>
                              <a:ext cx="19440" cy="169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54" h="47">
                                  <a:moveTo>
                                    <a:pt x="54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0" y="0"/>
                                  </a:lnTo>
                                  <a:cubicBezTo>
                                    <a:pt x="0" y="8"/>
                                    <a:pt x="2" y="16"/>
                                    <a:pt x="7" y="24"/>
                                  </a:cubicBezTo>
                                  <a:cubicBezTo>
                                    <a:pt x="12" y="31"/>
                                    <a:pt x="19" y="37"/>
                                    <a:pt x="27" y="41"/>
                                  </a:cubicBezTo>
                                  <a:cubicBezTo>
                                    <a:pt x="35" y="45"/>
                                    <a:pt x="45" y="47"/>
                                    <a:pt x="54" y="47"/>
                                  </a:cubicBezTo>
                                  <a:lnTo>
                                    <a:pt x="5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4200" bIns="-34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"/>
                            <p:cNvGrpSpPr/>
                            <p:nvPr/>
                          </p:nvGrpSpPr>
                          <p:grpSpPr>
                            <a:xfrm>
                              <a:off x="3495600" y="5199120"/>
                              <a:ext cx="63720" cy="15840"/>
                              <a:chOff x="3495600" y="5199120"/>
                              <a:chExt cx="63720" cy="15840"/>
                            </a:xfrm>
                          </p:grpSpPr>
                          <p:sp>
                            <p:nvSpPr>
                              <p:cNvPr id="189" name=""/>
                              <p:cNvSpPr/>
                              <p:nvPr/>
                            </p:nvSpPr>
                            <p:spPr>
                              <a:xfrm>
                                <a:off x="3510000" y="5199120"/>
                                <a:ext cx="49320" cy="158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5280" bIns="-35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" name=""/>
                              <p:cNvSpPr/>
                              <p:nvPr/>
                            </p:nvSpPr>
                            <p:spPr>
                              <a:xfrm>
                                <a:off x="3495600" y="5199120"/>
                                <a:ext cx="20520" cy="15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5280" bIns="-35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1" name=""/>
                            <p:cNvGrpSpPr/>
                            <p:nvPr/>
                          </p:nvGrpSpPr>
                          <p:grpSpPr>
                            <a:xfrm>
                              <a:off x="3495600" y="5207040"/>
                              <a:ext cx="63720" cy="14400"/>
                              <a:chOff x="3495600" y="5207040"/>
                              <a:chExt cx="63720" cy="14400"/>
                            </a:xfrm>
                          </p:grpSpPr>
                          <p:sp>
                            <p:nvSpPr>
                              <p:cNvPr id="192" name=""/>
                              <p:cNvSpPr/>
                              <p:nvPr/>
                            </p:nvSpPr>
                            <p:spPr>
                              <a:xfrm>
                                <a:off x="3510000" y="5207040"/>
                                <a:ext cx="49320" cy="14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6720" bIns="-36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"/>
                              <p:cNvSpPr/>
                              <p:nvPr/>
                            </p:nvSpPr>
                            <p:spPr>
                              <a:xfrm>
                                <a:off x="3495600" y="5207040"/>
                                <a:ext cx="20520" cy="144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6720" bIns="-36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4" name=""/>
                            <p:cNvGrpSpPr/>
                            <p:nvPr/>
                          </p:nvGrpSpPr>
                          <p:grpSpPr>
                            <a:xfrm>
                              <a:off x="3495600" y="5191200"/>
                              <a:ext cx="63720" cy="20520"/>
                              <a:chOff x="3495600" y="5191200"/>
                              <a:chExt cx="63720" cy="20520"/>
                            </a:xfrm>
                          </p:grpSpPr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>
                                <a:off x="3510000" y="5191200"/>
                                <a:ext cx="49320" cy="205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0600" bIns="-30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"/>
                              <p:cNvSpPr/>
                              <p:nvPr/>
                            </p:nvSpPr>
                            <p:spPr>
                              <a:xfrm>
                                <a:off x="3495600" y="5191200"/>
                                <a:ext cx="20520" cy="20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0600" bIns="-30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>
                            <a:off x="3513240" y="5113440"/>
                            <a:ext cx="806760" cy="106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41" h="296">
                                <a:moveTo>
                                  <a:pt x="114" y="0"/>
                                </a:moveTo>
                                <a:lnTo>
                                  <a:pt x="13" y="0"/>
                                </a:lnTo>
                                <a:lnTo>
                                  <a:pt x="0" y="44"/>
                                </a:lnTo>
                                <a:lnTo>
                                  <a:pt x="44" y="44"/>
                                </a:lnTo>
                                <a:lnTo>
                                  <a:pt x="44" y="212"/>
                                </a:lnTo>
                                <a:lnTo>
                                  <a:pt x="132" y="283"/>
                                </a:lnTo>
                                <a:lnTo>
                                  <a:pt x="149" y="292"/>
                                </a:lnTo>
                                <a:lnTo>
                                  <a:pt x="163" y="296"/>
                                </a:lnTo>
                                <a:lnTo>
                                  <a:pt x="163" y="256"/>
                                </a:lnTo>
                                <a:lnTo>
                                  <a:pt x="158" y="212"/>
                                </a:lnTo>
                                <a:lnTo>
                                  <a:pt x="171" y="177"/>
                                </a:lnTo>
                                <a:lnTo>
                                  <a:pt x="185" y="145"/>
                                </a:lnTo>
                                <a:lnTo>
                                  <a:pt x="207" y="119"/>
                                </a:lnTo>
                                <a:lnTo>
                                  <a:pt x="238" y="97"/>
                                </a:lnTo>
                                <a:lnTo>
                                  <a:pt x="273" y="79"/>
                                </a:lnTo>
                                <a:lnTo>
                                  <a:pt x="326" y="70"/>
                                </a:lnTo>
                                <a:lnTo>
                                  <a:pt x="388" y="61"/>
                                </a:lnTo>
                                <a:lnTo>
                                  <a:pt x="436" y="74"/>
                                </a:lnTo>
                                <a:lnTo>
                                  <a:pt x="467" y="88"/>
                                </a:lnTo>
                                <a:lnTo>
                                  <a:pt x="493" y="105"/>
                                </a:lnTo>
                                <a:lnTo>
                                  <a:pt x="524" y="136"/>
                                </a:lnTo>
                                <a:lnTo>
                                  <a:pt x="546" y="164"/>
                                </a:lnTo>
                                <a:lnTo>
                                  <a:pt x="564" y="195"/>
                                </a:lnTo>
                                <a:lnTo>
                                  <a:pt x="564" y="221"/>
                                </a:lnTo>
                                <a:lnTo>
                                  <a:pt x="564" y="278"/>
                                </a:lnTo>
                                <a:lnTo>
                                  <a:pt x="1548" y="296"/>
                                </a:lnTo>
                                <a:lnTo>
                                  <a:pt x="1548" y="239"/>
                                </a:lnTo>
                                <a:lnTo>
                                  <a:pt x="1562" y="199"/>
                                </a:lnTo>
                                <a:lnTo>
                                  <a:pt x="1575" y="172"/>
                                </a:lnTo>
                                <a:lnTo>
                                  <a:pt x="1601" y="141"/>
                                </a:lnTo>
                                <a:lnTo>
                                  <a:pt x="1632" y="119"/>
                                </a:lnTo>
                                <a:lnTo>
                                  <a:pt x="1672" y="101"/>
                                </a:lnTo>
                                <a:lnTo>
                                  <a:pt x="1703" y="92"/>
                                </a:lnTo>
                                <a:lnTo>
                                  <a:pt x="1764" y="92"/>
                                </a:lnTo>
                                <a:lnTo>
                                  <a:pt x="1800" y="97"/>
                                </a:lnTo>
                                <a:lnTo>
                                  <a:pt x="1831" y="110"/>
                                </a:lnTo>
                                <a:lnTo>
                                  <a:pt x="1861" y="132"/>
                                </a:lnTo>
                                <a:lnTo>
                                  <a:pt x="1888" y="159"/>
                                </a:lnTo>
                                <a:lnTo>
                                  <a:pt x="1910" y="195"/>
                                </a:lnTo>
                                <a:lnTo>
                                  <a:pt x="1919" y="230"/>
                                </a:lnTo>
                                <a:lnTo>
                                  <a:pt x="1919" y="269"/>
                                </a:lnTo>
                                <a:lnTo>
                                  <a:pt x="2241" y="269"/>
                                </a:lnTo>
                                <a:lnTo>
                                  <a:pt x="2241" y="256"/>
                                </a:lnTo>
                                <a:lnTo>
                                  <a:pt x="2232" y="256"/>
                                </a:lnTo>
                                <a:lnTo>
                                  <a:pt x="2232" y="239"/>
                                </a:lnTo>
                                <a:lnTo>
                                  <a:pt x="2241" y="234"/>
                                </a:lnTo>
                                <a:lnTo>
                                  <a:pt x="2241" y="181"/>
                                </a:lnTo>
                                <a:lnTo>
                                  <a:pt x="2232" y="172"/>
                                </a:lnTo>
                                <a:lnTo>
                                  <a:pt x="2157" y="136"/>
                                </a:lnTo>
                                <a:lnTo>
                                  <a:pt x="2077" y="110"/>
                                </a:lnTo>
                                <a:lnTo>
                                  <a:pt x="1976" y="83"/>
                                </a:lnTo>
                                <a:lnTo>
                                  <a:pt x="1866" y="61"/>
                                </a:lnTo>
                                <a:lnTo>
                                  <a:pt x="1769" y="44"/>
                                </a:lnTo>
                                <a:lnTo>
                                  <a:pt x="1676" y="26"/>
                                </a:lnTo>
                                <a:lnTo>
                                  <a:pt x="1641" y="26"/>
                                </a:lnTo>
                                <a:lnTo>
                                  <a:pt x="1619" y="39"/>
                                </a:lnTo>
                                <a:lnTo>
                                  <a:pt x="1522" y="52"/>
                                </a:lnTo>
                                <a:lnTo>
                                  <a:pt x="1442" y="57"/>
                                </a:lnTo>
                                <a:lnTo>
                                  <a:pt x="1023" y="35"/>
                                </a:lnTo>
                                <a:lnTo>
                                  <a:pt x="820" y="17"/>
                                </a:lnTo>
                                <a:lnTo>
                                  <a:pt x="630" y="4"/>
                                </a:lnTo>
                                <a:lnTo>
                                  <a:pt x="537" y="4"/>
                                </a:lnTo>
                                <a:lnTo>
                                  <a:pt x="11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3838680" y="5126040"/>
                            <a:ext cx="160560" cy="92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46" h="257">
                                <a:moveTo>
                                  <a:pt x="0" y="0"/>
                                </a:moveTo>
                                <a:lnTo>
                                  <a:pt x="0" y="253"/>
                                </a:lnTo>
                                <a:lnTo>
                                  <a:pt x="446" y="257"/>
                                </a:lnTo>
                                <a:lnTo>
                                  <a:pt x="446" y="26"/>
                                </a:lnTo>
                                <a:lnTo>
                                  <a:pt x="389" y="22"/>
                                </a:lnTo>
                                <a:lnTo>
                                  <a:pt x="305" y="13"/>
                                </a:lnTo>
                                <a:lnTo>
                                  <a:pt x="225" y="13"/>
                                </a:lnTo>
                                <a:lnTo>
                                  <a:pt x="171" y="8"/>
                                </a:lnTo>
                                <a:lnTo>
                                  <a:pt x="114" y="4"/>
                                </a:lnTo>
                                <a:lnTo>
                                  <a:pt x="4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41400" bIns="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3697200" y="5094360"/>
                            <a:ext cx="281520" cy="114840"/>
                            <a:chOff x="3697200" y="5094360"/>
                            <a:chExt cx="281520" cy="114840"/>
                          </a:xfrm>
                        </p:grpSpPr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3705120" y="5094360"/>
                              <a:ext cx="3348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800000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3697200" y="5097600"/>
                              <a:ext cx="22320" cy="1764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txBody>
                            <a:bodyPr lIns="96120" rIns="96120" tIns="-33480" bIns="-33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02" name=""/>
                            <p:cNvGrpSpPr/>
                            <p:nvPr/>
                          </p:nvGrpSpPr>
                          <p:grpSpPr>
                            <a:xfrm>
                              <a:off x="3807000" y="5138640"/>
                              <a:ext cx="171720" cy="70560"/>
                              <a:chOff x="3807000" y="5138640"/>
                              <a:chExt cx="171720" cy="70560"/>
                            </a:xfrm>
                          </p:grpSpPr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3807000" y="518328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38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0"/>
                                    </a:lnTo>
                                    <a:lnTo>
                                      <a:pt x="0" y="3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" name=""/>
                              <p:cNvSpPr/>
                              <p:nvPr/>
                            </p:nvSpPr>
                            <p:spPr>
                              <a:xfrm>
                                <a:off x="3807000" y="5138640"/>
                                <a:ext cx="17028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3" h="72">
                                    <a:moveTo>
                                      <a:pt x="0" y="0"/>
                                    </a:moveTo>
                                    <a:lnTo>
                                      <a:pt x="0" y="29"/>
                                    </a:lnTo>
                                    <a:lnTo>
                                      <a:pt x="473" y="7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"/>
                              <p:cNvSpPr/>
                              <p:nvPr/>
                            </p:nvSpPr>
                            <p:spPr>
                              <a:xfrm>
                                <a:off x="3807000" y="5151600"/>
                                <a:ext cx="17028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3" h="72">
                                    <a:moveTo>
                                      <a:pt x="0" y="0"/>
                                    </a:moveTo>
                                    <a:lnTo>
                                      <a:pt x="0" y="42"/>
                                    </a:lnTo>
                                    <a:lnTo>
                                      <a:pt x="473" y="7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" name=""/>
                              <p:cNvSpPr/>
                              <p:nvPr/>
                            </p:nvSpPr>
                            <p:spPr>
                              <a:xfrm>
                                <a:off x="3807000" y="516564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0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48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" name=""/>
                              <p:cNvSpPr/>
                              <p:nvPr/>
                            </p:nvSpPr>
                            <p:spPr>
                              <a:xfrm>
                                <a:off x="3807000" y="517680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17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0"/>
                                    </a:lnTo>
                                    <a:lnTo>
                                      <a:pt x="0" y="1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08" name=""/>
                      <p:cNvGrpSpPr/>
                      <p:nvPr/>
                    </p:nvGrpSpPr>
                    <p:grpSpPr>
                      <a:xfrm>
                        <a:off x="3578400" y="5140440"/>
                        <a:ext cx="625320" cy="112680"/>
                        <a:chOff x="3578400" y="5140440"/>
                        <a:chExt cx="625320" cy="112680"/>
                      </a:xfrm>
                    </p:grpSpPr>
                    <p:grpSp>
                      <p:nvGrpSpPr>
                        <p:cNvPr id="209" name=""/>
                        <p:cNvGrpSpPr/>
                        <p:nvPr/>
                      </p:nvGrpSpPr>
                      <p:grpSpPr>
                        <a:xfrm>
                          <a:off x="4073400" y="5140440"/>
                          <a:ext cx="130320" cy="112680"/>
                          <a:chOff x="4073400" y="5140440"/>
                          <a:chExt cx="130320" cy="112680"/>
                        </a:xfrm>
                      </p:grpSpPr>
                      <p:sp>
                        <p:nvSpPr>
                          <p:cNvPr id="210" name=""/>
                          <p:cNvSpPr/>
                          <p:nvPr/>
                        </p:nvSpPr>
                        <p:spPr>
                          <a:xfrm>
                            <a:off x="4073400" y="5140440"/>
                            <a:ext cx="130320" cy="1126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"/>
                          <p:cNvSpPr/>
                          <p:nvPr/>
                        </p:nvSpPr>
                        <p:spPr>
                          <a:xfrm>
                            <a:off x="4127400" y="521496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67"/>
                                </a:moveTo>
                                <a:lnTo>
                                  <a:pt x="28" y="0"/>
                                </a:lnTo>
                                <a:lnTo>
                                  <a:pt x="44" y="0"/>
                                </a:lnTo>
                                <a:lnTo>
                                  <a:pt x="72" y="67"/>
                                </a:lnTo>
                                <a:lnTo>
                                  <a:pt x="33" y="72"/>
                                </a:lnTo>
                                <a:lnTo>
                                  <a:pt x="0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"/>
                          <p:cNvSpPr/>
                          <p:nvPr/>
                        </p:nvSpPr>
                        <p:spPr>
                          <a:xfrm>
                            <a:off x="4127400" y="515772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4"/>
                                </a:moveTo>
                                <a:lnTo>
                                  <a:pt x="30" y="72"/>
                                </a:lnTo>
                                <a:lnTo>
                                  <a:pt x="48" y="72"/>
                                </a:lnTo>
                                <a:lnTo>
                                  <a:pt x="72" y="4"/>
                                </a:lnTo>
                                <a:lnTo>
                                  <a:pt x="36" y="0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"/>
                          <p:cNvSpPr/>
                          <p:nvPr/>
                        </p:nvSpPr>
                        <p:spPr>
                          <a:xfrm>
                            <a:off x="4157640" y="518940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63" y="0"/>
                                </a:moveTo>
                                <a:lnTo>
                                  <a:pt x="0" y="30"/>
                                </a:lnTo>
                                <a:lnTo>
                                  <a:pt x="0" y="48"/>
                                </a:lnTo>
                                <a:lnTo>
                                  <a:pt x="68" y="72"/>
                                </a:lnTo>
                                <a:lnTo>
                                  <a:pt x="72" y="36"/>
                                </a:lnTo>
                                <a:lnTo>
                                  <a:pt x="6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"/>
                          <p:cNvSpPr/>
                          <p:nvPr/>
                        </p:nvSpPr>
                        <p:spPr>
                          <a:xfrm>
                            <a:off x="4091040" y="518940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8" y="0"/>
                                </a:moveTo>
                                <a:lnTo>
                                  <a:pt x="80" y="30"/>
                                </a:lnTo>
                                <a:lnTo>
                                  <a:pt x="80" y="48"/>
                                </a:lnTo>
                                <a:lnTo>
                                  <a:pt x="4" y="72"/>
                                </a:lnTo>
                                <a:lnTo>
                                  <a:pt x="0" y="3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>
                            <a:off x="4089240" y="5154480"/>
                            <a:ext cx="93600" cy="8424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ffffff"/>
                            </a:solidFill>
                            <a:round/>
                          </a:ln>
                        </p:spPr>
                        <p:txBody>
                          <a:bodyPr lIns="96120" rIns="9612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16" name=""/>
                          <p:cNvGrpSpPr/>
                          <p:nvPr/>
                        </p:nvGrpSpPr>
                        <p:grpSpPr>
                          <a:xfrm>
                            <a:off x="4119480" y="5181480"/>
                            <a:ext cx="38160" cy="33480"/>
                            <a:chOff x="4119480" y="5181480"/>
                            <a:chExt cx="38160" cy="33480"/>
                          </a:xfrm>
                        </p:grpSpPr>
                        <p:sp>
                          <p:nvSpPr>
                            <p:cNvPr id="217" name=""/>
                            <p:cNvSpPr/>
                            <p:nvPr/>
                          </p:nvSpPr>
                          <p:spPr>
                            <a:xfrm>
                              <a:off x="4119480" y="5181480"/>
                              <a:ext cx="38160" cy="334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17640" bIns="-17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" name=""/>
                            <p:cNvSpPr/>
                            <p:nvPr/>
                          </p:nvSpPr>
                          <p:spPr>
                            <a:xfrm>
                              <a:off x="4125960" y="5189400"/>
                              <a:ext cx="2052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9" name=""/>
                        <p:cNvGrpSpPr/>
                        <p:nvPr/>
                      </p:nvGrpSpPr>
                      <p:grpSpPr>
                        <a:xfrm>
                          <a:off x="3578400" y="5140440"/>
                          <a:ext cx="130320" cy="112680"/>
                          <a:chOff x="3578400" y="5140440"/>
                          <a:chExt cx="130320" cy="112680"/>
                        </a:xfrm>
                      </p:grpSpPr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>
                            <a:off x="3578400" y="5140440"/>
                            <a:ext cx="130320" cy="1126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>
                            <a:off x="3633840" y="521496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67"/>
                                </a:moveTo>
                                <a:lnTo>
                                  <a:pt x="31" y="0"/>
                                </a:lnTo>
                                <a:lnTo>
                                  <a:pt x="46" y="0"/>
                                </a:lnTo>
                                <a:lnTo>
                                  <a:pt x="72" y="67"/>
                                </a:lnTo>
                                <a:lnTo>
                                  <a:pt x="36" y="72"/>
                                </a:lnTo>
                                <a:lnTo>
                                  <a:pt x="0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>
                            <a:off x="3632040" y="515772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4"/>
                                </a:moveTo>
                                <a:lnTo>
                                  <a:pt x="29" y="72"/>
                                </a:lnTo>
                                <a:lnTo>
                                  <a:pt x="48" y="72"/>
                                </a:lnTo>
                                <a:lnTo>
                                  <a:pt x="72" y="4"/>
                                </a:lnTo>
                                <a:lnTo>
                                  <a:pt x="38" y="0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>
                            <a:off x="3662280" y="518940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75" y="0"/>
                                </a:moveTo>
                                <a:lnTo>
                                  <a:pt x="0" y="30"/>
                                </a:lnTo>
                                <a:lnTo>
                                  <a:pt x="0" y="48"/>
                                </a:lnTo>
                                <a:lnTo>
                                  <a:pt x="75" y="72"/>
                                </a:lnTo>
                                <a:lnTo>
                                  <a:pt x="80" y="36"/>
                                </a:lnTo>
                                <a:lnTo>
                                  <a:pt x="7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>
                            <a:off x="3595680" y="5189400"/>
                            <a:ext cx="306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5" h="72">
                                <a:moveTo>
                                  <a:pt x="8" y="0"/>
                                </a:moveTo>
                                <a:lnTo>
                                  <a:pt x="85" y="30"/>
                                </a:lnTo>
                                <a:lnTo>
                                  <a:pt x="85" y="48"/>
                                </a:lnTo>
                                <a:lnTo>
                                  <a:pt x="4" y="72"/>
                                </a:lnTo>
                                <a:lnTo>
                                  <a:pt x="0" y="3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>
                            <a:off x="3594240" y="5154480"/>
                            <a:ext cx="96840" cy="8424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ffffff"/>
                            </a:solidFill>
                            <a:round/>
                          </a:ln>
                        </p:spPr>
                        <p:txBody>
                          <a:bodyPr lIns="96120" rIns="9612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6" name=""/>
                          <p:cNvGrpSpPr/>
                          <p:nvPr/>
                        </p:nvGrpSpPr>
                        <p:grpSpPr>
                          <a:xfrm>
                            <a:off x="3625920" y="5181480"/>
                            <a:ext cx="36360" cy="33480"/>
                            <a:chOff x="3625920" y="5181480"/>
                            <a:chExt cx="36360" cy="33480"/>
                          </a:xfrm>
                        </p:grpSpPr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3625920" y="5181480"/>
                              <a:ext cx="36360" cy="334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17640" bIns="-17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3632040" y="5189400"/>
                              <a:ext cx="2376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781080" y="4925520"/>
                      <a:ext cx="366840" cy="181800"/>
                      <a:chOff x="3781080" y="4925520"/>
                      <a:chExt cx="366840" cy="18180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781080" y="4925520"/>
                        <a:ext cx="266400" cy="18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40" h="505">
                            <a:moveTo>
                              <a:pt x="689" y="505"/>
                            </a:moveTo>
                            <a:lnTo>
                              <a:pt x="740" y="84"/>
                            </a:lnTo>
                            <a:lnTo>
                              <a:pt x="51" y="0"/>
                            </a:lnTo>
                            <a:lnTo>
                              <a:pt x="0" y="421"/>
                            </a:lnTo>
                            <a:lnTo>
                              <a:pt x="689" y="505"/>
                            </a:lnTo>
                            <a:close/>
                          </a:path>
                        </a:pathLst>
                      </a:custGeom>
                      <a:solidFill>
                        <a:srgbClr val="cccc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032720" y="4988160"/>
                        <a:ext cx="115200" cy="874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0" h="243">
                            <a:moveTo>
                              <a:pt x="295" y="243"/>
                            </a:moveTo>
                            <a:lnTo>
                              <a:pt x="320" y="36"/>
                            </a:lnTo>
                            <a:lnTo>
                              <a:pt x="25" y="0"/>
                            </a:lnTo>
                            <a:lnTo>
                              <a:pt x="0" y="207"/>
                            </a:lnTo>
                            <a:lnTo>
                              <a:pt x="295" y="243"/>
                            </a:lnTo>
                            <a:close/>
                          </a:path>
                        </a:pathLst>
                      </a:custGeom>
                      <a:solidFill>
                        <a:srgbClr val="cccc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2" name=""/>
                  <p:cNvSpPr/>
                  <p:nvPr/>
                </p:nvSpPr>
                <p:spPr>
                  <a:xfrm>
                    <a:off x="2043360" y="5145120"/>
                    <a:ext cx="152568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238" h="451">
                        <a:moveTo>
                          <a:pt x="0" y="424"/>
                        </a:moveTo>
                        <a:lnTo>
                          <a:pt x="0" y="424"/>
                        </a:lnTo>
                        <a:cubicBezTo>
                          <a:pt x="346" y="442"/>
                          <a:pt x="712" y="451"/>
                          <a:pt x="1080" y="451"/>
                        </a:cubicBezTo>
                        <a:cubicBezTo>
                          <a:pt x="1635" y="451"/>
                          <a:pt x="2179" y="430"/>
                          <a:pt x="2659" y="391"/>
                        </a:cubicBezTo>
                        <a:cubicBezTo>
                          <a:pt x="3139" y="351"/>
                          <a:pt x="3538" y="294"/>
                          <a:pt x="3815" y="226"/>
                        </a:cubicBezTo>
                        <a:cubicBezTo>
                          <a:pt x="4092" y="157"/>
                          <a:pt x="4238" y="79"/>
                          <a:pt x="4238" y="0"/>
                        </a:cubicBezTo>
                        <a:lnTo>
                          <a:pt x="4238" y="0"/>
                        </a:lnTo>
                      </a:path>
                    </a:pathLst>
                  </a:custGeom>
                  <a:ln w="38160">
                    <a:solidFill>
                      <a:srgbClr val="cc3300"/>
                    </a:solidFill>
                    <a:custDash>
                      <a:ds d="100000" sp="100000"/>
                    </a:custDash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2090160" y="4439880"/>
                  <a:ext cx="1099440" cy="705600"/>
                  <a:chOff x="2090160" y="4439880"/>
                  <a:chExt cx="1099440" cy="70560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111400" y="4591080"/>
                    <a:ext cx="1078200" cy="554400"/>
                    <a:chOff x="2111400" y="4591080"/>
                    <a:chExt cx="1078200" cy="55440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2111400" y="4591080"/>
                      <a:ext cx="1078200" cy="5544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95" h="1540">
                          <a:moveTo>
                            <a:pt x="0" y="1540"/>
                          </a:moveTo>
                          <a:lnTo>
                            <a:pt x="2396" y="1540"/>
                          </a:lnTo>
                          <a:lnTo>
                            <a:pt x="2995" y="1233"/>
                          </a:lnTo>
                          <a:lnTo>
                            <a:pt x="2995" y="0"/>
                          </a:lnTo>
                          <a:lnTo>
                            <a:pt x="2396" y="307"/>
                          </a:lnTo>
                          <a:lnTo>
                            <a:pt x="2396" y="1540"/>
                          </a:lnTo>
                          <a:lnTo>
                            <a:pt x="2396" y="307"/>
                          </a:lnTo>
                          <a:lnTo>
                            <a:pt x="0" y="307"/>
                          </a:lnTo>
                          <a:lnTo>
                            <a:pt x="598" y="0"/>
                          </a:lnTo>
                          <a:lnTo>
                            <a:pt x="2995" y="0"/>
                          </a:lnTo>
                          <a:lnTo>
                            <a:pt x="598" y="0"/>
                          </a:lnTo>
                          <a:lnTo>
                            <a:pt x="0" y="307"/>
                          </a:lnTo>
                          <a:lnTo>
                            <a:pt x="0" y="154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282760" y="4797360"/>
                      <a:ext cx="9036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2511360" y="4797360"/>
                      <a:ext cx="8748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736720" y="4797360"/>
                      <a:ext cx="8748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2090160" y="4439880"/>
                    <a:ext cx="329400" cy="166320"/>
                    <a:chOff x="2090160" y="4439880"/>
                    <a:chExt cx="329400" cy="1663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2181600" y="4439880"/>
                      <a:ext cx="237960" cy="1663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1" h="462">
                          <a:moveTo>
                            <a:pt x="661" y="387"/>
                          </a:moveTo>
                          <a:lnTo>
                            <a:pt x="613" y="0"/>
                          </a:lnTo>
                          <a:lnTo>
                            <a:pt x="0" y="75"/>
                          </a:lnTo>
                          <a:lnTo>
                            <a:pt x="47" y="462"/>
                          </a:lnTo>
                          <a:lnTo>
                            <a:pt x="661" y="387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090160" y="4498200"/>
                      <a:ext cx="105120" cy="81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2" h="226">
                          <a:moveTo>
                            <a:pt x="292" y="193"/>
                          </a:moveTo>
                          <a:lnTo>
                            <a:pt x="268" y="0"/>
                          </a:lnTo>
                          <a:lnTo>
                            <a:pt x="0" y="32"/>
                          </a:lnTo>
                          <a:lnTo>
                            <a:pt x="23" y="226"/>
                          </a:lnTo>
                          <a:lnTo>
                            <a:pt x="292" y="193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24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92760" y="5113440"/>
                <a:ext cx="1774800" cy="88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y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l Demo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5165640"/>
            <a:ext cx="3048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rual Sc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min from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226692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nd integrated exploitation of all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detection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ens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VSAM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. 2: Wide-area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3063960"/>
            <a:ext cx="6705720" cy="3413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" y="1447920"/>
            <a:ext cx="50292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bined Ground/Ai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arge, Dynamically Chang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ny Simultaneous Mov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440"/>
            <a:ext cx="7162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Technology Adva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dynamic visual surveillanc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target detection and tracking based on change, appearance, and motion c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multi-platform surveillanc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air and ground-based surveillanc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by evolving scen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90720" y="285840"/>
            <a:ext cx="7162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447920"/>
            <a:ext cx="83818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collect three times during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data collection requirements, including data collection by NVL Islander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up scenario, including sensors and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nd Mana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ing methods -- tape library, digital dis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, tapes,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provide a plan during Spring 97 VSAM Kic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76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system for video surveillance for experimentation and evaluation by DOD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D testbed to allow testing and demonstrating VSAM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SAM knowledge base and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ization of mature component technologies through other parallel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2438280"/>
            <a:ext cx="777240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wo VSAM workshops per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annual demos to showcase new VSAM IU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Web site to disseminate data and provide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IFD VSAM testb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ial (Predator) V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5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and tracking over an extend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-locating targets by relating airborne data to reference imagery and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irborne data to cue ground sensors along target path to get close-up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wide-area scene representation to support mission planning and sensor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detection by comparing video collected over several days o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76920" y="5727600"/>
            <a:ext cx="28954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54280" y="1384200"/>
            <a:ext cx="5575320" cy="5067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44792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door Free F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408880" y="5927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64960" y="1143000"/>
            <a:ext cx="857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Yea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3657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ound static sen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 ground static/mobile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l" pos="325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(helicopter)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nd tr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and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target moni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targe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hand-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  <a:tabLst>
                <a:tab algn="l" pos="194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and grou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y monito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-area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 D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 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 Off-line Predator image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nc. On-line Predator imag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200" y="38862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200" y="48769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1200" y="28321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200" y="173988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1200" y="54864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