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0E3B27-E095-406D-90B0-C375A8DDD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 Target Follo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ensor Hand-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522440"/>
            <a:ext cx="8763120" cy="4573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2895480"/>
            <a:ext cx="2133360" cy="2362320"/>
          </a:xfrm>
          <a:prstGeom prst="line">
            <a:avLst/>
          </a:prstGeom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819520" y="3657600"/>
            <a:ext cx="3352680" cy="1600200"/>
          </a:xfrm>
          <a:prstGeom prst="line">
            <a:avLst/>
          </a:prstGeom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16480" y="2122560"/>
            <a:ext cx="7511400" cy="4722480"/>
            <a:chOff x="816480" y="2122560"/>
            <a:chExt cx="7511400" cy="4722480"/>
          </a:xfrm>
        </p:grpSpPr>
        <p:grpSp>
          <p:nvGrpSpPr>
            <p:cNvPr id="50" name=""/>
            <p:cNvGrpSpPr/>
            <p:nvPr/>
          </p:nvGrpSpPr>
          <p:grpSpPr>
            <a:xfrm>
              <a:off x="816480" y="2885760"/>
              <a:ext cx="3152880" cy="3959280"/>
              <a:chOff x="816480" y="2885760"/>
              <a:chExt cx="3152880" cy="3959280"/>
            </a:xfrm>
          </p:grpSpPr>
          <p:sp>
            <p:nvSpPr>
              <p:cNvPr id="51" name=""/>
              <p:cNvSpPr/>
              <p:nvPr/>
            </p:nvSpPr>
            <p:spPr>
              <a:xfrm>
                <a:off x="816480" y="2885760"/>
                <a:ext cx="3152880" cy="3959280"/>
              </a:xfrm>
              <a:custGeom>
                <a:avLst/>
                <a:gdLst/>
                <a:ahLst/>
                <a:rect l="0" t="0" r="r" b="b"/>
                <a:pathLst>
                  <a:path fill="none" w="8758" h="10998">
                    <a:moveTo>
                      <a:pt x="0" y="8153"/>
                    </a:moveTo>
                    <a:lnTo>
                      <a:pt x="8758" y="10998"/>
                    </a:lnTo>
                    <a:lnTo>
                      <a:pt x="7491" y="0"/>
                    </a:lnTo>
                    <a:lnTo>
                      <a:pt x="0" y="8153"/>
                    </a:lnTo>
                  </a:path>
                </a:pathLst>
              </a:custGeom>
              <a:ln w="76320">
                <a:solidFill>
                  <a:srgbClr val="00ae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260440" y="6311880"/>
                <a:ext cx="26676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2122560" y="649116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903840" y="2567880"/>
              <a:ext cx="2568240" cy="4012560"/>
              <a:chOff x="3903840" y="2567880"/>
              <a:chExt cx="2568240" cy="4012560"/>
            </a:xfrm>
          </p:grpSpPr>
          <p:sp>
            <p:nvSpPr>
              <p:cNvPr id="55" name=""/>
              <p:cNvSpPr/>
              <p:nvPr/>
            </p:nvSpPr>
            <p:spPr>
              <a:xfrm>
                <a:off x="3903840" y="2567880"/>
                <a:ext cx="2568240" cy="4009680"/>
              </a:xfrm>
              <a:custGeom>
                <a:avLst/>
                <a:gdLst/>
                <a:ahLst/>
                <a:rect l="0" t="0" r="r" b="b"/>
                <a:pathLst>
                  <a:path fill="none" w="7134" h="11138">
                    <a:moveTo>
                      <a:pt x="34" y="11138"/>
                    </a:moveTo>
                    <a:lnTo>
                      <a:pt x="7134" y="8554"/>
                    </a:lnTo>
                    <a:lnTo>
                      <a:pt x="0" y="0"/>
                    </a:lnTo>
                    <a:lnTo>
                      <a:pt x="34" y="11138"/>
                    </a:lnTo>
                  </a:path>
                </a:pathLst>
              </a:custGeom>
              <a:ln w="76320">
                <a:solidFill>
                  <a:srgbClr val="f35b1b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067360" y="6095880"/>
                <a:ext cx="26676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4940280" y="627552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4828680" y="2122560"/>
              <a:ext cx="3499200" cy="4164480"/>
              <a:chOff x="4828680" y="2122560"/>
              <a:chExt cx="3499200" cy="4164480"/>
            </a:xfrm>
          </p:grpSpPr>
          <p:sp>
            <p:nvSpPr>
              <p:cNvPr id="59" name=""/>
              <p:cNvSpPr/>
              <p:nvPr/>
            </p:nvSpPr>
            <p:spPr>
              <a:xfrm>
                <a:off x="4828680" y="2122560"/>
                <a:ext cx="3499200" cy="4164480"/>
              </a:xfrm>
              <a:custGeom>
                <a:avLst/>
                <a:gdLst/>
                <a:ahLst/>
                <a:rect l="0" t="0" r="r" b="b"/>
                <a:pathLst>
                  <a:path fill="none" w="9720" h="11568">
                    <a:moveTo>
                      <a:pt x="2685" y="11568"/>
                    </a:moveTo>
                    <a:lnTo>
                      <a:pt x="9720" y="6823"/>
                    </a:lnTo>
                    <a:lnTo>
                      <a:pt x="0" y="0"/>
                    </a:lnTo>
                    <a:lnTo>
                      <a:pt x="2685" y="11568"/>
                    </a:lnTo>
                  </a:path>
                </a:pathLst>
              </a:custGeom>
              <a:ln w="76320">
                <a:solidFill>
                  <a:srgbClr val="3333cc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972480" y="5448240"/>
                <a:ext cx="26676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6832440" y="562752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838080"/>
            <a:ext cx="83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519280" y="2771640"/>
            <a:ext cx="3648240" cy="1620720"/>
            <a:chOff x="2519280" y="2771640"/>
            <a:chExt cx="3648240" cy="1620720"/>
          </a:xfrm>
        </p:grpSpPr>
        <p:sp>
          <p:nvSpPr>
            <p:cNvPr id="64" name=""/>
            <p:cNvSpPr/>
            <p:nvPr/>
          </p:nvSpPr>
          <p:spPr>
            <a:xfrm>
              <a:off x="2519280" y="2771640"/>
              <a:ext cx="3648240" cy="16207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2943360" y="3035160"/>
              <a:ext cx="2806560" cy="109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volving Sce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resent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859040" y="606600"/>
            <a:ext cx="2066760" cy="1403280"/>
            <a:chOff x="1859040" y="606600"/>
            <a:chExt cx="2066760" cy="140328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59040" y="606600"/>
              <a:ext cx="2066760" cy="14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2286000" y="1066680"/>
              <a:ext cx="968400" cy="782640"/>
              <a:chOff x="2286000" y="1066680"/>
              <a:chExt cx="968400" cy="782640"/>
            </a:xfrm>
          </p:grpSpPr>
          <p:sp>
            <p:nvSpPr>
              <p:cNvPr id="69" name=""/>
              <p:cNvSpPr/>
              <p:nvPr/>
            </p:nvSpPr>
            <p:spPr>
              <a:xfrm>
                <a:off x="2286000" y="1066680"/>
                <a:ext cx="914760" cy="588600"/>
              </a:xfrm>
              <a:custGeom>
                <a:avLst/>
                <a:gdLst/>
                <a:ahLst/>
                <a:rect l="0" t="0" r="r" b="b"/>
                <a:pathLst>
                  <a:path fill="none" w="2541" h="1635">
                    <a:moveTo>
                      <a:pt x="2541" y="1635"/>
                    </a:moveTo>
                    <a:lnTo>
                      <a:pt x="2541" y="1635"/>
                    </a:lnTo>
                    <a:lnTo>
                      <a:pt x="2541" y="1635"/>
                    </a:lnTo>
                    <a:cubicBezTo>
                      <a:pt x="2541" y="1348"/>
                      <a:pt x="2424" y="1066"/>
                      <a:pt x="2201" y="817"/>
                    </a:cubicBezTo>
                    <a:cubicBezTo>
                      <a:pt x="1978" y="569"/>
                      <a:pt x="1657" y="363"/>
                      <a:pt x="1270" y="219"/>
                    </a:cubicBezTo>
                    <a:cubicBezTo>
                      <a:pt x="884" y="76"/>
                      <a:pt x="446" y="0"/>
                      <a:pt x="0" y="0"/>
                    </a:cubicBezTo>
                  </a:path>
                </a:pathLst>
              </a:custGeom>
              <a:ln w="38160">
                <a:solidFill>
                  <a:srgbClr val="ffff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071160" y="1628280"/>
                <a:ext cx="183240" cy="221040"/>
              </a:xfrm>
              <a:custGeom>
                <a:avLst/>
                <a:gdLst/>
                <a:ahLst/>
                <a:rect l="0" t="0" r="r" b="b"/>
                <a:pathLst>
                  <a:path w="509" h="614">
                    <a:moveTo>
                      <a:pt x="124" y="16"/>
                    </a:moveTo>
                    <a:lnTo>
                      <a:pt x="124" y="16"/>
                    </a:lnTo>
                    <a:cubicBezTo>
                      <a:pt x="86" y="33"/>
                      <a:pt x="55" y="63"/>
                      <a:pt x="33" y="104"/>
                    </a:cubicBezTo>
                    <a:cubicBezTo>
                      <a:pt x="11" y="144"/>
                      <a:pt x="0" y="193"/>
                      <a:pt x="0" y="246"/>
                    </a:cubicBezTo>
                    <a:cubicBezTo>
                      <a:pt x="1" y="299"/>
                      <a:pt x="13" y="353"/>
                      <a:pt x="36" y="404"/>
                    </a:cubicBezTo>
                    <a:cubicBezTo>
                      <a:pt x="59" y="455"/>
                      <a:pt x="91" y="501"/>
                      <a:pt x="130" y="537"/>
                    </a:cubicBezTo>
                    <a:cubicBezTo>
                      <a:pt x="169" y="573"/>
                      <a:pt x="213" y="597"/>
                      <a:pt x="257" y="608"/>
                    </a:cubicBezTo>
                    <a:cubicBezTo>
                      <a:pt x="302" y="619"/>
                      <a:pt x="346" y="615"/>
                      <a:pt x="384" y="598"/>
                    </a:cubicBezTo>
                    <a:lnTo>
                      <a:pt x="385" y="598"/>
                    </a:lnTo>
                    <a:lnTo>
                      <a:pt x="385" y="598"/>
                    </a:lnTo>
                    <a:cubicBezTo>
                      <a:pt x="423" y="581"/>
                      <a:pt x="454" y="551"/>
                      <a:pt x="476" y="510"/>
                    </a:cubicBezTo>
                    <a:cubicBezTo>
                      <a:pt x="498" y="470"/>
                      <a:pt x="509" y="421"/>
                      <a:pt x="509" y="368"/>
                    </a:cubicBezTo>
                    <a:cubicBezTo>
                      <a:pt x="508" y="315"/>
                      <a:pt x="496" y="261"/>
                      <a:pt x="473" y="210"/>
                    </a:cubicBezTo>
                    <a:cubicBezTo>
                      <a:pt x="450" y="159"/>
                      <a:pt x="418" y="113"/>
                      <a:pt x="379" y="77"/>
                    </a:cubicBezTo>
                    <a:cubicBezTo>
                      <a:pt x="340" y="41"/>
                      <a:pt x="296" y="17"/>
                      <a:pt x="252" y="6"/>
                    </a:cubicBezTo>
                    <a:cubicBezTo>
                      <a:pt x="207" y="-5"/>
                      <a:pt x="163" y="-1"/>
                      <a:pt x="125" y="16"/>
                    </a:cubicBezTo>
                    <a:lnTo>
                      <a:pt x="124" y="16"/>
                    </a:lnTo>
                    <a:close/>
                  </a:path>
                </a:pathLst>
              </a:cu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463680" y="665280"/>
            <a:ext cx="1212840" cy="1055880"/>
            <a:chOff x="463680" y="665280"/>
            <a:chExt cx="1212840" cy="1055880"/>
          </a:xfrm>
        </p:grpSpPr>
        <p:grpSp>
          <p:nvGrpSpPr>
            <p:cNvPr id="72" name=""/>
            <p:cNvGrpSpPr/>
            <p:nvPr/>
          </p:nvGrpSpPr>
          <p:grpSpPr>
            <a:xfrm>
              <a:off x="463680" y="665280"/>
              <a:ext cx="1212840" cy="1055880"/>
              <a:chOff x="463680" y="665280"/>
              <a:chExt cx="1212840" cy="1055880"/>
            </a:xfrm>
          </p:grpSpPr>
          <p:sp>
            <p:nvSpPr>
              <p:cNvPr id="73" name=""/>
              <p:cNvSpPr/>
              <p:nvPr/>
            </p:nvSpPr>
            <p:spPr>
              <a:xfrm>
                <a:off x="762120" y="66528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01640" y="72540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39720" y="78732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79600" y="84780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7680" y="90972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3680" y="982800"/>
                <a:ext cx="907920" cy="73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" name=""/>
            <p:cNvSpPr/>
            <p:nvPr/>
          </p:nvSpPr>
          <p:spPr>
            <a:xfrm>
              <a:off x="867600" y="1186200"/>
              <a:ext cx="170640" cy="218520"/>
            </a:xfrm>
            <a:custGeom>
              <a:avLst/>
              <a:gdLst/>
              <a:ahLst/>
              <a:rect l="0" t="0" r="r" b="b"/>
              <a:pathLst>
                <a:path w="474" h="607">
                  <a:moveTo>
                    <a:pt x="107" y="13"/>
                  </a:moveTo>
                  <a:lnTo>
                    <a:pt x="107" y="13"/>
                  </a:lnTo>
                  <a:cubicBezTo>
                    <a:pt x="73" y="29"/>
                    <a:pt x="45" y="57"/>
                    <a:pt x="26" y="96"/>
                  </a:cubicBezTo>
                  <a:cubicBezTo>
                    <a:pt x="7" y="135"/>
                    <a:pt x="-2" y="183"/>
                    <a:pt x="1" y="235"/>
                  </a:cubicBezTo>
                  <a:cubicBezTo>
                    <a:pt x="3" y="286"/>
                    <a:pt x="16" y="341"/>
                    <a:pt x="39" y="392"/>
                  </a:cubicBezTo>
                  <a:cubicBezTo>
                    <a:pt x="62" y="443"/>
                    <a:pt x="93" y="489"/>
                    <a:pt x="130" y="525"/>
                  </a:cubicBezTo>
                  <a:cubicBezTo>
                    <a:pt x="168" y="562"/>
                    <a:pt x="209" y="587"/>
                    <a:pt x="251" y="599"/>
                  </a:cubicBezTo>
                  <a:cubicBezTo>
                    <a:pt x="292" y="611"/>
                    <a:pt x="332" y="610"/>
                    <a:pt x="367" y="594"/>
                  </a:cubicBezTo>
                  <a:lnTo>
                    <a:pt x="368" y="594"/>
                  </a:lnTo>
                  <a:lnTo>
                    <a:pt x="368" y="594"/>
                  </a:lnTo>
                  <a:cubicBezTo>
                    <a:pt x="402" y="578"/>
                    <a:pt x="430" y="550"/>
                    <a:pt x="449" y="511"/>
                  </a:cubicBezTo>
                  <a:cubicBezTo>
                    <a:pt x="468" y="472"/>
                    <a:pt x="477" y="424"/>
                    <a:pt x="474" y="372"/>
                  </a:cubicBezTo>
                  <a:cubicBezTo>
                    <a:pt x="472" y="321"/>
                    <a:pt x="459" y="266"/>
                    <a:pt x="436" y="215"/>
                  </a:cubicBezTo>
                  <a:cubicBezTo>
                    <a:pt x="413" y="164"/>
                    <a:pt x="382" y="118"/>
                    <a:pt x="345" y="82"/>
                  </a:cubicBezTo>
                  <a:cubicBezTo>
                    <a:pt x="307" y="45"/>
                    <a:pt x="266" y="20"/>
                    <a:pt x="224" y="8"/>
                  </a:cubicBezTo>
                  <a:cubicBezTo>
                    <a:pt x="183" y="-4"/>
                    <a:pt x="143" y="-3"/>
                    <a:pt x="108" y="13"/>
                  </a:cubicBezTo>
                  <a:lnTo>
                    <a:pt x="107" y="13"/>
                  </a:lnTo>
                  <a:close/>
                </a:path>
              </a:pathLst>
            </a:cu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 txBox="1"/>
          <p:nvPr/>
        </p:nvSpPr>
        <p:spPr>
          <a:xfrm>
            <a:off x="2193840" y="2193840"/>
            <a:ext cx="242712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965240" y="4556160"/>
            <a:ext cx="362916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-referenced 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1520" y="326880"/>
            <a:ext cx="1384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seq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22440" y="326880"/>
            <a:ext cx="757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a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3640" y="2651040"/>
            <a:ext cx="1069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811840" y="797040"/>
            <a:ext cx="861840" cy="984240"/>
            <a:chOff x="5811840" y="797040"/>
            <a:chExt cx="861840" cy="984240"/>
          </a:xfrm>
        </p:grpSpPr>
        <p:sp>
          <p:nvSpPr>
            <p:cNvPr id="86" name=""/>
            <p:cNvSpPr/>
            <p:nvPr/>
          </p:nvSpPr>
          <p:spPr>
            <a:xfrm>
              <a:off x="5811840" y="801720"/>
              <a:ext cx="828720" cy="94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5821200" y="797040"/>
              <a:ext cx="852480" cy="9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6954840" y="3498840"/>
            <a:ext cx="1876680" cy="1038240"/>
            <a:chOff x="6954840" y="3498840"/>
            <a:chExt cx="1876680" cy="1038240"/>
          </a:xfrm>
        </p:grpSpPr>
        <p:grpSp>
          <p:nvGrpSpPr>
            <p:cNvPr id="89" name=""/>
            <p:cNvGrpSpPr/>
            <p:nvPr/>
          </p:nvGrpSpPr>
          <p:grpSpPr>
            <a:xfrm>
              <a:off x="7899480" y="3498840"/>
              <a:ext cx="428760" cy="755640"/>
              <a:chOff x="7899480" y="3498840"/>
              <a:chExt cx="428760" cy="75564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7899480" y="3498840"/>
                <a:ext cx="428760" cy="468360"/>
                <a:chOff x="7899480" y="3498840"/>
                <a:chExt cx="428760" cy="4683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899480" y="3498840"/>
                  <a:ext cx="428760" cy="4683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899480" y="3693960"/>
                  <a:ext cx="428760" cy="77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937640" y="3578400"/>
                  <a:ext cx="352440" cy="76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937640" y="3811680"/>
                  <a:ext cx="352440" cy="79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937640" y="3578400"/>
                  <a:ext cx="35244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899480" y="3693960"/>
                  <a:ext cx="42876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937640" y="3811680"/>
                  <a:ext cx="352440" cy="396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016840" y="3498840"/>
                  <a:ext cx="195120" cy="468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055000" y="3498840"/>
                  <a:ext cx="117360" cy="381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921800" y="3564360"/>
                  <a:ext cx="42120" cy="43920"/>
                </a:xfrm>
                <a:custGeom>
                  <a:avLst/>
                  <a:gdLst/>
                  <a:ahLst/>
                  <a:rect l="0" t="0" r="r" b="b"/>
                  <a:pathLst>
                    <a:path w="117" h="122">
                      <a:moveTo>
                        <a:pt x="0" y="43"/>
                      </a:moveTo>
                      <a:lnTo>
                        <a:pt x="28" y="122"/>
                      </a:lnTo>
                      <a:lnTo>
                        <a:pt x="117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254080" y="3577320"/>
                  <a:ext cx="52920" cy="30240"/>
                </a:xfrm>
                <a:custGeom>
                  <a:avLst/>
                  <a:gdLst/>
                  <a:ahLst/>
                  <a:rect l="0" t="0" r="r" b="b"/>
                  <a:pathLst>
                    <a:path w="147" h="84">
                      <a:moveTo>
                        <a:pt x="117" y="84"/>
                      </a:moveTo>
                      <a:lnTo>
                        <a:pt x="147" y="0"/>
                      </a:lnTo>
                      <a:lnTo>
                        <a:pt x="0" y="41"/>
                      </a:lnTo>
                      <a:lnTo>
                        <a:pt x="117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899480" y="3498840"/>
                  <a:ext cx="428760" cy="468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8086680" y="3967200"/>
                <a:ext cx="54000" cy="287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8402760" y="3635280"/>
              <a:ext cx="428760" cy="756000"/>
              <a:chOff x="8402760" y="3635280"/>
              <a:chExt cx="428760" cy="7560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8402760" y="3635280"/>
                <a:ext cx="428760" cy="468360"/>
                <a:chOff x="8402760" y="3635280"/>
                <a:chExt cx="428760" cy="4683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8402760" y="3635280"/>
                  <a:ext cx="428760" cy="4683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402760" y="3830760"/>
                  <a:ext cx="428760" cy="77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440560" y="3713040"/>
                  <a:ext cx="352440" cy="77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440560" y="3948120"/>
                  <a:ext cx="352440" cy="77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440560" y="3713040"/>
                  <a:ext cx="35244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402760" y="3830760"/>
                  <a:ext cx="42876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440560" y="3948120"/>
                  <a:ext cx="35244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518680" y="3635280"/>
                  <a:ext cx="195120" cy="468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558280" y="3635280"/>
                  <a:ext cx="117360" cy="381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424000" y="3698640"/>
                  <a:ext cx="42120" cy="45360"/>
                </a:xfrm>
                <a:custGeom>
                  <a:avLst/>
                  <a:gdLst/>
                  <a:ahLst/>
                  <a:rect l="0" t="0" r="r" b="b"/>
                  <a:pathLst>
                    <a:path w="117" h="126">
                      <a:moveTo>
                        <a:pt x="0" y="42"/>
                      </a:moveTo>
                      <a:lnTo>
                        <a:pt x="30" y="126"/>
                      </a:lnTo>
                      <a:lnTo>
                        <a:pt x="117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757000" y="3714480"/>
                  <a:ext cx="52560" cy="28800"/>
                </a:xfrm>
                <a:custGeom>
                  <a:avLst/>
                  <a:gdLst/>
                  <a:ahLst/>
                  <a:rect l="0" t="0" r="r" b="b"/>
                  <a:pathLst>
                    <a:path w="146" h="80">
                      <a:moveTo>
                        <a:pt x="118" y="80"/>
                      </a:moveTo>
                      <a:lnTo>
                        <a:pt x="146" y="0"/>
                      </a:lnTo>
                      <a:lnTo>
                        <a:pt x="0" y="37"/>
                      </a:lnTo>
                      <a:lnTo>
                        <a:pt x="118" y="8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402760" y="3635280"/>
                  <a:ext cx="428760" cy="468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8589960" y="4102200"/>
                <a:ext cx="54000" cy="289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954840" y="3736800"/>
              <a:ext cx="748080" cy="478080"/>
              <a:chOff x="6954840" y="3736800"/>
              <a:chExt cx="748080" cy="478080"/>
            </a:xfrm>
          </p:grpSpPr>
          <p:sp>
            <p:nvSpPr>
              <p:cNvPr id="120" name=""/>
              <p:cNvSpPr/>
              <p:nvPr/>
            </p:nvSpPr>
            <p:spPr>
              <a:xfrm>
                <a:off x="6954840" y="3736800"/>
                <a:ext cx="748080" cy="478080"/>
              </a:xfrm>
              <a:custGeom>
                <a:avLst/>
                <a:gdLst/>
                <a:ahLst/>
                <a:rect l="0" t="0" r="r" b="b"/>
                <a:pathLst>
                  <a:path fill="none" w="2078" h="1328">
                    <a:moveTo>
                      <a:pt x="0" y="1328"/>
                    </a:moveTo>
                    <a:lnTo>
                      <a:pt x="1663" y="1328"/>
                    </a:lnTo>
                    <a:lnTo>
                      <a:pt x="2078" y="1062"/>
                    </a:lnTo>
                    <a:lnTo>
                      <a:pt x="2078" y="0"/>
                    </a:lnTo>
                    <a:lnTo>
                      <a:pt x="1663" y="265"/>
                    </a:lnTo>
                    <a:lnTo>
                      <a:pt x="1663" y="1328"/>
                    </a:lnTo>
                    <a:lnTo>
                      <a:pt x="1663" y="265"/>
                    </a:lnTo>
                    <a:lnTo>
                      <a:pt x="0" y="265"/>
                    </a:lnTo>
                    <a:lnTo>
                      <a:pt x="415" y="0"/>
                    </a:lnTo>
                    <a:lnTo>
                      <a:pt x="2078" y="0"/>
                    </a:lnTo>
                    <a:lnTo>
                      <a:pt x="415" y="0"/>
                    </a:lnTo>
                    <a:lnTo>
                      <a:pt x="0" y="265"/>
                    </a:lnTo>
                    <a:lnTo>
                      <a:pt x="0" y="132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7059600" y="3897360"/>
                <a:ext cx="447480" cy="122400"/>
                <a:chOff x="7059600" y="3897360"/>
                <a:chExt cx="447480" cy="122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059600" y="3897360"/>
                  <a:ext cx="82440" cy="1224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180200" y="3897360"/>
                  <a:ext cx="82440" cy="1224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302600" y="3897360"/>
                  <a:ext cx="82440" cy="1224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424640" y="3897360"/>
                  <a:ext cx="82440" cy="1224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7224840" y="4056120"/>
                <a:ext cx="112680" cy="14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966000" y="4537080"/>
              <a:ext cx="1584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6640" y="4208400"/>
              <a:ext cx="1173600" cy="268560"/>
            </a:xfrm>
            <a:custGeom>
              <a:avLst/>
              <a:gdLst/>
              <a:ahLst/>
              <a:rect l="0" t="0" r="r" b="b"/>
              <a:pathLst>
                <a:path fill="none" w="3260" h="746">
                  <a:moveTo>
                    <a:pt x="39" y="61"/>
                  </a:moveTo>
                  <a:lnTo>
                    <a:pt x="0" y="0"/>
                  </a:lnTo>
                  <a:lnTo>
                    <a:pt x="379" y="746"/>
                  </a:lnTo>
                  <a:lnTo>
                    <a:pt x="3260" y="74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58080" y="4208400"/>
              <a:ext cx="443160" cy="268560"/>
            </a:xfrm>
            <a:custGeom>
              <a:avLst/>
              <a:gdLst/>
              <a:ahLst/>
              <a:rect l="0" t="0" r="r" b="b"/>
              <a:pathLst>
                <a:path fill="none" w="1231" h="746">
                  <a:moveTo>
                    <a:pt x="0" y="746"/>
                  </a:moveTo>
                  <a:lnTo>
                    <a:pt x="1231" y="746"/>
                  </a:lnTo>
                  <a:lnTo>
                    <a:pt x="85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896160" y="731880"/>
            <a:ext cx="1524240" cy="1178280"/>
            <a:chOff x="6896160" y="731880"/>
            <a:chExt cx="1524240" cy="1178280"/>
          </a:xfrm>
        </p:grpSpPr>
        <p:sp>
          <p:nvSpPr>
            <p:cNvPr id="131" name=""/>
            <p:cNvSpPr/>
            <p:nvPr/>
          </p:nvSpPr>
          <p:spPr>
            <a:xfrm>
              <a:off x="7140600" y="750960"/>
              <a:ext cx="1035360" cy="1159200"/>
            </a:xfrm>
            <a:custGeom>
              <a:avLst/>
              <a:gdLst/>
              <a:ahLst/>
              <a:rect l="0" t="0" r="r" b="b"/>
              <a:pathLst>
                <a:path fill="none" w="2876" h="3220">
                  <a:moveTo>
                    <a:pt x="0" y="0"/>
                  </a:moveTo>
                  <a:lnTo>
                    <a:pt x="1181" y="1861"/>
                  </a:lnTo>
                  <a:lnTo>
                    <a:pt x="1857" y="2201"/>
                  </a:lnTo>
                  <a:lnTo>
                    <a:pt x="2876" y="3220"/>
                  </a:lnTo>
                </a:path>
              </a:pathLst>
            </a:custGeom>
            <a:ln w="25560">
              <a:solidFill>
                <a:srgbClr val="ff0033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32600" y="1176480"/>
              <a:ext cx="487800" cy="487800"/>
            </a:xfrm>
            <a:custGeom>
              <a:avLst/>
              <a:gdLst/>
              <a:ahLst/>
              <a:rect l="0" t="0" r="r" b="b"/>
              <a:pathLst>
                <a:path fill="none" w="1355" h="1355">
                  <a:moveTo>
                    <a:pt x="0" y="1355"/>
                  </a:moveTo>
                  <a:lnTo>
                    <a:pt x="772" y="1015"/>
                  </a:lnTo>
                  <a:lnTo>
                    <a:pt x="1355" y="0"/>
                  </a:lnTo>
                </a:path>
              </a:pathLst>
            </a:custGeom>
            <a:ln w="25560">
              <a:solidFill>
                <a:srgbClr val="ff0033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956280" y="1177920"/>
              <a:ext cx="245160" cy="305280"/>
              <a:chOff x="6956280" y="1177920"/>
              <a:chExt cx="245160" cy="30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6956280" y="1177920"/>
                <a:ext cx="122760" cy="182880"/>
              </a:xfrm>
              <a:custGeom>
                <a:avLst/>
                <a:gdLst/>
                <a:ahLst/>
                <a:rect l="0" t="0" r="r" b="b"/>
                <a:pathLst>
                  <a:path w="341" h="508">
                    <a:moveTo>
                      <a:pt x="0" y="508"/>
                    </a:moveTo>
                    <a:lnTo>
                      <a:pt x="341" y="508"/>
                    </a:lnTo>
                    <a:lnTo>
                      <a:pt x="170" y="0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78680" y="1300320"/>
                <a:ext cx="122760" cy="182880"/>
              </a:xfrm>
              <a:custGeom>
                <a:avLst/>
                <a:gdLst/>
                <a:ahLst/>
                <a:rect l="0" t="0" r="r" b="b"/>
                <a:pathLst>
                  <a:path w="341" h="508">
                    <a:moveTo>
                      <a:pt x="0" y="508"/>
                    </a:moveTo>
                    <a:lnTo>
                      <a:pt x="341" y="508"/>
                    </a:lnTo>
                    <a:lnTo>
                      <a:pt x="170" y="0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8023320" y="15127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round/>
            </a:ln>
          </p:spPr>
          <p:txBody>
            <a:bodyPr lIns="102600" rIns="1026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8440" y="1635120"/>
              <a:ext cx="6048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round/>
            </a:ln>
          </p:spPr>
          <p:txBody>
            <a:bodyPr lIns="102600" rIns="1026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45360" y="1757520"/>
              <a:ext cx="61920" cy="6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round/>
            </a:ln>
          </p:spPr>
          <p:txBody>
            <a:bodyPr lIns="102600" rIns="1026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83600" y="75096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3600" y="1665360"/>
              <a:ext cx="182520" cy="24444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96160" y="750960"/>
              <a:ext cx="1523880" cy="1158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7537320" y="731880"/>
              <a:ext cx="530280" cy="731880"/>
              <a:chOff x="7537320" y="731880"/>
              <a:chExt cx="530280" cy="731880"/>
            </a:xfrm>
          </p:grpSpPr>
          <p:pic>
            <p:nvPicPr>
              <p:cNvPr id="1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37320" y="876240"/>
                <a:ext cx="53028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7710480" y="811080"/>
                <a:ext cx="182520" cy="12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7661160" y="731880"/>
                <a:ext cx="274680" cy="28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"/>
          <p:cNvSpPr txBox="1"/>
          <p:nvPr/>
        </p:nvSpPr>
        <p:spPr>
          <a:xfrm>
            <a:off x="6232680" y="2346480"/>
            <a:ext cx="1386000" cy="822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27760" y="55548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299360" y="479520"/>
            <a:ext cx="558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527960" y="4403880"/>
            <a:ext cx="128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 s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894800" y="2152800"/>
            <a:ext cx="658440" cy="1222200"/>
            <a:chOff x="7894800" y="2152800"/>
            <a:chExt cx="658440" cy="1222200"/>
          </a:xfrm>
        </p:grpSpPr>
        <p:grpSp>
          <p:nvGrpSpPr>
            <p:cNvPr id="151" name=""/>
            <p:cNvGrpSpPr/>
            <p:nvPr/>
          </p:nvGrpSpPr>
          <p:grpSpPr>
            <a:xfrm>
              <a:off x="7894800" y="2152800"/>
              <a:ext cx="658440" cy="914040"/>
              <a:chOff x="7894800" y="2152800"/>
              <a:chExt cx="658440" cy="914040"/>
            </a:xfrm>
          </p:grpSpPr>
          <p:sp>
            <p:nvSpPr>
              <p:cNvPr id="152" name=""/>
              <p:cNvSpPr/>
              <p:nvPr/>
            </p:nvSpPr>
            <p:spPr>
              <a:xfrm>
                <a:off x="7967520" y="2152800"/>
                <a:ext cx="585720" cy="84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31160" y="2189160"/>
                <a:ext cx="585720" cy="84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94800" y="2225520"/>
                <a:ext cx="585720" cy="84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04240" y="2298600"/>
                <a:ext cx="3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48440" y="240984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48440" y="244476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04240" y="2517840"/>
                <a:ext cx="42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48440" y="25560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948440" y="259236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948440" y="262728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948440" y="266400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48440" y="27018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004240" y="2774880"/>
                <a:ext cx="42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48440" y="28098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48440" y="284796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48440" y="28843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948440" y="292104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48440" y="29574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48440" y="299412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 txBox="1"/>
            <p:nvPr/>
          </p:nvSpPr>
          <p:spPr>
            <a:xfrm>
              <a:off x="7985160" y="3070080"/>
              <a:ext cx="450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752080" y="3027600"/>
            <a:ext cx="669960" cy="498600"/>
          </a:xfrm>
          <a:custGeom>
            <a:avLst/>
            <a:gdLst/>
            <a:ahLst/>
            <a:rect l="0" t="0" r="r" b="b"/>
            <a:pathLst>
              <a:path w="1861" h="1385">
                <a:moveTo>
                  <a:pt x="1669" y="0"/>
                </a:moveTo>
                <a:lnTo>
                  <a:pt x="1861" y="377"/>
                </a:lnTo>
                <a:lnTo>
                  <a:pt x="625" y="1007"/>
                </a:lnTo>
                <a:lnTo>
                  <a:pt x="818" y="1385"/>
                </a:lnTo>
                <a:lnTo>
                  <a:pt x="0" y="1089"/>
                </a:lnTo>
                <a:lnTo>
                  <a:pt x="240" y="252"/>
                </a:lnTo>
                <a:lnTo>
                  <a:pt x="432" y="630"/>
                </a:lnTo>
                <a:lnTo>
                  <a:pt x="1669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09960" y="2623680"/>
            <a:ext cx="516240" cy="518760"/>
          </a:xfrm>
          <a:custGeom>
            <a:avLst/>
            <a:gdLst/>
            <a:ahLst/>
            <a:rect l="0" t="0" r="r" b="b"/>
            <a:pathLst>
              <a:path w="1434" h="1441">
                <a:moveTo>
                  <a:pt x="0" y="293"/>
                </a:moveTo>
                <a:lnTo>
                  <a:pt x="304" y="0"/>
                </a:lnTo>
                <a:lnTo>
                  <a:pt x="1129" y="853"/>
                </a:lnTo>
                <a:lnTo>
                  <a:pt x="1434" y="557"/>
                </a:lnTo>
                <a:lnTo>
                  <a:pt x="1330" y="1365"/>
                </a:lnTo>
                <a:lnTo>
                  <a:pt x="520" y="1441"/>
                </a:lnTo>
                <a:lnTo>
                  <a:pt x="824" y="1147"/>
                </a:lnTo>
                <a:lnTo>
                  <a:pt x="0" y="29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038480"/>
            <a:ext cx="457560" cy="609840"/>
          </a:xfrm>
          <a:custGeom>
            <a:avLst/>
            <a:gdLst/>
            <a:ahLst/>
            <a:rect l="0" t="0" r="r" b="b"/>
            <a:pathLst>
              <a:path w="1271" h="1694">
                <a:moveTo>
                  <a:pt x="0" y="563"/>
                </a:moveTo>
                <a:lnTo>
                  <a:pt x="0" y="1128"/>
                </a:lnTo>
                <a:lnTo>
                  <a:pt x="890" y="1128"/>
                </a:lnTo>
                <a:lnTo>
                  <a:pt x="890" y="1694"/>
                </a:lnTo>
                <a:lnTo>
                  <a:pt x="1271" y="846"/>
                </a:lnTo>
                <a:lnTo>
                  <a:pt x="890" y="0"/>
                </a:lnTo>
                <a:lnTo>
                  <a:pt x="890" y="563"/>
                </a:lnTo>
                <a:lnTo>
                  <a:pt x="0" y="56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82640" y="5181480"/>
            <a:ext cx="5756040" cy="1598760"/>
            <a:chOff x="782640" y="5181480"/>
            <a:chExt cx="5756040" cy="1598760"/>
          </a:xfrm>
        </p:grpSpPr>
        <p:grpSp>
          <p:nvGrpSpPr>
            <p:cNvPr id="176" name=""/>
            <p:cNvGrpSpPr/>
            <p:nvPr/>
          </p:nvGrpSpPr>
          <p:grpSpPr>
            <a:xfrm>
              <a:off x="4876920" y="5599080"/>
              <a:ext cx="761760" cy="990720"/>
              <a:chOff x="4876920" y="5599080"/>
              <a:chExt cx="761760" cy="99072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5181480" y="55990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181480" y="6284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876920" y="62848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057400" y="5181480"/>
              <a:ext cx="2972160" cy="1295640"/>
            </a:xfrm>
            <a:custGeom>
              <a:avLst/>
              <a:gdLst/>
              <a:ahLst/>
              <a:rect l="0" t="0" r="r" b="b"/>
              <a:pathLst>
                <a:path fill="none" w="8256" h="3599">
                  <a:moveTo>
                    <a:pt x="0" y="3599"/>
                  </a:moveTo>
                  <a:lnTo>
                    <a:pt x="6605" y="3599"/>
                  </a:lnTo>
                  <a:lnTo>
                    <a:pt x="8256" y="2879"/>
                  </a:lnTo>
                  <a:lnTo>
                    <a:pt x="8256" y="0"/>
                  </a:lnTo>
                  <a:lnTo>
                    <a:pt x="6605" y="719"/>
                  </a:lnTo>
                  <a:lnTo>
                    <a:pt x="6605" y="3599"/>
                  </a:lnTo>
                  <a:lnTo>
                    <a:pt x="6605" y="719"/>
                  </a:lnTo>
                  <a:lnTo>
                    <a:pt x="0" y="719"/>
                  </a:lnTo>
                  <a:lnTo>
                    <a:pt x="1651" y="0"/>
                  </a:lnTo>
                  <a:lnTo>
                    <a:pt x="8256" y="0"/>
                  </a:lnTo>
                  <a:lnTo>
                    <a:pt x="1651" y="0"/>
                  </a:lnTo>
                  <a:lnTo>
                    <a:pt x="0" y="719"/>
                  </a:lnTo>
                  <a:lnTo>
                    <a:pt x="0" y="3599"/>
                  </a:lnTo>
                </a:path>
              </a:pathLst>
            </a:custGeom>
            <a:ln w="38160">
              <a:solidFill>
                <a:srgbClr val="00cc99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2879640" y="5546880"/>
              <a:ext cx="396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651040" y="6004080"/>
              <a:ext cx="396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44040" y="5543640"/>
              <a:ext cx="822240" cy="807120"/>
            </a:xfrm>
            <a:custGeom>
              <a:avLst/>
              <a:gdLst/>
              <a:ahLst/>
              <a:rect l="0" t="0" r="r" b="b"/>
              <a:pathLst>
                <a:path fill="none" w="2284" h="2242">
                  <a:moveTo>
                    <a:pt x="1696" y="2242"/>
                  </a:moveTo>
                  <a:lnTo>
                    <a:pt x="2284" y="47"/>
                  </a:lnTo>
                  <a:lnTo>
                    <a:pt x="2284" y="47"/>
                  </a:lnTo>
                  <a:lnTo>
                    <a:pt x="2284" y="47"/>
                  </a:lnTo>
                  <a:cubicBezTo>
                    <a:pt x="1986" y="-33"/>
                    <a:pt x="1667" y="-10"/>
                    <a:pt x="1357" y="114"/>
                  </a:cubicBezTo>
                  <a:cubicBezTo>
                    <a:pt x="1048" y="237"/>
                    <a:pt x="759" y="457"/>
                    <a:pt x="521" y="751"/>
                  </a:cubicBezTo>
                  <a:cubicBezTo>
                    <a:pt x="283" y="1044"/>
                    <a:pt x="103" y="1402"/>
                    <a:pt x="0" y="1787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7040" y="6096960"/>
              <a:ext cx="423720" cy="486720"/>
            </a:xfrm>
            <a:custGeom>
              <a:avLst/>
              <a:gdLst/>
              <a:ahLst/>
              <a:rect l="0" t="0" r="r" b="b"/>
              <a:pathLst>
                <a:path fill="none" w="1177" h="1352">
                  <a:moveTo>
                    <a:pt x="0" y="204"/>
                  </a:moveTo>
                  <a:lnTo>
                    <a:pt x="202" y="1352"/>
                  </a:lnTo>
                  <a:lnTo>
                    <a:pt x="202" y="1352"/>
                  </a:lnTo>
                  <a:cubicBezTo>
                    <a:pt x="406" y="1316"/>
                    <a:pt x="596" y="1228"/>
                    <a:pt x="755" y="1096"/>
                  </a:cubicBezTo>
                  <a:cubicBezTo>
                    <a:pt x="914" y="964"/>
                    <a:pt x="1035" y="793"/>
                    <a:pt x="1106" y="601"/>
                  </a:cubicBezTo>
                  <a:cubicBezTo>
                    <a:pt x="1177" y="408"/>
                    <a:pt x="1195" y="201"/>
                    <a:pt x="1160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79132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19520" y="6248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9880" y="6170400"/>
              <a:ext cx="228960" cy="156240"/>
            </a:xfrm>
            <a:custGeom>
              <a:avLst/>
              <a:gdLst/>
              <a:ahLst/>
              <a:rect l="0" t="0" r="r" b="b"/>
              <a:pathLst>
                <a:path w="636" h="434">
                  <a:moveTo>
                    <a:pt x="636" y="205"/>
                  </a:moveTo>
                  <a:lnTo>
                    <a:pt x="636" y="205"/>
                  </a:lnTo>
                  <a:lnTo>
                    <a:pt x="636" y="205"/>
                  </a:lnTo>
                  <a:cubicBezTo>
                    <a:pt x="635" y="167"/>
                    <a:pt x="619" y="131"/>
                    <a:pt x="590" y="99"/>
                  </a:cubicBezTo>
                  <a:cubicBezTo>
                    <a:pt x="561" y="67"/>
                    <a:pt x="519" y="41"/>
                    <a:pt x="470" y="23"/>
                  </a:cubicBezTo>
                  <a:cubicBezTo>
                    <a:pt x="421" y="6"/>
                    <a:pt x="366" y="-2"/>
                    <a:pt x="310" y="0"/>
                  </a:cubicBezTo>
                  <a:cubicBezTo>
                    <a:pt x="255" y="2"/>
                    <a:pt x="200" y="14"/>
                    <a:pt x="152" y="35"/>
                  </a:cubicBezTo>
                  <a:cubicBezTo>
                    <a:pt x="105" y="55"/>
                    <a:pt x="66" y="84"/>
                    <a:pt x="39" y="118"/>
                  </a:cubicBezTo>
                  <a:cubicBezTo>
                    <a:pt x="12" y="152"/>
                    <a:pt x="-1" y="190"/>
                    <a:pt x="0" y="228"/>
                  </a:cubicBezTo>
                  <a:lnTo>
                    <a:pt x="0" y="228"/>
                  </a:lnTo>
                  <a:lnTo>
                    <a:pt x="0" y="228"/>
                  </a:lnTo>
                  <a:cubicBezTo>
                    <a:pt x="1" y="266"/>
                    <a:pt x="17" y="302"/>
                    <a:pt x="46" y="334"/>
                  </a:cubicBezTo>
                  <a:cubicBezTo>
                    <a:pt x="75" y="366"/>
                    <a:pt x="117" y="392"/>
                    <a:pt x="166" y="410"/>
                  </a:cubicBezTo>
                  <a:cubicBezTo>
                    <a:pt x="215" y="427"/>
                    <a:pt x="270" y="435"/>
                    <a:pt x="326" y="433"/>
                  </a:cubicBezTo>
                  <a:cubicBezTo>
                    <a:pt x="381" y="431"/>
                    <a:pt x="436" y="419"/>
                    <a:pt x="484" y="398"/>
                  </a:cubicBezTo>
                  <a:cubicBezTo>
                    <a:pt x="531" y="378"/>
                    <a:pt x="570" y="349"/>
                    <a:pt x="597" y="315"/>
                  </a:cubicBezTo>
                  <a:cubicBezTo>
                    <a:pt x="624" y="281"/>
                    <a:pt x="637" y="243"/>
                    <a:pt x="636" y="205"/>
                  </a:cubicBezTo>
                  <a:close/>
                </a:path>
              </a:pathLst>
            </a:cu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305320" y="5419800"/>
              <a:ext cx="1233360" cy="75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t=31.142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ng=97.76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v=3125.4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82640" y="5661000"/>
              <a:ext cx="1325520" cy="533520"/>
              <a:chOff x="782640" y="5661000"/>
              <a:chExt cx="1325520" cy="533520"/>
            </a:xfrm>
          </p:grpSpPr>
          <p:sp>
            <p:nvSpPr>
              <p:cNvPr id="190" name=""/>
              <p:cNvSpPr txBox="1"/>
              <p:nvPr/>
            </p:nvSpPr>
            <p:spPr>
              <a:xfrm>
                <a:off x="782640" y="5661000"/>
                <a:ext cx="13255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ensor loc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822240" y="5889600"/>
                <a:ext cx="12351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D trajecto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 txBox="1"/>
            <p:nvPr/>
          </p:nvSpPr>
          <p:spPr>
            <a:xfrm>
              <a:off x="5318280" y="6308640"/>
              <a:ext cx="1157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PS read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2575080" y="6475320"/>
              <a:ext cx="2168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iangulated target lo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28600" y="1828800"/>
            <a:ext cx="1523880" cy="914400"/>
            <a:chOff x="228600" y="1828800"/>
            <a:chExt cx="1523880" cy="914400"/>
          </a:xfrm>
        </p:grpSpPr>
        <p:sp>
          <p:nvSpPr>
            <p:cNvPr id="195" name=""/>
            <p:cNvSpPr/>
            <p:nvPr/>
          </p:nvSpPr>
          <p:spPr>
            <a:xfrm>
              <a:off x="228600" y="1828800"/>
              <a:ext cx="1523880" cy="9144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355680" y="1943280"/>
              <a:ext cx="1309680" cy="72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04840" y="719280"/>
            <a:ext cx="716292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Architecture -Base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33520" y="1181160"/>
            <a:ext cx="8305560" cy="5295960"/>
            <a:chOff x="533520" y="1181160"/>
            <a:chExt cx="8305560" cy="5295960"/>
          </a:xfrm>
        </p:grpSpPr>
        <p:sp>
          <p:nvSpPr>
            <p:cNvPr id="201" name=""/>
            <p:cNvSpPr/>
            <p:nvPr/>
          </p:nvSpPr>
          <p:spPr>
            <a:xfrm>
              <a:off x="5268960" y="1676520"/>
              <a:ext cx="3570120" cy="10288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33520" y="1181160"/>
              <a:ext cx="7942320" cy="5295960"/>
              <a:chOff x="533520" y="1181160"/>
              <a:chExt cx="7942320" cy="5295960"/>
            </a:xfrm>
          </p:grpSpPr>
          <p:sp>
            <p:nvSpPr>
              <p:cNvPr id="203" name=""/>
              <p:cNvSpPr txBox="1"/>
              <p:nvPr/>
            </p:nvSpPr>
            <p:spPr>
              <a:xfrm>
                <a:off x="5950080" y="1895400"/>
                <a:ext cx="205092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ualization 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r Interf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2041560" y="2971800"/>
                <a:ext cx="2502000" cy="914400"/>
                <a:chOff x="2041560" y="2971800"/>
                <a:chExt cx="2502000" cy="9144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041560" y="2971800"/>
                  <a:ext cx="2502000" cy="91440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 txBox="1"/>
                <p:nvPr/>
              </p:nvSpPr>
              <p:spPr>
                <a:xfrm>
                  <a:off x="2544840" y="3083040"/>
                  <a:ext cx="1542960" cy="64152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lti-senso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teg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535720" y="3886200"/>
                <a:ext cx="2233440" cy="7239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5557680" y="3951360"/>
                <a:ext cx="22226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ene Represen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92400" y="4419720"/>
                <a:ext cx="2233440" cy="7239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49360" y="4419720"/>
                <a:ext cx="1393920" cy="704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1662120" y="4589640"/>
                <a:ext cx="7682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p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3489480" y="4460760"/>
                <a:ext cx="14414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llate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041560" y="5562720"/>
                <a:ext cx="2502000" cy="914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2376360" y="5837400"/>
                <a:ext cx="1835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sor Contr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1168560" y="1635120"/>
                <a:ext cx="781200" cy="366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155680" y="3886200"/>
                <a:ext cx="64944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3741840" y="3886200"/>
                <a:ext cx="45720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43560" y="3429000"/>
                <a:ext cx="992160" cy="81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6662880" y="2705040"/>
                <a:ext cx="0" cy="11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19760" y="464832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581360" y="5791320"/>
                <a:ext cx="213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81360" y="6248520"/>
                <a:ext cx="389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8475840" y="2705040"/>
                <a:ext cx="0" cy="350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533520" y="1181160"/>
                <a:ext cx="4735440" cy="4991760"/>
                <a:chOff x="533520" y="1181160"/>
                <a:chExt cx="4735440" cy="4991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397320" y="220968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587760" y="2362320"/>
                  <a:ext cx="0" cy="60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533520" y="1181160"/>
                  <a:ext cx="4735440" cy="4991760"/>
                  <a:chOff x="533520" y="1181160"/>
                  <a:chExt cx="4735440" cy="499176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533520" y="1181160"/>
                    <a:ext cx="534960" cy="1371600"/>
                    <a:chOff x="533520" y="1181160"/>
                    <a:chExt cx="534960" cy="137160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685800" y="1866960"/>
                      <a:ext cx="382680" cy="685800"/>
                    </a:xfrm>
                    <a:prstGeom prst="rect">
                      <a:avLst/>
                    </a:pr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V="1">
                      <a:off x="876240" y="1486080"/>
                      <a:ext cx="0" cy="380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685800" y="1314360"/>
                      <a:ext cx="21060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85" h="530">
                          <a:moveTo>
                            <a:pt x="585" y="530"/>
                          </a:moveTo>
                          <a:lnTo>
                            <a:pt x="585" y="0"/>
                          </a:lnTo>
                          <a:lnTo>
                            <a:pt x="585" y="0"/>
                          </a:lnTo>
                          <a:cubicBezTo>
                            <a:pt x="482" y="0"/>
                            <a:pt x="381" y="24"/>
                            <a:pt x="292" y="71"/>
                          </a:cubicBezTo>
                          <a:cubicBezTo>
                            <a:pt x="204" y="118"/>
                            <a:pt x="130" y="184"/>
                            <a:pt x="78" y="265"/>
                          </a:cubicBezTo>
                          <a:cubicBezTo>
                            <a:pt x="27" y="346"/>
                            <a:pt x="0" y="437"/>
                            <a:pt x="0" y="530"/>
                          </a:cubicBezTo>
                          <a:lnTo>
                            <a:pt x="585" y="530"/>
                          </a:lnTo>
                          <a:close/>
                        </a:path>
                      </a:pathLst>
                    </a:cu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533520" y="1181160"/>
                      <a:ext cx="401400" cy="3812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5" h="1059">
                          <a:moveTo>
                            <a:pt x="1115" y="1059"/>
                          </a:moveTo>
                          <a:lnTo>
                            <a:pt x="1115" y="0"/>
                          </a:lnTo>
                          <a:lnTo>
                            <a:pt x="1115" y="0"/>
                          </a:lnTo>
                          <a:cubicBezTo>
                            <a:pt x="919" y="0"/>
                            <a:pt x="727" y="49"/>
                            <a:pt x="557" y="142"/>
                          </a:cubicBezTo>
                          <a:cubicBezTo>
                            <a:pt x="388" y="235"/>
                            <a:pt x="247" y="369"/>
                            <a:pt x="149" y="530"/>
                          </a:cubicBezTo>
                          <a:cubicBezTo>
                            <a:pt x="52" y="690"/>
                            <a:pt x="0" y="873"/>
                            <a:pt x="0" y="1059"/>
                          </a:cubicBezTo>
                          <a:lnTo>
                            <a:pt x="1115" y="1059"/>
                          </a:lnTo>
                          <a:close/>
                        </a:path>
                      </a:pathLst>
                    </a:cu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844560" y="1428840"/>
                      <a:ext cx="58680" cy="57240"/>
                    </a:xfrm>
                    <a:prstGeom prst="ellipse">
                      <a:avLst/>
                    </a:pr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4" name=""/>
                  <p:cNvSpPr/>
                  <p:nvPr/>
                </p:nvSpPr>
                <p:spPr>
                  <a:xfrm>
                    <a:off x="876240" y="2552760"/>
                    <a:ext cx="1159200" cy="33152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20" h="9209">
                        <a:moveTo>
                          <a:pt x="3220" y="9209"/>
                        </a:moveTo>
                        <a:lnTo>
                          <a:pt x="0" y="9209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220760" y="2209680"/>
                    <a:ext cx="4048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685800" y="1333440"/>
                    <a:ext cx="4583160" cy="4686840"/>
                    <a:chOff x="685800" y="1333440"/>
                    <a:chExt cx="4583160" cy="468684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068480" y="2057400"/>
                      <a:ext cx="4200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3206880" y="2057400"/>
                      <a:ext cx="0" cy="914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685800" y="1333440"/>
                      <a:ext cx="534960" cy="1371600"/>
                      <a:chOff x="685800" y="1333440"/>
                      <a:chExt cx="534960" cy="137160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838080" y="2019240"/>
                        <a:ext cx="382680" cy="685800"/>
                      </a:xfrm>
                      <a:prstGeom prst="rect">
                        <a:avLst/>
                      </a:prstGeom>
                      <a:solidFill>
                        <a:srgbClr val="ffa27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 flipV="1">
                        <a:off x="1030320" y="1638360"/>
                        <a:ext cx="0" cy="380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838080" y="1467000"/>
                        <a:ext cx="21060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585" h="530">
                            <a:moveTo>
                              <a:pt x="585" y="530"/>
                            </a:moveTo>
                            <a:lnTo>
                              <a:pt x="585" y="0"/>
                            </a:lnTo>
                            <a:lnTo>
                              <a:pt x="585" y="0"/>
                            </a:lnTo>
                            <a:cubicBezTo>
                              <a:pt x="482" y="0"/>
                              <a:pt x="381" y="24"/>
                              <a:pt x="292" y="71"/>
                            </a:cubicBezTo>
                            <a:cubicBezTo>
                              <a:pt x="204" y="118"/>
                              <a:pt x="130" y="184"/>
                              <a:pt x="78" y="265"/>
                            </a:cubicBezTo>
                            <a:cubicBezTo>
                              <a:pt x="27" y="346"/>
                              <a:pt x="0" y="437"/>
                              <a:pt x="0" y="530"/>
                            </a:cubicBezTo>
                            <a:lnTo>
                              <a:pt x="585" y="530"/>
                            </a:lnTo>
                            <a:close/>
                          </a:path>
                        </a:pathLst>
                      </a:custGeom>
                      <a:solidFill>
                        <a:srgbClr val="ffa27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685800" y="1333440"/>
                        <a:ext cx="401400" cy="3812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15" h="1059">
                            <a:moveTo>
                              <a:pt x="1115" y="1059"/>
                            </a:moveTo>
                            <a:lnTo>
                              <a:pt x="1115" y="0"/>
                            </a:lnTo>
                            <a:lnTo>
                              <a:pt x="1115" y="0"/>
                            </a:lnTo>
                            <a:cubicBezTo>
                              <a:pt x="919" y="0"/>
                              <a:pt x="727" y="49"/>
                              <a:pt x="557" y="142"/>
                            </a:cubicBezTo>
                            <a:cubicBezTo>
                              <a:pt x="388" y="235"/>
                              <a:pt x="247" y="369"/>
                              <a:pt x="149" y="530"/>
                            </a:cubicBezTo>
                            <a:cubicBezTo>
                              <a:pt x="52" y="690"/>
                              <a:pt x="0" y="873"/>
                              <a:pt x="0" y="1059"/>
                            </a:cubicBezTo>
                            <a:lnTo>
                              <a:pt x="1115" y="1059"/>
                            </a:lnTo>
                            <a:close/>
                          </a:path>
                        </a:pathLst>
                      </a:custGeom>
                      <a:solidFill>
                        <a:srgbClr val="ffa27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998640" y="1581120"/>
                        <a:ext cx="57240" cy="57240"/>
                      </a:xfrm>
                      <a:prstGeom prst="ellipse">
                        <a:avLst/>
                      </a:prstGeom>
                      <a:solidFill>
                        <a:srgbClr val="ffa27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6120" bIns="6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1030320" y="2705040"/>
                      <a:ext cx="1030680" cy="33152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2863" h="9209">
                          <a:moveTo>
                            <a:pt x="2863" y="9209"/>
                          </a:moveTo>
                          <a:lnTo>
                            <a:pt x="0" y="920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838080" y="1486080"/>
                    <a:ext cx="534960" cy="1371600"/>
                    <a:chOff x="838080" y="1486080"/>
                    <a:chExt cx="534960" cy="137160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992160" y="2171880"/>
                      <a:ext cx="380880" cy="685800"/>
                    </a:xfrm>
                    <a:prstGeom prst="rect">
                      <a:avLst/>
                    </a:pr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V="1">
                      <a:off x="1182600" y="1790640"/>
                      <a:ext cx="0" cy="381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992160" y="1619280"/>
                      <a:ext cx="2098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83" h="530">
                          <a:moveTo>
                            <a:pt x="583" y="530"/>
                          </a:moveTo>
                          <a:lnTo>
                            <a:pt x="583" y="0"/>
                          </a:lnTo>
                          <a:lnTo>
                            <a:pt x="583" y="0"/>
                          </a:lnTo>
                          <a:cubicBezTo>
                            <a:pt x="481" y="0"/>
                            <a:pt x="380" y="24"/>
                            <a:pt x="291" y="71"/>
                          </a:cubicBezTo>
                          <a:cubicBezTo>
                            <a:pt x="203" y="118"/>
                            <a:pt x="129" y="184"/>
                            <a:pt x="78" y="265"/>
                          </a:cubicBezTo>
                          <a:cubicBezTo>
                            <a:pt x="27" y="346"/>
                            <a:pt x="0" y="437"/>
                            <a:pt x="0" y="530"/>
                          </a:cubicBezTo>
                          <a:lnTo>
                            <a:pt x="583" y="530"/>
                          </a:lnTo>
                          <a:close/>
                        </a:path>
                      </a:pathLst>
                    </a:cu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838080" y="1486080"/>
                      <a:ext cx="402120" cy="3812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7" h="1059">
                          <a:moveTo>
                            <a:pt x="1117" y="1059"/>
                          </a:moveTo>
                          <a:lnTo>
                            <a:pt x="1117" y="0"/>
                          </a:lnTo>
                          <a:lnTo>
                            <a:pt x="1117" y="0"/>
                          </a:lnTo>
                          <a:cubicBezTo>
                            <a:pt x="921" y="0"/>
                            <a:pt x="728" y="49"/>
                            <a:pt x="558" y="142"/>
                          </a:cubicBezTo>
                          <a:cubicBezTo>
                            <a:pt x="389" y="235"/>
                            <a:pt x="248" y="369"/>
                            <a:pt x="150" y="530"/>
                          </a:cubicBezTo>
                          <a:cubicBezTo>
                            <a:pt x="52" y="690"/>
                            <a:pt x="0" y="873"/>
                            <a:pt x="0" y="1059"/>
                          </a:cubicBezTo>
                          <a:lnTo>
                            <a:pt x="1117" y="1059"/>
                          </a:lnTo>
                          <a:close/>
                        </a:path>
                      </a:pathLst>
                    </a:cu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1150920" y="1733400"/>
                      <a:ext cx="57240" cy="57240"/>
                    </a:xfrm>
                    <a:prstGeom prst="ellipse">
                      <a:avLst/>
                    </a:pr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2" name=""/>
                  <p:cNvSpPr/>
                  <p:nvPr/>
                </p:nvSpPr>
                <p:spPr>
                  <a:xfrm>
                    <a:off x="1373040" y="2362320"/>
                    <a:ext cx="389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182600" y="2857680"/>
                    <a:ext cx="878400" cy="33152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440" h="9209">
                        <a:moveTo>
                          <a:pt x="2440" y="9209"/>
                        </a:moveTo>
                        <a:lnTo>
                          <a:pt x="0" y="9209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90720" y="381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85800" y="2971800"/>
            <a:ext cx="7772400" cy="2895480"/>
            <a:chOff x="685800" y="2971800"/>
            <a:chExt cx="7772400" cy="2895480"/>
          </a:xfrm>
        </p:grpSpPr>
        <p:sp>
          <p:nvSpPr>
            <p:cNvPr id="258" name=""/>
            <p:cNvSpPr/>
            <p:nvPr/>
          </p:nvSpPr>
          <p:spPr>
            <a:xfrm>
              <a:off x="1143000" y="3429000"/>
              <a:ext cx="45720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800" y="3962520"/>
              <a:ext cx="1295280" cy="838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824040" y="4243320"/>
              <a:ext cx="10098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/Ti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6680" y="2971800"/>
              <a:ext cx="60948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4400" y="2971800"/>
              <a:ext cx="152640" cy="228960"/>
            </a:xfrm>
            <a:custGeom>
              <a:avLst/>
              <a:gdLst/>
              <a:ahLst/>
              <a:rect l="0" t="0" r="r" b="b"/>
              <a:pathLst>
                <a:path w="424" h="636">
                  <a:moveTo>
                    <a:pt x="424" y="211"/>
                  </a:moveTo>
                  <a:lnTo>
                    <a:pt x="0" y="0"/>
                  </a:lnTo>
                  <a:lnTo>
                    <a:pt x="0" y="636"/>
                  </a:lnTo>
                  <a:lnTo>
                    <a:pt x="424" y="424"/>
                  </a:lnTo>
                  <a:lnTo>
                    <a:pt x="424" y="21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71600" y="3200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2971800"/>
              <a:ext cx="2590920" cy="2895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67280" y="2971800"/>
              <a:ext cx="2590920" cy="289548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414600" y="3025800"/>
              <a:ext cx="1085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VFE-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2652840" y="3405240"/>
              <a:ext cx="25970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det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bust tr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appeara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e pan / tilt / z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156360" y="3025800"/>
              <a:ext cx="1530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Sensor H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6004080" y="3405240"/>
              <a:ext cx="2228760" cy="17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cking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 unit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6520" y="30862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30862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57800" y="46101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981080" y="4419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533520" y="1600200"/>
            <a:ext cx="5562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Processing Unit (S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91320" y="6324480"/>
            <a:ext cx="304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Turn, Interactive Lab, C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681440" y="1905120"/>
            <a:ext cx="3929040" cy="3365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1219320" y="22860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Modal Gesture-based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Collins</dc:creator>
  <dc:description/>
  <dc:language>en-US</dc:language>
  <cp:lastModifiedBy>Robert Collins</cp:lastModifiedBy>
  <cp:revision>0</cp:revision>
  <dc:subject/>
  <dc:title>No Slide Title</dc:title>
</cp:coreProperties>
</file>