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66B4A1B-1802-4BF0-AF6A-6429F624C1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685800" y="1066680"/>
            <a:ext cx="7772400" cy="76320"/>
            <a:chOff x="685800" y="1066680"/>
            <a:chExt cx="7772400" cy="76320"/>
          </a:xfrm>
        </p:grpSpPr>
        <p:sp>
          <p:nvSpPr>
            <p:cNvPr id="2" name=""/>
            <p:cNvSpPr/>
            <p:nvPr/>
          </p:nvSpPr>
          <p:spPr>
            <a:xfrm>
              <a:off x="685800" y="1066680"/>
              <a:ext cx="7772400" cy="0"/>
            </a:xfrm>
            <a:prstGeom prst="line">
              <a:avLst/>
            </a:prstGeom>
            <a:ln w="7632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-83160" bIns="-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85800" y="1143000"/>
              <a:ext cx="7772400" cy="0"/>
            </a:xfrm>
            <a:prstGeom prst="line">
              <a:avLst/>
            </a:prstGeom>
            <a:ln w="381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"/>
          <p:cNvSpPr txBox="1"/>
          <p:nvPr/>
        </p:nvSpPr>
        <p:spPr>
          <a:xfrm>
            <a:off x="8290080" y="6589800"/>
            <a:ext cx="74304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AM_IU_PI_9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533520" y="1676520"/>
            <a:ext cx="792468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AM Breakout Session Summary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6 DARPA IU PI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2193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685800" y="7632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09480" y="2514600"/>
            <a:ext cx="2514600" cy="3733920"/>
            <a:chOff x="609480" y="2514600"/>
            <a:chExt cx="2514600" cy="3733920"/>
          </a:xfrm>
        </p:grpSpPr>
        <p:sp>
          <p:nvSpPr>
            <p:cNvPr id="87" name=""/>
            <p:cNvSpPr txBox="1"/>
            <p:nvPr/>
          </p:nvSpPr>
          <p:spPr>
            <a:xfrm>
              <a:off x="609480" y="2514600"/>
              <a:ext cx="25146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arget Dete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 txBox="1"/>
            <p:nvPr/>
          </p:nvSpPr>
          <p:spPr>
            <a:xfrm>
              <a:off x="609480" y="3200400"/>
              <a:ext cx="25146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arget Track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 txBox="1"/>
            <p:nvPr/>
          </p:nvSpPr>
          <p:spPr>
            <a:xfrm>
              <a:off x="609480" y="3809880"/>
              <a:ext cx="25146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ctive Vis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 txBox="1"/>
            <p:nvPr/>
          </p:nvSpPr>
          <p:spPr>
            <a:xfrm>
              <a:off x="609480" y="4419720"/>
              <a:ext cx="25146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nsor Fus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 txBox="1"/>
            <p:nvPr/>
          </p:nvSpPr>
          <p:spPr>
            <a:xfrm>
              <a:off x="609480" y="5105520"/>
              <a:ext cx="25146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nsor Hand-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609480" y="5791320"/>
              <a:ext cx="25146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perator Contr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3276720" y="1434960"/>
            <a:ext cx="5105520" cy="822240"/>
            <a:chOff x="3276720" y="1434960"/>
            <a:chExt cx="5105520" cy="822240"/>
          </a:xfrm>
        </p:grpSpPr>
        <p:sp>
          <p:nvSpPr>
            <p:cNvPr id="94" name=""/>
            <p:cNvSpPr txBox="1"/>
            <p:nvPr/>
          </p:nvSpPr>
          <p:spPr>
            <a:xfrm>
              <a:off x="3276720" y="1504800"/>
              <a:ext cx="15238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# Targe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 txBox="1"/>
            <p:nvPr/>
          </p:nvSpPr>
          <p:spPr>
            <a:xfrm>
              <a:off x="4191120" y="1609560"/>
              <a:ext cx="990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pe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 txBox="1"/>
            <p:nvPr/>
          </p:nvSpPr>
          <p:spPr>
            <a:xfrm>
              <a:off x="5089680" y="1434960"/>
              <a:ext cx="1081080" cy="82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ns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o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 txBox="1"/>
            <p:nvPr/>
          </p:nvSpPr>
          <p:spPr>
            <a:xfrm>
              <a:off x="6095880" y="1577880"/>
              <a:ext cx="11430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O/I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 txBox="1"/>
            <p:nvPr/>
          </p:nvSpPr>
          <p:spPr>
            <a:xfrm>
              <a:off x="6705720" y="1506600"/>
              <a:ext cx="16765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round/Ai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3276720" y="2590920"/>
            <a:ext cx="4419720" cy="3657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733920" y="3581280"/>
            <a:ext cx="342900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ntitative Metr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 Interactiv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rimental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7632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edul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12193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ril 1 97: Workshop 1 (Kick-off meeting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Prince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e, Scenari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-June 97: User tech review (IFD) at NVE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97: Workshop 2 (Planning Y1 Dem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v 97: Year 1 Demo, Workshop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b 98: Workshop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ril-May 98: User review (IF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ne 98: Workshop 5 (Y2 Demo Plann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t 98: Y2 Demo, Workshop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09480" y="62485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collection events.  Piggybacking with other ev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85800" y="7632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viron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12193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hasis on Realtim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AM input to IUE on video processing requirements and spe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ftware Clearing H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D will provide Interface Defns, for software and hardware used on the testbed to F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85800" y="7632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 Sup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st two VSAM workshops per ye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st annual demos to showcase new VSAM IU techn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tain a Web site to disseminate data and provide a sense of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 the IFD VSAM testbed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7632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ology Transf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765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D system for video surveillance for experimentation and evaluation by DOD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FD testbed to allow testing and demonstrating VSAM techn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VSAM knowledge base and clearing h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ercialization of mature component technologies through other parallel eff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7632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-IFD (FRE-FRE) Syner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2193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forced marri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portunities for Synerg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red technology goals/inter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ring of technology develop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ons with the user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col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AM technology clearing 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S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Sub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7632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2193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Levels of Co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D Demos provide time and place to showcase FRE techn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IFD team makes available demo infrastructure, equipment (platform, sensors, ...) to F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FRE technology components on the IFD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85800" y="7632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Subgrou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2193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rpo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ilitate cooperation and collaboration on common technical interes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ical exchanges and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on data collection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 Scenarios / Demo 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 requirement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ergize tech transfer approa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 with IFD Data and Demo P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85800" y="7632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 of Subgrou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2193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Ground based vehicle monitoring and event analys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D, Cornell, MIT (AI), TI, Hebrew+Weizmann, SRI, UC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Human activity moni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yland, Rochester, MIT (Media), MIT (AI), UCSD, 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UAV (Airborne) Video 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D, Cornell, USC, Hebrew+Weizman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Visualization + VR-Overl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D, Rochester, Hebrew+Weizmann, UC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Sensors and Sensor Level 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D, SRI, MIT (A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990720" y="285840"/>
            <a:ext cx="716292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Coll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371600"/>
            <a:ext cx="838188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enario 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lan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 Contribution and Coordination for each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tain, Manage and Disseminat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WL facility for storage &amp; distribu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ailed Plan at Program Kickoff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85800" y="76320"/>
            <a:ext cx="7772400" cy="112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in VSAM Commun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2193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 (Setup by Dec 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 exchange (technical, schedules, event announcements, reports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group issues and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ks to contractor home p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-m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 student (and PI?) residence at IFD la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685800" y="7632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Us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295280" y="2590920"/>
            <a:ext cx="6788520" cy="2743200"/>
            <a:chOff x="1295280" y="2590920"/>
            <a:chExt cx="6788520" cy="2743200"/>
          </a:xfrm>
        </p:grpSpPr>
        <p:grpSp>
          <p:nvGrpSpPr>
            <p:cNvPr id="67" name=""/>
            <p:cNvGrpSpPr/>
            <p:nvPr/>
          </p:nvGrpSpPr>
          <p:grpSpPr>
            <a:xfrm>
              <a:off x="1295280" y="2590920"/>
              <a:ext cx="6788520" cy="2743200"/>
              <a:chOff x="1295280" y="2590920"/>
              <a:chExt cx="6788520" cy="2743200"/>
            </a:xfrm>
          </p:grpSpPr>
          <p:grpSp>
            <p:nvGrpSpPr>
              <p:cNvPr id="68" name=""/>
              <p:cNvGrpSpPr/>
              <p:nvPr/>
            </p:nvGrpSpPr>
            <p:grpSpPr>
              <a:xfrm>
                <a:off x="3352680" y="2590920"/>
                <a:ext cx="1676520" cy="990720"/>
                <a:chOff x="3352680" y="2590920"/>
                <a:chExt cx="1676520" cy="99072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3352680" y="2590920"/>
                  <a:ext cx="1676520" cy="990720"/>
                </a:xfrm>
                <a:prstGeom prst="rect">
                  <a:avLst/>
                </a:prstGeom>
                <a:blipFill rotWithShape="0">
                  <a:blip r:embed="rId1"/>
                  <a:tile tx="0" ty="0" sx="133018" sy="133018" algn="ctr"/>
                </a:blip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3657600" y="2895480"/>
                  <a:ext cx="990720" cy="457200"/>
                </a:xfrm>
                <a:prstGeom prst="rect">
                  <a:avLst/>
                </a:prstGeom>
                <a:blipFill rotWithShape="0">
                  <a:blip r:embed="rId2"/>
                  <a:tile tx="0" ty="0" sx="133018" sy="133018" algn="ctr"/>
                </a:blipFill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sers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" name=""/>
              <p:cNvGrpSpPr/>
              <p:nvPr/>
            </p:nvGrpSpPr>
            <p:grpSpPr>
              <a:xfrm>
                <a:off x="6019920" y="4343400"/>
                <a:ext cx="1676520" cy="990720"/>
                <a:chOff x="6019920" y="4343400"/>
                <a:chExt cx="1676520" cy="990720"/>
              </a:xfrm>
            </p:grpSpPr>
            <p:sp>
              <p:nvSpPr>
                <p:cNvPr id="72" name=""/>
                <p:cNvSpPr/>
                <p:nvPr/>
              </p:nvSpPr>
              <p:spPr>
                <a:xfrm>
                  <a:off x="6019920" y="4343400"/>
                  <a:ext cx="1676520" cy="990720"/>
                </a:xfrm>
                <a:prstGeom prst="rect">
                  <a:avLst/>
                </a:prstGeom>
                <a:blipFill rotWithShape="0">
                  <a:blip r:embed="rId3"/>
                  <a:tile tx="0" ty="0" sx="133018" sy="133018" algn="ctr"/>
                </a:blip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 txBox="1"/>
                <p:nvPr/>
              </p:nvSpPr>
              <p:spPr>
                <a:xfrm>
                  <a:off x="6324480" y="4648320"/>
                  <a:ext cx="990720" cy="457200"/>
                </a:xfrm>
                <a:prstGeom prst="rect">
                  <a:avLst/>
                </a:prstGeom>
                <a:blipFill rotWithShape="0">
                  <a:blip r:embed="rId4"/>
                  <a:tile tx="0" ty="0" sx="133018" sy="133018" algn="ctr"/>
                </a:blipFill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FD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" name=""/>
              <p:cNvSpPr/>
              <p:nvPr/>
            </p:nvSpPr>
            <p:spPr>
              <a:xfrm>
                <a:off x="6019920" y="2895480"/>
                <a:ext cx="2063880" cy="990720"/>
              </a:xfrm>
              <a:prstGeom prst="rect">
                <a:avLst/>
              </a:prstGeom>
              <a:blipFill rotWithShape="0">
                <a:blip r:embed="rId5"/>
                <a:tile tx="0" ty="0" sx="133018" sy="133018" algn="ctr"/>
              </a:blip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295280" y="3962520"/>
                <a:ext cx="1676520" cy="99072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 txBox="1"/>
              <p:nvPr/>
            </p:nvSpPr>
            <p:spPr>
              <a:xfrm>
                <a:off x="4267080" y="3581280"/>
                <a:ext cx="2057400" cy="11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Interest Requirement Deposi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>
                <a:off x="3124080" y="3657600"/>
                <a:ext cx="45720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V="1">
                <a:off x="3429000" y="4495680"/>
                <a:ext cx="68580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" name=""/>
            <p:cNvGrpSpPr/>
            <p:nvPr/>
          </p:nvGrpSpPr>
          <p:grpSpPr>
            <a:xfrm>
              <a:off x="1676520" y="4267080"/>
              <a:ext cx="1676520" cy="990720"/>
              <a:chOff x="1676520" y="4267080"/>
              <a:chExt cx="1676520" cy="990720"/>
            </a:xfrm>
          </p:grpSpPr>
          <p:sp>
            <p:nvSpPr>
              <p:cNvPr id="80" name=""/>
              <p:cNvSpPr/>
              <p:nvPr/>
            </p:nvSpPr>
            <p:spPr>
              <a:xfrm>
                <a:off x="1676520" y="4267080"/>
                <a:ext cx="1676520" cy="990720"/>
              </a:xfrm>
              <a:prstGeom prst="rect">
                <a:avLst/>
              </a:prstGeom>
              <a:blipFill rotWithShape="0">
                <a:blip r:embed="rId6"/>
                <a:tile tx="0" ty="0" sx="133018" sy="133018" algn="ctr"/>
              </a:blip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 txBox="1"/>
              <p:nvPr/>
            </p:nvSpPr>
            <p:spPr>
              <a:xfrm>
                <a:off x="1981080" y="4572000"/>
                <a:ext cx="990720" cy="457200"/>
              </a:xfrm>
              <a:prstGeom prst="rect">
                <a:avLst/>
              </a:prstGeom>
              <a:blipFill rotWithShape="0">
                <a:blip r:embed="rId7"/>
                <a:tile tx="0" ty="0" sx="133018" sy="133018" algn="ctr"/>
              </a:blipFill>
              <a:ln w="0">
                <a:noFill/>
              </a:ln>
              <a:effectLst>
                <a:outerShdw dist="0" dir="0" blurRad="0" rotWithShape="0">
                  <a:srgbClr val="969696"/>
                </a:outerShdw>
              </a:effectLst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FR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2" name=""/>
          <p:cNvSpPr txBox="1"/>
          <p:nvPr/>
        </p:nvSpPr>
        <p:spPr>
          <a:xfrm>
            <a:off x="6461280" y="3184560"/>
            <a:ext cx="12002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VE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685800" y="7632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5800" y="12193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D Lead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lk to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y problems and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 them onto F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VSAM vi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ize the performance of IF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RE VSAM cap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on of maturity by live de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keo Kenade</dc:creator>
  <dc:description/>
  <dc:language>en-US</dc:language>
  <cp:lastModifiedBy>Takeo Kenade</cp:lastModifiedBy>
  <cp:revision>0</cp:revision>
  <dc:subject/>
  <dc:title>No Slide Title</dc:title>
</cp:coreProperties>
</file>