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28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bmp" ContentType="image/bmp"/>
  <Override PartName="/ppt/media/image2.wmf" ContentType="image/x-wmf"/>
  <Override PartName="/ppt/media/image25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bmp"/><Relationship Id="rId5" Type="http://schemas.openxmlformats.org/officeDocument/2006/relationships/image" Target="../media/image16.bmp"/><Relationship Id="rId6" Type="http://schemas.openxmlformats.org/officeDocument/2006/relationships/image" Target="../media/image13.wmf"/><Relationship Id="rId7" Type="http://schemas.openxmlformats.org/officeDocument/2006/relationships/image" Target="../media/image17.wmf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image" Target="../media/image21.wmf"/><Relationship Id="rId5" Type="http://schemas.openxmlformats.org/officeDocument/2006/relationships/image" Target="../media/image22.wmf"/><Relationship Id="rId6" Type="http://schemas.openxmlformats.org/officeDocument/2006/relationships/image" Target="../media/image23.wmf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4.wmf"/><Relationship Id="rId8" Type="http://schemas.openxmlformats.org/officeDocument/2006/relationships/image" Target="../media/image5.wmf"/><Relationship Id="rId9" Type="http://schemas.openxmlformats.org/officeDocument/2006/relationships/image" Target="../media/image5.wmf"/><Relationship Id="rId10" Type="http://schemas.openxmlformats.org/officeDocument/2006/relationships/image" Target="../media/image3.wmf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1.wmf"/><Relationship Id="rId4" Type="http://schemas.openxmlformats.org/officeDocument/2006/relationships/image" Target="../media/image5.wmf"/><Relationship Id="rId5" Type="http://schemas.openxmlformats.org/officeDocument/2006/relationships/image" Target="../media/image2.wmf"/><Relationship Id="rId6" Type="http://schemas.openxmlformats.org/officeDocument/2006/relationships/image" Target="../media/image8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3.wmf"/><Relationship Id="rId10" Type="http://schemas.openxmlformats.org/officeDocument/2006/relationships/image" Target="../media/image5.wmf"/><Relationship Id="rId11" Type="http://schemas.openxmlformats.org/officeDocument/2006/relationships/image" Target="../media/image9.wmf"/><Relationship Id="rId12" Type="http://schemas.openxmlformats.org/officeDocument/2006/relationships/image" Target="../media/image3.wmf"/><Relationship Id="rId13" Type="http://schemas.openxmlformats.org/officeDocument/2006/relationships/image" Target="../media/image3.wmf"/><Relationship Id="rId14" Type="http://schemas.openxmlformats.org/officeDocument/2006/relationships/image" Target="../media/image4.wmf"/><Relationship Id="rId15" Type="http://schemas.openxmlformats.org/officeDocument/2006/relationships/image" Target="../media/image10.wmf"/><Relationship Id="rId1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8.wmf"/><Relationship Id="rId5" Type="http://schemas.openxmlformats.org/officeDocument/2006/relationships/image" Target="../media/image2.wmf"/><Relationship Id="rId6" Type="http://schemas.openxmlformats.org/officeDocument/2006/relationships/image" Target="../media/image3.wmf"/><Relationship Id="rId7" Type="http://schemas.openxmlformats.org/officeDocument/2006/relationships/image" Target="../media/image2.wmf"/><Relationship Id="rId8" Type="http://schemas.openxmlformats.org/officeDocument/2006/relationships/image" Target="../media/image3.wmf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image" Target="../media/image2.wmf"/><Relationship Id="rId7" Type="http://schemas.openxmlformats.org/officeDocument/2006/relationships/image" Target="../media/image3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685800" y="121932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perative Multi-Sensor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deo Surveill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1295280" y="2895480"/>
            <a:ext cx="36576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keo Kan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bert Coll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an Lip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4076640" y="2895480"/>
            <a:ext cx="373392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arno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ter Bu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. Anand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mbert Wix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019240" y="5165640"/>
            <a:ext cx="5105520" cy="1133640"/>
          </a:xfrm>
          <a:prstGeom prst="rect">
            <a:avLst/>
          </a:prstGeom>
          <a:noFill/>
          <a:ln w="12600">
            <a:solidFill>
              <a:srgbClr val="00ae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RPA IUW - New Orleans, May 12-14, 199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228600" y="15228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deo-based Scene Model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33520" y="838080"/>
            <a:ext cx="8153280" cy="4952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803160" y="5851440"/>
            <a:ext cx="77421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2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saicing to produce reference images and texture ma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2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deo stream factorization to derive scene structure (DEMS, 3D objec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1965240" y="1041480"/>
            <a:ext cx="1336680" cy="1484280"/>
            <a:chOff x="1965240" y="1041480"/>
            <a:chExt cx="1336680" cy="1484280"/>
          </a:xfrm>
        </p:grpSpPr>
        <p:grpSp>
          <p:nvGrpSpPr>
            <p:cNvPr id="239" name=""/>
            <p:cNvGrpSpPr/>
            <p:nvPr/>
          </p:nvGrpSpPr>
          <p:grpSpPr>
            <a:xfrm>
              <a:off x="1965240" y="1469880"/>
              <a:ext cx="1212840" cy="1055880"/>
              <a:chOff x="1965240" y="1469880"/>
              <a:chExt cx="1212840" cy="1055880"/>
            </a:xfrm>
          </p:grpSpPr>
          <p:sp>
            <p:nvSpPr>
              <p:cNvPr id="240" name=""/>
              <p:cNvSpPr/>
              <p:nvPr/>
            </p:nvSpPr>
            <p:spPr>
              <a:xfrm>
                <a:off x="2263680" y="1469880"/>
                <a:ext cx="914400" cy="731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2203560" y="1530360"/>
                <a:ext cx="914400" cy="731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141640" y="1592280"/>
                <a:ext cx="914400" cy="731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2081160" y="1652760"/>
                <a:ext cx="914400" cy="731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2019240" y="1714680"/>
                <a:ext cx="914400" cy="731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45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965240" y="1787400"/>
                <a:ext cx="907920" cy="7383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46" name=""/>
            <p:cNvSpPr txBox="1"/>
            <p:nvPr/>
          </p:nvSpPr>
          <p:spPr>
            <a:xfrm>
              <a:off x="2108160" y="1041480"/>
              <a:ext cx="119376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erial vide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795240" y="3973680"/>
            <a:ext cx="1798560" cy="1625400"/>
            <a:chOff x="795240" y="3973680"/>
            <a:chExt cx="1798560" cy="1625400"/>
          </a:xfrm>
        </p:grpSpPr>
        <p:pic>
          <p:nvPicPr>
            <p:cNvPr id="248" name="" descr=""/>
            <p:cNvPicPr/>
            <p:nvPr/>
          </p:nvPicPr>
          <p:blipFill>
            <a:blip r:embed="rId2"/>
            <a:stretch/>
          </p:blipFill>
          <p:spPr>
            <a:xfrm>
              <a:off x="795240" y="3973680"/>
              <a:ext cx="1798560" cy="122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"/>
            <p:cNvSpPr txBox="1"/>
            <p:nvPr/>
          </p:nvSpPr>
          <p:spPr>
            <a:xfrm>
              <a:off x="949320" y="5262480"/>
              <a:ext cx="164448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ference mosai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2914560" y="4210200"/>
            <a:ext cx="865440" cy="1388880"/>
            <a:chOff x="2914560" y="4210200"/>
            <a:chExt cx="865440" cy="1388880"/>
          </a:xfrm>
        </p:grpSpPr>
        <p:grpSp>
          <p:nvGrpSpPr>
            <p:cNvPr id="251" name=""/>
            <p:cNvGrpSpPr/>
            <p:nvPr/>
          </p:nvGrpSpPr>
          <p:grpSpPr>
            <a:xfrm>
              <a:off x="2914560" y="4210200"/>
              <a:ext cx="865440" cy="984240"/>
              <a:chOff x="2914560" y="4210200"/>
              <a:chExt cx="865440" cy="984240"/>
            </a:xfrm>
          </p:grpSpPr>
          <p:sp>
            <p:nvSpPr>
              <p:cNvPr id="252" name=""/>
              <p:cNvSpPr/>
              <p:nvPr/>
            </p:nvSpPr>
            <p:spPr>
              <a:xfrm>
                <a:off x="2914560" y="4214880"/>
                <a:ext cx="831960" cy="9446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5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924280" y="4210200"/>
                <a:ext cx="855720" cy="9842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54" name=""/>
            <p:cNvSpPr txBox="1"/>
            <p:nvPr/>
          </p:nvSpPr>
          <p:spPr>
            <a:xfrm>
              <a:off x="2984400" y="5262480"/>
              <a:ext cx="65880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6764400" y="4156200"/>
            <a:ext cx="1876320" cy="1442880"/>
            <a:chOff x="6764400" y="4156200"/>
            <a:chExt cx="1876320" cy="1442880"/>
          </a:xfrm>
        </p:grpSpPr>
        <p:grpSp>
          <p:nvGrpSpPr>
            <p:cNvPr id="256" name=""/>
            <p:cNvGrpSpPr/>
            <p:nvPr/>
          </p:nvGrpSpPr>
          <p:grpSpPr>
            <a:xfrm>
              <a:off x="6764400" y="4156200"/>
              <a:ext cx="1876320" cy="1038240"/>
              <a:chOff x="6764400" y="4156200"/>
              <a:chExt cx="1876320" cy="1038240"/>
            </a:xfrm>
          </p:grpSpPr>
          <p:grpSp>
            <p:nvGrpSpPr>
              <p:cNvPr id="257" name=""/>
              <p:cNvGrpSpPr/>
              <p:nvPr/>
            </p:nvGrpSpPr>
            <p:grpSpPr>
              <a:xfrm>
                <a:off x="7709040" y="4156200"/>
                <a:ext cx="428760" cy="755640"/>
                <a:chOff x="7709040" y="4156200"/>
                <a:chExt cx="428760" cy="755640"/>
              </a:xfrm>
            </p:grpSpPr>
            <p:grpSp>
              <p:nvGrpSpPr>
                <p:cNvPr id="258" name=""/>
                <p:cNvGrpSpPr/>
                <p:nvPr/>
              </p:nvGrpSpPr>
              <p:grpSpPr>
                <a:xfrm>
                  <a:off x="7709040" y="4156200"/>
                  <a:ext cx="428760" cy="468360"/>
                  <a:chOff x="7709040" y="4156200"/>
                  <a:chExt cx="428760" cy="468360"/>
                </a:xfrm>
              </p:grpSpPr>
              <p:sp>
                <p:nvSpPr>
                  <p:cNvPr id="259" name=""/>
                  <p:cNvSpPr/>
                  <p:nvPr/>
                </p:nvSpPr>
                <p:spPr>
                  <a:xfrm>
                    <a:off x="7709040" y="4156200"/>
                    <a:ext cx="428760" cy="468360"/>
                  </a:xfrm>
                  <a:prstGeom prst="ellipse">
                    <a:avLst/>
                  </a:prstGeom>
                  <a:solidFill>
                    <a:srgbClr val="618ffd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"/>
                  <p:cNvSpPr/>
                  <p:nvPr/>
                </p:nvSpPr>
                <p:spPr>
                  <a:xfrm>
                    <a:off x="7709040" y="4351320"/>
                    <a:ext cx="428760" cy="7776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26640" bIns="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>
                    <a:off x="7746840" y="4235400"/>
                    <a:ext cx="352440" cy="7632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7746840" y="4468680"/>
                    <a:ext cx="352440" cy="792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28080" bIns="28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3" name=""/>
                  <p:cNvSpPr/>
                  <p:nvPr/>
                </p:nvSpPr>
                <p:spPr>
                  <a:xfrm>
                    <a:off x="7746840" y="4235400"/>
                    <a:ext cx="352440" cy="3816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txBody>
                  <a:bodyPr lIns="90000" rIns="90000" tIns="-6840" bIns="-6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" name=""/>
                  <p:cNvSpPr/>
                  <p:nvPr/>
                </p:nvSpPr>
                <p:spPr>
                  <a:xfrm>
                    <a:off x="7709040" y="4351320"/>
                    <a:ext cx="428760" cy="3816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txBody>
                  <a:bodyPr lIns="90000" rIns="90000" tIns="-6840" bIns="-6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" name=""/>
                  <p:cNvSpPr/>
                  <p:nvPr/>
                </p:nvSpPr>
                <p:spPr>
                  <a:xfrm>
                    <a:off x="7746840" y="4468680"/>
                    <a:ext cx="352440" cy="3960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txBody>
                  <a:bodyPr lIns="90000" rIns="90000" tIns="-5400" bIns="-5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" name=""/>
                  <p:cNvSpPr/>
                  <p:nvPr/>
                </p:nvSpPr>
                <p:spPr>
                  <a:xfrm>
                    <a:off x="7826400" y="4156200"/>
                    <a:ext cx="195120" cy="46836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7864560" y="4156200"/>
                    <a:ext cx="117360" cy="38160"/>
                  </a:xfrm>
                  <a:prstGeom prst="ellipse">
                    <a:avLst/>
                  </a:prstGeom>
                  <a:solidFill>
                    <a:srgbClr val="618ffd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12960" bIns="-12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7731360" y="4221720"/>
                    <a:ext cx="42120" cy="43920"/>
                  </a:xfrm>
                  <a:custGeom>
                    <a:avLst/>
                    <a:gdLst/>
                    <a:ahLst/>
                    <a:rect l="0" t="0" r="r" b="b"/>
                    <a:pathLst>
                      <a:path w="117" h="122">
                        <a:moveTo>
                          <a:pt x="0" y="43"/>
                        </a:moveTo>
                        <a:lnTo>
                          <a:pt x="28" y="122"/>
                        </a:lnTo>
                        <a:lnTo>
                          <a:pt x="117" y="0"/>
                        </a:lnTo>
                        <a:lnTo>
                          <a:pt x="0" y="43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txBody>
                  <a:bodyPr lIns="90000" rIns="90000" tIns="-1080" bIns="-1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8074440" y="4219200"/>
                    <a:ext cx="42120" cy="45360"/>
                  </a:xfrm>
                  <a:custGeom>
                    <a:avLst/>
                    <a:gdLst/>
                    <a:ahLst/>
                    <a:rect l="0" t="0" r="r" b="b"/>
                    <a:pathLst>
                      <a:path w="117" h="126">
                        <a:moveTo>
                          <a:pt x="117" y="42"/>
                        </a:moveTo>
                        <a:lnTo>
                          <a:pt x="86" y="126"/>
                        </a:lnTo>
                        <a:lnTo>
                          <a:pt x="0" y="0"/>
                        </a:lnTo>
                        <a:lnTo>
                          <a:pt x="117" y="42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txBody>
                  <a:bodyPr lIns="90000" rIns="90000" tIns="360" bIns="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>
                    <a:off x="7709040" y="4156200"/>
                    <a:ext cx="428760" cy="46836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1" name=""/>
                <p:cNvSpPr/>
                <p:nvPr/>
              </p:nvSpPr>
              <p:spPr>
                <a:xfrm>
                  <a:off x="7896240" y="4624560"/>
                  <a:ext cx="54000" cy="287280"/>
                </a:xfrm>
                <a:prstGeom prst="rect">
                  <a:avLst/>
                </a:prstGeom>
                <a:blipFill rotWithShape="0">
                  <a:blip r:embed="rId4"/>
                  <a:tile tx="0" ty="0" sx="3528125" sy="3528125" algn="ctr"/>
                </a:blip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2" name=""/>
              <p:cNvGrpSpPr/>
              <p:nvPr/>
            </p:nvGrpSpPr>
            <p:grpSpPr>
              <a:xfrm>
                <a:off x="8211960" y="4292640"/>
                <a:ext cx="428760" cy="755640"/>
                <a:chOff x="8211960" y="4292640"/>
                <a:chExt cx="428760" cy="755640"/>
              </a:xfrm>
            </p:grpSpPr>
            <p:grpSp>
              <p:nvGrpSpPr>
                <p:cNvPr id="273" name=""/>
                <p:cNvGrpSpPr/>
                <p:nvPr/>
              </p:nvGrpSpPr>
              <p:grpSpPr>
                <a:xfrm>
                  <a:off x="8211960" y="4292640"/>
                  <a:ext cx="428760" cy="468360"/>
                  <a:chOff x="8211960" y="4292640"/>
                  <a:chExt cx="428760" cy="468360"/>
                </a:xfrm>
              </p:grpSpPr>
              <p:sp>
                <p:nvSpPr>
                  <p:cNvPr id="274" name=""/>
                  <p:cNvSpPr/>
                  <p:nvPr/>
                </p:nvSpPr>
                <p:spPr>
                  <a:xfrm>
                    <a:off x="8211960" y="4292640"/>
                    <a:ext cx="428760" cy="468360"/>
                  </a:xfrm>
                  <a:prstGeom prst="ellipse">
                    <a:avLst/>
                  </a:prstGeom>
                  <a:solidFill>
                    <a:srgbClr val="618ffd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>
                    <a:off x="8211960" y="4487760"/>
                    <a:ext cx="428760" cy="7776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26640" bIns="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"/>
                  <p:cNvSpPr/>
                  <p:nvPr/>
                </p:nvSpPr>
                <p:spPr>
                  <a:xfrm>
                    <a:off x="8250120" y="4370400"/>
                    <a:ext cx="352440" cy="7776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26640" bIns="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7" name=""/>
                  <p:cNvSpPr/>
                  <p:nvPr/>
                </p:nvSpPr>
                <p:spPr>
                  <a:xfrm>
                    <a:off x="8250120" y="4605480"/>
                    <a:ext cx="352440" cy="7776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26640" bIns="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8250120" y="4370400"/>
                    <a:ext cx="352440" cy="3816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txBody>
                  <a:bodyPr lIns="90000" rIns="90000" tIns="-6840" bIns="-6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8211960" y="4487760"/>
                    <a:ext cx="428760" cy="3816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txBody>
                  <a:bodyPr lIns="90000" rIns="90000" tIns="-6840" bIns="-6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"/>
                  <p:cNvSpPr/>
                  <p:nvPr/>
                </p:nvSpPr>
                <p:spPr>
                  <a:xfrm>
                    <a:off x="8250120" y="4605480"/>
                    <a:ext cx="352440" cy="3816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txBody>
                  <a:bodyPr lIns="90000" rIns="90000" tIns="-6840" bIns="-6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1" name=""/>
                  <p:cNvSpPr/>
                  <p:nvPr/>
                </p:nvSpPr>
                <p:spPr>
                  <a:xfrm>
                    <a:off x="8327880" y="4292640"/>
                    <a:ext cx="195120" cy="46836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" name=""/>
                  <p:cNvSpPr/>
                  <p:nvPr/>
                </p:nvSpPr>
                <p:spPr>
                  <a:xfrm>
                    <a:off x="8367840" y="4292640"/>
                    <a:ext cx="117360" cy="38160"/>
                  </a:xfrm>
                  <a:prstGeom prst="ellipse">
                    <a:avLst/>
                  </a:prstGeom>
                  <a:solidFill>
                    <a:srgbClr val="618ffd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12960" bIns="-12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"/>
                  <p:cNvSpPr/>
                  <p:nvPr/>
                </p:nvSpPr>
                <p:spPr>
                  <a:xfrm>
                    <a:off x="8233560" y="4356000"/>
                    <a:ext cx="42120" cy="45360"/>
                  </a:xfrm>
                  <a:custGeom>
                    <a:avLst/>
                    <a:gdLst/>
                    <a:ahLst/>
                    <a:rect l="0" t="0" r="r" b="b"/>
                    <a:pathLst>
                      <a:path w="117" h="126">
                        <a:moveTo>
                          <a:pt x="0" y="42"/>
                        </a:moveTo>
                        <a:lnTo>
                          <a:pt x="30" y="126"/>
                        </a:lnTo>
                        <a:lnTo>
                          <a:pt x="117" y="0"/>
                        </a:lnTo>
                        <a:lnTo>
                          <a:pt x="0" y="42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txBody>
                  <a:bodyPr lIns="90000" rIns="90000" tIns="360" bIns="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"/>
                  <p:cNvSpPr/>
                  <p:nvPr/>
                </p:nvSpPr>
                <p:spPr>
                  <a:xfrm>
                    <a:off x="8576640" y="4356720"/>
                    <a:ext cx="42120" cy="43920"/>
                  </a:xfrm>
                  <a:custGeom>
                    <a:avLst/>
                    <a:gdLst/>
                    <a:ahLst/>
                    <a:rect l="0" t="0" r="r" b="b"/>
                    <a:pathLst>
                      <a:path w="117" h="122">
                        <a:moveTo>
                          <a:pt x="117" y="43"/>
                        </a:moveTo>
                        <a:lnTo>
                          <a:pt x="88" y="122"/>
                        </a:lnTo>
                        <a:lnTo>
                          <a:pt x="0" y="0"/>
                        </a:lnTo>
                        <a:lnTo>
                          <a:pt x="117" y="43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txBody>
                  <a:bodyPr lIns="90000" rIns="90000" tIns="-1080" bIns="-1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>
                    <a:off x="8211960" y="4292640"/>
                    <a:ext cx="428760" cy="46836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"/>
                <p:cNvSpPr/>
                <p:nvPr/>
              </p:nvSpPr>
              <p:spPr>
                <a:xfrm>
                  <a:off x="8399520" y="4759200"/>
                  <a:ext cx="54000" cy="289080"/>
                </a:xfrm>
                <a:prstGeom prst="rect">
                  <a:avLst/>
                </a:prstGeom>
                <a:blipFill rotWithShape="0">
                  <a:blip r:embed="rId5"/>
                  <a:tile tx="0" ty="0" sx="3528125" sy="3528125" algn="ctr"/>
                </a:blip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7" name=""/>
              <p:cNvGrpSpPr/>
              <p:nvPr/>
            </p:nvGrpSpPr>
            <p:grpSpPr>
              <a:xfrm>
                <a:off x="6764400" y="4394160"/>
                <a:ext cx="748080" cy="478080"/>
                <a:chOff x="6764400" y="4394160"/>
                <a:chExt cx="748080" cy="478080"/>
              </a:xfrm>
            </p:grpSpPr>
            <p:sp>
              <p:nvSpPr>
                <p:cNvPr id="288" name=""/>
                <p:cNvSpPr/>
                <p:nvPr/>
              </p:nvSpPr>
              <p:spPr>
                <a:xfrm>
                  <a:off x="6764400" y="4394160"/>
                  <a:ext cx="748080" cy="478080"/>
                </a:xfrm>
                <a:custGeom>
                  <a:avLst/>
                  <a:gdLst/>
                  <a:ahLst/>
                  <a:rect l="0" t="0" r="r" b="b"/>
                  <a:pathLst>
                    <a:path fill="none" w="2078" h="1328">
                      <a:moveTo>
                        <a:pt x="0" y="1328"/>
                      </a:moveTo>
                      <a:lnTo>
                        <a:pt x="1663" y="1328"/>
                      </a:lnTo>
                      <a:lnTo>
                        <a:pt x="2078" y="1062"/>
                      </a:lnTo>
                      <a:lnTo>
                        <a:pt x="2078" y="0"/>
                      </a:lnTo>
                      <a:lnTo>
                        <a:pt x="1663" y="265"/>
                      </a:lnTo>
                      <a:lnTo>
                        <a:pt x="1663" y="1328"/>
                      </a:lnTo>
                      <a:lnTo>
                        <a:pt x="1663" y="265"/>
                      </a:lnTo>
                      <a:lnTo>
                        <a:pt x="0" y="265"/>
                      </a:lnTo>
                      <a:lnTo>
                        <a:pt x="415" y="0"/>
                      </a:lnTo>
                      <a:lnTo>
                        <a:pt x="2078" y="0"/>
                      </a:lnTo>
                      <a:lnTo>
                        <a:pt x="415" y="0"/>
                      </a:lnTo>
                      <a:lnTo>
                        <a:pt x="0" y="265"/>
                      </a:lnTo>
                      <a:lnTo>
                        <a:pt x="0" y="1328"/>
                      </a:lnTo>
                    </a:path>
                  </a:pathLst>
                </a:custGeom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89" name=""/>
                <p:cNvGrpSpPr/>
                <p:nvPr/>
              </p:nvGrpSpPr>
              <p:grpSpPr>
                <a:xfrm>
                  <a:off x="6869160" y="4554360"/>
                  <a:ext cx="447480" cy="122400"/>
                  <a:chOff x="6869160" y="4554360"/>
                  <a:chExt cx="447480" cy="122400"/>
                </a:xfrm>
              </p:grpSpPr>
              <p:sp>
                <p:nvSpPr>
                  <p:cNvPr id="290" name=""/>
                  <p:cNvSpPr/>
                  <p:nvPr/>
                </p:nvSpPr>
                <p:spPr>
                  <a:xfrm>
                    <a:off x="6869160" y="4554360"/>
                    <a:ext cx="82440" cy="122400"/>
                  </a:xfrm>
                  <a:prstGeom prst="rect">
                    <a:avLst/>
                  </a:prstGeom>
                  <a:solidFill>
                    <a:srgbClr val="cecece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6989760" y="4554360"/>
                    <a:ext cx="82440" cy="122400"/>
                  </a:xfrm>
                  <a:prstGeom prst="rect">
                    <a:avLst/>
                  </a:prstGeom>
                  <a:solidFill>
                    <a:srgbClr val="cecece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>
                    <a:off x="7112160" y="4554360"/>
                    <a:ext cx="82440" cy="122400"/>
                  </a:xfrm>
                  <a:prstGeom prst="rect">
                    <a:avLst/>
                  </a:prstGeom>
                  <a:solidFill>
                    <a:srgbClr val="cecece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7234200" y="4554360"/>
                    <a:ext cx="82440" cy="122400"/>
                  </a:xfrm>
                  <a:prstGeom prst="rect">
                    <a:avLst/>
                  </a:prstGeom>
                  <a:solidFill>
                    <a:srgbClr val="cecece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4" name=""/>
                <p:cNvSpPr/>
                <p:nvPr/>
              </p:nvSpPr>
              <p:spPr>
                <a:xfrm>
                  <a:off x="7034040" y="4713120"/>
                  <a:ext cx="112680" cy="147600"/>
                </a:xfrm>
                <a:prstGeom prst="rect">
                  <a:avLst/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5" name=""/>
              <p:cNvSpPr/>
              <p:nvPr/>
            </p:nvSpPr>
            <p:spPr>
              <a:xfrm>
                <a:off x="6775560" y="5194440"/>
                <a:ext cx="1584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126200" y="4865760"/>
                <a:ext cx="1173600" cy="268560"/>
              </a:xfrm>
              <a:custGeom>
                <a:avLst/>
                <a:gdLst/>
                <a:ahLst/>
                <a:rect l="0" t="0" r="r" b="b"/>
                <a:pathLst>
                  <a:path fill="none" w="3260" h="746">
                    <a:moveTo>
                      <a:pt x="42" y="63"/>
                    </a:moveTo>
                    <a:lnTo>
                      <a:pt x="0" y="0"/>
                    </a:lnTo>
                    <a:lnTo>
                      <a:pt x="380" y="746"/>
                    </a:lnTo>
                    <a:lnTo>
                      <a:pt x="3260" y="746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6767640" y="4865760"/>
                <a:ext cx="443160" cy="268560"/>
              </a:xfrm>
              <a:custGeom>
                <a:avLst/>
                <a:gdLst/>
                <a:ahLst/>
                <a:rect l="0" t="0" r="r" b="b"/>
                <a:pathLst>
                  <a:path fill="none" w="1231" h="746">
                    <a:moveTo>
                      <a:pt x="0" y="746"/>
                    </a:moveTo>
                    <a:lnTo>
                      <a:pt x="1231" y="746"/>
                    </a:lnTo>
                    <a:lnTo>
                      <a:pt x="86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8" name=""/>
            <p:cNvSpPr txBox="1"/>
            <p:nvPr/>
          </p:nvSpPr>
          <p:spPr>
            <a:xfrm>
              <a:off x="7184880" y="5262480"/>
              <a:ext cx="105876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ite mode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5813280" y="1041480"/>
            <a:ext cx="1447920" cy="1484280"/>
            <a:chOff x="5813280" y="1041480"/>
            <a:chExt cx="1447920" cy="1484280"/>
          </a:xfrm>
        </p:grpSpPr>
        <p:grpSp>
          <p:nvGrpSpPr>
            <p:cNvPr id="300" name=""/>
            <p:cNvGrpSpPr/>
            <p:nvPr/>
          </p:nvGrpSpPr>
          <p:grpSpPr>
            <a:xfrm>
              <a:off x="5813280" y="1469880"/>
              <a:ext cx="1212840" cy="1055880"/>
              <a:chOff x="5813280" y="1469880"/>
              <a:chExt cx="1212840" cy="1055880"/>
            </a:xfrm>
          </p:grpSpPr>
          <p:sp>
            <p:nvSpPr>
              <p:cNvPr id="301" name=""/>
              <p:cNvSpPr/>
              <p:nvPr/>
            </p:nvSpPr>
            <p:spPr>
              <a:xfrm>
                <a:off x="6111720" y="1469880"/>
                <a:ext cx="914400" cy="731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6051600" y="1530360"/>
                <a:ext cx="914400" cy="731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5989680" y="1592280"/>
                <a:ext cx="914400" cy="731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5929200" y="1652760"/>
                <a:ext cx="914400" cy="731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5867280" y="1714680"/>
                <a:ext cx="914400" cy="731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0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5813280" y="1787400"/>
                <a:ext cx="907920" cy="7383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07" name=""/>
            <p:cNvSpPr txBox="1"/>
            <p:nvPr/>
          </p:nvSpPr>
          <p:spPr>
            <a:xfrm>
              <a:off x="5880240" y="1041480"/>
              <a:ext cx="138096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round  vide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3990960" y="4508640"/>
            <a:ext cx="2633760" cy="1090440"/>
            <a:chOff x="3990960" y="4508640"/>
            <a:chExt cx="2633760" cy="1090440"/>
          </a:xfrm>
        </p:grpSpPr>
        <p:pic>
          <p:nvPicPr>
            <p:cNvPr id="309" name="" descr=""/>
            <p:cNvPicPr/>
            <p:nvPr/>
          </p:nvPicPr>
          <p:blipFill>
            <a:blip r:embed="rId7"/>
            <a:stretch/>
          </p:blipFill>
          <p:spPr>
            <a:xfrm>
              <a:off x="3990960" y="4508640"/>
              <a:ext cx="263376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"/>
            <p:cNvSpPr txBox="1"/>
            <p:nvPr/>
          </p:nvSpPr>
          <p:spPr>
            <a:xfrm>
              <a:off x="4732200" y="5262480"/>
              <a:ext cx="123984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exture ma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"/>
          <p:cNvSpPr/>
          <p:nvPr/>
        </p:nvSpPr>
        <p:spPr>
          <a:xfrm flipH="1">
            <a:off x="1676520" y="2590920"/>
            <a:ext cx="380880" cy="1371600"/>
          </a:xfrm>
          <a:prstGeom prst="line">
            <a:avLst/>
          </a:prstGeom>
          <a:ln w="381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819520" y="2590920"/>
            <a:ext cx="380880" cy="1600200"/>
          </a:xfrm>
          <a:prstGeom prst="line">
            <a:avLst/>
          </a:prstGeom>
          <a:ln w="381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flipH="1">
            <a:off x="5562720" y="2514600"/>
            <a:ext cx="380880" cy="1981080"/>
          </a:xfrm>
          <a:prstGeom prst="line">
            <a:avLst/>
          </a:prstGeom>
          <a:ln w="381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705720" y="2514600"/>
            <a:ext cx="457200" cy="1905120"/>
          </a:xfrm>
          <a:prstGeom prst="line">
            <a:avLst/>
          </a:prstGeom>
          <a:ln w="381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793800" y="2994120"/>
            <a:ext cx="3565440" cy="482760"/>
            <a:chOff x="793800" y="2994120"/>
            <a:chExt cx="3565440" cy="482760"/>
          </a:xfrm>
        </p:grpSpPr>
        <p:sp>
          <p:nvSpPr>
            <p:cNvPr id="316" name=""/>
            <p:cNvSpPr txBox="1"/>
            <p:nvPr/>
          </p:nvSpPr>
          <p:spPr>
            <a:xfrm>
              <a:off x="793800" y="2994120"/>
              <a:ext cx="1496880" cy="48276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osaic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 txBox="1"/>
            <p:nvPr/>
          </p:nvSpPr>
          <p:spPr>
            <a:xfrm>
              <a:off x="2541600" y="2994120"/>
              <a:ext cx="1817640" cy="48276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actoriz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4832280" y="2994120"/>
            <a:ext cx="3565440" cy="482760"/>
            <a:chOff x="4832280" y="2994120"/>
            <a:chExt cx="3565440" cy="482760"/>
          </a:xfrm>
        </p:grpSpPr>
        <p:sp>
          <p:nvSpPr>
            <p:cNvPr id="319" name=""/>
            <p:cNvSpPr txBox="1"/>
            <p:nvPr/>
          </p:nvSpPr>
          <p:spPr>
            <a:xfrm>
              <a:off x="4832280" y="2994120"/>
              <a:ext cx="1496880" cy="48276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osaic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 txBox="1"/>
            <p:nvPr/>
          </p:nvSpPr>
          <p:spPr>
            <a:xfrm>
              <a:off x="6580080" y="2994120"/>
              <a:ext cx="1817640" cy="48276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actoriz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685800" y="114480"/>
            <a:ext cx="77724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ity Monit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277920" y="709560"/>
            <a:ext cx="8589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erting operator to suspicious or unusual vehicle and human a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789120" y="1790640"/>
            <a:ext cx="1809720" cy="185724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/>
          <p:cNvPicPr/>
          <p:nvPr/>
        </p:nvPicPr>
        <p:blipFill>
          <a:blip r:embed="rId2"/>
          <a:stretch/>
        </p:blipFill>
        <p:spPr>
          <a:xfrm>
            <a:off x="2782800" y="1793880"/>
            <a:ext cx="1914480" cy="185112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 txBox="1"/>
          <p:nvPr/>
        </p:nvSpPr>
        <p:spPr>
          <a:xfrm>
            <a:off x="2135160" y="1284120"/>
            <a:ext cx="1217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loit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3"/>
          <a:stretch/>
        </p:blipFill>
        <p:spPr>
          <a:xfrm>
            <a:off x="5432400" y="1781280"/>
            <a:ext cx="2692440" cy="187632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 txBox="1"/>
          <p:nvPr/>
        </p:nvSpPr>
        <p:spPr>
          <a:xfrm>
            <a:off x="5394240" y="1284120"/>
            <a:ext cx="2800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ausing at road b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4"/>
          <a:stretch/>
        </p:blipFill>
        <p:spPr>
          <a:xfrm>
            <a:off x="3514680" y="4037040"/>
            <a:ext cx="2114640" cy="211464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 txBox="1"/>
          <p:nvPr/>
        </p:nvSpPr>
        <p:spPr>
          <a:xfrm>
            <a:off x="3773520" y="6227640"/>
            <a:ext cx="1596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handing o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5"/>
          <a:stretch/>
        </p:blipFill>
        <p:spPr>
          <a:xfrm>
            <a:off x="457200" y="4016520"/>
            <a:ext cx="2895480" cy="2155680"/>
          </a:xfrm>
          <a:prstGeom prst="rect">
            <a:avLst/>
          </a:prstGeom>
          <a:ln w="0">
            <a:noFill/>
          </a:ln>
        </p:spPr>
      </p:pic>
      <p:pic>
        <p:nvPicPr>
          <p:cNvPr id="331" name="" descr=""/>
          <p:cNvPicPr/>
          <p:nvPr/>
        </p:nvPicPr>
        <p:blipFill>
          <a:blip r:embed="rId6"/>
          <a:stretch/>
        </p:blipFill>
        <p:spPr>
          <a:xfrm>
            <a:off x="5791320" y="4038480"/>
            <a:ext cx="2819520" cy="213372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 txBox="1"/>
          <p:nvPr/>
        </p:nvSpPr>
        <p:spPr>
          <a:xfrm>
            <a:off x="1182600" y="622764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rendev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059520" y="6229440"/>
            <a:ext cx="2546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ollowing (convo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523880" y="4572000"/>
            <a:ext cx="838080" cy="762120"/>
          </a:xfrm>
          <a:prstGeom prst="ellipse">
            <a:avLst/>
          </a:prstGeom>
          <a:noFill/>
          <a:ln w="38160">
            <a:solidFill>
              <a:srgbClr val="ffffff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ity Visua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152280" y="669960"/>
            <a:ext cx="8791560" cy="603396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/>
          <p:nvPr/>
        </p:nvSpPr>
        <p:spPr>
          <a:xfrm>
            <a:off x="914400" y="1295280"/>
            <a:ext cx="485640" cy="352440"/>
          </a:xfrm>
          <a:prstGeom prst="rect">
            <a:avLst/>
          </a:prstGeom>
          <a:noFill/>
          <a:ln w="38160">
            <a:solidFill>
              <a:srgbClr val="ff33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400640" y="1123920"/>
            <a:ext cx="485640" cy="304920"/>
          </a:xfrm>
          <a:prstGeom prst="rect">
            <a:avLst/>
          </a:prstGeom>
          <a:noFill/>
          <a:ln w="38160">
            <a:solidFill>
              <a:srgbClr val="ff33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8410680" y="790560"/>
            <a:ext cx="485640" cy="304920"/>
          </a:xfrm>
          <a:prstGeom prst="rect">
            <a:avLst/>
          </a:prstGeom>
          <a:noFill/>
          <a:ln w="38160">
            <a:solidFill>
              <a:srgbClr val="ff33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7429680" y="1295280"/>
            <a:ext cx="200160" cy="209520"/>
          </a:xfrm>
          <a:prstGeom prst="rect">
            <a:avLst/>
          </a:prstGeom>
          <a:noFill/>
          <a:ln w="38160">
            <a:solidFill>
              <a:srgbClr val="ffff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562880" y="5572080"/>
            <a:ext cx="200160" cy="209520"/>
          </a:xfrm>
          <a:prstGeom prst="rect">
            <a:avLst/>
          </a:prstGeom>
          <a:noFill/>
          <a:ln w="38160">
            <a:solidFill>
              <a:srgbClr val="ffff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743960" y="3295800"/>
            <a:ext cx="200160" cy="209520"/>
          </a:xfrm>
          <a:prstGeom prst="rect">
            <a:avLst/>
          </a:prstGeom>
          <a:noFill/>
          <a:ln w="38160">
            <a:solidFill>
              <a:srgbClr val="ffff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6753240" y="5753160"/>
            <a:ext cx="200160" cy="209520"/>
          </a:xfrm>
          <a:prstGeom prst="rect">
            <a:avLst/>
          </a:prstGeom>
          <a:noFill/>
          <a:ln w="38160">
            <a:solidFill>
              <a:srgbClr val="66ff33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858000" y="3495600"/>
            <a:ext cx="200160" cy="209520"/>
          </a:xfrm>
          <a:prstGeom prst="rect">
            <a:avLst/>
          </a:prstGeom>
          <a:noFill/>
          <a:ln w="38160">
            <a:solidFill>
              <a:srgbClr val="66ff33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600960" y="1514520"/>
            <a:ext cx="200160" cy="209520"/>
          </a:xfrm>
          <a:prstGeom prst="rect">
            <a:avLst/>
          </a:prstGeom>
          <a:noFill/>
          <a:ln w="38160">
            <a:solidFill>
              <a:srgbClr val="66ff33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829560" y="4819680"/>
            <a:ext cx="200160" cy="209520"/>
          </a:xfrm>
          <a:prstGeom prst="rect">
            <a:avLst/>
          </a:prstGeom>
          <a:noFill/>
          <a:ln w="38160">
            <a:solidFill>
              <a:srgbClr val="00ffff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5581800" y="914400"/>
            <a:ext cx="200160" cy="209520"/>
          </a:xfrm>
          <a:prstGeom prst="rect">
            <a:avLst/>
          </a:prstGeom>
          <a:noFill/>
          <a:ln w="38160">
            <a:solidFill>
              <a:srgbClr val="3333cc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123920" y="3552840"/>
            <a:ext cx="4772520" cy="686160"/>
          </a:xfrm>
          <a:custGeom>
            <a:avLst/>
            <a:gdLst/>
            <a:ahLst/>
            <a:rect l="0" t="0" r="r" b="b"/>
            <a:pathLst>
              <a:path fill="none" w="13257" h="1906">
                <a:moveTo>
                  <a:pt x="0" y="0"/>
                </a:moveTo>
                <a:lnTo>
                  <a:pt x="396" y="52"/>
                </a:lnTo>
                <a:lnTo>
                  <a:pt x="740" y="105"/>
                </a:lnTo>
                <a:lnTo>
                  <a:pt x="1031" y="132"/>
                </a:lnTo>
                <a:lnTo>
                  <a:pt x="1428" y="211"/>
                </a:lnTo>
                <a:lnTo>
                  <a:pt x="2063" y="264"/>
                </a:lnTo>
                <a:lnTo>
                  <a:pt x="2354" y="317"/>
                </a:lnTo>
                <a:lnTo>
                  <a:pt x="2963" y="370"/>
                </a:lnTo>
                <a:lnTo>
                  <a:pt x="3307" y="502"/>
                </a:lnTo>
                <a:lnTo>
                  <a:pt x="4022" y="555"/>
                </a:lnTo>
                <a:lnTo>
                  <a:pt x="4287" y="635"/>
                </a:lnTo>
                <a:lnTo>
                  <a:pt x="4948" y="687"/>
                </a:lnTo>
                <a:lnTo>
                  <a:pt x="5292" y="767"/>
                </a:lnTo>
                <a:lnTo>
                  <a:pt x="5583" y="740"/>
                </a:lnTo>
                <a:lnTo>
                  <a:pt x="6615" y="952"/>
                </a:lnTo>
                <a:lnTo>
                  <a:pt x="6986" y="952"/>
                </a:lnTo>
                <a:lnTo>
                  <a:pt x="8123" y="1191"/>
                </a:lnTo>
                <a:lnTo>
                  <a:pt x="8732" y="1218"/>
                </a:lnTo>
                <a:lnTo>
                  <a:pt x="8996" y="1271"/>
                </a:lnTo>
                <a:lnTo>
                  <a:pt x="9684" y="1403"/>
                </a:lnTo>
                <a:lnTo>
                  <a:pt x="10029" y="1482"/>
                </a:lnTo>
                <a:lnTo>
                  <a:pt x="10426" y="1482"/>
                </a:lnTo>
                <a:lnTo>
                  <a:pt x="11140" y="1588"/>
                </a:lnTo>
                <a:lnTo>
                  <a:pt x="11802" y="1720"/>
                </a:lnTo>
                <a:lnTo>
                  <a:pt x="12172" y="1773"/>
                </a:lnTo>
                <a:lnTo>
                  <a:pt x="12516" y="1879"/>
                </a:lnTo>
                <a:lnTo>
                  <a:pt x="12596" y="1879"/>
                </a:lnTo>
                <a:lnTo>
                  <a:pt x="13257" y="1906"/>
                </a:lnTo>
              </a:path>
            </a:pathLst>
          </a:custGeom>
          <a:ln w="38160">
            <a:solidFill>
              <a:srgbClr val="ff3300"/>
            </a:solidFill>
            <a:round/>
            <a:tailEnd len="med" type="triangle" w="med"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5181480" y="3876840"/>
            <a:ext cx="123840" cy="9360"/>
          </a:xfrm>
          <a:prstGeom prst="line">
            <a:avLst/>
          </a:prstGeom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54720" bIns="-54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2990880" y="4086360"/>
            <a:ext cx="771840" cy="1733760"/>
          </a:xfrm>
          <a:custGeom>
            <a:avLst/>
            <a:gdLst/>
            <a:ahLst/>
            <a:rect l="0" t="0" r="r" b="b"/>
            <a:pathLst>
              <a:path fill="none" w="2144" h="4816">
                <a:moveTo>
                  <a:pt x="0" y="0"/>
                </a:moveTo>
                <a:lnTo>
                  <a:pt x="291" y="79"/>
                </a:lnTo>
                <a:lnTo>
                  <a:pt x="582" y="211"/>
                </a:lnTo>
                <a:lnTo>
                  <a:pt x="873" y="396"/>
                </a:lnTo>
                <a:lnTo>
                  <a:pt x="1112" y="555"/>
                </a:lnTo>
                <a:lnTo>
                  <a:pt x="1297" y="714"/>
                </a:lnTo>
                <a:lnTo>
                  <a:pt x="1429" y="873"/>
                </a:lnTo>
                <a:lnTo>
                  <a:pt x="1641" y="1164"/>
                </a:lnTo>
                <a:lnTo>
                  <a:pt x="1720" y="1508"/>
                </a:lnTo>
                <a:lnTo>
                  <a:pt x="1747" y="1825"/>
                </a:lnTo>
                <a:lnTo>
                  <a:pt x="1800" y="2143"/>
                </a:lnTo>
                <a:lnTo>
                  <a:pt x="1826" y="2514"/>
                </a:lnTo>
                <a:lnTo>
                  <a:pt x="1853" y="2964"/>
                </a:lnTo>
                <a:lnTo>
                  <a:pt x="1853" y="3493"/>
                </a:lnTo>
                <a:lnTo>
                  <a:pt x="1958" y="3811"/>
                </a:lnTo>
                <a:lnTo>
                  <a:pt x="2011" y="4075"/>
                </a:lnTo>
                <a:lnTo>
                  <a:pt x="2038" y="4578"/>
                </a:lnTo>
                <a:lnTo>
                  <a:pt x="2144" y="4816"/>
                </a:lnTo>
              </a:path>
            </a:pathLst>
          </a:custGeom>
          <a:ln w="38160">
            <a:solidFill>
              <a:srgbClr val="66ff33"/>
            </a:solidFill>
            <a:round/>
            <a:tailEnd len="med" type="triangle" w="med"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800520" y="4381560"/>
            <a:ext cx="505080" cy="695520"/>
          </a:xfrm>
          <a:custGeom>
            <a:avLst/>
            <a:gdLst/>
            <a:ahLst/>
            <a:rect l="0" t="0" r="r" b="b"/>
            <a:pathLst>
              <a:path fill="none" w="1403" h="1932">
                <a:moveTo>
                  <a:pt x="0" y="0"/>
                </a:moveTo>
                <a:lnTo>
                  <a:pt x="343" y="185"/>
                </a:lnTo>
                <a:lnTo>
                  <a:pt x="529" y="291"/>
                </a:lnTo>
                <a:lnTo>
                  <a:pt x="715" y="423"/>
                </a:lnTo>
                <a:lnTo>
                  <a:pt x="900" y="661"/>
                </a:lnTo>
                <a:lnTo>
                  <a:pt x="1059" y="873"/>
                </a:lnTo>
                <a:lnTo>
                  <a:pt x="1138" y="1218"/>
                </a:lnTo>
                <a:lnTo>
                  <a:pt x="1271" y="1509"/>
                </a:lnTo>
                <a:lnTo>
                  <a:pt x="1403" y="1932"/>
                </a:lnTo>
              </a:path>
            </a:pathLst>
          </a:custGeom>
          <a:ln w="38160">
            <a:solidFill>
              <a:srgbClr val="00ffff"/>
            </a:solidFill>
            <a:round/>
            <a:tailEnd len="med" type="triangle" w="med"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238640" y="4343400"/>
            <a:ext cx="429120" cy="1419480"/>
          </a:xfrm>
          <a:custGeom>
            <a:avLst/>
            <a:gdLst/>
            <a:ahLst/>
            <a:rect l="0" t="0" r="r" b="b"/>
            <a:pathLst>
              <a:path fill="none" w="1192" h="3943">
                <a:moveTo>
                  <a:pt x="0" y="0"/>
                </a:moveTo>
                <a:lnTo>
                  <a:pt x="318" y="158"/>
                </a:lnTo>
                <a:lnTo>
                  <a:pt x="477" y="238"/>
                </a:lnTo>
                <a:lnTo>
                  <a:pt x="768" y="555"/>
                </a:lnTo>
                <a:lnTo>
                  <a:pt x="954" y="873"/>
                </a:lnTo>
                <a:lnTo>
                  <a:pt x="1033" y="1428"/>
                </a:lnTo>
                <a:lnTo>
                  <a:pt x="1166" y="1878"/>
                </a:lnTo>
                <a:lnTo>
                  <a:pt x="1166" y="2302"/>
                </a:lnTo>
                <a:lnTo>
                  <a:pt x="1192" y="2726"/>
                </a:lnTo>
                <a:lnTo>
                  <a:pt x="1166" y="3017"/>
                </a:lnTo>
                <a:lnTo>
                  <a:pt x="1139" y="3281"/>
                </a:lnTo>
                <a:lnTo>
                  <a:pt x="1086" y="3572"/>
                </a:lnTo>
                <a:lnTo>
                  <a:pt x="954" y="3943"/>
                </a:lnTo>
              </a:path>
            </a:pathLst>
          </a:custGeom>
          <a:ln w="38160">
            <a:solidFill>
              <a:srgbClr val="ffff00"/>
            </a:solidFill>
            <a:round/>
            <a:tailEnd len="med" type="triangle" w="med"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2217600" y="2001960"/>
            <a:ext cx="3366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5362560" y="2001960"/>
            <a:ext cx="3366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8524800" y="2001960"/>
            <a:ext cx="3366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8524800" y="4092480"/>
            <a:ext cx="3366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8524800" y="6165720"/>
            <a:ext cx="3366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246240" y="5776920"/>
            <a:ext cx="2405160" cy="822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saic + overla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rget trajec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0" y="85680"/>
            <a:ext cx="91425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rator Interface for Visualization and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304920" y="1522440"/>
            <a:ext cx="8763120" cy="457344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838080" y="2895480"/>
            <a:ext cx="2133720" cy="2362320"/>
          </a:xfrm>
          <a:prstGeom prst="line">
            <a:avLst/>
          </a:prstGeom>
          <a:ln w="3816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2895480" y="3657600"/>
            <a:ext cx="3353040" cy="1600200"/>
          </a:xfrm>
          <a:prstGeom prst="line">
            <a:avLst/>
          </a:prstGeom>
          <a:ln w="3816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892800" y="2122560"/>
            <a:ext cx="7511400" cy="4722480"/>
            <a:chOff x="892800" y="2122560"/>
            <a:chExt cx="7511400" cy="4722480"/>
          </a:xfrm>
        </p:grpSpPr>
        <p:grpSp>
          <p:nvGrpSpPr>
            <p:cNvPr id="364" name=""/>
            <p:cNvGrpSpPr/>
            <p:nvPr/>
          </p:nvGrpSpPr>
          <p:grpSpPr>
            <a:xfrm>
              <a:off x="892800" y="2885760"/>
              <a:ext cx="3152880" cy="3959280"/>
              <a:chOff x="892800" y="2885760"/>
              <a:chExt cx="3152880" cy="3959280"/>
            </a:xfrm>
          </p:grpSpPr>
          <p:sp>
            <p:nvSpPr>
              <p:cNvPr id="365" name=""/>
              <p:cNvSpPr/>
              <p:nvPr/>
            </p:nvSpPr>
            <p:spPr>
              <a:xfrm>
                <a:off x="892800" y="2885760"/>
                <a:ext cx="3152880" cy="3959280"/>
              </a:xfrm>
              <a:custGeom>
                <a:avLst/>
                <a:gdLst/>
                <a:ahLst/>
                <a:rect l="0" t="0" r="r" b="b"/>
                <a:pathLst>
                  <a:path fill="none" w="8758" h="10998">
                    <a:moveTo>
                      <a:pt x="0" y="8153"/>
                    </a:moveTo>
                    <a:lnTo>
                      <a:pt x="8758" y="10998"/>
                    </a:lnTo>
                    <a:lnTo>
                      <a:pt x="7491" y="0"/>
                    </a:lnTo>
                    <a:lnTo>
                      <a:pt x="0" y="8153"/>
                    </a:lnTo>
                  </a:path>
                </a:pathLst>
              </a:custGeom>
              <a:ln w="76320">
                <a:solidFill>
                  <a:srgbClr val="00ae00"/>
                </a:solidFill>
                <a:round/>
              </a:ln>
            </p:spPr>
            <p:txBody>
              <a:bodyPr lIns="128160" rIns="128160" tIns="83160" bIns="83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2336760" y="6311880"/>
                <a:ext cx="266760" cy="216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2198520" y="6491160"/>
                <a:ext cx="60948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8" name=""/>
            <p:cNvGrpSpPr/>
            <p:nvPr/>
          </p:nvGrpSpPr>
          <p:grpSpPr>
            <a:xfrm>
              <a:off x="3980160" y="2567880"/>
              <a:ext cx="2568240" cy="4012560"/>
              <a:chOff x="3980160" y="2567880"/>
              <a:chExt cx="2568240" cy="4012560"/>
            </a:xfrm>
          </p:grpSpPr>
          <p:sp>
            <p:nvSpPr>
              <p:cNvPr id="369" name=""/>
              <p:cNvSpPr/>
              <p:nvPr/>
            </p:nvSpPr>
            <p:spPr>
              <a:xfrm>
                <a:off x="3980160" y="2567880"/>
                <a:ext cx="2568240" cy="4009680"/>
              </a:xfrm>
              <a:custGeom>
                <a:avLst/>
                <a:gdLst/>
                <a:ahLst/>
                <a:rect l="0" t="0" r="r" b="b"/>
                <a:pathLst>
                  <a:path fill="none" w="7134" h="11138">
                    <a:moveTo>
                      <a:pt x="34" y="11138"/>
                    </a:moveTo>
                    <a:lnTo>
                      <a:pt x="7134" y="8554"/>
                    </a:lnTo>
                    <a:lnTo>
                      <a:pt x="0" y="0"/>
                    </a:lnTo>
                    <a:lnTo>
                      <a:pt x="34" y="11138"/>
                    </a:lnTo>
                  </a:path>
                </a:pathLst>
              </a:custGeom>
              <a:ln w="76320">
                <a:solidFill>
                  <a:srgbClr val="f35b1b"/>
                </a:solidFill>
                <a:round/>
              </a:ln>
            </p:spPr>
            <p:txBody>
              <a:bodyPr lIns="128160" rIns="128160" tIns="83160" bIns="83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5143680" y="6095880"/>
                <a:ext cx="266760" cy="216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5016600" y="6275520"/>
                <a:ext cx="60948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2" name=""/>
            <p:cNvGrpSpPr/>
            <p:nvPr/>
          </p:nvGrpSpPr>
          <p:grpSpPr>
            <a:xfrm>
              <a:off x="4905000" y="2122560"/>
              <a:ext cx="3499200" cy="4164480"/>
              <a:chOff x="4905000" y="2122560"/>
              <a:chExt cx="3499200" cy="4164480"/>
            </a:xfrm>
          </p:grpSpPr>
          <p:sp>
            <p:nvSpPr>
              <p:cNvPr id="373" name=""/>
              <p:cNvSpPr/>
              <p:nvPr/>
            </p:nvSpPr>
            <p:spPr>
              <a:xfrm>
                <a:off x="4905000" y="2122560"/>
                <a:ext cx="3499200" cy="4164480"/>
              </a:xfrm>
              <a:custGeom>
                <a:avLst/>
                <a:gdLst/>
                <a:ahLst/>
                <a:rect l="0" t="0" r="r" b="b"/>
                <a:pathLst>
                  <a:path fill="none" w="9720" h="11568">
                    <a:moveTo>
                      <a:pt x="2685" y="11568"/>
                    </a:moveTo>
                    <a:lnTo>
                      <a:pt x="9720" y="6823"/>
                    </a:lnTo>
                    <a:lnTo>
                      <a:pt x="0" y="0"/>
                    </a:lnTo>
                    <a:lnTo>
                      <a:pt x="2685" y="11568"/>
                    </a:lnTo>
                  </a:path>
                </a:pathLst>
              </a:custGeom>
              <a:ln w="76320">
                <a:solidFill>
                  <a:srgbClr val="3333cc"/>
                </a:solidFill>
                <a:round/>
              </a:ln>
            </p:spPr>
            <p:txBody>
              <a:bodyPr lIns="128160" rIns="128160" tIns="83160" bIns="83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7048440" y="5448240"/>
                <a:ext cx="266760" cy="216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6908760" y="5627520"/>
                <a:ext cx="60948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76" name=""/>
          <p:cNvSpPr/>
          <p:nvPr/>
        </p:nvSpPr>
        <p:spPr>
          <a:xfrm>
            <a:off x="299880" y="2624040"/>
            <a:ext cx="1667160" cy="1405440"/>
          </a:xfrm>
          <a:custGeom>
            <a:avLst/>
            <a:gdLst/>
            <a:ahLst/>
            <a:rect l="0" t="0" r="r" b="b"/>
            <a:pathLst>
              <a:path fill="none" w="4631" h="3904">
                <a:moveTo>
                  <a:pt x="13" y="1178"/>
                </a:moveTo>
                <a:lnTo>
                  <a:pt x="264" y="1522"/>
                </a:lnTo>
                <a:lnTo>
                  <a:pt x="463" y="1786"/>
                </a:lnTo>
                <a:lnTo>
                  <a:pt x="727" y="2051"/>
                </a:lnTo>
                <a:lnTo>
                  <a:pt x="859" y="2316"/>
                </a:lnTo>
                <a:lnTo>
                  <a:pt x="1124" y="2580"/>
                </a:lnTo>
                <a:lnTo>
                  <a:pt x="1322" y="2779"/>
                </a:lnTo>
                <a:lnTo>
                  <a:pt x="1521" y="2978"/>
                </a:lnTo>
                <a:lnTo>
                  <a:pt x="1719" y="3177"/>
                </a:lnTo>
                <a:lnTo>
                  <a:pt x="2248" y="3375"/>
                </a:lnTo>
                <a:lnTo>
                  <a:pt x="2712" y="3640"/>
                </a:lnTo>
                <a:lnTo>
                  <a:pt x="3109" y="3706"/>
                </a:lnTo>
                <a:lnTo>
                  <a:pt x="3639" y="3838"/>
                </a:lnTo>
                <a:lnTo>
                  <a:pt x="4102" y="3904"/>
                </a:lnTo>
                <a:lnTo>
                  <a:pt x="4366" y="3904"/>
                </a:lnTo>
                <a:lnTo>
                  <a:pt x="4565" y="3904"/>
                </a:lnTo>
                <a:lnTo>
                  <a:pt x="4631" y="3706"/>
                </a:lnTo>
                <a:lnTo>
                  <a:pt x="4631" y="3507"/>
                </a:lnTo>
                <a:lnTo>
                  <a:pt x="4631" y="3309"/>
                </a:lnTo>
                <a:lnTo>
                  <a:pt x="4631" y="3044"/>
                </a:lnTo>
                <a:lnTo>
                  <a:pt x="4631" y="2646"/>
                </a:lnTo>
                <a:lnTo>
                  <a:pt x="4498" y="2382"/>
                </a:lnTo>
                <a:lnTo>
                  <a:pt x="4366" y="2183"/>
                </a:lnTo>
                <a:lnTo>
                  <a:pt x="4234" y="1786"/>
                </a:lnTo>
                <a:lnTo>
                  <a:pt x="4035" y="1522"/>
                </a:lnTo>
                <a:lnTo>
                  <a:pt x="3572" y="993"/>
                </a:lnTo>
                <a:lnTo>
                  <a:pt x="3308" y="727"/>
                </a:lnTo>
                <a:lnTo>
                  <a:pt x="3109" y="529"/>
                </a:lnTo>
                <a:lnTo>
                  <a:pt x="2845" y="330"/>
                </a:lnTo>
                <a:lnTo>
                  <a:pt x="2580" y="198"/>
                </a:lnTo>
                <a:lnTo>
                  <a:pt x="2382" y="66"/>
                </a:lnTo>
                <a:lnTo>
                  <a:pt x="2182" y="0"/>
                </a:lnTo>
                <a:lnTo>
                  <a:pt x="1918" y="0"/>
                </a:lnTo>
                <a:lnTo>
                  <a:pt x="1653" y="0"/>
                </a:lnTo>
                <a:lnTo>
                  <a:pt x="1455" y="0"/>
                </a:lnTo>
                <a:lnTo>
                  <a:pt x="992" y="0"/>
                </a:lnTo>
                <a:lnTo>
                  <a:pt x="793" y="0"/>
                </a:lnTo>
                <a:lnTo>
                  <a:pt x="595" y="66"/>
                </a:lnTo>
                <a:lnTo>
                  <a:pt x="396" y="132"/>
                </a:lnTo>
                <a:lnTo>
                  <a:pt x="198" y="330"/>
                </a:lnTo>
                <a:lnTo>
                  <a:pt x="132" y="529"/>
                </a:lnTo>
                <a:lnTo>
                  <a:pt x="0" y="727"/>
                </a:lnTo>
                <a:lnTo>
                  <a:pt x="13" y="1178"/>
                </a:lnTo>
              </a:path>
            </a:pathLst>
          </a:custGeom>
          <a:ln w="76320">
            <a:solidFill>
              <a:srgbClr val="ccccff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3184560" y="6337440"/>
            <a:ext cx="3970440" cy="51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U locations + footpr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365040" y="1157400"/>
            <a:ext cx="313704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rator Design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a of Inter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136440" y="5348160"/>
            <a:ext cx="166536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rg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j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1219320" y="4343400"/>
            <a:ext cx="761760" cy="106668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1295280" y="1981080"/>
            <a:ext cx="228600" cy="68580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7375680" y="2604960"/>
            <a:ext cx="1230480" cy="51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sa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0" y="0"/>
            <a:ext cx="3657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chnolog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212760" y="1004760"/>
            <a:ext cx="20019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pa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56160" y="1004760"/>
            <a:ext cx="17049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r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12760" y="1706400"/>
            <a:ext cx="8267760" cy="396720"/>
            <a:chOff x="212760" y="1706400"/>
            <a:chExt cx="8267760" cy="396720"/>
          </a:xfrm>
        </p:grpSpPr>
        <p:sp>
          <p:nvSpPr>
            <p:cNvPr id="387" name=""/>
            <p:cNvSpPr txBox="1"/>
            <p:nvPr/>
          </p:nvSpPr>
          <p:spPr>
            <a:xfrm>
              <a:off x="212760" y="1706400"/>
              <a:ext cx="189864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cene Model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 txBox="1"/>
            <p:nvPr/>
          </p:nvSpPr>
          <p:spPr>
            <a:xfrm>
              <a:off x="2430360" y="1706400"/>
              <a:ext cx="163044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erial mosaic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 txBox="1"/>
            <p:nvPr/>
          </p:nvSpPr>
          <p:spPr>
            <a:xfrm>
              <a:off x="4556160" y="1706400"/>
              <a:ext cx="89064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M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 txBox="1"/>
            <p:nvPr/>
          </p:nvSpPr>
          <p:spPr>
            <a:xfrm>
              <a:off x="6765840" y="1706400"/>
              <a:ext cx="17146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RML mode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"/>
          <p:cNvGrpSpPr/>
          <p:nvPr/>
        </p:nvGrpSpPr>
        <p:grpSpPr>
          <a:xfrm>
            <a:off x="212760" y="2795760"/>
            <a:ext cx="5896080" cy="641520"/>
            <a:chOff x="212760" y="2795760"/>
            <a:chExt cx="5896080" cy="641520"/>
          </a:xfrm>
        </p:grpSpPr>
        <p:sp>
          <p:nvSpPr>
            <p:cNvPr id="392" name=""/>
            <p:cNvSpPr txBox="1"/>
            <p:nvPr/>
          </p:nvSpPr>
          <p:spPr>
            <a:xfrm>
              <a:off x="212760" y="2795760"/>
              <a:ext cx="2109960" cy="641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signating area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f interes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 txBox="1"/>
            <p:nvPr/>
          </p:nvSpPr>
          <p:spPr>
            <a:xfrm>
              <a:off x="2430360" y="2795760"/>
              <a:ext cx="1220760" cy="641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signat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n mosa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 txBox="1"/>
            <p:nvPr/>
          </p:nvSpPr>
          <p:spPr>
            <a:xfrm>
              <a:off x="4556160" y="2795760"/>
              <a:ext cx="1552680" cy="641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signat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n site mod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212760" y="3519360"/>
            <a:ext cx="8578800" cy="581040"/>
            <a:chOff x="212760" y="3519360"/>
            <a:chExt cx="8578800" cy="581040"/>
          </a:xfrm>
        </p:grpSpPr>
        <p:sp>
          <p:nvSpPr>
            <p:cNvPr id="396" name=""/>
            <p:cNvSpPr txBox="1"/>
            <p:nvPr/>
          </p:nvSpPr>
          <p:spPr>
            <a:xfrm>
              <a:off x="212760" y="3611520"/>
              <a:ext cx="200484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nsor Servoing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 txBox="1"/>
            <p:nvPr/>
          </p:nvSpPr>
          <p:spPr>
            <a:xfrm>
              <a:off x="2430360" y="3611520"/>
              <a:ext cx="114300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elemet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 txBox="1"/>
            <p:nvPr/>
          </p:nvSpPr>
          <p:spPr>
            <a:xfrm>
              <a:off x="4556160" y="3519360"/>
              <a:ext cx="1812960" cy="581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isual landmar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arc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 txBox="1"/>
            <p:nvPr/>
          </p:nvSpPr>
          <p:spPr>
            <a:xfrm>
              <a:off x="6765840" y="3519360"/>
              <a:ext cx="2025720" cy="581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ideo to refere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mage regist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212760" y="4191120"/>
            <a:ext cx="8883360" cy="641520"/>
            <a:chOff x="212760" y="4191120"/>
            <a:chExt cx="8883360" cy="641520"/>
          </a:xfrm>
        </p:grpSpPr>
        <p:sp>
          <p:nvSpPr>
            <p:cNvPr id="401" name=""/>
            <p:cNvSpPr txBox="1"/>
            <p:nvPr/>
          </p:nvSpPr>
          <p:spPr>
            <a:xfrm>
              <a:off x="212760" y="4191120"/>
              <a:ext cx="2117880" cy="641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TD &amp; Track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 a single view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 txBox="1"/>
            <p:nvPr/>
          </p:nvSpPr>
          <p:spPr>
            <a:xfrm>
              <a:off x="2430360" y="4191120"/>
              <a:ext cx="1150920" cy="581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emporal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han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 txBox="1"/>
            <p:nvPr/>
          </p:nvSpPr>
          <p:spPr>
            <a:xfrm>
              <a:off x="4556160" y="4191120"/>
              <a:ext cx="1870200" cy="641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abilization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emporal chan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 txBox="1"/>
            <p:nvPr/>
          </p:nvSpPr>
          <p:spPr>
            <a:xfrm>
              <a:off x="6765840" y="4191120"/>
              <a:ext cx="2330280" cy="581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abilization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emporal+correl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"/>
          <p:cNvGrpSpPr/>
          <p:nvPr/>
        </p:nvGrpSpPr>
        <p:grpSpPr>
          <a:xfrm>
            <a:off x="212760" y="4876920"/>
            <a:ext cx="7999200" cy="581040"/>
            <a:chOff x="212760" y="4876920"/>
            <a:chExt cx="7999200" cy="581040"/>
          </a:xfrm>
        </p:grpSpPr>
        <p:sp>
          <p:nvSpPr>
            <p:cNvPr id="406" name=""/>
            <p:cNvSpPr txBox="1"/>
            <p:nvPr/>
          </p:nvSpPr>
          <p:spPr>
            <a:xfrm>
              <a:off x="212760" y="4968720"/>
              <a:ext cx="194004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ctive Track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 txBox="1"/>
            <p:nvPr/>
          </p:nvSpPr>
          <p:spPr>
            <a:xfrm>
              <a:off x="2430360" y="4968720"/>
              <a:ext cx="14320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ingle targe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 txBox="1"/>
            <p:nvPr/>
          </p:nvSpPr>
          <p:spPr>
            <a:xfrm>
              <a:off x="4556160" y="4968720"/>
              <a:ext cx="138276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ulti-targe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 txBox="1"/>
            <p:nvPr/>
          </p:nvSpPr>
          <p:spPr>
            <a:xfrm>
              <a:off x="6765840" y="4876920"/>
              <a:ext cx="1446120" cy="581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ulti-target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ast mov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212760" y="5442120"/>
            <a:ext cx="8035920" cy="641520"/>
            <a:chOff x="212760" y="5442120"/>
            <a:chExt cx="8035920" cy="641520"/>
          </a:xfrm>
        </p:grpSpPr>
        <p:sp>
          <p:nvSpPr>
            <p:cNvPr id="411" name=""/>
            <p:cNvSpPr txBox="1"/>
            <p:nvPr/>
          </p:nvSpPr>
          <p:spPr>
            <a:xfrm>
              <a:off x="212760" y="5564160"/>
              <a:ext cx="194004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arget Loc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 txBox="1"/>
            <p:nvPr/>
          </p:nvSpPr>
          <p:spPr>
            <a:xfrm>
              <a:off x="2430360" y="5472000"/>
              <a:ext cx="1630440" cy="581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ithin camer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ootpri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 txBox="1"/>
            <p:nvPr/>
          </p:nvSpPr>
          <p:spPr>
            <a:xfrm>
              <a:off x="4556160" y="5442120"/>
              <a:ext cx="1650960" cy="641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tersect view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ay with DE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 txBox="1"/>
            <p:nvPr/>
          </p:nvSpPr>
          <p:spPr>
            <a:xfrm>
              <a:off x="6765840" y="5442120"/>
              <a:ext cx="1482840" cy="641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ulti-view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riangul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5" name=""/>
          <p:cNvGrpSpPr/>
          <p:nvPr/>
        </p:nvGrpSpPr>
        <p:grpSpPr>
          <a:xfrm>
            <a:off x="212760" y="6138720"/>
            <a:ext cx="8535960" cy="641520"/>
            <a:chOff x="212760" y="6138720"/>
            <a:chExt cx="8535960" cy="641520"/>
          </a:xfrm>
        </p:grpSpPr>
        <p:sp>
          <p:nvSpPr>
            <p:cNvPr id="416" name=""/>
            <p:cNvSpPr txBox="1"/>
            <p:nvPr/>
          </p:nvSpPr>
          <p:spPr>
            <a:xfrm>
              <a:off x="212760" y="6261120"/>
              <a:ext cx="175752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isual Displa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 txBox="1"/>
            <p:nvPr/>
          </p:nvSpPr>
          <p:spPr>
            <a:xfrm>
              <a:off x="2430360" y="6138720"/>
              <a:ext cx="1841400" cy="641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aw video wit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arget indic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 txBox="1"/>
            <p:nvPr/>
          </p:nvSpPr>
          <p:spPr>
            <a:xfrm>
              <a:off x="4556160" y="6168960"/>
              <a:ext cx="1982880" cy="581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verlay trajecto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n local mosa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 txBox="1"/>
            <p:nvPr/>
          </p:nvSpPr>
          <p:spPr>
            <a:xfrm>
              <a:off x="6765840" y="6168960"/>
              <a:ext cx="1982880" cy="581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verlay trajecto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n scene mod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0" name=""/>
          <p:cNvSpPr/>
          <p:nvPr/>
        </p:nvSpPr>
        <p:spPr>
          <a:xfrm>
            <a:off x="2362320" y="990720"/>
            <a:ext cx="0" cy="5790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4419720" y="1600200"/>
            <a:ext cx="0" cy="5181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629400" y="1600200"/>
            <a:ext cx="0" cy="5183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212760" y="2133720"/>
            <a:ext cx="8388360" cy="641520"/>
            <a:chOff x="212760" y="2133720"/>
            <a:chExt cx="8388360" cy="641520"/>
          </a:xfrm>
        </p:grpSpPr>
        <p:sp>
          <p:nvSpPr>
            <p:cNvPr id="424" name=""/>
            <p:cNvSpPr txBox="1"/>
            <p:nvPr/>
          </p:nvSpPr>
          <p:spPr>
            <a:xfrm>
              <a:off x="212760" y="2133720"/>
              <a:ext cx="2017800" cy="641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amera to Sce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gist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 txBox="1"/>
            <p:nvPr/>
          </p:nvSpPr>
          <p:spPr>
            <a:xfrm>
              <a:off x="2430360" y="2255760"/>
              <a:ext cx="114300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elemet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 txBox="1"/>
            <p:nvPr/>
          </p:nvSpPr>
          <p:spPr>
            <a:xfrm>
              <a:off x="4556160" y="2163600"/>
              <a:ext cx="1778040" cy="581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ose, manu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rresponde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 txBox="1"/>
            <p:nvPr/>
          </p:nvSpPr>
          <p:spPr>
            <a:xfrm>
              <a:off x="6765840" y="2163600"/>
              <a:ext cx="1835280" cy="581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ose, automat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rresponde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8" name=""/>
          <p:cNvSpPr/>
          <p:nvPr/>
        </p:nvSpPr>
        <p:spPr>
          <a:xfrm>
            <a:off x="228600" y="2133720"/>
            <a:ext cx="86868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28600" y="2743200"/>
            <a:ext cx="86868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30040" y="4114800"/>
            <a:ext cx="86868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30040" y="3505320"/>
            <a:ext cx="86868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30040" y="4876920"/>
            <a:ext cx="86868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231840" y="6095880"/>
            <a:ext cx="86868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31840" y="5410080"/>
            <a:ext cx="86868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8600" y="1600200"/>
            <a:ext cx="86868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2651040" y="623880"/>
            <a:ext cx="8366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ae00"/>
                </a:solidFill>
                <a:latin typeface="Times New Roman"/>
                <a:ea typeface="Times New Roman"/>
              </a:rPr>
              <a:t>L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7147080" y="623880"/>
            <a:ext cx="9540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ae00"/>
                </a:solidFill>
                <a:latin typeface="Times New Roman"/>
                <a:ea typeface="Times New Roman"/>
              </a:rPr>
              <a:t>M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3505320" y="914400"/>
            <a:ext cx="3657600" cy="0"/>
          </a:xfrm>
          <a:prstGeom prst="line">
            <a:avLst/>
          </a:prstGeom>
          <a:ln w="25560">
            <a:solidFill>
              <a:srgbClr val="00ae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3884760" y="509760"/>
            <a:ext cx="2900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  <a:ea typeface="Times New Roman"/>
              </a:rPr>
              <a:t>detail/IU/accuracy/robust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 txBox="1"/>
          <p:nvPr/>
        </p:nvSpPr>
        <p:spPr>
          <a:xfrm>
            <a:off x="228600" y="380880"/>
            <a:ext cx="86104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verview: IFD Testbed Architec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1" name=""/>
          <p:cNvGrpSpPr/>
          <p:nvPr/>
        </p:nvGrpSpPr>
        <p:grpSpPr>
          <a:xfrm>
            <a:off x="685800" y="3581280"/>
            <a:ext cx="7770960" cy="2945160"/>
            <a:chOff x="685800" y="3581280"/>
            <a:chExt cx="7770960" cy="2945160"/>
          </a:xfrm>
        </p:grpSpPr>
        <p:sp>
          <p:nvSpPr>
            <p:cNvPr id="442" name=""/>
            <p:cNvSpPr/>
            <p:nvPr/>
          </p:nvSpPr>
          <p:spPr>
            <a:xfrm>
              <a:off x="5410080" y="4267080"/>
              <a:ext cx="1219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685960" y="5181480"/>
              <a:ext cx="0" cy="38124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486400" y="4667400"/>
              <a:ext cx="1440" cy="76032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937040" y="5479920"/>
              <a:ext cx="314280" cy="180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2280" bIns="-62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295280" y="4952880"/>
              <a:ext cx="4210200" cy="3816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7" name=""/>
            <p:cNvGrpSpPr/>
            <p:nvPr/>
          </p:nvGrpSpPr>
          <p:grpSpPr>
            <a:xfrm>
              <a:off x="2209680" y="4648320"/>
              <a:ext cx="914400" cy="685800"/>
              <a:chOff x="2209680" y="4648320"/>
              <a:chExt cx="914400" cy="685800"/>
            </a:xfrm>
          </p:grpSpPr>
          <p:sp>
            <p:nvSpPr>
              <p:cNvPr id="448" name=""/>
              <p:cNvSpPr/>
              <p:nvPr/>
            </p:nvSpPr>
            <p:spPr>
              <a:xfrm>
                <a:off x="2209680" y="4648320"/>
                <a:ext cx="914400" cy="685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 txBox="1"/>
              <p:nvPr/>
            </p:nvSpPr>
            <p:spPr>
              <a:xfrm>
                <a:off x="2330280" y="4762440"/>
                <a:ext cx="67464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SGI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0" name=""/>
            <p:cNvSpPr txBox="1"/>
            <p:nvPr/>
          </p:nvSpPr>
          <p:spPr>
            <a:xfrm>
              <a:off x="5114880" y="5230800"/>
              <a:ext cx="785880" cy="482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F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986360" y="3809880"/>
              <a:ext cx="914400" cy="914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 txBox="1"/>
            <p:nvPr/>
          </p:nvSpPr>
          <p:spPr>
            <a:xfrm>
              <a:off x="5148360" y="4038480"/>
              <a:ext cx="5904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/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981080" y="3581280"/>
              <a:ext cx="4114800" cy="2286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custDash>
                <a:ds d="202857" sp="202857"/>
              </a:custDash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 txBox="1"/>
            <p:nvPr/>
          </p:nvSpPr>
          <p:spPr>
            <a:xfrm>
              <a:off x="2041560" y="3618000"/>
              <a:ext cx="199080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perator Control Un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905440" y="4533840"/>
              <a:ext cx="76320" cy="76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905440" y="4381560"/>
              <a:ext cx="76320" cy="76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905440" y="4076640"/>
              <a:ext cx="76320" cy="76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905440" y="3924360"/>
              <a:ext cx="76320" cy="76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 flipH="1">
              <a:off x="4770360" y="5000760"/>
              <a:ext cx="1800" cy="3142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 txBox="1"/>
            <p:nvPr/>
          </p:nvSpPr>
          <p:spPr>
            <a:xfrm>
              <a:off x="4403880" y="5230800"/>
              <a:ext cx="582480" cy="482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 txBox="1"/>
            <p:nvPr/>
          </p:nvSpPr>
          <p:spPr>
            <a:xfrm>
              <a:off x="4327560" y="4594320"/>
              <a:ext cx="54936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A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 txBox="1"/>
            <p:nvPr/>
          </p:nvSpPr>
          <p:spPr>
            <a:xfrm>
              <a:off x="3308400" y="6189840"/>
              <a:ext cx="89532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terne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3" name=""/>
            <p:cNvGrpSpPr/>
            <p:nvPr/>
          </p:nvGrpSpPr>
          <p:grpSpPr>
            <a:xfrm>
              <a:off x="2575080" y="5715000"/>
              <a:ext cx="1616040" cy="327240"/>
              <a:chOff x="2575080" y="5715000"/>
              <a:chExt cx="1616040" cy="327240"/>
            </a:xfrm>
          </p:grpSpPr>
          <p:sp>
            <p:nvSpPr>
              <p:cNvPr id="464" name=""/>
              <p:cNvSpPr/>
              <p:nvPr/>
            </p:nvSpPr>
            <p:spPr>
              <a:xfrm>
                <a:off x="2590920" y="5715000"/>
                <a:ext cx="1600200" cy="304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 txBox="1"/>
              <p:nvPr/>
            </p:nvSpPr>
            <p:spPr>
              <a:xfrm>
                <a:off x="2575080" y="5737320"/>
                <a:ext cx="77616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Firewal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3352680" y="5867280"/>
                <a:ext cx="7621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-64080" bIns="-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7" name=""/>
            <p:cNvSpPr/>
            <p:nvPr/>
          </p:nvSpPr>
          <p:spPr>
            <a:xfrm>
              <a:off x="3733920" y="5257800"/>
              <a:ext cx="0" cy="53352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8" name=""/>
            <p:cNvGrpSpPr/>
            <p:nvPr/>
          </p:nvGrpSpPr>
          <p:grpSpPr>
            <a:xfrm>
              <a:off x="3276720" y="4648320"/>
              <a:ext cx="914400" cy="685800"/>
              <a:chOff x="3276720" y="4648320"/>
              <a:chExt cx="914400" cy="685800"/>
            </a:xfrm>
          </p:grpSpPr>
          <p:sp>
            <p:nvSpPr>
              <p:cNvPr id="469" name=""/>
              <p:cNvSpPr/>
              <p:nvPr/>
            </p:nvSpPr>
            <p:spPr>
              <a:xfrm>
                <a:off x="3276720" y="4648320"/>
                <a:ext cx="914400" cy="685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 txBox="1"/>
              <p:nvPr/>
            </p:nvSpPr>
            <p:spPr>
              <a:xfrm>
                <a:off x="3336840" y="4762440"/>
                <a:ext cx="67464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SGI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1" name=""/>
            <p:cNvSpPr/>
            <p:nvPr/>
          </p:nvSpPr>
          <p:spPr>
            <a:xfrm>
              <a:off x="3733920" y="594360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666880" y="5562720"/>
              <a:ext cx="106704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6316560" y="3581280"/>
              <a:ext cx="2133720" cy="2286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custDash>
                <a:ds d="202857" sp="202857"/>
              </a:custDash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 txBox="1"/>
            <p:nvPr/>
          </p:nvSpPr>
          <p:spPr>
            <a:xfrm>
              <a:off x="6343560" y="3618000"/>
              <a:ext cx="208116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nsor Processing Un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5" name=""/>
            <p:cNvGrpSpPr/>
            <p:nvPr/>
          </p:nvGrpSpPr>
          <p:grpSpPr>
            <a:xfrm>
              <a:off x="7238880" y="4114800"/>
              <a:ext cx="1029240" cy="1317600"/>
              <a:chOff x="7238880" y="4114800"/>
              <a:chExt cx="1029240" cy="1317600"/>
            </a:xfrm>
          </p:grpSpPr>
          <p:grpSp>
            <p:nvGrpSpPr>
              <p:cNvPr id="476" name=""/>
              <p:cNvGrpSpPr/>
              <p:nvPr/>
            </p:nvGrpSpPr>
            <p:grpSpPr>
              <a:xfrm>
                <a:off x="7375680" y="4114800"/>
                <a:ext cx="892440" cy="426960"/>
                <a:chOff x="7375680" y="4114800"/>
                <a:chExt cx="892440" cy="426960"/>
              </a:xfrm>
            </p:grpSpPr>
            <p:sp>
              <p:nvSpPr>
                <p:cNvPr id="477" name=""/>
                <p:cNvSpPr/>
                <p:nvPr/>
              </p:nvSpPr>
              <p:spPr>
                <a:xfrm>
                  <a:off x="8039160" y="4152960"/>
                  <a:ext cx="228960" cy="305280"/>
                </a:xfrm>
                <a:custGeom>
                  <a:avLst/>
                  <a:gdLst/>
                  <a:ahLst/>
                  <a:rect l="0" t="0" r="r" b="b"/>
                  <a:pathLst>
                    <a:path w="636" h="848">
                      <a:moveTo>
                        <a:pt x="0" y="848"/>
                      </a:moveTo>
                      <a:lnTo>
                        <a:pt x="190" y="0"/>
                      </a:lnTo>
                      <a:lnTo>
                        <a:pt x="445" y="0"/>
                      </a:lnTo>
                      <a:lnTo>
                        <a:pt x="636" y="848"/>
                      </a:lnTo>
                      <a:lnTo>
                        <a:pt x="0" y="848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7391520" y="4114800"/>
                  <a:ext cx="685800" cy="380880"/>
                </a:xfrm>
                <a:prstGeom prst="rect">
                  <a:avLst/>
                </a:prstGeom>
                <a:solidFill>
                  <a:srgbClr val="cccc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9" name=""/>
                <p:cNvSpPr txBox="1"/>
                <p:nvPr/>
              </p:nvSpPr>
              <p:spPr>
                <a:xfrm>
                  <a:off x="7375680" y="4145040"/>
                  <a:ext cx="735120" cy="39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CD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0" name=""/>
              <p:cNvSpPr/>
              <p:nvPr/>
            </p:nvSpPr>
            <p:spPr>
              <a:xfrm>
                <a:off x="7696080" y="449568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81" name=""/>
              <p:cNvGrpSpPr/>
              <p:nvPr/>
            </p:nvGrpSpPr>
            <p:grpSpPr>
              <a:xfrm>
                <a:off x="7238880" y="4848120"/>
                <a:ext cx="914400" cy="228600"/>
                <a:chOff x="7238880" y="4848120"/>
                <a:chExt cx="914400" cy="228600"/>
              </a:xfrm>
            </p:grpSpPr>
            <p:sp>
              <p:nvSpPr>
                <p:cNvPr id="482" name=""/>
                <p:cNvSpPr/>
                <p:nvPr/>
              </p:nvSpPr>
              <p:spPr>
                <a:xfrm>
                  <a:off x="7238880" y="4848120"/>
                  <a:ext cx="914400" cy="228600"/>
                </a:xfrm>
                <a:prstGeom prst="ellipse">
                  <a:avLst/>
                </a:prstGeom>
                <a:noFill/>
                <a:ln w="25560">
                  <a:solidFill>
                    <a:srgbClr val="000000"/>
                  </a:solidFill>
                  <a:round/>
                </a:ln>
              </p:spPr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7543800" y="5076720"/>
                  <a:ext cx="3808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-57600" bIns="-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4" name=""/>
              <p:cNvSpPr txBox="1"/>
              <p:nvPr/>
            </p:nvSpPr>
            <p:spPr>
              <a:xfrm>
                <a:off x="7375680" y="5127480"/>
                <a:ext cx="69696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pan-til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5" name=""/>
            <p:cNvSpPr txBox="1"/>
            <p:nvPr/>
          </p:nvSpPr>
          <p:spPr>
            <a:xfrm>
              <a:off x="6410160" y="4651200"/>
              <a:ext cx="582480" cy="482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 txBox="1"/>
            <p:nvPr/>
          </p:nvSpPr>
          <p:spPr>
            <a:xfrm>
              <a:off x="6410160" y="4041720"/>
              <a:ext cx="615960" cy="482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/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7" name=""/>
            <p:cNvGrpSpPr/>
            <p:nvPr/>
          </p:nvGrpSpPr>
          <p:grpSpPr>
            <a:xfrm>
              <a:off x="5905440" y="4233960"/>
              <a:ext cx="562320" cy="76320"/>
              <a:chOff x="5905440" y="4233960"/>
              <a:chExt cx="562320" cy="76320"/>
            </a:xfrm>
          </p:grpSpPr>
          <p:sp>
            <p:nvSpPr>
              <p:cNvPr id="488" name=""/>
              <p:cNvSpPr/>
              <p:nvPr/>
            </p:nvSpPr>
            <p:spPr>
              <a:xfrm>
                <a:off x="5905440" y="4233960"/>
                <a:ext cx="76320" cy="76320"/>
              </a:xfrm>
              <a:prstGeom prst="ellipse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6391440" y="4233960"/>
                <a:ext cx="76320" cy="76320"/>
              </a:xfrm>
              <a:prstGeom prst="ellipse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90" name="" descr=""/>
            <p:cNvPicPr/>
            <p:nvPr/>
          </p:nvPicPr>
          <p:blipFill>
            <a:blip r:embed="rId1"/>
            <a:stretch/>
          </p:blipFill>
          <p:spPr>
            <a:xfrm>
              <a:off x="793800" y="4518000"/>
              <a:ext cx="768240" cy="72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1" name=""/>
            <p:cNvSpPr/>
            <p:nvPr/>
          </p:nvSpPr>
          <p:spPr>
            <a:xfrm>
              <a:off x="685800" y="3581280"/>
              <a:ext cx="1143000" cy="2286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custDash>
                <a:ds d="202857" sp="202857"/>
              </a:custDash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 txBox="1"/>
            <p:nvPr/>
          </p:nvSpPr>
          <p:spPr>
            <a:xfrm>
              <a:off x="822240" y="3618000"/>
              <a:ext cx="906480" cy="581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s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terf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 txBox="1"/>
            <p:nvPr/>
          </p:nvSpPr>
          <p:spPr>
            <a:xfrm>
              <a:off x="6410160" y="5230800"/>
              <a:ext cx="785880" cy="482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F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 txBox="1"/>
            <p:nvPr/>
          </p:nvSpPr>
          <p:spPr>
            <a:xfrm>
              <a:off x="7299360" y="5484960"/>
              <a:ext cx="1157400" cy="361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ocaliz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" name=""/>
          <p:cNvGrpSpPr/>
          <p:nvPr/>
        </p:nvGrpSpPr>
        <p:grpSpPr>
          <a:xfrm>
            <a:off x="1965240" y="1812960"/>
            <a:ext cx="4705560" cy="1187280"/>
            <a:chOff x="1965240" y="1812960"/>
            <a:chExt cx="4705560" cy="1187280"/>
          </a:xfrm>
        </p:grpSpPr>
        <p:sp>
          <p:nvSpPr>
            <p:cNvPr id="496" name=""/>
            <p:cNvSpPr/>
            <p:nvPr/>
          </p:nvSpPr>
          <p:spPr>
            <a:xfrm>
              <a:off x="2438280" y="2406600"/>
              <a:ext cx="38102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 txBox="1"/>
            <p:nvPr/>
          </p:nvSpPr>
          <p:spPr>
            <a:xfrm>
              <a:off x="1965240" y="2178000"/>
              <a:ext cx="96372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S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 txBox="1"/>
            <p:nvPr/>
          </p:nvSpPr>
          <p:spPr>
            <a:xfrm>
              <a:off x="3336840" y="2178000"/>
              <a:ext cx="82692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CU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334120" y="2057400"/>
              <a:ext cx="914760" cy="686160"/>
            </a:xfrm>
            <a:custGeom>
              <a:avLst/>
              <a:gdLst/>
              <a:ahLst/>
              <a:rect l="0" t="0" r="r" b="b"/>
              <a:pathLst>
                <a:path fill="none" w="2541" h="1906">
                  <a:moveTo>
                    <a:pt x="2329" y="0"/>
                  </a:moveTo>
                  <a:lnTo>
                    <a:pt x="0" y="0"/>
                  </a:lnTo>
                  <a:lnTo>
                    <a:pt x="0" y="1906"/>
                  </a:lnTo>
                  <a:lnTo>
                    <a:pt x="2541" y="1906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 txBox="1"/>
            <p:nvPr/>
          </p:nvSpPr>
          <p:spPr>
            <a:xfrm>
              <a:off x="5927760" y="1812960"/>
              <a:ext cx="743040" cy="1187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PU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PU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PU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 txBox="1"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SAM Web Si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2" name="" descr=""/>
          <p:cNvPicPr/>
          <p:nvPr/>
        </p:nvPicPr>
        <p:blipFill>
          <a:blip r:embed="rId1"/>
          <a:stretch/>
        </p:blipFill>
        <p:spPr>
          <a:xfrm>
            <a:off x="1209600" y="1319040"/>
            <a:ext cx="6724800" cy="1467000"/>
          </a:xfrm>
          <a:prstGeom prst="rect">
            <a:avLst/>
          </a:prstGeom>
          <a:ln w="0">
            <a:noFill/>
          </a:ln>
        </p:spPr>
      </p:pic>
      <p:pic>
        <p:nvPicPr>
          <p:cNvPr id="503" name="" descr=""/>
          <p:cNvPicPr/>
          <p:nvPr/>
        </p:nvPicPr>
        <p:blipFill>
          <a:blip r:embed="rId2"/>
          <a:stretch/>
        </p:blipFill>
        <p:spPr>
          <a:xfrm>
            <a:off x="1981080" y="2895480"/>
            <a:ext cx="5181480" cy="3343320"/>
          </a:xfrm>
          <a:prstGeom prst="rect">
            <a:avLst/>
          </a:prstGeom>
          <a:ln w="0">
            <a:noFill/>
          </a:ln>
        </p:spPr>
      </p:pic>
      <p:sp>
        <p:nvSpPr>
          <p:cNvPr id="504" name=""/>
          <p:cNvSpPr/>
          <p:nvPr/>
        </p:nvSpPr>
        <p:spPr>
          <a:xfrm>
            <a:off x="5791320" y="3505320"/>
            <a:ext cx="3046320" cy="9907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6029280" y="3649680"/>
            <a:ext cx="25686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D System De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cument is avai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 txBox="1"/>
          <p:nvPr/>
        </p:nvSpPr>
        <p:spPr>
          <a:xfrm>
            <a:off x="685800" y="7632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SAM - 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685800" y="1581120"/>
            <a:ext cx="7772400" cy="52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perative multi-sensor surveill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portunities and challe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-frame motion vide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deo georeferenc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, vision-based camera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deo-based scene mode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ion of VSAM research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228600" y="196920"/>
            <a:ext cx="22860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 9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357200" y="1709640"/>
            <a:ext cx="6119640" cy="29862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093760" y="1901880"/>
            <a:ext cx="523800" cy="5554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2527200" y="1479600"/>
            <a:ext cx="525600" cy="5526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5632560" y="1577880"/>
            <a:ext cx="523800" cy="561960"/>
          </a:xfrm>
          <a:prstGeom prst="rect">
            <a:avLst/>
          </a:prstGeom>
          <a:ln w="0">
            <a:noFill/>
          </a:ln>
        </p:spPr>
      </p:pic>
      <p:grpSp>
        <p:nvGrpSpPr>
          <p:cNvPr id="48" name=""/>
          <p:cNvGrpSpPr/>
          <p:nvPr/>
        </p:nvGrpSpPr>
        <p:grpSpPr>
          <a:xfrm>
            <a:off x="5361120" y="2465280"/>
            <a:ext cx="1371960" cy="959040"/>
            <a:chOff x="5361120" y="2465280"/>
            <a:chExt cx="1371960" cy="959040"/>
          </a:xfrm>
        </p:grpSpPr>
        <p:sp>
          <p:nvSpPr>
            <p:cNvPr id="49" name=""/>
            <p:cNvSpPr/>
            <p:nvPr/>
          </p:nvSpPr>
          <p:spPr>
            <a:xfrm>
              <a:off x="5361120" y="2465280"/>
              <a:ext cx="1371960" cy="959040"/>
            </a:xfrm>
            <a:custGeom>
              <a:avLst/>
              <a:gdLst/>
              <a:ahLst/>
              <a:rect l="0" t="0" r="r" b="b"/>
              <a:pathLst>
                <a:path w="3811" h="2664">
                  <a:moveTo>
                    <a:pt x="0" y="2664"/>
                  </a:moveTo>
                  <a:lnTo>
                    <a:pt x="3048" y="2664"/>
                  </a:lnTo>
                  <a:lnTo>
                    <a:pt x="3811" y="2131"/>
                  </a:lnTo>
                  <a:lnTo>
                    <a:pt x="3811" y="0"/>
                  </a:lnTo>
                  <a:lnTo>
                    <a:pt x="3048" y="532"/>
                  </a:lnTo>
                  <a:lnTo>
                    <a:pt x="3048" y="2664"/>
                  </a:lnTo>
                  <a:lnTo>
                    <a:pt x="3048" y="532"/>
                  </a:lnTo>
                  <a:lnTo>
                    <a:pt x="0" y="532"/>
                  </a:lnTo>
                  <a:lnTo>
                    <a:pt x="762" y="0"/>
                  </a:lnTo>
                  <a:lnTo>
                    <a:pt x="3811" y="0"/>
                  </a:lnTo>
                  <a:lnTo>
                    <a:pt x="762" y="0"/>
                  </a:lnTo>
                  <a:lnTo>
                    <a:pt x="0" y="532"/>
                  </a:lnTo>
                  <a:lnTo>
                    <a:pt x="0" y="2664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867280" y="2997360"/>
              <a:ext cx="144360" cy="4269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433840" y="2890800"/>
              <a:ext cx="144360" cy="2142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653080" y="2890800"/>
              <a:ext cx="139680" cy="2142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156360" y="2890800"/>
              <a:ext cx="142920" cy="2142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372360" y="2890800"/>
              <a:ext cx="142920" cy="2142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2690640" y="2151000"/>
            <a:ext cx="1294200" cy="528840"/>
            <a:chOff x="2690640" y="2151000"/>
            <a:chExt cx="1294200" cy="528840"/>
          </a:xfrm>
        </p:grpSpPr>
        <p:sp>
          <p:nvSpPr>
            <p:cNvPr id="56" name=""/>
            <p:cNvSpPr/>
            <p:nvPr/>
          </p:nvSpPr>
          <p:spPr>
            <a:xfrm>
              <a:off x="2690640" y="2151000"/>
              <a:ext cx="1294200" cy="528840"/>
            </a:xfrm>
            <a:custGeom>
              <a:avLst/>
              <a:gdLst/>
              <a:ahLst/>
              <a:rect l="0" t="0" r="r" b="b"/>
              <a:pathLst>
                <a:path w="3595" h="1469">
                  <a:moveTo>
                    <a:pt x="0" y="1469"/>
                  </a:moveTo>
                  <a:lnTo>
                    <a:pt x="2877" y="1469"/>
                  </a:lnTo>
                  <a:lnTo>
                    <a:pt x="3595" y="1175"/>
                  </a:lnTo>
                  <a:lnTo>
                    <a:pt x="3595" y="0"/>
                  </a:lnTo>
                  <a:lnTo>
                    <a:pt x="2877" y="293"/>
                  </a:lnTo>
                  <a:lnTo>
                    <a:pt x="2877" y="1469"/>
                  </a:lnTo>
                  <a:lnTo>
                    <a:pt x="2877" y="293"/>
                  </a:lnTo>
                  <a:lnTo>
                    <a:pt x="0" y="293"/>
                  </a:lnTo>
                  <a:lnTo>
                    <a:pt x="718" y="0"/>
                  </a:lnTo>
                  <a:lnTo>
                    <a:pt x="3595" y="0"/>
                  </a:lnTo>
                  <a:lnTo>
                    <a:pt x="718" y="0"/>
                  </a:lnTo>
                  <a:lnTo>
                    <a:pt x="0" y="293"/>
                  </a:lnTo>
                  <a:lnTo>
                    <a:pt x="0" y="1469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171960" y="2441520"/>
              <a:ext cx="136440" cy="2379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759040" y="2386080"/>
              <a:ext cx="133200" cy="1206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963880" y="2386080"/>
              <a:ext cx="141120" cy="1206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40160" y="2386080"/>
              <a:ext cx="138240" cy="1206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645000" y="2386080"/>
              <a:ext cx="141120" cy="1206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62" name="" descr=""/>
          <p:cNvPicPr/>
          <p:nvPr/>
        </p:nvPicPr>
        <p:blipFill>
          <a:blip r:embed="rId5"/>
          <a:stretch/>
        </p:blipFill>
        <p:spPr>
          <a:xfrm>
            <a:off x="6510240" y="3614760"/>
            <a:ext cx="611280" cy="9586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6"/>
          <a:stretch/>
        </p:blipFill>
        <p:spPr>
          <a:xfrm>
            <a:off x="7180200" y="3324240"/>
            <a:ext cx="555480" cy="8604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33280" y="1511280"/>
            <a:ext cx="8517240" cy="3507120"/>
          </a:xfrm>
          <a:custGeom>
            <a:avLst/>
            <a:gdLst/>
            <a:ahLst/>
            <a:rect l="0" t="0" r="r" b="b"/>
            <a:pathLst>
              <a:path fill="none" w="23659" h="9742">
                <a:moveTo>
                  <a:pt x="0" y="0"/>
                </a:moveTo>
                <a:lnTo>
                  <a:pt x="7097" y="9742"/>
                </a:lnTo>
                <a:lnTo>
                  <a:pt x="16561" y="9742"/>
                </a:lnTo>
                <a:lnTo>
                  <a:pt x="23659" y="0"/>
                </a:lnTo>
                <a:lnTo>
                  <a:pt x="0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7"/>
          <a:stretch/>
        </p:blipFill>
        <p:spPr>
          <a:xfrm>
            <a:off x="3403440" y="166680"/>
            <a:ext cx="812880" cy="6951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4003560" y="2120760"/>
            <a:ext cx="1810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124080" y="2695680"/>
            <a:ext cx="514440" cy="95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68880" y="3124080"/>
            <a:ext cx="15876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9960" y="3648240"/>
            <a:ext cx="96192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8"/>
          <a:stretch/>
        </p:blipFill>
        <p:spPr>
          <a:xfrm>
            <a:off x="2876400" y="4562640"/>
            <a:ext cx="351000" cy="4255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9"/>
          <a:stretch/>
        </p:blipFill>
        <p:spPr>
          <a:xfrm>
            <a:off x="3135240" y="4270320"/>
            <a:ext cx="351000" cy="4208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2692440" y="4305240"/>
            <a:ext cx="952560" cy="59688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498680" y="2647800"/>
            <a:ext cx="1435320" cy="895680"/>
          </a:xfrm>
          <a:custGeom>
            <a:avLst/>
            <a:gdLst/>
            <a:ahLst/>
            <a:rect l="0" t="0" r="r" b="b"/>
            <a:pathLst>
              <a:path fill="none" w="3987" h="2488">
                <a:moveTo>
                  <a:pt x="2690" y="0"/>
                </a:moveTo>
                <a:lnTo>
                  <a:pt x="2214" y="52"/>
                </a:lnTo>
                <a:lnTo>
                  <a:pt x="1949" y="105"/>
                </a:lnTo>
                <a:lnTo>
                  <a:pt x="1728" y="194"/>
                </a:lnTo>
                <a:lnTo>
                  <a:pt x="1375" y="299"/>
                </a:lnTo>
                <a:lnTo>
                  <a:pt x="1234" y="370"/>
                </a:lnTo>
                <a:lnTo>
                  <a:pt x="970" y="476"/>
                </a:lnTo>
                <a:lnTo>
                  <a:pt x="599" y="687"/>
                </a:lnTo>
                <a:lnTo>
                  <a:pt x="493" y="793"/>
                </a:lnTo>
                <a:lnTo>
                  <a:pt x="423" y="899"/>
                </a:lnTo>
                <a:lnTo>
                  <a:pt x="317" y="1040"/>
                </a:lnTo>
                <a:lnTo>
                  <a:pt x="211" y="1181"/>
                </a:lnTo>
                <a:lnTo>
                  <a:pt x="0" y="1606"/>
                </a:lnTo>
                <a:lnTo>
                  <a:pt x="0" y="1711"/>
                </a:lnTo>
                <a:lnTo>
                  <a:pt x="141" y="2205"/>
                </a:lnTo>
                <a:lnTo>
                  <a:pt x="246" y="2311"/>
                </a:lnTo>
                <a:lnTo>
                  <a:pt x="352" y="2346"/>
                </a:lnTo>
                <a:lnTo>
                  <a:pt x="493" y="2417"/>
                </a:lnTo>
                <a:lnTo>
                  <a:pt x="599" y="2452"/>
                </a:lnTo>
                <a:lnTo>
                  <a:pt x="881" y="2488"/>
                </a:lnTo>
                <a:lnTo>
                  <a:pt x="1164" y="2488"/>
                </a:lnTo>
                <a:lnTo>
                  <a:pt x="1375" y="2488"/>
                </a:lnTo>
                <a:lnTo>
                  <a:pt x="1622" y="2488"/>
                </a:lnTo>
                <a:lnTo>
                  <a:pt x="1763" y="2488"/>
                </a:lnTo>
                <a:lnTo>
                  <a:pt x="2047" y="2488"/>
                </a:lnTo>
                <a:lnTo>
                  <a:pt x="2258" y="2488"/>
                </a:lnTo>
                <a:lnTo>
                  <a:pt x="2505" y="2488"/>
                </a:lnTo>
                <a:lnTo>
                  <a:pt x="3070" y="2346"/>
                </a:lnTo>
                <a:lnTo>
                  <a:pt x="3352" y="2205"/>
                </a:lnTo>
                <a:lnTo>
                  <a:pt x="3493" y="2100"/>
                </a:lnTo>
                <a:lnTo>
                  <a:pt x="3811" y="1711"/>
                </a:lnTo>
                <a:lnTo>
                  <a:pt x="3916" y="1465"/>
                </a:lnTo>
                <a:lnTo>
                  <a:pt x="3952" y="1323"/>
                </a:lnTo>
                <a:lnTo>
                  <a:pt x="3952" y="1005"/>
                </a:lnTo>
                <a:lnTo>
                  <a:pt x="3987" y="758"/>
                </a:lnTo>
                <a:lnTo>
                  <a:pt x="3987" y="652"/>
                </a:lnTo>
                <a:lnTo>
                  <a:pt x="3846" y="476"/>
                </a:lnTo>
                <a:lnTo>
                  <a:pt x="3740" y="370"/>
                </a:lnTo>
                <a:lnTo>
                  <a:pt x="3528" y="194"/>
                </a:lnTo>
                <a:lnTo>
                  <a:pt x="3422" y="123"/>
                </a:lnTo>
                <a:lnTo>
                  <a:pt x="3273" y="79"/>
                </a:lnTo>
                <a:lnTo>
                  <a:pt x="3070" y="52"/>
                </a:lnTo>
              </a:path>
            </a:pathLst>
          </a:custGeom>
          <a:ln w="38160">
            <a:solidFill>
              <a:srgbClr val="ff0033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334120" y="2857680"/>
            <a:ext cx="1086120" cy="829080"/>
          </a:xfrm>
          <a:custGeom>
            <a:avLst/>
            <a:gdLst/>
            <a:ahLst/>
            <a:rect l="0" t="0" r="r" b="b"/>
            <a:pathLst>
              <a:path fill="none" w="3017" h="2303">
                <a:moveTo>
                  <a:pt x="1296" y="26"/>
                </a:moveTo>
                <a:lnTo>
                  <a:pt x="978" y="52"/>
                </a:lnTo>
                <a:lnTo>
                  <a:pt x="714" y="132"/>
                </a:lnTo>
                <a:lnTo>
                  <a:pt x="458" y="317"/>
                </a:lnTo>
                <a:lnTo>
                  <a:pt x="317" y="423"/>
                </a:lnTo>
                <a:lnTo>
                  <a:pt x="246" y="529"/>
                </a:lnTo>
                <a:lnTo>
                  <a:pt x="176" y="636"/>
                </a:lnTo>
                <a:lnTo>
                  <a:pt x="105" y="777"/>
                </a:lnTo>
                <a:lnTo>
                  <a:pt x="35" y="882"/>
                </a:lnTo>
                <a:lnTo>
                  <a:pt x="35" y="988"/>
                </a:lnTo>
                <a:lnTo>
                  <a:pt x="35" y="1129"/>
                </a:lnTo>
                <a:lnTo>
                  <a:pt x="0" y="1271"/>
                </a:lnTo>
                <a:lnTo>
                  <a:pt x="0" y="1376"/>
                </a:lnTo>
                <a:lnTo>
                  <a:pt x="0" y="1482"/>
                </a:lnTo>
                <a:lnTo>
                  <a:pt x="105" y="1623"/>
                </a:lnTo>
                <a:lnTo>
                  <a:pt x="246" y="1765"/>
                </a:lnTo>
                <a:lnTo>
                  <a:pt x="423" y="1907"/>
                </a:lnTo>
                <a:lnTo>
                  <a:pt x="635" y="1977"/>
                </a:lnTo>
                <a:lnTo>
                  <a:pt x="846" y="2092"/>
                </a:lnTo>
                <a:lnTo>
                  <a:pt x="1164" y="2198"/>
                </a:lnTo>
                <a:lnTo>
                  <a:pt x="1509" y="2303"/>
                </a:lnTo>
                <a:lnTo>
                  <a:pt x="1932" y="2303"/>
                </a:lnTo>
                <a:lnTo>
                  <a:pt x="2355" y="2250"/>
                </a:lnTo>
                <a:lnTo>
                  <a:pt x="2699" y="2092"/>
                </a:lnTo>
                <a:lnTo>
                  <a:pt x="2937" y="1827"/>
                </a:lnTo>
                <a:lnTo>
                  <a:pt x="3017" y="1456"/>
                </a:lnTo>
                <a:lnTo>
                  <a:pt x="2964" y="1032"/>
                </a:lnTo>
                <a:lnTo>
                  <a:pt x="2911" y="741"/>
                </a:lnTo>
                <a:lnTo>
                  <a:pt x="2893" y="529"/>
                </a:lnTo>
                <a:lnTo>
                  <a:pt x="2787" y="388"/>
                </a:lnTo>
                <a:lnTo>
                  <a:pt x="2576" y="246"/>
                </a:lnTo>
                <a:lnTo>
                  <a:pt x="2470" y="211"/>
                </a:lnTo>
                <a:lnTo>
                  <a:pt x="2329" y="105"/>
                </a:lnTo>
                <a:lnTo>
                  <a:pt x="2047" y="70"/>
                </a:lnTo>
                <a:lnTo>
                  <a:pt x="1800" y="35"/>
                </a:lnTo>
                <a:lnTo>
                  <a:pt x="1694" y="35"/>
                </a:lnTo>
                <a:lnTo>
                  <a:pt x="1588" y="0"/>
                </a:lnTo>
                <a:lnTo>
                  <a:pt x="1481" y="0"/>
                </a:lnTo>
                <a:lnTo>
                  <a:pt x="1375" y="0"/>
                </a:lnTo>
                <a:lnTo>
                  <a:pt x="1340" y="35"/>
                </a:lnTo>
              </a:path>
            </a:pathLst>
          </a:custGeom>
          <a:ln w="38160">
            <a:solidFill>
              <a:srgbClr val="ff0033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0"/>
          <a:stretch/>
        </p:blipFill>
        <p:spPr>
          <a:xfrm>
            <a:off x="1036800" y="3786120"/>
            <a:ext cx="611280" cy="954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 flipH="1" flipV="1">
            <a:off x="2514600" y="4216320"/>
            <a:ext cx="377208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2629080" y="4737240"/>
            <a:ext cx="3619440" cy="215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240600" y="4629240"/>
            <a:ext cx="532080" cy="371520"/>
            <a:chOff x="6240600" y="4629240"/>
            <a:chExt cx="532080" cy="371520"/>
          </a:xfrm>
        </p:grpSpPr>
        <p:sp>
          <p:nvSpPr>
            <p:cNvPr id="79" name=""/>
            <p:cNvSpPr/>
            <p:nvPr/>
          </p:nvSpPr>
          <p:spPr>
            <a:xfrm>
              <a:off x="6473880" y="4788000"/>
              <a:ext cx="93600" cy="21276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" name=""/>
            <p:cNvGrpSpPr/>
            <p:nvPr/>
          </p:nvGrpSpPr>
          <p:grpSpPr>
            <a:xfrm>
              <a:off x="6240600" y="4629240"/>
              <a:ext cx="532080" cy="231840"/>
              <a:chOff x="6240600" y="4629240"/>
              <a:chExt cx="532080" cy="231840"/>
            </a:xfrm>
          </p:grpSpPr>
          <p:sp>
            <p:nvSpPr>
              <p:cNvPr id="81" name=""/>
              <p:cNvSpPr/>
              <p:nvPr/>
            </p:nvSpPr>
            <p:spPr>
              <a:xfrm>
                <a:off x="6340680" y="4644000"/>
                <a:ext cx="432000" cy="217080"/>
              </a:xfrm>
              <a:custGeom>
                <a:avLst/>
                <a:gdLst/>
                <a:ahLst/>
                <a:rect l="0" t="0" r="r" b="b"/>
                <a:pathLst>
                  <a:path w="1200" h="603">
                    <a:moveTo>
                      <a:pt x="66" y="0"/>
                    </a:moveTo>
                    <a:lnTo>
                      <a:pt x="0" y="423"/>
                    </a:lnTo>
                    <a:lnTo>
                      <a:pt x="1133" y="603"/>
                    </a:lnTo>
                    <a:lnTo>
                      <a:pt x="1200" y="180"/>
                    </a:lnTo>
                    <a:lnTo>
                      <a:pt x="66" y="0"/>
                    </a:lnTo>
                    <a:close/>
                  </a:path>
                </a:pathLst>
              </a:custGeom>
              <a:solidFill>
                <a:srgbClr val="cecece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6240600" y="4629240"/>
                <a:ext cx="117720" cy="152640"/>
              </a:xfrm>
              <a:custGeom>
                <a:avLst/>
                <a:gdLst/>
                <a:ahLst/>
                <a:rect l="0" t="0" r="r" b="b"/>
                <a:pathLst>
                  <a:path w="327" h="424">
                    <a:moveTo>
                      <a:pt x="327" y="186"/>
                    </a:moveTo>
                    <a:lnTo>
                      <a:pt x="65" y="0"/>
                    </a:lnTo>
                    <a:lnTo>
                      <a:pt x="0" y="424"/>
                    </a:lnTo>
                    <a:lnTo>
                      <a:pt x="303" y="326"/>
                    </a:lnTo>
                    <a:lnTo>
                      <a:pt x="327" y="186"/>
                    </a:lnTo>
                    <a:close/>
                  </a:path>
                </a:pathLst>
              </a:custGeom>
              <a:solidFill>
                <a:srgbClr val="cecece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3" name=""/>
          <p:cNvSpPr/>
          <p:nvPr/>
        </p:nvSpPr>
        <p:spPr>
          <a:xfrm flipH="1">
            <a:off x="1574640" y="736560"/>
            <a:ext cx="2298960" cy="226080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2898720" y="746280"/>
            <a:ext cx="981000" cy="249552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149720" y="1946160"/>
            <a:ext cx="355680" cy="19836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3905280" y="1649520"/>
            <a:ext cx="692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872400" y="4680000"/>
            <a:ext cx="1447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ound SP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232160" y="358920"/>
            <a:ext cx="15746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irborne SP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03200" y="1868400"/>
            <a:ext cx="946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a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491240" y="1911240"/>
            <a:ext cx="946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a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071720" y="2498760"/>
            <a:ext cx="841320" cy="5983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6189840" y="2498760"/>
            <a:ext cx="1506240" cy="7747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676520" y="428004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tent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29040" y="771480"/>
            <a:ext cx="1440000" cy="259092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95640" y="838080"/>
            <a:ext cx="2371680" cy="214812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689200" y="816120"/>
            <a:ext cx="1217520" cy="3786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664080" y="793800"/>
            <a:ext cx="264960" cy="3875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798480" y="5273640"/>
            <a:ext cx="7888320" cy="1465200"/>
            <a:chOff x="798480" y="5273640"/>
            <a:chExt cx="7888320" cy="1465200"/>
          </a:xfrm>
        </p:grpSpPr>
        <p:sp>
          <p:nvSpPr>
            <p:cNvPr id="99" name=""/>
            <p:cNvSpPr txBox="1"/>
            <p:nvPr/>
          </p:nvSpPr>
          <p:spPr>
            <a:xfrm>
              <a:off x="798480" y="5283360"/>
              <a:ext cx="93204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cript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 txBox="1"/>
            <p:nvPr/>
          </p:nvSpPr>
          <p:spPr>
            <a:xfrm>
              <a:off x="1763640" y="5273640"/>
              <a:ext cx="6923160" cy="1465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91440" indent="-91440">
                <a:lnSpc>
                  <a:spcPct val="90000"/>
                </a:lnSpc>
                <a:buClr>
                  <a:srgbClr val="000000"/>
                </a:buClr>
                <a:buSzPct val="45000"/>
                <a:buFont typeface="CP1252"/>
                <a:buChar char=""/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ior flyover generates reference mosaic and DE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" indent="-91440">
                <a:lnSpc>
                  <a:spcPct val="90000"/>
                </a:lnSpc>
                <a:buClr>
                  <a:srgbClr val="000000"/>
                </a:buClr>
                <a:buSzPct val="45000"/>
                <a:buFont typeface="CP1252"/>
                <a:buChar char=""/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perator designates areas of interest on aerial mosa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" indent="-91440">
                <a:lnSpc>
                  <a:spcPct val="90000"/>
                </a:lnSpc>
                <a:buClr>
                  <a:srgbClr val="000000"/>
                </a:buClr>
                <a:buSzPct val="45000"/>
                <a:buFont typeface="CP1252"/>
                <a:buChar char=""/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irborne sensor switches between areas (multi-tasking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" indent="-91440">
                <a:lnSpc>
                  <a:spcPct val="90000"/>
                </a:lnSpc>
                <a:buClr>
                  <a:srgbClr val="000000"/>
                </a:buClr>
                <a:buSzPct val="45000"/>
                <a:buFont typeface="CP1252"/>
                <a:buChar char=""/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round-based forward observer detects potential threa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" indent="-91440">
                <a:lnSpc>
                  <a:spcPct val="90000"/>
                </a:lnSpc>
                <a:buClr>
                  <a:srgbClr val="000000"/>
                </a:buClr>
                <a:buSzPct val="45000"/>
                <a:buFont typeface="CP1252"/>
                <a:buChar char=""/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irborne sensor is retasked to observe threa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228600"/>
            <a:ext cx="77724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shy Ru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295280" y="5165640"/>
            <a:ext cx="304812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140 Ac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Buildings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Natural Scen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30 min from cam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685800" y="10944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MU/Sarnoff VSAM 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344840" y="3967200"/>
            <a:ext cx="4702320" cy="27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1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multiple sensors for broad area cove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1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sensor cooperation between air and gr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1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real-time target detection and trac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1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target localization via telemetry and I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1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active camera control (pan/tilt, zoo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1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combined image and scene-based mode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1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graphical user interface for visu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     </a:t>
            </a:r>
            <a:r>
              <a:rPr b="0" lang="en-US" sz="20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and sensor tas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5524560" y="3359160"/>
            <a:ext cx="2133720" cy="39204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D Testbed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166680" y="3367080"/>
            <a:ext cx="4076640" cy="3489120"/>
            <a:chOff x="166680" y="3367080"/>
            <a:chExt cx="4076640" cy="3489120"/>
          </a:xfrm>
        </p:grpSpPr>
        <p:pic>
          <p:nvPicPr>
            <p:cNvPr id="107" name="" descr=""/>
            <p:cNvPicPr/>
            <p:nvPr/>
          </p:nvPicPr>
          <p:blipFill>
            <a:blip r:embed="rId1"/>
            <a:stretch/>
          </p:blipFill>
          <p:spPr>
            <a:xfrm>
              <a:off x="166680" y="3519360"/>
              <a:ext cx="4076640" cy="331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" descr=""/>
            <p:cNvPicPr/>
            <p:nvPr/>
          </p:nvPicPr>
          <p:blipFill>
            <a:blip r:embed="rId2"/>
            <a:stretch/>
          </p:blipFill>
          <p:spPr>
            <a:xfrm>
              <a:off x="1220760" y="4459320"/>
              <a:ext cx="1816200" cy="128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1981080" y="3886200"/>
              <a:ext cx="380880" cy="3808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 flipV="1">
              <a:off x="2409840" y="4200480"/>
              <a:ext cx="1752480" cy="609480"/>
            </a:xfrm>
            <a:prstGeom prst="line">
              <a:avLst/>
            </a:prstGeom>
            <a:ln w="2556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 flipV="1">
              <a:off x="1495440" y="4057560"/>
              <a:ext cx="457200" cy="38160"/>
            </a:xfrm>
            <a:prstGeom prst="line">
              <a:avLst/>
            </a:prstGeom>
            <a:ln w="2556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 txBox="1"/>
            <p:nvPr/>
          </p:nvSpPr>
          <p:spPr>
            <a:xfrm>
              <a:off x="387360" y="3367080"/>
              <a:ext cx="3581280" cy="39204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3D Dynamic Scene Represen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 txBox="1"/>
            <p:nvPr/>
          </p:nvSpPr>
          <p:spPr>
            <a:xfrm>
              <a:off x="2641680" y="5545080"/>
              <a:ext cx="1411200" cy="361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ideo Overl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 txBox="1"/>
            <p:nvPr/>
          </p:nvSpPr>
          <p:spPr>
            <a:xfrm>
              <a:off x="636480" y="6494400"/>
              <a:ext cx="2979720" cy="361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ndered Dynamic Scene Model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695160" y="1847880"/>
            <a:ext cx="3321000" cy="12366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1787400" y="2540160"/>
            <a:ext cx="190440" cy="1760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1095480" y="1927080"/>
            <a:ext cx="284040" cy="230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6"/>
          <a:stretch/>
        </p:blipFill>
        <p:spPr>
          <a:xfrm>
            <a:off x="3038400" y="2762280"/>
            <a:ext cx="396720" cy="2700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7"/>
          <a:stretch/>
        </p:blipFill>
        <p:spPr>
          <a:xfrm>
            <a:off x="1330200" y="1752480"/>
            <a:ext cx="284040" cy="2286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8"/>
          <a:stretch/>
        </p:blipFill>
        <p:spPr>
          <a:xfrm>
            <a:off x="3014640" y="1793880"/>
            <a:ext cx="284040" cy="2318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9"/>
          <a:stretch/>
        </p:blipFill>
        <p:spPr>
          <a:xfrm>
            <a:off x="577800" y="2687760"/>
            <a:ext cx="331920" cy="3952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10"/>
          <a:stretch/>
        </p:blipFill>
        <p:spPr>
          <a:xfrm>
            <a:off x="1473120" y="2892600"/>
            <a:ext cx="190440" cy="17460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2867040" y="2160720"/>
            <a:ext cx="744840" cy="397080"/>
            <a:chOff x="2867040" y="2160720"/>
            <a:chExt cx="744840" cy="397080"/>
          </a:xfrm>
        </p:grpSpPr>
        <p:sp>
          <p:nvSpPr>
            <p:cNvPr id="124" name=""/>
            <p:cNvSpPr/>
            <p:nvPr/>
          </p:nvSpPr>
          <p:spPr>
            <a:xfrm>
              <a:off x="2867040" y="2160720"/>
              <a:ext cx="744840" cy="397080"/>
            </a:xfrm>
            <a:custGeom>
              <a:avLst/>
              <a:gdLst/>
              <a:ahLst/>
              <a:rect l="0" t="0" r="r" b="b"/>
              <a:pathLst>
                <a:path w="2069" h="1103">
                  <a:moveTo>
                    <a:pt x="0" y="1103"/>
                  </a:moveTo>
                  <a:lnTo>
                    <a:pt x="1655" y="1103"/>
                  </a:lnTo>
                  <a:lnTo>
                    <a:pt x="2069" y="882"/>
                  </a:lnTo>
                  <a:lnTo>
                    <a:pt x="2069" y="0"/>
                  </a:lnTo>
                  <a:lnTo>
                    <a:pt x="1655" y="220"/>
                  </a:lnTo>
                  <a:lnTo>
                    <a:pt x="1655" y="1103"/>
                  </a:lnTo>
                  <a:lnTo>
                    <a:pt x="1655" y="220"/>
                  </a:lnTo>
                  <a:lnTo>
                    <a:pt x="0" y="220"/>
                  </a:lnTo>
                  <a:lnTo>
                    <a:pt x="413" y="0"/>
                  </a:lnTo>
                  <a:lnTo>
                    <a:pt x="2069" y="0"/>
                  </a:lnTo>
                  <a:lnTo>
                    <a:pt x="413" y="0"/>
                  </a:lnTo>
                  <a:lnTo>
                    <a:pt x="0" y="220"/>
                  </a:lnTo>
                  <a:lnTo>
                    <a:pt x="0" y="1103"/>
                  </a:lnTo>
                  <a:close/>
                </a:path>
              </a:pathLst>
            </a:custGeom>
            <a:solidFill>
              <a:srgbClr val="cccc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141720" y="2381400"/>
              <a:ext cx="79200" cy="1760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906640" y="2336760"/>
              <a:ext cx="79200" cy="889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7800" bIns="37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025800" y="2336760"/>
              <a:ext cx="76320" cy="889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7800" bIns="37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298680" y="2336760"/>
              <a:ext cx="77760" cy="889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7800" bIns="37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416400" y="2336760"/>
              <a:ext cx="77760" cy="889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7800" bIns="37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1419120" y="2030400"/>
            <a:ext cx="702000" cy="219600"/>
            <a:chOff x="1419120" y="2030400"/>
            <a:chExt cx="702000" cy="219600"/>
          </a:xfrm>
        </p:grpSpPr>
        <p:sp>
          <p:nvSpPr>
            <p:cNvPr id="131" name=""/>
            <p:cNvSpPr/>
            <p:nvPr/>
          </p:nvSpPr>
          <p:spPr>
            <a:xfrm>
              <a:off x="1419120" y="2030400"/>
              <a:ext cx="702000" cy="219600"/>
            </a:xfrm>
            <a:custGeom>
              <a:avLst/>
              <a:gdLst/>
              <a:ahLst/>
              <a:rect l="0" t="0" r="r" b="b"/>
              <a:pathLst>
                <a:path w="1950" h="610">
                  <a:moveTo>
                    <a:pt x="0" y="610"/>
                  </a:moveTo>
                  <a:lnTo>
                    <a:pt x="1560" y="610"/>
                  </a:lnTo>
                  <a:lnTo>
                    <a:pt x="1950" y="488"/>
                  </a:lnTo>
                  <a:lnTo>
                    <a:pt x="1950" y="0"/>
                  </a:lnTo>
                  <a:lnTo>
                    <a:pt x="1560" y="121"/>
                  </a:lnTo>
                  <a:lnTo>
                    <a:pt x="1560" y="610"/>
                  </a:lnTo>
                  <a:lnTo>
                    <a:pt x="1560" y="121"/>
                  </a:lnTo>
                  <a:lnTo>
                    <a:pt x="0" y="121"/>
                  </a:lnTo>
                  <a:lnTo>
                    <a:pt x="389" y="0"/>
                  </a:lnTo>
                  <a:lnTo>
                    <a:pt x="1950" y="0"/>
                  </a:lnTo>
                  <a:lnTo>
                    <a:pt x="389" y="0"/>
                  </a:lnTo>
                  <a:lnTo>
                    <a:pt x="0" y="121"/>
                  </a:lnTo>
                  <a:lnTo>
                    <a:pt x="0" y="610"/>
                  </a:lnTo>
                  <a:close/>
                </a:path>
              </a:pathLst>
            </a:custGeom>
            <a:solidFill>
              <a:srgbClr val="cccc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679400" y="2151000"/>
              <a:ext cx="74520" cy="98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47160" bIns="47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455840" y="2127240"/>
              <a:ext cx="73080" cy="507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566720" y="2127240"/>
              <a:ext cx="76320" cy="507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825560" y="2127240"/>
              <a:ext cx="74520" cy="507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936800" y="2127240"/>
              <a:ext cx="76320" cy="507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37" name="" descr=""/>
          <p:cNvPicPr/>
          <p:nvPr/>
        </p:nvPicPr>
        <p:blipFill>
          <a:blip r:embed="rId11"/>
          <a:stretch/>
        </p:blipFill>
        <p:spPr>
          <a:xfrm>
            <a:off x="1905120" y="2730600"/>
            <a:ext cx="351000" cy="1015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3402720" y="2876400"/>
            <a:ext cx="958320" cy="286920"/>
          </a:xfrm>
          <a:custGeom>
            <a:avLst/>
            <a:gdLst/>
            <a:ahLst/>
            <a:rect l="0" t="0" r="r" b="b"/>
            <a:pathLst>
              <a:path fill="none" w="2662" h="797">
                <a:moveTo>
                  <a:pt x="2662" y="797"/>
                </a:moveTo>
                <a:lnTo>
                  <a:pt x="2662" y="797"/>
                </a:lnTo>
                <a:lnTo>
                  <a:pt x="2662" y="797"/>
                </a:lnTo>
                <a:cubicBezTo>
                  <a:pt x="2662" y="657"/>
                  <a:pt x="2539" y="520"/>
                  <a:pt x="2305" y="398"/>
                </a:cubicBezTo>
                <a:cubicBezTo>
                  <a:pt x="2072" y="277"/>
                  <a:pt x="1736" y="177"/>
                  <a:pt x="1331" y="107"/>
                </a:cubicBezTo>
                <a:cubicBezTo>
                  <a:pt x="926" y="37"/>
                  <a:pt x="46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2"/>
          <a:stretch/>
        </p:blipFill>
        <p:spPr>
          <a:xfrm>
            <a:off x="3551400" y="2755800"/>
            <a:ext cx="331920" cy="3967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13"/>
          <a:stretch/>
        </p:blipFill>
        <p:spPr>
          <a:xfrm>
            <a:off x="3854520" y="2516040"/>
            <a:ext cx="301680" cy="3571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85680" y="1765440"/>
            <a:ext cx="4621680" cy="1452960"/>
          </a:xfrm>
          <a:custGeom>
            <a:avLst/>
            <a:gdLst/>
            <a:ahLst/>
            <a:rect l="0" t="0" r="r" b="b"/>
            <a:pathLst>
              <a:path fill="none" w="12838" h="4036">
                <a:moveTo>
                  <a:pt x="0" y="0"/>
                </a:moveTo>
                <a:lnTo>
                  <a:pt x="3852" y="4036"/>
                </a:lnTo>
                <a:lnTo>
                  <a:pt x="8986" y="4036"/>
                </a:lnTo>
                <a:lnTo>
                  <a:pt x="12838" y="0"/>
                </a:lnTo>
                <a:lnTo>
                  <a:pt x="0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1617840" y="1208160"/>
            <a:ext cx="1889280" cy="403200"/>
            <a:chOff x="1617840" y="1208160"/>
            <a:chExt cx="1889280" cy="403200"/>
          </a:xfrm>
        </p:grpSpPr>
        <p:sp>
          <p:nvSpPr>
            <p:cNvPr id="143" name=""/>
            <p:cNvSpPr/>
            <p:nvPr/>
          </p:nvSpPr>
          <p:spPr>
            <a:xfrm>
              <a:off x="1617840" y="1362240"/>
              <a:ext cx="1889280" cy="249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custDash>
                <a:ds d="202857" sp="202857"/>
              </a:custDash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4" name="" descr=""/>
            <p:cNvPicPr/>
            <p:nvPr/>
          </p:nvPicPr>
          <p:blipFill>
            <a:blip r:embed="rId14"/>
            <a:stretch/>
          </p:blipFill>
          <p:spPr>
            <a:xfrm>
              <a:off x="1805040" y="1208160"/>
              <a:ext cx="441360" cy="28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5" name=""/>
          <p:cNvSpPr/>
          <p:nvPr/>
        </p:nvSpPr>
        <p:spPr>
          <a:xfrm>
            <a:off x="512640" y="3017880"/>
            <a:ext cx="516240" cy="206640"/>
          </a:xfrm>
          <a:custGeom>
            <a:avLst/>
            <a:gdLst/>
            <a:ahLst/>
            <a:rect l="0" t="0" r="r" b="b"/>
            <a:pathLst>
              <a:path fill="none" w="1434" h="574">
                <a:moveTo>
                  <a:pt x="1434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ubicBezTo>
                  <a:pt x="0" y="101"/>
                  <a:pt x="66" y="200"/>
                  <a:pt x="192" y="287"/>
                </a:cubicBezTo>
                <a:cubicBezTo>
                  <a:pt x="318" y="374"/>
                  <a:pt x="499" y="447"/>
                  <a:pt x="717" y="497"/>
                </a:cubicBezTo>
                <a:cubicBezTo>
                  <a:pt x="935" y="547"/>
                  <a:pt x="1182" y="574"/>
                  <a:pt x="1434" y="574"/>
                </a:cubicBezTo>
              </a:path>
            </a:pathLst>
          </a:cu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0480" y="2130120"/>
            <a:ext cx="129600" cy="132120"/>
            <a:chOff x="1050480" y="2130120"/>
            <a:chExt cx="129600" cy="132120"/>
          </a:xfrm>
        </p:grpSpPr>
        <p:sp>
          <p:nvSpPr>
            <p:cNvPr id="147" name=""/>
            <p:cNvSpPr/>
            <p:nvPr/>
          </p:nvSpPr>
          <p:spPr>
            <a:xfrm>
              <a:off x="1050480" y="2130120"/>
              <a:ext cx="110880" cy="107640"/>
            </a:xfrm>
            <a:custGeom>
              <a:avLst/>
              <a:gdLst/>
              <a:ahLst/>
              <a:rect l="0" t="0" r="r" b="b"/>
              <a:pathLst>
                <a:path w="308" h="299">
                  <a:moveTo>
                    <a:pt x="106" y="0"/>
                  </a:moveTo>
                  <a:lnTo>
                    <a:pt x="0" y="178"/>
                  </a:lnTo>
                  <a:lnTo>
                    <a:pt x="201" y="299"/>
                  </a:lnTo>
                  <a:lnTo>
                    <a:pt x="308" y="120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b2b2b2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26080" y="2194920"/>
              <a:ext cx="54000" cy="67320"/>
            </a:xfrm>
            <a:custGeom>
              <a:avLst/>
              <a:gdLst/>
              <a:ahLst/>
              <a:rect l="0" t="0" r="r" b="b"/>
              <a:pathLst>
                <a:path w="150" h="187">
                  <a:moveTo>
                    <a:pt x="0" y="137"/>
                  </a:moveTo>
                  <a:lnTo>
                    <a:pt x="116" y="0"/>
                  </a:lnTo>
                  <a:lnTo>
                    <a:pt x="150" y="19"/>
                  </a:lnTo>
                  <a:lnTo>
                    <a:pt x="84" y="187"/>
                  </a:lnTo>
                  <a:lnTo>
                    <a:pt x="0" y="137"/>
                  </a:lnTo>
                  <a:close/>
                </a:path>
              </a:pathLst>
            </a:custGeom>
            <a:solidFill>
              <a:srgbClr val="b2b2b2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2825280" y="2106720"/>
            <a:ext cx="144000" cy="105480"/>
            <a:chOff x="2825280" y="2106720"/>
            <a:chExt cx="144000" cy="105480"/>
          </a:xfrm>
        </p:grpSpPr>
        <p:sp>
          <p:nvSpPr>
            <p:cNvPr id="150" name=""/>
            <p:cNvSpPr/>
            <p:nvPr/>
          </p:nvSpPr>
          <p:spPr>
            <a:xfrm>
              <a:off x="2860560" y="2106720"/>
              <a:ext cx="108720" cy="105120"/>
            </a:xfrm>
            <a:custGeom>
              <a:avLst/>
              <a:gdLst/>
              <a:ahLst/>
              <a:rect l="0" t="0" r="r" b="b"/>
              <a:pathLst>
                <a:path w="302" h="292">
                  <a:moveTo>
                    <a:pt x="302" y="206"/>
                  </a:moveTo>
                  <a:lnTo>
                    <a:pt x="223" y="0"/>
                  </a:lnTo>
                  <a:lnTo>
                    <a:pt x="0" y="85"/>
                  </a:lnTo>
                  <a:lnTo>
                    <a:pt x="79" y="292"/>
                  </a:lnTo>
                  <a:lnTo>
                    <a:pt x="302" y="206"/>
                  </a:lnTo>
                  <a:close/>
                </a:path>
              </a:pathLst>
            </a:custGeom>
            <a:solidFill>
              <a:srgbClr val="b2b2b2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825280" y="2145240"/>
              <a:ext cx="45360" cy="66960"/>
            </a:xfrm>
            <a:custGeom>
              <a:avLst/>
              <a:gdLst/>
              <a:ahLst/>
              <a:rect l="0" t="0" r="r" b="b"/>
              <a:pathLst>
                <a:path w="126" h="186">
                  <a:moveTo>
                    <a:pt x="91" y="0"/>
                  </a:moveTo>
                  <a:lnTo>
                    <a:pt x="126" y="172"/>
                  </a:lnTo>
                  <a:lnTo>
                    <a:pt x="89" y="186"/>
                  </a:lnTo>
                  <a:lnTo>
                    <a:pt x="0" y="34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b2b2b2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3178080" y="2727360"/>
            <a:ext cx="124200" cy="76320"/>
            <a:chOff x="3178080" y="2727360"/>
            <a:chExt cx="124200" cy="76320"/>
          </a:xfrm>
        </p:grpSpPr>
        <p:sp>
          <p:nvSpPr>
            <p:cNvPr id="153" name=""/>
            <p:cNvSpPr/>
            <p:nvPr/>
          </p:nvSpPr>
          <p:spPr>
            <a:xfrm>
              <a:off x="3218040" y="2727360"/>
              <a:ext cx="84240" cy="7632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78080" y="2741760"/>
              <a:ext cx="35280" cy="60840"/>
            </a:xfrm>
            <a:custGeom>
              <a:avLst/>
              <a:gdLst/>
              <a:ahLst/>
              <a:rect l="0" t="0" r="r" b="b"/>
              <a:pathLst>
                <a:path w="98" h="169">
                  <a:moveTo>
                    <a:pt x="98" y="169"/>
                  </a:moveTo>
                  <a:lnTo>
                    <a:pt x="68" y="0"/>
                  </a:lnTo>
                  <a:lnTo>
                    <a:pt x="29" y="0"/>
                  </a:lnTo>
                  <a:lnTo>
                    <a:pt x="0" y="169"/>
                  </a:lnTo>
                  <a:lnTo>
                    <a:pt x="98" y="169"/>
                  </a:lnTo>
                  <a:close/>
                </a:path>
              </a:pathLst>
            </a:custGeom>
            <a:solidFill>
              <a:srgbClr val="b2b2b2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2071800" y="1936440"/>
            <a:ext cx="130680" cy="119160"/>
            <a:chOff x="2071800" y="1936440"/>
            <a:chExt cx="130680" cy="119160"/>
          </a:xfrm>
        </p:grpSpPr>
        <p:sp>
          <p:nvSpPr>
            <p:cNvPr id="156" name=""/>
            <p:cNvSpPr/>
            <p:nvPr/>
          </p:nvSpPr>
          <p:spPr>
            <a:xfrm>
              <a:off x="2071800" y="1936440"/>
              <a:ext cx="109800" cy="104400"/>
            </a:xfrm>
            <a:custGeom>
              <a:avLst/>
              <a:gdLst/>
              <a:ahLst/>
              <a:rect l="0" t="0" r="r" b="b"/>
              <a:pathLst>
                <a:path w="305" h="290">
                  <a:moveTo>
                    <a:pt x="78" y="0"/>
                  </a:moveTo>
                  <a:lnTo>
                    <a:pt x="0" y="202"/>
                  </a:lnTo>
                  <a:lnTo>
                    <a:pt x="227" y="290"/>
                  </a:lnTo>
                  <a:lnTo>
                    <a:pt x="305" y="87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b2b2b2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157120" y="1988640"/>
              <a:ext cx="45360" cy="66960"/>
            </a:xfrm>
            <a:custGeom>
              <a:avLst/>
              <a:gdLst/>
              <a:ahLst/>
              <a:rect l="0" t="0" r="r" b="b"/>
              <a:pathLst>
                <a:path w="126" h="186">
                  <a:moveTo>
                    <a:pt x="0" y="152"/>
                  </a:moveTo>
                  <a:lnTo>
                    <a:pt x="89" y="0"/>
                  </a:lnTo>
                  <a:lnTo>
                    <a:pt x="126" y="13"/>
                  </a:lnTo>
                  <a:lnTo>
                    <a:pt x="91" y="186"/>
                  </a:lnTo>
                  <a:lnTo>
                    <a:pt x="0" y="152"/>
                  </a:lnTo>
                  <a:close/>
                </a:path>
              </a:pathLst>
            </a:custGeom>
            <a:solidFill>
              <a:srgbClr val="b2b2b2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2644920" y="1836720"/>
            <a:ext cx="128880" cy="146880"/>
            <a:chOff x="2644920" y="1836720"/>
            <a:chExt cx="128880" cy="146880"/>
          </a:xfrm>
        </p:grpSpPr>
        <p:sp>
          <p:nvSpPr>
            <p:cNvPr id="159" name=""/>
            <p:cNvSpPr/>
            <p:nvPr/>
          </p:nvSpPr>
          <p:spPr>
            <a:xfrm>
              <a:off x="2662200" y="1836720"/>
              <a:ext cx="111600" cy="119520"/>
            </a:xfrm>
            <a:custGeom>
              <a:avLst/>
              <a:gdLst/>
              <a:ahLst/>
              <a:rect l="0" t="0" r="r" b="b"/>
              <a:pathLst>
                <a:path w="310" h="332">
                  <a:moveTo>
                    <a:pt x="146" y="0"/>
                  </a:moveTo>
                  <a:lnTo>
                    <a:pt x="0" y="226"/>
                  </a:lnTo>
                  <a:lnTo>
                    <a:pt x="163" y="332"/>
                  </a:lnTo>
                  <a:lnTo>
                    <a:pt x="310" y="105"/>
                  </a:lnTo>
                  <a:lnTo>
                    <a:pt x="146" y="0"/>
                  </a:lnTo>
                  <a:close/>
                </a:path>
              </a:pathLst>
            </a:custGeom>
            <a:solidFill>
              <a:srgbClr val="b2b2b2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644920" y="1930680"/>
              <a:ext cx="52920" cy="52920"/>
            </a:xfrm>
            <a:custGeom>
              <a:avLst/>
              <a:gdLst/>
              <a:ahLst/>
              <a:rect l="0" t="0" r="r" b="b"/>
              <a:pathLst>
                <a:path w="147" h="147">
                  <a:moveTo>
                    <a:pt x="0" y="65"/>
                  </a:moveTo>
                  <a:lnTo>
                    <a:pt x="96" y="0"/>
                  </a:lnTo>
                  <a:lnTo>
                    <a:pt x="147" y="32"/>
                  </a:lnTo>
                  <a:lnTo>
                    <a:pt x="127" y="147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b2b2b2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2473560" y="3076920"/>
            <a:ext cx="146880" cy="114120"/>
            <a:chOff x="2473560" y="3076920"/>
            <a:chExt cx="146880" cy="114120"/>
          </a:xfrm>
        </p:grpSpPr>
        <p:sp>
          <p:nvSpPr>
            <p:cNvPr id="162" name=""/>
            <p:cNvSpPr/>
            <p:nvPr/>
          </p:nvSpPr>
          <p:spPr>
            <a:xfrm>
              <a:off x="2507760" y="3081600"/>
              <a:ext cx="112680" cy="109440"/>
            </a:xfrm>
            <a:custGeom>
              <a:avLst/>
              <a:gdLst/>
              <a:ahLst/>
              <a:rect l="0" t="0" r="r" b="b"/>
              <a:pathLst>
                <a:path w="313" h="304">
                  <a:moveTo>
                    <a:pt x="102" y="0"/>
                  </a:moveTo>
                  <a:lnTo>
                    <a:pt x="0" y="191"/>
                  </a:lnTo>
                  <a:lnTo>
                    <a:pt x="211" y="304"/>
                  </a:lnTo>
                  <a:lnTo>
                    <a:pt x="313" y="112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b2b2b2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473560" y="3076920"/>
              <a:ext cx="52200" cy="66960"/>
            </a:xfrm>
            <a:custGeom>
              <a:avLst/>
              <a:gdLst/>
              <a:ahLst/>
              <a:rect l="0" t="0" r="r" b="b"/>
              <a:pathLst>
                <a:path w="145" h="186">
                  <a:moveTo>
                    <a:pt x="90" y="186"/>
                  </a:moveTo>
                  <a:lnTo>
                    <a:pt x="145" y="19"/>
                  </a:lnTo>
                  <a:lnTo>
                    <a:pt x="108" y="0"/>
                  </a:lnTo>
                  <a:lnTo>
                    <a:pt x="0" y="138"/>
                  </a:lnTo>
                  <a:lnTo>
                    <a:pt x="90" y="186"/>
                  </a:lnTo>
                  <a:close/>
                </a:path>
              </a:pathLst>
            </a:custGeom>
            <a:solidFill>
              <a:srgbClr val="b2b2b2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742320" y="3081240"/>
            <a:ext cx="145080" cy="106560"/>
            <a:chOff x="742320" y="3081240"/>
            <a:chExt cx="145080" cy="106560"/>
          </a:xfrm>
        </p:grpSpPr>
        <p:sp>
          <p:nvSpPr>
            <p:cNvPr id="165" name=""/>
            <p:cNvSpPr/>
            <p:nvPr/>
          </p:nvSpPr>
          <p:spPr>
            <a:xfrm>
              <a:off x="742320" y="3081600"/>
              <a:ext cx="111240" cy="106200"/>
            </a:xfrm>
            <a:custGeom>
              <a:avLst/>
              <a:gdLst/>
              <a:ahLst/>
              <a:rect l="0" t="0" r="r" b="b"/>
              <a:pathLst>
                <a:path w="309" h="295">
                  <a:moveTo>
                    <a:pt x="0" y="95"/>
                  </a:moveTo>
                  <a:lnTo>
                    <a:pt x="85" y="295"/>
                  </a:lnTo>
                  <a:lnTo>
                    <a:pt x="309" y="199"/>
                  </a:lnTo>
                  <a:lnTo>
                    <a:pt x="224" y="0"/>
                  </a:lnTo>
                  <a:lnTo>
                    <a:pt x="0" y="95"/>
                  </a:lnTo>
                  <a:close/>
                </a:path>
              </a:pathLst>
            </a:custGeom>
            <a:solidFill>
              <a:srgbClr val="b2b2b2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40240" y="3081240"/>
              <a:ext cx="47160" cy="66960"/>
            </a:xfrm>
            <a:custGeom>
              <a:avLst/>
              <a:gdLst/>
              <a:ahLst/>
              <a:rect l="0" t="0" r="r" b="b"/>
              <a:pathLst>
                <a:path w="131" h="186">
                  <a:moveTo>
                    <a:pt x="41" y="186"/>
                  </a:moveTo>
                  <a:lnTo>
                    <a:pt x="0" y="15"/>
                  </a:lnTo>
                  <a:lnTo>
                    <a:pt x="36" y="0"/>
                  </a:lnTo>
                  <a:lnTo>
                    <a:pt x="131" y="148"/>
                  </a:lnTo>
                  <a:lnTo>
                    <a:pt x="41" y="186"/>
                  </a:lnTo>
                  <a:close/>
                </a:path>
              </a:pathLst>
            </a:custGeom>
            <a:solidFill>
              <a:srgbClr val="b2b2b2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"/>
          <p:cNvSpPr txBox="1"/>
          <p:nvPr/>
        </p:nvSpPr>
        <p:spPr>
          <a:xfrm>
            <a:off x="55440" y="1386000"/>
            <a:ext cx="12063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shy R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 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992160" y="798480"/>
            <a:ext cx="2730600" cy="392040"/>
          </a:xfrm>
          <a:prstGeom prst="rect">
            <a:avLst/>
          </a:prstGeom>
          <a:solidFill>
            <a:srgbClr val="0066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-sensor Co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5"/>
          <a:stretch/>
        </p:blipFill>
        <p:spPr>
          <a:xfrm>
            <a:off x="4267080" y="1030320"/>
            <a:ext cx="4686120" cy="223848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6481800" y="211608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 flipV="1">
            <a:off x="6900840" y="2325600"/>
            <a:ext cx="1695600" cy="52560"/>
          </a:xfrm>
          <a:prstGeom prst="line">
            <a:avLst/>
          </a:prstGeom>
          <a:ln w="3816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11520" bIns="-1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368960" y="1343160"/>
            <a:ext cx="2151000" cy="361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bilization/Mosai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7230960" y="2560680"/>
            <a:ext cx="1523880" cy="60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rget Track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amp; Recogni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240160" y="801720"/>
            <a:ext cx="2673360" cy="392040"/>
          </a:xfrm>
          <a:prstGeom prst="rect">
            <a:avLst/>
          </a:prstGeom>
          <a:solidFill>
            <a:srgbClr val="ff33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l-time Video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18000" y="2682720"/>
            <a:ext cx="1852560" cy="361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ity Monito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7202520" y="1343160"/>
            <a:ext cx="1581120" cy="361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rget Det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8061480" y="6431040"/>
            <a:ext cx="9604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/12/9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SAM Military Relev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685800" y="1312920"/>
            <a:ext cx="7772400" cy="50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Scenario Exam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cility Monito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ward Ob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rder Crossing Monito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 Reconnaiss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Activities monitored (examples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itering, suspicious movement, trespa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oop movements, convoy m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rder incursions, suspicious randezv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ffic in and out of suspicious buil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68580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D Research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685800" y="1600200"/>
            <a:ext cx="7967520" cy="49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6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0" lang="en-US" sz="2800" spc="-1" strike="noStrike">
                <a:solidFill>
                  <a:srgbClr val="618ffd"/>
                </a:solidFill>
                <a:latin typeface="Times New Roman"/>
                <a:ea typeface="Times New Roman"/>
              </a:rPr>
              <a:t>Robust target detection and trac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0" lang="en-US" sz="2800" spc="-1" strike="noStrike">
                <a:solidFill>
                  <a:srgbClr val="618ffd"/>
                </a:solidFill>
                <a:latin typeface="Times New Roman"/>
                <a:ea typeface="Times New Roman"/>
              </a:rPr>
              <a:t>Single sensor multi-task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monitoring widely separated ar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0" lang="en-US" sz="2800" spc="-1" strike="noStrike">
                <a:solidFill>
                  <a:srgbClr val="618ffd"/>
                </a:solidFill>
                <a:latin typeface="Times New Roman"/>
                <a:ea typeface="Times New Roman"/>
              </a:rPr>
              <a:t>Cooperative multi-sensor target track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ntinuous, wide-area cove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Video-based </a:t>
            </a:r>
            <a:r>
              <a:rPr b="0" lang="en-US" sz="2800" spc="-1" strike="noStrike">
                <a:solidFill>
                  <a:srgbClr val="618ffd"/>
                </a:solidFill>
                <a:latin typeface="Times New Roman"/>
                <a:ea typeface="Times New Roman"/>
              </a:rPr>
              <a:t>scene mode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</a:t>
            </a:r>
            <a:r>
              <a:rPr b="0" lang="en-US" sz="2800" spc="-1" strike="noStrike">
                <a:solidFill>
                  <a:srgbClr val="618ffd"/>
                </a:solidFill>
                <a:latin typeface="Times New Roman"/>
                <a:ea typeface="Times New Roman"/>
              </a:rPr>
              <a:t>Activity monitoring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618ffd"/>
                </a:solidFill>
                <a:latin typeface="Times New Roman"/>
                <a:ea typeface="Times New Roman"/>
              </a:rPr>
              <a:t>object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</a:t>
            </a:r>
            <a:r>
              <a:rPr b="0" lang="en-US" sz="2800" spc="-1" strike="noStrike">
                <a:solidFill>
                  <a:srgbClr val="618ffd"/>
                </a:solidFill>
                <a:latin typeface="Times New Roman"/>
                <a:ea typeface="Times New Roman"/>
              </a:rPr>
              <a:t>Graphical operator interfa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vent visualization and sensor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52280"/>
            <a:ext cx="87631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bust Target Detection and Track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584360" y="2224080"/>
            <a:ext cx="607068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gitize a figure from Alan’s de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mith Hall parking lot, multiple objec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143000" y="782640"/>
            <a:ext cx="6848640" cy="513072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3505320" y="3933720"/>
            <a:ext cx="552600" cy="361800"/>
          </a:xfrm>
          <a:prstGeom prst="rect">
            <a:avLst/>
          </a:prstGeom>
          <a:noFill/>
          <a:ln w="38160">
            <a:solidFill>
              <a:srgbClr val="ffff66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753080" y="4257720"/>
            <a:ext cx="1162080" cy="523800"/>
          </a:xfrm>
          <a:prstGeom prst="rect">
            <a:avLst/>
          </a:prstGeom>
          <a:noFill/>
          <a:ln w="38160">
            <a:solidFill>
              <a:srgbClr val="ffff66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1357200" y="1023840"/>
            <a:ext cx="6477120" cy="77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743040" indent="-285840">
              <a:lnSpc>
                <a:spcPct val="7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robust algorithms that handle occlusion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7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ghting variation, scene clutter, 3D paralla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1036800" y="5732640"/>
            <a:ext cx="7002360" cy="822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2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bine appearance-based and motion-based trac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2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e in with object recognition, and vehicle/human discrimin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685800" y="15228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gle Sensor Multi-task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1109520" y="1320840"/>
            <a:ext cx="6654960" cy="3987720"/>
            <a:chOff x="1109520" y="1320840"/>
            <a:chExt cx="6654960" cy="3987720"/>
          </a:xfrm>
        </p:grpSpPr>
        <p:sp>
          <p:nvSpPr>
            <p:cNvPr id="191" name=""/>
            <p:cNvSpPr/>
            <p:nvPr/>
          </p:nvSpPr>
          <p:spPr>
            <a:xfrm>
              <a:off x="1160640" y="2943360"/>
              <a:ext cx="3819960" cy="924120"/>
            </a:xfrm>
            <a:custGeom>
              <a:avLst/>
              <a:gdLst/>
              <a:ahLst/>
              <a:rect l="0" t="0" r="r" b="b"/>
              <a:pathLst>
                <a:path fill="none" w="10611" h="2567">
                  <a:moveTo>
                    <a:pt x="0" y="2567"/>
                  </a:moveTo>
                  <a:lnTo>
                    <a:pt x="343" y="2567"/>
                  </a:lnTo>
                  <a:lnTo>
                    <a:pt x="873" y="2408"/>
                  </a:lnTo>
                  <a:lnTo>
                    <a:pt x="1534" y="2117"/>
                  </a:lnTo>
                  <a:lnTo>
                    <a:pt x="2275" y="1614"/>
                  </a:lnTo>
                  <a:lnTo>
                    <a:pt x="2858" y="1111"/>
                  </a:lnTo>
                  <a:lnTo>
                    <a:pt x="3467" y="687"/>
                  </a:lnTo>
                  <a:lnTo>
                    <a:pt x="3996" y="370"/>
                  </a:lnTo>
                  <a:lnTo>
                    <a:pt x="4446" y="158"/>
                  </a:lnTo>
                  <a:lnTo>
                    <a:pt x="4975" y="52"/>
                  </a:lnTo>
                  <a:lnTo>
                    <a:pt x="5451" y="0"/>
                  </a:lnTo>
                  <a:lnTo>
                    <a:pt x="6033" y="79"/>
                  </a:lnTo>
                  <a:lnTo>
                    <a:pt x="6456" y="291"/>
                  </a:lnTo>
                  <a:lnTo>
                    <a:pt x="6906" y="582"/>
                  </a:lnTo>
                  <a:lnTo>
                    <a:pt x="7382" y="793"/>
                  </a:lnTo>
                  <a:lnTo>
                    <a:pt x="7965" y="952"/>
                  </a:lnTo>
                  <a:lnTo>
                    <a:pt x="8495" y="1164"/>
                  </a:lnTo>
                  <a:lnTo>
                    <a:pt x="8944" y="1297"/>
                  </a:lnTo>
                  <a:lnTo>
                    <a:pt x="9394" y="1403"/>
                  </a:lnTo>
                  <a:lnTo>
                    <a:pt x="9870" y="1562"/>
                  </a:lnTo>
                  <a:lnTo>
                    <a:pt x="10214" y="1667"/>
                  </a:lnTo>
                  <a:lnTo>
                    <a:pt x="10611" y="1694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970520" y="3438360"/>
              <a:ext cx="2772000" cy="1114920"/>
            </a:xfrm>
            <a:custGeom>
              <a:avLst/>
              <a:gdLst/>
              <a:ahLst/>
              <a:rect l="0" t="0" r="r" b="b"/>
              <a:pathLst>
                <a:path fill="none" w="7700" h="3097">
                  <a:moveTo>
                    <a:pt x="0" y="3097"/>
                  </a:moveTo>
                  <a:lnTo>
                    <a:pt x="291" y="2965"/>
                  </a:lnTo>
                  <a:lnTo>
                    <a:pt x="582" y="2833"/>
                  </a:lnTo>
                  <a:lnTo>
                    <a:pt x="1031" y="2674"/>
                  </a:lnTo>
                  <a:lnTo>
                    <a:pt x="1481" y="2594"/>
                  </a:lnTo>
                  <a:lnTo>
                    <a:pt x="1905" y="2462"/>
                  </a:lnTo>
                  <a:lnTo>
                    <a:pt x="2381" y="2330"/>
                  </a:lnTo>
                  <a:lnTo>
                    <a:pt x="2804" y="2170"/>
                  </a:lnTo>
                  <a:lnTo>
                    <a:pt x="3280" y="1958"/>
                  </a:lnTo>
                  <a:lnTo>
                    <a:pt x="3704" y="1694"/>
                  </a:lnTo>
                  <a:lnTo>
                    <a:pt x="4075" y="1456"/>
                  </a:lnTo>
                  <a:lnTo>
                    <a:pt x="4498" y="1165"/>
                  </a:lnTo>
                  <a:lnTo>
                    <a:pt x="4975" y="900"/>
                  </a:lnTo>
                  <a:lnTo>
                    <a:pt x="5398" y="608"/>
                  </a:lnTo>
                  <a:lnTo>
                    <a:pt x="5927" y="343"/>
                  </a:lnTo>
                  <a:lnTo>
                    <a:pt x="6298" y="105"/>
                  </a:lnTo>
                  <a:lnTo>
                    <a:pt x="6615" y="26"/>
                  </a:lnTo>
                  <a:lnTo>
                    <a:pt x="6880" y="0"/>
                  </a:lnTo>
                  <a:lnTo>
                    <a:pt x="7038" y="105"/>
                  </a:lnTo>
                  <a:lnTo>
                    <a:pt x="7303" y="291"/>
                  </a:lnTo>
                  <a:lnTo>
                    <a:pt x="7435" y="343"/>
                  </a:lnTo>
                  <a:lnTo>
                    <a:pt x="7700" y="37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599000" y="2762280"/>
              <a:ext cx="2581560" cy="743400"/>
            </a:xfrm>
            <a:custGeom>
              <a:avLst/>
              <a:gdLst/>
              <a:ahLst/>
              <a:rect l="0" t="0" r="r" b="b"/>
              <a:pathLst>
                <a:path fill="none" w="7171" h="2065">
                  <a:moveTo>
                    <a:pt x="0" y="1907"/>
                  </a:moveTo>
                  <a:lnTo>
                    <a:pt x="291" y="1854"/>
                  </a:lnTo>
                  <a:lnTo>
                    <a:pt x="608" y="1721"/>
                  </a:lnTo>
                  <a:lnTo>
                    <a:pt x="1058" y="1482"/>
                  </a:lnTo>
                  <a:lnTo>
                    <a:pt x="1270" y="1218"/>
                  </a:lnTo>
                  <a:lnTo>
                    <a:pt x="1666" y="953"/>
                  </a:lnTo>
                  <a:lnTo>
                    <a:pt x="2010" y="636"/>
                  </a:lnTo>
                  <a:lnTo>
                    <a:pt x="2275" y="370"/>
                  </a:lnTo>
                  <a:lnTo>
                    <a:pt x="2592" y="132"/>
                  </a:lnTo>
                  <a:lnTo>
                    <a:pt x="2778" y="26"/>
                  </a:lnTo>
                  <a:lnTo>
                    <a:pt x="3016" y="0"/>
                  </a:lnTo>
                  <a:lnTo>
                    <a:pt x="3333" y="0"/>
                  </a:lnTo>
                  <a:lnTo>
                    <a:pt x="3705" y="105"/>
                  </a:lnTo>
                  <a:lnTo>
                    <a:pt x="4022" y="238"/>
                  </a:lnTo>
                  <a:lnTo>
                    <a:pt x="4366" y="423"/>
                  </a:lnTo>
                  <a:lnTo>
                    <a:pt x="4763" y="688"/>
                  </a:lnTo>
                  <a:lnTo>
                    <a:pt x="5107" y="1006"/>
                  </a:lnTo>
                  <a:lnTo>
                    <a:pt x="5292" y="1271"/>
                  </a:lnTo>
                  <a:lnTo>
                    <a:pt x="5504" y="1509"/>
                  </a:lnTo>
                  <a:lnTo>
                    <a:pt x="5742" y="1668"/>
                  </a:lnTo>
                  <a:lnTo>
                    <a:pt x="6165" y="1774"/>
                  </a:lnTo>
                  <a:lnTo>
                    <a:pt x="6589" y="1880"/>
                  </a:lnTo>
                  <a:lnTo>
                    <a:pt x="6933" y="1933"/>
                  </a:lnTo>
                  <a:lnTo>
                    <a:pt x="7171" y="2065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109520" y="1320840"/>
              <a:ext cx="6654960" cy="3987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5" name="" descr=""/>
            <p:cNvPicPr/>
            <p:nvPr/>
          </p:nvPicPr>
          <p:blipFill>
            <a:blip r:embed="rId1"/>
            <a:stretch/>
          </p:blipFill>
          <p:spPr>
            <a:xfrm>
              <a:off x="3649680" y="1506600"/>
              <a:ext cx="176832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" descr=""/>
            <p:cNvPicPr/>
            <p:nvPr/>
          </p:nvPicPr>
          <p:blipFill>
            <a:blip r:embed="rId2"/>
            <a:stretch/>
          </p:blipFill>
          <p:spPr>
            <a:xfrm>
              <a:off x="2278080" y="4008600"/>
              <a:ext cx="37152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" descr=""/>
            <p:cNvPicPr/>
            <p:nvPr/>
          </p:nvPicPr>
          <p:blipFill>
            <a:blip r:embed="rId3"/>
            <a:stretch/>
          </p:blipFill>
          <p:spPr>
            <a:xfrm>
              <a:off x="2544840" y="4160880"/>
              <a:ext cx="37152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" descr=""/>
            <p:cNvPicPr/>
            <p:nvPr/>
          </p:nvPicPr>
          <p:blipFill>
            <a:blip r:embed="rId4"/>
            <a:stretch/>
          </p:blipFill>
          <p:spPr>
            <a:xfrm>
              <a:off x="6243480" y="4505400"/>
              <a:ext cx="771480" cy="46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>
              <a:off x="2208240" y="4067280"/>
              <a:ext cx="733320" cy="3906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custDash>
                <a:ds d="202857" sp="202857"/>
              </a:custDash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V="1">
              <a:off x="2227320" y="1628640"/>
              <a:ext cx="2114640" cy="2552760"/>
            </a:xfrm>
            <a:prstGeom prst="line">
              <a:avLst/>
            </a:prstGeom>
            <a:ln w="12600">
              <a:solidFill>
                <a:srgbClr val="000000"/>
              </a:solidFill>
              <a:custDash>
                <a:ds d="202857" sp="202857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flipV="1">
              <a:off x="2932200" y="1638360"/>
              <a:ext cx="1409760" cy="2676600"/>
            </a:xfrm>
            <a:prstGeom prst="line">
              <a:avLst/>
            </a:prstGeom>
            <a:ln w="12600">
              <a:solidFill>
                <a:srgbClr val="000000"/>
              </a:solidFill>
              <a:custDash>
                <a:ds d="202857" sp="202857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180120" y="4572000"/>
              <a:ext cx="1000080" cy="409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 flipV="1">
              <a:off x="4284720" y="1666800"/>
              <a:ext cx="1895400" cy="30956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 flipV="1">
              <a:off x="4284720" y="1638360"/>
              <a:ext cx="2895480" cy="31147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586680" y="2577960"/>
              <a:ext cx="880560" cy="622800"/>
            </a:xfrm>
            <a:custGeom>
              <a:avLst/>
              <a:gdLst/>
              <a:ahLst/>
              <a:rect l="0" t="0" r="r" b="b"/>
              <a:pathLst>
                <a:path fill="none" w="2446" h="1730">
                  <a:moveTo>
                    <a:pt x="1269" y="0"/>
                  </a:moveTo>
                  <a:lnTo>
                    <a:pt x="0" y="1226"/>
                  </a:lnTo>
                  <a:lnTo>
                    <a:pt x="0" y="1226"/>
                  </a:lnTo>
                  <a:cubicBezTo>
                    <a:pt x="0" y="1227"/>
                    <a:pt x="0" y="1227"/>
                    <a:pt x="0" y="1227"/>
                  </a:cubicBezTo>
                  <a:cubicBezTo>
                    <a:pt x="207" y="1441"/>
                    <a:pt x="468" y="1594"/>
                    <a:pt x="759" y="1672"/>
                  </a:cubicBezTo>
                  <a:cubicBezTo>
                    <a:pt x="1049" y="1750"/>
                    <a:pt x="1357" y="1749"/>
                    <a:pt x="1654" y="1670"/>
                  </a:cubicBezTo>
                  <a:cubicBezTo>
                    <a:pt x="1950" y="1590"/>
                    <a:pt x="2223" y="1435"/>
                    <a:pt x="2446" y="1220"/>
                  </a:cubicBezTo>
                  <a:lnTo>
                    <a:pt x="2446" y="1219"/>
                  </a:lnTo>
                </a:path>
              </a:pathLst>
            </a:custGeom>
            <a:ln w="381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6" name="" descr=""/>
            <p:cNvPicPr/>
            <p:nvPr/>
          </p:nvPicPr>
          <p:blipFill>
            <a:blip r:embed="rId5"/>
            <a:stretch/>
          </p:blipFill>
          <p:spPr>
            <a:xfrm>
              <a:off x="3807000" y="3564000"/>
              <a:ext cx="552600" cy="39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" name="" descr=""/>
            <p:cNvPicPr/>
            <p:nvPr/>
          </p:nvPicPr>
          <p:blipFill>
            <a:blip r:embed="rId6"/>
            <a:stretch/>
          </p:blipFill>
          <p:spPr>
            <a:xfrm>
              <a:off x="1413000" y="4187880"/>
              <a:ext cx="64764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" descr=""/>
            <p:cNvPicPr/>
            <p:nvPr/>
          </p:nvPicPr>
          <p:blipFill>
            <a:blip r:embed="rId7"/>
            <a:stretch/>
          </p:blipFill>
          <p:spPr>
            <a:xfrm>
              <a:off x="4248000" y="3784680"/>
              <a:ext cx="552600" cy="39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" name="" descr=""/>
            <p:cNvPicPr/>
            <p:nvPr/>
          </p:nvPicPr>
          <p:blipFill>
            <a:blip r:embed="rId8"/>
            <a:stretch/>
          </p:blipFill>
          <p:spPr>
            <a:xfrm>
              <a:off x="7091280" y="3914640"/>
              <a:ext cx="6476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0" name=""/>
          <p:cNvSpPr txBox="1"/>
          <p:nvPr/>
        </p:nvSpPr>
        <p:spPr>
          <a:xfrm>
            <a:off x="727200" y="5470560"/>
            <a:ext cx="772812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2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ly switch a narrow field-of-view between multiple tar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2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on platform: NVL Islander aircra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2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arse pointing by telemetry, refined by landmark-based georegist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685800" y="15228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perative Multi-sensor Track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60640" y="2867040"/>
            <a:ext cx="3819960" cy="924120"/>
          </a:xfrm>
          <a:custGeom>
            <a:avLst/>
            <a:gdLst/>
            <a:ahLst/>
            <a:rect l="0" t="0" r="r" b="b"/>
            <a:pathLst>
              <a:path fill="none" w="10611" h="2567">
                <a:moveTo>
                  <a:pt x="0" y="2567"/>
                </a:moveTo>
                <a:lnTo>
                  <a:pt x="343" y="2567"/>
                </a:lnTo>
                <a:lnTo>
                  <a:pt x="873" y="2408"/>
                </a:lnTo>
                <a:lnTo>
                  <a:pt x="1534" y="2117"/>
                </a:lnTo>
                <a:lnTo>
                  <a:pt x="2275" y="1614"/>
                </a:lnTo>
                <a:lnTo>
                  <a:pt x="2858" y="1111"/>
                </a:lnTo>
                <a:lnTo>
                  <a:pt x="3467" y="687"/>
                </a:lnTo>
                <a:lnTo>
                  <a:pt x="3996" y="370"/>
                </a:lnTo>
                <a:lnTo>
                  <a:pt x="4446" y="158"/>
                </a:lnTo>
                <a:lnTo>
                  <a:pt x="4975" y="52"/>
                </a:lnTo>
                <a:lnTo>
                  <a:pt x="5451" y="0"/>
                </a:lnTo>
                <a:lnTo>
                  <a:pt x="6033" y="79"/>
                </a:lnTo>
                <a:lnTo>
                  <a:pt x="6456" y="291"/>
                </a:lnTo>
                <a:lnTo>
                  <a:pt x="6906" y="582"/>
                </a:lnTo>
                <a:lnTo>
                  <a:pt x="7382" y="793"/>
                </a:lnTo>
                <a:lnTo>
                  <a:pt x="7965" y="952"/>
                </a:lnTo>
                <a:lnTo>
                  <a:pt x="8495" y="1164"/>
                </a:lnTo>
                <a:lnTo>
                  <a:pt x="8944" y="1297"/>
                </a:lnTo>
                <a:lnTo>
                  <a:pt x="9394" y="1403"/>
                </a:lnTo>
                <a:lnTo>
                  <a:pt x="9870" y="1562"/>
                </a:lnTo>
                <a:lnTo>
                  <a:pt x="10214" y="1667"/>
                </a:lnTo>
                <a:lnTo>
                  <a:pt x="10611" y="1694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638680" y="3362400"/>
            <a:ext cx="2103840" cy="676800"/>
          </a:xfrm>
          <a:custGeom>
            <a:avLst/>
            <a:gdLst/>
            <a:ahLst/>
            <a:rect l="0" t="0" r="r" b="b"/>
            <a:pathLst>
              <a:path fill="none" w="5844" h="1880">
                <a:moveTo>
                  <a:pt x="0" y="1880"/>
                </a:moveTo>
                <a:lnTo>
                  <a:pt x="220" y="1800"/>
                </a:lnTo>
                <a:lnTo>
                  <a:pt x="441" y="1719"/>
                </a:lnTo>
                <a:lnTo>
                  <a:pt x="783" y="1623"/>
                </a:lnTo>
                <a:lnTo>
                  <a:pt x="1124" y="1575"/>
                </a:lnTo>
                <a:lnTo>
                  <a:pt x="1445" y="1495"/>
                </a:lnTo>
                <a:lnTo>
                  <a:pt x="1808" y="1414"/>
                </a:lnTo>
                <a:lnTo>
                  <a:pt x="2129" y="1317"/>
                </a:lnTo>
                <a:lnTo>
                  <a:pt x="2490" y="1189"/>
                </a:lnTo>
                <a:lnTo>
                  <a:pt x="2812" y="1028"/>
                </a:lnTo>
                <a:lnTo>
                  <a:pt x="3093" y="884"/>
                </a:lnTo>
                <a:lnTo>
                  <a:pt x="3414" y="707"/>
                </a:lnTo>
                <a:lnTo>
                  <a:pt x="3775" y="546"/>
                </a:lnTo>
                <a:lnTo>
                  <a:pt x="4097" y="369"/>
                </a:lnTo>
                <a:lnTo>
                  <a:pt x="4499" y="208"/>
                </a:lnTo>
                <a:lnTo>
                  <a:pt x="4780" y="64"/>
                </a:lnTo>
                <a:lnTo>
                  <a:pt x="5021" y="16"/>
                </a:lnTo>
                <a:lnTo>
                  <a:pt x="5222" y="0"/>
                </a:lnTo>
                <a:lnTo>
                  <a:pt x="5342" y="64"/>
                </a:lnTo>
                <a:lnTo>
                  <a:pt x="5543" y="176"/>
                </a:lnTo>
                <a:lnTo>
                  <a:pt x="5644" y="208"/>
                </a:lnTo>
                <a:lnTo>
                  <a:pt x="5844" y="224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599000" y="2685960"/>
            <a:ext cx="2581560" cy="743400"/>
          </a:xfrm>
          <a:custGeom>
            <a:avLst/>
            <a:gdLst/>
            <a:ahLst/>
            <a:rect l="0" t="0" r="r" b="b"/>
            <a:pathLst>
              <a:path fill="none" w="7171" h="2065">
                <a:moveTo>
                  <a:pt x="0" y="1907"/>
                </a:moveTo>
                <a:lnTo>
                  <a:pt x="291" y="1854"/>
                </a:lnTo>
                <a:lnTo>
                  <a:pt x="608" y="1721"/>
                </a:lnTo>
                <a:lnTo>
                  <a:pt x="1058" y="1482"/>
                </a:lnTo>
                <a:lnTo>
                  <a:pt x="1270" y="1218"/>
                </a:lnTo>
                <a:lnTo>
                  <a:pt x="1666" y="953"/>
                </a:lnTo>
                <a:lnTo>
                  <a:pt x="2010" y="636"/>
                </a:lnTo>
                <a:lnTo>
                  <a:pt x="2275" y="370"/>
                </a:lnTo>
                <a:lnTo>
                  <a:pt x="2592" y="132"/>
                </a:lnTo>
                <a:lnTo>
                  <a:pt x="2778" y="26"/>
                </a:lnTo>
                <a:lnTo>
                  <a:pt x="3016" y="0"/>
                </a:lnTo>
                <a:lnTo>
                  <a:pt x="3333" y="0"/>
                </a:lnTo>
                <a:lnTo>
                  <a:pt x="3705" y="105"/>
                </a:lnTo>
                <a:lnTo>
                  <a:pt x="4022" y="238"/>
                </a:lnTo>
                <a:lnTo>
                  <a:pt x="4366" y="423"/>
                </a:lnTo>
                <a:lnTo>
                  <a:pt x="4763" y="688"/>
                </a:lnTo>
                <a:lnTo>
                  <a:pt x="5107" y="1006"/>
                </a:lnTo>
                <a:lnTo>
                  <a:pt x="5292" y="1271"/>
                </a:lnTo>
                <a:lnTo>
                  <a:pt x="5504" y="1509"/>
                </a:lnTo>
                <a:lnTo>
                  <a:pt x="5742" y="1668"/>
                </a:lnTo>
                <a:lnTo>
                  <a:pt x="6165" y="1774"/>
                </a:lnTo>
                <a:lnTo>
                  <a:pt x="6589" y="1880"/>
                </a:lnTo>
                <a:lnTo>
                  <a:pt x="6933" y="1933"/>
                </a:lnTo>
                <a:lnTo>
                  <a:pt x="7171" y="2065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109520" y="1244520"/>
            <a:ext cx="6654960" cy="39877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3649680" y="1430280"/>
            <a:ext cx="1768320" cy="4827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2278080" y="3932280"/>
            <a:ext cx="371520" cy="30492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2544840" y="4084560"/>
            <a:ext cx="371520" cy="30492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2208240" y="3990960"/>
            <a:ext cx="733320" cy="39060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227320" y="1552680"/>
            <a:ext cx="2114640" cy="25527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2932200" y="1562040"/>
            <a:ext cx="1409760" cy="2676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4"/>
          <a:stretch/>
        </p:blipFill>
        <p:spPr>
          <a:xfrm>
            <a:off x="3807000" y="3487680"/>
            <a:ext cx="552600" cy="39996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5"/>
          <a:stretch/>
        </p:blipFill>
        <p:spPr>
          <a:xfrm>
            <a:off x="6643800" y="4468680"/>
            <a:ext cx="647640" cy="68580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6"/>
          <a:stretch/>
        </p:blipFill>
        <p:spPr>
          <a:xfrm>
            <a:off x="4248000" y="3708360"/>
            <a:ext cx="552600" cy="39996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7"/>
          <a:stretch/>
        </p:blipFill>
        <p:spPr>
          <a:xfrm>
            <a:off x="7091280" y="3838680"/>
            <a:ext cx="647640" cy="68580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1717560" y="5470560"/>
            <a:ext cx="492912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2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inuous coverage over a broad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2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ndoff between sensors to avoid occlu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2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iangulation to compute target geo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5673600" y="4613400"/>
            <a:ext cx="789480" cy="555480"/>
            <a:chOff x="5673600" y="4613400"/>
            <a:chExt cx="789480" cy="555480"/>
          </a:xfrm>
        </p:grpSpPr>
        <p:sp>
          <p:nvSpPr>
            <p:cNvPr id="228" name=""/>
            <p:cNvSpPr/>
            <p:nvPr/>
          </p:nvSpPr>
          <p:spPr>
            <a:xfrm>
              <a:off x="6019920" y="4851360"/>
              <a:ext cx="139680" cy="31752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9" name=""/>
            <p:cNvGrpSpPr/>
            <p:nvPr/>
          </p:nvGrpSpPr>
          <p:grpSpPr>
            <a:xfrm>
              <a:off x="5673600" y="4613400"/>
              <a:ext cx="789480" cy="346680"/>
              <a:chOff x="5673600" y="4613400"/>
              <a:chExt cx="789480" cy="346680"/>
            </a:xfrm>
          </p:grpSpPr>
          <p:sp>
            <p:nvSpPr>
              <p:cNvPr id="230" name=""/>
              <p:cNvSpPr/>
              <p:nvPr/>
            </p:nvSpPr>
            <p:spPr>
              <a:xfrm>
                <a:off x="5823000" y="4636800"/>
                <a:ext cx="640080" cy="323280"/>
              </a:xfrm>
              <a:custGeom>
                <a:avLst/>
                <a:gdLst/>
                <a:ahLst/>
                <a:rect l="0" t="0" r="r" b="b"/>
                <a:pathLst>
                  <a:path w="1778" h="898">
                    <a:moveTo>
                      <a:pt x="100" y="0"/>
                    </a:moveTo>
                    <a:lnTo>
                      <a:pt x="0" y="632"/>
                    </a:lnTo>
                    <a:lnTo>
                      <a:pt x="1678" y="898"/>
                    </a:lnTo>
                    <a:lnTo>
                      <a:pt x="1778" y="265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b2b2b2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5673600" y="4613400"/>
                <a:ext cx="174960" cy="227520"/>
              </a:xfrm>
              <a:custGeom>
                <a:avLst/>
                <a:gdLst/>
                <a:ahLst/>
                <a:rect l="0" t="0" r="r" b="b"/>
                <a:pathLst>
                  <a:path w="486" h="632">
                    <a:moveTo>
                      <a:pt x="486" y="278"/>
                    </a:moveTo>
                    <a:lnTo>
                      <a:pt x="97" y="0"/>
                    </a:lnTo>
                    <a:lnTo>
                      <a:pt x="0" y="632"/>
                    </a:lnTo>
                    <a:lnTo>
                      <a:pt x="450" y="487"/>
                    </a:lnTo>
                    <a:lnTo>
                      <a:pt x="486" y="278"/>
                    </a:lnTo>
                    <a:close/>
                  </a:path>
                </a:pathLst>
              </a:custGeom>
              <a:solidFill>
                <a:srgbClr val="b2b2b2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2" name=""/>
          <p:cNvSpPr/>
          <p:nvPr/>
        </p:nvSpPr>
        <p:spPr>
          <a:xfrm flipH="1" flipV="1">
            <a:off x="2120760" y="3822840"/>
            <a:ext cx="3568680" cy="863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H="1" flipV="1">
            <a:off x="1727280" y="4495680"/>
            <a:ext cx="3949560" cy="241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733400" y="3819600"/>
            <a:ext cx="429120" cy="676800"/>
          </a:xfrm>
          <a:custGeom>
            <a:avLst/>
            <a:gdLst/>
            <a:ahLst/>
            <a:rect l="0" t="0" r="r" b="b"/>
            <a:pathLst>
              <a:path fill="none" w="1192" h="1880">
                <a:moveTo>
                  <a:pt x="1192" y="0"/>
                </a:moveTo>
                <a:lnTo>
                  <a:pt x="1192" y="0"/>
                </a:lnTo>
                <a:cubicBezTo>
                  <a:pt x="983" y="0"/>
                  <a:pt x="777" y="87"/>
                  <a:pt x="596" y="252"/>
                </a:cubicBezTo>
                <a:cubicBezTo>
                  <a:pt x="415" y="417"/>
                  <a:pt x="264" y="654"/>
                  <a:pt x="160" y="940"/>
                </a:cubicBezTo>
                <a:cubicBezTo>
                  <a:pt x="55" y="1226"/>
                  <a:pt x="0" y="1550"/>
                  <a:pt x="0" y="188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obert Collins</dc:creator>
  <dc:description/>
  <dc:language>en-US</dc:language>
  <cp:lastModifiedBy>Robert Collins</cp:lastModifiedBy>
  <cp:revision>0</cp:revision>
  <dc:subject/>
  <dc:title>No Slide Title</dc:title>
</cp:coreProperties>
</file>