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114-C102-4ADA-A0B4-9548E7DC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217-3091-4645-BA38-300D6685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AFF-408F-42FE-8E11-7C7259E9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BC9-16D9-412B-A742-D42D1A39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007-F063-4786-9B4F-F7AE3C04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95A-F3E9-4C20-AD66-E3507458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9A7-CA5A-4216-9C1C-FA1278AF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6A6-AB3D-4E73-938E-06789CF5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67816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C30-470A-43B9-AC14-7F578404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A02-B943-4A10-949F-1B497495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044-E6DB-439E-9A08-5722F5F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5EA-76AE-426E-9683-9165049D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5061-E04A-4017-9144-4F3B46C34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arn_clean" descr=""/>
          <p:cNvPicPr/>
          <p:nvPr/>
        </p:nvPicPr>
        <p:blipFill>
          <a:blip r:embed="rId2"/>
          <a:stretch/>
        </p:blipFill>
        <p:spPr>
          <a:xfrm>
            <a:off x="7696080" y="152280"/>
            <a:ext cx="1228680" cy="763560"/>
          </a:xfrm>
          <a:prstGeom prst="rect">
            <a:avLst/>
          </a:prstGeom>
          <a:ln w="0">
            <a:noFill/>
          </a:ln>
        </p:spPr>
      </p:pic>
      <p:pic>
        <p:nvPicPr>
          <p:cNvPr id="6" name="CMUlogo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914400" cy="75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t. Benning Data Collectio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77040" y="1219320"/>
            <a:ext cx="5046840" cy="6426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MU video experiments at McKenna MOUT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ril, May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NAP2MOUT" descr=""/>
          <p:cNvPicPr/>
          <p:nvPr/>
        </p:nvPicPr>
        <p:blipFill>
          <a:blip r:embed="rId1"/>
          <a:stretch/>
        </p:blipFill>
        <p:spPr>
          <a:xfrm>
            <a:off x="5562720" y="4114800"/>
            <a:ext cx="2590560" cy="2097000"/>
          </a:xfrm>
          <a:prstGeom prst="rect">
            <a:avLst/>
          </a:prstGeom>
          <a:ln w="0">
            <a:noFill/>
          </a:ln>
        </p:spPr>
      </p:pic>
      <p:pic>
        <p:nvPicPr>
          <p:cNvPr id="46" name="SNAPMOUTSM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2819520" cy="2511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17680" y="3276720"/>
            <a:ext cx="143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mera A (Lima Bld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640" y="56991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8400" y="2819520"/>
            <a:ext cx="157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CD Camera C (Woods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6600" y="3809880"/>
            <a:ext cx="137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mera B (Golf Bld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2895480"/>
            <a:ext cx="12193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352680"/>
            <a:ext cx="19051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638680" y="3352680"/>
            <a:ext cx="144792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62520"/>
            <a:ext cx="25146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6840" y="5105520"/>
            <a:ext cx="24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erial View of MO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3352680"/>
            <a:ext cx="0" cy="10670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80160" y="6234120"/>
            <a:ext cx="22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vation of MO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219320" y="2438280"/>
            <a:ext cx="0" cy="6098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438280"/>
            <a:ext cx="281916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9520"/>
            <a:ext cx="9903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809880" y="2590560"/>
            <a:ext cx="0" cy="2286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590920"/>
            <a:ext cx="22860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886200" y="2362320"/>
            <a:ext cx="2417760" cy="398520"/>
            <a:chOff x="3886200" y="2362320"/>
            <a:chExt cx="2417760" cy="398520"/>
          </a:xfrm>
        </p:grpSpPr>
        <p:sp>
          <p:nvSpPr>
            <p:cNvPr id="64" name=""/>
            <p:cNvSpPr/>
            <p:nvPr/>
          </p:nvSpPr>
          <p:spPr>
            <a:xfrm>
              <a:off x="4044600" y="2362320"/>
              <a:ext cx="225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hermal Camera 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hermal Camera E &amp; CCD Camera 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86200" y="23623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Benning Data: April 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raju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2057400" cy="1547640"/>
          </a:xfrm>
          <a:prstGeom prst="rect">
            <a:avLst/>
          </a:prstGeom>
          <a:ln w="0">
            <a:noFill/>
          </a:ln>
        </p:spPr>
      </p:pic>
      <p:pic>
        <p:nvPicPr>
          <p:cNvPr id="68" name="benning1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2057400" cy="1486080"/>
          </a:xfrm>
          <a:prstGeom prst="rect">
            <a:avLst/>
          </a:prstGeom>
          <a:ln w="0">
            <a:noFill/>
          </a:ln>
        </p:spPr>
      </p:pic>
      <p:pic>
        <p:nvPicPr>
          <p:cNvPr id="69" name="group4" descr=""/>
          <p:cNvPicPr/>
          <p:nvPr/>
        </p:nvPicPr>
        <p:blipFill>
          <a:blip r:embed="rId3"/>
          <a:srcRect l="27011" t="44236" r="0" b="0"/>
          <a:stretch/>
        </p:blipFill>
        <p:spPr>
          <a:xfrm>
            <a:off x="4191120" y="4191120"/>
            <a:ext cx="3281400" cy="1726920"/>
          </a:xfrm>
          <a:prstGeom prst="rect">
            <a:avLst/>
          </a:prstGeom>
          <a:ln w="0">
            <a:noFill/>
          </a:ln>
        </p:spPr>
      </p:pic>
      <p:pic>
        <p:nvPicPr>
          <p:cNvPr id="70" name="wz1" descr=""/>
          <p:cNvPicPr/>
          <p:nvPr/>
        </p:nvPicPr>
        <p:blipFill>
          <a:blip r:embed="rId4"/>
          <a:stretch/>
        </p:blipFill>
        <p:spPr>
          <a:xfrm>
            <a:off x="1523880" y="4191120"/>
            <a:ext cx="2133720" cy="174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00680" y="2971800"/>
            <a:ext cx="261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Video based Target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and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7960" y="2971800"/>
            <a:ext cx="21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Insertion of Target i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Distributed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594360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Active target detection, classification, and tra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83480" y="105264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VSAM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2057400"/>
            <a:ext cx="1066680" cy="304920"/>
          </a:xfrm>
          <a:prstGeom prst="rightArrow">
            <a:avLst>
              <a:gd name="adj1" fmla="val 50000"/>
              <a:gd name="adj2" fmla="val 874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Benning Data: May 9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447920" y="4495680"/>
            <a:ext cx="2437920" cy="1676160"/>
            <a:chOff x="1447920" y="4495680"/>
            <a:chExt cx="2437920" cy="1676160"/>
          </a:xfrm>
        </p:grpSpPr>
        <p:pic>
          <p:nvPicPr>
            <p:cNvPr id="78" name="sniper1" descr=""/>
            <p:cNvPicPr/>
            <p:nvPr/>
          </p:nvPicPr>
          <p:blipFill>
            <a:blip r:embed="rId1"/>
            <a:stretch/>
          </p:blipFill>
          <p:spPr>
            <a:xfrm>
              <a:off x="1447920" y="4495680"/>
              <a:ext cx="243792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158560" y="5133960"/>
              <a:ext cx="304560" cy="425880"/>
            </a:xfrm>
            <a:prstGeom prst="rect">
              <a:avLst/>
            </a:prstGeom>
            <a:noFill/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287440" y="3110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320" y="3373560"/>
            <a:ext cx="361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Thermal Camera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Dismounted Infantry thermal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312920" y="1600200"/>
            <a:ext cx="2514240" cy="1828440"/>
            <a:chOff x="1312920" y="1600200"/>
            <a:chExt cx="2514240" cy="1828440"/>
          </a:xfrm>
        </p:grpSpPr>
        <p:pic>
          <p:nvPicPr>
            <p:cNvPr id="83" name="thermal1" descr=""/>
            <p:cNvPicPr/>
            <p:nvPr/>
          </p:nvPicPr>
          <p:blipFill>
            <a:blip r:embed="rId2"/>
            <a:stretch/>
          </p:blipFill>
          <p:spPr>
            <a:xfrm>
              <a:off x="1312920" y="1600200"/>
              <a:ext cx="2514240" cy="18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488320" y="2107800"/>
              <a:ext cx="433800" cy="1274040"/>
            </a:xfrm>
            <a:prstGeom prst="rect">
              <a:avLst/>
            </a:prstGeom>
            <a:noFill/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116680" y="1606680"/>
            <a:ext cx="2288520" cy="1845720"/>
            <a:chOff x="5116680" y="1606680"/>
            <a:chExt cx="2288520" cy="1845720"/>
          </a:xfrm>
        </p:grpSpPr>
        <p:pic>
          <p:nvPicPr>
            <p:cNvPr id="86" name="woods1" descr=""/>
            <p:cNvPicPr/>
            <p:nvPr/>
          </p:nvPicPr>
          <p:blipFill>
            <a:blip r:embed="rId3"/>
            <a:stretch/>
          </p:blipFill>
          <p:spPr>
            <a:xfrm>
              <a:off x="5116680" y="1606680"/>
              <a:ext cx="2288520" cy="184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853320" y="2222640"/>
              <a:ext cx="235440" cy="700200"/>
            </a:xfrm>
            <a:prstGeom prst="rect">
              <a:avLst/>
            </a:prstGeom>
            <a:noFill/>
            <a:ln w="190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78120" y="3387600"/>
            <a:ext cx="343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Daylight Camera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Dismounted Infantry visual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9440" y="6095880"/>
            <a:ext cx="15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Daylight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Crawling Snip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4600" y="6095880"/>
            <a:ext cx="249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Thermal Camera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oldiers under smoke co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nightthermal2" descr=""/>
          <p:cNvPicPr/>
          <p:nvPr/>
        </p:nvPicPr>
        <p:blipFill>
          <a:blip r:embed="rId4"/>
          <a:stretch/>
        </p:blipFill>
        <p:spPr>
          <a:xfrm>
            <a:off x="5079960" y="4565520"/>
            <a:ext cx="2286000" cy="1563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867280" y="5562720"/>
            <a:ext cx="169920" cy="2538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5562720"/>
            <a:ext cx="169920" cy="2538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5562720"/>
            <a:ext cx="169920" cy="42228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82000" y="1204920"/>
            <a:ext cx="34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MULTIPLE SENSOR MOD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000" y="411480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MULTIPLE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6T17:46:59Z</dcterms:created>
  <dc:creator>Raju</dc:creator>
  <dc:description/>
  <dc:language>en-US</dc:language>
  <cp:lastModifiedBy>Raju</cp:lastModifiedBy>
  <dcterms:modified xsi:type="dcterms:W3CDTF">1998-06-16T21:13:16Z</dcterms:modified>
  <cp:revision>10</cp:revision>
  <dc:subject/>
  <dc:title>No Slide Title</dc:title>
</cp:coreProperties>
</file>