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428FA32-6569-4F2C-83DE-B152F58DAB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685800" y="1066680"/>
            <a:ext cx="7772400" cy="76320"/>
            <a:chOff x="685800" y="1066680"/>
            <a:chExt cx="7772400" cy="76320"/>
          </a:xfrm>
        </p:grpSpPr>
        <p:sp>
          <p:nvSpPr>
            <p:cNvPr id="2" name=""/>
            <p:cNvSpPr/>
            <p:nvPr/>
          </p:nvSpPr>
          <p:spPr>
            <a:xfrm>
              <a:off x="685800" y="1066680"/>
              <a:ext cx="7772400" cy="0"/>
            </a:xfrm>
            <a:prstGeom prst="line">
              <a:avLst/>
            </a:prstGeom>
            <a:ln w="7632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28160" rIns="128160" tIns="-83160" bIns="-83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685800" y="1143000"/>
              <a:ext cx="7772400" cy="0"/>
            </a:xfrm>
            <a:prstGeom prst="line">
              <a:avLst/>
            </a:prstGeom>
            <a:ln w="38160">
              <a:solidFill>
                <a:srgbClr val="00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"/>
          <p:cNvSpPr txBox="1"/>
          <p:nvPr/>
        </p:nvSpPr>
        <p:spPr>
          <a:xfrm>
            <a:off x="8290080" y="6589800"/>
            <a:ext cx="74304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SAM_IU_PI_96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533520" y="1676520"/>
            <a:ext cx="7924680" cy="35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SAM Breakout Session Summary</a:t>
            </a: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96 DARPA IU PI Mee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121932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685800" y="7632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09480" y="2514600"/>
            <a:ext cx="2514600" cy="3733920"/>
            <a:chOff x="609480" y="2514600"/>
            <a:chExt cx="2514600" cy="3733920"/>
          </a:xfrm>
        </p:grpSpPr>
        <p:sp>
          <p:nvSpPr>
            <p:cNvPr id="87" name=""/>
            <p:cNvSpPr txBox="1"/>
            <p:nvPr/>
          </p:nvSpPr>
          <p:spPr>
            <a:xfrm>
              <a:off x="609480" y="2514600"/>
              <a:ext cx="251460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arget Dete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 txBox="1"/>
            <p:nvPr/>
          </p:nvSpPr>
          <p:spPr>
            <a:xfrm>
              <a:off x="609480" y="3200400"/>
              <a:ext cx="251460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arget Track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 txBox="1"/>
            <p:nvPr/>
          </p:nvSpPr>
          <p:spPr>
            <a:xfrm>
              <a:off x="609480" y="3809880"/>
              <a:ext cx="251460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ctive Vis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 txBox="1"/>
            <p:nvPr/>
          </p:nvSpPr>
          <p:spPr>
            <a:xfrm>
              <a:off x="609480" y="4419720"/>
              <a:ext cx="251460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ensor Fus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 txBox="1"/>
            <p:nvPr/>
          </p:nvSpPr>
          <p:spPr>
            <a:xfrm>
              <a:off x="609480" y="5105520"/>
              <a:ext cx="251460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ensor Hand-of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 txBox="1"/>
            <p:nvPr/>
          </p:nvSpPr>
          <p:spPr>
            <a:xfrm>
              <a:off x="609480" y="5791320"/>
              <a:ext cx="251460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perator Contro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3276720" y="1434960"/>
            <a:ext cx="5105520" cy="822240"/>
            <a:chOff x="3276720" y="1434960"/>
            <a:chExt cx="5105520" cy="822240"/>
          </a:xfrm>
        </p:grpSpPr>
        <p:sp>
          <p:nvSpPr>
            <p:cNvPr id="94" name=""/>
            <p:cNvSpPr txBox="1"/>
            <p:nvPr/>
          </p:nvSpPr>
          <p:spPr>
            <a:xfrm>
              <a:off x="3276720" y="1504800"/>
              <a:ext cx="15238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# Targe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 txBox="1"/>
            <p:nvPr/>
          </p:nvSpPr>
          <p:spPr>
            <a:xfrm>
              <a:off x="4191120" y="1609560"/>
              <a:ext cx="9907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pee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 txBox="1"/>
            <p:nvPr/>
          </p:nvSpPr>
          <p:spPr>
            <a:xfrm>
              <a:off x="5089680" y="1434960"/>
              <a:ext cx="1081080" cy="822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enso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o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 txBox="1"/>
            <p:nvPr/>
          </p:nvSpPr>
          <p:spPr>
            <a:xfrm>
              <a:off x="6095880" y="1577880"/>
              <a:ext cx="114300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O/I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 txBox="1"/>
            <p:nvPr/>
          </p:nvSpPr>
          <p:spPr>
            <a:xfrm>
              <a:off x="6705720" y="1506600"/>
              <a:ext cx="16765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Ground/Ai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"/>
          <p:cNvSpPr/>
          <p:nvPr/>
        </p:nvSpPr>
        <p:spPr>
          <a:xfrm>
            <a:off x="3276720" y="2590920"/>
            <a:ext cx="4419720" cy="36576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3733920" y="3581280"/>
            <a:ext cx="342900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antitative Metr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r Interactive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erimental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7632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hedul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685800" y="121932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ril 1 97: Workshop 1 (Kick-off meeting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 Princet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ope, Scenari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-June 97: User tech review (IFD) at NVE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ly 97: Workshop 2 (Planning Y1 Dem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v 97: Year 1 Demo, Workshop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b 98: Workshop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ril-May 98: User review (IF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ne 98: Workshop 5 (Y2 Demo Plann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ct 98: Y2 Demo, Workshop 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09480" y="624852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collection events.  Piggybacking with other even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685800" y="7632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viron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121932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phasis on Realtime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SAM input to IUE on video processing requirements and spe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ftware Clearing Ho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D will provide Interface Defns, for software and hardware used on the testbed to F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685800" y="7632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E Sup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85800" y="18288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st two VSAM workshops per yea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st annual demos to showcase new VSAM IU technolog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ntain a Web site to disseminate data and provide a sense of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 the IFD VSAM testbed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685800" y="7632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chnology Transf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7652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D system for video surveillance for experimentation and evaluation by DOD us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IFD testbed to allow testing and demonstrating VSAM technolog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VSAM knowledge base and clearing ho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ercialization of mature component technologies through other parallel effo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685800" y="7632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E-IFD (FRE-FRE) Synerg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685800" y="121932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forced marri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portunities for Synerg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red technology goals/intere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ring of technology develop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ons with the user commun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coll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SAM technology clearing ho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S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cus Subgrou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685800" y="7632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685800" y="121932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ree Levels of Coope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D Demos provide time and place to showcase FRE technolog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IFD team makes available demo infrastructure, equipment (platform, sensors, ...) to F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FRE technology components on the IFD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685800" y="7632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cus Subgrou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85800" y="121932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rpos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cilitate cooperation and collaboration on common technical interes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chnical exchanges and inter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on data collection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 Scenarios / Demo plan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r requirement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ergize tech transfer approac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??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rdinate with IFD Data and Demo Pl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685800" y="7632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 of Subgrou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85800" y="121932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Ground based vehicle monitoring and event analysi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D, Cornell, MIT (AI), TI, Hebrew+Weizmann, SRI, UCS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Human activity moni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yland, Rochester, MIT (Media), MIT (AI), UCSD, 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UAV (Airborne) Video Proces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D, Cornell, USC, Hebrew+Weizman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Visualization + VR-Overl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D, Rochester, Hebrew+Weizmann, UCS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Sensors and Sensor Level Proces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D, SRI, MIT (A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990720" y="285840"/>
            <a:ext cx="716292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Colle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371600"/>
            <a:ext cx="8381880" cy="51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enario Defin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Coll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d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lan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 s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E Contribution and Coordination for each ar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ntain, Manage and Disseminate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WL facility for storage &amp; distribu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tailed Plan at Program Kickoff Mee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685800" y="76320"/>
            <a:ext cx="7772400" cy="112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 within VSAM Commun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685800" y="121932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 (Setup by Dec 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ormation exchange (technical, schedules, event announcements, reports, etc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group issues and activ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ks to contractor home p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-m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E student (and PI?) residence at IFD la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685800" y="7632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 With Us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1295280" y="2590920"/>
            <a:ext cx="6788520" cy="2743200"/>
            <a:chOff x="1295280" y="2590920"/>
            <a:chExt cx="6788520" cy="2743200"/>
          </a:xfrm>
        </p:grpSpPr>
        <p:grpSp>
          <p:nvGrpSpPr>
            <p:cNvPr id="67" name=""/>
            <p:cNvGrpSpPr/>
            <p:nvPr/>
          </p:nvGrpSpPr>
          <p:grpSpPr>
            <a:xfrm>
              <a:off x="1295280" y="2590920"/>
              <a:ext cx="6788520" cy="2743200"/>
              <a:chOff x="1295280" y="2590920"/>
              <a:chExt cx="6788520" cy="2743200"/>
            </a:xfrm>
          </p:grpSpPr>
          <p:grpSp>
            <p:nvGrpSpPr>
              <p:cNvPr id="68" name=""/>
              <p:cNvGrpSpPr/>
              <p:nvPr/>
            </p:nvGrpSpPr>
            <p:grpSpPr>
              <a:xfrm>
                <a:off x="3352680" y="2590920"/>
                <a:ext cx="1676520" cy="990720"/>
                <a:chOff x="3352680" y="2590920"/>
                <a:chExt cx="1676520" cy="990720"/>
              </a:xfrm>
            </p:grpSpPr>
            <p:sp>
              <p:nvSpPr>
                <p:cNvPr id="69" name=""/>
                <p:cNvSpPr/>
                <p:nvPr/>
              </p:nvSpPr>
              <p:spPr>
                <a:xfrm>
                  <a:off x="3352680" y="2590920"/>
                  <a:ext cx="1676520" cy="990720"/>
                </a:xfrm>
                <a:prstGeom prst="rect">
                  <a:avLst/>
                </a:prstGeom>
                <a:blipFill rotWithShape="0">
                  <a:blip r:embed="rId1"/>
                  <a:tile tx="0" ty="0" sx="133018" sy="133018" algn="ctr"/>
                </a:blip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"/>
                <p:cNvSpPr txBox="1"/>
                <p:nvPr/>
              </p:nvSpPr>
              <p:spPr>
                <a:xfrm>
                  <a:off x="3657600" y="2895480"/>
                  <a:ext cx="990720" cy="457200"/>
                </a:xfrm>
                <a:prstGeom prst="rect">
                  <a:avLst/>
                </a:prstGeom>
                <a:blipFill rotWithShape="0">
                  <a:blip r:embed="rId2"/>
                  <a:tile tx="0" ty="0" sx="133018" sy="133018" algn="ctr"/>
                </a:blipFill>
                <a:ln w="0">
                  <a:noFill/>
                </a:ln>
              </p:spPr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Users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1" name=""/>
              <p:cNvGrpSpPr/>
              <p:nvPr/>
            </p:nvGrpSpPr>
            <p:grpSpPr>
              <a:xfrm>
                <a:off x="6019920" y="4343400"/>
                <a:ext cx="1676520" cy="990720"/>
                <a:chOff x="6019920" y="4343400"/>
                <a:chExt cx="1676520" cy="990720"/>
              </a:xfrm>
            </p:grpSpPr>
            <p:sp>
              <p:nvSpPr>
                <p:cNvPr id="72" name=""/>
                <p:cNvSpPr/>
                <p:nvPr/>
              </p:nvSpPr>
              <p:spPr>
                <a:xfrm>
                  <a:off x="6019920" y="4343400"/>
                  <a:ext cx="1676520" cy="990720"/>
                </a:xfrm>
                <a:prstGeom prst="rect">
                  <a:avLst/>
                </a:prstGeom>
                <a:blipFill rotWithShape="0">
                  <a:blip r:embed="rId3"/>
                  <a:tile tx="0" ty="0" sx="133018" sy="133018" algn="ctr"/>
                </a:blip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"/>
                <p:cNvSpPr txBox="1"/>
                <p:nvPr/>
              </p:nvSpPr>
              <p:spPr>
                <a:xfrm>
                  <a:off x="6324480" y="4648320"/>
                  <a:ext cx="990720" cy="457200"/>
                </a:xfrm>
                <a:prstGeom prst="rect">
                  <a:avLst/>
                </a:prstGeom>
                <a:blipFill rotWithShape="0">
                  <a:blip r:embed="rId4"/>
                  <a:tile tx="0" ty="0" sx="133018" sy="133018" algn="ctr"/>
                </a:blipFill>
                <a:ln w="0">
                  <a:noFill/>
                </a:ln>
              </p:spPr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IFD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4" name=""/>
              <p:cNvSpPr/>
              <p:nvPr/>
            </p:nvSpPr>
            <p:spPr>
              <a:xfrm>
                <a:off x="6019920" y="2895480"/>
                <a:ext cx="2063880" cy="990720"/>
              </a:xfrm>
              <a:prstGeom prst="rect">
                <a:avLst/>
              </a:prstGeom>
              <a:blipFill rotWithShape="0">
                <a:blip r:embed="rId5"/>
                <a:tile tx="0" ty="0" sx="133018" sy="133018" algn="ctr"/>
              </a:blip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1295280" y="3962520"/>
                <a:ext cx="1676520" cy="990720"/>
              </a:xfrm>
              <a:prstGeom prst="rect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 txBox="1"/>
              <p:nvPr/>
            </p:nvSpPr>
            <p:spPr>
              <a:xfrm>
                <a:off x="4267080" y="3581280"/>
                <a:ext cx="2057400" cy="1187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1199"/>
                  </a:spcBef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Interest Requirement Deposit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>
                <a:off x="3124080" y="3657600"/>
                <a:ext cx="457200" cy="45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V="1">
                <a:off x="3429000" y="4495680"/>
                <a:ext cx="68580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" name=""/>
            <p:cNvGrpSpPr/>
            <p:nvPr/>
          </p:nvGrpSpPr>
          <p:grpSpPr>
            <a:xfrm>
              <a:off x="1676520" y="4267080"/>
              <a:ext cx="1676520" cy="990720"/>
              <a:chOff x="1676520" y="4267080"/>
              <a:chExt cx="1676520" cy="990720"/>
            </a:xfrm>
          </p:grpSpPr>
          <p:sp>
            <p:nvSpPr>
              <p:cNvPr id="80" name=""/>
              <p:cNvSpPr/>
              <p:nvPr/>
            </p:nvSpPr>
            <p:spPr>
              <a:xfrm>
                <a:off x="1676520" y="4267080"/>
                <a:ext cx="1676520" cy="990720"/>
              </a:xfrm>
              <a:prstGeom prst="rect">
                <a:avLst/>
              </a:prstGeom>
              <a:blipFill rotWithShape="0">
                <a:blip r:embed="rId6"/>
                <a:tile tx="0" ty="0" sx="133018" sy="133018" algn="ctr"/>
              </a:blip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 txBox="1"/>
              <p:nvPr/>
            </p:nvSpPr>
            <p:spPr>
              <a:xfrm>
                <a:off x="1981080" y="4572000"/>
                <a:ext cx="990720" cy="457200"/>
              </a:xfrm>
              <a:prstGeom prst="rect">
                <a:avLst/>
              </a:prstGeom>
              <a:blipFill rotWithShape="0">
                <a:blip r:embed="rId7"/>
                <a:tile tx="0" ty="0" sx="133018" sy="133018" algn="ctr"/>
              </a:blipFill>
              <a:ln w="0">
                <a:noFill/>
              </a:ln>
              <a:effectLst>
                <a:outerShdw dist="0" dir="0" blurRad="0" rotWithShape="0">
                  <a:srgbClr val="969696"/>
                </a:outerShdw>
              </a:effectLst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1199"/>
                  </a:spcBef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FRE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2" name=""/>
          <p:cNvSpPr txBox="1"/>
          <p:nvPr/>
        </p:nvSpPr>
        <p:spPr>
          <a:xfrm>
            <a:off x="6461280" y="3184560"/>
            <a:ext cx="12002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VE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685800" y="7632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685800" y="121932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D Leadersh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lk to us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entify problems and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ss them onto F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VSAM vi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acterize the performance of IFD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FRE VSAM cap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ion of maturity by live dem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Takeo Kenade</dc:creator>
  <dc:description/>
  <dc:language>en-US</dc:language>
  <cp:lastModifiedBy>Takeo Kenade</cp:lastModifiedBy>
  <cp:revision>0</cp:revision>
  <dc:subject/>
  <dc:title>No Slide Title</dc:title>
</cp:coreProperties>
</file>