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53159-8B0D-4579-BC92-021D0AC37C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2B4ED-2330-4791-A0C1-117278712D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99CB7-BFF7-4B99-83C8-A921B02C4B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B3936-6C62-4F2F-AF66-2A7AE286BA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674EB-5D40-464F-A0F4-08605C4DBB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BD779-CF94-4060-B63F-EC650D2D95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9AA4B-C255-48D3-8764-34E89B465D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2900E-7BCE-4C90-B801-ADFA895AB2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AAE08-D112-4544-B5A0-5C6AFF2169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1FA4A-50E8-481B-88D5-8046725674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03107-BE5A-4B20-8794-FBE594DB8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54CEA-163E-4549-91F5-9F2CF4B76C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0F46-6DD4-4244-8D38-772CF58BB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cmu.edu/~tom/702.html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arning from Labeled and Unlabeled Dat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77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 Mitc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tatistical Approaches to Learning and Discovery, 10-702 and 15-802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 31,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perimental Evalua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sgroup pos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newsgroups, 1000/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page class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, faculty, course,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199 web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ters newswire arti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,902 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 topics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20 Newsgroup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2392" t="35890" r="22577" b="12074"/>
          <a:stretch/>
        </p:blipFill>
        <p:spPr>
          <a:xfrm>
            <a:off x="609480" y="1066680"/>
            <a:ext cx="762012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20 Newsgroup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13173" t="35890" r="22577" b="12954"/>
          <a:stretch/>
        </p:blipFill>
        <p:spPr>
          <a:xfrm>
            <a:off x="685800" y="990720"/>
            <a:ext cx="777240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9256" t="16483" r="21011" b="29715"/>
          <a:stretch/>
        </p:blipFill>
        <p:spPr>
          <a:xfrm>
            <a:off x="0" y="0"/>
            <a:ext cx="9144000" cy="6267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28800" y="1828800"/>
            <a:ext cx="1905120" cy="1557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one labeled example 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’t really get something for noth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unlabeled data useful to degree that assumed form for P(X,Y) is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in text classification, useful despite obvious error in assumed form of P(X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0"/>
            <a:ext cx="8153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2. Use U with EM and Assumed Generativ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3. If Problem Setting Provides Redundantly Sufficient Features, use Co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647640" y="1600200"/>
                <a:ext cx="7848720" cy="22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earn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  <m:r>
                                <m:t xml:space="preserve">:</m:t>
                              </m:r>
                              <m:r>
                                <m:t xml:space="preserve">X</m:t>
                              </m:r>
                              <m:r>
                                <m:t xml:space="preserve">→</m:t>
                              </m:r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where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×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where</m:t>
                                    </m:r>
                                  </m:e>
                                  <m:e>
                                    <m:r>
                                      <m:t xml:space="preserve">x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rawn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rom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nknown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stribution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nd</m:t>
                              </m:r>
                            </m:e>
                            <m:e>
                              <m:r>
                                <m:t xml:space="preserve">∃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∀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-36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dundantly Sufficient Featur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1200" t="13542" r="15896" b="3706"/>
          <a:stretch/>
        </p:blipFill>
        <p:spPr>
          <a:xfrm>
            <a:off x="1822320" y="2036880"/>
            <a:ext cx="5275440" cy="4500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272880" y="1211400"/>
            <a:ext cx="24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fessor Falout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34160" y="11620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y advi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09800" y="1501920"/>
            <a:ext cx="765000" cy="11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172280" y="1457280"/>
            <a:ext cx="432000" cy="72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0200" y="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Training Algorithm #1 </a:t>
            </a:r>
            <a:br>
              <a:rPr sz="2000"/>
            </a:b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[Blum&amp;Mitchell, 1998]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3480" y="1414440"/>
            <a:ext cx="7907400" cy="49093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: labeled data L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abeled data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g1 (hyperlink classifier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2 (page classifier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g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lab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itiv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egative examps from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lab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itiv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egative examps from 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these self-labeled examples to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0680" y="-360"/>
            <a:ext cx="85518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Training: Experimental Result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6240" y="705960"/>
            <a:ext cx="8604360" cy="18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 with 12 labeled web pages (academic cour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1,000 additional unlabeled web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error: learning from labeled data 11.1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error: cotraining 5.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19066" t="24469" r="17349" b="19152"/>
          <a:stretch/>
        </p:blipFill>
        <p:spPr>
          <a:xfrm>
            <a:off x="2468520" y="2162160"/>
            <a:ext cx="6294600" cy="4508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306440" y="439416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ru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66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-Training Rote Learner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93920" y="2570040"/>
            <a:ext cx="12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My advi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48000" y="2727360"/>
            <a:ext cx="41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1200" t="13542" r="15896" b="3706"/>
          <a:stretch/>
        </p:blipFill>
        <p:spPr>
          <a:xfrm>
            <a:off x="5646600" y="2786040"/>
            <a:ext cx="758880" cy="647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137200" y="3030480"/>
            <a:ext cx="51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630600" y="2228760"/>
            <a:ext cx="236160" cy="3780720"/>
            <a:chOff x="3630600" y="2228760"/>
            <a:chExt cx="236160" cy="3780720"/>
          </a:xfrm>
        </p:grpSpPr>
        <p:sp>
          <p:nvSpPr>
            <p:cNvPr id="123" name=""/>
            <p:cNvSpPr/>
            <p:nvPr/>
          </p:nvSpPr>
          <p:spPr>
            <a:xfrm>
              <a:off x="3630600" y="258300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30600" y="293760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30600" y="329220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30600" y="364644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30600" y="400104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30600" y="435564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30600" y="471024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30600" y="506448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30600" y="541908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30600" y="577368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30600" y="222876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940280" y="2228760"/>
            <a:ext cx="236160" cy="3780720"/>
            <a:chOff x="4940280" y="2228760"/>
            <a:chExt cx="236160" cy="3780720"/>
          </a:xfrm>
        </p:grpSpPr>
        <p:sp>
          <p:nvSpPr>
            <p:cNvPr id="135" name=""/>
            <p:cNvSpPr/>
            <p:nvPr/>
          </p:nvSpPr>
          <p:spPr>
            <a:xfrm>
              <a:off x="4940280" y="258300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940280" y="293760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40280" y="329220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940280" y="364644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40280" y="400104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40280" y="435564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40280" y="471024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40280" y="506448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40280" y="541908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40280" y="577368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40280" y="222876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867120" y="2346480"/>
            <a:ext cx="1073160" cy="35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67120" y="2701800"/>
            <a:ext cx="107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867120" y="3765240"/>
            <a:ext cx="1073160" cy="35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867120" y="2346480"/>
            <a:ext cx="1073160" cy="10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867120" y="3055680"/>
            <a:ext cx="1073160" cy="35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67120" y="2701800"/>
            <a:ext cx="1073160" cy="35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67120" y="4119480"/>
            <a:ext cx="1073160" cy="70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867120" y="4119120"/>
            <a:ext cx="1073160" cy="10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67120" y="4119480"/>
            <a:ext cx="107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67120" y="5183280"/>
            <a:ext cx="1073160" cy="35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67120" y="4829040"/>
            <a:ext cx="107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867120" y="4473360"/>
            <a:ext cx="1073160" cy="35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16560" y="267192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21000" y="3935520"/>
            <a:ext cx="2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89480" y="5052960"/>
            <a:ext cx="2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76840" y="181944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ff"/>
                </a:solidFill>
                <a:latin typeface="Times New Roman"/>
              </a:rPr>
              <a:t>p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32080" y="1836720"/>
            <a:ext cx="124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hyperlin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en can Unlabeled Data help supervised learning?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set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instances drawn from unknow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: X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arget function (or, P(Y|X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ossible hypotheses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d labeled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d unlabeld examp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038480" y="4114800"/>
            <a:ext cx="3886200" cy="331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267080" y="4572000"/>
            <a:ext cx="3365640" cy="363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438280" y="5257800"/>
            <a:ext cx="48135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66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-Training Rote Learner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293920" y="1819440"/>
            <a:ext cx="4111560" cy="4190040"/>
            <a:chOff x="2293920" y="1819440"/>
            <a:chExt cx="4111560" cy="4190040"/>
          </a:xfrm>
        </p:grpSpPr>
        <p:sp>
          <p:nvSpPr>
            <p:cNvPr id="165" name=""/>
            <p:cNvSpPr/>
            <p:nvPr/>
          </p:nvSpPr>
          <p:spPr>
            <a:xfrm>
              <a:off x="2293920" y="2570040"/>
              <a:ext cx="122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My advis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48000" y="2727360"/>
              <a:ext cx="41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1"/>
            <a:srcRect l="1200" t="13542" r="15896" b="3706"/>
            <a:stretch/>
          </p:blipFill>
          <p:spPr>
            <a:xfrm>
              <a:off x="5646600" y="2786040"/>
              <a:ext cx="75888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5137200" y="303048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3630600" y="2228760"/>
              <a:ext cx="236160" cy="3780720"/>
              <a:chOff x="3630600" y="2228760"/>
              <a:chExt cx="236160" cy="3780720"/>
            </a:xfrm>
          </p:grpSpPr>
          <p:sp>
            <p:nvSpPr>
              <p:cNvPr id="170" name=""/>
              <p:cNvSpPr/>
              <p:nvPr/>
            </p:nvSpPr>
            <p:spPr>
              <a:xfrm>
                <a:off x="3630600" y="258300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630600" y="293760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30600" y="329220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630600" y="364644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630600" y="400104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630600" y="435564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630600" y="471024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30600" y="506448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630600" y="541908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630600" y="577368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630600" y="222876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940280" y="2228760"/>
              <a:ext cx="236160" cy="3780720"/>
              <a:chOff x="4940280" y="2228760"/>
              <a:chExt cx="236160" cy="3780720"/>
            </a:xfrm>
          </p:grpSpPr>
          <p:sp>
            <p:nvSpPr>
              <p:cNvPr id="182" name=""/>
              <p:cNvSpPr/>
              <p:nvPr/>
            </p:nvSpPr>
            <p:spPr>
              <a:xfrm>
                <a:off x="4940280" y="258300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940280" y="293760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940280" y="329220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940280" y="364644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940280" y="400104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940280" y="435564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940280" y="471024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940280" y="506448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940280" y="541908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940280" y="577368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940280" y="222876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3867120" y="2346480"/>
              <a:ext cx="107316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67120" y="2701800"/>
              <a:ext cx="107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3867120" y="3765240"/>
              <a:ext cx="1073160" cy="35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3867120" y="2346480"/>
              <a:ext cx="1073160" cy="10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867120" y="3055680"/>
              <a:ext cx="1073160" cy="35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67120" y="2701800"/>
              <a:ext cx="1073160" cy="35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67120" y="4119480"/>
              <a:ext cx="1073160" cy="70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3867120" y="4119120"/>
              <a:ext cx="1073160" cy="106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7120" y="4119480"/>
              <a:ext cx="107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67120" y="5183280"/>
              <a:ext cx="1073160" cy="35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67120" y="4829040"/>
              <a:ext cx="107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3867120" y="4473360"/>
              <a:ext cx="107316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16560" y="267192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21000" y="3935520"/>
              <a:ext cx="2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89480" y="5052960"/>
              <a:ext cx="2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76840" y="1819440"/>
              <a:ext cx="113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ccff"/>
                  </a:solidFill>
                  <a:latin typeface="Times New Roman"/>
                </a:rPr>
                <a:t>p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32080" y="1836720"/>
              <a:ext cx="12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hyperlin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316320" y="3890880"/>
            <a:ext cx="2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11640" y="4923000"/>
            <a:ext cx="25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53120" y="5303880"/>
            <a:ext cx="2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32240" y="3854520"/>
            <a:ext cx="2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59520" y="289548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48000" y="241308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89240" y="4183200"/>
            <a:ext cx="2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82920" y="3611520"/>
            <a:ext cx="2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10160" y="4125960"/>
            <a:ext cx="2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86080" y="241452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97320" y="310032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13080" y="321156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81480" y="245412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21440" y="4594320"/>
            <a:ext cx="25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16400" y="3490920"/>
            <a:ext cx="2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78360" y="277956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71960" y="213840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83000" y="4649760"/>
            <a:ext cx="2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04480" y="-360"/>
            <a:ext cx="89391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pected Rote CoTraining error given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exampl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855720" y="4130640"/>
                <a:ext cx="59245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</m:e>
                    </m:nary>
                    <m:r>
                      <m:t xml:space="preserve">x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30" name=""/>
          <p:cNvGrpSpPr/>
          <p:nvPr/>
        </p:nvGrpSpPr>
        <p:grpSpPr>
          <a:xfrm>
            <a:off x="7481880" y="3902040"/>
            <a:ext cx="685800" cy="1676160"/>
            <a:chOff x="7481880" y="3902040"/>
            <a:chExt cx="685800" cy="1676160"/>
          </a:xfrm>
        </p:grpSpPr>
        <p:grpSp>
          <p:nvGrpSpPr>
            <p:cNvPr id="231" name=""/>
            <p:cNvGrpSpPr/>
            <p:nvPr/>
          </p:nvGrpSpPr>
          <p:grpSpPr>
            <a:xfrm>
              <a:off x="7481880" y="3902040"/>
              <a:ext cx="104760" cy="1676160"/>
              <a:chOff x="7481880" y="3902040"/>
              <a:chExt cx="104760" cy="1676160"/>
            </a:xfrm>
          </p:grpSpPr>
          <p:sp>
            <p:nvSpPr>
              <p:cNvPr id="232" name=""/>
              <p:cNvSpPr/>
              <p:nvPr/>
            </p:nvSpPr>
            <p:spPr>
              <a:xfrm>
                <a:off x="7481880" y="405900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481880" y="421632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481880" y="437328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1880" y="453060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481880" y="468792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481880" y="484488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481880" y="500220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81880" y="515952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481880" y="531648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481880" y="547380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481880" y="390204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8062920" y="3902040"/>
              <a:ext cx="104760" cy="1676160"/>
              <a:chOff x="8062920" y="3902040"/>
              <a:chExt cx="104760" cy="1676160"/>
            </a:xfrm>
          </p:grpSpPr>
          <p:sp>
            <p:nvSpPr>
              <p:cNvPr id="244" name=""/>
              <p:cNvSpPr/>
              <p:nvPr/>
            </p:nvSpPr>
            <p:spPr>
              <a:xfrm>
                <a:off x="8062920" y="405900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062920" y="421632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062920" y="437328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062920" y="453060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062920" y="468792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062920" y="484488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062920" y="500220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062920" y="515952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062920" y="531648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062920" y="547380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062920" y="390204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7586640" y="3954600"/>
              <a:ext cx="47628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86640" y="411156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7586640" y="4583160"/>
              <a:ext cx="47628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7586640" y="3954240"/>
              <a:ext cx="476280" cy="47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7586640" y="4268880"/>
              <a:ext cx="47628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86640" y="4111560"/>
              <a:ext cx="476280" cy="1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86640" y="4740120"/>
              <a:ext cx="47628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7586640" y="4740120"/>
              <a:ext cx="476280" cy="4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586640" y="474012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586640" y="5211720"/>
              <a:ext cx="476280" cy="1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6640" y="505440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7586640" y="4897440"/>
              <a:ext cx="47628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793800" y="5110200"/>
            <a:ext cx="6364080" cy="564120"/>
            <a:chOff x="793800" y="5110200"/>
            <a:chExt cx="6364080" cy="564120"/>
          </a:xfrm>
        </p:grpSpPr>
        <p:sp>
          <p:nvSpPr>
            <p:cNvPr id="268" name=""/>
            <p:cNvSpPr/>
            <p:nvPr/>
          </p:nvSpPr>
          <p:spPr>
            <a:xfrm>
              <a:off x="793800" y="5110200"/>
              <a:ext cx="636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is th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 connected component of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12240" y="536724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733320" y="819000"/>
                <a:ext cx="7664400" cy="274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Training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etting</m:t>
                              </m:r>
                              <m:r>
                                <m:t xml:space="preserve">: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earn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  <m:r>
                                <m:t xml:space="preserve">:</m:t>
                              </m:r>
                              <m:r>
                                <m:t xml:space="preserve">X</m:t>
                              </m:r>
                              <m:r>
                                <m:t xml:space="preserve">→</m:t>
                              </m:r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where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×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where</m:t>
                                    </m:r>
                                  </m:e>
                                  <m:e>
                                    <m:r>
                                      <m:t xml:space="preserve">x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rawn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rom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nknown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stribution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nd</m:t>
                              </m:r>
                            </m:e>
                            <m:e>
                              <m:r>
                                <m:t xml:space="preserve">∃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∀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ow many 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unlabeled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examples suffice?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8880" y="1170000"/>
            <a:ext cx="82249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to assure that connected components in the underlying distribution,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re connected components in the observed sample,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072040" y="2344680"/>
            <a:ext cx="104760" cy="1676160"/>
            <a:chOff x="5072040" y="2344680"/>
            <a:chExt cx="104760" cy="1676160"/>
          </a:xfrm>
        </p:grpSpPr>
        <p:sp>
          <p:nvSpPr>
            <p:cNvPr id="274" name=""/>
            <p:cNvSpPr/>
            <p:nvPr/>
          </p:nvSpPr>
          <p:spPr>
            <a:xfrm>
              <a:off x="5072040" y="250164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72040" y="265896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72040" y="281592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72040" y="297324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72040" y="313056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072040" y="328752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72040" y="344484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072040" y="360216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072040" y="375912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72040" y="391644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72040" y="234468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653080" y="2344680"/>
            <a:ext cx="104760" cy="1676160"/>
            <a:chOff x="5653080" y="2344680"/>
            <a:chExt cx="104760" cy="1676160"/>
          </a:xfrm>
        </p:grpSpPr>
        <p:sp>
          <p:nvSpPr>
            <p:cNvPr id="286" name=""/>
            <p:cNvSpPr/>
            <p:nvPr/>
          </p:nvSpPr>
          <p:spPr>
            <a:xfrm>
              <a:off x="5653080" y="250164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653080" y="265896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653080" y="281592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53080" y="297324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53080" y="313056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653080" y="328752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653080" y="344484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53080" y="360216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653080" y="375912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653080" y="391644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53080" y="234468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5176800" y="2397240"/>
            <a:ext cx="476280" cy="15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76800" y="2554200"/>
            <a:ext cx="47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5176800" y="3025800"/>
            <a:ext cx="476280" cy="15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176800" y="2711520"/>
            <a:ext cx="476280" cy="15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76800" y="3182760"/>
            <a:ext cx="47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76800" y="3654360"/>
            <a:ext cx="476280" cy="15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76800" y="3497400"/>
            <a:ext cx="47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176800" y="3339720"/>
            <a:ext cx="476280" cy="15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814480" y="2306520"/>
            <a:ext cx="685800" cy="1676160"/>
            <a:chOff x="2814480" y="2306520"/>
            <a:chExt cx="685800" cy="1676160"/>
          </a:xfrm>
        </p:grpSpPr>
        <p:grpSp>
          <p:nvGrpSpPr>
            <p:cNvPr id="306" name=""/>
            <p:cNvGrpSpPr/>
            <p:nvPr/>
          </p:nvGrpSpPr>
          <p:grpSpPr>
            <a:xfrm>
              <a:off x="2814480" y="2306520"/>
              <a:ext cx="104760" cy="1676160"/>
              <a:chOff x="2814480" y="2306520"/>
              <a:chExt cx="1047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2814480" y="246348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814480" y="262080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14480" y="277776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814480" y="293508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14480" y="309240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814480" y="324936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814480" y="340668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814480" y="356400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814480" y="372096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14480" y="387828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814480" y="230652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3395520" y="2306520"/>
              <a:ext cx="104760" cy="1676160"/>
              <a:chOff x="3395520" y="2306520"/>
              <a:chExt cx="104760" cy="1676160"/>
            </a:xfrm>
          </p:grpSpPr>
          <p:sp>
            <p:nvSpPr>
              <p:cNvPr id="319" name=""/>
              <p:cNvSpPr/>
              <p:nvPr/>
            </p:nvSpPr>
            <p:spPr>
              <a:xfrm>
                <a:off x="3395520" y="246348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395520" y="262080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95520" y="277776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395520" y="293508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395520" y="309240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395520" y="324936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395520" y="340668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395520" y="356400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395520" y="372096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395520" y="387828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395520" y="230652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2919240" y="2359080"/>
              <a:ext cx="47628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19240" y="251604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2919240" y="2987640"/>
              <a:ext cx="47628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2919240" y="2358720"/>
              <a:ext cx="476280" cy="47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919240" y="2673360"/>
              <a:ext cx="47628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19240" y="2516040"/>
              <a:ext cx="476280" cy="1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19240" y="3144600"/>
              <a:ext cx="47628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2919240" y="3144600"/>
              <a:ext cx="476280" cy="4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19240" y="314460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19240" y="3616200"/>
              <a:ext cx="476280" cy="1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919240" y="345888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2919240" y="3301920"/>
              <a:ext cx="47628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2943360" y="3924360"/>
            <a:ext cx="691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167440" y="3941640"/>
            <a:ext cx="53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6080" y="4662360"/>
            <a:ext cx="8827920" cy="15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log(N)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examples assure that with high probability,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s same connected components as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Karger, 9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is size of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min cut over all connected components of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Training Setting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747720" y="892080"/>
                <a:ext cx="7664400" cy="219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earn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  <m:r>
                                <m:t xml:space="preserve">:</m:t>
                              </m:r>
                              <m:r>
                                <m:t xml:space="preserve">X</m:t>
                              </m:r>
                              <m:r>
                                <m:t xml:space="preserve">→</m:t>
                              </m:r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where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×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where</m:t>
                                    </m:r>
                                  </m:e>
                                  <m:e>
                                    <m:r>
                                      <m:t xml:space="preserve">x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rawn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rom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nknown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stribution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nd</m:t>
                              </m:r>
                            </m:e>
                            <m:e>
                              <m:r>
                                <m:t xml:space="preserve">∃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∀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690480" y="3233880"/>
            <a:ext cx="808524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1, x2 conditionally independent given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 is PAC learnable from nois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bel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 is PAC learnable from weak initial classifier plu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label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AC Generalization Bounds on CoTraining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552760" y="9907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Dasgupta et al., NIPS 200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rcRect l="12392" t="47356" r="18660" b="27949"/>
          <a:stretch/>
        </p:blipFill>
        <p:spPr>
          <a:xfrm>
            <a:off x="0" y="1974960"/>
            <a:ext cx="914400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716040" y="4024080"/>
            <a:ext cx="7772400" cy="23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: Want classifiers that produce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ximally consist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beling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learning is an optimization problem, what function should we optimiz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390240" y="18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f CoTraining Assumption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ot Perfectly Satisfied?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3765600" y="1487520"/>
            <a:ext cx="929520" cy="2404080"/>
            <a:chOff x="3765600" y="1487520"/>
            <a:chExt cx="929520" cy="2404080"/>
          </a:xfrm>
        </p:grpSpPr>
        <p:grpSp>
          <p:nvGrpSpPr>
            <p:cNvPr id="354" name=""/>
            <p:cNvGrpSpPr/>
            <p:nvPr/>
          </p:nvGrpSpPr>
          <p:grpSpPr>
            <a:xfrm>
              <a:off x="3765600" y="1618560"/>
              <a:ext cx="142560" cy="2273040"/>
              <a:chOff x="3765600" y="1618560"/>
              <a:chExt cx="142560" cy="2273040"/>
            </a:xfrm>
          </p:grpSpPr>
          <p:sp>
            <p:nvSpPr>
              <p:cNvPr id="355" name=""/>
              <p:cNvSpPr/>
              <p:nvPr/>
            </p:nvSpPr>
            <p:spPr>
              <a:xfrm>
                <a:off x="3765600" y="1831680"/>
                <a:ext cx="142560" cy="14184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765600" y="2044800"/>
                <a:ext cx="142560" cy="14184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765600" y="2257920"/>
                <a:ext cx="142560" cy="14184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765600" y="2471040"/>
                <a:ext cx="142560" cy="14184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765600" y="2684160"/>
                <a:ext cx="142560" cy="14184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765600" y="2897280"/>
                <a:ext cx="142560" cy="14184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765600" y="3110400"/>
                <a:ext cx="142560" cy="14184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765600" y="3323520"/>
                <a:ext cx="142560" cy="14184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765600" y="3536640"/>
                <a:ext cx="142560" cy="14184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765600" y="3749760"/>
                <a:ext cx="142560" cy="14184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765600" y="1618560"/>
                <a:ext cx="142560" cy="14184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4553280" y="1618560"/>
              <a:ext cx="141840" cy="2273040"/>
              <a:chOff x="4553280" y="1618560"/>
              <a:chExt cx="141840" cy="2273040"/>
            </a:xfrm>
          </p:grpSpPr>
          <p:sp>
            <p:nvSpPr>
              <p:cNvPr id="367" name=""/>
              <p:cNvSpPr/>
              <p:nvPr/>
            </p:nvSpPr>
            <p:spPr>
              <a:xfrm>
                <a:off x="4553280" y="1831680"/>
                <a:ext cx="141840" cy="14184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553280" y="2044800"/>
                <a:ext cx="141840" cy="14184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553280" y="2257920"/>
                <a:ext cx="141840" cy="14184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553280" y="2471040"/>
                <a:ext cx="141840" cy="14184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553280" y="2684160"/>
                <a:ext cx="141840" cy="14184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553280" y="2897280"/>
                <a:ext cx="141840" cy="14184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553280" y="3110400"/>
                <a:ext cx="141840" cy="14184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553280" y="3323520"/>
                <a:ext cx="141840" cy="14184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553280" y="3536640"/>
                <a:ext cx="141840" cy="14184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553280" y="3749760"/>
                <a:ext cx="141840" cy="14184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553280" y="1618560"/>
                <a:ext cx="141840" cy="14184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3908160" y="1689840"/>
              <a:ext cx="64512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908160" y="1902960"/>
              <a:ext cx="64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3908160" y="2542320"/>
              <a:ext cx="645120" cy="21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3908160" y="1689840"/>
              <a:ext cx="645120" cy="63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3908160" y="2116080"/>
              <a:ext cx="645120" cy="21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908160" y="1902960"/>
              <a:ext cx="645120" cy="21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08160" y="2755800"/>
              <a:ext cx="645120" cy="42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3908160" y="2755440"/>
              <a:ext cx="645120" cy="63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908160" y="2755800"/>
              <a:ext cx="64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08160" y="3394800"/>
              <a:ext cx="645120" cy="21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908160" y="3182040"/>
              <a:ext cx="64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08160" y="2968560"/>
              <a:ext cx="645120" cy="21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041360" y="23464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972600" y="34124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082400" y="14875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013280" y="19267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3957480" y="3160080"/>
              <a:ext cx="64584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99160" y="2100960"/>
              <a:ext cx="645840" cy="42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3922560" y="1915560"/>
              <a:ext cx="607320" cy="1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Objective Function?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208160" y="1658880"/>
                <a:ext cx="6907320" cy="42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E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E</m:t>
                        </m:r>
                        <m:r>
                          <m:t xml:space="preserve">4</m:t>
                        </m:r>
                      </m:e>
                      <m:e/>
                      <m:e>
                        <m:r>
                          <m:t xml:space="preserve">E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&gt;</m:t>
                            </m:r>
                            <m:r>
                              <m:t xml:space="preserve">∈</m:t>
                            </m:r>
                            <m:r>
                              <m:t xml:space="preserve">L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g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E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&gt;</m:t>
                            </m:r>
                            <m:r>
                              <m:t xml:space="preserve">∈</m:t>
                            </m:r>
                            <m:r>
                              <m:t xml:space="preserve">L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g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E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U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g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g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E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|</m:t>
                                        </m:r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|</m:t>
                                        </m:r>
                                      </m:den>
                                    </m:f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y</m:t>
                                        </m:r>
                                        <m:r>
                                          <m:t xml:space="preserve">&gt;</m:t>
                                        </m:r>
                                        <m:r>
                                          <m:t xml:space="preserve">∈</m:t>
                                        </m:r>
                                        <m:r>
                                          <m:t xml:space="preserve">L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nary>
                                  </m:e>
                                </m:d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|</m:t>
                                        </m:r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|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|</m:t>
                                        </m:r>
                                        <m:r>
                                          <m:t xml:space="preserve">U</m:t>
                                        </m:r>
                                        <m:r>
                                          <m:t xml:space="preserve">|</m:t>
                                        </m:r>
                                      </m:den>
                                    </m:f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∈</m:t>
                                        </m:r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∪</m:t>
                                        </m:r>
                                        <m:r>
                                          <m:t xml:space="preserve">U</m:t>
                                        </m:r>
                                      </m:sub>
                                      <m:sup/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acc>
                                                  <m:accPr>
                                                    <m:chr m:val="^"/>
                                                  </m:accPr>
                                                  <m:e>
                                                    <m:r>
                                                      <m:t xml:space="preserve">g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1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(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1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)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sSub>
                                              <m:e>
                                                <m:acc>
                                                  <m:accPr>
                                                    <m:chr m:val="^"/>
                                                  </m:accPr>
                                                  <m:e>
                                                    <m:r>
                                                      <m:t xml:space="preserve">g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2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(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2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)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</m:e>
                                    </m:nary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99" name=""/>
          <p:cNvGrpSpPr/>
          <p:nvPr/>
        </p:nvGrpSpPr>
        <p:grpSpPr>
          <a:xfrm>
            <a:off x="4184280" y="2352600"/>
            <a:ext cx="3166920" cy="924120"/>
            <a:chOff x="4184280" y="2352600"/>
            <a:chExt cx="3166920" cy="924120"/>
          </a:xfrm>
        </p:grpSpPr>
        <p:sp>
          <p:nvSpPr>
            <p:cNvPr id="400" name=""/>
            <p:cNvSpPr/>
            <p:nvPr/>
          </p:nvSpPr>
          <p:spPr>
            <a:xfrm>
              <a:off x="5286960" y="2352600"/>
              <a:ext cx="20642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rror on labeled examp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4184280" y="2511360"/>
              <a:ext cx="1111320" cy="187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4227480" y="2511360"/>
              <a:ext cx="1068480" cy="765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4300200" y="3097080"/>
            <a:ext cx="3186360" cy="916200"/>
            <a:chOff x="4300200" y="3097080"/>
            <a:chExt cx="3186360" cy="916200"/>
          </a:xfrm>
        </p:grpSpPr>
        <p:sp>
          <p:nvSpPr>
            <p:cNvPr id="404" name=""/>
            <p:cNvSpPr/>
            <p:nvPr/>
          </p:nvSpPr>
          <p:spPr>
            <a:xfrm>
              <a:off x="5207400" y="3097080"/>
              <a:ext cx="2279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isagreement over unlabel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300200" y="3349800"/>
              <a:ext cx="895320" cy="663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4743720" y="4194000"/>
            <a:ext cx="2392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sfit to estimated class pri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5165640" y="4489560"/>
            <a:ext cx="144720" cy="2728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Function Approximators?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4000" y="3058920"/>
            <a:ext cx="7902360" cy="33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fn form as Naïve Bayes, Max Entr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gradient descent to simultaneously learn g1 and g2, directly minimizing  E = E1 + E2 + E3 + E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word independence assumption, use both labeled and unlabel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168560" y="1332000"/>
                <a:ext cx="293832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4492800" y="1325520"/>
                <a:ext cx="300492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71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assifying Jobs for FlipDog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rcRect l="0" t="11808" r="3518" b="5914"/>
          <a:stretch/>
        </p:blipFill>
        <p:spPr>
          <a:xfrm>
            <a:off x="0" y="1027080"/>
            <a:ext cx="9144000" cy="5830920"/>
          </a:xfrm>
          <a:prstGeom prst="rect">
            <a:avLst/>
          </a:prstGeom>
          <a:ln w="9360">
            <a:solidFill>
              <a:srgbClr val="ccccff"/>
            </a:solidFill>
            <a:miter/>
          </a:ln>
        </p:spPr>
      </p:pic>
      <p:sp>
        <p:nvSpPr>
          <p:cNvPr id="414" name=""/>
          <p:cNvSpPr/>
          <p:nvPr/>
        </p:nvSpPr>
        <p:spPr>
          <a:xfrm>
            <a:off x="217440" y="4691160"/>
            <a:ext cx="155880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1: job tit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27240" y="4921200"/>
            <a:ext cx="374400" cy="7509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952560" y="5829480"/>
            <a:ext cx="6608880" cy="39024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89480" y="4829040"/>
            <a:ext cx="1559160" cy="52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2: job descri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5208480" y="5297400"/>
            <a:ext cx="230400" cy="5637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39680" y="5643720"/>
            <a:ext cx="4025880" cy="187200"/>
          </a:xfrm>
          <a:prstGeom prst="rect">
            <a:avLst/>
          </a:prstGeom>
          <a:noFill/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radient CoTraining </a:t>
            </a:r>
            <a:br>
              <a:rPr sz="2800"/>
            </a:b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Classifying FlipDog job descriptions: SysAdmin vs. WebProgrammer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rcRect l="12274" t="10440" r="11835" b="6123"/>
          <a:stretch/>
        </p:blipFill>
        <p:spPr>
          <a:xfrm>
            <a:off x="1500120" y="1530360"/>
            <a:ext cx="6002280" cy="494964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6738840" y="3218040"/>
            <a:ext cx="2405160" cy="1078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nal Accura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beled data alone: 8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raining: 9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en can Unlabeled Data help supervised learning?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question!  In many cases, unlabeled data is plentiful, labeled data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outcomes (x=&lt;patient,treatment&gt;, y=outc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classification (x=document, y=relev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modeling (x=user actions, y=user int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3768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radient CoTraining </a:t>
            </a:r>
            <a:br>
              <a:rPr sz="2800"/>
            </a:b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Classifying Upper Case sequences as Person Names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468520" y="1617840"/>
            <a:ext cx="2227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25 labe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5000 unlabe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792760" y="1603440"/>
            <a:ext cx="2241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2300 labe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5000 unlabe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63520" y="257652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ing labeled data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64960" y="3938760"/>
            <a:ext cx="16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830240" y="24620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814400" y="2475000"/>
            <a:ext cx="0" cy="374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30120" y="4754520"/>
            <a:ext cx="1625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training without fitting class priors (E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800440" y="487836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154560" y="2994120"/>
            <a:ext cx="12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800440" y="2992320"/>
            <a:ext cx="9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637080" y="6105600"/>
            <a:ext cx="440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sensitive to weights of error terms E3 and E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154560" y="3948120"/>
            <a:ext cx="1060560" cy="459720"/>
            <a:chOff x="6154560" y="3948120"/>
            <a:chExt cx="1060560" cy="459720"/>
          </a:xfrm>
        </p:grpSpPr>
        <p:sp>
          <p:nvSpPr>
            <p:cNvPr id="436" name=""/>
            <p:cNvSpPr/>
            <p:nvPr/>
          </p:nvSpPr>
          <p:spPr>
            <a:xfrm>
              <a:off x="6154560" y="3948120"/>
              <a:ext cx="106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833880" y="3973680"/>
              <a:ext cx="18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800440" y="3946680"/>
            <a:ext cx="960480" cy="459720"/>
            <a:chOff x="2800440" y="3946680"/>
            <a:chExt cx="960480" cy="459720"/>
          </a:xfrm>
        </p:grpSpPr>
        <p:sp>
          <p:nvSpPr>
            <p:cNvPr id="439" name=""/>
            <p:cNvSpPr/>
            <p:nvPr/>
          </p:nvSpPr>
          <p:spPr>
            <a:xfrm>
              <a:off x="2800440" y="3946680"/>
              <a:ext cx="96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33680" y="3952800"/>
              <a:ext cx="18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34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457440" y="99072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rror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Training Summary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440" y="8377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abeled data improves supervised learning when example features are redundantly suffic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 of algorithms that train multiple class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etical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ed error for rote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X1,X2 conditionally indep given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 learnable from weak initial classifier plus unlabel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bounds in terms of disagreement between g1(x1) and g2(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real-world problems of this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ntic lexicon gener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Riloff, Jones 99], [Collins, Singer 99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page classific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Blum, Mitchell 98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 sense disambigu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Yarowsky 95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ch recogni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de Sa, Ballard 98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685800" y="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4. Use U to Detect/Preempt Overfit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rcRect l="15626" t="24374" r="25782" b="15627"/>
          <a:stretch/>
        </p:blipFill>
        <p:spPr>
          <a:xfrm>
            <a:off x="304920" y="914400"/>
            <a:ext cx="760860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 of distance 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negativ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(f,g)</a:t>
            </a:r>
            <a:r>
              <a:rPr b="0" i="1" lang="en-US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metric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(f,g)=d(g,f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angle inequalit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(f,g) </a:t>
            </a:r>
            <a:r>
              <a:rPr b="0" i="1" lang="en-US" sz="2000" spc="-1" strike="noStrike">
                <a:solidFill>
                  <a:srgbClr val="000000"/>
                </a:solidFill>
                <a:latin typeface="cmsy10"/>
              </a:rPr>
              <a:t>·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(f,h)+d(h,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ication with zero-one lo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ression with squared lo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1295280" y="2666880"/>
            <a:ext cx="5524560" cy="58896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1219320" y="3962520"/>
            <a:ext cx="569124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1"/>
          <a:srcRect l="15626" t="9376" r="22659" b="12502"/>
          <a:stretch/>
        </p:blipFill>
        <p:spPr>
          <a:xfrm>
            <a:off x="1066680" y="0"/>
            <a:ext cx="701064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rcRect l="0" t="13791" r="10347" b="54029"/>
          <a:stretch/>
        </p:blipFill>
        <p:spPr>
          <a:xfrm>
            <a:off x="380880" y="1676520"/>
            <a:ext cx="8382240" cy="225576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rcRect l="33855" t="74484" r="40755" b="15627"/>
          <a:stretch/>
        </p:blipFill>
        <p:spPr>
          <a:xfrm>
            <a:off x="1981080" y="4419720"/>
            <a:ext cx="4267440" cy="12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rcRect l="8594" t="32293" r="16405" b="33337"/>
          <a:stretch/>
        </p:blipFill>
        <p:spPr>
          <a:xfrm>
            <a:off x="1143000" y="2895480"/>
            <a:ext cx="7315200" cy="25146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2125080" y="19080"/>
            <a:ext cx="544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mental Evaluation of T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uurmans &amp; Southey, MLJ 200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19320" y="1219320"/>
            <a:ext cx="6705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t to select degree of polynomial for reg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o alternatives such as cross validation, structural risk minimization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rcRect l="8594" t="21878" r="15626" b="21878"/>
          <a:stretch/>
        </p:blipFill>
        <p:spPr>
          <a:xfrm>
            <a:off x="419040" y="1143000"/>
            <a:ext cx="8305920" cy="507060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228600" y="0"/>
            <a:ext cx="2286000" cy="2571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ted y values contain zero mean Gaussian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=f(x)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rcRect l="9376" t="16666" r="14065" b="15627"/>
          <a:stretch/>
        </p:blipFill>
        <p:spPr>
          <a:xfrm>
            <a:off x="1676520" y="1600200"/>
            <a:ext cx="7467480" cy="49528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 flipH="1">
            <a:off x="4572000" y="12952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250960" y="762120"/>
            <a:ext cx="29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 validation (Ten-fol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555880" y="1066680"/>
            <a:ext cx="305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al risk minim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366040" y="141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0"/>
            <a:ext cx="4343400" cy="138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ion rati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e error of selected hypoth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e error of best hypothesis consi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52280" y="9907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3886200" y="114300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338360" y="0"/>
            <a:ext cx="48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sults using 200 unlabeled, t labe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52280" y="2133720"/>
            <a:ext cx="137160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st performance in top .50 of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52388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rcRect l="14065" t="25004" r="17970" b="15627"/>
          <a:stretch/>
        </p:blipFill>
        <p:spPr>
          <a:xfrm>
            <a:off x="762120" y="914400"/>
            <a:ext cx="75438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r Ways to Use Unlabeled Data for Supervised Learning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523880"/>
            <a:ext cx="83822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o reweight labeled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o help EM learn class-specific generative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problem has redundantly sufficient features, use Co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o detect/preempt overf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rcRect l="1562" t="32293" r="8594" b="40626"/>
          <a:stretch/>
        </p:blipFill>
        <p:spPr>
          <a:xfrm>
            <a:off x="152280" y="2209680"/>
            <a:ext cx="8763120" cy="198144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nd on Error of TRI Relative to Best Hypothesis Consi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1"/>
          <a:srcRect l="3127" t="23960" r="9376" b="37501"/>
          <a:stretch/>
        </p:blipFill>
        <p:spPr>
          <a:xfrm>
            <a:off x="304920" y="1905120"/>
            <a:ext cx="8534160" cy="281916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0" y="190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 to TRI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 for expected bias of training data estim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uurmans &amp; Southey, MLJ 200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3520" y="51055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results: averaged over multiple target functions, outperforms T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ways to use unlabeled data in supervised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oing research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371600" y="2013120"/>
            <a:ext cx="70866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o reweight labeled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o help EM learn class-specific generative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problem has redundantly sufficient features, use Co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o detect/preempt overf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urther Reading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M approa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K.Nigam, et al., 2000. "Text Classification from Labeled and Unlabeled Documents using EM"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chine Learning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9, pp.103—13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Tra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. Blum and T. Mitchell, 1998. “Combining Labeled and Unlabeled Data with Co-Training,”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ceedings of the 11th Annual Conference on Computational Learning Theory (COLT-98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. Dasgupta, et al., “PAC Generalization Bounds for Co-training”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IPS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del se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. Schuurmans and F. Southey, 2002. “Metric-Based methods for Adaptive Model Selection and Regularizaiton,” Machine Learning, 48, 51—8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14844" t="23660" r="22659" b="14584"/>
          <a:stretch/>
        </p:blipFill>
        <p:spPr>
          <a:xfrm>
            <a:off x="533520" y="915840"/>
            <a:ext cx="8076960" cy="5851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. Use U to reweight labeled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3962520"/>
            <a:ext cx="47246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0"/>
            <a:ext cx="8153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2. Use U with EM and Assumed Generativ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3809880"/>
            <a:ext cx="4724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762120" y="1905120"/>
            <a:ext cx="3428640" cy="2567520"/>
            <a:chOff x="762120" y="1905120"/>
            <a:chExt cx="3428640" cy="2567520"/>
          </a:xfrm>
        </p:grpSpPr>
        <p:grpSp>
          <p:nvGrpSpPr>
            <p:cNvPr id="57" name=""/>
            <p:cNvGrpSpPr/>
            <p:nvPr/>
          </p:nvGrpSpPr>
          <p:grpSpPr>
            <a:xfrm>
              <a:off x="2133720" y="1905120"/>
              <a:ext cx="533160" cy="459720"/>
              <a:chOff x="2133720" y="1905120"/>
              <a:chExt cx="533160" cy="459720"/>
            </a:xfrm>
          </p:grpSpPr>
          <p:sp>
            <p:nvSpPr>
              <p:cNvPr id="58" name=""/>
              <p:cNvSpPr/>
              <p:nvPr/>
            </p:nvSpPr>
            <p:spPr>
              <a:xfrm>
                <a:off x="2133720" y="1905120"/>
                <a:ext cx="533160" cy="4572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09680" y="1905120"/>
                <a:ext cx="30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762120" y="3962520"/>
              <a:ext cx="609480" cy="510120"/>
              <a:chOff x="762120" y="3962520"/>
              <a:chExt cx="609480" cy="510120"/>
            </a:xfrm>
          </p:grpSpPr>
          <p:sp>
            <p:nvSpPr>
              <p:cNvPr id="61" name=""/>
              <p:cNvSpPr/>
              <p:nvPr/>
            </p:nvSpPr>
            <p:spPr>
              <a:xfrm>
                <a:off x="762120" y="3962520"/>
                <a:ext cx="533520" cy="4572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2120" y="396252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1752480" y="3962520"/>
              <a:ext cx="2438280" cy="510120"/>
              <a:chOff x="1752480" y="3962520"/>
              <a:chExt cx="2438280" cy="510120"/>
            </a:xfrm>
          </p:grpSpPr>
          <p:sp>
            <p:nvSpPr>
              <p:cNvPr id="64" name=""/>
              <p:cNvSpPr/>
              <p:nvPr/>
            </p:nvSpPr>
            <p:spPr>
              <a:xfrm>
                <a:off x="3581280" y="3962520"/>
                <a:ext cx="533160" cy="4572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581280" y="396252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666880" y="3962520"/>
                <a:ext cx="533160" cy="4572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666880" y="396252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52480" y="3962520"/>
                <a:ext cx="533160" cy="4572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752480" y="396252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 flipH="1">
              <a:off x="1218960" y="2362320"/>
              <a:ext cx="11430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2057040" y="2362320"/>
              <a:ext cx="3049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62320" y="2362320"/>
              <a:ext cx="4572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62320" y="2362320"/>
              <a:ext cx="12952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4" name=""/>
          <p:cNvGraphicFramePr/>
          <p:nvPr/>
        </p:nvGraphicFramePr>
        <p:xfrm>
          <a:off x="5105520" y="1917720"/>
          <a:ext cx="3504600" cy="3022200"/>
        </p:xfrm>
        <a:graphic>
          <a:graphicData uri="http://schemas.openxmlformats.org/drawingml/2006/table">
            <a:tbl>
              <a:tblPr/>
              <a:tblGrid>
                <a:gridCol w="700560"/>
                <a:gridCol w="701280"/>
                <a:gridCol w="700920"/>
                <a:gridCol w="700560"/>
                <a:gridCol w="701280"/>
              </a:tblGrid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457200" y="1219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 P(Y|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10038" t="39743" r="6564" b="6923"/>
          <a:stretch/>
        </p:blipFill>
        <p:spPr>
          <a:xfrm>
            <a:off x="0" y="533520"/>
            <a:ext cx="9144000" cy="4402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43000" y="5638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[Nigam et al., 200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11585" t="40770" r="33013" b="38721"/>
          <a:stretch/>
        </p:blipFill>
        <p:spPr>
          <a:xfrm>
            <a:off x="1838160" y="838080"/>
            <a:ext cx="6772320" cy="1887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85800" y="380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200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rcRect l="12935" t="35644" r="24516" b="52054"/>
          <a:stretch/>
        </p:blipFill>
        <p:spPr>
          <a:xfrm>
            <a:off x="1752480" y="3657600"/>
            <a:ext cx="7391520" cy="1095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rcRect l="12548" t="65388" r="46525" b="25388"/>
          <a:stretch/>
        </p:blipFill>
        <p:spPr>
          <a:xfrm>
            <a:off x="1752480" y="5257800"/>
            <a:ext cx="5486400" cy="9320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438280" y="2971800"/>
            <a:ext cx="4267440" cy="510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-th word in 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71800" y="34290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laboration 1: Downweight the influence of unlabeled examples by factor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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12090" t="69363" r="19825" b="21839"/>
          <a:stretch/>
        </p:blipFill>
        <p:spPr>
          <a:xfrm>
            <a:off x="990720" y="4572000"/>
            <a:ext cx="6705360" cy="762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rcRect l="12090" t="7758" r="26018" b="72003"/>
          <a:stretch/>
        </p:blipFill>
        <p:spPr>
          <a:xfrm>
            <a:off x="838080" y="1295280"/>
            <a:ext cx="7315200" cy="2103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rcRect l="12090" t="53523" r="63928" b="38561"/>
          <a:stretch/>
        </p:blipFill>
        <p:spPr>
          <a:xfrm>
            <a:off x="6095880" y="5791320"/>
            <a:ext cx="2362320" cy="685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rcRect l="12090" t="83445" r="43814" b="8635"/>
          <a:stretch/>
        </p:blipFill>
        <p:spPr>
          <a:xfrm>
            <a:off x="1066680" y="5486400"/>
            <a:ext cx="4343400" cy="685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85800" y="3962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M ste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8120" y="3657600"/>
            <a:ext cx="213336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osen by cross vali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3047760" y="3124080"/>
            <a:ext cx="15228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5T04:39:59Z</dcterms:created>
  <dc:creator>WhizBang! Labs, Inc.</dc:creator>
  <dc:description/>
  <dc:language>en-US</dc:language>
  <cp:lastModifiedBy>Tom M. Mitchell</cp:lastModifiedBy>
  <dcterms:modified xsi:type="dcterms:W3CDTF">2003-04-02T16:23:46Z</dcterms:modified>
  <cp:revision>387</cp:revision>
  <dc:subject/>
  <dc:title>PowerPoint Presentation</dc:title>
</cp:coreProperties>
</file>