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88AF08-30C3-474C-BE5A-1A791A40A5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39952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5D95F2-4530-410C-9144-60AE9506E3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9952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39952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77E89C-2F8B-43C7-8223-934F72918E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4479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4479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39952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39952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39952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A7DC09-8041-45D0-AAED-27E133839DE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4A5EDF-7815-46AF-9A3B-4758F2D03A5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A4B81-F96C-4B9A-BA2D-D80B1FB34E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C6F0B5-15E7-4B40-8456-B1747F15F3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64D60A-92E4-462B-8B59-FAD4240CB6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629250-9DCF-4584-A28A-632D142A2F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39952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0E932-1EC1-4CC0-B3FC-AF7586A06C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39952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998DCC-29DB-42AB-915A-D78895B53C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952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0CE786-C3D9-460E-85E6-8499093CC0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5331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3B29D-7CA4-4687-98DD-50707C3825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s.cmu.edu/~tom/702.html" TargetMode="External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Discriminative and Generative Classifiers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71600" y="2209680"/>
            <a:ext cx="6477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m Mitc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Statistical Approaches to Learning and Discovery, 10-702 and 15-80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ch 19, 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cture based on “On Discriminative vs. Generative classifiers: A comparison of logistic regression and naïve Bayes,” A. Ng and M. Jordan, NIPS 200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Rate of covergence: naïve Bayes classification error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7200" y="9907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e blackboard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-360" y="3886200"/>
            <a:ext cx="3352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ome experiments from UCI data sets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rcRect l="22500" t="41408" r="29376" b="3906"/>
          <a:stretch/>
        </p:blipFill>
        <p:spPr>
          <a:xfrm>
            <a:off x="3581280" y="1523880"/>
            <a:ext cx="5867640" cy="53341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rcRect l="22500" t="10155" r="29376" b="58596"/>
          <a:stretch/>
        </p:blipFill>
        <p:spPr>
          <a:xfrm>
            <a:off x="0" y="0"/>
            <a:ext cx="58672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rcRect l="19374" t="10155" r="28750" b="2344"/>
          <a:stretch/>
        </p:blipFill>
        <p:spPr>
          <a:xfrm>
            <a:off x="228600" y="0"/>
            <a:ext cx="50832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5105520" y="533520"/>
            <a:ext cx="3809880" cy="54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irs of plots comparing naïve Bayes and logistic regression with quadratic regularization penal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ft plots show training error vs. number of examples, right plots show test err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row uses different regularization penalty.  Top row uses small penalty; penalty increases as you move down the p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nks to John Laffer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Lecture Outline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990720"/>
            <a:ext cx="838188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ive and Discriminative classifi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ymptotic comparison (as # examples grow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model corr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model incorr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-asymptotic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gence of parameter estim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gence of expected er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rimental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Generative vs. Discriminative Classifiers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90720"/>
            <a:ext cx="8381880" cy="55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ining classifiers involves estimating f: X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Y, or P(Y|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criminative classifiers (also called ‘informative’ by Rubinstein&amp;Hastie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me some functional form for P(Y|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timate parameters of P(Y|X) directly from training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ive classifi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me some functional form for P(X|Y), P(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timate parameters of P(X|Y), P(X) directly from training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Bayes rule to calculate P(Y|X= 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Generative-Discriminative Pairs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90720"/>
            <a:ext cx="8381880" cy="53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:  assume Y boolean, X = &lt;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, where 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re boolean, perhaps dependent on Y, conditionally independent given 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ive model: naïve Bay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assify new exampl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ased on rat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quivalently, based on sign of log of this rat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092400"/>
            <a:ext cx="2895480" cy="673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906560" y="2130480"/>
            <a:ext cx="4799160" cy="6476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391520" y="1952640"/>
            <a:ext cx="1752480" cy="147240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 indicates size of se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 is smoothing parame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70102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1998720" y="4495680"/>
            <a:ext cx="5145120" cy="6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Generative-Discriminative Pairs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990720"/>
            <a:ext cx="8381880" cy="63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:  assume Y boolean, X = &lt;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, where 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re boolean, perhaps dependent on Y, conditionally independent given 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Generative mode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naïve Bay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assify new exampl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ased on rat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Discriminative mode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e both learn linear decision surface over X in this c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895480" y="2895480"/>
            <a:ext cx="2590920" cy="6019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2286000" y="2209680"/>
            <a:ext cx="4570560" cy="6177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2179800" y="3962520"/>
            <a:ext cx="4678200" cy="6094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1092240" y="5276880"/>
            <a:ext cx="6351480" cy="7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What is the difference asymptotically?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990720"/>
            <a:ext cx="8381880" cy="54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ation: let                denote error of hypothesis learned via algorithm A,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assumed model correct (e.g., naïve Bayes model), and finite number of parameters,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assumed model incorr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 assumed discriminative model can be correct even when generative model incorrect, but not vice ver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371600" y="2819520"/>
            <a:ext cx="3200400" cy="3412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2209680" y="1066680"/>
            <a:ext cx="1038240" cy="3319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1415880" y="4572000"/>
            <a:ext cx="3156120" cy="34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Rate of covergence: logistic regression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523880" y="2514600"/>
            <a:ext cx="5364360" cy="4748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85800" y="1295280"/>
            <a:ext cx="78487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Dis,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 logistic regression trained 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ample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imensions.  Then with high probabilit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640" y="3429000"/>
            <a:ext cx="811548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ation: if we w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some constant      , it suffices to pic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gences to best linear classifier, in order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am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esult follows from Vapnik’s structural risk bound, plus fact that VCDim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imensional linear separators 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3809880" y="3581280"/>
            <a:ext cx="3794400" cy="3412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3124080" y="4114800"/>
            <a:ext cx="304920" cy="2365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5867280" y="4114800"/>
            <a:ext cx="1371600" cy="2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Rate of covergence: naïve Bayes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47640" y="990720"/>
            <a:ext cx="811548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der first how quickly parameter estimates converge toward their asymptotic values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 we’ll ask how this influences rate of convergence toward asymptotic classification err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Rate of covergence: naïve Bayes parameters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500040" y="1066680"/>
            <a:ext cx="814392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15T04:39:59Z</dcterms:created>
  <dc:creator>WhizBang! Labs, Inc.</dc:creator>
  <dc:description/>
  <dc:language>en-US</dc:language>
  <cp:lastModifiedBy>Tom M. Mitchell</cp:lastModifiedBy>
  <dcterms:modified xsi:type="dcterms:W3CDTF">2003-03-19T19:50:57Z</dcterms:modified>
  <cp:revision>335</cp:revision>
  <dc:subject/>
  <dc:title>PowerPoint Presentation</dc:title>
</cp:coreProperties>
</file>