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6543-1BD2-4DBC-AC30-D1E1C54B7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47B8-1DDB-4BE6-B4CB-CDD91CB03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41010-ED32-437A-8196-1B7E0D37B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6214-67CB-4DEE-B103-A1AA12C20D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C314-B9E7-41EE-9C41-90AB4A1063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8D5C9-5F24-4504-9D9B-BACBCC0D2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7C65E-9F07-4B3A-A2ED-65909424D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96386-C20E-496A-B3F1-90C181454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0ECF1-8D49-481B-A908-B08B71F32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D4A1-2D8A-4C70-A660-B5A81190D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DA2AF-5228-42D7-B42E-22DBD4A16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1B6D-298F-4DBF-9B38-A92247DB4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B362-AF6E-4B94-A106-B1EC307F5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cmu.edu/~tom/702.htm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criminative and Generative Classifi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Mitc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tatistical Approaches to Learning and Discovery, 10-702 and 15-80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9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based on “On Discriminative vs. Generative classifiers: A comparison of logistic regression and naïve Bayes,” A. Ng and M. Jordan, NIPS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ate of covergence: naïve Bayes classification erro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990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blackboa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886200"/>
            <a:ext cx="3352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ome experiments from UCI data se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2500" t="41408" r="29376" b="3906"/>
          <a:stretch/>
        </p:blipFill>
        <p:spPr>
          <a:xfrm>
            <a:off x="3581280" y="1523880"/>
            <a:ext cx="5867640" cy="533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22500" t="10155" r="29376" b="58596"/>
          <a:stretch/>
        </p:blipFill>
        <p:spPr>
          <a:xfrm>
            <a:off x="0" y="0"/>
            <a:ext cx="5867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9374" t="10155" r="28750" b="2344"/>
          <a:stretch/>
        </p:blipFill>
        <p:spPr>
          <a:xfrm>
            <a:off x="228600" y="0"/>
            <a:ext cx="50832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05520" y="533520"/>
            <a:ext cx="380988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 of plots comparing naïve Bayes and logistic regression with quadratic regularization pena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lots show training error vs. number of examples, right plots show test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uses different regularization penalty.  Top row uses small penalty; penalty increases as you move down the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John Laff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cture Outlin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990720"/>
            <a:ext cx="8381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ive and Discriminative class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ptotic comparison (as # examples gro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model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model in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asympto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of parameter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of expected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ative vs. Discriminative Classifi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90720"/>
            <a:ext cx="838188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classifiers involves estimating f: 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, or P(Y|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ve classifiers (also called ‘informative’ by Rubinstein&amp;Hasti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some functional form for P(Y|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 parameters of P(Y|X) directly from train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ve class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some functional form for P(X|Y), P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 parameters of P(X|Y), P(X) directly from train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Bayes rule to calculate P(Y|X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ative-Discriminative Pai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90720"/>
            <a:ext cx="838188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assume Y boolean, X = &lt;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, wher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boolean, perhaps dependent on Y, conditionally independent give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ve model: naïve Bay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y new exam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d on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ly, based on sign of log of this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092400"/>
            <a:ext cx="2895480" cy="673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06560" y="2130480"/>
            <a:ext cx="4799160" cy="64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91520" y="1952640"/>
            <a:ext cx="1752480" cy="1472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 indicates size of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is smoothing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0102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998720" y="4495680"/>
            <a:ext cx="514512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ative-Discriminative Pai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90720"/>
            <a:ext cx="838188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assume Y boolean, X = &lt;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, wher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boolean, perhaps dependent on Y, conditionally independent give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nerative mo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aïve Bay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y new exam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d on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tive mo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both learn linear decision surface over X in thi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2590920" cy="601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4570560" cy="617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179800" y="3962520"/>
            <a:ext cx="467820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92240" y="5276880"/>
            <a:ext cx="635148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difference asymptotically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90720"/>
            <a:ext cx="83818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tion: let                denote error of hypothesis learned via algorithm A,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ssumed model correct (e.g., naïve Bayes model), and finite number of parameters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ssumed model in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assumed discriminative model can be correct even when generative model incorrect, but not vice 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3200400" cy="34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1038240" cy="331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15880" y="4572000"/>
            <a:ext cx="315612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ate of covergence: logistic regress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364360" cy="474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1295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is,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logistic regression train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mensions.  Then with hig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640" y="3429000"/>
            <a:ext cx="8115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: if we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me constant      , it suffices to pi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s to best linear classifier, in ord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sult follows from Vapnik’s structural risk bound, plus fact that VCDi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mensional linear separators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3794400" cy="341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124080" y="4114800"/>
            <a:ext cx="304920" cy="236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867280" y="4114800"/>
            <a:ext cx="137160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ate of covergence: naïve Bay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640" y="990720"/>
            <a:ext cx="81154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first how quickly parameter estimates converge toward their asymptotic valu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e’ll ask how this influences rate of convergence toward asymptotic classification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ate of covergence: naïve Bayes paramet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0040" y="1066680"/>
            <a:ext cx="81439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4:39:59Z</dcterms:created>
  <dc:creator>WhizBang! Labs, Inc.</dc:creator>
  <dc:description/>
  <dc:language>en-US</dc:language>
  <cp:lastModifiedBy>Tom M. Mitchell</cp:lastModifiedBy>
  <dcterms:modified xsi:type="dcterms:W3CDTF">2003-03-19T19:50:57Z</dcterms:modified>
  <cp:revision>335</cp:revision>
  <dc:subject/>
  <dc:title>PowerPoint Presentation</dc:title>
</cp:coreProperties>
</file>