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7010-A8B9-4B57-A1AF-87F8B49BA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DEEB-A8BE-414F-973D-EFA1579E8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B3D3-A5D3-4595-9F67-57EE74B49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F23D-E4E1-456C-8B35-28494B5FB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17D9-CCF1-4C3E-8FCF-DE34CEB57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F942-ADC4-4DFE-9B95-9FB2B9738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27F4-07EB-435C-930C-08D5E2C88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3DED-4FC2-4C69-9664-0E92D6085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EDA7-CEFD-43B2-842A-F3E1C22B8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8F89-12E2-4C97-9EB6-7147042F7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1DB6-D60D-4268-A22B-9566A05D5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E3A8-FAC9-4F27-98F0-CF64B84C7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3A2-B830-44B8-B4C0-599120A5A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iminative and Gener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based on “On Discriminative vs. Generative classifiers: A comparison of logistic regression and naïve Bayes,” A. Ng and M. Jordan, NIPS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classification err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lackbo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88620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me experiments from UCI data se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2500" t="41408" r="29376" b="3906"/>
          <a:stretch/>
        </p:blipFill>
        <p:spPr>
          <a:xfrm>
            <a:off x="3581280" y="1523880"/>
            <a:ext cx="5867640" cy="533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2500" t="10155" r="29376" b="58596"/>
          <a:stretch/>
        </p:blipFill>
        <p:spPr>
          <a:xfrm>
            <a:off x="0" y="0"/>
            <a:ext cx="58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9374" t="10155" r="28750" b="2344"/>
          <a:stretch/>
        </p:blipFill>
        <p:spPr>
          <a:xfrm>
            <a:off x="228600" y="0"/>
            <a:ext cx="50832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33520"/>
            <a:ext cx="38098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 of plots comparing naïve Bayes and logistic regression with quadratic regularization pena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lots show training error vs. number of examples, right plots show test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uses different regularization penalty.  Top row uses small penalty; penalty increases as you move dow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John Laff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cture Out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9072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ve and Discriminative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tic comparison (as # examples gr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asympto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parameter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of expecte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 vs. Discriminative Classifi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90720"/>
            <a:ext cx="83818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classifiers involves estimating f: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ve classifiers (also called ‘informative’ by Rubinstein&amp;Hasti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Y|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Y|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class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some functional form for P(X|Y), P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parameters of P(X|Y), P(X) directly from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ayes rule to calculate P(Y|X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90720"/>
            <a:ext cx="838188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ve model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ly, based on sign of log of this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092400"/>
            <a:ext cx="2895480" cy="67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6560" y="2130480"/>
            <a:ext cx="479916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91520" y="1952640"/>
            <a:ext cx="1752480" cy="1472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indicates size of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is smoothing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0102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98720" y="4495680"/>
            <a:ext cx="51451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tive-Discriminative Pai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38188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ssume Y boolean, X = &lt;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boolean, perhaps dependent on Y, conditionally independent give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er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aïve Bay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 new ex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d 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tive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both learn linear decision surface over X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590920" cy="60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570560" cy="61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79800" y="3962520"/>
            <a:ext cx="467820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92240" y="5276880"/>
            <a:ext cx="63514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fference asymptotically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90720"/>
            <a:ext cx="83818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tion: let                denote error of hypothesis learned via algorithm A,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correct (e.g., naïve Bayes model), and finite number of parameters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umed model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assumed discriminative model can be correct even when generative model incorrect, but not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3200400" cy="34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1038240" cy="33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15880" y="4572000"/>
            <a:ext cx="31561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logistic regress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364360" cy="47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295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is,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logistic regression train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s.  Then with hig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640" y="3429000"/>
            <a:ext cx="8115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: if we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constant      , it suffices to pi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s to best linear classifier, in or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ult follows from Vapnik’s structural risk bound, plus fact that VCDi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al linear separator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794400" cy="34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24080" y="4114800"/>
            <a:ext cx="304920" cy="23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13716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990720"/>
            <a:ext cx="8115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first how quickly parameter estimates converge toward their asymptotic val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’ll ask how this influences rate of convergence toward asymptotic classificatio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te of covergence: naïve Bayes paramet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0040" y="1066680"/>
            <a:ext cx="81439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3-19T19:50:57Z</dcterms:modified>
  <cp:revision>335</cp:revision>
  <dc:subject/>
  <dc:title>PowerPoint Presentation</dc:title>
</cp:coreProperties>
</file>