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.wmf" ContentType="image/x-wmf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EDB21-4C07-4CDE-928D-789CA032D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 re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13CF3-21C3-4BB2-91C9-DB076BDC51A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2978280" y="552600"/>
            <a:ext cx="3646440" cy="273348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1279440" y="3473280"/>
            <a:ext cx="704232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AA194-2E3E-469A-8B24-40B98891071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2978280" y="552600"/>
            <a:ext cx="3646440" cy="27334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1279440" y="3473280"/>
            <a:ext cx="704232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3298A-0653-40D5-BE44-D0C6839D6C3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2978280" y="552600"/>
            <a:ext cx="3646440" cy="273348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279440" y="3473280"/>
            <a:ext cx="704232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35301-1655-494B-8AD9-D2AC60757F4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AB7A-F31C-48D6-B8A6-D6CF69B4D2D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8ACFA-3264-46F6-9976-984DB59057CF}" type="slidenum">
              <a:rPr b="0" lang="en-US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64216-7E6F-4085-B8DD-2A7329F69771}" type="slidenum">
              <a:rPr b="0" lang="en-US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4F736-A1C0-4181-B33D-5408E5E9970A}" type="slidenum">
              <a:rPr b="0" lang="en-US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5BE-6BA4-4C62-B7C7-C8B19980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B82-E536-4148-ACB9-0796AEE4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5CD-7250-4146-B731-9ADDB8CD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FED-A67D-454E-81BC-5C2757FB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4180-85D4-4E96-A304-BCFBA6C8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DD04-10A5-45AF-A181-C07BEC19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2239-6594-4E9B-8136-F98A177E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C7C5-BDC6-4208-981C-96A9322E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60F6-1769-47E0-BD94-3F80F5E3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316E-1479-49B9-B242-11F4D669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F30F-8A8E-416F-9E45-E757E07B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5E2-8BE8-4067-8E3D-BCD44590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39FA-FA2E-416C-91A2-BB98B029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A0AC-70CB-4241-A068-801344B2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47D3-5259-4E68-BF20-A8F9DB63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9037-E434-41A7-BF60-F7AEFE48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9651-B7D3-4C95-817F-D07B8800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837-EB39-4856-9A8D-79288124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B57-D531-4D05-9895-933ABC1C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914-80DA-446A-AD70-911336D6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9D9-F670-4A7E-B661-8E030B01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3B6-061F-4377-A4F5-5BC96F9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D46-7170-4E0C-8838-7D596C87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8D7-BD35-4A3A-8E3A-E5E6AE05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0; 12-3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C28B-BE11-414D-84F0-5FDD212D58A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0; 12-3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AC72-E56C-4EF0-8DB5-22C73369EA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2.wmf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2.wmf"/><Relationship Id="rId19" Type="http://schemas.openxmlformats.org/officeDocument/2006/relationships/image" Target="../media/image3.wmf"/><Relationship Id="rId20" Type="http://schemas.openxmlformats.org/officeDocument/2006/relationships/image" Target="../media/image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25 Network Intrusion Detec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ignature-based I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known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to signif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dentify intrusions from packet header/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Boolean operators in rul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_str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_variable’ AND ‘that_numbe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_string’ AND ‘that_variable’ NOT ‘that_tcp_fla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5276880" y="1274760"/>
            <a:ext cx="3638520" cy="1849320"/>
          </a:xfrm>
          <a:prstGeom prst="rect">
            <a:avLst/>
          </a:prstGeom>
          <a:ln w="0">
            <a:noFill/>
          </a:ln>
        </p:spPr>
      </p:pic>
      <p:sp>
        <p:nvSpPr>
          <p:cNvPr id="58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64B-1641-4F39-BE60-DB9448EFCB5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gnature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detect attacks for which it has no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pdated for each new attack and attack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 time from new exploit to update can be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’ attack variant can be created by changing a singl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resource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2"/>
          <p:cNvGraphicFramePr/>
          <p:nvPr/>
        </p:nvGraphicFramePr>
        <p:xfrm>
          <a:off x="7099200" y="1590840"/>
          <a:ext cx="152424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9200" y="1590840"/>
                    <a:ext cx="1524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1" name="Picture 4" descr="AG00528_"/>
          <p:cNvPicPr/>
          <p:nvPr/>
        </p:nvPicPr>
        <p:blipFill>
          <a:blip r:embed="rId3"/>
          <a:stretch/>
        </p:blipFill>
        <p:spPr>
          <a:xfrm>
            <a:off x="5105520" y="1455840"/>
            <a:ext cx="2414520" cy="2181240"/>
          </a:xfrm>
          <a:prstGeom prst="rect">
            <a:avLst/>
          </a:prstGeom>
          <a:ln w="0">
            <a:noFill/>
          </a:ln>
        </p:spPr>
      </p:pic>
      <p:sp>
        <p:nvSpPr>
          <p:cNvPr id="592" name="Slide Number Placeholder 9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B81C-622D-4CA0-87E5-D4AB0FDC16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nomaly-based I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04560" y="1447920"/>
            <a:ext cx="5181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tistical models or a machine learning engine to characterize normal usage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s departures from normal as potential intr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5991120" y="1859040"/>
            <a:ext cx="2986200" cy="2430360"/>
          </a:xfrm>
          <a:prstGeom prst="rect">
            <a:avLst/>
          </a:prstGeom>
          <a:ln w="0">
            <a:noFill/>
          </a:ln>
        </p:spPr>
      </p:pic>
      <p:sp>
        <p:nvSpPr>
          <p:cNvPr id="5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83D6-4113-4BA5-B421-55A1DB599DC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omaly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etect attempts to exploit new and unforeseen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cognize unusual traffic based on a number of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cognize authorized usage that falls outside the normal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slower, more resource intensive compared to signature-based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complexity, difficult to con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centages of false al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 between abnormal and intrusive may be wea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2DA7-CFE2-4AED-9A45-6411B58FE7F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omaly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deployment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few typical deploy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maly-based IDS considered immature, too error-prone for widespread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oS are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6386-37EA-4F7B-B67D-F1802FB26CC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st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2952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a single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nalyze audit-trails, logs, integrity of files and directori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wire, F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Secure® Server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systems such as Emer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port to centr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1"/>
          <a:stretch/>
        </p:blipFill>
        <p:spPr>
          <a:xfrm>
            <a:off x="6832440" y="3314880"/>
            <a:ext cx="1882800" cy="2857320"/>
          </a:xfrm>
          <a:prstGeom prst="rect">
            <a:avLst/>
          </a:prstGeom>
          <a:ln w="0">
            <a:noFill/>
          </a:ln>
        </p:spPr>
      </p:pic>
      <p:sp>
        <p:nvSpPr>
          <p:cNvPr id="6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C6DA-7CB8-4062-AC5C-0B26D6829AF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st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easy to deploy and to man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one machine is involv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y require only one administr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ates single source of log and alert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ly not resource intensive -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ten will not require CPU, memory, etc. beyond what is needed for OS and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 well for a single machine;  extremely labor-intensive to monitor multiple machines each running a host-based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host is compromised, the IDS may cease to function and thus no more alerts will be gene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3D41-225F-476F-88F5-32A2D65B626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st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deployment environ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mission-critical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’s desktop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309-DE47-4A65-8FA5-BC40DABE3B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twork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ly captures traffic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ect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function in a client-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 are located on multiple machines across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nsors feed data to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e machine handles logging and ale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286000" cy="1908000"/>
          </a:xfrm>
          <a:prstGeom prst="rect">
            <a:avLst/>
          </a:prstGeom>
          <a:ln w="0">
            <a:noFill/>
          </a:ln>
        </p:spPr>
      </p:pic>
      <p:sp>
        <p:nvSpPr>
          <p:cNvPr id="61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A3AF-218C-4F98-8B5C-826305B97F7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twork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ed properly, can test effectiveness of firewalls, router access lis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onitor multiple machines from one physical and logical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e can generate an alert if a monitored machine/network has ceased to se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capturing all network packets, can produce large log/aler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 be difficult to cull through vast amount of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e machine generally must be quite powerful, similar to a workgroup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nsole machine goes down then multiple machines may be left unmoni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from sensors to console may increase overall network traffic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7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4B53-C07B-4961-94CD-3D87E3E4D3E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0C3-A227-4015-8381-50D2BC896F8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3B6C-BC21-4D7D-9AE8-0D54C98BBAF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ro: Detecting intruders in real-tim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 is a standalone NIDS developed by Vern Pax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keep LBL an open environment (to resist the need to install a fire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speed monitoring, no packet dr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-time no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mechanism from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to use, guard against mist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lerate attacks on N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2971800" y="6296040"/>
            <a:ext cx="3048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Paxon, 1998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EA72-106A-4EC3-B97B-B2C1D108D17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ro system architectur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628" name="Group 25"/>
          <p:cNvGrpSpPr/>
          <p:nvPr/>
        </p:nvGrpSpPr>
        <p:grpSpPr>
          <a:xfrm>
            <a:off x="1677240" y="1600200"/>
            <a:ext cx="5577480" cy="4708080"/>
            <a:chOff x="1677240" y="1600200"/>
            <a:chExt cx="5577480" cy="4708080"/>
          </a:xfrm>
        </p:grpSpPr>
        <p:sp>
          <p:nvSpPr>
            <p:cNvPr id="629" name="Text Box 3"/>
            <p:cNvSpPr/>
            <p:nvPr/>
          </p:nvSpPr>
          <p:spPr>
            <a:xfrm>
              <a:off x="3950640" y="58500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0" name="Text Box 4"/>
            <p:cNvSpPr/>
            <p:nvPr/>
          </p:nvSpPr>
          <p:spPr>
            <a:xfrm>
              <a:off x="4004280" y="464616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bpcap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1" name="Text Box 5"/>
            <p:cNvSpPr/>
            <p:nvPr/>
          </p:nvSpPr>
          <p:spPr>
            <a:xfrm>
              <a:off x="3641400" y="350352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ent Engine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155400" y="232056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Script Interpret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3" name="Rectangle 7"/>
            <p:cNvSpPr/>
            <p:nvPr/>
          </p:nvSpPr>
          <p:spPr>
            <a:xfrm>
              <a:off x="2927520" y="5613120"/>
              <a:ext cx="331524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4" name="Rectangle 8"/>
            <p:cNvSpPr/>
            <p:nvPr/>
          </p:nvSpPr>
          <p:spPr>
            <a:xfrm>
              <a:off x="2901960" y="4485960"/>
              <a:ext cx="331524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5" name="Rectangle 9"/>
            <p:cNvSpPr/>
            <p:nvPr/>
          </p:nvSpPr>
          <p:spPr>
            <a:xfrm>
              <a:off x="2915280" y="3300120"/>
              <a:ext cx="331560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6" name="Rectangle 10"/>
            <p:cNvSpPr/>
            <p:nvPr/>
          </p:nvSpPr>
          <p:spPr>
            <a:xfrm>
              <a:off x="2915280" y="2163240"/>
              <a:ext cx="331560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7" name="AutoShape 11"/>
            <p:cNvSpPr/>
            <p:nvPr/>
          </p:nvSpPr>
          <p:spPr>
            <a:xfrm>
              <a:off x="4274640" y="5206320"/>
              <a:ext cx="480600" cy="394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abe9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8" name="Text Box 12"/>
            <p:cNvSpPr/>
            <p:nvPr/>
          </p:nvSpPr>
          <p:spPr>
            <a:xfrm>
              <a:off x="4733280" y="52480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 strea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9" name="AutoShape 13"/>
            <p:cNvSpPr/>
            <p:nvPr/>
          </p:nvSpPr>
          <p:spPr>
            <a:xfrm>
              <a:off x="4343760" y="3995640"/>
              <a:ext cx="243000" cy="500040"/>
            </a:xfrm>
            <a:prstGeom prst="upArrow">
              <a:avLst>
                <a:gd name="adj1" fmla="val 50000"/>
                <a:gd name="adj2" fmla="val 48234"/>
              </a:avLst>
            </a:prstGeom>
            <a:solidFill>
              <a:srgbClr val="babe9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0" name="Text Box 14"/>
            <p:cNvSpPr/>
            <p:nvPr/>
          </p:nvSpPr>
          <p:spPr>
            <a:xfrm>
              <a:off x="4815360" y="4044240"/>
              <a:ext cx="24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ered packet strea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1" name="AutoShape 15"/>
            <p:cNvSpPr/>
            <p:nvPr/>
          </p:nvSpPr>
          <p:spPr>
            <a:xfrm>
              <a:off x="4431240" y="2858400"/>
              <a:ext cx="78120" cy="427680"/>
            </a:xfrm>
            <a:prstGeom prst="upArrow">
              <a:avLst>
                <a:gd name="adj1" fmla="val 50000"/>
                <a:gd name="adj2" fmla="val 136866"/>
              </a:avLst>
            </a:prstGeom>
            <a:solidFill>
              <a:srgbClr val="babe9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2" name="Text Box 16"/>
            <p:cNvSpPr/>
            <p:nvPr/>
          </p:nvSpPr>
          <p:spPr>
            <a:xfrm>
              <a:off x="5190480" y="290844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 strea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3" name="Line 17"/>
            <p:cNvSpPr/>
            <p:nvPr/>
          </p:nvSpPr>
          <p:spPr>
            <a:xfrm flipV="1">
              <a:off x="4469040" y="1693080"/>
              <a:ext cx="0" cy="44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4" name="Text Box 18"/>
            <p:cNvSpPr/>
            <p:nvPr/>
          </p:nvSpPr>
          <p:spPr>
            <a:xfrm>
              <a:off x="4957920" y="1717200"/>
              <a:ext cx="203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erts/notification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5" name="Line 19"/>
            <p:cNvSpPr/>
            <p:nvPr/>
          </p:nvSpPr>
          <p:spPr>
            <a:xfrm>
              <a:off x="3316320" y="1600200"/>
              <a:ext cx="0" cy="5616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6" name="Text Box 20"/>
            <p:cNvSpPr/>
            <p:nvPr/>
          </p:nvSpPr>
          <p:spPr>
            <a:xfrm>
              <a:off x="1945440" y="171720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icy scrip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7" name="Line 21"/>
            <p:cNvSpPr/>
            <p:nvPr/>
          </p:nvSpPr>
          <p:spPr>
            <a:xfrm>
              <a:off x="3303000" y="2858400"/>
              <a:ext cx="0" cy="4543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8" name="Text Box 22"/>
            <p:cNvSpPr/>
            <p:nvPr/>
          </p:nvSpPr>
          <p:spPr>
            <a:xfrm>
              <a:off x="1829880" y="28958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 control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9" name="Line 23"/>
            <p:cNvSpPr/>
            <p:nvPr/>
          </p:nvSpPr>
          <p:spPr>
            <a:xfrm>
              <a:off x="3316320" y="3995640"/>
              <a:ext cx="0" cy="413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50" name="Text Box 24"/>
            <p:cNvSpPr/>
            <p:nvPr/>
          </p:nvSpPr>
          <p:spPr>
            <a:xfrm>
              <a:off x="1677240" y="405000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cpdump filter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651" name="Straight Arrow Connector 2"/>
          <p:cNvCxnSpPr/>
          <p:nvPr/>
        </p:nvCxnSpPr>
        <p:spPr>
          <a:xfrm>
            <a:off x="7529040" y="1752120"/>
            <a:ext cx="1080" cy="44204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</a:ln>
        </p:spPr>
      </p:cxnSp>
      <p:sp>
        <p:nvSpPr>
          <p:cNvPr id="652" name="Text Box 14"/>
          <p:cNvSpPr/>
          <p:nvPr/>
        </p:nvSpPr>
        <p:spPr>
          <a:xfrm>
            <a:off x="7455960" y="3352680"/>
            <a:ext cx="168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olume of data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653" name="Straight Arrow Connector 29"/>
          <p:cNvCxnSpPr/>
          <p:nvPr/>
        </p:nvCxnSpPr>
        <p:spPr>
          <a:xfrm>
            <a:off x="1356840" y="1676160"/>
            <a:ext cx="1080" cy="42678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</a:ln>
        </p:spPr>
      </p:cxnSp>
      <p:sp>
        <p:nvSpPr>
          <p:cNvPr id="654" name="Text Box 14"/>
          <p:cNvSpPr/>
          <p:nvPr/>
        </p:nvSpPr>
        <p:spPr>
          <a:xfrm>
            <a:off x="-50040" y="3352680"/>
            <a:ext cx="14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lexity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 operation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D3C6-8308-4507-81EB-7A97D53ADEE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ibpcap Lay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sses relevant packets to Event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BSD Packet Filter (BPF) to efficiently filt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port finger or tcp port ftp or tcp port telnet or port 111 or tcp[13] &amp; 7 !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"/>
          <p:cNvSpPr/>
          <p:nvPr/>
        </p:nvSpPr>
        <p:spPr>
          <a:xfrm>
            <a:off x="2757600" y="4619520"/>
            <a:ext cx="2361960" cy="45720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9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99D5-E0AD-4D81-BF63-81C01E59930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minder: TCP header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661" name="Content Placeholder 1" descr="tcp_header.png"/>
          <p:cNvPicPr/>
          <p:nvPr/>
        </p:nvPicPr>
        <p:blipFill>
          <a:blip r:embed="rId1"/>
          <a:srcRect l="0" t="202" r="0" b="-1759"/>
          <a:stretch/>
        </p:blipFill>
        <p:spPr>
          <a:xfrm>
            <a:off x="457200" y="1128600"/>
            <a:ext cx="8001000" cy="5729400"/>
          </a:xfrm>
          <a:prstGeom prst="rect">
            <a:avLst/>
          </a:prstGeom>
          <a:ln w="0">
            <a:noFill/>
          </a:ln>
        </p:spPr>
      </p:pic>
      <p:sp>
        <p:nvSpPr>
          <p:cNvPr id="662" name="Oval 2"/>
          <p:cNvSpPr/>
          <p:nvPr/>
        </p:nvSpPr>
        <p:spPr>
          <a:xfrm>
            <a:off x="3686040" y="2681280"/>
            <a:ext cx="685800" cy="304920"/>
          </a:xfrm>
          <a:prstGeom prst="ellipse">
            <a:avLst/>
          </a:prstGeom>
          <a:solidFill>
            <a:srgbClr val="ff0000">
              <a:alpha val="33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C9CA-82B7-4E0C-9D32-48E7248039B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ent eng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219320"/>
            <a:ext cx="8762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for each connection, based on &lt;SrcIP, SrcPort, DstIP, DstPor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ate not present, allocate fres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 state based on SYN/FIN/RST fl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acknowled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 generates a timer event, if nothing happens after 5 min, generate connection_attempt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packets gener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dp_requ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dp_rep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B101-DAB3-4119-A2DF-CB1AB760934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olicy script interpret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eparation of event generation and response to achieve clear separation between mechanism a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: extensibility (adding a new protocol analyzer and new event handler usually separate from other compon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are stored in a FIFO queue and processed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script interpreter executes event hand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4415-F04D-4EBE-B085-56748128932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232920"/>
            <a:ext cx="728964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ro policy scrip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: A clear and error-free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ten in a specialized langu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types (IP addresses, connections, protocol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d constants,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operators (comparison, ranges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statements (IF/THE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ale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 exterior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217E-912D-43FE-B499-E87C85703C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883908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ro policy scripts: 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variables and operato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1" descr="Screen Shot 2015-04-12 at 8.51.25 PM.png"/>
          <p:cNvPicPr/>
          <p:nvPr/>
        </p:nvPicPr>
        <p:blipFill>
          <a:blip r:embed="rId1"/>
          <a:stretch/>
        </p:blipFill>
        <p:spPr>
          <a:xfrm>
            <a:off x="838080" y="1600200"/>
            <a:ext cx="5651640" cy="1701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Screen Shot 2015-04-12 at 8.50.35 PM.png"/>
          <p:cNvPicPr/>
          <p:nvPr/>
        </p:nvPicPr>
        <p:blipFill>
          <a:blip r:embed="rId2"/>
          <a:stretch/>
        </p:blipFill>
        <p:spPr>
          <a:xfrm>
            <a:off x="914400" y="4876920"/>
            <a:ext cx="5359320" cy="1346040"/>
          </a:xfrm>
          <a:prstGeom prst="rect">
            <a:avLst/>
          </a:prstGeom>
          <a:ln w="0">
            <a:noFill/>
          </a:ln>
        </p:spPr>
      </p:pic>
      <p:sp>
        <p:nvSpPr>
          <p:cNvPr id="677" name="Straight Connector 6"/>
          <p:cNvSpPr/>
          <p:nvPr/>
        </p:nvSpPr>
        <p:spPr>
          <a:xfrm>
            <a:off x="838080" y="4724280"/>
            <a:ext cx="5257800" cy="12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8" name="Straight Connector 9"/>
          <p:cNvSpPr/>
          <p:nvPr/>
        </p:nvSpPr>
        <p:spPr>
          <a:xfrm flipV="1">
            <a:off x="762120" y="4648320"/>
            <a:ext cx="51051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838080" y="3581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[H, S] in allowed_service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…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’s okay 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5BEA-8A8A-46CB-97AA-EAF050A45AD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ro policy scripts: 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atements, functions, and ev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" descr="Screen Shot 2015-04-12 at 8.51.03 PM.png"/>
          <p:cNvPicPr/>
          <p:nvPr/>
        </p:nvPicPr>
        <p:blipFill>
          <a:blip r:embed="rId1"/>
          <a:stretch/>
        </p:blipFill>
        <p:spPr>
          <a:xfrm>
            <a:off x="1066680" y="1752480"/>
            <a:ext cx="6537600" cy="2019600"/>
          </a:xfrm>
          <a:prstGeom prst="rect">
            <a:avLst/>
          </a:prstGeom>
          <a:ln w="0">
            <a:noFill/>
          </a:ln>
        </p:spPr>
      </p:pic>
      <p:sp>
        <p:nvSpPr>
          <p:cNvPr id="68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119-376F-4FD4-AD18-66F2DD92232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call: Network “101” vs. Rea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Cloud 4"/>
          <p:cNvSpPr/>
          <p:nvPr/>
        </p:nvSpPr>
        <p:spPr>
          <a:xfrm rot="169800">
            <a:off x="1082160" y="1580760"/>
            <a:ext cx="6405840" cy="3359160"/>
          </a:xfrm>
          <a:prstGeom prst="pie">
            <a:avLst/>
          </a:prstGeom>
          <a:solidFill>
            <a:srgbClr val="e3e5d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1866960" y="1820880"/>
            <a:ext cx="668160" cy="420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"/>
          <p:cNvPicPr/>
          <p:nvPr/>
        </p:nvPicPr>
        <p:blipFill>
          <a:blip r:embed="rId2"/>
          <a:stretch/>
        </p:blipFill>
        <p:spPr>
          <a:xfrm>
            <a:off x="6137280" y="1820880"/>
            <a:ext cx="666720" cy="420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"/>
          <p:cNvPicPr/>
          <p:nvPr/>
        </p:nvPicPr>
        <p:blipFill>
          <a:blip r:embed="rId3"/>
          <a:stretch/>
        </p:blipFill>
        <p:spPr>
          <a:xfrm>
            <a:off x="4057560" y="3002040"/>
            <a:ext cx="666720" cy="4204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"/>
          <p:cNvPicPr/>
          <p:nvPr/>
        </p:nvPicPr>
        <p:blipFill>
          <a:blip r:embed="rId4"/>
          <a:stretch/>
        </p:blipFill>
        <p:spPr>
          <a:xfrm>
            <a:off x="1835280" y="4027320"/>
            <a:ext cx="668160" cy="420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"/>
          <p:cNvPicPr/>
          <p:nvPr/>
        </p:nvPicPr>
        <p:blipFill>
          <a:blip r:embed="rId5"/>
          <a:stretch/>
        </p:blipFill>
        <p:spPr>
          <a:xfrm>
            <a:off x="6084720" y="4232160"/>
            <a:ext cx="6670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39"/>
          <p:cNvGrpSpPr/>
          <p:nvPr/>
        </p:nvGrpSpPr>
        <p:grpSpPr>
          <a:xfrm>
            <a:off x="1477800" y="2289240"/>
            <a:ext cx="1570320" cy="657000"/>
            <a:chOff x="1477800" y="2289240"/>
            <a:chExt cx="1570320" cy="657000"/>
          </a:xfrm>
        </p:grpSpPr>
        <p:pic>
          <p:nvPicPr>
            <p:cNvPr id="494" name="Picture 26" descr=""/>
            <p:cNvPicPr/>
            <p:nvPr/>
          </p:nvPicPr>
          <p:blipFill>
            <a:blip r:embed="rId6"/>
            <a:stretch/>
          </p:blipFill>
          <p:spPr>
            <a:xfrm>
              <a:off x="1477800" y="2417400"/>
              <a:ext cx="652320" cy="3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11" descr="IOSfirewall"/>
            <p:cNvPicPr/>
            <p:nvPr/>
          </p:nvPicPr>
          <p:blipFill>
            <a:blip r:embed="rId7"/>
            <a:stretch/>
          </p:blipFill>
          <p:spPr>
            <a:xfrm>
              <a:off x="2098080" y="2289240"/>
              <a:ext cx="40464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57" descr="icon_color"/>
            <p:cNvPicPr/>
            <p:nvPr/>
          </p:nvPicPr>
          <p:blipFill>
            <a:blip r:embed="rId8"/>
            <a:stretch/>
          </p:blipFill>
          <p:spPr>
            <a:xfrm>
              <a:off x="2502720" y="2332800"/>
              <a:ext cx="54540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40"/>
          <p:cNvGrpSpPr/>
          <p:nvPr/>
        </p:nvGrpSpPr>
        <p:grpSpPr>
          <a:xfrm>
            <a:off x="5797440" y="2300400"/>
            <a:ext cx="1570320" cy="657000"/>
            <a:chOff x="5797440" y="2300400"/>
            <a:chExt cx="1570320" cy="657000"/>
          </a:xfrm>
        </p:grpSpPr>
        <p:pic>
          <p:nvPicPr>
            <p:cNvPr id="498" name="Picture 26" descr=""/>
            <p:cNvPicPr/>
            <p:nvPr/>
          </p:nvPicPr>
          <p:blipFill>
            <a:blip r:embed="rId9"/>
            <a:stretch/>
          </p:blipFill>
          <p:spPr>
            <a:xfrm>
              <a:off x="5797440" y="2428560"/>
              <a:ext cx="652320" cy="3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1" descr="IOSfirewall"/>
            <p:cNvPicPr/>
            <p:nvPr/>
          </p:nvPicPr>
          <p:blipFill>
            <a:blip r:embed="rId10"/>
            <a:stretch/>
          </p:blipFill>
          <p:spPr>
            <a:xfrm>
              <a:off x="6417720" y="2300400"/>
              <a:ext cx="40464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57" descr="icon_color"/>
            <p:cNvPicPr/>
            <p:nvPr/>
          </p:nvPicPr>
          <p:blipFill>
            <a:blip r:embed="rId11"/>
            <a:stretch/>
          </p:blipFill>
          <p:spPr>
            <a:xfrm>
              <a:off x="6822360" y="2343960"/>
              <a:ext cx="54540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Group 44"/>
          <p:cNvGrpSpPr/>
          <p:nvPr/>
        </p:nvGrpSpPr>
        <p:grpSpPr>
          <a:xfrm>
            <a:off x="1346040" y="4448160"/>
            <a:ext cx="1568520" cy="655560"/>
            <a:chOff x="1346040" y="4448160"/>
            <a:chExt cx="1568520" cy="655560"/>
          </a:xfrm>
        </p:grpSpPr>
        <p:pic>
          <p:nvPicPr>
            <p:cNvPr id="502" name="Picture 26" descr=""/>
            <p:cNvPicPr/>
            <p:nvPr/>
          </p:nvPicPr>
          <p:blipFill>
            <a:blip r:embed="rId12"/>
            <a:stretch/>
          </p:blipFill>
          <p:spPr>
            <a:xfrm>
              <a:off x="1346040" y="4575960"/>
              <a:ext cx="65160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11" descr="IOSfirewall"/>
            <p:cNvPicPr/>
            <p:nvPr/>
          </p:nvPicPr>
          <p:blipFill>
            <a:blip r:embed="rId13"/>
            <a:stretch/>
          </p:blipFill>
          <p:spPr>
            <a:xfrm>
              <a:off x="1965600" y="4448160"/>
              <a:ext cx="4042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7" descr="icon_color"/>
            <p:cNvPicPr/>
            <p:nvPr/>
          </p:nvPicPr>
          <p:blipFill>
            <a:blip r:embed="rId14"/>
            <a:stretch/>
          </p:blipFill>
          <p:spPr>
            <a:xfrm>
              <a:off x="2369880" y="4491720"/>
              <a:ext cx="54468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Group 48"/>
          <p:cNvGrpSpPr/>
          <p:nvPr/>
        </p:nvGrpSpPr>
        <p:grpSpPr>
          <a:xfrm>
            <a:off x="5665680" y="4606920"/>
            <a:ext cx="1568520" cy="655560"/>
            <a:chOff x="5665680" y="4606920"/>
            <a:chExt cx="1568520" cy="655560"/>
          </a:xfrm>
        </p:grpSpPr>
        <p:pic>
          <p:nvPicPr>
            <p:cNvPr id="506" name="Picture 26" descr=""/>
            <p:cNvPicPr/>
            <p:nvPr/>
          </p:nvPicPr>
          <p:blipFill>
            <a:blip r:embed="rId15"/>
            <a:stretch/>
          </p:blipFill>
          <p:spPr>
            <a:xfrm>
              <a:off x="5665680" y="4734720"/>
              <a:ext cx="65160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1" descr="IOSfirewall"/>
            <p:cNvPicPr/>
            <p:nvPr/>
          </p:nvPicPr>
          <p:blipFill>
            <a:blip r:embed="rId16"/>
            <a:stretch/>
          </p:blipFill>
          <p:spPr>
            <a:xfrm>
              <a:off x="6285240" y="4606920"/>
              <a:ext cx="4042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7" descr="icon_color"/>
            <p:cNvPicPr/>
            <p:nvPr/>
          </p:nvPicPr>
          <p:blipFill>
            <a:blip r:embed="rId17"/>
            <a:stretch/>
          </p:blipFill>
          <p:spPr>
            <a:xfrm>
              <a:off x="6689520" y="4650480"/>
              <a:ext cx="54468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52"/>
          <p:cNvSpPr/>
          <p:nvPr/>
        </p:nvSpPr>
        <p:spPr>
          <a:xfrm>
            <a:off x="1530360" y="1158840"/>
            <a:ext cx="536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view: “Dumb” network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0" name="Multiply 53"/>
          <p:cNvSpPr/>
          <p:nvPr/>
        </p:nvSpPr>
        <p:spPr>
          <a:xfrm>
            <a:off x="4421160" y="1158840"/>
            <a:ext cx="442800" cy="669960"/>
          </a:xfrm>
          <a:custGeom>
            <a:avLst/>
            <a:gdLst/>
            <a:ahLst/>
            <a:rect l="l" t="t" r="r" b="b"/>
            <a:pathLst>
              <a:path w="442912" h="669925">
                <a:moveTo>
                  <a:pt x="62927" y="189625"/>
                </a:moveTo>
                <a:lnTo>
                  <a:pt x="149826" y="132173"/>
                </a:lnTo>
                <a:lnTo>
                  <a:pt x="221456" y="240518"/>
                </a:lnTo>
                <a:lnTo>
                  <a:pt x="293086" y="132173"/>
                </a:lnTo>
                <a:lnTo>
                  <a:pt x="379985" y="189625"/>
                </a:lnTo>
                <a:lnTo>
                  <a:pt x="283897" y="334963"/>
                </a:lnTo>
                <a:lnTo>
                  <a:pt x="379985" y="480300"/>
                </a:lnTo>
                <a:lnTo>
                  <a:pt x="293086" y="537752"/>
                </a:lnTo>
                <a:lnTo>
                  <a:pt x="221456" y="429407"/>
                </a:lnTo>
                <a:lnTo>
                  <a:pt x="149826" y="537752"/>
                </a:lnTo>
                <a:lnTo>
                  <a:pt x="62927" y="480300"/>
                </a:lnTo>
                <a:lnTo>
                  <a:pt x="159015" y="334963"/>
                </a:lnTo>
                <a:lnTo>
                  <a:pt x="62927" y="18962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1" name="TextBox 54"/>
          <p:cNvSpPr/>
          <p:nvPr/>
        </p:nvSpPr>
        <p:spPr>
          <a:xfrm>
            <a:off x="533520" y="5181480"/>
            <a:ext cx="812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ty:  Lots of in-network processing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ances or Middlebox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, Firewall, Proxies, Load balancers…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12" name="Group 28"/>
          <p:cNvGrpSpPr/>
          <p:nvPr/>
        </p:nvGrpSpPr>
        <p:grpSpPr>
          <a:xfrm>
            <a:off x="3497400" y="3427560"/>
            <a:ext cx="1569960" cy="655560"/>
            <a:chOff x="3497400" y="3427560"/>
            <a:chExt cx="1569960" cy="655560"/>
          </a:xfrm>
        </p:grpSpPr>
        <p:pic>
          <p:nvPicPr>
            <p:cNvPr id="513" name="Picture 26" descr=""/>
            <p:cNvPicPr/>
            <p:nvPr/>
          </p:nvPicPr>
          <p:blipFill>
            <a:blip r:embed="rId18"/>
            <a:stretch/>
          </p:blipFill>
          <p:spPr>
            <a:xfrm>
              <a:off x="3497400" y="3555360"/>
              <a:ext cx="65232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1" descr="IOSfirewall"/>
            <p:cNvPicPr/>
            <p:nvPr/>
          </p:nvPicPr>
          <p:blipFill>
            <a:blip r:embed="rId19"/>
            <a:stretch/>
          </p:blipFill>
          <p:spPr>
            <a:xfrm>
              <a:off x="4117320" y="3427560"/>
              <a:ext cx="4046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7" descr="icon_color"/>
            <p:cNvPicPr/>
            <p:nvPr/>
          </p:nvPicPr>
          <p:blipFill>
            <a:blip r:embed="rId20"/>
            <a:stretch/>
          </p:blipFill>
          <p:spPr>
            <a:xfrm>
              <a:off x="4521960" y="3471120"/>
              <a:ext cx="54540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F62-E726-4121-A7B1-4DAA77D337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ffline Analysi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pointing in ord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laim memory of dorman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ine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maintained for a long tim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nsics on past break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nalysis that would be too expensive to be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CF34-A404-4F51-81B0-64455E2A93B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ttacks on Bro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load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packets that match fi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packet streams that generat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y to generate events that lead to recording to d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ssume policy script is secr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assump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 strategy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ower the load (e.g., stop capturing HTTP traff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if attacker does not know how Bro lowers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52ED-011C-48D4-B05C-2A2BACCA9F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ttacks on Bro monit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ash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packet sequence that crashes mon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haust memory, disk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areful code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S-level watchdog timer with subsequent packet capturing (sacrificing real-time detec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B4E7-0D8E-4229-ACBA-DC838BD31E1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ttacks on Bro monit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terfuge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lead Bro: find traffic patterns that Bro and the end system interpret different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Carefully setting TTL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raffic norm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924E-214B-4AC9-B2CD-3DED2AD0F5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pplication-specific process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m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username against sensitiv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access to sensitiv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242-46CE-4EE6-9D67-7DC82508C5B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DCD-AE30-491B-98D1-958D48D5115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IDS: Evasion and Normaliz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DS only has partial knowledge of what traffic the host sees (e.g., TTL expires, M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ities in TCP/IP (e.g., Overlapping IP &amp; TCP frag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S implement standard diffe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ach: traffic norm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3124080" y="6219720"/>
            <a:ext cx="3048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Handley et al., 2001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C9B9-F382-4215-B32E-6DF90F648F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mall TTL attack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161280" y="5938920"/>
            <a:ext cx="48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CP seq #, “I” has short TT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09" name="Group 38"/>
          <p:cNvGrpSpPr/>
          <p:nvPr/>
        </p:nvGrpSpPr>
        <p:grpSpPr>
          <a:xfrm>
            <a:off x="487440" y="1371600"/>
            <a:ext cx="7894080" cy="4495320"/>
            <a:chOff x="487440" y="1371600"/>
            <a:chExt cx="7894080" cy="4495320"/>
          </a:xfrm>
        </p:grpSpPr>
        <p:grpSp>
          <p:nvGrpSpPr>
            <p:cNvPr id="710" name="Group 2"/>
            <p:cNvGrpSpPr/>
            <p:nvPr/>
          </p:nvGrpSpPr>
          <p:grpSpPr>
            <a:xfrm>
              <a:off x="1179000" y="3175200"/>
              <a:ext cx="1656360" cy="1628640"/>
              <a:chOff x="1179000" y="3175200"/>
              <a:chExt cx="1656360" cy="1628640"/>
            </a:xfrm>
          </p:grpSpPr>
          <p:sp>
            <p:nvSpPr>
              <p:cNvPr id="711" name="AutoShape 3"/>
              <p:cNvSpPr/>
              <p:nvPr/>
            </p:nvSpPr>
            <p:spPr>
              <a:xfrm>
                <a:off x="1179000" y="3175200"/>
                <a:ext cx="1656360" cy="1133280"/>
              </a:xfrm>
              <a:prstGeom prst="cloudCallout">
                <a:avLst>
                  <a:gd name="adj1" fmla="val -20291"/>
                  <a:gd name="adj2" fmla="val 86328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2" name="Rectangle 4"/>
              <p:cNvSpPr/>
              <p:nvPr/>
            </p:nvSpPr>
            <p:spPr>
              <a:xfrm>
                <a:off x="1467000" y="4308480"/>
                <a:ext cx="504000" cy="49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13" name="Line 6"/>
            <p:cNvSpPr/>
            <p:nvPr/>
          </p:nvSpPr>
          <p:spPr>
            <a:xfrm>
              <a:off x="2835720" y="3812760"/>
              <a:ext cx="338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" name="Text Box 7"/>
            <p:cNvSpPr/>
            <p:nvPr/>
          </p:nvSpPr>
          <p:spPr>
            <a:xfrm>
              <a:off x="3772080" y="2800080"/>
              <a:ext cx="1080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DS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" name="Line 8"/>
            <p:cNvSpPr/>
            <p:nvPr/>
          </p:nvSpPr>
          <p:spPr>
            <a:xfrm flipH="1" flipV="1">
              <a:off x="4343760" y="3200040"/>
              <a:ext cx="4320" cy="61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" name="Text Box 9"/>
            <p:cNvSpPr/>
            <p:nvPr/>
          </p:nvSpPr>
          <p:spPr>
            <a:xfrm>
              <a:off x="6220800" y="3529080"/>
              <a:ext cx="1080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" name="Text Box 10"/>
            <p:cNvSpPr/>
            <p:nvPr/>
          </p:nvSpPr>
          <p:spPr>
            <a:xfrm>
              <a:off x="5728320" y="4566960"/>
              <a:ext cx="218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d-host sees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8" name="Text Box 11"/>
            <p:cNvSpPr/>
            <p:nvPr/>
          </p:nvSpPr>
          <p:spPr>
            <a:xfrm>
              <a:off x="691560" y="4587480"/>
              <a:ext cx="3177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ttacker’s data stream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9" name="Rectangle 12"/>
            <p:cNvSpPr/>
            <p:nvPr/>
          </p:nvSpPr>
          <p:spPr>
            <a:xfrm>
              <a:off x="48744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0" name="Rectangle 13"/>
            <p:cNvSpPr/>
            <p:nvPr/>
          </p:nvSpPr>
          <p:spPr>
            <a:xfrm>
              <a:off x="99108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1" name="Rectangle 14"/>
            <p:cNvSpPr/>
            <p:nvPr/>
          </p:nvSpPr>
          <p:spPr>
            <a:xfrm>
              <a:off x="149544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" name="Rectangle 15"/>
            <p:cNvSpPr/>
            <p:nvPr/>
          </p:nvSpPr>
          <p:spPr>
            <a:xfrm>
              <a:off x="199980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" name="Rectangle 16"/>
            <p:cNvSpPr/>
            <p:nvPr/>
          </p:nvSpPr>
          <p:spPr>
            <a:xfrm>
              <a:off x="250380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" name="Rectangle 17"/>
            <p:cNvSpPr/>
            <p:nvPr/>
          </p:nvSpPr>
          <p:spPr>
            <a:xfrm>
              <a:off x="300816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" name="Rectangle 18"/>
            <p:cNvSpPr/>
            <p:nvPr/>
          </p:nvSpPr>
          <p:spPr>
            <a:xfrm>
              <a:off x="351252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6" name="Rectangle 19"/>
            <p:cNvSpPr/>
            <p:nvPr/>
          </p:nvSpPr>
          <p:spPr>
            <a:xfrm>
              <a:off x="545724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Rectangle 20"/>
            <p:cNvSpPr/>
            <p:nvPr/>
          </p:nvSpPr>
          <p:spPr>
            <a:xfrm>
              <a:off x="596124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Rectangle 21"/>
            <p:cNvSpPr/>
            <p:nvPr/>
          </p:nvSpPr>
          <p:spPr>
            <a:xfrm>
              <a:off x="646560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Rectangle 22"/>
            <p:cNvSpPr/>
            <p:nvPr/>
          </p:nvSpPr>
          <p:spPr>
            <a:xfrm>
              <a:off x="696996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Rectangle 23"/>
            <p:cNvSpPr/>
            <p:nvPr/>
          </p:nvSpPr>
          <p:spPr>
            <a:xfrm>
              <a:off x="747396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1" name="Rectangle 24"/>
            <p:cNvSpPr/>
            <p:nvPr/>
          </p:nvSpPr>
          <p:spPr>
            <a:xfrm>
              <a:off x="797796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2" name="Rectangle 25"/>
            <p:cNvSpPr/>
            <p:nvPr/>
          </p:nvSpPr>
          <p:spPr>
            <a:xfrm>
              <a:off x="261936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Text Box 26"/>
            <p:cNvSpPr/>
            <p:nvPr/>
          </p:nvSpPr>
          <p:spPr>
            <a:xfrm>
              <a:off x="5235120" y="1448280"/>
              <a:ext cx="1846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Text Box 27"/>
            <p:cNvSpPr/>
            <p:nvPr/>
          </p:nvSpPr>
          <p:spPr>
            <a:xfrm>
              <a:off x="3362400" y="1371600"/>
              <a:ext cx="163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IDS sees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Rectangle 28"/>
            <p:cNvSpPr/>
            <p:nvPr/>
          </p:nvSpPr>
          <p:spPr>
            <a:xfrm>
              <a:off x="312372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6" name="Rectangle 29"/>
            <p:cNvSpPr/>
            <p:nvPr/>
          </p:nvSpPr>
          <p:spPr>
            <a:xfrm>
              <a:off x="3627720" y="197100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7" name="Rectangle 30"/>
            <p:cNvSpPr/>
            <p:nvPr/>
          </p:nvSpPr>
          <p:spPr>
            <a:xfrm>
              <a:off x="413208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Rectangle 31"/>
            <p:cNvSpPr/>
            <p:nvPr/>
          </p:nvSpPr>
          <p:spPr>
            <a:xfrm>
              <a:off x="463644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9" name="Rectangle 32"/>
            <p:cNvSpPr/>
            <p:nvPr/>
          </p:nvSpPr>
          <p:spPr>
            <a:xfrm>
              <a:off x="5140440" y="197100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0" name="AutoShape 33"/>
            <p:cNvSpPr/>
            <p:nvPr/>
          </p:nvSpPr>
          <p:spPr>
            <a:xfrm rot="16200000">
              <a:off x="2297880" y="5257080"/>
              <a:ext cx="282960" cy="936360"/>
            </a:xfrm>
            <a:custGeom>
              <a:avLst/>
              <a:gdLst>
                <a:gd name="textAreaLeft" fmla="*/ 180720 w 282960"/>
                <a:gd name="textAreaRight" fmla="*/ 283320 w 2829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Rectangle 35"/>
            <p:cNvSpPr/>
            <p:nvPr/>
          </p:nvSpPr>
          <p:spPr>
            <a:xfrm>
              <a:off x="567324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708080" y="1828800"/>
              <a:ext cx="288000" cy="63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4708080" y="1828800"/>
              <a:ext cx="288000" cy="63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4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99BB-228C-4F2B-B218-5F1B998E373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Fragmentation overlap attack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746" name="Group 41"/>
          <p:cNvGrpSpPr/>
          <p:nvPr/>
        </p:nvGrpSpPr>
        <p:grpSpPr>
          <a:xfrm>
            <a:off x="468000" y="1523880"/>
            <a:ext cx="7608960" cy="4970520"/>
            <a:chOff x="468000" y="1523880"/>
            <a:chExt cx="7608960" cy="4970520"/>
          </a:xfrm>
        </p:grpSpPr>
        <p:grpSp>
          <p:nvGrpSpPr>
            <p:cNvPr id="747" name="Group 2"/>
            <p:cNvGrpSpPr/>
            <p:nvPr/>
          </p:nvGrpSpPr>
          <p:grpSpPr>
            <a:xfrm>
              <a:off x="1273320" y="3186720"/>
              <a:ext cx="1564560" cy="1556640"/>
              <a:chOff x="1273320" y="3186720"/>
              <a:chExt cx="1564560" cy="1556640"/>
            </a:xfrm>
          </p:grpSpPr>
          <p:sp>
            <p:nvSpPr>
              <p:cNvPr id="748" name="AutoShape 3"/>
              <p:cNvSpPr/>
              <p:nvPr/>
            </p:nvSpPr>
            <p:spPr>
              <a:xfrm>
                <a:off x="1273320" y="3186720"/>
                <a:ext cx="1564560" cy="1083240"/>
              </a:xfrm>
              <a:prstGeom prst="cloudCallout">
                <a:avLst>
                  <a:gd name="adj1" fmla="val -20291"/>
                  <a:gd name="adj2" fmla="val 86328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49" name="Rectangle 4"/>
              <p:cNvSpPr/>
              <p:nvPr/>
            </p:nvSpPr>
            <p:spPr>
              <a:xfrm>
                <a:off x="1545480" y="4269960"/>
                <a:ext cx="47592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6"/>
            <p:cNvSpPr/>
            <p:nvPr/>
          </p:nvSpPr>
          <p:spPr>
            <a:xfrm>
              <a:off x="5567760" y="45241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-host sees: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5100480" y="1523880"/>
              <a:ext cx="183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Text Box 8"/>
            <p:cNvSpPr/>
            <p:nvPr/>
          </p:nvSpPr>
          <p:spPr>
            <a:xfrm>
              <a:off x="3596040" y="1566000"/>
              <a:ext cx="150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DS sees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Text Box 9"/>
            <p:cNvSpPr/>
            <p:nvPr/>
          </p:nvSpPr>
          <p:spPr>
            <a:xfrm>
              <a:off x="468000" y="4545360"/>
              <a:ext cx="291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acker’s data stream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Line 10"/>
            <p:cNvSpPr/>
            <p:nvPr/>
          </p:nvSpPr>
          <p:spPr>
            <a:xfrm>
              <a:off x="2838240" y="3796200"/>
              <a:ext cx="319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Text Box 11"/>
            <p:cNvSpPr/>
            <p:nvPr/>
          </p:nvSpPr>
          <p:spPr>
            <a:xfrm>
              <a:off x="3722760" y="2874960"/>
              <a:ext cx="102024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DS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Text Box 12"/>
            <p:cNvSpPr/>
            <p:nvPr/>
          </p:nvSpPr>
          <p:spPr>
            <a:xfrm>
              <a:off x="6036120" y="3525120"/>
              <a:ext cx="102024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61992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8" name="Rectangle 14"/>
            <p:cNvSpPr/>
            <p:nvPr/>
          </p:nvSpPr>
          <p:spPr>
            <a:xfrm>
              <a:off x="109620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157248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0" name="Rectangle 16"/>
            <p:cNvSpPr/>
            <p:nvPr/>
          </p:nvSpPr>
          <p:spPr>
            <a:xfrm>
              <a:off x="204876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252504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300132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3" name="Rectangle 19"/>
            <p:cNvSpPr/>
            <p:nvPr/>
          </p:nvSpPr>
          <p:spPr>
            <a:xfrm>
              <a:off x="347760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4" name="Line 20"/>
            <p:cNvSpPr/>
            <p:nvPr/>
          </p:nvSpPr>
          <p:spPr>
            <a:xfrm flipV="1">
              <a:off x="4267080" y="325476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5" name="AutoShape 21"/>
            <p:cNvSpPr/>
            <p:nvPr/>
          </p:nvSpPr>
          <p:spPr>
            <a:xfrm rot="16200000">
              <a:off x="2328840" y="5181480"/>
              <a:ext cx="270360" cy="884520"/>
            </a:xfrm>
            <a:custGeom>
              <a:avLst/>
              <a:gdLst>
                <a:gd name="textAreaLeft" fmla="*/ 172800 w 270360"/>
                <a:gd name="textAreaRight" fmla="*/ 270720 w 270360"/>
                <a:gd name="textAreaTop" fmla="*/ 23040 h 884520"/>
                <a:gd name="textAreaBottom" fmla="*/ 861480 h 88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6" name="Text Box 22"/>
            <p:cNvSpPr/>
            <p:nvPr/>
          </p:nvSpPr>
          <p:spPr>
            <a:xfrm>
              <a:off x="1017000" y="5790600"/>
              <a:ext cx="278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me TCP seq #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 same IP frag offse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7" name="Rectangle 23"/>
            <p:cNvSpPr/>
            <p:nvPr/>
          </p:nvSpPr>
          <p:spPr>
            <a:xfrm>
              <a:off x="483840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8" name="Rectangle 24"/>
            <p:cNvSpPr/>
            <p:nvPr/>
          </p:nvSpPr>
          <p:spPr>
            <a:xfrm>
              <a:off x="531468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9" name="Rectangle 25"/>
            <p:cNvSpPr/>
            <p:nvPr/>
          </p:nvSpPr>
          <p:spPr>
            <a:xfrm>
              <a:off x="579060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0" name="Rectangle 26"/>
            <p:cNvSpPr/>
            <p:nvPr/>
          </p:nvSpPr>
          <p:spPr>
            <a:xfrm>
              <a:off x="626724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1" name="Rectangle 27"/>
            <p:cNvSpPr/>
            <p:nvPr/>
          </p:nvSpPr>
          <p:spPr>
            <a:xfrm>
              <a:off x="674352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2" name="Rectangle 28"/>
            <p:cNvSpPr/>
            <p:nvPr/>
          </p:nvSpPr>
          <p:spPr>
            <a:xfrm>
              <a:off x="721944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3" name="Rectangle 29"/>
            <p:cNvSpPr/>
            <p:nvPr/>
          </p:nvSpPr>
          <p:spPr>
            <a:xfrm>
              <a:off x="769608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4" name="Rectangle 30"/>
            <p:cNvSpPr/>
            <p:nvPr/>
          </p:nvSpPr>
          <p:spPr>
            <a:xfrm>
              <a:off x="266112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3137400" y="2035800"/>
              <a:ext cx="38124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6" name="Rectangle 32"/>
            <p:cNvSpPr/>
            <p:nvPr/>
          </p:nvSpPr>
          <p:spPr>
            <a:xfrm>
              <a:off x="361368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7" name="Rectangle 33"/>
            <p:cNvSpPr/>
            <p:nvPr/>
          </p:nvSpPr>
          <p:spPr>
            <a:xfrm>
              <a:off x="408996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8" name="Rectangle 34"/>
            <p:cNvSpPr/>
            <p:nvPr/>
          </p:nvSpPr>
          <p:spPr>
            <a:xfrm>
              <a:off x="4565880" y="2035800"/>
              <a:ext cx="38124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9" name="Rectangle 35"/>
            <p:cNvSpPr/>
            <p:nvPr/>
          </p:nvSpPr>
          <p:spPr>
            <a:xfrm>
              <a:off x="504252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0" name="Rectangle 36"/>
            <p:cNvSpPr/>
            <p:nvPr/>
          </p:nvSpPr>
          <p:spPr>
            <a:xfrm>
              <a:off x="551880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1" name="Line 37"/>
            <p:cNvSpPr/>
            <p:nvPr/>
          </p:nvSpPr>
          <p:spPr>
            <a:xfrm>
              <a:off x="4131000" y="190008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Line 38"/>
            <p:cNvSpPr/>
            <p:nvPr/>
          </p:nvSpPr>
          <p:spPr>
            <a:xfrm flipH="1">
              <a:off x="4130640" y="190008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3" name="Line 39"/>
            <p:cNvSpPr/>
            <p:nvPr/>
          </p:nvSpPr>
          <p:spPr>
            <a:xfrm>
              <a:off x="6784560" y="487980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4" name="Line 40"/>
            <p:cNvSpPr/>
            <p:nvPr/>
          </p:nvSpPr>
          <p:spPr>
            <a:xfrm flipH="1">
              <a:off x="6784200" y="487980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2457-D130-43E4-AA14-4BE013DD8F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: traffic normaliz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e “bump in the wire”: traffic normalizer to evade protocol ambigu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3"/>
          <p:cNvGrpSpPr/>
          <p:nvPr/>
        </p:nvGrpSpPr>
        <p:grpSpPr>
          <a:xfrm>
            <a:off x="685800" y="2971800"/>
            <a:ext cx="1752480" cy="1752480"/>
            <a:chOff x="685800" y="2971800"/>
            <a:chExt cx="1752480" cy="1752480"/>
          </a:xfrm>
        </p:grpSpPr>
        <p:sp>
          <p:nvSpPr>
            <p:cNvPr id="789" name="AutoShape 4"/>
            <p:cNvSpPr/>
            <p:nvPr/>
          </p:nvSpPr>
          <p:spPr>
            <a:xfrm>
              <a:off x="685800" y="2971800"/>
              <a:ext cx="1752480" cy="1219320"/>
            </a:xfrm>
            <a:prstGeom prst="cloudCallout">
              <a:avLst>
                <a:gd name="adj1" fmla="val -20291"/>
                <a:gd name="adj2" fmla="val 8632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Rectangle 5"/>
            <p:cNvSpPr/>
            <p:nvPr/>
          </p:nvSpPr>
          <p:spPr>
            <a:xfrm>
              <a:off x="990360" y="4191120"/>
              <a:ext cx="533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91" name="Line 6"/>
          <p:cNvSpPr/>
          <p:nvPr/>
        </p:nvSpPr>
        <p:spPr>
          <a:xfrm>
            <a:off x="2438280" y="36576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5791320" y="2514600"/>
            <a:ext cx="1143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DS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3" name="Line 8"/>
          <p:cNvSpPr/>
          <p:nvPr/>
        </p:nvSpPr>
        <p:spPr>
          <a:xfrm flipV="1">
            <a:off x="640080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7162920" y="3352680"/>
            <a:ext cx="1143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3429000" y="3352680"/>
            <a:ext cx="22096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izer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6" name="Line 11"/>
          <p:cNvSpPr/>
          <p:nvPr/>
        </p:nvSpPr>
        <p:spPr>
          <a:xfrm>
            <a:off x="5638680" y="3657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6613-E395-4ACD-8550-C295BAB201E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422280" y="1606680"/>
          <a:ext cx="3463920" cy="4662360"/>
        </p:xfrm>
        <a:graphic>
          <a:graphicData uri="http://schemas.openxmlformats.org/drawingml/2006/table">
            <a:tbl>
              <a:tblPr/>
              <a:tblGrid>
                <a:gridCol w="2238480"/>
                <a:gridCol w="1225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appliance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 w="1872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wall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 w="18720">
                      <a:solidFill>
                        <a:srgbClr val="0d0d0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D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gateway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alance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i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 gateway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 Optimize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gateway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 Middlebox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6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 route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~90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Title 1"/>
          <p:cNvSpPr/>
          <p:nvPr/>
        </p:nvSpPr>
        <p:spPr>
          <a:xfrm>
            <a:off x="457200" y="15840"/>
            <a:ext cx="841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Recall: Middleboxes Galore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9" name="TextBox 1"/>
          <p:cNvSpPr/>
          <p:nvPr/>
        </p:nvSpPr>
        <p:spPr>
          <a:xfrm>
            <a:off x="425520" y="113976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a large enterpris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20" name="Picture 9" descr="vyascount.pdf"/>
          <p:cNvPicPr/>
          <p:nvPr/>
        </p:nvPicPr>
        <p:blipFill>
          <a:blip r:embed="rId1"/>
          <a:stretch/>
        </p:blipFill>
        <p:spPr>
          <a:xfrm>
            <a:off x="4062240" y="1774800"/>
            <a:ext cx="5197680" cy="363852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4475160" y="1179360"/>
            <a:ext cx="50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 across 57 network operator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2666880" y="6400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LOMB (SIGCOMM’13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3" name="Oval 1"/>
          <p:cNvSpPr/>
          <p:nvPr/>
        </p:nvSpPr>
        <p:spPr>
          <a:xfrm>
            <a:off x="284040" y="1933560"/>
            <a:ext cx="1295640" cy="8780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AA14-30AB-43C1-9B01-58A1E892317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lternative approach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-based 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es the advantages of monitoring the entire site chea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deployment and management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Intranet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knowledge of every OS and 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furcating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NIDS does not know which of the two interpretations the end system may apply to an input packet, split the analysis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explos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New opportunities given SDN/NFV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BC24-8BDF-48C3-B17B-151A35720A9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ormalization tradeoff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ation vs.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load firewall/NIDS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overlapping IP/TCP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TL in packets with low 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pplications does this br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 closed” possible, given sufficient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 dormant connection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through state exhaustion is a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und vs. outbound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one side of the connection is tr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0CF2-8C70-441E-8E2F-24448DC6C29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al-world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er will reboot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er lacks knowledge of ongoing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carefully design normalizer not to disturb established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11A6-22F2-4451-AC11-994E9BC394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al-world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acks against normali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exhaustion att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ccasionally dropping a packet is ok, IP is un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 flooding, ACK flooding (allocate state to deal with cold start), unacknowledged data flo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nse strateg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 system resources to determine whether normalizer is under at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ate only if traffic seen from an internal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E7CD-B972-4F5A-82CF-A489FAA2531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ology: Walk through each head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fields that may cause packet to be dropped/interpreted differently by router or end-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to normaliz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impact on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1" descr="Screen Shot 2015-04-12 at 10.19.29 PM.png"/>
          <p:cNvPicPr/>
          <p:nvPr/>
        </p:nvPicPr>
        <p:blipFill>
          <a:blip r:embed="rId1"/>
          <a:stretch/>
        </p:blipFill>
        <p:spPr>
          <a:xfrm>
            <a:off x="1371600" y="3289320"/>
            <a:ext cx="6324480" cy="3340080"/>
          </a:xfrm>
          <a:prstGeom prst="rect">
            <a:avLst/>
          </a:prstGeom>
          <a:ln w="0">
            <a:noFill/>
          </a:ln>
        </p:spPr>
      </p:pic>
      <p:sp>
        <p:nvSpPr>
          <p:cNvPr id="813" name="Oval 2"/>
          <p:cNvSpPr/>
          <p:nvPr/>
        </p:nvSpPr>
        <p:spPr>
          <a:xfrm>
            <a:off x="1905120" y="3581280"/>
            <a:ext cx="838080" cy="533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4" name="Oval 7"/>
          <p:cNvSpPr/>
          <p:nvPr/>
        </p:nvSpPr>
        <p:spPr>
          <a:xfrm>
            <a:off x="1981080" y="4572000"/>
            <a:ext cx="1447920" cy="533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5" name="Oval 8"/>
          <p:cNvSpPr/>
          <p:nvPr/>
        </p:nvSpPr>
        <p:spPr>
          <a:xfrm>
            <a:off x="1905120" y="5029200"/>
            <a:ext cx="5790960" cy="533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7419-D513-4056-BB8F-47E76AABC8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TTL (Time-to-l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1: NIDS could measure the number of hops to every end-h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: Large number of states, change of routing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2: NIDS may see ICMP time-exceeded-in-transit pa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: ICMP messages may be rate limited or filt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ED57-4D43-4693-AEDA-FE46392D6FF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TTL (Time-to-l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3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e the normalizer with the longest path across the internal si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write the TTL field of incoming packets to the abov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a routing loop passes through the normaliz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ing semantics of trace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020D-48FD-435C-B2CC-D42BE0BF360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 identification field is used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ly identifying the group of fragments of a single IP dat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1" descr="Screen Shot 2015-04-12 at 10.19.29 PM.png"/>
          <p:cNvPicPr/>
          <p:nvPr/>
        </p:nvPicPr>
        <p:blipFill>
          <a:blip r:embed="rId1"/>
          <a:stretch/>
        </p:blipFill>
        <p:spPr>
          <a:xfrm>
            <a:off x="1371600" y="2362320"/>
            <a:ext cx="6324480" cy="3340080"/>
          </a:xfrm>
          <a:prstGeom prst="rect">
            <a:avLst/>
          </a:prstGeom>
          <a:ln w="0">
            <a:noFill/>
          </a:ln>
        </p:spPr>
      </p:pic>
      <p:sp>
        <p:nvSpPr>
          <p:cNvPr id="826" name="Oval 2"/>
          <p:cNvSpPr/>
          <p:nvPr/>
        </p:nvSpPr>
        <p:spPr>
          <a:xfrm>
            <a:off x="2666880" y="3187800"/>
            <a:ext cx="1447920" cy="4572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A7AD-A73C-4616-942A-22DDF8D66BE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dentifying normalizations: IP Identific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51920" y="1546200"/>
            <a:ext cx="2971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ID field used for stealth port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ute IP ID deterministically prevents internal hosts from being misused as pats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RST protects internal hosts from being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" descr="Screen Shot 2015-04-12 at 10.41.26 PM.png"/>
          <p:cNvPicPr/>
          <p:nvPr/>
        </p:nvPicPr>
        <p:blipFill>
          <a:blip r:embed="rId1"/>
          <a:stretch/>
        </p:blipFill>
        <p:spPr>
          <a:xfrm>
            <a:off x="3174840" y="1320840"/>
            <a:ext cx="5664240" cy="5079960"/>
          </a:xfrm>
          <a:prstGeom prst="rect">
            <a:avLst/>
          </a:prstGeom>
          <a:ln w="0">
            <a:noFill/>
          </a:ln>
        </p:spPr>
      </p:pic>
      <p:sp>
        <p:nvSpPr>
          <p:cNvPr id="83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EA18-4931-4BB0-A638-09A7FC80E15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32F2-0D59-4A66-A5A0-1C21DA39D82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rewal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-level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access to the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alled at perimeter of the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ffic specified in the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ever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loud"/>
          <p:cNvSpPr/>
          <p:nvPr/>
        </p:nvSpPr>
        <p:spPr>
          <a:xfrm>
            <a:off x="762120" y="434340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8" name="Firewall"/>
          <p:cNvSpPr/>
          <p:nvPr/>
        </p:nvSpPr>
        <p:spPr>
          <a:xfrm>
            <a:off x="3429000" y="4495680"/>
            <a:ext cx="1809720" cy="90504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941040 h 905040"/>
              <a:gd name="textAreaBottom" fmla="*/ 1352880 h 90504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9" name="Line 6"/>
          <p:cNvSpPr/>
          <p:nvPr/>
        </p:nvSpPr>
        <p:spPr>
          <a:xfrm>
            <a:off x="2819520" y="49528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5181480" y="4952880"/>
            <a:ext cx="1447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1" name="Line 8"/>
          <p:cNvSpPr/>
          <p:nvPr/>
        </p:nvSpPr>
        <p:spPr>
          <a:xfrm>
            <a:off x="6629400" y="3505320"/>
            <a:ext cx="0" cy="25146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6616440" y="36939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Networ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831840" y="41292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4" name="AutoShape 11"/>
          <p:cNvSpPr/>
          <p:nvPr/>
        </p:nvSpPr>
        <p:spPr>
          <a:xfrm>
            <a:off x="2895480" y="44197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5" name="AutoShape 12"/>
          <p:cNvSpPr/>
          <p:nvPr/>
        </p:nvSpPr>
        <p:spPr>
          <a:xfrm>
            <a:off x="2971800" y="4724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6" name="AutoShape 13"/>
          <p:cNvSpPr/>
          <p:nvPr/>
        </p:nvSpPr>
        <p:spPr>
          <a:xfrm>
            <a:off x="2971800" y="502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7" name="AutoShape 14"/>
          <p:cNvSpPr/>
          <p:nvPr/>
        </p:nvSpPr>
        <p:spPr>
          <a:xfrm>
            <a:off x="5334120" y="502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8" name="AutoShape 15"/>
          <p:cNvSpPr/>
          <p:nvPr/>
        </p:nvSpPr>
        <p:spPr>
          <a:xfrm>
            <a:off x="5334120" y="4572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65BB-01EF-483E-AAF6-3AC51588A61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Motiv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DS work based on sign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generate signatures to begin wit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practice is manual and expertise-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do be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2548080" y="6324480"/>
            <a:ext cx="4267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reibich and Crowcroft, 2004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6A01-635F-4CE5-A177-A4EFD0C1251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Backgroun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522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NIDS signatures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enough; otherwise, high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enough; otherwise, high false 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eypots: decoy computer resources to detect or counteract comput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dummy database items, dummy web serve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 behind Honeycom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 to a honeypot should be mali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xtract its pattern and use it as a NID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6647-2EC6-49B8-BA74-CAE0422C103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NIDS sign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" descr="Screen Shot 2015-04-12 at 11.24.27 PM.png"/>
          <p:cNvPicPr/>
          <p:nvPr/>
        </p:nvPicPr>
        <p:blipFill>
          <a:blip r:embed="rId1"/>
          <a:stretch/>
        </p:blipFill>
        <p:spPr>
          <a:xfrm>
            <a:off x="1752480" y="1905120"/>
            <a:ext cx="5727960" cy="3822480"/>
          </a:xfrm>
          <a:prstGeom prst="rect">
            <a:avLst/>
          </a:prstGeom>
          <a:ln w="0">
            <a:noFill/>
          </a:ln>
        </p:spPr>
      </p:pic>
      <p:sp>
        <p:nvSpPr>
          <p:cNvPr id="84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1612-CF6C-4243-B03C-2C9D5F6E04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Per-packet workflo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847" name="Content Placeholder 1" descr="Screen Shot 2015-04-12 at 11.28.47 PM.png"/>
          <p:cNvPicPr/>
          <p:nvPr/>
        </p:nvPicPr>
        <p:blipFill>
          <a:blip r:embed="rId1"/>
          <a:srcRect l="-52117" t="0" r="-52117" b="0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84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5E15-DF38-4E83-929C-E0828E2D830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- Signature Cre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any existing connection state for the new packet, that state is updated, otherwise new state is cre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acket is outbound, processing stops he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 performs protocol analysis at the network and transport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DC1C-B9DB-4468-9F3F-B734C77445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– Connection Track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ture creation is based on comparing new data to old data therefore connections and packets must be maintained for a period of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shake and established connections are kept separate as not to fill up the hasht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0DD9-CD06-4970-9CB2-1E38EC145F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– Connection Track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6" name="Content Placeholder 2"/>
          <p:cNvSpPr/>
          <p:nvPr/>
        </p:nvSpPr>
        <p:spPr>
          <a:xfrm>
            <a:off x="3049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: Find attack signatures by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deviation from protocols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inbound traffic patterns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857" name="Content Placeholder 3" descr="Screen Shot 2015-04-12 at 11.35.12 PM.png"/>
          <p:cNvPicPr/>
          <p:nvPr/>
        </p:nvPicPr>
        <p:blipFill>
          <a:blip r:embed="rId1"/>
          <a:srcRect l="-13826" t="0" r="-13826" b="0"/>
          <a:stretch/>
        </p:blipFill>
        <p:spPr>
          <a:xfrm>
            <a:off x="762120" y="2739960"/>
            <a:ext cx="7010280" cy="404172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1038240" y="2271600"/>
            <a:ext cx="4648320" cy="4572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42B8-CE1F-4FFB-BFAC-FA929303E62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Honeycomb: Pattern matching in flow content</a:t>
            </a:r>
            <a:endParaRPr b="0" lang="en-US" sz="3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longest common substring  (LCS) algorithm to spot similarities in packet pay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0D30-984B-44DD-B1D0-2326CDDAD44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rizontal pattern det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appens ever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 and applies longest common substring (LCS)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3" descr="Screen Shot 2015-04-12 at 11.45.11 PM.png"/>
          <p:cNvPicPr/>
          <p:nvPr/>
        </p:nvPicPr>
        <p:blipFill>
          <a:blip r:embed="rId1"/>
          <a:stretch/>
        </p:blipFill>
        <p:spPr>
          <a:xfrm>
            <a:off x="1714680" y="2641680"/>
            <a:ext cx="5219640" cy="398772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Honeycomb: Pattern matching in flow content</a:t>
            </a:r>
            <a:endParaRPr b="0" lang="en-US" sz="3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266-D504-4684-B67F-E378F1EC739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tical det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atenates messages then applies LC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3" descr="Screen Shot 2015-04-12 at 11.45.27 PM.png"/>
          <p:cNvPicPr/>
          <p:nvPr/>
        </p:nvPicPr>
        <p:blipFill>
          <a:blip r:embed="rId1"/>
          <a:stretch/>
        </p:blipFill>
        <p:spPr>
          <a:xfrm>
            <a:off x="4419720" y="1752480"/>
            <a:ext cx="4038480" cy="4716720"/>
          </a:xfrm>
          <a:prstGeom prst="rect">
            <a:avLst/>
          </a:prstGeom>
          <a:ln w="0">
            <a:noFill/>
          </a:ln>
        </p:spPr>
      </p:pic>
      <p:sp>
        <p:nvSpPr>
          <p:cNvPr id="869" name="Title 1"/>
          <p:cNvSpPr/>
          <p:nvPr/>
        </p:nvSpPr>
        <p:spPr>
          <a:xfrm>
            <a:off x="76320" y="3049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Honeycomb: Pattern matching in flow content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3208-23D1-48FC-A923-B282C428CA7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ical Firewall Configu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28600" y="1676520"/>
            <a:ext cx="44956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hosts can access DMZ and Intern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hosts can access DMZ only, not Intran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Z hosts can access Internet only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ervice gets compromised in DMZ it cannot affect internal hos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2" name="Cloud"/>
          <p:cNvSpPr/>
          <p:nvPr/>
        </p:nvSpPr>
        <p:spPr>
          <a:xfrm>
            <a:off x="4648320" y="129528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3" name="Firewall"/>
          <p:cNvSpPr/>
          <p:nvPr/>
        </p:nvSpPr>
        <p:spPr>
          <a:xfrm>
            <a:off x="5181480" y="3276720"/>
            <a:ext cx="1143000" cy="685800"/>
          </a:xfrm>
          <a:custGeom>
            <a:avLst/>
            <a:gdLst>
              <a:gd name="textAreaLeft" fmla="*/ 39960 w 1143000"/>
              <a:gd name="textAreaRight" fmla="*/ 1114920 w 1143000"/>
              <a:gd name="textAreaTop" fmla="*/ 713160 h 685800"/>
              <a:gd name="textAreaBottom" fmla="*/ 1025280 h 6858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5715000" y="2666880"/>
            <a:ext cx="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5" name="Line 7"/>
          <p:cNvSpPr/>
          <p:nvPr/>
        </p:nvSpPr>
        <p:spPr>
          <a:xfrm>
            <a:off x="5715000" y="3962520"/>
            <a:ext cx="0" cy="10666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6" name="Cloud"/>
          <p:cNvSpPr/>
          <p:nvPr/>
        </p:nvSpPr>
        <p:spPr>
          <a:xfrm>
            <a:off x="4876920" y="4952880"/>
            <a:ext cx="1676160" cy="1123920"/>
          </a:xfrm>
          <a:prstGeom prst="pi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7" name="Cloud"/>
          <p:cNvSpPr/>
          <p:nvPr/>
        </p:nvSpPr>
        <p:spPr>
          <a:xfrm>
            <a:off x="7391520" y="3200400"/>
            <a:ext cx="1143000" cy="766800"/>
          </a:xfrm>
          <a:prstGeom prst="pi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6324480" y="3581280"/>
            <a:ext cx="106704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549" name="AutoShape 11"/>
          <p:cNvCxnSpPr>
            <a:stCxn id="546" idx="4"/>
          </p:cNvCxnSpPr>
          <p:nvPr/>
        </p:nvCxnSpPr>
        <p:spPr>
          <a:xfrm flipH="1" flipV="1" rot="5400000">
            <a:off x="5758920" y="3460320"/>
            <a:ext cx="1512000" cy="1600920"/>
          </a:xfrm>
          <a:prstGeom prst="curvedConnector2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50" name="Freeform 12"/>
          <p:cNvSpPr/>
          <p:nvPr/>
        </p:nvSpPr>
        <p:spPr>
          <a:xfrm>
            <a:off x="5715000" y="26668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56" h="576">
                <a:moveTo>
                  <a:pt x="0" y="0"/>
                </a:moveTo>
                <a:cubicBezTo>
                  <a:pt x="8" y="120"/>
                  <a:pt x="16" y="240"/>
                  <a:pt x="192" y="336"/>
                </a:cubicBezTo>
                <a:cubicBezTo>
                  <a:pt x="368" y="432"/>
                  <a:pt x="896" y="536"/>
                  <a:pt x="1056" y="576"/>
                </a:cubicBezTo>
              </a:path>
            </a:pathLst>
          </a:custGeom>
          <a:noFill/>
          <a:ln w="22320">
            <a:solidFill>
              <a:srgbClr val="66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5562720" y="2743200"/>
            <a:ext cx="0" cy="2209680"/>
          </a:xfrm>
          <a:prstGeom prst="line">
            <a:avLst/>
          </a:prstGeom>
          <a:ln w="22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396040" y="3922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V="1">
            <a:off x="5791320" y="2742840"/>
            <a:ext cx="0" cy="2133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4" name="Freeform 16"/>
          <p:cNvSpPr/>
          <p:nvPr/>
        </p:nvSpPr>
        <p:spPr>
          <a:xfrm>
            <a:off x="6019920" y="3657600"/>
            <a:ext cx="1371600" cy="1295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864" h="816">
                <a:moveTo>
                  <a:pt x="864" y="0"/>
                </a:moveTo>
                <a:cubicBezTo>
                  <a:pt x="624" y="28"/>
                  <a:pt x="384" y="56"/>
                  <a:pt x="240" y="192"/>
                </a:cubicBezTo>
                <a:cubicBezTo>
                  <a:pt x="96" y="328"/>
                  <a:pt x="48" y="572"/>
                  <a:pt x="0" y="816"/>
                </a:cubicBezTo>
              </a:path>
            </a:pathLst>
          </a:custGeom>
          <a:noFill/>
          <a:ln w="2232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6081840" y="4075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6" name="Freeform 18"/>
          <p:cNvSpPr/>
          <p:nvPr/>
        </p:nvSpPr>
        <p:spPr>
          <a:xfrm>
            <a:off x="5867280" y="2743200"/>
            <a:ext cx="1524240" cy="72396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60" h="456">
                <a:moveTo>
                  <a:pt x="960" y="432"/>
                </a:moveTo>
                <a:cubicBezTo>
                  <a:pt x="800" y="444"/>
                  <a:pt x="640" y="456"/>
                  <a:pt x="480" y="384"/>
                </a:cubicBezTo>
                <a:cubicBezTo>
                  <a:pt x="320" y="312"/>
                  <a:pt x="160" y="156"/>
                  <a:pt x="0" y="0"/>
                </a:cubicBezTo>
              </a:path>
            </a:pathLst>
          </a:custGeom>
          <a:noFill/>
          <a:ln w="2232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B428-A04A-4CF7-ADB6-50366A869A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– Signature gener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s are indefinite and can be built upon if they are 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n HTTP GET substring in attac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s are output in Bro and Snort-like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869B-D5EE-4045-95BA-423F0E0B9BD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 - Resul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875" name="Content Placeholder 3" descr="Screen Shot 2015-04-12 at 11.49.25 PM.png"/>
          <p:cNvPicPr/>
          <p:nvPr/>
        </p:nvPicPr>
        <p:blipFill>
          <a:blip r:embed="rId1"/>
          <a:srcRect l="0" t="-55052" r="0" b="-55052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876" name="Content Placeholder 2"/>
          <p:cNvSpPr/>
          <p:nvPr/>
        </p:nvSpPr>
        <p:spPr>
          <a:xfrm>
            <a:off x="457200" y="5867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ion of TCP and UDP traffic destination ports in packets directed at the honeypot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77" name="Straight Arrow Connector 7"/>
          <p:cNvCxnSpPr/>
          <p:nvPr/>
        </p:nvCxnSpPr>
        <p:spPr>
          <a:xfrm flipV="1">
            <a:off x="990360" y="4647960"/>
            <a:ext cx="229320" cy="3816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78" name="TextBox 8"/>
          <p:cNvSpPr/>
          <p:nvPr/>
        </p:nvSpPr>
        <p:spPr>
          <a:xfrm>
            <a:off x="380880" y="49528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etBios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79" name="Straight Arrow Connector 10"/>
          <p:cNvCxnSpPr>
            <a:stCxn id="880" idx="0"/>
          </p:cNvCxnSpPr>
          <p:nvPr/>
        </p:nvCxnSpPr>
        <p:spPr>
          <a:xfrm flipH="1" flipV="1">
            <a:off x="1752120" y="4690800"/>
            <a:ext cx="115200" cy="3816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80" name="TextBox 11"/>
          <p:cNvSpPr/>
          <p:nvPr/>
        </p:nvSpPr>
        <p:spPr>
          <a:xfrm>
            <a:off x="1523880" y="5072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81" name="Straight Arrow Connector 14"/>
          <p:cNvCxnSpPr/>
          <p:nvPr/>
        </p:nvCxnSpPr>
        <p:spPr>
          <a:xfrm flipH="1" flipV="1">
            <a:off x="6186240" y="4709880"/>
            <a:ext cx="457920" cy="3816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82" name="TextBox 15"/>
          <p:cNvSpPr/>
          <p:nvPr/>
        </p:nvSpPr>
        <p:spPr>
          <a:xfrm>
            <a:off x="5410080" y="50212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SSQL 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Slammer worm)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83" name="Straight Arrow Connector 18"/>
          <p:cNvCxnSpPr/>
          <p:nvPr/>
        </p:nvCxnSpPr>
        <p:spPr>
          <a:xfrm flipH="1" flipV="1">
            <a:off x="5257440" y="4723920"/>
            <a:ext cx="1404000" cy="3708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8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CF7B-C0CD-40BD-87DB-4062CE22E9F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 - Resul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6" name="Content Placeholder 2"/>
          <p:cNvSpPr/>
          <p:nvPr/>
        </p:nvSpPr>
        <p:spPr>
          <a:xfrm>
            <a:off x="45720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 Honeycomb created for the Slammer Worm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887" name="Content Placeholder 4" descr="Screen Shot 2015-04-12 at 11.54.02 PM.png"/>
          <p:cNvPicPr/>
          <p:nvPr/>
        </p:nvPicPr>
        <p:blipFill>
          <a:blip r:embed="rId1"/>
          <a:srcRect l="0" t="-136671" r="0" b="-136671"/>
          <a:stretch/>
        </p:blipFill>
        <p:spPr>
          <a:xfrm>
            <a:off x="304920" y="-30492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88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BA0-2FA6-4328-86B0-771B9C3B5EA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 - Resul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0" name="Content Placeholder 2"/>
          <p:cNvSpPr/>
          <p:nvPr/>
        </p:nvSpPr>
        <p:spPr>
          <a:xfrm>
            <a:off x="45720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 Honeycomb created for the CodeRed II Worm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891" name="Content Placeholder 3" descr="Screen Shot 2015-04-12 at 11.54.17 PM.png"/>
          <p:cNvPicPr/>
          <p:nvPr/>
        </p:nvPicPr>
        <p:blipFill>
          <a:blip r:embed="rId1"/>
          <a:srcRect l="0" t="-86531" r="0" b="-86531"/>
          <a:stretch/>
        </p:blipFill>
        <p:spPr>
          <a:xfrm>
            <a:off x="304920" y="-7632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89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B386-B1B1-4665-AE82-3A753B4CBAF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rusion detection systems is a complement to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inding malicious traffic both low false positives and false 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ing policy from analysis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s are ambigu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lear how end-hosts implement the ambiguous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to evade N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olution: Protocol normalization (a.k.a. protocol scrubb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automatic signatur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3C8-17C4-4699-8610-7DF8F388D7A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liable RST (1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T in TCP is unreliable: NIDS may have inconsistent connection st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mit state, NIDS needs to collect state after connection tear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state may lead to NIDS e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after RST, send ACK (TCP keep-alive pack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party missed RST, will return ACK keep-alive packet, otherwise responds with 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8C73-C578-4EC3-A002-6641933A46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liable RST (2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got RST, replies 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did not get RST, B got ACK, replies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did not get RST or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r did not get B’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RST, send ACK (only after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B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RST, tear dow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ly one end host misbehaves, schem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8554-3D55-4D31-A4D5-CE76B667719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ld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how to figure out if a TCP connection is set up after cold st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internal hosts are trusted, set up state if internal host sends TC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xternal TCP packets, probe internal host to check if connection is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packet into TCP keep-alive (by decrementing ACK and removing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ternal host replies with keep-alive, set u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075B-4244-4D37-83D6-1FEA3EC4FF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DS justific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3045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on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easy to circumv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ing IDS is usel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sign bulletproof I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is one component of a security syste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Recovery,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difficulty of successful attack: “Raising the b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ystem defends against 95% of attackers, we can concentrate on the remaining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308D-ADFF-4EF8-84D0-C619B460D39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olution of the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on that audit/log data might help to discover abuse/misuse dates to early 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 for analysis established by Jim Anderson in 1980 in “Computer Security Threat Monitoring and Surveillance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eclab.cs.ucdavis.edu/projects/history/CD/ande8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can generate lots of log/audi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analysis techniques were based on analysis of this audit data, and used a mix of statistical and AI bas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36E2-72D6-448C-861C-A38CAD9441A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rusion Detection Systems (ID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 allow traffic only to legitimate hos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to the legitimate hosts/services may contain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usion Detec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data and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ort when identify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9648-A577-475B-BF44-495EC9DC6FF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olution of the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late 1980s, networked computers were increasingly common and many intrusions involved external access via 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work Security Moni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t the University of California Davis was the first IDS to work directly with network data as opposed to lo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 a packet sniffer feeding data to an analysis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369C-7CC2-4213-B849-AAD3E21C3BC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olution of the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ast majority of IDS systems are based on the analysis of network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umerous commercial offerings as well as a number of research systems and systems offered by the open source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ly, the administration of IDS systems is integrated into system and network management frame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E5B5-29B5-47AE-8ECF-2CF2C7164E3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rewall vs. 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774800"/>
            <a:ext cx="32446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-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-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and disadvan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4191120" y="1681200"/>
            <a:ext cx="1752480" cy="1752480"/>
            <a:chOff x="4191120" y="1681200"/>
            <a:chExt cx="1752480" cy="1752480"/>
          </a:xfrm>
        </p:grpSpPr>
        <p:sp>
          <p:nvSpPr>
            <p:cNvPr id="564" name="AutoShape 5"/>
            <p:cNvSpPr/>
            <p:nvPr/>
          </p:nvSpPr>
          <p:spPr>
            <a:xfrm>
              <a:off x="4191120" y="1681200"/>
              <a:ext cx="1752480" cy="1219320"/>
            </a:xfrm>
            <a:prstGeom prst="cloudCallout">
              <a:avLst>
                <a:gd name="adj1" fmla="val -20291"/>
                <a:gd name="adj2" fmla="val 8632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5" name="Rectangle 6"/>
            <p:cNvSpPr/>
            <p:nvPr/>
          </p:nvSpPr>
          <p:spPr>
            <a:xfrm>
              <a:off x="4495680" y="2900520"/>
              <a:ext cx="533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66" name="Line 7"/>
          <p:cNvSpPr/>
          <p:nvPr/>
        </p:nvSpPr>
        <p:spPr>
          <a:xfrm>
            <a:off x="5943600" y="23670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6934320" y="2062080"/>
            <a:ext cx="914400" cy="520560"/>
          </a:xfrm>
          <a:prstGeom prst="rect">
            <a:avLst/>
          </a:prstGeom>
          <a:noFill/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W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8" name="Line 9"/>
          <p:cNvSpPr/>
          <p:nvPr/>
        </p:nvSpPr>
        <p:spPr>
          <a:xfrm>
            <a:off x="7848720" y="2367000"/>
            <a:ext cx="990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69" name="Group 10"/>
          <p:cNvGrpSpPr/>
          <p:nvPr/>
        </p:nvGrpSpPr>
        <p:grpSpPr>
          <a:xfrm>
            <a:off x="4191120" y="3903840"/>
            <a:ext cx="1752480" cy="1752480"/>
            <a:chOff x="4191120" y="3903840"/>
            <a:chExt cx="1752480" cy="1752480"/>
          </a:xfrm>
        </p:grpSpPr>
        <p:sp>
          <p:nvSpPr>
            <p:cNvPr id="570" name="AutoShape 11"/>
            <p:cNvSpPr/>
            <p:nvPr/>
          </p:nvSpPr>
          <p:spPr>
            <a:xfrm>
              <a:off x="4191120" y="3903840"/>
              <a:ext cx="1752480" cy="1219320"/>
            </a:xfrm>
            <a:prstGeom prst="cloudCallout">
              <a:avLst>
                <a:gd name="adj1" fmla="val -20291"/>
                <a:gd name="adj2" fmla="val 8632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1" name="Rectangle 12"/>
            <p:cNvSpPr/>
            <p:nvPr/>
          </p:nvSpPr>
          <p:spPr>
            <a:xfrm>
              <a:off x="4495680" y="5123160"/>
              <a:ext cx="533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72" name="Line 13"/>
          <p:cNvSpPr/>
          <p:nvPr/>
        </p:nvSpPr>
        <p:spPr>
          <a:xfrm>
            <a:off x="5943600" y="4589640"/>
            <a:ext cx="297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6967440" y="3473280"/>
            <a:ext cx="1143000" cy="520560"/>
          </a:xfrm>
          <a:prstGeom prst="rect">
            <a:avLst/>
          </a:prstGeom>
          <a:noFill/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DS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4" name="Line 15"/>
          <p:cNvSpPr/>
          <p:nvPr/>
        </p:nvSpPr>
        <p:spPr>
          <a:xfrm flipV="1">
            <a:off x="7543800" y="3979800"/>
            <a:ext cx="0" cy="6098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E90-D0E7-4AAC-A7D3-3674F8C5476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ypes of I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534440" cy="50673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3962520" y="6172200"/>
            <a:ext cx="23619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8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Network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687240" y="2819520"/>
            <a:ext cx="1828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gnature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6705720" y="3200400"/>
            <a:ext cx="2033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omaly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457200" y="5334120"/>
            <a:ext cx="1828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ost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A16C-8F22-479F-863D-5DA0C6EC091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3:53:05Z</dcterms:created>
  <dc:creator>Srinivasan Seshan</dc:creator>
  <dc:description/>
  <dc:language>en-US</dc:language>
  <cp:lastModifiedBy>Srinivasan Seshan</cp:lastModifiedBy>
  <cp:lastPrinted>2010-11-09T14:20:32Z</cp:lastPrinted>
  <dcterms:modified xsi:type="dcterms:W3CDTF">2017-04-17T21:35:44Z</dcterms:modified>
  <cp:revision>348</cp:revision>
  <dc:subject/>
  <dc:title>15-744: Computer Networking</dc:title>
</cp:coreProperties>
</file>